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C35C-3403-41DA-8C65-681736D1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B2EF-E70E-4A22-9AA2-FB0B6D40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609-408C-4081-ABD1-247F6847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32F-C4D7-4133-BE71-FB6EEC3E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C052-E735-4027-97B3-24635BA7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F13A-20F8-4205-9817-91F5ECB3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078-38D5-4B4E-B854-081D6CA4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EAB-29ED-4045-8295-91E3C46A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1C3F-5D85-495B-A57B-DC3C110B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4228-58DD-4BD9-9BC9-3DC5B998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33B5-0680-4DA8-9AF0-C2614345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9F05-893C-48A5-8FD1-6CE4412C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319-C1E9-47BE-A0AE-35CBF285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993D-E3E2-4880-8394-B3D6408B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3A99-8D05-470B-9727-2E25E9D78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BCBD-1428-4120-B7C8-4A641A4D7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F40F-8CF0-49E1-9494-C22D6EE6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9B1-CD19-4147-8A35-46C2F582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848-DD2E-4765-BA67-D94BF1CC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DD72-7B24-40B3-AFCE-0CD07766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F3E-A8F7-46DB-A8B3-F47B210A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0AC-B138-484D-BD47-67BCC7FD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F007-0B15-4B9F-8EA5-5521C383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655D-4270-401E-B503-5CB837FE5A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F73-6CA9-4EAA-B1AB-0E57C51A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846-23C3-4ADA-AE9C-55028137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7FA-D15F-4143-A821-2B1C1850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071-3F52-4920-B097-AE641392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A9E-2D04-49DB-9409-DFBF8C0A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46B-D6DE-44CA-A501-90816653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971-CC31-4251-99C6-76831F4B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A6F-860A-443C-AAC3-013D6113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E8F-AC0A-42E4-860F-CA3ADA7B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4DD-08EB-472A-A911-243128BF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D6D-0CDC-4463-B141-FEA7D41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6ED-7327-4C0E-93C3-4CF157B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B3B3-D34A-4764-86AB-B1A4343D7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65760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701360" y="232380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3124080"/>
            <a:ext cx="8686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he’ll need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c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in the worst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Bob only needs to be able to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very measurement E in a finite set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838080" y="5257800"/>
            <a:ext cx="7162920" cy="1130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at case, it suffices for Alice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4"/>
          <p:cNvSpPr/>
          <p:nvPr/>
        </p:nvSpPr>
        <p:spPr>
          <a:xfrm>
            <a:off x="228600" y="16002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 for any 2-outcome measurement E, Bob can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s guess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00"/>
          <p:cNvSpPr/>
          <p:nvPr/>
        </p:nvSpPr>
        <p:spPr>
          <a:xfrm>
            <a:off x="304920" y="228600"/>
            <a:ext cx="845820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fter only O(n) of these learning steps, Bob gets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for all measurements 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simplicity, assu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is pure and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is ≤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-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p be the probability tha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 yield the desired outcomes.  By assumption, p is at most (say) (2/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 had made the lucky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, then p would’ve been at least (say) 0.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can decompose I as an equal mixtur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1 other states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  Hence 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0.9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.9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≤ (2/3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=O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nclus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can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by telling him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is takes O(n log|S|)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962520" y="5334120"/>
            <a:ext cx="30456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699"/>
          <p:cNvSpPr/>
          <p:nvPr/>
        </p:nvSpPr>
        <p:spPr>
          <a:xfrm>
            <a:off x="380880" y="1371600"/>
            <a:ext cx="8458200" cy="47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’ve shown that for any n-qubit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set S of observables, one can “compress” the measurement data {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} 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to a classical string x of only Õ(nlog|S|)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x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x, estimating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’ll now state the “Quantum Occam’s Razor Theorem,” which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28"/>
          <p:cNvSpPr/>
          <p:nvPr/>
        </p:nvSpPr>
        <p:spPr>
          <a:xfrm>
            <a:off x="1523880" y="457200"/>
            <a:ext cx="6019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Discuss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xplosion 2 7"/>
          <p:cNvSpPr/>
          <p:nvPr/>
        </p:nvSpPr>
        <p:spPr>
          <a:xfrm rot="698400">
            <a:off x="6216120" y="3580920"/>
            <a:ext cx="223236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99"/>
          <p:cNvSpPr/>
          <p:nvPr/>
        </p:nvSpPr>
        <p:spPr>
          <a:xfrm>
            <a:off x="304920" y="2209680"/>
            <a:ext cx="861048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s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measure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dependently from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 into your lab and estimate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each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all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1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99"/>
          <p:cNvSpPr/>
          <p:nvPr/>
        </p:nvSpPr>
        <p:spPr>
          <a:xfrm>
            <a:off x="304920" y="19810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828800" y="3733920"/>
                <a:ext cx="5745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Text Box 12"/>
          <p:cNvSpPr/>
          <p:nvPr/>
        </p:nvSpPr>
        <p:spPr>
          <a:xfrm>
            <a:off x="304920" y="4572000"/>
            <a:ext cx="83055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probability at least 1-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ver the choice of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22920" y="304920"/>
            <a:ext cx="424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[A. 2006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vid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954080" y="870120"/>
                <a:ext cx="424188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Text Box 14"/>
          <p:cNvSpPr/>
          <p:nvPr/>
        </p:nvSpPr>
        <p:spPr>
          <a:xfrm>
            <a:off x="6400800" y="11430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C a const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04920" y="3048120"/>
            <a:ext cx="594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i, you’ll be guaranteed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2514600" y="2057400"/>
                <a:ext cx="3762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Text Box 12"/>
          <p:cNvSpPr/>
          <p:nvPr/>
        </p:nvSpPr>
        <p:spPr>
          <a:xfrm>
            <a:off x="1981080" y="274320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04920" y="5257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of combines Ambainis et al.’s result on the impossibility of quantum compression with some power tools from classical computational learning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304920" y="304920"/>
            <a:ext cx="86868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Remark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To do this “pretty good tomography,” you don’t ne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prior assumptions abo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!  (No Bayesian nuthin’...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Removes a lot of conceptual problem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Instead, you assume a distribution D ov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measur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Might be preferable—after all, you can control which measurements to apply, but not w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365760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Remark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Given the measurement data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ordia New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),…,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ordia New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), finding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consistent with it could still be an exponentially hard computational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   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Semidefinite / convex programming in 2</a:t>
            </a:r>
            <a:r>
              <a:rPr b="0" lang="en-US" sz="2700" spc="-1" strike="noStrike" baseline="30000">
                <a:solidFill>
                  <a:srgbClr val="008000"/>
                </a:solidFill>
                <a:latin typeface="Calibri"/>
                <a:ea typeface="Cordia New"/>
              </a:rPr>
              <a:t>n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ordia New"/>
              </a:rPr>
              <a:t> dimen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But this seems unavoidable: even finding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ordia New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ordia New"/>
              </a:rPr>
              <a:t> hypothesis consistent with data is conjectured to be har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e “pretty-good tomography” algorithm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MIT’s computing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9"/>
          <p:cNvSpPr/>
          <p:nvPr/>
        </p:nvSpPr>
        <p:spPr>
          <a:xfrm>
            <a:off x="152280" y="152280"/>
            <a:ext cx="8839440" cy="6477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28600" y="533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905120"/>
            <a:ext cx="7543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ccept that, for this tal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nomial vs. exponential is the basic dichotomy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l x” means “for all 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4267080"/>
            <a:ext cx="7848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turn, I will not inflict the following computational complexity classes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  AM  AWPP  BQP  BQP/qpoly  MA  NP  P/poly  PH  PostBQP  PP  PSPACE  QCMA  QIP  QMA  SZK  Y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6"/>
          <p:cNvSpPr/>
          <p:nvPr/>
        </p:nvSpPr>
        <p:spPr>
          <a:xfrm>
            <a:off x="228600" y="22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entangled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90720" y="457200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28600" y="5715000"/>
            <a:ext cx="86104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combines Quantum Occam’s Razor Theorem with a new classical result about “isolatability” of func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80880" y="5105520"/>
            <a:ext cx="8458200" cy="3988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veat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have more qubit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 general be a very differ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 “Practical” I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80880" y="1066680"/>
            <a:ext cx="853452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’s the year 2500.  Everyone and her grandfather has a personal quantum compu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’re a software vendor who sells “magic initial states” that extend quantum computers’ problem-solving abilit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mazingly, you only need one kind of state in your store: ground states of 1D nearest-neighbor Hamiltonian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7257960" cy="5904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6"/>
          <p:cNvSpPr/>
          <p:nvPr/>
        </p:nvSpPr>
        <p:spPr>
          <a:xfrm>
            <a:off x="304920" y="5334120"/>
            <a:ext cx="8610480" cy="12517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s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nding ground states of 1D spin systems is known to be “universal” for quantum constraint satisfaction problems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[Aharonov-Gottesman-Irani-Kempe 2007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ilding on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[Kitaev 19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1676520" y="4648320"/>
            <a:ext cx="594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UNIVERSAL RESOURCE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304920" y="990720"/>
            <a:ext cx="8534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a quantum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00"/>
          <p:cNvSpPr/>
          <p:nvPr/>
        </p:nvSpPr>
        <p:spPr>
          <a:xfrm>
            <a:off x="380880" y="6019920"/>
            <a:ext cx="82296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emonstration” would be nic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533520" y="3505320"/>
            <a:ext cx="83055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selection theorem: quant-ph/04020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eorem: quant-ph/0608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 state theorem, numerical simulations: “in prepar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228600" y="10666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ww.scottaaronson.com</a:t>
            </a:r>
            <a:br>
              <a:rPr sz="4000"/>
            </a:b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(/papers /talks /blo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04920" y="99072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infinite amount, of course, if you want to specify the state exactl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9072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fe is too short for infinit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04"/>
              <p:cNvSpPr txBox="1"/>
              <p:nvPr/>
            </p:nvSpPr>
            <p:spPr>
              <a:xfrm>
                <a:off x="5486400" y="3276720"/>
                <a:ext cx="280512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9" name="Group 13"/>
          <p:cNvGrpSpPr/>
          <p:nvPr/>
        </p:nvGrpSpPr>
        <p:grpSpPr>
          <a:xfrm>
            <a:off x="1219320" y="2209680"/>
            <a:ext cx="3595680" cy="3657600"/>
            <a:chOff x="1219320" y="2209680"/>
            <a:chExt cx="3595680" cy="3657600"/>
          </a:xfrm>
        </p:grpSpPr>
        <p:sp>
          <p:nvSpPr>
            <p:cNvPr id="60" name="Oval 4"/>
            <p:cNvSpPr/>
            <p:nvPr/>
          </p:nvSpPr>
          <p:spPr>
            <a:xfrm>
              <a:off x="1219320" y="28191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1219320" y="434340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2743200" y="2819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" name="Object 106"/>
            <p:cNvGraphicFramePr/>
            <p:nvPr/>
          </p:nvGraphicFramePr>
          <p:xfrm>
            <a:off x="4267440" y="39621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" name="Object 10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440" y="39621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107"/>
            <p:cNvGraphicFramePr/>
            <p:nvPr/>
          </p:nvGraphicFramePr>
          <p:xfrm>
            <a:off x="2532240" y="2209680"/>
            <a:ext cx="51264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Object 10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2240" y="2209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Group 11"/>
          <p:cNvGrpSpPr/>
          <p:nvPr/>
        </p:nvGrpSpPr>
        <p:grpSpPr>
          <a:xfrm>
            <a:off x="1057320" y="4321080"/>
            <a:ext cx="3209760" cy="46080"/>
            <a:chOff x="1057320" y="4321080"/>
            <a:chExt cx="3209760" cy="46080"/>
          </a:xfrm>
        </p:grpSpPr>
        <p:sp>
          <p:nvSpPr>
            <p:cNvPr id="68" name="Line 12"/>
            <p:cNvSpPr/>
            <p:nvPr/>
          </p:nvSpPr>
          <p:spPr>
            <a:xfrm>
              <a:off x="2743200" y="434340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1057320" y="4321080"/>
              <a:ext cx="184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So, how much informati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 in a quantum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 More Serious Po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6765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 state of n possibly-entangled qubits tak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to specify, ev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0666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argu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77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81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86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92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96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127476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8"/>
              <p:cNvSpPr/>
              <p:nvPr/>
            </p:nvSpPr>
            <p:spPr>
              <a:xfrm>
                <a:off x="106884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9"/>
              <p:cNvSpPr/>
              <p:nvPr/>
            </p:nvSpPr>
            <p:spPr>
              <a:xfrm>
                <a:off x="112752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"/>
              <p:cNvSpPr/>
              <p:nvPr/>
            </p:nvSpPr>
            <p:spPr>
              <a:xfrm>
                <a:off x="119232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"/>
              <p:cNvSpPr/>
              <p:nvPr/>
            </p:nvSpPr>
            <p:spPr>
              <a:xfrm>
                <a:off x="141480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>
                <a:off x="136980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3"/>
              <p:cNvSpPr/>
              <p:nvPr/>
            </p:nvSpPr>
            <p:spPr>
              <a:xfrm>
                <a:off x="131796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4"/>
              <p:cNvSpPr/>
              <p:nvPr/>
            </p:nvSpPr>
            <p:spPr>
              <a:xfrm>
                <a:off x="125496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08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9"/>
              <p:cNvSpPr/>
              <p:nvPr/>
            </p:nvSpPr>
            <p:spPr>
              <a:xfrm>
                <a:off x="172584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0"/>
              <p:cNvSpPr/>
              <p:nvPr/>
            </p:nvSpPr>
            <p:spPr>
              <a:xfrm>
                <a:off x="151992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1"/>
              <p:cNvSpPr/>
              <p:nvPr/>
            </p:nvSpPr>
            <p:spPr>
              <a:xfrm>
                <a:off x="157860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2"/>
              <p:cNvSpPr/>
              <p:nvPr/>
            </p:nvSpPr>
            <p:spPr>
              <a:xfrm>
                <a:off x="164340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3"/>
              <p:cNvSpPr/>
              <p:nvPr/>
            </p:nvSpPr>
            <p:spPr>
              <a:xfrm>
                <a:off x="186588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4"/>
              <p:cNvSpPr/>
              <p:nvPr/>
            </p:nvSpPr>
            <p:spPr>
              <a:xfrm>
                <a:off x="182088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45"/>
              <p:cNvSpPr/>
              <p:nvPr/>
            </p:nvSpPr>
            <p:spPr>
              <a:xfrm>
                <a:off x="176904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46"/>
              <p:cNvSpPr/>
              <p:nvPr/>
            </p:nvSpPr>
            <p:spPr>
              <a:xfrm>
                <a:off x="170604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53"/>
          <p:cNvGrpSpPr/>
          <p:nvPr/>
        </p:nvGrpSpPr>
        <p:grpSpPr>
          <a:xfrm>
            <a:off x="6172200" y="2209320"/>
            <a:ext cx="2514600" cy="1740600"/>
            <a:chOff x="6172200" y="2209320"/>
            <a:chExt cx="2514600" cy="1740600"/>
          </a:xfrm>
        </p:grpSpPr>
        <p:sp>
          <p:nvSpPr>
            <p:cNvPr id="121" name="Text Box 3"/>
            <p:cNvSpPr/>
            <p:nvPr/>
          </p:nvSpPr>
          <p:spPr>
            <a:xfrm>
              <a:off x="6172200" y="3429360"/>
              <a:ext cx="2514600" cy="520560"/>
            </a:xfrm>
            <a:prstGeom prst="rect">
              <a:avLst/>
            </a:prstGeom>
            <a:solidFill>
              <a:srgbClr val="ffffb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Spin-½ partic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52"/>
            <p:cNvCxnSpPr>
              <a:stCxn id="121" idx="0"/>
            </p:cNvCxnSpPr>
            <p:nvPr/>
          </p:nvCxnSpPr>
          <p:spPr>
            <a:xfrm flipH="1" flipV="1">
              <a:off x="7086240" y="2209320"/>
              <a:ext cx="343440" cy="1220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just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ell-know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spin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spin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57200" y="6095880"/>
            <a:ext cx="7924680" cy="489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conceptual problem—not just a practical on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0"/>
          <p:cNvSpPr/>
          <p:nvPr/>
        </p:nvSpPr>
        <p:spPr>
          <a:xfrm>
            <a:off x="304920" y="3581280"/>
            <a:ext cx="8686800" cy="305028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ting the stage: Holevo’s Theorem and random acces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a state by postselected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good tomography” using far fewer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umerical simulation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echter, in progres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ing quantum states as ground states of simple Hamiltonian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rucker 200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0"/>
          <p:cNvSpPr/>
          <p:nvPr/>
        </p:nvSpPr>
        <p:spPr>
          <a:xfrm>
            <a:off x="380880" y="220968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00"/>
          <p:cNvSpPr/>
          <p:nvPr/>
        </p:nvSpPr>
        <p:spPr>
          <a:xfrm>
            <a:off x="457200" y="274320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[Holevo 1973]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sending an n-qubit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lice can communicate no more than n classical bits to Bob (or 2n bits assuming prior entangle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00"/>
          <p:cNvSpPr/>
          <p:nvPr/>
        </p:nvSpPr>
        <p:spPr>
          <a:xfrm>
            <a:off x="457200" y="43434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that be? Well, Bob has to measu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measuring makes most of the wavefunction go poo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00"/>
          <p:cNvSpPr/>
          <p:nvPr/>
        </p:nvSpPr>
        <p:spPr>
          <a:xfrm>
            <a:off x="838080" y="548640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533520" y="123516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191120" y="685800"/>
            <a:ext cx="83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87680" y="70164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4"/>
          <p:cNvSpPr/>
          <p:nvPr/>
        </p:nvSpPr>
        <p:spPr>
          <a:xfrm>
            <a:off x="7467480" y="123516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1676520" cy="16542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1"/>
          <p:cNvCxnSpPr/>
          <p:nvPr/>
        </p:nvCxnSpPr>
        <p:spPr>
          <a:xfrm>
            <a:off x="3276720" y="1600200"/>
            <a:ext cx="25912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4" name="Straight Arrow Connector 12"/>
          <p:cNvCxnSpPr/>
          <p:nvPr/>
        </p:nvCxnSpPr>
        <p:spPr>
          <a:xfrm>
            <a:off x="3048120" y="2133720"/>
            <a:ext cx="274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37160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380880" y="3124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80880" y="5105520"/>
            <a:ext cx="8153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5-27T20:59:23Z</dcterms:modified>
  <cp:revision>104</cp:revision>
  <dc:subject/>
  <dc:title>The Learnability of Quantum States</dc:title>
</cp:coreProperties>
</file>