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7.jpeg" ContentType="image/jpeg"/>
  <Override PartName="/ppt/media/image20.png" ContentType="image/png"/>
  <Override PartName="/ppt/media/image18.png" ContentType="image/png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1D15-2602-4B5A-A65E-41B52E3A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4534-D644-42E1-ADA6-4CF0779B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F47-6868-40D9-8AD5-581A314F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E3BF-4316-4B84-9F7A-5FA8A4E63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0D91-8D89-46A1-A45C-4ABF5F7F0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4814-9DAF-42BD-8446-F280576B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E605-333F-4949-BF13-8C9CF3AF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A2B8-7583-49C5-B68A-537B78261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CF4A-85D4-4939-B77B-CD9EF1C2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2FB9-EF47-4B4D-A058-93F81EFD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C468-A553-4EA1-BAEA-F3E842A2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5FA4-3A75-430C-B923-5C46429B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F8B-8635-4BF5-88A4-25FD820B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5CC3-92C3-43F8-AD00-82E044213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1D2B-8F57-4688-B637-23D4422A1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7630-084E-4784-90D8-8EBF82806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54E0-449B-4FE2-83EF-F1286F2AF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B05-3C08-4576-A54F-8F2D8CD3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5B1F-7508-4FBA-A5BC-BF180BEC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CCAB-CF80-4D87-B794-DAFF4BAD8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3E6E-4424-45FB-82ED-A7E13F433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0BCF-7BA3-4185-9E91-ED7B2224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E1B9-50F5-4097-95E7-C3748E905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514-0D55-44C3-87A7-B2FDD238051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5D7-1811-4E92-B5C7-ED98D33F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640-B06B-453C-946F-CD781671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370-B92B-42E8-A360-3A5B7EC2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63F-5C34-48BD-8711-9AD879EC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FDD-5CA4-4403-9DE0-C0362330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9F4-017B-4146-9E9B-4F13A41F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F56-274B-4C13-8DF2-DA5D7E10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D0A-F626-4AB7-97F7-344BE458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EE1-849F-4D13-92AF-16A14637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818-B1DD-4623-85B9-847DCF1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B1D-B17E-4D12-9BAC-D8A307C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C7D-E6E5-4BED-B276-88C8AFF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77D-1762-4321-8721-FE9E318C7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How Much Information Is In A Quantum State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65760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C:\Users\od user\AppData\Local\Microsoft\Windows\Temporary Internet Files\Content.IE5\N7YD4WXK\MCj04412790000[1].png"/>
          <p:cNvPicPr/>
          <p:nvPr/>
        </p:nvPicPr>
        <p:blipFill>
          <a:blip r:embed="rId1"/>
          <a:stretch/>
        </p:blipFill>
        <p:spPr>
          <a:xfrm rot="19738200">
            <a:off x="1701360" y="232380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8600" y="3124080"/>
            <a:ext cx="86868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she’ll need to send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c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, in the worst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ut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ppose Bob only needs to be able to estimate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for every measurement E in a finite set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838080" y="5257800"/>
            <a:ext cx="7162920" cy="11300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at case, it suffices for Alice to send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4"/>
          <p:cNvSpPr/>
          <p:nvPr/>
        </p:nvSpPr>
        <p:spPr>
          <a:xfrm>
            <a:off x="228600" y="16002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that for any 2-outcome measurement E, Bob can estimate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1371600" y="5486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33520" y="5334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QUANTUM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maximally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is guess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00"/>
          <p:cNvSpPr/>
          <p:nvPr/>
        </p:nvSpPr>
        <p:spPr>
          <a:xfrm>
            <a:off x="304920" y="228600"/>
            <a:ext cx="8458200" cy="66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fter only O(n) of these learning steps, Bob gets a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that Tr(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(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for all measurements 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simplicity, assu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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 is pure and Tr(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is ≤1/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-1/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p be the probability tha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l yield the desired outcomes.  By assumption, p is at most (say) (2/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the other hand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b had made the lucky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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, then p would’ve been at least (say) 0.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can decompose I as an equal mixture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1 other states orthogonal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  Hence p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0.9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0.9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≤ (2/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=O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onclus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can describ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by telling him its behavior on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is takes O(n log|S|)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962520" y="5334120"/>
            <a:ext cx="304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699"/>
          <p:cNvSpPr/>
          <p:nvPr/>
        </p:nvSpPr>
        <p:spPr>
          <a:xfrm>
            <a:off x="380880" y="1371600"/>
            <a:ext cx="8458200" cy="47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’ve shown that for any n-qubit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set S of observables, one can “compress” the measurement data {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}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to a classical string x of only Õ(nlog|S|)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Just two tiny problem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ing x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x, estimating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’ll now state the “Quantum Occam’s Razor Theorem,” which at least addresses the first probl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28"/>
          <p:cNvSpPr/>
          <p:nvPr/>
        </p:nvSpPr>
        <p:spPr>
          <a:xfrm>
            <a:off x="1523880" y="457200"/>
            <a:ext cx="6019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Discuss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xplosion 2 7"/>
          <p:cNvSpPr/>
          <p:nvPr/>
        </p:nvSpPr>
        <p:spPr>
          <a:xfrm rot="698400">
            <a:off x="6216120" y="3580920"/>
            <a:ext cx="223236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99"/>
          <p:cNvSpPr/>
          <p:nvPr/>
        </p:nvSpPr>
        <p:spPr>
          <a:xfrm>
            <a:off x="304920" y="2209680"/>
            <a:ext cx="861048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quantum state of n spi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measure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oose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dependently from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 into your lab and estimate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each 1≤i≤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“hypothesis stat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ch that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all 1≤i≤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1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99"/>
          <p:cNvSpPr/>
          <p:nvPr/>
        </p:nvSpPr>
        <p:spPr>
          <a:xfrm>
            <a:off x="304920" y="19810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1828800" y="3733920"/>
                <a:ext cx="57452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σ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ρ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Text Box 12"/>
          <p:cNvSpPr/>
          <p:nvPr/>
        </p:nvSpPr>
        <p:spPr>
          <a:xfrm>
            <a:off x="304920" y="4572000"/>
            <a:ext cx="83055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probability at least 1-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ver the choice of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22920" y="304920"/>
            <a:ext cx="4249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 [A. 2006]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vid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954080" y="870120"/>
                <a:ext cx="424188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2" name="Text Box 14"/>
          <p:cNvSpPr/>
          <p:nvPr/>
        </p:nvSpPr>
        <p:spPr>
          <a:xfrm>
            <a:off x="6400800" y="11430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C a const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04920" y="3048120"/>
            <a:ext cx="59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i, you’ll be guaranteed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2514600" y="2057400"/>
                <a:ext cx="3762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Text Box 12"/>
          <p:cNvSpPr/>
          <p:nvPr/>
        </p:nvSpPr>
        <p:spPr>
          <a:xfrm>
            <a:off x="1981080" y="274320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04920" y="525780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of combines Ambainis et al.’s result on the impossibility of quantum compression with some power tools from classical computational learning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304920" y="304920"/>
            <a:ext cx="86868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ordia New"/>
              </a:rPr>
              <a:t>Remark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To do this “pretty good tomography,” you don’t nee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prior assumptions abou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!  (No Bayesian nuthin’...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ordia New"/>
              </a:rPr>
              <a:t>Removes a lot of conceptual problems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Instead, you assume a distribution D ove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ordia New"/>
              </a:rPr>
              <a:t>measur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Might be preferable—after all, you can control which measurements to apply, but not w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365760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ordia New"/>
              </a:rPr>
              <a:t>Remark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Given the measurement data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ordia New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),…,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ordia New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), finding a hypothesis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consistent with it could still be an exponentially hard computational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    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ordia New"/>
              </a:rPr>
              <a:t>Semidefinite / convex programming in 2</a:t>
            </a:r>
            <a:r>
              <a:rPr b="0" lang="en-US" sz="2700" spc="-1" strike="noStrike" baseline="30000">
                <a:solidFill>
                  <a:srgbClr val="008000"/>
                </a:solidFill>
                <a:latin typeface="Calibri"/>
                <a:ea typeface="Cordia New"/>
              </a:rPr>
              <a:t>n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ordia New"/>
              </a:rPr>
              <a:t> dimen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But this seems unavoidable: even finding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ordia New"/>
              </a:rPr>
              <a:t>class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hypothesis consistent with data is conjectured to be har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, in progre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04920" y="1676520"/>
            <a:ext cx="853416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implemented the “pretty-good tomography” algorithm in MATLAB, using a fast convex programming method developed specifically for this applicatio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[Hazan 2008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then tested it (on simulated data) using MIT’s computing clus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y theorem appears to b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9"/>
          <p:cNvSpPr/>
          <p:nvPr/>
        </p:nvSpPr>
        <p:spPr>
          <a:xfrm>
            <a:off x="152280" y="152280"/>
            <a:ext cx="8839440" cy="6477120"/>
          </a:xfrm>
          <a:prstGeom prst="verticalScroll">
            <a:avLst>
              <a:gd name="adj" fmla="val 540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28600" y="5335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uter Scientist / Physicist Nonaggression 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1905120"/>
            <a:ext cx="7543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ccept that, for this tal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nomial vs. exponential is the basic dichotomy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l x” means “for all 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2120" y="4267080"/>
            <a:ext cx="7848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turn, I will not inflict the following computational complexity classes on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#P  AM  AWPP  BQP  BQP/qpoly  MA  NP  P/poly  PH  PostBQP  PP  PSPACE  QCMA  QIP  QMA  SZK  Y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6"/>
          <p:cNvSpPr/>
          <p:nvPr/>
        </p:nvSpPr>
        <p:spPr>
          <a:xfrm>
            <a:off x="228600" y="228600"/>
            <a:ext cx="87631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Recap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an unknown n-qubit entangled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 set S of two-outcome measuremen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arning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hypothesis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sistent with a small number of sample poin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on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 particular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produced by postselection)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ream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passes a small number of tes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990720" y="4572000"/>
            <a:ext cx="7315200" cy="550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[A.-Drucker 2009]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dream theorem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28600" y="5715000"/>
            <a:ext cx="86104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 combines Quantum Occam’s Razor Theorem with a new classical result about “isolatability” of func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80880" y="5105520"/>
            <a:ext cx="8458200" cy="3988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aveat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have more qubits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in general be a very differen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 “Practical” I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380880" y="1066680"/>
            <a:ext cx="853452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’s the year 2500.  Everyone and her grandfather has a personal quantum compu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You’re a software vendor who sells “magic initial states” that extend quantum computers’ problem-solving abiliti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mazingly, you only need one kind of state in your store: ground states of 1D nearest-neighbor Hamiltonian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257960" cy="5904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6"/>
          <p:cNvSpPr/>
          <p:nvPr/>
        </p:nvSpPr>
        <p:spPr>
          <a:xfrm>
            <a:off x="304920" y="5334120"/>
            <a:ext cx="8610480" cy="12517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s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inding ground states of 1D spin systems is known to be “universal” for quantum constraint satisfaction problems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[Aharonov-Gottesman-Irani-Kempe 2007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ilding on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[Kitaev 19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676520" y="4648320"/>
            <a:ext cx="594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UNIVERSAL RESOURCE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304920" y="990720"/>
            <a:ext cx="853416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ny natural scenarios, the “exponentiality” of quantum states is an il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is, there’s a short (though possibly cryptic) classical string that specifies how a quantum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haves, on any measurement you could actually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etty-good quantum state tomography, characterization of quantum computers with “magic initial states”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iggest open 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ind special classes of quantum states that can be learned in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00"/>
          <p:cNvSpPr/>
          <p:nvPr/>
        </p:nvSpPr>
        <p:spPr>
          <a:xfrm>
            <a:off x="380880" y="6019920"/>
            <a:ext cx="8229600" cy="5205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demonstration” would be nice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533520" y="3505320"/>
            <a:ext cx="83055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selection theorem: quant-ph/04020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theorem: quant-ph/0608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 state theorem, numerical simulations: “in prepar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228600" y="10666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ww.scottaaronson.com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(/papers /talks /blo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04920" y="99072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infinite amount, of course, if you want to specify the state exactl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90720" y="5943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Life is too short for infinite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04"/>
              <p:cNvSpPr txBox="1"/>
              <p:nvPr/>
            </p:nvSpPr>
            <p:spPr>
              <a:xfrm>
                <a:off x="5486400" y="3276720"/>
                <a:ext cx="280512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9" name="Group 13"/>
          <p:cNvGrpSpPr/>
          <p:nvPr/>
        </p:nvGrpSpPr>
        <p:grpSpPr>
          <a:xfrm>
            <a:off x="1219320" y="2209680"/>
            <a:ext cx="3595680" cy="3657600"/>
            <a:chOff x="1219320" y="2209680"/>
            <a:chExt cx="3595680" cy="3657600"/>
          </a:xfrm>
        </p:grpSpPr>
        <p:sp>
          <p:nvSpPr>
            <p:cNvPr id="60" name="Oval 4"/>
            <p:cNvSpPr/>
            <p:nvPr/>
          </p:nvSpPr>
          <p:spPr>
            <a:xfrm>
              <a:off x="1219320" y="281916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1219320" y="4343400"/>
              <a:ext cx="304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2743200" y="28191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" name="Object 106"/>
            <p:cNvGraphicFramePr/>
            <p:nvPr/>
          </p:nvGraphicFramePr>
          <p:xfrm>
            <a:off x="4267440" y="396216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" name="Object 10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440" y="396216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Object 107"/>
            <p:cNvGraphicFramePr/>
            <p:nvPr/>
          </p:nvGraphicFramePr>
          <p:xfrm>
            <a:off x="2532240" y="2209680"/>
            <a:ext cx="51264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" name="Object 10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2240" y="220968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Group 11"/>
          <p:cNvGrpSpPr/>
          <p:nvPr/>
        </p:nvGrpSpPr>
        <p:grpSpPr>
          <a:xfrm>
            <a:off x="1057320" y="4321080"/>
            <a:ext cx="3209760" cy="46080"/>
            <a:chOff x="1057320" y="4321080"/>
            <a:chExt cx="3209760" cy="46080"/>
          </a:xfrm>
        </p:grpSpPr>
        <p:sp>
          <p:nvSpPr>
            <p:cNvPr id="68" name="Line 12"/>
            <p:cNvSpPr/>
            <p:nvPr/>
          </p:nvSpPr>
          <p:spPr>
            <a:xfrm>
              <a:off x="2743200" y="434340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1057320" y="4321080"/>
              <a:ext cx="18478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"/>
          <p:cNvSpPr/>
          <p:nvPr/>
        </p:nvSpPr>
        <p:spPr>
          <a:xfrm>
            <a:off x="3049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So, how much informati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 in a quantum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 More Serious Poi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16765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a state of n possibly-entangled qubits tak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 to specify, ev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0666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argu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77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81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86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92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96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1274760" y="6609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8"/>
              <p:cNvSpPr/>
              <p:nvPr/>
            </p:nvSpPr>
            <p:spPr>
              <a:xfrm>
                <a:off x="1068840" y="563400"/>
                <a:ext cx="522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9"/>
              <p:cNvSpPr/>
              <p:nvPr/>
            </p:nvSpPr>
            <p:spPr>
              <a:xfrm>
                <a:off x="1127520" y="525960"/>
                <a:ext cx="4032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"/>
              <p:cNvSpPr/>
              <p:nvPr/>
            </p:nvSpPr>
            <p:spPr>
              <a:xfrm>
                <a:off x="1192320" y="502560"/>
                <a:ext cx="2592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"/>
              <p:cNvSpPr/>
              <p:nvPr/>
            </p:nvSpPr>
            <p:spPr>
              <a:xfrm>
                <a:off x="1414800" y="568800"/>
                <a:ext cx="5328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2"/>
              <p:cNvSpPr/>
              <p:nvPr/>
            </p:nvSpPr>
            <p:spPr>
              <a:xfrm>
                <a:off x="1369800" y="529200"/>
                <a:ext cx="41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3"/>
              <p:cNvSpPr/>
              <p:nvPr/>
            </p:nvSpPr>
            <p:spPr>
              <a:xfrm>
                <a:off x="1317960" y="504360"/>
                <a:ext cx="2772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4"/>
              <p:cNvSpPr/>
              <p:nvPr/>
            </p:nvSpPr>
            <p:spPr>
              <a:xfrm>
                <a:off x="1254960" y="492840"/>
                <a:ext cx="22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108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9"/>
              <p:cNvSpPr/>
              <p:nvPr/>
            </p:nvSpPr>
            <p:spPr>
              <a:xfrm>
                <a:off x="1725840" y="6609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0"/>
              <p:cNvSpPr/>
              <p:nvPr/>
            </p:nvSpPr>
            <p:spPr>
              <a:xfrm>
                <a:off x="1519920" y="563400"/>
                <a:ext cx="522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1"/>
              <p:cNvSpPr/>
              <p:nvPr/>
            </p:nvSpPr>
            <p:spPr>
              <a:xfrm>
                <a:off x="1578600" y="525960"/>
                <a:ext cx="4032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2"/>
              <p:cNvSpPr/>
              <p:nvPr/>
            </p:nvSpPr>
            <p:spPr>
              <a:xfrm>
                <a:off x="1643400" y="502560"/>
                <a:ext cx="2592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3"/>
              <p:cNvSpPr/>
              <p:nvPr/>
            </p:nvSpPr>
            <p:spPr>
              <a:xfrm>
                <a:off x="1865880" y="568800"/>
                <a:ext cx="5328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4"/>
              <p:cNvSpPr/>
              <p:nvPr/>
            </p:nvSpPr>
            <p:spPr>
              <a:xfrm>
                <a:off x="1820880" y="529200"/>
                <a:ext cx="41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5"/>
              <p:cNvSpPr/>
              <p:nvPr/>
            </p:nvSpPr>
            <p:spPr>
              <a:xfrm>
                <a:off x="1769040" y="504360"/>
                <a:ext cx="2772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46"/>
              <p:cNvSpPr/>
              <p:nvPr/>
            </p:nvSpPr>
            <p:spPr>
              <a:xfrm>
                <a:off x="1706040" y="492840"/>
                <a:ext cx="22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53"/>
          <p:cNvGrpSpPr/>
          <p:nvPr/>
        </p:nvGrpSpPr>
        <p:grpSpPr>
          <a:xfrm>
            <a:off x="6172200" y="2209320"/>
            <a:ext cx="2514600" cy="1740600"/>
            <a:chOff x="6172200" y="2209320"/>
            <a:chExt cx="2514600" cy="1740600"/>
          </a:xfrm>
        </p:grpSpPr>
        <p:sp>
          <p:nvSpPr>
            <p:cNvPr id="121" name="Text Box 3"/>
            <p:cNvSpPr/>
            <p:nvPr/>
          </p:nvSpPr>
          <p:spPr>
            <a:xfrm>
              <a:off x="6172200" y="3429360"/>
              <a:ext cx="2514600" cy="520560"/>
            </a:xfrm>
            <a:prstGeom prst="rect">
              <a:avLst/>
            </a:prstGeom>
            <a:solidFill>
              <a:srgbClr val="ffffb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Spin-½ partic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Arrow Connector 52"/>
            <p:cNvCxnSpPr>
              <a:stCxn id="121" idx="0"/>
            </p:cNvCxnSpPr>
            <p:nvPr/>
          </p:nvCxnSpPr>
          <p:spPr>
            <a:xfrm flipH="1" flipV="1">
              <a:off x="7086240" y="2209320"/>
              <a:ext cx="343440" cy="1220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2590920"/>
            <a:ext cx="83822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lots of copies of an unknown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something I just made up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“As seen in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Scienc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 &amp;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Natur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ell-known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o tomography on an entangled state of n spins, you need ~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Current record: 8 spins / ~656,000 experiments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457200" y="6095880"/>
            <a:ext cx="7924680" cy="489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a conceptual problem—not just a practical on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Today we’ll tame the exponential b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00"/>
          <p:cNvSpPr/>
          <p:nvPr/>
        </p:nvSpPr>
        <p:spPr>
          <a:xfrm>
            <a:off x="304920" y="3581280"/>
            <a:ext cx="8686800" cy="305028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ting the stage: Holevo’s Theorem and random acces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ing a state by postselected measuremen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good tomography” using far fewer measuremen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Numerical simulation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-Dechter, in progres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ing quantum states as ground states of simple Hamiltonian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-Drucker 200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00"/>
          <p:cNvSpPr/>
          <p:nvPr/>
        </p:nvSpPr>
        <p:spPr>
          <a:xfrm>
            <a:off x="380880" y="2209680"/>
            <a:ext cx="8610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that fact seems to be “more about the map than the territ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700"/>
          <p:cNvSpPr/>
          <p:nvPr/>
        </p:nvSpPr>
        <p:spPr>
          <a:xfrm>
            <a:off x="457200" y="274320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 [Holevo 1973]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sending an n-qubit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lice can communicate no more than n classical bits to Bob (or 2n bits assuming prior entangle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00"/>
          <p:cNvSpPr/>
          <p:nvPr/>
        </p:nvSpPr>
        <p:spPr>
          <a:xfrm>
            <a:off x="457200" y="43434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can that be? Well, Bob has to measu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measuring makes most of the wavefunction go poo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00"/>
          <p:cNvSpPr/>
          <p:nvPr/>
        </p:nvSpPr>
        <p:spPr>
          <a:xfrm>
            <a:off x="838080" y="5486400"/>
            <a:ext cx="7315200" cy="1068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Less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The linearity of QM helps tame the exponentiality of Q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533520" y="123516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191120" y="68580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87680" y="701640"/>
            <a:ext cx="1562040" cy="1660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7467480" y="123516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B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5867280" y="685800"/>
            <a:ext cx="1676520" cy="165420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11"/>
          <p:cNvCxnSpPr/>
          <p:nvPr/>
        </p:nvCxnSpPr>
        <p:spPr>
          <a:xfrm>
            <a:off x="3276720" y="1600200"/>
            <a:ext cx="25912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4" name="Straight Arrow Connector 12"/>
          <p:cNvCxnSpPr/>
          <p:nvPr/>
        </p:nvCxnSpPr>
        <p:spPr>
          <a:xfrm>
            <a:off x="3048120" y="2133720"/>
            <a:ext cx="274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001520" cy="14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ay2"/>
          <p:cNvPicPr/>
          <p:nvPr/>
        </p:nvPicPr>
        <p:blipFill>
          <a:blip r:embed="rId2"/>
          <a:srcRect l="51300" t="34202" r="33749" b="43802"/>
          <a:stretch/>
        </p:blipFill>
        <p:spPr>
          <a:xfrm>
            <a:off x="5791320" y="1371600"/>
            <a:ext cx="1242720" cy="1371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380880" y="31240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give your graduate student a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n qubits (or 10n, o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)—such that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the student can learn your answer to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-or-no question of size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80880" y="5105520"/>
            <a:ext cx="8153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problem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5-27T20:59:23Z</dcterms:modified>
  <cp:revision>104</cp:revision>
  <dc:subject/>
  <dc:title>The Learnability of Quantum States</dc:title>
</cp:coreProperties>
</file>