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CEF-A30E-4D17-BB36-99DE4DF3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D6EE-5C17-4540-AF16-AEAEE7EE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EC3-9A65-44C0-A603-E4CCC9B8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A5C-2AD4-48C5-A4AF-BDD49EF4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024-B742-420B-96C4-B5411B42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52E-1B90-47FA-A572-6B614F57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05B-2DCA-47B1-BE1D-6BF6C5DB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C35-2A8A-4EC4-A36E-F9EA1FC0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F12-CB26-40C2-84DD-4FAA8232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B307-74A9-45DF-9D8D-31244B39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42C-932C-4347-80A7-30F8021E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E28-8584-4A02-AD9B-8FADF21C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1E8E-968F-4C0C-AB2A-09E8C575E2B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xperimental Complexity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333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hysics is to th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7480"/>
            <a:ext cx="849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 theoretical computer science is to wha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6381720" cy="368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12600" t="0" r="12600" b="0"/>
          <a:stretch/>
        </p:blipFill>
        <p:spPr>
          <a:xfrm>
            <a:off x="4572000" y="1125360"/>
            <a:ext cx="4273560" cy="3333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6200000">
            <a:off x="2195280" y="2062080"/>
            <a:ext cx="3313440" cy="1440000"/>
          </a:xfrm>
          <a:prstGeom prst="triangle">
            <a:avLst>
              <a:gd name="adj" fmla="val 63343"/>
            </a:avLst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476280"/>
            <a:ext cx="8282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(hypothetically) that we had the kind of money the physicists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ny way we could use it to advance understanding of the P vs. NP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3141720"/>
            <a:ext cx="73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esides more students, coffee, whiteboard marker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4797360"/>
            <a:ext cx="7489800" cy="1556280"/>
          </a:xfrm>
          <a:prstGeom prst="rect">
            <a:avLst/>
          </a:prstGeom>
          <a:solidFill>
            <a:srgbClr val="ff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high-performance computing to find minimal circuits for hard problems (for small values of 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404640"/>
            <a:ext cx="86421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>
                <a:solidFill>
                  <a:srgbClr val="ff0000"/>
                </a:solidFill>
                <a:latin typeface="Arial"/>
              </a:rPr>
              <a:t>The hope: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Examining the minimal circuits would inspire new conjectures about asymptotic behavior, which we could then try to pro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060640"/>
            <a:ext cx="8497800" cy="31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>
                <a:solidFill>
                  <a:srgbClr val="ff0000"/>
                </a:solidFill>
                <a:latin typeface="Arial"/>
              </a:rPr>
              <a:t>Conventional wisdom: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We wouldn’t learn anything this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- There are               circuits on n variables—astronomical even for tiny n</a:t>
            </a:r>
            <a:br>
              <a:rPr sz="3100"/>
            </a:b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- Small-n behavior can be notoriously misleading about asymptot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445000"/>
            <a:ext cx="86421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My view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he conventional wisdom is probably right.  That’s why I’m talking in this sessi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11280" y="2997360"/>
                <a:ext cx="1395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414972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e that when n=4, the permanent requires more arithmetic operations than the deter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900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 concrete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556240" y="1197000"/>
                <a:ext cx="30481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11280" y="1197000"/>
                <a:ext cx="42847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95280" y="2278080"/>
            <a:ext cx="835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stest known algorithm for computing the determinant of an n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 matrix: O(n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.376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 the permanent: O(n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ver Boolean problems like 3SAT: More “robust,” less dependent on input 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8000" y="1773360"/>
          <a:ext cx="8928000" cy="4690800"/>
        </p:xfrm>
        <a:graphic>
          <a:graphicData uri="http://schemas.openxmlformats.org/drawingml/2006/table">
            <a:tbl>
              <a:tblPr/>
              <a:tblGrid>
                <a:gridCol w="406440"/>
                <a:gridCol w="1574640"/>
                <a:gridCol w="2160720"/>
                <a:gridCol w="2303280"/>
                <a:gridCol w="24829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rute for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Cramer’s ru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dynamic program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Gaussian elim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Number of arithmetic operations needed to compute n</a:t>
            </a:r>
            <a:r>
              <a:rPr b="1" lang="en-US" sz="38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n determin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305080" y="5373720"/>
                <a:ext cx="16700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659640" y="5516640"/>
                <a:ext cx="22669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4360" y="5589720"/>
                <a:ext cx="129528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!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356000" y="5589720"/>
                <a:ext cx="2087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284720" y="4076640"/>
            <a:ext cx="485928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24360" y="179280"/>
            <a:ext cx="230328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. EA := E/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. EAB := EA+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. FEAB := F-E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4. EAC := E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5. GEAC := G-E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6. EAD := E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7. HEAD := H-E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8. IA := I/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9. IAB := I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0. JIAB := J-I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1. IAC := I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2. KIAC := K-I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3. IAD := I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4. LIAD := L-I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5. MA := M/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6. MAB := M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7. NMAB := N-M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8. MAC := M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19. OMAC := O-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56360" y="179280"/>
            <a:ext cx="29876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0. MAD := M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1. PMAD := P-M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2. JF := JIAB/FE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3. JFG := JF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GE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4. KJFG := KIAC-JF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5. JFH := JF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HE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6. LJFH := LIAD-JF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7. NF := NMAB/FE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8. NFG := NF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GE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29. ONFG := OMAC-NF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0. NFH := NF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HE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1. PNFH := PMAD-NF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2. OK := ONFG/KJF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3. OKL := OK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LJF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4. POKL := PNFH-OK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5. X := A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FEA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6. Y := X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KJF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37. DET := Y</a:t>
            </a:r>
            <a:r>
              <a:rPr b="0" lang="en-US" sz="17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1700" spc="-1" strike="noStrike">
                <a:solidFill>
                  <a:srgbClr val="006600"/>
                </a:solidFill>
                <a:latin typeface="Arial"/>
              </a:rPr>
              <a:t>POK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52320" y="1197000"/>
                <a:ext cx="2367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E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  <m:e>
                              <m:r>
                                <m:t xml:space="preserve">G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t xml:space="preserve">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68360" y="342900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only 37 arithmetic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0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445000"/>
            <a:ext cx="33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PTI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981000"/>
            <a:ext cx="83516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show that the 4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4 permanent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an’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be computed with 37 arithmetic operations, how many programs would we need to exam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ï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ely, 10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1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 comparison, SETI@home does 10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floating-point operations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far can we cut down the search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59280" y="2637000"/>
            <a:ext cx="576000" cy="5760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7:28:19Z</dcterms:created>
  <dc:creator>Scott Aaronson</dc:creator>
  <dc:description/>
  <dc:language>en-US</dc:language>
  <cp:lastModifiedBy>Scott Aaronson</cp:lastModifiedBy>
  <dcterms:modified xsi:type="dcterms:W3CDTF">2007-06-27T10:54:06Z</dcterms:modified>
  <cp:revision>14</cp:revision>
  <dc:subject/>
  <dc:title>Wild Idea</dc:title>
</cp:coreProperties>
</file>