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A1BB-653D-4A41-9B06-AB8A6DCA8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2F22-4392-46A1-B0DD-19154DA2DC9D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645B-BBD3-4592-88FA-3527F47D3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9180-EA91-4CC0-A1A2-FBCB11D80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A1F0-528A-4785-B12E-8E92BDAB6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B035-3A46-43D9-A057-CD374D128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D52-1B07-48F3-B3BF-4BC75E63F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6572-0E22-42F9-B226-9386AB00D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B709-28F3-4B9A-8F92-000CDFAA3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B589-AA23-4A8A-B89A-E7D685C9E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C499-89F6-4A10-880B-5EF645DBF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F317-0DC7-4944-BA3C-87393ECC4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6226-265E-4919-8965-94712E51B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D9D2-B373-474A-9A4F-6D03B30C8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DCC4-789C-4CE8-9116-6B283BA08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DCD5-5E4B-4DA2-A485-B9346B262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6EF-A0A6-46B3-B9BC-D4135189C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654-A9C4-4077-9996-E6F1783D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85F-55C6-4CAB-974A-46515566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6E0-15FE-4661-88AC-6C1892B7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8BF-8E74-4059-B84D-1B36255F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6AAE-3300-4CC9-A717-85BE52F6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7645-3E61-4950-96B2-F8B24A79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C9DD-85A7-45B5-8736-615DE083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F357-6028-468E-A02B-7575BA7B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BAB6-C3AA-4E36-BCB4-0A8E0323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7DD4-6CD7-4A9A-80BF-1EEB375D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9DCB-6C10-47C7-96FA-D991797D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A0C-0963-4948-B0FD-5AED2CF2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1C7B-9661-42E6-B7AC-2A613025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D9C3-EE5B-46BE-A31D-5AFCC29E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42DF-BF3B-45E7-AE81-A0854B82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A949-5B97-4609-88CE-BA309B8F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E5B3-C1CB-4B56-A842-9D9157B0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6EA-BDDE-40EA-AF6F-E3AA8264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8A6-388D-404A-BE33-3DAA2647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E99-6B0F-442E-8033-C01BDAE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B25-8DA2-4CF1-9EF8-8878E4CD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078-E80E-4AF9-8AEE-B5EDB1B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92F-C305-48F3-9FB7-D2650681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892-69A8-43EF-BE3C-ED67277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41F1-9293-488D-B90F-A141204B5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2551-7E90-4AFA-82E4-14C4DEEB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Calibri"/>
                <a:ea typeface="Calibri"/>
              </a:rPr>
              <a:t>Recent Progress in Computational Universality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Calibri"/>
                <a:ea typeface="Calibri"/>
              </a:rPr>
              <a:t>a.k.a. What More Than Turing-Universality Do You Want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independent.co.uk/incoming/article9023177.ece/alternates/w620/v3-turing-rx.jpg"/>
          <p:cNvPicPr/>
          <p:nvPr/>
        </p:nvPicPr>
        <p:blipFill>
          <a:blip r:embed="rId1"/>
          <a:stretch/>
        </p:blipFill>
        <p:spPr>
          <a:xfrm>
            <a:off x="1447920" y="1895400"/>
            <a:ext cx="2455920" cy="3276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4419720" y="2001960"/>
            <a:ext cx="3657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2d050"/>
                </a:solidFill>
                <a:latin typeface="Arial"/>
                <a:ea typeface="Arial"/>
              </a:rPr>
              <a:t>+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eb.mit.edu/lrs/www/physCA/redirect.gif"/>
          <p:cNvPicPr/>
          <p:nvPr/>
        </p:nvPicPr>
        <p:blipFill>
          <a:blip r:embed="rId1"/>
          <a:stretch/>
        </p:blipFill>
        <p:spPr>
          <a:xfrm>
            <a:off x="9144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ne of My Favorit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343080" y="12193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transformation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914400" y="2819520"/>
            <a:ext cx="759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419040" y="4724280"/>
            <a:ext cx="842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Interesting Structur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-23760" y="15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How to Measure Interesting Structur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311040" y="9907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any people have studied this (in the “other” complexity theory); there are definitions in terms of predictability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04920" y="202896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e simpleminded measure: the Kolmogorov complexity of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arse-grain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escription of our cellular automaton or other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http://www.scottaaronson.com/coffee-lrg.jpg"/>
          <p:cNvPicPr/>
          <p:nvPr/>
        </p:nvPicPr>
        <p:blipFill>
          <a:blip r:embed="rId1"/>
          <a:srcRect l="2583" t="25829" r="2583" b="20448"/>
          <a:stretch/>
        </p:blipFill>
        <p:spPr>
          <a:xfrm>
            <a:off x="1676520" y="3886200"/>
            <a:ext cx="605304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1"/>
          <p:cNvSpPr/>
          <p:nvPr/>
        </p:nvSpPr>
        <p:spPr>
          <a:xfrm>
            <a:off x="1371600" y="3436920"/>
            <a:ext cx="747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ean Carroll’s 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-23760" y="2376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The Coffee Automat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220680" y="622440"/>
            <a:ext cx="86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., Carroll, Mohan, Ouellette, Werness 2015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 probabilistic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 reversible system that starts half “coffee” and half “cream.”  At each time step, we randomly “shear” half the coffee cup horizontally or vertically (assuming a toroidal cu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217440" y="2438280"/>
            <a:ext cx="4295880" cy="432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252360" y="2482920"/>
            <a:ext cx="4295880" cy="4305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247680" y="2482920"/>
            <a:ext cx="4295880" cy="4295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4"/>
          <a:stretch/>
        </p:blipFill>
        <p:spPr>
          <a:xfrm>
            <a:off x="200160" y="2454120"/>
            <a:ext cx="4343400" cy="435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5"/>
          <a:stretch/>
        </p:blipFill>
        <p:spPr>
          <a:xfrm>
            <a:off x="219240" y="2454120"/>
            <a:ext cx="4305240" cy="432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6"/>
          <a:stretch/>
        </p:blipFill>
        <p:spPr>
          <a:xfrm>
            <a:off x="219240" y="2454120"/>
            <a:ext cx="4324320" cy="431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7"/>
          <a:stretch/>
        </p:blipFill>
        <p:spPr>
          <a:xfrm>
            <a:off x="237960" y="2459160"/>
            <a:ext cx="4305600" cy="4314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1"/>
          <p:cNvSpPr/>
          <p:nvPr/>
        </p:nvSpPr>
        <p:spPr>
          <a:xfrm>
            <a:off x="4724280" y="2460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prove that the apparent complexity of this image has a rising-falling pattern, with a maximum of at least ~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Chart 16" descr=""/>
          <p:cNvPicPr/>
          <p:nvPr/>
        </p:nvPicPr>
        <p:blipFill>
          <a:blip r:embed="rId8"/>
          <a:stretch/>
        </p:blipFill>
        <p:spPr>
          <a:xfrm>
            <a:off x="4346640" y="3889440"/>
            <a:ext cx="10740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catonmat.net/blog/wp-content/uploads/2009/10/busy-beaver-turing-machine.jpg"/>
          <p:cNvPicPr/>
          <p:nvPr/>
        </p:nvPicPr>
        <p:blipFill>
          <a:blip r:embed="rId1"/>
          <a:stretch/>
        </p:blipFill>
        <p:spPr>
          <a:xfrm>
            <a:off x="2666880" y="2133720"/>
            <a:ext cx="6313680" cy="220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-468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Interesting Computations Should Be Not Merely Expressible, But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Succinctly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 Expressi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1"/>
          <p:cNvSpPr/>
          <p:nvPr/>
        </p:nvSpPr>
        <p:spPr>
          <a:xfrm>
            <a:off x="295200" y="1352520"/>
            <a:ext cx="8542440" cy="50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n) = the maximum number of steps that a 1-tape, 2-symbol, n-state Turing machine can take on an initially blank tap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efore halt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1)=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2)=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3)=2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4)=1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5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7,176,87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6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7.4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65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3290760" y="4114800"/>
            <a:ext cx="5634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amously uncomputably-rapidly growing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Gödel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beyond some finite point, the values of BB(n) are not even provable in ZF set theory!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ssuming ZF is consist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-468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Yedidia 2015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(winner of MEng thesis pr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1"/>
          <p:cNvSpPr/>
          <p:nvPr/>
        </p:nvSpPr>
        <p:spPr>
          <a:xfrm>
            <a:off x="295200" y="1143000"/>
            <a:ext cx="854244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uilding on work of Harvey Friedman, constructed a 380,000-state Turing machine whose behavior is independent of ZF set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an 8,000-state machine that tests Goldbach’s Conjecture, and a 30,000-state machine that tests the Riemann Hypo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urrently working on improving by an order of magnitude (by switching from compiler to inline interpr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ifference from Minsky et al.’s “smallest universal Turing machine” contes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Pervasiveness of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293760" y="1066680"/>
            <a:ext cx="8589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programming language or cellular automaton you can think to invent, provided it’s “sufficiently complicated,” will be able to simulate a Tur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n large enough, almost any n-bit logic gate will be capable of expressing all Boolea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2-qubit unitary transformation can be used to approximate any unitary transformation on any number of qubits, to any desire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1"/>
          <p:cNvSpPr/>
          <p:nvPr/>
        </p:nvSpPr>
        <p:spPr>
          <a:xfrm>
            <a:off x="1676520" y="5202360"/>
            <a:ext cx="6858000" cy="1373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t precisely because universality is “common as dirt,” it’s not useful for distinguishing among candidate physical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heoryandpractice.org/images/Standard-Model.jpg"/>
          <p:cNvPicPr/>
          <p:nvPr/>
        </p:nvPicPr>
        <p:blipFill>
          <a:blip r:embed="rId1"/>
          <a:stretch/>
        </p:blipFill>
        <p:spPr>
          <a:xfrm>
            <a:off x="3021120" y="3124080"/>
            <a:ext cx="6095880" cy="373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life"/>
          <p:cNvPicPr/>
          <p:nvPr/>
        </p:nvPicPr>
        <p:blipFill>
          <a:blip r:embed="rId2"/>
          <a:stretch/>
        </p:blipFill>
        <p:spPr>
          <a:xfrm>
            <a:off x="304920" y="233280"/>
            <a:ext cx="5333760" cy="2687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1"/>
          <p:cNvSpPr/>
          <p:nvPr/>
        </p:nvSpPr>
        <p:spPr>
          <a:xfrm>
            <a:off x="1116000" y="3352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ver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hat We Could Ask of Physical Law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“Beyond just Turing-univers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1"/>
          <p:cNvSpPr/>
          <p:nvPr/>
        </p:nvSpPr>
        <p:spPr>
          <a:xfrm>
            <a:off x="554040" y="1676520"/>
            <a:ext cx="7904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lativity (at least Gali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Mechanics (but 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bustness (i.e.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ault-toler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vers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ver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resting Structure Formation in “Generic”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Classical Reversible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1962000" y="107460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lip second bit iff first bit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 universal (aff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upload.wikimedia.org/wikipedia/commons/thumb/c/ca/Fredkin_gate.svg/150px-Fredkin_gate.svg.png"/>
          <p:cNvPicPr/>
          <p:nvPr/>
        </p:nvPicPr>
        <p:blipFill>
          <a:blip r:embed="rId1"/>
          <a:stretch/>
        </p:blipFill>
        <p:spPr>
          <a:xfrm>
            <a:off x="314280" y="46292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1"/>
          <p:cNvSpPr/>
          <p:nvPr/>
        </p:nvSpPr>
        <p:spPr>
          <a:xfrm>
            <a:off x="243000" y="5959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red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upload.wikimedia.org/wikipedia/commons/thumb/2/26/Toffoli_gate.svg/150px-Toffoli_gate.svg.png"/>
          <p:cNvPicPr/>
          <p:nvPr/>
        </p:nvPicPr>
        <p:blipFill>
          <a:blip r:embed="rId2"/>
          <a:stretch/>
        </p:blipFill>
        <p:spPr>
          <a:xfrm>
            <a:off x="279360" y="2641680"/>
            <a:ext cx="1428840" cy="1228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1"/>
          <p:cNvSpPr/>
          <p:nvPr/>
        </p:nvSpPr>
        <p:spPr>
          <a:xfrm>
            <a:off x="235080" y="3778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ff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http://upload.wikimedia.org/wikipedia/commons/thumb/4/4e/CNOT_gate.svg/150px-CNOT_gate.svg.png"/>
          <p:cNvPicPr/>
          <p:nvPr/>
        </p:nvPicPr>
        <p:blipFill>
          <a:blip r:embed="rId3"/>
          <a:stretch/>
        </p:blipFill>
        <p:spPr>
          <a:xfrm>
            <a:off x="306360" y="1081080"/>
            <a:ext cx="1428840" cy="866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1"/>
          <p:cNvSpPr/>
          <p:nvPr/>
        </p:nvSpPr>
        <p:spPr>
          <a:xfrm>
            <a:off x="322200" y="183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962000" y="2701800"/>
            <a:ext cx="6782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lip third bit iff first two bits are bot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iversal; can generate all permutations of n-bit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1971720" y="470520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wap second and third bits iff first bit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utationally universal, but ha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ymme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preserves Hamming w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25141" t="6740" r="22068" b="-592"/>
          <a:stretch/>
        </p:blipFill>
        <p:spPr>
          <a:xfrm>
            <a:off x="2552760" y="22320"/>
            <a:ext cx="7064280" cy="706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1"/>
          <p:cNvSpPr/>
          <p:nvPr/>
        </p:nvSpPr>
        <p:spPr>
          <a:xfrm>
            <a:off x="152280" y="152280"/>
            <a:ext cx="4267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ed all sets of reversible gates in terms of which n-bit reversible transformations they generat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ssuming swaps and ancilla bits are f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hysical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1"/>
          <p:cNvSpPr/>
          <p:nvPr/>
        </p:nvSpPr>
        <p:spPr>
          <a:xfrm>
            <a:off x="6781680" y="127080"/>
            <a:ext cx="2362320" cy="70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aeffer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first known “physically-universal” cellular automaton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ble to implement any transformation in any bounded region, by suitably initializing the complement of that re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lved open problem of Janzing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web.mit.edu/lrs/www/physCA/partinput.gif"/>
          <p:cNvPicPr/>
          <p:nvPr/>
        </p:nvPicPr>
        <p:blipFill>
          <a:blip r:embed="rId1"/>
          <a:stretch/>
        </p:blipFill>
        <p:spPr>
          <a:xfrm>
            <a:off x="0" y="1440"/>
            <a:ext cx="681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6-29T11:54:01Z</dcterms:modified>
  <cp:revision>444</cp:revision>
  <dc:subject/>
  <dc:title>The Future of Computer Science</dc:title>
</cp:coreProperties>
</file>