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011-20AD-4411-ADEF-2C1A08C18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F5A6-AC26-4C94-98C4-D6E41E787F1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B15-729C-4929-A8D0-42A9054F9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EBC-B7AB-4964-9FB6-6D48FCA56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D50-3DBB-4B5A-AD47-1F3EDAFA0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0A6-BB33-4BED-88BE-208F8E504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1F3B-8E3B-4627-B560-50CB4BBD9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5EC-5A89-42FF-B265-5A99DD42A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9451-4A4F-46C8-865B-957E82272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D8A4-D55A-4373-A04D-835D760EC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3672-A4AA-4DC1-9E62-C3F4EF94B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2A2B-277E-4CAD-B3B2-19C8E2B99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C4C2-BC4C-4021-BC03-2599ED15C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68AC-2E5C-4086-AC22-527D440AF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EA07-744D-455B-98ED-60B84165F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AC33-C9D8-47C9-8CA9-27FF81EE6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667E-EA3B-4AE6-BF66-455C70D87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E14-A5F6-443E-9CBE-A52DE941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F6A-FBC1-40D1-BC43-FA0FA6E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F76-2DEB-4AEE-AA4E-F4E90FA2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0D5-6CDB-4604-B533-E3BF49BD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2CC-AB82-42E1-9533-7F8FFC70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A065-A690-4879-BDE0-3C00686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C70F-81EB-4CC6-AF18-B64EFC8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3DFC-2D4D-4AD4-AB75-5A4D3D35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39CF-97BD-41AE-B3AB-3FEE311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A5DC-E090-4210-B82F-03F35BDF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0954-7D0E-4600-9EC9-7F144278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4CA-0CA4-4806-A48B-D056DD5B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D447-E35F-4F98-8792-BB734B0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E4F5-4F22-4B2A-A313-90F5EF4F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309E-E5C7-4663-BF0A-4873CA94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E853-BE31-41BB-9197-EB041C97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5B23-1253-484C-9C80-F15005CA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B1E-7894-436B-A40D-484B9B2E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DD8-F2C3-4DFC-9E41-7B64761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A35-CFE9-45A9-AFD3-AECC9355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71B-4EC8-4A46-B744-A29906D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AFE-E903-4B61-A234-13400E28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2C9-F953-41D3-BCDA-F243265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854-F2E2-433A-8972-F7FB243F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235A-0B3B-4BF6-8DF1-982B71F76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9AD8-EE73-4658-BD75-77896428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Calibri"/>
                <a:ea typeface="Calibri"/>
              </a:rPr>
              <a:t>Recent Progress in Computational Universality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Calibri"/>
                <a:ea typeface="Calibri"/>
              </a:rPr>
              <a:t>a.k.a. What More Than Turing-Universality Do You Wan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independent.co.uk/incoming/article9023177.ece/alternates/w620/v3-turing-rx.jpg"/>
          <p:cNvPicPr/>
          <p:nvPr/>
        </p:nvPicPr>
        <p:blipFill>
          <a:blip r:embed="rId1"/>
          <a:stretch/>
        </p:blipFill>
        <p:spPr>
          <a:xfrm>
            <a:off x="1447920" y="1895400"/>
            <a:ext cx="245592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4419720" y="2001960"/>
            <a:ext cx="3657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2d050"/>
                </a:solidFill>
                <a:latin typeface="Arial"/>
                <a:ea typeface="Arial"/>
              </a:rPr>
              <a:t>+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ne of My Favorit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343080" y="12193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transformation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914400" y="2819520"/>
            <a:ext cx="759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419040" y="472428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Interesting Structur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-23760" y="15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How to Measure Interesting Structur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311040" y="990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ny people have studied this (in the “other” complexity theory); there are definitions in terms of predictability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04920" y="202896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e simpleminded measure: the Kolmogorov complexity of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arse-grain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escription of our cellular automaton or other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676520" y="3886200"/>
            <a:ext cx="605304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1"/>
          <p:cNvSpPr/>
          <p:nvPr/>
        </p:nvSpPr>
        <p:spPr>
          <a:xfrm>
            <a:off x="1371600" y="3436920"/>
            <a:ext cx="747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ean Carroll’s 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-23760" y="237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offee Automat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220680" y="62244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, Carroll, Mohan, Ouellette, Werness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 probabilistic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 reversible system that starts half “coffee” and half “cream.”  At each time step, we randomly “shear” half the coffee cup horizontally or vertically (assuming a toroidal cu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17440" y="2438280"/>
            <a:ext cx="4295880" cy="432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252360" y="2482920"/>
            <a:ext cx="4295880" cy="430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247680" y="2482920"/>
            <a:ext cx="4295880" cy="429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4"/>
          <a:stretch/>
        </p:blipFill>
        <p:spPr>
          <a:xfrm>
            <a:off x="200160" y="2454120"/>
            <a:ext cx="4343400" cy="435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5"/>
          <a:stretch/>
        </p:blipFill>
        <p:spPr>
          <a:xfrm>
            <a:off x="219240" y="2454120"/>
            <a:ext cx="4305240" cy="432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6"/>
          <a:stretch/>
        </p:blipFill>
        <p:spPr>
          <a:xfrm>
            <a:off x="219240" y="2454120"/>
            <a:ext cx="4324320" cy="431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7"/>
          <a:stretch/>
        </p:blipFill>
        <p:spPr>
          <a:xfrm>
            <a:off x="237960" y="2459160"/>
            <a:ext cx="4305600" cy="4314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1"/>
          <p:cNvSpPr/>
          <p:nvPr/>
        </p:nvSpPr>
        <p:spPr>
          <a:xfrm>
            <a:off x="4724280" y="2460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prove that the apparent complexity of this image has a rising-falling pattern, with a maximum of at least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hart 16" descr=""/>
          <p:cNvPicPr/>
          <p:nvPr/>
        </p:nvPicPr>
        <p:blipFill>
          <a:blip r:embed="rId8"/>
          <a:stretch/>
        </p:blipFill>
        <p:spPr>
          <a:xfrm>
            <a:off x="4346640" y="3889440"/>
            <a:ext cx="1074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catonmat.net/blog/wp-content/uploads/2009/10/busy-beaver-turing-machine.jpg"/>
          <p:cNvPicPr/>
          <p:nvPr/>
        </p:nvPicPr>
        <p:blipFill>
          <a:blip r:embed="rId1"/>
          <a:stretch/>
        </p:blipFill>
        <p:spPr>
          <a:xfrm>
            <a:off x="2666880" y="2133720"/>
            <a:ext cx="6313680" cy="220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-468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Interesting Computations Should Be Not Merely Expressible, But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Succinctly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 Expressi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295200" y="1352520"/>
            <a:ext cx="8542440" cy="50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n) = the maximum number of steps that a 1-tape, 2-symbol, n-state Turing machine can take on an initially blank tap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efore halt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1)=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2)=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3)=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4)=1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5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7,176,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6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7.4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65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3290760" y="4114800"/>
            <a:ext cx="563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amously uncomputably-rapidly growing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Gödel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eyond some finite point, the values of BB(n) are not even provable in ZF set theory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ssuming ZF is consist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-468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Yedidia 2015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(winner of MEng thesis pr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1"/>
          <p:cNvSpPr/>
          <p:nvPr/>
        </p:nvSpPr>
        <p:spPr>
          <a:xfrm>
            <a:off x="295200" y="1143000"/>
            <a:ext cx="85424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uilding on work of Harvey Friedman, constructed a 380,000-state Turing machine whose behavior is independent of ZF set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an 8,000-state machine that tests Goldbach’s Conjecture, and a 30,000-state machine that tests the Riemann Hypo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urrently working on improving by an order of magnitude (by switching from compiler to inline interpr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ifference from Minsky et al.’s “smallest universal Turing machine” contes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Pervasiveness of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3760" y="1066680"/>
            <a:ext cx="858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programming language or cellular automaton you can think to invent, provided it’s “sufficiently complicated,” will be able to simulate a Tur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 large enough, almost any n-bit logic gate will be capable of expressing all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2-qubit unitary transformation can be used to approximate any unitary transformation on any number of qubits, to any desir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1676520" y="5202360"/>
            <a:ext cx="6858000" cy="1373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t precisely because universality is “common as dirt,” it’s not useful for distinguishing among candidate physic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heoryandpractice.org/images/Standard-Model.jpg"/>
          <p:cNvPicPr/>
          <p:nvPr/>
        </p:nvPicPr>
        <p:blipFill>
          <a:blip r:embed="rId1"/>
          <a:stretch/>
        </p:blipFill>
        <p:spPr>
          <a:xfrm>
            <a:off x="3021120" y="3124080"/>
            <a:ext cx="6095880" cy="373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life"/>
          <p:cNvPicPr/>
          <p:nvPr/>
        </p:nvPicPr>
        <p:blipFill>
          <a:blip r:embed="rId2"/>
          <a:stretch/>
        </p:blipFill>
        <p:spPr>
          <a:xfrm>
            <a:off x="304920" y="233280"/>
            <a:ext cx="5333760" cy="2687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1"/>
          <p:cNvSpPr/>
          <p:nvPr/>
        </p:nvSpPr>
        <p:spPr>
          <a:xfrm>
            <a:off x="1116000" y="3352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ver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at We Could Ask of Physical Law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“Beyond just Turing-univers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1"/>
          <p:cNvSpPr/>
          <p:nvPr/>
        </p:nvSpPr>
        <p:spPr>
          <a:xfrm>
            <a:off x="554040" y="1676520"/>
            <a:ext cx="7904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lativity (at least Gali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Mechanics (but 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bustness (i.e.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ault-toler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resting Structure Formation in “Generic”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lassical Reversible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1962000" y="107460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second bit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 universal (aff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upload.wikimedia.org/wikipedia/commons/thumb/c/ca/Fredkin_gate.svg/150px-Fredkin_gate.svg.png"/>
          <p:cNvPicPr/>
          <p:nvPr/>
        </p:nvPicPr>
        <p:blipFill>
          <a:blip r:embed="rId1"/>
          <a:stretch/>
        </p:blipFill>
        <p:spPr>
          <a:xfrm>
            <a:off x="314280" y="46292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1"/>
          <p:cNvSpPr/>
          <p:nvPr/>
        </p:nvSpPr>
        <p:spPr>
          <a:xfrm>
            <a:off x="243000" y="5959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d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upload.wikimedia.org/wikipedia/commons/thumb/2/26/Toffoli_gate.svg/150px-Toffoli_gate.svg.png"/>
          <p:cNvPicPr/>
          <p:nvPr/>
        </p:nvPicPr>
        <p:blipFill>
          <a:blip r:embed="rId2"/>
          <a:stretch/>
        </p:blipFill>
        <p:spPr>
          <a:xfrm>
            <a:off x="279360" y="264168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1"/>
          <p:cNvSpPr/>
          <p:nvPr/>
        </p:nvSpPr>
        <p:spPr>
          <a:xfrm>
            <a:off x="235080" y="3778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ff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http://upload.wikimedia.org/wikipedia/commons/thumb/4/4e/CNOT_gate.svg/150px-CNOT_gate.svg.png"/>
          <p:cNvPicPr/>
          <p:nvPr/>
        </p:nvPicPr>
        <p:blipFill>
          <a:blip r:embed="rId3"/>
          <a:stretch/>
        </p:blipFill>
        <p:spPr>
          <a:xfrm>
            <a:off x="306360" y="108108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1"/>
          <p:cNvSpPr/>
          <p:nvPr/>
        </p:nvSpPr>
        <p:spPr>
          <a:xfrm>
            <a:off x="322200" y="183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962000" y="2701800"/>
            <a:ext cx="6782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third bit iff first two bits are bot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iversal; can generate all permutations of n-bit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1971720" y="470520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wap second and third bits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utationally universal, but ha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ymme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preserves Hamming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2552760" y="22320"/>
            <a:ext cx="7064280" cy="706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1"/>
          <p:cNvSpPr/>
          <p:nvPr/>
        </p:nvSpPr>
        <p:spPr>
          <a:xfrm>
            <a:off x="152280" y="152280"/>
            <a:ext cx="4267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n-bit reversible transformations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1"/>
          <p:cNvSpPr/>
          <p:nvPr/>
        </p:nvSpPr>
        <p:spPr>
          <a:xfrm>
            <a:off x="6781680" y="127080"/>
            <a:ext cx="236232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aeffer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first known “physically-universal” cellular automaton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ble to implement any transformation in any bounded region, by suitably initializing the complement of that 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lved open problem of Janz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0" y="1440"/>
            <a:ext cx="681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6-29T11:54:01Z</dcterms:modified>
  <cp:revision>444</cp:revision>
  <dc:subject/>
  <dc:title>The Future of Computer Science</dc:title>
</cp:coreProperties>
</file>