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5.png" ContentType="image/png"/>
  <Override PartName="/ppt/media/image9.gif" ContentType="image/gif"/>
  <Override PartName="/ppt/media/image8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11.png" ContentType="image/png"/>
  <Override PartName="/ppt/media/image19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A30A-9E00-459C-BAEE-71931CA39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DB95-53FE-4A9B-B6C6-02F2CC11D87D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ED1D-177C-4E89-80BA-545A00670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A24F-078C-4A5B-8890-80FD0CE82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03FD-A53C-4E8B-90F0-27355C20F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3EDE-5D05-4DF0-AF8A-A676D6852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9988-3A30-4D3A-BD76-0D31F8003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578A-4E1D-4001-8223-6BA86F896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5FC0-CCCA-444B-BA12-72A105067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1AB6-AE48-424E-BABB-E0A300E6B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9F90-2C1C-4A1C-A396-1ED6C9283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D8E7-124A-42F0-B968-F1628B994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8377-5F10-4DAB-BF1A-DB684B346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80C6-4049-4399-9234-8927F01B41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5AC6-C126-4C6C-BC1C-A83B90505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E83D-3483-424E-8A16-89159B1A7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65A-9599-4750-A5A5-93964A06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88DA-F24D-456A-B1FE-591A349B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1EDD-E5AF-406A-A0FE-37CB28A7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329A-6C76-48EA-83C3-AC65E761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B8F5-5179-4871-BEDB-925BFAE9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F791-1CF5-4562-9DC8-C4E38A1D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7516-52B3-49FE-92F5-BEA966DE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AD49-FBCA-460E-BC2E-4057515F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3994-C644-442F-9AA9-BAAFEB82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AD35-A875-458D-96B9-57F1BCC6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A486-318E-419B-9180-F7107FEB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708-2103-43CA-B24D-68CA264C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1370-0A97-44B3-926E-A6642863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69CB-7FE2-4CE6-B7A9-B58D4493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6EE1-5BD7-446E-9C0B-16D2DDCF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59B3-26D1-447B-9D3B-5D81939A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7890-9802-4F57-B1A1-A55A809C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BDB-D309-4B1F-90F7-219C3632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635B-8988-4929-B7C7-9C19C67E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3637-F7A1-44DD-983D-F7E1F436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4B9F-E79E-49F6-92E4-E02F6A3D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1D41-1B1F-4B2D-944D-BB873599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6B5B-C459-4D5D-A93D-520A215E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1D4-BAC4-4165-B888-056D514C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4058-A124-45E8-A42B-42916AA7F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466A-DA15-4012-8D94-044ACE397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40" y="1519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Calibri"/>
                <a:ea typeface="Calibri"/>
              </a:rPr>
              <a:t>What More Than Turing-Universality Do You Want?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280" y="5409720"/>
            <a:ext cx="8839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Papers and slides at www.scottaarons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www.independent.co.uk/incoming/article9023177.ece/alternates/w620/v3-turing-rx.jpg"/>
          <p:cNvPicPr/>
          <p:nvPr/>
        </p:nvPicPr>
        <p:blipFill>
          <a:blip r:embed="rId1"/>
          <a:stretch/>
        </p:blipFill>
        <p:spPr>
          <a:xfrm>
            <a:off x="1447920" y="1895400"/>
            <a:ext cx="2455920" cy="3276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4419720" y="2001960"/>
            <a:ext cx="3657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2d050"/>
                </a:solidFill>
                <a:latin typeface="Arial"/>
              </a:rPr>
              <a:t>+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web.mit.edu/lrs/www/physCA/redirect.gif"/>
          <p:cNvPicPr/>
          <p:nvPr/>
        </p:nvPicPr>
        <p:blipFill>
          <a:blip r:embed="rId1"/>
          <a:stretch/>
        </p:blipFill>
        <p:spPr>
          <a:xfrm>
            <a:off x="914400" y="0"/>
            <a:ext cx="718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One of My Favorite 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1"/>
          <p:cNvSpPr/>
          <p:nvPr/>
        </p:nvSpPr>
        <p:spPr>
          <a:xfrm>
            <a:off x="343080" y="1219320"/>
            <a:ext cx="85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every n-qubit unitary transformation U, is there a Boolean function f such that U can be realized by a polynomial-time quantum algorithm with an oracle for 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1"/>
          <p:cNvSpPr/>
          <p:nvPr/>
        </p:nvSpPr>
        <p:spPr>
          <a:xfrm>
            <a:off x="914400" y="2819520"/>
            <a:ext cx="759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I’m giving you an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omputatio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pability f you could possibly want—but it’s still far from obvious how to get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pability U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1"/>
          <p:cNvSpPr/>
          <p:nvPr/>
        </p:nvSpPr>
        <p:spPr>
          <a:xfrm>
            <a:off x="419040" y="4724280"/>
            <a:ext cx="842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show: For every n-qubi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re’s a Boolean function f such that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n be prepared by a polynomial-time quantum algorithm with an oracle f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0" y="26589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Interesting Structure 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-23760" y="1522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How to Measure Interesting Structur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1"/>
          <p:cNvSpPr/>
          <p:nvPr/>
        </p:nvSpPr>
        <p:spPr>
          <a:xfrm>
            <a:off x="311040" y="9907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Many people have studied this; Jim Crutchfield will tell you about how to define structure in terms of predictabil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1"/>
          <p:cNvSpPr/>
          <p:nvPr/>
        </p:nvSpPr>
        <p:spPr>
          <a:xfrm>
            <a:off x="304920" y="2028960"/>
            <a:ext cx="85341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One simpleminded measure: the Kolmogorov-Chaitin complexity of a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coarse-graine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description of our cellular automaton or other syst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http://www.scottaaronson.com/coffee-lrg.jpg"/>
          <p:cNvPicPr/>
          <p:nvPr/>
        </p:nvPicPr>
        <p:blipFill>
          <a:blip r:embed="rId1"/>
          <a:srcRect l="2583" t="25829" r="2583" b="20448"/>
          <a:stretch/>
        </p:blipFill>
        <p:spPr>
          <a:xfrm>
            <a:off x="1676520" y="3886200"/>
            <a:ext cx="6053040" cy="2743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1"/>
          <p:cNvSpPr/>
          <p:nvPr/>
        </p:nvSpPr>
        <p:spPr>
          <a:xfrm>
            <a:off x="1371600" y="3436920"/>
            <a:ext cx="7473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Sean Carroll’s exampl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-23760" y="2376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The Coffee Automat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1"/>
          <p:cNvSpPr/>
          <p:nvPr/>
        </p:nvSpPr>
        <p:spPr>
          <a:xfrm>
            <a:off x="220680" y="622440"/>
            <a:ext cx="869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A., Carroll, Mohan, Ouellette, Werness 2015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A probabilistic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 reversible system that starts half “coffee” and half “cream.”  At each time step, we randomly “shear” half the coffee cup horizontally or vertically (assuming a toroidal cup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217440" y="2438280"/>
            <a:ext cx="4295880" cy="4324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252360" y="2482920"/>
            <a:ext cx="4295880" cy="4305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3"/>
          <a:stretch/>
        </p:blipFill>
        <p:spPr>
          <a:xfrm>
            <a:off x="247680" y="2482920"/>
            <a:ext cx="4295880" cy="4295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4"/>
          <a:stretch/>
        </p:blipFill>
        <p:spPr>
          <a:xfrm>
            <a:off x="200160" y="2454120"/>
            <a:ext cx="4343400" cy="4353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5"/>
          <a:stretch/>
        </p:blipFill>
        <p:spPr>
          <a:xfrm>
            <a:off x="219240" y="2454120"/>
            <a:ext cx="4305240" cy="4324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6"/>
          <a:stretch/>
        </p:blipFill>
        <p:spPr>
          <a:xfrm>
            <a:off x="219240" y="2454120"/>
            <a:ext cx="4324320" cy="4314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"/>
          <p:cNvPicPr/>
          <p:nvPr/>
        </p:nvPicPr>
        <p:blipFill>
          <a:blip r:embed="rId7"/>
          <a:stretch/>
        </p:blipFill>
        <p:spPr>
          <a:xfrm>
            <a:off x="237960" y="2459160"/>
            <a:ext cx="4305600" cy="4314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1"/>
          <p:cNvSpPr/>
          <p:nvPr/>
        </p:nvSpPr>
        <p:spPr>
          <a:xfrm>
            <a:off x="4724280" y="2460600"/>
            <a:ext cx="426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e prove that the apparent complexity of this image has a rising-falling pattern, with a maximum of at least ~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Chart 16" descr=""/>
          <p:cNvPicPr/>
          <p:nvPr/>
        </p:nvPicPr>
        <p:blipFill>
          <a:blip r:embed="rId8"/>
          <a:stretch/>
        </p:blipFill>
        <p:spPr>
          <a:xfrm>
            <a:off x="4346640" y="3889440"/>
            <a:ext cx="107409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www.catonmat.net/blog/wp-content/uploads/2009/10/busy-beaver-turing-machine.jpg"/>
          <p:cNvPicPr/>
          <p:nvPr/>
        </p:nvPicPr>
        <p:blipFill>
          <a:blip r:embed="rId1"/>
          <a:stretch/>
        </p:blipFill>
        <p:spPr>
          <a:xfrm>
            <a:off x="2666880" y="2133720"/>
            <a:ext cx="6313680" cy="2209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"/>
          <p:cNvSpPr/>
          <p:nvPr/>
        </p:nvSpPr>
        <p:spPr>
          <a:xfrm>
            <a:off x="-4680" y="15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Interesting Computations Should Be Not Merely Expressible, But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Arial"/>
              </a:rPr>
              <a:t>Succinctly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 Expressib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1"/>
          <p:cNvSpPr/>
          <p:nvPr/>
        </p:nvSpPr>
        <p:spPr>
          <a:xfrm>
            <a:off x="295200" y="1352520"/>
            <a:ext cx="8542440" cy="50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n) = the maximum number of steps that a 1-tape, 2-symbol, n-state Turing machine can take on an initially blank tap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efore halt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1)=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2)=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3)=2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4)=10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5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47,176,87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6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7.4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653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1"/>
          <p:cNvSpPr/>
          <p:nvPr/>
        </p:nvSpPr>
        <p:spPr>
          <a:xfrm>
            <a:off x="3281400" y="3962520"/>
            <a:ext cx="5634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Gödel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beyond some finite point, the values of BB(n) are not even provable in ZF set theory!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(assuming ZF is consist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1"/>
          <p:cNvSpPr/>
          <p:nvPr/>
        </p:nvSpPr>
        <p:spPr>
          <a:xfrm>
            <a:off x="3281400" y="5452920"/>
            <a:ext cx="5634000" cy="1663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Yedidia 2015 (building on Harvey Friedman)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This happens at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533,482</a:t>
            </a:r>
            <a:br>
              <a:rPr sz="2700"/>
            </a:b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Also, ~10,000 states suffice to test Goldb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1"/>
          <p:cNvSpPr/>
          <p:nvPr/>
        </p:nvSpPr>
        <p:spPr>
          <a:xfrm>
            <a:off x="1752480" y="260208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(Famous uncomputably-rapidly growing func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e Pervasiveness of Univers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1"/>
          <p:cNvSpPr/>
          <p:nvPr/>
        </p:nvSpPr>
        <p:spPr>
          <a:xfrm>
            <a:off x="293760" y="1066680"/>
            <a:ext cx="858996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most any programming language or cellular automaton you can think to invent, provided it’s “sufficiently complicated,” will be able to simulate a Turing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n large enough, almost any n-bit logic gate will be capable of expressing all Boolean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most any 2-qubit unitary transformation can be used to approximate any unitary transformation on any number of qubits, to any desired pr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1"/>
          <p:cNvSpPr/>
          <p:nvPr/>
        </p:nvSpPr>
        <p:spPr>
          <a:xfrm>
            <a:off x="1676520" y="5202360"/>
            <a:ext cx="6858000" cy="13737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et precisely because universality is “common as dirt,” it’s not useful for distinguishing among candidate physical the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theoryandpractice.org/images/Standard-Model.jpg"/>
          <p:cNvPicPr/>
          <p:nvPr/>
        </p:nvPicPr>
        <p:blipFill>
          <a:blip r:embed="rId1"/>
          <a:stretch/>
        </p:blipFill>
        <p:spPr>
          <a:xfrm>
            <a:off x="3021120" y="3124080"/>
            <a:ext cx="6095880" cy="3733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6" descr="life"/>
          <p:cNvPicPr/>
          <p:nvPr/>
        </p:nvPicPr>
        <p:blipFill>
          <a:blip r:embed="rId2"/>
          <a:stretch/>
        </p:blipFill>
        <p:spPr>
          <a:xfrm>
            <a:off x="304920" y="233280"/>
            <a:ext cx="5333760" cy="2687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1"/>
          <p:cNvSpPr/>
          <p:nvPr/>
        </p:nvSpPr>
        <p:spPr>
          <a:xfrm>
            <a:off x="1116000" y="3352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ver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What We Could Ask of Physical Laws</a:t>
            </a:r>
            <a:br>
              <a:rPr sz="44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Arial"/>
              </a:rPr>
              <a:t>“Beyond just Turing-universal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1"/>
          <p:cNvSpPr/>
          <p:nvPr/>
        </p:nvSpPr>
        <p:spPr>
          <a:xfrm>
            <a:off x="554040" y="1676520"/>
            <a:ext cx="79041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mp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lativity (at least Galile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Mechanics (but why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bustness (i.e.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ault-tolera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niversa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niversality (cf. constructor the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teresting Structure Formation in “Generic”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4680" y="26589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Classical Reversible G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1962000" y="1074600"/>
            <a:ext cx="6782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lip second bit iff first bit is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t universal (aff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upload.wikimedia.org/wikipedia/commons/thumb/c/ca/Fredkin_gate.svg/150px-Fredkin_gate.svg.png"/>
          <p:cNvPicPr/>
          <p:nvPr/>
        </p:nvPicPr>
        <p:blipFill>
          <a:blip r:embed="rId1"/>
          <a:stretch/>
        </p:blipFill>
        <p:spPr>
          <a:xfrm>
            <a:off x="314280" y="46292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1"/>
          <p:cNvSpPr/>
          <p:nvPr/>
        </p:nvSpPr>
        <p:spPr>
          <a:xfrm>
            <a:off x="243000" y="59594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red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http://upload.wikimedia.org/wikipedia/commons/thumb/2/26/Toffoli_gate.svg/150px-Toffoli_gate.svg.png"/>
          <p:cNvPicPr/>
          <p:nvPr/>
        </p:nvPicPr>
        <p:blipFill>
          <a:blip r:embed="rId2"/>
          <a:stretch/>
        </p:blipFill>
        <p:spPr>
          <a:xfrm>
            <a:off x="279360" y="2641680"/>
            <a:ext cx="1428840" cy="12286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1"/>
          <p:cNvSpPr/>
          <p:nvPr/>
        </p:nvSpPr>
        <p:spPr>
          <a:xfrm>
            <a:off x="235080" y="3778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off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http://upload.wikimedia.org/wikipedia/commons/thumb/4/4e/CNOT_gate.svg/150px-CNOT_gate.svg.png"/>
          <p:cNvPicPr/>
          <p:nvPr/>
        </p:nvPicPr>
        <p:blipFill>
          <a:blip r:embed="rId3"/>
          <a:stretch/>
        </p:blipFill>
        <p:spPr>
          <a:xfrm>
            <a:off x="306360" y="1081080"/>
            <a:ext cx="1428840" cy="866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1"/>
          <p:cNvSpPr/>
          <p:nvPr/>
        </p:nvSpPr>
        <p:spPr>
          <a:xfrm>
            <a:off x="322200" y="1835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1"/>
          <p:cNvSpPr/>
          <p:nvPr/>
        </p:nvSpPr>
        <p:spPr>
          <a:xfrm>
            <a:off x="1962000" y="2701800"/>
            <a:ext cx="6782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lip third bit iff first two bits are both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niversal; can generate all permutations of n-bit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1"/>
          <p:cNvSpPr/>
          <p:nvPr/>
        </p:nvSpPr>
        <p:spPr>
          <a:xfrm>
            <a:off x="1971720" y="470520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wap second and third bits iff first bit is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utationally universal, but has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ymmet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preserves Hamming we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rcRect l="25141" t="6740" r="22068" b="-592"/>
          <a:stretch/>
        </p:blipFill>
        <p:spPr>
          <a:xfrm>
            <a:off x="2552760" y="22320"/>
            <a:ext cx="7064280" cy="7064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1"/>
          <p:cNvSpPr/>
          <p:nvPr/>
        </p:nvSpPr>
        <p:spPr>
          <a:xfrm>
            <a:off x="152280" y="152280"/>
            <a:ext cx="42674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.-Grier-Schaefer 2015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lassified all sets of reversible gates in terms of which n-bit reversible transformations they generate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assuming swaps and ancilla bits are f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4680" y="26589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Physical Univers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1"/>
          <p:cNvSpPr/>
          <p:nvPr/>
        </p:nvSpPr>
        <p:spPr>
          <a:xfrm>
            <a:off x="6781680" y="127080"/>
            <a:ext cx="2362320" cy="70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chaeffer 2014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first known “physically-universal” cellular automaton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(able to implement any transformation in any bounded region, by suitably initializing the complement of that reg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olved open problem of Janzing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http://web.mit.edu/lrs/www/physCA/partinput.gif"/>
          <p:cNvPicPr/>
          <p:nvPr/>
        </p:nvPicPr>
        <p:blipFill>
          <a:blip r:embed="rId1"/>
          <a:stretch/>
        </p:blipFill>
        <p:spPr>
          <a:xfrm>
            <a:off x="0" y="1440"/>
            <a:ext cx="68166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15-05-04T17:43:10Z</dcterms:modified>
  <cp:revision>437</cp:revision>
  <dc:subject/>
  <dc:title>The Future of Computer Science</dc:title>
</cp:coreProperties>
</file>