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474B-E2C0-46CD-82F5-1A2EFE22694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4CA3-1A1C-433E-B0CA-65160E20B83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20A8-A972-4DA8-88E2-754446B645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0665-38A1-43A5-BCC3-FF17385B07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4892-DA17-441D-B645-1475F3ECD3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5917-1CCB-4578-9D70-C9E2BCBBBE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B800-3282-4110-97FA-F7570C2DEA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DB077-79A7-430B-8711-513D0E14A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9210-AEDF-4DCA-ABB1-1DB13AD4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483DF-F174-45F9-8398-8A190CF0F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319BE-1C7B-4B81-81DD-F96DB846C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7B38B-BF61-42B0-8C86-30BF58041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9725A-CF6C-4366-A379-86445DE4A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B04A9-EDE6-4619-BEE6-F850E7D51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DE9C9-782A-48E8-99CA-83EF54C24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532E2-BC7A-43F8-A196-0CFAAA845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B52FA-79F2-4933-8656-C8F1EDF29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A01B9-02A8-46CD-880F-CD9A8C736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2D257-94BE-4B84-A09A-C6C069A53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E32BF-D4FE-40CE-BD41-325FD21B1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97849-B24C-4111-848C-DE5C2CEEC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92EB4-8A12-409C-9437-5AF94F663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04AD9-B4DF-4CA5-A656-9434C8CFE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EF4FE-5525-4557-9BD7-5892BE07C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5B57C-48DF-4A7F-B963-D25E98CB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21C34-2EAE-44CA-8F55-E5FEDCB43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13851-5D5E-4CD1-891E-431D0FE9E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7C74D-BD52-49BD-9469-37CB6684A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7E911-71E0-43D6-A615-B6E8679F3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5A859-0412-4CEF-B084-FD804CB63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3B74A-60DB-4E4B-8369-50EAF607F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29E5-A1E2-448F-83F4-15A7DBEB01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4A9F-1C5C-4AD4-B3C4-6D0581D5C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Verifiable Quantum Supremacy:</a:t>
            </a:r>
            <a:br>
              <a:rPr sz="4000"/>
            </a:br>
            <a:r>
              <a:rPr b="1" lang="en-US" sz="4000" spc="-1" strike="noStrike">
                <a:solidFill>
                  <a:srgbClr val="ffffcc"/>
                </a:solidFill>
                <a:latin typeface="Calibri"/>
                <a:ea typeface="Calibri"/>
              </a:rPr>
              <a:t>What I Hope Will Be Done</a:t>
            </a:r>
            <a:endParaRPr b="1" lang="en-US" sz="4000" spc="-1" strike="noStrike">
              <a:solidFill>
                <a:srgbClr val="333399"/>
              </a:solidFill>
              <a:latin typeface="Arial"/>
            </a:endParaRPr>
          </a:p>
        </p:txBody>
      </p:sp>
      <p:sp>
        <p:nvSpPr>
          <p:cNvPr id="91" name="PlaceHolder 2"/>
          <p:cNvSpPr>
            <a:spLocks noGrp="1"/>
          </p:cNvSpPr>
          <p:nvPr>
            <p:ph type="subTitle"/>
          </p:nvPr>
        </p:nvSpPr>
        <p:spPr>
          <a:xfrm>
            <a:off x="547560" y="5486040"/>
            <a:ext cx="8048880" cy="1136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 and OpenAI)</a:t>
            </a:r>
            <a:br>
              <a:rPr sz="3200"/>
            </a:br>
            <a:r>
              <a:rPr b="1" lang="en-US" sz="3200" spc="-1" strike="noStrike">
                <a:solidFill>
                  <a:srgbClr val="ffffff"/>
                </a:solidFill>
                <a:latin typeface="Calibri"/>
                <a:ea typeface="Calibri"/>
              </a:rPr>
              <a:t>CQIQC, Toronto, August 31,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3240" y="1460520"/>
            <a:ext cx="9144000" cy="373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Black-Box Setting</a:t>
            </a:r>
            <a:endParaRPr b="0" lang="en-US" sz="4400" spc="-1" strike="noStrike">
              <a:solidFill>
                <a:srgbClr val="000000"/>
              </a:solidFill>
              <a:latin typeface="Calibri"/>
            </a:endParaRPr>
          </a:p>
        </p:txBody>
      </p:sp>
      <p:pic>
        <p:nvPicPr>
          <p:cNvPr id="172" name="Picture 2" descr="PDF] Forrelation: A Problem that Optimally Separates Quantum from Classical  Computing | Semantic Scholar"/>
          <p:cNvPicPr/>
          <p:nvPr/>
        </p:nvPicPr>
        <p:blipFill>
          <a:blip r:embed="rId1"/>
          <a:stretch/>
        </p:blipFill>
        <p:spPr>
          <a:xfrm>
            <a:off x="609480" y="1382760"/>
            <a:ext cx="7723440" cy="2438280"/>
          </a:xfrm>
          <a:prstGeom prst="rect">
            <a:avLst/>
          </a:prstGeom>
          <a:ln w="0">
            <a:noFill/>
          </a:ln>
        </p:spPr>
      </p:pic>
      <p:sp>
        <p:nvSpPr>
          <p:cNvPr id="173" name="Subtitle 4"/>
          <p:cNvSpPr/>
          <p:nvPr/>
        </p:nvSpPr>
        <p:spPr>
          <a:xfrm>
            <a:off x="584280" y="4038480"/>
            <a:ext cx="797544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k-fold Forrelation (A. 2009, A-Ambainis 2015)</a:t>
            </a:r>
            <a:r>
              <a:rPr b="0" lang="en-US" sz="2800" spc="-1" strike="noStrike">
                <a:solidFill>
                  <a:srgbClr val="000000"/>
                </a:solidFill>
                <a:latin typeface="Calibri"/>
                <a:ea typeface="Calibri"/>
              </a:rPr>
              <a:t> used oracle functions to insert a hard-to-contract loop into the complexity geometry artificiall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explicit hard instances of k-fold Forrel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rder to view e.g. Shor’s algorithm the same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
                                  <p:stCondLst>
                                    <p:cond delay="0"/>
                                  </p:stCondLst>
                                  <p:childTnLst>
                                    <p:set>
                                      <p:cBhvr>
                                        <p:cTn id="9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175" name="Picture 2" descr="enter image description here"/>
          <p:cNvPicPr/>
          <p:nvPr/>
        </p:nvPicPr>
        <p:blipFill>
          <a:blip r:embed="rId1"/>
          <a:stretch/>
        </p:blipFill>
        <p:spPr>
          <a:xfrm>
            <a:off x="5356080" y="4327560"/>
            <a:ext cx="3407040" cy="2451240"/>
          </a:xfrm>
          <a:prstGeom prst="rect">
            <a:avLst/>
          </a:prstGeom>
          <a:ln w="0">
            <a:noFill/>
          </a:ln>
        </p:spPr>
      </p:pic>
      <p:pic>
        <p:nvPicPr>
          <p:cNvPr id="176"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177"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178" name="Picture 12" descr="MFG Periodic Functions"/>
          <p:cNvPicPr/>
          <p:nvPr/>
        </p:nvPicPr>
        <p:blipFill>
          <a:blip r:embed="rId3"/>
          <a:stretch/>
        </p:blipFill>
        <p:spPr>
          <a:xfrm>
            <a:off x="196920" y="4867200"/>
            <a:ext cx="3508200" cy="2013120"/>
          </a:xfrm>
          <a:prstGeom prst="rect">
            <a:avLst/>
          </a:prstGeom>
          <a:ln w="0">
            <a:noFill/>
          </a:ln>
        </p:spPr>
      </p:pic>
      <p:sp>
        <p:nvSpPr>
          <p:cNvPr id="179" name="Subtitle 4"/>
          <p:cNvSpPr/>
          <p:nvPr/>
        </p:nvSpPr>
        <p:spPr>
          <a:xfrm>
            <a:off x="914400" y="4572000"/>
            <a:ext cx="7010280" cy="11620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e now urgently need to know:</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Just how non-weird can we mak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9"/>
                                        </p:tgtEl>
                                        <p:attrNameLst>
                                          <p:attrName>style.visibility</p:attrName>
                                        </p:attrNameLst>
                                      </p:cBhvr>
                                      <p:to>
                                        <p:strVal val="visible"/>
                                      </p:to>
                                    </p:set>
                                    <p:anim calcmode="lin" valueType="num">
                                      <p:cBhvr additive="base">
                                        <p:cTn id="107" dur="500" fill="hold"/>
                                        <p:tgtEl>
                                          <p:spTgt spid="179"/>
                                        </p:tgtEl>
                                        <p:attrNameLst>
                                          <p:attrName>ppt_x</p:attrName>
                                        </p:attrNameLst>
                                      </p:cBhvr>
                                      <p:tavLst>
                                        <p:tav tm="0">
                                          <p:val>
                                            <p:strVal val="#ppt_x"/>
                                          </p:val>
                                        </p:tav>
                                        <p:tav tm="100000">
                                          <p:val>
                                            <p:strVal val="#ppt_x"/>
                                          </p:val>
                                        </p:tav>
                                      </p:tavLst>
                                    </p:anim>
                                    <p:anim calcmode="lin" valueType="num">
                                      <p:cBhvr additive="base">
                                        <p:cTn id="10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4120" y="52704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urrent Sampling-Based Quantum Supremacy Experiments</a:t>
            </a:r>
            <a:endParaRPr b="0" lang="en-US" sz="4400" spc="-1" strike="noStrike">
              <a:solidFill>
                <a:srgbClr val="000000"/>
              </a:solidFill>
              <a:latin typeface="Calibri"/>
            </a:endParaRPr>
          </a:p>
        </p:txBody>
      </p:sp>
      <p:sp>
        <p:nvSpPr>
          <p:cNvPr id="94" name="Straight Connector 2"/>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36"/>
          <p:cNvSpPr/>
          <p:nvPr/>
        </p:nvSpPr>
        <p:spPr>
          <a:xfrm>
            <a:off x="152280" y="2017800"/>
            <a:ext cx="4346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 Xanadu 2022)</a:t>
            </a:r>
            <a:endParaRPr b="0" lang="en-US" sz="2000" spc="-1" strike="noStrike">
              <a:solidFill>
                <a:srgbClr val="000000"/>
              </a:solidFill>
              <a:latin typeface="Arial"/>
            </a:endParaRPr>
          </a:p>
        </p:txBody>
      </p:sp>
      <p:sp>
        <p:nvSpPr>
          <p:cNvPr id="96"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97"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98" name="Picture 4" descr=""/>
          <p:cNvPicPr/>
          <p:nvPr/>
        </p:nvPicPr>
        <p:blipFill>
          <a:blip r:embed="rId2"/>
          <a:stretch/>
        </p:blipFill>
        <p:spPr>
          <a:xfrm>
            <a:off x="181080" y="3505320"/>
            <a:ext cx="1828800" cy="1649160"/>
          </a:xfrm>
          <a:prstGeom prst="rect">
            <a:avLst/>
          </a:prstGeom>
          <a:ln w="0">
            <a:noFill/>
          </a:ln>
        </p:spPr>
      </p:pic>
      <p:pic>
        <p:nvPicPr>
          <p:cNvPr id="99"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00" name="Picture 4" descr=""/>
          <p:cNvPicPr/>
          <p:nvPr/>
        </p:nvPicPr>
        <p:blipFill>
          <a:blip r:embed="rId4"/>
          <a:stretch/>
        </p:blipFill>
        <p:spPr>
          <a:xfrm>
            <a:off x="2550960" y="3565440"/>
            <a:ext cx="1630440" cy="1233720"/>
          </a:xfrm>
          <a:prstGeom prst="rect">
            <a:avLst/>
          </a:prstGeom>
          <a:ln w="0">
            <a:noFill/>
          </a:ln>
        </p:spPr>
      </p:pic>
      <p:pic>
        <p:nvPicPr>
          <p:cNvPr id="101"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02"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120" y="38592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Wrong With the Current Experiments?</a:t>
            </a:r>
            <a:endParaRPr b="0" lang="en-US" sz="4400" spc="-1" strike="noStrike">
              <a:solidFill>
                <a:srgbClr val="000000"/>
              </a:solidFill>
              <a:latin typeface="Calibri"/>
            </a:endParaRPr>
          </a:p>
        </p:txBody>
      </p:sp>
      <p:sp>
        <p:nvSpPr>
          <p:cNvPr id="104" name="Subtitle 4"/>
          <p:cNvSpPr/>
          <p:nvPr/>
        </p:nvSpPr>
        <p:spPr>
          <a:xfrm>
            <a:off x="304920" y="1654200"/>
            <a:ext cx="8381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ack of error-correction prevents scaling:</a:t>
            </a:r>
            <a:r>
              <a:rPr b="0" lang="en-US" sz="2800" spc="-1" strike="noStrike">
                <a:solidFill>
                  <a:srgbClr val="000000"/>
                </a:solidFill>
                <a:latin typeface="Calibri"/>
                <a:ea typeface="Calibri"/>
              </a:rPr>
              <a:t> Obvious.</a:t>
            </a:r>
            <a:endParaRPr b="0" lang="en-US" sz="2800" spc="-1" strike="noStrike">
              <a:solidFill>
                <a:srgbClr val="000000"/>
              </a:solidFill>
              <a:latin typeface="Arial"/>
            </a:endParaRPr>
          </a:p>
        </p:txBody>
      </p:sp>
      <p:sp>
        <p:nvSpPr>
          <p:cNvPr id="105" name="Subtitle 4"/>
          <p:cNvSpPr/>
          <p:nvPr/>
        </p:nvSpPr>
        <p:spPr>
          <a:xfrm>
            <a:off x="304920" y="2270160"/>
            <a:ext cx="8381880" cy="457200"/>
          </a:xfrm>
          <a:prstGeom prst="rect">
            <a:avLst/>
          </a:prstGeom>
          <a:noFill/>
          <a:ln w="0">
            <a:noFill/>
          </a:ln>
        </p:spPr>
        <p:style>
          <a:lnRef idx="0"/>
          <a:fillRef idx="0"/>
          <a:effectRef idx="0"/>
          <a:fontRef idx="minor"/>
        </p:style>
        <p:txBody>
          <a:bodyPr lIns="90000" rIns="90000" tIns="46800" bIns="46800" anchor="t">
            <a:normAutofit fontScale="2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Spoofing atta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an-Chen-Zhang 2021:</a:t>
            </a:r>
            <a:r>
              <a:rPr b="0" lang="en-US" sz="2800" spc="-1" strike="noStrike">
                <a:solidFill>
                  <a:srgbClr val="000000"/>
                </a:solidFill>
                <a:latin typeface="Calibri"/>
                <a:ea typeface="Calibri"/>
              </a:rPr>
              <a:t> Tensor network contraction, could simulate Sycamore on supercomputer in seconds, quantum supremacy remains in cycles, energy, CO</a:t>
            </a:r>
            <a:r>
              <a:rPr b="0" lang="en-US" sz="2800" spc="-1" strike="noStrike" baseline="-25000">
                <a:solidFill>
                  <a:srgbClr val="000000"/>
                </a:solidFill>
                <a:latin typeface="Calibri"/>
                <a:ea typeface="Calibri"/>
              </a:rPr>
              <a:t>2</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ao-Kalinowski-Chou-Lukin-Barak-Choi 2021:</a:t>
            </a:r>
            <a:r>
              <a:rPr b="0" lang="en-US" sz="2800" spc="-1" strike="noStrike">
                <a:solidFill>
                  <a:srgbClr val="000000"/>
                </a:solidFill>
                <a:latin typeface="Calibri"/>
                <a:ea typeface="Calibri"/>
              </a:rPr>
              <a:t> Can get 1/exp(depth) advantage on Linear XEB.  Doesn’t yet beat Sycamore’s 1.002, but within an order of magnitude.</a:t>
            </a:r>
            <a:endParaRPr b="0" lang="en-US" sz="2800" spc="-1" strike="noStrike">
              <a:solidFill>
                <a:srgbClr val="000000"/>
              </a:solidFill>
              <a:latin typeface="Arial"/>
            </a:endParaRPr>
          </a:p>
        </p:txBody>
      </p:sp>
      <p:sp>
        <p:nvSpPr>
          <p:cNvPr id="106" name="Subtitle 4"/>
          <p:cNvSpPr/>
          <p:nvPr/>
        </p:nvSpPr>
        <p:spPr>
          <a:xfrm>
            <a:off x="304920" y="5715000"/>
            <a:ext cx="838188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st fundamental (in my view): </a:t>
            </a:r>
            <a:r>
              <a:rPr b="0" lang="en-US" sz="2800" spc="-1" strike="noStrike">
                <a:solidFill>
                  <a:srgbClr val="000000"/>
                </a:solidFill>
                <a:latin typeface="Calibri"/>
                <a:ea typeface="Calibri"/>
              </a:rPr>
              <a:t>exponential time needed for classical verification!  (E.g. via Linear X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38040" y="104400"/>
            <a:ext cx="84679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Field Guide to Exponential Speedups</a:t>
            </a:r>
            <a:endParaRPr b="0" lang="en-US" sz="4200" spc="-1" strike="noStrike">
              <a:solidFill>
                <a:srgbClr val="000000"/>
              </a:solidFill>
              <a:latin typeface="Calibri"/>
            </a:endParaRPr>
          </a:p>
        </p:txBody>
      </p:sp>
      <p:sp>
        <p:nvSpPr>
          <p:cNvPr id="108" name="Oval 1"/>
          <p:cNvSpPr/>
          <p:nvPr/>
        </p:nvSpPr>
        <p:spPr>
          <a:xfrm>
            <a:off x="304920" y="1285920"/>
            <a:ext cx="5575320" cy="4114800"/>
          </a:xfrm>
          <a:prstGeom prst="ellipse">
            <a:avLst/>
          </a:prstGeom>
          <a:solidFill>
            <a:srgbClr val="00b05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8"/>
          <p:cNvSpPr/>
          <p:nvPr/>
        </p:nvSpPr>
        <p:spPr>
          <a:xfrm>
            <a:off x="2749680" y="1332000"/>
            <a:ext cx="5708520" cy="4114800"/>
          </a:xfrm>
          <a:prstGeom prst="ellipse">
            <a:avLst/>
          </a:prstGeom>
          <a:solidFill>
            <a:srgbClr val="ff0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9"/>
          <p:cNvSpPr/>
          <p:nvPr/>
        </p:nvSpPr>
        <p:spPr>
          <a:xfrm>
            <a:off x="466560" y="3048120"/>
            <a:ext cx="8021880" cy="3230280"/>
          </a:xfrm>
          <a:prstGeom prst="ellipse">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3"/>
          <p:cNvSpPr/>
          <p:nvPr/>
        </p:nvSpPr>
        <p:spPr>
          <a:xfrm>
            <a:off x="368280" y="1998720"/>
            <a:ext cx="279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SQable</a:t>
            </a:r>
            <a:endParaRPr b="0" lang="en-US" sz="3200" spc="-1" strike="noStrike">
              <a:solidFill>
                <a:srgbClr val="000000"/>
              </a:solidFill>
              <a:latin typeface="Arial"/>
            </a:endParaRPr>
          </a:p>
        </p:txBody>
      </p:sp>
      <p:sp>
        <p:nvSpPr>
          <p:cNvPr id="112" name="TextBox 22"/>
          <p:cNvSpPr/>
          <p:nvPr/>
        </p:nvSpPr>
        <p:spPr>
          <a:xfrm>
            <a:off x="5892840" y="1917720"/>
            <a:ext cx="201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ici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ifiable</a:t>
            </a:r>
            <a:endParaRPr b="0" lang="en-US" sz="3200" spc="-1" strike="noStrike">
              <a:solidFill>
                <a:srgbClr val="000000"/>
              </a:solidFill>
              <a:latin typeface="Arial"/>
            </a:endParaRPr>
          </a:p>
        </p:txBody>
      </p:sp>
      <p:sp>
        <p:nvSpPr>
          <p:cNvPr id="113" name="TextBox 24"/>
          <p:cNvSpPr/>
          <p:nvPr/>
        </p:nvSpPr>
        <p:spPr>
          <a:xfrm>
            <a:off x="1695600" y="5334120"/>
            <a:ext cx="5708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Principle Quantum Advantage</a:t>
            </a:r>
            <a:endParaRPr b="0" lang="en-US" sz="3200" spc="-1" strike="noStrike">
              <a:solidFill>
                <a:srgbClr val="000000"/>
              </a:solidFill>
              <a:latin typeface="Arial"/>
            </a:endParaRPr>
          </a:p>
        </p:txBody>
      </p:sp>
      <p:sp>
        <p:nvSpPr>
          <p:cNvPr id="114" name="TextBox 25"/>
          <p:cNvSpPr/>
          <p:nvPr/>
        </p:nvSpPr>
        <p:spPr>
          <a:xfrm>
            <a:off x="5792760" y="378936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hadev</a:t>
            </a:r>
            <a:endParaRPr b="0" lang="en-US" sz="2800" spc="-1" strike="noStrike">
              <a:solidFill>
                <a:srgbClr val="000000"/>
              </a:solidFill>
              <a:latin typeface="Arial"/>
            </a:endParaRPr>
          </a:p>
        </p:txBody>
      </p:sp>
      <p:sp>
        <p:nvSpPr>
          <p:cNvPr id="115" name="TextBox 26"/>
          <p:cNvSpPr/>
          <p:nvPr/>
        </p:nvSpPr>
        <p:spPr>
          <a:xfrm>
            <a:off x="5568840" y="33354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a:t>
            </a:r>
            <a:endParaRPr b="0" lang="en-US" sz="2800" spc="-1" strike="noStrike">
              <a:solidFill>
                <a:srgbClr val="000000"/>
              </a:solidFill>
              <a:latin typeface="Arial"/>
            </a:endParaRPr>
          </a:p>
        </p:txBody>
      </p:sp>
      <p:sp>
        <p:nvSpPr>
          <p:cNvPr id="116" name="TextBox 27"/>
          <p:cNvSpPr/>
          <p:nvPr/>
        </p:nvSpPr>
        <p:spPr>
          <a:xfrm>
            <a:off x="4915080" y="4586400"/>
            <a:ext cx="28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s simulations</a:t>
            </a:r>
            <a:endParaRPr b="0" lang="en-US" sz="2400" spc="-1" strike="noStrike">
              <a:solidFill>
                <a:srgbClr val="000000"/>
              </a:solidFill>
              <a:latin typeface="Arial"/>
            </a:endParaRPr>
          </a:p>
        </p:txBody>
      </p:sp>
      <p:sp>
        <p:nvSpPr>
          <p:cNvPr id="117" name="TextBox 28"/>
          <p:cNvSpPr/>
          <p:nvPr/>
        </p:nvSpPr>
        <p:spPr>
          <a:xfrm>
            <a:off x="3481560" y="1762200"/>
            <a:ext cx="183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OA</a:t>
            </a:r>
            <a:endParaRPr b="0" lang="en-US" sz="2800" spc="-1" strike="noStrike">
              <a:solidFill>
                <a:srgbClr val="000000"/>
              </a:solidFill>
              <a:latin typeface="Arial"/>
            </a:endParaRPr>
          </a:p>
        </p:txBody>
      </p:sp>
      <p:sp>
        <p:nvSpPr>
          <p:cNvPr id="118" name="TextBox 29"/>
          <p:cNvSpPr/>
          <p:nvPr/>
        </p:nvSpPr>
        <p:spPr>
          <a:xfrm>
            <a:off x="2847960" y="2154240"/>
            <a:ext cx="3102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machine learning</a:t>
            </a:r>
            <a:endParaRPr b="0" lang="en-US" sz="2400" spc="-1" strike="noStrike">
              <a:solidFill>
                <a:srgbClr val="000000"/>
              </a:solidFill>
              <a:latin typeface="Arial"/>
            </a:endParaRPr>
          </a:p>
        </p:txBody>
      </p:sp>
      <p:sp>
        <p:nvSpPr>
          <p:cNvPr id="119" name="TextBox 30"/>
          <p:cNvSpPr/>
          <p:nvPr/>
        </p:nvSpPr>
        <p:spPr>
          <a:xfrm>
            <a:off x="538200" y="3968640"/>
            <a:ext cx="255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sonSampling</a:t>
            </a:r>
            <a:endParaRPr b="0" lang="en-US" sz="2800" spc="-1" strike="noStrike">
              <a:solidFill>
                <a:srgbClr val="000000"/>
              </a:solidFill>
              <a:latin typeface="Arial"/>
            </a:endParaRPr>
          </a:p>
        </p:txBody>
      </p:sp>
      <p:sp>
        <p:nvSpPr>
          <p:cNvPr id="120" name="TextBox 31"/>
          <p:cNvSpPr/>
          <p:nvPr/>
        </p:nvSpPr>
        <p:spPr>
          <a:xfrm>
            <a:off x="5208480" y="4218120"/>
            <a:ext cx="310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makawa-Zhandry</a:t>
            </a:r>
            <a:endParaRPr b="0" lang="en-US" sz="2400" spc="-1" strike="noStrike">
              <a:solidFill>
                <a:srgbClr val="000000"/>
              </a:solidFill>
              <a:latin typeface="Arial"/>
            </a:endParaRPr>
          </a:p>
        </p:txBody>
      </p:sp>
      <p:sp>
        <p:nvSpPr>
          <p:cNvPr id="121" name="TextBox 32"/>
          <p:cNvSpPr/>
          <p:nvPr/>
        </p:nvSpPr>
        <p:spPr>
          <a:xfrm>
            <a:off x="1036800" y="4421160"/>
            <a:ext cx="255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dom Circuit Sampling</a:t>
            </a:r>
            <a:endParaRPr b="0" lang="en-US" sz="2400" spc="-1" strike="noStrike">
              <a:solidFill>
                <a:srgbClr val="000000"/>
              </a:solidFill>
              <a:latin typeface="Arial"/>
            </a:endParaRPr>
          </a:p>
        </p:txBody>
      </p:sp>
      <p:sp>
        <p:nvSpPr>
          <p:cNvPr id="122" name="TextBox 33"/>
          <p:cNvSpPr/>
          <p:nvPr/>
        </p:nvSpPr>
        <p:spPr>
          <a:xfrm>
            <a:off x="2741760" y="3471840"/>
            <a:ext cx="3276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a:t>
            </a:r>
            <a:endParaRPr b="0" lang="en-US" sz="10000" spc="-1" strike="noStrike">
              <a:solidFill>
                <a:srgbClr val="000000"/>
              </a:solidFill>
              <a:latin typeface="Arial"/>
            </a:endParaRPr>
          </a:p>
        </p:txBody>
      </p:sp>
      <p:sp>
        <p:nvSpPr>
          <p:cNvPr id="123" name="Arrow: Right 9"/>
          <p:cNvSpPr/>
          <p:nvPr/>
        </p:nvSpPr>
        <p:spPr>
          <a:xfrm rot="19570800">
            <a:off x="2960640" y="3838320"/>
            <a:ext cx="733320" cy="726840"/>
          </a:xfrm>
          <a:prstGeom prst="rightArrow">
            <a:avLst>
              <a:gd name="adj1" fmla="val 50000"/>
              <a:gd name="adj2" fmla="val 50006"/>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row: Right 34"/>
          <p:cNvSpPr/>
          <p:nvPr/>
        </p:nvSpPr>
        <p:spPr>
          <a:xfrm rot="12165600">
            <a:off x="5105160" y="3617280"/>
            <a:ext cx="731880" cy="726840"/>
          </a:xfrm>
          <a:prstGeom prst="rightArrow">
            <a:avLst>
              <a:gd name="adj1" fmla="val 50000"/>
              <a:gd name="adj2" fmla="val 5002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row: Right 35"/>
          <p:cNvSpPr/>
          <p:nvPr/>
        </p:nvSpPr>
        <p:spPr>
          <a:xfrm rot="5400000">
            <a:off x="4007880" y="2964600"/>
            <a:ext cx="731520" cy="727200"/>
          </a:xfrm>
          <a:prstGeom prst="rightArrow">
            <a:avLst>
              <a:gd name="adj1" fmla="val 50000"/>
              <a:gd name="adj2" fmla="val 49971"/>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6">
                                  <p:stCondLst>
                                    <p:cond delay="0"/>
                                  </p:stCondLst>
                                  <p:childTnLst>
                                    <p:animScale>
                                      <p:cBhvr>
                                        <p:cTn id="32" dur="2000" fill="hold"/>
                                        <p:tgtEl>
                                          <p:spTgt spid="12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hallenge: Make NISQ quantum supremacy verifiable!</a:t>
            </a:r>
            <a:endParaRPr b="0" lang="en-US" sz="4400" spc="-1" strike="noStrike">
              <a:solidFill>
                <a:srgbClr val="000000"/>
              </a:solidFill>
              <a:latin typeface="Calibri"/>
            </a:endParaRPr>
          </a:p>
        </p:txBody>
      </p:sp>
      <p:sp>
        <p:nvSpPr>
          <p:cNvPr id="127" name="Subtitle 4"/>
          <p:cNvSpPr/>
          <p:nvPr/>
        </p:nvSpPr>
        <p:spPr>
          <a:xfrm>
            <a:off x="276120" y="3352680"/>
            <a:ext cx="848700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ruder idea:</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Calibri"/>
              </a:rPr>
              <a:t>But how to implement this idea??  Bold proposal by Bremner-Shepherd 2008, killed by Kahanamoku-Meyer 2019</a:t>
            </a:r>
            <a:endParaRPr b="0" lang="en-US" sz="24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Calibri"/>
              </a:rPr>
              <a:t>A.-Nguyen 2014: partial no-go theorem for doing this via BosonSampling.  Can’t “smuggle” a single submatrix with huge permanent into a unitary without it being noticed</a:t>
            </a:r>
            <a:endParaRPr b="0" lang="en-US" sz="2400" spc="-1" strike="noStrike">
              <a:solidFill>
                <a:srgbClr val="000000"/>
              </a:solidFill>
              <a:latin typeface="Arial"/>
            </a:endParaRPr>
          </a:p>
        </p:txBody>
      </p:sp>
      <p:sp>
        <p:nvSpPr>
          <p:cNvPr id="128" name="Subtitle 4"/>
          <p:cNvSpPr/>
          <p:nvPr/>
        </p:nvSpPr>
        <p:spPr>
          <a:xfrm>
            <a:off x="276120" y="1833480"/>
            <a:ext cx="859176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tocols of Brakerski et al. (2018) or Kahanamoku-Meyer et al. (2021)?  </a:t>
            </a:r>
            <a:r>
              <a:rPr b="0" lang="en-US" sz="2800" spc="-1" strike="noStrike">
                <a:solidFill>
                  <a:srgbClr val="000000"/>
                </a:solidFill>
                <a:latin typeface="Calibri"/>
                <a:ea typeface="Calibri"/>
              </a:rPr>
              <a:t>Elegant, but all require evaluating trapdoor functions on superpositions, hard to make NIS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y New Open Question</a:t>
            </a:r>
            <a:endParaRPr b="0" lang="en-US" sz="4400" spc="-1" strike="noStrike">
              <a:solidFill>
                <a:srgbClr val="000000"/>
              </a:solidFill>
              <a:latin typeface="Calibri"/>
            </a:endParaRPr>
          </a:p>
        </p:txBody>
      </p:sp>
      <p:sp>
        <p:nvSpPr>
          <p:cNvPr id="130" name="Subtitle 4"/>
          <p:cNvSpPr/>
          <p:nvPr/>
        </p:nvSpPr>
        <p:spPr>
          <a:xfrm>
            <a:off x="412920" y="297180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does a uniformly random peaked circuit with (say) n qubits and m=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look like?  Just a bunch of gates and then their inverses?  Pseudorandom?</a:t>
            </a:r>
            <a:endParaRPr b="0" lang="en-US" sz="2800" spc="-1" strike="noStrike">
              <a:solidFill>
                <a:srgbClr val="000000"/>
              </a:solidFill>
              <a:latin typeface="Arial"/>
            </a:endParaRPr>
          </a:p>
        </p:txBody>
      </p:sp>
      <p:sp>
        <p:nvSpPr>
          <p:cNvPr id="131" name="Subtitle 4"/>
          <p:cNvSpPr/>
          <p:nvPr/>
        </p:nvSpPr>
        <p:spPr>
          <a:xfrm>
            <a:off x="382680" y="990720"/>
            <a:ext cx="838188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ll a quantum circuit C </a:t>
            </a:r>
            <a:r>
              <a:rPr b="1" lang="en-US" sz="2800" spc="-1" strike="noStrike">
                <a:solidFill>
                  <a:srgbClr val="ff0000"/>
                </a:solidFill>
                <a:latin typeface="Calibri"/>
                <a:ea typeface="Calibri"/>
              </a:rPr>
              <a:t>“peaked”</a:t>
            </a:r>
            <a:r>
              <a:rPr b="0" lang="en-US" sz="2800" spc="-1" strike="noStrike">
                <a:solidFill>
                  <a:srgbClr val="000000"/>
                </a:solidFill>
                <a:latin typeface="Calibri"/>
                <a:ea typeface="Calibri"/>
              </a:rPr>
              <a:t> i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C|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1 for some basis stat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b050"/>
                </a:solidFill>
                <a:latin typeface="Calibri"/>
                <a:ea typeface="Calibri"/>
              </a:rPr>
              <a:t>(More generally: if C|0</a:t>
            </a:r>
            <a:r>
              <a:rPr b="0" lang="en-US" sz="2800" spc="-1" strike="noStrike" baseline="30000">
                <a:solidFill>
                  <a:srgbClr val="00b050"/>
                </a:solidFill>
                <a:latin typeface="Calibri"/>
                <a:ea typeface="Calibri"/>
              </a:rPr>
              <a:t>n</a:t>
            </a:r>
            <a:r>
              <a:rPr b="0" lang="en-US" sz="2800" spc="-1" strike="noStrike">
                <a:solidFill>
                  <a:srgbClr val="00b050"/>
                </a:solidFill>
                <a:latin typeface="Symbol"/>
                <a:ea typeface="Symbol"/>
              </a:rPr>
              <a:t></a:t>
            </a:r>
            <a:r>
              <a:rPr b="0" lang="en-US" sz="2800" spc="-1" strike="noStrike">
                <a:solidFill>
                  <a:srgbClr val="00b050"/>
                </a:solidFill>
                <a:latin typeface="Calibri"/>
                <a:ea typeface="Calibri"/>
              </a:rPr>
              <a:t> has any nonrandom </a:t>
            </a:r>
            <a:r>
              <a:rPr b="0" lang="en-US" sz="2800" spc="-1" strike="noStrike">
                <a:solidFill>
                  <a:srgbClr val="00b050"/>
                </a:solidFill>
                <a:latin typeface="Calibri"/>
                <a:ea typeface="Calibri"/>
              </a:rPr>
              <a:t>	</a:t>
            </a:r>
            <a:r>
              <a:rPr b="0" lang="en-US" sz="2800" spc="-1" strike="noStrike">
                <a:solidFill>
                  <a:srgbClr val="00b050"/>
                </a:solidFill>
                <a:latin typeface="Calibri"/>
                <a:ea typeface="Calibri"/>
              </a:rPr>
              <a:t>features easy to notice on measurement)</a:t>
            </a:r>
            <a:endParaRPr b="0" lang="en-US" sz="2800" spc="-1" strike="noStrike">
              <a:solidFill>
                <a:srgbClr val="000000"/>
              </a:solidFill>
              <a:latin typeface="Arial"/>
            </a:endParaRPr>
          </a:p>
        </p:txBody>
      </p:sp>
      <p:pic>
        <p:nvPicPr>
          <p:cNvPr id="132" name="Picture 2" descr="Anticoncentration theorems for schemes showing a quantum speedup – Quantum"/>
          <p:cNvPicPr/>
          <p:nvPr/>
        </p:nvPicPr>
        <p:blipFill>
          <a:blip r:embed="rId1"/>
          <a:stretch/>
        </p:blipFill>
        <p:spPr>
          <a:xfrm>
            <a:off x="5184720" y="4492800"/>
            <a:ext cx="3276720" cy="1638000"/>
          </a:xfrm>
          <a:prstGeom prst="rect">
            <a:avLst/>
          </a:prstGeom>
          <a:ln w="0">
            <a:noFill/>
          </a:ln>
        </p:spPr>
      </p:pic>
      <p:grpSp>
        <p:nvGrpSpPr>
          <p:cNvPr id="133" name="Group 1"/>
          <p:cNvGrpSpPr/>
          <p:nvPr/>
        </p:nvGrpSpPr>
        <p:grpSpPr>
          <a:xfrm>
            <a:off x="412920" y="4671360"/>
            <a:ext cx="3350160" cy="1692000"/>
            <a:chOff x="412920" y="4671360"/>
            <a:chExt cx="3350160" cy="1692000"/>
          </a:xfrm>
        </p:grpSpPr>
        <p:sp>
          <p:nvSpPr>
            <p:cNvPr id="134" name="Straight Connector 9"/>
            <p:cNvSpPr/>
            <p:nvPr/>
          </p:nvSpPr>
          <p:spPr>
            <a:xfrm>
              <a:off x="995400" y="550080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10"/>
            <p:cNvSpPr/>
            <p:nvPr/>
          </p:nvSpPr>
          <p:spPr>
            <a:xfrm>
              <a:off x="995400" y="599796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1"/>
            <p:cNvSpPr/>
            <p:nvPr/>
          </p:nvSpPr>
          <p:spPr>
            <a:xfrm>
              <a:off x="995400" y="500364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15"/>
            <p:cNvSpPr/>
            <p:nvPr/>
          </p:nvSpPr>
          <p:spPr>
            <a:xfrm>
              <a:off x="1409760" y="4809960"/>
              <a:ext cx="558720" cy="13813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49"/>
            <p:cNvGrpSpPr/>
            <p:nvPr/>
          </p:nvGrpSpPr>
          <p:grpSpPr>
            <a:xfrm>
              <a:off x="3176280" y="4671360"/>
              <a:ext cx="586800" cy="698040"/>
              <a:chOff x="3176280" y="4671360"/>
              <a:chExt cx="586800" cy="698040"/>
            </a:xfrm>
          </p:grpSpPr>
          <p:sp>
            <p:nvSpPr>
              <p:cNvPr id="139" name="Chord 30"/>
              <p:cNvSpPr/>
              <p:nvPr/>
            </p:nvSpPr>
            <p:spPr>
              <a:xfrm rot="7220400">
                <a:off x="3249720" y="48614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0" name="Straight Arrow Connector 31"/>
              <p:cNvCxnSpPr>
                <a:stCxn id="139" idx="2"/>
              </p:cNvCxnSpPr>
              <p:nvPr/>
            </p:nvCxnSpPr>
            <p:spPr>
              <a:xfrm flipV="1">
                <a:off x="3467520" y="4671360"/>
                <a:ext cx="106920" cy="438840"/>
              </a:xfrm>
              <a:prstGeom prst="straightConnector1">
                <a:avLst/>
              </a:prstGeom>
              <a:ln w="38160">
                <a:solidFill>
                  <a:srgbClr val="ff0000"/>
                </a:solidFill>
                <a:miter/>
                <a:tailEnd len="lg" type="arrow" w="lg"/>
              </a:ln>
            </p:spPr>
          </p:cxnSp>
        </p:grpSp>
        <p:grpSp>
          <p:nvGrpSpPr>
            <p:cNvPr id="141" name="Group 50"/>
            <p:cNvGrpSpPr/>
            <p:nvPr/>
          </p:nvGrpSpPr>
          <p:grpSpPr>
            <a:xfrm>
              <a:off x="3176280" y="5168160"/>
              <a:ext cx="586800" cy="698040"/>
              <a:chOff x="3176280" y="5168160"/>
              <a:chExt cx="586800" cy="698040"/>
            </a:xfrm>
          </p:grpSpPr>
          <p:sp>
            <p:nvSpPr>
              <p:cNvPr id="142" name="Chord 28"/>
              <p:cNvSpPr/>
              <p:nvPr/>
            </p:nvSpPr>
            <p:spPr>
              <a:xfrm rot="7220400">
                <a:off x="3249720" y="5358240"/>
                <a:ext cx="439920" cy="422280"/>
              </a:xfrm>
              <a:custGeom>
                <a:avLst/>
                <a:gdLst/>
                <a:ahLst/>
                <a:rect l="l" t="t" r="r" b="b"/>
                <a:pathLst>
                  <a:path w="606731" h="584538">
                    <a:moveTo>
                      <a:pt x="495879" y="518148"/>
                    </a:moveTo>
                    <a:cubicBezTo>
                      <a:pt x="405216" y="589869"/>
                      <a:pt x="279757" y="604803"/>
                      <a:pt x="173702" y="556496"/>
                    </a:cubicBezTo>
                    <a:cubicBezTo>
                      <a:pt x="62745" y="505957"/>
                      <a:pt x="-5672" y="395988"/>
                      <a:pt x="367" y="277888"/>
                    </a:cubicBezTo>
                    <a:cubicBezTo>
                      <a:pt x="6373" y="160427"/>
                      <a:pt x="84869" y="57876"/>
                      <a:pt x="199571" y="17639"/>
                    </a:cubicBezTo>
                    <a:lnTo>
                      <a:pt x="495879"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3" name="Straight Arrow Connector 29"/>
              <p:cNvCxnSpPr>
                <a:stCxn id="142" idx="2"/>
              </p:cNvCxnSpPr>
              <p:nvPr/>
            </p:nvCxnSpPr>
            <p:spPr>
              <a:xfrm flipV="1">
                <a:off x="3467520" y="5168160"/>
                <a:ext cx="106920" cy="438840"/>
              </a:xfrm>
              <a:prstGeom prst="straightConnector1">
                <a:avLst/>
              </a:prstGeom>
              <a:ln w="38160">
                <a:solidFill>
                  <a:srgbClr val="ff0000"/>
                </a:solidFill>
                <a:miter/>
                <a:tailEnd len="lg" type="arrow" w="lg"/>
              </a:ln>
            </p:spPr>
          </p:cxnSp>
        </p:grpSp>
        <p:grpSp>
          <p:nvGrpSpPr>
            <p:cNvPr id="144" name="Group 53"/>
            <p:cNvGrpSpPr/>
            <p:nvPr/>
          </p:nvGrpSpPr>
          <p:grpSpPr>
            <a:xfrm>
              <a:off x="3176280" y="5665320"/>
              <a:ext cx="586800" cy="698040"/>
              <a:chOff x="3176280" y="5665320"/>
              <a:chExt cx="586800" cy="698040"/>
            </a:xfrm>
          </p:grpSpPr>
          <p:sp>
            <p:nvSpPr>
              <p:cNvPr id="145" name="Chord 26"/>
              <p:cNvSpPr/>
              <p:nvPr/>
            </p:nvSpPr>
            <p:spPr>
              <a:xfrm rot="7220400">
                <a:off x="3249720" y="585540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6" name="Straight Arrow Connector 27"/>
              <p:cNvCxnSpPr>
                <a:stCxn id="145" idx="2"/>
              </p:cNvCxnSpPr>
              <p:nvPr/>
            </p:nvCxnSpPr>
            <p:spPr>
              <a:xfrm flipV="1">
                <a:off x="3467520" y="5665320"/>
                <a:ext cx="106920" cy="438840"/>
              </a:xfrm>
              <a:prstGeom prst="straightConnector1">
                <a:avLst/>
              </a:prstGeom>
              <a:ln w="38160">
                <a:solidFill>
                  <a:srgbClr val="ff0000"/>
                </a:solidFill>
                <a:miter/>
                <a:tailEnd len="lg" type="arrow" w="lg"/>
              </a:ln>
            </p:spPr>
          </p:cxnSp>
        </p:grpSp>
        <p:sp>
          <p:nvSpPr>
            <p:cNvPr id="147" name="Text Box 3"/>
            <p:cNvSpPr/>
            <p:nvPr/>
          </p:nvSpPr>
          <p:spPr>
            <a:xfrm>
              <a:off x="1451160" y="5288040"/>
              <a:ext cx="45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endParaRPr b="0" lang="en-US" sz="2800" spc="-1" strike="noStrike">
                <a:solidFill>
                  <a:srgbClr val="000000"/>
                </a:solidFill>
                <a:latin typeface="Arial"/>
              </a:endParaRPr>
            </a:p>
          </p:txBody>
        </p:sp>
        <p:sp>
          <p:nvSpPr>
            <p:cNvPr id="148" name="Text Box 3"/>
            <p:cNvSpPr/>
            <p:nvPr/>
          </p:nvSpPr>
          <p:spPr>
            <a:xfrm>
              <a:off x="433440" y="478296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9" name="Text Box 3"/>
            <p:cNvSpPr/>
            <p:nvPr/>
          </p:nvSpPr>
          <p:spPr>
            <a:xfrm>
              <a:off x="433440" y="526248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0" name="Text Box 3"/>
            <p:cNvSpPr/>
            <p:nvPr/>
          </p:nvSpPr>
          <p:spPr>
            <a:xfrm>
              <a:off x="412920" y="577728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1" name="Rectangle 32"/>
            <p:cNvSpPr/>
            <p:nvPr/>
          </p:nvSpPr>
          <p:spPr>
            <a:xfrm>
              <a:off x="2360520" y="4803840"/>
              <a:ext cx="558720" cy="13798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3"/>
            <p:cNvSpPr/>
            <p:nvPr/>
          </p:nvSpPr>
          <p:spPr>
            <a:xfrm>
              <a:off x="2360520" y="5281560"/>
              <a:ext cx="75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r>
                <a:rPr b="1" lang="en-US" sz="2800" spc="-1" strike="noStrike" baseline="30000">
                  <a:solidFill>
                    <a:srgbClr val="000000"/>
                  </a:solidFill>
                  <a:latin typeface="Calibri"/>
                  <a:ea typeface="Arial"/>
                </a:rPr>
                <a:t>-1</a:t>
              </a:r>
              <a:endParaRPr b="0" lang="en-US" sz="2800" spc="-1" strike="noStrike">
                <a:solidFill>
                  <a:srgbClr val="000000"/>
                </a:solidFill>
                <a:latin typeface="Arial"/>
              </a:endParaRPr>
            </a:p>
          </p:txBody>
        </p:sp>
      </p:grpSp>
      <p:sp>
        <p:nvSpPr>
          <p:cNvPr id="153" name="Subtitle 4"/>
          <p:cNvSpPr/>
          <p:nvPr/>
        </p:nvSpPr>
        <p:spPr>
          <a:xfrm>
            <a:off x="4237200" y="5130720"/>
            <a:ext cx="7394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s.</a:t>
            </a:r>
            <a:endParaRPr b="0" lang="en-US" sz="2800" spc="-1" strike="noStrike">
              <a:solidFill>
                <a:srgbClr val="000000"/>
              </a:solidFill>
              <a:latin typeface="Arial"/>
            </a:endParaRPr>
          </a:p>
        </p:txBody>
      </p:sp>
      <p:sp>
        <p:nvSpPr>
          <p:cNvPr id="154" name="Subtitle 4"/>
          <p:cNvSpPr/>
          <p:nvPr/>
        </p:nvSpPr>
        <p:spPr>
          <a:xfrm>
            <a:off x="5870520" y="5896080"/>
            <a:ext cx="2157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bfus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re Questions</a:t>
            </a:r>
            <a:endParaRPr b="0" lang="en-US" sz="4400" spc="-1" strike="noStrike">
              <a:solidFill>
                <a:srgbClr val="000000"/>
              </a:solidFill>
              <a:latin typeface="Calibri"/>
            </a:endParaRPr>
          </a:p>
        </p:txBody>
      </p:sp>
      <p:sp>
        <p:nvSpPr>
          <p:cNvPr id="156" name="Subtitle 4"/>
          <p:cNvSpPr/>
          <p:nvPr/>
        </p:nvSpPr>
        <p:spPr>
          <a:xfrm>
            <a:off x="314280" y="1143000"/>
            <a:ext cx="838188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ven an n-qubit, m-gate random quantum circuit, </a:t>
            </a:r>
            <a:r>
              <a:rPr b="1" lang="en-US" sz="2800" spc="-1" strike="noStrike">
                <a:solidFill>
                  <a:srgbClr val="ff0000"/>
                </a:solidFill>
                <a:latin typeface="Calibri"/>
                <a:ea typeface="Calibri"/>
              </a:rPr>
              <a:t>how many more gates</a:t>
            </a:r>
            <a:r>
              <a:rPr b="0" lang="en-US" sz="2800" spc="-1" strike="noStrike">
                <a:solidFill>
                  <a:srgbClr val="000000"/>
                </a:solidFill>
                <a:latin typeface="Calibri"/>
                <a:ea typeface="Calibri"/>
              </a:rPr>
              <a:t> must we add to get a peaked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At most m by inverting.  At least m</a:t>
            </a:r>
            <a:r>
              <a:rPr b="0" lang="en-US" sz="2800" spc="-1" strike="noStrike" baseline="30000">
                <a:solidFill>
                  <a:srgbClr val="00b050"/>
                </a:solidFill>
                <a:latin typeface="Symbol"/>
                <a:ea typeface="Symbol"/>
              </a:rPr>
              <a:t></a:t>
            </a:r>
            <a:r>
              <a:rPr b="0" lang="en-US" sz="2800" spc="-1" strike="noStrike" baseline="30000">
                <a:solidFill>
                  <a:srgbClr val="00b050"/>
                </a:solidFill>
                <a:latin typeface="Calibri"/>
                <a:ea typeface="Calibri"/>
              </a:rPr>
              <a:t>(1)</a:t>
            </a:r>
            <a:r>
              <a:rPr b="0" lang="en-US" sz="2800" spc="-1" strike="noStrike">
                <a:solidFill>
                  <a:srgbClr val="00b050"/>
                </a:solidFill>
                <a:latin typeface="Calibri"/>
                <a:ea typeface="Calibri"/>
              </a:rPr>
              <a:t> by theorems on random quantum circuits being t-desig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Even an upper bound of e.g., m/2 would be exceedingly interesting for quantum advantage experiments!</a:t>
            </a:r>
            <a:endParaRPr b="0" lang="en-US" sz="2800" spc="-1" strike="noStrike">
              <a:solidFill>
                <a:srgbClr val="000000"/>
              </a:solidFill>
              <a:latin typeface="Arial"/>
            </a:endParaRPr>
          </a:p>
        </p:txBody>
      </p:sp>
      <p:sp>
        <p:nvSpPr>
          <p:cNvPr id="157" name="Subtitle 4"/>
          <p:cNvSpPr/>
          <p:nvPr/>
        </p:nvSpPr>
        <p:spPr>
          <a:xfrm>
            <a:off x="322200" y="5105520"/>
            <a:ext cx="8382240" cy="457200"/>
          </a:xfrm>
          <a:prstGeom prst="rect">
            <a:avLst/>
          </a:prstGeom>
          <a:noFill/>
          <a:ln w="0">
            <a:noFill/>
          </a:ln>
        </p:spPr>
        <p:style>
          <a:lnRef idx="0"/>
          <a:fillRef idx="0"/>
          <a:effectRef idx="0"/>
          <a:fontRef idx="minor"/>
        </p:style>
        <p:txBody>
          <a:bodyPr lIns="90000" rIns="90000" tIns="46800" bIns="46800" anchor="t">
            <a:normAutofit fontScale="4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hard is it to sample a </a:t>
            </a:r>
            <a:r>
              <a:rPr b="1" lang="en-US" sz="2800" spc="-1" strike="noStrike">
                <a:solidFill>
                  <a:srgbClr val="ff0000"/>
                </a:solidFill>
                <a:latin typeface="Calibri"/>
                <a:ea typeface="Calibri"/>
              </a:rPr>
              <a:t>random peaked circuit</a:t>
            </a:r>
            <a:r>
              <a:rPr b="0" lang="en-US" sz="2800" spc="-1" strike="noStrike">
                <a:solidFill>
                  <a:srgbClr val="000000"/>
                </a:solidFill>
                <a:latin typeface="Calibri"/>
                <a:ea typeface="Calibri"/>
              </a:rPr>
              <a:t>?  What about a peaked circuit that’s hard to </a:t>
            </a:r>
            <a:r>
              <a:rPr b="1" lang="en-US" sz="2800" spc="-1" strike="noStrike">
                <a:solidFill>
                  <a:srgbClr val="ff0000"/>
                </a:solidFill>
                <a:latin typeface="Calibri"/>
                <a:ea typeface="Calibri"/>
              </a:rPr>
              <a:t>distinguish</a:t>
            </a:r>
            <a:r>
              <a:rPr b="0" lang="en-US" sz="2800" spc="-1" strike="noStrike">
                <a:solidFill>
                  <a:srgbClr val="000000"/>
                </a:solidFill>
                <a:latin typeface="Calibri"/>
                <a:ea typeface="Calibri"/>
              </a:rPr>
              <a:t> from random?</a:t>
            </a:r>
            <a:endParaRPr b="0" lang="en-US" sz="2800" spc="-1" strike="noStrike">
              <a:solidFill>
                <a:srgbClr val="000000"/>
              </a:solidFill>
              <a:latin typeface="Arial"/>
            </a:endParaRPr>
          </a:p>
        </p:txBody>
      </p:sp>
      <p:sp>
        <p:nvSpPr>
          <p:cNvPr id="158" name="Subtitle 4"/>
          <p:cNvSpPr/>
          <p:nvPr/>
        </p:nvSpPr>
        <p:spPr>
          <a:xfrm>
            <a:off x="295200" y="4137120"/>
            <a:ext cx="8382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fraction of quantum circuits are peak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1">
                                  <p:stCondLst>
                                    <p:cond delay="0"/>
                                  </p:stCondLst>
                                  <p:childTnLst>
                                    <p:set>
                                      <p:cBhvr>
                                        <p:cTn id="62" dur="1" fill="hold">
                                          <p:stCondLst>
                                            <p:cond delay="0"/>
                                          </p:stCondLst>
                                        </p:cTn>
                                        <p:tgtEl>
                                          <p:spTgt spid="15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38040" y="302760"/>
            <a:ext cx="846792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ardness of Simplification</a:t>
            </a:r>
            <a:endParaRPr b="0" lang="en-US" sz="4400" spc="-1" strike="noStrike">
              <a:solidFill>
                <a:srgbClr val="000000"/>
              </a:solidFill>
              <a:latin typeface="Calibri"/>
            </a:endParaRPr>
          </a:p>
        </p:txBody>
      </p:sp>
      <p:sp>
        <p:nvSpPr>
          <p:cNvPr id="160" name="Subtitle 4"/>
          <p:cNvSpPr/>
          <p:nvPr/>
        </p:nvSpPr>
        <p:spPr>
          <a:xfrm>
            <a:off x="314280" y="1190520"/>
            <a:ext cx="838188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ément, Heurtel, Mansfield, Perdrix, Valiron, June 2022:</a:t>
            </a:r>
            <a:r>
              <a:rPr b="0" lang="en-US" sz="2800" spc="-1" strike="noStrike">
                <a:solidFill>
                  <a:srgbClr val="000000"/>
                </a:solidFill>
                <a:latin typeface="Calibri"/>
                <a:ea typeface="Calibri"/>
              </a:rPr>
              <a:t> Complete equational theory for quantum circuits</a:t>
            </a:r>
            <a:endParaRPr b="0" lang="en-US" sz="2800" spc="-1" strike="noStrike">
              <a:solidFill>
                <a:srgbClr val="000000"/>
              </a:solidFill>
              <a:latin typeface="Arial"/>
            </a:endParaRPr>
          </a:p>
        </p:txBody>
      </p:sp>
      <p:sp>
        <p:nvSpPr>
          <p:cNvPr id="161" name="Subtitle 4"/>
          <p:cNvSpPr/>
          <p:nvPr/>
        </p:nvSpPr>
        <p:spPr>
          <a:xfrm>
            <a:off x="304920" y="3809880"/>
            <a:ext cx="838188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re questions relevant to quantum advan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poly-size quantum circuits that implement the identity, but take exponentially many rewrites to simplify to the identity (or to </a:t>
            </a:r>
            <a:r>
              <a:rPr b="1" lang="en-US" sz="2800" spc="-1" strike="noStrike">
                <a:solidFill>
                  <a:srgbClr val="ff0000"/>
                </a:solidFill>
                <a:latin typeface="Calibri"/>
                <a:ea typeface="Calibri"/>
              </a:rPr>
              <a:t>any</a:t>
            </a:r>
            <a:r>
              <a:rPr b="0" lang="en-US" sz="2800" spc="-1" strike="noStrike">
                <a:solidFill>
                  <a:srgbClr val="000000"/>
                </a:solidFill>
                <a:latin typeface="Calibri"/>
                <a:ea typeface="Calibri"/>
              </a:rPr>
              <a:t> classical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 one does/doesn’t have to pass through intermediate circuits of exponential size?</a:t>
            </a:r>
            <a:endParaRPr b="0" lang="en-US" sz="2800" spc="-1" strike="noStrike">
              <a:solidFill>
                <a:srgbClr val="000000"/>
              </a:solidFill>
              <a:latin typeface="Arial"/>
            </a:endParaRPr>
          </a:p>
        </p:txBody>
      </p:sp>
      <p:pic>
        <p:nvPicPr>
          <p:cNvPr id="162" name="Picture 3" descr=""/>
          <p:cNvPicPr/>
          <p:nvPr/>
        </p:nvPicPr>
        <p:blipFill>
          <a:blip r:embed="rId1"/>
          <a:stretch/>
        </p:blipFill>
        <p:spPr>
          <a:xfrm>
            <a:off x="1042920" y="2254320"/>
            <a:ext cx="6724800" cy="942840"/>
          </a:xfrm>
          <a:prstGeom prst="rect">
            <a:avLst/>
          </a:prstGeom>
          <a:ln w="0">
            <a:noFill/>
          </a:ln>
        </p:spPr>
      </p:pic>
      <p:sp>
        <p:nvSpPr>
          <p:cNvPr id="163" name="Subtitle 4"/>
          <p:cNvSpPr/>
          <p:nvPr/>
        </p:nvSpPr>
        <p:spPr>
          <a:xfrm>
            <a:off x="533520" y="3154320"/>
            <a:ext cx="846756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Solved a longstanding problem!  (Previously: ZX-calcul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Nielsen’s Geometric Framework</a:t>
            </a:r>
            <a:endParaRPr b="0" lang="en-US" sz="4400" spc="-1" strike="noStrike">
              <a:solidFill>
                <a:srgbClr val="000000"/>
              </a:solidFill>
              <a:latin typeface="Calibri"/>
            </a:endParaRPr>
          </a:p>
        </p:txBody>
      </p:sp>
      <p:sp>
        <p:nvSpPr>
          <p:cNvPr id="165" name="Subtitle 4"/>
          <p:cNvSpPr/>
          <p:nvPr/>
        </p:nvSpPr>
        <p:spPr>
          <a:xfrm>
            <a:off x="380880" y="5272200"/>
            <a:ext cx="8382240" cy="457200"/>
          </a:xfrm>
          <a:prstGeom prst="rect">
            <a:avLst/>
          </a:prstGeom>
          <a:noFill/>
          <a:ln w="0">
            <a:noFill/>
          </a:ln>
        </p:spPr>
        <p:style>
          <a:lnRef idx="0"/>
          <a:fillRef idx="0"/>
          <a:effectRef idx="0"/>
          <a:fontRef idx="minor"/>
        </p:style>
        <p:txBody>
          <a:bodyPr lIns="90000" rIns="90000" tIns="46800" bIns="46800" anchor="t">
            <a:normAutofit fontScale="4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do we find such paths that are exponentially hard to contract to trivial paths (ones that never leave the computational basis)?</a:t>
            </a:r>
            <a:endParaRPr b="0" lang="en-US" sz="2800" spc="-1" strike="noStrike">
              <a:solidFill>
                <a:srgbClr val="000000"/>
              </a:solidFill>
              <a:latin typeface="Arial"/>
            </a:endParaRPr>
          </a:p>
        </p:txBody>
      </p:sp>
      <p:pic>
        <p:nvPicPr>
          <p:cNvPr id="166" name="Picture 2" descr="How Curvature Makes a Shape a Shape - Nautilus | Science Connected"/>
          <p:cNvPicPr/>
          <p:nvPr/>
        </p:nvPicPr>
        <p:blipFill>
          <a:blip r:embed="rId1"/>
          <a:stretch/>
        </p:blipFill>
        <p:spPr>
          <a:xfrm>
            <a:off x="380880" y="1370160"/>
            <a:ext cx="4121280" cy="3686040"/>
          </a:xfrm>
          <a:prstGeom prst="rect">
            <a:avLst/>
          </a:prstGeom>
          <a:ln w="0">
            <a:noFill/>
          </a:ln>
        </p:spPr>
      </p:pic>
      <p:sp>
        <p:nvSpPr>
          <p:cNvPr id="167" name="Subtitle 4"/>
          <p:cNvSpPr/>
          <p:nvPr/>
        </p:nvSpPr>
        <p:spPr>
          <a:xfrm>
            <a:off x="4800600" y="2057400"/>
            <a:ext cx="400536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ked circuits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ort paths in the complexity geometry, which start and end close to computational basis states</a:t>
            </a:r>
            <a:endParaRPr b="0" lang="en-US" sz="2800" spc="-1" strike="noStrike">
              <a:solidFill>
                <a:srgbClr val="000000"/>
              </a:solidFill>
              <a:latin typeface="Arial"/>
            </a:endParaRPr>
          </a:p>
        </p:txBody>
      </p:sp>
      <p:sp>
        <p:nvSpPr>
          <p:cNvPr id="168" name="Freeform: Shape 1"/>
          <p:cNvSpPr/>
          <p:nvPr/>
        </p:nvSpPr>
        <p:spPr>
          <a:xfrm>
            <a:off x="1125360" y="2579760"/>
            <a:ext cx="2632320" cy="1743120"/>
          </a:xfrm>
          <a:custGeom>
            <a:avLst/>
            <a:gdLst/>
            <a:ahLst/>
            <a:rect l="l" t="t" r="r" b="b"/>
            <a:pathLst>
              <a:path w="2631474" h="1743959">
                <a:moveTo>
                  <a:pt x="0" y="546755"/>
                </a:moveTo>
                <a:cubicBezTo>
                  <a:pt x="25138" y="578178"/>
                  <a:pt x="52509" y="607938"/>
                  <a:pt x="75414" y="641023"/>
                </a:cubicBezTo>
                <a:cubicBezTo>
                  <a:pt x="81070" y="649193"/>
                  <a:pt x="79575" y="660877"/>
                  <a:pt x="84841" y="669303"/>
                </a:cubicBezTo>
                <a:cubicBezTo>
                  <a:pt x="95505" y="686365"/>
                  <a:pt x="110853" y="700064"/>
                  <a:pt x="122548" y="716437"/>
                </a:cubicBezTo>
                <a:cubicBezTo>
                  <a:pt x="142304" y="744095"/>
                  <a:pt x="155076" y="777244"/>
                  <a:pt x="179109" y="801278"/>
                </a:cubicBezTo>
                <a:cubicBezTo>
                  <a:pt x="261740" y="883912"/>
                  <a:pt x="160613" y="779084"/>
                  <a:pt x="226243" y="857839"/>
                </a:cubicBezTo>
                <a:cubicBezTo>
                  <a:pt x="234778" y="868081"/>
                  <a:pt x="245989" y="875878"/>
                  <a:pt x="254524" y="886120"/>
                </a:cubicBezTo>
                <a:cubicBezTo>
                  <a:pt x="275769" y="911614"/>
                  <a:pt x="285614" y="942083"/>
                  <a:pt x="301658" y="970961"/>
                </a:cubicBezTo>
                <a:cubicBezTo>
                  <a:pt x="307160" y="980865"/>
                  <a:pt x="315009" y="989337"/>
                  <a:pt x="320511" y="999241"/>
                </a:cubicBezTo>
                <a:cubicBezTo>
                  <a:pt x="330748" y="1017667"/>
                  <a:pt x="335444" y="1039488"/>
                  <a:pt x="348792" y="1055802"/>
                </a:cubicBezTo>
                <a:cubicBezTo>
                  <a:pt x="364333" y="1074796"/>
                  <a:pt x="388935" y="1084694"/>
                  <a:pt x="405352" y="1102936"/>
                </a:cubicBezTo>
                <a:cubicBezTo>
                  <a:pt x="417609" y="1116555"/>
                  <a:pt x="423469" y="1134825"/>
                  <a:pt x="433633" y="1150070"/>
                </a:cubicBezTo>
                <a:cubicBezTo>
                  <a:pt x="442348" y="1163142"/>
                  <a:pt x="453586" y="1174454"/>
                  <a:pt x="461913" y="1187777"/>
                </a:cubicBezTo>
                <a:cubicBezTo>
                  <a:pt x="469361" y="1199694"/>
                  <a:pt x="472599" y="1214050"/>
                  <a:pt x="480767" y="1225485"/>
                </a:cubicBezTo>
                <a:cubicBezTo>
                  <a:pt x="497263" y="1248579"/>
                  <a:pt x="514778" y="1257586"/>
                  <a:pt x="537328" y="1272619"/>
                </a:cubicBezTo>
                <a:cubicBezTo>
                  <a:pt x="546755" y="1285188"/>
                  <a:pt x="554499" y="1299216"/>
                  <a:pt x="565608" y="1310326"/>
                </a:cubicBezTo>
                <a:cubicBezTo>
                  <a:pt x="606983" y="1351702"/>
                  <a:pt x="644009" y="1325003"/>
                  <a:pt x="707010" y="1319753"/>
                </a:cubicBezTo>
                <a:cubicBezTo>
                  <a:pt x="713295" y="1310326"/>
                  <a:pt x="717017" y="1298550"/>
                  <a:pt x="725864" y="1291472"/>
                </a:cubicBezTo>
                <a:cubicBezTo>
                  <a:pt x="802537" y="1230132"/>
                  <a:pt x="702954" y="1342662"/>
                  <a:pt x="782425" y="1263192"/>
                </a:cubicBezTo>
                <a:cubicBezTo>
                  <a:pt x="860805" y="1184813"/>
                  <a:pt x="784474" y="1239831"/>
                  <a:pt x="848412" y="1197204"/>
                </a:cubicBezTo>
                <a:cubicBezTo>
                  <a:pt x="851554" y="1181493"/>
                  <a:pt x="854363" y="1165711"/>
                  <a:pt x="857839" y="1150070"/>
                </a:cubicBezTo>
                <a:cubicBezTo>
                  <a:pt x="860650" y="1137423"/>
                  <a:pt x="866748" y="1125308"/>
                  <a:pt x="867266" y="1112363"/>
                </a:cubicBezTo>
                <a:cubicBezTo>
                  <a:pt x="873045" y="967900"/>
                  <a:pt x="870915" y="823193"/>
                  <a:pt x="876693" y="678730"/>
                </a:cubicBezTo>
                <a:cubicBezTo>
                  <a:pt x="878013" y="645720"/>
                  <a:pt x="901830" y="611697"/>
                  <a:pt x="914400" y="584462"/>
                </a:cubicBezTo>
                <a:cubicBezTo>
                  <a:pt x="924428" y="562734"/>
                  <a:pt x="932490" y="540127"/>
                  <a:pt x="942680" y="518474"/>
                </a:cubicBezTo>
                <a:cubicBezTo>
                  <a:pt x="951850" y="498987"/>
                  <a:pt x="995812" y="406783"/>
                  <a:pt x="1018095" y="377072"/>
                </a:cubicBezTo>
                <a:cubicBezTo>
                  <a:pt x="1026094" y="366407"/>
                  <a:pt x="1038626" y="359640"/>
                  <a:pt x="1046375" y="348792"/>
                </a:cubicBezTo>
                <a:cubicBezTo>
                  <a:pt x="1054543" y="337357"/>
                  <a:pt x="1056330" y="321961"/>
                  <a:pt x="1065229" y="311085"/>
                </a:cubicBezTo>
                <a:cubicBezTo>
                  <a:pt x="1084927" y="287010"/>
                  <a:pt x="1115211" y="271771"/>
                  <a:pt x="1131216" y="245097"/>
                </a:cubicBezTo>
                <a:cubicBezTo>
                  <a:pt x="1140643" y="229386"/>
                  <a:pt x="1149333" y="213208"/>
                  <a:pt x="1159497" y="197963"/>
                </a:cubicBezTo>
                <a:cubicBezTo>
                  <a:pt x="1176843" y="171945"/>
                  <a:pt x="1201105" y="142053"/>
                  <a:pt x="1225484" y="122549"/>
                </a:cubicBezTo>
                <a:cubicBezTo>
                  <a:pt x="1277941" y="80583"/>
                  <a:pt x="1281911" y="88059"/>
                  <a:pt x="1338606" y="56561"/>
                </a:cubicBezTo>
                <a:cubicBezTo>
                  <a:pt x="1390570" y="27692"/>
                  <a:pt x="1342022" y="42853"/>
                  <a:pt x="1414020" y="18854"/>
                </a:cubicBezTo>
                <a:cubicBezTo>
                  <a:pt x="1426311" y="14757"/>
                  <a:pt x="1439270" y="12986"/>
                  <a:pt x="1451728" y="9427"/>
                </a:cubicBezTo>
                <a:cubicBezTo>
                  <a:pt x="1461282" y="6697"/>
                  <a:pt x="1470581" y="3142"/>
                  <a:pt x="1480008" y="0"/>
                </a:cubicBezTo>
                <a:cubicBezTo>
                  <a:pt x="1495719" y="3142"/>
                  <a:pt x="1512811" y="2262"/>
                  <a:pt x="1527142" y="9427"/>
                </a:cubicBezTo>
                <a:cubicBezTo>
                  <a:pt x="1539066" y="15389"/>
                  <a:pt x="1546643" y="27674"/>
                  <a:pt x="1555422" y="37707"/>
                </a:cubicBezTo>
                <a:cubicBezTo>
                  <a:pt x="1630308" y="123290"/>
                  <a:pt x="1556725" y="43793"/>
                  <a:pt x="1630837" y="160256"/>
                </a:cubicBezTo>
                <a:cubicBezTo>
                  <a:pt x="1637994" y="171503"/>
                  <a:pt x="1651118" y="177871"/>
                  <a:pt x="1659117" y="188536"/>
                </a:cubicBezTo>
                <a:cubicBezTo>
                  <a:pt x="1688927" y="228283"/>
                  <a:pt x="1743959" y="311085"/>
                  <a:pt x="1743959" y="311085"/>
                </a:cubicBezTo>
                <a:cubicBezTo>
                  <a:pt x="1767389" y="381378"/>
                  <a:pt x="1758485" y="342768"/>
                  <a:pt x="1743959" y="480767"/>
                </a:cubicBezTo>
                <a:cubicBezTo>
                  <a:pt x="1742603" y="493652"/>
                  <a:pt x="1739636" y="506566"/>
                  <a:pt x="1734532" y="518474"/>
                </a:cubicBezTo>
                <a:cubicBezTo>
                  <a:pt x="1730069" y="528888"/>
                  <a:pt x="1721963" y="537328"/>
                  <a:pt x="1715678" y="546755"/>
                </a:cubicBezTo>
                <a:cubicBezTo>
                  <a:pt x="1712536" y="559324"/>
                  <a:pt x="1713438" y="573682"/>
                  <a:pt x="1706251" y="584462"/>
                </a:cubicBezTo>
                <a:cubicBezTo>
                  <a:pt x="1699967" y="593889"/>
                  <a:pt x="1686675" y="596063"/>
                  <a:pt x="1677971" y="603316"/>
                </a:cubicBezTo>
                <a:cubicBezTo>
                  <a:pt x="1667730" y="611851"/>
                  <a:pt x="1659118" y="622169"/>
                  <a:pt x="1649691" y="631596"/>
                </a:cubicBezTo>
                <a:cubicBezTo>
                  <a:pt x="1629235" y="713418"/>
                  <a:pt x="1658814" y="622587"/>
                  <a:pt x="1583703" y="725864"/>
                </a:cubicBezTo>
                <a:cubicBezTo>
                  <a:pt x="1573750" y="739549"/>
                  <a:pt x="1572417" y="757863"/>
                  <a:pt x="1564849" y="772998"/>
                </a:cubicBezTo>
                <a:cubicBezTo>
                  <a:pt x="1547341" y="808015"/>
                  <a:pt x="1532634" y="811968"/>
                  <a:pt x="1498862" y="838986"/>
                </a:cubicBezTo>
                <a:cubicBezTo>
                  <a:pt x="1495720" y="848413"/>
                  <a:pt x="1492165" y="857712"/>
                  <a:pt x="1489435" y="867266"/>
                </a:cubicBezTo>
                <a:cubicBezTo>
                  <a:pt x="1485876" y="879723"/>
                  <a:pt x="1485112" y="893065"/>
                  <a:pt x="1480008" y="904973"/>
                </a:cubicBezTo>
                <a:cubicBezTo>
                  <a:pt x="1475545" y="915387"/>
                  <a:pt x="1467439" y="923827"/>
                  <a:pt x="1461154" y="933254"/>
                </a:cubicBezTo>
                <a:cubicBezTo>
                  <a:pt x="1461072" y="933582"/>
                  <a:pt x="1446810" y="994732"/>
                  <a:pt x="1442301" y="999241"/>
                </a:cubicBezTo>
                <a:cubicBezTo>
                  <a:pt x="1435274" y="1006267"/>
                  <a:pt x="1423447" y="1005526"/>
                  <a:pt x="1414020" y="1008668"/>
                </a:cubicBezTo>
                <a:cubicBezTo>
                  <a:pt x="1410878" y="1018095"/>
                  <a:pt x="1410801" y="1029190"/>
                  <a:pt x="1404594" y="1036949"/>
                </a:cubicBezTo>
                <a:cubicBezTo>
                  <a:pt x="1397516" y="1045796"/>
                  <a:pt x="1385017" y="1048549"/>
                  <a:pt x="1376313" y="1055802"/>
                </a:cubicBezTo>
                <a:cubicBezTo>
                  <a:pt x="1303729" y="1116288"/>
                  <a:pt x="1389968" y="1056128"/>
                  <a:pt x="1319752" y="1102936"/>
                </a:cubicBezTo>
                <a:cubicBezTo>
                  <a:pt x="1307183" y="1121790"/>
                  <a:pt x="1279993" y="1136931"/>
                  <a:pt x="1282045" y="1159497"/>
                </a:cubicBezTo>
                <a:cubicBezTo>
                  <a:pt x="1283077" y="1170844"/>
                  <a:pt x="1289211" y="1279156"/>
                  <a:pt x="1300899" y="1310326"/>
                </a:cubicBezTo>
                <a:cubicBezTo>
                  <a:pt x="1304877" y="1320934"/>
                  <a:pt x="1313468" y="1329179"/>
                  <a:pt x="1319752" y="1338606"/>
                </a:cubicBezTo>
                <a:cubicBezTo>
                  <a:pt x="1340632" y="1443006"/>
                  <a:pt x="1313764" y="1339771"/>
                  <a:pt x="1348033" y="1414021"/>
                </a:cubicBezTo>
                <a:cubicBezTo>
                  <a:pt x="1364531" y="1449766"/>
                  <a:pt x="1396886" y="1548290"/>
                  <a:pt x="1423447" y="1583703"/>
                </a:cubicBezTo>
                <a:cubicBezTo>
                  <a:pt x="1494762" y="1678787"/>
                  <a:pt x="1403997" y="1561473"/>
                  <a:pt x="1489435" y="1659118"/>
                </a:cubicBezTo>
                <a:cubicBezTo>
                  <a:pt x="1499781" y="1670942"/>
                  <a:pt x="1504243" y="1688742"/>
                  <a:pt x="1517715" y="1696825"/>
                </a:cubicBezTo>
                <a:cubicBezTo>
                  <a:pt x="1537331" y="1708595"/>
                  <a:pt x="1561838" y="1708951"/>
                  <a:pt x="1583703" y="1715678"/>
                </a:cubicBezTo>
                <a:cubicBezTo>
                  <a:pt x="1673425" y="1743284"/>
                  <a:pt x="1607082" y="1729792"/>
                  <a:pt x="1706251" y="1743959"/>
                </a:cubicBezTo>
                <a:cubicBezTo>
                  <a:pt x="1737674" y="1740817"/>
                  <a:pt x="1769307" y="1739334"/>
                  <a:pt x="1800519" y="1734532"/>
                </a:cubicBezTo>
                <a:cubicBezTo>
                  <a:pt x="1810340" y="1733021"/>
                  <a:pt x="1821041" y="1731313"/>
                  <a:pt x="1828800" y="1725105"/>
                </a:cubicBezTo>
                <a:cubicBezTo>
                  <a:pt x="1837647" y="1718028"/>
                  <a:pt x="1842032" y="1706662"/>
                  <a:pt x="1847653" y="1696825"/>
                </a:cubicBezTo>
                <a:cubicBezTo>
                  <a:pt x="1862019" y="1671684"/>
                  <a:pt x="1868379" y="1657279"/>
                  <a:pt x="1875934" y="1630837"/>
                </a:cubicBezTo>
                <a:cubicBezTo>
                  <a:pt x="1879959" y="1616749"/>
                  <a:pt x="1887256" y="1579913"/>
                  <a:pt x="1894787" y="1564850"/>
                </a:cubicBezTo>
                <a:cubicBezTo>
                  <a:pt x="1899854" y="1554716"/>
                  <a:pt x="1907356" y="1545996"/>
                  <a:pt x="1913641" y="1536569"/>
                </a:cubicBezTo>
                <a:cubicBezTo>
                  <a:pt x="1916783" y="1524000"/>
                  <a:pt x="1919509" y="1511319"/>
                  <a:pt x="1923068" y="1498862"/>
                </a:cubicBezTo>
                <a:cubicBezTo>
                  <a:pt x="1925798" y="1489308"/>
                  <a:pt x="1929881" y="1480168"/>
                  <a:pt x="1932495" y="1470582"/>
                </a:cubicBezTo>
                <a:cubicBezTo>
                  <a:pt x="1957420" y="1379190"/>
                  <a:pt x="1935521" y="1418907"/>
                  <a:pt x="1970202" y="1366887"/>
                </a:cubicBezTo>
                <a:cubicBezTo>
                  <a:pt x="1973344" y="1354318"/>
                  <a:pt x="1975906" y="1341589"/>
                  <a:pt x="1979629" y="1329180"/>
                </a:cubicBezTo>
                <a:cubicBezTo>
                  <a:pt x="1985340" y="1310145"/>
                  <a:pt x="1993662" y="1291899"/>
                  <a:pt x="1998482" y="1272619"/>
                </a:cubicBezTo>
                <a:cubicBezTo>
                  <a:pt x="1999737" y="1267598"/>
                  <a:pt x="2006962" y="1202300"/>
                  <a:pt x="2017336" y="1187777"/>
                </a:cubicBezTo>
                <a:cubicBezTo>
                  <a:pt x="2043309" y="1151415"/>
                  <a:pt x="2087489" y="1129291"/>
                  <a:pt x="2121031" y="1102936"/>
                </a:cubicBezTo>
                <a:cubicBezTo>
                  <a:pt x="2143811" y="1085038"/>
                  <a:pt x="2164150" y="1064161"/>
                  <a:pt x="2187018" y="1046375"/>
                </a:cubicBezTo>
                <a:cubicBezTo>
                  <a:pt x="2220754" y="1020136"/>
                  <a:pt x="2260492" y="1001182"/>
                  <a:pt x="2290713" y="970961"/>
                </a:cubicBezTo>
                <a:cubicBezTo>
                  <a:pt x="2309402" y="952272"/>
                  <a:pt x="2330859" y="925885"/>
                  <a:pt x="2356701" y="914400"/>
                </a:cubicBezTo>
                <a:cubicBezTo>
                  <a:pt x="2374862" y="906329"/>
                  <a:pt x="2394408" y="901831"/>
                  <a:pt x="2413262" y="895547"/>
                </a:cubicBezTo>
                <a:cubicBezTo>
                  <a:pt x="2538668" y="811940"/>
                  <a:pt x="2407885" y="893521"/>
                  <a:pt x="2516956" y="838986"/>
                </a:cubicBezTo>
                <a:cubicBezTo>
                  <a:pt x="2527090" y="833919"/>
                  <a:pt x="2535103" y="825199"/>
                  <a:pt x="2545237" y="820132"/>
                </a:cubicBezTo>
                <a:cubicBezTo>
                  <a:pt x="2560372" y="812564"/>
                  <a:pt x="2576660" y="807563"/>
                  <a:pt x="2592371" y="801278"/>
                </a:cubicBezTo>
                <a:cubicBezTo>
                  <a:pt x="2598656" y="791851"/>
                  <a:pt x="2599895" y="772998"/>
                  <a:pt x="2611225" y="772998"/>
                </a:cubicBezTo>
                <a:cubicBezTo>
                  <a:pt x="2622554" y="772998"/>
                  <a:pt x="2626936" y="790677"/>
                  <a:pt x="2630078" y="801278"/>
                </a:cubicBezTo>
                <a:cubicBezTo>
                  <a:pt x="2633220" y="811879"/>
                  <a:pt x="2630078" y="786328"/>
                  <a:pt x="2630078" y="836604"/>
                </a:cubicBezTo>
              </a:path>
            </a:pathLst>
          </a:custGeom>
          <a:noFill/>
          <a:ln w="507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Subtitle 4"/>
          <p:cNvSpPr/>
          <p:nvPr/>
        </p:nvSpPr>
        <p:spPr>
          <a:xfrm>
            <a:off x="949320" y="25272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0</a:t>
            </a:r>
            <a:r>
              <a:rPr b="1" lang="en-US" sz="2800" spc="-1" strike="noStrike" baseline="30000">
                <a:solidFill>
                  <a:srgbClr val="00b0f0"/>
                </a:solidFill>
                <a:latin typeface="Calibri"/>
                <a:ea typeface="Calibri"/>
              </a:rPr>
              <a:t>n</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
        <p:nvSpPr>
          <p:cNvPr id="170" name="Subtitle 4"/>
          <p:cNvSpPr/>
          <p:nvPr/>
        </p:nvSpPr>
        <p:spPr>
          <a:xfrm>
            <a:off x="3424320" y="27558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x</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9-01T18:59:45Z</dcterms:modified>
  <cp:revision>485</cp:revision>
  <dc:subject/>
  <dc:title>The Future of Computer Science</dc:title>
</cp:coreProperties>
</file>