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9F8E-F0A6-455C-89B0-9D0A951A2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7099-2D50-4E21-8689-6A5882EBC9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FCE7-6EE9-4CFA-B6D0-46CDE01DAA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7FDF-73F1-437D-8912-02E756DAF1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41B4-6A97-4546-8765-67AA288DC2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6FE9-FF3A-47D5-A82A-14D5C06AE5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4418-EE18-4E11-B56E-B0D82D8552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8B88-771B-4257-A5B8-626823B5E7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E3B0-FE5C-43BB-A755-31D1046815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35BC-D474-4FFA-8FCA-0CD75AB48F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613D-940C-4ED1-BF1B-64C73DA8EA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8CEC-46D8-44F9-A692-717EA8B10D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BDA7-4246-4CF1-89A2-99888E696C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3F9F-B671-4E13-BE80-F33B60D90D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B14B-AF8E-417D-A050-245742773A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5333-A0E4-46EA-B622-DA30A31077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41F-A304-4FC9-9609-0A5AE2F5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A3B-20DB-4727-BF6C-60740AA9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B01-8450-4FDA-A9C4-56DA367B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7F2-458C-42F7-BAE3-B32A26F1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BCF-DAC6-4833-8B7D-063E9BDF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0E2-1792-42DE-9932-2546AFD1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6DC-BDB1-4EBC-80F3-B1356E7E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83A-09AF-480C-BA61-6DE7C0B5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111-5557-43C2-8404-DCCDF13D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C25-918E-4D46-86B0-C339FA59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503-C88D-415A-A578-B212DEB9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CC6-CC5F-456E-A93E-B49C3E9F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8D30-1425-4E0A-8523-EA3056DF0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Calibri"/>
              </a:rPr>
              <a:t>Verification of BosonSampling Devices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5029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alk at Simons Institute, February 28, 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181480" y="2057400"/>
            <a:ext cx="32004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914400" y="1728720"/>
            <a:ext cx="3105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457200" y="615960"/>
            <a:ext cx="9925200" cy="6251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446040" y="228600"/>
            <a:ext cx="8381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s a BosonSampling device’s output just uniform noise?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No way, not even close (A.-Arkhipov, arXiv:1309.74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4"/>
          <p:cNvSpPr/>
          <p:nvPr/>
        </p:nvSpPr>
        <p:spPr>
          <a:xfrm flipV="1">
            <a:off x="4800600" y="-360"/>
            <a:ext cx="0" cy="65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ubtitle 4"/>
          <p:cNvSpPr/>
          <p:nvPr/>
        </p:nvSpPr>
        <p:spPr>
          <a:xfrm>
            <a:off x="4929120" y="328464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nder the uniform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ubtitle 4"/>
          <p:cNvSpPr/>
          <p:nvPr/>
        </p:nvSpPr>
        <p:spPr>
          <a:xfrm>
            <a:off x="903240" y="328464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Calibri"/>
                <a:ea typeface="Calibri"/>
              </a:rPr>
              <a:t>Histogram of (normalized) probabilities under a Haar-random BosonSampling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ubtitle 4"/>
          <p:cNvSpPr/>
          <p:nvPr/>
        </p:nvSpPr>
        <p:spPr>
          <a:xfrm>
            <a:off x="276120" y="152280"/>
            <a:ext cx="863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A. 2013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Haar-random, where m&gt;&gt;n.  Then there’s a classical polytime algorithm C(A) that distinguishes the BosonSampling distribution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from the uniform distribution U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whp over A, and using only O(1) s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ubtitle 4"/>
          <p:cNvSpPr/>
          <p:nvPr/>
        </p:nvSpPr>
        <p:spPr>
          <a:xfrm>
            <a:off x="276120" y="1801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Strategy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the 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n submatrix of A corresponding to output S.  Let P be the product of squared 2-norms of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’s rows.  If P&gt;E[P], then guess S was drawn from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; otherwise guess S was drawn from 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0"/>
          <p:cNvGrpSpPr/>
          <p:nvPr/>
        </p:nvGrpSpPr>
        <p:grpSpPr>
          <a:xfrm>
            <a:off x="4114800" y="3610080"/>
            <a:ext cx="4824360" cy="3047760"/>
            <a:chOff x="4114800" y="3610080"/>
            <a:chExt cx="4824360" cy="3047760"/>
          </a:xfrm>
        </p:grpSpPr>
        <p:pic>
          <p:nvPicPr>
            <p:cNvPr id="110" name="Picture 7" descr=""/>
            <p:cNvPicPr/>
            <p:nvPr/>
          </p:nvPicPr>
          <p:blipFill>
            <a:blip r:embed="rId1"/>
            <a:stretch/>
          </p:blipFill>
          <p:spPr>
            <a:xfrm>
              <a:off x="4114800" y="3610080"/>
              <a:ext cx="471168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Subtitle 4"/>
            <p:cNvSpPr/>
            <p:nvPr/>
          </p:nvSpPr>
          <p:spPr>
            <a:xfrm>
              <a:off x="4952880" y="3809880"/>
              <a:ext cx="3962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 under uniform distribution (a lognormal random variabl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ubtitle 4"/>
            <p:cNvSpPr/>
            <p:nvPr/>
          </p:nvSpPr>
          <p:spPr>
            <a:xfrm>
              <a:off x="5462640" y="4875120"/>
              <a:ext cx="3476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 under a BosonSampling distrib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Straight Arrow Connector 15"/>
            <p:cNvCxnSpPr/>
            <p:nvPr/>
          </p:nvCxnSpPr>
          <p:spPr>
            <a:xfrm flipH="1">
              <a:off x="7085880" y="5333400"/>
              <a:ext cx="115200" cy="824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114" name="Straight Arrow Connector 18"/>
            <p:cNvCxnSpPr/>
            <p:nvPr/>
          </p:nvCxnSpPr>
          <p:spPr>
            <a:xfrm flipH="1">
              <a:off x="4952520" y="4554720"/>
              <a:ext cx="381600" cy="245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15" name="Group 19"/>
          <p:cNvGrpSpPr/>
          <p:nvPr/>
        </p:nvGrpSpPr>
        <p:grpSpPr>
          <a:xfrm>
            <a:off x="276120" y="3589200"/>
            <a:ext cx="3460680" cy="3129120"/>
            <a:chOff x="276120" y="3589200"/>
            <a:chExt cx="3460680" cy="3129120"/>
          </a:xfrm>
        </p:grpSpPr>
        <p:sp>
          <p:nvSpPr>
            <p:cNvPr id="116" name="Double Bracket 2"/>
            <p:cNvSpPr/>
            <p:nvPr/>
          </p:nvSpPr>
          <p:spPr>
            <a:xfrm>
              <a:off x="793440" y="3589200"/>
              <a:ext cx="1828800" cy="2277720"/>
            </a:xfrm>
            <a:prstGeom prst="bracketPair">
              <a:avLst>
                <a:gd name="adj" fmla="val 17129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ounded Rectangle 4"/>
            <p:cNvSpPr/>
            <p:nvPr/>
          </p:nvSpPr>
          <p:spPr>
            <a:xfrm>
              <a:off x="793440" y="416052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ounded Rectangle 9"/>
            <p:cNvSpPr/>
            <p:nvPr/>
          </p:nvSpPr>
          <p:spPr>
            <a:xfrm>
              <a:off x="789480" y="440064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ounded Rectangle 10"/>
            <p:cNvSpPr/>
            <p:nvPr/>
          </p:nvSpPr>
          <p:spPr>
            <a:xfrm>
              <a:off x="785160" y="464040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ounded Rectangle 11"/>
            <p:cNvSpPr/>
            <p:nvPr/>
          </p:nvSpPr>
          <p:spPr>
            <a:xfrm>
              <a:off x="780840" y="488016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ubtitle 4"/>
            <p:cNvSpPr/>
            <p:nvPr/>
          </p:nvSpPr>
          <p:spPr>
            <a:xfrm>
              <a:off x="1461960" y="5180040"/>
              <a:ext cx="46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ubtitle 4"/>
            <p:cNvSpPr/>
            <p:nvPr/>
          </p:nvSpPr>
          <p:spPr>
            <a:xfrm>
              <a:off x="1411200" y="4275000"/>
              <a:ext cx="609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Object 22"/>
                <p:cNvSpPr txBox="1"/>
                <p:nvPr/>
              </p:nvSpPr>
              <p:spPr>
                <a:xfrm>
                  <a:off x="276120" y="5693400"/>
                  <a:ext cx="3460680" cy="102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⋯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≥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ubtitle 4"/>
          <p:cNvSpPr/>
          <p:nvPr/>
        </p:nvSpPr>
        <p:spPr>
          <a:xfrm>
            <a:off x="533520" y="40384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cent realiz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can use the number of multi-photon collisions to efficiently distinguish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ubtitle 4"/>
          <p:cNvSpPr/>
          <p:nvPr/>
        </p:nvSpPr>
        <p:spPr>
          <a:xfrm>
            <a:off x="533520" y="378000"/>
            <a:ext cx="838188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 matrix, A,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like the BosonSampling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but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stinguish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partic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ubtitle 4"/>
          <p:cNvSpPr/>
          <p:nvPr/>
        </p:nvSpPr>
        <p:spPr>
          <a:xfrm>
            <a:off x="506520" y="2765520"/>
            <a:ext cx="8205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bserve that the row-norm estimator, P, fails completely to distinguish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!   (Wh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"/>
              <p:cNvSpPr txBox="1"/>
              <p:nvPr/>
            </p:nvSpPr>
            <p:spPr>
              <a:xfrm>
                <a:off x="990720" y="1370160"/>
                <a:ext cx="7235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come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/>
                            </m:sSub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/>
                            </m:sSub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8" name="Subtitle 4"/>
          <p:cNvSpPr/>
          <p:nvPr/>
        </p:nvSpPr>
        <p:spPr>
          <a:xfrm>
            <a:off x="1295280" y="522288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onjectur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uld also distinguish without looking at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Classical Mockup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1219320"/>
            <a:ext cx="84582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matrix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is there some classically efficiently-samplable distributi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hich is indistinguishable from the BosonSampling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lynomial-time algorith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93760" y="342900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bserv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we just wanted an efficiently-samplable distribution that’s indistinguishable from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y any (say)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time algorithm, that’s trivial to g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143000" y="4938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Brandao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can even get such a mockup distribution with a large min-entropy, using Trevisan-Tulsiani-Vad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7360" y="12952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our linear-optics model solve a classically-intractable problem (say, a search or decision problem) for which a classical computer can efficiently verify the ans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87360" y="28321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matrix with large (1/poly(n)) permanent, can one “smuggle” it as a submatrix of a unitary matri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92040" y="3975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kinds of (sub)unitary matric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ve ≥1/poly(n) permanents?  Must every such matrix be “close to the identity,” in some sen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62120" y="53593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Arkhipov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very unitary with permanent ≥1-1/e has a “large” di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Interactive Protocol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7360" y="1295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a BosonSampling device convince a classical skeptic of its post-classical powers via an interactive protoc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49200" y="24940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Arora et al. 2012: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 oracle for Gaussian permanent estimation would be self-checkable.  (But alas, a BosonSampling device is not such an oracl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Vertical Scroll 10"/>
          <p:cNvSpPr/>
          <p:nvPr/>
        </p:nvSpPr>
        <p:spPr>
          <a:xfrm>
            <a:off x="1219320" y="380880"/>
            <a:ext cx="6629400" cy="48006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2133720"/>
            <a:ext cx="989280" cy="76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2133720"/>
            <a:ext cx="989280" cy="761760"/>
          </a:xfrm>
          <a:prstGeom prst="rect">
            <a:avLst/>
          </a:prstGeom>
          <a:ln w="0">
            <a:noFill/>
          </a:ln>
        </p:spPr>
      </p:pic>
      <p:sp>
        <p:nvSpPr>
          <p:cNvPr id="55" name="Freeform 8"/>
          <p:cNvSpPr/>
          <p:nvPr/>
        </p:nvSpPr>
        <p:spPr>
          <a:xfrm>
            <a:off x="1752480" y="22096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57800" y="1600200"/>
            <a:ext cx="2000160" cy="137808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04920" y="5562720"/>
            <a:ext cx="8610480" cy="14644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QUANTUM SIMULATION has no efficient classical algorithm, unless FACTORING doe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2057400" y="1143000"/>
            <a:ext cx="495288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22860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So the ECT is false … what more evidence could anyone wa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80880" y="1523880"/>
            <a:ext cx="85345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a QC able to factor large numbers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rd!  After 16 years, no fundamental obstacle has been found, but who kno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Can’t we “meet the physicists halfway,” and show computational hardness for quantum systems closer to what they actually work with now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80880" y="4575240"/>
            <a:ext cx="853452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TORING might be have a fast classical algorithm!  At any rate, it’s an extremely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Wouldn’t it be great to show that if, quantum computers can be simulated classically, then (say)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520" y="1028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ubtitle 4"/>
          <p:cNvSpPr/>
          <p:nvPr/>
        </p:nvSpPr>
        <p:spPr>
          <a:xfrm>
            <a:off x="76320" y="2128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ubtitle 4"/>
          <p:cNvSpPr/>
          <p:nvPr/>
        </p:nvSpPr>
        <p:spPr>
          <a:xfrm>
            <a:off x="3505320" y="21286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eplacing the balls by photons leads to famously counterintuitive phenomena, like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ng-Ou-Mandel d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mathworld.wolfram.com/images/eps-gif/GaltonBoard_1000.gif"/>
          <p:cNvPicPr/>
          <p:nvPr/>
        </p:nvPicPr>
        <p:blipFill>
          <a:blip r:embed="rId1"/>
          <a:stretch/>
        </p:blipFill>
        <p:spPr>
          <a:xfrm>
            <a:off x="533520" y="3135240"/>
            <a:ext cx="2819160" cy="3380040"/>
          </a:xfrm>
          <a:prstGeom prst="rect">
            <a:avLst/>
          </a:prstGeom>
          <a:ln w="0">
            <a:noFill/>
          </a:ln>
        </p:spPr>
      </p:pic>
      <p:sp>
        <p:nvSpPr>
          <p:cNvPr id="67" name="Straight Connector 8"/>
          <p:cNvSpPr/>
          <p:nvPr/>
        </p:nvSpPr>
        <p:spPr>
          <a:xfrm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9"/>
          <p:cNvSpPr/>
          <p:nvPr/>
        </p:nvSpPr>
        <p:spPr>
          <a:xfrm flipH="1"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 rot="16200000">
            <a:off x="5562360" y="5066640"/>
            <a:ext cx="1219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41911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6"/>
          <p:cNvSpPr/>
          <p:nvPr/>
        </p:nvSpPr>
        <p:spPr>
          <a:xfrm>
            <a:off x="78487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 L -0.19167 0.2 E">
                                      <p:cBhvr>
                                        <p:cTn id="5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167 0.2 E">
                                      <p:cBhvr>
                                        <p:cTn id="6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6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6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6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7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58920" y="189000"/>
            <a:ext cx="668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we consider a network of beamsplitters, with n input “modes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location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m&gt;&gt;n outpu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269120" y="4176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Subtitle 4"/>
          <p:cNvSpPr/>
          <p:nvPr/>
        </p:nvSpPr>
        <p:spPr>
          <a:xfrm>
            <a:off x="358920" y="1636560"/>
            <a:ext cx="68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identical photons enter, one per input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ume for simplicity they all leave in different modes—there are        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ubtitle 4"/>
          <p:cNvSpPr/>
          <p:nvPr/>
        </p:nvSpPr>
        <p:spPr>
          <a:xfrm>
            <a:off x="358920" y="3487680"/>
            <a:ext cx="84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beamsplitter network defines a column-orthonormal matrix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654200" y="4489560"/>
                <a:ext cx="3814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4549680" y="2579760"/>
                <a:ext cx="5320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4268880" y="3909960"/>
                <a:ext cx="4570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come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Subtitle 4"/>
          <p:cNvSpPr/>
          <p:nvPr/>
        </p:nvSpPr>
        <p:spPr>
          <a:xfrm>
            <a:off x="358920" y="48448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ubtitle 4"/>
          <p:cNvSpPr/>
          <p:nvPr/>
        </p:nvSpPr>
        <p:spPr>
          <a:xfrm>
            <a:off x="357120" y="5837400"/>
            <a:ext cx="37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 the matrix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6210360" y="4488840"/>
            <a:ext cx="2628720" cy="1330920"/>
            <a:chOff x="6210360" y="4488840"/>
            <a:chExt cx="2628720" cy="1330920"/>
          </a:xfrm>
        </p:grpSpPr>
        <p:sp>
          <p:nvSpPr>
            <p:cNvPr id="82" name="Subtitle 4"/>
            <p:cNvSpPr/>
            <p:nvPr/>
          </p:nvSpPr>
          <p:spPr>
            <a:xfrm>
              <a:off x="6210360" y="4968720"/>
              <a:ext cx="2628720" cy="85104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 submatrix of A corresponding to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Straight Arrow Connector 4"/>
            <p:cNvCxnSpPr/>
            <p:nvPr/>
          </p:nvCxnSpPr>
          <p:spPr>
            <a:xfrm flipV="1">
              <a:off x="8130600" y="4488840"/>
              <a:ext cx="76680" cy="4798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, Can We Use Quantum Optics to Solve a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ubtitle 4"/>
          <p:cNvSpPr/>
          <p:nvPr/>
        </p:nvSpPr>
        <p:spPr>
          <a:xfrm>
            <a:off x="838080" y="279864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X is sub-unitary, then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ill usually be exponentially small.  So to get a reasonable estimate of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 given X, we’d generally need to repeat the optical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ubtitle 4"/>
          <p:cNvSpPr/>
          <p:nvPr/>
        </p:nvSpPr>
        <p:spPr>
          <a:xfrm>
            <a:off x="533520" y="18288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05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3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4"/>
          <p:cNvSpPr/>
          <p:nvPr/>
        </p:nvSpPr>
        <p:spPr>
          <a:xfrm>
            <a:off x="45720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input, le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oson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problem of mere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same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at the beamsplitter network samples from—the one defined by Pr[S]=|Per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4"/>
          <p:cNvSpPr/>
          <p:nvPr/>
        </p:nvSpPr>
        <p:spPr>
          <a:xfrm>
            <a:off x="457200" y="2209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.-Arkhipov 2011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BosonSampling is solvable in classical polynomial time. 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4"/>
          <p:cNvSpPr/>
          <p:nvPr/>
        </p:nvSpPr>
        <p:spPr>
          <a:xfrm>
            <a:off x="425520" y="3200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we can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oximat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classical polynomial time.  Then i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it’s possible to estimate Per(X), with high probability over a Gaussian random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6770520" y="4394160"/>
                <a:ext cx="2187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Ν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2" name="Subtitle 4"/>
          <p:cNvSpPr/>
          <p:nvPr/>
        </p:nvSpPr>
        <p:spPr>
          <a:xfrm>
            <a:off x="800280" y="297180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factoring algorithm, we g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erent/stron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idence that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ak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stem can do something classicall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1095480" y="4952880"/>
            <a:ext cx="715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We conjecture that the above problem is already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-complete.  If it is, then a fast classical algorithm for </a:t>
            </a:r>
            <a:r>
              <a:rPr b="0" i="1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approximate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 BosonSampling would already have the consequence tha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ubtitle 4"/>
          <p:cNvSpPr/>
          <p:nvPr/>
        </p:nvSpPr>
        <p:spPr>
          <a:xfrm>
            <a:off x="1447920" y="4267080"/>
            <a:ext cx="64767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Arial"/>
              </a:rPr>
              <a:t># of experiments ≥ # of phot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410080" y="1415880"/>
            <a:ext cx="3200400" cy="2143440"/>
          </a:xfrm>
          <a:prstGeom prst="rect">
            <a:avLst/>
          </a:prstGeom>
          <a:ln w="0">
            <a:noFill/>
          </a:ln>
        </p:spPr>
      </p:pic>
      <p:sp>
        <p:nvSpPr>
          <p:cNvPr id="97" name="Subtitle 4"/>
          <p:cNvSpPr/>
          <p:nvPr/>
        </p:nvSpPr>
        <p:spPr>
          <a:xfrm>
            <a:off x="457200" y="1166760"/>
            <a:ext cx="468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st year, groups in Brisbane, Oxford, Rome, and Vienna reported the first 3- and 4-photon BosonSampling experiments, confirming that the amplitudes were given by 3x3 and 4x4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ubtitle 4"/>
          <p:cNvSpPr/>
          <p:nvPr/>
        </p:nvSpPr>
        <p:spPr>
          <a:xfrm>
            <a:off x="457200" y="48769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bvious challenge for scaling up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ed n-photon coincidences (requires either postselection or deterministic single-photon 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cent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cattershot Boson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60360" y="2016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Verifying BosonSampling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ubtitle 4"/>
          <p:cNvSpPr/>
          <p:nvPr/>
        </p:nvSpPr>
        <p:spPr>
          <a:xfrm>
            <a:off x="495360" y="110484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rucial difference from factoring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erify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e output of a claimed BosonSampling device would presumably take exp(n) time, in gener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cently underscored by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Gogolin et al. 2013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alongside specious clai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ubtitle 4"/>
          <p:cNvSpPr/>
          <p:nvPr/>
        </p:nvSpPr>
        <p:spPr>
          <a:xfrm>
            <a:off x="498600" y="40384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ur respon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o cares?  Take n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you do care, we can show how to distinguish the output of a BosonSampling device from all sorts of specific “null hypothes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14-02-28T19:03:51Z</dcterms:modified>
  <cp:revision>1635</cp:revision>
  <dc:subject/>
  <dc:title>The Learnability of Quantum States</dc:title>
</cp:coreProperties>
</file>