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A0B-4887-4C5C-9464-56799E2E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9085-3424-4181-8F5B-915AFB038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DC8-F5A6-49D7-AAD9-ECD593101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6368-E51C-45CC-A457-67FA09D0F4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18F-C05E-45C6-B8CE-E58938AF9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658-9295-40E4-8B78-4C16039E2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5A53-4740-462E-ACC1-41583980E1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9914-5AB8-47B7-82A3-DDB773C059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93A0-5A86-48C2-AF31-7B7292DAA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1D57-2C7D-4556-A132-AA8547B39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0F3-31B3-4AB2-A88B-0198C0F6B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9FAC-CBE3-4888-8A04-EE39D56DE2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878-5D37-48A9-ADC3-0E3F30640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1BB-3665-4670-A81B-FB934C1E34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5CEC-E4AF-4885-8517-73FAA12533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F2B-049C-47BF-9B8D-036FF3583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ADE-E3F4-46B0-A54E-78A83FB0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7CF-E01E-473D-907B-96B3EB0A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20C-DE7B-4348-B9CF-81A00160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463-846C-4535-8429-20968D65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3C8-7308-4B27-AA13-7A21F795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5FC-A1A8-4C90-8AC2-70FDFD71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777-4D63-4E73-BB2E-04F67633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549-9577-48A6-88D5-5883B7AC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293-B42F-4E0F-9463-B1DE9A0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786-A0D3-4999-B2F4-BCE854D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2C8-B4DB-4728-9DE6-692C553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539-7D7C-4BB9-AC3B-BC6638C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646-860B-43AF-9C05-5E5CCD8C9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Verification of BosonSampling Devices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Simons Institute, February 28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446040" y="228600"/>
            <a:ext cx="8381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 a BosonSampling device’s output just uniform noise?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No way, not even close 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4929120" y="328464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the 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4"/>
          <p:cNvSpPr/>
          <p:nvPr/>
        </p:nvSpPr>
        <p:spPr>
          <a:xfrm>
            <a:off x="903240" y="328464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a Haar-random BosonSampling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276120" y="152280"/>
            <a:ext cx="863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’s a classical polytime algorithm C(A) that distinguishes the BosonSampling distributio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the uniform distribution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hp over A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10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14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5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16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title 4"/>
          <p:cNvSpPr/>
          <p:nvPr/>
        </p:nvSpPr>
        <p:spPr>
          <a:xfrm>
            <a:off x="533520" y="4038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realiz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can use the number of multi-photon collisions to efficiently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533520" y="378000"/>
            <a:ext cx="838188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 matrix, A,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like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stinguish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partic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ubtitle 4"/>
          <p:cNvSpPr/>
          <p:nvPr/>
        </p:nvSpPr>
        <p:spPr>
          <a:xfrm>
            <a:off x="506520" y="2765520"/>
            <a:ext cx="8205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bserve that the row-norm estimator, P, fails completely to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!   (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"/>
              <p:cNvSpPr txBox="1"/>
              <p:nvPr/>
            </p:nvSpPr>
            <p:spPr>
              <a:xfrm>
                <a:off x="990720" y="1370160"/>
                <a:ext cx="7235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</m:sSub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8" name="Subtitle 4"/>
          <p:cNvSpPr/>
          <p:nvPr/>
        </p:nvSpPr>
        <p:spPr>
          <a:xfrm>
            <a:off x="1295280" y="522288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uld also distinguish without looking at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Classical Mockup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1219320"/>
            <a:ext cx="84582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s there some classically efficiently-samplable distribution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is indistinguishable from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algorith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93760" y="3429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we just wanted an efficiently-samplable distribution that’s indistinguishable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any (say)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 algorithm, that’s trivial to g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143000" y="4938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randao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even get such a mockup distribution with a large min-entropy, using Trevisan-Tulsiani-Vad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7360" y="1295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ur linear-optics model solve a classically-intractable problem (say, a search or decision problem) for which a classical computer can efficiently verify the ans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87360" y="2832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matrix with large (1/poly(n)) permanent, can one “smuggle” it as a submatrix of a unitary matri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92040" y="397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kinds of (sub)unitary matri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ve ≥1/poly(n) permanents?  Must every such matrix be “close to the identity,” in some s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5359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rkhipov: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ry unitary with permanent ≥1-1/e has a “large”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Interactive Protocol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736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a BosonSampling device convince a classical skeptic of its post-classical powers via an interactive protoc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49200" y="2494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rora et al. 2012: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 oracle for Gaussian permanent estimation would be self-checkable.  (But alas, a BosonSampling device is not such an oracl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0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3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2" name="Subtitle 4"/>
          <p:cNvSpPr/>
          <p:nvPr/>
        </p:nvSpPr>
        <p:spPr>
          <a:xfrm>
            <a:off x="800280" y="2971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1447920" y="4267080"/>
            <a:ext cx="6476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# of experiments ≥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97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 and 4-photon BosonSampling experiments, confirming that the amplitudes were given by 3x3 and 4x4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457200" y="48769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 for scaling up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 n-photon coincidences (requires either postselection or deterministic single-photon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attershot Boson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60360" y="201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Verifying BosonSampl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rucial difference from factor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erify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 output of a claimed BosonSampling device would presumably take exp(n) time, in gene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 underscored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Gogolin et al. 2013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alongside specious clai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ubtitle 4"/>
          <p:cNvSpPr/>
          <p:nvPr/>
        </p:nvSpPr>
        <p:spPr>
          <a:xfrm>
            <a:off x="498600" y="40384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respo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o cares?  Take n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you do care, we can show how to distinguish the output of a BosonSampling device from all sorts of specific “null hypothe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02-28T19:03:51Z</dcterms:modified>
  <cp:revision>1635</cp:revision>
  <dc:subject/>
  <dc:title>The Learnability of Quantum States</dc:title>
</cp:coreProperties>
</file>