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9642-22A2-4D72-A195-E167A4021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1DE4-8E1E-4AE8-8C6C-D6626D46A87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708-CEDA-40F4-8A69-A03DB17B6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78E-6288-43A7-BB91-069E9B0F7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37DA-BD46-4A04-8006-E87BF229E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65B-E5D9-49E1-B10F-FE5E32E19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2CC4-1BC6-49A9-A7AF-16A763848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2D3-17DA-470D-8AD7-BC28ECE7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37B-E82B-4EA5-9309-259D9287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1FE-76BB-44A8-968C-FF26FD7C63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E432-A4BC-4629-A481-ACEC20D4B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63F-D07F-4F21-A35A-500B6D865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DD9-546F-4943-9034-0245141B4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C9A-C7F4-4A2F-9AFD-6C0FD2BD3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05B9-4AB5-49FC-8B9E-E2CD8DB38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91E-46B5-4760-9B01-1F3AF721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FE8-7A6D-49E2-A1BD-35298AF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9A1-31CD-498D-82A4-B6912329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708-8D85-41CF-8EB0-95F21C9F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569-E0EA-4765-9484-D15BED6D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702-1439-4CEE-888C-708D5AC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8A09-ED81-4F72-A9E7-A2745083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CBDA-AE16-4010-BA90-473BCC6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B00C-2E03-4AF7-A5F8-60697540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0B5E-2B1E-4D8E-A4DE-34CC6A2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D058-1B62-40D7-BD17-6B09DED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A1B-4F6A-484E-8ADF-BBE09049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BA75-A092-4741-BE5C-8F47D7C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0363-B517-434E-9596-488E426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06A-8E0C-4E75-8614-FC5E785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E60D-F632-49AE-87C6-BB3F9A74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73B4-7E73-44F9-865F-E12FEF5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3E5E-ACEE-4F2F-A465-A10CA4CA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F5BF-606F-4163-975E-8AD39F4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96F6-38E3-4E56-9558-BC603F6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AFFB-4769-4339-A431-DD58DA8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64E4-A498-46DB-8875-E3864E36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1C2-3328-40E9-AE83-74CE270E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AF67-88EF-48D7-B2FB-5C81CC9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34AA-4998-49B7-A4A8-6841A97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C1A5-56B7-4785-A232-D1A6FAB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C9B3-A473-4D39-9A42-5371480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C85E-5DE8-43AC-8193-2AC0FEE9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2B7B-56CF-4AD4-8907-AFE36FC4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1E38-4A49-4826-8AC4-64B4C697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AF3-E9F9-4195-B41D-67DD3E0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519-B87A-41B9-BCF6-2AD5FF3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3C8-8163-435F-A57E-B2C426A8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740-0AF7-4981-A9A7-7D1A862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78A-F00D-4921-A991-A51030C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775-264D-4918-9DB7-339F5B2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E05-C72B-45B9-8C4F-1BC8F50C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C30-A90C-435C-902E-341FB5BBE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9C5-A85F-41FE-80EB-CA1FEC66E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3" name="Rectangle 41"/>
          <p:cNvSpPr/>
          <p:nvPr/>
        </p:nvSpPr>
        <p:spPr>
          <a:xfrm>
            <a:off x="295200" y="32767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195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1600200" y="3581280"/>
            <a:ext cx="5486400" cy="916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nections between black hole firewalls and quantum money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in 2013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38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7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black-box setting, this problem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tight result by Zhandry; variant of the collision lower bou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9-30T14:23:38Z</dcterms:modified>
  <cp:revision>447</cp:revision>
  <dc:subject/>
  <dc:title>The Future of Computer Science</dc:title>
</cp:coreProperties>
</file>