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5C7-DF9F-4A65-B097-B21B44F72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995-7D21-4AE4-A503-0E8FD29149B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9574-CBAC-4E90-BAEF-2CAFB0E8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743-AB56-4472-B05F-9BB2804AF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16E-36CF-4DF1-9A58-DDA7AF345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199E-007E-4D4F-8EC7-49C6856A2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51AA-122A-443B-B354-3D893A1EB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CA8-F2D9-4635-B58F-35A6E2A9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3F3-8881-43D7-8853-7CB5E5CDC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667B-C777-4CAA-8E9F-FC41A40B46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D554-F8AA-4FE3-91EB-A16C298A4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61B-5B0E-466B-8F62-E2539B0BD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89D8-4BDB-4AD0-89FF-ABDC0FC9B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E28-9793-4CA4-A0DF-6D1A330BC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17F-CFD9-4779-B625-06DBEF2AEE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243-AF94-499D-80DE-A0F1A72B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A6B-C490-4E0F-BF3D-B3577932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DA7-1218-4F83-96CC-54C9BF9D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B94-D20A-476A-8736-76028CE4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16C-B448-4F13-A220-5D098D66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93A-31D7-49CC-A123-11211D29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D3BB-B761-4BDC-84D6-A2F77D9A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AF3D-4D68-4772-81A1-061A3CEE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3407-EF4F-42E8-90BF-FCF5F67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918-12DF-4437-AB03-41F7584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BE1-2C7E-49E6-9630-4975975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3F0-AAF3-4CA1-9FF9-BAAEE69D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E6DE-1B60-440C-86E6-FEF78B4A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C05-040C-4080-B34D-45F85269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C738-6056-42C2-BC33-0BC25FB5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B51-93FE-49B9-B7FF-8C9EC582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DDD3-2851-4F05-95D0-E596DD84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67F9-5AC0-4158-8E01-78F9EC2D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0C3D-DA7F-423D-8E9E-A81A2BA1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81E8-A732-43D5-96F6-91686795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237B5-AEF5-4F8C-B7F1-E9D000D7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1D3D-8110-406A-AADE-53E77367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E7C-1BE2-4D52-A5B6-5BE69F0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90E7-91D7-4320-924B-A26CF2D8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1F0E-4899-4F3E-BDAE-E4E44787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356C-7849-4550-B995-86436572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6CC5-B2EE-4DBA-972A-606C9A6A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4A5B-C335-40AD-85B0-E2D1E55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4A0A-773E-4B0E-AB4A-A54DEF06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D9B5-AAFF-4E9D-A0C5-30A1E236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28F-D9A7-43B4-BCC2-217C094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697-E8CA-4315-8946-389DD4F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EE3-4D49-4C54-92BA-90EE95EF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450-5EBC-4ACF-8D2E-DD2D333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986-4CDA-46B0-A9B5-6D7A250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97D-2007-4D56-9A6E-5D2ECDC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5C8B-758C-489F-836F-A97073E8D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2A1-4688-4F75-BBB9-0BACDEE05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06B2-96C6-4784-810F-0B65421CD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Calibri"/>
                <a:ea typeface="Calibri"/>
              </a:rPr>
              <a:t>Black Holes, Firewalls, and the Complexity of States and Unitaries</a:t>
            </a:r>
            <a:endParaRPr b="1" lang="en-US" sz="4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280" y="54097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apers and slides at www.scottaaronso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12720" y="2322360"/>
            <a:ext cx="3657600" cy="2689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physics.ntua.gr/~lpapa/images/black_hole.jpg"/>
          <p:cNvPicPr/>
          <p:nvPr/>
        </p:nvPicPr>
        <p:blipFill>
          <a:blip r:embed="rId2"/>
          <a:stretch/>
        </p:blipFill>
        <p:spPr>
          <a:xfrm>
            <a:off x="4876920" y="2268360"/>
            <a:ext cx="382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Calibri"/>
                <a:ea typeface="Arial"/>
              </a:rPr>
              <a:t>My strengthening: Harlow-Hayden decoding is as hard as inverting an arbitrary one-wa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"/>
              <p:cNvSpPr txBox="1"/>
              <p:nvPr/>
            </p:nvSpPr>
            <p:spPr>
              <a:xfrm>
                <a:off x="174600" y="1366920"/>
                <a:ext cx="87948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⊕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sSub>
                          <m:e>
                            <m:r>
                              <m:t xml:space="preserve">⟩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3" name="Rectangle 41"/>
          <p:cNvSpPr/>
          <p:nvPr/>
        </p:nvSpPr>
        <p:spPr>
          <a:xfrm>
            <a:off x="295200" y="3276720"/>
            <a:ext cx="85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 is maximally entangled with R.  But in order to see that B and R are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lassically correl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one would need to learn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a “hardcore bit” of f), and therefore inver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2590920" y="5105520"/>
            <a:ext cx="5867280" cy="137376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computational intractability the only “armor” protecting the geometry of spacetime inside the black h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316080" y="2631960"/>
            <a:ext cx="8589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R: “old” Hawking photons / B: photons just coming out / H: still in black 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Arial"/>
              </a:rPr>
              <a:t>Quantum Circuit Complexity and Wormholes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Arial"/>
              </a:rPr>
              <a:t>[A.-Susskind, in progre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1"/>
          <p:cNvSpPr/>
          <p:nvPr/>
        </p:nvSpPr>
        <p:spPr>
          <a:xfrm>
            <a:off x="285840" y="1162080"/>
            <a:ext cx="60386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AdS/CFT corresponde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relates anti-deSitter quantum gravity in D spacetime dimensions to conformal field theories (without gravity) in D-1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the mapping is extremely nonlocal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www.askamathematician.com/wp-content/uploads/2011/12/wormhole.jpg"/>
          <p:cNvPicPr/>
          <p:nvPr/>
        </p:nvPicPr>
        <p:blipFill>
          <a:blip r:embed="rId1"/>
          <a:stretch/>
        </p:blipFill>
        <p:spPr>
          <a:xfrm>
            <a:off x="6553080" y="1293840"/>
            <a:ext cx="2162160" cy="1859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1"/>
          <p:cNvSpPr/>
          <p:nvPr/>
        </p:nvSpPr>
        <p:spPr>
          <a:xfrm>
            <a:off x="255600" y="3581280"/>
            <a:ext cx="8277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It was recently found that an expanding wormhole, on the AdS side, maps to a collection of qubits on the CFT side that just seems to get more and more “complex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"/>
              <p:cNvSpPr txBox="1"/>
              <p:nvPr/>
            </p:nvSpPr>
            <p:spPr>
              <a:xfrm>
                <a:off x="1687680" y="4873680"/>
                <a:ext cx="541332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⊗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</m:t>
                                </m:r>
                                <m:r>
                                  <m:t xml:space="preserve">⟩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t xml:space="preserve">⟩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393840" y="5791320"/>
            <a:ext cx="828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ut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do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actually increase like this, for natural scrambling dynamics U?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423720" y="1531800"/>
            <a:ext cx="85741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Susskind’s Proposal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quantum circuit complex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—that is, the number of gates in the smallest circuit that prepares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from |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200" spc="-1" strike="noStrike">
                <a:solidFill>
                  <a:srgbClr val="ff00ff"/>
                </a:solidFill>
                <a:latin typeface="Calibri"/>
                <a:ea typeface="Arial"/>
              </a:rPr>
              <a:t>(Not clear if it’s right, but has survived some nontrivial te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423720" y="468360"/>
            <a:ext cx="8305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Question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What function of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n we point to on the CFT side, that’s “dual” to wormhole length on the AdS sid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1447920" y="3449520"/>
            <a:ext cx="5586120" cy="2309040"/>
            <a:chOff x="1447920" y="3449520"/>
            <a:chExt cx="5586120" cy="2309040"/>
          </a:xfrm>
        </p:grpSpPr>
        <p:sp>
          <p:nvSpPr>
            <p:cNvPr id="195" name="Straight Connector 2"/>
            <p:cNvSpPr/>
            <p:nvPr/>
          </p:nvSpPr>
          <p:spPr>
            <a:xfrm>
              <a:off x="2575800" y="36684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traight Connector 12"/>
            <p:cNvSpPr/>
            <p:nvPr/>
          </p:nvSpPr>
          <p:spPr>
            <a:xfrm flipH="1">
              <a:off x="2575440" y="5268600"/>
              <a:ext cx="441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41"/>
            <p:cNvSpPr/>
            <p:nvPr/>
          </p:nvSpPr>
          <p:spPr>
            <a:xfrm>
              <a:off x="3261600" y="526860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ime 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1447920" y="4125600"/>
              <a:ext cx="1226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(|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t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17"/>
            <p:cNvSpPr/>
            <p:nvPr/>
          </p:nvSpPr>
          <p:spPr>
            <a:xfrm flipH="1">
              <a:off x="2575800" y="3806640"/>
              <a:ext cx="2437920" cy="14619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41"/>
            <p:cNvSpPr/>
            <p:nvPr/>
          </p:nvSpPr>
          <p:spPr>
            <a:xfrm>
              <a:off x="472320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1"/>
            <p:cNvSpPr/>
            <p:nvPr/>
          </p:nvSpPr>
          <p:spPr>
            <a:xfrm>
              <a:off x="2423520" y="526860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2166120" y="492516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2061000" y="3449520"/>
              <a:ext cx="51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"/>
            <p:cNvSpPr/>
            <p:nvPr/>
          </p:nvSpPr>
          <p:spPr>
            <a:xfrm>
              <a:off x="4984200" y="3695760"/>
              <a:ext cx="2049840" cy="271080"/>
            </a:xfrm>
            <a:custGeom>
              <a:avLst/>
              <a:gdLst/>
              <a:ahLst/>
              <a:rect l="l" t="t" r="r" b="b"/>
              <a:pathLst>
                <a:path w="2049864" h="271306">
                  <a:moveTo>
                    <a:pt x="0" y="110532"/>
                  </a:moveTo>
                  <a:cubicBezTo>
                    <a:pt x="36844" y="107183"/>
                    <a:pt x="73861" y="105373"/>
                    <a:pt x="110532" y="100484"/>
                  </a:cubicBezTo>
                  <a:cubicBezTo>
                    <a:pt x="124221" y="98659"/>
                    <a:pt x="136984" y="89062"/>
                    <a:pt x="150725" y="90436"/>
                  </a:cubicBezTo>
                  <a:cubicBezTo>
                    <a:pt x="171804" y="92544"/>
                    <a:pt x="190918" y="103833"/>
                    <a:pt x="211015" y="110532"/>
                  </a:cubicBezTo>
                  <a:cubicBezTo>
                    <a:pt x="212153" y="113945"/>
                    <a:pt x="229703" y="175405"/>
                    <a:pt x="241160" y="170822"/>
                  </a:cubicBezTo>
                  <a:cubicBezTo>
                    <a:pt x="259293" y="163569"/>
                    <a:pt x="262571" y="138049"/>
                    <a:pt x="271305" y="120581"/>
                  </a:cubicBezTo>
                  <a:cubicBezTo>
                    <a:pt x="320469" y="22254"/>
                    <a:pt x="264938" y="110034"/>
                    <a:pt x="311499" y="40194"/>
                  </a:cubicBezTo>
                  <a:cubicBezTo>
                    <a:pt x="338295" y="60291"/>
                    <a:pt x="368202" y="76800"/>
                    <a:pt x="391886" y="100484"/>
                  </a:cubicBezTo>
                  <a:lnTo>
                    <a:pt x="452176" y="160774"/>
                  </a:lnTo>
                  <a:cubicBezTo>
                    <a:pt x="462224" y="170822"/>
                    <a:pt x="470953" y="182393"/>
                    <a:pt x="482321" y="190919"/>
                  </a:cubicBezTo>
                  <a:cubicBezTo>
                    <a:pt x="495719" y="200967"/>
                    <a:pt x="509799" y="210165"/>
                    <a:pt x="522514" y="221064"/>
                  </a:cubicBezTo>
                  <a:cubicBezTo>
                    <a:pt x="590212" y="279091"/>
                    <a:pt x="516178" y="226888"/>
                    <a:pt x="582804" y="271306"/>
                  </a:cubicBezTo>
                  <a:cubicBezTo>
                    <a:pt x="586154" y="251209"/>
                    <a:pt x="579224" y="226160"/>
                    <a:pt x="592853" y="211016"/>
                  </a:cubicBezTo>
                  <a:cubicBezTo>
                    <a:pt x="699634" y="92371"/>
                    <a:pt x="644451" y="241980"/>
                    <a:pt x="733530" y="130629"/>
                  </a:cubicBezTo>
                  <a:cubicBezTo>
                    <a:pt x="822793" y="19048"/>
                    <a:pt x="783585" y="60476"/>
                    <a:pt x="844061" y="0"/>
                  </a:cubicBezTo>
                  <a:cubicBezTo>
                    <a:pt x="857459" y="16747"/>
                    <a:pt x="873839" y="31494"/>
                    <a:pt x="884255" y="50242"/>
                  </a:cubicBezTo>
                  <a:cubicBezTo>
                    <a:pt x="890962" y="62314"/>
                    <a:pt x="888863" y="77742"/>
                    <a:pt x="894303" y="90436"/>
                  </a:cubicBezTo>
                  <a:cubicBezTo>
                    <a:pt x="901717" y="107736"/>
                    <a:pt x="930060" y="141069"/>
                    <a:pt x="944545" y="150726"/>
                  </a:cubicBezTo>
                  <a:cubicBezTo>
                    <a:pt x="953358" y="156601"/>
                    <a:pt x="964642" y="157425"/>
                    <a:pt x="974690" y="160774"/>
                  </a:cubicBezTo>
                  <a:cubicBezTo>
                    <a:pt x="1014463" y="187290"/>
                    <a:pt x="1014749" y="198540"/>
                    <a:pt x="1075174" y="160774"/>
                  </a:cubicBezTo>
                  <a:cubicBezTo>
                    <a:pt x="1084156" y="155160"/>
                    <a:pt x="1079967" y="139825"/>
                    <a:pt x="1085222" y="130629"/>
                  </a:cubicBezTo>
                  <a:cubicBezTo>
                    <a:pt x="1093531" y="116088"/>
                    <a:pt x="1105633" y="104064"/>
                    <a:pt x="1115367" y="90436"/>
                  </a:cubicBezTo>
                  <a:cubicBezTo>
                    <a:pt x="1122387" y="80609"/>
                    <a:pt x="1126924" y="68830"/>
                    <a:pt x="1135464" y="60290"/>
                  </a:cubicBezTo>
                  <a:cubicBezTo>
                    <a:pt x="1144003" y="51751"/>
                    <a:pt x="1155561" y="46893"/>
                    <a:pt x="1165609" y="40194"/>
                  </a:cubicBezTo>
                  <a:cubicBezTo>
                    <a:pt x="1185706" y="43543"/>
                    <a:pt x="1207281" y="41967"/>
                    <a:pt x="1225899" y="50242"/>
                  </a:cubicBezTo>
                  <a:cubicBezTo>
                    <a:pt x="1277693" y="73261"/>
                    <a:pt x="1241049" y="83016"/>
                    <a:pt x="1266092" y="120581"/>
                  </a:cubicBezTo>
                  <a:cubicBezTo>
                    <a:pt x="1272791" y="130629"/>
                    <a:pt x="1286189" y="133978"/>
                    <a:pt x="1296237" y="140677"/>
                  </a:cubicBezTo>
                  <a:cubicBezTo>
                    <a:pt x="1299587" y="150725"/>
                    <a:pt x="1295776" y="169508"/>
                    <a:pt x="1306286" y="170822"/>
                  </a:cubicBezTo>
                  <a:cubicBezTo>
                    <a:pt x="1314657" y="171868"/>
                    <a:pt x="1384832" y="147990"/>
                    <a:pt x="1406769" y="140677"/>
                  </a:cubicBezTo>
                  <a:cubicBezTo>
                    <a:pt x="1420167" y="130629"/>
                    <a:pt x="1431984" y="118022"/>
                    <a:pt x="1446963" y="110532"/>
                  </a:cubicBezTo>
                  <a:cubicBezTo>
                    <a:pt x="1465910" y="101059"/>
                    <a:pt x="1487156" y="97135"/>
                    <a:pt x="1507253" y="90436"/>
                  </a:cubicBezTo>
                  <a:lnTo>
                    <a:pt x="1567543" y="70339"/>
                  </a:lnTo>
                  <a:cubicBezTo>
                    <a:pt x="1577591" y="66989"/>
                    <a:pt x="1587412" y="62859"/>
                    <a:pt x="1597688" y="60290"/>
                  </a:cubicBezTo>
                  <a:lnTo>
                    <a:pt x="1637881" y="50242"/>
                  </a:lnTo>
                  <a:cubicBezTo>
                    <a:pt x="1671844" y="58732"/>
                    <a:pt x="1688908" y="55674"/>
                    <a:pt x="1708220" y="90436"/>
                  </a:cubicBezTo>
                  <a:cubicBezTo>
                    <a:pt x="1718508" y="108954"/>
                    <a:pt x="1721617" y="130629"/>
                    <a:pt x="1728316" y="150726"/>
                  </a:cubicBezTo>
                  <a:cubicBezTo>
                    <a:pt x="1731665" y="160774"/>
                    <a:pt x="1729552" y="174996"/>
                    <a:pt x="1738365" y="180871"/>
                  </a:cubicBezTo>
                  <a:lnTo>
                    <a:pt x="1768510" y="200967"/>
                  </a:lnTo>
                  <a:cubicBezTo>
                    <a:pt x="1788607" y="187569"/>
                    <a:pt x="1805886" y="168412"/>
                    <a:pt x="1828800" y="160774"/>
                  </a:cubicBezTo>
                  <a:cubicBezTo>
                    <a:pt x="1838848" y="157425"/>
                    <a:pt x="1849210" y="154898"/>
                    <a:pt x="1858945" y="150726"/>
                  </a:cubicBezTo>
                  <a:cubicBezTo>
                    <a:pt x="1872713" y="144825"/>
                    <a:pt x="1885113" y="135889"/>
                    <a:pt x="1899138" y="130629"/>
                  </a:cubicBezTo>
                  <a:cubicBezTo>
                    <a:pt x="1912069" y="125780"/>
                    <a:pt x="1925934" y="123930"/>
                    <a:pt x="1939332" y="120581"/>
                  </a:cubicBezTo>
                  <a:cubicBezTo>
                    <a:pt x="1959429" y="127280"/>
                    <a:pt x="1979071" y="135539"/>
                    <a:pt x="1999622" y="140677"/>
                  </a:cubicBezTo>
                  <a:cubicBezTo>
                    <a:pt x="2013020" y="144027"/>
                    <a:pt x="2027973" y="143621"/>
                    <a:pt x="2039815" y="150726"/>
                  </a:cubicBezTo>
                  <a:cubicBezTo>
                    <a:pt x="2046237" y="154579"/>
                    <a:pt x="2046514" y="164123"/>
                    <a:pt x="2049864" y="170822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1"/>
          <p:cNvSpPr/>
          <p:nvPr/>
        </p:nvSpPr>
        <p:spPr>
          <a:xfrm>
            <a:off x="330120" y="304920"/>
            <a:ext cx="82868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Suppose U implements (say) a computationally-universal, reversible cellular automaton.  Then after t=exp(n) iterations, 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 is superpolynomial in n, unless something very unlikely happens with complexity classes (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/po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343080" y="2577960"/>
            <a:ext cx="8288280" cy="19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oof Sketch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I proved in 2004 that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Suppo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C(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)=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O(1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.  Then we could give a description of C as advice to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ostBQ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machine, and the machine could efficiently prep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3200400" y="4038480"/>
                <a:ext cx="5097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  <m:r>
                      <m:t xml:space="preserve">⊗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1"/>
          <p:cNvSpPr/>
          <p:nvPr/>
        </p:nvSpPr>
        <p:spPr>
          <a:xfrm>
            <a:off x="343080" y="5410080"/>
            <a:ext cx="849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machine could then measure the first register, postselect on some 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of interest, then measure the second register to learn 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|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—thereby solving a </a:t>
            </a:r>
            <a:r>
              <a:rPr b="1" lang="en-US" sz="2600" spc="-1" strike="noStrike">
                <a:solidFill>
                  <a:srgbClr val="7030a0"/>
                </a:solidFill>
                <a:latin typeface="Calibri"/>
                <a:ea typeface="Arial"/>
              </a:rPr>
              <a:t>PSPA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1219320" y="3733920"/>
            <a:ext cx="6172200" cy="20678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Also have results for approximate circuit complexity,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exp(n), and mo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ote that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som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omplexity assumption must be made to lower-bound C(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155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Arial"/>
              </a:rPr>
              <a:t>A Favorite Researc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1"/>
          <p:cNvSpPr/>
          <p:nvPr/>
        </p:nvSpPr>
        <p:spPr>
          <a:xfrm>
            <a:off x="380880" y="838080"/>
            <a:ext cx="85899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nderstand, more systematically, the quantum circuit complexity of preparing n-qubit states and applying unitary transformations 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“not just for quantum gravity!  also for quantum algorithms, quantum money, and so much mo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 ques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every n-qubit unitary U, is there a Boolean function f such that U can be realized by a polynomial-time quantum algorithm with an oracle for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2066760" y="41036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I’m giving you an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computatio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f you could possibly want—but it’s still far from obvious how to get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apability U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361800" y="5338800"/>
            <a:ext cx="842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asy to show: For every n-qubi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there’s a Boolean function f such that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be prepared by a polynomial-time quantum algorithm with an oracle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1"/>
          <p:cNvSpPr/>
          <p:nvPr/>
        </p:nvSpPr>
        <p:spPr>
          <a:xfrm>
            <a:off x="1600200" y="3581280"/>
            <a:ext cx="5486400" cy="916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Connections between black hole firewalls and quantum money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16080" y="38088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lack Holes and Computational Complexit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ubtitle 4"/>
          <p:cNvSpPr/>
          <p:nvPr/>
        </p:nvSpPr>
        <p:spPr>
          <a:xfrm>
            <a:off x="228600" y="4800600"/>
            <a:ext cx="8663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Y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azing connection made in 2013 by Harlow &amp; Hay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first, let’s review 40 years of black hol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http://www.physics.ntua.gr/~lpapa/images/black_hole.jpg"/>
          <p:cNvPicPr/>
          <p:nvPr/>
        </p:nvPicPr>
        <p:blipFill>
          <a:blip r:embed="rId1"/>
          <a:stretch/>
        </p:blipFill>
        <p:spPr>
          <a:xfrm>
            <a:off x="743040" y="1981080"/>
            <a:ext cx="3506760" cy="2514600"/>
          </a:xfrm>
          <a:prstGeom prst="rect">
            <a:avLst/>
          </a:prstGeom>
          <a:ln w="0">
            <a:noFill/>
          </a:ln>
        </p:spPr>
      </p:pic>
      <p:sp>
        <p:nvSpPr>
          <p:cNvPr id="138" name="Subtitle 4"/>
          <p:cNvSpPr/>
          <p:nvPr/>
        </p:nvSpPr>
        <p:spPr>
          <a:xfrm>
            <a:off x="5489640" y="31496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ubtitle 4"/>
          <p:cNvSpPr/>
          <p:nvPr/>
        </p:nvSpPr>
        <p:spPr>
          <a:xfrm>
            <a:off x="6686640" y="256068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SZ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ubtitle 4"/>
          <p:cNvSpPr/>
          <p:nvPr/>
        </p:nvSpPr>
        <p:spPr>
          <a:xfrm>
            <a:off x="5477040" y="4014720"/>
            <a:ext cx="10569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ubtitle 4"/>
          <p:cNvSpPr/>
          <p:nvPr/>
        </p:nvSpPr>
        <p:spPr>
          <a:xfrm>
            <a:off x="6686640" y="349884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BQ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btitle 4"/>
          <p:cNvSpPr/>
          <p:nvPr/>
        </p:nvSpPr>
        <p:spPr>
          <a:xfrm>
            <a:off x="5489640" y="21207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2"/>
          <p:cNvSpPr/>
          <p:nvPr/>
        </p:nvSpPr>
        <p:spPr>
          <a:xfrm>
            <a:off x="6019920" y="2560680"/>
            <a:ext cx="0" cy="58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3"/>
          <p:cNvSpPr/>
          <p:nvPr/>
        </p:nvSpPr>
        <p:spPr>
          <a:xfrm>
            <a:off x="6005520" y="3597120"/>
            <a:ext cx="0" cy="56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8"/>
          <p:cNvSpPr/>
          <p:nvPr/>
        </p:nvSpPr>
        <p:spPr>
          <a:xfrm>
            <a:off x="7216920" y="3038400"/>
            <a:ext cx="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9"/>
          <p:cNvSpPr/>
          <p:nvPr/>
        </p:nvSpPr>
        <p:spPr>
          <a:xfrm flipH="1">
            <a:off x="6275160" y="296064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21"/>
          <p:cNvSpPr/>
          <p:nvPr/>
        </p:nvSpPr>
        <p:spPr>
          <a:xfrm flipH="1">
            <a:off x="6281640" y="3881520"/>
            <a:ext cx="53352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ubtitle 4"/>
          <p:cNvSpPr/>
          <p:nvPr/>
        </p:nvSpPr>
        <p:spPr>
          <a:xfrm>
            <a:off x="6686640" y="1623960"/>
            <a:ext cx="10587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Calibri"/>
              </a:rPr>
              <a:t>Q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23"/>
          <p:cNvSpPr/>
          <p:nvPr/>
        </p:nvSpPr>
        <p:spPr>
          <a:xfrm>
            <a:off x="7216920" y="2065320"/>
            <a:ext cx="0" cy="58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4"/>
          <p:cNvSpPr/>
          <p:nvPr/>
        </p:nvSpPr>
        <p:spPr>
          <a:xfrm flipH="1">
            <a:off x="6294240" y="1981080"/>
            <a:ext cx="533160" cy="27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ubtitle 4"/>
          <p:cNvSpPr/>
          <p:nvPr/>
        </p:nvSpPr>
        <p:spPr>
          <a:xfrm>
            <a:off x="328680" y="304920"/>
            <a:ext cx="8510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ekenstein, Hawking 1970s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Black holes have entropy and temperature!  They emit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Information Loss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Calculations suggest that Hawking radiation is thermal—uncorrelated with whatever fell in.  So, is infalling information lost forever?  Would seem to violate the unitarity / reversibility of Q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K then, assume the information somehow gets ou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The Xeroxing Problem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How could the same qubit 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fall inexorably toward the singularity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emerge in Hawking radiation?  Would violate the No-Cloning Theo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Calibri"/>
              </a:rPr>
              <a:t>Black Hole Complementarity (Susskind, ‘t Hooft)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An external observer can describe everything unitarily without including the interior at all!  Interior should be seen as “just a scrambled re-encoding” of the exterior degrees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www.spacetelescope.org/static/archives/images/screen/heic0211h.jpg"/>
          <p:cNvPicPr/>
          <p:nvPr/>
        </p:nvPicPr>
        <p:blipFill>
          <a:blip r:embed="rId1"/>
          <a:stretch/>
        </p:blipFill>
        <p:spPr>
          <a:xfrm>
            <a:off x="0" y="-461880"/>
            <a:ext cx="9144000" cy="7319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1"/>
          <p:cNvSpPr/>
          <p:nvPr/>
        </p:nvSpPr>
        <p:spPr>
          <a:xfrm>
            <a:off x="380880" y="5562720"/>
            <a:ext cx="8305920" cy="1007640"/>
          </a:xfrm>
          <a:prstGeom prst="rect">
            <a:avLst/>
          </a:prstGeom>
          <a:solidFill>
            <a:srgbClr val="ffffbb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Violates monogamy of entanglement!  The same qubit can’t be maximally entangled with 2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228600" y="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The Firewall Paradox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AMPS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3352680" y="1981080"/>
            <a:ext cx="251460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2666880" y="1295280"/>
            <a:ext cx="3886200" cy="3886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1"/>
          <p:cNvSpPr/>
          <p:nvPr/>
        </p:nvSpPr>
        <p:spPr>
          <a:xfrm>
            <a:off x="3733920" y="2590920"/>
            <a:ext cx="1752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H = Interior of “Old” Black 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228600" y="838080"/>
            <a:ext cx="480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R = Faraway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2057400" y="1523880"/>
            <a:ext cx="533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  <a:ea typeface="Arial"/>
              </a:rPr>
              <a:t>B = Just-Emitted Hawking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6"/>
          <p:cNvSpPr/>
          <p:nvPr/>
        </p:nvSpPr>
        <p:spPr>
          <a:xfrm flipH="1" rot="4500000">
            <a:off x="3800880" y="340848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6"/>
          <p:cNvSpPr/>
          <p:nvPr/>
        </p:nvSpPr>
        <p:spPr>
          <a:xfrm flipH="1" rot="5400000">
            <a:off x="2262240" y="2613600"/>
            <a:ext cx="304920" cy="1477800"/>
          </a:xfrm>
          <a:custGeom>
            <a:avLst/>
            <a:gdLst>
              <a:gd name="textAreaLeft" fmla="*/ -360 w 304920"/>
              <a:gd name="textAreaRight" fmla="*/ 304920 w 3049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420" h="5644">
                <a:moveTo>
                  <a:pt x="210" y="5631"/>
                </a:moveTo>
                <a:lnTo>
                  <a:pt x="210" y="5644"/>
                </a:lnTo>
                <a:lnTo>
                  <a:pt x="300" y="5612"/>
                </a:lnTo>
                <a:lnTo>
                  <a:pt x="367" y="5533"/>
                </a:lnTo>
                <a:lnTo>
                  <a:pt x="406" y="5419"/>
                </a:lnTo>
                <a:lnTo>
                  <a:pt x="420" y="5292"/>
                </a:lnTo>
                <a:lnTo>
                  <a:pt x="406" y="5162"/>
                </a:lnTo>
                <a:lnTo>
                  <a:pt x="367" y="5050"/>
                </a:lnTo>
                <a:lnTo>
                  <a:pt x="300" y="4970"/>
                </a:lnTo>
                <a:lnTo>
                  <a:pt x="210" y="4941"/>
                </a:lnTo>
                <a:lnTo>
                  <a:pt x="118" y="4909"/>
                </a:lnTo>
                <a:lnTo>
                  <a:pt x="52" y="4830"/>
                </a:lnTo>
                <a:lnTo>
                  <a:pt x="13" y="4716"/>
                </a:lnTo>
                <a:lnTo>
                  <a:pt x="0" y="4588"/>
                </a:lnTo>
                <a:lnTo>
                  <a:pt x="13" y="4458"/>
                </a:lnTo>
                <a:lnTo>
                  <a:pt x="52" y="4344"/>
                </a:lnTo>
                <a:lnTo>
                  <a:pt x="118" y="4264"/>
                </a:lnTo>
                <a:lnTo>
                  <a:pt x="210" y="4235"/>
                </a:lnTo>
                <a:lnTo>
                  <a:pt x="300" y="4203"/>
                </a:lnTo>
                <a:lnTo>
                  <a:pt x="367" y="4124"/>
                </a:lnTo>
                <a:lnTo>
                  <a:pt x="406" y="4010"/>
                </a:lnTo>
                <a:lnTo>
                  <a:pt x="420" y="3883"/>
                </a:lnTo>
                <a:lnTo>
                  <a:pt x="406" y="3753"/>
                </a:lnTo>
                <a:lnTo>
                  <a:pt x="367" y="3641"/>
                </a:lnTo>
                <a:lnTo>
                  <a:pt x="300" y="3561"/>
                </a:lnTo>
                <a:lnTo>
                  <a:pt x="210" y="3532"/>
                </a:lnTo>
                <a:lnTo>
                  <a:pt x="118" y="3500"/>
                </a:lnTo>
                <a:lnTo>
                  <a:pt x="52" y="3421"/>
                </a:lnTo>
                <a:lnTo>
                  <a:pt x="13" y="3307"/>
                </a:lnTo>
                <a:lnTo>
                  <a:pt x="0" y="3180"/>
                </a:lnTo>
                <a:lnTo>
                  <a:pt x="13" y="3050"/>
                </a:lnTo>
                <a:lnTo>
                  <a:pt x="52" y="2938"/>
                </a:lnTo>
                <a:lnTo>
                  <a:pt x="118" y="2857"/>
                </a:lnTo>
                <a:lnTo>
                  <a:pt x="210" y="2829"/>
                </a:lnTo>
                <a:lnTo>
                  <a:pt x="300" y="2796"/>
                </a:lnTo>
                <a:lnTo>
                  <a:pt x="367" y="2718"/>
                </a:lnTo>
                <a:lnTo>
                  <a:pt x="406" y="2604"/>
                </a:lnTo>
                <a:lnTo>
                  <a:pt x="420" y="2475"/>
                </a:lnTo>
                <a:lnTo>
                  <a:pt x="406" y="2345"/>
                </a:lnTo>
                <a:lnTo>
                  <a:pt x="367" y="2233"/>
                </a:lnTo>
                <a:lnTo>
                  <a:pt x="300" y="2153"/>
                </a:lnTo>
                <a:lnTo>
                  <a:pt x="210" y="2124"/>
                </a:lnTo>
                <a:lnTo>
                  <a:pt x="118" y="2092"/>
                </a:lnTo>
                <a:lnTo>
                  <a:pt x="52" y="2013"/>
                </a:lnTo>
                <a:lnTo>
                  <a:pt x="13" y="1899"/>
                </a:lnTo>
                <a:lnTo>
                  <a:pt x="0" y="1772"/>
                </a:lnTo>
                <a:lnTo>
                  <a:pt x="13" y="1642"/>
                </a:lnTo>
                <a:lnTo>
                  <a:pt x="52" y="1530"/>
                </a:lnTo>
                <a:lnTo>
                  <a:pt x="118" y="1450"/>
                </a:lnTo>
                <a:lnTo>
                  <a:pt x="210" y="1421"/>
                </a:lnTo>
                <a:lnTo>
                  <a:pt x="300" y="1389"/>
                </a:lnTo>
                <a:lnTo>
                  <a:pt x="367" y="1310"/>
                </a:lnTo>
                <a:lnTo>
                  <a:pt x="406" y="1196"/>
                </a:lnTo>
                <a:lnTo>
                  <a:pt x="420" y="1069"/>
                </a:lnTo>
                <a:lnTo>
                  <a:pt x="406" y="939"/>
                </a:lnTo>
                <a:lnTo>
                  <a:pt x="367" y="827"/>
                </a:lnTo>
                <a:lnTo>
                  <a:pt x="300" y="747"/>
                </a:lnTo>
                <a:lnTo>
                  <a:pt x="210" y="718"/>
                </a:lnTo>
                <a:lnTo>
                  <a:pt x="118" y="686"/>
                </a:lnTo>
                <a:lnTo>
                  <a:pt x="52" y="607"/>
                </a:lnTo>
                <a:lnTo>
                  <a:pt x="13" y="493"/>
                </a:lnTo>
                <a:lnTo>
                  <a:pt x="0" y="365"/>
                </a:lnTo>
                <a:lnTo>
                  <a:pt x="13" y="235"/>
                </a:lnTo>
                <a:lnTo>
                  <a:pt x="52" y="121"/>
                </a:lnTo>
                <a:lnTo>
                  <a:pt x="118" y="40"/>
                </a:lnTo>
                <a:lnTo>
                  <a:pt x="210" y="12"/>
                </a:lnTo>
                <a:lnTo>
                  <a:pt x="210" y="0"/>
                </a:lnTo>
                <a:lnTo>
                  <a:pt x="118" y="29"/>
                </a:lnTo>
                <a:lnTo>
                  <a:pt x="52" y="110"/>
                </a:lnTo>
                <a:lnTo>
                  <a:pt x="13" y="222"/>
                </a:lnTo>
                <a:lnTo>
                  <a:pt x="0" y="352"/>
                </a:lnTo>
                <a:lnTo>
                  <a:pt x="13" y="479"/>
                </a:lnTo>
                <a:lnTo>
                  <a:pt x="52" y="593"/>
                </a:lnTo>
                <a:lnTo>
                  <a:pt x="118" y="671"/>
                </a:lnTo>
                <a:lnTo>
                  <a:pt x="210" y="703"/>
                </a:lnTo>
                <a:lnTo>
                  <a:pt x="300" y="732"/>
                </a:lnTo>
                <a:lnTo>
                  <a:pt x="367" y="813"/>
                </a:lnTo>
                <a:lnTo>
                  <a:pt x="406" y="925"/>
                </a:lnTo>
                <a:lnTo>
                  <a:pt x="420" y="1055"/>
                </a:lnTo>
                <a:lnTo>
                  <a:pt x="406" y="1183"/>
                </a:lnTo>
                <a:lnTo>
                  <a:pt x="367" y="1297"/>
                </a:lnTo>
                <a:lnTo>
                  <a:pt x="300" y="1376"/>
                </a:lnTo>
                <a:lnTo>
                  <a:pt x="210" y="1408"/>
                </a:lnTo>
                <a:lnTo>
                  <a:pt x="118" y="1437"/>
                </a:lnTo>
                <a:lnTo>
                  <a:pt x="52" y="1517"/>
                </a:lnTo>
                <a:lnTo>
                  <a:pt x="13" y="1630"/>
                </a:lnTo>
                <a:lnTo>
                  <a:pt x="0" y="1760"/>
                </a:lnTo>
                <a:lnTo>
                  <a:pt x="13" y="1886"/>
                </a:lnTo>
                <a:lnTo>
                  <a:pt x="52" y="2000"/>
                </a:lnTo>
                <a:lnTo>
                  <a:pt x="118" y="2079"/>
                </a:lnTo>
                <a:lnTo>
                  <a:pt x="210" y="2111"/>
                </a:lnTo>
                <a:lnTo>
                  <a:pt x="300" y="2140"/>
                </a:lnTo>
                <a:lnTo>
                  <a:pt x="367" y="2220"/>
                </a:lnTo>
                <a:lnTo>
                  <a:pt x="406" y="2333"/>
                </a:lnTo>
                <a:lnTo>
                  <a:pt x="420" y="2463"/>
                </a:lnTo>
                <a:lnTo>
                  <a:pt x="406" y="2591"/>
                </a:lnTo>
                <a:lnTo>
                  <a:pt x="367" y="2705"/>
                </a:lnTo>
                <a:lnTo>
                  <a:pt x="300" y="2784"/>
                </a:lnTo>
                <a:lnTo>
                  <a:pt x="210" y="2816"/>
                </a:lnTo>
                <a:lnTo>
                  <a:pt x="118" y="2845"/>
                </a:lnTo>
                <a:lnTo>
                  <a:pt x="52" y="2925"/>
                </a:lnTo>
                <a:lnTo>
                  <a:pt x="13" y="3037"/>
                </a:lnTo>
                <a:lnTo>
                  <a:pt x="0" y="3167"/>
                </a:lnTo>
                <a:lnTo>
                  <a:pt x="13" y="3296"/>
                </a:lnTo>
                <a:lnTo>
                  <a:pt x="52" y="3410"/>
                </a:lnTo>
                <a:lnTo>
                  <a:pt x="118" y="3488"/>
                </a:lnTo>
                <a:lnTo>
                  <a:pt x="210" y="3520"/>
                </a:lnTo>
                <a:lnTo>
                  <a:pt x="300" y="3549"/>
                </a:lnTo>
                <a:lnTo>
                  <a:pt x="367" y="3630"/>
                </a:lnTo>
                <a:lnTo>
                  <a:pt x="406" y="3742"/>
                </a:lnTo>
                <a:lnTo>
                  <a:pt x="420" y="3872"/>
                </a:lnTo>
                <a:lnTo>
                  <a:pt x="406" y="3999"/>
                </a:lnTo>
                <a:lnTo>
                  <a:pt x="367" y="4113"/>
                </a:lnTo>
                <a:lnTo>
                  <a:pt x="300" y="4191"/>
                </a:lnTo>
                <a:lnTo>
                  <a:pt x="210" y="4223"/>
                </a:lnTo>
                <a:lnTo>
                  <a:pt x="118" y="4252"/>
                </a:lnTo>
                <a:lnTo>
                  <a:pt x="52" y="4333"/>
                </a:lnTo>
                <a:lnTo>
                  <a:pt x="13" y="4445"/>
                </a:lnTo>
                <a:lnTo>
                  <a:pt x="0" y="4575"/>
                </a:lnTo>
                <a:lnTo>
                  <a:pt x="13" y="4703"/>
                </a:lnTo>
                <a:lnTo>
                  <a:pt x="52" y="4817"/>
                </a:lnTo>
                <a:lnTo>
                  <a:pt x="118" y="4896"/>
                </a:lnTo>
                <a:lnTo>
                  <a:pt x="210" y="4928"/>
                </a:lnTo>
                <a:lnTo>
                  <a:pt x="300" y="4957"/>
                </a:lnTo>
                <a:lnTo>
                  <a:pt x="367" y="5037"/>
                </a:lnTo>
                <a:lnTo>
                  <a:pt x="406" y="5150"/>
                </a:lnTo>
                <a:lnTo>
                  <a:pt x="420" y="5280"/>
                </a:lnTo>
                <a:lnTo>
                  <a:pt x="406" y="5406"/>
                </a:lnTo>
                <a:lnTo>
                  <a:pt x="367" y="5520"/>
                </a:lnTo>
                <a:lnTo>
                  <a:pt x="300" y="5599"/>
                </a:lnTo>
                <a:lnTo>
                  <a:pt x="210" y="5631"/>
                </a:lnTo>
                <a:close/>
              </a:path>
            </a:pathLst>
          </a:custGeom>
          <a:solidFill>
            <a:srgbClr val="fff5cf"/>
          </a:solidFill>
          <a:ln w="38160">
            <a:solidFill>
              <a:srgbClr val="ffd4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alice"/>
          <p:cNvPicPr/>
          <p:nvPr/>
        </p:nvPicPr>
        <p:blipFill>
          <a:blip r:embed="rId2"/>
          <a:stretch/>
        </p:blipFill>
        <p:spPr>
          <a:xfrm>
            <a:off x="609480" y="152388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1"/>
          <p:cNvSpPr/>
          <p:nvPr/>
        </p:nvSpPr>
        <p:spPr>
          <a:xfrm>
            <a:off x="380880" y="35053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3048120" y="434340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Also near-maximal entang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C:\Users\owner\AppData\Local\Microsoft\Windows\Temporary Internet Files\Content.IE5\V550YIX2\MP900438774[1].jpg"/>
          <p:cNvPicPr/>
          <p:nvPr/>
        </p:nvPicPr>
        <p:blipFill>
          <a:blip r:embed="rId3"/>
          <a:stretch/>
        </p:blipFill>
        <p:spPr>
          <a:xfrm>
            <a:off x="2895480" y="24256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19948 0.0757 E">
                                      <p:cBhvr>
                                        <p:cTn id="5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48 0.0757 L 0.32448 0.12014 E">
                                      <p:cBhvr>
                                        <p:cTn id="6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0.27448 0.13125 E">
                                      <p:cBhvr>
                                        <p:cTn id="7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1"/>
          <p:cNvSpPr/>
          <p:nvPr/>
        </p:nvSpPr>
        <p:spPr>
          <a:xfrm>
            <a:off x="304920" y="38088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arlow-Hayden 2013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(arXiv:1301.4504):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iking argument that Alice’s first task, decoding the entanglement between R and B, would take exponential time—by which point, the black hole would’ve long ago evaporated anyway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Complexity theory to the rescue of quantum field the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314280" y="3809880"/>
            <a:ext cx="8534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re we saying that an inconsistency in the laws of physics is OK, as long as it takes exponential time to discover it?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onsistency” is only in low-energy effective field theories; question is in what regimes they brea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1"/>
          <p:cNvSpPr/>
          <p:nvPr/>
        </p:nvSpPr>
        <p:spPr>
          <a:xfrm>
            <a:off x="609480" y="1295280"/>
            <a:ext cx="83059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description of a quantum circuit C,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mised that, by ac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R (the “Hawking radiation part”), it’s possible to distill an EPR p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istill such an EPR pair, by applying a unitary transformation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the qubits in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Decod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"/>
              <p:cNvSpPr txBox="1"/>
              <p:nvPr/>
            </p:nvSpPr>
            <p:spPr>
              <a:xfrm>
                <a:off x="3537000" y="3581280"/>
                <a:ext cx="19400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3414600" y="1828800"/>
                <a:ext cx="2424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0</m:t>
                    </m:r>
                    <m:sSup>
                      <m:e>
                        <m:r>
                          <m:t xml:space="preserve">⟩</m:t>
                        </m:r>
                      </m:e>
                      <m:sup>
                        <m:r>
                          <m:t xml:space="preserve">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1"/>
          <p:cNvSpPr/>
          <p:nvPr/>
        </p:nvSpPr>
        <p:spPr>
          <a:xfrm>
            <a:off x="533520" y="2362320"/>
            <a:ext cx="83055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would require waiting until the black hole was fully evaporated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 no more firewall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the BH is “merely” &gt;50% evaporated, we know from a dimension-counting argument that “generically,” there will exist a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at distills an EPR pair between R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t interestingly, this argument doesn’t suggest any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efficient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o find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r a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sn’t the Decoding Task Triv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533520" y="13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invert 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1"/>
          <p:cNvSpPr/>
          <p:nvPr/>
        </p:nvSpPr>
        <p:spPr>
          <a:xfrm>
            <a:off x="380880" y="1295280"/>
            <a:ext cx="85345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et Equalit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two efficiently-computable injective functions f,g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Promised that Range(f) and Range(g) are either equal or disjoint.  Decide wh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the black-box setting, this problem tak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time even with a quantum computer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(tight result by Zhandry; variant of the collision lower bou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Even in non-black-box setting, would let us solve e.g. Graph Iso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Theorem (Harlow-Hayden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uppose there’s a polynomial-time quantum algorithm for HH decoding.  Then there’s also a polynomial-time quantum algorithm for Set Equa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31608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Hardness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1"/>
          <p:cNvSpPr/>
          <p:nvPr/>
        </p:nvSpPr>
        <p:spPr>
          <a:xfrm>
            <a:off x="325440" y="2514600"/>
            <a:ext cx="85899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ntui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Range(f) and Range(g) are disjoint, then the H register decoheres all entanglement between R and B, leaving only classical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, on the other hand, Range(f)=Range(g), then ther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ermutation of the |x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ates that puts the last qubit of R into an EPR pair with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us, if we had a reliable way to distill EPR pairs whenever possible, then we could also decide Set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3012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The HH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"/>
              <p:cNvSpPr txBox="1"/>
              <p:nvPr/>
            </p:nvSpPr>
            <p:spPr>
              <a:xfrm>
                <a:off x="325440" y="1030320"/>
                <a:ext cx="8543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⟩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B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ra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0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⟩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Subtitle 4"/>
          <p:cNvSpPr/>
          <p:nvPr/>
        </p:nvSpPr>
        <p:spPr>
          <a:xfrm>
            <a:off x="2720880" y="1905120"/>
            <a:ext cx="617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easy to prepare in poly(n) time given f,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</cp:lastModifiedBy>
  <dcterms:modified xsi:type="dcterms:W3CDTF">2015-09-30T14:23:38Z</dcterms:modified>
  <cp:revision>447</cp:revision>
  <dc:subject/>
  <dc:title>The Future of Computer Science</dc:title>
</cp:coreProperties>
</file>