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jpeg" ContentType="image/jpeg"/>
  <Override PartName="/ppt/media/image20.wmf" ContentType="image/x-wmf"/>
  <Override PartName="/ppt/media/image4.png" ContentType="image/png"/>
  <Override PartName="/ppt/media/image19.wmf" ContentType="image/x-wmf"/>
  <Override PartName="/ppt/media/image16.gif" ContentType="image/gif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A4A-2C36-4A73-B233-BC17C449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555-D367-4207-A3D3-6430C06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5B5-458E-4506-9DA4-690D3CBF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052-06F0-44CF-8641-2E6C13A8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E5D-22EF-46F3-B768-36A9D13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0FB-A26B-40F4-947D-32241F1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649-F111-47F8-9D71-7FE22E88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2CD-02AA-45D1-AB40-85A731F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549-C86D-49AA-986A-D3DA98A9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585-78F8-46F0-AFB6-0DC538E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562-5627-4C9E-AA21-4A94305B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677-FAE9-4D4D-A1CB-690698C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C49-620C-4FF0-AED9-8141ABED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9880" y="437760"/>
            <a:ext cx="6527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n Invitation to Quantum Complexity Theory</a:t>
            </a:r>
            <a:br>
              <a:rPr sz="40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Study of What We Can’t Do With Computers We Don’t Hav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8400" y="2506320"/>
            <a:ext cx="57466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IP08, New Del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00120" y="1424160"/>
            <a:ext cx="12361680" cy="6343560"/>
          </a:xfrm>
          <a:custGeom>
            <a:avLst/>
            <a:gdLst/>
            <a:ahLst/>
            <a:rect l="l" t="t" r="r" b="b"/>
            <a:pathLst>
              <a:path w="7787" h="3996">
                <a:moveTo>
                  <a:pt x="834" y="3479"/>
                </a:moveTo>
                <a:cubicBezTo>
                  <a:pt x="0" y="3278"/>
                  <a:pt x="1458" y="2383"/>
                  <a:pt x="1828" y="2299"/>
                </a:cubicBezTo>
                <a:cubicBezTo>
                  <a:pt x="2198" y="2215"/>
                  <a:pt x="2644" y="2879"/>
                  <a:pt x="3054" y="2977"/>
                </a:cubicBezTo>
                <a:cubicBezTo>
                  <a:pt x="3464" y="3075"/>
                  <a:pt x="3987" y="3101"/>
                  <a:pt x="4286" y="2887"/>
                </a:cubicBezTo>
                <a:cubicBezTo>
                  <a:pt x="4585" y="2673"/>
                  <a:pt x="4689" y="1926"/>
                  <a:pt x="4847" y="1695"/>
                </a:cubicBezTo>
                <a:cubicBezTo>
                  <a:pt x="5005" y="1464"/>
                  <a:pt x="5067" y="1745"/>
                  <a:pt x="5237" y="1500"/>
                </a:cubicBezTo>
                <a:cubicBezTo>
                  <a:pt x="5407" y="1255"/>
                  <a:pt x="5651" y="386"/>
                  <a:pt x="5869" y="227"/>
                </a:cubicBezTo>
                <a:cubicBezTo>
                  <a:pt x="6087" y="68"/>
                  <a:pt x="6384" y="0"/>
                  <a:pt x="6545" y="547"/>
                </a:cubicBezTo>
                <a:cubicBezTo>
                  <a:pt x="6706" y="1094"/>
                  <a:pt x="7787" y="3018"/>
                  <a:pt x="6835" y="3507"/>
                </a:cubicBezTo>
                <a:cubicBezTo>
                  <a:pt x="5883" y="3996"/>
                  <a:pt x="1661" y="3739"/>
                  <a:pt x="834" y="347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39840" y="4076640"/>
            <a:ext cx="955800" cy="1218600"/>
            <a:chOff x="1239840" y="4076640"/>
            <a:chExt cx="955800" cy="1218600"/>
          </a:xfrm>
        </p:grpSpPr>
        <p:sp>
          <p:nvSpPr>
            <p:cNvPr id="46" name=""/>
            <p:cNvSpPr/>
            <p:nvPr/>
          </p:nvSpPr>
          <p:spPr>
            <a:xfrm flipV="1">
              <a:off x="1450800" y="41032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239840" y="4103640"/>
              <a:ext cx="9558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V="1" rot="5400000">
              <a:off x="1626120" y="4642560"/>
              <a:ext cx="181080" cy="39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200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044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6360" y="4408200"/>
              <a:ext cx="150840" cy="15084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66720" y="4449600"/>
              <a:ext cx="25560" cy="252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19040" y="4360680"/>
              <a:ext cx="5256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808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2880" y="4298760"/>
              <a:ext cx="2556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356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1928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6852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4800" y="4289400"/>
              <a:ext cx="2232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272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116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27080" y="4413240"/>
              <a:ext cx="150840" cy="15048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17800" y="4454280"/>
              <a:ext cx="25200" cy="25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70120" y="4360680"/>
              <a:ext cx="5220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880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3960" y="4298760"/>
              <a:ext cx="2520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1464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7000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1924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55880" y="4289400"/>
              <a:ext cx="2196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716120" y="4076640"/>
              <a:ext cx="264960" cy="5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92280" y="529416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Q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8840" y="2112840"/>
            <a:ext cx="23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70440" y="4044960"/>
            <a:ext cx="156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L -3.05556E-006 -2.22222E-006 E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34880" y="1690560"/>
            <a:ext cx="795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 function f:[N]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{0,1}, suppose we want to know whether there’s an x such that f(x)=1.  How many queries to f are nee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441000"/>
            <a:ext cx="83437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ample Of Something We Can Prove In The Black-Box Mod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8640" y="3182760"/>
            <a:ext cx="79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lassically, it’s obvious the answer is ~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360" y="4005360"/>
            <a:ext cx="744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 the other hand, Grover gave a quantum algorithm that needs only ~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 que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560" y="5200560"/>
            <a:ext cx="795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nett, Bernstein, Brassard, and Vazirani proved that no quantum algorithm can do be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43840" y="3895560"/>
            <a:ext cx="863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34880" y="1087560"/>
            <a:ext cx="795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 periodic function f:[N]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[N], how many queries to f are needed to determine its perio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48760"/>
            <a:ext cx="83437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#2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8640" y="2130480"/>
            <a:ext cx="795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lassically, one can show ~N queries are needed by any deterministic algorithm, and ~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 by any randomized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543480"/>
            <a:ext cx="8089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 the other hand, Shor (building on Simon) gave a quantum algorithm that needs only O(log N) queries.  </a:t>
            </a: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Indeed, this is the core of his facto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800" y="4923000"/>
            <a:ext cx="8089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 quantum query complexity can be exponentially smaller than classical!</a:t>
            </a:r>
            <a:br>
              <a:rPr sz="2600"/>
            </a:b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Beals, Buhrman, Cleve, Mosca, de Wolf: But only if there’s some “promise” on f, like that it’s perio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4880" y="1243080"/>
            <a:ext cx="795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 function f:[N]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[N], how many queries to f are needed to determine whether f is one-to-one or two-to-one?  (Promised that it’s one or the oth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320" y="248760"/>
            <a:ext cx="83437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#3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840" y="2724120"/>
            <a:ext cx="795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lassically, ~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 (by the Birthday Parado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4933800"/>
            <a:ext cx="80899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., Shi: This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Quantum algorithms can’t </a:t>
            </a:r>
            <a:r>
              <a:rPr b="0" i="1" lang="en-CA" sz="2600" spc="-1" strike="noStrike">
                <a:solidFill>
                  <a:srgbClr val="008000"/>
                </a:solidFill>
                <a:latin typeface="Arial"/>
              </a:rPr>
              <a:t>always</a:t>
            </a: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 exploit structure to get exponential speedup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79680"/>
            <a:ext cx="795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combining the Birthday Paradox with Grover’s algorithm, Brassard, 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øyer, and Tapp gave a quantum algorithm that needs only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7040" y="2182680"/>
            <a:ext cx="8094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ly, does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unded-Error Probabilistic Polynomial-Time): Class of problems solvable efficiently with use of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generally believed tha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unded-Error Quantum Polynomial-Time): Class of problems solvable efficiently by a quantu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000" y="33660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n Problem #1: Are quantum computers more powerful than classical computers?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In the “real,” non-black-box worl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7040" y="612720"/>
            <a:ext cx="8094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us believe (hope?) tha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mong other things, because factoring is in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, Bernstein and Vazirani showed tha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you can’t prov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also proving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nd that would be almost as spectacular as proving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9720" y="2674800"/>
            <a:ext cx="844236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ry to almost every popular article ever written on the subject, most of us think the answer is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or “generic” combinatorial optimization problems, the situation seems similar to that of black-box model—where you only get the quadratic speedup of Grover’s algorithm, not an exponential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040" y="208080"/>
            <a:ext cx="862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2: Can Quantum Computers Solve NP-complete Problems In Polynomial Ti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530532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proving this … dude, we can’t even prov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rs can’t solve NP-complete problems in polynomial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6840" y="204300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ly, is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81200" y="616104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Conditional resul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09680" y="1870200"/>
            <a:ext cx="8250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us don’t believ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but what abou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quantum computer solves a problem, is there always a short proof of the solution that would convince a skep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As in the case of factoring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own opinion: Not enough evidence even to conjecture ei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040" y="36360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3: Can Quantum Computers Be Simulated In N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6720" y="1440000"/>
            <a:ext cx="82504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er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olynomial-Time Hierarchy, a generalization of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y constant number of quantifier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ottesman’s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computer solves a problem, c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itse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actively prove the answer to a skeptic (who doesn’t even believe quantum mechan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atter question carries a $25 prize!  See www.scottaaronson.com/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040" y="363600"/>
            <a:ext cx="86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lat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5960" y="1606680"/>
            <a:ext cx="84567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is, does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C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Quantum Merlin-Arthur): A quantum generalization of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of problems for which a “yes” answer can be proved by giving a polynomial-size quantum stat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then checked by a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C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“hybrid” betwee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he proof is classical, but the algorithm verifying it can be quan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: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 problems [Kitaev et al.], “quantum oracle separation” betwee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C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[A.-Kuperberg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280" y="324000"/>
            <a:ext cx="87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4: Are Quantum Proofs More Powerful Than Classical Proof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31920" y="1631880"/>
            <a:ext cx="84693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ame as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xcept now the verifier is giv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proof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are guaranteed to be unentangled with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u, Christandl, and Verstraete gave a problem called “pure state N-representability,” which is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t not known to be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ly A., Beigi, Fefferman, and Shor showed that, if a 3SAT instance of size n is satisfiable, this can be proved using two unentangled proof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polylog n qubits 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040" y="32400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5: Are Two Quantum Proofs More Powerful Than 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10987" r="0" b="0"/>
          <a:stretch/>
        </p:blipFill>
        <p:spPr>
          <a:xfrm rot="20834400">
            <a:off x="258840" y="818640"/>
            <a:ext cx="4368600" cy="155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262200">
            <a:off x="237600" y="3160800"/>
            <a:ext cx="4486320" cy="1123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1190800">
            <a:off x="674640" y="3919320"/>
            <a:ext cx="4086360" cy="165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62080" y="4832280"/>
            <a:ext cx="2576520" cy="65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248400">
            <a:off x="4206960" y="2055600"/>
            <a:ext cx="3882960" cy="36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21034800">
            <a:off x="5264280" y="728280"/>
            <a:ext cx="2941560" cy="14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rot="472200">
            <a:off x="1802880" y="2336760"/>
            <a:ext cx="361476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21196200">
            <a:off x="5275440" y="4971600"/>
            <a:ext cx="3568680" cy="64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rot="721200">
            <a:off x="3501720" y="5195520"/>
            <a:ext cx="5181480" cy="85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190200">
            <a:off x="259920" y="1323720"/>
            <a:ext cx="8586720" cy="90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11"/>
          <a:srcRect l="0" t="0" r="3357" b="0"/>
          <a:stretch/>
        </p:blipFill>
        <p:spPr>
          <a:xfrm rot="21475800">
            <a:off x="290160" y="2914560"/>
            <a:ext cx="8624880" cy="9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2"/>
          <a:srcRect l="0" t="0" r="0" b="11813"/>
          <a:stretch/>
        </p:blipFill>
        <p:spPr>
          <a:xfrm rot="361800">
            <a:off x="284040" y="4610160"/>
            <a:ext cx="8444160" cy="9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3"/>
          <a:srcRect l="9717" t="7186" r="9717" b="7186"/>
          <a:stretch/>
        </p:blipFill>
        <p:spPr>
          <a:xfrm>
            <a:off x="3282840" y="1685880"/>
            <a:ext cx="2460600" cy="353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1280" y="2500200"/>
            <a:ext cx="8339040" cy="3986280"/>
          </a:xfrm>
          <a:prstGeom prst="cloudCallout">
            <a:avLst>
              <a:gd name="adj1" fmla="val -47009"/>
              <a:gd name="adj2" fmla="val 4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o then why can’t we just ignore quantum computing, and get back to re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35000" y="29512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ww.scottaaronson.com/tal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7560" y="1803240"/>
            <a:ext cx="955440" cy="1219320"/>
            <a:chOff x="547560" y="1803240"/>
            <a:chExt cx="955440" cy="1219320"/>
          </a:xfrm>
        </p:grpSpPr>
        <p:sp>
          <p:nvSpPr>
            <p:cNvPr id="169" name=""/>
            <p:cNvSpPr/>
            <p:nvPr/>
          </p:nvSpPr>
          <p:spPr>
            <a:xfrm flipV="1">
              <a:off x="758520" y="1830240"/>
              <a:ext cx="507960" cy="119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47560" y="1830240"/>
              <a:ext cx="9554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16200000">
              <a:off x="933840" y="23706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26760" y="2016000"/>
              <a:ext cx="398160" cy="312480"/>
              <a:chOff x="626760" y="2016000"/>
              <a:chExt cx="398160" cy="312480"/>
            </a:xfrm>
          </p:grpSpPr>
          <p:sp>
            <p:nvSpPr>
              <p:cNvPr id="173" name=""/>
              <p:cNvSpPr/>
              <p:nvPr/>
            </p:nvSpPr>
            <p:spPr>
              <a:xfrm>
                <a:off x="639360" y="2101320"/>
                <a:ext cx="36900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7440" y="2126880"/>
                <a:ext cx="31284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556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3232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676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544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24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7200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2700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552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52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077840" y="2016000"/>
              <a:ext cx="397800" cy="312480"/>
              <a:chOff x="1077840" y="2016000"/>
              <a:chExt cx="397800" cy="31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1090440" y="2101320"/>
                <a:ext cx="36864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18160" y="2126880"/>
                <a:ext cx="31248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9664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8340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7784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3616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0096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2272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7772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2624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6360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V="1">
              <a:off x="1023840" y="1803240"/>
              <a:ext cx="26496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19680" y="1866600"/>
            <a:ext cx="909720" cy="1143360"/>
            <a:chOff x="7519680" y="1866600"/>
            <a:chExt cx="909720" cy="1143360"/>
          </a:xfrm>
        </p:grpSpPr>
        <p:sp>
          <p:nvSpPr>
            <p:cNvPr id="198" name=""/>
            <p:cNvSpPr/>
            <p:nvPr/>
          </p:nvSpPr>
          <p:spPr>
            <a:xfrm flipH="1" flipV="1">
              <a:off x="7754760" y="1892520"/>
              <a:ext cx="47628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flipH="1">
              <a:off x="7519680" y="1892520"/>
              <a:ext cx="909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flipH="1" rot="5400000">
              <a:off x="7887600" y="2392200"/>
              <a:ext cx="1587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997400" y="2146680"/>
              <a:ext cx="344520" cy="212400"/>
              <a:chOff x="7997400" y="2146680"/>
              <a:chExt cx="344520" cy="21240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799704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802332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810144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813852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575120" y="2146680"/>
              <a:ext cx="344520" cy="212400"/>
              <a:chOff x="7575120" y="2146680"/>
              <a:chExt cx="344520" cy="21240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757476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760104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767916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71624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7734240" y="1866600"/>
              <a:ext cx="247680" cy="55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239400"/>
            <a:ext cx="86806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ecause the universe isn’t classical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9720" y="1197000"/>
            <a:ext cx="7696440" cy="3561840"/>
            <a:chOff x="369720" y="1197000"/>
            <a:chExt cx="7696440" cy="3561840"/>
          </a:xfrm>
        </p:grpSpPr>
        <p:sp>
          <p:nvSpPr>
            <p:cNvPr id="91" name=""/>
            <p:cNvSpPr/>
            <p:nvPr/>
          </p:nvSpPr>
          <p:spPr>
            <a:xfrm>
              <a:off x="369720" y="11970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y picture of reality, as an 11-year-old messing around with BASIC programming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76240" y="2206440"/>
              <a:ext cx="6949800" cy="2552400"/>
              <a:chOff x="876240" y="2206440"/>
              <a:chExt cx="6949800" cy="25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6090480" y="3039840"/>
                <a:ext cx="173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 detail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76240" y="2206440"/>
                <a:ext cx="5067720" cy="25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"/>
          <p:cNvSpPr/>
          <p:nvPr/>
        </p:nvSpPr>
        <p:spPr>
          <a:xfrm>
            <a:off x="2284560" y="719280"/>
            <a:ext cx="327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600" y="6058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ncier version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xtended Church-Turing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6080" y="4946760"/>
            <a:ext cx="8475480" cy="1036440"/>
            <a:chOff x="316080" y="4946760"/>
            <a:chExt cx="8475480" cy="1036440"/>
          </a:xfrm>
        </p:grpSpPr>
        <p:sp>
          <p:nvSpPr>
            <p:cNvPr id="98" name=""/>
            <p:cNvSpPr/>
            <p:nvPr/>
          </p:nvSpPr>
          <p:spPr>
            <a:xfrm>
              <a:off x="1258920" y="5135400"/>
              <a:ext cx="753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Also some people’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picture of realit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16080" y="4946760"/>
              <a:ext cx="91440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350640"/>
            <a:ext cx="6929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Shor’s factoring algorithm presents us with a cho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3760" y="2112840"/>
            <a:ext cx="823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ded Church-Turing Thesis is fal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quantum mechanics is fals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n efficient classical factor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4160" y="4110120"/>
            <a:ext cx="682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hree seem like crackpot spe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one of them is 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191280" y="252360"/>
            <a:ext cx="1152360" cy="145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1840" y="155736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3120" y="5369040"/>
            <a:ext cx="7910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008000"/>
                </a:solidFill>
                <a:latin typeface="Arial"/>
              </a:rPr>
              <a:t>In my view, this is why everyone should care about quantum computing, whether or not quantum factoring machines are ever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63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tline of Tal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571760"/>
            <a:ext cx="779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quantum complexity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“black-box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ree examples of what we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ve examples of what we 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4280" y="351000"/>
            <a:ext cx="83440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lexity Theo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160" y="1303200"/>
            <a:ext cx="7959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day, we know fast quantum algorithms to factor integers, compute discrete logarithms, solve certain Diophantine equations, simulate quantum systems … but </a:t>
            </a:r>
            <a:r>
              <a:rPr b="1" lang="en-CA" sz="26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o solve NP-complete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4520" y="3232080"/>
            <a:ext cx="79596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Quantum complexity theory is the field where we step back and 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How much of the classical theory of computation is actually overturned by quantum mechanics?  And how much of it can be salvaged (even if in a strange new quantum form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0520" y="6051600"/>
            <a:ext cx="795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ut first, what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classical theory of comput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4280" y="363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assical Complexity Theo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8160" y="1328760"/>
            <a:ext cx="79599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 polytheistic religion with many local g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EXP   PSPACE   IP   MIP   BPP   RP   ZPP   SL   NC   AC</a:t>
            </a:r>
            <a:r>
              <a:rPr b="1" lang="en-CA" sz="26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   TC</a:t>
            </a:r>
            <a:r>
              <a:rPr b="1" lang="en-CA" sz="26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   MA   AM   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520" y="3036960"/>
            <a:ext cx="7959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ut also some gods everyone pray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Class of problems solvable efficiently on a deterministic classical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Class of problems for which a “yes” answer has a short, efficiently-checkable pro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8320" y="5649840"/>
            <a:ext cx="795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66"/>
                </a:solidFill>
                <a:latin typeface="Arial"/>
              </a:rPr>
              <a:t>Major Goal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Disprove the heresy that the 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gods are eq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25600" y="1355760"/>
            <a:ext cx="795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both classical and (especially) quantum complexity theory, much of what we know today can be stated in the </a:t>
            </a:r>
            <a:r>
              <a:rPr b="1" lang="en-CA" sz="2800" spc="-1" strike="noStrike">
                <a:solidFill>
                  <a:srgbClr val="990099"/>
                </a:solidFill>
                <a:latin typeface="Arial"/>
              </a:rPr>
              <a:t>“black-box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is a model where we count only the number of questions to som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66920" y="4133880"/>
            <a:ext cx="4189320" cy="933480"/>
            <a:chOff x="2266920" y="4133880"/>
            <a:chExt cx="4189320" cy="933480"/>
          </a:xfrm>
        </p:grpSpPr>
        <p:sp>
          <p:nvSpPr>
            <p:cNvPr id="118" name=""/>
            <p:cNvSpPr/>
            <p:nvPr/>
          </p:nvSpPr>
          <p:spPr>
            <a:xfrm>
              <a:off x="3714840" y="4133880"/>
              <a:ext cx="907920" cy="9079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1680" y="4291200"/>
              <a:ext cx="1044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6920" y="44211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14680" y="4697280"/>
              <a:ext cx="103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81440" y="4660920"/>
              <a:ext cx="103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3560" y="4384800"/>
              <a:ext cx="74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09760" y="5310360"/>
            <a:ext cx="79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ignore all other computational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4280" y="363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Black-Box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1479600"/>
            <a:ext cx="49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’s state has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50040" y="1370160"/>
          <a:ext cx="2176200" cy="95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0040" y="1370160"/>
                    <a:ext cx="217620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16080" y="2411280"/>
            <a:ext cx="858996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u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each basis state |x,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x,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(x) gets “reversibly written to the workspa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wo query steps, can apply an arbitrary unitary operation that doesn’t depend on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uery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number of steps needed to ach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137040" y="4915080"/>
          <a:ext cx="3449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915080"/>
                    <a:ext cx="3449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959520" y="514188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antum Black-Box Algorith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12-18T05:56:56Z</dcterms:modified>
  <cp:revision>191</cp:revision>
  <dc:subject/>
  <dc:title>Slide 1</dc:title>
</cp:coreProperties>
</file>