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7269-546D-4E8C-9608-98D6B67A6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AAF-7167-4CFB-9DFB-EB82590F3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73A7-034C-4C19-88AE-9B1DB7B7F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93D-62D5-4435-85AF-F79E0CD59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A3E-FFCE-4BC6-910C-1A239F0CA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B94-6493-4E3B-8896-0985D2A25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3B7-C8F3-4AC4-9C3B-5CECAA277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76F-C65B-47ED-9DDF-4AB09F3B8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D0FA-F227-4448-8EAB-0D4B32F7A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F9C-C3E1-400B-9632-472A0B4B5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50A-7024-4E6C-B238-F0FBA6E007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228-B975-4B53-9C3D-9269C20AA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3BF2-B4E7-49F8-A1D5-F348E821A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D7DC-4A6B-4D68-86D2-D775B2F7B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CF34-4D90-4FA9-BC19-60C3318BE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C4F-6D27-4DE7-810A-D4978FB96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BE0-1AFD-4577-856A-9744D0F5E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442-9E1A-4FC1-8C88-41F817E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7F9-4084-4E96-993D-6541AB9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A22-C0AF-47C6-9AEE-AA516DE7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DAE-15C3-4A51-A3CD-95B9B084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96E-0590-4D26-83D0-68E432D7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984-79DA-4470-A162-7820BFF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211-BC13-4236-B13A-B62EA01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1A1-EF5E-491B-A530-B35CCF31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5D1-FB90-4073-B33C-9FCEF380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CC8-3835-4706-BC68-56560FD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14E-211C-435B-A7B0-BE3E7FC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2AD-4A83-4DF5-9FCE-A71CFA5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83FB-02C0-4AC1-8FFF-EF27A0759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540E-7D24-4135-AD31-E6C82004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dia National Labs, February 8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 and its Applications (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88840" y="20797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51" name="Oval Callout 1"/>
          <p:cNvSpPr/>
          <p:nvPr/>
        </p:nvSpPr>
        <p:spPr>
          <a:xfrm>
            <a:off x="4592520" y="18748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011560" y="20797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188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5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6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7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31880" y="22860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from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good for certified randomness over the Internet.  Ideal for near-term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62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29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30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31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32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34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72"/>
            <p:cNvSpPr/>
            <p:nvPr/>
          </p:nvSpPr>
          <p:spPr>
            <a:xfrm>
              <a:off x="2743200" y="1218960"/>
              <a:ext cx="365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UANT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274680" y="1219320"/>
            <a:ext cx="8702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the HOG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163520" y="3048120"/>
            <a:ext cx="6924960" cy="2469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theorem (in preparat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der suitable (strong) computational hardness assumptions, if the server is a fast QC and the client accepts w.h.p., then conditioned on the client accepting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n bits of min-entropy must be generated per iteration, for some constant c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4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 over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17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82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3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84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5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86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me 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384120" y="1219320"/>
            <a:ext cx="8373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quantum supremacy, as well as certified randomness, under more “standard” and less “boutique” computational hardness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with any of the problems solvable by near-term de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304920" y="99072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close to 50-70 qubit quantum supremacy experiments.  We can say interesting things about the hardness of simulating them classically; we’d like to sa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of a very-near-term Q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applicatio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requi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ampling problems: problems with definite answers (like factoring) are use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t only can we do it with ~70 qubits, we don’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wa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ore.  No expensive encoding needed; can fully exploit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y to embrace the weaknesses of near-term devices, and turn them into strengths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5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8"/>
          <p:cNvSpPr/>
          <p:nvPr/>
        </p:nvSpPr>
        <p:spPr>
          <a:xfrm>
            <a:off x="1647720" y="3895560"/>
            <a:ext cx="6096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8"/>
          <p:cNvSpPr/>
          <p:nvPr/>
        </p:nvSpPr>
        <p:spPr>
          <a:xfrm>
            <a:off x="762120" y="5173560"/>
            <a:ext cx="7696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Groups at Google, IBM, Rigetti, IonQ and elsewhere are racing to achieve this with ~50-100 qubit systems.  “Even if it’s useless, who car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25520" y="380880"/>
            <a:ext cx="82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if we just want maximum confidence that we’re solving something that’s classically exponentially ha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oretical work (Terhal-DiVincenzo 2004, A.-Arkhipov 2011, Bremner-Jozsa-Shepherd 2011…) has uncovered many advantages to switching our attention from problems with a single valid answer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classical hardness of sampling problems can even be based on the belief that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lynomial hierarch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huge advantage: potential to realize these sampling speedups using near-term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838080" y="5192640"/>
            <a:ext cx="78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We “merely” give up on: obvious applications, a fast classical way to verify the resul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0880" y="1825560"/>
            <a:ext cx="838224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eck wheth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lve the “Heavy Output Generation” (HOG) problem—e.g., do at least 2/3 of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have more than the median probabilit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. and Lijie Chen, arXiv:1612.05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04920" y="906480"/>
            <a:ext cx="866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paraphrased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there’s a poly-time classical “faking” algorithm—one that, given a a random quantum circuit C, with n qubits and m&gt;&gt;n gates, solves HOG with high probability.  Then there’s also a poly-time classical algorithm to guess whether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exceeds some threshol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ith ~1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ias over flipping a co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3444840"/>
            <a:ext cx="866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poly-time classical algorithm to guess if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&gt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1/exp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14400" y="4468680"/>
            <a:ext cx="7315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lso a recursive classical algorithm to simulate C using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ime and linear memory—“interpolating between Schrödinger and Feynma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447920" y="5877000"/>
            <a:ext cx="67816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neither of these yield guessing algorithms that undermine the presumed hardness of HO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-23760" y="4468680"/>
            <a:ext cx="963720" cy="1113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8229600" y="445788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175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178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Straight Arrow Connector 39"/>
              <p:cNvCxnSpPr>
                <a:stCxn id="178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80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apparently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183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2-06T06:14:54Z</dcterms:modified>
  <cp:revision>402</cp:revision>
  <dc:subject/>
  <dc:title>BQP and the Polynomial Hierarchy</dc:title>
</cp:coreProperties>
</file>