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3.png" ContentType="image/png"/>
  <Override PartName="/ppt/media/image6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73D0-2822-4E8D-A433-C1E59C4AE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7D84-5BBF-4A65-BD35-328B6EE26398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O FAST GO FAST GO FAST   Thanks so much for inviting me to this beautiful place!  When I typed “quantum computer” into Google Image Search, that’s the first picture that came up.  That’s apparently what they look like.  (I should warn you that I’m a theorist rather than an engineer.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9118-E3E1-40E6-9D05-424914719F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A4FB-6739-4495-BA9B-6BB5239434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793E-3879-41B2-90F6-D9B89A6ADA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99AA-28D8-4C29-A690-76CE3F0DE8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1CC1-7B2A-4262-9144-E3A4188E1B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0CFB-E8A4-4AFE-8983-A37E31737E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B73F-4764-40E4-9118-CAF5469B97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6134-E2D9-480E-8B73-EEA3BEE170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7970-35E4-474C-8591-C2149B6BEC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87DD-D19C-49F7-ADA5-84BCC6C463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743F-910E-47AB-A412-24543A9101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D7DD-61DC-4F8E-BEC7-7D8DE5EE40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5ACB-2585-4152-B2DA-96094DE313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B84-EEC6-4C12-A16D-4889F950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F4A-EEDA-4B84-A9ED-27D10BF2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E7B-200F-46BE-B329-64FE32FA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506-6B45-4FBA-A78C-80223981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5410-E060-4AD3-870B-E6BAB02A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BB61-3180-4279-A9FE-C393775D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9933-6626-4453-A10D-C5625896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50D6-B7B7-467C-9FF4-1581C001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9940-9F13-4D51-B953-3618859C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7F87-B768-494D-95DA-5AFBCFDB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B818-0EB4-4F45-A20A-20BD447B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196-63F6-49BB-BA10-AF20CAA1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1F91-3416-4B7E-8ABC-405E9297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B3B4-EC5A-4797-89CD-34EB38AF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4DDB-B6FC-4D2F-8FBD-F7898938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A544-E476-42CC-9857-9CDA79FB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46B6-5D8B-48AB-A581-C1424107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CF61-BA33-4A27-A334-5DF4C5B9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69C0-E197-4EA9-A0B7-C4842DBD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ACA-6058-4B22-93B4-E46A71F4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AD2-90A7-45FC-B8B5-39EA2933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CFB8-1AB0-43A8-B35F-65DA3498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6C6-08BD-48EB-BA41-F3B8BE29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DAD-B502-40AE-8B75-318EF91C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3E76-0DDB-4665-8336-EA08AC774B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C0AA-F481-4D05-B70E-C39F2966C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4E65-F5B0-4B1B-9631-7DF7482A6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Calibri"/>
                <a:ea typeface="Calibri"/>
              </a:rPr>
              <a:t>Quantum Computational Supremacy and Its Applications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520" y="540972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Perimeter Institute, January 29,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images.dailytech.com/nimage/UCSB_Xmon_Chip_Wide.jpg"/>
          <p:cNvPicPr/>
          <p:nvPr/>
        </p:nvPicPr>
        <p:blipFill>
          <a:blip r:embed="rId1"/>
          <a:stretch/>
        </p:blipFill>
        <p:spPr>
          <a:xfrm>
            <a:off x="900000" y="2643120"/>
            <a:ext cx="2819520" cy="1920960"/>
          </a:xfrm>
          <a:prstGeom prst="rect">
            <a:avLst/>
          </a:prstGeom>
          <a:ln w="0">
            <a:noFill/>
          </a:ln>
        </p:spPr>
      </p:pic>
      <p:sp>
        <p:nvSpPr>
          <p:cNvPr id="93" name="Oval Callout 8"/>
          <p:cNvSpPr/>
          <p:nvPr/>
        </p:nvSpPr>
        <p:spPr>
          <a:xfrm>
            <a:off x="4603680" y="2440080"/>
            <a:ext cx="3505320" cy="1844640"/>
          </a:xfrm>
          <a:prstGeom prst="wedgeEllipseCallout">
            <a:avLst>
              <a:gd name="adj1" fmla="val -76819"/>
              <a:gd name="adj2" fmla="val 14583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5022720" y="264312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 HILBER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28600" y="22860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ut even if these sampling-based supremacy experiments work, they’ll just produce mostly-random bits, which is </a:t>
            </a:r>
            <a:r>
              <a:rPr b="1" i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bviously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useless…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33480" y="3602160"/>
            <a:ext cx="1348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Arial"/>
                <a:ea typeface="Arial"/>
              </a:rPr>
              <a:t>110100001101001111011011001100110001010010011010001111101111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23920" y="195120"/>
            <a:ext cx="8762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New Idea (A. 2018): Randomness from Quantum Supremacy Experi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46160" y="5638680"/>
            <a:ext cx="8920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.e., even a QC would have a hard time generating plausible-looking samples in a secretly deterministic 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46160" y="3254400"/>
            <a:ext cx="88185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Key Insight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f a QC passes the Linear XEB test for quantum supremacy, it’s proved more than just its quantumness.  Under plausible assumptions, it’s also proved it must have generated the sample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random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br>
              <a:rPr sz="3000"/>
            </a:br>
            <a:r>
              <a:rPr b="1" lang="en-US" sz="2400" spc="-1" strike="noStrike">
                <a:solidFill>
                  <a:srgbClr val="009900"/>
                </a:solidFill>
                <a:latin typeface="Calibri"/>
                <a:ea typeface="Arial"/>
              </a:rPr>
              <a:t>(At least somewh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1301760" y="1766880"/>
            <a:ext cx="1369800" cy="1290240"/>
            <a:chOff x="1301760" y="1766880"/>
            <a:chExt cx="1369800" cy="1290240"/>
          </a:xfrm>
        </p:grpSpPr>
        <p:sp>
          <p:nvSpPr>
            <p:cNvPr id="199" name="Freeform 6"/>
            <p:cNvSpPr/>
            <p:nvPr/>
          </p:nvSpPr>
          <p:spPr>
            <a:xfrm>
              <a:off x="1518480" y="1797480"/>
              <a:ext cx="752400" cy="71424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"/>
            <p:cNvSpPr/>
            <p:nvPr/>
          </p:nvSpPr>
          <p:spPr>
            <a:xfrm>
              <a:off x="1610640" y="189720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"/>
            <p:cNvSpPr/>
            <p:nvPr/>
          </p:nvSpPr>
          <p:spPr>
            <a:xfrm>
              <a:off x="1688760" y="254304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"/>
            <p:cNvSpPr/>
            <p:nvPr/>
          </p:nvSpPr>
          <p:spPr>
            <a:xfrm>
              <a:off x="1942200" y="217512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0"/>
            <p:cNvSpPr/>
            <p:nvPr/>
          </p:nvSpPr>
          <p:spPr>
            <a:xfrm>
              <a:off x="2381760" y="278424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1"/>
            <p:cNvSpPr/>
            <p:nvPr/>
          </p:nvSpPr>
          <p:spPr>
            <a:xfrm>
              <a:off x="2381760" y="281844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2"/>
            <p:cNvSpPr/>
            <p:nvPr/>
          </p:nvSpPr>
          <p:spPr>
            <a:xfrm>
              <a:off x="2386080" y="289620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3"/>
            <p:cNvSpPr/>
            <p:nvPr/>
          </p:nvSpPr>
          <p:spPr>
            <a:xfrm>
              <a:off x="2388960" y="283248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4"/>
            <p:cNvSpPr/>
            <p:nvPr/>
          </p:nvSpPr>
          <p:spPr>
            <a:xfrm>
              <a:off x="2597760" y="285624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5"/>
            <p:cNvSpPr/>
            <p:nvPr/>
          </p:nvSpPr>
          <p:spPr>
            <a:xfrm>
              <a:off x="2370960" y="278280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6"/>
            <p:cNvSpPr/>
            <p:nvPr/>
          </p:nvSpPr>
          <p:spPr>
            <a:xfrm>
              <a:off x="2540520" y="287640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7"/>
            <p:cNvSpPr/>
            <p:nvPr/>
          </p:nvSpPr>
          <p:spPr>
            <a:xfrm>
              <a:off x="2460960" y="281052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2427480" y="279828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9"/>
            <p:cNvSpPr/>
            <p:nvPr/>
          </p:nvSpPr>
          <p:spPr>
            <a:xfrm>
              <a:off x="2317320" y="290736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0"/>
            <p:cNvSpPr/>
            <p:nvPr/>
          </p:nvSpPr>
          <p:spPr>
            <a:xfrm>
              <a:off x="1320840" y="2728080"/>
              <a:ext cx="1013400" cy="209160"/>
            </a:xfrm>
            <a:custGeom>
              <a:avLst/>
              <a:gdLst>
                <a:gd name="textAreaLeft" fmla="*/ 0 w 1013400"/>
                <a:gd name="textAreaRight" fmla="*/ 1013760 w 10134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"/>
            <p:cNvSpPr/>
            <p:nvPr/>
          </p:nvSpPr>
          <p:spPr>
            <a:xfrm>
              <a:off x="1521000" y="260676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2"/>
            <p:cNvSpPr/>
            <p:nvPr/>
          </p:nvSpPr>
          <p:spPr>
            <a:xfrm>
              <a:off x="1722960" y="251136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3"/>
            <p:cNvSpPr/>
            <p:nvPr/>
          </p:nvSpPr>
          <p:spPr>
            <a:xfrm>
              <a:off x="2056320" y="192492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4"/>
            <p:cNvSpPr/>
            <p:nvPr/>
          </p:nvSpPr>
          <p:spPr>
            <a:xfrm>
              <a:off x="1690560" y="2415960"/>
              <a:ext cx="376560" cy="594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5"/>
            <p:cNvSpPr/>
            <p:nvPr/>
          </p:nvSpPr>
          <p:spPr>
            <a:xfrm>
              <a:off x="1565640" y="185868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6"/>
            <p:cNvSpPr/>
            <p:nvPr/>
          </p:nvSpPr>
          <p:spPr>
            <a:xfrm>
              <a:off x="2016360" y="264096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7"/>
            <p:cNvSpPr/>
            <p:nvPr/>
          </p:nvSpPr>
          <p:spPr>
            <a:xfrm>
              <a:off x="2111760" y="268164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1311480" y="2877480"/>
              <a:ext cx="1010880" cy="619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509480" y="257652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2267640" y="258372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2009880" y="264744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2018880" y="263592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2106360" y="267912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1459800" y="270288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345680" y="2859480"/>
              <a:ext cx="697680" cy="38880"/>
            </a:xfrm>
            <a:custGeom>
              <a:avLst/>
              <a:gdLst/>
              <a:ahLst/>
              <a:rect l="l" t="t" r="r" b="b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2246400" y="274608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2288880" y="289044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327680" y="2909160"/>
              <a:ext cx="978120" cy="381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9"/>
            <p:cNvSpPr/>
            <p:nvPr/>
          </p:nvSpPr>
          <p:spPr>
            <a:xfrm>
              <a:off x="1511640" y="2752560"/>
              <a:ext cx="520920" cy="5292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0"/>
            <p:cNvSpPr/>
            <p:nvPr/>
          </p:nvSpPr>
          <p:spPr>
            <a:xfrm>
              <a:off x="1485720" y="279972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1"/>
            <p:cNvSpPr/>
            <p:nvPr/>
          </p:nvSpPr>
          <p:spPr>
            <a:xfrm>
              <a:off x="2107080" y="278856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2"/>
            <p:cNvSpPr/>
            <p:nvPr/>
          </p:nvSpPr>
          <p:spPr>
            <a:xfrm>
              <a:off x="2133000" y="281700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3"/>
            <p:cNvSpPr/>
            <p:nvPr/>
          </p:nvSpPr>
          <p:spPr>
            <a:xfrm>
              <a:off x="2142000" y="284868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4"/>
            <p:cNvSpPr/>
            <p:nvPr/>
          </p:nvSpPr>
          <p:spPr>
            <a:xfrm>
              <a:off x="1493280" y="1766880"/>
              <a:ext cx="711720" cy="186480"/>
            </a:xfrm>
            <a:custGeom>
              <a:avLst/>
              <a:gdLst>
                <a:gd name="textAreaLeft" fmla="*/ 0 w 711720"/>
                <a:gd name="textAreaRight" fmla="*/ 712080 w 7117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5"/>
            <p:cNvSpPr/>
            <p:nvPr/>
          </p:nvSpPr>
          <p:spPr>
            <a:xfrm>
              <a:off x="2230200" y="178128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6"/>
            <p:cNvSpPr/>
            <p:nvPr/>
          </p:nvSpPr>
          <p:spPr>
            <a:xfrm>
              <a:off x="2181240" y="1872000"/>
              <a:ext cx="123840" cy="620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7"/>
            <p:cNvSpPr/>
            <p:nvPr/>
          </p:nvSpPr>
          <p:spPr>
            <a:xfrm>
              <a:off x="2148480" y="182304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8"/>
            <p:cNvSpPr/>
            <p:nvPr/>
          </p:nvSpPr>
          <p:spPr>
            <a:xfrm>
              <a:off x="1492200" y="196884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9"/>
            <p:cNvSpPr/>
            <p:nvPr/>
          </p:nvSpPr>
          <p:spPr>
            <a:xfrm>
              <a:off x="1643040" y="249552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0"/>
            <p:cNvSpPr/>
            <p:nvPr/>
          </p:nvSpPr>
          <p:spPr>
            <a:xfrm>
              <a:off x="2100600" y="249624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1"/>
            <p:cNvSpPr/>
            <p:nvPr/>
          </p:nvSpPr>
          <p:spPr>
            <a:xfrm>
              <a:off x="1688760" y="250128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2"/>
            <p:cNvSpPr/>
            <p:nvPr/>
          </p:nvSpPr>
          <p:spPr>
            <a:xfrm>
              <a:off x="1649880" y="258372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3"/>
            <p:cNvSpPr/>
            <p:nvPr/>
          </p:nvSpPr>
          <p:spPr>
            <a:xfrm>
              <a:off x="2022840" y="249984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4"/>
            <p:cNvSpPr/>
            <p:nvPr/>
          </p:nvSpPr>
          <p:spPr>
            <a:xfrm>
              <a:off x="2136240" y="254304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5"/>
            <p:cNvSpPr/>
            <p:nvPr/>
          </p:nvSpPr>
          <p:spPr>
            <a:xfrm>
              <a:off x="1679760" y="243540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6"/>
            <p:cNvSpPr/>
            <p:nvPr/>
          </p:nvSpPr>
          <p:spPr>
            <a:xfrm>
              <a:off x="1681560" y="240840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57"/>
            <p:cNvSpPr/>
            <p:nvPr/>
          </p:nvSpPr>
          <p:spPr>
            <a:xfrm>
              <a:off x="2066400" y="241020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58"/>
            <p:cNvSpPr/>
            <p:nvPr/>
          </p:nvSpPr>
          <p:spPr>
            <a:xfrm>
              <a:off x="1984680" y="242964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59"/>
            <p:cNvSpPr/>
            <p:nvPr/>
          </p:nvSpPr>
          <p:spPr>
            <a:xfrm>
              <a:off x="1910520" y="242856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0"/>
            <p:cNvSpPr/>
            <p:nvPr/>
          </p:nvSpPr>
          <p:spPr>
            <a:xfrm>
              <a:off x="1824840" y="242640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1"/>
            <p:cNvSpPr/>
            <p:nvPr/>
          </p:nvSpPr>
          <p:spPr>
            <a:xfrm>
              <a:off x="1750680" y="243036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62"/>
            <p:cNvSpPr/>
            <p:nvPr/>
          </p:nvSpPr>
          <p:spPr>
            <a:xfrm>
              <a:off x="1967400" y="189720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63"/>
            <p:cNvSpPr/>
            <p:nvPr/>
          </p:nvSpPr>
          <p:spPr>
            <a:xfrm>
              <a:off x="1572120" y="207576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4"/>
            <p:cNvSpPr/>
            <p:nvPr/>
          </p:nvSpPr>
          <p:spPr>
            <a:xfrm>
              <a:off x="1684800" y="234180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5"/>
            <p:cNvSpPr/>
            <p:nvPr/>
          </p:nvSpPr>
          <p:spPr>
            <a:xfrm>
              <a:off x="2065680" y="188172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66"/>
            <p:cNvSpPr/>
            <p:nvPr/>
          </p:nvSpPr>
          <p:spPr>
            <a:xfrm>
              <a:off x="1301760" y="286812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7"/>
            <p:cNvSpPr/>
            <p:nvPr/>
          </p:nvSpPr>
          <p:spPr>
            <a:xfrm>
              <a:off x="1571400" y="187740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68"/>
            <p:cNvSpPr/>
            <p:nvPr/>
          </p:nvSpPr>
          <p:spPr>
            <a:xfrm>
              <a:off x="1608120" y="191988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69"/>
            <p:cNvSpPr/>
            <p:nvPr/>
          </p:nvSpPr>
          <p:spPr>
            <a:xfrm>
              <a:off x="1503720" y="262764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178680" y="174312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264" name="Straight Arrow Connector 3"/>
          <p:cNvCxnSpPr/>
          <p:nvPr/>
        </p:nvCxnSpPr>
        <p:spPr>
          <a:xfrm>
            <a:off x="2570040" y="196812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265" name="Straight Arrow Connector 75"/>
          <p:cNvCxnSpPr/>
          <p:nvPr/>
        </p:nvCxnSpPr>
        <p:spPr>
          <a:xfrm>
            <a:off x="2576520" y="22269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cxnSp>
        <p:nvCxnSpPr>
          <p:cNvPr id="266" name="Straight Arrow Connector 76"/>
          <p:cNvCxnSpPr/>
          <p:nvPr/>
        </p:nvCxnSpPr>
        <p:spPr>
          <a:xfrm>
            <a:off x="2561760" y="2488680"/>
            <a:ext cx="34585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267" name="Straight Arrow Connector 77"/>
          <p:cNvCxnSpPr/>
          <p:nvPr/>
        </p:nvCxnSpPr>
        <p:spPr>
          <a:xfrm>
            <a:off x="2561760" y="2752200"/>
            <a:ext cx="34585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3"/>
          <p:cNvGrpSpPr/>
          <p:nvPr/>
        </p:nvGrpSpPr>
        <p:grpSpPr>
          <a:xfrm>
            <a:off x="1501920" y="1427040"/>
            <a:ext cx="2767320" cy="961560"/>
            <a:chOff x="1501920" y="1427040"/>
            <a:chExt cx="2767320" cy="961560"/>
          </a:xfrm>
        </p:grpSpPr>
        <p:sp>
          <p:nvSpPr>
            <p:cNvPr id="269" name="Straight Connector 17"/>
            <p:cNvSpPr/>
            <p:nvPr/>
          </p:nvSpPr>
          <p:spPr>
            <a:xfrm>
              <a:off x="2111400" y="1811160"/>
              <a:ext cx="156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4"/>
            <p:cNvSpPr/>
            <p:nvPr/>
          </p:nvSpPr>
          <p:spPr>
            <a:xfrm>
              <a:off x="2606760" y="1504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49"/>
            <p:cNvGrpSpPr/>
            <p:nvPr/>
          </p:nvGrpSpPr>
          <p:grpSpPr>
            <a:xfrm>
              <a:off x="3458880" y="1427040"/>
              <a:ext cx="810360" cy="961560"/>
              <a:chOff x="3458880" y="1427040"/>
              <a:chExt cx="810360" cy="961560"/>
            </a:xfrm>
          </p:grpSpPr>
          <p:sp>
            <p:nvSpPr>
              <p:cNvPr id="272" name="Chord 38"/>
              <p:cNvSpPr/>
              <p:nvPr/>
            </p:nvSpPr>
            <p:spPr>
              <a:xfrm rot="7220400">
                <a:off x="3560400" y="1687320"/>
                <a:ext cx="606600" cy="583920"/>
              </a:xfrm>
              <a:custGeom>
                <a:avLst/>
                <a:gdLst/>
                <a:ahLst/>
                <a:rect l="l" t="t" r="r" b="b"/>
                <a:pathLst>
                  <a:path w="606971" h="584538">
                    <a:moveTo>
                      <a:pt x="496030" y="518184"/>
                    </a:moveTo>
                    <a:cubicBezTo>
                      <a:pt x="405346" y="589865"/>
                      <a:pt x="279884" y="604790"/>
                      <a:pt x="173813" y="556515"/>
                    </a:cubicBezTo>
                    <a:cubicBezTo>
                      <a:pt x="62787" y="505985"/>
                      <a:pt x="-5677" y="396000"/>
                      <a:pt x="367" y="277882"/>
                    </a:cubicBezTo>
                    <a:cubicBezTo>
                      <a:pt x="6378" y="160410"/>
                      <a:pt x="84922" y="57853"/>
                      <a:pt x="199685" y="17626"/>
                    </a:cubicBezTo>
                    <a:lnTo>
                      <a:pt x="496030" y="518184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3" name="Straight Arrow Connector 39"/>
              <p:cNvCxnSpPr>
                <a:stCxn id="272" idx="2"/>
              </p:cNvCxnSpPr>
              <p:nvPr/>
            </p:nvCxnSpPr>
            <p:spPr>
              <a:xfrm flipV="1">
                <a:off x="3861720" y="142704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274" name="Text Box 3"/>
            <p:cNvSpPr/>
            <p:nvPr/>
          </p:nvSpPr>
          <p:spPr>
            <a:xfrm>
              <a:off x="1501920" y="15048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2"/>
          <p:cNvSpPr/>
          <p:nvPr/>
        </p:nvSpPr>
        <p:spPr>
          <a:xfrm>
            <a:off x="339840" y="228600"/>
            <a:ext cx="8494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Obviously, there ar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muc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easier ways to generate random bit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69720" y="2517840"/>
            <a:ext cx="8494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hese are fine if you own your own random number generator.  But what if you need to download random bits off the Internet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trus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that they’re random?  This is exactly the situation with, e.g.,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roof-of-stake cryptocurrenci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nd other crypto protoc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Image result for geiger counter"/>
          <p:cNvPicPr/>
          <p:nvPr/>
        </p:nvPicPr>
        <p:blipFill>
          <a:blip r:embed="rId1"/>
          <a:stretch/>
        </p:blipFill>
        <p:spPr>
          <a:xfrm>
            <a:off x="5592600" y="1066680"/>
            <a:ext cx="1704960" cy="14004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0" descr=""/>
          <p:cNvPicPr/>
          <p:nvPr/>
        </p:nvPicPr>
        <p:blipFill>
          <a:blip r:embed="rId2"/>
          <a:stretch/>
        </p:blipFill>
        <p:spPr>
          <a:xfrm>
            <a:off x="6789600" y="5218200"/>
            <a:ext cx="1805040" cy="11444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2"/>
          <p:cNvSpPr/>
          <p:nvPr/>
        </p:nvSpPr>
        <p:spPr>
          <a:xfrm>
            <a:off x="369720" y="5052960"/>
            <a:ext cx="6228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oogle and NIST are currently working to demonstrate a public randomness beacon based on my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here To Go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04920" y="1066680"/>
            <a:ext cx="8610480" cy="55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Replicate Google’s result in other hardware platforms, and with higher fidelity, more qubits, less specialized gate set, independent challenges and verificatio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Design new classical simulation algorithms!  Especially for low-depth circuits 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  <a:ea typeface="Arial"/>
              </a:rPr>
              <a:t>(cf. Napp, La Placa, Dalzell, Brandao, Harr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Better complexity-theoretic evidence for hard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Near-term quantum supremacy with efficient classical verifi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enerating more and more certified random bits by running the same circuit C over and ov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304920" y="1066680"/>
            <a:ext cx="86104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oogle has apparently achieved quantum computational supremacy, using Random Circuit Sampling on 53 qubits—building on a lot of “useless complexity theory” we did over the past decad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Even if true, this leaves the huge challenges of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calabilit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fault-toler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.  But it already refutes those who said quantum speedups are im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t was thought obvious for years that sampling-based supremacy experiments had no applications.  My certified randomness protocol may change that—though challenges remain in making it pract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380880" y="2028960"/>
            <a:ext cx="4572000" cy="2921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"/>
          <p:cNvPicPr/>
          <p:nvPr/>
        </p:nvPicPr>
        <p:blipFill>
          <a:blip r:embed="rId2"/>
          <a:stretch/>
        </p:blipFill>
        <p:spPr>
          <a:xfrm>
            <a:off x="179280" y="303120"/>
            <a:ext cx="6373800" cy="1524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4527720" y="1471680"/>
            <a:ext cx="4572000" cy="2786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4"/>
          <a:stretch/>
        </p:blipFill>
        <p:spPr>
          <a:xfrm>
            <a:off x="120600" y="3995640"/>
            <a:ext cx="5943600" cy="1936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5"/>
          <a:stretch/>
        </p:blipFill>
        <p:spPr>
          <a:xfrm>
            <a:off x="4108320" y="4519440"/>
            <a:ext cx="4907160" cy="2024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6"/>
          <a:stretch/>
        </p:blipFill>
        <p:spPr>
          <a:xfrm>
            <a:off x="4718160" y="196920"/>
            <a:ext cx="4267080" cy="566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7"/>
          <a:stretch/>
        </p:blipFill>
        <p:spPr>
          <a:xfrm>
            <a:off x="1450800" y="1287360"/>
            <a:ext cx="61534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28600" y="228600"/>
            <a:ext cx="6553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</a:rPr>
              <a:t>What Is Quantum Computational Supremacy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17520" y="1911240"/>
            <a:ext cx="85089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he use of a quantum computer to solv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om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well-defined problem much faster than any available classical computer running any known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Problem doesn’t need to be useful, but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do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need a hardware-independent definition (no “simulate yourself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Need: an actual observed speedup,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 theoretical asymptotic speedup,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 causal connection between the tw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914400" y="2600280"/>
            <a:ext cx="7548480" cy="3092040"/>
            <a:chOff x="914400" y="2600280"/>
            <a:chExt cx="7548480" cy="3092040"/>
          </a:xfrm>
        </p:grpSpPr>
        <p:sp>
          <p:nvSpPr>
            <p:cNvPr id="105" name="Text Box 3"/>
            <p:cNvSpPr/>
            <p:nvPr/>
          </p:nvSpPr>
          <p:spPr>
            <a:xfrm>
              <a:off x="914400" y="2600280"/>
              <a:ext cx="7548480" cy="3092040"/>
            </a:xfrm>
            <a:prstGeom prst="rect">
              <a:avLst/>
            </a:prstGeom>
            <a:solidFill>
              <a:srgbClr val="ffffd5"/>
            </a:solidFill>
            <a:ln w="190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“</a:t>
              </a: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#1 Application of a Quantum Computer: Refute those who said it was impossible!”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1" descr=""/>
            <p:cNvPicPr/>
            <p:nvPr/>
          </p:nvPicPr>
          <p:blipFill>
            <a:blip r:embed="rId1"/>
            <a:stretch/>
          </p:blipFill>
          <p:spPr>
            <a:xfrm>
              <a:off x="1139040" y="3643560"/>
              <a:ext cx="1116000" cy="164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" descr=""/>
            <p:cNvPicPr/>
            <p:nvPr/>
          </p:nvPicPr>
          <p:blipFill>
            <a:blip r:embed="rId2"/>
            <a:stretch/>
          </p:blipFill>
          <p:spPr>
            <a:xfrm>
              <a:off x="2255040" y="3643560"/>
              <a:ext cx="1150200" cy="164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" descr=""/>
            <p:cNvPicPr/>
            <p:nvPr/>
          </p:nvPicPr>
          <p:blipFill>
            <a:blip r:embed="rId3"/>
            <a:stretch/>
          </p:blipFill>
          <p:spPr>
            <a:xfrm>
              <a:off x="3371040" y="3643560"/>
              <a:ext cx="1317240" cy="164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" descr=""/>
            <p:cNvPicPr/>
            <p:nvPr/>
          </p:nvPicPr>
          <p:blipFill>
            <a:blip r:embed="rId4"/>
            <a:srcRect l="7068" t="0" r="9643" b="0"/>
            <a:stretch/>
          </p:blipFill>
          <p:spPr>
            <a:xfrm>
              <a:off x="4688640" y="3641040"/>
              <a:ext cx="109728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9" descr=""/>
            <p:cNvPicPr/>
            <p:nvPr/>
          </p:nvPicPr>
          <p:blipFill>
            <a:blip r:embed="rId5"/>
            <a:stretch/>
          </p:blipFill>
          <p:spPr>
            <a:xfrm>
              <a:off x="5785920" y="3641040"/>
              <a:ext cx="132264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0" descr=""/>
            <p:cNvPicPr/>
            <p:nvPr/>
          </p:nvPicPr>
          <p:blipFill>
            <a:blip r:embed="rId6"/>
            <a:stretch/>
          </p:blipFill>
          <p:spPr>
            <a:xfrm>
              <a:off x="7082280" y="3641040"/>
              <a:ext cx="1137240" cy="169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Picture 13" descr="Image result for john preskill"/>
          <p:cNvPicPr/>
          <p:nvPr/>
        </p:nvPicPr>
        <p:blipFill>
          <a:blip r:embed="rId7"/>
          <a:stretch/>
        </p:blipFill>
        <p:spPr>
          <a:xfrm>
            <a:off x="7531200" y="14400"/>
            <a:ext cx="1243080" cy="1244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6783480" y="1220760"/>
            <a:ext cx="256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reskill 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90440" y="76320"/>
            <a:ext cx="8763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</a:rPr>
              <a:t>The Google Team’s Resul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17520" y="795240"/>
            <a:ext cx="850896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Built “Sycamore,” a 53-qubit superconducting chip with controllable 2D nearest-neighbor coupl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Used it to output samples from some distribution D over 53-bit strings </a:t>
            </a:r>
            <a:r>
              <a:rPr b="1" lang="en-US" sz="3000" spc="-1" strike="noStrike">
                <a:solidFill>
                  <a:srgbClr val="006600"/>
                </a:solidFill>
                <a:latin typeface="Calibri"/>
                <a:ea typeface="Arial"/>
              </a:rPr>
              <a:t>(or rather, from ~0.998U+0.002D, where U is the uniform distribu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ook 5 million samples in ~3 minutes (~40 microseconds per sample); did statistics on them to extract a signal corresponding to 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rgued that the best current classical algorithms, running on 1M cores, would’ve taken ~10,000 years to do the same—so, a quantum speedup by a factor of ~2 billion, or ~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5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in the “number of gat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28600" y="228600"/>
            <a:ext cx="8763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</a:rPr>
              <a:t>How to Achieve Quantum Supremac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81160" y="1006560"/>
            <a:ext cx="8673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hor’s factoring algorithm, Grover’s search algorithm, even simulating quantum chemistry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las, too expensive for now.  May require error-correction, incurring a huge overhead—but at any rate, more and better qubits than feasible in the near fu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63600" y="3581280"/>
            <a:ext cx="8508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alibri"/>
                <a:ea typeface="Arial"/>
              </a:rPr>
              <a:t>Idea (Terhal-DiVincenzo 2004, A.-Arkhipov 2011, Bremner-Jozsa-Shepherd 2011)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ampling problems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nstead of a single right answer, just ask for samples from a target probability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93560" y="5638680"/>
            <a:ext cx="5678640" cy="947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dvantag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xperimental feasibility, high confidence in classical har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270480" y="5208480"/>
            <a:ext cx="2721240" cy="1373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isadvantag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seless?  how to check resul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7"/>
          <p:cNvSpPr/>
          <p:nvPr/>
        </p:nvSpPr>
        <p:spPr>
          <a:xfrm flipH="1">
            <a:off x="12600" y="3479760"/>
            <a:ext cx="9144000" cy="64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65120" y="1494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Random Circuit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438280" y="1092240"/>
            <a:ext cx="64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allenge the QC by sending it a randomly generated quantum circuit C on n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"/>
          <p:cNvSpPr/>
          <p:nvPr/>
        </p:nvSpPr>
        <p:spPr>
          <a:xfrm>
            <a:off x="393840" y="14144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928800" y="14144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393840" y="18669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928800" y="18669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3"/>
          <p:cNvSpPr/>
          <p:nvPr/>
        </p:nvSpPr>
        <p:spPr>
          <a:xfrm>
            <a:off x="393840" y="23432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4"/>
          <p:cNvSpPr/>
          <p:nvPr/>
        </p:nvSpPr>
        <p:spPr>
          <a:xfrm>
            <a:off x="928800" y="23432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7"/>
          <p:cNvSpPr/>
          <p:nvPr/>
        </p:nvSpPr>
        <p:spPr>
          <a:xfrm>
            <a:off x="393840" y="27957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8"/>
          <p:cNvSpPr/>
          <p:nvPr/>
        </p:nvSpPr>
        <p:spPr>
          <a:xfrm>
            <a:off x="928800" y="27957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6"/>
          <p:cNvGrpSpPr/>
          <p:nvPr/>
        </p:nvGrpSpPr>
        <p:grpSpPr>
          <a:xfrm>
            <a:off x="446040" y="1490760"/>
            <a:ext cx="662040" cy="1407960"/>
            <a:chOff x="446040" y="1490760"/>
            <a:chExt cx="662040" cy="1407960"/>
          </a:xfrm>
        </p:grpSpPr>
        <p:sp>
          <p:nvSpPr>
            <p:cNvPr id="133" name="Straight Connector 4"/>
            <p:cNvSpPr/>
            <p:nvPr/>
          </p:nvSpPr>
          <p:spPr>
            <a:xfrm>
              <a:off x="482400" y="149076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traight Connector 23"/>
            <p:cNvSpPr/>
            <p:nvPr/>
          </p:nvSpPr>
          <p:spPr>
            <a:xfrm>
              <a:off x="469800" y="19429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traight Connector 24"/>
            <p:cNvSpPr/>
            <p:nvPr/>
          </p:nvSpPr>
          <p:spPr>
            <a:xfrm>
              <a:off x="458640" y="243360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25"/>
            <p:cNvSpPr/>
            <p:nvPr/>
          </p:nvSpPr>
          <p:spPr>
            <a:xfrm>
              <a:off x="446040" y="28861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Oval 26"/>
          <p:cNvSpPr/>
          <p:nvPr/>
        </p:nvSpPr>
        <p:spPr>
          <a:xfrm>
            <a:off x="1471680" y="14144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7"/>
          <p:cNvSpPr/>
          <p:nvPr/>
        </p:nvSpPr>
        <p:spPr>
          <a:xfrm>
            <a:off x="2006640" y="14144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8"/>
          <p:cNvSpPr/>
          <p:nvPr/>
        </p:nvSpPr>
        <p:spPr>
          <a:xfrm>
            <a:off x="1471680" y="18669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9"/>
          <p:cNvSpPr/>
          <p:nvPr/>
        </p:nvSpPr>
        <p:spPr>
          <a:xfrm>
            <a:off x="2006640" y="18669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0"/>
          <p:cNvSpPr/>
          <p:nvPr/>
        </p:nvSpPr>
        <p:spPr>
          <a:xfrm>
            <a:off x="1471680" y="23432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1"/>
          <p:cNvSpPr/>
          <p:nvPr/>
        </p:nvSpPr>
        <p:spPr>
          <a:xfrm>
            <a:off x="2006640" y="23432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2"/>
          <p:cNvSpPr/>
          <p:nvPr/>
        </p:nvSpPr>
        <p:spPr>
          <a:xfrm>
            <a:off x="1471680" y="27957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3"/>
          <p:cNvSpPr/>
          <p:nvPr/>
        </p:nvSpPr>
        <p:spPr>
          <a:xfrm>
            <a:off x="2006640" y="27957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7"/>
          <p:cNvGrpSpPr/>
          <p:nvPr/>
        </p:nvGrpSpPr>
        <p:grpSpPr>
          <a:xfrm>
            <a:off x="1525680" y="1490760"/>
            <a:ext cx="660240" cy="1407960"/>
            <a:chOff x="1525680" y="1490760"/>
            <a:chExt cx="660240" cy="1407960"/>
          </a:xfrm>
        </p:grpSpPr>
        <p:sp>
          <p:nvSpPr>
            <p:cNvPr id="146" name="Straight Connector 34"/>
            <p:cNvSpPr/>
            <p:nvPr/>
          </p:nvSpPr>
          <p:spPr>
            <a:xfrm>
              <a:off x="1560600" y="149076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35"/>
            <p:cNvSpPr/>
            <p:nvPr/>
          </p:nvSpPr>
          <p:spPr>
            <a:xfrm>
              <a:off x="1547640" y="194292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36"/>
            <p:cNvSpPr/>
            <p:nvPr/>
          </p:nvSpPr>
          <p:spPr>
            <a:xfrm>
              <a:off x="1536480" y="243360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37"/>
            <p:cNvSpPr/>
            <p:nvPr/>
          </p:nvSpPr>
          <p:spPr>
            <a:xfrm>
              <a:off x="1525680" y="288612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3"/>
          <p:cNvSpPr/>
          <p:nvPr/>
        </p:nvSpPr>
        <p:spPr>
          <a:xfrm>
            <a:off x="369720" y="39625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n, using classical brute force, check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427120" y="2209680"/>
            <a:ext cx="64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sk the QC to send back (quickly!) sample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 distribution over n-bit strings obtained by applying C to 0…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2"/>
          <p:cNvGraphicFramePr/>
          <p:nvPr/>
        </p:nvGraphicFramePr>
        <p:xfrm>
          <a:off x="473040" y="4446720"/>
          <a:ext cx="546732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4446720"/>
                    <a:ext cx="54673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3"/>
          <p:cNvSpPr/>
          <p:nvPr/>
        </p:nvSpPr>
        <p:spPr>
          <a:xfrm>
            <a:off x="380880" y="60958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some constant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1"/>
          <p:cNvGrpSpPr/>
          <p:nvPr/>
        </p:nvGrpSpPr>
        <p:grpSpPr>
          <a:xfrm>
            <a:off x="934920" y="1504800"/>
            <a:ext cx="662040" cy="1406520"/>
            <a:chOff x="934920" y="1504800"/>
            <a:chExt cx="662040" cy="1406520"/>
          </a:xfrm>
        </p:grpSpPr>
        <p:sp>
          <p:nvSpPr>
            <p:cNvPr id="156" name="Straight Connector 42"/>
            <p:cNvSpPr/>
            <p:nvPr/>
          </p:nvSpPr>
          <p:spPr>
            <a:xfrm>
              <a:off x="971280" y="150480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traight Connector 43"/>
            <p:cNvSpPr/>
            <p:nvPr/>
          </p:nvSpPr>
          <p:spPr>
            <a:xfrm>
              <a:off x="958680" y="19573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44"/>
            <p:cNvSpPr/>
            <p:nvPr/>
          </p:nvSpPr>
          <p:spPr>
            <a:xfrm>
              <a:off x="947520" y="244620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45"/>
            <p:cNvSpPr/>
            <p:nvPr/>
          </p:nvSpPr>
          <p:spPr>
            <a:xfrm>
              <a:off x="934920" y="28987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6"/>
          <p:cNvGrpSpPr/>
          <p:nvPr/>
        </p:nvGrpSpPr>
        <p:grpSpPr>
          <a:xfrm>
            <a:off x="479520" y="2498760"/>
            <a:ext cx="1631880" cy="350640"/>
            <a:chOff x="479520" y="2498760"/>
            <a:chExt cx="1631880" cy="350640"/>
          </a:xfrm>
        </p:grpSpPr>
        <p:sp>
          <p:nvSpPr>
            <p:cNvPr id="161" name="Straight Connector 47"/>
            <p:cNvSpPr/>
            <p:nvPr/>
          </p:nvSpPr>
          <p:spPr>
            <a:xfrm flipV="1">
              <a:off x="479520" y="249876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48"/>
            <p:cNvSpPr/>
            <p:nvPr/>
          </p:nvSpPr>
          <p:spPr>
            <a:xfrm flipV="1">
              <a:off x="1003320" y="250488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traight Connector 49"/>
            <p:cNvSpPr/>
            <p:nvPr/>
          </p:nvSpPr>
          <p:spPr>
            <a:xfrm flipV="1">
              <a:off x="1571760" y="251136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traight Connector 50"/>
            <p:cNvSpPr/>
            <p:nvPr/>
          </p:nvSpPr>
          <p:spPr>
            <a:xfrm flipV="1">
              <a:off x="2095560" y="251748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51"/>
          <p:cNvGrpSpPr/>
          <p:nvPr/>
        </p:nvGrpSpPr>
        <p:grpSpPr>
          <a:xfrm>
            <a:off x="490680" y="1545840"/>
            <a:ext cx="1631880" cy="351000"/>
            <a:chOff x="490680" y="1545840"/>
            <a:chExt cx="1631880" cy="351000"/>
          </a:xfrm>
        </p:grpSpPr>
        <p:sp>
          <p:nvSpPr>
            <p:cNvPr id="166" name="Straight Connector 52"/>
            <p:cNvSpPr/>
            <p:nvPr/>
          </p:nvSpPr>
          <p:spPr>
            <a:xfrm flipV="1">
              <a:off x="490680" y="15458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Straight Connector 53"/>
            <p:cNvSpPr/>
            <p:nvPr/>
          </p:nvSpPr>
          <p:spPr>
            <a:xfrm flipV="1">
              <a:off x="1014480" y="15519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Straight Connector 54"/>
            <p:cNvSpPr/>
            <p:nvPr/>
          </p:nvSpPr>
          <p:spPr>
            <a:xfrm flipV="1">
              <a:off x="1582920" y="15584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Straight Connector 55"/>
            <p:cNvSpPr/>
            <p:nvPr/>
          </p:nvSpPr>
          <p:spPr>
            <a:xfrm flipV="1">
              <a:off x="2106720" y="15645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56"/>
          <p:cNvGrpSpPr/>
          <p:nvPr/>
        </p:nvGrpSpPr>
        <p:grpSpPr>
          <a:xfrm>
            <a:off x="457200" y="2003040"/>
            <a:ext cx="1631880" cy="351000"/>
            <a:chOff x="457200" y="2003040"/>
            <a:chExt cx="1631880" cy="351000"/>
          </a:xfrm>
        </p:grpSpPr>
        <p:sp>
          <p:nvSpPr>
            <p:cNvPr id="171" name="Straight Connector 57"/>
            <p:cNvSpPr/>
            <p:nvPr/>
          </p:nvSpPr>
          <p:spPr>
            <a:xfrm flipV="1">
              <a:off x="457200" y="20030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58"/>
            <p:cNvSpPr/>
            <p:nvPr/>
          </p:nvSpPr>
          <p:spPr>
            <a:xfrm flipV="1">
              <a:off x="981000" y="20091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Straight Connector 59"/>
            <p:cNvSpPr/>
            <p:nvPr/>
          </p:nvSpPr>
          <p:spPr>
            <a:xfrm flipV="1">
              <a:off x="1549440" y="20156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Straight Connector 60"/>
            <p:cNvSpPr/>
            <p:nvPr/>
          </p:nvSpPr>
          <p:spPr>
            <a:xfrm flipV="1">
              <a:off x="2073240" y="20217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"/>
          <p:cNvSpPr/>
          <p:nvPr/>
        </p:nvSpPr>
        <p:spPr>
          <a:xfrm>
            <a:off x="6391440" y="4629240"/>
            <a:ext cx="2379600" cy="1800360"/>
          </a:xfrm>
          <a:prstGeom prst="rect">
            <a:avLst/>
          </a:prstGeom>
          <a:solidFill>
            <a:srgbClr val="ffffd5"/>
          </a:solidFill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oogle’s “Linear Cross-Entropy Benchmar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433440" y="3316320"/>
            <a:ext cx="5059440" cy="313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Object 10"/>
              <p:cNvSpPr txBox="1"/>
              <p:nvPr/>
            </p:nvSpPr>
            <p:spPr>
              <a:xfrm>
                <a:off x="4160880" y="5403960"/>
                <a:ext cx="676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1"/>
              <p:cNvSpPr txBox="1"/>
              <p:nvPr/>
            </p:nvSpPr>
            <p:spPr>
              <a:xfrm>
                <a:off x="811080" y="3449520"/>
                <a:ext cx="5079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Text Box 2"/>
          <p:cNvSpPr/>
          <p:nvPr/>
        </p:nvSpPr>
        <p:spPr>
          <a:xfrm>
            <a:off x="419040" y="2430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’s Going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43080" y="98748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ll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possible output strings are exponentially unlikely—but some are unlikelier than oth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6400800" y="5756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Speck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1" descr=""/>
          <p:cNvPicPr/>
          <p:nvPr/>
        </p:nvPicPr>
        <p:blipFill>
          <a:blip r:embed="rId2"/>
          <a:stretch/>
        </p:blipFill>
        <p:spPr>
          <a:xfrm>
            <a:off x="6095880" y="3309840"/>
            <a:ext cx="2438640" cy="2436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365040" y="1987560"/>
            <a:ext cx="8528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Picking uniformly at random will get samples of average probability 1/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, but an ideal QC will get 2/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30120" y="152280"/>
            <a:ext cx="850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IBM’s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406440" y="922320"/>
            <a:ext cx="8442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Using Summit, the largest supercomputer currently on earth—which fills 2 basketball courts and has 250 petabytes of hard disk—it should be possible to simulate Google’s 3-minute calculation in ~2.5 days, rather than the 10,000 years Google estim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https://upload.wikimedia.org/wikipedia/commons/thumb/b/b4/Summit_%28supercomputer%29.jpg/1024px-Summit_%28supercomputer%29.jpg"/>
          <p:cNvPicPr/>
          <p:nvPr/>
        </p:nvPicPr>
        <p:blipFill>
          <a:blip r:embed="rId1"/>
          <a:stretch/>
        </p:blipFill>
        <p:spPr>
          <a:xfrm>
            <a:off x="5114880" y="3635280"/>
            <a:ext cx="4029120" cy="32227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330120" y="3429000"/>
            <a:ext cx="37846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How?  By storing all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5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~ 9 quadrillion amplitudes to disk and doing a “naïve Sch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dinger simulatio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3100320" y="5075280"/>
            <a:ext cx="15429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30120" y="152280"/>
            <a:ext cx="850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Is There A 2</a:t>
            </a:r>
            <a:r>
              <a:rPr b="1" lang="en-US" sz="4400" spc="-1" strike="noStrike" baseline="30000">
                <a:solidFill>
                  <a:srgbClr val="0070c0"/>
                </a:solidFill>
                <a:latin typeface="Calibri"/>
              </a:rPr>
              <a:t>n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Barri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36520" y="3170160"/>
            <a:ext cx="88311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Theorem (A.-Chen 2017, A.-Gunn 2019)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f there’s a classical algorithm to spoof Linear XEB in &lt;&lt;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time, then there’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lso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 fast classical algorithm that estimates a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pecifi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output probability like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|C|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with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light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better variance than always guessing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36520" y="1143000"/>
          <a:ext cx="8610480" cy="1828800"/>
        </p:xfrm>
        <a:graphic>
          <a:graphicData uri="http://schemas.openxmlformats.org/drawingml/2006/table">
            <a:tbl>
              <a:tblPr/>
              <a:tblGrid>
                <a:gridCol w="5010120"/>
                <a:gridCol w="2270160"/>
                <a:gridCol w="1330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ical Simulation Algorith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m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ö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n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n=#qubi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yn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m=#gat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ö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nger-Feynman </a:t>
                      </a: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Calibri"/>
                        </a:rPr>
                        <a:t>(A.-Chen 201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d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d=dep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92" name="Text Box 3"/>
          <p:cNvSpPr/>
          <p:nvPr/>
        </p:nvSpPr>
        <p:spPr>
          <a:xfrm>
            <a:off x="236520" y="5657760"/>
            <a:ext cx="8831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roof Idea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First hide which output z you care about.  Then run the spoofing algorithm and see if it outputs 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 Aaronson</cp:lastModifiedBy>
  <dcterms:modified xsi:type="dcterms:W3CDTF">2020-01-29T15:22:03Z</dcterms:modified>
  <cp:revision>508</cp:revision>
  <dc:subject/>
  <dc:title>BQP and the Polynomial Hierarchy</dc:title>
</cp:coreProperties>
</file>