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9DD-51D9-42F7-9C9B-C76A35F8F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F43-0FAF-478A-8B6C-A9CC9F358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46D6-B85B-4019-87F8-B69FD5C70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D79B-49B2-40B5-8736-88A5A450E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708-7697-474B-B45E-5D83369CB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D88-1B0B-42B7-8189-91DB6BA4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085-6753-4540-9CE9-DE151E758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E31-4204-44A8-A3DC-460606B73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1F86-55C0-4A30-9187-AFC462CAA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0A55-B516-4791-84C7-E2B1D10CF63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21D3-B586-41BD-83EA-B78DE51D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C4C-AE6B-40C4-A972-BCDB6722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95B6-789D-47D3-A0AA-0CC32EF1F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C14-8674-4982-9CE0-A8C523D5A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4D0-7306-4C43-93D0-E604BF753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468-7E32-4CD0-95E3-3D4E0513D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2F41-5F3D-4F65-B385-7626B541D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4360-DBD0-4D27-8D73-65C1ECFF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0BD-0952-491B-B7D6-A6919B7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A3B-4898-45ED-A5B3-0D6B22DC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BDF-6AB7-45ED-86B2-7496AC52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581-1876-4B1F-ACBC-E21CDC3C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C39-B6EA-4271-81BD-4BE7CF6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7C9-9FD0-4BE1-BAA2-69EAD43E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B8F-84A6-4008-AC94-86A0C4ED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D6A-964F-4899-B019-882999CA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267-9239-4B96-BDAA-7AC93F1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656-1A22-4D72-B0D8-C67F33B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BE8-9207-4DBD-8F28-FE0509F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BD8-CCDD-4BD1-B6F0-BA089CB2B6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6F9-996C-4A8B-B508-98FE400C0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446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ell University, November 27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joint works with Alex Arkhipov (STOC’2011) and with Lijie Chen (CCC’2017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s and slides at www.scottaaronso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omplexity-Theoretic Foundations of Quantum Supremacy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868320" y="1905120"/>
            <a:ext cx="2819520" cy="1920600"/>
          </a:xfrm>
          <a:prstGeom prst="rect">
            <a:avLst/>
          </a:prstGeom>
          <a:ln w="0">
            <a:noFill/>
          </a:ln>
        </p:spPr>
      </p:pic>
      <p:sp>
        <p:nvSpPr>
          <p:cNvPr id="51" name="Oval 11"/>
          <p:cNvSpPr/>
          <p:nvPr/>
        </p:nvSpPr>
        <p:spPr>
          <a:xfrm>
            <a:off x="5364000" y="1709640"/>
            <a:ext cx="2743200" cy="231156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68920" y="1887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Q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608800" y="2871720"/>
            <a:ext cx="219384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745240" y="3100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S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8"/>
          <p:cNvGrpSpPr/>
          <p:nvPr/>
        </p:nvGrpSpPr>
        <p:grpSpPr>
          <a:xfrm>
            <a:off x="271440" y="838080"/>
            <a:ext cx="8626320" cy="5337360"/>
            <a:chOff x="271440" y="838080"/>
            <a:chExt cx="8626320" cy="5337360"/>
          </a:xfrm>
        </p:grpSpPr>
        <p:pic>
          <p:nvPicPr>
            <p:cNvPr id="282" name="Picture 2" descr=""/>
            <p:cNvPicPr/>
            <p:nvPr/>
          </p:nvPicPr>
          <p:blipFill>
            <a:blip r:embed="rId1"/>
            <a:stretch/>
          </p:blipFill>
          <p:spPr>
            <a:xfrm>
              <a:off x="271440" y="838080"/>
              <a:ext cx="8626320" cy="5337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83" name="Object 10"/>
                <p:cNvSpPr txBox="1"/>
                <p:nvPr/>
              </p:nvSpPr>
              <p:spPr>
                <a:xfrm>
                  <a:off x="6626880" y="4398480"/>
                  <a:ext cx="1151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11"/>
                <p:cNvSpPr txBox="1"/>
                <p:nvPr/>
              </p:nvSpPr>
              <p:spPr>
                <a:xfrm>
                  <a:off x="916200" y="1064160"/>
                  <a:ext cx="863640" cy="76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Straight Connector 12"/>
            <p:cNvSpPr/>
            <p:nvPr/>
          </p:nvSpPr>
          <p:spPr>
            <a:xfrm flipV="1">
              <a:off x="1402200" y="4612320"/>
              <a:ext cx="0" cy="1563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traight Connector 13"/>
            <p:cNvSpPr/>
            <p:nvPr/>
          </p:nvSpPr>
          <p:spPr>
            <a:xfrm flipV="1">
              <a:off x="1946880" y="4193280"/>
              <a:ext cx="0" cy="19821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traight Connector 14"/>
            <p:cNvSpPr/>
            <p:nvPr/>
          </p:nvSpPr>
          <p:spPr>
            <a:xfrm flipV="1">
              <a:off x="2491560" y="4297680"/>
              <a:ext cx="0" cy="1877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traight Connector 15"/>
            <p:cNvSpPr/>
            <p:nvPr/>
          </p:nvSpPr>
          <p:spPr>
            <a:xfrm flipV="1">
              <a:off x="3035880" y="4402800"/>
              <a:ext cx="0" cy="1772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traight Connector 16"/>
            <p:cNvSpPr/>
            <p:nvPr/>
          </p:nvSpPr>
          <p:spPr>
            <a:xfrm flipV="1">
              <a:off x="3517560" y="4297680"/>
              <a:ext cx="0" cy="1877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17"/>
            <p:cNvSpPr/>
            <p:nvPr/>
          </p:nvSpPr>
          <p:spPr>
            <a:xfrm flipV="1">
              <a:off x="4069440" y="4612320"/>
              <a:ext cx="0" cy="15631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traight Connector 18"/>
            <p:cNvSpPr/>
            <p:nvPr/>
          </p:nvSpPr>
          <p:spPr>
            <a:xfrm flipV="1">
              <a:off x="458460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traight Connector 19"/>
            <p:cNvSpPr/>
            <p:nvPr/>
          </p:nvSpPr>
          <p:spPr>
            <a:xfrm flipV="1">
              <a:off x="5088600" y="4821120"/>
              <a:ext cx="0" cy="13539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traight Connector 20"/>
            <p:cNvSpPr/>
            <p:nvPr/>
          </p:nvSpPr>
          <p:spPr>
            <a:xfrm flipV="1">
              <a:off x="5612040" y="5184000"/>
              <a:ext cx="0" cy="99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traight Connector 21"/>
            <p:cNvSpPr/>
            <p:nvPr/>
          </p:nvSpPr>
          <p:spPr>
            <a:xfrm flipV="1">
              <a:off x="6135840" y="5030640"/>
              <a:ext cx="0" cy="11444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traight Connector 22"/>
            <p:cNvSpPr/>
            <p:nvPr/>
          </p:nvSpPr>
          <p:spPr>
            <a:xfrm flipV="1">
              <a:off x="6659280" y="5289120"/>
              <a:ext cx="0" cy="886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traight Connector 23"/>
            <p:cNvSpPr/>
            <p:nvPr/>
          </p:nvSpPr>
          <p:spPr>
            <a:xfrm flipV="1">
              <a:off x="7183080" y="5550480"/>
              <a:ext cx="0" cy="624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traight Connector 24"/>
            <p:cNvSpPr/>
            <p:nvPr/>
          </p:nvSpPr>
          <p:spPr>
            <a:xfrm flipV="1">
              <a:off x="7811280" y="568008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traight Connector 25"/>
            <p:cNvSpPr/>
            <p:nvPr/>
          </p:nvSpPr>
          <p:spPr>
            <a:xfrm flipV="1">
              <a:off x="8335080" y="5550480"/>
              <a:ext cx="0" cy="624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traight Connector 26"/>
            <p:cNvSpPr/>
            <p:nvPr/>
          </p:nvSpPr>
          <p:spPr>
            <a:xfrm flipV="1">
              <a:off x="794880" y="4926240"/>
              <a:ext cx="0" cy="1249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4038480" y="447840"/>
            <a:ext cx="37213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Strong Hardness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4308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no polynomial-time classical algorithm A such that, given a uniformly-random quantum circuit C with n qubits and m&gt;&gt;n g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"/>
              <p:cNvSpPr txBox="1"/>
              <p:nvPr/>
            </p:nvSpPr>
            <p:spPr>
              <a:xfrm>
                <a:off x="114480" y="2482920"/>
                <a:ext cx="8915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C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guesses whether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⟨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C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0</m:t>
                                </m:r>
                                <m:sSup>
                                  <m:e>
                                    <m:r>
                                      <m:t xml:space="preserve">⟩</m:t>
                                    </m:r>
                                  </m:e>
                                  <m:sup>
                                    <m:r>
                                      <m:t xml:space="preserve">⊗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median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Text Box 3"/>
          <p:cNvSpPr/>
          <p:nvPr/>
        </p:nvSpPr>
        <p:spPr>
          <a:xfrm>
            <a:off x="35244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olynomial-time classical algorithm that guesses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038480" y="4440240"/>
                <a:ext cx="1392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Text Box 3"/>
          <p:cNvSpPr/>
          <p:nvPr/>
        </p:nvSpPr>
        <p:spPr>
          <a:xfrm>
            <a:off x="914400" y="5486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just expand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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0|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C|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ut as a sum of 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terms, then sample a few random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330120" y="228600"/>
            <a:ext cx="8661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sume SHA.  Then given as input a random quantum circuit C, with n qubits and m&gt;&gt;n gates, there’s no polynomial-time classical algorithm that eve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sses our statistical test for C-sampl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80880" y="2057400"/>
            <a:ext cx="8382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iven a circuit C, first “hide” which amplitude we care about by applying a random XOR-mask to the outputs, producing a C’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"/>
              <p:cNvSpPr txBox="1"/>
              <p:nvPr/>
            </p:nvSpPr>
            <p:spPr>
              <a:xfrm>
                <a:off x="5078520" y="3013200"/>
                <a:ext cx="36846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Text Box 3"/>
          <p:cNvSpPr/>
          <p:nvPr/>
        </p:nvSpPr>
        <p:spPr>
          <a:xfrm>
            <a:off x="351000" y="3809880"/>
            <a:ext cx="83818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ow let A be a poly-time classical algorithm that passes the test for C’ with probabil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0.99.  Suppose A outputs samples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if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z for some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T], gu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2828880" y="5068800"/>
                <a:ext cx="3176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medi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Text Box 3"/>
          <p:cNvSpPr/>
          <p:nvPr/>
        </p:nvSpPr>
        <p:spPr>
          <a:xfrm>
            <a:off x="380880" y="5943600"/>
            <a:ext cx="541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therwise, guess that wit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5715000" y="5867280"/>
                <a:ext cx="1177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Text Box 3"/>
          <p:cNvSpPr/>
          <p:nvPr/>
        </p:nvSpPr>
        <p:spPr>
          <a:xfrm>
            <a:off x="7162920" y="5359320"/>
            <a:ext cx="1697040" cy="10688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Arial"/>
              </a:rPr>
              <a:t>Violates SH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457200" y="152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ime-Space Tradeoffs for Simulating 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80880" y="16192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general quantum circuit with n qubits and m&gt;&gt;n two-qubit gates, how should we simulate it class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8404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rödinger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ore whole wave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memory, O(m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Feasible but requires TB of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714920" y="3249720"/>
            <a:ext cx="4419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wa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m over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(m+n) memory, O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=40, m=1000: Infeasible but requires little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"/>
          <p:cNvSpPr/>
          <p:nvPr/>
        </p:nvSpPr>
        <p:spPr>
          <a:xfrm>
            <a:off x="4683240" y="2697120"/>
            <a:ext cx="0" cy="344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486400" y="6248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st of both wor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malaspina.com/jpg/schrodinger.jpg"/>
          <p:cNvPicPr/>
          <p:nvPr/>
        </p:nvPicPr>
        <p:blipFill>
          <a:blip r:embed="rId1"/>
          <a:stretch/>
        </p:blipFill>
        <p:spPr>
          <a:xfrm>
            <a:off x="3505320" y="2833560"/>
            <a:ext cx="963360" cy="111312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8"/>
          <p:cNvSpPr/>
          <p:nvPr/>
        </p:nvSpPr>
        <p:spPr>
          <a:xfrm>
            <a:off x="155520" y="-2484360"/>
            <a:ext cx="3772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2"/>
          <p:cNvSpPr/>
          <p:nvPr/>
        </p:nvSpPr>
        <p:spPr>
          <a:xfrm>
            <a:off x="457200" y="-2179800"/>
            <a:ext cx="3772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4" descr="http://doorofperception.com/wp-content/uploads/doorofperception.com-richard_feynman-2.jpg"/>
          <p:cNvPicPr/>
          <p:nvPr/>
        </p:nvPicPr>
        <p:blipFill>
          <a:blip r:embed="rId2"/>
          <a:stretch/>
        </p:blipFill>
        <p:spPr>
          <a:xfrm>
            <a:off x="7696080" y="2819520"/>
            <a:ext cx="88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297000" y="152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C be a quantum circuit with n qubits and d layers of gates.  Then we can compute each transition amplitud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|C|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ime and poly(n,d)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72960" y="3273480"/>
            <a:ext cx="838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vitch’s Theorem!  Recursively divide C into two chunk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d/2 layers each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"/>
              <p:cNvSpPr txBox="1"/>
              <p:nvPr/>
            </p:nvSpPr>
            <p:spPr>
              <a:xfrm>
                <a:off x="2095560" y="4362480"/>
                <a:ext cx="55688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z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z</m:t>
                            </m:r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30" name="Group 3"/>
          <p:cNvGrpSpPr/>
          <p:nvPr/>
        </p:nvGrpSpPr>
        <p:grpSpPr>
          <a:xfrm>
            <a:off x="2879640" y="1611360"/>
            <a:ext cx="3627360" cy="1587600"/>
            <a:chOff x="2879640" y="1611360"/>
            <a:chExt cx="3627360" cy="1587600"/>
          </a:xfrm>
        </p:grpSpPr>
        <p:pic>
          <p:nvPicPr>
            <p:cNvPr id="331" name="Picture 28" descr="http://cdn.iopscience.com/images/0295-5075/87/6/60008/Full/epl12145fig1.jpg"/>
            <p:cNvPicPr/>
            <p:nvPr/>
          </p:nvPicPr>
          <p:blipFill>
            <a:blip r:embed="rId1"/>
            <a:stretch/>
          </p:blipFill>
          <p:spPr>
            <a:xfrm>
              <a:off x="2879640" y="1760040"/>
              <a:ext cx="3627360" cy="14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Rounded Rectangle 2"/>
            <p:cNvSpPr/>
            <p:nvPr/>
          </p:nvSpPr>
          <p:spPr>
            <a:xfrm>
              <a:off x="3290760" y="1611360"/>
              <a:ext cx="1218960" cy="158760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587600"/>
                <a:gd name="textAreaBottom" fmla="*/ 1528200 h 1587600"/>
              </a:gdLst>
              <a:ahLst/>
              <a:rect l="textAreaLeft" t="textAreaTop" r="textAreaRight" b="textAreaBottom"/>
              <a:pathLst>
                <a:path w="21600" h="28130">
                  <a:moveTo>
                    <a:pt x="3600" y="0"/>
                  </a:moveTo>
                  <a:arcTo wR="3600" hR="3600" stAng="16200000" swAng="-5400000"/>
                  <a:lnTo>
                    <a:pt x="0" y="24530"/>
                  </a:lnTo>
                  <a:arcTo wR="3600" hR="3600" stAng="10800000" swAng="-5400000"/>
                  <a:lnTo>
                    <a:pt x="18000" y="281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b0f0">
                <a:alpha val="27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8"/>
            <p:cNvSpPr/>
            <p:nvPr/>
          </p:nvSpPr>
          <p:spPr>
            <a:xfrm>
              <a:off x="4521240" y="1611360"/>
              <a:ext cx="1436760" cy="158760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587600"/>
                <a:gd name="textAreaBottom" fmla="*/ 1517760 h 1587600"/>
              </a:gdLst>
              <a:ahLst/>
              <a:rect l="textAreaLeft" t="textAreaTop" r="textAreaRight" b="textAreaBottom"/>
              <a:pathLst>
                <a:path w="21600" h="23867">
                  <a:moveTo>
                    <a:pt x="3600" y="0"/>
                  </a:moveTo>
                  <a:arcTo wR="3600" hR="3600" stAng="16200000" swAng="-5400000"/>
                  <a:lnTo>
                    <a:pt x="0" y="20267"/>
                  </a:lnTo>
                  <a:arcTo wR="3600" hR="3600" stAng="10800000" swAng="-5400000"/>
                  <a:lnTo>
                    <a:pt x="18000" y="23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99694">
                <a:alpha val="27000"/>
              </a:srgbClr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3"/>
            <p:cNvSpPr/>
            <p:nvPr/>
          </p:nvSpPr>
          <p:spPr>
            <a:xfrm>
              <a:off x="3748320" y="240516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3"/>
            <p:cNvSpPr/>
            <p:nvPr/>
          </p:nvSpPr>
          <p:spPr>
            <a:xfrm>
              <a:off x="5239440" y="1894320"/>
              <a:ext cx="601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3"/>
          <p:cNvSpPr/>
          <p:nvPr/>
        </p:nvSpPr>
        <p:spPr>
          <a:xfrm>
            <a:off x="297000" y="5283360"/>
            <a:ext cx="83818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Can do better for nearest-neighbor circuits, or when more memory is 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Calibri"/>
                <a:ea typeface="Arial"/>
              </a:rPr>
              <a:t>This algorithm still doesn’t falsify the SHA!  Why no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379440" y="533520"/>
            <a:ext cx="8385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 About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 bit-flip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viation from the uniform distribution is suppressed by a 1/exp(k) factor.  Without error-correction, can only tolerate a few errors.  Will come down t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84120" y="3276720"/>
            <a:ext cx="8386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t month, Pednault et al. from IBM put out a preprint demonstrating the use of our recursive approach to simulate 50 qubits on a classical computing cluster.  Many commentators said this undercut the rationale for planned quantum supremacy experiments.  Truth is more like the oppos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8040" y="1066680"/>
            <a:ext cx="846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near future, we’ll likely be able to perform random quantum circuit sampling with ~50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358920" y="21924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w do we verify that something classically hard was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43080" y="3352680"/>
            <a:ext cx="846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theorists would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rgently called up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ink about this, even if there were nothing theoretically interesting to say.  But ther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84"/>
          <p:cNvGrpSpPr/>
          <p:nvPr/>
        </p:nvGrpSpPr>
        <p:grpSpPr>
          <a:xfrm>
            <a:off x="-1251000" y="-1047600"/>
            <a:ext cx="10801080" cy="12072240"/>
            <a:chOff x="-1251000" y="-1047600"/>
            <a:chExt cx="10801080" cy="12072240"/>
          </a:xfrm>
        </p:grpSpPr>
        <p:sp>
          <p:nvSpPr>
            <p:cNvPr id="56" name="Rectangle 133"/>
            <p:cNvSpPr/>
            <p:nvPr/>
          </p:nvSpPr>
          <p:spPr>
            <a:xfrm>
              <a:off x="-1247040" y="-1047600"/>
              <a:ext cx="10797120" cy="11988000"/>
            </a:xfrm>
            <a:prstGeom prst="rect">
              <a:avLst/>
            </a:prstGeom>
            <a:solidFill>
              <a:srgbClr val="0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34"/>
            <p:cNvSpPr/>
            <p:nvPr/>
          </p:nvSpPr>
          <p:spPr>
            <a:xfrm>
              <a:off x="-1247040" y="4446360"/>
              <a:ext cx="10797120" cy="6405840"/>
            </a:xfrm>
            <a:custGeom>
              <a:avLst/>
              <a:gdLst/>
              <a:ahLst/>
              <a:rect l="l" t="t" r="r" b="b"/>
              <a:pathLst>
                <a:path w="5612" h="2115">
                  <a:moveTo>
                    <a:pt x="215" y="2046"/>
                  </a:moveTo>
                  <a:lnTo>
                    <a:pt x="215" y="2046"/>
                  </a:lnTo>
                  <a:lnTo>
                    <a:pt x="312" y="2066"/>
                  </a:lnTo>
                  <a:lnTo>
                    <a:pt x="409" y="2085"/>
                  </a:lnTo>
                  <a:lnTo>
                    <a:pt x="517" y="2095"/>
                  </a:lnTo>
                  <a:lnTo>
                    <a:pt x="624" y="2105"/>
                  </a:lnTo>
                  <a:lnTo>
                    <a:pt x="1043" y="2105"/>
                  </a:lnTo>
                  <a:lnTo>
                    <a:pt x="1919" y="2115"/>
                  </a:lnTo>
                  <a:lnTo>
                    <a:pt x="2163" y="2115"/>
                  </a:lnTo>
                  <a:lnTo>
                    <a:pt x="2397" y="2105"/>
                  </a:lnTo>
                  <a:lnTo>
                    <a:pt x="2640" y="2095"/>
                  </a:lnTo>
                  <a:lnTo>
                    <a:pt x="2757" y="2076"/>
                  </a:lnTo>
                  <a:lnTo>
                    <a:pt x="2874" y="2056"/>
                  </a:lnTo>
                  <a:lnTo>
                    <a:pt x="3196" y="1968"/>
                  </a:lnTo>
                  <a:lnTo>
                    <a:pt x="3352" y="1929"/>
                  </a:lnTo>
                  <a:lnTo>
                    <a:pt x="3517" y="1900"/>
                  </a:lnTo>
                  <a:lnTo>
                    <a:pt x="4034" y="1832"/>
                  </a:lnTo>
                  <a:lnTo>
                    <a:pt x="4267" y="1812"/>
                  </a:lnTo>
                  <a:lnTo>
                    <a:pt x="4491" y="1803"/>
                  </a:lnTo>
                  <a:lnTo>
                    <a:pt x="4715" y="1803"/>
                  </a:lnTo>
                  <a:lnTo>
                    <a:pt x="4949" y="1803"/>
                  </a:lnTo>
                  <a:lnTo>
                    <a:pt x="5281" y="1812"/>
                  </a:lnTo>
                  <a:lnTo>
                    <a:pt x="5612" y="1812"/>
                  </a:lnTo>
                  <a:lnTo>
                    <a:pt x="5612" y="439"/>
                  </a:lnTo>
                  <a:lnTo>
                    <a:pt x="5573" y="468"/>
                  </a:lnTo>
                  <a:lnTo>
                    <a:pt x="5573" y="409"/>
                  </a:lnTo>
                  <a:lnTo>
                    <a:pt x="5563" y="371"/>
                  </a:lnTo>
                  <a:lnTo>
                    <a:pt x="5534" y="322"/>
                  </a:lnTo>
                  <a:lnTo>
                    <a:pt x="5495" y="293"/>
                  </a:lnTo>
                  <a:lnTo>
                    <a:pt x="5446" y="263"/>
                  </a:lnTo>
                  <a:lnTo>
                    <a:pt x="5397" y="234"/>
                  </a:lnTo>
                  <a:lnTo>
                    <a:pt x="5339" y="224"/>
                  </a:lnTo>
                  <a:lnTo>
                    <a:pt x="5290" y="215"/>
                  </a:lnTo>
                  <a:lnTo>
                    <a:pt x="5242" y="205"/>
                  </a:lnTo>
                  <a:lnTo>
                    <a:pt x="5193" y="215"/>
                  </a:lnTo>
                  <a:lnTo>
                    <a:pt x="5154" y="234"/>
                  </a:lnTo>
                  <a:lnTo>
                    <a:pt x="5115" y="254"/>
                  </a:lnTo>
                  <a:lnTo>
                    <a:pt x="5086" y="273"/>
                  </a:lnTo>
                  <a:lnTo>
                    <a:pt x="5056" y="312"/>
                  </a:lnTo>
                  <a:lnTo>
                    <a:pt x="4998" y="390"/>
                  </a:lnTo>
                  <a:lnTo>
                    <a:pt x="4988" y="312"/>
                  </a:lnTo>
                  <a:lnTo>
                    <a:pt x="4979" y="244"/>
                  </a:lnTo>
                  <a:lnTo>
                    <a:pt x="4979" y="215"/>
                  </a:lnTo>
                  <a:lnTo>
                    <a:pt x="4959" y="185"/>
                  </a:lnTo>
                  <a:lnTo>
                    <a:pt x="4940" y="156"/>
                  </a:lnTo>
                  <a:lnTo>
                    <a:pt x="4910" y="117"/>
                  </a:lnTo>
                  <a:lnTo>
                    <a:pt x="4862" y="88"/>
                  </a:lnTo>
                  <a:lnTo>
                    <a:pt x="4813" y="59"/>
                  </a:lnTo>
                  <a:lnTo>
                    <a:pt x="4764" y="49"/>
                  </a:lnTo>
                  <a:lnTo>
                    <a:pt x="4706" y="30"/>
                  </a:lnTo>
                  <a:lnTo>
                    <a:pt x="4599" y="20"/>
                  </a:lnTo>
                  <a:lnTo>
                    <a:pt x="4482" y="20"/>
                  </a:lnTo>
                  <a:lnTo>
                    <a:pt x="4384" y="30"/>
                  </a:lnTo>
                  <a:lnTo>
                    <a:pt x="4287" y="59"/>
                  </a:lnTo>
                  <a:lnTo>
                    <a:pt x="4209" y="98"/>
                  </a:lnTo>
                  <a:lnTo>
                    <a:pt x="4131" y="146"/>
                  </a:lnTo>
                  <a:lnTo>
                    <a:pt x="4063" y="215"/>
                  </a:lnTo>
                  <a:lnTo>
                    <a:pt x="4014" y="293"/>
                  </a:lnTo>
                  <a:lnTo>
                    <a:pt x="3975" y="380"/>
                  </a:lnTo>
                  <a:lnTo>
                    <a:pt x="3956" y="478"/>
                  </a:lnTo>
                  <a:lnTo>
                    <a:pt x="3956" y="468"/>
                  </a:lnTo>
                  <a:lnTo>
                    <a:pt x="3946" y="458"/>
                  </a:lnTo>
                  <a:lnTo>
                    <a:pt x="3839" y="409"/>
                  </a:lnTo>
                  <a:lnTo>
                    <a:pt x="3722" y="361"/>
                  </a:lnTo>
                  <a:lnTo>
                    <a:pt x="3605" y="322"/>
                  </a:lnTo>
                  <a:lnTo>
                    <a:pt x="3478" y="293"/>
                  </a:lnTo>
                  <a:lnTo>
                    <a:pt x="3235" y="263"/>
                  </a:lnTo>
                  <a:lnTo>
                    <a:pt x="3186" y="283"/>
                  </a:lnTo>
                  <a:lnTo>
                    <a:pt x="3137" y="312"/>
                  </a:lnTo>
                  <a:lnTo>
                    <a:pt x="3098" y="341"/>
                  </a:lnTo>
                  <a:lnTo>
                    <a:pt x="3050" y="351"/>
                  </a:lnTo>
                  <a:lnTo>
                    <a:pt x="3001" y="341"/>
                  </a:lnTo>
                  <a:lnTo>
                    <a:pt x="2952" y="322"/>
                  </a:lnTo>
                  <a:lnTo>
                    <a:pt x="2894" y="293"/>
                  </a:lnTo>
                  <a:lnTo>
                    <a:pt x="2845" y="263"/>
                  </a:lnTo>
                  <a:lnTo>
                    <a:pt x="2748" y="195"/>
                  </a:lnTo>
                  <a:lnTo>
                    <a:pt x="2689" y="176"/>
                  </a:lnTo>
                  <a:lnTo>
                    <a:pt x="2640" y="156"/>
                  </a:lnTo>
                  <a:lnTo>
                    <a:pt x="2553" y="156"/>
                  </a:lnTo>
                  <a:lnTo>
                    <a:pt x="2465" y="176"/>
                  </a:lnTo>
                  <a:lnTo>
                    <a:pt x="2397" y="205"/>
                  </a:lnTo>
                  <a:lnTo>
                    <a:pt x="2319" y="244"/>
                  </a:lnTo>
                  <a:lnTo>
                    <a:pt x="2299" y="215"/>
                  </a:lnTo>
                  <a:lnTo>
                    <a:pt x="2280" y="185"/>
                  </a:lnTo>
                  <a:lnTo>
                    <a:pt x="2221" y="137"/>
                  </a:lnTo>
                  <a:lnTo>
                    <a:pt x="2153" y="98"/>
                  </a:lnTo>
                  <a:lnTo>
                    <a:pt x="2075" y="68"/>
                  </a:lnTo>
                  <a:lnTo>
                    <a:pt x="1997" y="59"/>
                  </a:lnTo>
                  <a:lnTo>
                    <a:pt x="1958" y="68"/>
                  </a:lnTo>
                  <a:lnTo>
                    <a:pt x="1919" y="78"/>
                  </a:lnTo>
                  <a:lnTo>
                    <a:pt x="1890" y="88"/>
                  </a:lnTo>
                  <a:lnTo>
                    <a:pt x="1861" y="117"/>
                  </a:lnTo>
                  <a:lnTo>
                    <a:pt x="1842" y="146"/>
                  </a:lnTo>
                  <a:lnTo>
                    <a:pt x="1822" y="185"/>
                  </a:lnTo>
                  <a:lnTo>
                    <a:pt x="1812" y="137"/>
                  </a:lnTo>
                  <a:lnTo>
                    <a:pt x="1783" y="98"/>
                  </a:lnTo>
                  <a:lnTo>
                    <a:pt x="1754" y="68"/>
                  </a:lnTo>
                  <a:lnTo>
                    <a:pt x="1705" y="49"/>
                  </a:lnTo>
                  <a:lnTo>
                    <a:pt x="1656" y="30"/>
                  </a:lnTo>
                  <a:lnTo>
                    <a:pt x="1608" y="10"/>
                  </a:lnTo>
                  <a:lnTo>
                    <a:pt x="1491" y="0"/>
                  </a:lnTo>
                  <a:lnTo>
                    <a:pt x="1384" y="10"/>
                  </a:lnTo>
                  <a:lnTo>
                    <a:pt x="1306" y="30"/>
                  </a:lnTo>
                  <a:lnTo>
                    <a:pt x="1237" y="68"/>
                  </a:lnTo>
                  <a:lnTo>
                    <a:pt x="1179" y="117"/>
                  </a:lnTo>
                  <a:lnTo>
                    <a:pt x="1130" y="176"/>
                  </a:lnTo>
                  <a:lnTo>
                    <a:pt x="1082" y="254"/>
                  </a:lnTo>
                  <a:lnTo>
                    <a:pt x="984" y="429"/>
                  </a:lnTo>
                  <a:lnTo>
                    <a:pt x="945" y="380"/>
                  </a:lnTo>
                  <a:lnTo>
                    <a:pt x="906" y="341"/>
                  </a:lnTo>
                  <a:lnTo>
                    <a:pt x="858" y="332"/>
                  </a:lnTo>
                  <a:lnTo>
                    <a:pt x="799" y="322"/>
                  </a:lnTo>
                  <a:lnTo>
                    <a:pt x="741" y="332"/>
                  </a:lnTo>
                  <a:lnTo>
                    <a:pt x="682" y="341"/>
                  </a:lnTo>
                  <a:lnTo>
                    <a:pt x="565" y="390"/>
                  </a:lnTo>
                  <a:lnTo>
                    <a:pt x="517" y="409"/>
                  </a:lnTo>
                  <a:lnTo>
                    <a:pt x="468" y="439"/>
                  </a:lnTo>
                  <a:lnTo>
                    <a:pt x="429" y="478"/>
                  </a:lnTo>
                  <a:lnTo>
                    <a:pt x="390" y="507"/>
                  </a:lnTo>
                  <a:lnTo>
                    <a:pt x="341" y="575"/>
                  </a:lnTo>
                  <a:lnTo>
                    <a:pt x="312" y="643"/>
                  </a:lnTo>
                  <a:lnTo>
                    <a:pt x="292" y="604"/>
                  </a:lnTo>
                  <a:lnTo>
                    <a:pt x="263" y="556"/>
                  </a:lnTo>
                  <a:lnTo>
                    <a:pt x="234" y="517"/>
                  </a:lnTo>
                  <a:lnTo>
                    <a:pt x="185" y="487"/>
                  </a:lnTo>
                  <a:lnTo>
                    <a:pt x="146" y="458"/>
                  </a:lnTo>
                  <a:lnTo>
                    <a:pt x="98" y="439"/>
                  </a:lnTo>
                  <a:lnTo>
                    <a:pt x="49" y="439"/>
                  </a:lnTo>
                  <a:lnTo>
                    <a:pt x="0" y="458"/>
                  </a:lnTo>
                  <a:lnTo>
                    <a:pt x="0" y="1842"/>
                  </a:lnTo>
                  <a:lnTo>
                    <a:pt x="39" y="1910"/>
                  </a:lnTo>
                  <a:lnTo>
                    <a:pt x="88" y="1968"/>
                  </a:lnTo>
                  <a:lnTo>
                    <a:pt x="146" y="2007"/>
                  </a:lnTo>
                  <a:lnTo>
                    <a:pt x="215" y="2046"/>
                  </a:lnTo>
                  <a:close/>
                </a:path>
              </a:pathLst>
            </a:custGeom>
            <a:solidFill>
              <a:srgbClr val="206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5"/>
            <p:cNvSpPr/>
            <p:nvPr/>
          </p:nvSpPr>
          <p:spPr>
            <a:xfrm>
              <a:off x="-1251000" y="3356280"/>
              <a:ext cx="10801080" cy="7668360"/>
            </a:xfrm>
            <a:custGeom>
              <a:avLst/>
              <a:gdLst/>
              <a:ahLst/>
              <a:rect l="l" t="t" r="r" b="b"/>
              <a:pathLst>
                <a:path w="5614" h="2532">
                  <a:moveTo>
                    <a:pt x="2886" y="39"/>
                  </a:moveTo>
                  <a:lnTo>
                    <a:pt x="2642" y="282"/>
                  </a:lnTo>
                  <a:lnTo>
                    <a:pt x="2311" y="516"/>
                  </a:lnTo>
                  <a:lnTo>
                    <a:pt x="1892" y="711"/>
                  </a:lnTo>
                  <a:lnTo>
                    <a:pt x="1580" y="877"/>
                  </a:lnTo>
                  <a:lnTo>
                    <a:pt x="1249" y="1091"/>
                  </a:lnTo>
                  <a:lnTo>
                    <a:pt x="1006" y="1188"/>
                  </a:lnTo>
                  <a:lnTo>
                    <a:pt x="908" y="1188"/>
                  </a:lnTo>
                  <a:lnTo>
                    <a:pt x="733" y="1159"/>
                  </a:lnTo>
                  <a:lnTo>
                    <a:pt x="606" y="1247"/>
                  </a:lnTo>
                  <a:lnTo>
                    <a:pt x="402" y="1335"/>
                  </a:lnTo>
                  <a:lnTo>
                    <a:pt x="148" y="1510"/>
                  </a:lnTo>
                  <a:lnTo>
                    <a:pt x="2" y="1598"/>
                  </a:lnTo>
                  <a:lnTo>
                    <a:pt x="0" y="2532"/>
                  </a:lnTo>
                  <a:lnTo>
                    <a:pt x="5592" y="2504"/>
                  </a:lnTo>
                  <a:lnTo>
                    <a:pt x="5614" y="1559"/>
                  </a:lnTo>
                  <a:lnTo>
                    <a:pt x="5302" y="1461"/>
                  </a:lnTo>
                  <a:lnTo>
                    <a:pt x="5039" y="1325"/>
                  </a:lnTo>
                  <a:lnTo>
                    <a:pt x="4786" y="1149"/>
                  </a:lnTo>
                  <a:lnTo>
                    <a:pt x="4347" y="828"/>
                  </a:lnTo>
                  <a:lnTo>
                    <a:pt x="3987" y="614"/>
                  </a:lnTo>
                  <a:lnTo>
                    <a:pt x="3685" y="419"/>
                  </a:lnTo>
                  <a:lnTo>
                    <a:pt x="3441" y="195"/>
                  </a:lnTo>
                  <a:lnTo>
                    <a:pt x="3305" y="10"/>
                  </a:lnTo>
                  <a:lnTo>
                    <a:pt x="3198" y="48"/>
                  </a:lnTo>
                  <a:lnTo>
                    <a:pt x="3100" y="48"/>
                  </a:lnTo>
                  <a:lnTo>
                    <a:pt x="3042" y="0"/>
                  </a:lnTo>
                  <a:lnTo>
                    <a:pt x="2983" y="68"/>
                  </a:lnTo>
                  <a:lnTo>
                    <a:pt x="2886" y="39"/>
                  </a:lnTo>
                  <a:close/>
                </a:path>
              </a:pathLst>
            </a:custGeom>
            <a:solidFill>
              <a:srgbClr val="4d5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6"/>
            <p:cNvSpPr/>
            <p:nvPr/>
          </p:nvSpPr>
          <p:spPr>
            <a:xfrm>
              <a:off x="2764080" y="3386520"/>
              <a:ext cx="4386600" cy="3567960"/>
            </a:xfrm>
            <a:custGeom>
              <a:avLst/>
              <a:gdLst/>
              <a:ahLst/>
              <a:rect l="l" t="t" r="r" b="b"/>
              <a:pathLst>
                <a:path w="2280" h="1178">
                  <a:moveTo>
                    <a:pt x="818" y="29"/>
                  </a:moveTo>
                  <a:lnTo>
                    <a:pt x="643" y="175"/>
                  </a:lnTo>
                  <a:lnTo>
                    <a:pt x="575" y="311"/>
                  </a:lnTo>
                  <a:lnTo>
                    <a:pt x="468" y="428"/>
                  </a:lnTo>
                  <a:lnTo>
                    <a:pt x="312" y="516"/>
                  </a:lnTo>
                  <a:lnTo>
                    <a:pt x="97" y="623"/>
                  </a:lnTo>
                  <a:lnTo>
                    <a:pt x="0" y="701"/>
                  </a:lnTo>
                  <a:lnTo>
                    <a:pt x="214" y="613"/>
                  </a:lnTo>
                  <a:lnTo>
                    <a:pt x="390" y="535"/>
                  </a:lnTo>
                  <a:lnTo>
                    <a:pt x="516" y="467"/>
                  </a:lnTo>
                  <a:lnTo>
                    <a:pt x="253" y="633"/>
                  </a:lnTo>
                  <a:lnTo>
                    <a:pt x="166" y="740"/>
                  </a:lnTo>
                  <a:lnTo>
                    <a:pt x="166" y="808"/>
                  </a:lnTo>
                  <a:lnTo>
                    <a:pt x="302" y="682"/>
                  </a:lnTo>
                  <a:lnTo>
                    <a:pt x="487" y="565"/>
                  </a:lnTo>
                  <a:lnTo>
                    <a:pt x="565" y="604"/>
                  </a:lnTo>
                  <a:lnTo>
                    <a:pt x="721" y="555"/>
                  </a:lnTo>
                  <a:lnTo>
                    <a:pt x="624" y="672"/>
                  </a:lnTo>
                  <a:lnTo>
                    <a:pt x="624" y="808"/>
                  </a:lnTo>
                  <a:lnTo>
                    <a:pt x="711" y="672"/>
                  </a:lnTo>
                  <a:lnTo>
                    <a:pt x="789" y="701"/>
                  </a:lnTo>
                  <a:lnTo>
                    <a:pt x="877" y="798"/>
                  </a:lnTo>
                  <a:lnTo>
                    <a:pt x="955" y="828"/>
                  </a:lnTo>
                  <a:lnTo>
                    <a:pt x="974" y="1042"/>
                  </a:lnTo>
                  <a:lnTo>
                    <a:pt x="1042" y="1052"/>
                  </a:lnTo>
                  <a:lnTo>
                    <a:pt x="974" y="828"/>
                  </a:lnTo>
                  <a:lnTo>
                    <a:pt x="974" y="682"/>
                  </a:lnTo>
                  <a:lnTo>
                    <a:pt x="1004" y="798"/>
                  </a:lnTo>
                  <a:lnTo>
                    <a:pt x="1042" y="857"/>
                  </a:lnTo>
                  <a:lnTo>
                    <a:pt x="1023" y="750"/>
                  </a:lnTo>
                  <a:lnTo>
                    <a:pt x="1023" y="652"/>
                  </a:lnTo>
                  <a:lnTo>
                    <a:pt x="1101" y="759"/>
                  </a:lnTo>
                  <a:lnTo>
                    <a:pt x="1169" y="847"/>
                  </a:lnTo>
                  <a:lnTo>
                    <a:pt x="1218" y="730"/>
                  </a:lnTo>
                  <a:lnTo>
                    <a:pt x="1286" y="876"/>
                  </a:lnTo>
                  <a:lnTo>
                    <a:pt x="1306" y="974"/>
                  </a:lnTo>
                  <a:lnTo>
                    <a:pt x="1296" y="1071"/>
                  </a:lnTo>
                  <a:lnTo>
                    <a:pt x="1364" y="1178"/>
                  </a:lnTo>
                  <a:lnTo>
                    <a:pt x="1432" y="1169"/>
                  </a:lnTo>
                  <a:lnTo>
                    <a:pt x="1354" y="1003"/>
                  </a:lnTo>
                  <a:lnTo>
                    <a:pt x="1296" y="759"/>
                  </a:lnTo>
                  <a:lnTo>
                    <a:pt x="1354" y="789"/>
                  </a:lnTo>
                  <a:lnTo>
                    <a:pt x="1296" y="652"/>
                  </a:lnTo>
                  <a:lnTo>
                    <a:pt x="1296" y="565"/>
                  </a:lnTo>
                  <a:lnTo>
                    <a:pt x="1374" y="672"/>
                  </a:lnTo>
                  <a:lnTo>
                    <a:pt x="1452" y="779"/>
                  </a:lnTo>
                  <a:lnTo>
                    <a:pt x="1393" y="623"/>
                  </a:lnTo>
                  <a:lnTo>
                    <a:pt x="1500" y="759"/>
                  </a:lnTo>
                  <a:lnTo>
                    <a:pt x="1656" y="915"/>
                  </a:lnTo>
                  <a:lnTo>
                    <a:pt x="1773" y="1003"/>
                  </a:lnTo>
                  <a:lnTo>
                    <a:pt x="1754" y="886"/>
                  </a:lnTo>
                  <a:lnTo>
                    <a:pt x="1530" y="730"/>
                  </a:lnTo>
                  <a:lnTo>
                    <a:pt x="1500" y="623"/>
                  </a:lnTo>
                  <a:lnTo>
                    <a:pt x="1491" y="545"/>
                  </a:lnTo>
                  <a:lnTo>
                    <a:pt x="1539" y="594"/>
                  </a:lnTo>
                  <a:lnTo>
                    <a:pt x="1715" y="730"/>
                  </a:lnTo>
                  <a:lnTo>
                    <a:pt x="1822" y="798"/>
                  </a:lnTo>
                  <a:lnTo>
                    <a:pt x="1871" y="798"/>
                  </a:lnTo>
                  <a:lnTo>
                    <a:pt x="1783" y="701"/>
                  </a:lnTo>
                  <a:lnTo>
                    <a:pt x="1578" y="535"/>
                  </a:lnTo>
                  <a:lnTo>
                    <a:pt x="1510" y="409"/>
                  </a:lnTo>
                  <a:lnTo>
                    <a:pt x="1666" y="516"/>
                  </a:lnTo>
                  <a:lnTo>
                    <a:pt x="1832" y="652"/>
                  </a:lnTo>
                  <a:lnTo>
                    <a:pt x="1987" y="779"/>
                  </a:lnTo>
                  <a:lnTo>
                    <a:pt x="2212" y="915"/>
                  </a:lnTo>
                  <a:lnTo>
                    <a:pt x="2114" y="779"/>
                  </a:lnTo>
                  <a:lnTo>
                    <a:pt x="2280" y="857"/>
                  </a:lnTo>
                  <a:lnTo>
                    <a:pt x="2036" y="672"/>
                  </a:lnTo>
                  <a:lnTo>
                    <a:pt x="1705" y="448"/>
                  </a:lnTo>
                  <a:lnTo>
                    <a:pt x="1510" y="321"/>
                  </a:lnTo>
                  <a:lnTo>
                    <a:pt x="1364" y="185"/>
                  </a:lnTo>
                  <a:lnTo>
                    <a:pt x="1247" y="0"/>
                  </a:lnTo>
                  <a:lnTo>
                    <a:pt x="1120" y="29"/>
                  </a:lnTo>
                  <a:lnTo>
                    <a:pt x="1062" y="58"/>
                  </a:lnTo>
                  <a:lnTo>
                    <a:pt x="984" y="0"/>
                  </a:lnTo>
                  <a:lnTo>
                    <a:pt x="926" y="68"/>
                  </a:lnTo>
                  <a:lnTo>
                    <a:pt x="818" y="29"/>
                  </a:lnTo>
                  <a:close/>
                </a:path>
              </a:pathLst>
            </a:custGeom>
            <a:solidFill>
              <a:srgbClr val="d8c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7"/>
            <p:cNvSpPr/>
            <p:nvPr/>
          </p:nvSpPr>
          <p:spPr>
            <a:xfrm>
              <a:off x="2877480" y="5451840"/>
              <a:ext cx="636840" cy="1120680"/>
            </a:xfrm>
            <a:custGeom>
              <a:avLst/>
              <a:gdLst/>
              <a:ahLst/>
              <a:rect l="l" t="t" r="r" b="b"/>
              <a:pathLst>
                <a:path w="331" h="370">
                  <a:moveTo>
                    <a:pt x="331" y="0"/>
                  </a:moveTo>
                  <a:lnTo>
                    <a:pt x="194" y="146"/>
                  </a:lnTo>
                  <a:lnTo>
                    <a:pt x="58" y="243"/>
                  </a:lnTo>
                  <a:lnTo>
                    <a:pt x="0" y="370"/>
                  </a:lnTo>
                  <a:lnTo>
                    <a:pt x="155" y="292"/>
                  </a:lnTo>
                  <a:lnTo>
                    <a:pt x="204" y="185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8"/>
            <p:cNvSpPr/>
            <p:nvPr/>
          </p:nvSpPr>
          <p:spPr>
            <a:xfrm>
              <a:off x="3926520" y="6130440"/>
              <a:ext cx="336240" cy="105948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49" y="0"/>
                  </a:moveTo>
                  <a:lnTo>
                    <a:pt x="156" y="136"/>
                  </a:lnTo>
                  <a:lnTo>
                    <a:pt x="175" y="253"/>
                  </a:lnTo>
                  <a:lnTo>
                    <a:pt x="175" y="350"/>
                  </a:lnTo>
                  <a:lnTo>
                    <a:pt x="156" y="253"/>
                  </a:lnTo>
                  <a:lnTo>
                    <a:pt x="0" y="8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9"/>
            <p:cNvSpPr/>
            <p:nvPr/>
          </p:nvSpPr>
          <p:spPr>
            <a:xfrm>
              <a:off x="2277720" y="5864040"/>
              <a:ext cx="711360" cy="1032840"/>
            </a:xfrm>
            <a:custGeom>
              <a:avLst/>
              <a:gdLst/>
              <a:ahLst/>
              <a:rect l="l" t="t" r="r" b="b"/>
              <a:pathLst>
                <a:path w="370" h="341">
                  <a:moveTo>
                    <a:pt x="302" y="0"/>
                  </a:moveTo>
                  <a:lnTo>
                    <a:pt x="224" y="97"/>
                  </a:lnTo>
                  <a:lnTo>
                    <a:pt x="156" y="195"/>
                  </a:lnTo>
                  <a:lnTo>
                    <a:pt x="0" y="341"/>
                  </a:lnTo>
                  <a:lnTo>
                    <a:pt x="126" y="282"/>
                  </a:lnTo>
                  <a:lnTo>
                    <a:pt x="234" y="224"/>
                  </a:lnTo>
                  <a:lnTo>
                    <a:pt x="263" y="146"/>
                  </a:lnTo>
                  <a:lnTo>
                    <a:pt x="370" y="29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0"/>
            <p:cNvSpPr/>
            <p:nvPr/>
          </p:nvSpPr>
          <p:spPr>
            <a:xfrm>
              <a:off x="2314080" y="4152960"/>
              <a:ext cx="1556640" cy="1444320"/>
            </a:xfrm>
            <a:custGeom>
              <a:avLst/>
              <a:gdLst/>
              <a:ahLst/>
              <a:rect l="l" t="t" r="r" b="b"/>
              <a:pathLst>
                <a:path w="809" h="477">
                  <a:moveTo>
                    <a:pt x="809" y="0"/>
                  </a:moveTo>
                  <a:lnTo>
                    <a:pt x="663" y="107"/>
                  </a:lnTo>
                  <a:lnTo>
                    <a:pt x="468" y="214"/>
                  </a:lnTo>
                  <a:lnTo>
                    <a:pt x="244" y="351"/>
                  </a:lnTo>
                  <a:lnTo>
                    <a:pt x="0" y="477"/>
                  </a:lnTo>
                  <a:lnTo>
                    <a:pt x="117" y="438"/>
                  </a:lnTo>
                  <a:lnTo>
                    <a:pt x="263" y="360"/>
                  </a:lnTo>
                  <a:lnTo>
                    <a:pt x="458" y="282"/>
                  </a:lnTo>
                  <a:lnTo>
                    <a:pt x="614" y="214"/>
                  </a:lnTo>
                  <a:lnTo>
                    <a:pt x="731" y="127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41"/>
            <p:cNvSpPr/>
            <p:nvPr/>
          </p:nvSpPr>
          <p:spPr>
            <a:xfrm>
              <a:off x="3664800" y="6630480"/>
              <a:ext cx="261720" cy="795960"/>
            </a:xfrm>
            <a:custGeom>
              <a:avLst/>
              <a:gdLst/>
              <a:ahLst/>
              <a:rect l="l" t="t" r="r" b="b"/>
              <a:pathLst>
                <a:path w="136" h="263">
                  <a:moveTo>
                    <a:pt x="58" y="68"/>
                  </a:moveTo>
                  <a:lnTo>
                    <a:pt x="0" y="156"/>
                  </a:lnTo>
                  <a:lnTo>
                    <a:pt x="0" y="263"/>
                  </a:lnTo>
                  <a:lnTo>
                    <a:pt x="87" y="166"/>
                  </a:lnTo>
                  <a:lnTo>
                    <a:pt x="136" y="0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42"/>
            <p:cNvSpPr/>
            <p:nvPr/>
          </p:nvSpPr>
          <p:spPr>
            <a:xfrm>
              <a:off x="3251160" y="6690960"/>
              <a:ext cx="263520" cy="6174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78" y="39"/>
                  </a:moveTo>
                  <a:lnTo>
                    <a:pt x="0" y="204"/>
                  </a:lnTo>
                  <a:lnTo>
                    <a:pt x="78" y="185"/>
                  </a:lnTo>
                  <a:lnTo>
                    <a:pt x="137" y="0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3"/>
            <p:cNvSpPr/>
            <p:nvPr/>
          </p:nvSpPr>
          <p:spPr>
            <a:xfrm>
              <a:off x="2388960" y="6690960"/>
              <a:ext cx="731160" cy="67860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205" y="19"/>
                  </a:moveTo>
                  <a:lnTo>
                    <a:pt x="0" y="224"/>
                  </a:lnTo>
                  <a:lnTo>
                    <a:pt x="166" y="136"/>
                  </a:lnTo>
                  <a:lnTo>
                    <a:pt x="254" y="136"/>
                  </a:lnTo>
                  <a:lnTo>
                    <a:pt x="380" y="0"/>
                  </a:lnTo>
                  <a:lnTo>
                    <a:pt x="292" y="9"/>
                  </a:lnTo>
                  <a:lnTo>
                    <a:pt x="234" y="19"/>
                  </a:lnTo>
                  <a:lnTo>
                    <a:pt x="205" y="1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44"/>
            <p:cNvSpPr/>
            <p:nvPr/>
          </p:nvSpPr>
          <p:spPr>
            <a:xfrm>
              <a:off x="5933160" y="7190280"/>
              <a:ext cx="653760" cy="385200"/>
            </a:xfrm>
            <a:custGeom>
              <a:avLst/>
              <a:gdLst/>
              <a:ahLst/>
              <a:rect l="l" t="t" r="r" b="b"/>
              <a:pathLst>
                <a:path w="340" h="127">
                  <a:moveTo>
                    <a:pt x="0" y="0"/>
                  </a:moveTo>
                  <a:lnTo>
                    <a:pt x="224" y="10"/>
                  </a:lnTo>
                  <a:lnTo>
                    <a:pt x="282" y="39"/>
                  </a:lnTo>
                  <a:lnTo>
                    <a:pt x="340" y="127"/>
                  </a:lnTo>
                  <a:lnTo>
                    <a:pt x="185" y="117"/>
                  </a:lnTo>
                  <a:lnTo>
                    <a:pt x="175" y="88"/>
                  </a:lnTo>
                  <a:lnTo>
                    <a:pt x="165" y="49"/>
                  </a:lnTo>
                  <a:lnTo>
                    <a:pt x="126" y="30"/>
                  </a:lnTo>
                  <a:lnTo>
                    <a:pt x="2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5"/>
            <p:cNvSpPr/>
            <p:nvPr/>
          </p:nvSpPr>
          <p:spPr>
            <a:xfrm>
              <a:off x="3345480" y="3501000"/>
              <a:ext cx="1125360" cy="1741680"/>
            </a:xfrm>
            <a:custGeom>
              <a:avLst/>
              <a:gdLst/>
              <a:ahLst/>
              <a:rect l="l" t="t" r="r" b="b"/>
              <a:pathLst>
                <a:path w="585" h="575">
                  <a:moveTo>
                    <a:pt x="526" y="0"/>
                  </a:moveTo>
                  <a:lnTo>
                    <a:pt x="458" y="30"/>
                  </a:lnTo>
                  <a:lnTo>
                    <a:pt x="361" y="127"/>
                  </a:lnTo>
                  <a:lnTo>
                    <a:pt x="283" y="264"/>
                  </a:lnTo>
                  <a:lnTo>
                    <a:pt x="234" y="342"/>
                  </a:lnTo>
                  <a:lnTo>
                    <a:pt x="185" y="390"/>
                  </a:lnTo>
                  <a:lnTo>
                    <a:pt x="0" y="478"/>
                  </a:lnTo>
                  <a:lnTo>
                    <a:pt x="136" y="429"/>
                  </a:lnTo>
                  <a:lnTo>
                    <a:pt x="234" y="410"/>
                  </a:lnTo>
                  <a:lnTo>
                    <a:pt x="205" y="449"/>
                  </a:lnTo>
                  <a:lnTo>
                    <a:pt x="136" y="478"/>
                  </a:lnTo>
                  <a:lnTo>
                    <a:pt x="10" y="575"/>
                  </a:lnTo>
                  <a:lnTo>
                    <a:pt x="136" y="517"/>
                  </a:lnTo>
                  <a:lnTo>
                    <a:pt x="244" y="468"/>
                  </a:lnTo>
                  <a:lnTo>
                    <a:pt x="302" y="410"/>
                  </a:lnTo>
                  <a:lnTo>
                    <a:pt x="409" y="303"/>
                  </a:lnTo>
                  <a:lnTo>
                    <a:pt x="409" y="371"/>
                  </a:lnTo>
                  <a:lnTo>
                    <a:pt x="448" y="303"/>
                  </a:lnTo>
                  <a:lnTo>
                    <a:pt x="448" y="225"/>
                  </a:lnTo>
                  <a:lnTo>
                    <a:pt x="487" y="108"/>
                  </a:lnTo>
                  <a:lnTo>
                    <a:pt x="497" y="195"/>
                  </a:lnTo>
                  <a:lnTo>
                    <a:pt x="536" y="147"/>
                  </a:lnTo>
                  <a:lnTo>
                    <a:pt x="546" y="69"/>
                  </a:lnTo>
                  <a:lnTo>
                    <a:pt x="585" y="3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6"/>
            <p:cNvSpPr/>
            <p:nvPr/>
          </p:nvSpPr>
          <p:spPr>
            <a:xfrm>
              <a:off x="3982320" y="3531960"/>
              <a:ext cx="1275120" cy="2361960"/>
            </a:xfrm>
            <a:custGeom>
              <a:avLst/>
              <a:gdLst/>
              <a:ahLst/>
              <a:rect l="l" t="t" r="r" b="b"/>
              <a:pathLst>
                <a:path w="663" h="780">
                  <a:moveTo>
                    <a:pt x="273" y="117"/>
                  </a:moveTo>
                  <a:lnTo>
                    <a:pt x="137" y="361"/>
                  </a:lnTo>
                  <a:lnTo>
                    <a:pt x="88" y="458"/>
                  </a:lnTo>
                  <a:lnTo>
                    <a:pt x="39" y="556"/>
                  </a:lnTo>
                  <a:lnTo>
                    <a:pt x="0" y="614"/>
                  </a:lnTo>
                  <a:lnTo>
                    <a:pt x="0" y="673"/>
                  </a:lnTo>
                  <a:lnTo>
                    <a:pt x="49" y="624"/>
                  </a:lnTo>
                  <a:lnTo>
                    <a:pt x="127" y="487"/>
                  </a:lnTo>
                  <a:lnTo>
                    <a:pt x="127" y="556"/>
                  </a:lnTo>
                  <a:lnTo>
                    <a:pt x="156" y="585"/>
                  </a:lnTo>
                  <a:lnTo>
                    <a:pt x="185" y="526"/>
                  </a:lnTo>
                  <a:lnTo>
                    <a:pt x="234" y="400"/>
                  </a:lnTo>
                  <a:lnTo>
                    <a:pt x="263" y="439"/>
                  </a:lnTo>
                  <a:lnTo>
                    <a:pt x="263" y="507"/>
                  </a:lnTo>
                  <a:lnTo>
                    <a:pt x="224" y="575"/>
                  </a:lnTo>
                  <a:lnTo>
                    <a:pt x="215" y="702"/>
                  </a:lnTo>
                  <a:lnTo>
                    <a:pt x="254" y="624"/>
                  </a:lnTo>
                  <a:lnTo>
                    <a:pt x="293" y="546"/>
                  </a:lnTo>
                  <a:lnTo>
                    <a:pt x="302" y="322"/>
                  </a:lnTo>
                  <a:lnTo>
                    <a:pt x="341" y="224"/>
                  </a:lnTo>
                  <a:lnTo>
                    <a:pt x="371" y="283"/>
                  </a:lnTo>
                  <a:lnTo>
                    <a:pt x="361" y="400"/>
                  </a:lnTo>
                  <a:lnTo>
                    <a:pt x="361" y="487"/>
                  </a:lnTo>
                  <a:lnTo>
                    <a:pt x="409" y="351"/>
                  </a:lnTo>
                  <a:lnTo>
                    <a:pt x="419" y="439"/>
                  </a:lnTo>
                  <a:lnTo>
                    <a:pt x="419" y="536"/>
                  </a:lnTo>
                  <a:lnTo>
                    <a:pt x="448" y="604"/>
                  </a:lnTo>
                  <a:lnTo>
                    <a:pt x="468" y="565"/>
                  </a:lnTo>
                  <a:lnTo>
                    <a:pt x="487" y="370"/>
                  </a:lnTo>
                  <a:lnTo>
                    <a:pt x="536" y="400"/>
                  </a:lnTo>
                  <a:lnTo>
                    <a:pt x="575" y="546"/>
                  </a:lnTo>
                  <a:lnTo>
                    <a:pt x="565" y="653"/>
                  </a:lnTo>
                  <a:lnTo>
                    <a:pt x="556" y="711"/>
                  </a:lnTo>
                  <a:lnTo>
                    <a:pt x="575" y="780"/>
                  </a:lnTo>
                  <a:lnTo>
                    <a:pt x="604" y="731"/>
                  </a:lnTo>
                  <a:lnTo>
                    <a:pt x="614" y="673"/>
                  </a:lnTo>
                  <a:lnTo>
                    <a:pt x="634" y="760"/>
                  </a:lnTo>
                  <a:lnTo>
                    <a:pt x="663" y="692"/>
                  </a:lnTo>
                  <a:lnTo>
                    <a:pt x="634" y="546"/>
                  </a:lnTo>
                  <a:lnTo>
                    <a:pt x="634" y="400"/>
                  </a:lnTo>
                  <a:lnTo>
                    <a:pt x="546" y="205"/>
                  </a:lnTo>
                  <a:lnTo>
                    <a:pt x="487" y="78"/>
                  </a:lnTo>
                  <a:lnTo>
                    <a:pt x="429" y="0"/>
                  </a:lnTo>
                  <a:lnTo>
                    <a:pt x="361" y="0"/>
                  </a:lnTo>
                  <a:lnTo>
                    <a:pt x="341" y="88"/>
                  </a:lnTo>
                  <a:lnTo>
                    <a:pt x="293" y="49"/>
                  </a:lnTo>
                  <a:lnTo>
                    <a:pt x="273" y="117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7"/>
            <p:cNvSpPr/>
            <p:nvPr/>
          </p:nvSpPr>
          <p:spPr>
            <a:xfrm>
              <a:off x="4901760" y="3501000"/>
              <a:ext cx="1462320" cy="2420280"/>
            </a:xfrm>
            <a:custGeom>
              <a:avLst/>
              <a:gdLst/>
              <a:ahLst/>
              <a:rect l="l" t="t" r="r" b="b"/>
              <a:pathLst>
                <a:path w="760" h="799">
                  <a:moveTo>
                    <a:pt x="87" y="39"/>
                  </a:moveTo>
                  <a:lnTo>
                    <a:pt x="195" y="166"/>
                  </a:lnTo>
                  <a:lnTo>
                    <a:pt x="409" y="351"/>
                  </a:lnTo>
                  <a:lnTo>
                    <a:pt x="467" y="449"/>
                  </a:lnTo>
                  <a:lnTo>
                    <a:pt x="613" y="556"/>
                  </a:lnTo>
                  <a:lnTo>
                    <a:pt x="672" y="624"/>
                  </a:lnTo>
                  <a:lnTo>
                    <a:pt x="711" y="702"/>
                  </a:lnTo>
                  <a:lnTo>
                    <a:pt x="760" y="799"/>
                  </a:lnTo>
                  <a:lnTo>
                    <a:pt x="691" y="741"/>
                  </a:lnTo>
                  <a:lnTo>
                    <a:pt x="643" y="614"/>
                  </a:lnTo>
                  <a:lnTo>
                    <a:pt x="594" y="614"/>
                  </a:lnTo>
                  <a:lnTo>
                    <a:pt x="555" y="634"/>
                  </a:lnTo>
                  <a:lnTo>
                    <a:pt x="487" y="546"/>
                  </a:lnTo>
                  <a:lnTo>
                    <a:pt x="428" y="449"/>
                  </a:lnTo>
                  <a:lnTo>
                    <a:pt x="370" y="380"/>
                  </a:lnTo>
                  <a:lnTo>
                    <a:pt x="331" y="390"/>
                  </a:lnTo>
                  <a:lnTo>
                    <a:pt x="331" y="449"/>
                  </a:lnTo>
                  <a:lnTo>
                    <a:pt x="292" y="449"/>
                  </a:lnTo>
                  <a:lnTo>
                    <a:pt x="253" y="351"/>
                  </a:lnTo>
                  <a:lnTo>
                    <a:pt x="234" y="264"/>
                  </a:lnTo>
                  <a:lnTo>
                    <a:pt x="146" y="176"/>
                  </a:lnTo>
                  <a:lnTo>
                    <a:pt x="117" y="244"/>
                  </a:lnTo>
                  <a:lnTo>
                    <a:pt x="97" y="166"/>
                  </a:lnTo>
                  <a:lnTo>
                    <a:pt x="97" y="117"/>
                  </a:lnTo>
                  <a:lnTo>
                    <a:pt x="0" y="0"/>
                  </a:lnTo>
                  <a:lnTo>
                    <a:pt x="87" y="39"/>
                  </a:lnTo>
                  <a:close/>
                </a:path>
              </a:pathLst>
            </a:custGeom>
            <a:solidFill>
              <a:srgbClr val="f6e6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8"/>
            <p:cNvSpPr/>
            <p:nvPr/>
          </p:nvSpPr>
          <p:spPr>
            <a:xfrm>
              <a:off x="5933160" y="4800600"/>
              <a:ext cx="1254240" cy="1357200"/>
            </a:xfrm>
            <a:custGeom>
              <a:avLst/>
              <a:gdLst/>
              <a:ahLst/>
              <a:rect l="l" t="t" r="r" b="b"/>
              <a:pathLst>
                <a:path w="652" h="448">
                  <a:moveTo>
                    <a:pt x="0" y="0"/>
                  </a:moveTo>
                  <a:lnTo>
                    <a:pt x="116" y="49"/>
                  </a:lnTo>
                  <a:lnTo>
                    <a:pt x="263" y="146"/>
                  </a:lnTo>
                  <a:lnTo>
                    <a:pt x="350" y="215"/>
                  </a:lnTo>
                  <a:lnTo>
                    <a:pt x="477" y="263"/>
                  </a:lnTo>
                  <a:lnTo>
                    <a:pt x="565" y="331"/>
                  </a:lnTo>
                  <a:lnTo>
                    <a:pt x="652" y="448"/>
                  </a:lnTo>
                  <a:lnTo>
                    <a:pt x="545" y="361"/>
                  </a:lnTo>
                  <a:lnTo>
                    <a:pt x="418" y="283"/>
                  </a:lnTo>
                  <a:lnTo>
                    <a:pt x="399" y="322"/>
                  </a:lnTo>
                  <a:lnTo>
                    <a:pt x="272" y="234"/>
                  </a:lnTo>
                  <a:lnTo>
                    <a:pt x="243" y="156"/>
                  </a:lnTo>
                  <a:lnTo>
                    <a:pt x="12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9"/>
            <p:cNvSpPr/>
            <p:nvPr/>
          </p:nvSpPr>
          <p:spPr>
            <a:xfrm>
              <a:off x="4001760" y="5833800"/>
              <a:ext cx="244080" cy="85716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39" y="0"/>
                  </a:moveTo>
                  <a:lnTo>
                    <a:pt x="0" y="117"/>
                  </a:lnTo>
                  <a:lnTo>
                    <a:pt x="0" y="205"/>
                  </a:lnTo>
                  <a:lnTo>
                    <a:pt x="39" y="137"/>
                  </a:lnTo>
                  <a:lnTo>
                    <a:pt x="59" y="244"/>
                  </a:lnTo>
                  <a:lnTo>
                    <a:pt x="127" y="283"/>
                  </a:lnTo>
                  <a:lnTo>
                    <a:pt x="107" y="185"/>
                  </a:lnTo>
                  <a:lnTo>
                    <a:pt x="68" y="8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0"/>
            <p:cNvSpPr/>
            <p:nvPr/>
          </p:nvSpPr>
          <p:spPr>
            <a:xfrm>
              <a:off x="4696200" y="6660720"/>
              <a:ext cx="130320" cy="590400"/>
            </a:xfrm>
            <a:custGeom>
              <a:avLst/>
              <a:gdLst/>
              <a:ahLst/>
              <a:rect l="l" t="t" r="r" b="b"/>
              <a:pathLst>
                <a:path w="68" h="195">
                  <a:moveTo>
                    <a:pt x="0" y="0"/>
                  </a:moveTo>
                  <a:lnTo>
                    <a:pt x="19" y="88"/>
                  </a:lnTo>
                  <a:lnTo>
                    <a:pt x="68" y="195"/>
                  </a:lnTo>
                  <a:lnTo>
                    <a:pt x="5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1"/>
            <p:cNvSpPr/>
            <p:nvPr/>
          </p:nvSpPr>
          <p:spPr>
            <a:xfrm>
              <a:off x="5032440" y="6039720"/>
              <a:ext cx="74880" cy="472320"/>
            </a:xfrm>
            <a:custGeom>
              <a:avLst/>
              <a:gdLst/>
              <a:ahLst/>
              <a:rect l="l" t="t" r="r" b="b"/>
              <a:pathLst>
                <a:path w="39" h="156">
                  <a:moveTo>
                    <a:pt x="10" y="0"/>
                  </a:moveTo>
                  <a:lnTo>
                    <a:pt x="39" y="59"/>
                  </a:lnTo>
                  <a:lnTo>
                    <a:pt x="39" y="156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2"/>
            <p:cNvSpPr/>
            <p:nvPr/>
          </p:nvSpPr>
          <p:spPr>
            <a:xfrm>
              <a:off x="5407920" y="7103160"/>
              <a:ext cx="186480" cy="266400"/>
            </a:xfrm>
            <a:custGeom>
              <a:avLst/>
              <a:gdLst/>
              <a:ahLst/>
              <a:rect l="l" t="t" r="r" b="b"/>
              <a:pathLst>
                <a:path w="97" h="88">
                  <a:moveTo>
                    <a:pt x="48" y="0"/>
                  </a:moveTo>
                  <a:lnTo>
                    <a:pt x="97" y="8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3"/>
            <p:cNvSpPr/>
            <p:nvPr/>
          </p:nvSpPr>
          <p:spPr>
            <a:xfrm>
              <a:off x="6231240" y="6248520"/>
              <a:ext cx="208080" cy="411840"/>
            </a:xfrm>
            <a:custGeom>
              <a:avLst/>
              <a:gdLst/>
              <a:ahLst/>
              <a:rect l="l" t="t" r="r" b="b"/>
              <a:pathLst>
                <a:path w="108" h="136">
                  <a:moveTo>
                    <a:pt x="0" y="0"/>
                  </a:moveTo>
                  <a:lnTo>
                    <a:pt x="30" y="78"/>
                  </a:lnTo>
                  <a:lnTo>
                    <a:pt x="108" y="136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4"/>
            <p:cNvSpPr/>
            <p:nvPr/>
          </p:nvSpPr>
          <p:spPr>
            <a:xfrm>
              <a:off x="6364080" y="5803560"/>
              <a:ext cx="205920" cy="650880"/>
            </a:xfrm>
            <a:custGeom>
              <a:avLst/>
              <a:gdLst/>
              <a:ahLst/>
              <a:rect l="l" t="t" r="r" b="b"/>
              <a:pathLst>
                <a:path w="107" h="215">
                  <a:moveTo>
                    <a:pt x="0" y="69"/>
                  </a:moveTo>
                  <a:lnTo>
                    <a:pt x="29" y="127"/>
                  </a:lnTo>
                  <a:lnTo>
                    <a:pt x="107" y="215"/>
                  </a:lnTo>
                  <a:lnTo>
                    <a:pt x="78" y="127"/>
                  </a:lnTo>
                  <a:lnTo>
                    <a:pt x="2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5"/>
            <p:cNvSpPr/>
            <p:nvPr/>
          </p:nvSpPr>
          <p:spPr>
            <a:xfrm>
              <a:off x="3607200" y="5657760"/>
              <a:ext cx="207360" cy="47232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108" y="0"/>
                  </a:moveTo>
                  <a:lnTo>
                    <a:pt x="49" y="58"/>
                  </a:lnTo>
                  <a:lnTo>
                    <a:pt x="0" y="156"/>
                  </a:lnTo>
                  <a:lnTo>
                    <a:pt x="69" y="11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56"/>
            <p:cNvSpPr/>
            <p:nvPr/>
          </p:nvSpPr>
          <p:spPr>
            <a:xfrm>
              <a:off x="3533760" y="5303520"/>
              <a:ext cx="148320" cy="472320"/>
            </a:xfrm>
            <a:custGeom>
              <a:avLst/>
              <a:gdLst/>
              <a:ahLst/>
              <a:rect l="l" t="t" r="r" b="b"/>
              <a:pathLst>
                <a:path w="77" h="156">
                  <a:moveTo>
                    <a:pt x="77" y="0"/>
                  </a:moveTo>
                  <a:lnTo>
                    <a:pt x="19" y="68"/>
                  </a:lnTo>
                  <a:lnTo>
                    <a:pt x="0" y="156"/>
                  </a:lnTo>
                  <a:lnTo>
                    <a:pt x="68" y="8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57"/>
            <p:cNvSpPr/>
            <p:nvPr/>
          </p:nvSpPr>
          <p:spPr>
            <a:xfrm>
              <a:off x="5388480" y="5894280"/>
              <a:ext cx="111600" cy="32400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10" y="0"/>
                  </a:moveTo>
                  <a:lnTo>
                    <a:pt x="58" y="107"/>
                  </a:lnTo>
                  <a:lnTo>
                    <a:pt x="0" y="7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58"/>
            <p:cNvSpPr/>
            <p:nvPr/>
          </p:nvSpPr>
          <p:spPr>
            <a:xfrm>
              <a:off x="1752480" y="5657760"/>
              <a:ext cx="430560" cy="41184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224" y="0"/>
                  </a:moveTo>
                  <a:lnTo>
                    <a:pt x="117" y="48"/>
                  </a:lnTo>
                  <a:lnTo>
                    <a:pt x="0" y="136"/>
                  </a:lnTo>
                  <a:lnTo>
                    <a:pt x="97" y="117"/>
                  </a:lnTo>
                  <a:lnTo>
                    <a:pt x="166" y="6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59"/>
            <p:cNvSpPr/>
            <p:nvPr/>
          </p:nvSpPr>
          <p:spPr>
            <a:xfrm>
              <a:off x="6625440" y="6306120"/>
              <a:ext cx="186480" cy="560160"/>
            </a:xfrm>
            <a:custGeom>
              <a:avLst/>
              <a:gdLst/>
              <a:ahLst/>
              <a:rect l="l" t="t" r="r" b="b"/>
              <a:pathLst>
                <a:path w="97" h="185">
                  <a:moveTo>
                    <a:pt x="0" y="0"/>
                  </a:moveTo>
                  <a:lnTo>
                    <a:pt x="29" y="107"/>
                  </a:lnTo>
                  <a:lnTo>
                    <a:pt x="97" y="185"/>
                  </a:lnTo>
                  <a:lnTo>
                    <a:pt x="68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60"/>
            <p:cNvSpPr/>
            <p:nvPr/>
          </p:nvSpPr>
          <p:spPr>
            <a:xfrm>
              <a:off x="365040" y="6248520"/>
              <a:ext cx="2023920" cy="1120680"/>
            </a:xfrm>
            <a:custGeom>
              <a:avLst/>
              <a:gdLst/>
              <a:ahLst/>
              <a:rect l="l" t="t" r="r" b="b"/>
              <a:pathLst>
                <a:path w="1052" h="370">
                  <a:moveTo>
                    <a:pt x="799" y="126"/>
                  </a:moveTo>
                  <a:lnTo>
                    <a:pt x="633" y="165"/>
                  </a:lnTo>
                  <a:lnTo>
                    <a:pt x="438" y="243"/>
                  </a:lnTo>
                  <a:lnTo>
                    <a:pt x="195" y="263"/>
                  </a:lnTo>
                  <a:lnTo>
                    <a:pt x="0" y="214"/>
                  </a:lnTo>
                  <a:lnTo>
                    <a:pt x="166" y="311"/>
                  </a:lnTo>
                  <a:lnTo>
                    <a:pt x="97" y="341"/>
                  </a:lnTo>
                  <a:lnTo>
                    <a:pt x="234" y="341"/>
                  </a:lnTo>
                  <a:lnTo>
                    <a:pt x="312" y="302"/>
                  </a:lnTo>
                  <a:lnTo>
                    <a:pt x="546" y="233"/>
                  </a:lnTo>
                  <a:lnTo>
                    <a:pt x="604" y="311"/>
                  </a:lnTo>
                  <a:lnTo>
                    <a:pt x="653" y="214"/>
                  </a:lnTo>
                  <a:lnTo>
                    <a:pt x="760" y="204"/>
                  </a:lnTo>
                  <a:lnTo>
                    <a:pt x="740" y="272"/>
                  </a:lnTo>
                  <a:lnTo>
                    <a:pt x="692" y="370"/>
                  </a:lnTo>
                  <a:lnTo>
                    <a:pt x="779" y="331"/>
                  </a:lnTo>
                  <a:lnTo>
                    <a:pt x="818" y="204"/>
                  </a:lnTo>
                  <a:lnTo>
                    <a:pt x="926" y="107"/>
                  </a:lnTo>
                  <a:lnTo>
                    <a:pt x="1052" y="0"/>
                  </a:lnTo>
                  <a:lnTo>
                    <a:pt x="916" y="39"/>
                  </a:lnTo>
                  <a:lnTo>
                    <a:pt x="799" y="126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1"/>
            <p:cNvSpPr/>
            <p:nvPr/>
          </p:nvSpPr>
          <p:spPr>
            <a:xfrm>
              <a:off x="984600" y="5775840"/>
              <a:ext cx="1385280" cy="1002600"/>
            </a:xfrm>
            <a:custGeom>
              <a:avLst/>
              <a:gdLst/>
              <a:ahLst/>
              <a:rect l="l" t="t" r="r" b="b"/>
              <a:pathLst>
                <a:path w="720" h="331">
                  <a:moveTo>
                    <a:pt x="720" y="0"/>
                  </a:moveTo>
                  <a:lnTo>
                    <a:pt x="438" y="87"/>
                  </a:lnTo>
                  <a:lnTo>
                    <a:pt x="224" y="185"/>
                  </a:lnTo>
                  <a:lnTo>
                    <a:pt x="0" y="331"/>
                  </a:lnTo>
                  <a:lnTo>
                    <a:pt x="311" y="253"/>
                  </a:lnTo>
                  <a:lnTo>
                    <a:pt x="438" y="185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c2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2"/>
            <p:cNvSpPr/>
            <p:nvPr/>
          </p:nvSpPr>
          <p:spPr>
            <a:xfrm>
              <a:off x="6514200" y="5864040"/>
              <a:ext cx="2622240" cy="2153160"/>
            </a:xfrm>
            <a:custGeom>
              <a:avLst/>
              <a:gdLst/>
              <a:ahLst/>
              <a:rect l="l" t="t" r="r" b="b"/>
              <a:pathLst>
                <a:path w="1363" h="711">
                  <a:moveTo>
                    <a:pt x="331" y="39"/>
                  </a:moveTo>
                  <a:lnTo>
                    <a:pt x="750" y="312"/>
                  </a:lnTo>
                  <a:lnTo>
                    <a:pt x="1149" y="594"/>
                  </a:lnTo>
                  <a:lnTo>
                    <a:pt x="1363" y="711"/>
                  </a:lnTo>
                  <a:lnTo>
                    <a:pt x="906" y="497"/>
                  </a:lnTo>
                  <a:lnTo>
                    <a:pt x="379" y="175"/>
                  </a:lnTo>
                  <a:lnTo>
                    <a:pt x="0" y="0"/>
                  </a:lnTo>
                  <a:lnTo>
                    <a:pt x="331" y="39"/>
                  </a:lnTo>
                  <a:close/>
                </a:path>
              </a:pathLst>
            </a:custGeom>
            <a:solidFill>
              <a:srgbClr val="a3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3"/>
            <p:cNvSpPr/>
            <p:nvPr/>
          </p:nvSpPr>
          <p:spPr>
            <a:xfrm>
              <a:off x="195480" y="7190280"/>
              <a:ext cx="5286960" cy="2774520"/>
            </a:xfrm>
            <a:custGeom>
              <a:avLst/>
              <a:gdLst/>
              <a:ahLst/>
              <a:rect l="l" t="t" r="r" b="b"/>
              <a:pathLst>
                <a:path w="2748" h="916">
                  <a:moveTo>
                    <a:pt x="556" y="273"/>
                  </a:moveTo>
                  <a:lnTo>
                    <a:pt x="848" y="273"/>
                  </a:lnTo>
                  <a:lnTo>
                    <a:pt x="1092" y="371"/>
                  </a:lnTo>
                  <a:lnTo>
                    <a:pt x="1169" y="273"/>
                  </a:lnTo>
                  <a:lnTo>
                    <a:pt x="965" y="254"/>
                  </a:lnTo>
                  <a:lnTo>
                    <a:pt x="1169" y="215"/>
                  </a:lnTo>
                  <a:lnTo>
                    <a:pt x="1442" y="0"/>
                  </a:lnTo>
                  <a:lnTo>
                    <a:pt x="1345" y="215"/>
                  </a:lnTo>
                  <a:lnTo>
                    <a:pt x="1423" y="332"/>
                  </a:lnTo>
                  <a:lnTo>
                    <a:pt x="1725" y="332"/>
                  </a:lnTo>
                  <a:lnTo>
                    <a:pt x="2017" y="332"/>
                  </a:lnTo>
                  <a:lnTo>
                    <a:pt x="2192" y="497"/>
                  </a:lnTo>
                  <a:lnTo>
                    <a:pt x="1803" y="458"/>
                  </a:lnTo>
                  <a:lnTo>
                    <a:pt x="1618" y="517"/>
                  </a:lnTo>
                  <a:lnTo>
                    <a:pt x="1803" y="673"/>
                  </a:lnTo>
                  <a:lnTo>
                    <a:pt x="2270" y="712"/>
                  </a:lnTo>
                  <a:lnTo>
                    <a:pt x="2748" y="858"/>
                  </a:lnTo>
                  <a:lnTo>
                    <a:pt x="1822" y="858"/>
                  </a:lnTo>
                  <a:lnTo>
                    <a:pt x="1150" y="916"/>
                  </a:lnTo>
                  <a:lnTo>
                    <a:pt x="1403" y="653"/>
                  </a:lnTo>
                  <a:lnTo>
                    <a:pt x="1462" y="478"/>
                  </a:lnTo>
                  <a:lnTo>
                    <a:pt x="1033" y="536"/>
                  </a:lnTo>
                  <a:lnTo>
                    <a:pt x="351" y="819"/>
                  </a:lnTo>
                  <a:lnTo>
                    <a:pt x="673" y="517"/>
                  </a:lnTo>
                  <a:lnTo>
                    <a:pt x="419" y="439"/>
                  </a:lnTo>
                  <a:lnTo>
                    <a:pt x="234" y="419"/>
                  </a:lnTo>
                  <a:lnTo>
                    <a:pt x="215" y="215"/>
                  </a:lnTo>
                  <a:lnTo>
                    <a:pt x="0" y="117"/>
                  </a:lnTo>
                  <a:lnTo>
                    <a:pt x="273" y="117"/>
                  </a:lnTo>
                  <a:lnTo>
                    <a:pt x="556" y="273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4"/>
            <p:cNvSpPr/>
            <p:nvPr/>
          </p:nvSpPr>
          <p:spPr>
            <a:xfrm>
              <a:off x="3664800" y="5509440"/>
              <a:ext cx="2399040" cy="3719160"/>
            </a:xfrm>
            <a:custGeom>
              <a:avLst/>
              <a:gdLst/>
              <a:ahLst/>
              <a:rect l="l" t="t" r="r" b="b"/>
              <a:pathLst>
                <a:path w="1247" h="1228">
                  <a:moveTo>
                    <a:pt x="272" y="0"/>
                  </a:moveTo>
                  <a:lnTo>
                    <a:pt x="448" y="78"/>
                  </a:lnTo>
                  <a:lnTo>
                    <a:pt x="487" y="312"/>
                  </a:lnTo>
                  <a:lnTo>
                    <a:pt x="594" y="536"/>
                  </a:lnTo>
                  <a:lnTo>
                    <a:pt x="711" y="711"/>
                  </a:lnTo>
                  <a:lnTo>
                    <a:pt x="847" y="731"/>
                  </a:lnTo>
                  <a:lnTo>
                    <a:pt x="1081" y="848"/>
                  </a:lnTo>
                  <a:lnTo>
                    <a:pt x="847" y="848"/>
                  </a:lnTo>
                  <a:lnTo>
                    <a:pt x="691" y="994"/>
                  </a:lnTo>
                  <a:lnTo>
                    <a:pt x="1003" y="994"/>
                  </a:lnTo>
                  <a:lnTo>
                    <a:pt x="1247" y="1228"/>
                  </a:lnTo>
                  <a:lnTo>
                    <a:pt x="964" y="1150"/>
                  </a:lnTo>
                  <a:lnTo>
                    <a:pt x="652" y="1150"/>
                  </a:lnTo>
                  <a:lnTo>
                    <a:pt x="311" y="1150"/>
                  </a:lnTo>
                  <a:lnTo>
                    <a:pt x="516" y="906"/>
                  </a:lnTo>
                  <a:lnTo>
                    <a:pt x="633" y="809"/>
                  </a:lnTo>
                  <a:lnTo>
                    <a:pt x="311" y="750"/>
                  </a:lnTo>
                  <a:lnTo>
                    <a:pt x="0" y="750"/>
                  </a:lnTo>
                  <a:lnTo>
                    <a:pt x="195" y="594"/>
                  </a:lnTo>
                  <a:lnTo>
                    <a:pt x="448" y="594"/>
                  </a:lnTo>
                  <a:lnTo>
                    <a:pt x="428" y="312"/>
                  </a:lnTo>
                  <a:lnTo>
                    <a:pt x="156" y="2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65"/>
            <p:cNvSpPr/>
            <p:nvPr/>
          </p:nvSpPr>
          <p:spPr>
            <a:xfrm>
              <a:off x="5594400" y="5803560"/>
              <a:ext cx="3936240" cy="3867480"/>
            </a:xfrm>
            <a:custGeom>
              <a:avLst/>
              <a:gdLst/>
              <a:ahLst/>
              <a:rect l="l" t="t" r="r" b="b"/>
              <a:pathLst>
                <a:path w="2046" h="1277">
                  <a:moveTo>
                    <a:pt x="205" y="137"/>
                  </a:moveTo>
                  <a:lnTo>
                    <a:pt x="478" y="273"/>
                  </a:lnTo>
                  <a:lnTo>
                    <a:pt x="711" y="390"/>
                  </a:lnTo>
                  <a:lnTo>
                    <a:pt x="1091" y="614"/>
                  </a:lnTo>
                  <a:lnTo>
                    <a:pt x="1471" y="595"/>
                  </a:lnTo>
                  <a:lnTo>
                    <a:pt x="1802" y="653"/>
                  </a:lnTo>
                  <a:lnTo>
                    <a:pt x="2046" y="731"/>
                  </a:lnTo>
                  <a:lnTo>
                    <a:pt x="2046" y="1248"/>
                  </a:lnTo>
                  <a:lnTo>
                    <a:pt x="1764" y="1277"/>
                  </a:lnTo>
                  <a:lnTo>
                    <a:pt x="1345" y="1277"/>
                  </a:lnTo>
                  <a:lnTo>
                    <a:pt x="731" y="1033"/>
                  </a:lnTo>
                  <a:lnTo>
                    <a:pt x="400" y="809"/>
                  </a:lnTo>
                  <a:lnTo>
                    <a:pt x="692" y="809"/>
                  </a:lnTo>
                  <a:lnTo>
                    <a:pt x="1130" y="916"/>
                  </a:lnTo>
                  <a:lnTo>
                    <a:pt x="916" y="653"/>
                  </a:lnTo>
                  <a:lnTo>
                    <a:pt x="117" y="692"/>
                  </a:lnTo>
                  <a:lnTo>
                    <a:pt x="516" y="556"/>
                  </a:lnTo>
                  <a:lnTo>
                    <a:pt x="322" y="312"/>
                  </a:lnTo>
                  <a:lnTo>
                    <a:pt x="39" y="332"/>
                  </a:lnTo>
                  <a:lnTo>
                    <a:pt x="137" y="234"/>
                  </a:lnTo>
                  <a:lnTo>
                    <a:pt x="0" y="0"/>
                  </a:lnTo>
                  <a:lnTo>
                    <a:pt x="205" y="137"/>
                  </a:lnTo>
                  <a:close/>
                </a:path>
              </a:pathLst>
            </a:custGeom>
            <a:solidFill>
              <a:srgbClr val="646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6"/>
            <p:cNvSpPr/>
            <p:nvPr/>
          </p:nvSpPr>
          <p:spPr>
            <a:xfrm>
              <a:off x="7206840" y="6394320"/>
              <a:ext cx="1011960" cy="1504800"/>
            </a:xfrm>
            <a:custGeom>
              <a:avLst/>
              <a:gdLst/>
              <a:ahLst/>
              <a:rect l="l" t="t" r="r" b="b"/>
              <a:pathLst>
                <a:path w="526" h="497">
                  <a:moveTo>
                    <a:pt x="0" y="0"/>
                  </a:moveTo>
                  <a:lnTo>
                    <a:pt x="253" y="195"/>
                  </a:lnTo>
                  <a:lnTo>
                    <a:pt x="429" y="497"/>
                  </a:lnTo>
                  <a:lnTo>
                    <a:pt x="526" y="302"/>
                  </a:lnTo>
                  <a:lnTo>
                    <a:pt x="234" y="39"/>
                  </a:lnTo>
                  <a:lnTo>
                    <a:pt x="127" y="10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7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67"/>
            <p:cNvSpPr/>
            <p:nvPr/>
          </p:nvSpPr>
          <p:spPr>
            <a:xfrm>
              <a:off x="-1227600" y="8695800"/>
              <a:ext cx="10758960" cy="2302200"/>
            </a:xfrm>
            <a:custGeom>
              <a:avLst/>
              <a:gdLst/>
              <a:ahLst/>
              <a:rect l="l" t="t" r="r" b="b"/>
              <a:pathLst>
                <a:path w="5592" h="760">
                  <a:moveTo>
                    <a:pt x="185" y="20"/>
                  </a:moveTo>
                  <a:lnTo>
                    <a:pt x="399" y="39"/>
                  </a:lnTo>
                  <a:lnTo>
                    <a:pt x="623" y="254"/>
                  </a:lnTo>
                  <a:lnTo>
                    <a:pt x="838" y="419"/>
                  </a:lnTo>
                  <a:lnTo>
                    <a:pt x="1072" y="419"/>
                  </a:lnTo>
                  <a:lnTo>
                    <a:pt x="877" y="215"/>
                  </a:lnTo>
                  <a:lnTo>
                    <a:pt x="682" y="0"/>
                  </a:lnTo>
                  <a:lnTo>
                    <a:pt x="1159" y="176"/>
                  </a:lnTo>
                  <a:lnTo>
                    <a:pt x="1413" y="380"/>
                  </a:lnTo>
                  <a:lnTo>
                    <a:pt x="1734" y="380"/>
                  </a:lnTo>
                  <a:lnTo>
                    <a:pt x="2007" y="458"/>
                  </a:lnTo>
                  <a:lnTo>
                    <a:pt x="2952" y="400"/>
                  </a:lnTo>
                  <a:lnTo>
                    <a:pt x="3566" y="497"/>
                  </a:lnTo>
                  <a:lnTo>
                    <a:pt x="3312" y="234"/>
                  </a:lnTo>
                  <a:lnTo>
                    <a:pt x="3624" y="341"/>
                  </a:lnTo>
                  <a:lnTo>
                    <a:pt x="3868" y="341"/>
                  </a:lnTo>
                  <a:lnTo>
                    <a:pt x="3751" y="98"/>
                  </a:lnTo>
                  <a:lnTo>
                    <a:pt x="4140" y="234"/>
                  </a:lnTo>
                  <a:lnTo>
                    <a:pt x="4423" y="380"/>
                  </a:lnTo>
                  <a:lnTo>
                    <a:pt x="5037" y="293"/>
                  </a:lnTo>
                  <a:lnTo>
                    <a:pt x="5592" y="400"/>
                  </a:lnTo>
                  <a:lnTo>
                    <a:pt x="5592" y="575"/>
                  </a:lnTo>
                  <a:lnTo>
                    <a:pt x="5232" y="614"/>
                  </a:lnTo>
                  <a:lnTo>
                    <a:pt x="4618" y="673"/>
                  </a:lnTo>
                  <a:lnTo>
                    <a:pt x="4277" y="517"/>
                  </a:lnTo>
                  <a:lnTo>
                    <a:pt x="3751" y="478"/>
                  </a:lnTo>
                  <a:lnTo>
                    <a:pt x="4024" y="673"/>
                  </a:lnTo>
                  <a:lnTo>
                    <a:pt x="3683" y="741"/>
                  </a:lnTo>
                  <a:lnTo>
                    <a:pt x="2738" y="595"/>
                  </a:lnTo>
                  <a:lnTo>
                    <a:pt x="2484" y="653"/>
                  </a:lnTo>
                  <a:lnTo>
                    <a:pt x="1929" y="741"/>
                  </a:lnTo>
                  <a:lnTo>
                    <a:pt x="0" y="760"/>
                  </a:lnTo>
                  <a:lnTo>
                    <a:pt x="0" y="497"/>
                  </a:lnTo>
                  <a:lnTo>
                    <a:pt x="282" y="458"/>
                  </a:lnTo>
                  <a:lnTo>
                    <a:pt x="302" y="195"/>
                  </a:lnTo>
                  <a:lnTo>
                    <a:pt x="0" y="78"/>
                  </a:lnTo>
                  <a:lnTo>
                    <a:pt x="185" y="2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68"/>
            <p:cNvSpPr/>
            <p:nvPr/>
          </p:nvSpPr>
          <p:spPr>
            <a:xfrm>
              <a:off x="-646560" y="7426440"/>
              <a:ext cx="1798560" cy="1802160"/>
            </a:xfrm>
            <a:custGeom>
              <a:avLst/>
              <a:gdLst/>
              <a:ahLst/>
              <a:rect l="l" t="t" r="r" b="b"/>
              <a:pathLst>
                <a:path w="935" h="595">
                  <a:moveTo>
                    <a:pt x="497" y="0"/>
                  </a:moveTo>
                  <a:lnTo>
                    <a:pt x="175" y="78"/>
                  </a:lnTo>
                  <a:lnTo>
                    <a:pt x="0" y="234"/>
                  </a:lnTo>
                  <a:lnTo>
                    <a:pt x="341" y="137"/>
                  </a:lnTo>
                  <a:lnTo>
                    <a:pt x="555" y="361"/>
                  </a:lnTo>
                  <a:lnTo>
                    <a:pt x="935" y="595"/>
                  </a:lnTo>
                  <a:lnTo>
                    <a:pt x="731" y="312"/>
                  </a:lnTo>
                  <a:lnTo>
                    <a:pt x="633" y="137"/>
                  </a:lnTo>
                  <a:lnTo>
                    <a:pt x="546" y="59"/>
                  </a:lnTo>
                  <a:lnTo>
                    <a:pt x="497" y="10"/>
                  </a:lnTo>
                  <a:lnTo>
                    <a:pt x="487" y="0"/>
                  </a:lnTo>
                  <a:lnTo>
                    <a:pt x="497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9"/>
            <p:cNvSpPr/>
            <p:nvPr/>
          </p:nvSpPr>
          <p:spPr>
            <a:xfrm>
              <a:off x="1227240" y="8371440"/>
              <a:ext cx="2324160" cy="1771920"/>
            </a:xfrm>
            <a:custGeom>
              <a:avLst/>
              <a:gdLst/>
              <a:ahLst/>
              <a:rect l="l" t="t" r="r" b="b"/>
              <a:pathLst>
                <a:path w="1208" h="585">
                  <a:moveTo>
                    <a:pt x="906" y="166"/>
                  </a:moveTo>
                  <a:lnTo>
                    <a:pt x="770" y="400"/>
                  </a:lnTo>
                  <a:lnTo>
                    <a:pt x="351" y="585"/>
                  </a:lnTo>
                  <a:lnTo>
                    <a:pt x="517" y="429"/>
                  </a:lnTo>
                  <a:lnTo>
                    <a:pt x="731" y="283"/>
                  </a:lnTo>
                  <a:lnTo>
                    <a:pt x="312" y="341"/>
                  </a:lnTo>
                  <a:lnTo>
                    <a:pt x="0" y="341"/>
                  </a:lnTo>
                  <a:lnTo>
                    <a:pt x="312" y="127"/>
                  </a:lnTo>
                  <a:lnTo>
                    <a:pt x="750" y="0"/>
                  </a:lnTo>
                  <a:lnTo>
                    <a:pt x="1208" y="0"/>
                  </a:lnTo>
                  <a:lnTo>
                    <a:pt x="906" y="166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0"/>
            <p:cNvSpPr/>
            <p:nvPr/>
          </p:nvSpPr>
          <p:spPr>
            <a:xfrm>
              <a:off x="5669640" y="7426440"/>
              <a:ext cx="3018600" cy="1623600"/>
            </a:xfrm>
            <a:custGeom>
              <a:avLst/>
              <a:gdLst/>
              <a:ahLst/>
              <a:rect l="l" t="t" r="r" b="b"/>
              <a:pathLst>
                <a:path w="1569" h="536">
                  <a:moveTo>
                    <a:pt x="380" y="254"/>
                  </a:moveTo>
                  <a:lnTo>
                    <a:pt x="818" y="341"/>
                  </a:lnTo>
                  <a:lnTo>
                    <a:pt x="1033" y="478"/>
                  </a:lnTo>
                  <a:lnTo>
                    <a:pt x="1471" y="536"/>
                  </a:lnTo>
                  <a:lnTo>
                    <a:pt x="1091" y="341"/>
                  </a:lnTo>
                  <a:lnTo>
                    <a:pt x="1267" y="341"/>
                  </a:lnTo>
                  <a:lnTo>
                    <a:pt x="1569" y="341"/>
                  </a:lnTo>
                  <a:lnTo>
                    <a:pt x="1072" y="195"/>
                  </a:lnTo>
                  <a:lnTo>
                    <a:pt x="857" y="176"/>
                  </a:lnTo>
                  <a:lnTo>
                    <a:pt x="594" y="98"/>
                  </a:lnTo>
                  <a:lnTo>
                    <a:pt x="711" y="0"/>
                  </a:lnTo>
                  <a:lnTo>
                    <a:pt x="341" y="59"/>
                  </a:lnTo>
                  <a:lnTo>
                    <a:pt x="0" y="117"/>
                  </a:lnTo>
                  <a:lnTo>
                    <a:pt x="283" y="137"/>
                  </a:lnTo>
                  <a:lnTo>
                    <a:pt x="896" y="234"/>
                  </a:lnTo>
                  <a:lnTo>
                    <a:pt x="380" y="254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1"/>
            <p:cNvSpPr/>
            <p:nvPr/>
          </p:nvSpPr>
          <p:spPr>
            <a:xfrm>
              <a:off x="8874720" y="8874360"/>
              <a:ext cx="655920" cy="708480"/>
            </a:xfrm>
            <a:custGeom>
              <a:avLst/>
              <a:gdLst/>
              <a:ahLst/>
              <a:rect l="l" t="t" r="r" b="b"/>
              <a:pathLst>
                <a:path w="341" h="234">
                  <a:moveTo>
                    <a:pt x="0" y="0"/>
                  </a:moveTo>
                  <a:lnTo>
                    <a:pt x="341" y="234"/>
                  </a:lnTo>
                  <a:lnTo>
                    <a:pt x="302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185"/>
          <p:cNvSpPr/>
          <p:nvPr/>
        </p:nvSpPr>
        <p:spPr>
          <a:xfrm>
            <a:off x="-606600" y="695628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3"/>
          <p:cNvSpPr/>
          <p:nvPr/>
        </p:nvSpPr>
        <p:spPr>
          <a:xfrm flipV="1">
            <a:off x="-36000" y="-458640"/>
            <a:ext cx="0" cy="1101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4"/>
          <p:cNvSpPr/>
          <p:nvPr/>
        </p:nvSpPr>
        <p:spPr>
          <a:xfrm flipV="1">
            <a:off x="9180360" y="-1251000"/>
            <a:ext cx="0" cy="11017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5"/>
          <p:cNvSpPr/>
          <p:nvPr/>
        </p:nvSpPr>
        <p:spPr>
          <a:xfrm>
            <a:off x="-1405080" y="-27000"/>
            <a:ext cx="1101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8"/>
          <p:cNvSpPr/>
          <p:nvPr/>
        </p:nvSpPr>
        <p:spPr>
          <a:xfrm>
            <a:off x="838080" y="3895560"/>
            <a:ext cx="7850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#1 Application of quantum computing: Disprove the skeptics!  (And the Extended Church-Turing 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114800" y="2039760"/>
            <a:ext cx="1096920" cy="1492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303120" y="1447920"/>
            <a:ext cx="8680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0" spc="-1" strike="noStrike">
                <a:solidFill>
                  <a:srgbClr val="ffffd1"/>
                </a:solidFill>
                <a:latin typeface="Calibri"/>
              </a:rPr>
              <a:t>|  </a:t>
            </a:r>
            <a:r>
              <a:rPr b="1" lang="en-CA" sz="15000" spc="-1" strike="noStrike">
                <a:solidFill>
                  <a:srgbClr val="ffffd1"/>
                </a:solidFill>
                <a:latin typeface="Symbol"/>
                <a:ea typeface="Symbol"/>
              </a:rPr>
              <a:t>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68"/>
          <p:cNvSpPr/>
          <p:nvPr/>
        </p:nvSpPr>
        <p:spPr>
          <a:xfrm>
            <a:off x="984240" y="5157720"/>
            <a:ext cx="74674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Forget for now about applications.  Just concentrate on certainty of a quantum speedup over the best classical algorithm for so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03120" y="3762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588960"/>
            <a:ext cx="852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y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31640" y="2133720"/>
            <a:ext cx="83217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 and IBM are currently in a race to build and demonstrate ~50-qubit superconducting QC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2-qubit chips demonstrated in the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~50-qubit chips apparently already fabricated, but calibrating, testing, etc. could take anoth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6483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herence times should be tens of microseconds, allowing a few dozen layers of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6221520" y="125280"/>
            <a:ext cx="2724120" cy="1855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403200" y="262080"/>
            <a:ext cx="1938240" cy="1643040"/>
            <a:chOff x="403200" y="262080"/>
            <a:chExt cx="1938240" cy="1643040"/>
          </a:xfrm>
        </p:grpSpPr>
        <p:sp>
          <p:nvSpPr>
            <p:cNvPr id="114" name="Straight Connector 5"/>
            <p:cNvSpPr/>
            <p:nvPr/>
          </p:nvSpPr>
          <p:spPr>
            <a:xfrm>
              <a:off x="424440" y="3402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traight Connector 78"/>
            <p:cNvSpPr/>
            <p:nvPr/>
          </p:nvSpPr>
          <p:spPr>
            <a:xfrm>
              <a:off x="459720" y="5760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traight Connector 79"/>
            <p:cNvSpPr/>
            <p:nvPr/>
          </p:nvSpPr>
          <p:spPr>
            <a:xfrm>
              <a:off x="403200" y="83412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80"/>
            <p:cNvSpPr/>
            <p:nvPr/>
          </p:nvSpPr>
          <p:spPr>
            <a:xfrm>
              <a:off x="446040" y="10836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1"/>
            <p:cNvSpPr/>
            <p:nvPr/>
          </p:nvSpPr>
          <p:spPr>
            <a:xfrm>
              <a:off x="446040" y="133308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82"/>
            <p:cNvSpPr/>
            <p:nvPr/>
          </p:nvSpPr>
          <p:spPr>
            <a:xfrm>
              <a:off x="446040" y="157860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83"/>
            <p:cNvSpPr/>
            <p:nvPr/>
          </p:nvSpPr>
          <p:spPr>
            <a:xfrm>
              <a:off x="459720" y="1832040"/>
              <a:ext cx="188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3"/>
            <p:cNvSpPr/>
            <p:nvPr/>
          </p:nvSpPr>
          <p:spPr>
            <a:xfrm>
              <a:off x="4762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72"/>
            <p:cNvSpPr/>
            <p:nvPr/>
          </p:nvSpPr>
          <p:spPr>
            <a:xfrm>
              <a:off x="77256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73"/>
            <p:cNvSpPr/>
            <p:nvPr/>
          </p:nvSpPr>
          <p:spPr>
            <a:xfrm>
              <a:off x="106920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74"/>
            <p:cNvSpPr/>
            <p:nvPr/>
          </p:nvSpPr>
          <p:spPr>
            <a:xfrm>
              <a:off x="13654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5"/>
            <p:cNvSpPr/>
            <p:nvPr/>
          </p:nvSpPr>
          <p:spPr>
            <a:xfrm>
              <a:off x="166176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76"/>
            <p:cNvSpPr/>
            <p:nvPr/>
          </p:nvSpPr>
          <p:spPr>
            <a:xfrm>
              <a:off x="195804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77"/>
            <p:cNvSpPr/>
            <p:nvPr/>
          </p:nvSpPr>
          <p:spPr>
            <a:xfrm>
              <a:off x="2254680" y="283320"/>
              <a:ext cx="0" cy="149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"/>
            <p:cNvSpPr/>
            <p:nvPr/>
          </p:nvSpPr>
          <p:spPr>
            <a:xfrm>
              <a:off x="40320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2"/>
            <p:cNvSpPr/>
            <p:nvPr/>
          </p:nvSpPr>
          <p:spPr>
            <a:xfrm>
              <a:off x="69948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99576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4"/>
            <p:cNvSpPr/>
            <p:nvPr/>
          </p:nvSpPr>
          <p:spPr>
            <a:xfrm>
              <a:off x="129204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5"/>
            <p:cNvSpPr/>
            <p:nvPr/>
          </p:nvSpPr>
          <p:spPr>
            <a:xfrm>
              <a:off x="158832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7"/>
            <p:cNvSpPr/>
            <p:nvPr/>
          </p:nvSpPr>
          <p:spPr>
            <a:xfrm>
              <a:off x="188496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2181240" y="2620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40320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69948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99576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129204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158832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188496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6"/>
            <p:cNvSpPr/>
            <p:nvPr/>
          </p:nvSpPr>
          <p:spPr>
            <a:xfrm>
              <a:off x="2181240" y="5112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7"/>
            <p:cNvSpPr/>
            <p:nvPr/>
          </p:nvSpPr>
          <p:spPr>
            <a:xfrm>
              <a:off x="40320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8"/>
            <p:cNvSpPr/>
            <p:nvPr/>
          </p:nvSpPr>
          <p:spPr>
            <a:xfrm>
              <a:off x="69948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99576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0"/>
            <p:cNvSpPr/>
            <p:nvPr/>
          </p:nvSpPr>
          <p:spPr>
            <a:xfrm>
              <a:off x="129204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1"/>
            <p:cNvSpPr/>
            <p:nvPr/>
          </p:nvSpPr>
          <p:spPr>
            <a:xfrm>
              <a:off x="158832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2"/>
            <p:cNvSpPr/>
            <p:nvPr/>
          </p:nvSpPr>
          <p:spPr>
            <a:xfrm>
              <a:off x="188496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3"/>
            <p:cNvSpPr/>
            <p:nvPr/>
          </p:nvSpPr>
          <p:spPr>
            <a:xfrm>
              <a:off x="2181240" y="76068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40320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5"/>
            <p:cNvSpPr/>
            <p:nvPr/>
          </p:nvSpPr>
          <p:spPr>
            <a:xfrm>
              <a:off x="69948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99576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7"/>
            <p:cNvSpPr/>
            <p:nvPr/>
          </p:nvSpPr>
          <p:spPr>
            <a:xfrm>
              <a:off x="129204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158832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9"/>
            <p:cNvSpPr/>
            <p:nvPr/>
          </p:nvSpPr>
          <p:spPr>
            <a:xfrm>
              <a:off x="188496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181240" y="101016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1"/>
            <p:cNvSpPr/>
            <p:nvPr/>
          </p:nvSpPr>
          <p:spPr>
            <a:xfrm>
              <a:off x="40320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69948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3"/>
            <p:cNvSpPr/>
            <p:nvPr/>
          </p:nvSpPr>
          <p:spPr>
            <a:xfrm>
              <a:off x="99576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129204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5"/>
            <p:cNvSpPr/>
            <p:nvPr/>
          </p:nvSpPr>
          <p:spPr>
            <a:xfrm>
              <a:off x="158832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8496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7"/>
            <p:cNvSpPr/>
            <p:nvPr/>
          </p:nvSpPr>
          <p:spPr>
            <a:xfrm>
              <a:off x="2181240" y="125964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8"/>
            <p:cNvSpPr/>
            <p:nvPr/>
          </p:nvSpPr>
          <p:spPr>
            <a:xfrm>
              <a:off x="40320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9"/>
            <p:cNvSpPr/>
            <p:nvPr/>
          </p:nvSpPr>
          <p:spPr>
            <a:xfrm>
              <a:off x="69948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0"/>
            <p:cNvSpPr/>
            <p:nvPr/>
          </p:nvSpPr>
          <p:spPr>
            <a:xfrm>
              <a:off x="99576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1"/>
            <p:cNvSpPr/>
            <p:nvPr/>
          </p:nvSpPr>
          <p:spPr>
            <a:xfrm>
              <a:off x="129204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2"/>
            <p:cNvSpPr/>
            <p:nvPr/>
          </p:nvSpPr>
          <p:spPr>
            <a:xfrm>
              <a:off x="158832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3"/>
            <p:cNvSpPr/>
            <p:nvPr/>
          </p:nvSpPr>
          <p:spPr>
            <a:xfrm>
              <a:off x="188496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4"/>
            <p:cNvSpPr/>
            <p:nvPr/>
          </p:nvSpPr>
          <p:spPr>
            <a:xfrm>
              <a:off x="2181240" y="150912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5"/>
            <p:cNvSpPr/>
            <p:nvPr/>
          </p:nvSpPr>
          <p:spPr>
            <a:xfrm>
              <a:off x="40320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66"/>
            <p:cNvSpPr/>
            <p:nvPr/>
          </p:nvSpPr>
          <p:spPr>
            <a:xfrm>
              <a:off x="69948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7"/>
            <p:cNvSpPr/>
            <p:nvPr/>
          </p:nvSpPr>
          <p:spPr>
            <a:xfrm>
              <a:off x="99576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8"/>
            <p:cNvSpPr/>
            <p:nvPr/>
          </p:nvSpPr>
          <p:spPr>
            <a:xfrm>
              <a:off x="129204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9"/>
            <p:cNvSpPr/>
            <p:nvPr/>
          </p:nvSpPr>
          <p:spPr>
            <a:xfrm>
              <a:off x="158832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0"/>
            <p:cNvSpPr/>
            <p:nvPr/>
          </p:nvSpPr>
          <p:spPr>
            <a:xfrm>
              <a:off x="188496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2181240" y="1758600"/>
              <a:ext cx="146520" cy="146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461880" y="571500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bably won’t be enough to do anything useful, but maybe just enough to do something classically ha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2590920" y="297180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"/>
          <p:cNvSpPr/>
          <p:nvPr/>
        </p:nvSpPr>
        <p:spPr>
          <a:xfrm rot="259200">
            <a:off x="4843080" y="2470320"/>
            <a:ext cx="1527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Calibri"/>
                <a:ea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52280" y="284040"/>
            <a:ext cx="852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Sampling Approach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ut forward by A.-Arkhipov 2011 (BosonSampling), Bremner-Jozsa-Shepherd 2011 (IQP Model)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87440" y="2068560"/>
            <a:ext cx="82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nsider problems where the goal i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amp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desired distribution over n-bit 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65120" y="3060720"/>
            <a:ext cx="82137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ompared to problems with a single valid output (like FACTORING), sampling problems can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solve with near-future quantum devices,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Easier to argue are hard for classical computer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838080" y="5354640"/>
            <a:ext cx="7802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(We “merely” give up on: practical applications, fast classical way to verify the resu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plexity and QM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230040" y="1022400"/>
            <a:ext cx="4189680" cy="562284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611280" y="2278080"/>
            <a:ext cx="3398760" cy="4321080"/>
          </a:xfrm>
          <a:prstGeom prst="ellipse">
            <a:avLst/>
          </a:prstGeom>
          <a:solidFill>
            <a:srgbClr val="dbee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830160" y="3592440"/>
            <a:ext cx="2971800" cy="30337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1068480" y="10461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Oracle for Count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1068480" y="3654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NP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Check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1211400" y="4956120"/>
            <a:ext cx="2209680" cy="1643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1486080" y="5062680"/>
            <a:ext cx="175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(=BPP?)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Efficiently Solvabl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1211400" y="2392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  <a:ea typeface="Arial"/>
              </a:rPr>
              <a:t>PH</a:t>
            </a:r>
            <a:br>
              <a:rPr sz="3600"/>
            </a:br>
            <a:r>
              <a:rPr b="1" lang="en-US" sz="1800" spc="-1" strike="noStrike">
                <a:solidFill>
                  <a:srgbClr val="990099"/>
                </a:solidFill>
                <a:latin typeface="Arial"/>
                <a:ea typeface="Arial"/>
              </a:rPr>
              <a:t>Constant Number of NP Qua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0"/>
          <p:cNvSpPr/>
          <p:nvPr/>
        </p:nvSpPr>
        <p:spPr>
          <a:xfrm>
            <a:off x="611280" y="4441680"/>
            <a:ext cx="5905440" cy="2286000"/>
          </a:xfrm>
          <a:custGeom>
            <a:avLst/>
            <a:gdLst/>
            <a:ahLst/>
            <a:rect l="l" t="t" r="r" b="b"/>
            <a:pathLst>
              <a:path w="4757867" h="2286211">
                <a:moveTo>
                  <a:pt x="29113" y="1149532"/>
                </a:moveTo>
                <a:cubicBezTo>
                  <a:pt x="37107" y="1109563"/>
                  <a:pt x="52190" y="1024999"/>
                  <a:pt x="68301" y="992777"/>
                </a:cubicBezTo>
                <a:cubicBezTo>
                  <a:pt x="85953" y="957474"/>
                  <a:pt x="128183" y="943242"/>
                  <a:pt x="159741" y="927463"/>
                </a:cubicBezTo>
                <a:cubicBezTo>
                  <a:pt x="250122" y="791895"/>
                  <a:pt x="105524" y="994745"/>
                  <a:pt x="238118" y="862149"/>
                </a:cubicBezTo>
                <a:cubicBezTo>
                  <a:pt x="247855" y="852412"/>
                  <a:pt x="242579" y="833712"/>
                  <a:pt x="251181" y="822960"/>
                </a:cubicBezTo>
                <a:cubicBezTo>
                  <a:pt x="260989" y="810701"/>
                  <a:pt x="278309" y="806886"/>
                  <a:pt x="290370" y="796835"/>
                </a:cubicBezTo>
                <a:cubicBezTo>
                  <a:pt x="304562" y="785008"/>
                  <a:pt x="314779" y="768730"/>
                  <a:pt x="329558" y="757646"/>
                </a:cubicBezTo>
                <a:cubicBezTo>
                  <a:pt x="378916" y="720627"/>
                  <a:pt x="385842" y="721467"/>
                  <a:pt x="434061" y="705395"/>
                </a:cubicBezTo>
                <a:cubicBezTo>
                  <a:pt x="486313" y="709749"/>
                  <a:pt x="539401" y="708174"/>
                  <a:pt x="590816" y="718457"/>
                </a:cubicBezTo>
                <a:cubicBezTo>
                  <a:pt x="606211" y="721536"/>
                  <a:pt x="614344" y="743464"/>
                  <a:pt x="630004" y="744583"/>
                </a:cubicBezTo>
                <a:cubicBezTo>
                  <a:pt x="677977" y="748010"/>
                  <a:pt x="725799" y="735874"/>
                  <a:pt x="773696" y="731520"/>
                </a:cubicBezTo>
                <a:cubicBezTo>
                  <a:pt x="786759" y="718457"/>
                  <a:pt x="798692" y="704158"/>
                  <a:pt x="812884" y="692332"/>
                </a:cubicBezTo>
                <a:cubicBezTo>
                  <a:pt x="824945" y="682281"/>
                  <a:pt x="844284" y="679837"/>
                  <a:pt x="852073" y="666206"/>
                </a:cubicBezTo>
                <a:cubicBezTo>
                  <a:pt x="863089" y="646929"/>
                  <a:pt x="859751" y="622432"/>
                  <a:pt x="865136" y="600892"/>
                </a:cubicBezTo>
                <a:cubicBezTo>
                  <a:pt x="868476" y="587534"/>
                  <a:pt x="874415" y="574943"/>
                  <a:pt x="878198" y="561703"/>
                </a:cubicBezTo>
                <a:cubicBezTo>
                  <a:pt x="883130" y="544441"/>
                  <a:pt x="884189" y="525953"/>
                  <a:pt x="891261" y="509452"/>
                </a:cubicBezTo>
                <a:cubicBezTo>
                  <a:pt x="897446" y="495022"/>
                  <a:pt x="908678" y="483326"/>
                  <a:pt x="917387" y="470263"/>
                </a:cubicBezTo>
                <a:cubicBezTo>
                  <a:pt x="921741" y="448492"/>
                  <a:pt x="927310" y="426928"/>
                  <a:pt x="930450" y="404949"/>
                </a:cubicBezTo>
                <a:cubicBezTo>
                  <a:pt x="942589" y="319977"/>
                  <a:pt x="922700" y="301001"/>
                  <a:pt x="969638" y="248195"/>
                </a:cubicBezTo>
                <a:cubicBezTo>
                  <a:pt x="994185" y="220580"/>
                  <a:pt x="1021890" y="195943"/>
                  <a:pt x="1048016" y="169817"/>
                </a:cubicBezTo>
                <a:lnTo>
                  <a:pt x="1087204" y="130629"/>
                </a:lnTo>
                <a:cubicBezTo>
                  <a:pt x="1135101" y="134983"/>
                  <a:pt x="1184755" y="130121"/>
                  <a:pt x="1230896" y="143692"/>
                </a:cubicBezTo>
                <a:cubicBezTo>
                  <a:pt x="1261019" y="152552"/>
                  <a:pt x="1279485" y="186014"/>
                  <a:pt x="1309273" y="195943"/>
                </a:cubicBezTo>
                <a:lnTo>
                  <a:pt x="1348461" y="209006"/>
                </a:lnTo>
                <a:cubicBezTo>
                  <a:pt x="1381446" y="263980"/>
                  <a:pt x="1381127" y="275416"/>
                  <a:pt x="1426838" y="313509"/>
                </a:cubicBezTo>
                <a:cubicBezTo>
                  <a:pt x="1438899" y="323560"/>
                  <a:pt x="1453966" y="329584"/>
                  <a:pt x="1466027" y="339635"/>
                </a:cubicBezTo>
                <a:cubicBezTo>
                  <a:pt x="1531260" y="393995"/>
                  <a:pt x="1475535" y="368929"/>
                  <a:pt x="1544404" y="391886"/>
                </a:cubicBezTo>
                <a:cubicBezTo>
                  <a:pt x="1557467" y="404949"/>
                  <a:pt x="1567444" y="422103"/>
                  <a:pt x="1583593" y="431075"/>
                </a:cubicBezTo>
                <a:cubicBezTo>
                  <a:pt x="1651419" y="468756"/>
                  <a:pt x="1749321" y="464479"/>
                  <a:pt x="1818724" y="470263"/>
                </a:cubicBezTo>
                <a:cubicBezTo>
                  <a:pt x="1849204" y="478972"/>
                  <a:pt x="1879866" y="487066"/>
                  <a:pt x="1910164" y="496389"/>
                </a:cubicBezTo>
                <a:cubicBezTo>
                  <a:pt x="1936485" y="504488"/>
                  <a:pt x="1961056" y="520797"/>
                  <a:pt x="1988541" y="522515"/>
                </a:cubicBezTo>
                <a:cubicBezTo>
                  <a:pt x="2032216" y="525245"/>
                  <a:pt x="2075627" y="513806"/>
                  <a:pt x="2119170" y="509452"/>
                </a:cubicBezTo>
                <a:cubicBezTo>
                  <a:pt x="2132233" y="505098"/>
                  <a:pt x="2148622" y="506125"/>
                  <a:pt x="2158358" y="496389"/>
                </a:cubicBezTo>
                <a:cubicBezTo>
                  <a:pt x="2168094" y="486652"/>
                  <a:pt x="2165263" y="469516"/>
                  <a:pt x="2171421" y="457200"/>
                </a:cubicBezTo>
                <a:cubicBezTo>
                  <a:pt x="2195055" y="409932"/>
                  <a:pt x="2191538" y="420015"/>
                  <a:pt x="2236736" y="404949"/>
                </a:cubicBezTo>
                <a:cubicBezTo>
                  <a:pt x="2241090" y="387532"/>
                  <a:pt x="2242726" y="369199"/>
                  <a:pt x="2249798" y="352697"/>
                </a:cubicBezTo>
                <a:cubicBezTo>
                  <a:pt x="2255092" y="340344"/>
                  <a:pt x="2312141" y="263733"/>
                  <a:pt x="2315113" y="261257"/>
                </a:cubicBezTo>
                <a:cubicBezTo>
                  <a:pt x="2325691" y="252442"/>
                  <a:pt x="2341238" y="252549"/>
                  <a:pt x="2354301" y="248195"/>
                </a:cubicBezTo>
                <a:cubicBezTo>
                  <a:pt x="2384781" y="202475"/>
                  <a:pt x="2393489" y="178527"/>
                  <a:pt x="2458804" y="156755"/>
                </a:cubicBezTo>
                <a:lnTo>
                  <a:pt x="2537181" y="130629"/>
                </a:lnTo>
                <a:cubicBezTo>
                  <a:pt x="2594652" y="73158"/>
                  <a:pt x="2578722" y="84162"/>
                  <a:pt x="2641684" y="39189"/>
                </a:cubicBezTo>
                <a:cubicBezTo>
                  <a:pt x="2654459" y="30064"/>
                  <a:pt x="2665979" y="18028"/>
                  <a:pt x="2680873" y="13063"/>
                </a:cubicBezTo>
                <a:cubicBezTo>
                  <a:pt x="2706000" y="4687"/>
                  <a:pt x="2733124" y="4354"/>
                  <a:pt x="2759250" y="0"/>
                </a:cubicBezTo>
                <a:cubicBezTo>
                  <a:pt x="2837627" y="4354"/>
                  <a:pt x="2916206" y="5956"/>
                  <a:pt x="2994381" y="13063"/>
                </a:cubicBezTo>
                <a:cubicBezTo>
                  <a:pt x="3012261" y="14688"/>
                  <a:pt x="3032614" y="14911"/>
                  <a:pt x="3046633" y="26126"/>
                </a:cubicBezTo>
                <a:cubicBezTo>
                  <a:pt x="3148444" y="107575"/>
                  <a:pt x="2952714" y="26476"/>
                  <a:pt x="3098884" y="91440"/>
                </a:cubicBezTo>
                <a:cubicBezTo>
                  <a:pt x="3172117" y="123988"/>
                  <a:pt x="3165771" y="101459"/>
                  <a:pt x="3216450" y="143692"/>
                </a:cubicBezTo>
                <a:cubicBezTo>
                  <a:pt x="3316514" y="227079"/>
                  <a:pt x="3197721" y="134281"/>
                  <a:pt x="3281764" y="235132"/>
                </a:cubicBezTo>
                <a:cubicBezTo>
                  <a:pt x="3291815" y="247193"/>
                  <a:pt x="3307890" y="252549"/>
                  <a:pt x="3320953" y="261257"/>
                </a:cubicBezTo>
                <a:cubicBezTo>
                  <a:pt x="3354625" y="258196"/>
                  <a:pt x="3474025" y="264940"/>
                  <a:pt x="3516896" y="222069"/>
                </a:cubicBezTo>
                <a:cubicBezTo>
                  <a:pt x="3530665" y="208299"/>
                  <a:pt x="3523786" y="172854"/>
                  <a:pt x="3543021" y="169817"/>
                </a:cubicBezTo>
                <a:cubicBezTo>
                  <a:pt x="3698096" y="145332"/>
                  <a:pt x="3856530" y="152400"/>
                  <a:pt x="4013284" y="143692"/>
                </a:cubicBezTo>
                <a:cubicBezTo>
                  <a:pt x="4035055" y="152400"/>
                  <a:pt x="4056643" y="161584"/>
                  <a:pt x="4078598" y="169817"/>
                </a:cubicBezTo>
                <a:cubicBezTo>
                  <a:pt x="4091491" y="174652"/>
                  <a:pt x="4105131" y="177456"/>
                  <a:pt x="4117787" y="182880"/>
                </a:cubicBezTo>
                <a:cubicBezTo>
                  <a:pt x="4135685" y="190551"/>
                  <a:pt x="4152621" y="200297"/>
                  <a:pt x="4170038" y="209006"/>
                </a:cubicBezTo>
                <a:cubicBezTo>
                  <a:pt x="4213254" y="338653"/>
                  <a:pt x="4140748" y="140610"/>
                  <a:pt x="4222290" y="287383"/>
                </a:cubicBezTo>
                <a:cubicBezTo>
                  <a:pt x="4235664" y="311456"/>
                  <a:pt x="4248416" y="365760"/>
                  <a:pt x="4248416" y="365760"/>
                </a:cubicBezTo>
                <a:cubicBezTo>
                  <a:pt x="4252770" y="391886"/>
                  <a:pt x="4255733" y="418282"/>
                  <a:pt x="4261478" y="444137"/>
                </a:cubicBezTo>
                <a:cubicBezTo>
                  <a:pt x="4264465" y="457579"/>
                  <a:pt x="4274541" y="469556"/>
                  <a:pt x="4274541" y="483326"/>
                </a:cubicBezTo>
                <a:cubicBezTo>
                  <a:pt x="4274541" y="586138"/>
                  <a:pt x="4267659" y="602292"/>
                  <a:pt x="4248416" y="679269"/>
                </a:cubicBezTo>
                <a:cubicBezTo>
                  <a:pt x="4252770" y="766355"/>
                  <a:pt x="4254791" y="853588"/>
                  <a:pt x="4261478" y="940526"/>
                </a:cubicBezTo>
                <a:cubicBezTo>
                  <a:pt x="4263509" y="966934"/>
                  <a:pt x="4262696" y="995213"/>
                  <a:pt x="4274541" y="1018903"/>
                </a:cubicBezTo>
                <a:cubicBezTo>
                  <a:pt x="4285557" y="1040934"/>
                  <a:pt x="4308256" y="1054935"/>
                  <a:pt x="4326793" y="1071155"/>
                </a:cubicBezTo>
                <a:cubicBezTo>
                  <a:pt x="4329046" y="1073127"/>
                  <a:pt x="4406041" y="1131897"/>
                  <a:pt x="4418233" y="1136469"/>
                </a:cubicBezTo>
                <a:cubicBezTo>
                  <a:pt x="4439022" y="1144265"/>
                  <a:pt x="4461776" y="1145178"/>
                  <a:pt x="4483547" y="1149532"/>
                </a:cubicBezTo>
                <a:cubicBezTo>
                  <a:pt x="4517598" y="1183583"/>
                  <a:pt x="4544845" y="1219369"/>
                  <a:pt x="4588050" y="1240972"/>
                </a:cubicBezTo>
                <a:cubicBezTo>
                  <a:pt x="4600366" y="1247130"/>
                  <a:pt x="4614175" y="1249681"/>
                  <a:pt x="4627238" y="1254035"/>
                </a:cubicBezTo>
                <a:cubicBezTo>
                  <a:pt x="4661487" y="1288283"/>
                  <a:pt x="4692097" y="1316006"/>
                  <a:pt x="4718678" y="1358537"/>
                </a:cubicBezTo>
                <a:cubicBezTo>
                  <a:pt x="4725976" y="1370214"/>
                  <a:pt x="4725583" y="1385410"/>
                  <a:pt x="4731741" y="1397726"/>
                </a:cubicBezTo>
                <a:cubicBezTo>
                  <a:pt x="4738762" y="1411768"/>
                  <a:pt x="4749158" y="1423852"/>
                  <a:pt x="4757867" y="1436915"/>
                </a:cubicBezTo>
                <a:cubicBezTo>
                  <a:pt x="4753513" y="1454332"/>
                  <a:pt x="4749736" y="1471904"/>
                  <a:pt x="4744804" y="1489166"/>
                </a:cubicBezTo>
                <a:cubicBezTo>
                  <a:pt x="4741021" y="1502406"/>
                  <a:pt x="4734204" y="1514808"/>
                  <a:pt x="4731741" y="1528355"/>
                </a:cubicBezTo>
                <a:cubicBezTo>
                  <a:pt x="4726589" y="1556692"/>
                  <a:pt x="4722007" y="1646863"/>
                  <a:pt x="4705616" y="1685109"/>
                </a:cubicBezTo>
                <a:cubicBezTo>
                  <a:pt x="4699432" y="1699539"/>
                  <a:pt x="4688199" y="1711234"/>
                  <a:pt x="4679490" y="1724297"/>
                </a:cubicBezTo>
                <a:cubicBezTo>
                  <a:pt x="4652212" y="1806130"/>
                  <a:pt x="4690137" y="1723146"/>
                  <a:pt x="4614176" y="1789612"/>
                </a:cubicBezTo>
                <a:cubicBezTo>
                  <a:pt x="4440405" y="1941661"/>
                  <a:pt x="4648026" y="1797523"/>
                  <a:pt x="4522736" y="1881052"/>
                </a:cubicBezTo>
                <a:cubicBezTo>
                  <a:pt x="4507700" y="1906111"/>
                  <a:pt x="4477010" y="1969229"/>
                  <a:pt x="4444358" y="1985555"/>
                </a:cubicBezTo>
                <a:cubicBezTo>
                  <a:pt x="4407411" y="2004029"/>
                  <a:pt x="4365348" y="2009914"/>
                  <a:pt x="4326793" y="2024743"/>
                </a:cubicBezTo>
                <a:cubicBezTo>
                  <a:pt x="4308618" y="2031733"/>
                  <a:pt x="4292774" y="2044031"/>
                  <a:pt x="4274541" y="2050869"/>
                </a:cubicBezTo>
                <a:cubicBezTo>
                  <a:pt x="4257731" y="2057173"/>
                  <a:pt x="4239894" y="2060411"/>
                  <a:pt x="4222290" y="2063932"/>
                </a:cubicBezTo>
                <a:cubicBezTo>
                  <a:pt x="4055075" y="2097376"/>
                  <a:pt x="3972579" y="2081574"/>
                  <a:pt x="3752027" y="2090057"/>
                </a:cubicBezTo>
                <a:lnTo>
                  <a:pt x="3464644" y="2103120"/>
                </a:lnTo>
                <a:cubicBezTo>
                  <a:pt x="3403684" y="2111829"/>
                  <a:pt x="3342505" y="2119122"/>
                  <a:pt x="3281764" y="2129246"/>
                </a:cubicBezTo>
                <a:cubicBezTo>
                  <a:pt x="3264055" y="2132198"/>
                  <a:pt x="3247117" y="2138788"/>
                  <a:pt x="3229513" y="2142309"/>
                </a:cubicBezTo>
                <a:cubicBezTo>
                  <a:pt x="3203541" y="2147503"/>
                  <a:pt x="3177262" y="2151018"/>
                  <a:pt x="3151136" y="2155372"/>
                </a:cubicBezTo>
                <a:cubicBezTo>
                  <a:pt x="3082737" y="2223769"/>
                  <a:pt x="3129473" y="2188718"/>
                  <a:pt x="2994381" y="2233749"/>
                </a:cubicBezTo>
                <a:lnTo>
                  <a:pt x="2955193" y="2246812"/>
                </a:lnTo>
                <a:cubicBezTo>
                  <a:pt x="2902941" y="2242458"/>
                  <a:pt x="2850871" y="2233749"/>
                  <a:pt x="2798438" y="2233749"/>
                </a:cubicBezTo>
                <a:cubicBezTo>
                  <a:pt x="2737323" y="2233749"/>
                  <a:pt x="2676579" y="2250202"/>
                  <a:pt x="2615558" y="2246812"/>
                </a:cubicBezTo>
                <a:cubicBezTo>
                  <a:pt x="2596115" y="2245732"/>
                  <a:pt x="2581205" y="2228357"/>
                  <a:pt x="2563307" y="2220686"/>
                </a:cubicBezTo>
                <a:cubicBezTo>
                  <a:pt x="2550651" y="2215262"/>
                  <a:pt x="2537181" y="2211977"/>
                  <a:pt x="2524118" y="2207623"/>
                </a:cubicBezTo>
                <a:cubicBezTo>
                  <a:pt x="2506701" y="2216332"/>
                  <a:pt x="2489765" y="2226078"/>
                  <a:pt x="2471867" y="2233749"/>
                </a:cubicBezTo>
                <a:cubicBezTo>
                  <a:pt x="2349457" y="2286211"/>
                  <a:pt x="2201409" y="2229681"/>
                  <a:pt x="2079981" y="2220686"/>
                </a:cubicBezTo>
                <a:cubicBezTo>
                  <a:pt x="2049501" y="2225040"/>
                  <a:pt x="2019330" y="2233749"/>
                  <a:pt x="1988541" y="2233749"/>
                </a:cubicBezTo>
                <a:cubicBezTo>
                  <a:pt x="1953436" y="2233749"/>
                  <a:pt x="1918577" y="2226966"/>
                  <a:pt x="1884038" y="2220686"/>
                </a:cubicBezTo>
                <a:cubicBezTo>
                  <a:pt x="1870491" y="2218223"/>
                  <a:pt x="1858089" y="2211406"/>
                  <a:pt x="1844850" y="2207623"/>
                </a:cubicBezTo>
                <a:cubicBezTo>
                  <a:pt x="1827587" y="2202691"/>
                  <a:pt x="1810015" y="2198914"/>
                  <a:pt x="1792598" y="2194560"/>
                </a:cubicBezTo>
                <a:cubicBezTo>
                  <a:pt x="1779535" y="2185852"/>
                  <a:pt x="1768896" y="2171016"/>
                  <a:pt x="1753410" y="2168435"/>
                </a:cubicBezTo>
                <a:cubicBezTo>
                  <a:pt x="1739828" y="2166171"/>
                  <a:pt x="1727461" y="2177714"/>
                  <a:pt x="1714221" y="2181497"/>
                </a:cubicBezTo>
                <a:cubicBezTo>
                  <a:pt x="1696959" y="2186429"/>
                  <a:pt x="1679650" y="2191440"/>
                  <a:pt x="1661970" y="2194560"/>
                </a:cubicBezTo>
                <a:cubicBezTo>
                  <a:pt x="1605570" y="2204513"/>
                  <a:pt x="1548759" y="2211977"/>
                  <a:pt x="1492153" y="2220686"/>
                </a:cubicBezTo>
                <a:cubicBezTo>
                  <a:pt x="1479090" y="2216332"/>
                  <a:pt x="1466466" y="2210323"/>
                  <a:pt x="1452964" y="2207623"/>
                </a:cubicBezTo>
                <a:cubicBezTo>
                  <a:pt x="1422772" y="2201585"/>
                  <a:pt x="1391015" y="2203407"/>
                  <a:pt x="1361524" y="2194560"/>
                </a:cubicBezTo>
                <a:cubicBezTo>
                  <a:pt x="1346487" y="2190049"/>
                  <a:pt x="1337482" y="2172566"/>
                  <a:pt x="1322336" y="2168435"/>
                </a:cubicBezTo>
                <a:cubicBezTo>
                  <a:pt x="1288468" y="2159198"/>
                  <a:pt x="1252667" y="2159726"/>
                  <a:pt x="1217833" y="2155372"/>
                </a:cubicBezTo>
                <a:cubicBezTo>
                  <a:pt x="1200416" y="2142309"/>
                  <a:pt x="1186618" y="2121793"/>
                  <a:pt x="1165581" y="2116183"/>
                </a:cubicBezTo>
                <a:cubicBezTo>
                  <a:pt x="936242" y="2055025"/>
                  <a:pt x="1084762" y="2145033"/>
                  <a:pt x="982701" y="2076995"/>
                </a:cubicBezTo>
                <a:cubicBezTo>
                  <a:pt x="908678" y="2085703"/>
                  <a:pt x="834417" y="2092580"/>
                  <a:pt x="760633" y="2103120"/>
                </a:cubicBezTo>
                <a:cubicBezTo>
                  <a:pt x="742860" y="2105659"/>
                  <a:pt x="726322" y="2116847"/>
                  <a:pt x="708381" y="2116183"/>
                </a:cubicBezTo>
                <a:cubicBezTo>
                  <a:pt x="607924" y="2112462"/>
                  <a:pt x="508084" y="2098766"/>
                  <a:pt x="407936" y="2090057"/>
                </a:cubicBezTo>
                <a:cubicBezTo>
                  <a:pt x="354606" y="2079392"/>
                  <a:pt x="319484" y="2079984"/>
                  <a:pt x="277307" y="2037806"/>
                </a:cubicBezTo>
                <a:cubicBezTo>
                  <a:pt x="267570" y="2028069"/>
                  <a:pt x="270402" y="2010933"/>
                  <a:pt x="264244" y="1998617"/>
                </a:cubicBezTo>
                <a:cubicBezTo>
                  <a:pt x="257223" y="1984575"/>
                  <a:pt x="246827" y="1972492"/>
                  <a:pt x="238118" y="1959429"/>
                </a:cubicBezTo>
                <a:cubicBezTo>
                  <a:pt x="233764" y="1942012"/>
                  <a:pt x="230215" y="1924373"/>
                  <a:pt x="225056" y="1907177"/>
                </a:cubicBezTo>
                <a:cubicBezTo>
                  <a:pt x="217143" y="1880799"/>
                  <a:pt x="203457" y="1855964"/>
                  <a:pt x="198930" y="1828800"/>
                </a:cubicBezTo>
                <a:cubicBezTo>
                  <a:pt x="190221" y="1776549"/>
                  <a:pt x="182010" y="1724212"/>
                  <a:pt x="172804" y="1672046"/>
                </a:cubicBezTo>
                <a:cubicBezTo>
                  <a:pt x="168945" y="1650181"/>
                  <a:pt x="163117" y="1628676"/>
                  <a:pt x="159741" y="1606732"/>
                </a:cubicBezTo>
                <a:cubicBezTo>
                  <a:pt x="158108" y="1596118"/>
                  <a:pt x="148207" y="1479160"/>
                  <a:pt x="133616" y="1449977"/>
                </a:cubicBezTo>
                <a:cubicBezTo>
                  <a:pt x="123880" y="1430504"/>
                  <a:pt x="107081" y="1415442"/>
                  <a:pt x="94427" y="1397726"/>
                </a:cubicBezTo>
                <a:cubicBezTo>
                  <a:pt x="85302" y="1384951"/>
                  <a:pt x="80560" y="1368345"/>
                  <a:pt x="68301" y="1358537"/>
                </a:cubicBezTo>
                <a:cubicBezTo>
                  <a:pt x="57549" y="1349935"/>
                  <a:pt x="42176" y="1349829"/>
                  <a:pt x="29113" y="1345475"/>
                </a:cubicBezTo>
                <a:cubicBezTo>
                  <a:pt x="24759" y="1332412"/>
                  <a:pt x="14342" y="1319949"/>
                  <a:pt x="16050" y="1306286"/>
                </a:cubicBezTo>
                <a:cubicBezTo>
                  <a:pt x="18829" y="1284052"/>
                  <a:pt x="57084" y="1211154"/>
                  <a:pt x="68301" y="1188720"/>
                </a:cubicBezTo>
                <a:cubicBezTo>
                  <a:pt x="59593" y="1175657"/>
                  <a:pt x="53277" y="1160633"/>
                  <a:pt x="42176" y="1149532"/>
                </a:cubicBezTo>
                <a:cubicBezTo>
                  <a:pt x="31075" y="1138431"/>
                  <a:pt x="6795" y="1138637"/>
                  <a:pt x="2987" y="1123406"/>
                </a:cubicBezTo>
                <a:cubicBezTo>
                  <a:pt x="0" y="1111458"/>
                  <a:pt x="20404" y="1105989"/>
                  <a:pt x="29113" y="1097280"/>
                </a:cubicBezTo>
              </a:path>
            </a:pathLst>
          </a:custGeom>
          <a:solidFill>
            <a:srgbClr val="4f81bd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098960" y="4643280"/>
            <a:ext cx="1828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BQP</a:t>
            </a:r>
            <a:br>
              <a:rPr sz="4400"/>
            </a:b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ounded-Error Quantum Polynomi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"/>
              <p:cNvSpPr txBox="1"/>
              <p:nvPr/>
            </p:nvSpPr>
            <p:spPr>
              <a:xfrm>
                <a:off x="5791320" y="1039680"/>
                <a:ext cx="20905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6"/>
              <p:cNvSpPr txBox="1"/>
              <p:nvPr/>
            </p:nvSpPr>
            <p:spPr>
              <a:xfrm>
                <a:off x="6461280" y="4856040"/>
                <a:ext cx="24667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7"/>
              <p:cNvSpPr txBox="1"/>
              <p:nvPr/>
            </p:nvSpPr>
            <p:spPr>
              <a:xfrm>
                <a:off x="5943600" y="2730600"/>
                <a:ext cx="27432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Box 4"/>
          <p:cNvSpPr/>
          <p:nvPr/>
        </p:nvSpPr>
        <p:spPr>
          <a:xfrm>
            <a:off x="5257800" y="3174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4572000" y="1143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4572000" y="22780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tary transformations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6146640" y="4381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676520" y="2306520"/>
            <a:ext cx="5867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pe for an exponential speedup comes from “the magic of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2"/>
          <p:cNvGrpSpPr/>
          <p:nvPr/>
        </p:nvGrpSpPr>
        <p:grpSpPr>
          <a:xfrm>
            <a:off x="2433600" y="1104120"/>
            <a:ext cx="4355280" cy="2335320"/>
            <a:chOff x="2433600" y="1104120"/>
            <a:chExt cx="4355280" cy="2335320"/>
          </a:xfrm>
        </p:grpSpPr>
        <p:sp>
          <p:nvSpPr>
            <p:cNvPr id="209" name="Straight Connector 12"/>
            <p:cNvSpPr/>
            <p:nvPr/>
          </p:nvSpPr>
          <p:spPr>
            <a:xfrm>
              <a:off x="2966760" y="22492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13"/>
            <p:cNvSpPr/>
            <p:nvPr/>
          </p:nvSpPr>
          <p:spPr>
            <a:xfrm>
              <a:off x="2966760" y="293544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4"/>
            <p:cNvSpPr/>
            <p:nvPr/>
          </p:nvSpPr>
          <p:spPr>
            <a:xfrm>
              <a:off x="2966760" y="156348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4"/>
            <p:cNvSpPr/>
            <p:nvPr/>
          </p:nvSpPr>
          <p:spPr>
            <a:xfrm>
              <a:off x="33480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6"/>
            <p:cNvSpPr/>
            <p:nvPr/>
          </p:nvSpPr>
          <p:spPr>
            <a:xfrm>
              <a:off x="33480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7"/>
            <p:cNvSpPr/>
            <p:nvPr/>
          </p:nvSpPr>
          <p:spPr>
            <a:xfrm>
              <a:off x="33480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4262400" y="1257120"/>
              <a:ext cx="533160" cy="19065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9"/>
            <p:cNvSpPr/>
            <p:nvPr/>
          </p:nvSpPr>
          <p:spPr>
            <a:xfrm>
              <a:off x="5176800" y="1257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0"/>
            <p:cNvSpPr/>
            <p:nvPr/>
          </p:nvSpPr>
          <p:spPr>
            <a:xfrm>
              <a:off x="5176800" y="1943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1"/>
            <p:cNvSpPr/>
            <p:nvPr/>
          </p:nvSpPr>
          <p:spPr>
            <a:xfrm>
              <a:off x="5176800" y="2629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49"/>
            <p:cNvGrpSpPr/>
            <p:nvPr/>
          </p:nvGrpSpPr>
          <p:grpSpPr>
            <a:xfrm>
              <a:off x="5978160" y="1104120"/>
              <a:ext cx="810720" cy="962640"/>
              <a:chOff x="5978160" y="1104120"/>
              <a:chExt cx="810720" cy="962640"/>
            </a:xfrm>
          </p:grpSpPr>
          <p:sp>
            <p:nvSpPr>
              <p:cNvPr id="220" name="Chord 33"/>
              <p:cNvSpPr/>
              <p:nvPr/>
            </p:nvSpPr>
            <p:spPr>
              <a:xfrm rot="7220400">
                <a:off x="6080040" y="136512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Straight Arrow Connector 34"/>
              <p:cNvCxnSpPr>
                <a:stCxn id="220" idx="2"/>
              </p:cNvCxnSpPr>
              <p:nvPr/>
            </p:nvCxnSpPr>
            <p:spPr>
              <a:xfrm flipV="1">
                <a:off x="6381000" y="110412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2" name="Group 50"/>
            <p:cNvGrpSpPr/>
            <p:nvPr/>
          </p:nvGrpSpPr>
          <p:grpSpPr>
            <a:xfrm>
              <a:off x="5978880" y="1790640"/>
              <a:ext cx="809640" cy="962640"/>
              <a:chOff x="5978880" y="1790640"/>
              <a:chExt cx="809640" cy="962640"/>
            </a:xfrm>
          </p:grpSpPr>
          <p:sp>
            <p:nvSpPr>
              <p:cNvPr id="223" name="Chord 31"/>
              <p:cNvSpPr/>
              <p:nvPr/>
            </p:nvSpPr>
            <p:spPr>
              <a:xfrm rot="7220400">
                <a:off x="6080760" y="2052360"/>
                <a:ext cx="60552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4" name="Straight Arrow Connector 32"/>
              <p:cNvCxnSpPr>
                <a:stCxn id="223" idx="2"/>
              </p:cNvCxnSpPr>
              <p:nvPr/>
            </p:nvCxnSpPr>
            <p:spPr>
              <a:xfrm flipV="1">
                <a:off x="6381000" y="1790640"/>
                <a:ext cx="146520" cy="6048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225" name="Group 53"/>
            <p:cNvGrpSpPr/>
            <p:nvPr/>
          </p:nvGrpSpPr>
          <p:grpSpPr>
            <a:xfrm>
              <a:off x="5978160" y="2476800"/>
              <a:ext cx="810720" cy="962640"/>
              <a:chOff x="5978160" y="2476800"/>
              <a:chExt cx="810720" cy="962640"/>
            </a:xfrm>
          </p:grpSpPr>
          <p:sp>
            <p:nvSpPr>
              <p:cNvPr id="226" name="Chord 29"/>
              <p:cNvSpPr/>
              <p:nvPr/>
            </p:nvSpPr>
            <p:spPr>
              <a:xfrm rot="7220400">
                <a:off x="6080040" y="2737800"/>
                <a:ext cx="606960" cy="583920"/>
              </a:xfrm>
              <a:custGeom>
                <a:avLst/>
                <a:gdLst/>
                <a:ahLst/>
                <a:rect l="l" t="t" r="r" b="b"/>
                <a:pathLst>
                  <a:path w="606538" h="584538">
                    <a:moveTo>
                      <a:pt x="495758" y="518119"/>
                    </a:moveTo>
                    <a:cubicBezTo>
                      <a:pt x="405112" y="589873"/>
                      <a:pt x="279656" y="604812"/>
                      <a:pt x="173613" y="556481"/>
                    </a:cubicBezTo>
                    <a:cubicBezTo>
                      <a:pt x="62712" y="505935"/>
                      <a:pt x="-5668" y="395978"/>
                      <a:pt x="367" y="277893"/>
                    </a:cubicBezTo>
                    <a:cubicBezTo>
                      <a:pt x="6369" y="160441"/>
                      <a:pt x="84826" y="57895"/>
                      <a:pt x="199478" y="17649"/>
                    </a:cubicBezTo>
                    <a:lnTo>
                      <a:pt x="495758" y="518119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30"/>
              <p:cNvCxnSpPr>
                <a:stCxn id="226" idx="2"/>
              </p:cNvCxnSpPr>
              <p:nvPr/>
            </p:nvCxnSpPr>
            <p:spPr>
              <a:xfrm flipV="1">
                <a:off x="6381000" y="2476800"/>
                <a:ext cx="146520" cy="6044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28" name="Text Box 3"/>
            <p:cNvSpPr/>
            <p:nvPr/>
          </p:nvSpPr>
          <p:spPr>
            <a:xfrm>
              <a:off x="4262400" y="1943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"/>
            <p:cNvSpPr/>
            <p:nvPr/>
          </p:nvSpPr>
          <p:spPr>
            <a:xfrm>
              <a:off x="2433600" y="1257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"/>
            <p:cNvSpPr/>
            <p:nvPr/>
          </p:nvSpPr>
          <p:spPr>
            <a:xfrm>
              <a:off x="2433600" y="1943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"/>
            <p:cNvSpPr/>
            <p:nvPr/>
          </p:nvSpPr>
          <p:spPr>
            <a:xfrm>
              <a:off x="2433600" y="2629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imple Example: Fouri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33360" y="3581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52760" y="344952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3"/>
          <p:cNvSpPr/>
          <p:nvPr/>
        </p:nvSpPr>
        <p:spPr>
          <a:xfrm>
            <a:off x="343080" y="4419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ove circuit samples each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"/>
              <p:cNvSpPr txBox="1"/>
              <p:nvPr/>
            </p:nvSpPr>
            <p:spPr>
              <a:xfrm>
                <a:off x="457200" y="4973760"/>
                <a:ext cx="48816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z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Text Box 3"/>
          <p:cNvSpPr/>
          <p:nvPr/>
        </p:nvSpPr>
        <p:spPr>
          <a:xfrm>
            <a:off x="5915160" y="5105520"/>
            <a:ext cx="287640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to approximate, even for z=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"/>
          <p:cNvCxnSpPr>
            <a:stCxn id="237" idx="1"/>
          </p:cNvCxnSpPr>
          <p:nvPr/>
        </p:nvCxnSpPr>
        <p:spPr>
          <a:xfrm flipH="1" flipV="1">
            <a:off x="5338080" y="5697000"/>
            <a:ext cx="577080" cy="100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Text Box 3"/>
          <p:cNvSpPr/>
          <p:nvPr/>
        </p:nvSpPr>
        <p:spPr>
          <a:xfrm>
            <a:off x="838080" y="2077920"/>
            <a:ext cx="71629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th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ness, one can show that if the quantum computer’s output distribution could be exactly sampled in classical polynomial time, th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hence the polynomial hierarchy would collapse to the thir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8600" y="95724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assing throug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beamsplit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ubtitle 4"/>
          <p:cNvSpPr/>
          <p:nvPr/>
        </p:nvSpPr>
        <p:spPr>
          <a:xfrm>
            <a:off x="3276720" y="21286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ven with 2 photons and 1 beamsplitter, we can get counterintuitive phenomena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 rot="10800000">
            <a:off x="5562720" y="5067000"/>
            <a:ext cx="12189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380880" y="2071800"/>
            <a:ext cx="2509920" cy="22636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52280" y="4495680"/>
            <a:ext cx="49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general, n-photon amplitudes are given by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erman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"/>
              <p:cNvSpPr txBox="1"/>
              <p:nvPr/>
            </p:nvSpPr>
            <p:spPr>
              <a:xfrm>
                <a:off x="228600" y="5343480"/>
                <a:ext cx="3814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Text Box 3"/>
          <p:cNvSpPr/>
          <p:nvPr/>
        </p:nvSpPr>
        <p:spPr>
          <a:xfrm>
            <a:off x="1066680" y="2819520"/>
            <a:ext cx="701064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permanent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(Valiant 1979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nabling a similar hardness argument to what we saw for Fourier Sampl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10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10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107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10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11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11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223920" y="152280"/>
            <a:ext cx="892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Theorem of BosonSampl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one can sample a linear-optical device’s output distribution in classical polynomial time, even to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rror in variation distance.  Then one can also estimate the permanent of a matrix of i.i.d. N(0,1) Gaussians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PP</a:t>
            </a:r>
            <a:r>
              <a:rPr b="1" lang="en-US" sz="2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228600" y="2514600"/>
            <a:ext cx="8920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entral Conjecture of BosonSampl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aussian permanent estimation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so, then fast classical simulation would collapse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3920" y="4191120"/>
            <a:ext cx="846288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rolan et al.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6-photon BosonSampling in the la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as, scaling to more photons is hard, because of the unavailability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terministic single-photon sourc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Quantum supremacy may be achievable earlier with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superconducting qubits—so let’s think about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457200" y="29376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Quantu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2057400"/>
            <a:ext cx="838224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 a quantum circuit C on n qubits 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lattice, with d layers of random nearest-neighbor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C to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measure.  Repeat T times, to obtain sample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tes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: check whether at least 2/3 of them have more the median prob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takes classical exponential time, which is OK for n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ublish C.  Challenge skeptics to generate samples passing the test in a reasonable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"/>
          <p:cNvSpPr/>
          <p:nvPr/>
        </p:nvSpPr>
        <p:spPr>
          <a:xfrm>
            <a:off x="62643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672156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2643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672156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62643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4"/>
          <p:cNvSpPr/>
          <p:nvPr/>
        </p:nvSpPr>
        <p:spPr>
          <a:xfrm>
            <a:off x="672156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7"/>
          <p:cNvSpPr/>
          <p:nvPr/>
        </p:nvSpPr>
        <p:spPr>
          <a:xfrm>
            <a:off x="62643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"/>
          <p:cNvSpPr/>
          <p:nvPr/>
        </p:nvSpPr>
        <p:spPr>
          <a:xfrm>
            <a:off x="672156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4"/>
          <p:cNvSpPr/>
          <p:nvPr/>
        </p:nvSpPr>
        <p:spPr>
          <a:xfrm>
            <a:off x="6340320" y="35892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3"/>
          <p:cNvSpPr/>
          <p:nvPr/>
        </p:nvSpPr>
        <p:spPr>
          <a:xfrm>
            <a:off x="632952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4"/>
          <p:cNvSpPr/>
          <p:nvPr/>
        </p:nvSpPr>
        <p:spPr>
          <a:xfrm>
            <a:off x="631980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25"/>
          <p:cNvSpPr/>
          <p:nvPr/>
        </p:nvSpPr>
        <p:spPr>
          <a:xfrm>
            <a:off x="630864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71834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7640640" y="29376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71834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9"/>
          <p:cNvSpPr/>
          <p:nvPr/>
        </p:nvSpPr>
        <p:spPr>
          <a:xfrm>
            <a:off x="7640640" y="67932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0"/>
          <p:cNvSpPr/>
          <p:nvPr/>
        </p:nvSpPr>
        <p:spPr>
          <a:xfrm>
            <a:off x="71834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1"/>
          <p:cNvSpPr/>
          <p:nvPr/>
        </p:nvSpPr>
        <p:spPr>
          <a:xfrm>
            <a:off x="7640640" y="108576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2"/>
          <p:cNvSpPr/>
          <p:nvPr/>
        </p:nvSpPr>
        <p:spPr>
          <a:xfrm>
            <a:off x="71834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3"/>
          <p:cNvSpPr/>
          <p:nvPr/>
        </p:nvSpPr>
        <p:spPr>
          <a:xfrm>
            <a:off x="7640640" y="147168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4"/>
          <p:cNvSpPr/>
          <p:nvPr/>
        </p:nvSpPr>
        <p:spPr>
          <a:xfrm>
            <a:off x="7259760" y="358920"/>
            <a:ext cx="53316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5"/>
          <p:cNvSpPr/>
          <p:nvPr/>
        </p:nvSpPr>
        <p:spPr>
          <a:xfrm>
            <a:off x="7248600" y="74448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36"/>
          <p:cNvSpPr/>
          <p:nvPr/>
        </p:nvSpPr>
        <p:spPr>
          <a:xfrm>
            <a:off x="7238880" y="116208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7"/>
          <p:cNvSpPr/>
          <p:nvPr/>
        </p:nvSpPr>
        <p:spPr>
          <a:xfrm>
            <a:off x="7229520" y="15476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7-11-27T20:15:50Z</dcterms:modified>
  <cp:revision>341</cp:revision>
  <dc:subject/>
  <dc:title>BQP and the Polynomial Hierarchy</dc:title>
</cp:coreProperties>
</file>