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BA7-25FD-4533-891D-3E739238F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DA5-96A8-4F5E-8D50-2DC149430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F53-A004-4492-A710-063122609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662E-F725-491F-982F-2D79B2D22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517-44CD-43B5-AD29-1DDD962EA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FD8-7C0E-4998-BD10-089726415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14E2-86CE-40C8-BD87-3E074569D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1339-4414-4356-BBA3-56AE3B394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7A2-F7DA-41D1-A1C4-F7D50C144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DB86-C568-46A4-AEF4-BC4533883AA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089-3915-466B-A653-5DAC22CCD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2C9-103D-45D3-9C17-F42317F7A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F88-5040-411B-AE48-846434CE5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DD8-63DE-48BC-BB36-B62DEC386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6CE-97C9-42F9-AD59-C27D155D27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EE0-8DF5-4B80-9E48-73E546BDD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AA4-3FA7-49C1-97F4-4C1331C5E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CA1-3252-44B8-9B1B-D30D88CC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866-E740-4002-A208-F6573E0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DB1-87F5-43EA-BB33-6430BAAC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31C-BEE7-492E-832F-3BFF262B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BC4-2A84-49C5-9B34-86279A9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3FA-6BC8-47BC-A811-2A965DA6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1CB-B1A4-43DD-B910-B93FDFF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F52-3B20-4CEF-BF43-F0A86254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3A1-F4C6-4596-BDE4-5B356049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D2E-C576-495D-8F87-D482DDC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424-E10E-449D-BFC4-A112CE90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48C-01DC-4DDA-9964-0699762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6F7-B6A6-4638-87B1-E1939A023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643A-F0B3-44D8-B64A-87DF372F1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ell University, November 27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joint works with Alex Arkhipov (STOC’2011) and with Lijie Chen (CCC’2017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omplexity-Theoretic Foundations of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68320" y="1905120"/>
            <a:ext cx="2819520" cy="1920600"/>
          </a:xfrm>
          <a:prstGeom prst="rect">
            <a:avLst/>
          </a:prstGeom>
          <a:ln w="0">
            <a:noFill/>
          </a:ln>
        </p:spPr>
      </p:pic>
      <p:sp>
        <p:nvSpPr>
          <p:cNvPr id="51" name="Oval 11"/>
          <p:cNvSpPr/>
          <p:nvPr/>
        </p:nvSpPr>
        <p:spPr>
          <a:xfrm>
            <a:off x="5364000" y="1709640"/>
            <a:ext cx="2743200" cy="23115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68920" y="1887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Q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608800" y="2871720"/>
            <a:ext cx="219384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745240" y="3100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282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3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Straight Connector 12"/>
            <p:cNvSpPr/>
            <p:nvPr/>
          </p:nvSpPr>
          <p:spPr>
            <a:xfrm flipV="1">
              <a:off x="1402200" y="4612320"/>
              <a:ext cx="0" cy="1563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13"/>
            <p:cNvSpPr/>
            <p:nvPr/>
          </p:nvSpPr>
          <p:spPr>
            <a:xfrm flipV="1">
              <a:off x="1946880" y="4193280"/>
              <a:ext cx="0" cy="19821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14"/>
            <p:cNvSpPr/>
            <p:nvPr/>
          </p:nvSpPr>
          <p:spPr>
            <a:xfrm flipV="1">
              <a:off x="2491560" y="4297680"/>
              <a:ext cx="0" cy="1877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15"/>
            <p:cNvSpPr/>
            <p:nvPr/>
          </p:nvSpPr>
          <p:spPr>
            <a:xfrm flipV="1">
              <a:off x="3035880" y="4402800"/>
              <a:ext cx="0" cy="1772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16"/>
            <p:cNvSpPr/>
            <p:nvPr/>
          </p:nvSpPr>
          <p:spPr>
            <a:xfrm flipV="1">
              <a:off x="3517560" y="4297680"/>
              <a:ext cx="0" cy="1877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17"/>
            <p:cNvSpPr/>
            <p:nvPr/>
          </p:nvSpPr>
          <p:spPr>
            <a:xfrm flipV="1">
              <a:off x="4069440" y="4612320"/>
              <a:ext cx="0" cy="1563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19"/>
            <p:cNvSpPr/>
            <p:nvPr/>
          </p:nvSpPr>
          <p:spPr>
            <a:xfrm flipV="1">
              <a:off x="508860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0"/>
            <p:cNvSpPr/>
            <p:nvPr/>
          </p:nvSpPr>
          <p:spPr>
            <a:xfrm flipV="1">
              <a:off x="5612040" y="5184000"/>
              <a:ext cx="0" cy="99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1"/>
            <p:cNvSpPr/>
            <p:nvPr/>
          </p:nvSpPr>
          <p:spPr>
            <a:xfrm flipV="1">
              <a:off x="613584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2"/>
            <p:cNvSpPr/>
            <p:nvPr/>
          </p:nvSpPr>
          <p:spPr>
            <a:xfrm flipV="1">
              <a:off x="6659280" y="5289120"/>
              <a:ext cx="0" cy="886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23"/>
            <p:cNvSpPr/>
            <p:nvPr/>
          </p:nvSpPr>
          <p:spPr>
            <a:xfrm flipV="1">
              <a:off x="7183080" y="5550480"/>
              <a:ext cx="0" cy="624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24"/>
            <p:cNvSpPr/>
            <p:nvPr/>
          </p:nvSpPr>
          <p:spPr>
            <a:xfrm flipV="1">
              <a:off x="7811280" y="568008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5"/>
            <p:cNvSpPr/>
            <p:nvPr/>
          </p:nvSpPr>
          <p:spPr>
            <a:xfrm flipV="1">
              <a:off x="8335080" y="5550480"/>
              <a:ext cx="0" cy="624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"/>
            <p:cNvSpPr/>
            <p:nvPr/>
          </p:nvSpPr>
          <p:spPr>
            <a:xfrm flipV="1">
              <a:off x="79488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rong Hardness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4308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polynomial-time classical algorithm A such that, given a uniformly-random quantum circuit C with n qubits and m&gt;&gt;n g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"/>
              <p:cNvSpPr txBox="1"/>
              <p:nvPr/>
            </p:nvSpPr>
            <p:spPr>
              <a:xfrm>
                <a:off x="114480" y="2482920"/>
                <a:ext cx="8915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C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guesses whether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⟨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C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Text Box 3"/>
          <p:cNvSpPr/>
          <p:nvPr/>
        </p:nvSpPr>
        <p:spPr>
          <a:xfrm>
            <a:off x="35244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olynomial-time classical algorithm that guesses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038480" y="4440240"/>
                <a:ext cx="1392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Text Box 3"/>
          <p:cNvSpPr/>
          <p:nvPr/>
        </p:nvSpPr>
        <p:spPr>
          <a:xfrm>
            <a:off x="914400" y="5486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just expand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0|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C|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ut as a sum of 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terms, then sample a few random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330120" y="228600"/>
            <a:ext cx="8661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ume SHA.  Then given as input a random quantum circuit C, with n qubits and m&gt;&gt;n gates, there’s no polynomial-time classical algorithm that eve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es our statistical test for C-sampl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80880" y="205740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iven a circuit C, first “hide” which amplitude we care about by applying a random XOR-mask to the outputs, producing a C’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"/>
              <p:cNvSpPr txBox="1"/>
              <p:nvPr/>
            </p:nvSpPr>
            <p:spPr>
              <a:xfrm>
                <a:off x="5078520" y="3013200"/>
                <a:ext cx="3684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Text Box 3"/>
          <p:cNvSpPr/>
          <p:nvPr/>
        </p:nvSpPr>
        <p:spPr>
          <a:xfrm>
            <a:off x="351000" y="38098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w let A be a poly-time classical algorithm that passes the test for C’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0.99.  Suppose A outputs samples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if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z for some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T], gu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2828880" y="5068800"/>
                <a:ext cx="3176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Text Box 3"/>
          <p:cNvSpPr/>
          <p:nvPr/>
        </p:nvSpPr>
        <p:spPr>
          <a:xfrm>
            <a:off x="380880" y="5943600"/>
            <a:ext cx="541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therwise, guess that wit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5715000" y="5867280"/>
                <a:ext cx="1177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Text Box 3"/>
          <p:cNvSpPr/>
          <p:nvPr/>
        </p:nvSpPr>
        <p:spPr>
          <a:xfrm>
            <a:off x="7162920" y="5359320"/>
            <a:ext cx="169704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Arial"/>
              </a:rPr>
              <a:t>Violates SH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457200" y="152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ime-Space Tradeoffs for Simulating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80880" y="1619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general quantum circuit with n qubits and m&gt;&gt;n two-qubit gates, how should we simulate it class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8404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rödinger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ore whole wave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memory, O(m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Feasible but requires TB of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71492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m over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m+n) memory, O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Infeasible but requires littl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"/>
          <p:cNvSpPr/>
          <p:nvPr/>
        </p:nvSpPr>
        <p:spPr>
          <a:xfrm>
            <a:off x="4683240" y="2697120"/>
            <a:ext cx="0" cy="344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486400" y="6248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st of both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3505320" y="2833560"/>
            <a:ext cx="963360" cy="111312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8"/>
          <p:cNvSpPr/>
          <p:nvPr/>
        </p:nvSpPr>
        <p:spPr>
          <a:xfrm>
            <a:off x="155520" y="-2484360"/>
            <a:ext cx="3772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457200" y="-2179800"/>
            <a:ext cx="3772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696080" y="281952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297000" y="152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C be a quantum circuit with n qubits and d layers of gates.  Then we can compute each transition amplitud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|C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and poly(n,d)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2960" y="3273480"/>
            <a:ext cx="838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vitch’s Theorem!  Recursively divide C into two chunk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d/2 layers each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"/>
              <p:cNvSpPr txBox="1"/>
              <p:nvPr/>
            </p:nvSpPr>
            <p:spPr>
              <a:xfrm>
                <a:off x="2095560" y="4362480"/>
                <a:ext cx="5568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30" name="Group 3"/>
          <p:cNvGrpSpPr/>
          <p:nvPr/>
        </p:nvGrpSpPr>
        <p:grpSpPr>
          <a:xfrm>
            <a:off x="2879640" y="1611360"/>
            <a:ext cx="3627360" cy="1587600"/>
            <a:chOff x="2879640" y="1611360"/>
            <a:chExt cx="3627360" cy="1587600"/>
          </a:xfrm>
        </p:grpSpPr>
        <p:pic>
          <p:nvPicPr>
            <p:cNvPr id="331" name="Picture 28" descr="http://cdn.iopscience.com/images/0295-5075/87/6/60008/Full/epl12145fig1.jpg"/>
            <p:cNvPicPr/>
            <p:nvPr/>
          </p:nvPicPr>
          <p:blipFill>
            <a:blip r:embed="rId1"/>
            <a:stretch/>
          </p:blipFill>
          <p:spPr>
            <a:xfrm>
              <a:off x="2879640" y="1760040"/>
              <a:ext cx="3627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Rounded Rectangle 2"/>
            <p:cNvSpPr/>
            <p:nvPr/>
          </p:nvSpPr>
          <p:spPr>
            <a:xfrm>
              <a:off x="3290760" y="1611360"/>
              <a:ext cx="1218960" cy="158760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587600"/>
                <a:gd name="textAreaBottom" fmla="*/ 1528200 h 1587600"/>
              </a:gdLst>
              <a:ahLst/>
              <a:rect l="textAreaLeft" t="textAreaTop" r="textAreaRight" b="textAreaBottom"/>
              <a:pathLst>
                <a:path w="21600" h="28130">
                  <a:moveTo>
                    <a:pt x="3600" y="0"/>
                  </a:moveTo>
                  <a:arcTo wR="3600" hR="3600" stAng="16200000" swAng="-5400000"/>
                  <a:lnTo>
                    <a:pt x="0" y="24530"/>
                  </a:lnTo>
                  <a:arcTo wR="3600" hR="3600" stAng="10800000" swAng="-5400000"/>
                  <a:lnTo>
                    <a:pt x="18000" y="28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8"/>
            <p:cNvSpPr/>
            <p:nvPr/>
          </p:nvSpPr>
          <p:spPr>
            <a:xfrm>
              <a:off x="4521240" y="1611360"/>
              <a:ext cx="1436760" cy="158760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587600"/>
                <a:gd name="textAreaBottom" fmla="*/ 1517760 h 1587600"/>
              </a:gdLst>
              <a:ahLst/>
              <a:rect l="textAreaLeft" t="textAreaTop" r="textAreaRight" b="textAreaBottom"/>
              <a:pathLst>
                <a:path w="21600" h="23867">
                  <a:moveTo>
                    <a:pt x="3600" y="0"/>
                  </a:moveTo>
                  <a:arcTo wR="3600" hR="3600" stAng="16200000" swAng="-5400000"/>
                  <a:lnTo>
                    <a:pt x="0" y="20267"/>
                  </a:lnTo>
                  <a:arcTo wR="3600" hR="3600" stAng="10800000" swAng="-5400000"/>
                  <a:lnTo>
                    <a:pt x="18000" y="23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9694">
                <a:alpha val="27000"/>
              </a:srgbClr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"/>
            <p:cNvSpPr/>
            <p:nvPr/>
          </p:nvSpPr>
          <p:spPr>
            <a:xfrm>
              <a:off x="3748320" y="240516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"/>
            <p:cNvSpPr/>
            <p:nvPr/>
          </p:nvSpPr>
          <p:spPr>
            <a:xfrm>
              <a:off x="5239440" y="189432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3"/>
          <p:cNvSpPr/>
          <p:nvPr/>
        </p:nvSpPr>
        <p:spPr>
          <a:xfrm>
            <a:off x="297000" y="5283360"/>
            <a:ext cx="8381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Can do better for nearest-neighbor circuits, or when more memory is 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This algorithm still doesn’t falsify the SHA! 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379440" y="533520"/>
            <a:ext cx="8385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 About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bit-flip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viation from the uniform distribution is suppressed by a 1/exp(k) factor.  Without error-correction, can only tolerate a few errors.  Will come down 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4120" y="3276720"/>
            <a:ext cx="8386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Pednault et al. from IBM put out a preprint demonstrating the use of our recursive approach to simulate 50 qubits on a classical computing cluster.  Many commentators said this undercut the rationale for planned quantum supremacy experiments.  Truth is more like the oppos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8040" y="10666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we’ll likely be able to perform random quantum circuit sampling with ~50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358920" y="21924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w do we verify that something classically hard w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43080" y="335268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theorists would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rgently called up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ink about this, even if there were nothing theoretically interesting to say.  But ther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6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8"/>
          <p:cNvSpPr/>
          <p:nvPr/>
        </p:nvSpPr>
        <p:spPr>
          <a:xfrm>
            <a:off x="838080" y="3895560"/>
            <a:ext cx="7850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Disprove the skeptics!  (And the Extended Church-Turing 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8"/>
          <p:cNvSpPr/>
          <p:nvPr/>
        </p:nvSpPr>
        <p:spPr>
          <a:xfrm>
            <a:off x="984240" y="5157720"/>
            <a:ext cx="74674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get for now about applications.  Just concentrate on certainty of a quantum speedup over the best classical algorithm for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588960"/>
            <a:ext cx="85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y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31640" y="2133720"/>
            <a:ext cx="83217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 and IBM are currently in a race to build and demonstrate ~50-qubit superconducting QC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2-qubit chips demonstrated in the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~50-qubit chips apparently already fabricated, but calibrating, testing, etc. could take anoth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6483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herence times should be tens of microseconds, allowing a few dozen layers of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6221520" y="125280"/>
            <a:ext cx="272412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403200" y="262080"/>
            <a:ext cx="1938240" cy="1643040"/>
            <a:chOff x="403200" y="262080"/>
            <a:chExt cx="1938240" cy="1643040"/>
          </a:xfrm>
        </p:grpSpPr>
        <p:sp>
          <p:nvSpPr>
            <p:cNvPr id="114" name="Straight Connector 5"/>
            <p:cNvSpPr/>
            <p:nvPr/>
          </p:nvSpPr>
          <p:spPr>
            <a:xfrm>
              <a:off x="424440" y="3402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78"/>
            <p:cNvSpPr/>
            <p:nvPr/>
          </p:nvSpPr>
          <p:spPr>
            <a:xfrm>
              <a:off x="459720" y="5760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79"/>
            <p:cNvSpPr/>
            <p:nvPr/>
          </p:nvSpPr>
          <p:spPr>
            <a:xfrm>
              <a:off x="403200" y="83412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80"/>
            <p:cNvSpPr/>
            <p:nvPr/>
          </p:nvSpPr>
          <p:spPr>
            <a:xfrm>
              <a:off x="446040" y="10836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1"/>
            <p:cNvSpPr/>
            <p:nvPr/>
          </p:nvSpPr>
          <p:spPr>
            <a:xfrm>
              <a:off x="446040" y="133308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82"/>
            <p:cNvSpPr/>
            <p:nvPr/>
          </p:nvSpPr>
          <p:spPr>
            <a:xfrm>
              <a:off x="446040" y="15786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83"/>
            <p:cNvSpPr/>
            <p:nvPr/>
          </p:nvSpPr>
          <p:spPr>
            <a:xfrm>
              <a:off x="459720" y="183204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3"/>
            <p:cNvSpPr/>
            <p:nvPr/>
          </p:nvSpPr>
          <p:spPr>
            <a:xfrm>
              <a:off x="4762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72"/>
            <p:cNvSpPr/>
            <p:nvPr/>
          </p:nvSpPr>
          <p:spPr>
            <a:xfrm>
              <a:off x="77256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73"/>
            <p:cNvSpPr/>
            <p:nvPr/>
          </p:nvSpPr>
          <p:spPr>
            <a:xfrm>
              <a:off x="106920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74"/>
            <p:cNvSpPr/>
            <p:nvPr/>
          </p:nvSpPr>
          <p:spPr>
            <a:xfrm>
              <a:off x="13654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5"/>
            <p:cNvSpPr/>
            <p:nvPr/>
          </p:nvSpPr>
          <p:spPr>
            <a:xfrm>
              <a:off x="166176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76"/>
            <p:cNvSpPr/>
            <p:nvPr/>
          </p:nvSpPr>
          <p:spPr>
            <a:xfrm>
              <a:off x="195804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77"/>
            <p:cNvSpPr/>
            <p:nvPr/>
          </p:nvSpPr>
          <p:spPr>
            <a:xfrm>
              <a:off x="22546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"/>
            <p:cNvSpPr/>
            <p:nvPr/>
          </p:nvSpPr>
          <p:spPr>
            <a:xfrm>
              <a:off x="40320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2"/>
            <p:cNvSpPr/>
            <p:nvPr/>
          </p:nvSpPr>
          <p:spPr>
            <a:xfrm>
              <a:off x="69948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99576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129204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158832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7"/>
            <p:cNvSpPr/>
            <p:nvPr/>
          </p:nvSpPr>
          <p:spPr>
            <a:xfrm>
              <a:off x="188496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218124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0320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69948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99576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129204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158832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188496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6"/>
            <p:cNvSpPr/>
            <p:nvPr/>
          </p:nvSpPr>
          <p:spPr>
            <a:xfrm>
              <a:off x="218124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7"/>
            <p:cNvSpPr/>
            <p:nvPr/>
          </p:nvSpPr>
          <p:spPr>
            <a:xfrm>
              <a:off x="40320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8"/>
            <p:cNvSpPr/>
            <p:nvPr/>
          </p:nvSpPr>
          <p:spPr>
            <a:xfrm>
              <a:off x="69948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99576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0"/>
            <p:cNvSpPr/>
            <p:nvPr/>
          </p:nvSpPr>
          <p:spPr>
            <a:xfrm>
              <a:off x="129204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1"/>
            <p:cNvSpPr/>
            <p:nvPr/>
          </p:nvSpPr>
          <p:spPr>
            <a:xfrm>
              <a:off x="158832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2"/>
            <p:cNvSpPr/>
            <p:nvPr/>
          </p:nvSpPr>
          <p:spPr>
            <a:xfrm>
              <a:off x="188496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3"/>
            <p:cNvSpPr/>
            <p:nvPr/>
          </p:nvSpPr>
          <p:spPr>
            <a:xfrm>
              <a:off x="218124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40320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5"/>
            <p:cNvSpPr/>
            <p:nvPr/>
          </p:nvSpPr>
          <p:spPr>
            <a:xfrm>
              <a:off x="69948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99576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7"/>
            <p:cNvSpPr/>
            <p:nvPr/>
          </p:nvSpPr>
          <p:spPr>
            <a:xfrm>
              <a:off x="129204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158832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9"/>
            <p:cNvSpPr/>
            <p:nvPr/>
          </p:nvSpPr>
          <p:spPr>
            <a:xfrm>
              <a:off x="188496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18124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1"/>
            <p:cNvSpPr/>
            <p:nvPr/>
          </p:nvSpPr>
          <p:spPr>
            <a:xfrm>
              <a:off x="40320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69948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3"/>
            <p:cNvSpPr/>
            <p:nvPr/>
          </p:nvSpPr>
          <p:spPr>
            <a:xfrm>
              <a:off x="99576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129204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5"/>
            <p:cNvSpPr/>
            <p:nvPr/>
          </p:nvSpPr>
          <p:spPr>
            <a:xfrm>
              <a:off x="158832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8496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7"/>
            <p:cNvSpPr/>
            <p:nvPr/>
          </p:nvSpPr>
          <p:spPr>
            <a:xfrm>
              <a:off x="218124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8"/>
            <p:cNvSpPr/>
            <p:nvPr/>
          </p:nvSpPr>
          <p:spPr>
            <a:xfrm>
              <a:off x="40320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9"/>
            <p:cNvSpPr/>
            <p:nvPr/>
          </p:nvSpPr>
          <p:spPr>
            <a:xfrm>
              <a:off x="69948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0"/>
            <p:cNvSpPr/>
            <p:nvPr/>
          </p:nvSpPr>
          <p:spPr>
            <a:xfrm>
              <a:off x="99576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1"/>
            <p:cNvSpPr/>
            <p:nvPr/>
          </p:nvSpPr>
          <p:spPr>
            <a:xfrm>
              <a:off x="129204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2"/>
            <p:cNvSpPr/>
            <p:nvPr/>
          </p:nvSpPr>
          <p:spPr>
            <a:xfrm>
              <a:off x="158832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3"/>
            <p:cNvSpPr/>
            <p:nvPr/>
          </p:nvSpPr>
          <p:spPr>
            <a:xfrm>
              <a:off x="188496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4"/>
            <p:cNvSpPr/>
            <p:nvPr/>
          </p:nvSpPr>
          <p:spPr>
            <a:xfrm>
              <a:off x="218124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5"/>
            <p:cNvSpPr/>
            <p:nvPr/>
          </p:nvSpPr>
          <p:spPr>
            <a:xfrm>
              <a:off x="40320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6"/>
            <p:cNvSpPr/>
            <p:nvPr/>
          </p:nvSpPr>
          <p:spPr>
            <a:xfrm>
              <a:off x="69948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7"/>
            <p:cNvSpPr/>
            <p:nvPr/>
          </p:nvSpPr>
          <p:spPr>
            <a:xfrm>
              <a:off x="99576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8"/>
            <p:cNvSpPr/>
            <p:nvPr/>
          </p:nvSpPr>
          <p:spPr>
            <a:xfrm>
              <a:off x="129204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9"/>
            <p:cNvSpPr/>
            <p:nvPr/>
          </p:nvSpPr>
          <p:spPr>
            <a:xfrm>
              <a:off x="158832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0"/>
            <p:cNvSpPr/>
            <p:nvPr/>
          </p:nvSpPr>
          <p:spPr>
            <a:xfrm>
              <a:off x="188496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218124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461880" y="571500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bably won’t be enough to do anything useful, but maybe just enough to do something classically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2590920" y="297180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 rot="259200">
            <a:off x="4843080" y="2470320"/>
            <a:ext cx="1527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Calibri"/>
                <a:ea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52280" y="284040"/>
            <a:ext cx="852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Sampling Approach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ut forward by A.-Arkhipov 2011 (BosonSampling), Bremner-Jozsa-Shepherd 2011 (IQP Model)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87440" y="206856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 problems where the goal i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desired distribution over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65120" y="3060720"/>
            <a:ext cx="82137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ared to problems with a single valid output (like FACTORING), sampling problems can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solve with near-future quantum devices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argue are hard for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838080" y="5354640"/>
            <a:ext cx="780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e “merely” give up on: practical applications, fast classical way to verify the res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plexity and QM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230040" y="1022400"/>
            <a:ext cx="4189680" cy="562284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11280" y="2278080"/>
            <a:ext cx="3398760" cy="4321080"/>
          </a:xfrm>
          <a:prstGeom prst="ellipse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830160" y="3592440"/>
            <a:ext cx="2971800" cy="30337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068480" y="10461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Oracle for Count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068480" y="3654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NP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Check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1211400" y="4956120"/>
            <a:ext cx="2209680" cy="1643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486080" y="5062680"/>
            <a:ext cx="175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(=BPP?)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Solv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211400" y="2392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H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Constant Number of NP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0"/>
          <p:cNvSpPr/>
          <p:nvPr/>
        </p:nvSpPr>
        <p:spPr>
          <a:xfrm>
            <a:off x="611280" y="4441680"/>
            <a:ext cx="5905440" cy="22860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4f81bd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98960" y="4643280"/>
            <a:ext cx="1828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BQP</a:t>
            </a:r>
            <a:br>
              <a:rPr sz="4400"/>
            </a:b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ounded-Error Quantum Polynomi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5791320" y="1039680"/>
                <a:ext cx="2090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6"/>
              <p:cNvSpPr txBox="1"/>
              <p:nvPr/>
            </p:nvSpPr>
            <p:spPr>
              <a:xfrm>
                <a:off x="6461280" y="4856040"/>
                <a:ext cx="24667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7"/>
              <p:cNvSpPr txBox="1"/>
              <p:nvPr/>
            </p:nvSpPr>
            <p:spPr>
              <a:xfrm>
                <a:off x="5943600" y="2730600"/>
                <a:ext cx="27432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Box 4"/>
          <p:cNvSpPr/>
          <p:nvPr/>
        </p:nvSpPr>
        <p:spPr>
          <a:xfrm>
            <a:off x="5257800" y="3174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457200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4572000" y="2278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ary transformation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6146640" y="4381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676520" y="2306520"/>
            <a:ext cx="5867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pe for an exponential speedup comes from “the magic of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2"/>
          <p:cNvGrpSpPr/>
          <p:nvPr/>
        </p:nvGrpSpPr>
        <p:grpSpPr>
          <a:xfrm>
            <a:off x="2433600" y="1104120"/>
            <a:ext cx="4355280" cy="2335320"/>
            <a:chOff x="2433600" y="1104120"/>
            <a:chExt cx="4355280" cy="2335320"/>
          </a:xfrm>
        </p:grpSpPr>
        <p:sp>
          <p:nvSpPr>
            <p:cNvPr id="209" name="Straight Connector 12"/>
            <p:cNvSpPr/>
            <p:nvPr/>
          </p:nvSpPr>
          <p:spPr>
            <a:xfrm>
              <a:off x="2966760" y="2249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3"/>
            <p:cNvSpPr/>
            <p:nvPr/>
          </p:nvSpPr>
          <p:spPr>
            <a:xfrm>
              <a:off x="2966760" y="293544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4"/>
            <p:cNvSpPr/>
            <p:nvPr/>
          </p:nvSpPr>
          <p:spPr>
            <a:xfrm>
              <a:off x="2966760" y="15634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"/>
            <p:cNvSpPr/>
            <p:nvPr/>
          </p:nvSpPr>
          <p:spPr>
            <a:xfrm>
              <a:off x="33480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"/>
            <p:cNvSpPr/>
            <p:nvPr/>
          </p:nvSpPr>
          <p:spPr>
            <a:xfrm>
              <a:off x="33480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7"/>
            <p:cNvSpPr/>
            <p:nvPr/>
          </p:nvSpPr>
          <p:spPr>
            <a:xfrm>
              <a:off x="33480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4262400" y="1257120"/>
              <a:ext cx="533160" cy="19065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9"/>
            <p:cNvSpPr/>
            <p:nvPr/>
          </p:nvSpPr>
          <p:spPr>
            <a:xfrm>
              <a:off x="51768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0"/>
            <p:cNvSpPr/>
            <p:nvPr/>
          </p:nvSpPr>
          <p:spPr>
            <a:xfrm>
              <a:off x="51768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1"/>
            <p:cNvSpPr/>
            <p:nvPr/>
          </p:nvSpPr>
          <p:spPr>
            <a:xfrm>
              <a:off x="51768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49"/>
            <p:cNvGrpSpPr/>
            <p:nvPr/>
          </p:nvGrpSpPr>
          <p:grpSpPr>
            <a:xfrm>
              <a:off x="5978160" y="1104120"/>
              <a:ext cx="810720" cy="962640"/>
              <a:chOff x="5978160" y="1104120"/>
              <a:chExt cx="810720" cy="962640"/>
            </a:xfrm>
          </p:grpSpPr>
          <p:sp>
            <p:nvSpPr>
              <p:cNvPr id="220" name="Chord 33"/>
              <p:cNvSpPr/>
              <p:nvPr/>
            </p:nvSpPr>
            <p:spPr>
              <a:xfrm rot="7220400">
                <a:off x="6080040" y="136512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34"/>
              <p:cNvCxnSpPr>
                <a:stCxn id="220" idx="2"/>
              </p:cNvCxnSpPr>
              <p:nvPr/>
            </p:nvCxnSpPr>
            <p:spPr>
              <a:xfrm flipV="1">
                <a:off x="6381000" y="110412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2" name="Group 50"/>
            <p:cNvGrpSpPr/>
            <p:nvPr/>
          </p:nvGrpSpPr>
          <p:grpSpPr>
            <a:xfrm>
              <a:off x="5978880" y="1790640"/>
              <a:ext cx="809640" cy="962640"/>
              <a:chOff x="5978880" y="1790640"/>
              <a:chExt cx="809640" cy="962640"/>
            </a:xfrm>
          </p:grpSpPr>
          <p:sp>
            <p:nvSpPr>
              <p:cNvPr id="223" name="Chord 31"/>
              <p:cNvSpPr/>
              <p:nvPr/>
            </p:nvSpPr>
            <p:spPr>
              <a:xfrm rot="7220400">
                <a:off x="6080760" y="2052360"/>
                <a:ext cx="60552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Straight Arrow Connector 32"/>
              <p:cNvCxnSpPr>
                <a:stCxn id="223" idx="2"/>
              </p:cNvCxnSpPr>
              <p:nvPr/>
            </p:nvCxnSpPr>
            <p:spPr>
              <a:xfrm flipV="1">
                <a:off x="6381000" y="1790640"/>
                <a:ext cx="146520" cy="6048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5" name="Group 53"/>
            <p:cNvGrpSpPr/>
            <p:nvPr/>
          </p:nvGrpSpPr>
          <p:grpSpPr>
            <a:xfrm>
              <a:off x="5978160" y="2476800"/>
              <a:ext cx="810720" cy="962640"/>
              <a:chOff x="5978160" y="2476800"/>
              <a:chExt cx="810720" cy="962640"/>
            </a:xfrm>
          </p:grpSpPr>
          <p:sp>
            <p:nvSpPr>
              <p:cNvPr id="226" name="Chord 29"/>
              <p:cNvSpPr/>
              <p:nvPr/>
            </p:nvSpPr>
            <p:spPr>
              <a:xfrm rot="7220400">
                <a:off x="6080040" y="273780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30"/>
              <p:cNvCxnSpPr>
                <a:stCxn id="226" idx="2"/>
              </p:cNvCxnSpPr>
              <p:nvPr/>
            </p:nvCxnSpPr>
            <p:spPr>
              <a:xfrm flipV="1">
                <a:off x="6381000" y="247680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28" name="Text Box 3"/>
            <p:cNvSpPr/>
            <p:nvPr/>
          </p:nvSpPr>
          <p:spPr>
            <a:xfrm>
              <a:off x="4262400" y="1943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"/>
            <p:cNvSpPr/>
            <p:nvPr/>
          </p:nvSpPr>
          <p:spPr>
            <a:xfrm>
              <a:off x="2433600" y="1257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"/>
            <p:cNvSpPr/>
            <p:nvPr/>
          </p:nvSpPr>
          <p:spPr>
            <a:xfrm>
              <a:off x="2433600" y="1943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"/>
            <p:cNvSpPr/>
            <p:nvPr/>
          </p:nvSpPr>
          <p:spPr>
            <a:xfrm>
              <a:off x="2433600" y="2629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imple Example: Fouri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33360" y="3581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52760" y="344952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3"/>
          <p:cNvSpPr/>
          <p:nvPr/>
        </p:nvSpPr>
        <p:spPr>
          <a:xfrm>
            <a:off x="343080" y="4419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ove circuit samples each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"/>
              <p:cNvSpPr txBox="1"/>
              <p:nvPr/>
            </p:nvSpPr>
            <p:spPr>
              <a:xfrm>
                <a:off x="457200" y="4973760"/>
                <a:ext cx="48816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z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Text Box 3"/>
          <p:cNvSpPr/>
          <p:nvPr/>
        </p:nvSpPr>
        <p:spPr>
          <a:xfrm>
            <a:off x="5915160" y="5105520"/>
            <a:ext cx="28764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to approximate, even for z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"/>
          <p:cNvCxnSpPr>
            <a:stCxn id="237" idx="1"/>
          </p:cNvCxnSpPr>
          <p:nvPr/>
        </p:nvCxnSpPr>
        <p:spPr>
          <a:xfrm flipH="1" flipV="1">
            <a:off x="5338080" y="5697000"/>
            <a:ext cx="577080" cy="1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Text Box 3"/>
          <p:cNvSpPr/>
          <p:nvPr/>
        </p:nvSpPr>
        <p:spPr>
          <a:xfrm>
            <a:off x="838080" y="2077920"/>
            <a:ext cx="71629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th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, one can show that if the quantum computer’s output distribution could be exactly sampled in classical polynomial time, th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hence the polynomial hierarchy would collapse to the thir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8600" y="95724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assing throug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beamsplit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ubtitle 4"/>
          <p:cNvSpPr/>
          <p:nvPr/>
        </p:nvSpPr>
        <p:spPr>
          <a:xfrm>
            <a:off x="3276720" y="21286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ven with 2 photons and 1 beamsplitter, we can get counterintuitive phenomena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 rot="10800000">
            <a:off x="5562720" y="5067000"/>
            <a:ext cx="12189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380880" y="2071800"/>
            <a:ext cx="2509920" cy="22636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52280" y="449568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general, n-photon amplitudes are given by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erman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"/>
              <p:cNvSpPr txBox="1"/>
              <p:nvPr/>
            </p:nvSpPr>
            <p:spPr>
              <a:xfrm>
                <a:off x="228600" y="5343480"/>
                <a:ext cx="3814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Text Box 3"/>
          <p:cNvSpPr/>
          <p:nvPr/>
        </p:nvSpPr>
        <p:spPr>
          <a:xfrm>
            <a:off x="1066680" y="2819520"/>
            <a:ext cx="701064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permanent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Valiant 1979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nabling a similar hardness argument to what we saw for Fourier Sampl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10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10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107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10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11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11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223920" y="152280"/>
            <a:ext cx="89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Theorem of BosonSampl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one can sample a linear-optical device’s output distribution in classical polynomial time, even to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rror in variation distance.  Then one can also estimate the permanent of a matrix of i.i.d. N(0,1) Gaussians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28600" y="2514600"/>
            <a:ext cx="8920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Conjecture of BosonSampl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aussian permanent estimation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so, then fast classical simulation would collaps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3920" y="4191120"/>
            <a:ext cx="846288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rolan et al.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6-photon BosonSampling in the la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as, scaling to more photons is hard, because of the unavailability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terministic single-photon sourc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Quantum supremacy may be achievable earlier with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superconducting qubits—so let’s think about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2057400"/>
            <a:ext cx="83822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tes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 check whether at least 2/3 of them have more the median prob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7-11-27T20:15:50Z</dcterms:modified>
  <cp:revision>341</cp:revision>
  <dc:subject/>
  <dc:title>BQP and the Polynomial Hierarchy</dc:title>
</cp:coreProperties>
</file>