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74B-E959-493D-8327-7C6BAB07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2B7-416F-4157-B115-DF03CD0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C28-AD3C-402C-8A5C-71DDDFAE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ADC-2EE3-49DE-88CE-95929E6D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D6D-59A3-44BA-B261-DF40F96F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266-9A27-42F7-900B-D9D30E79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CC9-0BC6-40AE-A601-93893376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E57-E8D6-49F6-9C74-E1F1095A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EE2-52D5-4676-89AB-8B44F03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930-7FA8-46DE-9F42-A6BF265D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30C-B180-4D0B-86EE-37D4D760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8D4-5D60-46A0-8D39-E080CBD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B48B-C05B-4C74-B5E2-02A37BF8D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Oracles Are Subtle But Not Maliciou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17249"/>
          <a:stretch/>
        </p:blipFill>
        <p:spPr>
          <a:xfrm>
            <a:off x="4495680" y="2514600"/>
            <a:ext cx="878040" cy="101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00400" y="2743200"/>
                <a:ext cx="152100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410080" y="21337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15228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: Enumeration of PP machines</a:t>
            </a:r>
            <a:br>
              <a:rPr sz="2600"/>
            </a:b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(Actually PTIME(n</a:t>
            </a:r>
            <a:r>
              <a:rPr b="0" lang="en-US" sz="2200" spc="-1" strike="noStrike" baseline="30000">
                <a:solidFill>
                  <a:srgbClr val="008000"/>
                </a:solidFill>
                <a:latin typeface="Arial"/>
              </a:rPr>
              <a:t>logn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) machi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reate an oracle string A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small circuits on inputs of size n</a:t>
            </a:r>
            <a:br>
              <a:rPr sz="2600"/>
            </a:b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en every M</a:t>
            </a:r>
            <a:r>
              <a:rPr b="0" lang="en-US" sz="22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 will be taken care of on all but finitely many n, modulo a technic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8600" y="3505320"/>
            <a:ext cx="4495680" cy="3071520"/>
            <a:chOff x="228600" y="3505320"/>
            <a:chExt cx="4495680" cy="3071520"/>
          </a:xfrm>
        </p:grpSpPr>
        <p:sp>
          <p:nvSpPr>
            <p:cNvPr id="158" name=""/>
            <p:cNvSpPr/>
            <p:nvPr/>
          </p:nvSpPr>
          <p:spPr>
            <a:xfrm>
              <a:off x="228600" y="5257800"/>
              <a:ext cx="1600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5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rows 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350532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olumns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,x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590920" y="4572000"/>
              <a:ext cx="1755360" cy="2004840"/>
              <a:chOff x="2590920" y="4572000"/>
              <a:chExt cx="1755360" cy="2004840"/>
            </a:xfrm>
          </p:grpSpPr>
          <p:sp>
            <p:nvSpPr>
              <p:cNvPr id="161" name=""/>
              <p:cNvSpPr/>
              <p:nvPr/>
            </p:nvSpPr>
            <p:spPr>
              <a:xfrm>
                <a:off x="259092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4148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9240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43320" y="4572000"/>
                <a:ext cx="25020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9388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4480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09572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092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4148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9240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43320" y="482256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9388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4480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9572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9092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4148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9240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43320" y="507348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9388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480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9572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9092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4148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9240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43320" y="5324400"/>
                <a:ext cx="25020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9388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4480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9572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9092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4148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9240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43320" y="5574960"/>
                <a:ext cx="25020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9388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4480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9572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9092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4148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9240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43320" y="582444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9388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4480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9572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9092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4148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9240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43320" y="6075360"/>
                <a:ext cx="25020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9388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4480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9572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9092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4148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9240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43320" y="632592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9388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4480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9572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05120" y="4548240"/>
              <a:ext cx="585720" cy="2004840"/>
            </a:xfrm>
            <a:custGeom>
              <a:avLst/>
              <a:gdLst>
                <a:gd name="textAreaLeft" fmla="*/ 374400 w 585720"/>
                <a:gd name="textAreaRight" fmla="*/ 586080 w 585720"/>
                <a:gd name="textAreaTop" fmla="*/ 52200 h 2004840"/>
                <a:gd name="textAreaBottom" fmla="*/ 1952640 h 20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3200040" y="3335400"/>
              <a:ext cx="501480" cy="1755720"/>
            </a:xfrm>
            <a:custGeom>
              <a:avLst/>
              <a:gdLst>
                <a:gd name="textAreaLeft" fmla="*/ 320400 w 501480"/>
                <a:gd name="textAreaRight" fmla="*/ 501480 w 501480"/>
                <a:gd name="textAreaTop" fmla="*/ 45720 h 1755720"/>
                <a:gd name="textAreaBottom" fmla="*/ 171000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90920" y="5562720"/>
            <a:ext cx="1755720" cy="250560"/>
            <a:chOff x="2590920" y="5562720"/>
            <a:chExt cx="1755720" cy="250560"/>
          </a:xfrm>
        </p:grpSpPr>
        <p:sp>
          <p:nvSpPr>
            <p:cNvPr id="220" name=""/>
            <p:cNvSpPr/>
            <p:nvPr/>
          </p:nvSpPr>
          <p:spPr>
            <a:xfrm>
              <a:off x="259092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1840" y="5562720"/>
              <a:ext cx="25056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9240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4332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9424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45160" y="5562720"/>
              <a:ext cx="25056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9572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>
            <a:off x="4419720" y="411480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2819520"/>
            <a:ext cx="358128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ick a random row, and encode there what every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es on every input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4645080"/>
            <a:ext cx="35812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our linear-size circuit to simulate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ll just hardwire the location of that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53080" y="1066680"/>
                <a:ext cx="1828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04920" y="325440"/>
            <a:ext cx="56386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PP machines are also watching the orac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soon as we write down what the PP machines do, we might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they do, and so on ad infini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3813120"/>
            <a:ext cx="86104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rateg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fine a “progress measure” Q&gt;0.  Show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As long as every row is sensitive, we can chang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acle string in a way that at least doubles Q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(2) Q can only double finitely many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7120" y="380880"/>
            <a:ext cx="1755360" cy="2004840"/>
            <a:chOff x="6477120" y="380880"/>
            <a:chExt cx="1755360" cy="2004840"/>
          </a:xfrm>
        </p:grpSpPr>
        <p:sp>
          <p:nvSpPr>
            <p:cNvPr id="234" name=""/>
            <p:cNvSpPr/>
            <p:nvPr/>
          </p:nvSpPr>
          <p:spPr>
            <a:xfrm>
              <a:off x="647712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2768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7860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29520" y="380880"/>
              <a:ext cx="25020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8008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3100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8192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2768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7860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29520" y="63144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8008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3100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8192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2768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7860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29520" y="88236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8008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3100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8192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2768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7860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29520" y="1133280"/>
              <a:ext cx="25020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8008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3100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192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7712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2768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7860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9520" y="1383840"/>
              <a:ext cx="25020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8008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100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8192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712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2768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860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29520" y="163332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8008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100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192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712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2768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7860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29520" y="1884240"/>
              <a:ext cx="25020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8008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3100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8192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7712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2768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7860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29520" y="213480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008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3100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8192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477120" y="1371600"/>
            <a:ext cx="1755720" cy="250920"/>
            <a:chOff x="6477120" y="1371600"/>
            <a:chExt cx="1755720" cy="250920"/>
          </a:xfrm>
        </p:grpSpPr>
        <p:sp>
          <p:nvSpPr>
            <p:cNvPr id="291" name=""/>
            <p:cNvSpPr/>
            <p:nvPr/>
          </p:nvSpPr>
          <p:spPr>
            <a:xfrm>
              <a:off x="647712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28040" y="13716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7860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2952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8044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31360" y="13716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8192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8600" y="28195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a row 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nsi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f there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ge to r that affects wheth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 machine accep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77120" y="631800"/>
            <a:ext cx="1755720" cy="250920"/>
            <a:chOff x="6477120" y="631800"/>
            <a:chExt cx="1755720" cy="250920"/>
          </a:xfrm>
        </p:grpSpPr>
        <p:sp>
          <p:nvSpPr>
            <p:cNvPr id="300" name=""/>
            <p:cNvSpPr/>
            <p:nvPr/>
          </p:nvSpPr>
          <p:spPr>
            <a:xfrm>
              <a:off x="647712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28040" y="6318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7860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2952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044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1360" y="6318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192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477120" y="1884240"/>
            <a:ext cx="1755720" cy="250920"/>
            <a:chOff x="6477120" y="1884240"/>
            <a:chExt cx="1755720" cy="250920"/>
          </a:xfrm>
        </p:grpSpPr>
        <p:sp>
          <p:nvSpPr>
            <p:cNvPr id="308" name=""/>
            <p:cNvSpPr/>
            <p:nvPr/>
          </p:nvSpPr>
          <p:spPr>
            <a:xfrm>
              <a:off x="647712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8040" y="188424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7860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2952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8044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31360" y="188424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8192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7913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ually, then, there must be 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sensi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—and as soon as there is, we w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762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WAR OF ATTRIT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Weapon: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143000"/>
            <a:ext cx="82296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= | {accepting paths of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} |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{rejecting paths of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}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057400"/>
            <a:ext cx="82296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asic Fa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 is a multilinear polynomial in the oracle bits, of degree at most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log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ac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4267080"/>
            <a:ext cx="8153280" cy="2073960"/>
          </a:xfrm>
          <a:prstGeom prst="rect">
            <a:avLst/>
          </a:prstGeom>
          <a:solidFill>
            <a:srgbClr val="d9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emma (follows from Nisan &amp; Szegedy 1994)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 be a multilinear polynomial in the bits of A.  Suppose there 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eg(p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rows we can modify so as to change sgn(p(A)).  Then there exist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rows we can modify so as to at least double |p(A)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286000" y="1143000"/>
                <a:ext cx="4460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33520" y="129528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ide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25146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every row is sensitive.  Then by pigeonhole, there exists an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that’s sensitive to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733920"/>
            <a:ext cx="79246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eaning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re ar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s we can modify so as to change sgn(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, by Nisan-Szegedy, there’s a set of rows we can modify so as to double |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ur goal was to double Q(A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228600"/>
            <a:ext cx="8686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What should the progress measure Q b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2895480"/>
            <a:ext cx="5791320" cy="2598480"/>
          </a:xfrm>
          <a:prstGeom prst="rect">
            <a:avLst/>
          </a:prstGeom>
          <a:solidFill>
            <a:srgbClr val="ffffb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ossible that, whenever |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| becomes large, the product of all the other terms somehow “covers for it” by becoming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286000" y="609480"/>
                <a:ext cx="65563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/>
                        </m:nary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04920" y="68580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de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2057400"/>
            <a:ext cx="853416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before, there’s some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that’s sensitive to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b=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and k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Then we’ll think of Q(A) as the product of two polynomi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447920" y="3962520"/>
                <a:ext cx="617220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533520" y="1447920"/>
            <a:ext cx="8152920" cy="3472560"/>
            <a:chOff x="533520" y="1447920"/>
            <a:chExt cx="8152920" cy="3472560"/>
          </a:xfrm>
        </p:grpSpPr>
        <p:sp>
          <p:nvSpPr>
            <p:cNvPr id="334" name=""/>
            <p:cNvSpPr/>
            <p:nvPr/>
          </p:nvSpPr>
          <p:spPr>
            <a:xfrm>
              <a:off x="533520" y="4920480"/>
              <a:ext cx="81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33520" y="1447920"/>
              <a:ext cx="0" cy="34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30280" y="2728800"/>
            <a:ext cx="8083440" cy="1346400"/>
          </a:xfrm>
          <a:custGeom>
            <a:avLst/>
            <a:gdLst/>
            <a:ahLst/>
            <a:rect l="l" t="t" r="r" b="b"/>
            <a:pathLst>
              <a:path w="5092" h="848">
                <a:moveTo>
                  <a:pt x="0" y="775"/>
                </a:moveTo>
                <a:cubicBezTo>
                  <a:pt x="132" y="650"/>
                  <a:pt x="545" y="48"/>
                  <a:pt x="793" y="24"/>
                </a:cubicBezTo>
                <a:cubicBezTo>
                  <a:pt x="1041" y="0"/>
                  <a:pt x="1173" y="504"/>
                  <a:pt x="1490" y="633"/>
                </a:cubicBezTo>
                <a:cubicBezTo>
                  <a:pt x="1807" y="762"/>
                  <a:pt x="2320" y="848"/>
                  <a:pt x="2696" y="800"/>
                </a:cubicBezTo>
                <a:cubicBezTo>
                  <a:pt x="3072" y="752"/>
                  <a:pt x="3347" y="353"/>
                  <a:pt x="3746" y="345"/>
                </a:cubicBezTo>
                <a:cubicBezTo>
                  <a:pt x="4145" y="337"/>
                  <a:pt x="4812" y="666"/>
                  <a:pt x="5092" y="7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20120" y="312408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4114800"/>
            <a:ext cx="8153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41148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time a “cushion” keeps u(A) from getting too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2880" y="1335240"/>
            <a:ext cx="7778880" cy="2952720"/>
          </a:xfrm>
          <a:custGeom>
            <a:avLst/>
            <a:gdLst/>
            <a:ahLst/>
            <a:rect l="l" t="t" r="r" b="b"/>
            <a:pathLst>
              <a:path w="4900" h="1860">
                <a:moveTo>
                  <a:pt x="0" y="1119"/>
                </a:moveTo>
                <a:cubicBezTo>
                  <a:pt x="143" y="1240"/>
                  <a:pt x="509" y="1860"/>
                  <a:pt x="860" y="1845"/>
                </a:cubicBezTo>
                <a:cubicBezTo>
                  <a:pt x="1211" y="1830"/>
                  <a:pt x="1707" y="1084"/>
                  <a:pt x="2106" y="1031"/>
                </a:cubicBezTo>
                <a:cubicBezTo>
                  <a:pt x="2505" y="978"/>
                  <a:pt x="2913" y="1562"/>
                  <a:pt x="3256" y="1528"/>
                </a:cubicBezTo>
                <a:cubicBezTo>
                  <a:pt x="3599" y="1494"/>
                  <a:pt x="3892" y="1081"/>
                  <a:pt x="4166" y="826"/>
                </a:cubicBezTo>
                <a:cubicBezTo>
                  <a:pt x="4440" y="571"/>
                  <a:pt x="4747" y="172"/>
                  <a:pt x="4900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19810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v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1911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revent Q(A)=u(A)v(A) from doubling, v(A) needs to “nosedi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167652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(A) increases sharply when we modify on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49831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modified r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14479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y Nisan-Szegedy, that forces v(A) to become large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5638680"/>
            <a:ext cx="670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The product Q(A)=u(A)v(A) is thereby forced to dou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" y="380880"/>
                <a:ext cx="8153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Q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u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29528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e better nonrelativizing circuit lower bound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duhhhh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88620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houty et al.’s algorithm only finds a circuit within an O(n/log n) factor of minimal.  Can we improve this, or else give evidence that it’s opti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43828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PEXP require exponential-size circuits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Right now, can show it requires circuits of </a:t>
            </a: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half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exponential size—i.e. size f(n) where f(f(n))~2</a:t>
            </a:r>
            <a:r>
              <a:rPr b="0" lang="en-US" sz="2600" spc="-1" strike="noStrike" baseline="30000">
                <a:solidFill>
                  <a:srgbClr val="008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33520" y="5327640"/>
            <a:ext cx="8381880" cy="968400"/>
            <a:chOff x="533520" y="5327640"/>
            <a:chExt cx="8381880" cy="968400"/>
          </a:xfrm>
        </p:grpSpPr>
        <p:sp>
          <p:nvSpPr>
            <p:cNvPr id="353" name=""/>
            <p:cNvSpPr/>
            <p:nvPr/>
          </p:nvSpPr>
          <p:spPr>
            <a:xfrm>
              <a:off x="533520" y="5410080"/>
              <a:ext cx="83818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an we learn circuits in        , under some computational assumption that we actually believe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4191120" y="5327640"/>
                  <a:ext cx="68580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720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andard W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5238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60 years since Shannon’s counting argument, we haven’t proven a superlinear circuit lower bound 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icit Boolean functio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657600"/>
            <a:ext cx="7772400" cy="579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nan 1982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343400"/>
            <a:ext cx="7772400" cy="5205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r &amp; Watanabe 1998: ZP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029200"/>
            <a:ext cx="7772400" cy="5205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odchandran 2004: P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715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ther hand, there are oracles where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 have linear-size circu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8000"/>
                </a:solidFill>
                <a:latin typeface="Arial"/>
              </a:rPr>
              <a:t>Depends what we mean by “explicit”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1523880"/>
            <a:ext cx="6443640" cy="1373400"/>
            <a:chOff x="1066680" y="1523880"/>
            <a:chExt cx="6443640" cy="1373400"/>
          </a:xfrm>
        </p:grpSpPr>
        <p:sp>
          <p:nvSpPr>
            <p:cNvPr id="55" name=""/>
            <p:cNvSpPr/>
            <p:nvPr/>
          </p:nvSpPr>
          <p:spPr>
            <a:xfrm>
              <a:off x="1185840" y="1523880"/>
              <a:ext cx="6324480" cy="13734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66680" y="1523880"/>
              <a:ext cx="6324480" cy="13734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368520" y="1676520"/>
            <a:ext cx="2405160" cy="5181120"/>
            <a:chOff x="3368520" y="1676520"/>
            <a:chExt cx="2405160" cy="51811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368520" y="1676520"/>
              <a:ext cx="240516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44840" y="1833120"/>
              <a:ext cx="2209680" cy="46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rial"/>
                </a:rPr>
                <a:t>Where </a:t>
              </a:r>
              <a:r>
                <a:rPr b="1" i="1" lang="en-US" sz="3300" spc="-1" strike="noStrike">
                  <a:solidFill>
                    <a:srgbClr val="ffffff"/>
                  </a:solidFill>
                  <a:latin typeface="Arial"/>
                </a:rPr>
                <a:t>exactly</a:t>
              </a:r>
              <a:r>
                <a:rPr b="1" lang="en-US" sz="3300" spc="-1" strike="noStrike">
                  <a:solidFill>
                    <a:srgbClr val="ffffff"/>
                  </a:solidFill>
                  <a:latin typeface="Arial"/>
                </a:rPr>
                <a:t> do these results hit a brick wall—and can we knock it down?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y Whole Paper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52480" y="2057400"/>
            <a:ext cx="7010280" cy="4038480"/>
            <a:chOff x="1752480" y="2057400"/>
            <a:chExt cx="7010280" cy="4038480"/>
          </a:xfrm>
        </p:grpSpPr>
        <p:sp>
          <p:nvSpPr>
            <p:cNvPr id="62" name=""/>
            <p:cNvSpPr/>
            <p:nvPr/>
          </p:nvSpPr>
          <p:spPr>
            <a:xfrm>
              <a:off x="1752480" y="2057400"/>
              <a:ext cx="350496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57440" y="2057400"/>
              <a:ext cx="350532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52480" y="4076640"/>
              <a:ext cx="350496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440" y="4076640"/>
              <a:ext cx="350532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2880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447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Orac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90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P and Percep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49568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 NP an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057400"/>
            <a:ext cx="3505320" cy="2019240"/>
          </a:xfrm>
          <a:prstGeom prst="rect">
            <a:avLst/>
          </a:prstGeom>
          <a:solidFill>
            <a:srgbClr val="ffd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438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exists an oracle relative to which PP has linear-size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28600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real world, PP doesn’t even hav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ant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ircuits of size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or any constant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410080" y="4191120"/>
            <a:ext cx="3200400" cy="1811160"/>
            <a:chOff x="5410080" y="4191120"/>
            <a:chExt cx="3200400" cy="1811160"/>
          </a:xfrm>
        </p:grpSpPr>
        <p:sp>
          <p:nvSpPr>
            <p:cNvPr id="74" name=""/>
            <p:cNvSpPr/>
            <p:nvPr/>
          </p:nvSpPr>
          <p:spPr>
            <a:xfrm>
              <a:off x="5410080" y="4191120"/>
              <a:ext cx="3200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f P=NP, then we could exactly learn any poly-size circuit C i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6553080" y="5257800"/>
                  <a:ext cx="91440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1905120" y="4343400"/>
            <a:ext cx="3200400" cy="1448640"/>
            <a:chOff x="1905120" y="4343400"/>
            <a:chExt cx="3200400" cy="1448640"/>
          </a:xfrm>
        </p:grpSpPr>
        <p:sp>
          <p:nvSpPr>
            <p:cNvPr id="77" name=""/>
            <p:cNvSpPr/>
            <p:nvPr/>
          </p:nvSpPr>
          <p:spPr>
            <a:xfrm>
              <a:off x="1905120" y="4343400"/>
              <a:ext cx="320040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here’s an oracle w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as linear-size circu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971800" y="4724280"/>
                  <a:ext cx="125244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BP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racle Where P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ZE(n)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356000"/>
            <a:ext cx="8305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Subsumes several previous oracle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 (Beigel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SPACE (Aspnes et al.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/poly (BF&amp;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NEXP (Buhrman et al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6668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lso get an oracle where PEX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/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8039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techniques yield a lower bound for k perceptrons solving k ODDMAXBIT in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76520"/>
            <a:ext cx="84582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real world, P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(n)</a:t>
            </a:r>
            <a:br>
              <a:rPr sz="2800"/>
            </a:br>
            <a:r>
              <a:rPr b="0" lang="en-US" sz="2300" spc="-1" strike="noStrike">
                <a:solidFill>
                  <a:srgbClr val="008000"/>
                </a:solidFill>
                <a:latin typeface="Arial"/>
              </a:rPr>
              <a:t>One of the only nonrelativizing separations we h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3276720"/>
            <a:ext cx="8458200" cy="914400"/>
            <a:chOff x="457200" y="3276720"/>
            <a:chExt cx="8458200" cy="914400"/>
          </a:xfrm>
        </p:grpSpPr>
        <p:sp>
          <p:nvSpPr>
            <p:cNvPr id="85" name=""/>
            <p:cNvSpPr/>
            <p:nvPr/>
          </p:nvSpPr>
          <p:spPr>
            <a:xfrm>
              <a:off x="457200" y="3505320"/>
              <a:ext cx="8458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(I thereby solve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Arial"/>
                </a:rPr>
                <a:t>four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 open problems of          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324480" y="3276720"/>
              <a:ext cx="6699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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QSIZE(n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)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81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nontrivial quantum circuit lower bound (outside the black-box mod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9051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s a new, self-contained proof of Vinodchandran’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1480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ong the way, I prove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“Quantum Karp-Lipton Theorem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If PP has small quantum circuits, then the</a:t>
            </a:r>
            <a:br>
              <a:rPr sz="2600"/>
            </a:b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Counting Hierarchy collapses to Q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racle Where                           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7432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 result shows that their algorith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’t be parallelize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any relativizing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809880"/>
            <a:ext cx="8305920" cy="2446560"/>
            <a:chOff x="380880" y="3809880"/>
            <a:chExt cx="8305920" cy="2446560"/>
          </a:xfrm>
        </p:grpSpPr>
        <p:sp>
          <p:nvSpPr>
            <p:cNvPr id="94" name=""/>
            <p:cNvSpPr/>
            <p:nvPr/>
          </p:nvSpPr>
          <p:spPr>
            <a:xfrm>
              <a:off x="380880" y="3809880"/>
              <a:ext cx="8305920" cy="22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 also get a new result about the ancient problem of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circuit minimizatio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There exists an oracle A, such that circuits with</a:t>
              </a:r>
              <a:br>
                <a:rPr sz="2600"/>
              </a:b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oracle access to A can’t even be approximately</a:t>
              </a:r>
              <a:br>
                <a:rPr sz="2600"/>
              </a:b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minimized 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352680" y="5562720"/>
                  <a:ext cx="12956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BP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343400" y="228600"/>
                <a:ext cx="40006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SIZ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457200" y="1676520"/>
            <a:ext cx="8458200" cy="979200"/>
            <a:chOff x="457200" y="1676520"/>
            <a:chExt cx="8458200" cy="979200"/>
          </a:xfrm>
        </p:grpSpPr>
        <p:sp>
          <p:nvSpPr>
            <p:cNvPr id="98" name=""/>
            <p:cNvSpPr/>
            <p:nvPr/>
          </p:nvSpPr>
          <p:spPr>
            <a:xfrm>
              <a:off x="457200" y="1676520"/>
              <a:ext cx="84582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Bshouty et al. (1994) gave a beautiful algorithm to learn any polynomial-size circuit C 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2057400"/>
                  <a:ext cx="14479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Z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"/>
          <p:cNvGrpSpPr/>
          <p:nvPr/>
        </p:nvGrpSpPr>
        <p:grpSpPr>
          <a:xfrm>
            <a:off x="4114800" y="6095880"/>
            <a:ext cx="4724280" cy="566280"/>
            <a:chOff x="4114800" y="6095880"/>
            <a:chExt cx="4724280" cy="56628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6095880" y="6095880"/>
                  <a:ext cx="12193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B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"/>
            <p:cNvSpPr/>
            <p:nvPr/>
          </p:nvSpPr>
          <p:spPr>
            <a:xfrm>
              <a:off x="4114800" y="6172200"/>
              <a:ext cx="472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By contrast,               suffices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earning Circuits In       If P=NP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15000" y="152280"/>
                <a:ext cx="977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380880" y="1636560"/>
            <a:ext cx="8458200" cy="1284480"/>
            <a:chOff x="380880" y="1636560"/>
            <a:chExt cx="8458200" cy="1284480"/>
          </a:xfrm>
        </p:grpSpPr>
        <p:sp>
          <p:nvSpPr>
            <p:cNvPr id="106" name=""/>
            <p:cNvSpPr/>
            <p:nvPr/>
          </p:nvSpPr>
          <p:spPr>
            <a:xfrm>
              <a:off x="380880" y="1828800"/>
              <a:ext cx="8458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hows that the difficulty of learning circuits 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s “merely” computational (not information-theoretic)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7238880" y="1636560"/>
                  <a:ext cx="9144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89640" y="6016680"/>
                <a:ext cx="558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07200" y="4965840"/>
                <a:ext cx="5871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07040" y="3973680"/>
                <a:ext cx="6717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94120" y="4583160"/>
                <a:ext cx="61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341520" y="3738600"/>
                <a:ext cx="1006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Z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32200" y="2967120"/>
                <a:ext cx="1035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93760" y="3597120"/>
                <a:ext cx="6159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27360" y="1992240"/>
                <a:ext cx="1006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P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252960" y="1174680"/>
                <a:ext cx="1033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94080" y="2773440"/>
                <a:ext cx="447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62560" y="3738600"/>
                <a:ext cx="1062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18080" y="533520"/>
                <a:ext cx="11174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5527800" y="940320"/>
            <a:ext cx="1711080" cy="1713960"/>
            <a:chOff x="5527800" y="940320"/>
            <a:chExt cx="1711080" cy="1713960"/>
          </a:xfrm>
        </p:grpSpPr>
        <p:sp>
          <p:nvSpPr>
            <p:cNvPr id="121" name=""/>
            <p:cNvSpPr/>
            <p:nvPr/>
          </p:nvSpPr>
          <p:spPr>
            <a:xfrm rot="4960800">
              <a:off x="5673600" y="912600"/>
              <a:ext cx="817560" cy="992160"/>
            </a:xfrm>
            <a:prstGeom prst="flowChartDelay">
              <a:avLst/>
            </a:prstGeom>
            <a:solidFill>
              <a:srgbClr val="ffff99"/>
            </a:solidFill>
            <a:ln w="572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27800" y="1782720"/>
              <a:ext cx="17110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  <a:ea typeface="Arial"/>
                </a:rPr>
                <a:t>Successful nonrelativizing incur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8182400">
            <a:off x="1240560" y="2063160"/>
            <a:ext cx="3627360" cy="965160"/>
          </a:xfrm>
          <a:prstGeom prst="roundRect">
            <a:avLst>
              <a:gd name="adj" fmla="val 4778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8646200">
            <a:off x="4036320" y="4849200"/>
            <a:ext cx="3327120" cy="693720"/>
          </a:xfrm>
          <a:prstGeom prst="roundRect">
            <a:avLst>
              <a:gd name="adj" fmla="val 4692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2990000">
            <a:off x="4494240" y="538200"/>
            <a:ext cx="1892160" cy="9921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3533600">
            <a:off x="3334320" y="2750040"/>
            <a:ext cx="2052720" cy="2451240"/>
          </a:xfrm>
          <a:custGeom>
            <a:avLst/>
            <a:gdLst>
              <a:gd name="textAreaLeft" fmla="*/ 281880 w 2052720"/>
              <a:gd name="textAreaRight" fmla="*/ 1770840 w 2052720"/>
              <a:gd name="textAreaTop" fmla="*/ 281880 h 2451240"/>
              <a:gd name="textAreaBottom" fmla="*/ 2169360 h 2451240"/>
            </a:gdLst>
            <a:ahLst/>
            <a:rect l="textAreaLeft" t="textAreaTop" r="textAreaRight" b="textAreaBottom"/>
            <a:pathLst>
              <a:path w="21600" h="25793">
                <a:moveTo>
                  <a:pt x="10136" y="0"/>
                </a:moveTo>
                <a:arcTo wR="10136" hR="10136" stAng="16200000" swAng="-5400000"/>
                <a:lnTo>
                  <a:pt x="0" y="15657"/>
                </a:lnTo>
                <a:arcTo wR="10136" hR="10136" stAng="10800000" swAng="-5400000"/>
                <a:lnTo>
                  <a:pt x="11464" y="25793"/>
                </a:lnTo>
                <a:arcTo wR="10136" hR="10136" stAng="5400000" swAng="-5400000"/>
                <a:lnTo>
                  <a:pt x="21600" y="10136"/>
                </a:lnTo>
                <a:arcTo wR="10136" hR="10136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360" y="4157640"/>
            <a:ext cx="27936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11200" y="4157640"/>
            <a:ext cx="77148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62000" y="3387600"/>
            <a:ext cx="35100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4480" y="3387600"/>
            <a:ext cx="55728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44600" y="5316480"/>
            <a:ext cx="6368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814720" y="4324320"/>
            <a:ext cx="58428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54400" y="3241800"/>
            <a:ext cx="20952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27360" y="2400480"/>
            <a:ext cx="23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93920" y="1584360"/>
            <a:ext cx="29232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246280" y="884160"/>
            <a:ext cx="7016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593960" y="3357360"/>
            <a:ext cx="192564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944600" y="4174920"/>
            <a:ext cx="81612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245120" y="5049360"/>
            <a:ext cx="58248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17320" y="3941640"/>
            <a:ext cx="1576440" cy="8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076200" y="2424240"/>
            <a:ext cx="584280" cy="13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02160" y="1606320"/>
            <a:ext cx="642960" cy="14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885920" y="1606680"/>
            <a:ext cx="1050840" cy="21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76760" y="884160"/>
            <a:ext cx="99216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8680" y="3241800"/>
            <a:ext cx="3035160" cy="1692000"/>
          </a:xfrm>
          <a:custGeom>
            <a:avLst/>
            <a:gdLst/>
            <a:ahLst/>
            <a:rect l="l" t="t" r="r" b="b"/>
            <a:pathLst>
              <a:path w="2496" h="1392">
                <a:moveTo>
                  <a:pt x="0" y="0"/>
                </a:moveTo>
                <a:cubicBezTo>
                  <a:pt x="91" y="132"/>
                  <a:pt x="130" y="558"/>
                  <a:pt x="546" y="790"/>
                </a:cubicBezTo>
                <a:cubicBezTo>
                  <a:pt x="962" y="1022"/>
                  <a:pt x="2090" y="1267"/>
                  <a:pt x="2496" y="1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86240" y="2715840"/>
            <a:ext cx="3443040" cy="4022280"/>
            <a:chOff x="3486240" y="2715840"/>
            <a:chExt cx="3443040" cy="4022280"/>
          </a:xfrm>
        </p:grpSpPr>
        <p:sp>
          <p:nvSpPr>
            <p:cNvPr id="147" name=""/>
            <p:cNvSpPr/>
            <p:nvPr/>
          </p:nvSpPr>
          <p:spPr>
            <a:xfrm rot="18652200">
              <a:off x="3173040" y="5219640"/>
              <a:ext cx="321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  <a:ea typeface="Arial"/>
                </a:rPr>
                <a:t>BLACK-BOX B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486240" y="2715840"/>
              <a:ext cx="3443040" cy="3909960"/>
            </a:xfrm>
            <a:prstGeom prst="line">
              <a:avLst/>
            </a:prstGeom>
            <a:ln w="63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76520" y="914400"/>
            <a:ext cx="5279760" cy="2949840"/>
            <a:chOff x="1676520" y="914400"/>
            <a:chExt cx="5279760" cy="2949840"/>
          </a:xfrm>
        </p:grpSpPr>
        <p:sp>
          <p:nvSpPr>
            <p:cNvPr id="150" name=""/>
            <p:cNvSpPr/>
            <p:nvPr/>
          </p:nvSpPr>
          <p:spPr>
            <a:xfrm rot="18919200">
              <a:off x="2313360" y="2317320"/>
              <a:ext cx="35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  <a:ea typeface="Arial"/>
                </a:rPr>
                <a:t>RELATIVIZATION B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914400"/>
              <a:ext cx="5279760" cy="2774880"/>
            </a:xfrm>
            <a:custGeom>
              <a:avLst/>
              <a:gdLst/>
              <a:ahLst/>
              <a:rect l="l" t="t" r="r" b="b"/>
              <a:pathLst>
                <a:path w="4342" h="2282">
                  <a:moveTo>
                    <a:pt x="0" y="2093"/>
                  </a:moveTo>
                  <a:cubicBezTo>
                    <a:pt x="149" y="2091"/>
                    <a:pt x="539" y="2282"/>
                    <a:pt x="897" y="2083"/>
                  </a:cubicBezTo>
                  <a:cubicBezTo>
                    <a:pt x="1255" y="1884"/>
                    <a:pt x="1794" y="1216"/>
                    <a:pt x="2149" y="898"/>
                  </a:cubicBezTo>
                  <a:cubicBezTo>
                    <a:pt x="2504" y="580"/>
                    <a:pt x="2658" y="327"/>
                    <a:pt x="3024" y="177"/>
                  </a:cubicBezTo>
                  <a:cubicBezTo>
                    <a:pt x="3390" y="27"/>
                    <a:pt x="4068" y="37"/>
                    <a:pt x="4342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 flipV="1">
            <a:off x="4068360" y="4115880"/>
            <a:ext cx="169236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0492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TTLE MA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37320" y="1233360"/>
                <a:ext cx="531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752480"/>
            <a:ext cx="8153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right, enough infomerc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e for an oracle where PP has linear-size circu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6-07-20T08:59:14Z</dcterms:modified>
  <cp:revision>44</cp:revision>
  <dc:subject/>
  <dc:title>The Learnability of Quantum States</dc:title>
</cp:coreProperties>
</file>