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8EA2-6992-4B00-BD12-6AD04AE7D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7B95-86BE-484F-A76D-1C19B423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1EA2-6E81-4961-9AFE-0CCC0DB8E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6193-47E5-4FBC-A538-2B1DA05A0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3D40-F1F5-4D59-8CE3-9A48E373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68C1-3C69-489E-9BD3-026305F1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2B26-4F18-4EE3-97EA-38806E81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4B95-6215-4777-B156-9927BC77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4C22-9170-4DA1-B633-B295CD56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D154-F3FF-42FF-9ABA-9E0071EC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C0D6-2ECE-4EE2-AFCA-3108F928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6C55-AB04-4437-9781-A9AC9486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705B-F9C8-4834-A6E7-888DB950E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Oracles Are Subtle But Not Malicious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 of Waterl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0" r="0" b="17249"/>
          <a:stretch/>
        </p:blipFill>
        <p:spPr>
          <a:xfrm>
            <a:off x="4495680" y="2514600"/>
            <a:ext cx="878040" cy="1011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200400" y="2743200"/>
                <a:ext cx="1521000" cy="24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|</m:t>
                        </m:r>
                        <m:r>
                          <m:t xml:space="preserve">|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5410080" y="2133720"/>
            <a:ext cx="609840" cy="609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04920" y="152280"/>
            <a:ext cx="8381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…: Enumeration of PP machines</a:t>
            </a:r>
            <a:br>
              <a:rPr sz="2600"/>
            </a:b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(Actually PTIME(n</a:t>
            </a:r>
            <a:r>
              <a:rPr b="0" lang="en-US" sz="2200" spc="-1" strike="noStrike" baseline="30000">
                <a:solidFill>
                  <a:srgbClr val="008000"/>
                </a:solidFill>
                <a:latin typeface="Arial"/>
              </a:rPr>
              <a:t>logn</a:t>
            </a: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) machi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Goal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reate an oracle string A such tha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small circuits on inputs of size n</a:t>
            </a:r>
            <a:br>
              <a:rPr sz="2600"/>
            </a:b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Then every M</a:t>
            </a:r>
            <a:r>
              <a:rPr b="0" lang="en-US" sz="2200" spc="-1" strike="noStrike" baseline="-25000">
                <a:solidFill>
                  <a:srgbClr val="008000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 will be taken care of on all but finitely many n, modulo a technic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28600" y="3505320"/>
            <a:ext cx="4495680" cy="3071520"/>
            <a:chOff x="228600" y="3505320"/>
            <a:chExt cx="4495680" cy="3071520"/>
          </a:xfrm>
        </p:grpSpPr>
        <p:sp>
          <p:nvSpPr>
            <p:cNvPr id="158" name=""/>
            <p:cNvSpPr/>
            <p:nvPr/>
          </p:nvSpPr>
          <p:spPr>
            <a:xfrm>
              <a:off x="228600" y="5257800"/>
              <a:ext cx="16002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Arial"/>
                </a:rPr>
                <a:t>5n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rows 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57400" y="3505320"/>
              <a:ext cx="266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n2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columns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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i,x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590920" y="4572000"/>
              <a:ext cx="1755360" cy="2004840"/>
              <a:chOff x="2590920" y="4572000"/>
              <a:chExt cx="1755360" cy="2004840"/>
            </a:xfrm>
          </p:grpSpPr>
          <p:sp>
            <p:nvSpPr>
              <p:cNvPr id="161" name=""/>
              <p:cNvSpPr/>
              <p:nvPr/>
            </p:nvSpPr>
            <p:spPr>
              <a:xfrm>
                <a:off x="2590920" y="4572000"/>
                <a:ext cx="250560" cy="25056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841480" y="4572000"/>
                <a:ext cx="250560" cy="25056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092400" y="4572000"/>
                <a:ext cx="250560" cy="25056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343320" y="4572000"/>
                <a:ext cx="250200" cy="25056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593880" y="4572000"/>
                <a:ext cx="250560" cy="25056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844800" y="4572000"/>
                <a:ext cx="250560" cy="25056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095720" y="4572000"/>
                <a:ext cx="250560" cy="25056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590920" y="4822560"/>
                <a:ext cx="25056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841480" y="4822560"/>
                <a:ext cx="25056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092400" y="4822560"/>
                <a:ext cx="25056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343320" y="4822560"/>
                <a:ext cx="25020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593880" y="4822560"/>
                <a:ext cx="25056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844800" y="4822560"/>
                <a:ext cx="25056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095720" y="4822560"/>
                <a:ext cx="25056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590920" y="5073480"/>
                <a:ext cx="25056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841480" y="5073480"/>
                <a:ext cx="25056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092400" y="5073480"/>
                <a:ext cx="25056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343320" y="5073480"/>
                <a:ext cx="25020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593880" y="5073480"/>
                <a:ext cx="25056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844800" y="5073480"/>
                <a:ext cx="25056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095720" y="5073480"/>
                <a:ext cx="25056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590920" y="5324400"/>
                <a:ext cx="250560" cy="25056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841480" y="5324400"/>
                <a:ext cx="250560" cy="25056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092400" y="5324400"/>
                <a:ext cx="250560" cy="25056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343320" y="5324400"/>
                <a:ext cx="250200" cy="25056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593880" y="5324400"/>
                <a:ext cx="250560" cy="25056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844800" y="5324400"/>
                <a:ext cx="250560" cy="25056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095720" y="5324400"/>
                <a:ext cx="250560" cy="25056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590920" y="5574960"/>
                <a:ext cx="250560" cy="24948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841480" y="5574960"/>
                <a:ext cx="250560" cy="24948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092400" y="5574960"/>
                <a:ext cx="250560" cy="24948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343320" y="5574960"/>
                <a:ext cx="250200" cy="24948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593880" y="5574960"/>
                <a:ext cx="250560" cy="24948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844800" y="5574960"/>
                <a:ext cx="250560" cy="24948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095720" y="5574960"/>
                <a:ext cx="250560" cy="24948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590920" y="5824440"/>
                <a:ext cx="25056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841480" y="5824440"/>
                <a:ext cx="25056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092400" y="5824440"/>
                <a:ext cx="25056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343320" y="5824440"/>
                <a:ext cx="25020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593880" y="5824440"/>
                <a:ext cx="25056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844800" y="5824440"/>
                <a:ext cx="25056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095720" y="5824440"/>
                <a:ext cx="25056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590920" y="6075360"/>
                <a:ext cx="250560" cy="25056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841480" y="6075360"/>
                <a:ext cx="250560" cy="25056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092400" y="6075360"/>
                <a:ext cx="250560" cy="25056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343320" y="6075360"/>
                <a:ext cx="250200" cy="25056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593880" y="6075360"/>
                <a:ext cx="250560" cy="25056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844800" y="6075360"/>
                <a:ext cx="250560" cy="25056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095720" y="6075360"/>
                <a:ext cx="250560" cy="25056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590920" y="6325920"/>
                <a:ext cx="25056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841480" y="6325920"/>
                <a:ext cx="25056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092400" y="6325920"/>
                <a:ext cx="25056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343320" y="6325920"/>
                <a:ext cx="25020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593880" y="6325920"/>
                <a:ext cx="25056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844800" y="6325920"/>
                <a:ext cx="25056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095720" y="6325920"/>
                <a:ext cx="250560" cy="250920"/>
              </a:xfrm>
              <a:prstGeom prst="rect">
                <a:avLst/>
              </a:prstGeom>
              <a:solidFill>
                <a:srgbClr val="ffff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1905120" y="4548240"/>
              <a:ext cx="585720" cy="2004840"/>
            </a:xfrm>
            <a:custGeom>
              <a:avLst/>
              <a:gdLst>
                <a:gd name="textAreaLeft" fmla="*/ 374400 w 585720"/>
                <a:gd name="textAreaRight" fmla="*/ 586080 w 585720"/>
                <a:gd name="textAreaTop" fmla="*/ 52200 h 2004840"/>
                <a:gd name="textAreaBottom" fmla="*/ 1952640 h 20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5400000">
              <a:off x="3200040" y="3335400"/>
              <a:ext cx="501480" cy="1755720"/>
            </a:xfrm>
            <a:custGeom>
              <a:avLst/>
              <a:gdLst>
                <a:gd name="textAreaLeft" fmla="*/ 320400 w 501480"/>
                <a:gd name="textAreaRight" fmla="*/ 501480 w 501480"/>
                <a:gd name="textAreaTop" fmla="*/ 45720 h 1755720"/>
                <a:gd name="textAreaBottom" fmla="*/ 1710000 h 175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590920" y="5562720"/>
            <a:ext cx="1755720" cy="250560"/>
            <a:chOff x="2590920" y="5562720"/>
            <a:chExt cx="1755720" cy="250560"/>
          </a:xfrm>
        </p:grpSpPr>
        <p:sp>
          <p:nvSpPr>
            <p:cNvPr id="220" name=""/>
            <p:cNvSpPr/>
            <p:nvPr/>
          </p:nvSpPr>
          <p:spPr>
            <a:xfrm>
              <a:off x="2590920" y="5562720"/>
              <a:ext cx="250920" cy="250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41840" y="5562720"/>
              <a:ext cx="250560" cy="250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92400" y="5562720"/>
              <a:ext cx="250920" cy="250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43320" y="5562720"/>
              <a:ext cx="250920" cy="250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94240" y="5562720"/>
              <a:ext cx="250920" cy="250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845160" y="5562720"/>
              <a:ext cx="250560" cy="250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095720" y="5562720"/>
              <a:ext cx="250920" cy="2505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 flipH="1">
            <a:off x="4419720" y="4114800"/>
            <a:ext cx="914400" cy="1371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34120" y="2819520"/>
            <a:ext cx="3581280" cy="17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Idea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ick a random row, and encode there what every 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oes on every input 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34120" y="4645080"/>
            <a:ext cx="358128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n our linear-size circuit to simulate 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…,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ill just hardwire the location of that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6553080" y="1066680"/>
                <a:ext cx="18288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04920" y="325440"/>
            <a:ext cx="563868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blem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e PP machines are also watching the oracl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soon as we write down what the PP machines do, we might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hang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hat they do, and so on ad infinit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3813120"/>
            <a:ext cx="861048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trategy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fine a “progress measure” Q&gt;0.  Show th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) As long as every row is sensitive, we can chang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oracle string in a way that at least doubles Q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(2) Q can only double finitely many ti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477120" y="380880"/>
            <a:ext cx="1755360" cy="2004840"/>
            <a:chOff x="6477120" y="380880"/>
            <a:chExt cx="1755360" cy="2004840"/>
          </a:xfrm>
        </p:grpSpPr>
        <p:sp>
          <p:nvSpPr>
            <p:cNvPr id="234" name=""/>
            <p:cNvSpPr/>
            <p:nvPr/>
          </p:nvSpPr>
          <p:spPr>
            <a:xfrm>
              <a:off x="6477120" y="380880"/>
              <a:ext cx="250560" cy="25056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27680" y="380880"/>
              <a:ext cx="250560" cy="25056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78600" y="380880"/>
              <a:ext cx="250560" cy="25056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229520" y="380880"/>
              <a:ext cx="250200" cy="25056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80080" y="380880"/>
              <a:ext cx="250560" cy="25056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31000" y="380880"/>
              <a:ext cx="250560" cy="25056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81920" y="380880"/>
              <a:ext cx="250560" cy="25056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77120" y="631440"/>
              <a:ext cx="25056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727680" y="631440"/>
              <a:ext cx="25056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978600" y="631440"/>
              <a:ext cx="25056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29520" y="631440"/>
              <a:ext cx="25020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480080" y="631440"/>
              <a:ext cx="25056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731000" y="631440"/>
              <a:ext cx="25056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81920" y="631440"/>
              <a:ext cx="25056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77120" y="882360"/>
              <a:ext cx="25056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727680" y="882360"/>
              <a:ext cx="25056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978600" y="882360"/>
              <a:ext cx="25056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229520" y="882360"/>
              <a:ext cx="25020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80080" y="882360"/>
              <a:ext cx="25056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731000" y="882360"/>
              <a:ext cx="25056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981920" y="882360"/>
              <a:ext cx="25056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77120" y="1133280"/>
              <a:ext cx="250560" cy="25056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727680" y="1133280"/>
              <a:ext cx="250560" cy="25056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978600" y="1133280"/>
              <a:ext cx="250560" cy="25056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229520" y="1133280"/>
              <a:ext cx="250200" cy="25056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480080" y="1133280"/>
              <a:ext cx="250560" cy="25056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731000" y="1133280"/>
              <a:ext cx="250560" cy="25056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981920" y="1133280"/>
              <a:ext cx="250560" cy="25056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77120" y="1383840"/>
              <a:ext cx="250560" cy="24948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27680" y="1383840"/>
              <a:ext cx="250560" cy="24948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978600" y="1383840"/>
              <a:ext cx="250560" cy="24948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29520" y="1383840"/>
              <a:ext cx="250200" cy="24948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480080" y="1383840"/>
              <a:ext cx="250560" cy="24948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731000" y="1383840"/>
              <a:ext cx="250560" cy="24948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81920" y="1383840"/>
              <a:ext cx="250560" cy="24948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77120" y="1633320"/>
              <a:ext cx="25056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727680" y="1633320"/>
              <a:ext cx="25056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978600" y="1633320"/>
              <a:ext cx="25056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229520" y="1633320"/>
              <a:ext cx="25020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480080" y="1633320"/>
              <a:ext cx="25056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731000" y="1633320"/>
              <a:ext cx="25056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981920" y="1633320"/>
              <a:ext cx="25056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477120" y="1884240"/>
              <a:ext cx="250560" cy="25056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727680" y="1884240"/>
              <a:ext cx="250560" cy="25056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978600" y="1884240"/>
              <a:ext cx="250560" cy="25056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229520" y="1884240"/>
              <a:ext cx="250200" cy="25056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480080" y="1884240"/>
              <a:ext cx="250560" cy="25056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31000" y="1884240"/>
              <a:ext cx="250560" cy="25056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981920" y="1884240"/>
              <a:ext cx="250560" cy="25056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477120" y="2134800"/>
              <a:ext cx="25056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727680" y="2134800"/>
              <a:ext cx="25056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978600" y="2134800"/>
              <a:ext cx="25056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229520" y="2134800"/>
              <a:ext cx="25020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480080" y="2134800"/>
              <a:ext cx="25056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731000" y="2134800"/>
              <a:ext cx="25056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981920" y="2134800"/>
              <a:ext cx="250560" cy="2509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6477120" y="1371600"/>
            <a:ext cx="1755720" cy="250920"/>
            <a:chOff x="6477120" y="1371600"/>
            <a:chExt cx="1755720" cy="250920"/>
          </a:xfrm>
        </p:grpSpPr>
        <p:sp>
          <p:nvSpPr>
            <p:cNvPr id="291" name=""/>
            <p:cNvSpPr/>
            <p:nvPr/>
          </p:nvSpPr>
          <p:spPr>
            <a:xfrm>
              <a:off x="6477120" y="1371600"/>
              <a:ext cx="250920" cy="2509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28040" y="1371600"/>
              <a:ext cx="250560" cy="2509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78600" y="1371600"/>
              <a:ext cx="250920" cy="2509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29520" y="1371600"/>
              <a:ext cx="250920" cy="2509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480440" y="1371600"/>
              <a:ext cx="250920" cy="2509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731360" y="1371600"/>
              <a:ext cx="250560" cy="2509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981920" y="1371600"/>
              <a:ext cx="250920" cy="2509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8600" y="2819520"/>
            <a:ext cx="8458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l a row r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ensitiv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if there’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hange to r that affects whethe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P machine accept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p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6477120" y="631800"/>
            <a:ext cx="1755720" cy="250920"/>
            <a:chOff x="6477120" y="631800"/>
            <a:chExt cx="1755720" cy="250920"/>
          </a:xfrm>
        </p:grpSpPr>
        <p:sp>
          <p:nvSpPr>
            <p:cNvPr id="300" name=""/>
            <p:cNvSpPr/>
            <p:nvPr/>
          </p:nvSpPr>
          <p:spPr>
            <a:xfrm>
              <a:off x="6477120" y="631800"/>
              <a:ext cx="250920" cy="2509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28040" y="631800"/>
              <a:ext cx="250560" cy="2509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78600" y="631800"/>
              <a:ext cx="250920" cy="2509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229520" y="631800"/>
              <a:ext cx="250920" cy="2509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480440" y="631800"/>
              <a:ext cx="250920" cy="2509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31360" y="631800"/>
              <a:ext cx="250560" cy="2509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981920" y="631800"/>
              <a:ext cx="250920" cy="2509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477120" y="1884240"/>
            <a:ext cx="1755720" cy="250920"/>
            <a:chOff x="6477120" y="1884240"/>
            <a:chExt cx="1755720" cy="250920"/>
          </a:xfrm>
        </p:grpSpPr>
        <p:sp>
          <p:nvSpPr>
            <p:cNvPr id="308" name=""/>
            <p:cNvSpPr/>
            <p:nvPr/>
          </p:nvSpPr>
          <p:spPr>
            <a:xfrm>
              <a:off x="6477120" y="1884240"/>
              <a:ext cx="250920" cy="2509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28040" y="1884240"/>
              <a:ext cx="250560" cy="2509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78600" y="1884240"/>
              <a:ext cx="250920" cy="2509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29520" y="1884240"/>
              <a:ext cx="250920" cy="2509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480440" y="1884240"/>
              <a:ext cx="250920" cy="2509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731360" y="1884240"/>
              <a:ext cx="250560" cy="2509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981920" y="1884240"/>
              <a:ext cx="250920" cy="2509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228600" y="5791320"/>
            <a:ext cx="8458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ntually, then, there must be an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insensitiv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ow—and as soon as there is, we win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0" y="7621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 WAR OF ATTRITION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ur Weapon: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1143000"/>
            <a:ext cx="822960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,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:= | {accepting paths of 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x)} |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| {rejecting paths of 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x)} 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2057400"/>
            <a:ext cx="822960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Basic Fac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,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A) is a multilinear polynomial in the oracle bits, of degree at most 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log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,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0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x) accep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3520" y="4267080"/>
            <a:ext cx="8153280" cy="2073960"/>
          </a:xfrm>
          <a:prstGeom prst="rect">
            <a:avLst/>
          </a:prstGeom>
          <a:solidFill>
            <a:srgbClr val="d9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Lemma (follows from Nisan &amp; Szegedy 1994)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 p be a multilinear polynomial in the bits of A.  Suppose there ar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deg(p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rows we can modify so as to change sgn(p(A)).  Then there exists a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e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rows we can modify so as to at least double |p(A)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2286000" y="1143000"/>
                <a:ext cx="446076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x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533520" y="1295280"/>
            <a:ext cx="1676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rst ide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33520" y="2514600"/>
            <a:ext cx="80769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se every row is sensitive.  Then by pigeonhole, there exists an 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x) that’s sensitive to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3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ow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3520" y="3733920"/>
            <a:ext cx="792468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Meaning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ere are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3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ows we can modify so as to change sgn(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,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A)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nce, by Nisan-Szegedy, there’s a set of rows we can modify so as to double |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,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A)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" y="5867280"/>
            <a:ext cx="7924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blem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ur goal was to double Q(A)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228600"/>
            <a:ext cx="8686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99"/>
                </a:solidFill>
                <a:latin typeface="Arial"/>
              </a:rPr>
              <a:t>What should the progress measure Q be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2895480"/>
            <a:ext cx="5791320" cy="2598480"/>
          </a:xfrm>
          <a:prstGeom prst="rect">
            <a:avLst/>
          </a:prstGeom>
          <a:solidFill>
            <a:srgbClr val="ffffb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possible that, whenever |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,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| becomes large, the product of all the other terms somehow “covers for it” by becoming sm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2286000" y="609480"/>
                <a:ext cx="655632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b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≤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</m:sub>
                          <m:sup/>
                          <m:e/>
                        </m:nary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304920" y="685800"/>
            <a:ext cx="1904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ide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4920" y="2057400"/>
            <a:ext cx="8534160" cy="17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before, there’s some 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x) that’s sensitive to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3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 b=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x) and k=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,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A)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 Then we’ll think of Q(A) as the product of two polynomial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1447920" y="3962520"/>
                <a:ext cx="6172200" cy="15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b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x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f>
                          <m:fPr>
                            <m:type m:val="lin"/>
                          </m:fPr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num>
                          <m:den>
                            <m:r>
                              <m:t xml:space="preserve">u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533520" y="1447920"/>
            <a:ext cx="8152920" cy="3472560"/>
            <a:chOff x="533520" y="1447920"/>
            <a:chExt cx="8152920" cy="3472560"/>
          </a:xfrm>
        </p:grpSpPr>
        <p:sp>
          <p:nvSpPr>
            <p:cNvPr id="334" name=""/>
            <p:cNvSpPr/>
            <p:nvPr/>
          </p:nvSpPr>
          <p:spPr>
            <a:xfrm>
              <a:off x="533520" y="4920480"/>
              <a:ext cx="815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33520" y="1447920"/>
              <a:ext cx="0" cy="347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530280" y="2728800"/>
            <a:ext cx="8083440" cy="1346400"/>
          </a:xfrm>
          <a:custGeom>
            <a:avLst/>
            <a:gdLst/>
            <a:ahLst/>
            <a:rect l="l" t="t" r="r" b="b"/>
            <a:pathLst>
              <a:path w="5092" h="848">
                <a:moveTo>
                  <a:pt x="0" y="775"/>
                </a:moveTo>
                <a:cubicBezTo>
                  <a:pt x="132" y="650"/>
                  <a:pt x="545" y="48"/>
                  <a:pt x="793" y="24"/>
                </a:cubicBezTo>
                <a:cubicBezTo>
                  <a:pt x="1041" y="0"/>
                  <a:pt x="1173" y="504"/>
                  <a:pt x="1490" y="633"/>
                </a:cubicBezTo>
                <a:cubicBezTo>
                  <a:pt x="1807" y="762"/>
                  <a:pt x="2320" y="848"/>
                  <a:pt x="2696" y="800"/>
                </a:cubicBezTo>
                <a:cubicBezTo>
                  <a:pt x="3072" y="752"/>
                  <a:pt x="3347" y="353"/>
                  <a:pt x="3746" y="345"/>
                </a:cubicBezTo>
                <a:cubicBezTo>
                  <a:pt x="4145" y="337"/>
                  <a:pt x="4812" y="666"/>
                  <a:pt x="5092" y="75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620120" y="3124080"/>
            <a:ext cx="106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u(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4114800"/>
            <a:ext cx="815328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181480" y="411480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is time a “cushion” keeps u(A) from getting too sm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42880" y="1335240"/>
            <a:ext cx="7778880" cy="2952720"/>
          </a:xfrm>
          <a:custGeom>
            <a:avLst/>
            <a:gdLst/>
            <a:ahLst/>
            <a:rect l="l" t="t" r="r" b="b"/>
            <a:pathLst>
              <a:path w="4900" h="1860">
                <a:moveTo>
                  <a:pt x="0" y="1119"/>
                </a:moveTo>
                <a:cubicBezTo>
                  <a:pt x="143" y="1240"/>
                  <a:pt x="509" y="1860"/>
                  <a:pt x="860" y="1845"/>
                </a:cubicBezTo>
                <a:cubicBezTo>
                  <a:pt x="1211" y="1830"/>
                  <a:pt x="1707" y="1084"/>
                  <a:pt x="2106" y="1031"/>
                </a:cubicBezTo>
                <a:cubicBezTo>
                  <a:pt x="2505" y="978"/>
                  <a:pt x="2913" y="1562"/>
                  <a:pt x="3256" y="1528"/>
                </a:cubicBezTo>
                <a:cubicBezTo>
                  <a:pt x="3599" y="1494"/>
                  <a:pt x="3892" y="1081"/>
                  <a:pt x="4166" y="826"/>
                </a:cubicBezTo>
                <a:cubicBezTo>
                  <a:pt x="4440" y="571"/>
                  <a:pt x="4747" y="172"/>
                  <a:pt x="4900" y="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620120" y="198108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v(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0880" y="419112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prevent Q(A)=u(A)v(A) from doubling, v(A) needs to “nosediv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62120" y="1676520"/>
            <a:ext cx="2590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(A) increases sharply when we modify one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743200" y="4983120"/>
            <a:ext cx="350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umber of modified ro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0" y="1447920"/>
            <a:ext cx="289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y Nisan-Szegedy, that forces v(A) to become large later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066680" y="5638680"/>
            <a:ext cx="6705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The product Q(A)=u(A)v(A) is thereby forced to dou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457200" y="380880"/>
                <a:ext cx="81532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x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r>
                      <m:t xml:space="preserve">Q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u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3520" y="1295280"/>
            <a:ext cx="8305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e better nonrelativizing circuit lower bounds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(duhhhh..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886200"/>
            <a:ext cx="79246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shouty et al.’s algorithm only finds a circuit within an O(n/log n) factor of minimal.  Can we improve this, or else give evidence that it’s optima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33520" y="2438280"/>
            <a:ext cx="79246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es PEXP require exponential-size circuits?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Right now, can show it requires circuits of </a:t>
            </a:r>
            <a:r>
              <a:rPr b="0" i="1" lang="en-US" sz="2600" spc="-1" strike="noStrike">
                <a:solidFill>
                  <a:srgbClr val="008000"/>
                </a:solidFill>
                <a:latin typeface="Arial"/>
              </a:rPr>
              <a:t>half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exponential size—i.e. size f(n) where f(f(n))~2</a:t>
            </a:r>
            <a:r>
              <a:rPr b="0" lang="en-US" sz="2600" spc="-1" strike="noStrike" baseline="30000">
                <a:solidFill>
                  <a:srgbClr val="008000"/>
                </a:solidFill>
                <a:latin typeface="Arial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33520" y="5327640"/>
            <a:ext cx="8381880" cy="968400"/>
            <a:chOff x="533520" y="5327640"/>
            <a:chExt cx="8381880" cy="968400"/>
          </a:xfrm>
        </p:grpSpPr>
        <p:sp>
          <p:nvSpPr>
            <p:cNvPr id="353" name=""/>
            <p:cNvSpPr/>
            <p:nvPr/>
          </p:nvSpPr>
          <p:spPr>
            <a:xfrm>
              <a:off x="533520" y="5410080"/>
              <a:ext cx="83818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Can we learn circuits in        , under some computational assumption that we actually believe?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" name=""/>
                <p:cNvSpPr txBox="1"/>
                <p:nvPr/>
              </p:nvSpPr>
              <p:spPr>
                <a:xfrm>
                  <a:off x="4191120" y="5327640"/>
                  <a:ext cx="685800" cy="62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NP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45720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tandard W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52388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60 years since Shannon’s counting argument, we haven’t proven a superlinear circuit lower bound for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licit Boolean function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3657600"/>
            <a:ext cx="7772400" cy="57960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nnan 1982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ZE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400800" y="228600"/>
            <a:ext cx="1828800" cy="1219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3520" y="4343400"/>
            <a:ext cx="7772400" cy="5205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r &amp; Watanabe 1998: ZP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ZE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5029200"/>
            <a:ext cx="7772400" cy="5205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nodchandran 2004: P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ZE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57150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other hand, there are oracles where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MA have linear-size circui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2971800"/>
            <a:ext cx="746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8000"/>
                </a:solidFill>
                <a:latin typeface="Arial"/>
              </a:rPr>
              <a:t>Depends what we mean by “explicit”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066680" y="1523880"/>
            <a:ext cx="6443640" cy="1373400"/>
            <a:chOff x="1066680" y="1523880"/>
            <a:chExt cx="6443640" cy="1373400"/>
          </a:xfrm>
        </p:grpSpPr>
        <p:sp>
          <p:nvSpPr>
            <p:cNvPr id="55" name=""/>
            <p:cNvSpPr/>
            <p:nvPr/>
          </p:nvSpPr>
          <p:spPr>
            <a:xfrm>
              <a:off x="1185840" y="1523880"/>
              <a:ext cx="6324480" cy="137340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1066680" y="1523880"/>
              <a:ext cx="6324480" cy="137340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3368520" y="1676520"/>
            <a:ext cx="2405160" cy="5181120"/>
            <a:chOff x="3368520" y="1676520"/>
            <a:chExt cx="2405160" cy="5181120"/>
          </a:xfrm>
        </p:grpSpPr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3368520" y="1676520"/>
              <a:ext cx="2405160" cy="51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444840" y="1833120"/>
              <a:ext cx="2209680" cy="461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Arial"/>
                </a:rPr>
                <a:t>Where </a:t>
              </a:r>
              <a:r>
                <a:rPr b="1" i="1" lang="en-US" sz="3300" spc="-1" strike="noStrike">
                  <a:solidFill>
                    <a:srgbClr val="ffffff"/>
                  </a:solidFill>
                  <a:latin typeface="Arial"/>
                </a:rPr>
                <a:t>exactly</a:t>
              </a:r>
              <a:r>
                <a:rPr b="1" lang="en-US" sz="3300" spc="-1" strike="noStrike">
                  <a:solidFill>
                    <a:srgbClr val="ffffff"/>
                  </a:solidFill>
                  <a:latin typeface="Arial"/>
                </a:rPr>
                <a:t> do these results hit a brick wall—and can we knock it down?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My Whole Paper In On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752480" y="2057400"/>
            <a:ext cx="7010280" cy="4038480"/>
            <a:chOff x="1752480" y="2057400"/>
            <a:chExt cx="7010280" cy="4038480"/>
          </a:xfrm>
        </p:grpSpPr>
        <p:sp>
          <p:nvSpPr>
            <p:cNvPr id="62" name=""/>
            <p:cNvSpPr/>
            <p:nvPr/>
          </p:nvSpPr>
          <p:spPr>
            <a:xfrm>
              <a:off x="1752480" y="2057400"/>
              <a:ext cx="3504960" cy="2019240"/>
            </a:xfrm>
            <a:prstGeom prst="rect">
              <a:avLst/>
            </a:prstGeom>
            <a:solidFill>
              <a:srgbClr val="ddff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257440" y="2057400"/>
              <a:ext cx="3505320" cy="2019240"/>
            </a:xfrm>
            <a:prstGeom prst="rect">
              <a:avLst/>
            </a:prstGeom>
            <a:solidFill>
              <a:srgbClr val="ddff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752480" y="4076640"/>
              <a:ext cx="3504960" cy="2019240"/>
            </a:xfrm>
            <a:prstGeom prst="rect">
              <a:avLst/>
            </a:prstGeom>
            <a:solidFill>
              <a:srgbClr val="ddff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257440" y="4076640"/>
              <a:ext cx="3505320" cy="2019240"/>
            </a:xfrm>
            <a:prstGeom prst="rect">
              <a:avLst/>
            </a:prstGeom>
            <a:solidFill>
              <a:srgbClr val="ddff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828800" y="1447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cl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14479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Oracl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5909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P and Perceptr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4495680"/>
            <a:ext cx="167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llel NP and Lear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2057400"/>
            <a:ext cx="3505320" cy="2019240"/>
          </a:xfrm>
          <a:prstGeom prst="rect">
            <a:avLst/>
          </a:prstGeom>
          <a:solidFill>
            <a:srgbClr val="ffd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2438280"/>
            <a:ext cx="297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exists an oracle relative to which PP has linear-size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10080" y="2286000"/>
            <a:ext cx="3200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e real world, PP doesn’t even hav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uantu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ircuits of size 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for any constant 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410080" y="4191120"/>
            <a:ext cx="3200400" cy="1811160"/>
            <a:chOff x="5410080" y="4191120"/>
            <a:chExt cx="3200400" cy="1811160"/>
          </a:xfrm>
        </p:grpSpPr>
        <p:sp>
          <p:nvSpPr>
            <p:cNvPr id="74" name=""/>
            <p:cNvSpPr/>
            <p:nvPr/>
          </p:nvSpPr>
          <p:spPr>
            <a:xfrm>
              <a:off x="5410080" y="4191120"/>
              <a:ext cx="3200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f P=NP, then we could exactly learn any poly-size circuit C i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6553080" y="5257800"/>
                  <a:ext cx="914400" cy="74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</m:sub>
                        <m:sup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P</m:t>
                              </m:r>
                            </m:e>
                            <m:sup>
                              <m:r>
                                <m:t xml:space="preserve">C</m:t>
                              </m:r>
                            </m:sup>
                          </m:sSup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" name=""/>
          <p:cNvGrpSpPr/>
          <p:nvPr/>
        </p:nvGrpSpPr>
        <p:grpSpPr>
          <a:xfrm>
            <a:off x="1905120" y="4343400"/>
            <a:ext cx="3200400" cy="1448640"/>
            <a:chOff x="1905120" y="4343400"/>
            <a:chExt cx="3200400" cy="1448640"/>
          </a:xfrm>
        </p:grpSpPr>
        <p:sp>
          <p:nvSpPr>
            <p:cNvPr id="77" name=""/>
            <p:cNvSpPr/>
            <p:nvPr/>
          </p:nvSpPr>
          <p:spPr>
            <a:xfrm>
              <a:off x="1905120" y="4343400"/>
              <a:ext cx="3200400" cy="144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There’s an oracle whe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as linear-size circui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2971800" y="4724280"/>
                  <a:ext cx="1252440" cy="67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BPP</m:t>
                          </m:r>
                        </m:e>
                        <m:sub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NP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8600" y="22860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racle Where PP</a:t>
            </a: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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IZE(n):</a:t>
            </a:r>
            <a:br>
              <a:rPr sz="4400"/>
            </a:b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Sales Pi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4356000"/>
            <a:ext cx="830592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Subsumes several previous oracles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P (Beigel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P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SPACE (Aspnes et al.)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EX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/poly (BF&amp;T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NEXP (Buhrman et al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2666880"/>
            <a:ext cx="845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 also get an oracle where PEXP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/poly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5803920"/>
            <a:ext cx="8305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techniques yield a lower bound for k perceptrons solving k ODDMAXBIT insta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676520"/>
            <a:ext cx="845820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he real world, PP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ZE(n)</a:t>
            </a:r>
            <a:br>
              <a:rPr sz="2800"/>
            </a:br>
            <a:r>
              <a:rPr b="0" lang="en-US" sz="2300" spc="-1" strike="noStrike">
                <a:solidFill>
                  <a:srgbClr val="008000"/>
                </a:solidFill>
                <a:latin typeface="Arial"/>
              </a:rPr>
              <a:t>One of the only nonrelativizing separations we ha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57200" y="3276720"/>
            <a:ext cx="8458200" cy="914400"/>
            <a:chOff x="457200" y="3276720"/>
            <a:chExt cx="8458200" cy="914400"/>
          </a:xfrm>
        </p:grpSpPr>
        <p:sp>
          <p:nvSpPr>
            <p:cNvPr id="85" name=""/>
            <p:cNvSpPr/>
            <p:nvPr/>
          </p:nvSpPr>
          <p:spPr>
            <a:xfrm>
              <a:off x="457200" y="3505320"/>
              <a:ext cx="84582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Arial"/>
                </a:rPr>
                <a:t>(I thereby solve </a:t>
              </a:r>
              <a:r>
                <a:rPr b="1" i="1" lang="en-US" sz="2600" spc="-1" strike="noStrike">
                  <a:solidFill>
                    <a:srgbClr val="ff0000"/>
                  </a:solidFill>
                  <a:latin typeface="Arial"/>
                </a:rPr>
                <a:t>four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Arial"/>
                </a:rPr>
                <a:t> open problems of          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6324480" y="3276720"/>
              <a:ext cx="669960" cy="91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30492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P</a:t>
            </a: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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BQSIZE(n</a:t>
            </a:r>
            <a:r>
              <a:rPr b="1" lang="en-US" sz="4400" spc="-1" strike="noStrike" baseline="30000">
                <a:solidFill>
                  <a:srgbClr val="333399"/>
                </a:solidFill>
                <a:latin typeface="Arial"/>
              </a:rPr>
              <a:t>k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):</a:t>
            </a:r>
            <a:br>
              <a:rPr sz="4400"/>
            </a:b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Sales Pi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048120"/>
            <a:ext cx="8077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rst nontrivial quantum circuit lower bound (outside the black-box mode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905120"/>
            <a:ext cx="8305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ves a new, self-contained proof of Vinodchandran’s res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4114800"/>
            <a:ext cx="83059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ong the way, I prove a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“Quantum Karp-Lipton Theorem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8000"/>
                </a:solidFill>
                <a:latin typeface="Arial"/>
              </a:rPr>
              <a:t>If PP has small quantum circuits, then the</a:t>
            </a:r>
            <a:br>
              <a:rPr sz="2600"/>
            </a:br>
            <a:r>
              <a:rPr b="0" i="1" lang="en-US" sz="2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8000"/>
                </a:solidFill>
                <a:latin typeface="Arial"/>
              </a:rPr>
              <a:t>Counting Hierarchy collapses to Q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30492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racle Where                           :</a:t>
            </a:r>
            <a:br>
              <a:rPr sz="4400"/>
            </a:b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Sales Pi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2743200"/>
            <a:ext cx="8458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y result shows that their algorithm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’t be parallelize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any relativizing techni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809880"/>
            <a:ext cx="8305920" cy="2446560"/>
            <a:chOff x="380880" y="3809880"/>
            <a:chExt cx="8305920" cy="2446560"/>
          </a:xfrm>
        </p:grpSpPr>
        <p:sp>
          <p:nvSpPr>
            <p:cNvPr id="94" name=""/>
            <p:cNvSpPr/>
            <p:nvPr/>
          </p:nvSpPr>
          <p:spPr>
            <a:xfrm>
              <a:off x="380880" y="3809880"/>
              <a:ext cx="8305920" cy="22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I also get a new result about the ancient problem of </a:t>
              </a:r>
              <a:r>
                <a:rPr b="1" lang="en-US" sz="2600" spc="-1" strike="noStrike">
                  <a:solidFill>
                    <a:srgbClr val="ff0000"/>
                  </a:solidFill>
                  <a:latin typeface="Arial"/>
                </a:rPr>
                <a:t>circuit minimization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2600" spc="-1" strike="noStrike">
                  <a:solidFill>
                    <a:srgbClr val="008000"/>
                  </a:solidFill>
                  <a:latin typeface="Arial"/>
                </a:rPr>
                <a:t>There exists an oracle A, such that circuits with</a:t>
              </a:r>
              <a:br>
                <a:rPr sz="2600"/>
              </a:br>
              <a:r>
                <a:rPr b="0" i="1" lang="en-US" sz="2600" spc="-1" strike="noStrike">
                  <a:solidFill>
                    <a:srgbClr val="008000"/>
                  </a:solidFill>
                  <a:latin typeface="Arial"/>
                </a:rPr>
                <a:t>	</a:t>
              </a:r>
              <a:r>
                <a:rPr b="0" i="1" lang="en-US" sz="2600" spc="-1" strike="noStrike">
                  <a:solidFill>
                    <a:srgbClr val="008000"/>
                  </a:solidFill>
                  <a:latin typeface="Arial"/>
                </a:rPr>
                <a:t>oracle access to A can’t even be approximately</a:t>
              </a:r>
              <a:br>
                <a:rPr sz="2600"/>
              </a:br>
              <a:r>
                <a:rPr b="0" i="1" lang="en-US" sz="2600" spc="-1" strike="noStrike">
                  <a:solidFill>
                    <a:srgbClr val="008000"/>
                  </a:solidFill>
                  <a:latin typeface="Arial"/>
                </a:rPr>
                <a:t>	</a:t>
              </a:r>
              <a:r>
                <a:rPr b="0" i="1" lang="en-US" sz="2600" spc="-1" strike="noStrike">
                  <a:solidFill>
                    <a:srgbClr val="008000"/>
                  </a:solidFill>
                  <a:latin typeface="Arial"/>
                </a:rPr>
                <a:t>minimized i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3352680" y="5562720"/>
                  <a:ext cx="129564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BPP</m:t>
                          </m:r>
                        </m:e>
                        <m:sub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</m:sub>
                        <m:sup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P</m:t>
                              </m:r>
                            </m:e>
                            <m:sup>
                              <m:r>
                                <m:t xml:space="preserve">A</m:t>
                              </m:r>
                            </m:sup>
                          </m:sSup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343400" y="228600"/>
                <a:ext cx="400068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PP</m:t>
                        </m:r>
                      </m:e>
                      <m:sub>
                        <m:r>
                          <m:t xml:space="preserve">|</m:t>
                        </m:r>
                        <m:r>
                          <m:t xml:space="preserve">|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p>
                    </m:sSubSup>
                    <m:r>
                      <m:t xml:space="preserve">⊂</m:t>
                    </m:r>
                    <m:r>
                      <m:rPr>
                        <m:lit/>
                        <m:nor/>
                      </m:rPr>
                      <m:t xml:space="preserve">SIZ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7" name=""/>
          <p:cNvGrpSpPr/>
          <p:nvPr/>
        </p:nvGrpSpPr>
        <p:grpSpPr>
          <a:xfrm>
            <a:off x="457200" y="1676520"/>
            <a:ext cx="8458200" cy="979200"/>
            <a:chOff x="457200" y="1676520"/>
            <a:chExt cx="8458200" cy="979200"/>
          </a:xfrm>
        </p:grpSpPr>
        <p:sp>
          <p:nvSpPr>
            <p:cNvPr id="98" name=""/>
            <p:cNvSpPr/>
            <p:nvPr/>
          </p:nvSpPr>
          <p:spPr>
            <a:xfrm>
              <a:off x="457200" y="1676520"/>
              <a:ext cx="84582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Bshouty et al. (1994) gave a beautiful algorithm to learn any polynomial-size circuit C i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5181480" y="2057400"/>
                  <a:ext cx="1447920" cy="5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ZPP</m:t>
                          </m:r>
                        </m:e>
                        <m:sup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P</m:t>
                              </m:r>
                            </m:e>
                            <m:sup>
                              <m:r>
                                <m:t xml:space="preserve">C</m:t>
                              </m:r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" name=""/>
          <p:cNvGrpSpPr/>
          <p:nvPr/>
        </p:nvGrpSpPr>
        <p:grpSpPr>
          <a:xfrm>
            <a:off x="4114800" y="6095880"/>
            <a:ext cx="4724280" cy="566280"/>
            <a:chOff x="4114800" y="6095880"/>
            <a:chExt cx="4724280" cy="566280"/>
          </a:xfrm>
        </p:grpSpPr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6095880" y="6095880"/>
                  <a:ext cx="121932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BPP</m:t>
                          </m:r>
                        </m:e>
                        <m:sup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P</m:t>
                              </m:r>
                            </m:e>
                            <m:sup>
                              <m:r>
                                <m:t xml:space="preserve">A</m:t>
                              </m:r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02" name=""/>
            <p:cNvSpPr/>
            <p:nvPr/>
          </p:nvSpPr>
          <p:spPr>
            <a:xfrm>
              <a:off x="4114800" y="6172200"/>
              <a:ext cx="4724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(By contrast,               suffices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30492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Learning Circuits In       If P=NP:</a:t>
            </a:r>
            <a:br>
              <a:rPr sz="4400"/>
            </a:b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Sales Pi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715000" y="152280"/>
                <a:ext cx="9777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|</m:t>
                        </m:r>
                        <m:r>
                          <m:t xml:space="preserve">|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05" name=""/>
          <p:cNvGrpSpPr/>
          <p:nvPr/>
        </p:nvGrpSpPr>
        <p:grpSpPr>
          <a:xfrm>
            <a:off x="380880" y="1636560"/>
            <a:ext cx="8458200" cy="1284480"/>
            <a:chOff x="380880" y="1636560"/>
            <a:chExt cx="8458200" cy="1284480"/>
          </a:xfrm>
        </p:grpSpPr>
        <p:sp>
          <p:nvSpPr>
            <p:cNvPr id="106" name=""/>
            <p:cNvSpPr/>
            <p:nvPr/>
          </p:nvSpPr>
          <p:spPr>
            <a:xfrm>
              <a:off x="380880" y="1828800"/>
              <a:ext cx="845820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Shows that the difficulty of learning circuits i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is “merely” computational (not information-theoretic)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" name=""/>
                <p:cNvSpPr txBox="1"/>
                <p:nvPr/>
              </p:nvSpPr>
              <p:spPr>
                <a:xfrm>
                  <a:off x="7238880" y="1636560"/>
                  <a:ext cx="914400" cy="83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NP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589640" y="6016680"/>
                <a:ext cx="5587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407200" y="4965840"/>
                <a:ext cx="58716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107040" y="3973680"/>
                <a:ext cx="67176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894120" y="4583160"/>
                <a:ext cx="615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|</m:t>
                        </m:r>
                        <m:r>
                          <m:t xml:space="preserve">|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341520" y="3738600"/>
                <a:ext cx="10065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ZPP</m:t>
                        </m:r>
                      </m:e>
                      <m:sub>
                        <m:r>
                          <m:t xml:space="preserve">|</m:t>
                        </m:r>
                        <m:r>
                          <m:t xml:space="preserve">|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832200" y="2967120"/>
                <a:ext cx="103500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PP</m:t>
                        </m:r>
                      </m:e>
                      <m:sub>
                        <m:r>
                          <m:t xml:space="preserve">|</m:t>
                        </m:r>
                        <m:r>
                          <m:t xml:space="preserve">|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093760" y="3597120"/>
                <a:ext cx="61596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727360" y="1992240"/>
                <a:ext cx="10065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ZP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252960" y="1174680"/>
                <a:ext cx="10332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P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94080" y="2773440"/>
                <a:ext cx="4474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462560" y="3738600"/>
                <a:ext cx="10620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P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618080" y="533520"/>
                <a:ext cx="111744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P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P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0" name=""/>
          <p:cNvGrpSpPr/>
          <p:nvPr/>
        </p:nvGrpSpPr>
        <p:grpSpPr>
          <a:xfrm>
            <a:off x="5527800" y="940320"/>
            <a:ext cx="1711080" cy="1713960"/>
            <a:chOff x="5527800" y="940320"/>
            <a:chExt cx="1711080" cy="1713960"/>
          </a:xfrm>
        </p:grpSpPr>
        <p:sp>
          <p:nvSpPr>
            <p:cNvPr id="121" name=""/>
            <p:cNvSpPr/>
            <p:nvPr/>
          </p:nvSpPr>
          <p:spPr>
            <a:xfrm rot="4960800">
              <a:off x="5673600" y="912600"/>
              <a:ext cx="817560" cy="992160"/>
            </a:xfrm>
            <a:prstGeom prst="flowChartDelay">
              <a:avLst/>
            </a:prstGeom>
            <a:solidFill>
              <a:srgbClr val="ffff99"/>
            </a:solidFill>
            <a:ln w="572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27800" y="1782720"/>
              <a:ext cx="171108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cc3300"/>
                  </a:solidFill>
                  <a:latin typeface="Arial"/>
                  <a:ea typeface="Arial"/>
                </a:rPr>
                <a:t>Successful nonrelativizing incurs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 rot="18182400">
            <a:off x="1240560" y="2063160"/>
            <a:ext cx="3627360" cy="965160"/>
          </a:xfrm>
          <a:prstGeom prst="roundRect">
            <a:avLst>
              <a:gd name="adj" fmla="val 4778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8646200">
            <a:off x="4036320" y="4849200"/>
            <a:ext cx="3327120" cy="693720"/>
          </a:xfrm>
          <a:prstGeom prst="roundRect">
            <a:avLst>
              <a:gd name="adj" fmla="val 4692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2990000">
            <a:off x="4494240" y="538200"/>
            <a:ext cx="1892160" cy="99216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3533600">
            <a:off x="3334320" y="2750040"/>
            <a:ext cx="2052720" cy="2451240"/>
          </a:xfrm>
          <a:custGeom>
            <a:avLst/>
            <a:gdLst>
              <a:gd name="textAreaLeft" fmla="*/ 281880 w 2052720"/>
              <a:gd name="textAreaRight" fmla="*/ 1770840 w 2052720"/>
              <a:gd name="textAreaTop" fmla="*/ 281880 h 2451240"/>
              <a:gd name="textAreaBottom" fmla="*/ 2169360 h 2451240"/>
            </a:gdLst>
            <a:ahLst/>
            <a:rect l="textAreaLeft" t="textAreaTop" r="textAreaRight" b="textAreaBottom"/>
            <a:pathLst>
              <a:path w="21600" h="25793">
                <a:moveTo>
                  <a:pt x="10136" y="0"/>
                </a:moveTo>
                <a:arcTo wR="10136" hR="10136" stAng="16200000" swAng="-5400000"/>
                <a:lnTo>
                  <a:pt x="0" y="15657"/>
                </a:lnTo>
                <a:arcTo wR="10136" hR="10136" stAng="10800000" swAng="-5400000"/>
                <a:lnTo>
                  <a:pt x="11464" y="25793"/>
                </a:lnTo>
                <a:arcTo wR="10136" hR="10136" stAng="5400000" swAng="-5400000"/>
                <a:lnTo>
                  <a:pt x="21600" y="10136"/>
                </a:lnTo>
                <a:arcTo wR="10136" hR="10136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62360" y="4157640"/>
            <a:ext cx="279360" cy="49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111200" y="4157640"/>
            <a:ext cx="771480" cy="49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762000" y="3387600"/>
            <a:ext cx="351000" cy="4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54480" y="3387600"/>
            <a:ext cx="557280" cy="4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944600" y="5316480"/>
            <a:ext cx="636840" cy="66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5814720" y="4324320"/>
            <a:ext cx="584280" cy="64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354400" y="3241800"/>
            <a:ext cx="209520" cy="42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727360" y="2400480"/>
            <a:ext cx="2332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193920" y="1584360"/>
            <a:ext cx="292320" cy="48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5246280" y="884160"/>
            <a:ext cx="70164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4593960" y="3357360"/>
            <a:ext cx="1925640" cy="64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944600" y="4174920"/>
            <a:ext cx="816120" cy="75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4245120" y="5049360"/>
            <a:ext cx="582480" cy="93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2317320" y="3941640"/>
            <a:ext cx="1576440" cy="87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3076200" y="2424240"/>
            <a:ext cx="584280" cy="134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602160" y="1606320"/>
            <a:ext cx="642960" cy="140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885920" y="1606680"/>
            <a:ext cx="1050840" cy="21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776760" y="884160"/>
            <a:ext cx="99216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68680" y="3241800"/>
            <a:ext cx="3035160" cy="1692000"/>
          </a:xfrm>
          <a:custGeom>
            <a:avLst/>
            <a:gdLst/>
            <a:ahLst/>
            <a:rect l="l" t="t" r="r" b="b"/>
            <a:pathLst>
              <a:path w="2496" h="1392">
                <a:moveTo>
                  <a:pt x="0" y="0"/>
                </a:moveTo>
                <a:cubicBezTo>
                  <a:pt x="91" y="132"/>
                  <a:pt x="130" y="558"/>
                  <a:pt x="546" y="790"/>
                </a:cubicBezTo>
                <a:cubicBezTo>
                  <a:pt x="962" y="1022"/>
                  <a:pt x="2090" y="1267"/>
                  <a:pt x="2496" y="1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486240" y="2715840"/>
            <a:ext cx="3443040" cy="4022280"/>
            <a:chOff x="3486240" y="2715840"/>
            <a:chExt cx="3443040" cy="4022280"/>
          </a:xfrm>
        </p:grpSpPr>
        <p:sp>
          <p:nvSpPr>
            <p:cNvPr id="147" name=""/>
            <p:cNvSpPr/>
            <p:nvPr/>
          </p:nvSpPr>
          <p:spPr>
            <a:xfrm rot="18652200">
              <a:off x="3173040" y="5219640"/>
              <a:ext cx="321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  <a:ea typeface="Arial"/>
                </a:rPr>
                <a:t>BLACK-BOX BARR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3486240" y="2715840"/>
              <a:ext cx="3443040" cy="3909960"/>
            </a:xfrm>
            <a:prstGeom prst="line">
              <a:avLst/>
            </a:prstGeom>
            <a:ln w="63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676520" y="914400"/>
            <a:ext cx="5279760" cy="2949840"/>
            <a:chOff x="1676520" y="914400"/>
            <a:chExt cx="5279760" cy="2949840"/>
          </a:xfrm>
        </p:grpSpPr>
        <p:sp>
          <p:nvSpPr>
            <p:cNvPr id="150" name=""/>
            <p:cNvSpPr/>
            <p:nvPr/>
          </p:nvSpPr>
          <p:spPr>
            <a:xfrm rot="18919200">
              <a:off x="2313360" y="2317320"/>
              <a:ext cx="35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  <a:ea typeface="Arial"/>
                </a:rPr>
                <a:t>RELATIVIZATION BARR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76520" y="914400"/>
              <a:ext cx="5279760" cy="2774880"/>
            </a:xfrm>
            <a:custGeom>
              <a:avLst/>
              <a:gdLst/>
              <a:ahLst/>
              <a:rect l="l" t="t" r="r" b="b"/>
              <a:pathLst>
                <a:path w="4342" h="2282">
                  <a:moveTo>
                    <a:pt x="0" y="2093"/>
                  </a:moveTo>
                  <a:cubicBezTo>
                    <a:pt x="149" y="2091"/>
                    <a:pt x="539" y="2282"/>
                    <a:pt x="897" y="2083"/>
                  </a:cubicBezTo>
                  <a:cubicBezTo>
                    <a:pt x="1255" y="1884"/>
                    <a:pt x="1794" y="1216"/>
                    <a:pt x="2149" y="898"/>
                  </a:cubicBezTo>
                  <a:cubicBezTo>
                    <a:pt x="2504" y="580"/>
                    <a:pt x="2658" y="327"/>
                    <a:pt x="3024" y="177"/>
                  </a:cubicBezTo>
                  <a:cubicBezTo>
                    <a:pt x="3390" y="27"/>
                    <a:pt x="4068" y="37"/>
                    <a:pt x="4342" y="0"/>
                  </a:cubicBezTo>
                </a:path>
              </a:pathLst>
            </a:custGeom>
            <a:noFill/>
            <a:ln w="63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 flipH="1" flipV="1">
            <a:off x="4068360" y="4115880"/>
            <a:ext cx="1692360" cy="81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304920"/>
            <a:ext cx="312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ATTLE MAP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737320" y="1233360"/>
                <a:ext cx="5317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33520" y="1752480"/>
            <a:ext cx="81532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lright, enough infomerci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ime for an oracle where PP has linear-size circui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 Aaronson</cp:lastModifiedBy>
  <dcterms:modified xsi:type="dcterms:W3CDTF">2006-07-20T08:59:14Z</dcterms:modified>
  <cp:revision>44</cp:revision>
  <dc:subject/>
  <dc:title>The Learnability of Quantum States</dc:title>
</cp:coreProperties>
</file>