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DF2-F50C-410C-942E-515BDD6A8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260D-E8CB-4499-AD70-CA780AE4FFF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ZOOM THRU  ZOOM THRU   Thanks so much for inviting m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2242-2135-408B-AD7A-4A5625EB9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28E-6E8D-42E1-8A87-603E670C3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426-1537-4D21-A035-72CC6B8DF3D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63AD-7487-4D52-984D-2495D86FDA8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09D1-4116-403B-9B9A-1A9B3249C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18A-BC4C-4D2F-B775-BD8F90C39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DEE-C615-4C72-BBE5-384D4DA1D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5EA-06E7-405A-A129-D3A972AD2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F2BF-F940-4740-ACAF-84667E84C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E82-F143-428D-84B2-D609EE0F6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84B-850A-4C84-9E86-E35B9773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FE4-2E54-4A73-9685-22B4D1668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2607-39E9-413C-B0EA-9633C6365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9E0-9A89-49EF-8F40-6ACA6336C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6124-1FBF-45AF-83A6-06294E98C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1B1-42D9-435C-81BB-B1E5F458B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635-5543-449D-8E66-B1FBD3DEB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704A-24C1-4B7B-B225-B3F2BF1F2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44F-8377-429E-A4CC-E875AE8DC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878B-D77F-41DD-8D6A-36E13E030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FD58-8AF5-404A-A227-7B4E17727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396-7F78-47CD-86AB-F54E033D31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43E-4C97-485D-8AE6-183B6BE17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C04-3C3D-4CD3-AAD4-A89E26B47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C9B-01CA-401E-85DB-7C882DFE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39F-EF93-480D-BE93-A72EC30A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EBC-EFDA-476A-8058-984A77B7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225-1BE0-4CF8-8673-B122BDA9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4EA2-88E6-4BAC-8F3B-FAF20A2E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E65-93D4-42F5-9770-1D57EE54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BC2-6224-4822-820D-E5237D62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ED73-7440-44AF-9E08-28599B9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537-B389-44F3-94EE-E825C49D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51F3-83A7-49B3-A6E9-68AFC4A2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B6C-9DBD-4BFA-A7CE-C547980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571B-D637-4BCA-9B7E-B8353867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56C0-13D6-46E5-90F9-5BA8744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32E-0F09-431B-AAEF-940C82EF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6633-BA7E-4835-8051-6AC7545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5EF9-8E54-4E95-B3CA-BC1CF28D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BDEC-0263-4B49-9E0B-1B3DB35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0715-6AF0-4654-83FE-A0C0DBF3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E680-C1E8-446C-8E69-482BEA3B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4F3F-A45D-4DA5-8D92-65E34DB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97A7-E213-4E5D-837B-0223D40B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14E2-65E7-4C35-B3AB-16AB921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BAA-E23E-45D3-8185-B6D3BBA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B844-52BB-4D1B-B2E1-472AB33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0A703-EE59-45D5-B645-DAC3EC9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63B47-950E-4CE8-99A5-40F42E0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3F0C-8E1D-4B7F-B043-1C251A4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B91B-9246-4398-A752-DDF2B24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437D-0659-41FC-9752-98D21DB8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EEAD-8AA7-492E-8FAC-29425035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2970-B94B-48E3-B7BC-735AFD79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1769-C982-4838-A292-C07FDF6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2D93-256F-4256-8B2B-79BE011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0B1-4D28-46D5-B6A7-DCD2FFE7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5A16-E854-4D58-9A83-B0CB3460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4C95-D3FF-4279-8003-F7B3F0F4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804D-6A86-4B10-9D04-959D7541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E96BB-342E-444A-8416-7EA4FA8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574D-52D6-4216-9F87-5223CC3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BEFE-1CF4-48E9-B38F-8B54C62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03AC2-BB14-4B7F-9309-BC32D726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978D-5B1F-4A50-B13B-FA4E0A3B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013B-7F92-4884-80B5-D595C219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700-54CB-496A-B956-7BC9822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2CE-2F62-41A0-A80F-5B67F0A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B8C-6333-40A6-90B5-725E7AD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82B-1708-4341-8F4F-42D3613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D5A-E27C-47C6-9157-3294BC7F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D05-AFF3-4F6D-97A5-562AD520A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20B-1C65-46BB-B321-5D8AB854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486-73D4-461F-8F0C-B4BE9DD1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1D22-04DD-408C-ABAA-565EB571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en Exactly Do Quantum Computers Provide A Speedup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Grove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57200" y="5181480"/>
            <a:ext cx="829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  <a:ea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or black-box searching, the square-root speedup of Grover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8"/>
          <p:cNvGrpSpPr/>
          <p:nvPr/>
        </p:nvGrpSpPr>
        <p:grpSpPr>
          <a:xfrm>
            <a:off x="517680" y="4481640"/>
            <a:ext cx="8229600" cy="304560"/>
            <a:chOff x="517680" y="4481640"/>
            <a:chExt cx="8229600" cy="304560"/>
          </a:xfrm>
        </p:grpSpPr>
        <p:sp>
          <p:nvSpPr>
            <p:cNvPr id="287" name="Rectangle 11"/>
            <p:cNvSpPr/>
            <p:nvPr/>
          </p:nvSpPr>
          <p:spPr>
            <a:xfrm>
              <a:off x="517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822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1127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1432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1736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2041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2346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2651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9"/>
            <p:cNvSpPr/>
            <p:nvPr/>
          </p:nvSpPr>
          <p:spPr>
            <a:xfrm>
              <a:off x="2955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"/>
            <p:cNvSpPr/>
            <p:nvPr/>
          </p:nvSpPr>
          <p:spPr>
            <a:xfrm>
              <a:off x="3260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1"/>
            <p:cNvSpPr/>
            <p:nvPr/>
          </p:nvSpPr>
          <p:spPr>
            <a:xfrm>
              <a:off x="3565440" y="4481640"/>
              <a:ext cx="304920" cy="304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2"/>
            <p:cNvSpPr/>
            <p:nvPr/>
          </p:nvSpPr>
          <p:spPr>
            <a:xfrm>
              <a:off x="3870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3"/>
            <p:cNvSpPr/>
            <p:nvPr/>
          </p:nvSpPr>
          <p:spPr>
            <a:xfrm>
              <a:off x="41752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4"/>
            <p:cNvSpPr/>
            <p:nvPr/>
          </p:nvSpPr>
          <p:spPr>
            <a:xfrm>
              <a:off x="44798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5"/>
            <p:cNvSpPr/>
            <p:nvPr/>
          </p:nvSpPr>
          <p:spPr>
            <a:xfrm>
              <a:off x="47847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0896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53942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8"/>
            <p:cNvSpPr/>
            <p:nvPr/>
          </p:nvSpPr>
          <p:spPr>
            <a:xfrm>
              <a:off x="56991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9"/>
            <p:cNvSpPr/>
            <p:nvPr/>
          </p:nvSpPr>
          <p:spPr>
            <a:xfrm>
              <a:off x="60040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3086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1"/>
            <p:cNvSpPr/>
            <p:nvPr/>
          </p:nvSpPr>
          <p:spPr>
            <a:xfrm>
              <a:off x="66135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69184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72230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75279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5"/>
            <p:cNvSpPr/>
            <p:nvPr/>
          </p:nvSpPr>
          <p:spPr>
            <a:xfrm>
              <a:off x="7832880" y="4481640"/>
              <a:ext cx="30456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813744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7"/>
            <p:cNvSpPr/>
            <p:nvPr/>
          </p:nvSpPr>
          <p:spPr>
            <a:xfrm>
              <a:off x="8442360" y="4481640"/>
              <a:ext cx="304920" cy="3045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" descr="http://upload.wikimedia.org/wikipedia/commons/thumb/1/16/Grovers_algorithm_geometry.png/310px-Grovers_algorithm_geometry.png"/>
          <p:cNvPicPr/>
          <p:nvPr/>
        </p:nvPicPr>
        <p:blipFill>
          <a:blip r:embed="rId1"/>
          <a:stretch/>
        </p:blipFill>
        <p:spPr>
          <a:xfrm>
            <a:off x="565200" y="1143000"/>
            <a:ext cx="2952720" cy="30672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421080" y="1219320"/>
            <a:ext cx="5570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dratic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involving searching an unordered list, provided the list elements can be queried in super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lies subquadratic speedups for many other bas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9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Walk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enter image description here"/>
          <p:cNvPicPr/>
          <p:nvPr/>
        </p:nvPicPr>
        <p:blipFill>
          <a:blip r:embed="rId1"/>
          <a:stretch/>
        </p:blipFill>
        <p:spPr>
          <a:xfrm>
            <a:off x="457200" y="2514600"/>
            <a:ext cx="5105520" cy="36734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299880" y="1143000"/>
            <a:ext cx="8534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hilds et al. 2003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walks can achieve provable exponential speedups over any classical algorithm (in query complexity), but for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“fine-tuned”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5867280" y="3657600"/>
            <a:ext cx="2987640" cy="264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lso lots of polynomial speedups—e.g., Element Distinctness in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ti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(Ambainis 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295280" y="618804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THE GLUED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Quantum Adiabatic Algorithm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1271520" y="128124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6320" y="24382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6819840" y="135576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038480" y="243828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2286000" y="1371600"/>
            <a:ext cx="4572000" cy="89064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2880" h="561">
                <a:moveTo>
                  <a:pt x="0" y="302"/>
                </a:moveTo>
                <a:cubicBezTo>
                  <a:pt x="214" y="139"/>
                  <a:pt x="425" y="0"/>
                  <a:pt x="633" y="42"/>
                </a:cubicBezTo>
                <a:cubicBezTo>
                  <a:pt x="841" y="84"/>
                  <a:pt x="1008" y="545"/>
                  <a:pt x="1249" y="553"/>
                </a:cubicBezTo>
                <a:cubicBezTo>
                  <a:pt x="1490" y="561"/>
                  <a:pt x="1805" y="122"/>
                  <a:pt x="2077" y="91"/>
                </a:cubicBezTo>
                <a:cubicBezTo>
                  <a:pt x="2349" y="60"/>
                  <a:pt x="2616" y="201"/>
                  <a:pt x="2880" y="367"/>
                </a:cubicBezTo>
              </a:path>
            </a:pathLst>
          </a:custGeom>
          <a:noFill/>
          <a:ln w="25560">
            <a:solidFill>
              <a:srgbClr val="993366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adiabatic.gif"/>
          <p:cNvPicPr/>
          <p:nvPr/>
        </p:nvPicPr>
        <p:blipFill>
          <a:blip r:embed="rId1"/>
          <a:stretch/>
        </p:blipFill>
        <p:spPr>
          <a:xfrm>
            <a:off x="4495680" y="3365640"/>
            <a:ext cx="4496040" cy="3492360"/>
          </a:xfrm>
          <a:prstGeom prst="rect">
            <a:avLst/>
          </a:prstGeom>
          <a:ln w="0">
            <a:noFill/>
          </a:ln>
        </p:spPr>
      </p:pic>
      <p:sp>
        <p:nvSpPr>
          <p:cNvPr id="328" name="Oval 9"/>
          <p:cNvSpPr/>
          <p:nvPr/>
        </p:nvSpPr>
        <p:spPr>
          <a:xfrm>
            <a:off x="8001000" y="4051440"/>
            <a:ext cx="457200" cy="457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7848720" y="3906720"/>
            <a:ext cx="771480" cy="7542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3763800"/>
            <a:ext cx="1105200" cy="1049400"/>
          </a:xfrm>
          <a:prstGeom prst="ellipse">
            <a:avLst/>
          </a:prstGeom>
          <a:solidFill>
            <a:srgbClr val="ff3300">
              <a:alpha val="2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http://info.speckdesign.com/Portals/211265/images/D-Wave%20One%20-%20Quantum%20Computer.jpg"/>
          <p:cNvPicPr/>
          <p:nvPr/>
        </p:nvPicPr>
        <p:blipFill>
          <a:blip r:embed="rId2"/>
          <a:stretch/>
        </p:blipFill>
        <p:spPr>
          <a:xfrm>
            <a:off x="533520" y="3906720"/>
            <a:ext cx="3165480" cy="2259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4336920" y="5334120"/>
            <a:ext cx="426744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“Eigenvalue gap”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Landscapeolog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3282840" y="1295280"/>
            <a:ext cx="5562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orithm can find global minimum exponentially faster than simulated annealing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though maybe other classical algorithms do bet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319560" y="31734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can find global minimum exponentially faster than adiabatic algorithm (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346560" y="4800600"/>
            <a:ext cx="5562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mulated annealing and adiabatic algorithm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o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need exponential time to find global minim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"/>
          <p:cNvGrpSpPr/>
          <p:nvPr/>
        </p:nvGrpSpPr>
        <p:grpSpPr>
          <a:xfrm>
            <a:off x="380880" y="1141560"/>
            <a:ext cx="2752920" cy="2070000"/>
            <a:chOff x="380880" y="1141560"/>
            <a:chExt cx="2752920" cy="2070000"/>
          </a:xfrm>
        </p:grpSpPr>
        <p:sp>
          <p:nvSpPr>
            <p:cNvPr id="338" name="Freeform 14"/>
            <p:cNvSpPr/>
            <p:nvPr/>
          </p:nvSpPr>
          <p:spPr>
            <a:xfrm>
              <a:off x="380880" y="1141560"/>
              <a:ext cx="2752920" cy="2070000"/>
            </a:xfrm>
            <a:custGeom>
              <a:avLst/>
              <a:gdLst/>
              <a:ahLst/>
              <a:rect l="l" t="t" r="r" b="b"/>
              <a:pathLst>
                <a:path w="2753248" h="2070022">
                  <a:moveTo>
                    <a:pt x="0" y="321848"/>
                  </a:moveTo>
                  <a:cubicBezTo>
                    <a:pt x="296426" y="700336"/>
                    <a:pt x="592852" y="1078824"/>
                    <a:pt x="783771" y="1025233"/>
                  </a:cubicBezTo>
                  <a:cubicBezTo>
                    <a:pt x="974690" y="971642"/>
                    <a:pt x="1065125" y="-19796"/>
                    <a:pt x="1145512" y="301"/>
                  </a:cubicBezTo>
                  <a:cubicBezTo>
                    <a:pt x="1225899" y="20398"/>
                    <a:pt x="1112017" y="804169"/>
                    <a:pt x="1266092" y="1145813"/>
                  </a:cubicBezTo>
                  <a:cubicBezTo>
                    <a:pt x="1420167" y="1487457"/>
                    <a:pt x="1822101" y="2197541"/>
                    <a:pt x="2069960" y="2050165"/>
                  </a:cubicBezTo>
                  <a:cubicBezTo>
                    <a:pt x="2317819" y="1902789"/>
                    <a:pt x="2535533" y="1082173"/>
                    <a:pt x="2753248" y="26155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"/>
            <p:cNvSpPr/>
            <p:nvPr/>
          </p:nvSpPr>
          <p:spPr>
            <a:xfrm>
              <a:off x="444240" y="137160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"/>
          <p:cNvGrpSpPr/>
          <p:nvPr/>
        </p:nvGrpSpPr>
        <p:grpSpPr>
          <a:xfrm>
            <a:off x="415800" y="3429000"/>
            <a:ext cx="2683080" cy="876240"/>
            <a:chOff x="415800" y="3429000"/>
            <a:chExt cx="2683080" cy="876240"/>
          </a:xfrm>
        </p:grpSpPr>
        <p:sp>
          <p:nvSpPr>
            <p:cNvPr id="341" name="Freeform 15"/>
            <p:cNvSpPr/>
            <p:nvPr/>
          </p:nvSpPr>
          <p:spPr>
            <a:xfrm>
              <a:off x="415800" y="3429000"/>
              <a:ext cx="2683080" cy="876240"/>
            </a:xfrm>
            <a:custGeom>
              <a:avLst/>
              <a:gdLst/>
              <a:ahLst/>
              <a:rect l="l" t="t" r="r" b="b"/>
              <a:pathLst>
                <a:path w="2682909" h="875583">
                  <a:moveTo>
                    <a:pt x="0" y="160774"/>
                  </a:moveTo>
                  <a:cubicBezTo>
                    <a:pt x="59453" y="336620"/>
                    <a:pt x="118906" y="512466"/>
                    <a:pt x="200967" y="512466"/>
                  </a:cubicBezTo>
                  <a:cubicBezTo>
                    <a:pt x="283028" y="512466"/>
                    <a:pt x="187569" y="212690"/>
                    <a:pt x="492369" y="160774"/>
                  </a:cubicBezTo>
                  <a:cubicBezTo>
                    <a:pt x="797169" y="108858"/>
                    <a:pt x="1716592" y="82061"/>
                    <a:pt x="2029766" y="200967"/>
                  </a:cubicBezTo>
                  <a:cubicBezTo>
                    <a:pt x="2342940" y="319873"/>
                    <a:pt x="2262554" y="907701"/>
                    <a:pt x="2371411" y="874207"/>
                  </a:cubicBezTo>
                  <a:cubicBezTo>
                    <a:pt x="2480268" y="840713"/>
                    <a:pt x="2582426" y="425380"/>
                    <a:pt x="2682909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9"/>
            <p:cNvSpPr/>
            <p:nvPr/>
          </p:nvSpPr>
          <p:spPr>
            <a:xfrm>
              <a:off x="444240" y="350496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"/>
          <p:cNvGrpSpPr/>
          <p:nvPr/>
        </p:nvGrpSpPr>
        <p:grpSpPr>
          <a:xfrm>
            <a:off x="371520" y="4606920"/>
            <a:ext cx="2663640" cy="1830240"/>
            <a:chOff x="371520" y="4606920"/>
            <a:chExt cx="2663640" cy="1830240"/>
          </a:xfrm>
        </p:grpSpPr>
        <p:sp>
          <p:nvSpPr>
            <p:cNvPr id="344" name="Freeform 16"/>
            <p:cNvSpPr/>
            <p:nvPr/>
          </p:nvSpPr>
          <p:spPr>
            <a:xfrm>
              <a:off x="371520" y="4647960"/>
              <a:ext cx="2663640" cy="1789200"/>
            </a:xfrm>
            <a:custGeom>
              <a:avLst/>
              <a:gdLst/>
              <a:ahLst/>
              <a:rect l="l" t="t" r="r" b="b"/>
              <a:pathLst>
                <a:path w="2662813" h="1788627">
                  <a:moveTo>
                    <a:pt x="0" y="0"/>
                  </a:moveTo>
                  <a:cubicBezTo>
                    <a:pt x="361740" y="626347"/>
                    <a:pt x="723481" y="1252694"/>
                    <a:pt x="1055077" y="1266092"/>
                  </a:cubicBezTo>
                  <a:cubicBezTo>
                    <a:pt x="1386673" y="1279490"/>
                    <a:pt x="1775209" y="-6699"/>
                    <a:pt x="1989574" y="80387"/>
                  </a:cubicBezTo>
                  <a:cubicBezTo>
                    <a:pt x="2203939" y="167473"/>
                    <a:pt x="2229060" y="1795306"/>
                    <a:pt x="2341266" y="1788607"/>
                  </a:cubicBezTo>
                  <a:cubicBezTo>
                    <a:pt x="2453473" y="1781908"/>
                    <a:pt x="2527998" y="765349"/>
                    <a:pt x="2662813" y="40193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30"/>
            <p:cNvSpPr/>
            <p:nvPr/>
          </p:nvSpPr>
          <p:spPr>
            <a:xfrm>
              <a:off x="444240" y="4606920"/>
              <a:ext cx="1936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7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Machine Learning Algorith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43000" y="2819520"/>
            <a:ext cx="8762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THE FINE PR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’t get solution vector explicitly, but only as vector of amplitudes.  Need to measure to learn anyth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pendence on condition number could kill exponential spee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ed a way of loading huge amounts of data into quantum state (which, again, could kill exponential speed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ruled out that there are fast randomized algorithms for the same problems (even just considering query complex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http://meche.mit.edu/people/img/slloyd.jpg"/>
          <p:cNvPicPr/>
          <p:nvPr/>
        </p:nvPicPr>
        <p:blipFill>
          <a:blip r:embed="rId1"/>
          <a:stretch/>
        </p:blipFill>
        <p:spPr>
          <a:xfrm>
            <a:off x="380880" y="1219320"/>
            <a:ext cx="1295640" cy="1431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1905120" y="133524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’ for solving linear systems, support vector machines, Google PageRank, computing Betti numbe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ut you just listed a bunch of examples where you know a quantum speedup, and other examples where you don’t!  What you guys need i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or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, which would tell you from first principles when quantum speedups are possibl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http://clarkdogpaw.org/wp-content/uploads/2014/09/Thanks.gif"/>
          <p:cNvPicPr/>
          <p:nvPr/>
        </p:nvPicPr>
        <p:blipFill>
          <a:blip r:embed="rId1"/>
          <a:stretch/>
        </p:blipFill>
        <p:spPr>
          <a:xfrm>
            <a:off x="2438280" y="3768840"/>
            <a:ext cx="3886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Black-Box Model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setting for much of what we know about the power of quantum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3619440" y="1938240"/>
            <a:ext cx="1185840" cy="1185840"/>
          </a:xfrm>
          <a:prstGeom prst="cube">
            <a:avLst>
              <a:gd name="adj" fmla="val 25000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124080" y="1938240"/>
            <a:ext cx="191160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  <a:ea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049400" y="220356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606680" y="259380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4923000" y="2560680"/>
            <a:ext cx="188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6504120" y="22366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272880" y="33591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 algorithm can mak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ry transformation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which 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282600" y="50356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s well 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rbitrar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nitary transformations that don’t depend on f (we won’t worry about their computational co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1"/>
              <p:cNvSpPr txBox="1"/>
              <p:nvPr/>
            </p:nvSpPr>
            <p:spPr>
              <a:xfrm>
                <a:off x="949320" y="3879720"/>
                <a:ext cx="6959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  <m:r>
                          <m:t xml:space="preserve">→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Text Box 2"/>
          <p:cNvSpPr/>
          <p:nvPr/>
        </p:nvSpPr>
        <p:spPr>
          <a:xfrm>
            <a:off x="2416320" y="452916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x=“query register,” a=“answer register,” w=“workspac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04920" y="6095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s goal is to learn som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per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f)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for example: is f 1-to-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1598760" y="3124080"/>
            <a:ext cx="6095880" cy="180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ery complexity” of 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minimum number of queries used by any algorithm that outputs F(f), with high probability, for every f of interest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18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tal Boolean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1"/>
              <p:cNvSpPr txBox="1"/>
              <p:nvPr/>
            </p:nvSpPr>
            <p:spPr>
              <a:xfrm>
                <a:off x="209520" y="1143000"/>
                <a:ext cx="3370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Text Box 2"/>
          <p:cNvSpPr/>
          <p:nvPr/>
        </p:nvSpPr>
        <p:spPr>
          <a:xfrm>
            <a:off x="328680" y="26668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1828800" y="2550960"/>
                <a:ext cx="6335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9" name="Text Box 2"/>
          <p:cNvSpPr/>
          <p:nvPr/>
        </p:nvSpPr>
        <p:spPr>
          <a:xfrm>
            <a:off x="328680" y="33526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Beals et al. 1998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or all Boolean functions F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0"/>
              <p:cNvSpPr txBox="1"/>
              <p:nvPr/>
            </p:nvSpPr>
            <p:spPr>
              <a:xfrm>
                <a:off x="3324240" y="3844800"/>
                <a:ext cx="27241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Text Box 10"/>
          <p:cNvSpPr/>
          <p:nvPr/>
        </p:nvSpPr>
        <p:spPr>
          <a:xfrm>
            <a:off x="1600200" y="4633920"/>
            <a:ext cx="631836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to reconcile with the exponential speedup of Shor’s algorithm?  Tot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322200" y="57913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Longstanding Open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s ther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oolean function with a quantum quantum/classical gap better than quadrati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33920" y="107784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D(F): Deterministic query complexity of 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R(F): Randomized query complex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Q(F): Quantum query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lmost-Total Func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31920" y="1676520"/>
            <a:ext cx="85341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Conjecture (A.-Ambainis 2011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Q be any quantum algorithm that makes T queries to an inpu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a classical randomized that makes poly(T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queries to X, and that approximates Pr[Q accepts X] to withi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a ≥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action of X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331920" y="4267080"/>
            <a:ext cx="864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 (A.-Ambainis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is would follow from an extremely natural conjecture in discrete Fourier analysis (“every bounded low-degree polynomial p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[0,1] has a highly influential variabl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a 2-to-1 function f:{1,…,N}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{1,…,N}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1"/>
          <p:cNvSpPr/>
          <p:nvPr/>
        </p:nvSpPr>
        <p:spPr>
          <a:xfrm>
            <a:off x="457200" y="2819520"/>
            <a:ext cx="7848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Arial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ore structured than Grover search, but less structured than Shor’s period-finding problem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16"/>
          <p:cNvGrpSpPr/>
          <p:nvPr/>
        </p:nvGrpSpPr>
        <p:grpSpPr>
          <a:xfrm>
            <a:off x="4888080" y="2362320"/>
            <a:ext cx="4255920" cy="2684520"/>
            <a:chOff x="4888080" y="2362320"/>
            <a:chExt cx="4255920" cy="2684520"/>
          </a:xfrm>
        </p:grpSpPr>
        <p:pic>
          <p:nvPicPr>
            <p:cNvPr id="384" name="Picture 14" descr="spy"/>
            <p:cNvPicPr/>
            <p:nvPr/>
          </p:nvPicPr>
          <p:blipFill>
            <a:blip r:embed="rId1"/>
            <a:srcRect l="1304" t="25263" r="50878" b="20210"/>
            <a:stretch/>
          </p:blipFill>
          <p:spPr>
            <a:xfrm>
              <a:off x="7761240" y="30114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AutoShape 15"/>
            <p:cNvSpPr/>
            <p:nvPr/>
          </p:nvSpPr>
          <p:spPr>
            <a:xfrm>
              <a:off x="4888080" y="23623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54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It’s been 20 years since Shor’s factoring algorithm.  Where are all the amaz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quantum algorithms we were promised?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http://upload.wikimedia.org/wikipedia/commons/thumb/a/af/Peter_Shor.jpg/220px-Peter_Shor.jpg"/>
          <p:cNvPicPr/>
          <p:nvPr/>
        </p:nvPicPr>
        <p:blipFill>
          <a:blip r:embed="rId1"/>
          <a:stretch/>
        </p:blipFill>
        <p:spPr>
          <a:xfrm>
            <a:off x="3390840" y="2238480"/>
            <a:ext cx="1123920" cy="1685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dcs.warwick.ac.uk/~tim/quantumcomputing/img/when_grover.jpg"/>
          <p:cNvPicPr/>
          <p:nvPr/>
        </p:nvPicPr>
        <p:blipFill>
          <a:blip r:embed="rId2"/>
          <a:stretch/>
        </p:blipFill>
        <p:spPr>
          <a:xfrm>
            <a:off x="5003640" y="2235240"/>
            <a:ext cx="1440000" cy="1743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web.mit.edu/physics/images/faculty/farhi_eddie.jpg"/>
          <p:cNvPicPr/>
          <p:nvPr/>
        </p:nvPicPr>
        <p:blipFill>
          <a:blip r:embed="rId3"/>
          <a:stretch/>
        </p:blipFill>
        <p:spPr>
          <a:xfrm>
            <a:off x="7124760" y="2219400"/>
            <a:ext cx="1182600" cy="1712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washington.edu/news/files/2011/10/RichardFeynmanBBC.jpg"/>
          <p:cNvPicPr/>
          <p:nvPr/>
        </p:nvPicPr>
        <p:blipFill>
          <a:blip r:embed="rId4"/>
          <a:stretch/>
        </p:blipFill>
        <p:spPr>
          <a:xfrm>
            <a:off x="677880" y="2224080"/>
            <a:ext cx="2286000" cy="1700280"/>
          </a:xfrm>
          <a:prstGeom prst="rect">
            <a:avLst/>
          </a:prstGeom>
          <a:ln w="0">
            <a:noFill/>
          </a:ln>
        </p:spPr>
      </p:pic>
      <p:sp>
        <p:nvSpPr>
          <p:cNvPr id="180" name="Title 1"/>
          <p:cNvSpPr/>
          <p:nvPr/>
        </p:nvSpPr>
        <p:spPr>
          <a:xfrm>
            <a:off x="392040" y="5943600"/>
            <a:ext cx="853452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o promised you more quantum algorithms?  Not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2579760" y="5297400"/>
            <a:ext cx="64562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…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  <a:ea typeface="Arial"/>
              </a:rPr>
              <a:t>Is that all?  What else is th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830160" y="4133880"/>
            <a:ext cx="1981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2962440" y="3987720"/>
            <a:ext cx="1981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5003640" y="4129200"/>
            <a:ext cx="1440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6620040" y="4129200"/>
            <a:ext cx="2313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diabatic alg / quantum wal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250920" y="4832280"/>
            <a:ext cx="4376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+ A few other thing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1"/>
          <p:cNvSpPr/>
          <p:nvPr/>
        </p:nvSpPr>
        <p:spPr>
          <a:xfrm>
            <a:off x="425520" y="304920"/>
            <a:ext cx="7804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irthday Paradox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queries are necessary and sufficient to find a collision with high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MCj04363930000[1]"/>
          <p:cNvPicPr/>
          <p:nvPr/>
        </p:nvPicPr>
        <p:blipFill>
          <a:blip r:embed="rId1"/>
          <a:stretch/>
        </p:blipFill>
        <p:spPr>
          <a:xfrm>
            <a:off x="8229600" y="279360"/>
            <a:ext cx="703440" cy="897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1"/>
          <p:cNvSpPr/>
          <p:nvPr/>
        </p:nvSpPr>
        <p:spPr>
          <a:xfrm>
            <a:off x="404640" y="1371600"/>
            <a:ext cx="845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Brassard-Høyer-Tapp 1997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ly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027320" y="2193840"/>
          <a:ext cx="4648320" cy="58428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5280"/>
                <a:gridCol w="663480"/>
                <a:gridCol w="665280"/>
                <a:gridCol w="661680"/>
                <a:gridCol w="6652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90" name="Text Box 39"/>
          <p:cNvSpPr/>
          <p:nvPr/>
        </p:nvSpPr>
        <p:spPr>
          <a:xfrm>
            <a:off x="260280" y="212868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rover o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944640" y="3797280"/>
          <a:ext cx="266688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19"/>
          <p:cNvSpPr/>
          <p:nvPr/>
        </p:nvSpPr>
        <p:spPr>
          <a:xfrm>
            <a:off x="3792600" y="3754440"/>
            <a:ext cx="484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(x) values queried class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239840" y="2819520"/>
            <a:ext cx="3733920" cy="934920"/>
            <a:chOff x="1239840" y="2819520"/>
            <a:chExt cx="3733920" cy="934920"/>
          </a:xfrm>
        </p:grpSpPr>
        <p:sp>
          <p:nvSpPr>
            <p:cNvPr id="394" name="Line 40"/>
            <p:cNvSpPr/>
            <p:nvPr/>
          </p:nvSpPr>
          <p:spPr>
            <a:xfrm flipH="1">
              <a:off x="1239840" y="2819520"/>
              <a:ext cx="37339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H="1">
              <a:off x="1925280" y="2819520"/>
              <a:ext cx="30481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H="1">
              <a:off x="2611440" y="2819520"/>
              <a:ext cx="23623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3"/>
            <p:cNvSpPr/>
            <p:nvPr/>
          </p:nvSpPr>
          <p:spPr>
            <a:xfrm flipH="1">
              <a:off x="3296880" y="2819520"/>
              <a:ext cx="16765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41"/>
          <p:cNvSpPr/>
          <p:nvPr/>
        </p:nvSpPr>
        <p:spPr>
          <a:xfrm>
            <a:off x="425520" y="4724280"/>
            <a:ext cx="84549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irst quantum lower bound for the collision problem (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eries are needed; no exponential speedup possi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hi 2002: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mproved lower bound of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Brassard-Høyer-Tapp’s algorithm is the best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97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ymmetric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384120" y="3886200"/>
            <a:ext cx="864720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ew Results (Ben-David 2014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F: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0,1} is any Boolean function of permutations, then D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. If F is any function with a symmetric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omi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and at most M possible results of each query, then R(F)=O(Q(F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2(M-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1"/>
          <p:cNvSpPr/>
          <p:nvPr/>
        </p:nvSpPr>
        <p:spPr>
          <a:xfrm>
            <a:off x="344520" y="1143000"/>
            <a:ext cx="84549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ssive generalization of collision lower bound.  If F is any function whatsoever that’s symmetric under permuting the inputs and outputs, and has sufficiently many outputs (like collision, element distinctness, etc.)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"/>
              <p:cNvSpPr txBox="1"/>
              <p:nvPr/>
            </p:nvSpPr>
            <p:spPr>
              <a:xfrm>
                <a:off x="1351080" y="2835360"/>
                <a:ext cx="6189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oly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Title 1"/>
          <p:cNvSpPr/>
          <p:nvPr/>
        </p:nvSpPr>
        <p:spPr>
          <a:xfrm>
            <a:off x="401760" y="5702400"/>
            <a:ext cx="8397720" cy="100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a “structured” promise if you want an exponential quantum spee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the largest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ossibl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quantum speedu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344520" y="1752480"/>
            <a:ext cx="85708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eriod-finding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(1) quantum queries,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mon’s problem, the glued-tree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(log N) quantum queries, ~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classical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1"/>
          <p:cNvSpPr/>
          <p:nvPr/>
        </p:nvSpPr>
        <p:spPr>
          <a:xfrm>
            <a:off x="365040" y="3962520"/>
            <a:ext cx="8570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Forrelation (A. 2009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two Boolean functions f,g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{-1,1}, estimate how correlated g is with the Fourier transform of 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05040" y="5105520"/>
                <a:ext cx="5844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  <m:mr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?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08" name="Title 1"/>
          <p:cNvSpPr/>
          <p:nvPr/>
        </p:nvSpPr>
        <p:spPr>
          <a:xfrm>
            <a:off x="4952880" y="3124080"/>
            <a:ext cx="3657600" cy="62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do even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762120" y="60948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19920" y="59832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traight Connector 2"/>
          <p:cNvSpPr/>
          <p:nvPr/>
        </p:nvSpPr>
        <p:spPr>
          <a:xfrm>
            <a:off x="2084400" y="19699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"/>
          <p:cNvSpPr/>
          <p:nvPr/>
        </p:nvSpPr>
        <p:spPr>
          <a:xfrm>
            <a:off x="2084400" y="26557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4"/>
          <p:cNvSpPr/>
          <p:nvPr/>
        </p:nvSpPr>
        <p:spPr>
          <a:xfrm>
            <a:off x="2084400" y="12841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24652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4652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4652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3379680" y="979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42940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42940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42940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3"/>
          <p:cNvGrpSpPr/>
          <p:nvPr/>
        </p:nvGrpSpPr>
        <p:grpSpPr>
          <a:xfrm>
            <a:off x="6923520" y="826920"/>
            <a:ext cx="810720" cy="961560"/>
            <a:chOff x="6923520" y="826920"/>
            <a:chExt cx="810720" cy="961560"/>
          </a:xfrm>
        </p:grpSpPr>
        <p:sp>
          <p:nvSpPr>
            <p:cNvPr id="423" name="Chord 13"/>
            <p:cNvSpPr/>
            <p:nvPr/>
          </p:nvSpPr>
          <p:spPr>
            <a:xfrm rot="7220400">
              <a:off x="7025400" y="10868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4" name="Straight Arrow Connector 14"/>
            <p:cNvCxnSpPr>
              <a:stCxn id="423" idx="2"/>
            </p:cNvCxnSpPr>
            <p:nvPr/>
          </p:nvCxnSpPr>
          <p:spPr>
            <a:xfrm flipV="1">
              <a:off x="7327800" y="8269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5" name="Group 16"/>
          <p:cNvGrpSpPr/>
          <p:nvPr/>
        </p:nvGrpSpPr>
        <p:grpSpPr>
          <a:xfrm>
            <a:off x="6923520" y="1512720"/>
            <a:ext cx="810720" cy="961560"/>
            <a:chOff x="6923520" y="1512720"/>
            <a:chExt cx="810720" cy="961560"/>
          </a:xfrm>
        </p:grpSpPr>
        <p:sp>
          <p:nvSpPr>
            <p:cNvPr id="426" name="Chord 16"/>
            <p:cNvSpPr/>
            <p:nvPr/>
          </p:nvSpPr>
          <p:spPr>
            <a:xfrm rot="7220400">
              <a:off x="7025400" y="17726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Straight Arrow Connector 17"/>
            <p:cNvCxnSpPr>
              <a:stCxn id="426" idx="2"/>
            </p:cNvCxnSpPr>
            <p:nvPr/>
          </p:nvCxnSpPr>
          <p:spPr>
            <a:xfrm flipV="1">
              <a:off x="7327800" y="15127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8" name="Group 19"/>
          <p:cNvGrpSpPr/>
          <p:nvPr/>
        </p:nvGrpSpPr>
        <p:grpSpPr>
          <a:xfrm>
            <a:off x="6923520" y="2198520"/>
            <a:ext cx="810720" cy="961560"/>
            <a:chOff x="6923520" y="2198520"/>
            <a:chExt cx="810720" cy="961560"/>
          </a:xfrm>
        </p:grpSpPr>
        <p:sp>
          <p:nvSpPr>
            <p:cNvPr id="429" name="Chord 19"/>
            <p:cNvSpPr/>
            <p:nvPr/>
          </p:nvSpPr>
          <p:spPr>
            <a:xfrm rot="7220400">
              <a:off x="7025400" y="245844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0" name="Straight Arrow Connector 20"/>
            <p:cNvCxnSpPr>
              <a:stCxn id="429" idx="2"/>
            </p:cNvCxnSpPr>
            <p:nvPr/>
          </p:nvCxnSpPr>
          <p:spPr>
            <a:xfrm flipV="1">
              <a:off x="7327800" y="219852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31" name="Text Box 3"/>
          <p:cNvSpPr/>
          <p:nvPr/>
        </p:nvSpPr>
        <p:spPr>
          <a:xfrm>
            <a:off x="3379680" y="1665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550880" y="979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550880" y="1665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550880" y="2351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5208480" y="979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5208480" y="1665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2"/>
          <p:cNvSpPr/>
          <p:nvPr/>
        </p:nvSpPr>
        <p:spPr>
          <a:xfrm>
            <a:off x="6122880" y="979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3"/>
          <p:cNvSpPr/>
          <p:nvPr/>
        </p:nvSpPr>
        <p:spPr>
          <a:xfrm>
            <a:off x="6122880" y="1665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4"/>
          <p:cNvSpPr/>
          <p:nvPr/>
        </p:nvSpPr>
        <p:spPr>
          <a:xfrm>
            <a:off x="6122880" y="2351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1"/>
          <p:cNvSpPr/>
          <p:nvPr/>
        </p:nvSpPr>
        <p:spPr>
          <a:xfrm>
            <a:off x="326880" y="237960"/>
            <a:ext cx="857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ivial 2-query quantum algorithm for Forrela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1"/>
          <p:cNvSpPr/>
          <p:nvPr/>
        </p:nvSpPr>
        <p:spPr>
          <a:xfrm>
            <a:off x="2203560" y="2928960"/>
            <a:ext cx="6694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Can even improve to 1 query using standard tric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1"/>
          <p:cNvSpPr/>
          <p:nvPr/>
        </p:nvSpPr>
        <p:spPr>
          <a:xfrm>
            <a:off x="352440" y="3549600"/>
            <a:ext cx="857088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mbainis 201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y contrast, any classical randomized algorithm to solve Forrelation needs at lea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 / logN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is separation is optimal: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problem solvable with k quantum queries, is also solvable with ~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randomized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1"/>
          <p:cNvSpPr/>
          <p:nvPr/>
        </p:nvSpPr>
        <p:spPr>
          <a:xfrm>
            <a:off x="352440" y="5861160"/>
            <a:ext cx="8570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Our Conjectur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above is tight for all k.  A generalization of Forrelation involving k Boolean functions achieves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1"/>
          <p:cNvSpPr/>
          <p:nvPr/>
        </p:nvSpPr>
        <p:spPr>
          <a:xfrm>
            <a:off x="404640" y="57913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ingle most important application of QC (in my opinion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Disproving the people who said QC was impossibl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376200" y="990720"/>
            <a:ext cx="838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onential quantum speedups depend o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 example, abelian group structure, glued-trees structure,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forrelational structure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412920" y="34290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fter 20 years of quantum algorithms research, we know a lot about which kinds of structure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1"/>
          <p:cNvSpPr/>
          <p:nvPr/>
        </p:nvSpPr>
        <p:spPr>
          <a:xfrm>
            <a:off x="393840" y="4321080"/>
            <a:ext cx="855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ck-box model lets us make formal statements about what kinds of structur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n’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ffice for exponential speed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41"/>
          <p:cNvSpPr/>
          <p:nvPr/>
        </p:nvSpPr>
        <p:spPr>
          <a:xfrm>
            <a:off x="1038240" y="5195880"/>
            <a:ext cx="775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In both cases, of course, many open problems re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1"/>
          <p:cNvSpPr/>
          <p:nvPr/>
        </p:nvSpPr>
        <p:spPr>
          <a:xfrm>
            <a:off x="371520" y="236844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ometim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e can even find such structure in real, non-black-box problems of practical interest </a:t>
            </a:r>
            <a:r>
              <a:rPr b="1" lang="en-US" sz="2300" spc="-1" strike="noStrike">
                <a:solidFill>
                  <a:srgbClr val="00b050"/>
                </a:solidFill>
                <a:latin typeface="Calibri"/>
                <a:ea typeface="Arial"/>
              </a:rPr>
              <a:t>(e.g., factor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84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The Parallelism Fall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393840" y="1371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ueling the belief that countless more quantum algorithms should exist (or that are not finding them is a failure), seems to be the idea that a quantum computer could just “try every possible answer in parallel”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(modulo some technical det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93840" y="31240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we’ve understood since the early 90s that that’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how quantum algorithms work!  You need to choreograph an interference pattern, where the unwanted paths canc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93840" y="449568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iracle, I’d say, is that this trick yields a speedup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lassical problems, not that it doesn’t work for more of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1.bp.blogspot.com/-Nr3olYhHK7U/T6BO_FJE4sI/AAAAAAAAAyw/llSvKaQnW2s/s1600/ist2_5342490-glass-is-half-full.jpg"/>
          <p:cNvPicPr/>
          <p:nvPr/>
        </p:nvPicPr>
        <p:blipFill>
          <a:blip r:embed="rId1"/>
          <a:stretch/>
        </p:blipFill>
        <p:spPr>
          <a:xfrm>
            <a:off x="7404120" y="4361040"/>
            <a:ext cx="1587600" cy="2209680"/>
          </a:xfrm>
          <a:prstGeom prst="rect">
            <a:avLst/>
          </a:prstGeom>
          <a:ln w="0">
            <a:noFill/>
          </a:ln>
        </p:spPr>
      </p:pic>
      <p:sp>
        <p:nvSpPr>
          <p:cNvPr id="192" name="Title 1"/>
          <p:cNvSpPr/>
          <p:nvPr/>
        </p:nvSpPr>
        <p:spPr>
          <a:xfrm>
            <a:off x="317520" y="5867280"/>
            <a:ext cx="7086600" cy="68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Underappreciated challenge of quantum algorithms research: beating 60 years of classical algorithms resea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5"/>
          <p:cNvSpPr/>
          <p:nvPr/>
        </p:nvSpPr>
        <p:spPr>
          <a:xfrm>
            <a:off x="1901880" y="2930400"/>
            <a:ext cx="2286000" cy="358164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2680" y="152280"/>
            <a:ext cx="8766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 Inconvenient Tru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228600" y="1295280"/>
            <a:ext cx="874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we set asid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, there just aren’t that many compelling candidates left for exponential quantum speedups!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And for many of those, we </a:t>
            </a:r>
            <a:r>
              <a:rPr b="1" i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do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 have exponential speedups, and for many of the rest we have polynomial o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"/>
          <p:cNvSpPr/>
          <p:nvPr/>
        </p:nvSpPr>
        <p:spPr>
          <a:xfrm>
            <a:off x="2328840" y="5641920"/>
            <a:ext cx="1447920" cy="762120"/>
          </a:xfrm>
          <a:prstGeom prst="ellipse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843280" y="5718240"/>
            <a:ext cx="41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2600280" y="412740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2"/>
          <p:cNvSpPr/>
          <p:nvPr/>
        </p:nvSpPr>
        <p:spPr>
          <a:xfrm flipV="1">
            <a:off x="297000" y="2015640"/>
            <a:ext cx="5541840" cy="1828800"/>
          </a:xfrm>
          <a:custGeom>
            <a:avLst/>
            <a:gdLst/>
            <a:ahLst/>
            <a:rect l="l" t="t" r="r" b="b"/>
            <a:pathLst>
              <a:path stroke="0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  <a:lnTo>
                  <a:pt x="2770981" y="914400"/>
                </a:lnTo>
                <a:lnTo>
                  <a:pt x="3352" y="869439"/>
                </a:lnTo>
                <a:close/>
              </a:path>
              <a:path fill="none" w="5541962" h="1828800">
                <a:moveTo>
                  <a:pt x="3352" y="869439"/>
                </a:moveTo>
                <a:cubicBezTo>
                  <a:pt x="76137" y="381550"/>
                  <a:pt x="1298133" y="-1306"/>
                  <a:pt x="2778408" y="3"/>
                </a:cubicBezTo>
                <a:cubicBezTo>
                  <a:pt x="4305874" y="1354"/>
                  <a:pt x="5541962" y="410347"/>
                  <a:pt x="5541962" y="914400"/>
                </a:cubicBezTo>
              </a:path>
            </a:pathLst>
          </a:custGeom>
          <a:solidFill>
            <a:srgbClr val="92d05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2054160" y="3268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3781440" y="287640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1368360" y="4721400"/>
            <a:ext cx="3441600" cy="1790640"/>
          </a:xfrm>
          <a:prstGeom prst="ellipse">
            <a:avLst/>
          </a:prstGeom>
          <a:solidFill>
            <a:srgbClr val="ff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2278080" y="48816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br>
              <a:rPr sz="2600"/>
            </a:br>
            <a:r>
              <a:rPr b="1" lang="en-US" sz="2000" spc="-1" strike="noStrike">
                <a:solidFill>
                  <a:srgbClr val="7030a0"/>
                </a:solidFill>
                <a:latin typeface="Calibri"/>
                <a:ea typeface="Arial"/>
              </a:rPr>
              <a:t>(Quantum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 rot="18583200">
            <a:off x="1779120" y="500508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 rot="18913200">
            <a:off x="1779480" y="4036680"/>
            <a:ext cx="1170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aph 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 rot="18583200">
            <a:off x="3755880" y="5658120"/>
            <a:ext cx="117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Quantum 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2459160" y="3000240"/>
            <a:ext cx="11714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 rot="2403000">
            <a:off x="3192480" y="4127400"/>
            <a:ext cx="117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atti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5638680" y="3735360"/>
            <a:ext cx="3200400" cy="242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≠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lausible conjectures, which we have no hope of proving given the current state of complexity theo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st of the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366840" y="1752480"/>
            <a:ext cx="8150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marL="497160" indent="-4971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rvey of the main families of quantum algorithms that have been discovered (and their limitation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7160" indent="-497160"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ul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lack-box mod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ich aim toward a general theory of when quantum speedup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223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Quantum Simulation</a:t>
            </a:r>
            <a:br>
              <a:rPr sz="4400"/>
            </a:b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“What a QC does in its sleep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384120" y="14842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“original” application of QC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http://www.aps.org/meetings/march/vpr/2012/imagegallery/images/27Kumar2012.jpg"/>
          <p:cNvPicPr/>
          <p:nvPr/>
        </p:nvPicPr>
        <p:blipFill>
          <a:blip r:embed="rId1"/>
          <a:stretch/>
        </p:blipFill>
        <p:spPr>
          <a:xfrm>
            <a:off x="5356080" y="1461960"/>
            <a:ext cx="3486240" cy="2041560"/>
          </a:xfrm>
          <a:prstGeom prst="rect">
            <a:avLst/>
          </a:prstGeom>
          <a:ln w="0">
            <a:noFill/>
          </a:ln>
        </p:spPr>
      </p:pic>
      <p:sp>
        <p:nvSpPr>
          <p:cNvPr id="215" name="Title 1"/>
          <p:cNvSpPr/>
          <p:nvPr/>
        </p:nvSpPr>
        <p:spPr>
          <a:xfrm>
            <a:off x="384120" y="24796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y personal view: still the most importan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C:\Users\aaronson\AppData\Local\Microsoft\Windows\Temporary Internet Files\Content.IE5\VQM58UMI\MC900432530[1].png"/>
          <p:cNvPicPr/>
          <p:nvPr/>
        </p:nvPicPr>
        <p:blipFill>
          <a:blip r:embed="rId2"/>
          <a:stretch/>
        </p:blipFill>
        <p:spPr>
          <a:xfrm>
            <a:off x="395280" y="385128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17" name="Title 1"/>
          <p:cNvSpPr/>
          <p:nvPr/>
        </p:nvSpPr>
        <p:spPr>
          <a:xfrm>
            <a:off x="1055520" y="3747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Major applications (high-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erconductivity, protein folding, nanofabrication, photovoltaic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C:\Users\aaronson\AppData\Local\Microsoft\Windows\Temporary Internet Files\Content.IE5\VQM58UMI\MC900432530[1].png"/>
          <p:cNvPicPr/>
          <p:nvPr/>
        </p:nvPicPr>
        <p:blipFill>
          <a:blip r:embed="rId3"/>
          <a:stretch/>
        </p:blipFill>
        <p:spPr>
          <a:xfrm>
            <a:off x="395280" y="4842000"/>
            <a:ext cx="557280" cy="480960"/>
          </a:xfrm>
          <a:prstGeom prst="rect">
            <a:avLst/>
          </a:prstGeom>
          <a:ln w="0">
            <a:noFill/>
          </a:ln>
        </p:spPr>
      </p:pic>
      <p:sp>
        <p:nvSpPr>
          <p:cNvPr id="219" name="Title 1"/>
          <p:cNvSpPr/>
          <p:nvPr/>
        </p:nvSpPr>
        <p:spPr>
          <a:xfrm>
            <a:off x="1055520" y="47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igh confidence in possibility of a quantum speed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aaronson\AppData\Local\Microsoft\Windows\Temporary Internet Files\Content.IE5\VQM58UMI\MC900432530[1].png"/>
          <p:cNvPicPr/>
          <p:nvPr/>
        </p:nvPicPr>
        <p:blipFill>
          <a:blip r:embed="rId4"/>
          <a:stretch/>
        </p:blipFill>
        <p:spPr>
          <a:xfrm>
            <a:off x="399960" y="5805360"/>
            <a:ext cx="557280" cy="481320"/>
          </a:xfrm>
          <a:prstGeom prst="rect">
            <a:avLst/>
          </a:prstGeom>
          <a:ln w="0">
            <a:noFill/>
          </a:ln>
        </p:spPr>
      </p:pic>
      <p:sp>
        <p:nvSpPr>
          <p:cNvPr id="221" name="Title 1"/>
          <p:cNvSpPr/>
          <p:nvPr/>
        </p:nvSpPr>
        <p:spPr>
          <a:xfrm>
            <a:off x="1069920" y="57038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an plausibly realize even before universal QCs are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1040" y="91440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w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ju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nt a quantum system for which there’s good complexity-theoretic evidence that it’s hard to simulate classically—we don’t care what it’s useful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18720"/>
            <a:ext cx="88394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BosonSampling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95200" y="4038480"/>
            <a:ext cx="2509920" cy="2264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ttp://www.photonics.com/images2/Spectra/Features/2013/06/Quantum_Figure4.jpg"/>
          <p:cNvPicPr/>
          <p:nvPr/>
        </p:nvPicPr>
        <p:blipFill>
          <a:blip r:embed="rId2"/>
          <a:stretch/>
        </p:blipFill>
        <p:spPr>
          <a:xfrm>
            <a:off x="6019920" y="4030560"/>
            <a:ext cx="2957400" cy="198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2"/>
          <p:cNvSpPr/>
          <p:nvPr/>
        </p:nvSpPr>
        <p:spPr>
          <a:xfrm>
            <a:off x="152280" y="6902280"/>
            <a:ext cx="85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We showed that a fast, exact classical simulation would collapse the polynomial hierarchy to the third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962440" y="3965400"/>
            <a:ext cx="2895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Our proposal: Identical single photons sent through network of interferometers, then measured at output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11040" y="2225520"/>
            <a:ext cx="8458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.-Arkhipov 2011, Bremner-Jozsa-Shepherd 2011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n that case, we can plausibly improve both the hardware requirement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evidence for classical hardness, compared to Shor’s factoring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itle 1"/>
          <p:cNvSpPr/>
          <p:nvPr/>
        </p:nvSpPr>
        <p:spPr>
          <a:xfrm>
            <a:off x="533520" y="2735280"/>
            <a:ext cx="426708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showed: if a fast, classical exact simulation of BosonSampling is possible, then the polynomial hierarchy collapses to the thir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5181480" y="2776680"/>
            <a:ext cx="373392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xperimental demonstrations with 3-4 photons achieved (by groups in Oxford, Brisbane, Rome, Vien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889360" y="1270080"/>
            <a:ext cx="274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gic of the Fourier transfor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0680" y="178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hor-like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4870440" y="1066680"/>
            <a:ext cx="4255920" cy="2684520"/>
            <a:chOff x="4870440" y="1066680"/>
            <a:chExt cx="4255920" cy="2684520"/>
          </a:xfrm>
        </p:grpSpPr>
        <p:pic>
          <p:nvPicPr>
            <p:cNvPr id="234" name="Picture 14" descr="spy"/>
            <p:cNvPicPr/>
            <p:nvPr/>
          </p:nvPicPr>
          <p:blipFill>
            <a:blip r:embed="rId1"/>
            <a:srcRect l="1304" t="25263" r="50878" b="20210"/>
            <a:stretch/>
          </p:blipFill>
          <p:spPr>
            <a:xfrm>
              <a:off x="7743600" y="17157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15"/>
            <p:cNvSpPr/>
            <p:nvPr/>
          </p:nvSpPr>
          <p:spPr>
            <a:xfrm>
              <a:off x="4870440" y="10666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2"/>
          <p:cNvSpPr/>
          <p:nvPr/>
        </p:nvSpPr>
        <p:spPr>
          <a:xfrm>
            <a:off x="304920" y="2514600"/>
            <a:ext cx="73627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Pretty much anything you can think of that reduces to finding hidden structure in abelian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Factoring, discrete log, elliptic curve problems, Pell’s equation, unit groups, class groups, Simon’s proble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920" y="4343400"/>
            <a:ext cx="81309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reaks almost all public-key cryptosystems used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ut theoretical public-key systems exist that are unaff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upload.wikimedia.org/wikibooks/en/8/83/DFT_vis.jpg"/>
          <p:cNvPicPr/>
          <p:nvPr/>
        </p:nvPicPr>
        <p:blipFill>
          <a:blip r:embed="rId2"/>
          <a:stretch/>
        </p:blipFill>
        <p:spPr>
          <a:xfrm>
            <a:off x="457200" y="941400"/>
            <a:ext cx="2195640" cy="1422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4920" y="5638680"/>
            <a:ext cx="81309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tempt to go further: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Hidden Subgroup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Can Shor’s algorithm be generalized to nonabelian group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4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Hidden Subgroup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866880"/>
            <a:ext cx="85341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Give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 finite group G, a function f:G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Z such that f(x)=f(y) iff x,y belong to the same coset of a “hidden subgroup” H≤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ind generators for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2530440" y="3668760"/>
            <a:ext cx="60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But if G is nonabelian, “interpreting the results” of those queries could still be extremely har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251604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lassically, this problem could require                 queries to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7800" y="316080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ttinger-Høyer-Knill 1997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Quantumly,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|G|) queries always su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"/>
              <p:cNvSpPr txBox="1"/>
              <p:nvPr/>
            </p:nvSpPr>
            <p:spPr>
              <a:xfrm>
                <a:off x="5486400" y="2359080"/>
                <a:ext cx="1108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6" name="Group 1"/>
          <p:cNvGrpSpPr/>
          <p:nvPr/>
        </p:nvGrpSpPr>
        <p:grpSpPr>
          <a:xfrm>
            <a:off x="4280040" y="4714920"/>
            <a:ext cx="3962160" cy="1219320"/>
            <a:chOff x="4280040" y="4714920"/>
            <a:chExt cx="3962160" cy="1219320"/>
          </a:xfrm>
        </p:grpSpPr>
        <p:grpSp>
          <p:nvGrpSpPr>
            <p:cNvPr id="247" name="Group 15"/>
            <p:cNvGrpSpPr/>
            <p:nvPr/>
          </p:nvGrpSpPr>
          <p:grpSpPr>
            <a:xfrm>
              <a:off x="4280040" y="4714920"/>
              <a:ext cx="1371600" cy="1219320"/>
              <a:chOff x="4280040" y="4714920"/>
              <a:chExt cx="1371600" cy="1219320"/>
            </a:xfrm>
          </p:grpSpPr>
          <p:sp>
            <p:nvSpPr>
              <p:cNvPr id="248" name="Line 16"/>
              <p:cNvSpPr/>
              <p:nvPr/>
            </p:nvSpPr>
            <p:spPr>
              <a:xfrm>
                <a:off x="4356000" y="47912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7"/>
              <p:cNvSpPr/>
              <p:nvPr/>
            </p:nvSpPr>
            <p:spPr>
              <a:xfrm flipH="1">
                <a:off x="4356000" y="479124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 flipH="1">
                <a:off x="4965480" y="479124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>
                <a:off x="4965840" y="4791240"/>
                <a:ext cx="60948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20"/>
              <p:cNvSpPr/>
              <p:nvPr/>
            </p:nvSpPr>
            <p:spPr>
              <a:xfrm>
                <a:off x="4356000" y="4791240"/>
                <a:ext cx="6098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1"/>
              <p:cNvSpPr/>
              <p:nvPr/>
            </p:nvSpPr>
            <p:spPr>
              <a:xfrm flipH="1">
                <a:off x="4965480" y="4791240"/>
                <a:ext cx="60948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2"/>
              <p:cNvSpPr/>
              <p:nvPr/>
            </p:nvSpPr>
            <p:spPr>
              <a:xfrm>
                <a:off x="4965840" y="5324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23"/>
              <p:cNvSpPr/>
              <p:nvPr/>
            </p:nvSpPr>
            <p:spPr>
              <a:xfrm flipH="1">
                <a:off x="4965480" y="5324760"/>
                <a:ext cx="60948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4"/>
              <p:cNvSpPr/>
              <p:nvPr/>
            </p:nvSpPr>
            <p:spPr>
              <a:xfrm>
                <a:off x="4356000" y="5324760"/>
                <a:ext cx="60984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5"/>
              <p:cNvSpPr/>
              <p:nvPr/>
            </p:nvSpPr>
            <p:spPr>
              <a:xfrm>
                <a:off x="4280040" y="52484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6"/>
              <p:cNvSpPr/>
              <p:nvPr/>
            </p:nvSpPr>
            <p:spPr>
              <a:xfrm>
                <a:off x="4889520" y="52484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7"/>
              <p:cNvSpPr/>
              <p:nvPr/>
            </p:nvSpPr>
            <p:spPr>
              <a:xfrm>
                <a:off x="488952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8"/>
              <p:cNvSpPr/>
              <p:nvPr/>
            </p:nvSpPr>
            <p:spPr>
              <a:xfrm>
                <a:off x="5499000" y="471492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9"/>
              <p:cNvSpPr/>
              <p:nvPr/>
            </p:nvSpPr>
            <p:spPr>
              <a:xfrm>
                <a:off x="5499000" y="524844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30"/>
              <p:cNvSpPr/>
              <p:nvPr/>
            </p:nvSpPr>
            <p:spPr>
              <a:xfrm>
                <a:off x="4889520" y="578196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31"/>
              <p:cNvSpPr/>
              <p:nvPr/>
            </p:nvSpPr>
            <p:spPr>
              <a:xfrm>
                <a:off x="428004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2"/>
            <p:cNvGrpSpPr/>
            <p:nvPr/>
          </p:nvGrpSpPr>
          <p:grpSpPr>
            <a:xfrm>
              <a:off x="6794640" y="4714920"/>
              <a:ext cx="1447560" cy="1143000"/>
              <a:chOff x="6794640" y="4714920"/>
              <a:chExt cx="1447560" cy="1143000"/>
            </a:xfrm>
          </p:grpSpPr>
          <p:sp>
            <p:nvSpPr>
              <p:cNvPr id="265" name="Line 33"/>
              <p:cNvSpPr/>
              <p:nvPr/>
            </p:nvSpPr>
            <p:spPr>
              <a:xfrm flipH="1">
                <a:off x="7327800" y="479124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 flipH="1">
                <a:off x="7251840" y="5248440"/>
                <a:ext cx="30456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35"/>
              <p:cNvSpPr/>
              <p:nvPr/>
            </p:nvSpPr>
            <p:spPr>
              <a:xfrm flipH="1">
                <a:off x="6870240" y="4791240"/>
                <a:ext cx="38124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36"/>
              <p:cNvSpPr/>
              <p:nvPr/>
            </p:nvSpPr>
            <p:spPr>
              <a:xfrm>
                <a:off x="7861320" y="479124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7"/>
              <p:cNvSpPr/>
              <p:nvPr/>
            </p:nvSpPr>
            <p:spPr>
              <a:xfrm>
                <a:off x="7556400" y="524844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8"/>
              <p:cNvSpPr/>
              <p:nvPr/>
            </p:nvSpPr>
            <p:spPr>
              <a:xfrm>
                <a:off x="7251840" y="4791240"/>
                <a:ext cx="30456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9"/>
              <p:cNvSpPr/>
              <p:nvPr/>
            </p:nvSpPr>
            <p:spPr>
              <a:xfrm flipH="1" flipV="1">
                <a:off x="7556040" y="524844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40"/>
              <p:cNvSpPr/>
              <p:nvPr/>
            </p:nvSpPr>
            <p:spPr>
              <a:xfrm flipH="1">
                <a:off x="7860960" y="5248440"/>
                <a:ext cx="3049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1"/>
              <p:cNvSpPr/>
              <p:nvPr/>
            </p:nvSpPr>
            <p:spPr>
              <a:xfrm>
                <a:off x="6870600" y="5248440"/>
                <a:ext cx="38124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42"/>
              <p:cNvSpPr/>
              <p:nvPr/>
            </p:nvSpPr>
            <p:spPr>
              <a:xfrm>
                <a:off x="748044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43"/>
              <p:cNvSpPr/>
              <p:nvPr/>
            </p:nvSpPr>
            <p:spPr>
              <a:xfrm>
                <a:off x="7175520" y="570564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44"/>
              <p:cNvSpPr/>
              <p:nvPr/>
            </p:nvSpPr>
            <p:spPr>
              <a:xfrm>
                <a:off x="679464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45"/>
              <p:cNvSpPr/>
              <p:nvPr/>
            </p:nvSpPr>
            <p:spPr>
              <a:xfrm>
                <a:off x="7175520" y="4714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46"/>
              <p:cNvSpPr/>
              <p:nvPr/>
            </p:nvSpPr>
            <p:spPr>
              <a:xfrm>
                <a:off x="7785000" y="471492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47"/>
              <p:cNvSpPr/>
              <p:nvPr/>
            </p:nvSpPr>
            <p:spPr>
              <a:xfrm>
                <a:off x="7785000" y="570564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8"/>
              <p:cNvSpPr/>
              <p:nvPr/>
            </p:nvSpPr>
            <p:spPr>
              <a:xfrm>
                <a:off x="8089920" y="51721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49"/>
            <p:cNvSpPr/>
            <p:nvPr/>
          </p:nvSpPr>
          <p:spPr>
            <a:xfrm>
              <a:off x="5956200" y="479088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2"/>
          <p:cNvSpPr/>
          <p:nvPr/>
        </p:nvSpPr>
        <p:spPr>
          <a:xfrm>
            <a:off x="393840" y="4595760"/>
            <a:ext cx="37209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Example Applic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Graph Isomorphism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HSP over the symmetric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itle 1"/>
          <p:cNvSpPr/>
          <p:nvPr/>
        </p:nvSpPr>
        <p:spPr>
          <a:xfrm>
            <a:off x="304920" y="6080040"/>
            <a:ext cx="8458200" cy="52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las, nonabelian HSP has been the Afghanistan of quantum algorith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4-10-15T00:21:35Z</dcterms:modified>
  <cp:revision>274</cp:revision>
  <dc:subject/>
  <dc:title>The Future of Computer Science</dc:title>
</cp:coreProperties>
</file>