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423D-929F-4B55-925A-3B74E3324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A077-8C60-49E6-B599-5BD16EBCF53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ZOOM THRU  ZOOM THRU   Thanks so much for inviting me!  When I typed “quantum computer” into Google Image Search, that’s the first picture that came up.  That’s apparently what they look like.  (I should warn you that I’m a theorist rather than an engineer.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6D2C-F21A-4C8A-B0F3-79473FE99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8494-B814-4E7B-B451-A81A41C88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41F3-36D1-40E3-BA40-FCE1E552FE0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BCA3-E17B-4856-ADAF-EBD002DCD52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8EE6-44D1-444A-8526-586BF6D7C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2F23-9DFA-4259-8857-71E9EB414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642E-636A-4B6A-8B24-D0F154B55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F0EE-9392-4CBD-81F9-98ADA15C1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9516-4AD3-4707-A4AC-841428ACA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E2E8-DF3D-4496-9630-4A35892A0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8C2C-BA5B-4FA4-8DAE-E6807F36C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DF5D-0BF2-4108-9D69-D994A19B7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E467-EAC9-4691-BC88-DE19AAE9C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1DA6-D851-4011-9988-A6B864D9D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1A5B-A45D-44CA-AB3A-1FABE917A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B152-090B-4E8B-BC0E-788B44221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81F9-64E5-40BD-9643-707FEA0EB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971F-9EEF-4793-A4BE-B332F3E0F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0E14-2262-477C-85AD-3F45CC123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0971-AB93-4023-9638-ED69DFD4A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2908-E6FC-443D-A7EE-B7A8F5DB0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8DF4-CECA-4E75-ACB3-D41679F908C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2883-2DD3-435C-8291-00DFA6769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31E1-D5BA-4552-B7D6-E545284E7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A50-C26D-4932-9127-93F8CC3D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41A4-5BC6-40E1-BA02-CB2C688F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671-5FD6-4CEB-B183-97B55F93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70E-67E3-4769-956F-6913570F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DF70-993D-4CC0-8CE8-99BF7029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FBA1-EFA2-4329-B7C5-EBB04E80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6E86-BD8A-4FC2-ABAF-A66F03D5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6DE3-04D2-4E58-835B-D7517420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95E7-71BC-4746-860A-449D014E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E7C4-0D8A-47E4-A9CC-FCB3160A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803F-09EC-4F72-AF67-3E3EC32D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C0B-6F53-4C6D-8094-9FE48AD6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DA84-5CBE-4EED-BB88-CCF05BFB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018D-5D67-4077-BCDD-600E1225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8D09-0FD9-4116-B9E6-2C3224A4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0CAB-18E4-4EEB-B204-767641BF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5950-E9A3-4738-9C08-FAA35E9D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4BBE-CD4B-470D-8D10-98F96DD8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FF38-D41F-470F-A5C8-0A3840F3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155D9-05CF-409B-8B3C-36593B30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91621-B201-4788-A7E8-EAB8F001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418E4-78B1-44FC-B8EB-20A0057C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211-C781-4BF8-813D-D40B45AE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0CE2-754D-4B7D-92C0-099482FD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762F-1BB4-468A-83B7-76568CC9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ED10B-0C48-472B-ACDE-522A0C63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0CA34-8906-464F-A767-3C362ED3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611F-F0EE-4FC2-8754-A64E7F9A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50F01-C1DC-4911-A325-BEC171AC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6569-55CD-401A-AC02-7EF169A5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9A874-0901-4BF3-8867-3CC31827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390CA-BBDF-420B-A4FF-D813E521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BB753-EB08-454B-B23F-AF2DAA20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729-8D04-48C2-AADF-48877F3D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650E3-A277-47A5-BB09-6CAB1F45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48228-6324-439C-B704-034781C2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3AE24-DF6A-4520-8D0A-BFEC47C3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FCFE7-01A2-4240-9672-EE988925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84354-6222-4D81-968D-3DEC7FB5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D7A01-36C2-44BF-9E28-131D8308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865F4-36BB-4779-826D-EAA0AFC1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ABB4D-1EA0-4B18-BF79-390E3203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42657-4EAE-475C-9DA6-C3A5427E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C58-EC99-4BE4-8001-D15C2E7D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8BD-56A8-4E19-91CC-977D2F96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453-B1A6-4F50-87A6-5F5208FA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570-4DD7-4286-B310-914D4A27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774-3083-4D7F-9385-15EB98A5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088E-E754-4D6F-BA3D-D6372917D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6940-C26B-48BE-86C8-C33F79EDF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2967-82D0-4BFD-BE0A-FD7507773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A7F0-808E-4FB9-B3AA-FD8088C0D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When Exactly Do Quantum Computers Provide A Speedup?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666880" y="5409720"/>
            <a:ext cx="4657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343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Grover-like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457200" y="5181480"/>
            <a:ext cx="829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  <a:ea typeface="Arial"/>
              </a:rPr>
              <a:t>Bennett et al. 1997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or black-box searching, the square-root speedup of Grover’s algorithm is the best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8"/>
          <p:cNvGrpSpPr/>
          <p:nvPr/>
        </p:nvGrpSpPr>
        <p:grpSpPr>
          <a:xfrm>
            <a:off x="517680" y="4481640"/>
            <a:ext cx="8229600" cy="304560"/>
            <a:chOff x="517680" y="4481640"/>
            <a:chExt cx="8229600" cy="304560"/>
          </a:xfrm>
        </p:grpSpPr>
        <p:sp>
          <p:nvSpPr>
            <p:cNvPr id="287" name="Rectangle 11"/>
            <p:cNvSpPr/>
            <p:nvPr/>
          </p:nvSpPr>
          <p:spPr>
            <a:xfrm>
              <a:off x="5176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2"/>
            <p:cNvSpPr/>
            <p:nvPr/>
          </p:nvSpPr>
          <p:spPr>
            <a:xfrm>
              <a:off x="8222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3"/>
            <p:cNvSpPr/>
            <p:nvPr/>
          </p:nvSpPr>
          <p:spPr>
            <a:xfrm>
              <a:off x="11271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14320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17366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6"/>
            <p:cNvSpPr/>
            <p:nvPr/>
          </p:nvSpPr>
          <p:spPr>
            <a:xfrm>
              <a:off x="20415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"/>
            <p:cNvSpPr/>
            <p:nvPr/>
          </p:nvSpPr>
          <p:spPr>
            <a:xfrm>
              <a:off x="23464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8"/>
            <p:cNvSpPr/>
            <p:nvPr/>
          </p:nvSpPr>
          <p:spPr>
            <a:xfrm>
              <a:off x="26510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9"/>
            <p:cNvSpPr/>
            <p:nvPr/>
          </p:nvSpPr>
          <p:spPr>
            <a:xfrm>
              <a:off x="29559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0"/>
            <p:cNvSpPr/>
            <p:nvPr/>
          </p:nvSpPr>
          <p:spPr>
            <a:xfrm>
              <a:off x="32608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21"/>
            <p:cNvSpPr/>
            <p:nvPr/>
          </p:nvSpPr>
          <p:spPr>
            <a:xfrm>
              <a:off x="3565440" y="4481640"/>
              <a:ext cx="30492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2"/>
            <p:cNvSpPr/>
            <p:nvPr/>
          </p:nvSpPr>
          <p:spPr>
            <a:xfrm>
              <a:off x="38703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3"/>
            <p:cNvSpPr/>
            <p:nvPr/>
          </p:nvSpPr>
          <p:spPr>
            <a:xfrm>
              <a:off x="41752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4"/>
            <p:cNvSpPr/>
            <p:nvPr/>
          </p:nvSpPr>
          <p:spPr>
            <a:xfrm>
              <a:off x="44798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5"/>
            <p:cNvSpPr/>
            <p:nvPr/>
          </p:nvSpPr>
          <p:spPr>
            <a:xfrm>
              <a:off x="47847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50896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7"/>
            <p:cNvSpPr/>
            <p:nvPr/>
          </p:nvSpPr>
          <p:spPr>
            <a:xfrm>
              <a:off x="53942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8"/>
            <p:cNvSpPr/>
            <p:nvPr/>
          </p:nvSpPr>
          <p:spPr>
            <a:xfrm>
              <a:off x="56991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9"/>
            <p:cNvSpPr/>
            <p:nvPr/>
          </p:nvSpPr>
          <p:spPr>
            <a:xfrm>
              <a:off x="60040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30"/>
            <p:cNvSpPr/>
            <p:nvPr/>
          </p:nvSpPr>
          <p:spPr>
            <a:xfrm>
              <a:off x="63086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1"/>
            <p:cNvSpPr/>
            <p:nvPr/>
          </p:nvSpPr>
          <p:spPr>
            <a:xfrm>
              <a:off x="66135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2"/>
            <p:cNvSpPr/>
            <p:nvPr/>
          </p:nvSpPr>
          <p:spPr>
            <a:xfrm>
              <a:off x="69184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3"/>
            <p:cNvSpPr/>
            <p:nvPr/>
          </p:nvSpPr>
          <p:spPr>
            <a:xfrm>
              <a:off x="72230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4"/>
            <p:cNvSpPr/>
            <p:nvPr/>
          </p:nvSpPr>
          <p:spPr>
            <a:xfrm>
              <a:off x="75279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5"/>
            <p:cNvSpPr/>
            <p:nvPr/>
          </p:nvSpPr>
          <p:spPr>
            <a:xfrm>
              <a:off x="78328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36"/>
            <p:cNvSpPr/>
            <p:nvPr/>
          </p:nvSpPr>
          <p:spPr>
            <a:xfrm>
              <a:off x="81374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7"/>
            <p:cNvSpPr/>
            <p:nvPr/>
          </p:nvSpPr>
          <p:spPr>
            <a:xfrm>
              <a:off x="84423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Picture 2" descr="http://upload.wikimedia.org/wikipedia/commons/thumb/1/16/Grovers_algorithm_geometry.png/310px-Grovers_algorithm_geometry.png"/>
          <p:cNvPicPr/>
          <p:nvPr/>
        </p:nvPicPr>
        <p:blipFill>
          <a:blip r:embed="rId1"/>
          <a:stretch/>
        </p:blipFill>
        <p:spPr>
          <a:xfrm>
            <a:off x="565200" y="1143000"/>
            <a:ext cx="2952720" cy="30672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9"/>
          <p:cNvSpPr/>
          <p:nvPr/>
        </p:nvSpPr>
        <p:spPr>
          <a:xfrm>
            <a:off x="3421080" y="1219320"/>
            <a:ext cx="557064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dratic speedup fo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problem involving searching an unordered list, provided the list elements can be queried in super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mplies subquadratic speedups for many other basic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9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Walk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2" descr="enter image description here"/>
          <p:cNvPicPr/>
          <p:nvPr/>
        </p:nvPicPr>
        <p:blipFill>
          <a:blip r:embed="rId1"/>
          <a:stretch/>
        </p:blipFill>
        <p:spPr>
          <a:xfrm>
            <a:off x="457200" y="2514600"/>
            <a:ext cx="5105520" cy="367344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"/>
          <p:cNvSpPr/>
          <p:nvPr/>
        </p:nvSpPr>
        <p:spPr>
          <a:xfrm>
            <a:off x="299880" y="1143000"/>
            <a:ext cx="8534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Childs et al. 2003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 walks can achieve provable exponential speedups over any classical algorithm (in query complexity), but for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xtreme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“fine-tuned”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itle 1"/>
          <p:cNvSpPr/>
          <p:nvPr/>
        </p:nvSpPr>
        <p:spPr>
          <a:xfrm>
            <a:off x="5867280" y="3657600"/>
            <a:ext cx="2987640" cy="264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lso lots of polynomial speedups—e.g., Element Distinctness in O(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tim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(Ambainis 200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295280" y="6188040"/>
            <a:ext cx="373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THE GLUED T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Calibri"/>
              </a:rPr>
              <a:t>Quantum Adiabatic Algorithm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Calibri"/>
              </a:rPr>
              <a:t>(Farhi et al. 2000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271520" y="128124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76320" y="243828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amiltonian with easily-prepared groun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6819840" y="135576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4038480" y="2438280"/>
            <a:ext cx="49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ound state encodes solution to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9"/>
          <p:cNvSpPr/>
          <p:nvPr/>
        </p:nvSpPr>
        <p:spPr>
          <a:xfrm>
            <a:off x="2286000" y="1371600"/>
            <a:ext cx="4572000" cy="8906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2880" h="561">
                <a:moveTo>
                  <a:pt x="0" y="302"/>
                </a:moveTo>
                <a:cubicBezTo>
                  <a:pt x="214" y="139"/>
                  <a:pt x="425" y="0"/>
                  <a:pt x="633" y="42"/>
                </a:cubicBezTo>
                <a:cubicBezTo>
                  <a:pt x="841" y="84"/>
                  <a:pt x="1008" y="545"/>
                  <a:pt x="1249" y="553"/>
                </a:cubicBezTo>
                <a:cubicBezTo>
                  <a:pt x="1490" y="561"/>
                  <a:pt x="1805" y="122"/>
                  <a:pt x="2077" y="91"/>
                </a:cubicBezTo>
                <a:cubicBezTo>
                  <a:pt x="2349" y="60"/>
                  <a:pt x="2616" y="201"/>
                  <a:pt x="2880" y="367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adiabatic.gif"/>
          <p:cNvPicPr/>
          <p:nvPr/>
        </p:nvPicPr>
        <p:blipFill>
          <a:blip r:embed="rId1"/>
          <a:stretch/>
        </p:blipFill>
        <p:spPr>
          <a:xfrm>
            <a:off x="4495680" y="3365640"/>
            <a:ext cx="4496040" cy="3492360"/>
          </a:xfrm>
          <a:prstGeom prst="rect">
            <a:avLst/>
          </a:prstGeom>
          <a:ln w="0">
            <a:noFill/>
          </a:ln>
        </p:spPr>
      </p:pic>
      <p:sp>
        <p:nvSpPr>
          <p:cNvPr id="328" name="Oval 9"/>
          <p:cNvSpPr/>
          <p:nvPr/>
        </p:nvSpPr>
        <p:spPr>
          <a:xfrm>
            <a:off x="8001000" y="4051440"/>
            <a:ext cx="457200" cy="457200"/>
          </a:xfrm>
          <a:prstGeom prst="ellipse">
            <a:avLst/>
          </a:prstGeom>
          <a:solidFill>
            <a:srgbClr val="ff3300">
              <a:alpha val="2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7848720" y="3906720"/>
            <a:ext cx="771480" cy="754200"/>
          </a:xfrm>
          <a:prstGeom prst="ellipse">
            <a:avLst/>
          </a:prstGeom>
          <a:solidFill>
            <a:srgbClr val="ff3300">
              <a:alpha val="2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696080" y="3763800"/>
            <a:ext cx="1105200" cy="1049400"/>
          </a:xfrm>
          <a:prstGeom prst="ellipse">
            <a:avLst/>
          </a:prstGeom>
          <a:solidFill>
            <a:srgbClr val="ff3300">
              <a:alpha val="2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http://info.speckdesign.com/Portals/211265/images/D-Wave%20One%20-%20Quantum%20Computer.jpg"/>
          <p:cNvPicPr/>
          <p:nvPr/>
        </p:nvPicPr>
        <p:blipFill>
          <a:blip r:embed="rId2"/>
          <a:stretch/>
        </p:blipFill>
        <p:spPr>
          <a:xfrm>
            <a:off x="533520" y="3906720"/>
            <a:ext cx="3165480" cy="22590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4336920" y="5334120"/>
            <a:ext cx="426744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“Eigenvalue gap” can be exponentially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Calibri"/>
              </a:rPr>
              <a:t>Landscapeolog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3282840" y="1295280"/>
            <a:ext cx="5562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diabatic algorithm can find global minimum exponentially faster than simulated annealing 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(though maybe other classical algorithms do bet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319560" y="3173400"/>
            <a:ext cx="5562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imulated annealing can find global minimum exponentially faster than adiabatic algorithm (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346560" y="4800600"/>
            <a:ext cx="5562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imulated annealing and adiabatic algorithm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bo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need exponential time to find global minim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1"/>
          <p:cNvGrpSpPr/>
          <p:nvPr/>
        </p:nvGrpSpPr>
        <p:grpSpPr>
          <a:xfrm>
            <a:off x="380880" y="1141560"/>
            <a:ext cx="2752920" cy="2070000"/>
            <a:chOff x="380880" y="1141560"/>
            <a:chExt cx="2752920" cy="2070000"/>
          </a:xfrm>
        </p:grpSpPr>
        <p:sp>
          <p:nvSpPr>
            <p:cNvPr id="338" name="Freeform 14"/>
            <p:cNvSpPr/>
            <p:nvPr/>
          </p:nvSpPr>
          <p:spPr>
            <a:xfrm>
              <a:off x="380880" y="1141560"/>
              <a:ext cx="2752920" cy="2070000"/>
            </a:xfrm>
            <a:custGeom>
              <a:avLst/>
              <a:gdLst/>
              <a:ahLst/>
              <a:rect l="l" t="t" r="r" b="b"/>
              <a:pathLst>
                <a:path w="2753248" h="2070022">
                  <a:moveTo>
                    <a:pt x="0" y="321848"/>
                  </a:moveTo>
                  <a:cubicBezTo>
                    <a:pt x="296426" y="700336"/>
                    <a:pt x="592852" y="1078824"/>
                    <a:pt x="783771" y="1025233"/>
                  </a:cubicBezTo>
                  <a:cubicBezTo>
                    <a:pt x="974690" y="971642"/>
                    <a:pt x="1065125" y="-19796"/>
                    <a:pt x="1145512" y="301"/>
                  </a:cubicBezTo>
                  <a:cubicBezTo>
                    <a:pt x="1225899" y="20398"/>
                    <a:pt x="1112017" y="804169"/>
                    <a:pt x="1266092" y="1145813"/>
                  </a:cubicBezTo>
                  <a:cubicBezTo>
                    <a:pt x="1420167" y="1487457"/>
                    <a:pt x="1822101" y="2197541"/>
                    <a:pt x="2069960" y="2050165"/>
                  </a:cubicBezTo>
                  <a:cubicBezTo>
                    <a:pt x="2317819" y="1902789"/>
                    <a:pt x="2535533" y="1082173"/>
                    <a:pt x="2753248" y="26155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7"/>
            <p:cNvSpPr/>
            <p:nvPr/>
          </p:nvSpPr>
          <p:spPr>
            <a:xfrm>
              <a:off x="444240" y="1371600"/>
              <a:ext cx="1936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2"/>
          <p:cNvGrpSpPr/>
          <p:nvPr/>
        </p:nvGrpSpPr>
        <p:grpSpPr>
          <a:xfrm>
            <a:off x="415800" y="3429000"/>
            <a:ext cx="2683080" cy="876240"/>
            <a:chOff x="415800" y="3429000"/>
            <a:chExt cx="2683080" cy="876240"/>
          </a:xfrm>
        </p:grpSpPr>
        <p:sp>
          <p:nvSpPr>
            <p:cNvPr id="341" name="Freeform 15"/>
            <p:cNvSpPr/>
            <p:nvPr/>
          </p:nvSpPr>
          <p:spPr>
            <a:xfrm>
              <a:off x="415800" y="3429000"/>
              <a:ext cx="2683080" cy="876240"/>
            </a:xfrm>
            <a:custGeom>
              <a:avLst/>
              <a:gdLst/>
              <a:ahLst/>
              <a:rect l="l" t="t" r="r" b="b"/>
              <a:pathLst>
                <a:path w="2682909" h="875583">
                  <a:moveTo>
                    <a:pt x="0" y="160774"/>
                  </a:moveTo>
                  <a:cubicBezTo>
                    <a:pt x="59453" y="336620"/>
                    <a:pt x="118906" y="512466"/>
                    <a:pt x="200967" y="512466"/>
                  </a:cubicBezTo>
                  <a:cubicBezTo>
                    <a:pt x="283028" y="512466"/>
                    <a:pt x="187569" y="212690"/>
                    <a:pt x="492369" y="160774"/>
                  </a:cubicBezTo>
                  <a:cubicBezTo>
                    <a:pt x="797169" y="108858"/>
                    <a:pt x="1716592" y="82061"/>
                    <a:pt x="2029766" y="200967"/>
                  </a:cubicBezTo>
                  <a:cubicBezTo>
                    <a:pt x="2342940" y="319873"/>
                    <a:pt x="2262554" y="907701"/>
                    <a:pt x="2371411" y="874207"/>
                  </a:cubicBezTo>
                  <a:cubicBezTo>
                    <a:pt x="2480268" y="840713"/>
                    <a:pt x="2582426" y="425380"/>
                    <a:pt x="268290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9"/>
            <p:cNvSpPr/>
            <p:nvPr/>
          </p:nvSpPr>
          <p:spPr>
            <a:xfrm>
              <a:off x="444240" y="3504960"/>
              <a:ext cx="1936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3"/>
          <p:cNvGrpSpPr/>
          <p:nvPr/>
        </p:nvGrpSpPr>
        <p:grpSpPr>
          <a:xfrm>
            <a:off x="371520" y="4606920"/>
            <a:ext cx="2663640" cy="1830240"/>
            <a:chOff x="371520" y="4606920"/>
            <a:chExt cx="2663640" cy="1830240"/>
          </a:xfrm>
        </p:grpSpPr>
        <p:sp>
          <p:nvSpPr>
            <p:cNvPr id="344" name="Freeform 16"/>
            <p:cNvSpPr/>
            <p:nvPr/>
          </p:nvSpPr>
          <p:spPr>
            <a:xfrm>
              <a:off x="371520" y="4647960"/>
              <a:ext cx="2663640" cy="1789200"/>
            </a:xfrm>
            <a:custGeom>
              <a:avLst/>
              <a:gdLst/>
              <a:ahLst/>
              <a:rect l="l" t="t" r="r" b="b"/>
              <a:pathLst>
                <a:path w="2662813" h="1788627">
                  <a:moveTo>
                    <a:pt x="0" y="0"/>
                  </a:moveTo>
                  <a:cubicBezTo>
                    <a:pt x="361740" y="626347"/>
                    <a:pt x="723481" y="1252694"/>
                    <a:pt x="1055077" y="1266092"/>
                  </a:cubicBezTo>
                  <a:cubicBezTo>
                    <a:pt x="1386673" y="1279490"/>
                    <a:pt x="1775209" y="-6699"/>
                    <a:pt x="1989574" y="80387"/>
                  </a:cubicBezTo>
                  <a:cubicBezTo>
                    <a:pt x="2203939" y="167473"/>
                    <a:pt x="2229060" y="1795306"/>
                    <a:pt x="2341266" y="1788607"/>
                  </a:cubicBezTo>
                  <a:cubicBezTo>
                    <a:pt x="2453473" y="1781908"/>
                    <a:pt x="2527998" y="765349"/>
                    <a:pt x="2662813" y="40193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30"/>
            <p:cNvSpPr/>
            <p:nvPr/>
          </p:nvSpPr>
          <p:spPr>
            <a:xfrm>
              <a:off x="444240" y="4606920"/>
              <a:ext cx="1936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4320" y="304560"/>
            <a:ext cx="87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Quantum Machine Learning Algorith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43000" y="2819520"/>
            <a:ext cx="87627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THE FINE PR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on’t get solution vector explicitly, but only as vector of amplitudes.  Need to measure to learn anyt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pendence on condition number could kill exponential speed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eed a way of loading huge amounts of data into quantum state (which, again, could kill exponential speed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t ruled out that there are fast randomized algorithms for the same problems (even just considering query complex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http://meche.mit.edu/people/img/slloyd.jpg"/>
          <p:cNvPicPr/>
          <p:nvPr/>
        </p:nvPicPr>
        <p:blipFill>
          <a:blip r:embed="rId1"/>
          <a:stretch/>
        </p:blipFill>
        <p:spPr>
          <a:xfrm>
            <a:off x="380880" y="1219320"/>
            <a:ext cx="1295640" cy="14317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6"/>
          <p:cNvSpPr/>
          <p:nvPr/>
        </p:nvSpPr>
        <p:spPr>
          <a:xfrm>
            <a:off x="1905120" y="133524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ponential quantum speedups’ for solving linear systems, support vector machines, Google PageRank, computing Betti numbe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But you just listed a bunch of examples where you know a quantum speedup, and other examples where you don’t!  What you guys need is a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ory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, which would tell you from first principles when quantum speedups are possible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http://clarkdogpaw.org/wp-content/uploads/2014/09/Thanks.gif"/>
          <p:cNvPicPr/>
          <p:nvPr/>
        </p:nvPicPr>
        <p:blipFill>
          <a:blip r:embed="rId1"/>
          <a:stretch/>
        </p:blipFill>
        <p:spPr>
          <a:xfrm>
            <a:off x="2438280" y="3768840"/>
            <a:ext cx="38862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Quantum Black-Box Model</a:t>
            </a:r>
            <a:br>
              <a:rPr sz="4400"/>
            </a:b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The setting for much of what we know about the power of quantum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3619440" y="1938240"/>
            <a:ext cx="1185840" cy="1185840"/>
          </a:xfrm>
          <a:prstGeom prst="cube">
            <a:avLst>
              <a:gd name="adj" fmla="val 25000"/>
            </a:avLst>
          </a:prstGeom>
          <a:solidFill>
            <a:srgbClr val="26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3124080" y="1938240"/>
            <a:ext cx="191160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alibri"/>
                <a:ea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049400" y="220356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"/>
          <p:cNvSpPr/>
          <p:nvPr/>
        </p:nvSpPr>
        <p:spPr>
          <a:xfrm>
            <a:off x="1606680" y="2593800"/>
            <a:ext cx="188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4923000" y="2560680"/>
            <a:ext cx="188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6504120" y="223668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272880" y="33591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n algorithm can mak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query transformation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which 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282600" y="503568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s well a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rbitrar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nitary transformations that don’t depend on f (we won’t worry about their computational co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1"/>
              <p:cNvSpPr txBox="1"/>
              <p:nvPr/>
            </p:nvSpPr>
            <p:spPr>
              <a:xfrm>
                <a:off x="949320" y="3879720"/>
                <a:ext cx="6959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⟩</m:t>
                        </m:r>
                        <m:r>
                          <m:t xml:space="preserve">→</m:t>
                        </m:r>
                      </m:e>
                    </m:nary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⊕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2" name="Text Box 2"/>
          <p:cNvSpPr/>
          <p:nvPr/>
        </p:nvSpPr>
        <p:spPr>
          <a:xfrm>
            <a:off x="2416320" y="452916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(x=“query register,” a=“answer register,” w=“workspac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04920" y="60958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ts goal is to learn som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per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(f)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for example: is f 1-to-1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1598760" y="3124080"/>
            <a:ext cx="6095880" cy="180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Query complexity” of 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minimum number of queries used by any algorithm that outputs F(f), with high probability, for every f of interest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184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otal Boolean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1"/>
              <p:cNvSpPr txBox="1"/>
              <p:nvPr/>
            </p:nvSpPr>
            <p:spPr>
              <a:xfrm>
                <a:off x="209520" y="1143000"/>
                <a:ext cx="33703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7" name="Text Box 2"/>
          <p:cNvSpPr/>
          <p:nvPr/>
        </p:nvSpPr>
        <p:spPr>
          <a:xfrm>
            <a:off x="328680" y="26668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8"/>
              <p:cNvSpPr txBox="1"/>
              <p:nvPr/>
            </p:nvSpPr>
            <p:spPr>
              <a:xfrm>
                <a:off x="1828800" y="2550960"/>
                <a:ext cx="63356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9" name="Text Box 2"/>
          <p:cNvSpPr/>
          <p:nvPr/>
        </p:nvSpPr>
        <p:spPr>
          <a:xfrm>
            <a:off x="328680" y="33526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 (Beals et al. 1998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or all Boolean functions F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10"/>
              <p:cNvSpPr txBox="1"/>
              <p:nvPr/>
            </p:nvSpPr>
            <p:spPr>
              <a:xfrm>
                <a:off x="3324240" y="3844800"/>
                <a:ext cx="27241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1" name="Text Box 10"/>
          <p:cNvSpPr/>
          <p:nvPr/>
        </p:nvSpPr>
        <p:spPr>
          <a:xfrm>
            <a:off x="1600200" y="4633920"/>
            <a:ext cx="631836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to reconcile with the exponential speedup of Shor’s algorithm?  Tot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322200" y="57913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Longstanding Open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s ther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oolean function with a quantum quantum/classical gap better than quadratic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33920" y="107784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D(F): Deterministic query complexity of 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R(F): Randomized query complex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Q(F): Quantum query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Almost-Total Func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31920" y="1676520"/>
            <a:ext cx="853416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Conjecture (A.-Ambainis 2011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Let Q be any quantum algorithm that makes T queries to an input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n there’s a classical randomized that makes poly(T,1/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1/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queries to X, and that approximates Pr[Q accepts X] to withi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n a ≥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action of X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331920" y="4267080"/>
            <a:ext cx="864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 (A.-Ambainis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is would follow from an extremely natural conjecture in discrete Fourier analysis (“every bounded low-degree polynomial p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[0,1] has a highly influential variable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Collis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57200" y="99072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iven a 2-to-1 function f:{1,…,N}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{1,…,N}, find a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  <a:ea typeface="Arial"/>
              </a:rPr>
              <a:t>collis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(i.e., two inputs x,y such that f(x)=f(y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1"/>
          <p:cNvSpPr/>
          <p:nvPr/>
        </p:nvSpPr>
        <p:spPr>
          <a:xfrm>
            <a:off x="457200" y="2819520"/>
            <a:ext cx="78487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  <a:ea typeface="Arial"/>
              </a:rPr>
              <a:t>Variant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Promised that f is either 2-to-1 or 1-to-1, decide whi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Models the breaking of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ollision-resistant hash function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—a central problem in crypt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More structured than Grover search, but less structured than Shor’s period-finding problem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533520" y="2133720"/>
            <a:ext cx="815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10  4  1  8  7  9  11  5  6  4  2  10  3  2  7  9  11  5  1  6  3  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2"/>
          <p:cNvSpPr/>
          <p:nvPr/>
        </p:nvSpPr>
        <p:spPr>
          <a:xfrm>
            <a:off x="1905120" y="2133720"/>
            <a:ext cx="457200" cy="45720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3"/>
          <p:cNvSpPr/>
          <p:nvPr/>
        </p:nvSpPr>
        <p:spPr>
          <a:xfrm>
            <a:off x="5562720" y="2133720"/>
            <a:ext cx="457200" cy="45720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16"/>
          <p:cNvGrpSpPr/>
          <p:nvPr/>
        </p:nvGrpSpPr>
        <p:grpSpPr>
          <a:xfrm>
            <a:off x="4888080" y="2362320"/>
            <a:ext cx="4255920" cy="2684520"/>
            <a:chOff x="4888080" y="2362320"/>
            <a:chExt cx="4255920" cy="2684520"/>
          </a:xfrm>
        </p:grpSpPr>
        <p:pic>
          <p:nvPicPr>
            <p:cNvPr id="384" name="Picture 14" descr="spy"/>
            <p:cNvPicPr/>
            <p:nvPr/>
          </p:nvPicPr>
          <p:blipFill>
            <a:blip r:embed="rId1"/>
            <a:srcRect l="1304" t="25263" r="50878" b="20210"/>
            <a:stretch/>
          </p:blipFill>
          <p:spPr>
            <a:xfrm>
              <a:off x="7761240" y="301140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AutoShape 15"/>
            <p:cNvSpPr/>
            <p:nvPr/>
          </p:nvSpPr>
          <p:spPr>
            <a:xfrm>
              <a:off x="4888080" y="236232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45540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It’s been 20 years since Shor’s factoring algorithm.  Where are all the amazing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ew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quantum algorithms we were promised?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5" descr="http://upload.wikimedia.org/wikipedia/commons/thumb/a/af/Peter_Shor.jpg/220px-Peter_Shor.jpg"/>
          <p:cNvPicPr/>
          <p:nvPr/>
        </p:nvPicPr>
        <p:blipFill>
          <a:blip r:embed="rId1"/>
          <a:stretch/>
        </p:blipFill>
        <p:spPr>
          <a:xfrm>
            <a:off x="3390840" y="2238480"/>
            <a:ext cx="1123920" cy="1685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http://www.dcs.warwick.ac.uk/~tim/quantumcomputing/img/when_grover.jpg"/>
          <p:cNvPicPr/>
          <p:nvPr/>
        </p:nvPicPr>
        <p:blipFill>
          <a:blip r:embed="rId2"/>
          <a:stretch/>
        </p:blipFill>
        <p:spPr>
          <a:xfrm>
            <a:off x="5003640" y="2235240"/>
            <a:ext cx="1440000" cy="1743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http://web.mit.edu/physics/images/faculty/farhi_eddie.jpg"/>
          <p:cNvPicPr/>
          <p:nvPr/>
        </p:nvPicPr>
        <p:blipFill>
          <a:blip r:embed="rId3"/>
          <a:stretch/>
        </p:blipFill>
        <p:spPr>
          <a:xfrm>
            <a:off x="7124760" y="2219400"/>
            <a:ext cx="1182600" cy="1712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www.washington.edu/news/files/2011/10/RichardFeynmanBBC.jpg"/>
          <p:cNvPicPr/>
          <p:nvPr/>
        </p:nvPicPr>
        <p:blipFill>
          <a:blip r:embed="rId4"/>
          <a:stretch/>
        </p:blipFill>
        <p:spPr>
          <a:xfrm>
            <a:off x="677880" y="2224080"/>
            <a:ext cx="2286000" cy="1700280"/>
          </a:xfrm>
          <a:prstGeom prst="rect">
            <a:avLst/>
          </a:prstGeom>
          <a:ln w="0">
            <a:noFill/>
          </a:ln>
        </p:spPr>
      </p:pic>
      <p:sp>
        <p:nvSpPr>
          <p:cNvPr id="180" name="Title 1"/>
          <p:cNvSpPr/>
          <p:nvPr/>
        </p:nvSpPr>
        <p:spPr>
          <a:xfrm>
            <a:off x="392040" y="5943600"/>
            <a:ext cx="8534520" cy="681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o promised you more quantum algorithms?  Not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2579760" y="5297400"/>
            <a:ext cx="645624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  <a:ea typeface="Arial"/>
              </a:rPr>
              <a:t>…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  <a:ea typeface="Arial"/>
              </a:rPr>
              <a:t>Is that all?  What else is the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830160" y="4133880"/>
            <a:ext cx="1981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tle 1"/>
          <p:cNvSpPr/>
          <p:nvPr/>
        </p:nvSpPr>
        <p:spPr>
          <a:xfrm>
            <a:off x="2962440" y="398772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5003640" y="4129200"/>
            <a:ext cx="1440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rover 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6620040" y="4129200"/>
            <a:ext cx="2313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diabatic alg / quantum wal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tle 1"/>
          <p:cNvSpPr/>
          <p:nvPr/>
        </p:nvSpPr>
        <p:spPr>
          <a:xfrm>
            <a:off x="250920" y="4832280"/>
            <a:ext cx="4376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+ A few other thing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1"/>
          <p:cNvSpPr/>
          <p:nvPr/>
        </p:nvSpPr>
        <p:spPr>
          <a:xfrm>
            <a:off x="425520" y="304920"/>
            <a:ext cx="7804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Birthday Paradox: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lassically, ~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 queries are necessary and sufficient to find a collision with high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8" descr="MCj04363930000[1]"/>
          <p:cNvPicPr/>
          <p:nvPr/>
        </p:nvPicPr>
        <p:blipFill>
          <a:blip r:embed="rId1"/>
          <a:stretch/>
        </p:blipFill>
        <p:spPr>
          <a:xfrm>
            <a:off x="8229600" y="279360"/>
            <a:ext cx="703440" cy="8971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1"/>
          <p:cNvSpPr/>
          <p:nvPr/>
        </p:nvSpPr>
        <p:spPr>
          <a:xfrm>
            <a:off x="404640" y="1371600"/>
            <a:ext cx="845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Brassard-Høyer-Tapp 1997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ly, 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queries suff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027320" y="2193840"/>
          <a:ext cx="4648320" cy="584280"/>
        </p:xfrm>
        <a:graphic>
          <a:graphicData uri="http://schemas.openxmlformats.org/drawingml/2006/table">
            <a:tbl>
              <a:tblPr/>
              <a:tblGrid>
                <a:gridCol w="665280"/>
                <a:gridCol w="662040"/>
                <a:gridCol w="665280"/>
                <a:gridCol w="663480"/>
                <a:gridCol w="665280"/>
                <a:gridCol w="661680"/>
                <a:gridCol w="6652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90" name="Text Box 39"/>
          <p:cNvSpPr/>
          <p:nvPr/>
        </p:nvSpPr>
        <p:spPr>
          <a:xfrm>
            <a:off x="260280" y="212868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rover on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(x)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944640" y="3797280"/>
          <a:ext cx="2666880" cy="593640"/>
        </p:xfrm>
        <a:graphic>
          <a:graphicData uri="http://schemas.openxmlformats.org/drawingml/2006/table">
            <a:tbl>
              <a:tblPr/>
              <a:tblGrid>
                <a:gridCol w="666720"/>
                <a:gridCol w="666720"/>
                <a:gridCol w="666720"/>
                <a:gridCol w="6667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92" name="Text Box 19"/>
          <p:cNvSpPr/>
          <p:nvPr/>
        </p:nvSpPr>
        <p:spPr>
          <a:xfrm>
            <a:off x="3792600" y="3754440"/>
            <a:ext cx="484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(x) values queried class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3"/>
          <p:cNvGrpSpPr/>
          <p:nvPr/>
        </p:nvGrpSpPr>
        <p:grpSpPr>
          <a:xfrm>
            <a:off x="1239840" y="2819520"/>
            <a:ext cx="3733920" cy="934920"/>
            <a:chOff x="1239840" y="2819520"/>
            <a:chExt cx="3733920" cy="934920"/>
          </a:xfrm>
        </p:grpSpPr>
        <p:sp>
          <p:nvSpPr>
            <p:cNvPr id="394" name="Line 40"/>
            <p:cNvSpPr/>
            <p:nvPr/>
          </p:nvSpPr>
          <p:spPr>
            <a:xfrm flipH="1">
              <a:off x="1239840" y="2819520"/>
              <a:ext cx="37339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 flipH="1">
              <a:off x="1925280" y="2819520"/>
              <a:ext cx="30481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 flipH="1">
              <a:off x="2611440" y="2819520"/>
              <a:ext cx="23623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3"/>
            <p:cNvSpPr/>
            <p:nvPr/>
          </p:nvSpPr>
          <p:spPr>
            <a:xfrm flipH="1">
              <a:off x="3296880" y="2819520"/>
              <a:ext cx="16765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41"/>
          <p:cNvSpPr/>
          <p:nvPr/>
        </p:nvSpPr>
        <p:spPr>
          <a:xfrm>
            <a:off x="425520" y="4724280"/>
            <a:ext cx="84549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 2002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irst quantum lower bound for the collision problem (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5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queries are needed; no exponential speedup possi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hi 2002: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mproved lower bound of 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Brassard-Høyer-Tapp’s algorithm is the best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29760" y="2286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ymmetric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384120" y="3886200"/>
            <a:ext cx="864720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New Results (Ben-David 2014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f F: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{0,1} is any Boolean function of permutations, then D(F)=O(Q(F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. If F is any function with a symmetric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romis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and at most M possible results of each query, then R(F)=O(Q(F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2(M-1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1"/>
          <p:cNvSpPr/>
          <p:nvPr/>
        </p:nvSpPr>
        <p:spPr>
          <a:xfrm>
            <a:off x="344520" y="1143000"/>
            <a:ext cx="8454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-Ambainis 2011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assive generalization of collision lower bound.  If F is any function whatsoever that’s symmetric under permuting the inputs and outputs, and has sufficiently many outputs (like collision, element distinctness, etc.),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1"/>
              <p:cNvSpPr txBox="1"/>
              <p:nvPr/>
            </p:nvSpPr>
            <p:spPr>
              <a:xfrm>
                <a:off x="1351080" y="2835360"/>
                <a:ext cx="61894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</m:e>
                            </m:d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oly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Title 1"/>
          <p:cNvSpPr/>
          <p:nvPr/>
        </p:nvSpPr>
        <p:spPr>
          <a:xfrm>
            <a:off x="401760" y="5702400"/>
            <a:ext cx="8397720" cy="100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eed a “structured” promise if you want an exponential quantum speed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’s the largest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ossible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quantum speedu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41"/>
          <p:cNvSpPr/>
          <p:nvPr/>
        </p:nvSpPr>
        <p:spPr>
          <a:xfrm>
            <a:off x="344520" y="1752480"/>
            <a:ext cx="85708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eriod-finding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O(1) quantum queries, 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4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lassical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imon’s problem, the glued-tree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(log N) quantum queries, ~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 classical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1"/>
          <p:cNvSpPr/>
          <p:nvPr/>
        </p:nvSpPr>
        <p:spPr>
          <a:xfrm>
            <a:off x="365040" y="3962520"/>
            <a:ext cx="8570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Forrelation (A. 2009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iven two Boolean functions f,g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{-1,1}, estimate how correlated g is with the Fourier transform of 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1805040" y="5105520"/>
                <a:ext cx="58449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,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y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</m:d>
                    <m:r>
                      <m:t xml:space="preserve"> </m:t>
                    </m:r>
                    <m:m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?</m:t>
                          </m:r>
                        </m:e>
                      </m:mr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?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08" name="Title 1"/>
          <p:cNvSpPr/>
          <p:nvPr/>
        </p:nvSpPr>
        <p:spPr>
          <a:xfrm>
            <a:off x="4952880" y="3124080"/>
            <a:ext cx="3657600" cy="62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do even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762120" y="609480"/>
            <a:ext cx="2171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00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00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01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01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10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10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11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1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0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00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01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0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1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10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1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111)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019920" y="598320"/>
            <a:ext cx="2171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0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00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0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0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1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10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1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1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0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00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0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0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1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10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1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111)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traight Connector 2"/>
          <p:cNvSpPr/>
          <p:nvPr/>
        </p:nvSpPr>
        <p:spPr>
          <a:xfrm>
            <a:off x="2084400" y="19699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3"/>
          <p:cNvSpPr/>
          <p:nvPr/>
        </p:nvSpPr>
        <p:spPr>
          <a:xfrm>
            <a:off x="2084400" y="26557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4"/>
          <p:cNvSpPr/>
          <p:nvPr/>
        </p:nvSpPr>
        <p:spPr>
          <a:xfrm>
            <a:off x="2084400" y="12841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6"/>
          <p:cNvSpPr/>
          <p:nvPr/>
        </p:nvSpPr>
        <p:spPr>
          <a:xfrm>
            <a:off x="2465280" y="9795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2465280" y="16653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2465280" y="23511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3379680" y="979560"/>
            <a:ext cx="53352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0"/>
          <p:cNvSpPr/>
          <p:nvPr/>
        </p:nvSpPr>
        <p:spPr>
          <a:xfrm>
            <a:off x="4294080" y="9795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1"/>
          <p:cNvSpPr/>
          <p:nvPr/>
        </p:nvSpPr>
        <p:spPr>
          <a:xfrm>
            <a:off x="4294080" y="16653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2"/>
          <p:cNvSpPr/>
          <p:nvPr/>
        </p:nvSpPr>
        <p:spPr>
          <a:xfrm>
            <a:off x="4294080" y="23511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13"/>
          <p:cNvGrpSpPr/>
          <p:nvPr/>
        </p:nvGrpSpPr>
        <p:grpSpPr>
          <a:xfrm>
            <a:off x="6923520" y="826920"/>
            <a:ext cx="810720" cy="961560"/>
            <a:chOff x="6923520" y="826920"/>
            <a:chExt cx="810720" cy="961560"/>
          </a:xfrm>
        </p:grpSpPr>
        <p:sp>
          <p:nvSpPr>
            <p:cNvPr id="423" name="Chord 13"/>
            <p:cNvSpPr/>
            <p:nvPr/>
          </p:nvSpPr>
          <p:spPr>
            <a:xfrm rot="7220400">
              <a:off x="7025400" y="1086840"/>
              <a:ext cx="606600" cy="58428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4" name="Straight Arrow Connector 14"/>
            <p:cNvCxnSpPr>
              <a:stCxn id="423" idx="2"/>
            </p:cNvCxnSpPr>
            <p:nvPr/>
          </p:nvCxnSpPr>
          <p:spPr>
            <a:xfrm flipV="1">
              <a:off x="7327800" y="826920"/>
              <a:ext cx="14688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25" name="Group 16"/>
          <p:cNvGrpSpPr/>
          <p:nvPr/>
        </p:nvGrpSpPr>
        <p:grpSpPr>
          <a:xfrm>
            <a:off x="6923520" y="1512720"/>
            <a:ext cx="810720" cy="961560"/>
            <a:chOff x="6923520" y="1512720"/>
            <a:chExt cx="810720" cy="961560"/>
          </a:xfrm>
        </p:grpSpPr>
        <p:sp>
          <p:nvSpPr>
            <p:cNvPr id="426" name="Chord 16"/>
            <p:cNvSpPr/>
            <p:nvPr/>
          </p:nvSpPr>
          <p:spPr>
            <a:xfrm rot="7220400">
              <a:off x="7025400" y="1772640"/>
              <a:ext cx="606600" cy="58428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Straight Arrow Connector 17"/>
            <p:cNvCxnSpPr>
              <a:stCxn id="426" idx="2"/>
            </p:cNvCxnSpPr>
            <p:nvPr/>
          </p:nvCxnSpPr>
          <p:spPr>
            <a:xfrm flipV="1">
              <a:off x="7327800" y="1512720"/>
              <a:ext cx="14688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28" name="Group 19"/>
          <p:cNvGrpSpPr/>
          <p:nvPr/>
        </p:nvGrpSpPr>
        <p:grpSpPr>
          <a:xfrm>
            <a:off x="6923520" y="2198520"/>
            <a:ext cx="810720" cy="961560"/>
            <a:chOff x="6923520" y="2198520"/>
            <a:chExt cx="810720" cy="961560"/>
          </a:xfrm>
        </p:grpSpPr>
        <p:sp>
          <p:nvSpPr>
            <p:cNvPr id="429" name="Chord 19"/>
            <p:cNvSpPr/>
            <p:nvPr/>
          </p:nvSpPr>
          <p:spPr>
            <a:xfrm rot="7220400">
              <a:off x="7025400" y="2458440"/>
              <a:ext cx="606600" cy="58428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0" name="Straight Arrow Connector 20"/>
            <p:cNvCxnSpPr>
              <a:stCxn id="429" idx="2"/>
            </p:cNvCxnSpPr>
            <p:nvPr/>
          </p:nvCxnSpPr>
          <p:spPr>
            <a:xfrm flipV="1">
              <a:off x="7327800" y="2198520"/>
              <a:ext cx="14688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31" name="Text Box 3"/>
          <p:cNvSpPr/>
          <p:nvPr/>
        </p:nvSpPr>
        <p:spPr>
          <a:xfrm>
            <a:off x="3379680" y="16653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550880" y="979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1550880" y="1665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550880" y="23511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5208480" y="979560"/>
            <a:ext cx="53352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5208480" y="16653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32"/>
          <p:cNvSpPr/>
          <p:nvPr/>
        </p:nvSpPr>
        <p:spPr>
          <a:xfrm>
            <a:off x="6122880" y="9795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33"/>
          <p:cNvSpPr/>
          <p:nvPr/>
        </p:nvSpPr>
        <p:spPr>
          <a:xfrm>
            <a:off x="6122880" y="16653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34"/>
          <p:cNvSpPr/>
          <p:nvPr/>
        </p:nvSpPr>
        <p:spPr>
          <a:xfrm>
            <a:off x="6122880" y="23511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1"/>
          <p:cNvSpPr/>
          <p:nvPr/>
        </p:nvSpPr>
        <p:spPr>
          <a:xfrm>
            <a:off x="326880" y="237960"/>
            <a:ext cx="857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rivial 2-query quantum algorithm for Forrelat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1"/>
          <p:cNvSpPr/>
          <p:nvPr/>
        </p:nvSpPr>
        <p:spPr>
          <a:xfrm>
            <a:off x="2203560" y="2928960"/>
            <a:ext cx="6694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(Can even improve to 1 query using standard trick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1"/>
          <p:cNvSpPr/>
          <p:nvPr/>
        </p:nvSpPr>
        <p:spPr>
          <a:xfrm>
            <a:off x="352440" y="3549600"/>
            <a:ext cx="857088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-Ambainis 2014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y contrast, any classical randomized algorithm to solve Forrelation needs at leas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 / logN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is separation is optimal: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problem solvable with k quantum queries, is also solvable with 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-1/2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lassical randomized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1"/>
          <p:cNvSpPr/>
          <p:nvPr/>
        </p:nvSpPr>
        <p:spPr>
          <a:xfrm>
            <a:off x="352440" y="5861160"/>
            <a:ext cx="8570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Our Conjectur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e above is tight for all k.  A generalization of Forrelation involving k Boolean functions achieves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41"/>
          <p:cNvSpPr/>
          <p:nvPr/>
        </p:nvSpPr>
        <p:spPr>
          <a:xfrm>
            <a:off x="404640" y="579132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ingle most important application of QC (in my opinion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Disproving the people who said QC was impossibl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1"/>
          <p:cNvSpPr/>
          <p:nvPr/>
        </p:nvSpPr>
        <p:spPr>
          <a:xfrm>
            <a:off x="376200" y="990720"/>
            <a:ext cx="83818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xponential quantum speedups depend on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For example, abelian group structure, glued-trees structure, </a:t>
            </a: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	</a:t>
            </a: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forrelational structure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412920" y="342900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fter 20 years of quantum algorithms research, we know a lot about which kinds of structure suff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1"/>
          <p:cNvSpPr/>
          <p:nvPr/>
        </p:nvSpPr>
        <p:spPr>
          <a:xfrm>
            <a:off x="393840" y="4321080"/>
            <a:ext cx="855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black-box model lets us make formal statements about what kinds of structur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don’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uffice for exponential speed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1"/>
          <p:cNvSpPr/>
          <p:nvPr/>
        </p:nvSpPr>
        <p:spPr>
          <a:xfrm>
            <a:off x="1038240" y="5195880"/>
            <a:ext cx="775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In both cases, of course, many open problems re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1"/>
          <p:cNvSpPr/>
          <p:nvPr/>
        </p:nvSpPr>
        <p:spPr>
          <a:xfrm>
            <a:off x="371520" y="2368440"/>
            <a:ext cx="8572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ometim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e can even find such structure in real, non-black-box problems of practical interest </a:t>
            </a: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(e.g., factor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184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The Parallelism Fall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393840" y="1371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ueling the belief that countless more quantum algorithms should exist (or that are not finding them is a failure), seems to be the idea that a quantum computer could just “try every possible answer in parallel”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(modulo some technical det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393840" y="31240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we’ve understood since the early 90s that that’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how quantum algorithms work!  You need to choreograph an interference pattern, where the unwanted paths canc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le 1"/>
          <p:cNvSpPr/>
          <p:nvPr/>
        </p:nvSpPr>
        <p:spPr>
          <a:xfrm>
            <a:off x="393840" y="4495680"/>
            <a:ext cx="71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iracle, I’d say, is that this trick yields a speedup fo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lassical problems, not that it doesn’t work for more of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1.bp.blogspot.com/-Nr3olYhHK7U/T6BO_FJE4sI/AAAAAAAAAyw/llSvKaQnW2s/s1600/ist2_5342490-glass-is-half-full.jpg"/>
          <p:cNvPicPr/>
          <p:nvPr/>
        </p:nvPicPr>
        <p:blipFill>
          <a:blip r:embed="rId1"/>
          <a:stretch/>
        </p:blipFill>
        <p:spPr>
          <a:xfrm>
            <a:off x="7404120" y="4361040"/>
            <a:ext cx="1587600" cy="2209680"/>
          </a:xfrm>
          <a:prstGeom prst="rect">
            <a:avLst/>
          </a:prstGeom>
          <a:ln w="0">
            <a:noFill/>
          </a:ln>
        </p:spPr>
      </p:pic>
      <p:sp>
        <p:nvSpPr>
          <p:cNvPr id="192" name="Title 1"/>
          <p:cNvSpPr/>
          <p:nvPr/>
        </p:nvSpPr>
        <p:spPr>
          <a:xfrm>
            <a:off x="317520" y="5867280"/>
            <a:ext cx="7086600" cy="681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Underappreciated challenge of quantum algorithms research: beating 60 years of classical algorithms resear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val 5"/>
          <p:cNvSpPr/>
          <p:nvPr/>
        </p:nvSpPr>
        <p:spPr>
          <a:xfrm>
            <a:off x="1901880" y="2930400"/>
            <a:ext cx="2286000" cy="358164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2680" y="152280"/>
            <a:ext cx="8766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An Inconvenient Tru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228600" y="1295280"/>
            <a:ext cx="874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f we set asid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s, there just aren’t that many compelling candidates left for exponential quantum speedups!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(And for many of those, we </a:t>
            </a:r>
            <a:r>
              <a:rPr b="1" i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do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 have exponential speedups, and for many of the rest we have polynomial o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"/>
          <p:cNvSpPr/>
          <p:nvPr/>
        </p:nvSpPr>
        <p:spPr>
          <a:xfrm>
            <a:off x="2328840" y="5641920"/>
            <a:ext cx="1447920" cy="762120"/>
          </a:xfrm>
          <a:prstGeom prst="ellipse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843280" y="5718240"/>
            <a:ext cx="41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1"/>
          <p:cNvSpPr/>
          <p:nvPr/>
        </p:nvSpPr>
        <p:spPr>
          <a:xfrm>
            <a:off x="2600280" y="412740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2"/>
          <p:cNvSpPr/>
          <p:nvPr/>
        </p:nvSpPr>
        <p:spPr>
          <a:xfrm flipV="1">
            <a:off x="297000" y="2015640"/>
            <a:ext cx="5541840" cy="1828800"/>
          </a:xfrm>
          <a:custGeom>
            <a:avLst/>
            <a:gdLst/>
            <a:ahLst/>
            <a:rect l="l" t="t" r="r" b="b"/>
            <a:pathLst>
              <a:path stroke="0" w="5541962" h="1828800">
                <a:moveTo>
                  <a:pt x="3352" y="869439"/>
                </a:moveTo>
                <a:cubicBezTo>
                  <a:pt x="76137" y="381550"/>
                  <a:pt x="1298133" y="-1306"/>
                  <a:pt x="2778408" y="3"/>
                </a:cubicBezTo>
                <a:cubicBezTo>
                  <a:pt x="4305874" y="1354"/>
                  <a:pt x="5541962" y="410347"/>
                  <a:pt x="5541962" y="914400"/>
                </a:cubicBezTo>
                <a:lnTo>
                  <a:pt x="2770981" y="914400"/>
                </a:lnTo>
                <a:lnTo>
                  <a:pt x="3352" y="869439"/>
                </a:lnTo>
                <a:close/>
              </a:path>
              <a:path fill="none" w="5541962" h="1828800">
                <a:moveTo>
                  <a:pt x="3352" y="869439"/>
                </a:moveTo>
                <a:cubicBezTo>
                  <a:pt x="76137" y="381550"/>
                  <a:pt x="1298133" y="-1306"/>
                  <a:pt x="2778408" y="3"/>
                </a:cubicBezTo>
                <a:cubicBezTo>
                  <a:pt x="4305874" y="1354"/>
                  <a:pt x="5541962" y="410347"/>
                  <a:pt x="5541962" y="914400"/>
                </a:cubicBezTo>
              </a:path>
            </a:pathLst>
          </a:cu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2054160" y="32688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Arial"/>
              </a:rPr>
              <a:t>NP-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3781440" y="287640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Arial"/>
              </a:rPr>
              <a:t>NP-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1"/>
          <p:cNvSpPr/>
          <p:nvPr/>
        </p:nvSpPr>
        <p:spPr>
          <a:xfrm>
            <a:off x="1368360" y="4721400"/>
            <a:ext cx="3441600" cy="1790640"/>
          </a:xfrm>
          <a:prstGeom prst="ellipse">
            <a:avLst/>
          </a:prstGeom>
          <a:solidFill>
            <a:srgbClr val="ff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2278080" y="48816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br>
              <a:rPr sz="2600"/>
            </a:br>
            <a:r>
              <a:rPr b="1" lang="en-US" sz="2000" spc="-1" strike="noStrike">
                <a:solidFill>
                  <a:srgbClr val="7030a0"/>
                </a:solidFill>
                <a:latin typeface="Calibri"/>
                <a:ea typeface="Arial"/>
              </a:rPr>
              <a:t>(Quantum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 rot="18583200">
            <a:off x="1779120" y="5005080"/>
            <a:ext cx="117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ac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 rot="18913200">
            <a:off x="1779480" y="4036680"/>
            <a:ext cx="1170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aph 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 rot="18583200">
            <a:off x="3755880" y="5658120"/>
            <a:ext cx="1171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Quantum 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2459160" y="3000240"/>
            <a:ext cx="1171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 rot="2403000">
            <a:off x="3192480" y="4127400"/>
            <a:ext cx="117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attic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tle 1"/>
          <p:cNvSpPr/>
          <p:nvPr/>
        </p:nvSpPr>
        <p:spPr>
          <a:xfrm>
            <a:off x="5638680" y="3735360"/>
            <a:ext cx="3200400" cy="242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≠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Plausible conjectures, which we have no hope of proving given the current state of complexity theo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7160" y="22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st of the T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366840" y="1752480"/>
            <a:ext cx="81500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marL="497160" indent="-49716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rvey of the main families of quantum algorithms that have been discovered (and their limitation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7160" indent="-49716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sul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lack-box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hich aim toward a general theory of when quantum speedup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7160" y="22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Simulation</a:t>
            </a:r>
            <a:br>
              <a:rPr sz="4400"/>
            </a:b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“What a QC does in its sleep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384120" y="14842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“original” application of QC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http://www.aps.org/meetings/march/vpr/2012/imagegallery/images/27Kumar2012.jpg"/>
          <p:cNvPicPr/>
          <p:nvPr/>
        </p:nvPicPr>
        <p:blipFill>
          <a:blip r:embed="rId1"/>
          <a:stretch/>
        </p:blipFill>
        <p:spPr>
          <a:xfrm>
            <a:off x="5356080" y="1461960"/>
            <a:ext cx="3486240" cy="2041560"/>
          </a:xfrm>
          <a:prstGeom prst="rect">
            <a:avLst/>
          </a:prstGeom>
          <a:ln w="0">
            <a:noFill/>
          </a:ln>
        </p:spPr>
      </p:pic>
      <p:sp>
        <p:nvSpPr>
          <p:cNvPr id="215" name="Title 1"/>
          <p:cNvSpPr/>
          <p:nvPr/>
        </p:nvSpPr>
        <p:spPr>
          <a:xfrm>
            <a:off x="384120" y="24796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y personal view: still the most importan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C:\Users\aaronson\AppData\Local\Microsoft\Windows\Temporary Internet Files\Content.IE5\VQM58UMI\MC900432530[1].png"/>
          <p:cNvPicPr/>
          <p:nvPr/>
        </p:nvPicPr>
        <p:blipFill>
          <a:blip r:embed="rId2"/>
          <a:stretch/>
        </p:blipFill>
        <p:spPr>
          <a:xfrm>
            <a:off x="395280" y="3851280"/>
            <a:ext cx="557280" cy="480960"/>
          </a:xfrm>
          <a:prstGeom prst="rect">
            <a:avLst/>
          </a:prstGeom>
          <a:ln w="0">
            <a:noFill/>
          </a:ln>
        </p:spPr>
      </p:pic>
      <p:sp>
        <p:nvSpPr>
          <p:cNvPr id="217" name="Title 1"/>
          <p:cNvSpPr/>
          <p:nvPr/>
        </p:nvSpPr>
        <p:spPr>
          <a:xfrm>
            <a:off x="1055520" y="3747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ajor applications (high-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uperconductivity, protein folding, nanofabrication, photovoltaic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C:\Users\aaronson\AppData\Local\Microsoft\Windows\Temporary Internet Files\Content.IE5\VQM58UMI\MC900432530[1].png"/>
          <p:cNvPicPr/>
          <p:nvPr/>
        </p:nvPicPr>
        <p:blipFill>
          <a:blip r:embed="rId3"/>
          <a:stretch/>
        </p:blipFill>
        <p:spPr>
          <a:xfrm>
            <a:off x="395280" y="4842000"/>
            <a:ext cx="557280" cy="480960"/>
          </a:xfrm>
          <a:prstGeom prst="rect">
            <a:avLst/>
          </a:prstGeom>
          <a:ln w="0">
            <a:noFill/>
          </a:ln>
        </p:spPr>
      </p:pic>
      <p:sp>
        <p:nvSpPr>
          <p:cNvPr id="219" name="Title 1"/>
          <p:cNvSpPr/>
          <p:nvPr/>
        </p:nvSpPr>
        <p:spPr>
          <a:xfrm>
            <a:off x="1055520" y="4738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igh confidence in possibility of a quantum speed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C:\Users\aaronson\AppData\Local\Microsoft\Windows\Temporary Internet Files\Content.IE5\VQM58UMI\MC900432530[1].png"/>
          <p:cNvPicPr/>
          <p:nvPr/>
        </p:nvPicPr>
        <p:blipFill>
          <a:blip r:embed="rId4"/>
          <a:stretch/>
        </p:blipFill>
        <p:spPr>
          <a:xfrm>
            <a:off x="399960" y="5805360"/>
            <a:ext cx="557280" cy="481320"/>
          </a:xfrm>
          <a:prstGeom prst="rect">
            <a:avLst/>
          </a:prstGeom>
          <a:ln w="0">
            <a:noFill/>
          </a:ln>
        </p:spPr>
      </p:pic>
      <p:sp>
        <p:nvSpPr>
          <p:cNvPr id="221" name="Title 1"/>
          <p:cNvSpPr/>
          <p:nvPr/>
        </p:nvSpPr>
        <p:spPr>
          <a:xfrm>
            <a:off x="1069920" y="57038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an plausibly realize even before universal QCs are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11040" y="914400"/>
            <a:ext cx="8458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ppose w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ju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ant a quantum system for which there’s good complexity-theoretic evidence that it’s hard to simulate classically—we don’t care what it’s useful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883944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  <a:ea typeface="Calibri"/>
              </a:rPr>
              <a:t>BosonSampling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295200" y="4038480"/>
            <a:ext cx="2509920" cy="2264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http://www.photonics.com/images2/Spectra/Features/2013/06/Quantum_Figure4.jpg"/>
          <p:cNvPicPr/>
          <p:nvPr/>
        </p:nvPicPr>
        <p:blipFill>
          <a:blip r:embed="rId2"/>
          <a:stretch/>
        </p:blipFill>
        <p:spPr>
          <a:xfrm>
            <a:off x="6019920" y="4030560"/>
            <a:ext cx="2957400" cy="1981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2"/>
          <p:cNvSpPr/>
          <p:nvPr/>
        </p:nvSpPr>
        <p:spPr>
          <a:xfrm>
            <a:off x="152280" y="6902280"/>
            <a:ext cx="851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We showed that a fast, exact classical simulation would collapse the polynomial hierarchy to the third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2962440" y="3965400"/>
            <a:ext cx="28954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Our proposal: Identical single photons sent through network of interferometers, then measured at output m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11040" y="2225520"/>
            <a:ext cx="8458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-Arkhipov 2011, Bremner-Jozsa-Shepherd 2011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n that case, we can plausibly improve both the hardware requirement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e evidence for classical hardness, compared to Shor’s factoring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itle 1"/>
          <p:cNvSpPr/>
          <p:nvPr/>
        </p:nvSpPr>
        <p:spPr>
          <a:xfrm>
            <a:off x="533520" y="2735280"/>
            <a:ext cx="4267080" cy="22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showed: if a fast, classical exact simulation of BosonSampling is possible, then the polynomial hierarchy collapses to the thir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tle 1"/>
          <p:cNvSpPr/>
          <p:nvPr/>
        </p:nvSpPr>
        <p:spPr>
          <a:xfrm>
            <a:off x="5181480" y="2776680"/>
            <a:ext cx="3733920" cy="22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xperimental demonstrations with 3-4 photons achieved (by groups in Oxford, Brisbane, Rome, Vien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889360" y="127008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agic of the Fourier transform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0680" y="178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hor-like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Group 16"/>
          <p:cNvGrpSpPr/>
          <p:nvPr/>
        </p:nvGrpSpPr>
        <p:grpSpPr>
          <a:xfrm>
            <a:off x="4870440" y="1066680"/>
            <a:ext cx="4255920" cy="2684520"/>
            <a:chOff x="4870440" y="1066680"/>
            <a:chExt cx="4255920" cy="2684520"/>
          </a:xfrm>
        </p:grpSpPr>
        <p:pic>
          <p:nvPicPr>
            <p:cNvPr id="234" name="Picture 14" descr="spy"/>
            <p:cNvPicPr/>
            <p:nvPr/>
          </p:nvPicPr>
          <p:blipFill>
            <a:blip r:embed="rId1"/>
            <a:srcRect l="1304" t="25263" r="50878" b="20210"/>
            <a:stretch/>
          </p:blipFill>
          <p:spPr>
            <a:xfrm>
              <a:off x="7743600" y="171576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AutoShape 15"/>
            <p:cNvSpPr/>
            <p:nvPr/>
          </p:nvSpPr>
          <p:spPr>
            <a:xfrm>
              <a:off x="4870440" y="106668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2"/>
          <p:cNvSpPr/>
          <p:nvPr/>
        </p:nvSpPr>
        <p:spPr>
          <a:xfrm>
            <a:off x="304920" y="2514600"/>
            <a:ext cx="736272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Pretty much anything you can think of that reduces to finding hidden structure in abelian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actoring, discrete log, elliptic curve problems, Pell’s equation, unit groups, class groups, Simon’s problem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04920" y="4343400"/>
            <a:ext cx="81309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eaks almost all public-key cryptosystems used to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But theoretical public-key systems exist that are unaff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://upload.wikimedia.org/wikibooks/en/8/83/DFT_vis.jpg"/>
          <p:cNvPicPr/>
          <p:nvPr/>
        </p:nvPicPr>
        <p:blipFill>
          <a:blip r:embed="rId2"/>
          <a:stretch/>
        </p:blipFill>
        <p:spPr>
          <a:xfrm>
            <a:off x="457200" y="941400"/>
            <a:ext cx="2195640" cy="14223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304920" y="5638680"/>
            <a:ext cx="81309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ttempt to go further: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Hidden Subgroup Fra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Can Shor’s algorithm be generalized to nonabelian group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44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Hidden Subgroup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04920" y="866880"/>
            <a:ext cx="85341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Given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 finite group G, a function f:G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Z such that f(x)=f(y) iff x,y belong to the same coset of a “hidden subgroup” H≤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ind generators for 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2530440" y="3668760"/>
            <a:ext cx="607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But if G is nonabelian, “interpreting the results” of those queries could still be extremely har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251604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lassically, this problem could require                 queries to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07800" y="316080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Ettinger-Høyer-Knill 1997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Quantumly, log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(|G|) queries always suff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1"/>
              <p:cNvSpPr txBox="1"/>
              <p:nvPr/>
            </p:nvSpPr>
            <p:spPr>
              <a:xfrm>
                <a:off x="5486400" y="2359080"/>
                <a:ext cx="1108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~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46" name="Group 1"/>
          <p:cNvGrpSpPr/>
          <p:nvPr/>
        </p:nvGrpSpPr>
        <p:grpSpPr>
          <a:xfrm>
            <a:off x="4280040" y="4714920"/>
            <a:ext cx="3962160" cy="1219320"/>
            <a:chOff x="4280040" y="4714920"/>
            <a:chExt cx="3962160" cy="1219320"/>
          </a:xfrm>
        </p:grpSpPr>
        <p:grpSp>
          <p:nvGrpSpPr>
            <p:cNvPr id="247" name="Group 15"/>
            <p:cNvGrpSpPr/>
            <p:nvPr/>
          </p:nvGrpSpPr>
          <p:grpSpPr>
            <a:xfrm>
              <a:off x="4280040" y="4714920"/>
              <a:ext cx="1371600" cy="1219320"/>
              <a:chOff x="4280040" y="4714920"/>
              <a:chExt cx="1371600" cy="1219320"/>
            </a:xfrm>
          </p:grpSpPr>
          <p:sp>
            <p:nvSpPr>
              <p:cNvPr id="248" name="Line 16"/>
              <p:cNvSpPr/>
              <p:nvPr/>
            </p:nvSpPr>
            <p:spPr>
              <a:xfrm>
                <a:off x="4356000" y="479124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17"/>
              <p:cNvSpPr/>
              <p:nvPr/>
            </p:nvSpPr>
            <p:spPr>
              <a:xfrm flipH="1">
                <a:off x="4356000" y="4791240"/>
                <a:ext cx="6098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18"/>
              <p:cNvSpPr/>
              <p:nvPr/>
            </p:nvSpPr>
            <p:spPr>
              <a:xfrm flipH="1">
                <a:off x="4965480" y="4791240"/>
                <a:ext cx="6094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19"/>
              <p:cNvSpPr/>
              <p:nvPr/>
            </p:nvSpPr>
            <p:spPr>
              <a:xfrm>
                <a:off x="4965840" y="4791240"/>
                <a:ext cx="6094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20"/>
              <p:cNvSpPr/>
              <p:nvPr/>
            </p:nvSpPr>
            <p:spPr>
              <a:xfrm>
                <a:off x="4356000" y="4791240"/>
                <a:ext cx="6098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21"/>
              <p:cNvSpPr/>
              <p:nvPr/>
            </p:nvSpPr>
            <p:spPr>
              <a:xfrm flipH="1">
                <a:off x="4965480" y="4791240"/>
                <a:ext cx="60948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22"/>
              <p:cNvSpPr/>
              <p:nvPr/>
            </p:nvSpPr>
            <p:spPr>
              <a:xfrm>
                <a:off x="4965840" y="532476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23"/>
              <p:cNvSpPr/>
              <p:nvPr/>
            </p:nvSpPr>
            <p:spPr>
              <a:xfrm flipH="1">
                <a:off x="4965480" y="5324760"/>
                <a:ext cx="6094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24"/>
              <p:cNvSpPr/>
              <p:nvPr/>
            </p:nvSpPr>
            <p:spPr>
              <a:xfrm>
                <a:off x="4356000" y="5324760"/>
                <a:ext cx="60984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25"/>
              <p:cNvSpPr/>
              <p:nvPr/>
            </p:nvSpPr>
            <p:spPr>
              <a:xfrm>
                <a:off x="4280040" y="524844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26"/>
              <p:cNvSpPr/>
              <p:nvPr/>
            </p:nvSpPr>
            <p:spPr>
              <a:xfrm>
                <a:off x="4889520" y="524844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27"/>
              <p:cNvSpPr/>
              <p:nvPr/>
            </p:nvSpPr>
            <p:spPr>
              <a:xfrm>
                <a:off x="4889520" y="4714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28"/>
              <p:cNvSpPr/>
              <p:nvPr/>
            </p:nvSpPr>
            <p:spPr>
              <a:xfrm>
                <a:off x="5499000" y="471492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29"/>
              <p:cNvSpPr/>
              <p:nvPr/>
            </p:nvSpPr>
            <p:spPr>
              <a:xfrm>
                <a:off x="5499000" y="524844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30"/>
              <p:cNvSpPr/>
              <p:nvPr/>
            </p:nvSpPr>
            <p:spPr>
              <a:xfrm>
                <a:off x="4889520" y="578196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31"/>
              <p:cNvSpPr/>
              <p:nvPr/>
            </p:nvSpPr>
            <p:spPr>
              <a:xfrm>
                <a:off x="4280040" y="4714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2"/>
            <p:cNvGrpSpPr/>
            <p:nvPr/>
          </p:nvGrpSpPr>
          <p:grpSpPr>
            <a:xfrm>
              <a:off x="6794640" y="4714920"/>
              <a:ext cx="1447560" cy="1143000"/>
              <a:chOff x="6794640" y="4714920"/>
              <a:chExt cx="1447560" cy="1143000"/>
            </a:xfrm>
          </p:grpSpPr>
          <p:sp>
            <p:nvSpPr>
              <p:cNvPr id="265" name="Line 33"/>
              <p:cNvSpPr/>
              <p:nvPr/>
            </p:nvSpPr>
            <p:spPr>
              <a:xfrm flipH="1">
                <a:off x="7327800" y="479124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34"/>
              <p:cNvSpPr/>
              <p:nvPr/>
            </p:nvSpPr>
            <p:spPr>
              <a:xfrm flipH="1">
                <a:off x="7251840" y="5248440"/>
                <a:ext cx="30456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35"/>
              <p:cNvSpPr/>
              <p:nvPr/>
            </p:nvSpPr>
            <p:spPr>
              <a:xfrm flipH="1">
                <a:off x="6870240" y="4791240"/>
                <a:ext cx="38124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36"/>
              <p:cNvSpPr/>
              <p:nvPr/>
            </p:nvSpPr>
            <p:spPr>
              <a:xfrm>
                <a:off x="7861320" y="4791240"/>
                <a:ext cx="30492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37"/>
              <p:cNvSpPr/>
              <p:nvPr/>
            </p:nvSpPr>
            <p:spPr>
              <a:xfrm>
                <a:off x="7556400" y="524844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38"/>
              <p:cNvSpPr/>
              <p:nvPr/>
            </p:nvSpPr>
            <p:spPr>
              <a:xfrm>
                <a:off x="7251840" y="4791240"/>
                <a:ext cx="30456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39"/>
              <p:cNvSpPr/>
              <p:nvPr/>
            </p:nvSpPr>
            <p:spPr>
              <a:xfrm flipH="1" flipV="1">
                <a:off x="7556040" y="5248440"/>
                <a:ext cx="3049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40"/>
              <p:cNvSpPr/>
              <p:nvPr/>
            </p:nvSpPr>
            <p:spPr>
              <a:xfrm flipH="1">
                <a:off x="7860960" y="5248440"/>
                <a:ext cx="3049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41"/>
              <p:cNvSpPr/>
              <p:nvPr/>
            </p:nvSpPr>
            <p:spPr>
              <a:xfrm>
                <a:off x="6870600" y="5248440"/>
                <a:ext cx="3812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42"/>
              <p:cNvSpPr/>
              <p:nvPr/>
            </p:nvSpPr>
            <p:spPr>
              <a:xfrm>
                <a:off x="7480440" y="51721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43"/>
              <p:cNvSpPr/>
              <p:nvPr/>
            </p:nvSpPr>
            <p:spPr>
              <a:xfrm>
                <a:off x="7175520" y="570564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44"/>
              <p:cNvSpPr/>
              <p:nvPr/>
            </p:nvSpPr>
            <p:spPr>
              <a:xfrm>
                <a:off x="6794640" y="51721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45"/>
              <p:cNvSpPr/>
              <p:nvPr/>
            </p:nvSpPr>
            <p:spPr>
              <a:xfrm>
                <a:off x="7175520" y="4714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46"/>
              <p:cNvSpPr/>
              <p:nvPr/>
            </p:nvSpPr>
            <p:spPr>
              <a:xfrm>
                <a:off x="7785000" y="471492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47"/>
              <p:cNvSpPr/>
              <p:nvPr/>
            </p:nvSpPr>
            <p:spPr>
              <a:xfrm>
                <a:off x="7785000" y="570564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8"/>
              <p:cNvSpPr/>
              <p:nvPr/>
            </p:nvSpPr>
            <p:spPr>
              <a:xfrm>
                <a:off x="8089920" y="51721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Text Box 49"/>
            <p:cNvSpPr/>
            <p:nvPr/>
          </p:nvSpPr>
          <p:spPr>
            <a:xfrm>
              <a:off x="5956200" y="4790880"/>
              <a:ext cx="60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2"/>
          <p:cNvSpPr/>
          <p:nvPr/>
        </p:nvSpPr>
        <p:spPr>
          <a:xfrm>
            <a:off x="393840" y="4595760"/>
            <a:ext cx="37209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Example Applic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Graph Isomorphism ≤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HSP over the symmetric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itle 1"/>
          <p:cNvSpPr/>
          <p:nvPr/>
        </p:nvSpPr>
        <p:spPr>
          <a:xfrm>
            <a:off x="304920" y="6080040"/>
            <a:ext cx="8458200" cy="52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las, nonabelian HSP has been the Afghanistan of quantum algorithm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4-10-15T00:21:35Z</dcterms:modified>
  <cp:revision>274</cp:revision>
  <dc:subject/>
  <dc:title>The Future of Computer Science</dc:title>
</cp:coreProperties>
</file>