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png" ContentType="image/png"/>
  <Override PartName="/ppt/media/image4.jpeg" ContentType="image/jpeg"/>
  <Override PartName="/ppt/media/image25.jpeg" ContentType="image/jpeg"/>
  <Override PartName="/ppt/media/image22.jpeg" ContentType="image/jpeg"/>
  <Override PartName="/ppt/media/image14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96B0-0B58-4A89-B27C-A4B897805E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3729-8F21-4790-BB76-C26A5768CDF9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ZOOM THRU  ZOOM THRU   Thanks so much for inviting me!  When I typed “quantum computer” into Google Image Search, that’s the first picture that came up.  That’s apparently what they look like.  (I should warn you that I’m a theorist rather than an engineer.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14C8-1339-4402-AE33-54B3DC75B82F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D7DC-5D7D-41A5-8A47-A03AFB3FEEB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862C-4923-44B1-92AD-7093D511D4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83D2-3496-498B-B0B0-80CA8C21A237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ED8D-B518-4233-9330-2B3EC5742C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52C4-69A8-4EA1-B3F5-AC5047B199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F0B8-B0BF-430C-A219-CCDDB557EB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B15C-0629-427C-B779-2C9C9C3FB9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FE73-4D71-4A48-B4DA-6080FF42DD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7591-2827-43A0-B4E6-E88E32764D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6CAC-0A2A-462F-AEBA-53935F9483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5DD3-26DB-4FE8-9DD9-5A5A5B63F0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9F49-9069-4216-AA23-D98A26E961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263E-5EFD-45EF-A982-BD5F840BA5D4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0A8E-2FDD-421D-9F6A-2BC142DD8CF8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0F70-EFC7-49F3-AC43-7E282E04729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21C5-9D47-452D-B705-7AE2E7BDB9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6C94-1CCD-4BD1-9FBB-B8957217EC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2831-365E-4282-AFC0-A9505702C0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05FE-B20F-47C8-AB1B-C89AE6B32C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7F79-1E72-4EA1-9492-17BCA03EF5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9A9C-E144-4F3A-818D-F595C0BEC3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A9EC-5899-46C5-878B-EA2887D5B4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B1C3-AD95-4221-B807-1167314B63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C50A-25D4-4806-A3DC-C420E9BED7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01F4-9EF8-4E4E-B1F8-D822D808D1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577A-1AC1-40FC-B93E-481BD0D16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9A48-96C4-470D-8667-C21767D8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58B4-D1E9-4A08-B66A-1BA5D804A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EADF-A3AF-41A8-8BA5-91704DD08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B95B-1A19-4353-826D-AD3702740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5ED8-C8A1-456D-9164-C9A8C0A8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A078-01B8-49A2-BCB8-3A1B85B1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F719-79FC-4D68-A0FF-B6525E8B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C657-F1E9-446F-AA59-BFD4C227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A3BD-C54A-40A0-96E8-6B0C5B21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6218F-593F-4815-ADC8-7E106E6D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C66E-8781-4F3E-AE02-9A81B67D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78B5-934E-4CA3-9153-EA5C197D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D929-2193-4426-98D4-79C388CB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D71D-E03A-469C-A734-CDD5DDCD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B303-22EA-437E-8E2D-937C17F16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8019-A871-4508-B459-C0E1F0603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0892B-E851-44AB-A981-3A565D265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4B45F-EBF1-49EB-8D46-943F21343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A31BC-DBDA-4D21-9C3E-DAEE807B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CF1F6-6E13-4D39-AEA7-945A02C0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341A4-FFE8-4824-8E06-D4C4998E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B4ED-7209-48A4-AB28-76CA3B0C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976F8-708E-4FB1-B1F8-D68B7A7B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6AB70-04C6-4CF2-88A7-15D4C06E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0632C-9D93-42E2-9165-D823398B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0F8CA-48E4-4F41-899F-7C10C38A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0966F-9398-4DE6-8300-C1317C81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ECFDF-43D0-4A84-BD53-E57B90E28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E5C02-0F69-425D-BE37-94D38BB33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3D4F8-2F86-4FBD-BC8C-DC726DDAE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643D3-CB90-44C2-915B-A3D5EFE2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39295-9C68-4F84-9B8B-CFD92064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61A9-8649-4BFC-BC39-DA4059C3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89177-4515-4DA3-831E-728C5B62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2330A-508C-4D4B-BD83-89BB8CC7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1AB9B-01F5-40A6-A397-A94B424B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40714-35E3-4537-B340-24432721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A8516-F6BD-4291-8E0A-DF488F5F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4402D-A601-4771-8468-71E96D93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74278-44D8-493F-B3E8-B5507805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A9C88-B4D6-4775-9A50-20DC5187A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9D6CD-83F1-44CD-A383-D37ED99AB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1DF98-4598-48BD-91AA-2ECAE10D8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D2E7-F9DC-41D0-A959-BA08CF42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63807-CA49-434A-9C3D-6AA729EF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3B406-6B10-400C-ABC8-CE8D86CF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1E9B8-35F8-427D-869F-9163DEE8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713B6-54D7-4886-999F-120327E3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C8D46-02E1-4BA7-B95D-0B453F26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DA77E-6898-4AF2-94FA-C232D72E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CB8B2-78E8-40E9-B177-7B358E88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217AF-90E3-49DF-80EF-657588B9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4A0F0-1285-488B-9BC8-9703F871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DE9F9-1B60-4A2D-9FF4-1FD629DEE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5BDB-C383-437C-ADDB-B486C2A2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73F92-DB6D-4007-AF9E-EBA3BB595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A628B-4B48-4BD2-8695-807FE01BD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6BC46-A83E-4CA7-964F-B2E5F814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45B2B-8549-4D51-9C73-7CD31B81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C7185-9D1C-4C3C-BECA-D74A8746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615DF-6003-424A-963E-00D3C850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A9889-0CAC-46EF-B3E2-CBE45FDF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53681-A42D-4168-8AF3-B649DB83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1511C-7B7D-4B1D-9270-9B83A982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12532-310F-4CAA-92A4-DE090565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495D-1DFA-4DC6-B32B-C5297E42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9F301-FBF1-40F5-80BE-4A7C50FC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55F91-4E6B-49DB-9306-E41455EFD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7980C-D9B5-4540-8158-FDE9601DD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0980-C9AA-48A9-B9B7-CDC2E130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288A-6DFA-4473-9764-795D758B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013A-FA23-4CD5-9ADF-0CF9B6E561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21E1-980C-4B39-923E-DF2CBD553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9375-4FC8-4D89-B9BE-AAE0F8184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24BF-266C-4D02-8E40-AAC74D06C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1BBC-A0C1-4A07-9757-958EEC657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C298-A041-4C4B-8B2C-C2B321518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28368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Calibri"/>
                <a:ea typeface="Calibri"/>
              </a:rPr>
              <a:t>When Exactly Do Quantum Computers Provide A Speedup?</a:t>
            </a:r>
            <a:endParaRPr b="1" lang="en-US" sz="4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5409720"/>
            <a:ext cx="7848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Scott Aaronson (MIT)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Papers &amp; slides at www.scottaaronso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2590920" y="2057400"/>
            <a:ext cx="434340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Calibri"/>
              </a:rPr>
              <a:t>Quantum Adiabatic Algorithm</a:t>
            </a:r>
            <a:br>
              <a:rPr sz="44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Calibri"/>
              </a:rPr>
              <a:t>(Farhi et al. 2000)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1271520" y="1281240"/>
            <a:ext cx="104472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7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76320" y="243828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amiltonian with easily-prepared ground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7"/>
          <p:cNvSpPr/>
          <p:nvPr/>
        </p:nvSpPr>
        <p:spPr>
          <a:xfrm>
            <a:off x="6819840" y="1355760"/>
            <a:ext cx="104472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7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8"/>
          <p:cNvSpPr/>
          <p:nvPr/>
        </p:nvSpPr>
        <p:spPr>
          <a:xfrm>
            <a:off x="4038480" y="2438280"/>
            <a:ext cx="495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round state encodes solution to 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  <a:ea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complet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9"/>
          <p:cNvSpPr/>
          <p:nvPr/>
        </p:nvSpPr>
        <p:spPr>
          <a:xfrm>
            <a:off x="2286000" y="1371600"/>
            <a:ext cx="4572000" cy="890640"/>
          </a:xfrm>
          <a:custGeom>
            <a:avLst/>
            <a:gdLst>
              <a:gd name="textAreaLeft" fmla="*/ 0 w 4572000"/>
              <a:gd name="textAreaRight" fmla="*/ 4572360 w 4572000"/>
              <a:gd name="textAreaTop" fmla="*/ 0 h 890640"/>
              <a:gd name="textAreaBottom" fmla="*/ 891000 h 890640"/>
            </a:gdLst>
            <a:ahLst/>
            <a:rect l="textAreaLeft" t="textAreaTop" r="textAreaRight" b="textAreaBottom"/>
            <a:pathLst>
              <a:path w="2880" h="561">
                <a:moveTo>
                  <a:pt x="0" y="302"/>
                </a:moveTo>
                <a:cubicBezTo>
                  <a:pt x="214" y="139"/>
                  <a:pt x="425" y="0"/>
                  <a:pt x="633" y="42"/>
                </a:cubicBezTo>
                <a:cubicBezTo>
                  <a:pt x="841" y="84"/>
                  <a:pt x="1008" y="545"/>
                  <a:pt x="1249" y="553"/>
                </a:cubicBezTo>
                <a:cubicBezTo>
                  <a:pt x="1490" y="561"/>
                  <a:pt x="1805" y="122"/>
                  <a:pt x="2077" y="91"/>
                </a:cubicBezTo>
                <a:cubicBezTo>
                  <a:pt x="2349" y="60"/>
                  <a:pt x="2616" y="201"/>
                  <a:pt x="2880" y="367"/>
                </a:cubicBezTo>
              </a:path>
            </a:pathLst>
          </a:custGeom>
          <a:noFill/>
          <a:ln w="25560">
            <a:solidFill>
              <a:srgbClr val="993366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2" descr="adiabatic.gif"/>
          <p:cNvPicPr/>
          <p:nvPr/>
        </p:nvPicPr>
        <p:blipFill>
          <a:blip r:embed="rId1"/>
          <a:stretch/>
        </p:blipFill>
        <p:spPr>
          <a:xfrm>
            <a:off x="4495680" y="3365640"/>
            <a:ext cx="4496040" cy="3492360"/>
          </a:xfrm>
          <a:prstGeom prst="rect">
            <a:avLst/>
          </a:prstGeom>
          <a:ln w="0">
            <a:noFill/>
          </a:ln>
        </p:spPr>
      </p:pic>
      <p:sp>
        <p:nvSpPr>
          <p:cNvPr id="390" name="Oval 9"/>
          <p:cNvSpPr/>
          <p:nvPr/>
        </p:nvSpPr>
        <p:spPr>
          <a:xfrm>
            <a:off x="8001000" y="4051440"/>
            <a:ext cx="457200" cy="457200"/>
          </a:xfrm>
          <a:prstGeom prst="ellipse">
            <a:avLst/>
          </a:prstGeom>
          <a:solidFill>
            <a:srgbClr val="ff3300">
              <a:alpha val="24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7848720" y="3906720"/>
            <a:ext cx="771480" cy="754200"/>
          </a:xfrm>
          <a:prstGeom prst="ellipse">
            <a:avLst/>
          </a:prstGeom>
          <a:solidFill>
            <a:srgbClr val="ff3300">
              <a:alpha val="24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11"/>
          <p:cNvSpPr/>
          <p:nvPr/>
        </p:nvSpPr>
        <p:spPr>
          <a:xfrm>
            <a:off x="7696080" y="3763800"/>
            <a:ext cx="1105200" cy="1049400"/>
          </a:xfrm>
          <a:prstGeom prst="ellipse">
            <a:avLst/>
          </a:prstGeom>
          <a:solidFill>
            <a:srgbClr val="ff3300">
              <a:alpha val="24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http://info.speckdesign.com/Portals/211265/images/D-Wave%20One%20-%20Quantum%20Computer.jpg"/>
          <p:cNvPicPr/>
          <p:nvPr/>
        </p:nvPicPr>
        <p:blipFill>
          <a:blip r:embed="rId2"/>
          <a:stretch/>
        </p:blipFill>
        <p:spPr>
          <a:xfrm>
            <a:off x="533520" y="3906720"/>
            <a:ext cx="3165480" cy="225900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10"/>
          <p:cNvSpPr/>
          <p:nvPr/>
        </p:nvSpPr>
        <p:spPr>
          <a:xfrm>
            <a:off x="4336920" y="5334120"/>
            <a:ext cx="4267440" cy="9471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  <a:ea typeface="Arial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“Eigenvalue gap” can be exponentially s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Calibri"/>
              </a:rPr>
              <a:t>Landscapeology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3282840" y="1295280"/>
            <a:ext cx="556272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diabatic algorithm can find global minimum exponentially faster than simulated annealing </a:t>
            </a:r>
            <a:r>
              <a:rPr b="1" lang="en-US" sz="2200" spc="-1" strike="noStrike">
                <a:solidFill>
                  <a:srgbClr val="00b050"/>
                </a:solidFill>
                <a:latin typeface="Calibri"/>
                <a:ea typeface="Arial"/>
              </a:rPr>
              <a:t>(though maybe other classical algorithms do bet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3319560" y="3173400"/>
            <a:ext cx="5562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Simulated annealing can find global minimum exponentially faster than adiabatic algorithm (!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3346560" y="4800600"/>
            <a:ext cx="5562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Simulated annealing and adiabatic algorithm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bot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need exponential time to find global minim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Group 1"/>
          <p:cNvGrpSpPr/>
          <p:nvPr/>
        </p:nvGrpSpPr>
        <p:grpSpPr>
          <a:xfrm>
            <a:off x="380880" y="1141560"/>
            <a:ext cx="2752920" cy="2070000"/>
            <a:chOff x="380880" y="1141560"/>
            <a:chExt cx="2752920" cy="2070000"/>
          </a:xfrm>
        </p:grpSpPr>
        <p:sp>
          <p:nvSpPr>
            <p:cNvPr id="400" name="Freeform 14"/>
            <p:cNvSpPr/>
            <p:nvPr/>
          </p:nvSpPr>
          <p:spPr>
            <a:xfrm>
              <a:off x="380880" y="1141560"/>
              <a:ext cx="2752920" cy="2070000"/>
            </a:xfrm>
            <a:custGeom>
              <a:avLst/>
              <a:gdLst/>
              <a:ahLst/>
              <a:rect l="l" t="t" r="r" b="b"/>
              <a:pathLst>
                <a:path w="2753248" h="2070022">
                  <a:moveTo>
                    <a:pt x="0" y="321848"/>
                  </a:moveTo>
                  <a:cubicBezTo>
                    <a:pt x="296426" y="700336"/>
                    <a:pt x="592852" y="1078824"/>
                    <a:pt x="783771" y="1025233"/>
                  </a:cubicBezTo>
                  <a:cubicBezTo>
                    <a:pt x="974690" y="971642"/>
                    <a:pt x="1065125" y="-19796"/>
                    <a:pt x="1145512" y="301"/>
                  </a:cubicBezTo>
                  <a:cubicBezTo>
                    <a:pt x="1225899" y="20398"/>
                    <a:pt x="1112017" y="804169"/>
                    <a:pt x="1266092" y="1145813"/>
                  </a:cubicBezTo>
                  <a:cubicBezTo>
                    <a:pt x="1420167" y="1487457"/>
                    <a:pt x="1822101" y="2197541"/>
                    <a:pt x="2069960" y="2050165"/>
                  </a:cubicBezTo>
                  <a:cubicBezTo>
                    <a:pt x="2317819" y="1902789"/>
                    <a:pt x="2535533" y="1082173"/>
                    <a:pt x="2753248" y="261558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7"/>
            <p:cNvSpPr/>
            <p:nvPr/>
          </p:nvSpPr>
          <p:spPr>
            <a:xfrm>
              <a:off x="444240" y="1371600"/>
              <a:ext cx="193680" cy="193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2"/>
          <p:cNvGrpSpPr/>
          <p:nvPr/>
        </p:nvGrpSpPr>
        <p:grpSpPr>
          <a:xfrm>
            <a:off x="415800" y="3429000"/>
            <a:ext cx="2683080" cy="876240"/>
            <a:chOff x="415800" y="3429000"/>
            <a:chExt cx="2683080" cy="876240"/>
          </a:xfrm>
        </p:grpSpPr>
        <p:sp>
          <p:nvSpPr>
            <p:cNvPr id="403" name="Freeform 15"/>
            <p:cNvSpPr/>
            <p:nvPr/>
          </p:nvSpPr>
          <p:spPr>
            <a:xfrm>
              <a:off x="415800" y="3429000"/>
              <a:ext cx="2683080" cy="876240"/>
            </a:xfrm>
            <a:custGeom>
              <a:avLst/>
              <a:gdLst/>
              <a:ahLst/>
              <a:rect l="l" t="t" r="r" b="b"/>
              <a:pathLst>
                <a:path w="2682909" h="875583">
                  <a:moveTo>
                    <a:pt x="0" y="160774"/>
                  </a:moveTo>
                  <a:cubicBezTo>
                    <a:pt x="59453" y="336620"/>
                    <a:pt x="118906" y="512466"/>
                    <a:pt x="200967" y="512466"/>
                  </a:cubicBezTo>
                  <a:cubicBezTo>
                    <a:pt x="283028" y="512466"/>
                    <a:pt x="187569" y="212690"/>
                    <a:pt x="492369" y="160774"/>
                  </a:cubicBezTo>
                  <a:cubicBezTo>
                    <a:pt x="797169" y="108858"/>
                    <a:pt x="1716592" y="82061"/>
                    <a:pt x="2029766" y="200967"/>
                  </a:cubicBezTo>
                  <a:cubicBezTo>
                    <a:pt x="2342940" y="319873"/>
                    <a:pt x="2262554" y="907701"/>
                    <a:pt x="2371411" y="874207"/>
                  </a:cubicBezTo>
                  <a:cubicBezTo>
                    <a:pt x="2480268" y="840713"/>
                    <a:pt x="2582426" y="425380"/>
                    <a:pt x="2682909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29"/>
            <p:cNvSpPr/>
            <p:nvPr/>
          </p:nvSpPr>
          <p:spPr>
            <a:xfrm>
              <a:off x="444240" y="3504960"/>
              <a:ext cx="193680" cy="193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3"/>
          <p:cNvGrpSpPr/>
          <p:nvPr/>
        </p:nvGrpSpPr>
        <p:grpSpPr>
          <a:xfrm>
            <a:off x="371520" y="4606920"/>
            <a:ext cx="2663640" cy="1830240"/>
            <a:chOff x="371520" y="4606920"/>
            <a:chExt cx="2663640" cy="1830240"/>
          </a:xfrm>
        </p:grpSpPr>
        <p:sp>
          <p:nvSpPr>
            <p:cNvPr id="406" name="Freeform 16"/>
            <p:cNvSpPr/>
            <p:nvPr/>
          </p:nvSpPr>
          <p:spPr>
            <a:xfrm>
              <a:off x="371520" y="4647960"/>
              <a:ext cx="2663640" cy="1789200"/>
            </a:xfrm>
            <a:custGeom>
              <a:avLst/>
              <a:gdLst/>
              <a:ahLst/>
              <a:rect l="l" t="t" r="r" b="b"/>
              <a:pathLst>
                <a:path w="2662813" h="1788627">
                  <a:moveTo>
                    <a:pt x="0" y="0"/>
                  </a:moveTo>
                  <a:cubicBezTo>
                    <a:pt x="361740" y="626347"/>
                    <a:pt x="723481" y="1252694"/>
                    <a:pt x="1055077" y="1266092"/>
                  </a:cubicBezTo>
                  <a:cubicBezTo>
                    <a:pt x="1386673" y="1279490"/>
                    <a:pt x="1775209" y="-6699"/>
                    <a:pt x="1989574" y="80387"/>
                  </a:cubicBezTo>
                  <a:cubicBezTo>
                    <a:pt x="2203939" y="167473"/>
                    <a:pt x="2229060" y="1795306"/>
                    <a:pt x="2341266" y="1788607"/>
                  </a:cubicBezTo>
                  <a:cubicBezTo>
                    <a:pt x="2453473" y="1781908"/>
                    <a:pt x="2527998" y="765349"/>
                    <a:pt x="2662813" y="40193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30"/>
            <p:cNvSpPr/>
            <p:nvPr/>
          </p:nvSpPr>
          <p:spPr>
            <a:xfrm>
              <a:off x="444240" y="4606920"/>
              <a:ext cx="193680" cy="193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73160" y="201240"/>
            <a:ext cx="879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Quantum Machine Learning Algorith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243000" y="2819520"/>
            <a:ext cx="876276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THE FINE PRI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on’t get solution vector explicitly, but only as vector of amplitudes.  Need to measure to learn anyth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ependence on condition number could kill exponential speed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Need a way of loading huge amounts of data into quantum state (which, again, could kill exponential speed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Not ruled out that there are fast randomized algorithms for the same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2" descr="http://meche.mit.edu/people/img/slloyd.jpg"/>
          <p:cNvPicPr/>
          <p:nvPr/>
        </p:nvPicPr>
        <p:blipFill>
          <a:blip r:embed="rId1"/>
          <a:stretch/>
        </p:blipFill>
        <p:spPr>
          <a:xfrm>
            <a:off x="369720" y="1116000"/>
            <a:ext cx="1295640" cy="143208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6"/>
          <p:cNvSpPr/>
          <p:nvPr/>
        </p:nvSpPr>
        <p:spPr>
          <a:xfrm>
            <a:off x="1893960" y="123192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xponential quantum speedups’ for solving linear systems, support vector machines, Google PageRank, computing Betti numbers, EM scattering problem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2"/>
          <p:cNvSpPr/>
          <p:nvPr/>
        </p:nvSpPr>
        <p:spPr>
          <a:xfrm>
            <a:off x="311040" y="914400"/>
            <a:ext cx="84582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Suppose we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jus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want a quantum system for which there’s good evidence that it’s hard to simulate classically—we don’t care what it’s useful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52280" y="18720"/>
            <a:ext cx="883944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70c0"/>
                </a:solidFill>
                <a:latin typeface="Calibri"/>
                <a:ea typeface="Calibri"/>
              </a:rPr>
              <a:t>BosonSampling</a:t>
            </a:r>
            <a:endParaRPr b="1" lang="en-US" sz="4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295200" y="4038480"/>
            <a:ext cx="2509920" cy="22640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http://www.photonics.com/images2/Spectra/Features/2013/06/Quantum_Figure4.jpg"/>
          <p:cNvPicPr/>
          <p:nvPr/>
        </p:nvPicPr>
        <p:blipFill>
          <a:blip r:embed="rId2"/>
          <a:stretch/>
        </p:blipFill>
        <p:spPr>
          <a:xfrm>
            <a:off x="6019920" y="4030560"/>
            <a:ext cx="2957400" cy="198144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2"/>
          <p:cNvSpPr/>
          <p:nvPr/>
        </p:nvSpPr>
        <p:spPr>
          <a:xfrm>
            <a:off x="2962440" y="3965400"/>
            <a:ext cx="289548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Our proposal: Identical single photons sent through network of interferometers, then measured at output m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2"/>
          <p:cNvSpPr/>
          <p:nvPr/>
        </p:nvSpPr>
        <p:spPr>
          <a:xfrm>
            <a:off x="311040" y="2225520"/>
            <a:ext cx="84582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A.-Arkhipov 2011, Bremner-Jozsa-Shepherd 2011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In that case, we can plausibly improve both the hardware requirements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the evidence for classical hardness, compared to Shor’s factoring algorith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itle 1"/>
          <p:cNvSpPr/>
          <p:nvPr/>
        </p:nvSpPr>
        <p:spPr>
          <a:xfrm>
            <a:off x="533520" y="2735280"/>
            <a:ext cx="4267080" cy="228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We showed: if a fast, classical exact simulation of BosonSampling is possible, then the polynomial hierarchy collapses to the third leve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itle 1"/>
          <p:cNvSpPr/>
          <p:nvPr/>
        </p:nvSpPr>
        <p:spPr>
          <a:xfrm>
            <a:off x="5181480" y="2776680"/>
            <a:ext cx="3733920" cy="228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Experimental demonstrations with 3-4 photons achieved (by groups in Oxford, Brisbane, Rome, Vienn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itle 1"/>
          <p:cNvSpPr/>
          <p:nvPr/>
        </p:nvSpPr>
        <p:spPr>
          <a:xfrm>
            <a:off x="471600" y="5638680"/>
            <a:ext cx="84438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For more: My complex quantum systems seminar tomor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1447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“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But you just listed a bunch of examples where you know a quantum speedup, and other examples where you don’t!  What you guys need is a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theory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, which would tell you from first principles when quantum speedups are possible.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2" name="Picture 2" descr="http://clarkdogpaw.org/wp-content/uploads/2014/09/Thanks.gif"/>
          <p:cNvPicPr/>
          <p:nvPr/>
        </p:nvPicPr>
        <p:blipFill>
          <a:blip r:embed="rId1"/>
          <a:stretch/>
        </p:blipFill>
        <p:spPr>
          <a:xfrm>
            <a:off x="2438280" y="3768840"/>
            <a:ext cx="388620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e Quantum Black-Box Model</a:t>
            </a:r>
            <a:br>
              <a:rPr sz="4400"/>
            </a:b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The setting for much of what we know about the power of quantum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AutoShape 3"/>
          <p:cNvSpPr/>
          <p:nvPr/>
        </p:nvSpPr>
        <p:spPr>
          <a:xfrm>
            <a:off x="3619440" y="1938240"/>
            <a:ext cx="1185840" cy="1185840"/>
          </a:xfrm>
          <a:prstGeom prst="cube">
            <a:avLst>
              <a:gd name="adj" fmla="val 25000"/>
            </a:avLst>
          </a:prstGeom>
          <a:solidFill>
            <a:srgbClr val="2626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5"/>
          <p:cNvSpPr/>
          <p:nvPr/>
        </p:nvSpPr>
        <p:spPr>
          <a:xfrm>
            <a:off x="1049400" y="2203560"/>
            <a:ext cx="8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6"/>
          <p:cNvSpPr/>
          <p:nvPr/>
        </p:nvSpPr>
        <p:spPr>
          <a:xfrm>
            <a:off x="1606680" y="2593800"/>
            <a:ext cx="1888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7"/>
          <p:cNvSpPr/>
          <p:nvPr/>
        </p:nvSpPr>
        <p:spPr>
          <a:xfrm>
            <a:off x="4923000" y="2560680"/>
            <a:ext cx="1888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8"/>
          <p:cNvSpPr/>
          <p:nvPr/>
        </p:nvSpPr>
        <p:spPr>
          <a:xfrm>
            <a:off x="6504120" y="2236680"/>
            <a:ext cx="1190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Calibri"/>
                <a:ea typeface="Arial"/>
              </a:rPr>
              <a:t>x</a:t>
            </a:r>
            <a:r>
              <a:rPr b="0" lang="en-CA" sz="3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2"/>
          <p:cNvSpPr/>
          <p:nvPr/>
        </p:nvSpPr>
        <p:spPr>
          <a:xfrm>
            <a:off x="272880" y="3359160"/>
            <a:ext cx="8534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n algorithm can mak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query transformation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, which ma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2"/>
          <p:cNvSpPr/>
          <p:nvPr/>
        </p:nvSpPr>
        <p:spPr>
          <a:xfrm>
            <a:off x="282600" y="5035680"/>
            <a:ext cx="8534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s well as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arbitrar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unitary transformations that don’t depend on X (we won’t worry about their computational cost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1"/>
              <p:cNvSpPr txBox="1"/>
              <p:nvPr/>
            </p:nvSpPr>
            <p:spPr>
              <a:xfrm>
                <a:off x="1320840" y="3879720"/>
                <a:ext cx="621648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w</m:t>
                        </m:r>
                        <m:r>
                          <m:t xml:space="preserve">⟩</m:t>
                        </m:r>
                        <m:r>
                          <m:t xml:space="preserve">→</m:t>
                        </m:r>
                      </m:e>
                    </m:nary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⊕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w</m:t>
                        </m:r>
                        <m:r>
                          <m:t xml:space="preserve">⟩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32" name="Text Box 2"/>
          <p:cNvSpPr/>
          <p:nvPr/>
        </p:nvSpPr>
        <p:spPr>
          <a:xfrm>
            <a:off x="2286000" y="4529160"/>
            <a:ext cx="685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Calibri"/>
                <a:ea typeface="Arial"/>
              </a:rPr>
              <a:t>(i=“query register,” a=“answer register,” w=“workspace”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"/>
          <p:cNvSpPr/>
          <p:nvPr/>
        </p:nvSpPr>
        <p:spPr>
          <a:xfrm>
            <a:off x="304920" y="6095880"/>
            <a:ext cx="8534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Its goal is to learn som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propert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f(X) 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(for example: is X 1-to-1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1"/>
          <p:cNvSpPr/>
          <p:nvPr/>
        </p:nvSpPr>
        <p:spPr>
          <a:xfrm>
            <a:off x="3733920" y="2236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alibr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0"/>
          <p:cNvSpPr/>
          <p:nvPr/>
        </p:nvSpPr>
        <p:spPr>
          <a:xfrm>
            <a:off x="1371600" y="3141720"/>
            <a:ext cx="6095880" cy="1800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“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Query complexity” of f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e minimum number of queries used by any algorithm that outputs f(X), with high probability, for every X of interest to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8"/>
          <p:cNvSpPr/>
          <p:nvPr/>
        </p:nvSpPr>
        <p:spPr>
          <a:xfrm>
            <a:off x="6324480" y="1557360"/>
            <a:ext cx="2073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Calibri"/>
                <a:ea typeface="Arial"/>
              </a:rPr>
              <a:t>X=x</a:t>
            </a:r>
            <a:r>
              <a:rPr b="0" lang="en-CA" sz="3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CA" sz="3600" spc="-1" strike="noStrike">
                <a:solidFill>
                  <a:srgbClr val="000000"/>
                </a:solidFill>
                <a:latin typeface="Calibri"/>
                <a:ea typeface="Arial"/>
              </a:rPr>
              <a:t>…x</a:t>
            </a:r>
            <a:r>
              <a:rPr b="0" lang="en-CA" sz="3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2184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otal Boolean Fun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Object 1"/>
              <p:cNvSpPr txBox="1"/>
              <p:nvPr/>
            </p:nvSpPr>
            <p:spPr>
              <a:xfrm>
                <a:off x="228600" y="1143000"/>
                <a:ext cx="3330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39" name="Text Box 2"/>
          <p:cNvSpPr/>
          <p:nvPr/>
        </p:nvSpPr>
        <p:spPr>
          <a:xfrm>
            <a:off x="328680" y="2666880"/>
            <a:ext cx="8534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8"/>
              <p:cNvSpPr txBox="1"/>
              <p:nvPr/>
            </p:nvSpPr>
            <p:spPr>
              <a:xfrm>
                <a:off x="1828800" y="2550960"/>
                <a:ext cx="633564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~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1" name="Text Box 2"/>
          <p:cNvSpPr/>
          <p:nvPr/>
        </p:nvSpPr>
        <p:spPr>
          <a:xfrm>
            <a:off x="328680" y="3352680"/>
            <a:ext cx="8534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Theorem (Beals et al. 1998)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For all Boolean functions f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Object 10"/>
              <p:cNvSpPr txBox="1"/>
              <p:nvPr/>
            </p:nvSpPr>
            <p:spPr>
              <a:xfrm>
                <a:off x="3340080" y="3844800"/>
                <a:ext cx="269244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f</m:t>
                                </m:r>
                              </m:e>
                            </m:d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3" name="Text Box 10"/>
          <p:cNvSpPr/>
          <p:nvPr/>
        </p:nvSpPr>
        <p:spPr>
          <a:xfrm>
            <a:off x="1143000" y="4633920"/>
            <a:ext cx="6934320" cy="9471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ow to reconcile with the exponential speedup of Shor’s algorithm?  Totality of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2"/>
          <p:cNvSpPr/>
          <p:nvPr/>
        </p:nvSpPr>
        <p:spPr>
          <a:xfrm>
            <a:off x="322200" y="5791320"/>
            <a:ext cx="8534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Longstanding Open Probl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Is there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Boolean function with a quantum quantum/classical gap better than quadratic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"/>
          <p:cNvSpPr/>
          <p:nvPr/>
        </p:nvSpPr>
        <p:spPr>
          <a:xfrm>
            <a:off x="3733920" y="107784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D(f): Deterministic query complexity of 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R(f): Randomized query complex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Q(f): Quantum query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Almost-Total Func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 Box 2"/>
          <p:cNvSpPr/>
          <p:nvPr/>
        </p:nvSpPr>
        <p:spPr>
          <a:xfrm>
            <a:off x="331920" y="1676520"/>
            <a:ext cx="8534160" cy="22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Conjecture (A.-Ambainis 2011)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Let Q be any quantum algorithm that makes T queries to an input 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n there’s a classical randomized that makes poly(T,1/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,1/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 queries to X, and that approximates Pr[Q accepts X] to within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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on a ≥1-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fraction of X’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2"/>
          <p:cNvSpPr/>
          <p:nvPr/>
        </p:nvSpPr>
        <p:spPr>
          <a:xfrm>
            <a:off x="331920" y="4267080"/>
            <a:ext cx="86468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Theorem (A.-Ambainis)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is would follow from an extremely natural conjecture in discrete Fourier analysis (“every bounded low-degree polynomial p: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[0,1] has a highly influential variable”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The Collision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41"/>
          <p:cNvSpPr/>
          <p:nvPr/>
        </p:nvSpPr>
        <p:spPr>
          <a:xfrm>
            <a:off x="457200" y="990720"/>
            <a:ext cx="7924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Given a 2-to-1 function f:{1,…,N}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{1,…,N}, find a </a:t>
            </a:r>
            <a:r>
              <a:rPr b="1" lang="en-US" sz="3000" spc="-1" strike="noStrike">
                <a:solidFill>
                  <a:srgbClr val="c00000"/>
                </a:solidFill>
                <a:latin typeface="Calibri"/>
                <a:ea typeface="Arial"/>
              </a:rPr>
              <a:t>collis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(i.e., two inputs x,y such that f(x)=f(y)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41"/>
          <p:cNvSpPr/>
          <p:nvPr/>
        </p:nvSpPr>
        <p:spPr>
          <a:xfrm>
            <a:off x="457200" y="2819520"/>
            <a:ext cx="784872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alibri"/>
                <a:ea typeface="Arial"/>
              </a:rPr>
              <a:t>Variant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Promised that f is either 2-to-1 or 1-to-1, decide whi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Models the breaking of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collision-resistant hash function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—a central problem in crypt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More structured than Grover search, but less structured than Shor’s period-finding problem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2"/>
          <p:cNvSpPr/>
          <p:nvPr/>
        </p:nvSpPr>
        <p:spPr>
          <a:xfrm>
            <a:off x="533520" y="2133720"/>
            <a:ext cx="8153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8000"/>
                </a:solidFill>
                <a:latin typeface="Calibri"/>
                <a:ea typeface="Arial"/>
              </a:rPr>
              <a:t>10  4  1  8  7  9  11  5  6  4  2  10  3  2  7  9  11  5  1  6  3  8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22"/>
          <p:cNvSpPr/>
          <p:nvPr/>
        </p:nvSpPr>
        <p:spPr>
          <a:xfrm>
            <a:off x="1905120" y="2133720"/>
            <a:ext cx="457200" cy="457200"/>
          </a:xfrm>
          <a:prstGeom prst="ellipse">
            <a:avLst/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23"/>
          <p:cNvSpPr/>
          <p:nvPr/>
        </p:nvSpPr>
        <p:spPr>
          <a:xfrm>
            <a:off x="5562720" y="2133720"/>
            <a:ext cx="457200" cy="457200"/>
          </a:xfrm>
          <a:prstGeom prst="ellipse">
            <a:avLst/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41"/>
          <p:cNvSpPr/>
          <p:nvPr/>
        </p:nvSpPr>
        <p:spPr>
          <a:xfrm>
            <a:off x="425520" y="304920"/>
            <a:ext cx="7804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Birthday Paradox: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Classically, ~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N queries are necessary and sufficient to find a collision with high prob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8" descr="MCj04363930000[1]"/>
          <p:cNvPicPr/>
          <p:nvPr/>
        </p:nvPicPr>
        <p:blipFill>
          <a:blip r:embed="rId1"/>
          <a:stretch/>
        </p:blipFill>
        <p:spPr>
          <a:xfrm>
            <a:off x="8229600" y="279360"/>
            <a:ext cx="703440" cy="89712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41"/>
          <p:cNvSpPr/>
          <p:nvPr/>
        </p:nvSpPr>
        <p:spPr>
          <a:xfrm>
            <a:off x="404640" y="1371600"/>
            <a:ext cx="845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Brassard-Høyer-Tapp 1997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Quantumly, ~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1/3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queries suff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4027320" y="2193840"/>
          <a:ext cx="4648320" cy="584280"/>
        </p:xfrm>
        <a:graphic>
          <a:graphicData uri="http://schemas.openxmlformats.org/drawingml/2006/table">
            <a:tbl>
              <a:tblPr/>
              <a:tblGrid>
                <a:gridCol w="665280"/>
                <a:gridCol w="662040"/>
                <a:gridCol w="665280"/>
                <a:gridCol w="663480"/>
                <a:gridCol w="665280"/>
                <a:gridCol w="661680"/>
                <a:gridCol w="665280"/>
              </a:tblGrid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459" name="Text Box 39"/>
          <p:cNvSpPr/>
          <p:nvPr/>
        </p:nvSpPr>
        <p:spPr>
          <a:xfrm>
            <a:off x="260280" y="2128680"/>
            <a:ext cx="3657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Grover on 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/3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f(x) val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944640" y="3797280"/>
          <a:ext cx="2666880" cy="593640"/>
        </p:xfrm>
        <a:graphic>
          <a:graphicData uri="http://schemas.openxmlformats.org/drawingml/2006/table">
            <a:tbl>
              <a:tblPr/>
              <a:tblGrid>
                <a:gridCol w="666720"/>
                <a:gridCol w="666720"/>
                <a:gridCol w="666720"/>
                <a:gridCol w="666720"/>
              </a:tblGrid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461" name="Text Box 19"/>
          <p:cNvSpPr/>
          <p:nvPr/>
        </p:nvSpPr>
        <p:spPr>
          <a:xfrm>
            <a:off x="3792600" y="3754440"/>
            <a:ext cx="4849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1/3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f(x) values queried classic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3"/>
          <p:cNvGrpSpPr/>
          <p:nvPr/>
        </p:nvGrpSpPr>
        <p:grpSpPr>
          <a:xfrm>
            <a:off x="1239840" y="2819520"/>
            <a:ext cx="3733920" cy="934920"/>
            <a:chOff x="1239840" y="2819520"/>
            <a:chExt cx="3733920" cy="934920"/>
          </a:xfrm>
        </p:grpSpPr>
        <p:sp>
          <p:nvSpPr>
            <p:cNvPr id="463" name="Line 40"/>
            <p:cNvSpPr/>
            <p:nvPr/>
          </p:nvSpPr>
          <p:spPr>
            <a:xfrm flipH="1">
              <a:off x="1239840" y="2819520"/>
              <a:ext cx="373392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41"/>
            <p:cNvSpPr/>
            <p:nvPr/>
          </p:nvSpPr>
          <p:spPr>
            <a:xfrm flipH="1">
              <a:off x="1925280" y="2819520"/>
              <a:ext cx="304812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42"/>
            <p:cNvSpPr/>
            <p:nvPr/>
          </p:nvSpPr>
          <p:spPr>
            <a:xfrm flipH="1">
              <a:off x="2611440" y="2819520"/>
              <a:ext cx="236232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43"/>
            <p:cNvSpPr/>
            <p:nvPr/>
          </p:nvSpPr>
          <p:spPr>
            <a:xfrm flipH="1">
              <a:off x="3296880" y="2819520"/>
              <a:ext cx="167652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Rectangle 41"/>
          <p:cNvSpPr/>
          <p:nvPr/>
        </p:nvSpPr>
        <p:spPr>
          <a:xfrm>
            <a:off x="425520" y="4724280"/>
            <a:ext cx="845496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A. 2002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First quantum lower bound for the collision problem (~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1/5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queries are needed; no exponential speedup possib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Shi 2002: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Improved lower bound of ~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1/3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.  Brassard-Høyer-Tapp’s algorithm is the best pos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Calibri"/>
              </a:rPr>
              <a:t>“</a:t>
            </a:r>
            <a:r>
              <a:rPr b="1" lang="en-US" sz="3400" spc="-1" strike="noStrike">
                <a:solidFill>
                  <a:srgbClr val="0070c0"/>
                </a:solidFill>
                <a:latin typeface="Calibri"/>
              </a:rPr>
              <a:t>We all hear about the experimental progress toward building quantum computers … but in the meantime, what about the applications?  It’s been 20 years since Peter Shor discovered his famous factoring algorithm.  Where are all the amazing </a:t>
            </a:r>
            <a:r>
              <a:rPr b="1" lang="en-US" sz="3400" spc="-1" strike="noStrike">
                <a:solidFill>
                  <a:srgbClr val="ff0000"/>
                </a:solidFill>
                <a:latin typeface="Calibri"/>
              </a:rPr>
              <a:t>new</a:t>
            </a:r>
            <a:r>
              <a:rPr b="1" lang="en-US" sz="3400" spc="-1" strike="noStrike">
                <a:solidFill>
                  <a:srgbClr val="0070c0"/>
                </a:solidFill>
                <a:latin typeface="Calibri"/>
              </a:rPr>
              <a:t> applications we were promised?”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itle 1"/>
          <p:cNvSpPr/>
          <p:nvPr/>
        </p:nvSpPr>
        <p:spPr>
          <a:xfrm>
            <a:off x="388800" y="5294160"/>
            <a:ext cx="8534520" cy="681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o promised you more quantum algorithms?  Not 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itle 1"/>
          <p:cNvSpPr/>
          <p:nvPr/>
        </p:nvSpPr>
        <p:spPr>
          <a:xfrm>
            <a:off x="392040" y="380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  <a:ea typeface="Arial"/>
              </a:rPr>
              <a:t>Genesis of This Tal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29760" y="2286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Symmetric Probl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ext Box 2"/>
          <p:cNvSpPr/>
          <p:nvPr/>
        </p:nvSpPr>
        <p:spPr>
          <a:xfrm>
            <a:off x="384120" y="4202280"/>
            <a:ext cx="864720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New Result (Ben-David 2014)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If f:S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{0,1} is any Boolean function of permutations, then D(f)=O(Q(f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1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41"/>
          <p:cNvSpPr/>
          <p:nvPr/>
        </p:nvSpPr>
        <p:spPr>
          <a:xfrm>
            <a:off x="344520" y="1143000"/>
            <a:ext cx="84549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A.-Ambainis 2011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Massive generalization of collision lower bound.  If f is any function whatsoever that’s symmetric under permuting the inputs and outputs, and has sufficiently many outputs (like collision, element distinctness, etc.), th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Object 1"/>
              <p:cNvSpPr txBox="1"/>
              <p:nvPr/>
            </p:nvSpPr>
            <p:spPr>
              <a:xfrm>
                <a:off x="1371600" y="2835360"/>
                <a:ext cx="614844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f</m:t>
                                </m:r>
                              </m:e>
                            </m:d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poly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2" name="Title 1"/>
          <p:cNvSpPr/>
          <p:nvPr/>
        </p:nvSpPr>
        <p:spPr>
          <a:xfrm>
            <a:off x="436680" y="5562720"/>
            <a:ext cx="8397720" cy="1003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Upshot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Need a “structured” promise if you want an exponential quantum speed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What’s the largest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possible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 quantum speedup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41"/>
          <p:cNvSpPr/>
          <p:nvPr/>
        </p:nvSpPr>
        <p:spPr>
          <a:xfrm>
            <a:off x="361800" y="1447920"/>
            <a:ext cx="8571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“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Forrelation”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Given two Boolean functions f,g: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{-1,1}, estimate how correlated g is with the Fourier transform of f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Object 2"/>
              <p:cNvSpPr txBox="1"/>
              <p:nvPr/>
            </p:nvSpPr>
            <p:spPr>
              <a:xfrm>
                <a:off x="1897200" y="2333520"/>
                <a:ext cx="5844960" cy="134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  <m:d>
                      <m:dPr>
                        <m:begChr m:val="|"/>
                        <m:endChr m:val="|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0,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sub>
                          <m:sup/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y</m:t>
                                </m:r>
                              </m:sup>
                            </m:sSup>
                            <m:r>
                              <m:t xml:space="preserve">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</m:e>
                            </m:d>
                          </m:e>
                        </m:nary>
                      </m:e>
                    </m:d>
                    <m:r>
                      <m:t xml:space="preserve"> </m:t>
                    </m:r>
                    <m:m>
                      <m:mr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?</m:t>
                          </m:r>
                        </m:e>
                      </m:mr>
                      <m:mr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2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?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476" name="Rectangle 41"/>
          <p:cNvSpPr/>
          <p:nvPr/>
        </p:nvSpPr>
        <p:spPr>
          <a:xfrm>
            <a:off x="361800" y="3809880"/>
            <a:ext cx="8571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A.-Ambainis 2014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This problem is solvable using only 1 quantum query, but requires at least ~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/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/n queries classic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41"/>
          <p:cNvSpPr/>
          <p:nvPr/>
        </p:nvSpPr>
        <p:spPr>
          <a:xfrm>
            <a:off x="372960" y="4800600"/>
            <a:ext cx="85708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Furthermore, this separation is essentially the largest possible! 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N-bit problem that’s solvable with k quantum queries, is also solvable with ~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1-1/2k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classical que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itle 1"/>
          <p:cNvSpPr/>
          <p:nvPr/>
        </p:nvSpPr>
        <p:spPr>
          <a:xfrm>
            <a:off x="401760" y="6203880"/>
            <a:ext cx="8397720" cy="501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 details: My CS theory seminar on Fri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91880" y="304920"/>
            <a:ext cx="688644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Calibri"/>
                <a:ea typeface="Calibri"/>
              </a:rPr>
              <a:t>Can we turn the lemon of QCs’ limitations into the lemonade of physical insight?</a:t>
            </a: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0" name="Text Box 5"/>
          <p:cNvSpPr/>
          <p:nvPr/>
        </p:nvSpPr>
        <p:spPr>
          <a:xfrm>
            <a:off x="368280" y="1371600"/>
            <a:ext cx="81532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Proposal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Adopt as a principle (conjecture?) that there’s no efficient way to solve </a:t>
            </a:r>
            <a:r>
              <a:rPr b="1" lang="en-US" sz="3000" spc="-1" strike="noStrike">
                <a:solidFill>
                  <a:srgbClr val="cc00cc"/>
                </a:solidFill>
                <a:latin typeface="Calibri"/>
                <a:ea typeface="Arial"/>
              </a:rPr>
              <a:t>N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-complete problems in the physical world, then investigate the implications for other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3" descr="C:\Users\Scott\AppData\Local\Microsoft\Windows\Temporary Internet Files\Content.IE5\5YBGWW2Y\MC900217530[1].wmf"/>
          <p:cNvPicPr/>
          <p:nvPr/>
        </p:nvPicPr>
        <p:blipFill>
          <a:blip r:embed="rId1"/>
          <a:stretch/>
        </p:blipFill>
        <p:spPr>
          <a:xfrm>
            <a:off x="6973920" y="304920"/>
            <a:ext cx="1882800" cy="106668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5"/>
          <p:cNvSpPr/>
          <p:nvPr/>
        </p:nvSpPr>
        <p:spPr>
          <a:xfrm>
            <a:off x="368280" y="3413160"/>
            <a:ext cx="8496360" cy="33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Example Implications:</a:t>
            </a:r>
            <a:br>
              <a:rPr sz="30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- No closed timelike curves </a:t>
            </a:r>
            <a:r>
              <a:rPr b="1" lang="en-US" sz="2600" spc="-1" strike="noStrike">
                <a:solidFill>
                  <a:srgbClr val="00b050"/>
                </a:solidFill>
                <a:latin typeface="Calibri"/>
                <a:ea typeface="Arial"/>
              </a:rPr>
              <a:t>(A.-Watrous 2009)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- No postselected final state </a:t>
            </a:r>
            <a:r>
              <a:rPr b="1" lang="en-US" sz="2000" spc="-1" strike="noStrike">
                <a:solidFill>
                  <a:srgbClr val="00b050"/>
                </a:solidFill>
                <a:latin typeface="Calibri"/>
                <a:ea typeface="Arial"/>
              </a:rPr>
              <a:t>(probably rules out Horowitz-Maldacena)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- Something like the holographic entropy bound should hold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- Metastable states must be unavoidable in spin glasses, protein folding, etc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- Many spectral gaps must decrease exponentially with number of partic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75760" y="380880"/>
            <a:ext cx="856476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  <a:ea typeface="Calibri"/>
              </a:rPr>
              <a:t>“</a:t>
            </a:r>
            <a:r>
              <a:rPr b="1" lang="en-US" sz="4200" spc="-1" strike="noStrike">
                <a:solidFill>
                  <a:srgbClr val="333399"/>
                </a:solidFill>
                <a:latin typeface="Calibri"/>
                <a:ea typeface="Calibri"/>
              </a:rPr>
              <a:t>Explanation” for the linearity of the Schrödinger equation</a:t>
            </a:r>
            <a:endParaRPr b="1" lang="en-US" sz="4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276120" y="1728720"/>
            <a:ext cx="8612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alibri"/>
                <a:ea typeface="Arial"/>
              </a:rPr>
              <a:t>Abrams &amp; Lloyd 1998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If quantum mechanics were nonlinear, one could generically exploit that to solve </a:t>
            </a:r>
            <a:r>
              <a:rPr b="1" lang="en-US" sz="3200" spc="-1" strike="noStrike">
                <a:solidFill>
                  <a:srgbClr val="cc00cc"/>
                </a:solidFill>
                <a:latin typeface="Calibri"/>
                <a:ea typeface="Arial"/>
              </a:rPr>
              <a:t>N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complete problems in polynomial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6"/>
          <p:cNvGrpSpPr/>
          <p:nvPr/>
        </p:nvGrpSpPr>
        <p:grpSpPr>
          <a:xfrm>
            <a:off x="-495360" y="6041880"/>
            <a:ext cx="4733280" cy="355320"/>
            <a:chOff x="-495360" y="6041880"/>
            <a:chExt cx="4733280" cy="355320"/>
          </a:xfrm>
        </p:grpSpPr>
        <p:sp>
          <p:nvSpPr>
            <p:cNvPr id="486" name="Line 7"/>
            <p:cNvSpPr/>
            <p:nvPr/>
          </p:nvSpPr>
          <p:spPr>
            <a:xfrm>
              <a:off x="1871280" y="6160320"/>
              <a:ext cx="2366640" cy="2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8"/>
            <p:cNvSpPr/>
            <p:nvPr/>
          </p:nvSpPr>
          <p:spPr>
            <a:xfrm>
              <a:off x="-495360" y="6041880"/>
              <a:ext cx="23666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Group 9"/>
          <p:cNvGrpSpPr/>
          <p:nvPr/>
        </p:nvGrpSpPr>
        <p:grpSpPr>
          <a:xfrm>
            <a:off x="-490320" y="5929920"/>
            <a:ext cx="4722480" cy="696240"/>
            <a:chOff x="-490320" y="5929920"/>
            <a:chExt cx="4722480" cy="696240"/>
          </a:xfrm>
        </p:grpSpPr>
        <p:sp>
          <p:nvSpPr>
            <p:cNvPr id="489" name="Line 10"/>
            <p:cNvSpPr/>
            <p:nvPr/>
          </p:nvSpPr>
          <p:spPr>
            <a:xfrm flipV="1">
              <a:off x="1876680" y="5929920"/>
              <a:ext cx="2355480" cy="229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11"/>
            <p:cNvSpPr/>
            <p:nvPr/>
          </p:nvSpPr>
          <p:spPr>
            <a:xfrm rot="21263400">
              <a:off x="-478440" y="6156000"/>
              <a:ext cx="23666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Text Box 12"/>
          <p:cNvSpPr/>
          <p:nvPr/>
        </p:nvSpPr>
        <p:spPr>
          <a:xfrm>
            <a:off x="4224240" y="5991120"/>
            <a:ext cx="28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No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3"/>
          <p:cNvSpPr/>
          <p:nvPr/>
        </p:nvSpPr>
        <p:spPr>
          <a:xfrm>
            <a:off x="4208400" y="56674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1 solution to NP-complet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040000">
                                      <p:cBhvr>
                                        <p:cTn id="278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5760" y="380880"/>
            <a:ext cx="856476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  <a:ea typeface="Calibri"/>
              </a:rPr>
              <a:t>A complexity-theoretic argument against hidden variables?</a:t>
            </a:r>
            <a:endParaRPr b="1" lang="en-US" sz="4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276120" y="1728720"/>
            <a:ext cx="86122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Calibri"/>
                <a:ea typeface="Arial"/>
              </a:rPr>
              <a:t>A. 2004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In theories like Bohmian mechanics, in order to sample the entire trajectory of the hidden variable, you’d need the ability to solve the collision problem—something I showed is generically hard even for a quantum compu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Object 59"/>
              <p:cNvSpPr txBox="1"/>
              <p:nvPr/>
            </p:nvSpPr>
            <p:spPr>
              <a:xfrm>
                <a:off x="5892840" y="4551480"/>
                <a:ext cx="143496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⟩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Object 56"/>
              <p:cNvSpPr txBox="1"/>
              <p:nvPr/>
            </p:nvSpPr>
            <p:spPr>
              <a:xfrm>
                <a:off x="609480" y="4572000"/>
                <a:ext cx="266220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  <m:r>
                          <m:t xml:space="preserve">|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⟩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497" name="Group 69"/>
          <p:cNvGrpSpPr/>
          <p:nvPr/>
        </p:nvGrpSpPr>
        <p:grpSpPr>
          <a:xfrm>
            <a:off x="3360600" y="5094360"/>
            <a:ext cx="2373480" cy="825480"/>
            <a:chOff x="3360600" y="5094360"/>
            <a:chExt cx="2373480" cy="825480"/>
          </a:xfrm>
        </p:grpSpPr>
        <p:sp>
          <p:nvSpPr>
            <p:cNvPr id="498" name="Text Box 8"/>
            <p:cNvSpPr/>
            <p:nvPr/>
          </p:nvSpPr>
          <p:spPr>
            <a:xfrm>
              <a:off x="3360600" y="509436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asure 2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regis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7"/>
            <p:cNvSpPr/>
            <p:nvPr/>
          </p:nvSpPr>
          <p:spPr>
            <a:xfrm>
              <a:off x="3371760" y="5118120"/>
              <a:ext cx="23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0" name="Object 63"/>
              <p:cNvSpPr txBox="1"/>
              <p:nvPr/>
            </p:nvSpPr>
            <p:spPr>
              <a:xfrm>
                <a:off x="7259760" y="4746600"/>
                <a:ext cx="10857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1" name="AutoShape 66"/>
          <p:cNvSpPr/>
          <p:nvPr/>
        </p:nvSpPr>
        <p:spPr>
          <a:xfrm>
            <a:off x="3592440" y="4497480"/>
            <a:ext cx="465120" cy="4651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10" dur="2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400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autoRev="1" nodeType="withEffect" fill="remove" presetClass="path" presetID="4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00509 L 0.02761 -0.02197 C 0.03334 -0.0259 0.04219 -0.02775 0.05122 -0.02775 C 0.06164 -0.02775 0.06997 -0.0259 0.0757 -0.02197 L 0.10382 -0.00509 E">
                                      <p:cBhvr>
                                        <p:cTn id="315" dur="1000" fill="hold"/>
                                        <p:tgtEl>
                                          <p:spTgt spid="5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2"/>
          <p:cNvSpPr/>
          <p:nvPr/>
        </p:nvSpPr>
        <p:spPr>
          <a:xfrm>
            <a:off x="210960" y="152280"/>
            <a:ext cx="878076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Calibri"/>
                <a:ea typeface="Arial"/>
              </a:rPr>
              <a:t>The Firewall Paradox (AMPS 2012):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Refinement of Hawking’s information paradox that challenges black hole complementa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7" descr="http://www.physics.ntua.gr/~lpapa/images/black_hole.jpg"/>
          <p:cNvPicPr/>
          <p:nvPr/>
        </p:nvPicPr>
        <p:blipFill>
          <a:blip r:embed="rId1"/>
          <a:stretch/>
        </p:blipFill>
        <p:spPr>
          <a:xfrm>
            <a:off x="5029200" y="1862280"/>
            <a:ext cx="3814920" cy="27367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" descr="http://ej.iop.org/images/1367-2630/14/10/103017/Full/nj432858f1_online.jpg"/>
          <p:cNvPicPr/>
          <p:nvPr/>
        </p:nvPicPr>
        <p:blipFill>
          <a:blip r:embed="rId2"/>
          <a:stretch/>
        </p:blipFill>
        <p:spPr>
          <a:xfrm>
            <a:off x="941400" y="5227560"/>
            <a:ext cx="4876920" cy="1478160"/>
          </a:xfrm>
          <a:prstGeom prst="rect">
            <a:avLst/>
          </a:prstGeom>
          <a:ln w="0">
            <a:noFill/>
          </a:ln>
        </p:spPr>
      </p:pic>
      <p:sp>
        <p:nvSpPr>
          <p:cNvPr id="505" name="Freeform 16"/>
          <p:cNvSpPr/>
          <p:nvPr/>
        </p:nvSpPr>
        <p:spPr>
          <a:xfrm rot="2670600">
            <a:off x="5395680" y="4178160"/>
            <a:ext cx="214200" cy="1040040"/>
          </a:xfrm>
          <a:custGeom>
            <a:avLst/>
            <a:gdLst>
              <a:gd name="textAreaLeft" fmla="*/ 0 w 214200"/>
              <a:gd name="textAreaRight" fmla="*/ 214560 w 21420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420" h="5644">
                <a:moveTo>
                  <a:pt x="210" y="5631"/>
                </a:moveTo>
                <a:lnTo>
                  <a:pt x="210" y="5644"/>
                </a:lnTo>
                <a:lnTo>
                  <a:pt x="300" y="5612"/>
                </a:lnTo>
                <a:lnTo>
                  <a:pt x="367" y="5533"/>
                </a:lnTo>
                <a:lnTo>
                  <a:pt x="406" y="5419"/>
                </a:lnTo>
                <a:lnTo>
                  <a:pt x="420" y="5292"/>
                </a:lnTo>
                <a:lnTo>
                  <a:pt x="406" y="5162"/>
                </a:lnTo>
                <a:lnTo>
                  <a:pt x="367" y="5050"/>
                </a:lnTo>
                <a:lnTo>
                  <a:pt x="300" y="4970"/>
                </a:lnTo>
                <a:lnTo>
                  <a:pt x="210" y="4941"/>
                </a:lnTo>
                <a:lnTo>
                  <a:pt x="118" y="4909"/>
                </a:lnTo>
                <a:lnTo>
                  <a:pt x="52" y="4830"/>
                </a:lnTo>
                <a:lnTo>
                  <a:pt x="13" y="4716"/>
                </a:lnTo>
                <a:lnTo>
                  <a:pt x="0" y="4588"/>
                </a:lnTo>
                <a:lnTo>
                  <a:pt x="13" y="4458"/>
                </a:lnTo>
                <a:lnTo>
                  <a:pt x="52" y="4344"/>
                </a:lnTo>
                <a:lnTo>
                  <a:pt x="118" y="4264"/>
                </a:lnTo>
                <a:lnTo>
                  <a:pt x="210" y="4235"/>
                </a:lnTo>
                <a:lnTo>
                  <a:pt x="300" y="4203"/>
                </a:lnTo>
                <a:lnTo>
                  <a:pt x="367" y="4124"/>
                </a:lnTo>
                <a:lnTo>
                  <a:pt x="406" y="4010"/>
                </a:lnTo>
                <a:lnTo>
                  <a:pt x="420" y="3883"/>
                </a:lnTo>
                <a:lnTo>
                  <a:pt x="406" y="3753"/>
                </a:lnTo>
                <a:lnTo>
                  <a:pt x="367" y="3641"/>
                </a:lnTo>
                <a:lnTo>
                  <a:pt x="300" y="3561"/>
                </a:lnTo>
                <a:lnTo>
                  <a:pt x="210" y="3532"/>
                </a:lnTo>
                <a:lnTo>
                  <a:pt x="118" y="3500"/>
                </a:lnTo>
                <a:lnTo>
                  <a:pt x="52" y="3421"/>
                </a:lnTo>
                <a:lnTo>
                  <a:pt x="13" y="3307"/>
                </a:lnTo>
                <a:lnTo>
                  <a:pt x="0" y="3180"/>
                </a:lnTo>
                <a:lnTo>
                  <a:pt x="13" y="3050"/>
                </a:lnTo>
                <a:lnTo>
                  <a:pt x="52" y="2938"/>
                </a:lnTo>
                <a:lnTo>
                  <a:pt x="118" y="2857"/>
                </a:lnTo>
                <a:lnTo>
                  <a:pt x="210" y="2829"/>
                </a:lnTo>
                <a:lnTo>
                  <a:pt x="300" y="2796"/>
                </a:lnTo>
                <a:lnTo>
                  <a:pt x="367" y="2718"/>
                </a:lnTo>
                <a:lnTo>
                  <a:pt x="406" y="2604"/>
                </a:lnTo>
                <a:lnTo>
                  <a:pt x="420" y="2475"/>
                </a:lnTo>
                <a:lnTo>
                  <a:pt x="406" y="2345"/>
                </a:lnTo>
                <a:lnTo>
                  <a:pt x="367" y="2233"/>
                </a:lnTo>
                <a:lnTo>
                  <a:pt x="300" y="2153"/>
                </a:lnTo>
                <a:lnTo>
                  <a:pt x="210" y="2124"/>
                </a:lnTo>
                <a:lnTo>
                  <a:pt x="118" y="2092"/>
                </a:lnTo>
                <a:lnTo>
                  <a:pt x="52" y="2013"/>
                </a:lnTo>
                <a:lnTo>
                  <a:pt x="13" y="1899"/>
                </a:lnTo>
                <a:lnTo>
                  <a:pt x="0" y="1772"/>
                </a:lnTo>
                <a:lnTo>
                  <a:pt x="13" y="1642"/>
                </a:lnTo>
                <a:lnTo>
                  <a:pt x="52" y="1530"/>
                </a:lnTo>
                <a:lnTo>
                  <a:pt x="118" y="1450"/>
                </a:lnTo>
                <a:lnTo>
                  <a:pt x="210" y="1421"/>
                </a:lnTo>
                <a:lnTo>
                  <a:pt x="300" y="1389"/>
                </a:lnTo>
                <a:lnTo>
                  <a:pt x="367" y="1310"/>
                </a:lnTo>
                <a:lnTo>
                  <a:pt x="406" y="1196"/>
                </a:lnTo>
                <a:lnTo>
                  <a:pt x="420" y="1069"/>
                </a:lnTo>
                <a:lnTo>
                  <a:pt x="406" y="939"/>
                </a:lnTo>
                <a:lnTo>
                  <a:pt x="367" y="827"/>
                </a:lnTo>
                <a:lnTo>
                  <a:pt x="300" y="747"/>
                </a:lnTo>
                <a:lnTo>
                  <a:pt x="210" y="718"/>
                </a:lnTo>
                <a:lnTo>
                  <a:pt x="118" y="686"/>
                </a:lnTo>
                <a:lnTo>
                  <a:pt x="52" y="607"/>
                </a:lnTo>
                <a:lnTo>
                  <a:pt x="13" y="493"/>
                </a:lnTo>
                <a:lnTo>
                  <a:pt x="0" y="365"/>
                </a:lnTo>
                <a:lnTo>
                  <a:pt x="13" y="235"/>
                </a:lnTo>
                <a:lnTo>
                  <a:pt x="52" y="121"/>
                </a:lnTo>
                <a:lnTo>
                  <a:pt x="118" y="40"/>
                </a:lnTo>
                <a:lnTo>
                  <a:pt x="210" y="12"/>
                </a:lnTo>
                <a:lnTo>
                  <a:pt x="210" y="0"/>
                </a:lnTo>
                <a:lnTo>
                  <a:pt x="118" y="29"/>
                </a:lnTo>
                <a:lnTo>
                  <a:pt x="52" y="110"/>
                </a:lnTo>
                <a:lnTo>
                  <a:pt x="13" y="222"/>
                </a:lnTo>
                <a:lnTo>
                  <a:pt x="0" y="352"/>
                </a:lnTo>
                <a:lnTo>
                  <a:pt x="13" y="479"/>
                </a:lnTo>
                <a:lnTo>
                  <a:pt x="52" y="593"/>
                </a:lnTo>
                <a:lnTo>
                  <a:pt x="118" y="671"/>
                </a:lnTo>
                <a:lnTo>
                  <a:pt x="210" y="703"/>
                </a:lnTo>
                <a:lnTo>
                  <a:pt x="300" y="732"/>
                </a:lnTo>
                <a:lnTo>
                  <a:pt x="367" y="813"/>
                </a:lnTo>
                <a:lnTo>
                  <a:pt x="406" y="925"/>
                </a:lnTo>
                <a:lnTo>
                  <a:pt x="420" y="1055"/>
                </a:lnTo>
                <a:lnTo>
                  <a:pt x="406" y="1183"/>
                </a:lnTo>
                <a:lnTo>
                  <a:pt x="367" y="1297"/>
                </a:lnTo>
                <a:lnTo>
                  <a:pt x="300" y="1376"/>
                </a:lnTo>
                <a:lnTo>
                  <a:pt x="210" y="1408"/>
                </a:lnTo>
                <a:lnTo>
                  <a:pt x="118" y="1437"/>
                </a:lnTo>
                <a:lnTo>
                  <a:pt x="52" y="1517"/>
                </a:lnTo>
                <a:lnTo>
                  <a:pt x="13" y="1630"/>
                </a:lnTo>
                <a:lnTo>
                  <a:pt x="0" y="1760"/>
                </a:lnTo>
                <a:lnTo>
                  <a:pt x="13" y="1886"/>
                </a:lnTo>
                <a:lnTo>
                  <a:pt x="52" y="2000"/>
                </a:lnTo>
                <a:lnTo>
                  <a:pt x="118" y="2079"/>
                </a:lnTo>
                <a:lnTo>
                  <a:pt x="210" y="2111"/>
                </a:lnTo>
                <a:lnTo>
                  <a:pt x="300" y="2140"/>
                </a:lnTo>
                <a:lnTo>
                  <a:pt x="367" y="2220"/>
                </a:lnTo>
                <a:lnTo>
                  <a:pt x="406" y="2333"/>
                </a:lnTo>
                <a:lnTo>
                  <a:pt x="420" y="2463"/>
                </a:lnTo>
                <a:lnTo>
                  <a:pt x="406" y="2591"/>
                </a:lnTo>
                <a:lnTo>
                  <a:pt x="367" y="2705"/>
                </a:lnTo>
                <a:lnTo>
                  <a:pt x="300" y="2784"/>
                </a:lnTo>
                <a:lnTo>
                  <a:pt x="210" y="2816"/>
                </a:lnTo>
                <a:lnTo>
                  <a:pt x="118" y="2845"/>
                </a:lnTo>
                <a:lnTo>
                  <a:pt x="52" y="2925"/>
                </a:lnTo>
                <a:lnTo>
                  <a:pt x="13" y="3037"/>
                </a:lnTo>
                <a:lnTo>
                  <a:pt x="0" y="3167"/>
                </a:lnTo>
                <a:lnTo>
                  <a:pt x="13" y="3296"/>
                </a:lnTo>
                <a:lnTo>
                  <a:pt x="52" y="3410"/>
                </a:lnTo>
                <a:lnTo>
                  <a:pt x="118" y="3488"/>
                </a:lnTo>
                <a:lnTo>
                  <a:pt x="210" y="3520"/>
                </a:lnTo>
                <a:lnTo>
                  <a:pt x="300" y="3549"/>
                </a:lnTo>
                <a:lnTo>
                  <a:pt x="367" y="3630"/>
                </a:lnTo>
                <a:lnTo>
                  <a:pt x="406" y="3742"/>
                </a:lnTo>
                <a:lnTo>
                  <a:pt x="420" y="3872"/>
                </a:lnTo>
                <a:lnTo>
                  <a:pt x="406" y="3999"/>
                </a:lnTo>
                <a:lnTo>
                  <a:pt x="367" y="4113"/>
                </a:lnTo>
                <a:lnTo>
                  <a:pt x="300" y="4191"/>
                </a:lnTo>
                <a:lnTo>
                  <a:pt x="210" y="4223"/>
                </a:lnTo>
                <a:lnTo>
                  <a:pt x="118" y="4252"/>
                </a:lnTo>
                <a:lnTo>
                  <a:pt x="52" y="4333"/>
                </a:lnTo>
                <a:lnTo>
                  <a:pt x="13" y="4445"/>
                </a:lnTo>
                <a:lnTo>
                  <a:pt x="0" y="4575"/>
                </a:lnTo>
                <a:lnTo>
                  <a:pt x="13" y="4703"/>
                </a:lnTo>
                <a:lnTo>
                  <a:pt x="52" y="4817"/>
                </a:lnTo>
                <a:lnTo>
                  <a:pt x="118" y="4896"/>
                </a:lnTo>
                <a:lnTo>
                  <a:pt x="210" y="4928"/>
                </a:lnTo>
                <a:lnTo>
                  <a:pt x="300" y="4957"/>
                </a:lnTo>
                <a:lnTo>
                  <a:pt x="367" y="5037"/>
                </a:lnTo>
                <a:lnTo>
                  <a:pt x="406" y="5150"/>
                </a:lnTo>
                <a:lnTo>
                  <a:pt x="420" y="5280"/>
                </a:lnTo>
                <a:lnTo>
                  <a:pt x="406" y="5406"/>
                </a:lnTo>
                <a:lnTo>
                  <a:pt x="367" y="5520"/>
                </a:lnTo>
                <a:lnTo>
                  <a:pt x="300" y="5599"/>
                </a:lnTo>
                <a:lnTo>
                  <a:pt x="210" y="5631"/>
                </a:lnTo>
                <a:close/>
              </a:path>
            </a:pathLst>
          </a:custGeom>
          <a:solidFill>
            <a:srgbClr val="ffff00"/>
          </a:solidFill>
          <a:ln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16"/>
          <p:cNvSpPr/>
          <p:nvPr/>
        </p:nvSpPr>
        <p:spPr>
          <a:xfrm rot="2670600">
            <a:off x="5990760" y="4265640"/>
            <a:ext cx="216000" cy="1041480"/>
          </a:xfrm>
          <a:custGeom>
            <a:avLst/>
            <a:gdLst>
              <a:gd name="textAreaLeft" fmla="*/ 0 w 216000"/>
              <a:gd name="textAreaRight" fmla="*/ 216360 w 21600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420" h="5644">
                <a:moveTo>
                  <a:pt x="210" y="5631"/>
                </a:moveTo>
                <a:lnTo>
                  <a:pt x="210" y="5644"/>
                </a:lnTo>
                <a:lnTo>
                  <a:pt x="300" y="5612"/>
                </a:lnTo>
                <a:lnTo>
                  <a:pt x="367" y="5533"/>
                </a:lnTo>
                <a:lnTo>
                  <a:pt x="406" y="5419"/>
                </a:lnTo>
                <a:lnTo>
                  <a:pt x="420" y="5292"/>
                </a:lnTo>
                <a:lnTo>
                  <a:pt x="406" y="5162"/>
                </a:lnTo>
                <a:lnTo>
                  <a:pt x="367" y="5050"/>
                </a:lnTo>
                <a:lnTo>
                  <a:pt x="300" y="4970"/>
                </a:lnTo>
                <a:lnTo>
                  <a:pt x="210" y="4941"/>
                </a:lnTo>
                <a:lnTo>
                  <a:pt x="118" y="4909"/>
                </a:lnTo>
                <a:lnTo>
                  <a:pt x="52" y="4830"/>
                </a:lnTo>
                <a:lnTo>
                  <a:pt x="13" y="4716"/>
                </a:lnTo>
                <a:lnTo>
                  <a:pt x="0" y="4588"/>
                </a:lnTo>
                <a:lnTo>
                  <a:pt x="13" y="4458"/>
                </a:lnTo>
                <a:lnTo>
                  <a:pt x="52" y="4344"/>
                </a:lnTo>
                <a:lnTo>
                  <a:pt x="118" y="4264"/>
                </a:lnTo>
                <a:lnTo>
                  <a:pt x="210" y="4235"/>
                </a:lnTo>
                <a:lnTo>
                  <a:pt x="300" y="4203"/>
                </a:lnTo>
                <a:lnTo>
                  <a:pt x="367" y="4124"/>
                </a:lnTo>
                <a:lnTo>
                  <a:pt x="406" y="4010"/>
                </a:lnTo>
                <a:lnTo>
                  <a:pt x="420" y="3883"/>
                </a:lnTo>
                <a:lnTo>
                  <a:pt x="406" y="3753"/>
                </a:lnTo>
                <a:lnTo>
                  <a:pt x="367" y="3641"/>
                </a:lnTo>
                <a:lnTo>
                  <a:pt x="300" y="3561"/>
                </a:lnTo>
                <a:lnTo>
                  <a:pt x="210" y="3532"/>
                </a:lnTo>
                <a:lnTo>
                  <a:pt x="118" y="3500"/>
                </a:lnTo>
                <a:lnTo>
                  <a:pt x="52" y="3421"/>
                </a:lnTo>
                <a:lnTo>
                  <a:pt x="13" y="3307"/>
                </a:lnTo>
                <a:lnTo>
                  <a:pt x="0" y="3180"/>
                </a:lnTo>
                <a:lnTo>
                  <a:pt x="13" y="3050"/>
                </a:lnTo>
                <a:lnTo>
                  <a:pt x="52" y="2938"/>
                </a:lnTo>
                <a:lnTo>
                  <a:pt x="118" y="2857"/>
                </a:lnTo>
                <a:lnTo>
                  <a:pt x="210" y="2829"/>
                </a:lnTo>
                <a:lnTo>
                  <a:pt x="300" y="2796"/>
                </a:lnTo>
                <a:lnTo>
                  <a:pt x="367" y="2718"/>
                </a:lnTo>
                <a:lnTo>
                  <a:pt x="406" y="2604"/>
                </a:lnTo>
                <a:lnTo>
                  <a:pt x="420" y="2475"/>
                </a:lnTo>
                <a:lnTo>
                  <a:pt x="406" y="2345"/>
                </a:lnTo>
                <a:lnTo>
                  <a:pt x="367" y="2233"/>
                </a:lnTo>
                <a:lnTo>
                  <a:pt x="300" y="2153"/>
                </a:lnTo>
                <a:lnTo>
                  <a:pt x="210" y="2124"/>
                </a:lnTo>
                <a:lnTo>
                  <a:pt x="118" y="2092"/>
                </a:lnTo>
                <a:lnTo>
                  <a:pt x="52" y="2013"/>
                </a:lnTo>
                <a:lnTo>
                  <a:pt x="13" y="1899"/>
                </a:lnTo>
                <a:lnTo>
                  <a:pt x="0" y="1772"/>
                </a:lnTo>
                <a:lnTo>
                  <a:pt x="13" y="1642"/>
                </a:lnTo>
                <a:lnTo>
                  <a:pt x="52" y="1530"/>
                </a:lnTo>
                <a:lnTo>
                  <a:pt x="118" y="1450"/>
                </a:lnTo>
                <a:lnTo>
                  <a:pt x="210" y="1421"/>
                </a:lnTo>
                <a:lnTo>
                  <a:pt x="300" y="1389"/>
                </a:lnTo>
                <a:lnTo>
                  <a:pt x="367" y="1310"/>
                </a:lnTo>
                <a:lnTo>
                  <a:pt x="406" y="1196"/>
                </a:lnTo>
                <a:lnTo>
                  <a:pt x="420" y="1069"/>
                </a:lnTo>
                <a:lnTo>
                  <a:pt x="406" y="939"/>
                </a:lnTo>
                <a:lnTo>
                  <a:pt x="367" y="827"/>
                </a:lnTo>
                <a:lnTo>
                  <a:pt x="300" y="747"/>
                </a:lnTo>
                <a:lnTo>
                  <a:pt x="210" y="718"/>
                </a:lnTo>
                <a:lnTo>
                  <a:pt x="118" y="686"/>
                </a:lnTo>
                <a:lnTo>
                  <a:pt x="52" y="607"/>
                </a:lnTo>
                <a:lnTo>
                  <a:pt x="13" y="493"/>
                </a:lnTo>
                <a:lnTo>
                  <a:pt x="0" y="365"/>
                </a:lnTo>
                <a:lnTo>
                  <a:pt x="13" y="235"/>
                </a:lnTo>
                <a:lnTo>
                  <a:pt x="52" y="121"/>
                </a:lnTo>
                <a:lnTo>
                  <a:pt x="118" y="40"/>
                </a:lnTo>
                <a:lnTo>
                  <a:pt x="210" y="12"/>
                </a:lnTo>
                <a:lnTo>
                  <a:pt x="210" y="0"/>
                </a:lnTo>
                <a:lnTo>
                  <a:pt x="118" y="29"/>
                </a:lnTo>
                <a:lnTo>
                  <a:pt x="52" y="110"/>
                </a:lnTo>
                <a:lnTo>
                  <a:pt x="13" y="222"/>
                </a:lnTo>
                <a:lnTo>
                  <a:pt x="0" y="352"/>
                </a:lnTo>
                <a:lnTo>
                  <a:pt x="13" y="479"/>
                </a:lnTo>
                <a:lnTo>
                  <a:pt x="52" y="593"/>
                </a:lnTo>
                <a:lnTo>
                  <a:pt x="118" y="671"/>
                </a:lnTo>
                <a:lnTo>
                  <a:pt x="210" y="703"/>
                </a:lnTo>
                <a:lnTo>
                  <a:pt x="300" y="732"/>
                </a:lnTo>
                <a:lnTo>
                  <a:pt x="367" y="813"/>
                </a:lnTo>
                <a:lnTo>
                  <a:pt x="406" y="925"/>
                </a:lnTo>
                <a:lnTo>
                  <a:pt x="420" y="1055"/>
                </a:lnTo>
                <a:lnTo>
                  <a:pt x="406" y="1183"/>
                </a:lnTo>
                <a:lnTo>
                  <a:pt x="367" y="1297"/>
                </a:lnTo>
                <a:lnTo>
                  <a:pt x="300" y="1376"/>
                </a:lnTo>
                <a:lnTo>
                  <a:pt x="210" y="1408"/>
                </a:lnTo>
                <a:lnTo>
                  <a:pt x="118" y="1437"/>
                </a:lnTo>
                <a:lnTo>
                  <a:pt x="52" y="1517"/>
                </a:lnTo>
                <a:lnTo>
                  <a:pt x="13" y="1630"/>
                </a:lnTo>
                <a:lnTo>
                  <a:pt x="0" y="1760"/>
                </a:lnTo>
                <a:lnTo>
                  <a:pt x="13" y="1886"/>
                </a:lnTo>
                <a:lnTo>
                  <a:pt x="52" y="2000"/>
                </a:lnTo>
                <a:lnTo>
                  <a:pt x="118" y="2079"/>
                </a:lnTo>
                <a:lnTo>
                  <a:pt x="210" y="2111"/>
                </a:lnTo>
                <a:lnTo>
                  <a:pt x="300" y="2140"/>
                </a:lnTo>
                <a:lnTo>
                  <a:pt x="367" y="2220"/>
                </a:lnTo>
                <a:lnTo>
                  <a:pt x="406" y="2333"/>
                </a:lnTo>
                <a:lnTo>
                  <a:pt x="420" y="2463"/>
                </a:lnTo>
                <a:lnTo>
                  <a:pt x="406" y="2591"/>
                </a:lnTo>
                <a:lnTo>
                  <a:pt x="367" y="2705"/>
                </a:lnTo>
                <a:lnTo>
                  <a:pt x="300" y="2784"/>
                </a:lnTo>
                <a:lnTo>
                  <a:pt x="210" y="2816"/>
                </a:lnTo>
                <a:lnTo>
                  <a:pt x="118" y="2845"/>
                </a:lnTo>
                <a:lnTo>
                  <a:pt x="52" y="2925"/>
                </a:lnTo>
                <a:lnTo>
                  <a:pt x="13" y="3037"/>
                </a:lnTo>
                <a:lnTo>
                  <a:pt x="0" y="3167"/>
                </a:lnTo>
                <a:lnTo>
                  <a:pt x="13" y="3296"/>
                </a:lnTo>
                <a:lnTo>
                  <a:pt x="52" y="3410"/>
                </a:lnTo>
                <a:lnTo>
                  <a:pt x="118" y="3488"/>
                </a:lnTo>
                <a:lnTo>
                  <a:pt x="210" y="3520"/>
                </a:lnTo>
                <a:lnTo>
                  <a:pt x="300" y="3549"/>
                </a:lnTo>
                <a:lnTo>
                  <a:pt x="367" y="3630"/>
                </a:lnTo>
                <a:lnTo>
                  <a:pt x="406" y="3742"/>
                </a:lnTo>
                <a:lnTo>
                  <a:pt x="420" y="3872"/>
                </a:lnTo>
                <a:lnTo>
                  <a:pt x="406" y="3999"/>
                </a:lnTo>
                <a:lnTo>
                  <a:pt x="367" y="4113"/>
                </a:lnTo>
                <a:lnTo>
                  <a:pt x="300" y="4191"/>
                </a:lnTo>
                <a:lnTo>
                  <a:pt x="210" y="4223"/>
                </a:lnTo>
                <a:lnTo>
                  <a:pt x="118" y="4252"/>
                </a:lnTo>
                <a:lnTo>
                  <a:pt x="52" y="4333"/>
                </a:lnTo>
                <a:lnTo>
                  <a:pt x="13" y="4445"/>
                </a:lnTo>
                <a:lnTo>
                  <a:pt x="0" y="4575"/>
                </a:lnTo>
                <a:lnTo>
                  <a:pt x="13" y="4703"/>
                </a:lnTo>
                <a:lnTo>
                  <a:pt x="52" y="4817"/>
                </a:lnTo>
                <a:lnTo>
                  <a:pt x="118" y="4896"/>
                </a:lnTo>
                <a:lnTo>
                  <a:pt x="210" y="4928"/>
                </a:lnTo>
                <a:lnTo>
                  <a:pt x="300" y="4957"/>
                </a:lnTo>
                <a:lnTo>
                  <a:pt x="367" y="5037"/>
                </a:lnTo>
                <a:lnTo>
                  <a:pt x="406" y="5150"/>
                </a:lnTo>
                <a:lnTo>
                  <a:pt x="420" y="5280"/>
                </a:lnTo>
                <a:lnTo>
                  <a:pt x="406" y="5406"/>
                </a:lnTo>
                <a:lnTo>
                  <a:pt x="367" y="5520"/>
                </a:lnTo>
                <a:lnTo>
                  <a:pt x="300" y="5599"/>
                </a:lnTo>
                <a:lnTo>
                  <a:pt x="210" y="5631"/>
                </a:lnTo>
                <a:close/>
              </a:path>
            </a:pathLst>
          </a:custGeom>
          <a:solidFill>
            <a:srgbClr val="ffff00"/>
          </a:solidFill>
          <a:ln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16"/>
          <p:cNvSpPr/>
          <p:nvPr/>
        </p:nvSpPr>
        <p:spPr>
          <a:xfrm rot="2670600">
            <a:off x="5060520" y="3639960"/>
            <a:ext cx="216000" cy="1041480"/>
          </a:xfrm>
          <a:custGeom>
            <a:avLst/>
            <a:gdLst>
              <a:gd name="textAreaLeft" fmla="*/ 0 w 216000"/>
              <a:gd name="textAreaRight" fmla="*/ 216360 w 21600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420" h="5644">
                <a:moveTo>
                  <a:pt x="210" y="5631"/>
                </a:moveTo>
                <a:lnTo>
                  <a:pt x="210" y="5644"/>
                </a:lnTo>
                <a:lnTo>
                  <a:pt x="300" y="5612"/>
                </a:lnTo>
                <a:lnTo>
                  <a:pt x="367" y="5533"/>
                </a:lnTo>
                <a:lnTo>
                  <a:pt x="406" y="5419"/>
                </a:lnTo>
                <a:lnTo>
                  <a:pt x="420" y="5292"/>
                </a:lnTo>
                <a:lnTo>
                  <a:pt x="406" y="5162"/>
                </a:lnTo>
                <a:lnTo>
                  <a:pt x="367" y="5050"/>
                </a:lnTo>
                <a:lnTo>
                  <a:pt x="300" y="4970"/>
                </a:lnTo>
                <a:lnTo>
                  <a:pt x="210" y="4941"/>
                </a:lnTo>
                <a:lnTo>
                  <a:pt x="118" y="4909"/>
                </a:lnTo>
                <a:lnTo>
                  <a:pt x="52" y="4830"/>
                </a:lnTo>
                <a:lnTo>
                  <a:pt x="13" y="4716"/>
                </a:lnTo>
                <a:lnTo>
                  <a:pt x="0" y="4588"/>
                </a:lnTo>
                <a:lnTo>
                  <a:pt x="13" y="4458"/>
                </a:lnTo>
                <a:lnTo>
                  <a:pt x="52" y="4344"/>
                </a:lnTo>
                <a:lnTo>
                  <a:pt x="118" y="4264"/>
                </a:lnTo>
                <a:lnTo>
                  <a:pt x="210" y="4235"/>
                </a:lnTo>
                <a:lnTo>
                  <a:pt x="300" y="4203"/>
                </a:lnTo>
                <a:lnTo>
                  <a:pt x="367" y="4124"/>
                </a:lnTo>
                <a:lnTo>
                  <a:pt x="406" y="4010"/>
                </a:lnTo>
                <a:lnTo>
                  <a:pt x="420" y="3883"/>
                </a:lnTo>
                <a:lnTo>
                  <a:pt x="406" y="3753"/>
                </a:lnTo>
                <a:lnTo>
                  <a:pt x="367" y="3641"/>
                </a:lnTo>
                <a:lnTo>
                  <a:pt x="300" y="3561"/>
                </a:lnTo>
                <a:lnTo>
                  <a:pt x="210" y="3532"/>
                </a:lnTo>
                <a:lnTo>
                  <a:pt x="118" y="3500"/>
                </a:lnTo>
                <a:lnTo>
                  <a:pt x="52" y="3421"/>
                </a:lnTo>
                <a:lnTo>
                  <a:pt x="13" y="3307"/>
                </a:lnTo>
                <a:lnTo>
                  <a:pt x="0" y="3180"/>
                </a:lnTo>
                <a:lnTo>
                  <a:pt x="13" y="3050"/>
                </a:lnTo>
                <a:lnTo>
                  <a:pt x="52" y="2938"/>
                </a:lnTo>
                <a:lnTo>
                  <a:pt x="118" y="2857"/>
                </a:lnTo>
                <a:lnTo>
                  <a:pt x="210" y="2829"/>
                </a:lnTo>
                <a:lnTo>
                  <a:pt x="300" y="2796"/>
                </a:lnTo>
                <a:lnTo>
                  <a:pt x="367" y="2718"/>
                </a:lnTo>
                <a:lnTo>
                  <a:pt x="406" y="2604"/>
                </a:lnTo>
                <a:lnTo>
                  <a:pt x="420" y="2475"/>
                </a:lnTo>
                <a:lnTo>
                  <a:pt x="406" y="2345"/>
                </a:lnTo>
                <a:lnTo>
                  <a:pt x="367" y="2233"/>
                </a:lnTo>
                <a:lnTo>
                  <a:pt x="300" y="2153"/>
                </a:lnTo>
                <a:lnTo>
                  <a:pt x="210" y="2124"/>
                </a:lnTo>
                <a:lnTo>
                  <a:pt x="118" y="2092"/>
                </a:lnTo>
                <a:lnTo>
                  <a:pt x="52" y="2013"/>
                </a:lnTo>
                <a:lnTo>
                  <a:pt x="13" y="1899"/>
                </a:lnTo>
                <a:lnTo>
                  <a:pt x="0" y="1772"/>
                </a:lnTo>
                <a:lnTo>
                  <a:pt x="13" y="1642"/>
                </a:lnTo>
                <a:lnTo>
                  <a:pt x="52" y="1530"/>
                </a:lnTo>
                <a:lnTo>
                  <a:pt x="118" y="1450"/>
                </a:lnTo>
                <a:lnTo>
                  <a:pt x="210" y="1421"/>
                </a:lnTo>
                <a:lnTo>
                  <a:pt x="300" y="1389"/>
                </a:lnTo>
                <a:lnTo>
                  <a:pt x="367" y="1310"/>
                </a:lnTo>
                <a:lnTo>
                  <a:pt x="406" y="1196"/>
                </a:lnTo>
                <a:lnTo>
                  <a:pt x="420" y="1069"/>
                </a:lnTo>
                <a:lnTo>
                  <a:pt x="406" y="939"/>
                </a:lnTo>
                <a:lnTo>
                  <a:pt x="367" y="827"/>
                </a:lnTo>
                <a:lnTo>
                  <a:pt x="300" y="747"/>
                </a:lnTo>
                <a:lnTo>
                  <a:pt x="210" y="718"/>
                </a:lnTo>
                <a:lnTo>
                  <a:pt x="118" y="686"/>
                </a:lnTo>
                <a:lnTo>
                  <a:pt x="52" y="607"/>
                </a:lnTo>
                <a:lnTo>
                  <a:pt x="13" y="493"/>
                </a:lnTo>
                <a:lnTo>
                  <a:pt x="0" y="365"/>
                </a:lnTo>
                <a:lnTo>
                  <a:pt x="13" y="235"/>
                </a:lnTo>
                <a:lnTo>
                  <a:pt x="52" y="121"/>
                </a:lnTo>
                <a:lnTo>
                  <a:pt x="118" y="40"/>
                </a:lnTo>
                <a:lnTo>
                  <a:pt x="210" y="12"/>
                </a:lnTo>
                <a:lnTo>
                  <a:pt x="210" y="0"/>
                </a:lnTo>
                <a:lnTo>
                  <a:pt x="118" y="29"/>
                </a:lnTo>
                <a:lnTo>
                  <a:pt x="52" y="110"/>
                </a:lnTo>
                <a:lnTo>
                  <a:pt x="13" y="222"/>
                </a:lnTo>
                <a:lnTo>
                  <a:pt x="0" y="352"/>
                </a:lnTo>
                <a:lnTo>
                  <a:pt x="13" y="479"/>
                </a:lnTo>
                <a:lnTo>
                  <a:pt x="52" y="593"/>
                </a:lnTo>
                <a:lnTo>
                  <a:pt x="118" y="671"/>
                </a:lnTo>
                <a:lnTo>
                  <a:pt x="210" y="703"/>
                </a:lnTo>
                <a:lnTo>
                  <a:pt x="300" y="732"/>
                </a:lnTo>
                <a:lnTo>
                  <a:pt x="367" y="813"/>
                </a:lnTo>
                <a:lnTo>
                  <a:pt x="406" y="925"/>
                </a:lnTo>
                <a:lnTo>
                  <a:pt x="420" y="1055"/>
                </a:lnTo>
                <a:lnTo>
                  <a:pt x="406" y="1183"/>
                </a:lnTo>
                <a:lnTo>
                  <a:pt x="367" y="1297"/>
                </a:lnTo>
                <a:lnTo>
                  <a:pt x="300" y="1376"/>
                </a:lnTo>
                <a:lnTo>
                  <a:pt x="210" y="1408"/>
                </a:lnTo>
                <a:lnTo>
                  <a:pt x="118" y="1437"/>
                </a:lnTo>
                <a:lnTo>
                  <a:pt x="52" y="1517"/>
                </a:lnTo>
                <a:lnTo>
                  <a:pt x="13" y="1630"/>
                </a:lnTo>
                <a:lnTo>
                  <a:pt x="0" y="1760"/>
                </a:lnTo>
                <a:lnTo>
                  <a:pt x="13" y="1886"/>
                </a:lnTo>
                <a:lnTo>
                  <a:pt x="52" y="2000"/>
                </a:lnTo>
                <a:lnTo>
                  <a:pt x="118" y="2079"/>
                </a:lnTo>
                <a:lnTo>
                  <a:pt x="210" y="2111"/>
                </a:lnTo>
                <a:lnTo>
                  <a:pt x="300" y="2140"/>
                </a:lnTo>
                <a:lnTo>
                  <a:pt x="367" y="2220"/>
                </a:lnTo>
                <a:lnTo>
                  <a:pt x="406" y="2333"/>
                </a:lnTo>
                <a:lnTo>
                  <a:pt x="420" y="2463"/>
                </a:lnTo>
                <a:lnTo>
                  <a:pt x="406" y="2591"/>
                </a:lnTo>
                <a:lnTo>
                  <a:pt x="367" y="2705"/>
                </a:lnTo>
                <a:lnTo>
                  <a:pt x="300" y="2784"/>
                </a:lnTo>
                <a:lnTo>
                  <a:pt x="210" y="2816"/>
                </a:lnTo>
                <a:lnTo>
                  <a:pt x="118" y="2845"/>
                </a:lnTo>
                <a:lnTo>
                  <a:pt x="52" y="2925"/>
                </a:lnTo>
                <a:lnTo>
                  <a:pt x="13" y="3037"/>
                </a:lnTo>
                <a:lnTo>
                  <a:pt x="0" y="3167"/>
                </a:lnTo>
                <a:lnTo>
                  <a:pt x="13" y="3296"/>
                </a:lnTo>
                <a:lnTo>
                  <a:pt x="52" y="3410"/>
                </a:lnTo>
                <a:lnTo>
                  <a:pt x="118" y="3488"/>
                </a:lnTo>
                <a:lnTo>
                  <a:pt x="210" y="3520"/>
                </a:lnTo>
                <a:lnTo>
                  <a:pt x="300" y="3549"/>
                </a:lnTo>
                <a:lnTo>
                  <a:pt x="367" y="3630"/>
                </a:lnTo>
                <a:lnTo>
                  <a:pt x="406" y="3742"/>
                </a:lnTo>
                <a:lnTo>
                  <a:pt x="420" y="3872"/>
                </a:lnTo>
                <a:lnTo>
                  <a:pt x="406" y="3999"/>
                </a:lnTo>
                <a:lnTo>
                  <a:pt x="367" y="4113"/>
                </a:lnTo>
                <a:lnTo>
                  <a:pt x="300" y="4191"/>
                </a:lnTo>
                <a:lnTo>
                  <a:pt x="210" y="4223"/>
                </a:lnTo>
                <a:lnTo>
                  <a:pt x="118" y="4252"/>
                </a:lnTo>
                <a:lnTo>
                  <a:pt x="52" y="4333"/>
                </a:lnTo>
                <a:lnTo>
                  <a:pt x="13" y="4445"/>
                </a:lnTo>
                <a:lnTo>
                  <a:pt x="0" y="4575"/>
                </a:lnTo>
                <a:lnTo>
                  <a:pt x="13" y="4703"/>
                </a:lnTo>
                <a:lnTo>
                  <a:pt x="52" y="4817"/>
                </a:lnTo>
                <a:lnTo>
                  <a:pt x="118" y="4896"/>
                </a:lnTo>
                <a:lnTo>
                  <a:pt x="210" y="4928"/>
                </a:lnTo>
                <a:lnTo>
                  <a:pt x="300" y="4957"/>
                </a:lnTo>
                <a:lnTo>
                  <a:pt x="367" y="5037"/>
                </a:lnTo>
                <a:lnTo>
                  <a:pt x="406" y="5150"/>
                </a:lnTo>
                <a:lnTo>
                  <a:pt x="420" y="5280"/>
                </a:lnTo>
                <a:lnTo>
                  <a:pt x="406" y="5406"/>
                </a:lnTo>
                <a:lnTo>
                  <a:pt x="367" y="5520"/>
                </a:lnTo>
                <a:lnTo>
                  <a:pt x="300" y="5599"/>
                </a:lnTo>
                <a:lnTo>
                  <a:pt x="210" y="5631"/>
                </a:lnTo>
                <a:close/>
              </a:path>
            </a:pathLst>
          </a:custGeom>
          <a:solidFill>
            <a:srgbClr val="ffff00"/>
          </a:solidFill>
          <a:ln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8" descr="alice"/>
          <p:cNvPicPr/>
          <p:nvPr/>
        </p:nvPicPr>
        <p:blipFill>
          <a:blip r:embed="rId3"/>
          <a:stretch/>
        </p:blipFill>
        <p:spPr>
          <a:xfrm>
            <a:off x="7238880" y="5410080"/>
            <a:ext cx="1076400" cy="12477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3" descr="C:\Users\owner\AppData\Local\Microsoft\Windows\Temporary Internet Files\Content.IE5\V550YIX2\MP900438774[1].jpg"/>
          <p:cNvPicPr/>
          <p:nvPr/>
        </p:nvPicPr>
        <p:blipFill>
          <a:blip r:embed="rId4"/>
          <a:stretch/>
        </p:blipFill>
        <p:spPr>
          <a:xfrm>
            <a:off x="6566040" y="2362320"/>
            <a:ext cx="1277640" cy="1917720"/>
          </a:xfrm>
          <a:prstGeom prst="rect">
            <a:avLst/>
          </a:prstGeom>
          <a:ln w="0">
            <a:noFill/>
          </a:ln>
        </p:spPr>
      </p:pic>
      <p:sp>
        <p:nvSpPr>
          <p:cNvPr id="510" name="Right Arrow 2"/>
          <p:cNvSpPr/>
          <p:nvPr/>
        </p:nvSpPr>
        <p:spPr>
          <a:xfrm>
            <a:off x="5986440" y="5227560"/>
            <a:ext cx="1076400" cy="990720"/>
          </a:xfrm>
          <a:prstGeom prst="rightArrow">
            <a:avLst>
              <a:gd name="adj1" fmla="val 50000"/>
              <a:gd name="adj2" fmla="val 49973"/>
            </a:avLst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1"/>
          <p:cNvSpPr/>
          <p:nvPr/>
        </p:nvSpPr>
        <p:spPr>
          <a:xfrm>
            <a:off x="210960" y="1836720"/>
            <a:ext cx="477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f the black hole interior is “built” out of the same qubits coming out as Hawking radiation, then why can’t w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o someth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to those Hawking qubits, then dive into the black hole, and see that we’ve completely destroyed the spacetime geometry in the interi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1"/>
          <p:cNvSpPr/>
          <p:nvPr/>
        </p:nvSpPr>
        <p:spPr>
          <a:xfrm>
            <a:off x="838080" y="5618160"/>
            <a:ext cx="3733920" cy="825480"/>
          </a:xfrm>
          <a:prstGeom prst="rect">
            <a:avLst/>
          </a:prstGeom>
          <a:solidFill>
            <a:srgbClr val="ffe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ntanglement among Hawking photons detect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5.20472E-007 L -0.10052 -0.25746 E">
                                      <p:cBhvr>
                                        <p:cTn id="335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1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20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2"/>
          <p:cNvSpPr/>
          <p:nvPr/>
        </p:nvSpPr>
        <p:spPr>
          <a:xfrm>
            <a:off x="176040" y="22860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Harlow-Hayden 2013:</a:t>
            </a: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Arial"/>
              </a:rPr>
              <a:t> Striking argument that doing the AMPS experiment would require solving a problem that’s exponentially hard even for a quantu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Object 1"/>
              <p:cNvSpPr txBox="1"/>
              <p:nvPr/>
            </p:nvSpPr>
            <p:spPr>
              <a:xfrm>
                <a:off x="447840" y="3324240"/>
                <a:ext cx="854388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sSub>
                      <m:e>
                        <m:r>
                          <m:t xml:space="preserve">⟩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B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ra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0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15" name="Rectangle 41"/>
          <p:cNvSpPr/>
          <p:nvPr/>
        </p:nvSpPr>
        <p:spPr>
          <a:xfrm>
            <a:off x="423720" y="4467240"/>
            <a:ext cx="52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: “Old” Hawking phot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B: Hawking photon just now coming o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H: Degrees of freedom still in black h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1"/>
          <p:cNvSpPr/>
          <p:nvPr/>
        </p:nvSpPr>
        <p:spPr>
          <a:xfrm>
            <a:off x="3363840" y="296712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MODEL SIT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41"/>
          <p:cNvSpPr/>
          <p:nvPr/>
        </p:nvSpPr>
        <p:spPr>
          <a:xfrm>
            <a:off x="277920" y="1752480"/>
            <a:ext cx="85881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So, long before you’ve made a dent in the problem, the black hole has already evaporated anyway, and there’s nowhere to jump to see a firewall!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41"/>
          <p:cNvSpPr/>
          <p:nvPr/>
        </p:nvSpPr>
        <p:spPr>
          <a:xfrm>
            <a:off x="5810400" y="4336920"/>
            <a:ext cx="312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f,g: Two functions for which we want to know whether their ranges are equal or disj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41"/>
          <p:cNvSpPr/>
          <p:nvPr/>
        </p:nvSpPr>
        <p:spPr>
          <a:xfrm>
            <a:off x="423720" y="5925960"/>
            <a:ext cx="8589960" cy="8758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f we could detect entanglement between R and B for any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RB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, then we could solve a close cousin of the collision problem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41"/>
          <p:cNvSpPr/>
          <p:nvPr/>
        </p:nvSpPr>
        <p:spPr>
          <a:xfrm>
            <a:off x="1066680" y="1274760"/>
            <a:ext cx="7086600" cy="20739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A. 2014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Strengthened the Harlow-Hayden argument, to show that a general ability to perform the AMPS experiment would imply the ability to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invert any cryptographic one-way fun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41"/>
          <p:cNvSpPr/>
          <p:nvPr/>
        </p:nvSpPr>
        <p:spPr>
          <a:xfrm>
            <a:off x="1257480" y="3621240"/>
            <a:ext cx="7086600" cy="8859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Is the geometry of spacetime protected by an armor of computational complexit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41"/>
          <p:cNvSpPr/>
          <p:nvPr/>
        </p:nvSpPr>
        <p:spPr>
          <a:xfrm>
            <a:off x="320760" y="5715000"/>
            <a:ext cx="8381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Single most important application of QC (in my opinion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Disproving the people who said QC was impossible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41"/>
          <p:cNvSpPr/>
          <p:nvPr/>
        </p:nvSpPr>
        <p:spPr>
          <a:xfrm>
            <a:off x="291960" y="1006560"/>
            <a:ext cx="838224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Exponential quantum speedups depend on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300" spc="-1" strike="noStrike">
                <a:solidFill>
                  <a:srgbClr val="00b050"/>
                </a:solidFill>
                <a:latin typeface="Calibri"/>
                <a:ea typeface="Arial"/>
              </a:rPr>
              <a:t>For example, abelian group structure, glued-trees structure, </a:t>
            </a:r>
            <a:r>
              <a:rPr b="1" lang="en-US" sz="2300" spc="-1" strike="noStrike">
                <a:solidFill>
                  <a:srgbClr val="00b050"/>
                </a:solidFill>
                <a:latin typeface="Calibri"/>
                <a:ea typeface="Arial"/>
              </a:rPr>
              <a:t>	</a:t>
            </a:r>
            <a:r>
              <a:rPr b="1" lang="en-US" sz="2300" spc="-1" strike="noStrike">
                <a:solidFill>
                  <a:srgbClr val="00b050"/>
                </a:solidFill>
                <a:latin typeface="Calibri"/>
                <a:ea typeface="Arial"/>
              </a:rPr>
              <a:t>forrelational structure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41"/>
          <p:cNvSpPr/>
          <p:nvPr/>
        </p:nvSpPr>
        <p:spPr>
          <a:xfrm>
            <a:off x="325440" y="3465360"/>
            <a:ext cx="8550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 black-box model lets us develop a rich theory of what kinds of structure do or don’t suffice for exponential speedu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41"/>
          <p:cNvSpPr/>
          <p:nvPr/>
        </p:nvSpPr>
        <p:spPr>
          <a:xfrm>
            <a:off x="287280" y="2384280"/>
            <a:ext cx="8572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Sometime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we can even find such structure in real, non-black-box problems of practical interest </a:t>
            </a:r>
            <a:r>
              <a:rPr b="1" lang="en-US" sz="2300" spc="-1" strike="noStrike">
                <a:solidFill>
                  <a:srgbClr val="00b050"/>
                </a:solidFill>
                <a:latin typeface="Calibri"/>
                <a:ea typeface="Arial"/>
              </a:rPr>
              <a:t>(e.g., factoring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41"/>
          <p:cNvSpPr/>
          <p:nvPr/>
        </p:nvSpPr>
        <p:spPr>
          <a:xfrm>
            <a:off x="325440" y="4587840"/>
            <a:ext cx="8658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Understanding the limitations of quantum computers has given us new insights about seemingly-remote issues in phys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31840" y="151920"/>
            <a:ext cx="853416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The Parallelism Falla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itle 1"/>
          <p:cNvSpPr/>
          <p:nvPr/>
        </p:nvSpPr>
        <p:spPr>
          <a:xfrm>
            <a:off x="393840" y="107784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What’s the source of the popular belief that countless more quantum algorithms should exis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itle 1"/>
          <p:cNvSpPr/>
          <p:nvPr/>
        </p:nvSpPr>
        <p:spPr>
          <a:xfrm>
            <a:off x="393840" y="3124080"/>
            <a:ext cx="661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But that’s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how quantum computing works!  You need to choreograph an interference pattern, where the unwanted paths canc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itle 1"/>
          <p:cNvSpPr/>
          <p:nvPr/>
        </p:nvSpPr>
        <p:spPr>
          <a:xfrm>
            <a:off x="393840" y="4495680"/>
            <a:ext cx="717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 miracle, I’d say, is that this trick yields a speedup for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classical problems, not that it doesn’t work for more of th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" descr="http://1.bp.blogspot.com/-Nr3olYhHK7U/T6BO_FJE4sI/AAAAAAAAAyw/llSvKaQnW2s/s1600/ist2_5342490-glass-is-half-full.jpg"/>
          <p:cNvPicPr/>
          <p:nvPr/>
        </p:nvPicPr>
        <p:blipFill>
          <a:blip r:embed="rId1"/>
          <a:stretch/>
        </p:blipFill>
        <p:spPr>
          <a:xfrm>
            <a:off x="7404120" y="4361040"/>
            <a:ext cx="1587600" cy="2209680"/>
          </a:xfrm>
          <a:prstGeom prst="rect">
            <a:avLst/>
          </a:prstGeom>
          <a:ln w="0">
            <a:noFill/>
          </a:ln>
        </p:spPr>
      </p:pic>
      <p:sp>
        <p:nvSpPr>
          <p:cNvPr id="265" name="Title 1"/>
          <p:cNvSpPr/>
          <p:nvPr/>
        </p:nvSpPr>
        <p:spPr>
          <a:xfrm>
            <a:off x="317520" y="5867280"/>
            <a:ext cx="7086600" cy="681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Arial"/>
              </a:rPr>
              <a:t>Underappreciated challenge of quantum algorithms research: beating 60 years of classical algorithms researc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"/>
          <p:cNvSpPr/>
          <p:nvPr/>
        </p:nvSpPr>
        <p:spPr>
          <a:xfrm>
            <a:off x="420840" y="2057400"/>
            <a:ext cx="8229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me, it seems tied to the idea that a quantum computer could just “try every possible answer in parallel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8" descr="http://www.scottaaronson.com/democritus/interfere.gif"/>
          <p:cNvPicPr/>
          <p:nvPr/>
        </p:nvPicPr>
        <p:blipFill>
          <a:blip r:embed="rId2"/>
          <a:stretch/>
        </p:blipFill>
        <p:spPr>
          <a:xfrm>
            <a:off x="6921360" y="2838600"/>
            <a:ext cx="221004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Oval 5"/>
          <p:cNvSpPr/>
          <p:nvPr/>
        </p:nvSpPr>
        <p:spPr>
          <a:xfrm>
            <a:off x="1901880" y="2930400"/>
            <a:ext cx="2286000" cy="358164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02680" y="152280"/>
            <a:ext cx="87663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An Inconvenient Trut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itle 1"/>
          <p:cNvSpPr/>
          <p:nvPr/>
        </p:nvSpPr>
        <p:spPr>
          <a:xfrm>
            <a:off x="297000" y="1219320"/>
            <a:ext cx="8542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 problem has to be special even to be a plausibl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candida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or an exponential quantum speed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1"/>
          <p:cNvSpPr/>
          <p:nvPr/>
        </p:nvSpPr>
        <p:spPr>
          <a:xfrm>
            <a:off x="2328840" y="5641920"/>
            <a:ext cx="1447920" cy="762120"/>
          </a:xfrm>
          <a:prstGeom prst="ellipse">
            <a:avLst/>
          </a:prstGeom>
          <a:solidFill>
            <a:srgbClr val="dbeef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itle 1"/>
          <p:cNvSpPr/>
          <p:nvPr/>
        </p:nvSpPr>
        <p:spPr>
          <a:xfrm>
            <a:off x="2843280" y="5718240"/>
            <a:ext cx="419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  <a:ea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itle 1"/>
          <p:cNvSpPr/>
          <p:nvPr/>
        </p:nvSpPr>
        <p:spPr>
          <a:xfrm>
            <a:off x="2600280" y="4127400"/>
            <a:ext cx="914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  <a:ea typeface="Arial"/>
              </a:rPr>
              <a:t>N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rc 2"/>
          <p:cNvSpPr/>
          <p:nvPr/>
        </p:nvSpPr>
        <p:spPr>
          <a:xfrm flipV="1">
            <a:off x="297000" y="2015640"/>
            <a:ext cx="5541840" cy="1828800"/>
          </a:xfrm>
          <a:custGeom>
            <a:avLst/>
            <a:gdLst/>
            <a:ahLst/>
            <a:rect l="l" t="t" r="r" b="b"/>
            <a:pathLst>
              <a:path stroke="0" w="5541962" h="1828800">
                <a:moveTo>
                  <a:pt x="3352" y="869439"/>
                </a:moveTo>
                <a:cubicBezTo>
                  <a:pt x="76137" y="381550"/>
                  <a:pt x="1298133" y="-1306"/>
                  <a:pt x="2778408" y="3"/>
                </a:cubicBezTo>
                <a:cubicBezTo>
                  <a:pt x="4305874" y="1354"/>
                  <a:pt x="5541962" y="410347"/>
                  <a:pt x="5541962" y="914400"/>
                </a:cubicBezTo>
                <a:lnTo>
                  <a:pt x="2770981" y="914400"/>
                </a:lnTo>
                <a:lnTo>
                  <a:pt x="3352" y="869439"/>
                </a:lnTo>
                <a:close/>
              </a:path>
              <a:path fill="none" w="5541962" h="1828800">
                <a:moveTo>
                  <a:pt x="3352" y="869439"/>
                </a:moveTo>
                <a:cubicBezTo>
                  <a:pt x="76137" y="381550"/>
                  <a:pt x="1298133" y="-1306"/>
                  <a:pt x="2778408" y="3"/>
                </a:cubicBezTo>
                <a:cubicBezTo>
                  <a:pt x="4305874" y="1354"/>
                  <a:pt x="5541962" y="410347"/>
                  <a:pt x="5541962" y="914400"/>
                </a:cubicBezTo>
              </a:path>
            </a:pathLst>
          </a:custGeom>
          <a:solidFill>
            <a:srgbClr val="92d050">
              <a:alpha val="50000"/>
            </a:srgbClr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itle 1"/>
          <p:cNvSpPr/>
          <p:nvPr/>
        </p:nvSpPr>
        <p:spPr>
          <a:xfrm>
            <a:off x="2054160" y="3268800"/>
            <a:ext cx="205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  <a:ea typeface="Arial"/>
              </a:rPr>
              <a:t>NP-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itle 1"/>
          <p:cNvSpPr/>
          <p:nvPr/>
        </p:nvSpPr>
        <p:spPr>
          <a:xfrm>
            <a:off x="3781440" y="2876400"/>
            <a:ext cx="2057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  <a:ea typeface="Arial"/>
              </a:rPr>
              <a:t>NP-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1"/>
          <p:cNvSpPr/>
          <p:nvPr/>
        </p:nvSpPr>
        <p:spPr>
          <a:xfrm>
            <a:off x="1368360" y="4721400"/>
            <a:ext cx="3441600" cy="1790640"/>
          </a:xfrm>
          <a:prstGeom prst="ellipse">
            <a:avLst/>
          </a:prstGeom>
          <a:solidFill>
            <a:srgbClr val="ffcc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itle 1"/>
          <p:cNvSpPr/>
          <p:nvPr/>
        </p:nvSpPr>
        <p:spPr>
          <a:xfrm>
            <a:off x="2278080" y="4881600"/>
            <a:ext cx="160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BQP</a:t>
            </a:r>
            <a:br>
              <a:rPr sz="2600"/>
            </a:br>
            <a:r>
              <a:rPr b="1" lang="en-US" sz="2000" spc="-1" strike="noStrike">
                <a:solidFill>
                  <a:srgbClr val="7030a0"/>
                </a:solidFill>
                <a:latin typeface="Calibri"/>
                <a:ea typeface="Arial"/>
              </a:rPr>
              <a:t>(Quantum 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itle 1"/>
          <p:cNvSpPr/>
          <p:nvPr/>
        </p:nvSpPr>
        <p:spPr>
          <a:xfrm rot="18583200">
            <a:off x="1779120" y="5005080"/>
            <a:ext cx="1170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ac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itle 1"/>
          <p:cNvSpPr/>
          <p:nvPr/>
        </p:nvSpPr>
        <p:spPr>
          <a:xfrm rot="18913200">
            <a:off x="1779480" y="4036680"/>
            <a:ext cx="1170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raph I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itle 1"/>
          <p:cNvSpPr/>
          <p:nvPr/>
        </p:nvSpPr>
        <p:spPr>
          <a:xfrm rot="18583200">
            <a:off x="3755880" y="5658120"/>
            <a:ext cx="11714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Quantum S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itle 1"/>
          <p:cNvSpPr/>
          <p:nvPr/>
        </p:nvSpPr>
        <p:spPr>
          <a:xfrm>
            <a:off x="2459160" y="3000240"/>
            <a:ext cx="11714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3S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itle 1"/>
          <p:cNvSpPr/>
          <p:nvPr/>
        </p:nvSpPr>
        <p:spPr>
          <a:xfrm rot="2403000">
            <a:off x="3192480" y="4127400"/>
            <a:ext cx="1170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attice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itle 1"/>
          <p:cNvSpPr/>
          <p:nvPr/>
        </p:nvSpPr>
        <p:spPr>
          <a:xfrm>
            <a:off x="5638680" y="3735360"/>
            <a:ext cx="3200400" cy="2427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≠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NP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: Plausible conjectures, which we have no hope of proving given the current state of complexity theor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17160" y="223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Rest of the Tal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itle 1"/>
          <p:cNvSpPr/>
          <p:nvPr/>
        </p:nvSpPr>
        <p:spPr>
          <a:xfrm>
            <a:off x="457200" y="2438280"/>
            <a:ext cx="8150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marL="331560" indent="-331560"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urvey of the main families of quantum algorithms that have been discovered (and their limitations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560" indent="-331560"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sults i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lack-box mode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which aim toward a general theory of when quantum speedups are possib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560" indent="-331560"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Lemons into lemonade: implications for physics of the limitations of quantum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17160" y="223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Quantum Simulation</a:t>
            </a:r>
            <a:br>
              <a:rPr sz="4400"/>
            </a:b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“What a QC does in its sleep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itle 1"/>
          <p:cNvSpPr/>
          <p:nvPr/>
        </p:nvSpPr>
        <p:spPr>
          <a:xfrm>
            <a:off x="384120" y="1484280"/>
            <a:ext cx="4800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 “original” application of QC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http://www.aps.org/meetings/march/vpr/2012/imagegallery/images/27Kumar2012.jpg"/>
          <p:cNvPicPr/>
          <p:nvPr/>
        </p:nvPicPr>
        <p:blipFill>
          <a:blip r:embed="rId1"/>
          <a:stretch/>
        </p:blipFill>
        <p:spPr>
          <a:xfrm>
            <a:off x="5356080" y="1461960"/>
            <a:ext cx="3486240" cy="2041560"/>
          </a:xfrm>
          <a:prstGeom prst="rect">
            <a:avLst/>
          </a:prstGeom>
          <a:ln w="0">
            <a:noFill/>
          </a:ln>
        </p:spPr>
      </p:pic>
      <p:sp>
        <p:nvSpPr>
          <p:cNvPr id="290" name="Title 1"/>
          <p:cNvSpPr/>
          <p:nvPr/>
        </p:nvSpPr>
        <p:spPr>
          <a:xfrm>
            <a:off x="384120" y="2479680"/>
            <a:ext cx="4800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My personal view: still the most important 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3" descr="C:\Users\aaronson\AppData\Local\Microsoft\Windows\Temporary Internet Files\Content.IE5\VQM58UMI\MC900432530[1].png"/>
          <p:cNvPicPr/>
          <p:nvPr/>
        </p:nvPicPr>
        <p:blipFill>
          <a:blip r:embed="rId2"/>
          <a:stretch/>
        </p:blipFill>
        <p:spPr>
          <a:xfrm>
            <a:off x="395280" y="3851280"/>
            <a:ext cx="557280" cy="480960"/>
          </a:xfrm>
          <a:prstGeom prst="rect">
            <a:avLst/>
          </a:prstGeom>
          <a:ln w="0">
            <a:noFill/>
          </a:ln>
        </p:spPr>
      </p:pic>
      <p:sp>
        <p:nvSpPr>
          <p:cNvPr id="292" name="Title 1"/>
          <p:cNvSpPr/>
          <p:nvPr/>
        </p:nvSpPr>
        <p:spPr>
          <a:xfrm>
            <a:off x="1055520" y="37479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Major applications (high-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superconductivity, protein folding, nanofabrication, photovoltaics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3" descr="C:\Users\aaronson\AppData\Local\Microsoft\Windows\Temporary Internet Files\Content.IE5\VQM58UMI\MC900432530[1].png"/>
          <p:cNvPicPr/>
          <p:nvPr/>
        </p:nvPicPr>
        <p:blipFill>
          <a:blip r:embed="rId3"/>
          <a:stretch/>
        </p:blipFill>
        <p:spPr>
          <a:xfrm>
            <a:off x="395280" y="4842000"/>
            <a:ext cx="557280" cy="480960"/>
          </a:xfrm>
          <a:prstGeom prst="rect">
            <a:avLst/>
          </a:prstGeom>
          <a:ln w="0">
            <a:noFill/>
          </a:ln>
        </p:spPr>
      </p:pic>
      <p:sp>
        <p:nvSpPr>
          <p:cNvPr id="294" name="Title 1"/>
          <p:cNvSpPr/>
          <p:nvPr/>
        </p:nvSpPr>
        <p:spPr>
          <a:xfrm>
            <a:off x="1055520" y="47386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High confidence in possibility of a quantum speed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" descr="C:\Users\aaronson\AppData\Local\Microsoft\Windows\Temporary Internet Files\Content.IE5\VQM58UMI\MC900432530[1].png"/>
          <p:cNvPicPr/>
          <p:nvPr/>
        </p:nvPicPr>
        <p:blipFill>
          <a:blip r:embed="rId4"/>
          <a:stretch/>
        </p:blipFill>
        <p:spPr>
          <a:xfrm>
            <a:off x="399960" y="5805360"/>
            <a:ext cx="557280" cy="481320"/>
          </a:xfrm>
          <a:prstGeom prst="rect">
            <a:avLst/>
          </a:prstGeom>
          <a:ln w="0">
            <a:noFill/>
          </a:ln>
        </p:spPr>
      </p:pic>
      <p:sp>
        <p:nvSpPr>
          <p:cNvPr id="296" name="Title 1"/>
          <p:cNvSpPr/>
          <p:nvPr/>
        </p:nvSpPr>
        <p:spPr>
          <a:xfrm>
            <a:off x="1069920" y="570384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Can plausibly realize even before universal QCs are avail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2" descr="http://www.washington.edu/news/files/2011/10/RichardFeynmanBBC.jpg"/>
          <p:cNvPicPr/>
          <p:nvPr/>
        </p:nvPicPr>
        <p:blipFill>
          <a:blip r:embed="rId5"/>
          <a:stretch/>
        </p:blipFill>
        <p:spPr>
          <a:xfrm>
            <a:off x="163440" y="239760"/>
            <a:ext cx="158760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5" descr="http://upload.wikimedia.org/wikipedia/commons/thumb/a/af/Peter_Shor.jpg/220px-Peter_Shor.jpg"/>
          <p:cNvPicPr/>
          <p:nvPr/>
        </p:nvPicPr>
        <p:blipFill>
          <a:blip r:embed="rId1"/>
          <a:stretch/>
        </p:blipFill>
        <p:spPr>
          <a:xfrm>
            <a:off x="8077320" y="228600"/>
            <a:ext cx="981000" cy="147168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2"/>
          <p:cNvSpPr/>
          <p:nvPr/>
        </p:nvSpPr>
        <p:spPr>
          <a:xfrm>
            <a:off x="2889360" y="127008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 magic of the Fourier transform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10680" y="178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Shor-like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1" name="Group 16"/>
          <p:cNvGrpSpPr/>
          <p:nvPr/>
        </p:nvGrpSpPr>
        <p:grpSpPr>
          <a:xfrm>
            <a:off x="4870440" y="1066680"/>
            <a:ext cx="4255920" cy="2684520"/>
            <a:chOff x="4870440" y="1066680"/>
            <a:chExt cx="4255920" cy="2684520"/>
          </a:xfrm>
        </p:grpSpPr>
        <p:pic>
          <p:nvPicPr>
            <p:cNvPr id="302" name="Picture 14" descr="spy"/>
            <p:cNvPicPr/>
            <p:nvPr/>
          </p:nvPicPr>
          <p:blipFill>
            <a:blip r:embed="rId2"/>
            <a:srcRect l="1304" t="25263" r="50878" b="20210"/>
            <a:stretch/>
          </p:blipFill>
          <p:spPr>
            <a:xfrm>
              <a:off x="7743600" y="1715760"/>
              <a:ext cx="1382760" cy="20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AutoShape 15"/>
            <p:cNvSpPr/>
            <p:nvPr/>
          </p:nvSpPr>
          <p:spPr>
            <a:xfrm>
              <a:off x="4870440" y="1066680"/>
              <a:ext cx="3406680" cy="817560"/>
            </a:xfrm>
            <a:prstGeom prst="cloudCallout">
              <a:avLst>
                <a:gd name="adj1" fmla="val 53027"/>
                <a:gd name="adj2" fmla="val 89222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est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Text Box 2"/>
          <p:cNvSpPr/>
          <p:nvPr/>
        </p:nvSpPr>
        <p:spPr>
          <a:xfrm>
            <a:off x="304920" y="2514600"/>
            <a:ext cx="736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In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: Pretty much anything you can think of that reduces to finding hidden structure in abelian groups</a:t>
            </a:r>
            <a:br>
              <a:rPr sz="2600"/>
            </a:br>
            <a:r>
              <a:rPr b="1" i="1" lang="en-US" sz="2200" spc="-1" strike="noStrike">
                <a:solidFill>
                  <a:srgbClr val="00b050"/>
                </a:solidFill>
                <a:latin typeface="Calibri"/>
                <a:ea typeface="Arial"/>
              </a:rPr>
              <a:t>Factoring, discrete log, elliptic curve problems, Pell’s equation, unit groups, class groups, Simon’s problem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"/>
          <p:cNvSpPr/>
          <p:nvPr/>
        </p:nvSpPr>
        <p:spPr>
          <a:xfrm>
            <a:off x="304920" y="4178160"/>
            <a:ext cx="81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Breaks almost all public-key cryptosystems used today</a:t>
            </a:r>
            <a:br>
              <a:rPr sz="2600"/>
            </a:br>
            <a:r>
              <a:rPr b="1" i="1" lang="en-US" sz="2200" spc="-1" strike="noStrike">
                <a:solidFill>
                  <a:srgbClr val="00b050"/>
                </a:solidFill>
                <a:latin typeface="Calibri"/>
                <a:ea typeface="Arial"/>
              </a:rPr>
              <a:t>But theoretical public-key systems exist that are unaffec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2" descr="http://upload.wikimedia.org/wikibooks/en/8/83/DFT_vis.jpg"/>
          <p:cNvPicPr/>
          <p:nvPr/>
        </p:nvPicPr>
        <p:blipFill>
          <a:blip r:embed="rId3"/>
          <a:stretch/>
        </p:blipFill>
        <p:spPr>
          <a:xfrm>
            <a:off x="457200" y="941400"/>
            <a:ext cx="2195640" cy="142236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2"/>
          <p:cNvSpPr/>
          <p:nvPr/>
        </p:nvSpPr>
        <p:spPr>
          <a:xfrm>
            <a:off x="304920" y="5105520"/>
            <a:ext cx="875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Can we go further? 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Hidden Subgroup Problem</a:t>
            </a:r>
            <a:br>
              <a:rPr sz="2200"/>
            </a:br>
            <a:r>
              <a:rPr b="1" i="1" lang="en-US" sz="2200" spc="-1" strike="noStrike">
                <a:solidFill>
                  <a:srgbClr val="00b050"/>
                </a:solidFill>
                <a:latin typeface="Calibri"/>
                <a:ea typeface="Courier New"/>
              </a:rPr>
              <a:t>Generalizes Shor to nonabelian groups.  Captures e.g. Graph Isomorphi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itle 1"/>
          <p:cNvSpPr/>
          <p:nvPr/>
        </p:nvSpPr>
        <p:spPr>
          <a:xfrm>
            <a:off x="304920" y="6080040"/>
            <a:ext cx="8458200" cy="528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Alas, nonabelian HSP has been the Afghanistan of quantum algorithm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13"/>
          <p:cNvGrpSpPr/>
          <p:nvPr/>
        </p:nvGrpSpPr>
        <p:grpSpPr>
          <a:xfrm>
            <a:off x="7108920" y="4973760"/>
            <a:ext cx="1777680" cy="546120"/>
            <a:chOff x="7108920" y="4973760"/>
            <a:chExt cx="1777680" cy="546120"/>
          </a:xfrm>
        </p:grpSpPr>
        <p:grpSp>
          <p:nvGrpSpPr>
            <p:cNvPr id="310" name="Group 15"/>
            <p:cNvGrpSpPr/>
            <p:nvPr/>
          </p:nvGrpSpPr>
          <p:grpSpPr>
            <a:xfrm>
              <a:off x="7108920" y="4973760"/>
              <a:ext cx="615240" cy="546120"/>
              <a:chOff x="7108920" y="4973760"/>
              <a:chExt cx="615240" cy="546120"/>
            </a:xfrm>
          </p:grpSpPr>
          <p:sp>
            <p:nvSpPr>
              <p:cNvPr id="311" name="Line 16"/>
              <p:cNvSpPr/>
              <p:nvPr/>
            </p:nvSpPr>
            <p:spPr>
              <a:xfrm>
                <a:off x="7142760" y="5007600"/>
                <a:ext cx="0" cy="239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Line 17"/>
              <p:cNvSpPr/>
              <p:nvPr/>
            </p:nvSpPr>
            <p:spPr>
              <a:xfrm flipH="1">
                <a:off x="7142760" y="5007600"/>
                <a:ext cx="273600" cy="239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Line 18"/>
              <p:cNvSpPr/>
              <p:nvPr/>
            </p:nvSpPr>
            <p:spPr>
              <a:xfrm flipH="1">
                <a:off x="7416000" y="5007600"/>
                <a:ext cx="273240" cy="239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19"/>
              <p:cNvSpPr/>
              <p:nvPr/>
            </p:nvSpPr>
            <p:spPr>
              <a:xfrm>
                <a:off x="7416360" y="5007600"/>
                <a:ext cx="273240" cy="239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Line 20"/>
              <p:cNvSpPr/>
              <p:nvPr/>
            </p:nvSpPr>
            <p:spPr>
              <a:xfrm>
                <a:off x="7142760" y="5007600"/>
                <a:ext cx="273600" cy="239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Line 21"/>
              <p:cNvSpPr/>
              <p:nvPr/>
            </p:nvSpPr>
            <p:spPr>
              <a:xfrm flipH="1">
                <a:off x="7416000" y="5007600"/>
                <a:ext cx="273240" cy="477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Line 22"/>
              <p:cNvSpPr/>
              <p:nvPr/>
            </p:nvSpPr>
            <p:spPr>
              <a:xfrm>
                <a:off x="7416360" y="5247000"/>
                <a:ext cx="0" cy="238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Line 23"/>
              <p:cNvSpPr/>
              <p:nvPr/>
            </p:nvSpPr>
            <p:spPr>
              <a:xfrm flipH="1">
                <a:off x="7416000" y="5247000"/>
                <a:ext cx="273240" cy="238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Line 24"/>
              <p:cNvSpPr/>
              <p:nvPr/>
            </p:nvSpPr>
            <p:spPr>
              <a:xfrm>
                <a:off x="7142760" y="5247000"/>
                <a:ext cx="273600" cy="238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Oval 25"/>
              <p:cNvSpPr/>
              <p:nvPr/>
            </p:nvSpPr>
            <p:spPr>
              <a:xfrm>
                <a:off x="7108920" y="5212800"/>
                <a:ext cx="68040" cy="680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Oval 26"/>
              <p:cNvSpPr/>
              <p:nvPr/>
            </p:nvSpPr>
            <p:spPr>
              <a:xfrm>
                <a:off x="7382160" y="5212800"/>
                <a:ext cx="68040" cy="680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Oval 27"/>
              <p:cNvSpPr/>
              <p:nvPr/>
            </p:nvSpPr>
            <p:spPr>
              <a:xfrm>
                <a:off x="7382160" y="4973760"/>
                <a:ext cx="68040" cy="680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Oval 28"/>
              <p:cNvSpPr/>
              <p:nvPr/>
            </p:nvSpPr>
            <p:spPr>
              <a:xfrm>
                <a:off x="7655760" y="4973760"/>
                <a:ext cx="68400" cy="680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Oval 29"/>
              <p:cNvSpPr/>
              <p:nvPr/>
            </p:nvSpPr>
            <p:spPr>
              <a:xfrm>
                <a:off x="7655760" y="5212800"/>
                <a:ext cx="68400" cy="680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Oval 30"/>
              <p:cNvSpPr/>
              <p:nvPr/>
            </p:nvSpPr>
            <p:spPr>
              <a:xfrm>
                <a:off x="7382160" y="5451840"/>
                <a:ext cx="68040" cy="680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Oval 31"/>
              <p:cNvSpPr/>
              <p:nvPr/>
            </p:nvSpPr>
            <p:spPr>
              <a:xfrm>
                <a:off x="7108920" y="4973760"/>
                <a:ext cx="68040" cy="680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32"/>
            <p:cNvGrpSpPr/>
            <p:nvPr/>
          </p:nvGrpSpPr>
          <p:grpSpPr>
            <a:xfrm>
              <a:off x="8237520" y="4973760"/>
              <a:ext cx="649080" cy="511920"/>
              <a:chOff x="8237520" y="4973760"/>
              <a:chExt cx="649080" cy="511920"/>
            </a:xfrm>
          </p:grpSpPr>
          <p:sp>
            <p:nvSpPr>
              <p:cNvPr id="328" name="Line 33"/>
              <p:cNvSpPr/>
              <p:nvPr/>
            </p:nvSpPr>
            <p:spPr>
              <a:xfrm flipH="1">
                <a:off x="8476200" y="5007960"/>
                <a:ext cx="239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Line 34"/>
              <p:cNvSpPr/>
              <p:nvPr/>
            </p:nvSpPr>
            <p:spPr>
              <a:xfrm flipH="1">
                <a:off x="8442000" y="5212800"/>
                <a:ext cx="136440" cy="239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Line 35"/>
              <p:cNvSpPr/>
              <p:nvPr/>
            </p:nvSpPr>
            <p:spPr>
              <a:xfrm flipH="1">
                <a:off x="8271000" y="5007960"/>
                <a:ext cx="171000" cy="20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Line 36"/>
              <p:cNvSpPr/>
              <p:nvPr/>
            </p:nvSpPr>
            <p:spPr>
              <a:xfrm>
                <a:off x="8715960" y="5007960"/>
                <a:ext cx="136800" cy="20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37"/>
              <p:cNvSpPr/>
              <p:nvPr/>
            </p:nvSpPr>
            <p:spPr>
              <a:xfrm>
                <a:off x="8579160" y="5212800"/>
                <a:ext cx="273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Line 38"/>
              <p:cNvSpPr/>
              <p:nvPr/>
            </p:nvSpPr>
            <p:spPr>
              <a:xfrm>
                <a:off x="8442360" y="5007960"/>
                <a:ext cx="136440" cy="20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Line 39"/>
              <p:cNvSpPr/>
              <p:nvPr/>
            </p:nvSpPr>
            <p:spPr>
              <a:xfrm flipH="1" flipV="1">
                <a:off x="8579160" y="5212800"/>
                <a:ext cx="136800" cy="239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40"/>
              <p:cNvSpPr/>
              <p:nvPr/>
            </p:nvSpPr>
            <p:spPr>
              <a:xfrm flipH="1">
                <a:off x="8715960" y="5212800"/>
                <a:ext cx="136800" cy="239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41"/>
              <p:cNvSpPr/>
              <p:nvPr/>
            </p:nvSpPr>
            <p:spPr>
              <a:xfrm>
                <a:off x="8271360" y="5212800"/>
                <a:ext cx="171000" cy="239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Oval 42"/>
              <p:cNvSpPr/>
              <p:nvPr/>
            </p:nvSpPr>
            <p:spPr>
              <a:xfrm>
                <a:off x="8544960" y="5178600"/>
                <a:ext cx="68040" cy="684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Oval 43"/>
              <p:cNvSpPr/>
              <p:nvPr/>
            </p:nvSpPr>
            <p:spPr>
              <a:xfrm>
                <a:off x="8408160" y="5417640"/>
                <a:ext cx="68040" cy="680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Oval 44"/>
              <p:cNvSpPr/>
              <p:nvPr/>
            </p:nvSpPr>
            <p:spPr>
              <a:xfrm>
                <a:off x="8237520" y="5178600"/>
                <a:ext cx="68040" cy="684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Oval 45"/>
              <p:cNvSpPr/>
              <p:nvPr/>
            </p:nvSpPr>
            <p:spPr>
              <a:xfrm>
                <a:off x="8408160" y="4973760"/>
                <a:ext cx="68040" cy="684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Oval 46"/>
              <p:cNvSpPr/>
              <p:nvPr/>
            </p:nvSpPr>
            <p:spPr>
              <a:xfrm>
                <a:off x="8681760" y="4973760"/>
                <a:ext cx="68400" cy="684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Oval 47"/>
              <p:cNvSpPr/>
              <p:nvPr/>
            </p:nvSpPr>
            <p:spPr>
              <a:xfrm>
                <a:off x="8681760" y="5417640"/>
                <a:ext cx="68400" cy="680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Oval 48"/>
              <p:cNvSpPr/>
              <p:nvPr/>
            </p:nvSpPr>
            <p:spPr>
              <a:xfrm>
                <a:off x="8818560" y="5178600"/>
                <a:ext cx="68040" cy="684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4" name="Text Box 49"/>
            <p:cNvSpPr/>
            <p:nvPr/>
          </p:nvSpPr>
          <p:spPr>
            <a:xfrm>
              <a:off x="7860960" y="5007600"/>
              <a:ext cx="27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Grover-like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 Box 9"/>
          <p:cNvSpPr/>
          <p:nvPr/>
        </p:nvSpPr>
        <p:spPr>
          <a:xfrm>
            <a:off x="457200" y="5181480"/>
            <a:ext cx="8290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Calibri"/>
                <a:ea typeface="Arial"/>
              </a:rPr>
              <a:t>Bennett et al. 1997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For black-box searching, the square-root speedup of Grover’s algorithm is the best pos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38"/>
          <p:cNvGrpSpPr/>
          <p:nvPr/>
        </p:nvGrpSpPr>
        <p:grpSpPr>
          <a:xfrm>
            <a:off x="517680" y="4481640"/>
            <a:ext cx="8229600" cy="304560"/>
            <a:chOff x="517680" y="4481640"/>
            <a:chExt cx="8229600" cy="304560"/>
          </a:xfrm>
        </p:grpSpPr>
        <p:sp>
          <p:nvSpPr>
            <p:cNvPr id="348" name="Rectangle 11"/>
            <p:cNvSpPr/>
            <p:nvPr/>
          </p:nvSpPr>
          <p:spPr>
            <a:xfrm>
              <a:off x="517680" y="448164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12"/>
            <p:cNvSpPr/>
            <p:nvPr/>
          </p:nvSpPr>
          <p:spPr>
            <a:xfrm>
              <a:off x="82224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3"/>
            <p:cNvSpPr/>
            <p:nvPr/>
          </p:nvSpPr>
          <p:spPr>
            <a:xfrm>
              <a:off x="112716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4"/>
            <p:cNvSpPr/>
            <p:nvPr/>
          </p:nvSpPr>
          <p:spPr>
            <a:xfrm>
              <a:off x="1432080" y="448164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5"/>
            <p:cNvSpPr/>
            <p:nvPr/>
          </p:nvSpPr>
          <p:spPr>
            <a:xfrm>
              <a:off x="173664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6"/>
            <p:cNvSpPr/>
            <p:nvPr/>
          </p:nvSpPr>
          <p:spPr>
            <a:xfrm>
              <a:off x="204156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17"/>
            <p:cNvSpPr/>
            <p:nvPr/>
          </p:nvSpPr>
          <p:spPr>
            <a:xfrm>
              <a:off x="2346480" y="448164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18"/>
            <p:cNvSpPr/>
            <p:nvPr/>
          </p:nvSpPr>
          <p:spPr>
            <a:xfrm>
              <a:off x="265104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19"/>
            <p:cNvSpPr/>
            <p:nvPr/>
          </p:nvSpPr>
          <p:spPr>
            <a:xfrm>
              <a:off x="295596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20"/>
            <p:cNvSpPr/>
            <p:nvPr/>
          </p:nvSpPr>
          <p:spPr>
            <a:xfrm>
              <a:off x="3260880" y="448164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21"/>
            <p:cNvSpPr/>
            <p:nvPr/>
          </p:nvSpPr>
          <p:spPr>
            <a:xfrm>
              <a:off x="3565440" y="4481640"/>
              <a:ext cx="304920" cy="30456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22"/>
            <p:cNvSpPr/>
            <p:nvPr/>
          </p:nvSpPr>
          <p:spPr>
            <a:xfrm>
              <a:off x="387036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23"/>
            <p:cNvSpPr/>
            <p:nvPr/>
          </p:nvSpPr>
          <p:spPr>
            <a:xfrm>
              <a:off x="4175280" y="448164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24"/>
            <p:cNvSpPr/>
            <p:nvPr/>
          </p:nvSpPr>
          <p:spPr>
            <a:xfrm>
              <a:off x="447984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25"/>
            <p:cNvSpPr/>
            <p:nvPr/>
          </p:nvSpPr>
          <p:spPr>
            <a:xfrm>
              <a:off x="478476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26"/>
            <p:cNvSpPr/>
            <p:nvPr/>
          </p:nvSpPr>
          <p:spPr>
            <a:xfrm>
              <a:off x="5089680" y="448164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27"/>
            <p:cNvSpPr/>
            <p:nvPr/>
          </p:nvSpPr>
          <p:spPr>
            <a:xfrm>
              <a:off x="539424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28"/>
            <p:cNvSpPr/>
            <p:nvPr/>
          </p:nvSpPr>
          <p:spPr>
            <a:xfrm>
              <a:off x="569916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29"/>
            <p:cNvSpPr/>
            <p:nvPr/>
          </p:nvSpPr>
          <p:spPr>
            <a:xfrm>
              <a:off x="6004080" y="448164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30"/>
            <p:cNvSpPr/>
            <p:nvPr/>
          </p:nvSpPr>
          <p:spPr>
            <a:xfrm>
              <a:off x="630864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31"/>
            <p:cNvSpPr/>
            <p:nvPr/>
          </p:nvSpPr>
          <p:spPr>
            <a:xfrm>
              <a:off x="661356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32"/>
            <p:cNvSpPr/>
            <p:nvPr/>
          </p:nvSpPr>
          <p:spPr>
            <a:xfrm>
              <a:off x="6918480" y="448164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33"/>
            <p:cNvSpPr/>
            <p:nvPr/>
          </p:nvSpPr>
          <p:spPr>
            <a:xfrm>
              <a:off x="722304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34"/>
            <p:cNvSpPr/>
            <p:nvPr/>
          </p:nvSpPr>
          <p:spPr>
            <a:xfrm>
              <a:off x="752796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35"/>
            <p:cNvSpPr/>
            <p:nvPr/>
          </p:nvSpPr>
          <p:spPr>
            <a:xfrm>
              <a:off x="7832880" y="448164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36"/>
            <p:cNvSpPr/>
            <p:nvPr/>
          </p:nvSpPr>
          <p:spPr>
            <a:xfrm>
              <a:off x="813744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37"/>
            <p:cNvSpPr/>
            <p:nvPr/>
          </p:nvSpPr>
          <p:spPr>
            <a:xfrm>
              <a:off x="844236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Picture 2" descr="http://upload.wikimedia.org/wikipedia/commons/thumb/1/16/Grovers_algorithm_geometry.png/310px-Grovers_algorithm_geometry.png"/>
          <p:cNvPicPr/>
          <p:nvPr/>
        </p:nvPicPr>
        <p:blipFill>
          <a:blip r:embed="rId1"/>
          <a:stretch/>
        </p:blipFill>
        <p:spPr>
          <a:xfrm>
            <a:off x="457200" y="1143000"/>
            <a:ext cx="2952720" cy="306720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9"/>
          <p:cNvSpPr/>
          <p:nvPr/>
        </p:nvSpPr>
        <p:spPr>
          <a:xfrm>
            <a:off x="3565440" y="1511280"/>
            <a:ext cx="5426280" cy="26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Quadratic speedup for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problem involving searching an unordered list, provided the list elements can be queried in superpos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Implies subquadratic speedups for many other basic probl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7" descr="http://www.dcs.warwick.ac.uk/~tim/quantumcomputing/img/when_grover.jpg"/>
          <p:cNvPicPr/>
          <p:nvPr/>
        </p:nvPicPr>
        <p:blipFill>
          <a:blip r:embed="rId2"/>
          <a:stretch/>
        </p:blipFill>
        <p:spPr>
          <a:xfrm>
            <a:off x="7680240" y="246240"/>
            <a:ext cx="1033560" cy="125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995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Quantum Walk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2" descr="enter image description here"/>
          <p:cNvPicPr/>
          <p:nvPr/>
        </p:nvPicPr>
        <p:blipFill>
          <a:blip r:embed="rId1"/>
          <a:stretch/>
        </p:blipFill>
        <p:spPr>
          <a:xfrm>
            <a:off x="2209680" y="2435400"/>
            <a:ext cx="5105520" cy="367344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2"/>
          <p:cNvSpPr/>
          <p:nvPr/>
        </p:nvSpPr>
        <p:spPr>
          <a:xfrm>
            <a:off x="299880" y="1143000"/>
            <a:ext cx="83869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Childs et al. 2003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Quantum walks can achieve provable exponential speedups over classical walks, but for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extremel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“fine-tuned”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3048120" y="6108840"/>
            <a:ext cx="3733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b050"/>
                </a:solidFill>
                <a:latin typeface="Calibri"/>
                <a:ea typeface="Arial"/>
              </a:rPr>
              <a:t>THE GLUED TR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9" descr="http://web.mit.edu/physics/images/faculty/farhi_eddie.jpg"/>
          <p:cNvPicPr/>
          <p:nvPr/>
        </p:nvPicPr>
        <p:blipFill>
          <a:blip r:embed="rId2"/>
          <a:stretch/>
        </p:blipFill>
        <p:spPr>
          <a:xfrm>
            <a:off x="8153280" y="152280"/>
            <a:ext cx="80172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9:35:08Z</dcterms:created>
  <dc:creator>Scott Aaronson</dc:creator>
  <dc:description/>
  <dc:language>en-US</dc:language>
  <cp:lastModifiedBy>Scott</cp:lastModifiedBy>
  <dcterms:modified xsi:type="dcterms:W3CDTF">2014-11-20T14:14:31Z</dcterms:modified>
  <cp:revision>313</cp:revision>
  <dc:subject/>
  <dc:title>The Future of Computer Science</dc:title>
</cp:coreProperties>
</file>