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2.jpeg" ContentType="image/jpeg"/>
  <Override PartName="/ppt/media/image14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A19C-4ED9-4566-9811-345F57DC3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CCC2-7A6F-4A43-98C3-E3969D73265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ZOOM THRU  ZOOM THRU   Thanks so much for inviting me!  When I typed “quantum computer” into Google Image Search, that’s the first picture that came up.  That’s apparently what they look like.  (I should warn you that I’m a theorist rather than an engineer.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649A-7019-4758-AABB-3F09BF8DEF7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112D-C204-417D-8597-27387AFB2ED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B1DA-C9E4-4C67-B11D-918CFA680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CDC5-5104-4798-854C-507D580B1EC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D45E-93BC-4D7C-9892-476C3CDDC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C10A-B724-4D3A-B139-304029524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BE4D-EE14-4AC2-84CA-4018FB1D7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39C0-8390-4C62-B72A-A01F07240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818D-5E77-4F1D-B0B7-ED33E903E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0C8F-F409-439D-90D5-4B75B3B5D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D8B0-35EE-4994-8DF1-3F9C90497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9811-733A-41E3-B578-EEC75C475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D013-BA39-4640-AA1D-D1377FAEE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5679-BF80-4E30-8DD0-65A5EA5979D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A46A-CE28-45F7-ADD8-6E4ED027556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5A7B-C840-4441-92D0-287E7F6B958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B9E9-B42C-4A5A-904F-F8CBE6829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8AD2-3D16-42F1-998F-5CC947B4B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C298-7A70-4383-9F8A-4A25BD793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48FD-4009-47DA-B0A6-7C116E209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8387-C19B-48C2-AE27-21EE99F7F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ADA1-F50A-4122-9BBC-E15416BC7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B656-CE86-45D5-A146-8179128F3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76E2-5B8C-49D0-8137-F122B8336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5187-8BF9-47EE-B458-7E81B62D1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B74F-ECDE-4C64-BDF3-106F5457B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A6E-4C2C-4A7E-AD36-CC7E9D7E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439-C1FB-462A-BEA6-CE8C26C8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529-CFAC-4871-AB7E-36986F1A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123-72F7-40EF-B1BC-70704073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0166-E9CB-4193-BF4B-3D1D9A5B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D99F-32E2-4026-AE07-F697EA4A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4CC4-1DE6-47BE-947F-D0018118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1CEB-A2AD-4C87-896D-5E17B8BF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D43E-7D6F-4C54-B685-3941836E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1FC8-EFF0-4601-969E-E5B94124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0187-76EE-44CE-AA02-B0BD1543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E4B-6B82-475A-82D4-F9245AFB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F326-D84D-4A68-A06F-AD83F35F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9A59-FAEA-4873-9B6D-07174F49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0405-C83C-4AD7-951A-94CEDD05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7534-6B37-4A00-8401-D9C3BDE6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8154-8B9A-4F7F-B171-3A52089E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37428-1B9B-44F3-9219-68828743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A96D-3B00-4E3E-A876-F7D5F360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B95E-53A0-4E3C-836C-E6DA9F01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5DA69-11E4-46D7-8D41-23701874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4B05-092E-4F99-A1F0-E2736959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FE4-1CCB-4073-8C4F-6E2A8A64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42BA-B03F-4129-B0FD-80E3D948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462E-3DB2-43CC-B700-A25F7D65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7025-4552-4E3F-913D-9CD6584C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AA90-D15E-4A52-AED8-FCDD7EE6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C469-3579-45A2-858A-6D39BEDC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6C87-4558-443E-9EE2-D766D530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4E03-5F0A-4668-9873-848CC645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18FCB-90F3-44AD-B5AE-919CAF16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EE6AA-C3E5-4BBA-A298-EEE31B73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FB5CC-B3FC-42F2-9B65-E2143D97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282-B8F8-41E6-AA6E-48224E28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87558-ED1C-4728-9A6F-002FC806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A41B-D748-4554-860F-9EA63DBA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5040D-1593-4D2A-BD0F-C2BB8898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F5A32-3B1C-4B28-9ED8-6C3A40F8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A69EE-D8B3-43EA-997A-139A4A53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11B9B-6BE7-43A5-9F8E-95E682CF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2CB66-8605-433B-BCA2-EE6FE142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C2C6-6FB4-421F-B2A8-F95BC42C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F45A0-2347-4798-B87B-927DEAFB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6E453-37AB-4497-A7F3-CBA7650F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D4A-4017-45C0-AEC9-35F402EF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56085-A1EA-44C1-951E-A2BEEB9B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84B10-B4BE-48D9-BF31-96B0A432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A029A-A315-42FD-9DE3-75CD7D72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D795F-B3CB-48A7-B570-9CC1DA22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E25BA-7E34-4B14-B668-19F4EB8C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30351-5630-4C5A-8D0C-12B4A982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2EF2D-26A8-405B-AAEE-EC78105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EDB5B-7C6D-44D3-90A3-BB2CE6AA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B5186-E0C6-4F70-AF70-B48E1315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63FF3-378C-47E3-A304-337B438D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D39-91A2-48A7-BF49-0EA4341F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70385-E405-44B3-A281-F327AFE1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F715E-39B8-47B9-917E-0FD314EC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F274D-0EAF-4864-893B-25028701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9ACD6-FD23-455C-B26D-E7818E4E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9EA51-FBB1-4F9A-AA87-91DF0867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67104-1752-4DC2-A3BE-0D4C9C05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6B03D-97C9-47C3-8C64-9A7D6599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C4B8D-F0BA-4C65-82A5-14B22D53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2CA0-90B1-43AF-86E7-59106EC8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2E97E-A51E-4664-A9CD-EBFF3DEB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DCB-04A3-4544-B78C-9FAA692F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A1128-BF2F-46A4-B2AE-07134E00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036BC-24CA-4809-A718-92536AF8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04372-BCA0-4052-98A9-25C0B4F4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5E7-4E62-4BD3-83D4-FE606A4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720-C070-4D6F-82E9-94A0999B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8B61-6C39-4413-9912-A4E6C3989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0126-B3A6-45DD-83C7-A57684AF9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3F99-E9AB-487A-B1F4-2F78203FE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14D3-AF81-4F69-93E7-3F8116879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E646-79AC-4313-A7B4-83C5577A6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FFBF-0F28-469E-8E41-D0125C2EB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When Exactly Do Quantum Computers Provide A Speedup?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54097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pers &amp; slides at www.scottaaron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Calibri"/>
              </a:rPr>
              <a:t>Quantum Adiabatic Algorithm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(Farhi et al. 2000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271520" y="128124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76320" y="24382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miltonian with easily-prepared groun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6819840" y="135576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4038480" y="2438280"/>
            <a:ext cx="49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ound state encodes solution to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9"/>
          <p:cNvSpPr/>
          <p:nvPr/>
        </p:nvSpPr>
        <p:spPr>
          <a:xfrm>
            <a:off x="2286000" y="1371600"/>
            <a:ext cx="4572000" cy="8906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2880" h="561">
                <a:moveTo>
                  <a:pt x="0" y="302"/>
                </a:moveTo>
                <a:cubicBezTo>
                  <a:pt x="214" y="139"/>
                  <a:pt x="425" y="0"/>
                  <a:pt x="633" y="42"/>
                </a:cubicBezTo>
                <a:cubicBezTo>
                  <a:pt x="841" y="84"/>
                  <a:pt x="1008" y="545"/>
                  <a:pt x="1249" y="553"/>
                </a:cubicBezTo>
                <a:cubicBezTo>
                  <a:pt x="1490" y="561"/>
                  <a:pt x="1805" y="122"/>
                  <a:pt x="2077" y="91"/>
                </a:cubicBezTo>
                <a:cubicBezTo>
                  <a:pt x="2349" y="60"/>
                  <a:pt x="2616" y="201"/>
                  <a:pt x="2880" y="367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adiabatic.gif"/>
          <p:cNvPicPr/>
          <p:nvPr/>
        </p:nvPicPr>
        <p:blipFill>
          <a:blip r:embed="rId1"/>
          <a:stretch/>
        </p:blipFill>
        <p:spPr>
          <a:xfrm>
            <a:off x="4495680" y="3365640"/>
            <a:ext cx="4496040" cy="3492360"/>
          </a:xfrm>
          <a:prstGeom prst="rect">
            <a:avLst/>
          </a:prstGeom>
          <a:ln w="0">
            <a:noFill/>
          </a:ln>
        </p:spPr>
      </p:pic>
      <p:sp>
        <p:nvSpPr>
          <p:cNvPr id="390" name="Oval 9"/>
          <p:cNvSpPr/>
          <p:nvPr/>
        </p:nvSpPr>
        <p:spPr>
          <a:xfrm>
            <a:off x="8001000" y="4051440"/>
            <a:ext cx="457200" cy="457200"/>
          </a:xfrm>
          <a:prstGeom prst="ellipse">
            <a:avLst/>
          </a:prstGeom>
          <a:solidFill>
            <a:srgbClr val="ff3300">
              <a:alpha val="2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848720" y="3906720"/>
            <a:ext cx="771480" cy="754200"/>
          </a:xfrm>
          <a:prstGeom prst="ellipse">
            <a:avLst/>
          </a:prstGeom>
          <a:solidFill>
            <a:srgbClr val="ff3300">
              <a:alpha val="2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7696080" y="3763800"/>
            <a:ext cx="1105200" cy="1049400"/>
          </a:xfrm>
          <a:prstGeom prst="ellipse">
            <a:avLst/>
          </a:prstGeom>
          <a:solidFill>
            <a:srgbClr val="ff3300">
              <a:alpha val="2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http://info.speckdesign.com/Portals/211265/images/D-Wave%20One%20-%20Quantum%20Computer.jpg"/>
          <p:cNvPicPr/>
          <p:nvPr/>
        </p:nvPicPr>
        <p:blipFill>
          <a:blip r:embed="rId2"/>
          <a:stretch/>
        </p:blipFill>
        <p:spPr>
          <a:xfrm>
            <a:off x="533520" y="3906720"/>
            <a:ext cx="3165480" cy="22590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0"/>
          <p:cNvSpPr/>
          <p:nvPr/>
        </p:nvSpPr>
        <p:spPr>
          <a:xfrm>
            <a:off x="4336920" y="5334120"/>
            <a:ext cx="426744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“Eigenvalue gap” can be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Calibri"/>
              </a:rPr>
              <a:t>Landscapeolog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3282840" y="1295280"/>
            <a:ext cx="5562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diabatic algorithm can find global minimum exponentially faster than simulated annealing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though maybe other classical algorithms do bet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19560" y="3173400"/>
            <a:ext cx="556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mulated annealing can find global minimum exponentially faster than adiabatic algorithm (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3346560" y="4800600"/>
            <a:ext cx="556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mulated annealing and adiabatic algorithm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bo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need exponential time to find global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1"/>
          <p:cNvGrpSpPr/>
          <p:nvPr/>
        </p:nvGrpSpPr>
        <p:grpSpPr>
          <a:xfrm>
            <a:off x="380880" y="1141560"/>
            <a:ext cx="2752920" cy="2070000"/>
            <a:chOff x="380880" y="1141560"/>
            <a:chExt cx="2752920" cy="2070000"/>
          </a:xfrm>
        </p:grpSpPr>
        <p:sp>
          <p:nvSpPr>
            <p:cNvPr id="400" name="Freeform 14"/>
            <p:cNvSpPr/>
            <p:nvPr/>
          </p:nvSpPr>
          <p:spPr>
            <a:xfrm>
              <a:off x="380880" y="1141560"/>
              <a:ext cx="2752920" cy="2070000"/>
            </a:xfrm>
            <a:custGeom>
              <a:avLst/>
              <a:gdLst/>
              <a:ahLst/>
              <a:rect l="l" t="t" r="r" b="b"/>
              <a:pathLst>
                <a:path w="2753248" h="2070022">
                  <a:moveTo>
                    <a:pt x="0" y="321848"/>
                  </a:moveTo>
                  <a:cubicBezTo>
                    <a:pt x="296426" y="700336"/>
                    <a:pt x="592852" y="1078824"/>
                    <a:pt x="783771" y="1025233"/>
                  </a:cubicBezTo>
                  <a:cubicBezTo>
                    <a:pt x="974690" y="971642"/>
                    <a:pt x="1065125" y="-19796"/>
                    <a:pt x="1145512" y="301"/>
                  </a:cubicBezTo>
                  <a:cubicBezTo>
                    <a:pt x="1225899" y="20398"/>
                    <a:pt x="1112017" y="804169"/>
                    <a:pt x="1266092" y="1145813"/>
                  </a:cubicBezTo>
                  <a:cubicBezTo>
                    <a:pt x="1420167" y="1487457"/>
                    <a:pt x="1822101" y="2197541"/>
                    <a:pt x="2069960" y="2050165"/>
                  </a:cubicBezTo>
                  <a:cubicBezTo>
                    <a:pt x="2317819" y="1902789"/>
                    <a:pt x="2535533" y="1082173"/>
                    <a:pt x="2753248" y="26155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7"/>
            <p:cNvSpPr/>
            <p:nvPr/>
          </p:nvSpPr>
          <p:spPr>
            <a:xfrm>
              <a:off x="444240" y="1371600"/>
              <a:ext cx="1936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"/>
          <p:cNvGrpSpPr/>
          <p:nvPr/>
        </p:nvGrpSpPr>
        <p:grpSpPr>
          <a:xfrm>
            <a:off x="415800" y="3429000"/>
            <a:ext cx="2683080" cy="876240"/>
            <a:chOff x="415800" y="3429000"/>
            <a:chExt cx="2683080" cy="876240"/>
          </a:xfrm>
        </p:grpSpPr>
        <p:sp>
          <p:nvSpPr>
            <p:cNvPr id="403" name="Freeform 15"/>
            <p:cNvSpPr/>
            <p:nvPr/>
          </p:nvSpPr>
          <p:spPr>
            <a:xfrm>
              <a:off x="415800" y="3429000"/>
              <a:ext cx="2683080" cy="876240"/>
            </a:xfrm>
            <a:custGeom>
              <a:avLst/>
              <a:gdLst/>
              <a:ahLst/>
              <a:rect l="l" t="t" r="r" b="b"/>
              <a:pathLst>
                <a:path w="2682909" h="875583">
                  <a:moveTo>
                    <a:pt x="0" y="160774"/>
                  </a:moveTo>
                  <a:cubicBezTo>
                    <a:pt x="59453" y="336620"/>
                    <a:pt x="118906" y="512466"/>
                    <a:pt x="200967" y="512466"/>
                  </a:cubicBezTo>
                  <a:cubicBezTo>
                    <a:pt x="283028" y="512466"/>
                    <a:pt x="187569" y="212690"/>
                    <a:pt x="492369" y="160774"/>
                  </a:cubicBezTo>
                  <a:cubicBezTo>
                    <a:pt x="797169" y="108858"/>
                    <a:pt x="1716592" y="82061"/>
                    <a:pt x="2029766" y="200967"/>
                  </a:cubicBezTo>
                  <a:cubicBezTo>
                    <a:pt x="2342940" y="319873"/>
                    <a:pt x="2262554" y="907701"/>
                    <a:pt x="2371411" y="874207"/>
                  </a:cubicBezTo>
                  <a:cubicBezTo>
                    <a:pt x="2480268" y="840713"/>
                    <a:pt x="2582426" y="425380"/>
                    <a:pt x="268290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9"/>
            <p:cNvSpPr/>
            <p:nvPr/>
          </p:nvSpPr>
          <p:spPr>
            <a:xfrm>
              <a:off x="444240" y="3504960"/>
              <a:ext cx="1936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3"/>
          <p:cNvGrpSpPr/>
          <p:nvPr/>
        </p:nvGrpSpPr>
        <p:grpSpPr>
          <a:xfrm>
            <a:off x="371520" y="4606920"/>
            <a:ext cx="2663640" cy="1830240"/>
            <a:chOff x="371520" y="4606920"/>
            <a:chExt cx="2663640" cy="1830240"/>
          </a:xfrm>
        </p:grpSpPr>
        <p:sp>
          <p:nvSpPr>
            <p:cNvPr id="406" name="Freeform 16"/>
            <p:cNvSpPr/>
            <p:nvPr/>
          </p:nvSpPr>
          <p:spPr>
            <a:xfrm>
              <a:off x="371520" y="4647960"/>
              <a:ext cx="2663640" cy="1789200"/>
            </a:xfrm>
            <a:custGeom>
              <a:avLst/>
              <a:gdLst/>
              <a:ahLst/>
              <a:rect l="l" t="t" r="r" b="b"/>
              <a:pathLst>
                <a:path w="2662813" h="1788627">
                  <a:moveTo>
                    <a:pt x="0" y="0"/>
                  </a:moveTo>
                  <a:cubicBezTo>
                    <a:pt x="361740" y="626347"/>
                    <a:pt x="723481" y="1252694"/>
                    <a:pt x="1055077" y="1266092"/>
                  </a:cubicBezTo>
                  <a:cubicBezTo>
                    <a:pt x="1386673" y="1279490"/>
                    <a:pt x="1775209" y="-6699"/>
                    <a:pt x="1989574" y="80387"/>
                  </a:cubicBezTo>
                  <a:cubicBezTo>
                    <a:pt x="2203939" y="167473"/>
                    <a:pt x="2229060" y="1795306"/>
                    <a:pt x="2341266" y="1788607"/>
                  </a:cubicBezTo>
                  <a:cubicBezTo>
                    <a:pt x="2453473" y="1781908"/>
                    <a:pt x="2527998" y="765349"/>
                    <a:pt x="2662813" y="40193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30"/>
            <p:cNvSpPr/>
            <p:nvPr/>
          </p:nvSpPr>
          <p:spPr>
            <a:xfrm>
              <a:off x="444240" y="4606920"/>
              <a:ext cx="1936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3160" y="201240"/>
            <a:ext cx="87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Machine Learn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243000" y="2819520"/>
            <a:ext cx="87627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THE FINE PR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n’t get solution vector explicitly, but only as vector of amplitudes.  Need to measure to learn anyt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pendence on condition number could kill exponential speed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eed a way of loading huge amounts of data into quantum state (which, again, could kill exponential speed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t ruled out that there are fast randomized algorithms for the sam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http://meche.mit.edu/people/img/slloyd.jpg"/>
          <p:cNvPicPr/>
          <p:nvPr/>
        </p:nvPicPr>
        <p:blipFill>
          <a:blip r:embed="rId1"/>
          <a:stretch/>
        </p:blipFill>
        <p:spPr>
          <a:xfrm>
            <a:off x="369720" y="1116000"/>
            <a:ext cx="1295640" cy="14320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6"/>
          <p:cNvSpPr/>
          <p:nvPr/>
        </p:nvSpPr>
        <p:spPr>
          <a:xfrm>
            <a:off x="1893960" y="12319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ponential quantum speedups’ for solving linear systems, support vector machines, Google PageRank, computing Betti numbers, EM scattering problem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311040" y="91440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w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ju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ant a quantum system for which there’s good evidence that it’s hard to simulate classically—we don’t care what it’s useful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88394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Calibri"/>
              </a:rPr>
              <a:t>BosonSampling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295200" y="4038480"/>
            <a:ext cx="2509920" cy="2264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http://www.photonics.com/images2/Spectra/Features/2013/06/Quantum_Figure4.jpg"/>
          <p:cNvPicPr/>
          <p:nvPr/>
        </p:nvPicPr>
        <p:blipFill>
          <a:blip r:embed="rId2"/>
          <a:stretch/>
        </p:blipFill>
        <p:spPr>
          <a:xfrm>
            <a:off x="6019920" y="4030560"/>
            <a:ext cx="2957400" cy="19814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2962440" y="3965400"/>
            <a:ext cx="28954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Our proposal: Identical single photons sent through network of interferometers, then measured at output m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311040" y="2225520"/>
            <a:ext cx="8458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-Arkhipov 2011, Bremner-Jozsa-Shepherd 2011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n that case, we can plausibly improve both the hardware requirement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evidence for classical hardness, compared to Shor’s factoring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itle 1"/>
          <p:cNvSpPr/>
          <p:nvPr/>
        </p:nvSpPr>
        <p:spPr>
          <a:xfrm>
            <a:off x="533520" y="2735280"/>
            <a:ext cx="426708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showed: if a fast, classical exact simulation of BosonSampling is possible, then the polynomial hierarchy collapses to the thir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itle 1"/>
          <p:cNvSpPr/>
          <p:nvPr/>
        </p:nvSpPr>
        <p:spPr>
          <a:xfrm>
            <a:off x="5181480" y="2776680"/>
            <a:ext cx="373392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perimental demonstrations with 3-4 photons achieved (by groups in Oxford, Brisbane, Rome, Vien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tle 1"/>
          <p:cNvSpPr/>
          <p:nvPr/>
        </p:nvSpPr>
        <p:spPr>
          <a:xfrm>
            <a:off x="471600" y="5638680"/>
            <a:ext cx="84438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or more: My complex quantum systems seminar tomor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But you just listed a bunch of examples where you know a quantum speedup, and other examples where you don’t!  What you guys need i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ory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, which would tell you from first principles when quantum speedups are possible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" descr="http://clarkdogpaw.org/wp-content/uploads/2014/09/Thanks.gif"/>
          <p:cNvPicPr/>
          <p:nvPr/>
        </p:nvPicPr>
        <p:blipFill>
          <a:blip r:embed="rId1"/>
          <a:stretch/>
        </p:blipFill>
        <p:spPr>
          <a:xfrm>
            <a:off x="2438280" y="3768840"/>
            <a:ext cx="3886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Quantum Black-Box Model</a:t>
            </a:r>
            <a:br>
              <a:rPr sz="4400"/>
            </a:b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 setting for much of what we know about the power of quantum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3619440" y="1938240"/>
            <a:ext cx="1185840" cy="1185840"/>
          </a:xfrm>
          <a:prstGeom prst="cube">
            <a:avLst>
              <a:gd name="adj" fmla="val 25000"/>
            </a:avLst>
          </a:prstGeom>
          <a:solidFill>
            <a:srgbClr val="26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1049400" y="220356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6"/>
          <p:cNvSpPr/>
          <p:nvPr/>
        </p:nvSpPr>
        <p:spPr>
          <a:xfrm>
            <a:off x="1606680" y="2593800"/>
            <a:ext cx="188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7"/>
          <p:cNvSpPr/>
          <p:nvPr/>
        </p:nvSpPr>
        <p:spPr>
          <a:xfrm>
            <a:off x="4923000" y="2560680"/>
            <a:ext cx="188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6504120" y="2236680"/>
            <a:ext cx="1190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x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272880" y="33591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 algorithm can mak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query transformation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which 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282600" y="503568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s well 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rbitrar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nitary transformations that don’t depend on X (we won’t worry about their computational co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"/>
              <p:cNvSpPr txBox="1"/>
              <p:nvPr/>
            </p:nvSpPr>
            <p:spPr>
              <a:xfrm>
                <a:off x="1320840" y="3879720"/>
                <a:ext cx="62164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⟩</m:t>
                        </m:r>
                        <m:r>
                          <m:t xml:space="preserve">→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2" name="Text Box 2"/>
          <p:cNvSpPr/>
          <p:nvPr/>
        </p:nvSpPr>
        <p:spPr>
          <a:xfrm>
            <a:off x="2286000" y="45291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i=“query register,” a=“answer register,” w=“workspac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304920" y="60958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s goal is to learn som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per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(X)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for example: is X 1-to-1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"/>
          <p:cNvSpPr/>
          <p:nvPr/>
        </p:nvSpPr>
        <p:spPr>
          <a:xfrm>
            <a:off x="3733920" y="2236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alibr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371600" y="3141720"/>
            <a:ext cx="6095880" cy="180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Query complexity” of 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minimum number of queries used by any algorithm that outputs f(X), with high probability, for every X of interest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6324480" y="1557360"/>
            <a:ext cx="2073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X=x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…x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184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otal Boolean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"/>
              <p:cNvSpPr txBox="1"/>
              <p:nvPr/>
            </p:nvSpPr>
            <p:spPr>
              <a:xfrm>
                <a:off x="228600" y="1143000"/>
                <a:ext cx="3330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9" name="Text Box 2"/>
          <p:cNvSpPr/>
          <p:nvPr/>
        </p:nvSpPr>
        <p:spPr>
          <a:xfrm>
            <a:off x="328680" y="26668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8"/>
              <p:cNvSpPr txBox="1"/>
              <p:nvPr/>
            </p:nvSpPr>
            <p:spPr>
              <a:xfrm>
                <a:off x="1828800" y="2550960"/>
                <a:ext cx="63356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1" name="Text Box 2"/>
          <p:cNvSpPr/>
          <p:nvPr/>
        </p:nvSpPr>
        <p:spPr>
          <a:xfrm>
            <a:off x="328680" y="33526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 (Beals et al. 1998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or all Boolean functions f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10"/>
              <p:cNvSpPr txBox="1"/>
              <p:nvPr/>
            </p:nvSpPr>
            <p:spPr>
              <a:xfrm>
                <a:off x="3340080" y="3844800"/>
                <a:ext cx="26924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3" name="Text Box 10"/>
          <p:cNvSpPr/>
          <p:nvPr/>
        </p:nvSpPr>
        <p:spPr>
          <a:xfrm>
            <a:off x="1143000" y="4633920"/>
            <a:ext cx="693432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to reconcile with the exponential speedup of Shor’s algorithm?  Totality of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322200" y="57913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Longstanding Open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s ther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oolean function with a quantum quantum/classical gap better than quadrati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3733920" y="107784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D(f): Deterministic query complexity of 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R(f): Randomized query complex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Q(f): Quantum query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lmost-Total Func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331920" y="1676520"/>
            <a:ext cx="85341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Conjecture (A.-Ambainis 2011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Let Q be any quantum algorithm that makes T queries to an input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n there’s a classical randomized that makes poly(T,1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1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queries to X, and that approximates Pr[Q accepts X] to withi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n a ≥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action of X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331920" y="4267080"/>
            <a:ext cx="864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 (A.-Ambainis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is would follow from an extremely natural conjecture in discrete Fourier analysis (“every bounded low-degree polynomial p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[0,1] has a highly influential variable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Collis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1"/>
          <p:cNvSpPr/>
          <p:nvPr/>
        </p:nvSpPr>
        <p:spPr>
          <a:xfrm>
            <a:off x="457200" y="9907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iven a 2-to-1 function f:{1,…,N}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{1,…,N}, find 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Arial"/>
              </a:rPr>
              <a:t>collis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(i.e., two inputs x,y such that f(x)=f(y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457200" y="2819520"/>
            <a:ext cx="78487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Arial"/>
              </a:rPr>
              <a:t>Variant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Promised that f is either 2-to-1 or 1-to-1, decide whi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Models the breaking of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ollision-resistant hash function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—a central problem in crypt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More structured than Grover search, but less structured than Shor’s period-finding problem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533520" y="2133720"/>
            <a:ext cx="815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10  4  1  8  7  9  11  5  6  4  2  10  3  2  7  9  11  5  1  6  3  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22"/>
          <p:cNvSpPr/>
          <p:nvPr/>
        </p:nvSpPr>
        <p:spPr>
          <a:xfrm>
            <a:off x="1905120" y="213372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23"/>
          <p:cNvSpPr/>
          <p:nvPr/>
        </p:nvSpPr>
        <p:spPr>
          <a:xfrm>
            <a:off x="5562720" y="213372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41"/>
          <p:cNvSpPr/>
          <p:nvPr/>
        </p:nvSpPr>
        <p:spPr>
          <a:xfrm>
            <a:off x="425520" y="304920"/>
            <a:ext cx="7804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Birthday Paradox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lassically, ~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 queries are necessary and sufficient to find a collision with high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8" descr="MCj04363930000[1]"/>
          <p:cNvPicPr/>
          <p:nvPr/>
        </p:nvPicPr>
        <p:blipFill>
          <a:blip r:embed="rId1"/>
          <a:stretch/>
        </p:blipFill>
        <p:spPr>
          <a:xfrm>
            <a:off x="8229600" y="279360"/>
            <a:ext cx="703440" cy="8971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1"/>
          <p:cNvSpPr/>
          <p:nvPr/>
        </p:nvSpPr>
        <p:spPr>
          <a:xfrm>
            <a:off x="404640" y="1371600"/>
            <a:ext cx="845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Brassard-Høyer-Tapp 1997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ly,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queries su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27320" y="2193840"/>
          <a:ext cx="4648320" cy="584280"/>
        </p:xfrm>
        <a:graphic>
          <a:graphicData uri="http://schemas.openxmlformats.org/drawingml/2006/table">
            <a:tbl>
              <a:tblPr/>
              <a:tblGrid>
                <a:gridCol w="665280"/>
                <a:gridCol w="662040"/>
                <a:gridCol w="665280"/>
                <a:gridCol w="663480"/>
                <a:gridCol w="665280"/>
                <a:gridCol w="661680"/>
                <a:gridCol w="6652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59" name="Text Box 39"/>
          <p:cNvSpPr/>
          <p:nvPr/>
        </p:nvSpPr>
        <p:spPr>
          <a:xfrm>
            <a:off x="260280" y="212868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rover on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(x)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944640" y="3797280"/>
          <a:ext cx="2666880" cy="59364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6720"/>
                <a:gridCol w="6667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461" name="Text Box 19"/>
          <p:cNvSpPr/>
          <p:nvPr/>
        </p:nvSpPr>
        <p:spPr>
          <a:xfrm>
            <a:off x="3792600" y="3754440"/>
            <a:ext cx="484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(x) values queried class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1239840" y="2819520"/>
            <a:ext cx="3733920" cy="934920"/>
            <a:chOff x="1239840" y="2819520"/>
            <a:chExt cx="3733920" cy="934920"/>
          </a:xfrm>
        </p:grpSpPr>
        <p:sp>
          <p:nvSpPr>
            <p:cNvPr id="463" name="Line 40"/>
            <p:cNvSpPr/>
            <p:nvPr/>
          </p:nvSpPr>
          <p:spPr>
            <a:xfrm flipH="1">
              <a:off x="1239840" y="2819520"/>
              <a:ext cx="37339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41"/>
            <p:cNvSpPr/>
            <p:nvPr/>
          </p:nvSpPr>
          <p:spPr>
            <a:xfrm flipH="1">
              <a:off x="1925280" y="2819520"/>
              <a:ext cx="30481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2"/>
            <p:cNvSpPr/>
            <p:nvPr/>
          </p:nvSpPr>
          <p:spPr>
            <a:xfrm flipH="1">
              <a:off x="2611440" y="2819520"/>
              <a:ext cx="23623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3"/>
            <p:cNvSpPr/>
            <p:nvPr/>
          </p:nvSpPr>
          <p:spPr>
            <a:xfrm flipH="1">
              <a:off x="3296880" y="2819520"/>
              <a:ext cx="16765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41"/>
          <p:cNvSpPr/>
          <p:nvPr/>
        </p:nvSpPr>
        <p:spPr>
          <a:xfrm>
            <a:off x="425520" y="4724280"/>
            <a:ext cx="84549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 2002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irst quantum lower bound for the collision problem (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5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queries are needed; no exponential speedup possi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hi 2002: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mproved lower bound of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Brassard-Høyer-Tapp’s algorithm is the best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We all hear about the experimental progress toward building quantum computers … but in the meantime, what about the applications?  It’s been 20 years since Peter Shor discovered his famous factoring algorithm.  Where are all the amazing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new</a:t>
            </a: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 applications we were promised?”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itle 1"/>
          <p:cNvSpPr/>
          <p:nvPr/>
        </p:nvSpPr>
        <p:spPr>
          <a:xfrm>
            <a:off x="388800" y="5294160"/>
            <a:ext cx="8534520" cy="68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o promised you more quantum algorithms?  Not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392040" y="380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Genesis of This 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9760" y="228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ymmetric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384120" y="4202280"/>
            <a:ext cx="86472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ew Result (Ben-David 2014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f f: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{0,1} is any Boolean function of permutations, then D(f)=O(Q(f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1"/>
          <p:cNvSpPr/>
          <p:nvPr/>
        </p:nvSpPr>
        <p:spPr>
          <a:xfrm>
            <a:off x="344520" y="1143000"/>
            <a:ext cx="8454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-Ambainis 2011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assive generalization of collision lower bound.  If f is any function whatsoever that’s symmetric under permuting the inputs and outputs, and has sufficiently many outputs (like collision, element distinctness, etc.),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1"/>
              <p:cNvSpPr txBox="1"/>
              <p:nvPr/>
            </p:nvSpPr>
            <p:spPr>
              <a:xfrm>
                <a:off x="1371600" y="2835360"/>
                <a:ext cx="61484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2" name="Title 1"/>
          <p:cNvSpPr/>
          <p:nvPr/>
        </p:nvSpPr>
        <p:spPr>
          <a:xfrm>
            <a:off x="436680" y="5562720"/>
            <a:ext cx="8397720" cy="100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a “structured” promise if you want an exponential quantum speed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’s the largest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ossible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quantum speedu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41"/>
          <p:cNvSpPr/>
          <p:nvPr/>
        </p:nvSpPr>
        <p:spPr>
          <a:xfrm>
            <a:off x="361800" y="1447920"/>
            <a:ext cx="8571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Forrelation”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iven two Boolean functions f,g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{-1,1}, estimate how correlated g is with the Fourier transform of 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"/>
              <p:cNvSpPr txBox="1"/>
              <p:nvPr/>
            </p:nvSpPr>
            <p:spPr>
              <a:xfrm>
                <a:off x="1897200" y="2333520"/>
                <a:ext cx="584496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y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?</m:t>
                          </m:r>
                        </m:e>
                      </m:mr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?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76" name="Rectangle 41"/>
          <p:cNvSpPr/>
          <p:nvPr/>
        </p:nvSpPr>
        <p:spPr>
          <a:xfrm>
            <a:off x="361800" y="3809880"/>
            <a:ext cx="8571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-Ambainis 2014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is problem is solvable using only 1 quantum query, but requires at least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/n queries class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1"/>
          <p:cNvSpPr/>
          <p:nvPr/>
        </p:nvSpPr>
        <p:spPr>
          <a:xfrm>
            <a:off x="372960" y="4800600"/>
            <a:ext cx="8570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is separation is essentially the largest possible! 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N-bit problem that’s solvable with k quantum queries, is also solvable with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-1/2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lassical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itle 1"/>
          <p:cNvSpPr/>
          <p:nvPr/>
        </p:nvSpPr>
        <p:spPr>
          <a:xfrm>
            <a:off x="401760" y="6203880"/>
            <a:ext cx="8397720" cy="501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details: My CS theory seminar on 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1880" y="304920"/>
            <a:ext cx="688644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Calibri"/>
              </a:rPr>
              <a:t>Can we turn the lemon of QCs’ limitations into the lemonade of physical insight?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368280" y="1371600"/>
            <a:ext cx="815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posal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dopt as a principle (conjecture?) that there’s no efficient way to solve </a:t>
            </a:r>
            <a:r>
              <a:rPr b="1" lang="en-US" sz="30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s in the physical world, then investigate the implications for other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3" descr="C:\Users\Scott\AppData\Local\Microsoft\Windows\Temporary Internet Files\Content.IE5\5YBGWW2Y\MC900217530[1].wmf"/>
          <p:cNvPicPr/>
          <p:nvPr/>
        </p:nvPicPr>
        <p:blipFill>
          <a:blip r:embed="rId1"/>
          <a:stretch/>
        </p:blipFill>
        <p:spPr>
          <a:xfrm>
            <a:off x="6973920" y="304920"/>
            <a:ext cx="1882800" cy="106668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5"/>
          <p:cNvSpPr/>
          <p:nvPr/>
        </p:nvSpPr>
        <p:spPr>
          <a:xfrm>
            <a:off x="368280" y="3413160"/>
            <a:ext cx="849636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Example Implications: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 No closed timelike curves 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(A.-Watrous 2009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 No postselected final state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(probably rules out Horowitz-Maldacena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 Something like the holographic entropy bound should hol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 Metastable states must be unavoidable in spin glasses, protein folding, etc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 Many spectral gaps must decrease exponentially with number of parti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75760" y="380880"/>
            <a:ext cx="8564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“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Explanation” for the linearity of the Schrödinger equation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276120" y="1728720"/>
            <a:ext cx="861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Arial"/>
              </a:rPr>
              <a:t>Abrams &amp; Lloyd 1998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If quantum mechanics were nonlinear, one could generically exploit that to solve </a:t>
            </a:r>
            <a:r>
              <a:rPr b="1" lang="en-US" sz="32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s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6"/>
          <p:cNvGrpSpPr/>
          <p:nvPr/>
        </p:nvGrpSpPr>
        <p:grpSpPr>
          <a:xfrm>
            <a:off x="-495360" y="6041880"/>
            <a:ext cx="4733280" cy="355320"/>
            <a:chOff x="-495360" y="6041880"/>
            <a:chExt cx="4733280" cy="355320"/>
          </a:xfrm>
        </p:grpSpPr>
        <p:sp>
          <p:nvSpPr>
            <p:cNvPr id="486" name="Line 7"/>
            <p:cNvSpPr/>
            <p:nvPr/>
          </p:nvSpPr>
          <p:spPr>
            <a:xfrm>
              <a:off x="1871280" y="6160320"/>
              <a:ext cx="2366640" cy="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8"/>
            <p:cNvSpPr/>
            <p:nvPr/>
          </p:nvSpPr>
          <p:spPr>
            <a:xfrm>
              <a:off x="-495360" y="604188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9"/>
          <p:cNvGrpSpPr/>
          <p:nvPr/>
        </p:nvGrpSpPr>
        <p:grpSpPr>
          <a:xfrm>
            <a:off x="-490320" y="5929920"/>
            <a:ext cx="4722480" cy="696240"/>
            <a:chOff x="-490320" y="5929920"/>
            <a:chExt cx="4722480" cy="696240"/>
          </a:xfrm>
        </p:grpSpPr>
        <p:sp>
          <p:nvSpPr>
            <p:cNvPr id="489" name="Line 10"/>
            <p:cNvSpPr/>
            <p:nvPr/>
          </p:nvSpPr>
          <p:spPr>
            <a:xfrm flipV="1">
              <a:off x="1876680" y="5929920"/>
              <a:ext cx="2355480" cy="22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1"/>
            <p:cNvSpPr/>
            <p:nvPr/>
          </p:nvSpPr>
          <p:spPr>
            <a:xfrm rot="21263400">
              <a:off x="-478440" y="615600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12"/>
          <p:cNvSpPr/>
          <p:nvPr/>
        </p:nvSpPr>
        <p:spPr>
          <a:xfrm>
            <a:off x="4224240" y="5991120"/>
            <a:ext cx="28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o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4208400" y="5667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 solution to NP-complet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040000">
                                      <p:cBhvr>
                                        <p:cTn id="27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5760" y="380880"/>
            <a:ext cx="8564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A complexity-theoretic argument against hidden variables?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276120" y="1728720"/>
            <a:ext cx="8612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alibri"/>
                <a:ea typeface="Arial"/>
              </a:rPr>
              <a:t>A. 2004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In theories like Bohmian mechanics, in order to sample the entire trajectory of the hidden variable, you’d need the ability to solve the collision problem—something I showed is generically hard even for a quantum compu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59"/>
              <p:cNvSpPr txBox="1"/>
              <p:nvPr/>
            </p:nvSpPr>
            <p:spPr>
              <a:xfrm>
                <a:off x="5892840" y="4551480"/>
                <a:ext cx="14349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56"/>
              <p:cNvSpPr txBox="1"/>
              <p:nvPr/>
            </p:nvSpPr>
            <p:spPr>
              <a:xfrm>
                <a:off x="609480" y="4572000"/>
                <a:ext cx="26622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97" name="Group 69"/>
          <p:cNvGrpSpPr/>
          <p:nvPr/>
        </p:nvGrpSpPr>
        <p:grpSpPr>
          <a:xfrm>
            <a:off x="3360600" y="5094360"/>
            <a:ext cx="2373480" cy="825480"/>
            <a:chOff x="3360600" y="5094360"/>
            <a:chExt cx="2373480" cy="825480"/>
          </a:xfrm>
        </p:grpSpPr>
        <p:sp>
          <p:nvSpPr>
            <p:cNvPr id="498" name="Text Box 8"/>
            <p:cNvSpPr/>
            <p:nvPr/>
          </p:nvSpPr>
          <p:spPr>
            <a:xfrm>
              <a:off x="3360600" y="509436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 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7"/>
            <p:cNvSpPr/>
            <p:nvPr/>
          </p:nvSpPr>
          <p:spPr>
            <a:xfrm>
              <a:off x="3371760" y="511812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0" name="Object 63"/>
              <p:cNvSpPr txBox="1"/>
              <p:nvPr/>
            </p:nvSpPr>
            <p:spPr>
              <a:xfrm>
                <a:off x="7259760" y="4746600"/>
                <a:ext cx="10857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AutoShape 66"/>
          <p:cNvSpPr/>
          <p:nvPr/>
        </p:nvSpPr>
        <p:spPr>
          <a:xfrm>
            <a:off x="3592440" y="4497480"/>
            <a:ext cx="465120" cy="465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10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autoRev="1" nodeType="withEffect" fill="remove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509 L 0.02761 -0.02197 C 0.03334 -0.0259 0.04219 -0.02775 0.05122 -0.02775 C 0.06164 -0.02775 0.06997 -0.0259 0.0757 -0.02197 L 0.10382 -0.00509 E">
                                      <p:cBhvr>
                                        <p:cTn id="315" dur="1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210960" y="152280"/>
            <a:ext cx="87807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Calibri"/>
                <a:ea typeface="Arial"/>
              </a:rPr>
              <a:t>The Firewall Paradox (AMPS 2012):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Refinement of Hawking’s information paradox that challenges black hole complement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5029200" y="1862280"/>
            <a:ext cx="3814920" cy="2736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http://ej.iop.org/images/1367-2630/14/10/103017/Full/nj432858f1_online.jpg"/>
          <p:cNvPicPr/>
          <p:nvPr/>
        </p:nvPicPr>
        <p:blipFill>
          <a:blip r:embed="rId2"/>
          <a:stretch/>
        </p:blipFill>
        <p:spPr>
          <a:xfrm>
            <a:off x="941400" y="5227560"/>
            <a:ext cx="4876920" cy="1478160"/>
          </a:xfrm>
          <a:prstGeom prst="rect">
            <a:avLst/>
          </a:prstGeom>
          <a:ln w="0">
            <a:noFill/>
          </a:ln>
        </p:spPr>
      </p:pic>
      <p:sp>
        <p:nvSpPr>
          <p:cNvPr id="505" name="Freeform 16"/>
          <p:cNvSpPr/>
          <p:nvPr/>
        </p:nvSpPr>
        <p:spPr>
          <a:xfrm rot="2670600">
            <a:off x="5395680" y="4178160"/>
            <a:ext cx="214200" cy="1040040"/>
          </a:xfrm>
          <a:custGeom>
            <a:avLst/>
            <a:gdLst>
              <a:gd name="textAreaLeft" fmla="*/ 0 w 214200"/>
              <a:gd name="textAreaRight" fmla="*/ 214560 w 21420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6"/>
          <p:cNvSpPr/>
          <p:nvPr/>
        </p:nvSpPr>
        <p:spPr>
          <a:xfrm rot="2670600">
            <a:off x="5990760" y="4265640"/>
            <a:ext cx="216000" cy="1041480"/>
          </a:xfrm>
          <a:custGeom>
            <a:avLst/>
            <a:gdLst>
              <a:gd name="textAreaLeft" fmla="*/ 0 w 216000"/>
              <a:gd name="textAreaRight" fmla="*/ 216360 w 21600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6"/>
          <p:cNvSpPr/>
          <p:nvPr/>
        </p:nvSpPr>
        <p:spPr>
          <a:xfrm rot="2670600">
            <a:off x="5060520" y="3639960"/>
            <a:ext cx="216000" cy="1041480"/>
          </a:xfrm>
          <a:custGeom>
            <a:avLst/>
            <a:gdLst>
              <a:gd name="textAreaLeft" fmla="*/ 0 w 216000"/>
              <a:gd name="textAreaRight" fmla="*/ 216360 w 21600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8" descr="alice"/>
          <p:cNvPicPr/>
          <p:nvPr/>
        </p:nvPicPr>
        <p:blipFill>
          <a:blip r:embed="rId3"/>
          <a:stretch/>
        </p:blipFill>
        <p:spPr>
          <a:xfrm>
            <a:off x="7238880" y="5410080"/>
            <a:ext cx="1076400" cy="12477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3" descr="C:\Users\owner\AppData\Local\Microsoft\Windows\Temporary Internet Files\Content.IE5\V550YIX2\MP900438774[1].jpg"/>
          <p:cNvPicPr/>
          <p:nvPr/>
        </p:nvPicPr>
        <p:blipFill>
          <a:blip r:embed="rId4"/>
          <a:stretch/>
        </p:blipFill>
        <p:spPr>
          <a:xfrm>
            <a:off x="6566040" y="2362320"/>
            <a:ext cx="1277640" cy="1917720"/>
          </a:xfrm>
          <a:prstGeom prst="rect">
            <a:avLst/>
          </a:prstGeom>
          <a:ln w="0">
            <a:noFill/>
          </a:ln>
        </p:spPr>
      </p:pic>
      <p:sp>
        <p:nvSpPr>
          <p:cNvPr id="510" name="Right Arrow 2"/>
          <p:cNvSpPr/>
          <p:nvPr/>
        </p:nvSpPr>
        <p:spPr>
          <a:xfrm>
            <a:off x="5986440" y="5227560"/>
            <a:ext cx="1076400" cy="9907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"/>
          <p:cNvSpPr/>
          <p:nvPr/>
        </p:nvSpPr>
        <p:spPr>
          <a:xfrm>
            <a:off x="210960" y="1836720"/>
            <a:ext cx="477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 the black hole interior is “built” out of the same qubits coming out as Hawking radiation, then why can’t w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 somet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o those Hawking qubits, then dive into the black hole, and see that we’ve completely destroyed the spacetime geometry in the inter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"/>
          <p:cNvSpPr/>
          <p:nvPr/>
        </p:nvSpPr>
        <p:spPr>
          <a:xfrm>
            <a:off x="838080" y="5618160"/>
            <a:ext cx="3733920" cy="82548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anglement among Hawking photons detec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20472E-007 L -0.10052 -0.25746 E">
                                      <p:cBhvr>
                                        <p:cTn id="335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176040" y="228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arlow-Hayden 2013: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 Striking argument that doing the AMPS experiment would require solving a problem that’s exponentially hard even for a quantu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"/>
              <p:cNvSpPr txBox="1"/>
              <p:nvPr/>
            </p:nvSpPr>
            <p:spPr>
              <a:xfrm>
                <a:off x="447840" y="3324240"/>
                <a:ext cx="8543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5" name="Rectangle 41"/>
          <p:cNvSpPr/>
          <p:nvPr/>
        </p:nvSpPr>
        <p:spPr>
          <a:xfrm>
            <a:off x="423720" y="4467240"/>
            <a:ext cx="52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: “Old” Hawking phot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: Hawking photon just now coming 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: Degrees of freedom still in black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1"/>
          <p:cNvSpPr/>
          <p:nvPr/>
        </p:nvSpPr>
        <p:spPr>
          <a:xfrm>
            <a:off x="3363840" y="29671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MODEL SIT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1"/>
          <p:cNvSpPr/>
          <p:nvPr/>
        </p:nvSpPr>
        <p:spPr>
          <a:xfrm>
            <a:off x="277920" y="1752480"/>
            <a:ext cx="8588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o, long before you’ve made a dent in the problem, the black hole has already evaporated anyway, and there’s nowhere to jump to see a firewall!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5810400" y="4336920"/>
            <a:ext cx="31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,g: Two functions for which we want to know whether their ranges are equal or dis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1"/>
          <p:cNvSpPr/>
          <p:nvPr/>
        </p:nvSpPr>
        <p:spPr>
          <a:xfrm>
            <a:off x="423720" y="5925960"/>
            <a:ext cx="8589960" cy="87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 we could detect entanglement between R and B for any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B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then we could solve a close cousin of the collision problem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1"/>
          <p:cNvSpPr/>
          <p:nvPr/>
        </p:nvSpPr>
        <p:spPr>
          <a:xfrm>
            <a:off x="1066680" y="1274760"/>
            <a:ext cx="7086600" cy="20739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 2014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trengthened the Harlow-Hayden argument, to show that a general ability to perform the AMPS experiment would imply the ability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invert any cryptographic one-way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1"/>
          <p:cNvSpPr/>
          <p:nvPr/>
        </p:nvSpPr>
        <p:spPr>
          <a:xfrm>
            <a:off x="1257480" y="3621240"/>
            <a:ext cx="7086600" cy="8859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s the geometry of spacetime protected by an armor of computational complex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41"/>
          <p:cNvSpPr/>
          <p:nvPr/>
        </p:nvSpPr>
        <p:spPr>
          <a:xfrm>
            <a:off x="320760" y="571500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ingle most important application of QC (in my opinion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Disproving the people who said QC was impossibl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1"/>
          <p:cNvSpPr/>
          <p:nvPr/>
        </p:nvSpPr>
        <p:spPr>
          <a:xfrm>
            <a:off x="291960" y="1006560"/>
            <a:ext cx="8382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ponential quantum speedups depend o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For example, abelian group structure, glued-trees structure, 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forrelational structure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1"/>
          <p:cNvSpPr/>
          <p:nvPr/>
        </p:nvSpPr>
        <p:spPr>
          <a:xfrm>
            <a:off x="325440" y="3465360"/>
            <a:ext cx="8550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black-box model lets us develop a rich theory of what kinds of structure do or don’t suffice for exponential speed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1"/>
          <p:cNvSpPr/>
          <p:nvPr/>
        </p:nvSpPr>
        <p:spPr>
          <a:xfrm>
            <a:off x="287280" y="2384280"/>
            <a:ext cx="857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ometim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e can even find such structure in real, non-black-box problems of practical interest 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(e.g., factor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1"/>
          <p:cNvSpPr/>
          <p:nvPr/>
        </p:nvSpPr>
        <p:spPr>
          <a:xfrm>
            <a:off x="325440" y="4587840"/>
            <a:ext cx="865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Understanding the limitations of quantum computers has given us new insights about seemingly-remote issues in 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31840" y="151920"/>
            <a:ext cx="85341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The Parallelism Fall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itle 1"/>
          <p:cNvSpPr/>
          <p:nvPr/>
        </p:nvSpPr>
        <p:spPr>
          <a:xfrm>
            <a:off x="393840" y="107784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hat’s the source of the popular belief that countless more quantum algorithms should exi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itle 1"/>
          <p:cNvSpPr/>
          <p:nvPr/>
        </p:nvSpPr>
        <p:spPr>
          <a:xfrm>
            <a:off x="393840" y="3124080"/>
            <a:ext cx="661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that’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how quantum computing works!  You need to choreograph an interference pattern, where the unwanted paths canc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1"/>
          <p:cNvSpPr/>
          <p:nvPr/>
        </p:nvSpPr>
        <p:spPr>
          <a:xfrm>
            <a:off x="393840" y="4495680"/>
            <a:ext cx="71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iracle, I’d say, is that this trick yields a speedup f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lassical problems, not that it doesn’t work for more of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http://1.bp.blogspot.com/-Nr3olYhHK7U/T6BO_FJE4sI/AAAAAAAAAyw/llSvKaQnW2s/s1600/ist2_5342490-glass-is-half-full.jpg"/>
          <p:cNvPicPr/>
          <p:nvPr/>
        </p:nvPicPr>
        <p:blipFill>
          <a:blip r:embed="rId1"/>
          <a:stretch/>
        </p:blipFill>
        <p:spPr>
          <a:xfrm>
            <a:off x="7404120" y="4361040"/>
            <a:ext cx="1587600" cy="2209680"/>
          </a:xfrm>
          <a:prstGeom prst="rect">
            <a:avLst/>
          </a:prstGeom>
          <a:ln w="0">
            <a:noFill/>
          </a:ln>
        </p:spPr>
      </p:pic>
      <p:sp>
        <p:nvSpPr>
          <p:cNvPr id="265" name="Title 1"/>
          <p:cNvSpPr/>
          <p:nvPr/>
        </p:nvSpPr>
        <p:spPr>
          <a:xfrm>
            <a:off x="317520" y="5867280"/>
            <a:ext cx="7086600" cy="68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Underappreciated challenge of quantum algorithms research: beating 60 years of classical algorithms resear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420840" y="205740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me, it seems tied to the idea that a quantum computer could just “try every possible answer in parallel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8" descr="http://www.scottaaronson.com/democritus/interfere.gif"/>
          <p:cNvPicPr/>
          <p:nvPr/>
        </p:nvPicPr>
        <p:blipFill>
          <a:blip r:embed="rId2"/>
          <a:stretch/>
        </p:blipFill>
        <p:spPr>
          <a:xfrm>
            <a:off x="6921360" y="2838600"/>
            <a:ext cx="221004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5"/>
          <p:cNvSpPr/>
          <p:nvPr/>
        </p:nvSpPr>
        <p:spPr>
          <a:xfrm>
            <a:off x="1901880" y="2930400"/>
            <a:ext cx="2286000" cy="358164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2680" y="152280"/>
            <a:ext cx="8766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n Inconvenient Tru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tle 1"/>
          <p:cNvSpPr/>
          <p:nvPr/>
        </p:nvSpPr>
        <p:spPr>
          <a:xfrm>
            <a:off x="297000" y="1219320"/>
            <a:ext cx="854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problem has to be special even to be a plausib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andid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an exponential quantum speed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"/>
          <p:cNvSpPr/>
          <p:nvPr/>
        </p:nvSpPr>
        <p:spPr>
          <a:xfrm>
            <a:off x="2328840" y="5641920"/>
            <a:ext cx="1447920" cy="76212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1"/>
          <p:cNvSpPr/>
          <p:nvPr/>
        </p:nvSpPr>
        <p:spPr>
          <a:xfrm>
            <a:off x="2843280" y="5718240"/>
            <a:ext cx="41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itle 1"/>
          <p:cNvSpPr/>
          <p:nvPr/>
        </p:nvSpPr>
        <p:spPr>
          <a:xfrm>
            <a:off x="2600280" y="412740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rc 2"/>
          <p:cNvSpPr/>
          <p:nvPr/>
        </p:nvSpPr>
        <p:spPr>
          <a:xfrm flipV="1">
            <a:off x="297000" y="2015640"/>
            <a:ext cx="5541840" cy="1828800"/>
          </a:xfrm>
          <a:custGeom>
            <a:avLst/>
            <a:gdLst/>
            <a:ahLst/>
            <a:rect l="l" t="t" r="r" b="b"/>
            <a:pathLst>
              <a:path stroke="0" w="5541962" h="1828800">
                <a:moveTo>
                  <a:pt x="3352" y="869439"/>
                </a:moveTo>
                <a:cubicBezTo>
                  <a:pt x="76137" y="381550"/>
                  <a:pt x="1298133" y="-1306"/>
                  <a:pt x="2778408" y="3"/>
                </a:cubicBezTo>
                <a:cubicBezTo>
                  <a:pt x="4305874" y="1354"/>
                  <a:pt x="5541962" y="410347"/>
                  <a:pt x="5541962" y="914400"/>
                </a:cubicBezTo>
                <a:lnTo>
                  <a:pt x="2770981" y="914400"/>
                </a:lnTo>
                <a:lnTo>
                  <a:pt x="3352" y="869439"/>
                </a:lnTo>
                <a:close/>
              </a:path>
              <a:path fill="none" w="5541962" h="1828800">
                <a:moveTo>
                  <a:pt x="3352" y="869439"/>
                </a:moveTo>
                <a:cubicBezTo>
                  <a:pt x="76137" y="381550"/>
                  <a:pt x="1298133" y="-1306"/>
                  <a:pt x="2778408" y="3"/>
                </a:cubicBezTo>
                <a:cubicBezTo>
                  <a:pt x="4305874" y="1354"/>
                  <a:pt x="5541962" y="410347"/>
                  <a:pt x="5541962" y="914400"/>
                </a:cubicBezTo>
              </a:path>
            </a:pathLst>
          </a:cu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itle 1"/>
          <p:cNvSpPr/>
          <p:nvPr/>
        </p:nvSpPr>
        <p:spPr>
          <a:xfrm>
            <a:off x="2054160" y="32688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ial"/>
              </a:rPr>
              <a:t>NP-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le 1"/>
          <p:cNvSpPr/>
          <p:nvPr/>
        </p:nvSpPr>
        <p:spPr>
          <a:xfrm>
            <a:off x="3781440" y="287640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ial"/>
              </a:rPr>
              <a:t>NP-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1"/>
          <p:cNvSpPr/>
          <p:nvPr/>
        </p:nvSpPr>
        <p:spPr>
          <a:xfrm>
            <a:off x="1368360" y="4721400"/>
            <a:ext cx="3441600" cy="1790640"/>
          </a:xfrm>
          <a:prstGeom prst="ellipse">
            <a:avLst/>
          </a:prstGeom>
          <a:solidFill>
            <a:srgbClr val="ff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2278080" y="48816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br>
              <a:rPr sz="2600"/>
            </a:br>
            <a:r>
              <a:rPr b="1" lang="en-US" sz="2000" spc="-1" strike="noStrike">
                <a:solidFill>
                  <a:srgbClr val="7030a0"/>
                </a:solidFill>
                <a:latin typeface="Calibri"/>
                <a:ea typeface="Arial"/>
              </a:rPr>
              <a:t>(Quantum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tle 1"/>
          <p:cNvSpPr/>
          <p:nvPr/>
        </p:nvSpPr>
        <p:spPr>
          <a:xfrm rot="18583200">
            <a:off x="1779120" y="5005080"/>
            <a:ext cx="117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c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le 1"/>
          <p:cNvSpPr/>
          <p:nvPr/>
        </p:nvSpPr>
        <p:spPr>
          <a:xfrm rot="18913200">
            <a:off x="1779480" y="4036680"/>
            <a:ext cx="1170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aph 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itle 1"/>
          <p:cNvSpPr/>
          <p:nvPr/>
        </p:nvSpPr>
        <p:spPr>
          <a:xfrm rot="18583200">
            <a:off x="3755880" y="5658120"/>
            <a:ext cx="1171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uantum 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itle 1"/>
          <p:cNvSpPr/>
          <p:nvPr/>
        </p:nvSpPr>
        <p:spPr>
          <a:xfrm>
            <a:off x="2459160" y="3000240"/>
            <a:ext cx="1171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itle 1"/>
          <p:cNvSpPr/>
          <p:nvPr/>
        </p:nvSpPr>
        <p:spPr>
          <a:xfrm rot="2403000">
            <a:off x="3192480" y="4127400"/>
            <a:ext cx="117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attic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tle 1"/>
          <p:cNvSpPr/>
          <p:nvPr/>
        </p:nvSpPr>
        <p:spPr>
          <a:xfrm>
            <a:off x="5638680" y="3735360"/>
            <a:ext cx="3200400" cy="242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≠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Plausible conjectures, which we have no hope of proving given the current state of complexity the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7160" y="22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st of the T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457200" y="2438280"/>
            <a:ext cx="8150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marL="331560" indent="-33156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rvey of the main families of quantum algorithms that have been discovered (and their limitation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ul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lack-box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ich aim toward a general theory of when quantum speedups are possi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mons into lemonade: implications for physics of the limitations of quantum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17160" y="22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Simulation</a:t>
            </a:r>
            <a:br>
              <a:rPr sz="4400"/>
            </a:b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“What a QC does in its sleep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itle 1"/>
          <p:cNvSpPr/>
          <p:nvPr/>
        </p:nvSpPr>
        <p:spPr>
          <a:xfrm>
            <a:off x="384120" y="14842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“original” application of QC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http://www.aps.org/meetings/march/vpr/2012/imagegallery/images/27Kumar2012.jpg"/>
          <p:cNvPicPr/>
          <p:nvPr/>
        </p:nvPicPr>
        <p:blipFill>
          <a:blip r:embed="rId1"/>
          <a:stretch/>
        </p:blipFill>
        <p:spPr>
          <a:xfrm>
            <a:off x="5356080" y="1461960"/>
            <a:ext cx="3486240" cy="2041560"/>
          </a:xfrm>
          <a:prstGeom prst="rect">
            <a:avLst/>
          </a:prstGeom>
          <a:ln w="0">
            <a:noFill/>
          </a:ln>
        </p:spPr>
      </p:pic>
      <p:sp>
        <p:nvSpPr>
          <p:cNvPr id="290" name="Title 1"/>
          <p:cNvSpPr/>
          <p:nvPr/>
        </p:nvSpPr>
        <p:spPr>
          <a:xfrm>
            <a:off x="384120" y="24796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y personal view: still the most importan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C:\Users\aaronson\AppData\Local\Microsoft\Windows\Temporary Internet Files\Content.IE5\VQM58UMI\MC900432530[1].png"/>
          <p:cNvPicPr/>
          <p:nvPr/>
        </p:nvPicPr>
        <p:blipFill>
          <a:blip r:embed="rId2"/>
          <a:stretch/>
        </p:blipFill>
        <p:spPr>
          <a:xfrm>
            <a:off x="395280" y="3851280"/>
            <a:ext cx="557280" cy="480960"/>
          </a:xfrm>
          <a:prstGeom prst="rect">
            <a:avLst/>
          </a:prstGeom>
          <a:ln w="0">
            <a:noFill/>
          </a:ln>
        </p:spPr>
      </p:pic>
      <p:sp>
        <p:nvSpPr>
          <p:cNvPr id="292" name="Title 1"/>
          <p:cNvSpPr/>
          <p:nvPr/>
        </p:nvSpPr>
        <p:spPr>
          <a:xfrm>
            <a:off x="1055520" y="3747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ajor applications (high-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erconductivity, protein folding, nanofabrication, photovoltaic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C:\Users\aaronson\AppData\Local\Microsoft\Windows\Temporary Internet Files\Content.IE5\VQM58UMI\MC900432530[1].png"/>
          <p:cNvPicPr/>
          <p:nvPr/>
        </p:nvPicPr>
        <p:blipFill>
          <a:blip r:embed="rId3"/>
          <a:stretch/>
        </p:blipFill>
        <p:spPr>
          <a:xfrm>
            <a:off x="395280" y="4842000"/>
            <a:ext cx="557280" cy="480960"/>
          </a:xfrm>
          <a:prstGeom prst="rect">
            <a:avLst/>
          </a:prstGeom>
          <a:ln w="0">
            <a:noFill/>
          </a:ln>
        </p:spPr>
      </p:pic>
      <p:sp>
        <p:nvSpPr>
          <p:cNvPr id="294" name="Title 1"/>
          <p:cNvSpPr/>
          <p:nvPr/>
        </p:nvSpPr>
        <p:spPr>
          <a:xfrm>
            <a:off x="1055520" y="4738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igh confidence in possibility of a quantum speed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C:\Users\aaronson\AppData\Local\Microsoft\Windows\Temporary Internet Files\Content.IE5\VQM58UMI\MC900432530[1].png"/>
          <p:cNvPicPr/>
          <p:nvPr/>
        </p:nvPicPr>
        <p:blipFill>
          <a:blip r:embed="rId4"/>
          <a:stretch/>
        </p:blipFill>
        <p:spPr>
          <a:xfrm>
            <a:off x="399960" y="5805360"/>
            <a:ext cx="557280" cy="481320"/>
          </a:xfrm>
          <a:prstGeom prst="rect">
            <a:avLst/>
          </a:prstGeom>
          <a:ln w="0">
            <a:noFill/>
          </a:ln>
        </p:spPr>
      </p:pic>
      <p:sp>
        <p:nvSpPr>
          <p:cNvPr id="296" name="Title 1"/>
          <p:cNvSpPr/>
          <p:nvPr/>
        </p:nvSpPr>
        <p:spPr>
          <a:xfrm>
            <a:off x="1069920" y="57038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an plausibly realize even before universal QCs are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http://www.washington.edu/news/files/2011/10/RichardFeynmanBBC.jpg"/>
          <p:cNvPicPr/>
          <p:nvPr/>
        </p:nvPicPr>
        <p:blipFill>
          <a:blip r:embed="rId5"/>
          <a:stretch/>
        </p:blipFill>
        <p:spPr>
          <a:xfrm>
            <a:off x="163440" y="239760"/>
            <a:ext cx="15876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http://upload.wikimedia.org/wikipedia/commons/thumb/a/af/Peter_Shor.jpg/220px-Peter_Shor.jpg"/>
          <p:cNvPicPr/>
          <p:nvPr/>
        </p:nvPicPr>
        <p:blipFill>
          <a:blip r:embed="rId1"/>
          <a:stretch/>
        </p:blipFill>
        <p:spPr>
          <a:xfrm>
            <a:off x="8077320" y="228600"/>
            <a:ext cx="981000" cy="14716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"/>
          <p:cNvSpPr/>
          <p:nvPr/>
        </p:nvSpPr>
        <p:spPr>
          <a:xfrm>
            <a:off x="2889360" y="12700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gic of the Fourier transform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0680" y="178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hor-like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16"/>
          <p:cNvGrpSpPr/>
          <p:nvPr/>
        </p:nvGrpSpPr>
        <p:grpSpPr>
          <a:xfrm>
            <a:off x="4870440" y="1066680"/>
            <a:ext cx="4255920" cy="2684520"/>
            <a:chOff x="4870440" y="1066680"/>
            <a:chExt cx="4255920" cy="2684520"/>
          </a:xfrm>
        </p:grpSpPr>
        <p:pic>
          <p:nvPicPr>
            <p:cNvPr id="302" name="Picture 14" descr="spy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43600" y="171576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AutoShape 15"/>
            <p:cNvSpPr/>
            <p:nvPr/>
          </p:nvSpPr>
          <p:spPr>
            <a:xfrm>
              <a:off x="4870440" y="106668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2"/>
          <p:cNvSpPr/>
          <p:nvPr/>
        </p:nvSpPr>
        <p:spPr>
          <a:xfrm>
            <a:off x="304920" y="2514600"/>
            <a:ext cx="73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Pretty much anything you can think of that reduces to finding hidden structure in abelian groups</a:t>
            </a:r>
            <a:br>
              <a:rPr sz="2600"/>
            </a:br>
            <a:r>
              <a:rPr b="1" i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Factoring, discrete log, elliptic curve problems, Pell’s equation, unit groups, class groups, Simon’s problem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304920" y="4178160"/>
            <a:ext cx="81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eaks almost all public-key cryptosystems used today</a:t>
            </a:r>
            <a:br>
              <a:rPr sz="2600"/>
            </a:br>
            <a:r>
              <a:rPr b="1" i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But theoretical public-key systems exist that are unaff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http://upload.wikimedia.org/wikibooks/en/8/83/DFT_vis.jpg"/>
          <p:cNvPicPr/>
          <p:nvPr/>
        </p:nvPicPr>
        <p:blipFill>
          <a:blip r:embed="rId3"/>
          <a:stretch/>
        </p:blipFill>
        <p:spPr>
          <a:xfrm>
            <a:off x="457200" y="941400"/>
            <a:ext cx="2195640" cy="14223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2"/>
          <p:cNvSpPr/>
          <p:nvPr/>
        </p:nvSpPr>
        <p:spPr>
          <a:xfrm>
            <a:off x="304920" y="5105520"/>
            <a:ext cx="875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an we go further? 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Hidden Subgroup Problem</a:t>
            </a:r>
            <a:br>
              <a:rPr sz="2200"/>
            </a:br>
            <a:r>
              <a:rPr b="1" i="1" lang="en-US" sz="2200" spc="-1" strike="noStrike">
                <a:solidFill>
                  <a:srgbClr val="00b050"/>
                </a:solidFill>
                <a:latin typeface="Calibri"/>
                <a:ea typeface="Courier New"/>
              </a:rPr>
              <a:t>Generalizes Shor to nonabelian groups.  Captures e.g. Graph Isomorph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tle 1"/>
          <p:cNvSpPr/>
          <p:nvPr/>
        </p:nvSpPr>
        <p:spPr>
          <a:xfrm>
            <a:off x="304920" y="6080040"/>
            <a:ext cx="8458200" cy="52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las, nonabelian HSP has been the Afghanistan of quantum algorithm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7108920" y="4973760"/>
            <a:ext cx="1777680" cy="546120"/>
            <a:chOff x="7108920" y="4973760"/>
            <a:chExt cx="1777680" cy="546120"/>
          </a:xfrm>
        </p:grpSpPr>
        <p:grpSp>
          <p:nvGrpSpPr>
            <p:cNvPr id="310" name="Group 15"/>
            <p:cNvGrpSpPr/>
            <p:nvPr/>
          </p:nvGrpSpPr>
          <p:grpSpPr>
            <a:xfrm>
              <a:off x="7108920" y="4973760"/>
              <a:ext cx="615240" cy="546120"/>
              <a:chOff x="7108920" y="4973760"/>
              <a:chExt cx="615240" cy="546120"/>
            </a:xfrm>
          </p:grpSpPr>
          <p:sp>
            <p:nvSpPr>
              <p:cNvPr id="311" name="Line 16"/>
              <p:cNvSpPr/>
              <p:nvPr/>
            </p:nvSpPr>
            <p:spPr>
              <a:xfrm>
                <a:off x="7142760" y="5007600"/>
                <a:ext cx="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7"/>
              <p:cNvSpPr/>
              <p:nvPr/>
            </p:nvSpPr>
            <p:spPr>
              <a:xfrm flipH="1">
                <a:off x="7142760" y="5007600"/>
                <a:ext cx="27360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8"/>
              <p:cNvSpPr/>
              <p:nvPr/>
            </p:nvSpPr>
            <p:spPr>
              <a:xfrm flipH="1">
                <a:off x="7416000" y="5007600"/>
                <a:ext cx="27324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9"/>
              <p:cNvSpPr/>
              <p:nvPr/>
            </p:nvSpPr>
            <p:spPr>
              <a:xfrm>
                <a:off x="7416360" y="5007600"/>
                <a:ext cx="27324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20"/>
              <p:cNvSpPr/>
              <p:nvPr/>
            </p:nvSpPr>
            <p:spPr>
              <a:xfrm>
                <a:off x="7142760" y="5007600"/>
                <a:ext cx="27360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21"/>
              <p:cNvSpPr/>
              <p:nvPr/>
            </p:nvSpPr>
            <p:spPr>
              <a:xfrm flipH="1">
                <a:off x="7416000" y="5007600"/>
                <a:ext cx="273240" cy="47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22"/>
              <p:cNvSpPr/>
              <p:nvPr/>
            </p:nvSpPr>
            <p:spPr>
              <a:xfrm>
                <a:off x="7416360" y="5247000"/>
                <a:ext cx="0" cy="23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23"/>
              <p:cNvSpPr/>
              <p:nvPr/>
            </p:nvSpPr>
            <p:spPr>
              <a:xfrm flipH="1">
                <a:off x="7416000" y="5247000"/>
                <a:ext cx="273240" cy="23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24"/>
              <p:cNvSpPr/>
              <p:nvPr/>
            </p:nvSpPr>
            <p:spPr>
              <a:xfrm>
                <a:off x="7142760" y="5247000"/>
                <a:ext cx="273600" cy="23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25"/>
              <p:cNvSpPr/>
              <p:nvPr/>
            </p:nvSpPr>
            <p:spPr>
              <a:xfrm>
                <a:off x="7108920" y="5212800"/>
                <a:ext cx="6804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26"/>
              <p:cNvSpPr/>
              <p:nvPr/>
            </p:nvSpPr>
            <p:spPr>
              <a:xfrm>
                <a:off x="7382160" y="5212800"/>
                <a:ext cx="6804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27"/>
              <p:cNvSpPr/>
              <p:nvPr/>
            </p:nvSpPr>
            <p:spPr>
              <a:xfrm>
                <a:off x="7382160" y="4973760"/>
                <a:ext cx="6804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28"/>
              <p:cNvSpPr/>
              <p:nvPr/>
            </p:nvSpPr>
            <p:spPr>
              <a:xfrm>
                <a:off x="7655760" y="4973760"/>
                <a:ext cx="6840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29"/>
              <p:cNvSpPr/>
              <p:nvPr/>
            </p:nvSpPr>
            <p:spPr>
              <a:xfrm>
                <a:off x="7655760" y="5212800"/>
                <a:ext cx="6840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30"/>
              <p:cNvSpPr/>
              <p:nvPr/>
            </p:nvSpPr>
            <p:spPr>
              <a:xfrm>
                <a:off x="7382160" y="5451840"/>
                <a:ext cx="6804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31"/>
              <p:cNvSpPr/>
              <p:nvPr/>
            </p:nvSpPr>
            <p:spPr>
              <a:xfrm>
                <a:off x="7108920" y="4973760"/>
                <a:ext cx="6804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32"/>
            <p:cNvGrpSpPr/>
            <p:nvPr/>
          </p:nvGrpSpPr>
          <p:grpSpPr>
            <a:xfrm>
              <a:off x="8237520" y="4973760"/>
              <a:ext cx="649080" cy="511920"/>
              <a:chOff x="8237520" y="4973760"/>
              <a:chExt cx="649080" cy="511920"/>
            </a:xfrm>
          </p:grpSpPr>
          <p:sp>
            <p:nvSpPr>
              <p:cNvPr id="328" name="Line 33"/>
              <p:cNvSpPr/>
              <p:nvPr/>
            </p:nvSpPr>
            <p:spPr>
              <a:xfrm flipH="1">
                <a:off x="8476200" y="5007960"/>
                <a:ext cx="23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34"/>
              <p:cNvSpPr/>
              <p:nvPr/>
            </p:nvSpPr>
            <p:spPr>
              <a:xfrm flipH="1">
                <a:off x="8442000" y="5212800"/>
                <a:ext cx="13644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5"/>
              <p:cNvSpPr/>
              <p:nvPr/>
            </p:nvSpPr>
            <p:spPr>
              <a:xfrm flipH="1">
                <a:off x="8271000" y="5007960"/>
                <a:ext cx="171000" cy="20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36"/>
              <p:cNvSpPr/>
              <p:nvPr/>
            </p:nvSpPr>
            <p:spPr>
              <a:xfrm>
                <a:off x="8715960" y="5007960"/>
                <a:ext cx="136800" cy="20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7"/>
              <p:cNvSpPr/>
              <p:nvPr/>
            </p:nvSpPr>
            <p:spPr>
              <a:xfrm>
                <a:off x="8579160" y="5212800"/>
                <a:ext cx="273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38"/>
              <p:cNvSpPr/>
              <p:nvPr/>
            </p:nvSpPr>
            <p:spPr>
              <a:xfrm>
                <a:off x="8442360" y="5007960"/>
                <a:ext cx="136440" cy="20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39"/>
              <p:cNvSpPr/>
              <p:nvPr/>
            </p:nvSpPr>
            <p:spPr>
              <a:xfrm flipH="1" flipV="1">
                <a:off x="8579160" y="5212800"/>
                <a:ext cx="13680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40"/>
              <p:cNvSpPr/>
              <p:nvPr/>
            </p:nvSpPr>
            <p:spPr>
              <a:xfrm flipH="1">
                <a:off x="8715960" y="5212800"/>
                <a:ext cx="13680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41"/>
              <p:cNvSpPr/>
              <p:nvPr/>
            </p:nvSpPr>
            <p:spPr>
              <a:xfrm>
                <a:off x="8271360" y="5212800"/>
                <a:ext cx="17100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42"/>
              <p:cNvSpPr/>
              <p:nvPr/>
            </p:nvSpPr>
            <p:spPr>
              <a:xfrm>
                <a:off x="8544960" y="5178600"/>
                <a:ext cx="68040" cy="68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43"/>
              <p:cNvSpPr/>
              <p:nvPr/>
            </p:nvSpPr>
            <p:spPr>
              <a:xfrm>
                <a:off x="8408160" y="5417640"/>
                <a:ext cx="6804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44"/>
              <p:cNvSpPr/>
              <p:nvPr/>
            </p:nvSpPr>
            <p:spPr>
              <a:xfrm>
                <a:off x="8237520" y="5178600"/>
                <a:ext cx="68040" cy="68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45"/>
              <p:cNvSpPr/>
              <p:nvPr/>
            </p:nvSpPr>
            <p:spPr>
              <a:xfrm>
                <a:off x="8408160" y="4973760"/>
                <a:ext cx="68040" cy="68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46"/>
              <p:cNvSpPr/>
              <p:nvPr/>
            </p:nvSpPr>
            <p:spPr>
              <a:xfrm>
                <a:off x="8681760" y="4973760"/>
                <a:ext cx="68400" cy="68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47"/>
              <p:cNvSpPr/>
              <p:nvPr/>
            </p:nvSpPr>
            <p:spPr>
              <a:xfrm>
                <a:off x="8681760" y="5417640"/>
                <a:ext cx="6840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48"/>
              <p:cNvSpPr/>
              <p:nvPr/>
            </p:nvSpPr>
            <p:spPr>
              <a:xfrm>
                <a:off x="8818560" y="5178600"/>
                <a:ext cx="68040" cy="68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Text Box 49"/>
            <p:cNvSpPr/>
            <p:nvPr/>
          </p:nvSpPr>
          <p:spPr>
            <a:xfrm>
              <a:off x="7860960" y="500760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Grover-like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457200" y="5181480"/>
            <a:ext cx="829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  <a:ea typeface="Arial"/>
              </a:rPr>
              <a:t>Bennett et al. 1997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or black-box searching, the square-root speedup of Grover’s algorithm is the best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38"/>
          <p:cNvGrpSpPr/>
          <p:nvPr/>
        </p:nvGrpSpPr>
        <p:grpSpPr>
          <a:xfrm>
            <a:off x="517680" y="4481640"/>
            <a:ext cx="8229600" cy="304560"/>
            <a:chOff x="517680" y="4481640"/>
            <a:chExt cx="8229600" cy="304560"/>
          </a:xfrm>
        </p:grpSpPr>
        <p:sp>
          <p:nvSpPr>
            <p:cNvPr id="348" name="Rectangle 11"/>
            <p:cNvSpPr/>
            <p:nvPr/>
          </p:nvSpPr>
          <p:spPr>
            <a:xfrm>
              <a:off x="5176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"/>
            <p:cNvSpPr/>
            <p:nvPr/>
          </p:nvSpPr>
          <p:spPr>
            <a:xfrm>
              <a:off x="8222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3"/>
            <p:cNvSpPr/>
            <p:nvPr/>
          </p:nvSpPr>
          <p:spPr>
            <a:xfrm>
              <a:off x="11271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"/>
            <p:cNvSpPr/>
            <p:nvPr/>
          </p:nvSpPr>
          <p:spPr>
            <a:xfrm>
              <a:off x="14320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>
              <a:off x="17366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6"/>
            <p:cNvSpPr/>
            <p:nvPr/>
          </p:nvSpPr>
          <p:spPr>
            <a:xfrm>
              <a:off x="20415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7"/>
            <p:cNvSpPr/>
            <p:nvPr/>
          </p:nvSpPr>
          <p:spPr>
            <a:xfrm>
              <a:off x="23464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8"/>
            <p:cNvSpPr/>
            <p:nvPr/>
          </p:nvSpPr>
          <p:spPr>
            <a:xfrm>
              <a:off x="26510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>
              <a:off x="29559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0"/>
            <p:cNvSpPr/>
            <p:nvPr/>
          </p:nvSpPr>
          <p:spPr>
            <a:xfrm>
              <a:off x="32608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1"/>
            <p:cNvSpPr/>
            <p:nvPr/>
          </p:nvSpPr>
          <p:spPr>
            <a:xfrm>
              <a:off x="3565440" y="448164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>
              <a:off x="38703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41752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>
              <a:off x="44798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>
              <a:off x="47847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>
              <a:off x="50896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>
              <a:off x="53942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8"/>
            <p:cNvSpPr/>
            <p:nvPr/>
          </p:nvSpPr>
          <p:spPr>
            <a:xfrm>
              <a:off x="56991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>
              <a:off x="60040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0"/>
            <p:cNvSpPr/>
            <p:nvPr/>
          </p:nvSpPr>
          <p:spPr>
            <a:xfrm>
              <a:off x="63086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>
              <a:off x="66135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2"/>
            <p:cNvSpPr/>
            <p:nvPr/>
          </p:nvSpPr>
          <p:spPr>
            <a:xfrm>
              <a:off x="69184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3"/>
            <p:cNvSpPr/>
            <p:nvPr/>
          </p:nvSpPr>
          <p:spPr>
            <a:xfrm>
              <a:off x="72230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4"/>
            <p:cNvSpPr/>
            <p:nvPr/>
          </p:nvSpPr>
          <p:spPr>
            <a:xfrm>
              <a:off x="75279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5"/>
            <p:cNvSpPr/>
            <p:nvPr/>
          </p:nvSpPr>
          <p:spPr>
            <a:xfrm>
              <a:off x="78328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36"/>
            <p:cNvSpPr/>
            <p:nvPr/>
          </p:nvSpPr>
          <p:spPr>
            <a:xfrm>
              <a:off x="81374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37"/>
            <p:cNvSpPr/>
            <p:nvPr/>
          </p:nvSpPr>
          <p:spPr>
            <a:xfrm>
              <a:off x="84423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2" descr="http://upload.wikimedia.org/wikipedia/commons/thumb/1/16/Grovers_algorithm_geometry.png/310px-Grovers_algorithm_geometry.png"/>
          <p:cNvPicPr/>
          <p:nvPr/>
        </p:nvPicPr>
        <p:blipFill>
          <a:blip r:embed="rId1"/>
          <a:stretch/>
        </p:blipFill>
        <p:spPr>
          <a:xfrm>
            <a:off x="457200" y="1143000"/>
            <a:ext cx="2952720" cy="30672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9"/>
          <p:cNvSpPr/>
          <p:nvPr/>
        </p:nvSpPr>
        <p:spPr>
          <a:xfrm>
            <a:off x="3565440" y="1511280"/>
            <a:ext cx="54262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dratic speedup f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problem involving searching an unordered list, provided the list elements can be queried in super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mplies subquadratic speedups for many other basic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http://www.dcs.warwick.ac.uk/~tim/quantumcomputing/img/when_grover.jpg"/>
          <p:cNvPicPr/>
          <p:nvPr/>
        </p:nvPicPr>
        <p:blipFill>
          <a:blip r:embed="rId2"/>
          <a:stretch/>
        </p:blipFill>
        <p:spPr>
          <a:xfrm>
            <a:off x="7680240" y="246240"/>
            <a:ext cx="103356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99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Walk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enter image description here"/>
          <p:cNvPicPr/>
          <p:nvPr/>
        </p:nvPicPr>
        <p:blipFill>
          <a:blip r:embed="rId1"/>
          <a:stretch/>
        </p:blipFill>
        <p:spPr>
          <a:xfrm>
            <a:off x="2209680" y="2435400"/>
            <a:ext cx="5105520" cy="36734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2"/>
          <p:cNvSpPr/>
          <p:nvPr/>
        </p:nvSpPr>
        <p:spPr>
          <a:xfrm>
            <a:off x="299880" y="1143000"/>
            <a:ext cx="8386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Childs et al. 2003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walks can achieve provable exponential speedups over classical walks, but for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treme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“fine-tuned”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048120" y="6108840"/>
            <a:ext cx="3733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THE GLUED 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http://web.mit.edu/physics/images/faculty/farhi_eddie.jpg"/>
          <p:cNvPicPr/>
          <p:nvPr/>
        </p:nvPicPr>
        <p:blipFill>
          <a:blip r:embed="rId2"/>
          <a:stretch/>
        </p:blipFill>
        <p:spPr>
          <a:xfrm>
            <a:off x="8153280" y="152280"/>
            <a:ext cx="80172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4-11-20T14:14:31Z</dcterms:modified>
  <cp:revision>313</cp:revision>
  <dc:subject/>
  <dc:title>The Future of Computer Science</dc:title>
</cp:coreProperties>
</file>