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gif" ContentType="image/gif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D0978-6549-4247-B05B-A8F124F1AC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2D65B-6064-4EE7-8F24-DD7C29781CA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2DDB4-F4C6-45C2-BFB4-7D357701453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36AA2-A081-42E9-BD45-AF61F25C205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45763-AA1D-433E-83C5-2FC976FE104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9794E-4BCD-4BA1-9E85-27F040FF9E2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E1DBC-6E51-45D2-AE30-0194964B09E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176DE-C7D8-4DA6-833E-40DA53B6399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5A207-8AA0-42E8-84B8-1524B9F3481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AEDB3-7DD0-44E1-B891-82C31991318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EAEAE-EF52-4F9F-B6C9-06FEE8C2E75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B9895-E859-4CA9-B22E-04834FF779F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9AA35-603F-4FF3-A4EB-A9B725AE905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DDAEC-0D60-4485-BDA2-0758D80EC7A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D313C-8F41-420F-BC84-5FF844194BA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70F60-1F3B-41B5-A4A5-3BBA7E8E8EA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EDFB1-FC5B-49FD-8435-5FFC53B6129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7ED3B-5A28-4A6F-83F7-D2585266A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BACCB-856F-41DC-8552-74F7D08B4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7A5B4-2D61-438C-B595-5D046206E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FE051-AA0F-49C8-80AB-B22E8C6A8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786F7-DCC8-4B52-940C-6838F4C46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BC3F2-E99E-4552-8316-B59A91A64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9339B-D76B-44D4-AE56-67647C0C9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DCAB6-DDC8-45D6-872E-B05126161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DBCD6-126C-4631-AB1E-40F674DBC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93C64-C61E-46A0-91F8-B0E5B3DC5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E7177-D4F5-44B9-A6DF-A00A13B3E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C7D2E-BFC3-4E4B-9ADD-3A24E00C8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3C764-2ECB-4C3F-97E4-0A357ED35F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70c0"/>
                </a:solidFill>
                <a:latin typeface="Calibri"/>
              </a:rPr>
              <a:t>BosonSampling</a:t>
            </a:r>
            <a:endParaRPr b="1" lang="en-US" sz="5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5029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Scott Aaronson (MIT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Talk at SITP, February 21, 2014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http://www.photonics.com/images2/Spectra/Features/2013/06/Quantum_Figure4.jpg"/>
          <p:cNvPicPr/>
          <p:nvPr/>
        </p:nvPicPr>
        <p:blipFill>
          <a:blip r:embed="rId1"/>
          <a:stretch/>
        </p:blipFill>
        <p:spPr>
          <a:xfrm>
            <a:off x="5181480" y="2057400"/>
            <a:ext cx="3200400" cy="21430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"/>
          <p:cNvPicPr/>
          <p:nvPr/>
        </p:nvPicPr>
        <p:blipFill>
          <a:blip r:embed="rId2"/>
          <a:stretch/>
        </p:blipFill>
        <p:spPr>
          <a:xfrm>
            <a:off x="914400" y="1728720"/>
            <a:ext cx="3105000" cy="28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2"/>
          <p:cNvSpPr/>
          <p:nvPr/>
        </p:nvSpPr>
        <p:spPr>
          <a:xfrm>
            <a:off x="380880" y="228600"/>
            <a:ext cx="8382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BosonSampling Experi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ubtitle 4"/>
          <p:cNvSpPr/>
          <p:nvPr/>
        </p:nvSpPr>
        <p:spPr>
          <a:xfrm>
            <a:off x="1339920" y="4343400"/>
            <a:ext cx="6476760" cy="7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b050"/>
                </a:solidFill>
                <a:latin typeface="Calibri"/>
                <a:ea typeface="Calibri"/>
              </a:rPr>
              <a:t># of experiments ≥ # of photons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5" descr="http://www.photonics.com/images2/Spectra/Features/2013/06/Quantum_Figure4.jpg"/>
          <p:cNvPicPr/>
          <p:nvPr/>
        </p:nvPicPr>
        <p:blipFill>
          <a:blip r:embed="rId1"/>
          <a:stretch/>
        </p:blipFill>
        <p:spPr>
          <a:xfrm>
            <a:off x="5410080" y="1415880"/>
            <a:ext cx="3200400" cy="2143440"/>
          </a:xfrm>
          <a:prstGeom prst="rect">
            <a:avLst/>
          </a:prstGeom>
          <a:ln w="0">
            <a:noFill/>
          </a:ln>
        </p:spPr>
      </p:pic>
      <p:sp>
        <p:nvSpPr>
          <p:cNvPr id="107" name="Subtitle 4"/>
          <p:cNvSpPr/>
          <p:nvPr/>
        </p:nvSpPr>
        <p:spPr>
          <a:xfrm>
            <a:off x="457200" y="1166760"/>
            <a:ext cx="4686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Last year, groups in Brisbane, Oxford, Rome, and Vienna reported the first 3- and 4-photon BosonSampling experiments, confirming that the amplitudes were given by 3x3 and 4x4 perma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Subtitle 4"/>
          <p:cNvSpPr/>
          <p:nvPr/>
        </p:nvSpPr>
        <p:spPr>
          <a:xfrm>
            <a:off x="455760" y="2590920"/>
            <a:ext cx="8305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Calibri"/>
              </a:rPr>
              <a:t>Goal (in our view)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Scale to 10-30 phot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Don’t want to scale much beyond that—both beca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you probably can’t without fault-tolerance,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and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a classical computer probably couldn’t even verify the result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ubtitle 4"/>
          <p:cNvSpPr/>
          <p:nvPr/>
        </p:nvSpPr>
        <p:spPr>
          <a:xfrm>
            <a:off x="457200" y="380880"/>
            <a:ext cx="8458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Calibri"/>
              </a:rPr>
              <a:t>Obvious Challenges for Scaling Up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Reliable single-photon sources </a:t>
            </a:r>
            <a:r>
              <a:rPr b="0" lang="en-US" sz="2400" spc="-1" strike="noStrike">
                <a:solidFill>
                  <a:srgbClr val="008000"/>
                </a:solidFill>
                <a:latin typeface="Calibri"/>
                <a:ea typeface="Calibri"/>
              </a:rPr>
              <a:t>(optical multiplex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Minimizing lo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Getting high probability of n-photon coincid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ubtitle 4"/>
          <p:cNvSpPr/>
          <p:nvPr/>
        </p:nvSpPr>
        <p:spPr>
          <a:xfrm>
            <a:off x="380880" y="5181480"/>
            <a:ext cx="8458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Calibri"/>
              </a:rPr>
              <a:t>Theoretical Challenge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Argue that, even with photon losses and messier initial states, you’re still solving a classically-intractable sampling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2"/>
          <p:cNvSpPr/>
          <p:nvPr/>
        </p:nvSpPr>
        <p:spPr>
          <a:xfrm>
            <a:off x="380880" y="152280"/>
            <a:ext cx="8382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Scattershot BosonSamp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ubtitle 4"/>
          <p:cNvSpPr/>
          <p:nvPr/>
        </p:nvSpPr>
        <p:spPr>
          <a:xfrm>
            <a:off x="495360" y="1104840"/>
            <a:ext cx="8153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Wonderful new idea, proposed by several experimental groups, for sampling a hard distribution even with highly unreliable (but heralded) photon sources, like Spontaneous Parametric Downconversion (SPDC) cryst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alibri"/>
                <a:ea typeface="Calibri"/>
              </a:rPr>
              <a:t>The idea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Say you have 100 sources, of which only 10 (on average) generate a photon.  Then just detect which sources succeeded, and use those to define your BosonSampling instanc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Complexity analysis goes through essentially without 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>
            <a:off x="360360" y="201600"/>
            <a:ext cx="8381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Verifying BosonSampling Devi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ubtitle 4"/>
          <p:cNvSpPr/>
          <p:nvPr/>
        </p:nvSpPr>
        <p:spPr>
          <a:xfrm>
            <a:off x="495360" y="1104840"/>
            <a:ext cx="8153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As mentioned before, even verifying the output of a claimed BosonSampling device would presumably take exp(n) time, in general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Recently underscored by </a:t>
            </a:r>
            <a:r>
              <a:rPr b="1" lang="en-US" sz="2800" spc="-1" strike="noStrike">
                <a:solidFill>
                  <a:srgbClr val="008000"/>
                </a:solidFill>
                <a:latin typeface="Calibri"/>
                <a:ea typeface="Calibri"/>
              </a:rPr>
              <a:t>[Gogolin et al. 2013]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(alongside specious claims…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Calibri"/>
              </a:rPr>
              <a:t>Our respon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Who cares?  Take n=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If you do care, we can show how to distinguish the output of a BosonSampling device from all sorts of specific “null hypothese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ubtitle 4"/>
          <p:cNvSpPr/>
          <p:nvPr/>
        </p:nvSpPr>
        <p:spPr>
          <a:xfrm>
            <a:off x="276120" y="152280"/>
            <a:ext cx="8639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  <a:ea typeface="Calibri"/>
              </a:rPr>
              <a:t>Theorem (A. 2013):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Let A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C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m</a:t>
            </a:r>
            <a:r>
              <a:rPr b="0" lang="en-US" sz="26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 be Haar-random, where m&gt;&gt;n.  Then there’s a classical polytime algorithm C(A) that distinguishes the BosonSampling distribution D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 from the uniform distribution U </a:t>
            </a:r>
            <a:r>
              <a:rPr b="0" lang="en-US" sz="2400" spc="-1" strike="noStrike">
                <a:solidFill>
                  <a:srgbClr val="008000"/>
                </a:solidFill>
                <a:latin typeface="Calibri"/>
                <a:ea typeface="Calibri"/>
              </a:rPr>
              <a:t>(whp over A, and using only O(1) sampl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ubtitle 4"/>
          <p:cNvSpPr/>
          <p:nvPr/>
        </p:nvSpPr>
        <p:spPr>
          <a:xfrm>
            <a:off x="276120" y="180180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  <a:ea typeface="Calibri"/>
              </a:rPr>
              <a:t>Strategy: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Let A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 be the n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n submatrix of A corresponding to output S.  Let P be the product of squared 2-norms of A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’s rows.  If P&gt;E[P], then guess S was drawn from D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; otherwise guess S was drawn from 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Group 20"/>
          <p:cNvGrpSpPr/>
          <p:nvPr/>
        </p:nvGrpSpPr>
        <p:grpSpPr>
          <a:xfrm>
            <a:off x="4114800" y="3610080"/>
            <a:ext cx="4824360" cy="3047760"/>
            <a:chOff x="4114800" y="3610080"/>
            <a:chExt cx="4824360" cy="3047760"/>
          </a:xfrm>
        </p:grpSpPr>
        <p:pic>
          <p:nvPicPr>
            <p:cNvPr id="118" name="Picture 7" descr=""/>
            <p:cNvPicPr/>
            <p:nvPr/>
          </p:nvPicPr>
          <p:blipFill>
            <a:blip r:embed="rId1"/>
            <a:stretch/>
          </p:blipFill>
          <p:spPr>
            <a:xfrm>
              <a:off x="4114800" y="3610080"/>
              <a:ext cx="4711680" cy="304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Subtitle 4"/>
            <p:cNvSpPr/>
            <p:nvPr/>
          </p:nvSpPr>
          <p:spPr>
            <a:xfrm>
              <a:off x="4952880" y="3809880"/>
              <a:ext cx="396252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P under uniform distribution (a lognormal random variable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Subtitle 4"/>
            <p:cNvSpPr/>
            <p:nvPr/>
          </p:nvSpPr>
          <p:spPr>
            <a:xfrm>
              <a:off x="5462640" y="4875120"/>
              <a:ext cx="347652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alibri"/>
                  <a:ea typeface="Calibri"/>
                </a:rPr>
                <a:t>P under a BosonSampling distribu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1" name="Straight Arrow Connector 15"/>
            <p:cNvCxnSpPr/>
            <p:nvPr/>
          </p:nvCxnSpPr>
          <p:spPr>
            <a:xfrm flipH="1">
              <a:off x="7085880" y="5333400"/>
              <a:ext cx="115200" cy="824760"/>
            </a:xfrm>
            <a:prstGeom prst="straightConnector1">
              <a:avLst/>
            </a:prstGeom>
            <a:ln w="25560">
              <a:solidFill>
                <a:srgbClr val="ff0000"/>
              </a:solidFill>
              <a:miter/>
              <a:tailEnd len="lg" type="arrow" w="lg"/>
            </a:ln>
          </p:spPr>
        </p:cxnSp>
        <p:cxnSp>
          <p:nvCxnSpPr>
            <p:cNvPr id="122" name="Straight Arrow Connector 18"/>
            <p:cNvCxnSpPr/>
            <p:nvPr/>
          </p:nvCxnSpPr>
          <p:spPr>
            <a:xfrm flipH="1">
              <a:off x="4952520" y="4554720"/>
              <a:ext cx="381600" cy="2458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lg" type="arrow" w="lg"/>
            </a:ln>
          </p:spPr>
        </p:cxnSp>
      </p:grpSp>
      <p:grpSp>
        <p:nvGrpSpPr>
          <p:cNvPr id="123" name="Group 19"/>
          <p:cNvGrpSpPr/>
          <p:nvPr/>
        </p:nvGrpSpPr>
        <p:grpSpPr>
          <a:xfrm>
            <a:off x="276120" y="3589200"/>
            <a:ext cx="3460680" cy="3129120"/>
            <a:chOff x="276120" y="3589200"/>
            <a:chExt cx="3460680" cy="3129120"/>
          </a:xfrm>
        </p:grpSpPr>
        <p:sp>
          <p:nvSpPr>
            <p:cNvPr id="124" name="Double Bracket 2"/>
            <p:cNvSpPr/>
            <p:nvPr/>
          </p:nvSpPr>
          <p:spPr>
            <a:xfrm>
              <a:off x="793440" y="3589200"/>
              <a:ext cx="1828800" cy="2277720"/>
            </a:xfrm>
            <a:prstGeom prst="bracketPair">
              <a:avLst>
                <a:gd name="adj" fmla="val 17129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ounded Rectangle 4"/>
            <p:cNvSpPr/>
            <p:nvPr/>
          </p:nvSpPr>
          <p:spPr>
            <a:xfrm>
              <a:off x="793440" y="4160520"/>
              <a:ext cx="1828800" cy="22860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Rounded Rectangle 9"/>
            <p:cNvSpPr/>
            <p:nvPr/>
          </p:nvSpPr>
          <p:spPr>
            <a:xfrm>
              <a:off x="789480" y="4400640"/>
              <a:ext cx="1828800" cy="22860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Rounded Rectangle 10"/>
            <p:cNvSpPr/>
            <p:nvPr/>
          </p:nvSpPr>
          <p:spPr>
            <a:xfrm>
              <a:off x="785160" y="4640400"/>
              <a:ext cx="1828800" cy="22860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Rounded Rectangle 11"/>
            <p:cNvSpPr/>
            <p:nvPr/>
          </p:nvSpPr>
          <p:spPr>
            <a:xfrm>
              <a:off x="780840" y="4880160"/>
              <a:ext cx="1828800" cy="22860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Subtitle 4"/>
            <p:cNvSpPr/>
            <p:nvPr/>
          </p:nvSpPr>
          <p:spPr>
            <a:xfrm>
              <a:off x="1461960" y="5180040"/>
              <a:ext cx="46656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Subtitle 4"/>
            <p:cNvSpPr/>
            <p:nvPr/>
          </p:nvSpPr>
          <p:spPr>
            <a:xfrm>
              <a:off x="1411200" y="4275000"/>
              <a:ext cx="60948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Calibri"/>
                  <a:ea typeface="Calibri"/>
                </a:rPr>
                <a:t>S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1" name="Object 22"/>
                <p:cNvSpPr txBox="1"/>
                <p:nvPr/>
              </p:nvSpPr>
              <p:spPr>
                <a:xfrm>
                  <a:off x="276120" y="5693400"/>
                  <a:ext cx="3460680" cy="1024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r>
                        <m:t xml:space="preserve">=</m:t>
                      </m:r>
                      <m:sSup>
                        <m:e>
                          <m:d>
                            <m:dPr>
                              <m:begChr m:val="‖"/>
                              <m:endChr m:val="‖"/>
                            </m:dP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d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⋯</m:t>
                      </m:r>
                      <m:sSup>
                        <m:e>
                          <m:d>
                            <m:dPr>
                              <m:begChr m:val="‖"/>
                              <m:endChr m:val="‖"/>
                            </m:dP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d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≥</m:t>
                      </m:r>
                      <m:sSup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f>
                                <m:num>
                                  <m:r>
                                    <m:t xml:space="preserve">n</m:t>
                                  </m:r>
                                </m:num>
                                <m:den>
                                  <m:r>
                                    <m:t xml:space="preserve">m</m:t>
                                  </m:r>
                                </m:den>
                              </m:f>
                            </m:e>
                          </m:d>
                        </m:e>
                        <m:sup>
                          <m:r>
                            <m:t xml:space="preserve">n</m:t>
                          </m:r>
                        </m:sup>
                      </m:sSup>
                      <m:r>
                        <m:t xml:space="preserve">?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32" name="Subtitle 4"/>
          <p:cNvSpPr/>
          <p:nvPr/>
        </p:nvSpPr>
        <p:spPr>
          <a:xfrm>
            <a:off x="793800" y="3282840"/>
            <a:ext cx="7162920" cy="1984320"/>
          </a:xfrm>
          <a:prstGeom prst="rect">
            <a:avLst/>
          </a:prstGeom>
          <a:solidFill>
            <a:srgbClr val="ffffb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Calibri"/>
              </a:rPr>
              <a:t>Recent realization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You can also use the number of multi-photon collisions to distinguish 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from 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’, the same distribution but with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classical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distinguishable partic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2"/>
          <p:cNvSpPr/>
          <p:nvPr/>
        </p:nvSpPr>
        <p:spPr>
          <a:xfrm>
            <a:off x="380880" y="228600"/>
            <a:ext cx="838224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Turning the Logic Around</a:t>
            </a:r>
            <a:br>
              <a:rPr sz="4400"/>
            </a:br>
            <a:r>
              <a:rPr b="1" lang="en-US" sz="2800" spc="-1" strike="noStrike">
                <a:solidFill>
                  <a:srgbClr val="0070c0"/>
                </a:solidFill>
                <a:latin typeface="Calibri"/>
                <a:ea typeface="Arial"/>
              </a:rPr>
              <a:t>[A., </a:t>
            </a:r>
            <a:r>
              <a:rPr b="1" i="1" lang="en-US" sz="2800" spc="-1" strike="noStrike">
                <a:solidFill>
                  <a:srgbClr val="0070c0"/>
                </a:solidFill>
                <a:latin typeface="Calibri"/>
                <a:ea typeface="Arial"/>
              </a:rPr>
              <a:t>Proc. Roy. Soc. </a:t>
            </a:r>
            <a:r>
              <a:rPr b="1" lang="en-US" sz="2800" spc="-1" strike="noStrike">
                <a:solidFill>
                  <a:srgbClr val="0070c0"/>
                </a:solidFill>
                <a:latin typeface="Calibri"/>
                <a:ea typeface="Arial"/>
              </a:rPr>
              <a:t>2011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Subtitle 4"/>
          <p:cNvSpPr/>
          <p:nvPr/>
        </p:nvSpPr>
        <p:spPr>
          <a:xfrm>
            <a:off x="609480" y="205740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ubtitle 4"/>
          <p:cNvSpPr/>
          <p:nvPr/>
        </p:nvSpPr>
        <p:spPr>
          <a:xfrm>
            <a:off x="387360" y="1600200"/>
            <a:ext cx="8610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Arkhipov and I used the </a:t>
            </a:r>
            <a:r>
              <a:rPr b="1" lang="en-US" sz="2800" spc="-1" strike="noStrike">
                <a:solidFill>
                  <a:srgbClr val="990099"/>
                </a:solidFill>
                <a:latin typeface="Calibri"/>
                <a:ea typeface="Calibri"/>
              </a:rPr>
              <a:t>#P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-completeness of the permanent—a great discovery of CS theory from the 1970s—to argue that bosonic sampling is hard for a classical compu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Later, I realized that one can also go in the reverse direction!  Using the power of postselected linear-optical quantum computing—shown by </a:t>
            </a:r>
            <a:r>
              <a:rPr b="1" lang="en-US" sz="2800" spc="-1" strike="noStrike">
                <a:solidFill>
                  <a:srgbClr val="008000"/>
                </a:solidFill>
                <a:latin typeface="Calibri"/>
                <a:ea typeface="Calibri"/>
              </a:rPr>
              <a:t>[Knill-Laflamme-Milburn 2001]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—and the connection between LOQC and the permanent, I gave a new, arguably-simpler proof that the permanent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i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en-US" sz="2800" spc="-1" strike="noStrike">
                <a:solidFill>
                  <a:srgbClr val="990099"/>
                </a:solidFill>
                <a:latin typeface="Calibri"/>
                <a:ea typeface="Calibri"/>
              </a:rPr>
              <a:t>#P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-comple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2"/>
          <p:cNvSpPr/>
          <p:nvPr/>
        </p:nvSpPr>
        <p:spPr>
          <a:xfrm>
            <a:off x="228600" y="304920"/>
            <a:ext cx="861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Open Probl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3"/>
          <p:cNvSpPr/>
          <p:nvPr/>
        </p:nvSpPr>
        <p:spPr>
          <a:xfrm>
            <a:off x="380880" y="4343400"/>
            <a:ext cx="845820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Similar hardness results for other natural quantum systems (besides linear optics)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Bremner, Jozsa, Shepherd 2010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Another system for which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exac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classical simulation would collapse </a:t>
            </a:r>
            <a:r>
              <a:rPr b="1" lang="en-US" sz="2800" spc="-1" strike="noStrike">
                <a:solidFill>
                  <a:srgbClr val="990099"/>
                </a:solidFill>
                <a:latin typeface="Calibri"/>
                <a:ea typeface="Arial"/>
              </a:rPr>
              <a:t>PH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3"/>
          <p:cNvSpPr/>
          <p:nvPr/>
        </p:nvSpPr>
        <p:spPr>
          <a:xfrm>
            <a:off x="380880" y="2590920"/>
            <a:ext cx="8458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Can our linear-optics model solve a classically-intractable problem for which a classical computer can efficiently verify the answ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380880" y="121932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Prove that approximating the permanent of an i.i.d. Gaussian matrix is </a:t>
            </a:r>
            <a:r>
              <a:rPr b="1" lang="en-US" sz="2800" spc="-1" strike="noStrike">
                <a:solidFill>
                  <a:srgbClr val="7030a0"/>
                </a:solidFill>
                <a:latin typeface="Calibri"/>
                <a:ea typeface="Arial"/>
              </a:rPr>
              <a:t>#P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-hard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Vertical Scroll 10"/>
          <p:cNvSpPr/>
          <p:nvPr/>
        </p:nvSpPr>
        <p:spPr>
          <a:xfrm>
            <a:off x="1219320" y="380880"/>
            <a:ext cx="6629400" cy="4800600"/>
          </a:xfrm>
          <a:prstGeom prst="verticalScroll">
            <a:avLst>
              <a:gd name="adj" fmla="val 12500"/>
            </a:avLst>
          </a:prstGeom>
          <a:solidFill>
            <a:srgbClr val="ffffb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5" descr="shor"/>
          <p:cNvPicPr/>
          <p:nvPr/>
        </p:nvPicPr>
        <p:blipFill>
          <a:blip r:embed="rId1"/>
          <a:srcRect l="1600" t="2400" r="16003" b="2400"/>
          <a:stretch/>
        </p:blipFill>
        <p:spPr>
          <a:xfrm>
            <a:off x="7238880" y="2133720"/>
            <a:ext cx="989280" cy="7617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shor"/>
          <p:cNvPicPr/>
          <p:nvPr/>
        </p:nvPicPr>
        <p:blipFill>
          <a:blip r:embed="rId2"/>
          <a:srcRect l="16003" t="2400" r="1600" b="2400"/>
          <a:stretch/>
        </p:blipFill>
        <p:spPr>
          <a:xfrm>
            <a:off x="838080" y="2133720"/>
            <a:ext cx="989280" cy="761760"/>
          </a:xfrm>
          <a:prstGeom prst="rect">
            <a:avLst/>
          </a:prstGeom>
          <a:ln w="0">
            <a:noFill/>
          </a:ln>
        </p:spPr>
      </p:pic>
      <p:sp>
        <p:nvSpPr>
          <p:cNvPr id="55" name="Freeform 8"/>
          <p:cNvSpPr/>
          <p:nvPr/>
        </p:nvSpPr>
        <p:spPr>
          <a:xfrm>
            <a:off x="1752480" y="2209680"/>
            <a:ext cx="1511280" cy="463680"/>
          </a:xfrm>
          <a:custGeom>
            <a:avLst/>
            <a:gdLst>
              <a:gd name="textAreaLeft" fmla="*/ 0 w 1511280"/>
              <a:gd name="textAreaRight" fmla="*/ 1511640 w 15112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w="1511808" h="463296">
                <a:moveTo>
                  <a:pt x="12192" y="195072"/>
                </a:moveTo>
                <a:lnTo>
                  <a:pt x="1511808" y="0"/>
                </a:lnTo>
                <a:lnTo>
                  <a:pt x="743712" y="134112"/>
                </a:lnTo>
                <a:lnTo>
                  <a:pt x="1341120" y="463296"/>
                </a:lnTo>
                <a:lnTo>
                  <a:pt x="658368" y="146304"/>
                </a:lnTo>
                <a:lnTo>
                  <a:pt x="0" y="256032"/>
                </a:lnTo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Freeform 9"/>
          <p:cNvSpPr/>
          <p:nvPr/>
        </p:nvSpPr>
        <p:spPr>
          <a:xfrm>
            <a:off x="5257800" y="1600200"/>
            <a:ext cx="2000160" cy="1378080"/>
          </a:xfrm>
          <a:custGeom>
            <a:avLst/>
            <a:gdLst>
              <a:gd name="textAreaLeft" fmla="*/ 0 w 2000160"/>
              <a:gd name="textAreaRight" fmla="*/ 2000520 w 2000160"/>
              <a:gd name="textAreaTop" fmla="*/ 0 h 1378080"/>
              <a:gd name="textAreaBottom" fmla="*/ 1378440 h 1378080"/>
            </a:gdLst>
            <a:ahLst/>
            <a:rect l="textAreaLeft" t="textAreaTop" r="textAreaRight" b="textAreaBottom"/>
            <a:pathLst>
              <a:path w="1999488" h="1377696">
                <a:moveTo>
                  <a:pt x="1987296" y="841248"/>
                </a:moveTo>
                <a:lnTo>
                  <a:pt x="743712" y="0"/>
                </a:lnTo>
                <a:lnTo>
                  <a:pt x="1219200" y="377952"/>
                </a:lnTo>
                <a:lnTo>
                  <a:pt x="304800" y="329184"/>
                </a:lnTo>
                <a:lnTo>
                  <a:pt x="1207008" y="414528"/>
                </a:lnTo>
                <a:lnTo>
                  <a:pt x="1548384" y="633984"/>
                </a:lnTo>
                <a:lnTo>
                  <a:pt x="280416" y="902208"/>
                </a:lnTo>
                <a:lnTo>
                  <a:pt x="1584960" y="670560"/>
                </a:lnTo>
                <a:lnTo>
                  <a:pt x="1938528" y="877824"/>
                </a:lnTo>
                <a:lnTo>
                  <a:pt x="0" y="1377696"/>
                </a:lnTo>
                <a:lnTo>
                  <a:pt x="1999488" y="926592"/>
                </a:lnTo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6"/>
          <p:cNvSpPr/>
          <p:nvPr/>
        </p:nvSpPr>
        <p:spPr>
          <a:xfrm>
            <a:off x="304920" y="5562720"/>
            <a:ext cx="8610480" cy="1464480"/>
          </a:xfrm>
          <a:prstGeom prst="rect">
            <a:avLst/>
          </a:prstGeom>
          <a:solidFill>
            <a:srgbClr val="e4f2f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Calibri"/>
              </a:rPr>
              <a:t>Shor’s Theorem: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 QUANTUM SIMULATION has no efficient classical algorithm, unless FACTORING does als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6"/>
          <p:cNvSpPr/>
          <p:nvPr/>
        </p:nvSpPr>
        <p:spPr>
          <a:xfrm>
            <a:off x="2057400" y="1143000"/>
            <a:ext cx="4952880" cy="443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Old English Text MT"/>
              </a:rPr>
              <a:t>The Extended Church-Turing Thesis (ECT)</a:t>
            </a:r>
            <a:r>
              <a:rPr b="0" lang="en-US" sz="3600" spc="-1" strike="noStrike">
                <a:solidFill>
                  <a:srgbClr val="000000"/>
                </a:solidFill>
                <a:latin typeface="Old English Text M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verything feasibly computable in the physical world is feasibly computable by a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probabilistic)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Turing mach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"/>
          <p:cNvSpPr/>
          <p:nvPr/>
        </p:nvSpPr>
        <p:spPr>
          <a:xfrm>
            <a:off x="1219320" y="228600"/>
            <a:ext cx="655308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70c0"/>
                </a:solidFill>
                <a:latin typeface="Calibri"/>
                <a:ea typeface="Arial"/>
              </a:rPr>
              <a:t>So the ECT is false … what more evidence could anyone want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6"/>
          <p:cNvSpPr/>
          <p:nvPr/>
        </p:nvSpPr>
        <p:spPr>
          <a:xfrm>
            <a:off x="380880" y="1523880"/>
            <a:ext cx="8534520" cy="29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Building a QC able to factor large numbers is </a:t>
            </a:r>
            <a:r>
              <a:rPr b="1" lang="en-US" sz="3000" spc="-1" strike="noStrike">
                <a:solidFill>
                  <a:srgbClr val="ff0000"/>
                </a:solidFill>
                <a:latin typeface="Calibri"/>
              </a:rPr>
              <a:t>damn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hard!  After 16 years, no fundamental obstacle has been found, but who knows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8000"/>
                </a:solidFill>
                <a:latin typeface="Calibri"/>
                <a:ea typeface="Arial"/>
              </a:rPr>
              <a:t>Can’t we “meet the physicists halfway,” and show computational hardness for quantum systems closer to what they actually work with now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6"/>
          <p:cNvSpPr/>
          <p:nvPr/>
        </p:nvSpPr>
        <p:spPr>
          <a:xfrm>
            <a:off x="380880" y="4575240"/>
            <a:ext cx="8534520" cy="24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ACTORING might be have a fast classical algorithm!  At any rate, it’s an extremely “special” proble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8000"/>
                </a:solidFill>
                <a:latin typeface="Calibri"/>
                <a:ea typeface="Arial"/>
              </a:rPr>
              <a:t>Wouldn’t it be great to show that if, quantum computers can be simulated classically, then (say) </a:t>
            </a:r>
            <a:r>
              <a:rPr b="1" lang="en-US" sz="2700" spc="-1" strike="noStrike">
                <a:solidFill>
                  <a:srgbClr val="990099"/>
                </a:solidFill>
                <a:latin typeface="Calibri"/>
                <a:ea typeface="Arial"/>
              </a:rPr>
              <a:t>P</a:t>
            </a:r>
            <a:r>
              <a:rPr b="0" lang="en-US" sz="2700" spc="-1" strike="noStrike">
                <a:solidFill>
                  <a:srgbClr val="008000"/>
                </a:solidFill>
                <a:latin typeface="Calibri"/>
                <a:ea typeface="Arial"/>
              </a:rPr>
              <a:t>=</a:t>
            </a:r>
            <a:r>
              <a:rPr b="1" lang="en-US" sz="2700" spc="-1" strike="noStrike">
                <a:solidFill>
                  <a:srgbClr val="990099"/>
                </a:solidFill>
                <a:latin typeface="Calibri"/>
                <a:ea typeface="Arial"/>
              </a:rPr>
              <a:t>NP</a:t>
            </a:r>
            <a:r>
              <a:rPr b="0" lang="en-US" sz="2700" spc="-1" strike="noStrike">
                <a:solidFill>
                  <a:srgbClr val="008000"/>
                </a:solidFill>
                <a:latin typeface="Calibri"/>
                <a:ea typeface="Arial"/>
              </a:rPr>
              <a:t>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380880" y="185760"/>
            <a:ext cx="8382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BosonSampling </a:t>
            </a:r>
            <a:r>
              <a:rPr b="1" lang="en-US" sz="2800" spc="-1" strike="noStrike">
                <a:solidFill>
                  <a:srgbClr val="0070c0"/>
                </a:solidFill>
                <a:latin typeface="Calibri"/>
                <a:ea typeface="Arial"/>
              </a:rPr>
              <a:t>(A.-Arkhipov 20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380520" y="1028880"/>
            <a:ext cx="80773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A rudimentary type of quantum computing, involving only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Calibri"/>
              </a:rPr>
              <a:t>non-interacting phot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Subtitle 4"/>
          <p:cNvSpPr/>
          <p:nvPr/>
        </p:nvSpPr>
        <p:spPr>
          <a:xfrm>
            <a:off x="76320" y="2128680"/>
            <a:ext cx="342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  <a:ea typeface="Calibri"/>
              </a:rPr>
              <a:t>Classical counterpart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 Galton’s Boar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Subtitle 4"/>
          <p:cNvSpPr/>
          <p:nvPr/>
        </p:nvSpPr>
        <p:spPr>
          <a:xfrm>
            <a:off x="3505320" y="212868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Replacing the balls by photons leads to famously counterintuitive phenomena, like the 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Hong-Ou-Mandel di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2" descr="http://mathworld.wolfram.com/images/eps-gif/GaltonBoard_1000.gif"/>
          <p:cNvPicPr/>
          <p:nvPr/>
        </p:nvPicPr>
        <p:blipFill>
          <a:blip r:embed="rId1"/>
          <a:stretch/>
        </p:blipFill>
        <p:spPr>
          <a:xfrm>
            <a:off x="533520" y="3135240"/>
            <a:ext cx="2819160" cy="3380040"/>
          </a:xfrm>
          <a:prstGeom prst="rect">
            <a:avLst/>
          </a:prstGeom>
          <a:ln w="0">
            <a:noFill/>
          </a:ln>
        </p:spPr>
      </p:pic>
      <p:sp>
        <p:nvSpPr>
          <p:cNvPr id="67" name="Straight Connector 8"/>
          <p:cNvSpPr/>
          <p:nvPr/>
        </p:nvSpPr>
        <p:spPr>
          <a:xfrm>
            <a:off x="4343400" y="3772080"/>
            <a:ext cx="3657600" cy="27432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Straight Connector 9"/>
          <p:cNvSpPr/>
          <p:nvPr/>
        </p:nvSpPr>
        <p:spPr>
          <a:xfrm flipH="1">
            <a:off x="4343400" y="3772080"/>
            <a:ext cx="3657600" cy="27432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6"/>
          <p:cNvSpPr/>
          <p:nvPr/>
        </p:nvSpPr>
        <p:spPr>
          <a:xfrm rot="16200000">
            <a:off x="5562360" y="5066640"/>
            <a:ext cx="1219320" cy="152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Oval 15"/>
          <p:cNvSpPr/>
          <p:nvPr/>
        </p:nvSpPr>
        <p:spPr>
          <a:xfrm>
            <a:off x="4191120" y="3619440"/>
            <a:ext cx="304560" cy="30492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Oval 16"/>
          <p:cNvSpPr/>
          <p:nvPr/>
        </p:nvSpPr>
        <p:spPr>
          <a:xfrm>
            <a:off x="7848720" y="3619440"/>
            <a:ext cx="304560" cy="30492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022E-016 0 L -0.19167 0.2 E">
                                      <p:cBhvr>
                                        <p:cTn id="73" dur="2000" fill="hold"/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4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9167 0.2 E">
                                      <p:cBhvr>
                                        <p:cTn id="75" dur="2000" fill="hold"/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7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9167 0.2 L -0.01667 0.36667 E">
                                      <p:cBhvr>
                                        <p:cTn id="78" dur="2000" fill="hold"/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9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9167 0.2 L 0.375 0.38889 E">
                                      <p:cBhvr>
                                        <p:cTn id="80" dur="2000" fill="hold"/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2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0833 0.2 L 0 0.4 E">
                                      <p:cBhvr>
                                        <p:cTn id="83" dur="2000" fill="hold"/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4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9167 0.2 L -0.38333 0.38889 E">
                                      <p:cBhvr>
                                        <p:cTn id="85" dur="2000" fill="hold"/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58920" y="189000"/>
            <a:ext cx="66816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In general, we consider a network of beamsplitters, with n input “modes”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(locations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and m&gt;&gt;n output mo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7269120" y="417600"/>
            <a:ext cx="1647720" cy="2438280"/>
          </a:xfrm>
          <a:prstGeom prst="rect">
            <a:avLst/>
          </a:prstGeom>
          <a:ln w="0">
            <a:noFill/>
          </a:ln>
        </p:spPr>
      </p:pic>
      <p:sp>
        <p:nvSpPr>
          <p:cNvPr id="74" name="Subtitle 4"/>
          <p:cNvSpPr/>
          <p:nvPr/>
        </p:nvSpPr>
        <p:spPr>
          <a:xfrm>
            <a:off x="358920" y="1636560"/>
            <a:ext cx="6879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8000"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n identical photons enter, one per input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Assume for simplicity they all leave in different modes—there are         possibi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Subtitle 4"/>
          <p:cNvSpPr/>
          <p:nvPr/>
        </p:nvSpPr>
        <p:spPr>
          <a:xfrm>
            <a:off x="358920" y="3487680"/>
            <a:ext cx="8480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The beamsplitter network defines a column-orthonormal matrix A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C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, such th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Object 6"/>
              <p:cNvSpPr txBox="1"/>
              <p:nvPr/>
            </p:nvSpPr>
            <p:spPr>
              <a:xfrm>
                <a:off x="1654200" y="4489560"/>
                <a:ext cx="3814560" cy="12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er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σ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sub>
                      <m:sup/>
                      <m:e>
                        <m:nary>
                          <m:naryPr>
                            <m:chr m:val="∏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σ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i</m:t>
                                    </m:r>
                                  </m:e>
                                </m:d>
                              </m:sub>
                            </m:sSub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" name="Object 6"/>
              <p:cNvSpPr txBox="1"/>
              <p:nvPr/>
            </p:nvSpPr>
            <p:spPr>
              <a:xfrm>
                <a:off x="4549680" y="2579760"/>
                <a:ext cx="532080" cy="79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m</m:t>
                              </m:r>
                            </m:e>
                          </m:mr>
                          <m:mr>
                            <m:e>
                              <m:r>
                                <m:t xml:space="preserve">n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" name="Object 6"/>
              <p:cNvSpPr txBox="1"/>
              <p:nvPr/>
            </p:nvSpPr>
            <p:spPr>
              <a:xfrm>
                <a:off x="4268880" y="3909960"/>
                <a:ext cx="457020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r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outcome</m:t>
                        </m:r>
                        <m:r>
                          <m:t xml:space="preserve"> </m:t>
                        </m:r>
                        <m:r>
                          <m:t xml:space="preserve">S</m:t>
                        </m:r>
                      </m:e>
                    </m:d>
                    <m:r>
                      <m:t xml:space="preserve">=</m:t>
                    </m:r>
                    <m:sSup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er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79" name="Subtitle 4"/>
          <p:cNvSpPr/>
          <p:nvPr/>
        </p:nvSpPr>
        <p:spPr>
          <a:xfrm>
            <a:off x="358920" y="4844880"/>
            <a:ext cx="1295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Subtitle 4"/>
          <p:cNvSpPr/>
          <p:nvPr/>
        </p:nvSpPr>
        <p:spPr>
          <a:xfrm>
            <a:off x="357120" y="5837400"/>
            <a:ext cx="3735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is the matrix perma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Group 5"/>
          <p:cNvGrpSpPr/>
          <p:nvPr/>
        </p:nvGrpSpPr>
        <p:grpSpPr>
          <a:xfrm>
            <a:off x="6210360" y="4488840"/>
            <a:ext cx="2628720" cy="1330920"/>
            <a:chOff x="6210360" y="4488840"/>
            <a:chExt cx="2628720" cy="1330920"/>
          </a:xfrm>
        </p:grpSpPr>
        <p:sp>
          <p:nvSpPr>
            <p:cNvPr id="82" name="Subtitle 4"/>
            <p:cNvSpPr/>
            <p:nvPr/>
          </p:nvSpPr>
          <p:spPr>
            <a:xfrm>
              <a:off x="6210360" y="4968720"/>
              <a:ext cx="2628720" cy="851040"/>
            </a:xfrm>
            <a:prstGeom prst="rect">
              <a:avLst/>
            </a:prstGeom>
            <a:solidFill>
              <a:srgbClr val="ffffb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</a:t>
              </a:r>
              <a:r>
                <a:rPr b="0" lang="en-US" sz="24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n submatrix of A corresponding to 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3" name="Straight Arrow Connector 4"/>
            <p:cNvCxnSpPr/>
            <p:nvPr/>
          </p:nvCxnSpPr>
          <p:spPr>
            <a:xfrm flipV="1">
              <a:off x="8130600" y="4488840"/>
              <a:ext cx="76680" cy="479880"/>
            </a:xfrm>
            <a:prstGeom prst="straightConnector1">
              <a:avLst/>
            </a:prstGeom>
            <a:ln w="25560">
              <a:solidFill>
                <a:srgbClr val="ff0000"/>
              </a:solidFill>
              <a:miter/>
              <a:tailEnd len="lg" type="arrow" w="lg"/>
            </a:ln>
          </p:spPr>
        </p:cxnSp>
      </p:grpSp>
      <p:sp>
        <p:nvSpPr>
          <p:cNvPr id="84" name="Subtitle 4"/>
          <p:cNvSpPr/>
          <p:nvPr/>
        </p:nvSpPr>
        <p:spPr>
          <a:xfrm>
            <a:off x="4268880" y="5943600"/>
            <a:ext cx="4570200" cy="798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For simplicity, I’m ignoring outputs with ≥2 photons per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2"/>
          <p:cNvSpPr/>
          <p:nvPr/>
        </p:nvSpPr>
        <p:spPr>
          <a:xfrm>
            <a:off x="380880" y="152280"/>
            <a:ext cx="8382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ubtitle 4"/>
          <p:cNvSpPr/>
          <p:nvPr/>
        </p:nvSpPr>
        <p:spPr>
          <a:xfrm>
            <a:off x="380880" y="92232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For Hong-Ou-Mandel experiment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" name="Object 9"/>
              <p:cNvSpPr txBox="1"/>
              <p:nvPr/>
            </p:nvSpPr>
            <p:spPr>
              <a:xfrm>
                <a:off x="646200" y="1407960"/>
                <a:ext cx="7850160" cy="221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r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output</m:t>
                        </m:r>
                        <m:r>
                          <m:t xml:space="preserve"> </m:t>
                        </m:r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1,1</m:t>
                        </m:r>
                        <m:r>
                          <m:t xml:space="preserve">⟩</m:t>
                        </m:r>
                      </m:e>
                    </m:d>
                    <m:r>
                      <m:t xml:space="preserve">=</m:t>
                    </m:r>
                    <m:sSup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er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m>
                                  <m:mr>
                                    <m:e>
                                      <m:f>
                                        <m:num>
                                          <m:r>
                                            <m:t xml:space="preserve">1</m:t>
                                          </m:r>
                                        </m:num>
                                        <m:den>
                                          <m:rad>
                                            <m:radPr>
                                              <m:degHide m:val="1"/>
                                            </m:radPr>
                                            <m:deg/>
                                            <m:e>
                                              <m:r>
                                                <m:t xml:space="preserve">2</m:t>
                                              </m:r>
                                            </m:e>
                                          </m:rad>
                                        </m:den>
                                      </m:f>
                                    </m:e>
                                    <m:e>
                                      <m:f>
                                        <m:num>
                                          <m:r>
                                            <m:t xml:space="preserve">1</m:t>
                                          </m:r>
                                        </m:num>
                                        <m:den>
                                          <m:rad>
                                            <m:radPr>
                                              <m:degHide m:val="1"/>
                                            </m:radPr>
                                            <m:deg/>
                                            <m:e>
                                              <m:r>
                                                <m:t xml:space="preserve">2</m:t>
                                              </m:r>
                                            </m:e>
                                          </m:rad>
                                        </m:den>
                                      </m:f>
                                    </m:e>
                                  </m:mr>
                                  <m:mr>
                                    <m:e>
                                      <m:f>
                                        <m:num>
                                          <m:r>
                                            <m:t xml:space="preserve">1</m:t>
                                          </m:r>
                                        </m:num>
                                        <m:den>
                                          <m:rad>
                                            <m:radPr>
                                              <m:degHide m:val="1"/>
                                            </m:radPr>
                                            <m:deg/>
                                            <m:e>
                                              <m:r>
                                                <m:t xml:space="preserve">2</m:t>
                                              </m:r>
                                            </m:e>
                                          </m:rad>
                                        </m:den>
                                      </m:f>
                                    </m:e>
                                    <m:e>
                                      <m:r>
                                        <m:t xml:space="preserve">−</m:t>
                                      </m:r>
                                      <m:f>
                                        <m:num>
                                          <m:r>
                                            <m:t xml:space="preserve">1</m:t>
                                          </m:r>
                                        </m:num>
                                        <m:den>
                                          <m:rad>
                                            <m:radPr>
                                              <m:degHide m:val="1"/>
                                            </m:radPr>
                                            <m:deg/>
                                            <m:e>
                                              <m:r>
                                                <m:t xml:space="preserve">2</m:t>
                                              </m:r>
                                            </m:e>
                                          </m:rad>
                                        </m:den>
                                      </m:f>
                                    </m:e>
                                  </m:mr>
                                </m:m>
                              </m:e>
                            </m:d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8" name="Subtitle 4"/>
          <p:cNvSpPr/>
          <p:nvPr/>
        </p:nvSpPr>
        <p:spPr>
          <a:xfrm>
            <a:off x="380880" y="403848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In general, an n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n complex permanent is a sum of n! terms, almost all of which canc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How hard is it to estimate the “tiny residue” left ov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Calibri"/>
              </a:rPr>
              <a:t>Answer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en-US" sz="2800" spc="-1" strike="noStrike">
                <a:solidFill>
                  <a:srgbClr val="990099"/>
                </a:solidFill>
                <a:latin typeface="Calibri"/>
                <a:ea typeface="Calibri"/>
              </a:rPr>
              <a:t>#P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-complete, even for constant-factor appro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lang="en-US" sz="2400" spc="-1" strike="noStrike">
                <a:solidFill>
                  <a:srgbClr val="008000"/>
                </a:solidFill>
                <a:latin typeface="Calibri"/>
                <a:ea typeface="Calibri"/>
              </a:rPr>
              <a:t>(Contrast with nonnegative permanents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2"/>
          <p:cNvSpPr/>
          <p:nvPr/>
        </p:nvSpPr>
        <p:spPr>
          <a:xfrm>
            <a:off x="380880" y="152280"/>
            <a:ext cx="83822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So, Can We Use Quantum Optics to Solve a </a:t>
            </a:r>
            <a:r>
              <a:rPr b="1" lang="en-US" sz="4400" spc="-1" strike="noStrike">
                <a:solidFill>
                  <a:srgbClr val="990099"/>
                </a:solidFill>
                <a:latin typeface="Calibri"/>
                <a:ea typeface="Arial"/>
              </a:rPr>
              <a:t>#P</a:t>
            </a: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-Complete Problem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ubtitle 4"/>
          <p:cNvSpPr/>
          <p:nvPr/>
        </p:nvSpPr>
        <p:spPr>
          <a:xfrm>
            <a:off x="838080" y="2798640"/>
            <a:ext cx="7239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Calibri"/>
              </a:rPr>
              <a:t>Explanation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If X is sub-unitary, then |Per(X)|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will usually be exponentially small.  So to get a reasonable estimate of |Per(X)|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for a given X, we’d generally need to repeat the optical experiment exponentially many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Subtitle 4"/>
          <p:cNvSpPr/>
          <p:nvPr/>
        </p:nvSpPr>
        <p:spPr>
          <a:xfrm>
            <a:off x="533520" y="1828800"/>
            <a:ext cx="807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That sounds way too good to be true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12" descr="flyingpig"/>
          <p:cNvPicPr/>
          <p:nvPr/>
        </p:nvPicPr>
        <p:blipFill>
          <a:blip r:embed="rId1"/>
          <a:stretch/>
        </p:blipFill>
        <p:spPr>
          <a:xfrm>
            <a:off x="3886200" y="5829480"/>
            <a:ext cx="1314360" cy="102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0 L 0.00312 -0.60278 E">
                                      <p:cBhvr>
                                        <p:cTn id="139" dur="3000" fill="hold"/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0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1" dur="3000" fill="hold"/>
                                        <p:tgtEl>
                                          <p:spTgt spid="92"/>
                                        </p:tgtEl>
                                      </p:cBhvr>
                                      <p:to x="500000" y="5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Subtitle 4"/>
          <p:cNvSpPr/>
          <p:nvPr/>
        </p:nvSpPr>
        <p:spPr>
          <a:xfrm>
            <a:off x="457200" y="304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Calibri"/>
              </a:rPr>
              <a:t>Better idea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Given A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C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as input, let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BosonSampling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be the problem of merely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sampling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from the same distribution 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that the beamsplitter network samples from—the one defined by Pr[S]=|Per(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)|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ubtitle 4"/>
          <p:cNvSpPr/>
          <p:nvPr/>
        </p:nvSpPr>
        <p:spPr>
          <a:xfrm>
            <a:off x="457200" y="220968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Calibri"/>
              </a:rPr>
              <a:t>Theorem (A.-Arkhipov 2011)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Suppose BosonSampling is solvable in classical polynomial time.  Then </a:t>
            </a:r>
            <a:r>
              <a:rPr b="1" lang="en-US" sz="2800" spc="-1" strike="noStrike">
                <a:solidFill>
                  <a:srgbClr val="990099"/>
                </a:solidFill>
                <a:latin typeface="Calibri"/>
                <a:ea typeface="Calibri"/>
              </a:rPr>
              <a:t>P</a:t>
            </a:r>
            <a:r>
              <a:rPr b="1" lang="en-US" sz="2800" spc="-1" strike="noStrike" baseline="30000">
                <a:solidFill>
                  <a:srgbClr val="990099"/>
                </a:solidFill>
                <a:latin typeface="Calibri"/>
                <a:ea typeface="Calibri"/>
              </a:rPr>
              <a:t>#P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=</a:t>
            </a:r>
            <a:r>
              <a:rPr b="1" lang="en-US" sz="2800" spc="-1" strike="noStrike">
                <a:solidFill>
                  <a:srgbClr val="990099"/>
                </a:solidFill>
                <a:latin typeface="Calibri"/>
                <a:ea typeface="Calibri"/>
              </a:rPr>
              <a:t>BPP</a:t>
            </a:r>
            <a:r>
              <a:rPr b="1" lang="en-US" sz="2800" spc="-1" strike="noStrike" baseline="30000">
                <a:solidFill>
                  <a:srgbClr val="990099"/>
                </a:solidFill>
                <a:latin typeface="Calibri"/>
                <a:ea typeface="Calibri"/>
              </a:rPr>
              <a:t>N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ubtitle 4"/>
          <p:cNvSpPr/>
          <p:nvPr/>
        </p:nvSpPr>
        <p:spPr>
          <a:xfrm>
            <a:off x="425520" y="320040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Calibri"/>
              </a:rPr>
              <a:t>Better Theorem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Suppose we can sample 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even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approximatel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in classical polynomial time.  Then in </a:t>
            </a:r>
            <a:r>
              <a:rPr b="1" lang="en-US" sz="2800" spc="-1" strike="noStrike">
                <a:solidFill>
                  <a:srgbClr val="990099"/>
                </a:solidFill>
                <a:latin typeface="Calibri"/>
                <a:ea typeface="Calibri"/>
              </a:rPr>
              <a:t>BPP</a:t>
            </a:r>
            <a:r>
              <a:rPr b="1" lang="en-US" sz="2800" spc="-1" strike="noStrike" baseline="30000">
                <a:solidFill>
                  <a:srgbClr val="990099"/>
                </a:solidFill>
                <a:latin typeface="Calibri"/>
                <a:ea typeface="Calibri"/>
              </a:rPr>
              <a:t>NP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, it’s possible to estimate Per(X), with high probability over a Gaussian random matri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Object 6"/>
              <p:cNvSpPr txBox="1"/>
              <p:nvPr/>
            </p:nvSpPr>
            <p:spPr>
              <a:xfrm>
                <a:off x="6770520" y="4394160"/>
                <a:ext cx="218772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~</m:t>
                    </m:r>
                    <m:r>
                      <m:t xml:space="preserve">Ν</m:t>
                    </m:r>
                    <m:sSub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,1</m:t>
                            </m:r>
                          </m:e>
                        </m:d>
                      </m:e>
                      <m:sub>
                        <m:r>
                          <m:t xml:space="preserve">C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×</m:t>
                        </m:r>
                        <m:r>
                          <m:t xml:space="preserve">n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97" name="Subtitle 4"/>
          <p:cNvSpPr/>
          <p:nvPr/>
        </p:nvSpPr>
        <p:spPr>
          <a:xfrm>
            <a:off x="800280" y="2971800"/>
            <a:ext cx="7772400" cy="137160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Calibri"/>
              </a:rPr>
              <a:t>Upshot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Compared to (say) Shor’s factoring algorithm, we get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different/stronge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evidence that a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weake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system can do something classically h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ubtitle 4"/>
          <p:cNvSpPr/>
          <p:nvPr/>
        </p:nvSpPr>
        <p:spPr>
          <a:xfrm>
            <a:off x="1095480" y="4952880"/>
            <a:ext cx="7159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8000"/>
                </a:solidFill>
                <a:latin typeface="Calibri"/>
                <a:ea typeface="Calibri"/>
              </a:rPr>
              <a:t>We conjecture that the above problem is already </a:t>
            </a:r>
            <a:r>
              <a:rPr b="1" lang="en-US" sz="2700" spc="-1" strike="noStrike">
                <a:solidFill>
                  <a:srgbClr val="990099"/>
                </a:solidFill>
                <a:latin typeface="Calibri"/>
                <a:ea typeface="Calibri"/>
              </a:rPr>
              <a:t>#P</a:t>
            </a:r>
            <a:r>
              <a:rPr b="0" lang="en-US" sz="2700" spc="-1" strike="noStrike">
                <a:solidFill>
                  <a:srgbClr val="008000"/>
                </a:solidFill>
                <a:latin typeface="Calibri"/>
                <a:ea typeface="Calibri"/>
              </a:rPr>
              <a:t>-complete.  If it is, then a fast classical algorithm for </a:t>
            </a:r>
            <a:r>
              <a:rPr b="0" i="1" lang="en-US" sz="2700" spc="-1" strike="noStrike">
                <a:solidFill>
                  <a:srgbClr val="008000"/>
                </a:solidFill>
                <a:latin typeface="Calibri"/>
                <a:ea typeface="Calibri"/>
              </a:rPr>
              <a:t>approximate</a:t>
            </a:r>
            <a:r>
              <a:rPr b="0" lang="en-US" sz="2700" spc="-1" strike="noStrike">
                <a:solidFill>
                  <a:srgbClr val="008000"/>
                </a:solidFill>
                <a:latin typeface="Calibri"/>
                <a:ea typeface="Calibri"/>
              </a:rPr>
              <a:t> BosonSampling would already have the consequence that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en-US" sz="2700" spc="-1" strike="noStrike">
                <a:solidFill>
                  <a:srgbClr val="990099"/>
                </a:solidFill>
                <a:latin typeface="Calibri"/>
                <a:ea typeface="Calibri"/>
              </a:rPr>
              <a:t>P</a:t>
            </a:r>
            <a:r>
              <a:rPr b="1" lang="en-US" sz="2700" spc="-1" strike="noStrike" baseline="30000">
                <a:solidFill>
                  <a:srgbClr val="990099"/>
                </a:solidFill>
                <a:latin typeface="Calibri"/>
                <a:ea typeface="Calibri"/>
              </a:rPr>
              <a:t>#P</a:t>
            </a:r>
            <a:r>
              <a:rPr b="0" lang="en-US" sz="2700" spc="-1" strike="noStrike">
                <a:solidFill>
                  <a:srgbClr val="008000"/>
                </a:solidFill>
                <a:latin typeface="Calibri"/>
                <a:ea typeface="Calibri"/>
              </a:rPr>
              <a:t>=</a:t>
            </a:r>
            <a:r>
              <a:rPr b="1" lang="en-US" sz="2700" spc="-1" strike="noStrike">
                <a:solidFill>
                  <a:srgbClr val="990099"/>
                </a:solidFill>
                <a:latin typeface="Calibri"/>
                <a:ea typeface="Calibri"/>
              </a:rPr>
              <a:t>BPP</a:t>
            </a:r>
            <a:r>
              <a:rPr b="1" lang="en-US" sz="2700" spc="-1" strike="noStrike" baseline="30000">
                <a:solidFill>
                  <a:srgbClr val="990099"/>
                </a:solidFill>
                <a:latin typeface="Calibri"/>
                <a:ea typeface="Calibri"/>
              </a:rPr>
              <a:t>NP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3"/>
          <p:cNvSpPr/>
          <p:nvPr/>
        </p:nvSpPr>
        <p:spPr>
          <a:xfrm>
            <a:off x="289080" y="1130400"/>
            <a:ext cx="8153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Valiant 2001, Terhal-DiVincenzo 2002, “folklore”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A QC built of noninteracting fermions can be efficiently simulated by a classical compu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2"/>
          <p:cNvSpPr/>
          <p:nvPr/>
        </p:nvSpPr>
        <p:spPr>
          <a:xfrm>
            <a:off x="228600" y="228600"/>
            <a:ext cx="861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Related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289080" y="265428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Knill, Laflamme, Milburn 2001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Noninteracting bosons plus </a:t>
            </a:r>
            <a:r>
              <a:rPr b="1" lang="en-US" sz="2800" spc="-1" strike="noStrike">
                <a:solidFill>
                  <a:srgbClr val="008000"/>
                </a:solidFill>
                <a:latin typeface="Calibri"/>
                <a:ea typeface="Arial"/>
              </a:rPr>
              <a:t>adaptive measurements</a:t>
            </a:r>
            <a:r>
              <a:rPr b="0" lang="en-US" sz="2800" spc="-1" strike="noStrike">
                <a:solidFill>
                  <a:srgbClr val="008000"/>
                </a:solidFill>
                <a:latin typeface="Calibri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yield universal Q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3"/>
          <p:cNvSpPr/>
          <p:nvPr/>
        </p:nvSpPr>
        <p:spPr>
          <a:xfrm>
            <a:off x="299880" y="3743280"/>
            <a:ext cx="8415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Jerrum-Sinclair-Vigoda 2001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Fast classical randomized algorithm to approximate Per(A) for </a:t>
            </a:r>
            <a:r>
              <a:rPr b="1" lang="en-US" sz="2800" spc="-1" strike="noStrike">
                <a:solidFill>
                  <a:srgbClr val="008000"/>
                </a:solidFill>
                <a:latin typeface="Calibri"/>
                <a:ea typeface="Arial"/>
              </a:rPr>
              <a:t>nonnegativ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299880" y="4863960"/>
            <a:ext cx="8415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Gurvits 2002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Fast classical randomized algorithm to approximate n-photon amplitudes to ±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additive 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9T20:46:23Z</dcterms:created>
  <dc:creator>Scott Aaronson</dc:creator>
  <dc:description/>
  <dc:language>en-US</dc:language>
  <cp:lastModifiedBy>Scott</cp:lastModifiedBy>
  <dcterms:modified xsi:type="dcterms:W3CDTF">2014-02-21T17:20:38Z</dcterms:modified>
  <cp:revision>1609</cp:revision>
  <dc:subject/>
  <dc:title>The Learnability of Quantum States</dc:title>
</cp:coreProperties>
</file>