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C158-70EA-40B5-9152-0619B5E2D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7F9D-3504-48A2-A7FF-25EF6A34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6E3-A1DC-4E95-A0B4-C595A462B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7CD9-8C26-4CAC-A076-17F420BE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86F-60D1-41E4-98B7-D5A05158C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AC25-A9CA-4DBA-BEBB-92DA1BC21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1973-DE7C-4BBC-A7B0-E248339E6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857C-AA90-4A93-8932-13373110C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3F6E-5532-4B20-AC76-24196F44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96E8-550D-4CA8-8E7C-E5B74B143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EB36-F566-4AE0-91DF-53B441A3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0823-D08E-4198-912F-7D35B9C526C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E837-75F2-494C-9C77-86856789A60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3A2B-B65E-4261-9DEC-634F56FC5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A382-80A4-4175-9855-11490963C02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D8D-4D22-4BCB-95A3-0496DA79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36E-7F27-4854-88EA-F59E3694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AF6-3727-452E-88B5-3D00E248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980-C5AA-4287-8A2C-8343369F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A96-1DA8-4354-BC01-3937CB34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403-D230-43C1-A762-4A6F270D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AF0-A38C-4218-AF0D-DBAFCF0D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20B-6D6A-4435-B0B9-96F7DDB9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7F1-8526-4901-8070-6276C66B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7A0-6E95-4382-BB36-889FE95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0BD-6AB2-42DB-9E94-184A57AC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00F-59FD-4C88-BC03-89A77B9D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121-CA77-4DF7-9C02-C81C10A6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44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Shadow Tomography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532296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TOC, Los Angeles, June 26,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2909010000[1]"/>
          <p:cNvPicPr/>
          <p:nvPr/>
        </p:nvPicPr>
        <p:blipFill>
          <a:blip r:embed="rId1"/>
          <a:stretch/>
        </p:blipFill>
        <p:spPr>
          <a:xfrm>
            <a:off x="3886200" y="213372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3581280" y="1905120"/>
            <a:ext cx="1981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28600" y="111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The proof combines several ingredients.  The first is a “postselected learning theorem” (A.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00"/>
          <p:cNvSpPr/>
          <p:nvPr/>
        </p:nvSpPr>
        <p:spPr>
          <a:xfrm>
            <a:off x="228600" y="2982960"/>
            <a:ext cx="876312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ctually an amplified versio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with respect to its behavior on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loud Callout 5"/>
          <p:cNvSpPr/>
          <p:nvPr/>
        </p:nvSpPr>
        <p:spPr>
          <a:xfrm>
            <a:off x="5410080" y="107784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2819520" y="1230480"/>
            <a:ext cx="1676160" cy="1653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2"/>
          <p:cNvSpPr/>
          <p:nvPr/>
        </p:nvSpPr>
        <p:spPr>
          <a:xfrm>
            <a:off x="6019920" y="107784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52280" y="1001880"/>
            <a:ext cx="1562400" cy="16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1"/>
          <p:cNvGraphicFramePr/>
          <p:nvPr/>
        </p:nvGraphicFramePr>
        <p:xfrm>
          <a:off x="5410080" y="4354560"/>
          <a:ext cx="230976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354560"/>
                    <a:ext cx="2309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11"/>
          <p:cNvSpPr/>
          <p:nvPr/>
        </p:nvSpPr>
        <p:spPr>
          <a:xfrm>
            <a:off x="762120" y="1365120"/>
            <a:ext cx="7543800" cy="25070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Key poin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boosting / multiplicative weights type reasons, this process must converge after T = O(log D*) iterations, at some sta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behaves lik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even if it’s far from 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 in trace dista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19040" y="4495680"/>
            <a:ext cx="8229600" cy="1732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iously used to prove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o do online learning of quantum states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A. et al. 20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80880" y="2832120"/>
            <a:ext cx="845820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, or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can decide which, with high probability, given only O((log M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28600" y="304920"/>
            <a:ext cx="876312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las, postselected learning doesn’t suffice by itself for shadow tomography, because it gives us no idea how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the informative measurements E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Calibri"/>
                <a:ea typeface="Calibri"/>
              </a:rPr>
              <a:t>i(1)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,E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Calibri"/>
                <a:ea typeface="Calibri"/>
              </a:rPr>
              <a:t>i(2)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,….  So we need to combine with another result called the…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O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38040" y="365040"/>
            <a:ext cx="830592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A. 2006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imed a proof of the Quantum OR Bound, based on just applying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in a random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rrow-Lin-Montanaro, SODA’201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iscovered an error in my proof—but also fixed it!  Using a procedure that involves preparing a control qubit in the |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tate, applying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conditional on the control qubit being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repeatedly measuring the control qubit to see whether it’s decoh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remains open whether my original, simpler procedure is also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ing binary search, can boost the OR Bound 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“gentle search procedure,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hich actual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.h.p. using O(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338040" y="487692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[A.-Rothblum, not yet published]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Using a brand-new connection between gentle measurement and differential privacy (!), we can improve the dependence on log M, while also making shadow tomography “onl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93760" y="9684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True Sample Complexity of Shadow Tomogra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2680" y="274320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s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ound I could prove (which holds even in the classical ca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1"/>
          <p:cNvGraphicFramePr/>
          <p:nvPr/>
        </p:nvGraphicFramePr>
        <p:xfrm>
          <a:off x="2840040" y="1353960"/>
          <a:ext cx="31590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040" y="1353960"/>
                    <a:ext cx="31590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2819520" y="3429000"/>
          <a:ext cx="19159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29000"/>
                    <a:ext cx="1915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3"/>
          <p:cNvSpPr/>
          <p:nvPr/>
        </p:nvSpPr>
        <p:spPr>
          <a:xfrm>
            <a:off x="5486400" y="3429000"/>
            <a:ext cx="2743200" cy="1281960"/>
          </a:xfrm>
          <a:prstGeom prst="rect">
            <a:avLst/>
          </a:prstGeom>
          <a:solidFill>
            <a:srgbClr val="ffffb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pen whethe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ependence on D is nee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316080" y="1011240"/>
            <a:ext cx="846756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ur procedure uses Õ(L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log log 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where L is the circuit complexity of implementing a singl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andã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et al. 201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y combining our ideas with recent SDP algorithms, achieve shadow tomography with poly(log M, log D) copies and Õ(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writing the input takes ~M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s, and output takes ~M bits, unless we use implici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“hyper-efficient” shadow tomography is possible (poly(log M, log D) time),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here’s no quantum 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can we do it in special c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Computation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 Cost of Shadow Tomograp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30492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Calibri"/>
                <a:ea typeface="Calibri"/>
              </a:rPr>
              <a:t>Measurements in QM are Destructi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28600" y="5156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destructiveness opens cryptographic possibilities, like quantum key distribution and quantum money—but it’s also a huge practical limi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Text Box 3"/>
          <p:cNvSpPr/>
          <p:nvPr/>
        </p:nvSpPr>
        <p:spPr>
          <a:xfrm>
            <a:off x="326880" y="1295280"/>
            <a:ext cx="45100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ne qubit has 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163520" y="247680"/>
            <a:ext cx="6993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re’s a lot to be destroyed!  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69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73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78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84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88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0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Interlude: Mixed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00"/>
          <p:cNvSpPr/>
          <p:nvPr/>
        </p:nvSpPr>
        <p:spPr>
          <a:xfrm>
            <a:off x="228600" y="2590920"/>
            <a:ext cx="87631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ositive semidefinite matrix with T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general kind of state in QM: encodes (everything measurable about) a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yes-or-no measurement can be represented by a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sd matrix E with all eigenvalues in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asurement “accep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nd “rejec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1-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"/>
              <p:cNvSpPr txBox="1"/>
              <p:nvPr/>
            </p:nvSpPr>
            <p:spPr>
              <a:xfrm>
                <a:off x="2057400" y="1066680"/>
                <a:ext cx="49197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D-dimensional quantum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perimental Recor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ong et al. (2017), 10 qubits, millions of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hadow Tomograph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43080" y="1066680"/>
            <a:ext cx="845820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known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imate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ith (sa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3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we measure?  Clearly Õ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suffice, and also Õ(M) copies.  But what about poly(log D, log 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in Resul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1"/>
          <p:cNvGraphicFramePr/>
          <p:nvPr/>
        </p:nvGraphicFramePr>
        <p:xfrm>
          <a:off x="2286000" y="4970520"/>
          <a:ext cx="31608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970520"/>
                    <a:ext cx="31608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Box 3"/>
          <p:cNvSpPr/>
          <p:nvPr/>
        </p:nvSpPr>
        <p:spPr>
          <a:xfrm>
            <a:off x="1600200" y="62485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Doesn’t this violate Holevo’s Theorem?  Nop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96720" y="2590920"/>
            <a:ext cx="84582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schem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mon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with small secret) 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software copy prot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require computa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language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romise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the advice state are enough to reconstruct the whole truth table on n-bit inputs … even without knowing the promise!  (Can also phrase in terms of quantum 1-way communication protoc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ny experimental us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04920" y="990720"/>
            <a:ext cx="8550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fixed polynomial p, by measurin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lear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behavior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ing/rejecting circui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n)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3124080" y="1365120"/>
            <a:ext cx="556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11920" y="38185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 flipV="1">
            <a:off x="511560" y="150192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V="1">
            <a:off x="511560" y="141156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lude: 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Winter 1999, A. 2004, Wilde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43080" y="4673520"/>
            <a:ext cx="8420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over, we can apply M such measurements in succession, and they’ll all accept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2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ten combined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measure k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ake a majority to push down error by 1/exp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Why Doesn’t Gentle Measurement Immediately Solve the Problem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53880" y="1828800"/>
            <a:ext cx="845820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mise g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sion of shadow tomogra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al number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mised that for each i, eithe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decide which for every i using only O(log M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76200" y="4419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re’s no promise, we can never rule out that we’re on the knife-edge between acceptance and rejection—in which case,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376200" y="6032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in contribution is to solv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8-06-27T04:34:03Z</dcterms:modified>
  <cp:revision>142</cp:revision>
  <dc:subject/>
  <dc:title>The Learnability of Quantum States</dc:title>
</cp:coreProperties>
</file>