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8E72-9079-4FA2-B0FC-D01C24BDA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2CD2-FC9A-4B0B-9366-FE33F15A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E511-4ACD-4D94-AABF-DD02C7D4F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B778-CB4B-413A-8B16-BC014DE5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20FC-CE80-4E73-AC95-0C75413FD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91F9-D47B-4BEF-8CD8-7D3C2CCA2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937-3849-44BA-86F0-56344DD0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90A2-9364-4732-B235-AA0CFA04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95C4-2299-475C-98A4-CF04802F6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E9DE-5715-4993-A52F-D9EB3E499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33C4-3C0D-405D-AA32-C130AD6FB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A0A9-0101-4661-830F-FFCEB541CEA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2700-2A6E-41A6-A65D-0658A6BCC5D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C73C-0F3E-404F-95CA-15628CC8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3E53-A486-438D-99A2-93F97913148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C35-F70B-4F94-9E83-F0E61FAA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2EF-DD84-4973-BAAA-C39258B8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30D-147B-4001-951E-2361ABAE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190-1E22-4D10-A493-6F103348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1CF-84CE-4C60-AC86-CD79C831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6AD-6923-4F68-AE62-2A97DC2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FC9-C438-407E-819A-97F80CFB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6CE-D783-4C5A-8CFA-CA0A29AD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AE3-8FFF-4D5E-89B9-89E15ABD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E62-AB66-4E99-9FF5-751FB78C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3BD-9FCE-493B-AC43-C1265B7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88A-C094-41C6-841B-2E82B02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47C6-E7E4-41DA-903F-76E1EBB5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44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Shadow Tomography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532296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TOC, Los Angeles, June 26,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2909010000[1]"/>
          <p:cNvPicPr/>
          <p:nvPr/>
        </p:nvPicPr>
        <p:blipFill>
          <a:blip r:embed="rId1"/>
          <a:stretch/>
        </p:blipFill>
        <p:spPr>
          <a:xfrm>
            <a:off x="3886200" y="213372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3581280" y="1905120"/>
            <a:ext cx="1981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28600" y="111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The proof combines several ingredients.  The first is a “postselected learning theorem” (A.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00"/>
          <p:cNvSpPr/>
          <p:nvPr/>
        </p:nvSpPr>
        <p:spPr>
          <a:xfrm>
            <a:off x="228600" y="2982960"/>
            <a:ext cx="876312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ctually an amplified versio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with respect to its behavior on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loud Callout 5"/>
          <p:cNvSpPr/>
          <p:nvPr/>
        </p:nvSpPr>
        <p:spPr>
          <a:xfrm>
            <a:off x="5410080" y="107784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2819520" y="1230480"/>
            <a:ext cx="1676160" cy="1653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2"/>
          <p:cNvSpPr/>
          <p:nvPr/>
        </p:nvSpPr>
        <p:spPr>
          <a:xfrm>
            <a:off x="6019920" y="107784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52280" y="1001880"/>
            <a:ext cx="1562400" cy="16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1"/>
          <p:cNvGraphicFramePr/>
          <p:nvPr/>
        </p:nvGraphicFramePr>
        <p:xfrm>
          <a:off x="5410080" y="4354560"/>
          <a:ext cx="230976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354560"/>
                    <a:ext cx="2309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11"/>
          <p:cNvSpPr/>
          <p:nvPr/>
        </p:nvSpPr>
        <p:spPr>
          <a:xfrm>
            <a:off x="762120" y="1365120"/>
            <a:ext cx="7543800" cy="25070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Key poin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boosting / multiplicative weights type reasons, this process must converge after T = O(log D*) iterations, at some sta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behaves lik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even if it’s far from 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 in trace dista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19040" y="4495680"/>
            <a:ext cx="8229600" cy="1732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iously used to prove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o do online learning of quantum states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A. et al. 20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80880" y="2832120"/>
            <a:ext cx="845820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, or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can decide which, with high probability, given only O((log M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28600" y="304920"/>
            <a:ext cx="876312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las, postselected learning doesn’t suffice by itself for shadow tomography, because it gives us no idea how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the informative measurements E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Calibri"/>
                <a:ea typeface="Calibri"/>
              </a:rPr>
              <a:t>i(1)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,E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Calibri"/>
                <a:ea typeface="Calibri"/>
              </a:rPr>
              <a:t>i(2)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,….  So we need to combine with another result called the…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O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38040" y="36504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A. 2006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imed a proof of the Quantum OR Bound, based on just applying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in a random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rrow-Lin-Montanaro, SODA’201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iscovered an error in my proof—but also fixed it!  Using a procedure that involves preparing a control qubit in the |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tate, applying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conditional on the control qubit being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repeatedly measuring the control qubit to see whether it’s decoh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remains open whether my original, simpler procedure is also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ing binary search, can boost the OR Bound 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“gentle search procedure,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hich actual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.h.p. using O(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338040" y="487692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[A.-Rothblum, not yet published]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Using a brand-new connection between gentle measurement and differential privacy (!), we can improve the dependence on log M, while also making shadow tomography “onl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93760" y="9684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True Sample Complexity of Shadow Tomogra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2680" y="274320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s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ound I could prove (which holds even in the classical ca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1"/>
          <p:cNvGraphicFramePr/>
          <p:nvPr/>
        </p:nvGraphicFramePr>
        <p:xfrm>
          <a:off x="2840040" y="1353960"/>
          <a:ext cx="31590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040" y="1353960"/>
                    <a:ext cx="31590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2819520" y="3429000"/>
          <a:ext cx="19159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29000"/>
                    <a:ext cx="1915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3"/>
          <p:cNvSpPr/>
          <p:nvPr/>
        </p:nvSpPr>
        <p:spPr>
          <a:xfrm>
            <a:off x="5486400" y="3429000"/>
            <a:ext cx="2743200" cy="1281960"/>
          </a:xfrm>
          <a:prstGeom prst="rect">
            <a:avLst/>
          </a:prstGeom>
          <a:solidFill>
            <a:srgbClr val="ffffb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pen whethe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ependence on D is nee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316080" y="1011240"/>
            <a:ext cx="846756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ur procedure uses Õ(L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log log 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where L is the circuit complexity of implementing a singl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andã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et al. 201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y combining our ideas with recent SDP algorithms, achieve shadow tomography with poly(log M, log D) copies and Õ(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writing the input takes ~M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s, and output takes ~M bits, unless we use implici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“hyper-efficient” shadow tomography is possible (poly(log M, log D) time),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here’s no quantum 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can we do it in special c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Computation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 Cost of Shadow Tomograp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30492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Calibri"/>
                <a:ea typeface="Calibri"/>
              </a:rPr>
              <a:t>Measurements in QM are Destructi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8600" y="5156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destructiveness opens cryptographic possibilities, like quantum key distribution and quantum money—but it’s also a huge practical limi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 Box 3"/>
          <p:cNvSpPr/>
          <p:nvPr/>
        </p:nvSpPr>
        <p:spPr>
          <a:xfrm>
            <a:off x="326880" y="1295280"/>
            <a:ext cx="45100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ne qubit has 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163520" y="247680"/>
            <a:ext cx="6993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re’s a lot to be destroyed!  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69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73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78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84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88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0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Interlude: Mixed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00"/>
          <p:cNvSpPr/>
          <p:nvPr/>
        </p:nvSpPr>
        <p:spPr>
          <a:xfrm>
            <a:off x="228600" y="2590920"/>
            <a:ext cx="87631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ositive semidefinite matrix with T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general kind of state in QM: encodes (everything measurable about) a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yes-or-no measurement can be represented by a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sd matrix E with all eigenvalues in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asurement “accep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nd “rejec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1-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"/>
              <p:cNvSpPr txBox="1"/>
              <p:nvPr/>
            </p:nvSpPr>
            <p:spPr>
              <a:xfrm>
                <a:off x="2057400" y="1066680"/>
                <a:ext cx="49197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D-dimensional quantum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perimental Recor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ong et al. (2017), 10 qubits, millions of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hadow Tomograph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43080" y="1066680"/>
            <a:ext cx="845820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known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imate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ith (sa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3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we measure?  Clearly Õ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suffice, and also Õ(M) copies.  But what about poly(log D, log 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in Resul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1"/>
          <p:cNvGraphicFramePr/>
          <p:nvPr/>
        </p:nvGraphicFramePr>
        <p:xfrm>
          <a:off x="2286000" y="4970520"/>
          <a:ext cx="31608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970520"/>
                    <a:ext cx="31608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Box 3"/>
          <p:cNvSpPr/>
          <p:nvPr/>
        </p:nvSpPr>
        <p:spPr>
          <a:xfrm>
            <a:off x="1600200" y="62485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Doesn’t this violate Holevo’s Theorem?  Nop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96720" y="2590920"/>
            <a:ext cx="84582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schem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mon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with small secret) 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software copy prot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require computa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language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romise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the advice state are enough to reconstruct the whole truth table on n-bit inputs … even without knowing the promise!  (Can also phrase in terms of quantum 1-way communication protoc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ny experimental us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04920" y="990720"/>
            <a:ext cx="8550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fixed polynomial p, by measurin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lear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behavior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ing/rejecting circui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n)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124080" y="1365120"/>
            <a:ext cx="556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11920" y="38185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V="1">
            <a:off x="511560" y="150192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V="1">
            <a:off x="511560" y="141156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lude: 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Winter 1999, A. 2004, Wilde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43080" y="4673520"/>
            <a:ext cx="8420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over, we can apply M such measurements in succession, and they’ll all accept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2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ten combined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measure k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ake a majority to push down error by 1/exp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Why Doesn’t Gentle Measurement Immediately Solve the Problem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53880" y="1828800"/>
            <a:ext cx="845820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mise g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sion of shadow tomogra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al number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mised that for each i, eithe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decide which for every i using only O(log M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76200" y="4419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re’s no promise, we can never rule out that we’re on the knife-edge between acceptance and rejection—in which case,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376200" y="6032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in contribution is to solv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8-06-27T04:34:03Z</dcterms:modified>
  <cp:revision>142</cp:revision>
  <dc:subject/>
  <dc:title>The Learnability of Quantum States</dc:title>
</cp:coreProperties>
</file>