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6.png" ContentType="image/png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3988-593E-42CC-861C-6A6BFECC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BE7C-1C34-451D-8F79-5F056A303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B9CF-2F1C-4AF9-8CB8-3055129E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455E-3B17-475E-B7DA-E24CB935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7CFD-968E-49F8-8ABC-BEDEF28AD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3C7F-65A2-4C2F-B889-968487CAE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2F5B-3B23-4F6E-BF1E-84FA3673A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7D47-E6B3-4382-832D-6778BE442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E91F-12AA-4711-AFE8-5D9C9DEA8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499C-3D01-4854-8E08-5B7443567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4D2B-B820-4C34-B769-DC233FA9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B834-9307-4FE3-A9FE-7C34045F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E49C-1B62-4282-9C9D-80BB60BC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2675-8098-46CD-8DBD-7A8E4D493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617D-36A1-433F-B179-A4C6FE252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B213-549D-48C8-BBB3-ED38C16C8A0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BF8-C319-4CCA-9D43-558EC2A6778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372-D6BC-4FB6-8A7C-21D1B8C9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7425-B1B6-47EF-A187-D83FE2DCB6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5CBE-E4F9-4735-8B16-F933E98BA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523-8E1B-490B-B1D7-4C337E67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DB9-6526-4CC4-B890-738CEC27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D4891-CC94-4780-9FC1-1378E436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6B871-9AB1-4032-8749-541CEE24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3497B-1F99-4D0D-893B-F6A57613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52E4C-654E-4233-AC51-50C5A595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92EF4-3500-4CF3-8602-9DEEBA0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DC7B4-BC0A-4C8D-BCE7-31B9976E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33F5B-2B29-40E9-9B68-FCB6CD53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863E2-4051-480D-AEC2-5AFE565E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44FC4-28C8-48FD-B4EC-095F3D7D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75C6D-B8BE-419F-8139-9AC43FC9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88A-B916-408E-8868-8FAAFD08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1F0C1-2C11-419B-A94C-084BF720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0AEEC-7484-4789-8DC9-9D87BCE5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196F4-983A-436B-BE48-9F516E53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94F47-82AF-4CFC-AC5C-226E3B10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386D7-3CE6-49BC-8875-741A716B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17D4E-4CCD-4117-939C-450D6883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9228A-A94F-42D7-A3FD-8F532EEF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37E64-0DCF-4F8C-96D4-D858BB67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3F1E1-1E50-45B9-ABD6-9D0C8F85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023F5-F9FC-4AA7-A7B1-2AB6516F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3C4-BE8B-4700-AE6A-F8D4FEB3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3AB00-7E90-4CD0-B59D-E8DEDFD0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354A6-2719-42E8-977D-4A4D7C2E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315D5-9D04-4B65-9272-68701A09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CECCC-7FB6-4C5F-8546-7E28BA82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86A0D-9B07-4030-9589-64BB19E1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3BA7D-8ABF-4891-A620-9A355322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3D5DF-488F-4544-9444-A51AF5C6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D19CD-87ED-46A8-B87E-EE0B205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DCD3C-3FF8-43E4-81E5-884C3F9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4A1D5-FEF1-42A0-A409-201561F6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D554-DDDC-4FB3-91B0-F89E467F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0EC29-0F87-4CCB-A84A-B210F386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CAA1B-2919-468F-BCE1-D39B81B7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6B73D-AB82-4169-B1C1-55CFB705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FF09B-F5EB-4FED-A19A-A6B611C9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22A99-76D8-4D73-B2FB-643F0645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F1859-2A57-4D55-A50D-EAF0122F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9C479-69C6-405A-90A9-58978E2B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B4943-56D7-4DFB-8215-044AF58A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4DD77-4762-46EA-A67A-115D8024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9F1AB-71B2-46C9-AF9D-57DC55C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9330-01CB-4322-A3E6-A56B36AC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9F260-CCCA-4487-99C3-7B6C500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736D9-EC06-4FC7-B997-D1687E0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0EAFB-67F9-45D1-8082-DF81A97A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43FE5-1E18-4288-A85D-3AE72EA5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4F485-5135-4831-ACAE-6A3FB9C6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1981E-4811-41F2-9EF2-97F55488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C21DA-B898-4580-9C04-F6D817DD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858F8-F88B-47D0-A980-CC5E8263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1DFD2-D256-443B-ADCE-222217EC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97AD6-EFF4-4586-B9CA-F06DB8FD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5546-BECB-438B-A5A1-C70920C8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F9EB7-5B81-49DB-8B00-0B43AD36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BD3E9-550C-41B3-925F-C34AA21A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BAC8D-EC84-472A-8D94-338A0EA7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70298-28E3-4746-8254-299273F9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9D6EF-F4DE-4B06-90A5-33D20C1C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D1728-1F0B-4B05-A82B-9CF9F237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78D90-A92F-4886-A46F-77347D41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4835C-67D6-46B1-A843-8BB9327F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47DCD-DFE8-4FDB-B79C-2DA104B4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93AA3-D2CF-46A5-A57A-E2357815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D659-EBC8-4DF4-B43D-B727FDFC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A6FE3-ADF8-4B68-883A-7F94EA8F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D653F-1F00-43AF-BE72-7F1AE82B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80CC5-CEEC-431C-A081-44E55C7B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1BC1C-CCE3-467A-A11F-29125DF0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052FD-8E3F-4B13-87AB-4BA1A180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594C7-DB0D-4418-AD10-1D207CC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5C4C6-0405-4C1D-88D6-ACA27E7F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963C0-374D-47EC-8586-E55A6769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E56BD-CDFF-4B61-B267-46AFBC13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F088C-E4F6-453B-9AEB-758D98E5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4B87-7083-4D36-B8E2-586B8BBB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1F737-9701-4417-90C9-FB411603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63C26-D6F4-4023-BA31-614E2CB0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5E37E-23AE-494E-83A2-274E0E9C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C6F9B-6C58-456A-A224-02EBCF7C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99CD4-50A1-4F7E-ADCE-C3DC1FA2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7A7FC-DA6A-4CB3-A061-76B0EAF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24EFE-E69C-42FC-AEF3-8E4A34B2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008A1-EAD5-42ED-BFEA-4BBED040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096940-52DE-401C-BFD9-DD672550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8CBA4-1702-4DA1-B6DF-A1472FE1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734D-5623-4FB3-AF77-225738E5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3EE46-0650-496E-8BBB-A107B1C8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8FE75-2B10-4713-86EC-65D6B5AB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CC609-6137-4047-AFC9-D676413D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98FCB-E7CC-4F90-8FC5-FEEA5A10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372E6-6E8F-49D8-A41E-2420D901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D2EF9-D80D-4F01-80C5-F4C0E696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84C68-2CD1-4709-A164-42D30670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B5F06-EF69-4B8D-A557-6D859E5A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82570-88F4-489F-8C2E-EFD66539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C6753-DB91-4937-A537-CEC2EFBA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E206-25C2-458D-8C50-47218E3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0ECC4-CDA2-4814-956D-AFC807BE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860CB-2935-43D1-B3DC-B4305319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2394A-458C-4FE6-8C96-B76D0D87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D48F6-97FE-4A6C-90B2-68717BE0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85A1E-5366-449A-A1E7-E74C79DE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7DA0D-544F-4477-AB45-BA9F570D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8E66B-E822-4BD7-9397-2B72B2BA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50C09-E358-4FDB-BD1C-1D2470F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DC0C5-6BA7-4AEE-9F8A-22C91412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AB203-0FA8-4599-8FAE-42D33EF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DED-687C-4744-8867-D9719427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9A8E-C2CA-4C11-BAE4-EE4872B8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68A51-A7E6-474F-A2EA-D30DD3EE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66309-553A-403A-B1E0-13D4F6A9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C2D31-A166-4D3D-878A-F75DD852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14C00-3F02-4889-81D2-F1C12218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F9DD5-83D1-4A14-A47F-6F0F3CDC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388A1-DC8C-4010-96FA-4207938A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34408-A1A9-4A67-8DEA-7F5F56B9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2BF12-0579-4109-833E-3D36912F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1877C-7FD6-406D-A2AB-A7903248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69B37-D5E8-4053-872A-5886EF67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4E14-0D64-4A9C-9B86-829BD054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4ADCA-72BF-44DE-AA54-5CED87A0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8EF4A-7DA8-4F52-B1B2-3106097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DAE432-89D1-4866-899C-79A2986A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81A3A-7959-4389-B40A-D3615D28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A5020-855A-492F-920C-8E0B4298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00640-1576-4991-B44A-9E007ED2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7C3D0-7384-48E0-B51E-93572BF4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F8DD2-9C45-4D1E-B8D9-B33BDFE8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85E5AC-725D-4125-9155-8499BD69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FDA3BD-E9D9-44C6-BE8B-CCD2C40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9F78-51D0-4FE9-98CB-5E1D0949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AE556-A201-4BBA-AE07-93E825C7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9DAC2-4A97-4C0C-BC07-48B925DB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423B1-0A96-4028-8BAF-C1C067D2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A4896-6B55-432D-92C0-01983FD4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D0821-6492-4340-8039-438D5971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AE2CD2-6BEB-4A50-B893-13E71D62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FBED2-BBD2-4B54-8587-17411EE5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180D2A-356B-4FA0-8A5B-8F07A3C2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E4D73-7BCD-4751-BB79-70F3F175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C19B5-9F9C-454F-87DF-9DFF4ED6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54EF-7607-40E3-988A-26E8A1FA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70B46F-3821-4A8B-A886-FC73AE28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351C1-BB79-41B4-9D6A-A947D29A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4606C-81ED-4FBB-A304-A2BF34E2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6CA19D-7D5B-42D8-963F-774E5F29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0083A-4604-4F96-94D5-8E7E6A8A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A2125-6EB9-4E79-8555-7F39114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9CA38-1398-4646-9A7C-42FEC109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FB43C4-1C87-453A-AD44-17F404AB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AEA4E-DB85-45C9-B678-61444267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2B060-C774-4733-9CCD-4A787938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8391-9E8E-4F99-B4EB-81EE832B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D60C6-59C0-4F9D-AD3F-7E04BDC1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32BAB-0396-4F07-AF44-37C16C26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55E1F-573F-4BB5-B521-9FE3A0CA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EB8E23-5986-4067-ACE9-8123EAF5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E23F2-A5B0-468A-BD0B-B6DB1F76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8004D1-2877-4B15-98F2-A2247C5B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8DE29-E030-41D1-AEE1-874B1E5D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3C775-E12A-4C6F-B061-C8213B8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BC91A-9F8C-4DDA-AC12-784389DA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9CC53-68BA-4164-969C-6938B9FE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C45F-A759-41E8-A3CF-0CEF7D08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96FABC-4445-4F93-AEB6-B1BCC561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C5E0BB-3935-4D5E-96DF-32C2D23C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197FA9-592A-479C-B7D8-6A111CC8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9412BE-F0D4-41CC-AB61-86491201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4DC3A-1D72-499D-AD94-67F4F7AE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6F98EF-1E74-4942-8346-607C5B58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3D8056-7EA0-45B8-86A5-FF07735B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F8B77D-905C-4789-8B97-10979E8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32C9C6-A107-4871-A5BF-16B5757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9ECDCC-C440-47A7-AD92-60B33A23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BD3A-7443-4DDA-AC46-E29FB758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8BFBE0-CA51-4721-9EC2-6475CE94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39AA66-3544-4CAD-8D37-7A10E44A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54BF5D-3C6E-4D05-8BB0-8700AD6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2AC1BC-992A-4F8B-BFF6-24001F40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1AB7E9-B35C-49BB-A760-FA3D4A9E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8D51E2-1BDE-4CE4-9B75-025713D8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04E64-7DA5-4B2D-B263-E1EC8EBD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CE0C1D-AF57-409E-8606-53FA99B6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C5BF6D-51B2-4B36-9C5D-AAF920D6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375499-1E1C-4A21-A68C-75B582EE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B051-D7CC-4D10-99A9-67F0F8FC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CF1E6A-4B77-41CB-B9FE-D0ADBE3D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F4FF4F-79E7-4D5E-92B4-06776C19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959E39-14BB-4568-9FAC-15F1A7C6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A5BCF5-148C-404A-BE4F-A9CEF4A1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BCD9FF-A278-44D6-8F87-01C30B1C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577E96-8CF4-4859-B67D-BB89EA21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53719B-EF68-4189-B5E3-6D2AEF07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BA2087-62AA-420C-AE22-733C94F9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24276A-38D7-440C-BD46-56B8F3B0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F29314-3664-4E5C-B0A4-BA6F795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5AD9-F26C-41BC-B6AF-06EC44A4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255096-CE3E-420B-89FD-1161EDB9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562CC6-EF42-49A8-AAB5-D843A33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B542D5-F734-422E-99E4-36A29163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972079-A2E0-4A1E-AE67-7DD27F8C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6C8156-3E9D-4132-ADE1-0D68E674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D46EC0-1331-40BF-A9E5-0AAE8EA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1A3425-98D9-4F4B-B19E-CF25C594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B46A45-4716-42AF-97AF-2222B7FE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D4A2EE-ED4E-4D51-A060-C6598443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96CAD7-E690-4C5D-8A7D-74C741C7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2F51-283C-402E-983F-392ED418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4DC920-6325-457B-9C25-7162FBA2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CD9591-21E5-4894-948D-8E9F81CF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7AF0E7-52DA-4580-8504-D43C8C9B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5E68A4-90D2-4E85-8800-3A844755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0F4605-CE13-4F99-B9BD-EAB46017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BF36BA-3129-4F66-9E0E-B35597C5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AF4C6B-6C14-4CF3-B6D8-BE6BEBD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CF9A0C-B1FD-41B3-9E86-3EB29C6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DECC62-5691-4D22-AD8F-6AC7FF4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2C6D35-B26B-4C68-A5C1-21F68E95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5E5-FD5F-4435-B85A-5D29B4C8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14A92-8539-4844-B513-ED22CE27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4A70A3-931C-4B9C-A4AC-EEF82A0E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4FA1-0123-4DEB-B778-8FDFA702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04AB-A713-4073-8D91-8B31FE9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D537-4271-4974-99F3-A08BB5C3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35CC-17C4-47A2-8D26-CD2B2CB3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F93C-92FE-457E-81B4-F73621E9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391B-03F9-459B-9DB6-6A3D0A41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E5B0-8A8B-492F-BD7D-1306ECBB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5EE7E-9913-470E-BBAA-61DD2B40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92D51-81EA-4F10-9ADB-D8340AC4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AE2-909F-494D-8E46-95290571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B3A0-451B-4415-8407-34EBE706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07D1-6CB3-4022-9A4A-3022C6B1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C67E-65CD-4349-A6CD-1D29D259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0462-DA4F-4169-9025-186982FD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27118-1CDE-4628-9ED3-61406DB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23A4-28E0-458A-92F7-2235FFCC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02C8-4BAC-494C-B0BA-1DB26D2D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AEB92-212A-405C-A596-53C30ECB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FE4C-A713-468D-9710-060CB6AE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952DB-8EF8-4B36-BCBA-A693FCCF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E82-9539-41B2-A8C6-5E6C41C7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B127D-78DD-4F9E-9711-624A34F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79611-EDAE-47D5-930F-0BE51C56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5F734-59F5-4A5E-B69D-B3323EAB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A3DE-E495-4F06-93C0-AB52BAED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59FB6-573F-431C-8438-4FABAE7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0BE89-89A7-4560-8EC6-B3E64153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4984A-8DF0-4F01-8DAF-51B98F2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64F9-064E-4CD2-9196-D8297DD6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8940-23E4-4F31-B89A-14D96533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91E8-731C-48FB-A870-6C0919A8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5FB-F620-4479-8B80-57A223A0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EF757-7466-47BF-8E70-E24C3F9B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6D2C6-054B-47AF-A3C0-1EFF6DDF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3BAB-0F63-4023-BB49-0FE1BA9D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BC29-B53D-4011-BE4E-9EC72F55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D85A9-3FA8-4709-BDC1-70290263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1ECB-7208-410D-86DF-A731DDE0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6F602-4FAA-47D3-BD08-3CFE6FF4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019D2-70AF-48A9-B631-D109452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3373E-6248-446B-8E99-429CF01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5749D-735A-4160-A3FD-5AC34A29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8AF-2799-4D5D-AEEC-274CBE4A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016AA-73B3-4B2C-96B6-89F06FA6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19B1-3A3B-4D35-9A6D-2B4AAA92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83CFF-569D-44B0-AAB3-9BB3BED6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72A9B-3F30-4C53-AE65-767EEDDF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FB745-CEB3-444D-BA80-FDD4AE38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16A3E-B7C9-42C6-94A8-91DA698F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B5E0B-72C2-4217-9EE2-345E5C9A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AFC1-7DAC-48A5-8E43-1682B139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27806-1663-4927-A2A4-22E8C1FA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CEFC0-4753-4FB1-B14F-80CECF62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D93-AD63-4E98-AFE1-A6671167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70C07-F839-41AB-8C5B-B54C0135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B27BE-F429-4320-B991-07B4395B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F3404-0E8D-4EAA-B46E-D3291926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3EEF8-4906-444A-BAFF-F2DD68D0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615B2-409C-4AE0-801B-B70C707E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7C329-B355-4A5B-8E47-3F9B1DF5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0FA17-6A9E-4318-8F14-2DCD7158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1E94E-F058-4C19-96DD-D8DDF81F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6FD4A-7E21-41B3-B78A-207B9624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430BD-B103-4BD8-8E54-F426F420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0AF-7D44-4D9A-A4E0-C86085F8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ED6BE-3D98-4501-B764-DA4A8D5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7CF92-BCB7-428B-9A5B-F11AACDA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DA236-1DAD-41CB-9D0D-246DABF7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F53AC-C155-4CF6-B747-1AF04CF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E2B43-2AA3-4C33-A5B4-8827C2D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DEDDE-2EC7-4DE1-8B04-0C966373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FC1E6-17F3-4E73-B04B-10C00C66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CD9E7-3E5E-4E3C-BD19-698EE356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8EABC-1F68-4132-8E95-EBB3660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FCFF9-3D7B-424E-861B-2DC54674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25A-D0C2-4ABE-A415-134CED3B6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189B-7EA2-45A0-A4C5-08ED6CB149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36E0-D998-4114-B892-B405389B6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60A1-C39A-4153-BDC8-3633A54F4C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BEAF-5AC3-40FF-B1B6-05CADEC40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70BD-8862-4683-81C8-7448D6D149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9A87-91FA-44E3-BEBD-140B016F2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317B-325B-4680-94D9-F0114ABA11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EA62-B1A1-4487-AFA0-5D6A2624A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2F42-01E9-44D0-A4E2-95ED250732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488C-E10E-41F9-B05E-73F803B1F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BE2-DAE7-461E-8859-73F36CC634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29F2-4A9C-46EA-BEA1-7CC7B0171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9B51-0E9A-4C31-A25C-518B2419E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A1B8-7533-41B0-8E01-84C7CBB64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9EBA-6A07-468C-82E5-8E39D4012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25FC-2FB9-416B-9BAF-7A0F8099E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0595-D4FC-4A32-9A32-C470331BCE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894-E94C-4D49-8D14-BCDDE2620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E63E-9596-42F1-B0DC-0781A07CFC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9B90-CE2B-4259-9F5C-9DC716200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C424-88C7-4162-96B7-39BCECAF6C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C77A-E272-49D7-85B0-FB5017F5A8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16C5-81BD-485C-BA6E-F683DA2A92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620-12DB-462A-A6E1-74EE8AF71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283E-6F3D-4D2B-ACF7-06D14F9155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C6DD-6465-4009-9E65-672AA1CC8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1505-5193-4817-B205-E90FDC6A50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24DC-64E8-4588-A82D-4856C6272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C752-656D-48AC-BF6D-21535EAE2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CE86-6184-4F10-8856-23C8DB605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A719-91BF-493E-820C-9893B2B895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D15C-FE40-40A2-90B6-408D21265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E0C3-4757-4449-9B83-1A9B20BBAA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E8E6-4CF6-4E33-9AB4-BE13B5F8D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A19-CF89-444F-8A39-9287CEB7B6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D4D6-9050-4A64-8864-22434660F4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23E5-D4BB-4F72-AD32-C129CA092D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3B84-8A62-4D83-9F6F-F3C96A82B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7256-B438-46E0-A68F-8665C9EB0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8D12-504D-4EDF-863D-7FB9687D1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9D9F-B6B2-4F8A-874F-3839B721A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129-DACC-4C2C-9A28-F3EAA3D52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39E7-434B-4CE1-ADAF-458DF15885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2D99-4E80-47AA-85E9-BD168899F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729C-7B57-432D-9FE7-0AA96A79EE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E6A-B34C-4629-9473-9B6885DFA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EAC8-81F2-44C2-B858-01F3BA56F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41D0-51DE-416F-96BD-E95FF64E4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69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Shadow Tomography of Quantum States: Progress and Prospect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571320" y="503244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BM Informational Lens Worksho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eptember 29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13" descr="Image result for schrodinger's cat"/>
          <p:cNvPicPr/>
          <p:nvPr/>
        </p:nvPicPr>
        <p:blipFill>
          <a:blip r:embed="rId1"/>
          <a:stretch/>
        </p:blipFill>
        <p:spPr>
          <a:xfrm>
            <a:off x="1447920" y="2765520"/>
            <a:ext cx="2641320" cy="1985760"/>
          </a:xfrm>
          <a:prstGeom prst="rect">
            <a:avLst/>
          </a:prstGeom>
          <a:ln w="0">
            <a:noFill/>
          </a:ln>
        </p:spPr>
      </p:pic>
      <p:sp>
        <p:nvSpPr>
          <p:cNvPr id="1035" name="Rectangle 3"/>
          <p:cNvSpPr/>
          <p:nvPr/>
        </p:nvSpPr>
        <p:spPr>
          <a:xfrm>
            <a:off x="4724280" y="371628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Circular Arrow 2"/>
          <p:cNvSpPr/>
          <p:nvPr/>
        </p:nvSpPr>
        <p:spPr>
          <a:xfrm>
            <a:off x="2590920" y="2349360"/>
            <a:ext cx="3962160" cy="3822840"/>
          </a:xfrm>
          <a:custGeom>
            <a:avLst/>
            <a:gdLst/>
            <a:ahLst/>
            <a:rect l="l" t="t" r="r" b="b"/>
            <a:pathLst>
              <a:path w="3962400" h="3822317">
                <a:moveTo>
                  <a:pt x="1012599" y="521125"/>
                </a:moveTo>
                <a:cubicBezTo>
                  <a:pt x="1462465" y="232347"/>
                  <a:pt x="2026604" y="160617"/>
                  <a:pt x="2539294" y="327007"/>
                </a:cubicBezTo>
                <a:cubicBezTo>
                  <a:pt x="3071254" y="499651"/>
                  <a:pt x="3483909" y="907799"/>
                  <a:pt x="3647722" y="1423330"/>
                </a:cubicBezTo>
                <a:lnTo>
                  <a:pt x="3872651" y="1423329"/>
                </a:lnTo>
                <a:lnTo>
                  <a:pt x="3484610" y="1911158"/>
                </a:lnTo>
                <a:lnTo>
                  <a:pt x="2917072" y="1423329"/>
                </a:lnTo>
                <a:lnTo>
                  <a:pt x="3135451" y="1423329"/>
                </a:lnTo>
                <a:cubicBezTo>
                  <a:pt x="2980793" y="1096811"/>
                  <a:pt x="2679360" y="852953"/>
                  <a:pt x="2314026" y="758802"/>
                </a:cubicBezTo>
                <a:cubicBezTo>
                  <a:pt x="1963730" y="668526"/>
                  <a:pt x="1589254" y="724848"/>
                  <a:pt x="1285960" y="913425"/>
                </a:cubicBezTo>
                <a:lnTo>
                  <a:pt x="1012599" y="52112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3"/>
          <p:cNvSpPr/>
          <p:nvPr/>
        </p:nvSpPr>
        <p:spPr>
          <a:xfrm>
            <a:off x="343080" y="3098880"/>
            <a:ext cx="845820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exists an i such that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, or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can decide which, with high probability, given only O((log M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228600" y="189000"/>
            <a:ext cx="8763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las, postselected learning doesn’t suffice by itself for shadow tomography, because it gives us no idea how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the informative measurements E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Calibri"/>
                <a:ea typeface="Calibri"/>
              </a:rPr>
              <a:t>i(1)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,E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Calibri"/>
                <a:ea typeface="Calibri"/>
              </a:rPr>
              <a:t>i(2)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,….  So we need to combine with another result called the…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OR Bound</a:t>
            </a:r>
            <a:br>
              <a:rPr sz="4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Harrow-Lin-Montanaro 2017, fixing A.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3"/>
          <p:cNvSpPr/>
          <p:nvPr/>
        </p:nvSpPr>
        <p:spPr>
          <a:xfrm>
            <a:off x="338040" y="487692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[A.-Rothblum, STOC’2019]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 improved the dependence on log M, and made shadow tomography “online,” using a brand-new connection between gentle measurement and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differential priva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!!) … a story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7"/>
          <p:cNvSpPr/>
          <p:nvPr/>
        </p:nvSpPr>
        <p:spPr>
          <a:xfrm>
            <a:off x="293760" y="9684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True Sample Complexity of Shadow Tomogra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3"/>
          <p:cNvSpPr/>
          <p:nvPr/>
        </p:nvSpPr>
        <p:spPr>
          <a:xfrm>
            <a:off x="382680" y="274320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s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ound I could prove (which holds even in the classical ca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Object 1"/>
          <p:cNvGraphicFramePr/>
          <p:nvPr/>
        </p:nvGraphicFramePr>
        <p:xfrm>
          <a:off x="2840040" y="1353960"/>
          <a:ext cx="31590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040" y="1353960"/>
                    <a:ext cx="31590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Object 6"/>
          <p:cNvGraphicFramePr/>
          <p:nvPr/>
        </p:nvGraphicFramePr>
        <p:xfrm>
          <a:off x="2819520" y="3429000"/>
          <a:ext cx="19159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29000"/>
                    <a:ext cx="1915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Text Box 3"/>
          <p:cNvSpPr/>
          <p:nvPr/>
        </p:nvSpPr>
        <p:spPr>
          <a:xfrm>
            <a:off x="5486400" y="3429000"/>
            <a:ext cx="2743200" cy="1281960"/>
          </a:xfrm>
          <a:prstGeom prst="rect">
            <a:avLst/>
          </a:prstGeom>
          <a:solidFill>
            <a:srgbClr val="ffffb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pen whethe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ependence on D is nee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322200" y="11430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, and every possible measurement outcome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3" name="Object 1"/>
          <p:cNvGraphicFramePr/>
          <p:nvPr/>
        </p:nvGraphicFramePr>
        <p:xfrm>
          <a:off x="3300480" y="281952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0480" y="281952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Text Box 2"/>
          <p:cNvSpPr/>
          <p:nvPr/>
        </p:nvSpPr>
        <p:spPr>
          <a:xfrm>
            <a:off x="366840" y="39625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"/>
          <p:cNvSpPr/>
          <p:nvPr/>
        </p:nvSpPr>
        <p:spPr>
          <a:xfrm>
            <a:off x="220680" y="2774880"/>
            <a:ext cx="285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Post-measurement state if outcome is 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"/>
          <p:cNvSpPr/>
          <p:nvPr/>
        </p:nvSpPr>
        <p:spPr>
          <a:xfrm>
            <a:off x="6434280" y="322884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Trace dist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Straight Arrow Connector 17"/>
          <p:cNvCxnSpPr/>
          <p:nvPr/>
        </p:nvCxnSpPr>
        <p:spPr>
          <a:xfrm flipH="1" flipV="1">
            <a:off x="5509440" y="3491640"/>
            <a:ext cx="98676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  <p:cxnSp>
        <p:nvCxnSpPr>
          <p:cNvPr id="1149" name="Straight Arrow Connector 18"/>
          <p:cNvCxnSpPr/>
          <p:nvPr/>
        </p:nvCxnSpPr>
        <p:spPr>
          <a:xfrm>
            <a:off x="2766600" y="3206520"/>
            <a:ext cx="68652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1151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n unentangled qubits, measuring the number of 1’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"/>
          <p:cNvSpPr/>
          <p:nvPr/>
        </p:nvSpPr>
        <p:spPr>
          <a:xfrm>
            <a:off x="343080" y="4046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fer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asure the number of 1’s plus deliberately-added noise (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. 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1154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5" name="Object 2"/>
          <p:cNvGraphicFramePr/>
          <p:nvPr/>
        </p:nvGraphicFramePr>
        <p:xfrm>
          <a:off x="990720" y="1522440"/>
          <a:ext cx="54514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2440"/>
                    <a:ext cx="54514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Object 3"/>
          <p:cNvGraphicFramePr/>
          <p:nvPr/>
        </p:nvGraphicFramePr>
        <p:xfrm>
          <a:off x="533520" y="5113440"/>
          <a:ext cx="301140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13440"/>
                    <a:ext cx="301140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9" name="Object 8"/>
          <p:cNvGraphicFramePr/>
          <p:nvPr/>
        </p:nvGraphicFramePr>
        <p:xfrm>
          <a:off x="3809880" y="5342040"/>
          <a:ext cx="52340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342040"/>
                    <a:ext cx="5234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Text Box 2"/>
          <p:cNvSpPr/>
          <p:nvPr/>
        </p:nvSpPr>
        <p:spPr>
          <a:xfrm>
            <a:off x="6649920" y="15238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omitting norm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"/>
          <p:cNvSpPr/>
          <p:nvPr/>
        </p:nvSpPr>
        <p:spPr>
          <a:xfrm>
            <a:off x="465120" y="622152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Laplace noi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Group 15"/>
          <p:cNvGrpSpPr/>
          <p:nvPr/>
        </p:nvGrpSpPr>
        <p:grpSpPr>
          <a:xfrm>
            <a:off x="7848720" y="5257440"/>
            <a:ext cx="1076400" cy="1535400"/>
            <a:chOff x="7848720" y="5257440"/>
            <a:chExt cx="1076400" cy="1535400"/>
          </a:xfrm>
        </p:grpSpPr>
        <p:sp>
          <p:nvSpPr>
            <p:cNvPr id="1164" name="Block Arc 1"/>
            <p:cNvSpPr/>
            <p:nvPr/>
          </p:nvSpPr>
          <p:spPr>
            <a:xfrm>
              <a:off x="7848720" y="5649840"/>
              <a:ext cx="1076040" cy="1143000"/>
            </a:xfrm>
            <a:custGeom>
              <a:avLst/>
              <a:gdLst/>
              <a:ahLst/>
              <a:rect l="l" t="t" r="r" b="b"/>
              <a:pathLst>
                <a:path w="1075532" h="1143309">
                  <a:moveTo>
                    <a:pt x="0" y="571655"/>
                  </a:moveTo>
                  <a:cubicBezTo>
                    <a:pt x="0" y="369888"/>
                    <a:pt x="100058" y="183064"/>
                    <a:pt x="263275" y="80077"/>
                  </a:cubicBezTo>
                  <a:cubicBezTo>
                    <a:pt x="439845" y="-31335"/>
                    <a:pt x="660686" y="-26140"/>
                    <a:pt x="832446" y="93467"/>
                  </a:cubicBezTo>
                  <a:cubicBezTo>
                    <a:pt x="990611" y="203607"/>
                    <a:pt x="1082742" y="393953"/>
                    <a:pt x="1075092" y="594784"/>
                  </a:cubicBezTo>
                  <a:lnTo>
                    <a:pt x="1009899" y="591977"/>
                  </a:lnTo>
                  <a:cubicBezTo>
                    <a:pt x="1016539" y="414802"/>
                    <a:pt x="936227" y="246811"/>
                    <a:pt x="798168" y="149092"/>
                  </a:cubicBezTo>
                  <a:cubicBezTo>
                    <a:pt x="646578" y="41795"/>
                    <a:pt x="451013" y="37140"/>
                    <a:pt x="295128" y="137119"/>
                  </a:cubicBezTo>
                  <a:cubicBezTo>
                    <a:pt x="152540" y="228569"/>
                    <a:pt x="65254" y="393567"/>
                    <a:pt x="65254" y="571655"/>
                  </a:cubicBezTo>
                  <a:lnTo>
                    <a:pt x="0" y="571655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5" name="Straight Arrow Connector 13"/>
            <p:cNvCxnSpPr/>
            <p:nvPr/>
          </p:nvCxnSpPr>
          <p:spPr>
            <a:xfrm flipV="1">
              <a:off x="8386920" y="5257440"/>
              <a:ext cx="538560" cy="8848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 In One Slide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CS theory applied to the social world—i.e., as far as you could possibly get from the subatomic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"/>
          <p:cNvSpPr/>
          <p:nvPr/>
        </p:nvSpPr>
        <p:spPr>
          <a:xfrm>
            <a:off x="343080" y="190512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8" name="Object 1"/>
          <p:cNvGraphicFramePr/>
          <p:nvPr/>
        </p:nvGraphicFramePr>
        <p:xfrm>
          <a:off x="1452600" y="332568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332568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Text Box 2"/>
          <p:cNvSpPr/>
          <p:nvPr/>
        </p:nvSpPr>
        <p:spPr>
          <a:xfrm>
            <a:off x="3240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333360" y="487692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simple calculation shows this i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2" name="Object 1"/>
          <p:cNvGraphicFramePr/>
          <p:nvPr/>
        </p:nvGraphicFramePr>
        <p:xfrm>
          <a:off x="4495680" y="3753000"/>
          <a:ext cx="11448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753000"/>
                    <a:ext cx="11448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(e.g., product states)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Text Box 2"/>
          <p:cNvSpPr/>
          <p:nvPr/>
        </p:nvSpPr>
        <p:spPr>
          <a:xfrm>
            <a:off x="343080" y="4508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given n unentangled qubits, measuring the number of 1’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2"/>
          <p:cNvSpPr/>
          <p:nvPr/>
        </p:nvSpPr>
        <p:spPr>
          <a:xfrm>
            <a:off x="5519880" y="5637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20"/>
          <p:cNvSpPr/>
          <p:nvPr/>
        </p:nvSpPr>
        <p:spPr>
          <a:xfrm>
            <a:off x="388800" y="3809880"/>
            <a:ext cx="829800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9"/>
          <p:cNvSpPr/>
          <p:nvPr/>
        </p:nvSpPr>
        <p:spPr>
          <a:xfrm>
            <a:off x="1447920" y="4724280"/>
            <a:ext cx="2346120" cy="533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4"/>
          <p:cNvSpPr/>
          <p:nvPr/>
        </p:nvSpPr>
        <p:spPr>
          <a:xfrm>
            <a:off x="6248520" y="3276720"/>
            <a:ext cx="2438280" cy="533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: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343080" y="1066680"/>
            <a:ext cx="8581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1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gentle on product states (for small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-DP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"/>
          <p:cNvSpPr/>
          <p:nvPr/>
        </p:nvSpPr>
        <p:spPr>
          <a:xfrm>
            <a:off x="372960" y="3276720"/>
            <a:ext cx="855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2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results of separate measurements on each register,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Group 15"/>
          <p:cNvGrpSpPr/>
          <p:nvPr/>
        </p:nvGrpSpPr>
        <p:grpSpPr>
          <a:xfrm>
            <a:off x="4419720" y="2297160"/>
            <a:ext cx="4338360" cy="1127520"/>
            <a:chOff x="4419720" y="2297160"/>
            <a:chExt cx="4338360" cy="1127520"/>
          </a:xfrm>
        </p:grpSpPr>
        <p:sp>
          <p:nvSpPr>
            <p:cNvPr id="1187" name="Text Box 2"/>
            <p:cNvSpPr/>
            <p:nvPr/>
          </p:nvSpPr>
          <p:spPr>
            <a:xfrm>
              <a:off x="4419720" y="2297160"/>
              <a:ext cx="433836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ve to restrict the set of states for part (2) to be 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"/>
            <p:cNvCxnSpPr/>
            <p:nvPr/>
          </p:nvCxnSpPr>
          <p:spPr>
            <a:xfrm>
              <a:off x="7314840" y="3127680"/>
              <a:ext cx="1080" cy="29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189" name="Group 18"/>
          <p:cNvGrpSpPr/>
          <p:nvPr/>
        </p:nvGrpSpPr>
        <p:grpSpPr>
          <a:xfrm>
            <a:off x="372960" y="5257080"/>
            <a:ext cx="4351320" cy="1178280"/>
            <a:chOff x="372960" y="5257080"/>
            <a:chExt cx="4351320" cy="1178280"/>
          </a:xfrm>
        </p:grpSpPr>
        <p:sp>
          <p:nvSpPr>
            <p:cNvPr id="1190" name="Text Box 2"/>
            <p:cNvSpPr/>
            <p:nvPr/>
          </p:nvSpPr>
          <p:spPr>
            <a:xfrm>
              <a:off x="372960" y="5609880"/>
              <a:ext cx="435132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 factor is tight (the Laplace noise measurement shows thi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1" name="Straight Arrow Connector 11"/>
            <p:cNvCxnSpPr/>
            <p:nvPr/>
          </p:nvCxnSpPr>
          <p:spPr>
            <a:xfrm flipV="1">
              <a:off x="2625120" y="5257080"/>
              <a:ext cx="1080" cy="353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192" name="Group 16"/>
          <p:cNvGrpSpPr/>
          <p:nvPr/>
        </p:nvGrpSpPr>
        <p:grpSpPr>
          <a:xfrm>
            <a:off x="5165640" y="4723920"/>
            <a:ext cx="3581640" cy="1669320"/>
            <a:chOff x="5165640" y="4723920"/>
            <a:chExt cx="3581640" cy="1669320"/>
          </a:xfrm>
        </p:grpSpPr>
        <p:sp>
          <p:nvSpPr>
            <p:cNvPr id="1193" name="Text Box 2"/>
            <p:cNvSpPr/>
            <p:nvPr/>
          </p:nvSpPr>
          <p:spPr>
            <a:xfrm>
              <a:off x="5165640" y="5567760"/>
              <a:ext cx="358164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is restriction might just be an artifact of our pro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4" name="Straight Arrow Connector 13"/>
            <p:cNvCxnSpPr/>
            <p:nvPr/>
          </p:nvCxnSpPr>
          <p:spPr>
            <a:xfrm flipH="1" flipV="1">
              <a:off x="5714280" y="4723920"/>
              <a:ext cx="533880" cy="843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Text Box 2"/>
          <p:cNvSpPr/>
          <p:nvPr/>
        </p:nvSpPr>
        <p:spPr>
          <a:xfrm>
            <a:off x="312840" y="1270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o shadow tomography in a way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 sample complexit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6" name="Object 7"/>
          <p:cNvGraphicFramePr/>
          <p:nvPr/>
        </p:nvGraphicFramePr>
        <p:xfrm>
          <a:off x="2008080" y="2224080"/>
          <a:ext cx="51278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224080"/>
                    <a:ext cx="512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8" name="Text Box 2"/>
          <p:cNvSpPr/>
          <p:nvPr/>
        </p:nvSpPr>
        <p:spPr>
          <a:xfrm>
            <a:off x="312840" y="31654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.  PMW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“QPM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iteration of QPMW is DP.  Using this fact, our D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and a lot more work, we show that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"/>
          <p:cNvSpPr/>
          <p:nvPr/>
        </p:nvSpPr>
        <p:spPr>
          <a:xfrm>
            <a:off x="304920" y="152280"/>
            <a:ext cx="8373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Result</a:t>
            </a:r>
            <a:br>
              <a:rPr sz="4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(A.-Rothbl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 Box 3"/>
          <p:cNvSpPr/>
          <p:nvPr/>
        </p:nvSpPr>
        <p:spPr>
          <a:xfrm>
            <a:off x="316080" y="1011240"/>
            <a:ext cx="846756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andã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et al. 201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an perform shadow tomography with poly(log M, log D) copies and Õ(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where L is the circuit complexity of implementing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writing the input takes ~M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s, and output takes ~M bits, unless we use implici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“hyper-efficient” shadow tomography is possible (poly(log M, log D) time),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quantum copy-protection is im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can we do it in special c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7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Computation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 Cost of Shadow Tomograp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3"/>
          <p:cNvSpPr/>
          <p:nvPr/>
        </p:nvSpPr>
        <p:spPr>
          <a:xfrm>
            <a:off x="316080" y="1011240"/>
            <a:ext cx="84675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uang, Kueng, and Preskill 202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poly(n) copies of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can measure a “classical shadow,” from which we can estimate the fidelity betwe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each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for some K=exp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7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Making Shadow Tomography Practic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3"/>
          <p:cNvSpPr/>
          <p:nvPr/>
        </p:nvSpPr>
        <p:spPr>
          <a:xfrm>
            <a:off x="1981080" y="312408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ample Application (Kretschmer)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y pseudorandom family of pure states can be distinguished from random given enough comput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3"/>
          <p:cNvSpPr/>
          <p:nvPr/>
        </p:nvSpPr>
        <p:spPr>
          <a:xfrm>
            <a:off x="349200" y="5181480"/>
            <a:ext cx="846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make things truly practical, though, we’d like better sample complexity, better computational complexity, and easier-to-implement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2"/>
          <p:cNvSpPr/>
          <p:nvPr/>
        </p:nvSpPr>
        <p:spPr>
          <a:xfrm>
            <a:off x="152280" y="30492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Calibri"/>
                <a:ea typeface="Calibri"/>
              </a:rPr>
              <a:t>Measurements in QM are Destructi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1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3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5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3"/>
          <p:cNvSpPr/>
          <p:nvPr/>
        </p:nvSpPr>
        <p:spPr>
          <a:xfrm>
            <a:off x="228600" y="5156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destructiveness opens cryptographic possibilities, like quantum key distribution and quantum money—but it’s also a huge practical limi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9" name="Text Box 3"/>
          <p:cNvSpPr/>
          <p:nvPr/>
        </p:nvSpPr>
        <p:spPr>
          <a:xfrm>
            <a:off x="326880" y="1295280"/>
            <a:ext cx="45100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ne qubit has 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3"/>
          <p:cNvSpPr/>
          <p:nvPr/>
        </p:nvSpPr>
        <p:spPr>
          <a:xfrm>
            <a:off x="1163520" y="247680"/>
            <a:ext cx="6993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re’s a lot to be destroyed!  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2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1054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5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1058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1063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1069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2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1073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4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85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D-dimensional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xed 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pecified by a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matrix), output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perimental Recor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ong et al. (2017), 10 qubits, millions of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hadow Tomograph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1" name="TextBox 3"/>
          <p:cNvSpPr/>
          <p:nvPr/>
        </p:nvSpPr>
        <p:spPr>
          <a:xfrm>
            <a:off x="343080" y="1066680"/>
            <a:ext cx="845820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known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to within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ith (sa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3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we measure?  Clearly Õ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suffice, and also Õ(M) copies.  But what about poly(log D, log 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. 2018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2" name="Object 1"/>
          <p:cNvGraphicFramePr/>
          <p:nvPr/>
        </p:nvGraphicFramePr>
        <p:xfrm>
          <a:off x="1411200" y="5105520"/>
          <a:ext cx="3160800" cy="12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5105520"/>
                    <a:ext cx="316080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5" name="TextBox 3"/>
          <p:cNvSpPr/>
          <p:nvPr/>
        </p:nvSpPr>
        <p:spPr>
          <a:xfrm>
            <a:off x="396720" y="2590920"/>
            <a:ext cx="8458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qubit quantum progra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f we hav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n we can approximate its acceptance probability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-bit input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 consequence, any schem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software copy prot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need computational assumptions.  Likewis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mon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a small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304920" y="990720"/>
            <a:ext cx="8550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fixed polynomial p, by measurin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lear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behavior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ing/rejecting circui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n)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3"/>
          <p:cNvSpPr/>
          <p:nvPr/>
        </p:nvSpPr>
        <p:spPr>
          <a:xfrm>
            <a:off x="853920" y="5791320"/>
            <a:ext cx="7543800" cy="5205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mental applications of shadow tom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Box 3"/>
          <p:cNvSpPr/>
          <p:nvPr/>
        </p:nvSpPr>
        <p:spPr>
          <a:xfrm>
            <a:off x="3124080" y="1365120"/>
            <a:ext cx="556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8"/>
          <p:cNvSpPr/>
          <p:nvPr/>
        </p:nvSpPr>
        <p:spPr>
          <a:xfrm>
            <a:off x="511920" y="38185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1"/>
          <p:cNvSpPr/>
          <p:nvPr/>
        </p:nvSpPr>
        <p:spPr>
          <a:xfrm flipV="1">
            <a:off x="511560" y="150192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2"/>
          <p:cNvSpPr/>
          <p:nvPr/>
        </p:nvSpPr>
        <p:spPr>
          <a:xfrm flipV="1">
            <a:off x="511560" y="141156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22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lude: 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Winter 1999, A. 2004, Wilde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3"/>
          <p:cNvSpPr/>
          <p:nvPr/>
        </p:nvSpPr>
        <p:spPr>
          <a:xfrm>
            <a:off x="343080" y="4673520"/>
            <a:ext cx="8420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over, we can apply M such measurements in succession, and they’ll all accept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2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ten combined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measure k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ake a majority to push down error to 1/exp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Why Doesn’t Gentle Measurement Immediately Solve the Problem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5" name="TextBox 3"/>
          <p:cNvSpPr/>
          <p:nvPr/>
        </p:nvSpPr>
        <p:spPr>
          <a:xfrm>
            <a:off x="353880" y="1828800"/>
            <a:ext cx="84582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mise g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sion of shadow tomogra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al number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mised that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is eith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each i, we can decide which for each i using only O(log M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3"/>
          <p:cNvSpPr/>
          <p:nvPr/>
        </p:nvSpPr>
        <p:spPr>
          <a:xfrm>
            <a:off x="376200" y="4419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re’s no promise, we can never rule out that we’re on the knife-edge between acceptance and rejection—in which case,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3"/>
          <p:cNvSpPr/>
          <p:nvPr/>
        </p:nvSpPr>
        <p:spPr>
          <a:xfrm>
            <a:off x="376200" y="6032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contribution was to solve tha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2"/>
          <p:cNvSpPr/>
          <p:nvPr/>
        </p:nvSpPr>
        <p:spPr>
          <a:xfrm>
            <a:off x="228600" y="111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The proof combined several ingredients.  The first was a “postselected learning theorem” (A.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700"/>
          <p:cNvSpPr/>
          <p:nvPr/>
        </p:nvSpPr>
        <p:spPr>
          <a:xfrm>
            <a:off x="228600" y="2982960"/>
            <a:ext cx="876312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ctually an amplified versio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with respect to its behavior on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Cloud Callout 5"/>
          <p:cNvSpPr/>
          <p:nvPr/>
        </p:nvSpPr>
        <p:spPr>
          <a:xfrm>
            <a:off x="5410080" y="107784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6" descr=""/>
          <p:cNvPicPr/>
          <p:nvPr/>
        </p:nvPicPr>
        <p:blipFill>
          <a:blip r:embed="rId1"/>
          <a:stretch/>
        </p:blipFill>
        <p:spPr>
          <a:xfrm>
            <a:off x="2819520" y="1230480"/>
            <a:ext cx="1676160" cy="1653840"/>
          </a:xfrm>
          <a:prstGeom prst="rect">
            <a:avLst/>
          </a:prstGeom>
          <a:ln w="0">
            <a:noFill/>
          </a:ln>
        </p:spPr>
      </p:pic>
      <p:sp>
        <p:nvSpPr>
          <p:cNvPr id="1122" name="Rectangle 12"/>
          <p:cNvSpPr/>
          <p:nvPr/>
        </p:nvSpPr>
        <p:spPr>
          <a:xfrm>
            <a:off x="6019920" y="107784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Picture 5" descr=""/>
          <p:cNvPicPr/>
          <p:nvPr/>
        </p:nvPicPr>
        <p:blipFill>
          <a:blip r:embed="rId2"/>
          <a:stretch/>
        </p:blipFill>
        <p:spPr>
          <a:xfrm>
            <a:off x="152280" y="1001880"/>
            <a:ext cx="1562400" cy="16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Object 1"/>
          <p:cNvGraphicFramePr/>
          <p:nvPr/>
        </p:nvGraphicFramePr>
        <p:xfrm>
          <a:off x="5410080" y="4354560"/>
          <a:ext cx="230976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354560"/>
                    <a:ext cx="2309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Rectangle 11"/>
          <p:cNvSpPr/>
          <p:nvPr/>
        </p:nvSpPr>
        <p:spPr>
          <a:xfrm>
            <a:off x="762120" y="1365120"/>
            <a:ext cx="7543800" cy="25070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Key poin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boosting / multiplicative weights type reasons, this process must converge after T = O(log D*) iterations, at some sta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behaves lik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even if it’s far from 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 in trace dista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12"/>
          <p:cNvSpPr/>
          <p:nvPr/>
        </p:nvSpPr>
        <p:spPr>
          <a:xfrm>
            <a:off x="419040" y="4495680"/>
            <a:ext cx="8229600" cy="1732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iously used to prove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o do online learning of quantum states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A. et al. 20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20-09-29T18:45:38Z</dcterms:modified>
  <cp:revision>149</cp:revision>
  <dc:subject/>
  <dc:title>The Learnability of Quantum States</dc:title>
</cp:coreProperties>
</file>