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6.png" ContentType="image/png"/>
  <Override PartName="/ppt/media/image1.jpeg" ContentType="image/jpe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9EEA-0C02-4B75-AFD1-80EE28924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0592-C44F-463B-B9F0-E9B844AFE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AA62-822B-426C-8C69-9383CD51C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66C0-A1F5-4D36-8CE0-9F53E7E65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C360-E72B-47B0-97D5-5D2412B95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C331-2271-4ED6-B89C-237E954A1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5678-D5ED-4A0A-8606-03737A395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C3E9-7A7E-4A1B-A636-473C3B2D2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2A00-5541-4785-ADF4-E6996D065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10B-6659-4B8B-8822-839891148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518-C730-42C5-B76D-2C968EE28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920D-E719-41E4-A6B9-F9A568667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2F25-F9A3-4B88-8A4A-E6C19CC6F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A66-61E8-44D6-91E1-948C41B6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A60D-5A3D-4958-B176-F491757F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0261-ECC5-4E13-9265-F5BDE2EE2B6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A3F4-C7B9-4388-9AB6-B7FBA2BBEB8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4E75-5C86-42DE-A429-723B17BB0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301E-644C-406F-93C0-7268ED35973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E83E-3EC6-4B1A-92AB-B30D38AA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DE5-1FDA-4279-BC44-605005A7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A37-8425-4D71-946D-3D08873C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4A6C3-5427-4111-B33E-2E9CFB54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AAA4F-034B-4CBD-924B-94C288C6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A2C5A-2244-4D0B-8AE7-664CFDE1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74C00-7084-45F5-A2CA-D5890763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95BD4-D755-46D0-B3F2-722110AF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09B3C-A75B-48EE-B9D9-B505860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BDBD9-D8B9-4011-AF38-F091937D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D11A7-CABA-4638-90A8-627AA2C6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351E1-8904-45EE-B0ED-0E2AA33E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379A7-E541-4575-9BB0-56602740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3A4-053D-4545-9B41-F31811D9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605DD-36AD-4687-B61B-615575AE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7AC8C-1FBA-4F13-866E-0C16B05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A0302-39AD-448A-9DFD-BCDBB214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6C3C6-ABDB-48BA-8E47-C9853F79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E5365-4D36-4BF8-849A-86175005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200FF-B5B8-4F3E-A087-0E3D069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360BC-D156-4F30-A446-94EAD282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C614F-EB53-47A3-9787-C0CD16E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2572C-6622-490D-91E5-C8FB8DAD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85D17-05CA-40B6-AC58-71BDA140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2EA-D0EA-4A6B-B996-515437CB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27337-62FF-4C87-A10A-E9A03EFD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06849-5DC1-4546-B391-271F0598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6F8AA-1F28-4E74-AB28-1903BDE0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DC4F4-4AE5-4D21-A8F3-01EE94F4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CE714-04E1-400F-A889-1675B0B6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359B6-1A1E-4933-B5C4-C23E77A0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290A3-FC54-4E9F-A59D-CB3A2D35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66353-E356-4360-9912-A00C8A0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CBFC6-6254-4DE0-8C85-3DED6D99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EF2E2-A08D-4F51-A82E-CF3EC155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8D28-B188-4B73-8FF3-94511DA1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74B01-F677-4388-8B4D-0EEA138D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AECD6-CA7C-4884-AF46-2AE5C1E9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9A1C4-0DCF-4536-9C0A-73BF8814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7FF63-E866-4A9C-9F55-ACB4578A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2E2AC-5D1C-4EF9-A97A-3B5B8877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441D0-761F-49A1-BAE5-91CC2596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F22AF-30B7-4F5E-B549-278F5926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22043-CA96-4B67-91A9-172344A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6205D-024C-46F9-AD18-9BD97C2A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E5A69-AEEE-47E1-91BA-786C1C6D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B6B3-BB14-4F87-A3F1-CC246A73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FF345-2C6B-40A6-AC36-20057C2D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F722C-62D2-4705-9D94-B98A9FE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E8520-3377-40FE-8DE7-4E69B219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045DD-2FC5-4C26-B974-9283B7E0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CB783-16A4-4393-893D-755703AB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02408-641A-49CA-89AE-86608854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A3B59-FC6E-467A-958D-9BF50A1E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CD1B4-5206-4970-A53F-3C1BA92D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C0040-841F-47A1-A019-BC017FE1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D115B-2CB4-4954-B072-42FA6E3E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9DE3-4827-4EC8-BBF7-87CCC58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DE47B-0E4C-4462-8DE7-60AB7BE7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6CEA9-B986-42ED-8C81-376C1B67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165B5-AB4A-4CE9-8A93-56FEBD52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A13CF4-8455-400F-856A-3CED985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60608-3E81-4277-B785-B8375A39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8C682-A976-4FC4-BE41-E657C18A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B3D93-FA65-4CDF-8DCC-4B591DB6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F67E7-45C4-4593-AD6A-274CE93B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703F2-8F03-4F73-AE92-92377110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DA0BF-486C-4E93-9EF3-1F2C2893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C369-7D5B-4E4F-A7BC-282C141B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0B0AB-6FD8-46C3-91B0-5697D29F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CBF50-8A34-4AD9-8056-7F0905AA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5C9B5-E182-49AD-8ECF-CF802DAF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C48B7-33C2-4E36-857F-A830B69D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9FB7A-1EDC-4BE8-81C5-7070F486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5D800-098C-43A8-A227-A026C438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CAA5F-5D32-4D87-B5D1-250B81B3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DE4D4-E445-4921-85E7-8765A9D0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3D19E-556D-412A-B344-581F1BED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C8D09-1C5E-41F2-9FB6-557EF6AC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6579-709E-4DF0-938F-A38DB7EF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5FF5D-4B63-4649-9CA2-78D0A264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2E7D92-E047-4264-9F3A-90169CD2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2CF80-597A-48D3-8CBE-28D9AF1C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914B6-42B3-4566-B39A-9EF32CDE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670D2-10A9-4FD2-BF61-C3E5A965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C920C-E54B-4A81-B292-4C362AFD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17315-1789-4B90-B786-0AB8A7B6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54D7B-4664-42E4-9611-E0B9036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776B2-6E35-42FE-B793-16F3E90C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6677C-0AE4-46FD-B953-F439BF93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39EE-0151-4E72-85E2-60DA009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8A980-3ED7-4568-84EB-C91B9199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D913F-F717-429A-AB43-8FB54913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265CA-CEF6-4CA3-83C2-6A73225D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B281B-BAF1-4B96-8D0B-895DC792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E4830-23C6-4DEC-BD84-AAC19F1E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B7FF2-E66E-453F-A362-8B57638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0FB9A-A2EF-4522-BD4C-52ACF7F4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1D68D-C8C1-4BB0-986D-4E1AE6F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71A3B-0774-4A3C-A91F-80D14F7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1EFB4-0231-4B02-BABC-E9E41F66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6A41-C64F-4B23-BC3A-1A0CF435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2D54C-FFA5-4E1D-8E90-FEBC3BB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1883B-1C42-43C3-BBEB-42283A68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C385E-8D0A-46D2-919E-EA4B5140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91119-6476-4E48-A748-D5CA1F73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6DE77-A99B-4BC1-B5B9-CE8B9F35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B29881-49FB-43C2-B353-FD208AD9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9E40E-DBEC-4392-93C7-2F901911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D0ADA-ED49-4F2E-B344-544659DD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7580B-2479-4672-A738-2B1CAA17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3F1A9-67B3-46EE-A115-9E2EB0A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631-431E-40F1-A186-CD0A25F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034C-7A00-4C52-A06B-CA2327DE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A24E5-5C50-4A5D-B4FF-EACBEEA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04F33D-EDEE-4717-A679-7311EAF2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7311B-A850-4417-85BB-119DA1B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7E8988-3682-4F8C-BBAF-AB95D2E2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950CD-846A-4160-A2C5-91819391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56035-0A4E-4C3B-889A-41D2F3C4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12365D-339A-4C18-BD76-ECB2E90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255A7-5AA8-4670-8F7B-762703F0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6AD2E-E1E3-4931-B4F5-C906C00F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3FA16-6F1D-4CC6-964F-93D58A3D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D0E4-2B67-4B10-966E-2B3CB99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26AF9-5174-4E92-9E53-8F8804DF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01224-DBF4-45BF-8559-65F14741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85C64-92C9-4B19-87A5-0F69695F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D75BA-3173-4B4C-A55F-D893AC43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0D931-E835-4005-A4F0-F1EEFE03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B56797-894E-4B67-9E34-7A932397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CE7CB-A27A-486B-BF39-83222F38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F5758-7769-404B-A263-ED5BE37E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A2086-A53D-489B-B0A0-C34CACD3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E0BDE-7213-473A-B019-6A071F97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4C27-393D-4FC0-8E01-0663C63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2BB8E-EB25-4B82-803A-8068645D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EC101-FAE8-4800-B814-6219FED1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9479D-B7AC-4438-A4CE-975CE198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3FFD7-13F0-47D7-B9B4-EC75C43C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7F0EA-AE28-4C54-9153-F8AAAC42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576F0-05E0-4DFA-A9FF-2198F80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6AC2E-DA64-4842-9173-ED78BA5F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558A6C-AF5B-4294-90E8-5B57C613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FBB964-03AE-45C2-8AEA-0001A4CC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70DBC-C6E6-48D7-83C4-26732301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79BD-03BE-4CA5-86C6-A045F98E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4C146-2494-45FD-B9FF-8435F310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1737D2-0736-4B2C-9485-1614AE7F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33B34-9A50-4FF8-B301-48511899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AF3E1-54C9-41C7-8577-1A07A3CE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3687D-90D4-4636-992B-0A5FB9D9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BD797-AA7A-4BE6-AD2C-B97F899C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6C053-05BE-4994-AB9A-6DC6C10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D1C0C-163A-4288-9B00-5131250C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E286D-EC01-4382-8FA5-52C1F00E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003CB-53DB-4731-83EC-ED7300B4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97C2-DBF8-4A9A-8C8C-02E0C7B7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A30822-6A65-4092-B133-DEAB613B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B93F9-FB33-415D-AF14-6403F26C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065BB6-F981-4521-9240-30848AA1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364588-F78C-4EF4-8588-03F41E49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07B85C-959C-4442-98A2-57E6C7B5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3CC9A1-A090-441E-9DA2-0BB2EF8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56F1CE-C8F8-4849-B9FF-A847495D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E66D38-88F1-4539-BC22-958FDE52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5EE13A-2244-48E0-AD64-EB82F0F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2578B-3E37-42CA-9558-3C77DAC4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8CAEA-9F61-4CC3-A9C1-AA0846AD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5FB7D-6C23-46D0-B6A6-814D7D3E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B17C3A-8107-4830-ADDD-2C1E98B4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BC81C-E54C-4540-A867-B18B1206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FBB04A-7888-41A9-A14F-7EEA257A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AE79C8-B33E-4D31-A159-0621BB7E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AE6410-0E06-47C1-B514-AF857775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FD6161-F0AF-4903-AADF-F7793171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B2C2F-4054-4B36-A9A0-784A4AC2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56D59C-BC49-4E73-919A-7A920503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22FFA2-FA92-4D72-8754-B54BDF6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14F4-CE14-417B-8B85-8E48EF87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AD2CF4-D627-42AD-B081-7553C97F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F75725-7BF0-4C5A-8306-658C17BF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65EF44-FC55-4728-85B2-553D33FA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7875D-23E7-4005-8934-B161B4B7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EB70F2-331C-4F4D-958E-D9A76EBF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9E8365-EA03-4889-A358-A2350E4B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196CD0-25B7-43F4-8744-53EA47A5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580907-86F3-4DD5-83FC-177B67F1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AD02C5-F18E-481A-BA67-A257CB3B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3FDF74-D0C7-4D3B-A54E-34D6B9FD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2561-A374-414E-BBF9-F53C0972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C2D1B8-1AB0-4CAE-9E75-7EF6FAB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28E6FF-D30C-4AB3-BD69-4D6C77D0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71F9F8-4FE4-4FAB-9DBB-F776C5C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128EDC-FC7C-4E6B-9EB9-CB25E3B4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D5468D-4DAE-45B4-B914-3284DBC8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D58830-82C7-4047-B7E7-CF37B848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D4569A-8DAC-4A86-839C-B2E78DA1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CA8D75-6DDD-4BDF-9428-8196532F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184DFE-809C-43B7-AA77-FB772D34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989696-F693-4CB0-B286-6453F6EE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81CD-E2F7-48E1-83E4-DA1B1D8E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46BFB5-472A-4C0E-AB42-9DECD715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9A43A6-53CE-4C9A-A0AF-718BA0DB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C4C87C-DB35-48F1-A2AD-0C6F0F7A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EF38BA-9BFA-4FD3-AFA9-B0E2B627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382994-6B84-4A81-8A26-BC810BA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9736A6-02DF-4896-9C04-680A1260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BB82B0-B8BD-4D51-A370-40BB4C10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179CFB-B133-4B43-92E1-4CA95CD4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B89864-D6CF-4C1A-AC06-CC46FA59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837B6D-45DC-492F-94BD-EC64B58A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1C06-AD02-4C71-B4F5-3701200B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1978B6-6C11-4906-86A7-F88F9C94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7FC3AC-20D4-4D85-A00D-1E46887B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474A5A-AA02-4144-81C7-B773573D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40D8DF-8FB8-4A96-BD09-B343F016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B3AFC0-1D9C-40CE-AFCD-D2C2245B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59E837-2BE0-4F40-B16B-A9C64A6A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B6EDAB-5BD1-4722-A2F8-69475ACA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8E9578-4086-4C7C-9F51-3DBC85A7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958ADC-A205-45BB-80FF-1F6352EF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61D3F7-4D13-4425-9AFF-9DEBFB56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530-1E34-4618-96A9-B902887A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A730-79E0-45BA-98F5-95380489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266DE9-0728-44D4-9565-7CD59F21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C139-3FCD-49C3-AA23-9148EF2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B16A-FDBD-4ACC-B013-78555C1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FBBD-FC6F-4E24-AE23-6012CAA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F37D-783A-413C-A4EB-ACF0FBC2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E8BA-83E4-4344-B287-D00C6638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03CC-8518-4C22-8916-D17529BA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EA98-3BFA-4BA1-8CC5-3909382E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DFA1E-2687-4894-92D8-56B67FD0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EB863-EFDB-4D7F-B688-8F0A9C2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F06-F3E9-4CFA-A999-BDBCD10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2497-659B-4468-8CA3-1861BEF9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7ABC-2FD6-4214-8798-82645347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EB72-8D8F-442E-ADC1-BE2C7BE1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683A-BB8C-4DDB-A177-774CFD2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340F6-2C70-4EA2-BEE3-04960FB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F1F1-95B1-40B5-BDB3-84C738E3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2D6A-49C3-4A57-A3AF-45964C96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3D52D-8235-4650-B3E7-A65A660B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DC151-14A4-4E2B-B04D-DA6E2C3C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4BAF-84B2-47A7-972C-D6BC4054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0C4-2116-431F-9E49-9B1C55EE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C23F0-8EFB-4ABD-B83A-68B79F74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8F23C-1252-43B5-A912-7834D829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6CD97-9C3B-4DB7-9355-5C9FCA9F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CAFDE-6653-4BB4-A8E1-3EED229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3083E-08EF-47F0-980D-3C116BCB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0FCC1-FE22-40CA-A25D-5366C34E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92FBD-072E-4E45-BB44-FAD8F8E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B766D-3131-41D6-AD0B-C3AD351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F1AD-BFCD-43B0-B4A9-D14399E3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C4655-0FB5-4495-AAD3-141E68B1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FD3-4498-47AC-BE14-8D45CE99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CFC3C-F0FD-4AEE-B758-095D8F52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3195A-5EAC-4F9A-B320-2D25C06B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5F066-DC4D-4687-9F26-742D79D9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31B0-A473-4E8A-BAD3-B576E37D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4C6CA-562D-45DD-8A56-7C2315D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92159-2B7C-4387-BD93-1D453C8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851FD-FBFE-4B12-9B98-165BBE99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09935-F36C-4B14-BAE8-622E7C73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D0AAA-654B-4EF1-A2E7-0E3980B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49F8C-0D88-498C-887F-BE2F5346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9B4-1D9F-4360-934E-A4BDEDEE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8D9AC-21A1-43F7-9D1A-F60D15E3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20A32-39BB-4107-95B4-C9E9B08A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F734A-C9D1-407D-9341-AD6C1C8C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EE3D-DF4B-4D28-BB6E-03B840F1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89556-8114-4750-A9B5-EC3F6E36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703A8-42CE-4E2E-8782-3904549D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26935-B24E-4827-B3D3-A36FD80C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805E-C680-44F7-B6FB-C387E8A7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2B87B-D840-480F-AA68-63AE5ED7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9A699-24E3-40E4-BA8D-186F24B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448-A783-4B04-811F-57885C3E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C2499-658B-42C4-A7FF-A37EDE0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9FBA0-0A3E-4525-AB3F-7C5F10A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AAA1-C066-442A-A4D3-8E17C04B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6AEB2-349E-47D5-945A-80B64454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7F9F-69A9-4604-9E09-9FAC73F8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28D7D-B8D8-402C-ADA7-E6A1C265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54E58-E339-40CE-B40D-0EBC30A9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AACB8-396A-493C-B26F-EB281448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B7C1-DD2E-4346-A803-D868816D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9D2C1-30AD-400B-A759-0F8691BC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007-C5FC-4658-98CF-B074C5B3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C64A1-E023-4454-BADF-CC82E944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B5D46-80A7-4D89-8EF0-6180DF6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2D2AB-691A-4B38-98C2-4EFC29C5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9FF7C-E5F7-4EC7-BF7F-39CD5C75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43BFD-9564-4304-B660-FB7E57E2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2AD37-4C69-4945-9084-F8F22612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8E8F-26C8-4C2A-9649-9D5ABF5B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703AB-01F3-4AAD-A84A-DA86ED6A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4DE5-6417-4ABF-99E5-507F8C68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E46E7-8C53-447C-B3A0-4F6F47A4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8027-DD30-4A9F-8224-F225BBFC1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6FE2-9398-43C5-A5EB-0DE0A43BEE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668F-8630-47D5-ADD1-72DBC3B26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0076-D0E5-4CA6-8E25-40B85DD5FD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DC93-8990-4849-9130-EFB0EB0FE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8673-A892-4AD9-B156-CF97DC77C4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2B27-D867-473D-8CD3-FB5B74206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01B5-5238-42D0-B53D-8BD227FF8E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EFF3-390A-450C-9238-31E7F0A8C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4ECF-DE4B-40D0-ADD7-A0754C1B3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CDBF-E404-4E4D-9471-73413C177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4CD4-9BB4-4285-ADE5-8F8C42631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1F4-24BA-461D-8C52-3B210F076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BE53-F743-4536-A651-2F322404D6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6FD0-5752-4E37-B014-0810F8D82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32CA-A2CC-40D8-A2A6-42FCE67605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85E0-F103-4D82-9F29-17F1BDE36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6F2E-1BB5-47BC-9683-D888323A7A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033E-843B-4798-B589-40FB6FD6C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B6E2-7DA1-479B-8AC0-037E85121B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19A9-5BD1-49AF-8CB9-99B3461FE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4069-0B43-4EAC-A4CA-615A73588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B9FE-67F4-4105-BCB9-4B1B30F46D0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D72B-C0A1-434C-AE12-14489654D9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12C3-F3EC-46BC-A4F1-B75E0E741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7DF4-61E9-46E2-B198-B01C9A40F7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D2F8-5F84-4381-98AE-F8A3A2B5D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598D-935D-4146-ADEE-100E76ED6C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992-E1B8-4716-A23E-47507D68D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2DE7-11CB-40C9-8F8D-99512B661F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7CF-079F-4F20-AC05-C7592A6AD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186B-CC14-4AE5-84C3-DE8788A042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B299-888D-4A1D-997A-546B30217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A978-B4F8-4BE0-9777-DBC4FA45D3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9558-5340-488F-9E41-F74335337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2892-0978-429A-9605-B373FACA21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6082-6CE0-4E8C-B616-E5D1C36E4B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EEEE-B147-42AE-B4E8-B1C450B69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9F48-4431-4814-B99F-384B7F589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0A31-7467-49BA-B944-40DCAF83B3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239C-7F43-4AC5-9F6C-E16994602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171E-BADF-4CB4-BBA0-F9BEFBF58C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FBC8-A8EE-40ED-B507-F98FFB9F9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3A04-E34B-464B-9F5E-B07FCEE3CA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F66A-67A9-461F-82C3-E73020AE2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362-ECD6-4A27-A203-8F0427514C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777A-E4EC-4A5D-B3D0-AA949F211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B7CA-AFB1-4376-83EC-08BDC9F15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F611-BEEB-4142-9507-57A1DF12D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69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alibri"/>
                <a:ea typeface="Calibri"/>
              </a:rPr>
              <a:t>Shadow Tomography of Quantum States: Progress and Prospects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571320" y="503244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BM Informational Lens Worksho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eptember 29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13" descr="Image result for schrodinger's cat"/>
          <p:cNvPicPr/>
          <p:nvPr/>
        </p:nvPicPr>
        <p:blipFill>
          <a:blip r:embed="rId1"/>
          <a:stretch/>
        </p:blipFill>
        <p:spPr>
          <a:xfrm>
            <a:off x="1447920" y="2765520"/>
            <a:ext cx="2641320" cy="1985760"/>
          </a:xfrm>
          <a:prstGeom prst="rect">
            <a:avLst/>
          </a:prstGeom>
          <a:ln w="0">
            <a:noFill/>
          </a:ln>
        </p:spPr>
      </p:pic>
      <p:sp>
        <p:nvSpPr>
          <p:cNvPr id="1035" name="Rectangle 3"/>
          <p:cNvSpPr/>
          <p:nvPr/>
        </p:nvSpPr>
        <p:spPr>
          <a:xfrm>
            <a:off x="4724280" y="371628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Circular Arrow 2"/>
          <p:cNvSpPr/>
          <p:nvPr/>
        </p:nvSpPr>
        <p:spPr>
          <a:xfrm>
            <a:off x="2590920" y="2349360"/>
            <a:ext cx="3962160" cy="3822840"/>
          </a:xfrm>
          <a:custGeom>
            <a:avLst/>
            <a:gdLst/>
            <a:ahLst/>
            <a:rect l="l" t="t" r="r" b="b"/>
            <a:pathLst>
              <a:path w="3962400" h="3822317">
                <a:moveTo>
                  <a:pt x="1012599" y="521125"/>
                </a:moveTo>
                <a:cubicBezTo>
                  <a:pt x="1462465" y="232347"/>
                  <a:pt x="2026604" y="160617"/>
                  <a:pt x="2539294" y="327007"/>
                </a:cubicBezTo>
                <a:cubicBezTo>
                  <a:pt x="3071254" y="499651"/>
                  <a:pt x="3483909" y="907799"/>
                  <a:pt x="3647722" y="1423330"/>
                </a:cubicBezTo>
                <a:lnTo>
                  <a:pt x="3872651" y="1423329"/>
                </a:lnTo>
                <a:lnTo>
                  <a:pt x="3484610" y="1911158"/>
                </a:lnTo>
                <a:lnTo>
                  <a:pt x="2917072" y="1423329"/>
                </a:lnTo>
                <a:lnTo>
                  <a:pt x="3135451" y="1423329"/>
                </a:lnTo>
                <a:cubicBezTo>
                  <a:pt x="2980793" y="1096811"/>
                  <a:pt x="2679360" y="852953"/>
                  <a:pt x="2314026" y="758802"/>
                </a:cubicBezTo>
                <a:cubicBezTo>
                  <a:pt x="1963730" y="668526"/>
                  <a:pt x="1589254" y="724848"/>
                  <a:pt x="1285960" y="913425"/>
                </a:cubicBezTo>
                <a:lnTo>
                  <a:pt x="1012599" y="52112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3"/>
          <p:cNvSpPr/>
          <p:nvPr/>
        </p:nvSpPr>
        <p:spPr>
          <a:xfrm>
            <a:off x="343080" y="3098880"/>
            <a:ext cx="845820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an unknown mixed state, and let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e known 2-outcome measurements.  Suppose we’re promised that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exists an i such that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, or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r all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M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we can decide which, with high probability, given only O((log M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228600" y="189000"/>
            <a:ext cx="8763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Alas, postselected learning doesn’t suffice by itself for shadow tomography, because it gives us no idea how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find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 the informative measurements E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Calibri"/>
                <a:ea typeface="Calibri"/>
              </a:rPr>
              <a:t>i(1)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,E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Calibri"/>
                <a:ea typeface="Calibri"/>
              </a:rPr>
              <a:t>i(2)</a:t>
            </a: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,….  So we need to combine with another result called the…</a:t>
            </a:r>
            <a:r>
              <a:rPr b="1" lang="en-US" sz="2600" spc="-1" strike="noStrike">
                <a:solidFill>
                  <a:srgbClr val="333399"/>
                </a:solidFill>
                <a:latin typeface="Calibri"/>
                <a:ea typeface="Calibri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OR Bound</a:t>
            </a:r>
            <a:br>
              <a:rPr sz="4400"/>
            </a:br>
            <a:r>
              <a:rPr b="1" lang="en-US" sz="2400" spc="-1" strike="noStrike">
                <a:solidFill>
                  <a:srgbClr val="333399"/>
                </a:solidFill>
                <a:latin typeface="Calibri"/>
                <a:ea typeface="Calibri"/>
              </a:rPr>
              <a:t>Harrow-Lin-Montanaro 2017, fixing A.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3"/>
          <p:cNvSpPr/>
          <p:nvPr/>
        </p:nvSpPr>
        <p:spPr>
          <a:xfrm>
            <a:off x="338040" y="487692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[A.-Rothblum, STOC’2019]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 improved the dependence on log M, and made shadow tomography “online,” using a brand-new connection between gentle measurement and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differential priva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!!) … a story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7"/>
          <p:cNvSpPr/>
          <p:nvPr/>
        </p:nvSpPr>
        <p:spPr>
          <a:xfrm>
            <a:off x="293760" y="9684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True Sample Complexity of Shadow Tomogra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3"/>
          <p:cNvSpPr/>
          <p:nvPr/>
        </p:nvSpPr>
        <p:spPr>
          <a:xfrm>
            <a:off x="382680" y="2743200"/>
            <a:ext cx="84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s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ound I could prove (which holds even in the classical ca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6" name="Object 1"/>
          <p:cNvGraphicFramePr/>
          <p:nvPr/>
        </p:nvGraphicFramePr>
        <p:xfrm>
          <a:off x="2840040" y="1353960"/>
          <a:ext cx="315900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040" y="1353960"/>
                    <a:ext cx="31590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Object 6"/>
          <p:cNvGraphicFramePr/>
          <p:nvPr/>
        </p:nvGraphicFramePr>
        <p:xfrm>
          <a:off x="2819520" y="3429000"/>
          <a:ext cx="19159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429000"/>
                    <a:ext cx="1915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Text Box 3"/>
          <p:cNvSpPr/>
          <p:nvPr/>
        </p:nvSpPr>
        <p:spPr>
          <a:xfrm>
            <a:off x="5486400" y="3429000"/>
            <a:ext cx="2743200" cy="1281960"/>
          </a:xfrm>
          <a:prstGeom prst="rect">
            <a:avLst/>
          </a:prstGeom>
          <a:solidFill>
            <a:srgbClr val="ffffb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pen whethe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dependence on D is need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2"/>
          <p:cNvSpPr/>
          <p:nvPr/>
        </p:nvSpPr>
        <p:spPr>
          <a:xfrm>
            <a:off x="304920" y="208080"/>
            <a:ext cx="837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2"/>
          <p:cNvSpPr/>
          <p:nvPr/>
        </p:nvSpPr>
        <p:spPr>
          <a:xfrm>
            <a:off x="322200" y="11430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if for every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, and every possible measurement outcome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3" name="Object 1"/>
          <p:cNvGraphicFramePr/>
          <p:nvPr/>
        </p:nvGraphicFramePr>
        <p:xfrm>
          <a:off x="3300480" y="2819520"/>
          <a:ext cx="2976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0480" y="2819520"/>
                    <a:ext cx="2976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Text Box 2"/>
          <p:cNvSpPr/>
          <p:nvPr/>
        </p:nvSpPr>
        <p:spPr>
          <a:xfrm>
            <a:off x="366840" y="39625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ypical choice for 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t stat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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"/>
          <p:cNvSpPr/>
          <p:nvPr/>
        </p:nvSpPr>
        <p:spPr>
          <a:xfrm>
            <a:off x="220680" y="2774880"/>
            <a:ext cx="285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Post-measurement state if outcome is 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"/>
          <p:cNvSpPr/>
          <p:nvPr/>
        </p:nvSpPr>
        <p:spPr>
          <a:xfrm>
            <a:off x="6434280" y="322884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alibri"/>
                <a:ea typeface="Arial"/>
              </a:rPr>
              <a:t>Trace dist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8" name="Straight Arrow Connector 17"/>
          <p:cNvCxnSpPr/>
          <p:nvPr/>
        </p:nvCxnSpPr>
        <p:spPr>
          <a:xfrm flipH="1" flipV="1">
            <a:off x="5509440" y="3491640"/>
            <a:ext cx="98676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  <p:cxnSp>
        <p:nvCxnSpPr>
          <p:cNvPr id="1149" name="Straight Arrow Connector 18"/>
          <p:cNvCxnSpPr/>
          <p:nvPr/>
        </p:nvCxnSpPr>
        <p:spPr>
          <a:xfrm>
            <a:off x="2766600" y="3206520"/>
            <a:ext cx="686520" cy="10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Picture 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38080" y="2743200"/>
            <a:ext cx="9068040" cy="736560"/>
          </a:xfrm>
          <a:prstGeom prst="rect">
            <a:avLst/>
          </a:prstGeom>
          <a:ln w="0">
            <a:noFill/>
          </a:ln>
        </p:spPr>
      </p:pic>
      <p:sp>
        <p:nvSpPr>
          <p:cNvPr id="1151" name="Text Box 2"/>
          <p:cNvSpPr/>
          <p:nvPr/>
        </p:nvSpPr>
        <p:spPr>
          <a:xfrm>
            <a:off x="343080" y="380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n unentangled qubits, measuring the number of 1’s could be extremely de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"/>
          <p:cNvSpPr/>
          <p:nvPr/>
        </p:nvSpPr>
        <p:spPr>
          <a:xfrm>
            <a:off x="343080" y="4046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afer Approach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Measure the number of 1’s plus deliberately-added noise (of order 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. 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10" descr=""/>
          <p:cNvPicPr/>
          <p:nvPr/>
        </p:nvPicPr>
        <p:blipFill>
          <a:blip r:embed="rId2"/>
          <a:stretch/>
        </p:blipFill>
        <p:spPr>
          <a:xfrm>
            <a:off x="1541520" y="2952720"/>
            <a:ext cx="7238880" cy="903240"/>
          </a:xfrm>
          <a:prstGeom prst="rect">
            <a:avLst/>
          </a:prstGeom>
          <a:ln w="0">
            <a:noFill/>
          </a:ln>
        </p:spPr>
      </p:pic>
      <p:sp>
        <p:nvSpPr>
          <p:cNvPr id="1154" name="Rounded Rectangle 11"/>
          <p:cNvSpPr/>
          <p:nvPr/>
        </p:nvSpPr>
        <p:spPr>
          <a:xfrm>
            <a:off x="5372280" y="2952720"/>
            <a:ext cx="152280" cy="8082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808200"/>
              <a:gd name="textAreaBottom" fmla="*/ 801000 h 808200"/>
            </a:gdLst>
            <a:ahLst/>
            <a:rect l="textAreaLeft" t="textAreaTop" r="textAreaRight" b="textAreaBottom"/>
            <a:pathLst>
              <a:path w="21600" h="114419">
                <a:moveTo>
                  <a:pt x="3600" y="0"/>
                </a:moveTo>
                <a:arcTo wR="3600" hR="3600" stAng="16200000" swAng="-5400000"/>
                <a:lnTo>
                  <a:pt x="0" y="110819"/>
                </a:lnTo>
                <a:arcTo wR="3600" hR="3600" stAng="10800000" swAng="-5400000"/>
                <a:lnTo>
                  <a:pt x="18000" y="1144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5" name="Object 2"/>
          <p:cNvGraphicFramePr/>
          <p:nvPr/>
        </p:nvGraphicFramePr>
        <p:xfrm>
          <a:off x="990720" y="1522440"/>
          <a:ext cx="54514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522440"/>
                    <a:ext cx="54514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Object 3"/>
          <p:cNvGraphicFramePr/>
          <p:nvPr/>
        </p:nvGraphicFramePr>
        <p:xfrm>
          <a:off x="533520" y="5113440"/>
          <a:ext cx="301140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113440"/>
                    <a:ext cx="301140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9" name="Object 8"/>
          <p:cNvGraphicFramePr/>
          <p:nvPr/>
        </p:nvGraphicFramePr>
        <p:xfrm>
          <a:off x="3809880" y="5342040"/>
          <a:ext cx="5234040" cy="118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342040"/>
                    <a:ext cx="5234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Text Box 2"/>
          <p:cNvSpPr/>
          <p:nvPr/>
        </p:nvSpPr>
        <p:spPr>
          <a:xfrm>
            <a:off x="6649920" y="15238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omitting norm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"/>
          <p:cNvSpPr/>
          <p:nvPr/>
        </p:nvSpPr>
        <p:spPr>
          <a:xfrm>
            <a:off x="465120" y="622152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Laplace noi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Group 15"/>
          <p:cNvGrpSpPr/>
          <p:nvPr/>
        </p:nvGrpSpPr>
        <p:grpSpPr>
          <a:xfrm>
            <a:off x="7848720" y="5257440"/>
            <a:ext cx="1076400" cy="1535400"/>
            <a:chOff x="7848720" y="5257440"/>
            <a:chExt cx="1076400" cy="1535400"/>
          </a:xfrm>
        </p:grpSpPr>
        <p:sp>
          <p:nvSpPr>
            <p:cNvPr id="1164" name="Block Arc 1"/>
            <p:cNvSpPr/>
            <p:nvPr/>
          </p:nvSpPr>
          <p:spPr>
            <a:xfrm>
              <a:off x="7848720" y="5649840"/>
              <a:ext cx="1076040" cy="1143000"/>
            </a:xfrm>
            <a:custGeom>
              <a:avLst/>
              <a:gdLst/>
              <a:ahLst/>
              <a:rect l="l" t="t" r="r" b="b"/>
              <a:pathLst>
                <a:path w="1075532" h="1143309">
                  <a:moveTo>
                    <a:pt x="0" y="571655"/>
                  </a:moveTo>
                  <a:cubicBezTo>
                    <a:pt x="0" y="369888"/>
                    <a:pt x="100058" y="183064"/>
                    <a:pt x="263275" y="80077"/>
                  </a:cubicBezTo>
                  <a:cubicBezTo>
                    <a:pt x="439845" y="-31335"/>
                    <a:pt x="660686" y="-26140"/>
                    <a:pt x="832446" y="93467"/>
                  </a:cubicBezTo>
                  <a:cubicBezTo>
                    <a:pt x="990611" y="203607"/>
                    <a:pt x="1082742" y="393953"/>
                    <a:pt x="1075092" y="594784"/>
                  </a:cubicBezTo>
                  <a:lnTo>
                    <a:pt x="1009899" y="591977"/>
                  </a:lnTo>
                  <a:cubicBezTo>
                    <a:pt x="1016539" y="414802"/>
                    <a:pt x="936227" y="246811"/>
                    <a:pt x="798168" y="149092"/>
                  </a:cubicBezTo>
                  <a:cubicBezTo>
                    <a:pt x="646578" y="41795"/>
                    <a:pt x="451013" y="37140"/>
                    <a:pt x="295128" y="137119"/>
                  </a:cubicBezTo>
                  <a:cubicBezTo>
                    <a:pt x="152540" y="228569"/>
                    <a:pt x="65254" y="393567"/>
                    <a:pt x="65254" y="571655"/>
                  </a:cubicBezTo>
                  <a:lnTo>
                    <a:pt x="0" y="571655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5" name="Straight Arrow Connector 13"/>
            <p:cNvCxnSpPr/>
            <p:nvPr/>
          </p:nvCxnSpPr>
          <p:spPr>
            <a:xfrm flipV="1">
              <a:off x="8386920" y="5257440"/>
              <a:ext cx="538560" cy="8848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Text Box 2"/>
          <p:cNvSpPr/>
          <p:nvPr/>
        </p:nvSpPr>
        <p:spPr>
          <a:xfrm>
            <a:off x="228600" y="152280"/>
            <a:ext cx="8686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ial Privacy In One Slide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CS theory applied to the social world—i.e., as far as you could possibly get from the subatomic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"/>
          <p:cNvSpPr/>
          <p:nvPr/>
        </p:nvSpPr>
        <p:spPr>
          <a:xfrm>
            <a:off x="343080" y="190512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n algorithm A that queries a database X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, we call 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f for every two databases X and X’ that differ in only a sing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and every possible output y of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8" name="Object 1"/>
          <p:cNvGraphicFramePr/>
          <p:nvPr/>
        </p:nvGraphicFramePr>
        <p:xfrm>
          <a:off x="1452600" y="3325680"/>
          <a:ext cx="623880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3325680"/>
                    <a:ext cx="6238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Text Box 2"/>
          <p:cNvSpPr/>
          <p:nvPr/>
        </p:nvSpPr>
        <p:spPr>
          <a:xfrm>
            <a:off x="324000" y="4191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a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many patients have prostate canc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"/>
          <p:cNvSpPr/>
          <p:nvPr/>
        </p:nvSpPr>
        <p:spPr>
          <a:xfrm>
            <a:off x="333360" y="487692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Better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turn the number of patients with prostate cance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aplace noise of average magnitu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simple calculation shows this is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2" name="Object 1"/>
          <p:cNvGraphicFramePr/>
          <p:nvPr/>
        </p:nvGraphicFramePr>
        <p:xfrm>
          <a:off x="4495680" y="3753000"/>
          <a:ext cx="114480" cy="11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753000"/>
                    <a:ext cx="114480" cy="1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Text Box 2"/>
          <p:cNvSpPr/>
          <p:nvPr/>
        </p:nvSpPr>
        <p:spPr>
          <a:xfrm>
            <a:off x="304920" y="208080"/>
            <a:ext cx="8373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Quantum Differential Privacy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“Protecting the Privacy Rights of Quantum St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2"/>
          <p:cNvSpPr/>
          <p:nvPr/>
        </p:nvSpPr>
        <p:spPr>
          <a:xfrm>
            <a:off x="352440" y="15238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quantum measurement M on n registers, let’s call 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-D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a set of states S (e.g., product states) if for eve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that differ on only 1 register, and every possible outcome y of 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Object 1"/>
          <p:cNvGraphicFramePr/>
          <p:nvPr/>
        </p:nvGraphicFramePr>
        <p:xfrm>
          <a:off x="1298520" y="3429000"/>
          <a:ext cx="638352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429000"/>
                    <a:ext cx="6383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Text Box 2"/>
          <p:cNvSpPr/>
          <p:nvPr/>
        </p:nvSpPr>
        <p:spPr>
          <a:xfrm>
            <a:off x="343080" y="45086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ce again, given n unentangled qubits, measuring the number of 1’s plus a Laplace noise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2"/>
          <p:cNvSpPr/>
          <p:nvPr/>
        </p:nvSpPr>
        <p:spPr>
          <a:xfrm>
            <a:off x="5519880" y="5637240"/>
            <a:ext cx="31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alibri"/>
                <a:ea typeface="Arial"/>
              </a:rPr>
              <a:t>Hmmmm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20"/>
          <p:cNvSpPr/>
          <p:nvPr/>
        </p:nvSpPr>
        <p:spPr>
          <a:xfrm>
            <a:off x="388800" y="3809880"/>
            <a:ext cx="8298000" cy="914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9"/>
          <p:cNvSpPr/>
          <p:nvPr/>
        </p:nvSpPr>
        <p:spPr>
          <a:xfrm>
            <a:off x="1447920" y="4724280"/>
            <a:ext cx="2346120" cy="533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4"/>
          <p:cNvSpPr/>
          <p:nvPr/>
        </p:nvSpPr>
        <p:spPr>
          <a:xfrm>
            <a:off x="6248520" y="3276720"/>
            <a:ext cx="2438280" cy="533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2"/>
          <p:cNvSpPr/>
          <p:nvPr/>
        </p:nvSpPr>
        <p:spPr>
          <a:xfrm>
            <a:off x="304920" y="2080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: DP</a:t>
            </a:r>
            <a:r>
              <a:rPr b="1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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tl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"/>
          <p:cNvSpPr/>
          <p:nvPr/>
        </p:nvSpPr>
        <p:spPr>
          <a:xfrm>
            <a:off x="343080" y="1066680"/>
            <a:ext cx="8581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1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gentle on product states (for small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)-DP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"/>
          <p:cNvSpPr/>
          <p:nvPr/>
        </p:nvSpPr>
        <p:spPr>
          <a:xfrm>
            <a:off x="372960" y="3276720"/>
            <a:ext cx="855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(2) Any measurement that’s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-DP on product states, and consists of a classical DP algorithm applied to results of separate measurements on each register, is also O(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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  <a:ea typeface="Arial"/>
              </a:rPr>
              <a:t>n)-gentle on product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Group 15"/>
          <p:cNvGrpSpPr/>
          <p:nvPr/>
        </p:nvGrpSpPr>
        <p:grpSpPr>
          <a:xfrm>
            <a:off x="4419720" y="2297160"/>
            <a:ext cx="4338360" cy="1127520"/>
            <a:chOff x="4419720" y="2297160"/>
            <a:chExt cx="4338360" cy="1127520"/>
          </a:xfrm>
        </p:grpSpPr>
        <p:sp>
          <p:nvSpPr>
            <p:cNvPr id="1187" name="Text Box 2"/>
            <p:cNvSpPr/>
            <p:nvPr/>
          </p:nvSpPr>
          <p:spPr>
            <a:xfrm>
              <a:off x="4419720" y="2297160"/>
              <a:ext cx="433836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ave to restrict the set of states for part (2) to be 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"/>
            <p:cNvCxnSpPr/>
            <p:nvPr/>
          </p:nvCxnSpPr>
          <p:spPr>
            <a:xfrm>
              <a:off x="7314840" y="3127680"/>
              <a:ext cx="1080" cy="297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189" name="Group 18"/>
          <p:cNvGrpSpPr/>
          <p:nvPr/>
        </p:nvGrpSpPr>
        <p:grpSpPr>
          <a:xfrm>
            <a:off x="372960" y="5257080"/>
            <a:ext cx="4351320" cy="1178280"/>
            <a:chOff x="372960" y="5257080"/>
            <a:chExt cx="4351320" cy="1178280"/>
          </a:xfrm>
        </p:grpSpPr>
        <p:sp>
          <p:nvSpPr>
            <p:cNvPr id="1190" name="Text Box 2"/>
            <p:cNvSpPr/>
            <p:nvPr/>
          </p:nvSpPr>
          <p:spPr>
            <a:xfrm>
              <a:off x="372960" y="5609880"/>
              <a:ext cx="435132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n factor is tight (the Laplace noise measurement shows thi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1" name="Straight Arrow Connector 11"/>
            <p:cNvCxnSpPr/>
            <p:nvPr/>
          </p:nvCxnSpPr>
          <p:spPr>
            <a:xfrm flipV="1">
              <a:off x="2625120" y="5257080"/>
              <a:ext cx="1080" cy="353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  <p:grpSp>
        <p:nvGrpSpPr>
          <p:cNvPr id="1192" name="Group 16"/>
          <p:cNvGrpSpPr/>
          <p:nvPr/>
        </p:nvGrpSpPr>
        <p:grpSpPr>
          <a:xfrm>
            <a:off x="5165640" y="4723920"/>
            <a:ext cx="3581640" cy="1669320"/>
            <a:chOff x="5165640" y="4723920"/>
            <a:chExt cx="3581640" cy="1669320"/>
          </a:xfrm>
        </p:grpSpPr>
        <p:sp>
          <p:nvSpPr>
            <p:cNvPr id="1193" name="Text Box 2"/>
            <p:cNvSpPr/>
            <p:nvPr/>
          </p:nvSpPr>
          <p:spPr>
            <a:xfrm>
              <a:off x="5165640" y="5567760"/>
              <a:ext cx="3581640" cy="825480"/>
            </a:xfrm>
            <a:prstGeom prst="rect">
              <a:avLst/>
            </a:prstGeom>
            <a:solidFill>
              <a:srgbClr val="f9f8f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his restriction might just be an artifact of our pro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4" name="Straight Arrow Connector 13"/>
            <p:cNvCxnSpPr/>
            <p:nvPr/>
          </p:nvCxnSpPr>
          <p:spPr>
            <a:xfrm flipH="1" flipV="1">
              <a:off x="5714280" y="4723920"/>
              <a:ext cx="533880" cy="843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Text Box 2"/>
          <p:cNvSpPr/>
          <p:nvPr/>
        </p:nvSpPr>
        <p:spPr>
          <a:xfrm>
            <a:off x="312840" y="1270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can do shadow tomography in a way that’s als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en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  The sample complexit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6" name="Object 7"/>
          <p:cNvGraphicFramePr/>
          <p:nvPr/>
        </p:nvGraphicFramePr>
        <p:xfrm>
          <a:off x="2008080" y="2224080"/>
          <a:ext cx="512784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224080"/>
                    <a:ext cx="512784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8" name="Text Box 2"/>
          <p:cNvSpPr/>
          <p:nvPr/>
        </p:nvSpPr>
        <p:spPr>
          <a:xfrm>
            <a:off x="312840" y="3165480"/>
            <a:ext cx="86025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ow it works: we take a known procedure from DP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Arial"/>
              </a:rPr>
              <a:t>Private Multiplicative Weigh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(Hardt-Rothblum 2010).  PMW decides whether to update our current hypothesis on each query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using a threshold measurement with Laplace noise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We give a quantum analogue, “QPMW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ach iteration of QPMW is DP.  Using this fact, our DP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entleness theorem, and a lot more work, we show that we can safely apply all M of the iterations in seq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2"/>
          <p:cNvSpPr/>
          <p:nvPr/>
        </p:nvSpPr>
        <p:spPr>
          <a:xfrm>
            <a:off x="304920" y="152280"/>
            <a:ext cx="8373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New Shadow Tomography Result</a:t>
            </a:r>
            <a:br>
              <a:rPr sz="4400"/>
            </a:b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(A.-Rothbl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 Box 3"/>
          <p:cNvSpPr/>
          <p:nvPr/>
        </p:nvSpPr>
        <p:spPr>
          <a:xfrm>
            <a:off x="316080" y="1011240"/>
            <a:ext cx="846756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randã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et al. 2017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an perform shadow tomography with poly(log M, log D) copies and Õ(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) +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ime, where L is the circuit complexity of implementing each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en writing the input takes ~M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bits, and output takes ~M bits, unless we use implicit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“hyper-efficient” shadow tomography is possible (poly(log M, log D) time), then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q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BQP/po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quantum copy-protection is im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ut can we do it in special c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7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Computation</a:t>
            </a: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 Cost of Shadow Tomograp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3"/>
          <p:cNvSpPr/>
          <p:nvPr/>
        </p:nvSpPr>
        <p:spPr>
          <a:xfrm>
            <a:off x="316080" y="1011240"/>
            <a:ext cx="84675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uang, Kueng, and Preskill 2020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poly(n) copies of an n-qubit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we can measure a “classical shadow,” from which we can estimate the fidelity betwee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each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…,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for some K=exp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7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libri"/>
                <a:ea typeface="Calibri"/>
              </a:rPr>
              <a:t>Making Shadow Tomography Practic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3"/>
          <p:cNvSpPr/>
          <p:nvPr/>
        </p:nvSpPr>
        <p:spPr>
          <a:xfrm>
            <a:off x="1981080" y="312408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ample Application (Kretschmer)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y pseudorandom family of pure states can be distinguished from random given enough comput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3"/>
          <p:cNvSpPr/>
          <p:nvPr/>
        </p:nvSpPr>
        <p:spPr>
          <a:xfrm>
            <a:off x="349200" y="5181480"/>
            <a:ext cx="846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make things truly practical, though, we’d like better sample complexity, better computational complexity, and easier-to-implement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2"/>
          <p:cNvSpPr/>
          <p:nvPr/>
        </p:nvSpPr>
        <p:spPr>
          <a:xfrm>
            <a:off x="152280" y="304920"/>
            <a:ext cx="8839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Calibri"/>
                <a:ea typeface="Calibri"/>
              </a:rPr>
              <a:t>Measurements in QM are Destructiv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8"/>
          <p:cNvSpPr/>
          <p:nvPr/>
        </p:nvSpPr>
        <p:spPr>
          <a:xfrm>
            <a:off x="4826160" y="1996920"/>
            <a:ext cx="304776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9"/>
          <p:cNvSpPr/>
          <p:nvPr/>
        </p:nvSpPr>
        <p:spPr>
          <a:xfrm>
            <a:off x="4826160" y="3521160"/>
            <a:ext cx="304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10"/>
          <p:cNvSpPr/>
          <p:nvPr/>
        </p:nvSpPr>
        <p:spPr>
          <a:xfrm>
            <a:off x="6350040" y="1996920"/>
            <a:ext cx="14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1" name="Object 11"/>
          <p:cNvGraphicFramePr/>
          <p:nvPr/>
        </p:nvGraphicFramePr>
        <p:xfrm>
          <a:off x="7873920" y="3139920"/>
          <a:ext cx="5479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920" y="3139920"/>
                    <a:ext cx="547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3" name="Object 12"/>
          <p:cNvGraphicFramePr/>
          <p:nvPr/>
        </p:nvGraphicFramePr>
        <p:xfrm>
          <a:off x="6138720" y="1387440"/>
          <a:ext cx="5130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8720" y="1387440"/>
                    <a:ext cx="513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5" name="Line 14"/>
          <p:cNvSpPr/>
          <p:nvPr/>
        </p:nvSpPr>
        <p:spPr>
          <a:xfrm flipV="1">
            <a:off x="6343920" y="2450160"/>
            <a:ext cx="1078920" cy="1076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6"/>
          <p:cNvSpPr/>
          <p:nvPr/>
        </p:nvSpPr>
        <p:spPr>
          <a:xfrm flipV="1">
            <a:off x="6340680" y="2007360"/>
            <a:ext cx="20160" cy="151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3"/>
          <p:cNvSpPr/>
          <p:nvPr/>
        </p:nvSpPr>
        <p:spPr>
          <a:xfrm>
            <a:off x="228600" y="51562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This destructiveness opens cryptographic possibilities, like quantum key distribution and quantum money—but it’s also a huge practical limi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Object 3"/>
              <p:cNvSpPr txBox="1"/>
              <p:nvPr/>
            </p:nvSpPr>
            <p:spPr>
              <a:xfrm>
                <a:off x="6899400" y="1546200"/>
                <a:ext cx="1950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9" name="Text Box 3"/>
          <p:cNvSpPr/>
          <p:nvPr/>
        </p:nvSpPr>
        <p:spPr>
          <a:xfrm>
            <a:off x="326880" y="1295280"/>
            <a:ext cx="451008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ne qubit has infinitely many bits in the amplitude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—but when you measure, the state “collapses” to just 1 b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(0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1 with probability |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3"/>
          <p:cNvSpPr/>
          <p:nvPr/>
        </p:nvSpPr>
        <p:spPr>
          <a:xfrm>
            <a:off x="1163520" y="247680"/>
            <a:ext cx="6993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re’s a lot to be destroyed!  An n-qubit pure state requires 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1" lang="en-US" sz="40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to specify, even approxim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Object 2"/>
              <p:cNvSpPr txBox="1"/>
              <p:nvPr/>
            </p:nvSpPr>
            <p:spPr>
              <a:xfrm>
                <a:off x="2089080" y="1905120"/>
                <a:ext cx="514368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ψ</m:t>
                    </m:r>
                    <m:r>
                      <m:t xml:space="preserve">⟩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⟩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2" name="Text Box 3"/>
          <p:cNvSpPr/>
          <p:nvPr/>
        </p:nvSpPr>
        <p:spPr>
          <a:xfrm>
            <a:off x="304920" y="396252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 measuring yields at most n bits (Holevo’s Theor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should we say t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lex numbers are “really there” in a single copy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—or “just in our head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bability distribution over n-bit strings also involv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 numbers.  But probabilities don’t interf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Group 4"/>
          <p:cNvGrpSpPr/>
          <p:nvPr/>
        </p:nvGrpSpPr>
        <p:grpSpPr>
          <a:xfrm>
            <a:off x="8048160" y="547200"/>
            <a:ext cx="909720" cy="1142640"/>
            <a:chOff x="8048160" y="547200"/>
            <a:chExt cx="909720" cy="1142640"/>
          </a:xfrm>
        </p:grpSpPr>
        <p:sp>
          <p:nvSpPr>
            <p:cNvPr id="1054" name="Line 5"/>
            <p:cNvSpPr/>
            <p:nvPr/>
          </p:nvSpPr>
          <p:spPr>
            <a:xfrm flipH="1" flipV="1">
              <a:off x="8282880" y="572040"/>
              <a:ext cx="476640" cy="11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5" name="Picture 6" descr="MCED00214_0000[1]"/>
            <p:cNvPicPr/>
            <p:nvPr/>
          </p:nvPicPr>
          <p:blipFill>
            <a:blip r:embed="rId1"/>
            <a:stretch/>
          </p:blipFill>
          <p:spPr>
            <a:xfrm flipH="1">
              <a:off x="8048160" y="572400"/>
              <a:ext cx="909720" cy="9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AutoShape 7"/>
            <p:cNvSpPr/>
            <p:nvPr/>
          </p:nvSpPr>
          <p:spPr>
            <a:xfrm flipH="1" flipV="1" rot="16200000">
              <a:off x="8416080" y="1071360"/>
              <a:ext cx="1573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50" y="3068"/>
                    <a:pt x="17100" y="5080"/>
                    <a:pt x="17100" y="10800"/>
                  </a:cubicBezTo>
                  <a:cubicBezTo>
                    <a:pt x="17100" y="16520"/>
                    <a:pt x="19350" y="1853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7" name="Group 8"/>
            <p:cNvGrpSpPr/>
            <p:nvPr/>
          </p:nvGrpSpPr>
          <p:grpSpPr>
            <a:xfrm>
              <a:off x="8525880" y="826560"/>
              <a:ext cx="345240" cy="213480"/>
              <a:chOff x="8525880" y="826560"/>
              <a:chExt cx="345240" cy="213480"/>
            </a:xfrm>
          </p:grpSpPr>
          <p:sp>
            <p:nvSpPr>
              <p:cNvPr id="1058" name="Freeform 9"/>
              <p:cNvSpPr/>
              <p:nvPr/>
            </p:nvSpPr>
            <p:spPr>
              <a:xfrm flipH="1">
                <a:off x="852552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0"/>
              <p:cNvSpPr/>
              <p:nvPr/>
            </p:nvSpPr>
            <p:spPr>
              <a:xfrm flipH="1">
                <a:off x="855252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1"/>
              <p:cNvSpPr/>
              <p:nvPr/>
            </p:nvSpPr>
            <p:spPr>
              <a:xfrm flipH="1">
                <a:off x="863064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2"/>
              <p:cNvSpPr/>
              <p:nvPr/>
            </p:nvSpPr>
            <p:spPr>
              <a:xfrm flipH="1">
                <a:off x="866736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2" name="Group 13"/>
            <p:cNvGrpSpPr/>
            <p:nvPr/>
          </p:nvGrpSpPr>
          <p:grpSpPr>
            <a:xfrm>
              <a:off x="8102520" y="826560"/>
              <a:ext cx="345240" cy="213480"/>
              <a:chOff x="8102520" y="826560"/>
              <a:chExt cx="345240" cy="213480"/>
            </a:xfrm>
          </p:grpSpPr>
          <p:sp>
            <p:nvSpPr>
              <p:cNvPr id="1063" name="Freeform 14"/>
              <p:cNvSpPr/>
              <p:nvPr/>
            </p:nvSpPr>
            <p:spPr>
              <a:xfrm flipH="1">
                <a:off x="8102160" y="826560"/>
                <a:ext cx="345240" cy="213480"/>
              </a:xfrm>
              <a:custGeom>
                <a:avLst/>
                <a:gdLst>
                  <a:gd name="textAreaLeft" fmla="*/ -360 w 345240"/>
                  <a:gd name="textAreaRight" fmla="*/ 345240 w 3452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5"/>
              <p:cNvSpPr/>
              <p:nvPr/>
            </p:nvSpPr>
            <p:spPr>
              <a:xfrm flipH="1">
                <a:off x="8129160" y="850320"/>
                <a:ext cx="292320" cy="166320"/>
              </a:xfrm>
              <a:custGeom>
                <a:avLst/>
                <a:gdLst>
                  <a:gd name="textAreaLeft" fmla="*/ 360 w 292320"/>
                  <a:gd name="textAreaRight" fmla="*/ 293040 w 292320"/>
                  <a:gd name="textAreaTop" fmla="*/ 0 h 166320"/>
                  <a:gd name="textAreaBottom" fmla="*/ 166320 h 16632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6"/>
              <p:cNvSpPr/>
              <p:nvPr/>
            </p:nvSpPr>
            <p:spPr>
              <a:xfrm flipH="1">
                <a:off x="8207280" y="863640"/>
                <a:ext cx="141120" cy="140760"/>
              </a:xfrm>
              <a:custGeom>
                <a:avLst/>
                <a:gdLst>
                  <a:gd name="textAreaLeft" fmla="*/ 360 w 141120"/>
                  <a:gd name="textAreaRight" fmla="*/ 141840 w 14112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7"/>
              <p:cNvSpPr/>
              <p:nvPr/>
            </p:nvSpPr>
            <p:spPr>
              <a:xfrm flipH="1">
                <a:off x="8244000" y="905040"/>
                <a:ext cx="23040" cy="23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Line 18"/>
            <p:cNvSpPr/>
            <p:nvPr/>
          </p:nvSpPr>
          <p:spPr>
            <a:xfrm flipH="1" flipV="1">
              <a:off x="8261640" y="547200"/>
              <a:ext cx="24876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19"/>
          <p:cNvGrpSpPr/>
          <p:nvPr/>
        </p:nvGrpSpPr>
        <p:grpSpPr>
          <a:xfrm>
            <a:off x="235080" y="579240"/>
            <a:ext cx="955440" cy="1218600"/>
            <a:chOff x="235080" y="579240"/>
            <a:chExt cx="955440" cy="1218600"/>
          </a:xfrm>
        </p:grpSpPr>
        <p:sp>
          <p:nvSpPr>
            <p:cNvPr id="1069" name="Line 20"/>
            <p:cNvSpPr/>
            <p:nvPr/>
          </p:nvSpPr>
          <p:spPr>
            <a:xfrm flipV="1">
              <a:off x="446400" y="605880"/>
              <a:ext cx="508320" cy="119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Picture 21" descr="MCDD01775_0000[1]"/>
            <p:cNvPicPr/>
            <p:nvPr/>
          </p:nvPicPr>
          <p:blipFill>
            <a:blip r:embed="rId2"/>
            <a:stretch/>
          </p:blipFill>
          <p:spPr>
            <a:xfrm>
              <a:off x="235080" y="606240"/>
              <a:ext cx="95544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AutoShape 22"/>
            <p:cNvSpPr/>
            <p:nvPr/>
          </p:nvSpPr>
          <p:spPr>
            <a:xfrm flipV="1" rot="5400000">
              <a:off x="621000" y="1145520"/>
              <a:ext cx="18108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9395" y="3084"/>
                    <a:pt x="17189" y="5080"/>
                    <a:pt x="17189" y="10800"/>
                  </a:cubicBezTo>
                  <a:cubicBezTo>
                    <a:pt x="17189" y="16520"/>
                    <a:pt x="19395" y="185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2" name="Group 23"/>
            <p:cNvGrpSpPr/>
            <p:nvPr/>
          </p:nvGrpSpPr>
          <p:grpSpPr>
            <a:xfrm>
              <a:off x="313200" y="767520"/>
              <a:ext cx="399240" cy="310320"/>
              <a:chOff x="313200" y="767520"/>
              <a:chExt cx="399240" cy="310320"/>
            </a:xfrm>
          </p:grpSpPr>
          <p:sp>
            <p:nvSpPr>
              <p:cNvPr id="1073" name="Freeform 24"/>
              <p:cNvSpPr/>
              <p:nvPr/>
            </p:nvSpPr>
            <p:spPr>
              <a:xfrm>
                <a:off x="32580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25"/>
              <p:cNvSpPr/>
              <p:nvPr/>
            </p:nvSpPr>
            <p:spPr>
              <a:xfrm>
                <a:off x="35388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26"/>
              <p:cNvSpPr/>
              <p:nvPr/>
            </p:nvSpPr>
            <p:spPr>
              <a:xfrm>
                <a:off x="43236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27"/>
              <p:cNvSpPr/>
              <p:nvPr/>
            </p:nvSpPr>
            <p:spPr>
              <a:xfrm>
                <a:off x="51912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28"/>
              <p:cNvSpPr/>
              <p:nvPr/>
            </p:nvSpPr>
            <p:spPr>
              <a:xfrm>
                <a:off x="31320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29"/>
              <p:cNvSpPr/>
              <p:nvPr/>
            </p:nvSpPr>
            <p:spPr>
              <a:xfrm>
                <a:off x="37188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0"/>
              <p:cNvSpPr/>
              <p:nvPr/>
            </p:nvSpPr>
            <p:spPr>
              <a:xfrm>
                <a:off x="43668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1"/>
              <p:cNvSpPr/>
              <p:nvPr/>
            </p:nvSpPr>
            <p:spPr>
              <a:xfrm>
                <a:off x="65916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2"/>
              <p:cNvSpPr/>
              <p:nvPr/>
            </p:nvSpPr>
            <p:spPr>
              <a:xfrm>
                <a:off x="61416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33"/>
              <p:cNvSpPr/>
              <p:nvPr/>
            </p:nvSpPr>
            <p:spPr>
              <a:xfrm>
                <a:off x="56232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4"/>
              <p:cNvSpPr/>
              <p:nvPr/>
            </p:nvSpPr>
            <p:spPr>
              <a:xfrm>
                <a:off x="49932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4" name="Group 35"/>
            <p:cNvGrpSpPr/>
            <p:nvPr/>
          </p:nvGrpSpPr>
          <p:grpSpPr>
            <a:xfrm>
              <a:off x="764280" y="767520"/>
              <a:ext cx="399240" cy="310320"/>
              <a:chOff x="764280" y="767520"/>
              <a:chExt cx="399240" cy="310320"/>
            </a:xfrm>
          </p:grpSpPr>
          <p:sp>
            <p:nvSpPr>
              <p:cNvPr id="1085" name="Freeform 36"/>
              <p:cNvSpPr/>
              <p:nvPr/>
            </p:nvSpPr>
            <p:spPr>
              <a:xfrm>
                <a:off x="776880" y="852480"/>
                <a:ext cx="369360" cy="22536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37"/>
              <p:cNvSpPr/>
              <p:nvPr/>
            </p:nvSpPr>
            <p:spPr>
              <a:xfrm>
                <a:off x="804960" y="877320"/>
                <a:ext cx="313200" cy="176040"/>
              </a:xfrm>
              <a:custGeom>
                <a:avLst/>
                <a:gdLst>
                  <a:gd name="textAreaLeft" fmla="*/ 0 w 313200"/>
                  <a:gd name="textAreaRight" fmla="*/ 313200 w 31320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8"/>
              <p:cNvSpPr/>
              <p:nvPr/>
            </p:nvSpPr>
            <p:spPr>
              <a:xfrm>
                <a:off x="883440" y="891000"/>
                <a:ext cx="150840" cy="1490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9"/>
              <p:cNvSpPr/>
              <p:nvPr/>
            </p:nvSpPr>
            <p:spPr>
              <a:xfrm>
                <a:off x="970200" y="935640"/>
                <a:ext cx="24120" cy="248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0"/>
              <p:cNvSpPr/>
              <p:nvPr/>
            </p:nvSpPr>
            <p:spPr>
              <a:xfrm>
                <a:off x="764280" y="838080"/>
                <a:ext cx="52200" cy="5688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1"/>
              <p:cNvSpPr/>
              <p:nvPr/>
            </p:nvSpPr>
            <p:spPr>
              <a:xfrm>
                <a:off x="822960" y="800640"/>
                <a:ext cx="40320" cy="622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2"/>
              <p:cNvSpPr/>
              <p:nvPr/>
            </p:nvSpPr>
            <p:spPr>
              <a:xfrm>
                <a:off x="887760" y="777240"/>
                <a:ext cx="25920" cy="63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3"/>
              <p:cNvSpPr/>
              <p:nvPr/>
            </p:nvSpPr>
            <p:spPr>
              <a:xfrm>
                <a:off x="1110240" y="843480"/>
                <a:ext cx="53280" cy="5616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4"/>
              <p:cNvSpPr/>
              <p:nvPr/>
            </p:nvSpPr>
            <p:spPr>
              <a:xfrm>
                <a:off x="1065240" y="803880"/>
                <a:ext cx="41400" cy="615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5"/>
              <p:cNvSpPr/>
              <p:nvPr/>
            </p:nvSpPr>
            <p:spPr>
              <a:xfrm>
                <a:off x="1013400" y="779040"/>
                <a:ext cx="27720" cy="640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6"/>
              <p:cNvSpPr/>
              <p:nvPr/>
            </p:nvSpPr>
            <p:spPr>
              <a:xfrm>
                <a:off x="950400" y="767520"/>
                <a:ext cx="22320" cy="644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Line 47"/>
            <p:cNvSpPr/>
            <p:nvPr/>
          </p:nvSpPr>
          <p:spPr>
            <a:xfrm flipV="1">
              <a:off x="711720" y="579240"/>
              <a:ext cx="264960" cy="59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2"/>
          <p:cNvSpPr/>
          <p:nvPr/>
        </p:nvSpPr>
        <p:spPr>
          <a:xfrm>
            <a:off x="609480" y="609480"/>
            <a:ext cx="4724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Quantum State Tom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3"/>
          <p:cNvSpPr/>
          <p:nvPr/>
        </p:nvSpPr>
        <p:spPr>
          <a:xfrm>
            <a:off x="380880" y="2590920"/>
            <a:ext cx="8382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as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en lots of copies of an unknown D-dimensional quantum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xed s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pecified by a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 matrix), output an approximate classical description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’Donnell and Wright and Haah et al., STOC’2016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necessary and sufficie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perimental Record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ong et al. (2017), 10 qubits, millions of measurement settings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Keep in mind: D = 2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161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2514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Shadow Tomograph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1" name="TextBox 3"/>
          <p:cNvSpPr/>
          <p:nvPr/>
        </p:nvSpPr>
        <p:spPr>
          <a:xfrm>
            <a:off x="343080" y="1066680"/>
            <a:ext cx="8458200" cy="45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known D-dimensional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nown 2-outcome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stimate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to within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M], with (sa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3 success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we measure?  Clearly Õ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suffice, and also Õ(M) copies.  But what about poly(log D, log 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. 2018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possible to do Shadow Tomography using 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2" name="Object 1"/>
          <p:cNvGraphicFramePr/>
          <p:nvPr/>
        </p:nvGraphicFramePr>
        <p:xfrm>
          <a:off x="1411200" y="5105520"/>
          <a:ext cx="3160800" cy="12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5105520"/>
                    <a:ext cx="316080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63440" y="97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mplic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5" name="TextBox 3"/>
          <p:cNvSpPr/>
          <p:nvPr/>
        </p:nvSpPr>
        <p:spPr>
          <a:xfrm>
            <a:off x="396720" y="2590920"/>
            <a:ext cx="8458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qubit quantum progra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f we have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n we can approximate its acceptance probability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-bit input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 consequence, any schem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software copy prote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need computational assumptions.  Likewise f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quantum mon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a small sec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304920" y="990720"/>
            <a:ext cx="8550000" cy="13737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n-qubit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any fixed polynomial p, by measuring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ie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can lear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s behavior o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ing/rejecting circuit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(n)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3"/>
          <p:cNvSpPr/>
          <p:nvPr/>
        </p:nvSpPr>
        <p:spPr>
          <a:xfrm>
            <a:off x="853920" y="5791320"/>
            <a:ext cx="7543800" cy="52056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mental applications of shadow tom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Box 3"/>
          <p:cNvSpPr/>
          <p:nvPr/>
        </p:nvSpPr>
        <p:spPr>
          <a:xfrm>
            <a:off x="3124080" y="1365120"/>
            <a:ext cx="556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uppose a measurement of a mixed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yields a certain outcome with probabi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after the measurement, we still have a sta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’ that’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los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rac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8"/>
          <p:cNvSpPr/>
          <p:nvPr/>
        </p:nvSpPr>
        <p:spPr>
          <a:xfrm>
            <a:off x="511920" y="3818520"/>
            <a:ext cx="2405160" cy="73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1"/>
          <p:cNvSpPr/>
          <p:nvPr/>
        </p:nvSpPr>
        <p:spPr>
          <a:xfrm flipV="1">
            <a:off x="511560" y="1501920"/>
            <a:ext cx="1024920" cy="231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2"/>
          <p:cNvSpPr/>
          <p:nvPr/>
        </p:nvSpPr>
        <p:spPr>
          <a:xfrm flipV="1">
            <a:off x="511560" y="1411560"/>
            <a:ext cx="732960" cy="2405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22"/>
          <p:cNvSpPr/>
          <p:nvPr/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Interlude: Gentl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Winter 1999, A. 2004, Wilde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3"/>
          <p:cNvSpPr/>
          <p:nvPr/>
        </p:nvSpPr>
        <p:spPr>
          <a:xfrm>
            <a:off x="343080" y="4673520"/>
            <a:ext cx="8420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over, we can apply M such measurements in succession, and they’ll all accept w.p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-2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ten combined with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mplif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measure k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take a majority to push down error to 1/exp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Why Doesn’t Gentle Measurement Immediately Solve the Problem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5" name="TextBox 3"/>
          <p:cNvSpPr/>
          <p:nvPr/>
        </p:nvSpPr>
        <p:spPr>
          <a:xfrm>
            <a:off x="353880" y="1828800"/>
            <a:ext cx="845820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ie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omise ga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rsion of shadow tomogra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measurement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al number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promised that Pr[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ept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] is eith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each i, we can decide which for each i using only O(log M /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pi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3"/>
          <p:cNvSpPr/>
          <p:nvPr/>
        </p:nvSpPr>
        <p:spPr>
          <a:xfrm>
            <a:off x="376200" y="4419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re’s no promise, we can never rule out that we’re on the knife-edge between acceptance and rejection—in which case, measur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3"/>
          <p:cNvSpPr/>
          <p:nvPr/>
        </p:nvSpPr>
        <p:spPr>
          <a:xfrm>
            <a:off x="376200" y="6032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contribution was to solve tha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2"/>
          <p:cNvSpPr/>
          <p:nvPr/>
        </p:nvSpPr>
        <p:spPr>
          <a:xfrm>
            <a:off x="228600" y="111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The proof combined several ingredients.  The first was a “postselected learning theorem” (A. 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700"/>
          <p:cNvSpPr/>
          <p:nvPr/>
        </p:nvSpPr>
        <p:spPr>
          <a:xfrm>
            <a:off x="228600" y="2982960"/>
            <a:ext cx="8763120" cy="41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ice is trying to describe a mixed state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Bob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ctually an amplified version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with respect to its behavior on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itially, Bob knows nothing abou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so he guesses it’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aximally mixed stat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=I  (actuall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Alice helps Bob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mpro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by repeatedly telling him a measurement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which his current gues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dly f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b let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e the state obtained by starting from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n performing 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i(t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tselec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n getting the right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Cloud Callout 5"/>
          <p:cNvSpPr/>
          <p:nvPr/>
        </p:nvSpPr>
        <p:spPr>
          <a:xfrm>
            <a:off x="5410080" y="1077840"/>
            <a:ext cx="3429000" cy="1600200"/>
          </a:xfrm>
          <a:prstGeom prst="cloudCallout">
            <a:avLst>
              <a:gd name="adj1" fmla="val -74495"/>
              <a:gd name="adj2" fmla="val -25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6" descr=""/>
          <p:cNvPicPr/>
          <p:nvPr/>
        </p:nvPicPr>
        <p:blipFill>
          <a:blip r:embed="rId1"/>
          <a:stretch/>
        </p:blipFill>
        <p:spPr>
          <a:xfrm>
            <a:off x="2819520" y="1230480"/>
            <a:ext cx="1676160" cy="1653840"/>
          </a:xfrm>
          <a:prstGeom prst="rect">
            <a:avLst/>
          </a:prstGeom>
          <a:ln w="0">
            <a:noFill/>
          </a:ln>
        </p:spPr>
      </p:pic>
      <p:sp>
        <p:nvSpPr>
          <p:cNvPr id="1122" name="Rectangle 12"/>
          <p:cNvSpPr/>
          <p:nvPr/>
        </p:nvSpPr>
        <p:spPr>
          <a:xfrm>
            <a:off x="6019920" y="107784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12"/>
          <p:cNvSpPr/>
          <p:nvPr/>
        </p:nvSpPr>
        <p:spPr>
          <a:xfrm>
            <a:off x="6172200" y="696960"/>
            <a:ext cx="1981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0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Picture 5" descr=""/>
          <p:cNvPicPr/>
          <p:nvPr/>
        </p:nvPicPr>
        <p:blipFill>
          <a:blip r:embed="rId2"/>
          <a:stretch/>
        </p:blipFill>
        <p:spPr>
          <a:xfrm>
            <a:off x="152280" y="1001880"/>
            <a:ext cx="1562400" cy="16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Object 1"/>
          <p:cNvGraphicFramePr/>
          <p:nvPr/>
        </p:nvGraphicFramePr>
        <p:xfrm>
          <a:off x="5410080" y="4354560"/>
          <a:ext cx="230976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354560"/>
                    <a:ext cx="23097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Rectangle 11"/>
          <p:cNvSpPr/>
          <p:nvPr/>
        </p:nvSpPr>
        <p:spPr>
          <a:xfrm>
            <a:off x="762120" y="1365120"/>
            <a:ext cx="7543800" cy="250704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Key poin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boosting / multiplicative weights type reasons, this process must converge after T = O(log D*) iterations, at some sta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behaves lik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…,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even if it’s far from </a:t>
            </a:r>
            <a:r>
              <a:rPr b="0" lang="en-US" sz="2600" spc="-1" strike="noStrike">
                <a:solidFill>
                  <a:srgbClr val="008000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 in trace distan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12"/>
          <p:cNvSpPr/>
          <p:nvPr/>
        </p:nvSpPr>
        <p:spPr>
          <a:xfrm>
            <a:off x="419040" y="4495680"/>
            <a:ext cx="8229600" cy="173232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iously used to prove</a:t>
            </a:r>
            <a:br>
              <a:rPr sz="32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BQP/qpoly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PP/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o do online learning of quantum states </a:t>
            </a: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(A. et al. 20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</cp:lastModifiedBy>
  <dcterms:modified xsi:type="dcterms:W3CDTF">2020-09-29T18:45:38Z</dcterms:modified>
  <cp:revision>149</cp:revision>
  <dc:subject/>
  <dc:title>The Learnability of Quantum States</dc:title>
</cp:coreProperties>
</file>