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04CB-CC71-464E-BFDE-D019EB70D2A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C10E-1C1F-4CE5-863E-79E171F13E1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0417-AEFB-41D4-9872-CC3DF9DDD1D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7B14-50AD-453C-917F-D19996794BB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6BA5-FB0D-49FE-A48B-2FCF28F2982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0811-63B8-42CB-93F8-0B6B38CF8ED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8C1F-6329-4BFD-9422-C6C273C79F8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4263-0FF0-4A50-AED3-DD782834663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ADBE-A37F-4FD5-96DC-61F948E3DF5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4DA8-86BF-4DB1-88D2-E1CA4DA7C08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D758-FE92-4FDC-8ACE-B1B8F660A0B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E172-2487-4AC1-9B69-245FCD1F1B3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FD89-09D6-4079-BEB8-9462B6D55C1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D18F-0ED3-4C8D-80D5-3CEFCC48829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568D-D3E6-426D-835D-6C8848C928D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E9CF-CBF9-4752-B916-0A8EC2FAF05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58D2-E214-4792-97F3-DEE1B7F1B25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56F-2784-47EB-9B71-FA3DC9EC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A2E-A1F7-4568-9512-4ABAC2FF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889-A105-4557-8B57-B0813027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9CC-2B9F-4FC6-9D17-7C9B5958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3A6-7173-47BA-9EF2-4A47A477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101-D090-4484-AC6F-6B3E4216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C51-81EB-4765-9CAE-AE0CD505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FE6-43A3-41CC-A5E5-590585F8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17D-EAAF-471A-8EBF-B225320C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A3A-7E55-47A4-B699-303B783C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D1FF-7C2B-463A-A808-5A88796E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CA6-B943-4AD7-9FA0-34849025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3C0D-BACF-48DF-ABDE-06DF2B87B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The Equivalence of Sampling and Searching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09680" y="4952520"/>
            <a:ext cx="4657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1523880" cy="2031840"/>
          </a:xfrm>
          <a:prstGeom prst="rect">
            <a:avLst/>
          </a:prstGeom>
          <a:ln w="0">
            <a:noFill/>
          </a:ln>
        </p:spPr>
      </p:pic>
      <p:cxnSp>
        <p:nvCxnSpPr>
          <p:cNvPr id="52" name="Straight Arrow Connector 7"/>
          <p:cNvCxnSpPr/>
          <p:nvPr/>
        </p:nvCxnSpPr>
        <p:spPr>
          <a:xfrm flipH="1" flipV="1">
            <a:off x="2133360" y="3428640"/>
            <a:ext cx="175320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lg" type="arrow" w="lg"/>
          </a:ln>
        </p:spPr>
      </p:cxn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7162920" y="2286000"/>
            <a:ext cx="1398600" cy="2095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1590480" cy="1590480"/>
          </a:xfrm>
          <a:prstGeom prst="rect">
            <a:avLst/>
          </a:prstGeom>
          <a:ln w="0">
            <a:noFill/>
          </a:ln>
        </p:spPr>
      </p:pic>
      <p:cxnSp>
        <p:nvCxnSpPr>
          <p:cNvPr id="55" name="Straight Arrow Connector 13"/>
          <p:cNvCxnSpPr/>
          <p:nvPr/>
        </p:nvCxnSpPr>
        <p:spPr>
          <a:xfrm flipH="1" flipV="1">
            <a:off x="5409360" y="3428640"/>
            <a:ext cx="17535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Kolmogorov Review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Text Box 37"/>
          <p:cNvSpPr/>
          <p:nvPr/>
        </p:nvSpPr>
        <p:spPr>
          <a:xfrm>
            <a:off x="304920" y="114300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K(y | x): Prefix-free Kolmogorov complexity of y, conditioned on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1736640" y="3336840"/>
                <a:ext cx="4762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7"/>
          <p:cNvSpPr/>
          <p:nvPr/>
        </p:nvSpPr>
        <p:spPr>
          <a:xfrm>
            <a:off x="304920" y="2286000"/>
            <a:ext cx="84582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Kolmogorentropy Lemma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Let D={p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} be a distribution, and let y be in its support. 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304920" y="4572000"/>
            <a:ext cx="8458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where K(D) is the length of the shortest program to sample from D.  Same holds if we replace K(y) by K(y|x) and K(D) by K(D|x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Constructing the Search Proble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304920" y="990720"/>
            <a:ext cx="853416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We’re given a sampling problem S={D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where on input x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&gt;0, the goal is to sample an m-bit string from a distribution C that’s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-close to D=D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in poly(n,1/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) time.  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3"/>
              <p:cNvSpPr txBox="1"/>
              <p:nvPr/>
            </p:nvSpPr>
            <p:spPr>
              <a:xfrm>
                <a:off x="152280" y="3005280"/>
                <a:ext cx="8732880" cy="19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 </m:t>
                            </m:r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⋯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sub>
                                </m:sSub>
                              </m:den>
                            </m:f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δ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Rectangle 7"/>
          <p:cNvSpPr/>
          <p:nvPr/>
        </p:nvSpPr>
        <p:spPr>
          <a:xfrm>
            <a:off x="304920" y="5181480"/>
            <a:ext cx="84582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Then the search problem R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is this: on input x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&gt;0, output an N-tuple Y=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…,y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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,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with probability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in poly(n,1/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)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Equivalence Proof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Text Box 37"/>
          <p:cNvSpPr/>
          <p:nvPr/>
        </p:nvSpPr>
        <p:spPr>
          <a:xfrm>
            <a:off x="304920" y="1295280"/>
            <a:ext cx="85341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Lemma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Let C be any distribution over {0,1}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such that |C-D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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. 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3809880" y="1905120"/>
                <a:ext cx="4419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∉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δ</m:t>
                            </m:r>
                          </m:sub>
                        </m:sSub>
                      </m:e>
                    </m:d>
                    <m:r>
                      <m:t xml:space="preserve">εN</m:t>
                    </m:r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37"/>
          <p:cNvSpPr/>
          <p:nvPr/>
        </p:nvSpPr>
        <p:spPr>
          <a:xfrm>
            <a:off x="304920" y="297180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In other words, any algorithm that solves the sampling problem also solves the search problem w.h.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7"/>
          <p:cNvSpPr/>
          <p:nvPr/>
        </p:nvSpPr>
        <p:spPr>
          <a:xfrm>
            <a:off x="304920" y="472428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Proof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Counting argu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7"/>
          <p:cNvSpPr/>
          <p:nvPr/>
        </p:nvSpPr>
        <p:spPr>
          <a:xfrm>
            <a:off x="304920" y="2286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Lemma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n a probabilistic Turing machine B, sup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304920" y="1600200"/>
            <a:ext cx="86104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C be the distribution over m-bit strings obtained by running B(x,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), then picking one its N outputs y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y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randomly.  Then there exists a constant Q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7"/>
          <p:cNvSpPr/>
          <p:nvPr/>
        </p:nvSpPr>
        <p:spPr>
          <a:xfrm>
            <a:off x="304920" y="4419720"/>
            <a:ext cx="8534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Proof Sketch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Use Kolmogorentropy Lemma to show B(x,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)’s output distribution has small KL-divergence from D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.  Similar to Parallel Repetition Theorem, this implies C has small KL-divergence from D.  By Pinsker’s Inequality, this implies |C-D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| is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914400" y="838080"/>
                <a:ext cx="46483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δ</m:t>
                            </m:r>
                          </m:e>
                        </m:d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δ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380880" y="2971800"/>
                <a:ext cx="35053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δ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Text Box 37"/>
          <p:cNvSpPr/>
          <p:nvPr/>
        </p:nvSpPr>
        <p:spPr>
          <a:xfrm>
            <a:off x="4038480" y="304812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9900"/>
                </a:solidFill>
                <a:latin typeface="Calibri"/>
                <a:ea typeface="Calibri"/>
              </a:rPr>
              <a:t>In other words: if B solves the search problem w.h.p., then it also solves the sampl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Wrapping Up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Text Box 37"/>
          <p:cNvSpPr/>
          <p:nvPr/>
        </p:nvSpPr>
        <p:spPr>
          <a:xfrm>
            <a:off x="304920" y="1295280"/>
            <a:ext cx="853416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Let O be any oracle that, given x, 0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1/</a:t>
            </a:r>
            <a:r>
              <a:rPr b="0" lang="en-CA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and a random string r, outputs a sample from a distribution C such that |C-D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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.  Then R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FBPP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Let B be any probabilistic Turing machine that, given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x,0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1/</a:t>
            </a:r>
            <a:r>
              <a:rPr b="0" lang="en-CA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outputs a Y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,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with probability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.  Then S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SampBPP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Application to Quantum Complexity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1295280" y="1600200"/>
            <a:ext cx="655344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Suppose 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FBP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FBQ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Let S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SampBQ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Then R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FBQP 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	</a:t>
            </a:r>
            <a:r>
              <a:rPr b="0" lang="en-CA" sz="3200" spc="-1" strike="noStrike">
                <a:solidFill>
                  <a:srgbClr val="003300"/>
                </a:solidFill>
                <a:latin typeface="Calibri"/>
                <a:ea typeface="Calibri"/>
              </a:rPr>
              <a:t>[R</a:t>
            </a:r>
            <a:r>
              <a:rPr b="0" lang="en-CA" sz="3200" spc="-1" strike="noStrike" baseline="-25000">
                <a:solidFill>
                  <a:srgbClr val="003300"/>
                </a:solidFill>
                <a:latin typeface="Calibri"/>
                <a:ea typeface="Calibri"/>
              </a:rPr>
              <a:t>S</a:t>
            </a:r>
            <a:r>
              <a:rPr b="0" lang="en-CA" sz="3200" spc="-1" strike="noStrike">
                <a:solidFill>
                  <a:srgbClr val="003300"/>
                </a:solidFill>
                <a:latin typeface="Symbol"/>
                <a:ea typeface="Symbol"/>
              </a:rPr>
              <a:t></a:t>
            </a:r>
            <a:r>
              <a:rPr b="0" lang="en-CA" sz="3200" spc="-1" strike="noStrike">
                <a:solidFill>
                  <a:srgbClr val="003300"/>
                </a:solidFill>
                <a:latin typeface="Calibri"/>
                <a:ea typeface="Calibri"/>
              </a:rPr>
              <a:t>S reductio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en-CA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FBPP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	</a:t>
            </a:r>
            <a:r>
              <a:rPr b="0" lang="en-CA" sz="3200" spc="-1" strike="noStrike">
                <a:solidFill>
                  <a:srgbClr val="003300"/>
                </a:solidFill>
                <a:latin typeface="Calibri"/>
                <a:ea typeface="Calibri"/>
              </a:rPr>
              <a:t>[by hypothesi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SampBP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CA" sz="3200" spc="-1" strike="noStrike">
                <a:solidFill>
                  <a:srgbClr val="003300"/>
                </a:solidFill>
                <a:latin typeface="Calibri"/>
                <a:ea typeface="Calibri"/>
              </a:rPr>
              <a:t>[S</a:t>
            </a:r>
            <a:r>
              <a:rPr b="0" lang="en-CA" sz="3200" spc="-1" strike="noStrike">
                <a:solidFill>
                  <a:srgbClr val="003300"/>
                </a:solidFill>
                <a:latin typeface="Symbol"/>
                <a:ea typeface="Symbol"/>
              </a:rPr>
              <a:t></a:t>
            </a:r>
            <a:r>
              <a:rPr b="0" lang="en-CA" sz="3200" spc="-1" strike="noStrike">
                <a:solidFill>
                  <a:srgbClr val="003300"/>
                </a:solidFill>
                <a:latin typeface="Calibri"/>
                <a:ea typeface="Calibri"/>
              </a:rPr>
              <a:t>R</a:t>
            </a:r>
            <a:r>
              <a:rPr b="0" lang="en-CA" sz="3200" spc="-1" strike="noStrike" baseline="-25000">
                <a:solidFill>
                  <a:srgbClr val="003300"/>
                </a:solidFill>
                <a:latin typeface="Calibri"/>
                <a:ea typeface="Calibri"/>
              </a:rPr>
              <a:t>S</a:t>
            </a:r>
            <a:r>
              <a:rPr b="0" lang="en-CA" sz="3200" spc="-1" strike="noStrike">
                <a:solidFill>
                  <a:srgbClr val="003300"/>
                </a:solidFill>
                <a:latin typeface="Calibri"/>
                <a:ea typeface="Calibri"/>
              </a:rPr>
              <a:t> reductio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Therefore 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SampBP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SampBQ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Open Problem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228600" y="281952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The converse direction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Given a search problem, can we construct an equivalent sampling proble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228600" y="1143000"/>
            <a:ext cx="8534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Can we show there’s no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black-box equivalenc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between search and sampling problems?  (I.e., that our use of Kolmogorov complexity was necessary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228600" y="3962520"/>
            <a:ext cx="8534520" cy="19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What if we want the search problem to be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checkabl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Calibri"/>
                <a:ea typeface="Calibri"/>
              </a:rPr>
              <a:t>Can redo proof with space-bounded Kolmogorov complexity to put search problem in </a:t>
            </a:r>
            <a:r>
              <a:rPr b="1" lang="en-CA" sz="2400" spc="-1" strike="noStrike">
                <a:solidFill>
                  <a:srgbClr val="7030a0"/>
                </a:solidFill>
                <a:latin typeface="Calibri"/>
                <a:ea typeface="Calibri"/>
              </a:rPr>
              <a:t>PSPACE</a:t>
            </a:r>
            <a:r>
              <a:rPr b="0" lang="en-CA" sz="2400" spc="-1" strike="noStrike">
                <a:solidFill>
                  <a:srgbClr val="009900"/>
                </a:solidFill>
                <a:latin typeface="Calibri"/>
                <a:ea typeface="Calibri"/>
              </a:rPr>
              <a:t>, but seems hard to do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7"/>
          <p:cNvSpPr/>
          <p:nvPr/>
        </p:nvSpPr>
        <p:spPr>
          <a:xfrm>
            <a:off x="304920" y="55627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More equivalence theorems—ideally, involving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decision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and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promis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problem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In complexity theory, we love at least four types of problem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Text Box 37"/>
          <p:cNvSpPr/>
          <p:nvPr/>
        </p:nvSpPr>
        <p:spPr>
          <a:xfrm>
            <a:off x="380880" y="2666880"/>
            <a:ext cx="838224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Languages / Decision Problems.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 Decide if 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L or 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Promise Problems.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 Decide if 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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YES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or 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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Search Problems.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 Output an element of a (nonempty) set 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 with probability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 in poly(n,1/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Sampling Problems.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 Sample from a probability distribution D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over m-bit strings, with error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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variation distance, in poly(n,1/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304920" y="17524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000000"/>
                </a:solidFill>
                <a:latin typeface="Calibri"/>
                <a:ea typeface="Calibri"/>
              </a:rPr>
              <a:t>Given an input x</a:t>
            </a:r>
            <a:r>
              <a:rPr b="0" i="1" lang="en-CA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CA" sz="36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i="1" lang="en-CA" sz="3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i="1" lang="en-CA" sz="36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  <a:ea typeface="Calibri"/>
              </a:rPr>
              <a:t>Suppose we want to know whether quantum computers are stronger than classical computers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057400" y="3581280"/>
            <a:ext cx="5181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 vs. 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PromiseBP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 vs. 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PromiseBQ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FBP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 vs. 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FBQ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SampBP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 vs. </a:t>
            </a:r>
            <a:r>
              <a:rPr b="1" lang="en-CA" sz="3200" spc="-1" strike="noStrike">
                <a:solidFill>
                  <a:srgbClr val="7030a0"/>
                </a:solidFill>
                <a:latin typeface="Calibri"/>
                <a:ea typeface="Calibri"/>
              </a:rPr>
              <a:t>SampBQP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7"/>
          <p:cNvSpPr/>
          <p:nvPr/>
        </p:nvSpPr>
        <p:spPr>
          <a:xfrm>
            <a:off x="152280" y="20574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(To pick a random example of a complexity ques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7"/>
          <p:cNvSpPr/>
          <p:nvPr/>
        </p:nvSpPr>
        <p:spPr>
          <a:xfrm>
            <a:off x="228600" y="27432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which formal question do we “really” mean to a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Easy Implica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380880" y="1371600"/>
            <a:ext cx="838224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SampB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SampBQ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FB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FBQ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PromiseB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PromiseBQ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304920" y="342900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3300"/>
                </a:solidFill>
                <a:latin typeface="Calibri"/>
                <a:ea typeface="Calibri"/>
              </a:rPr>
              <a:t>Crucial question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Can these implications be rever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7"/>
          <p:cNvSpPr/>
          <p:nvPr/>
        </p:nvSpPr>
        <p:spPr>
          <a:xfrm>
            <a:off x="304920" y="4343400"/>
            <a:ext cx="85341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3300"/>
                </a:solidFill>
                <a:latin typeface="Calibri"/>
                <a:ea typeface="Calibri"/>
              </a:rPr>
              <a:t>We show that at least one of them ca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FB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FBQ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SampB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SampBQ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Application to Linear Optic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Text Box 37"/>
          <p:cNvSpPr/>
          <p:nvPr/>
        </p:nvSpPr>
        <p:spPr>
          <a:xfrm>
            <a:off x="304920" y="1066680"/>
            <a:ext cx="853416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9900"/>
                </a:solidFill>
                <a:latin typeface="Calibri"/>
                <a:ea typeface="Calibri"/>
              </a:rPr>
              <a:t>[A.-Arkhipov, STOC’11]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study a rudimentary type of quantum computer based entirely on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linear optics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: identical, non-interacting photons passing through a network of beamsplit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Our model doesn’t seem to be universal for quantum computing (or even classical computing)—but it can solve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sampling problems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that we give evidence are hard classic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Using today’s result, we automatically also get a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search problem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solvable with linear optics that ought to be hard classic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  <a:ea typeface="Calibri"/>
              </a:rPr>
              <a:t>But the QC stuff is just </a:t>
            </a:r>
            <a:r>
              <a:rPr b="1" lang="en-US" sz="3800" spc="-1" strike="noStrike">
                <a:solidFill>
                  <a:srgbClr val="ff0000"/>
                </a:solidFill>
                <a:latin typeface="Calibri"/>
                <a:ea typeface="Calibri"/>
              </a:rPr>
              <a:t>one application </a:t>
            </a:r>
            <a:r>
              <a:rPr b="1" lang="en-US" sz="3800" spc="-1" strike="noStrike">
                <a:solidFill>
                  <a:srgbClr val="333399"/>
                </a:solidFill>
                <a:latin typeface="Calibri"/>
                <a:ea typeface="Calibri"/>
              </a:rPr>
              <a:t>of a much more general result…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Text Box 37"/>
          <p:cNvSpPr/>
          <p:nvPr/>
        </p:nvSpPr>
        <p:spPr>
          <a:xfrm>
            <a:off x="380880" y="1523880"/>
            <a:ext cx="8534520" cy="45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Informal Statemen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Let S={D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be any sampling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Then there exists a search problem R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={A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that’s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equivalent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to S, in the following sen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any “reasonable” complexity class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C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BPPSPAC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etc.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en-CA" sz="3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CA" sz="3600" spc="-1" strike="noStrike">
                <a:solidFill>
                  <a:srgbClr val="7030a0"/>
                </a:solidFill>
                <a:latin typeface="Calibri"/>
                <a:ea typeface="Calibri"/>
              </a:rPr>
              <a:t>FC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CA" sz="3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Calibri"/>
              </a:rPr>
              <a:t> S</a:t>
            </a:r>
            <a:r>
              <a:rPr b="0" lang="en-CA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CA" sz="3600" spc="-1" strike="noStrike">
                <a:solidFill>
                  <a:srgbClr val="7030a0"/>
                </a:solidFill>
                <a:latin typeface="Calibri"/>
                <a:ea typeface="Calibri"/>
              </a:rPr>
              <a:t>Samp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Intui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Text Box 37"/>
          <p:cNvSpPr/>
          <p:nvPr/>
        </p:nvSpPr>
        <p:spPr>
          <a:xfrm>
            <a:off x="304920" y="1219320"/>
            <a:ext cx="861048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Suppose our sampling problem is to sample uniformly from a set A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First stab at an “equivalent” search problem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output any element of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That clearly doesn’t work—finding an A element could be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much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easier than sampling a random elemen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Better idea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output an element y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A 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whose Kolmogorov complexity K(y) is close to log</a:t>
            </a:r>
            <a:r>
              <a:rPr b="0" i="1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|A|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7"/>
          <p:cNvSpPr/>
          <p:nvPr/>
        </p:nvSpPr>
        <p:spPr>
          <a:xfrm>
            <a:off x="304920" y="457200"/>
            <a:ext cx="853416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Clearly, if we can sample a random y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A, then with high probability K(y)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log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|A|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But conversely, if a randomized machine M outputs a y with K(y)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log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|A|, it can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only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do so by sampling y almost-uniformly from A.  For otherwise, M would yield a succinct description of y, contrary to assump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7"/>
          <p:cNvSpPr/>
          <p:nvPr/>
        </p:nvSpPr>
        <p:spPr>
          <a:xfrm>
            <a:off x="304920" y="4343400"/>
            <a:ext cx="861048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Technical part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Generalize to nonuniform dis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Requires notion of a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universal randomness test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from algorithmic information theor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Comment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Text Box 37"/>
          <p:cNvSpPr/>
          <p:nvPr/>
        </p:nvSpPr>
        <p:spPr>
          <a:xfrm>
            <a:off x="304920" y="2971800"/>
            <a:ext cx="845820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Our “reduction” from sampling to search is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non-black-box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: it requires the assumption that we have a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Turing machin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to solve R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304920" y="4648320"/>
            <a:ext cx="8458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Our result provides an extremely natural application of Kolmogorov complexity to “standard” complexity: one that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doesn’t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just amount to a counting arg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304920" y="1295280"/>
            <a:ext cx="84582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If we just wanted a search problem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at least as hard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as S, that would be easy: Kolmogorov complexity only comes in because we need R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to be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equivalent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to 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owner</cp:lastModifiedBy>
  <dcterms:modified xsi:type="dcterms:W3CDTF">2011-06-12T20:56:33Z</dcterms:modified>
  <cp:revision>409</cp:revision>
  <dc:subject/>
  <dc:title>Slide 1</dc:title>
</cp:coreProperties>
</file>