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45A6-B0A9-4FEA-8674-1119BC00406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F364-E327-4597-851B-07A5E5D5A2A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39A9-5949-43E5-A0CC-AF383A7A225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1EE2-97C8-466A-98C1-43F053057B4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899D-5EF3-42BC-ABEA-F4731186043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F571-72C9-4D2E-B367-179D71DA9AB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83C5-C04E-4507-8A55-DE7EEE550F5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3C22-3C0B-46D8-A6E5-828D4B99D74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3E10-A98B-45EF-BC0D-26D46049DEA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CC74-123A-4286-8EF9-768C29CF033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DF46-83AC-4FCF-8497-FA06A33297F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22D6-A37D-413A-987D-642F8AA37C2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BB7D-A3BF-4777-A122-66E436C68C5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7C17-0372-4887-940F-6CE7BD748C3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ACAD-947E-4D0C-95EE-4248088D81E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4766-7D7E-489F-8BF3-E5C2E52C601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5ADA-56F2-4A41-ACE3-BDEE0847B4A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C16-D107-4EFF-8B93-F2726009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687B-709E-4BFD-87B1-BEA2CC7B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CB8-DFFC-4952-A29E-6A262C0A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734-FADC-41CF-9021-8C4FD041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041-9042-4346-BBCE-A2A83B05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018-FED3-426F-82FF-437768EF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305-1C05-494C-B17A-A0FB254D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531-4CA1-435D-9F35-A48C7FEF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6CF0-658E-41B8-8588-66A15007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E98-33D4-41B8-BBF9-3640EB3A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9A39-BA7B-4B61-9B5C-9A39023C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2CF-C5C8-43BA-BB60-84F9177A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BDFF-7688-4077-A28C-835004E70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The Equivalence of Sampling and Searching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09680" y="4952520"/>
            <a:ext cx="4657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1523880" cy="2031840"/>
          </a:xfrm>
          <a:prstGeom prst="rect">
            <a:avLst/>
          </a:prstGeom>
          <a:ln w="0">
            <a:noFill/>
          </a:ln>
        </p:spPr>
      </p:pic>
      <p:cxnSp>
        <p:nvCxnSpPr>
          <p:cNvPr id="52" name="Straight Arrow Connector 7"/>
          <p:cNvCxnSpPr/>
          <p:nvPr/>
        </p:nvCxnSpPr>
        <p:spPr>
          <a:xfrm flipH="1" flipV="1">
            <a:off x="2133360" y="3428640"/>
            <a:ext cx="175320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lg" type="arrow" w="lg"/>
          </a:ln>
        </p:spPr>
      </p:cxn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7162920" y="2286000"/>
            <a:ext cx="1398600" cy="2095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1590480" cy="1590480"/>
          </a:xfrm>
          <a:prstGeom prst="rect">
            <a:avLst/>
          </a:prstGeom>
          <a:ln w="0">
            <a:noFill/>
          </a:ln>
        </p:spPr>
      </p:pic>
      <p:cxnSp>
        <p:nvCxnSpPr>
          <p:cNvPr id="55" name="Straight Arrow Connector 13"/>
          <p:cNvCxnSpPr/>
          <p:nvPr/>
        </p:nvCxnSpPr>
        <p:spPr>
          <a:xfrm flipH="1" flipV="1">
            <a:off x="5409360" y="3428640"/>
            <a:ext cx="17535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Kolmogorov Review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Text Box 37"/>
          <p:cNvSpPr/>
          <p:nvPr/>
        </p:nvSpPr>
        <p:spPr>
          <a:xfrm>
            <a:off x="304920" y="114300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K(y | x): Prefix-free Kolmogorov complexity of y, conditioned on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1736640" y="3336840"/>
                <a:ext cx="4762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7"/>
          <p:cNvSpPr/>
          <p:nvPr/>
        </p:nvSpPr>
        <p:spPr>
          <a:xfrm>
            <a:off x="304920" y="2286000"/>
            <a:ext cx="84582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Kolmogorentropy Lemma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Let D={p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} be a distribution, and let y be in its support.  T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304920" y="4572000"/>
            <a:ext cx="8458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where K(D) is the length of the shortest program to sample from D.  Same holds if we replace K(y) by K(y|x) and K(D) by K(D|x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Constructing the Search Problem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304920" y="990720"/>
            <a:ext cx="853416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We’re given a sampling problem S={D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}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where on input x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&gt;0, the goal is to sample an m-bit string from a distribution C that’s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-close to D=D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in poly(n,1/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) time.  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3"/>
              <p:cNvSpPr txBox="1"/>
              <p:nvPr/>
            </p:nvSpPr>
            <p:spPr>
              <a:xfrm>
                <a:off x="152280" y="3005280"/>
                <a:ext cx="8732880" cy="19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 </m:t>
                            </m:r>
                            <m:r>
                              <m:t xml:space="preserve">: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⋯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sub>
                                </m:sSub>
                              </m:den>
                            </m:f>
                            <m:r>
                              <m:t xml:space="preserve">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δ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Rectangle 7"/>
          <p:cNvSpPr/>
          <p:nvPr/>
        </p:nvSpPr>
        <p:spPr>
          <a:xfrm>
            <a:off x="304920" y="5181480"/>
            <a:ext cx="84582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Then the search problem R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is this: on input x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&gt;0, output an N-tuple Y=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…,y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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,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with probability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in poly(n,1/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)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Equivalence Proof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Text Box 37"/>
          <p:cNvSpPr/>
          <p:nvPr/>
        </p:nvSpPr>
        <p:spPr>
          <a:xfrm>
            <a:off x="304920" y="1295280"/>
            <a:ext cx="85341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Lemma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Let C be any distribution over {0,1}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such that |C-D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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.  T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3"/>
              <p:cNvSpPr txBox="1"/>
              <p:nvPr/>
            </p:nvSpPr>
            <p:spPr>
              <a:xfrm>
                <a:off x="3809880" y="1905120"/>
                <a:ext cx="44197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r>
                          <m:t xml:space="preserve">∉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δ</m:t>
                            </m:r>
                          </m:sub>
                        </m:sSub>
                      </m:e>
                    </m:d>
                    <m:r>
                      <m:t xml:space="preserve">εN</m:t>
                    </m:r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 Box 37"/>
          <p:cNvSpPr/>
          <p:nvPr/>
        </p:nvSpPr>
        <p:spPr>
          <a:xfrm>
            <a:off x="304920" y="297180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In other words, any algorithm that solves the sampling problem also solves the search problem w.h.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7"/>
          <p:cNvSpPr/>
          <p:nvPr/>
        </p:nvSpPr>
        <p:spPr>
          <a:xfrm>
            <a:off x="304920" y="472428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Proof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Counting argu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7"/>
          <p:cNvSpPr/>
          <p:nvPr/>
        </p:nvSpPr>
        <p:spPr>
          <a:xfrm>
            <a:off x="304920" y="2286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Lemma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Given a probabilistic Turing machine B, sup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7"/>
          <p:cNvSpPr/>
          <p:nvPr/>
        </p:nvSpPr>
        <p:spPr>
          <a:xfrm>
            <a:off x="304920" y="1600200"/>
            <a:ext cx="86104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C be the distribution over m-bit strings obtained by running B(x,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), then picking one its N outputs y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y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randomly.  Then there exists a constant Q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7"/>
          <p:cNvSpPr/>
          <p:nvPr/>
        </p:nvSpPr>
        <p:spPr>
          <a:xfrm>
            <a:off x="304920" y="4419720"/>
            <a:ext cx="8534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Proof Sketch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Use Kolmogorentropy Lemma to show B(x,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)’s output distribution has small KL-divergence from D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.  Similar to Parallel Repetition Theorem, this implies C has small KL-divergence from D.  By Pinsker’s Inequality, this implies |C-D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| is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914400" y="838080"/>
                <a:ext cx="46483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δ</m:t>
                            </m:r>
                          </m:e>
                        </m:d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δ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380880" y="2971800"/>
                <a:ext cx="35053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δ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Text Box 37"/>
          <p:cNvSpPr/>
          <p:nvPr/>
        </p:nvSpPr>
        <p:spPr>
          <a:xfrm>
            <a:off x="4038480" y="304812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9900"/>
                </a:solidFill>
                <a:latin typeface="Calibri"/>
                <a:ea typeface="Calibri"/>
              </a:rPr>
              <a:t>In other words: if B solves the search problem w.h.p., then it also solves the sampl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Wrapping Up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Text Box 37"/>
          <p:cNvSpPr/>
          <p:nvPr/>
        </p:nvSpPr>
        <p:spPr>
          <a:xfrm>
            <a:off x="304920" y="1295280"/>
            <a:ext cx="8534160" cy="38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Let O be any oracle that, given x, 0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1/</a:t>
            </a:r>
            <a:r>
              <a:rPr b="0" lang="en-CA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and a random string r, outputs a sample from a distribution C such that |C-D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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.  Then R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FBPP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Let B be any probabilistic Turing machine that, given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x,0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1/</a:t>
            </a:r>
            <a:r>
              <a:rPr b="0" lang="en-CA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outputs a Y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,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with probability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.  Then S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SampBPP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Application to Quantum Complexity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1295280" y="1600200"/>
            <a:ext cx="655344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Suppose 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FBP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FBQ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Let S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SampBQ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Then R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FBQP 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	</a:t>
            </a:r>
            <a:r>
              <a:rPr b="0" lang="en-CA" sz="3200" spc="-1" strike="noStrike">
                <a:solidFill>
                  <a:srgbClr val="003300"/>
                </a:solidFill>
                <a:latin typeface="Calibri"/>
                <a:ea typeface="Calibri"/>
              </a:rPr>
              <a:t>[R</a:t>
            </a:r>
            <a:r>
              <a:rPr b="0" lang="en-CA" sz="3200" spc="-1" strike="noStrike" baseline="-25000">
                <a:solidFill>
                  <a:srgbClr val="003300"/>
                </a:solidFill>
                <a:latin typeface="Calibri"/>
                <a:ea typeface="Calibri"/>
              </a:rPr>
              <a:t>S</a:t>
            </a:r>
            <a:r>
              <a:rPr b="0" lang="en-CA" sz="3200" spc="-1" strike="noStrike">
                <a:solidFill>
                  <a:srgbClr val="003300"/>
                </a:solidFill>
                <a:latin typeface="Symbol"/>
                <a:ea typeface="Symbol"/>
              </a:rPr>
              <a:t></a:t>
            </a:r>
            <a:r>
              <a:rPr b="0" lang="en-CA" sz="3200" spc="-1" strike="noStrike">
                <a:solidFill>
                  <a:srgbClr val="003300"/>
                </a:solidFill>
                <a:latin typeface="Calibri"/>
                <a:ea typeface="Calibri"/>
              </a:rPr>
              <a:t>S reductio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FBPP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	</a:t>
            </a:r>
            <a:r>
              <a:rPr b="0" lang="en-CA" sz="3200" spc="-1" strike="noStrike">
                <a:solidFill>
                  <a:srgbClr val="003300"/>
                </a:solidFill>
                <a:latin typeface="Calibri"/>
                <a:ea typeface="Calibri"/>
              </a:rPr>
              <a:t>[by hypothesi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SampBP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CA" sz="3200" spc="-1" strike="noStrike">
                <a:solidFill>
                  <a:srgbClr val="003300"/>
                </a:solidFill>
                <a:latin typeface="Calibri"/>
                <a:ea typeface="Calibri"/>
              </a:rPr>
              <a:t>[S</a:t>
            </a:r>
            <a:r>
              <a:rPr b="0" lang="en-CA" sz="3200" spc="-1" strike="noStrike">
                <a:solidFill>
                  <a:srgbClr val="003300"/>
                </a:solidFill>
                <a:latin typeface="Symbol"/>
                <a:ea typeface="Symbol"/>
              </a:rPr>
              <a:t></a:t>
            </a:r>
            <a:r>
              <a:rPr b="0" lang="en-CA" sz="3200" spc="-1" strike="noStrike">
                <a:solidFill>
                  <a:srgbClr val="003300"/>
                </a:solidFill>
                <a:latin typeface="Calibri"/>
                <a:ea typeface="Calibri"/>
              </a:rPr>
              <a:t>R</a:t>
            </a:r>
            <a:r>
              <a:rPr b="0" lang="en-CA" sz="3200" spc="-1" strike="noStrike" baseline="-25000">
                <a:solidFill>
                  <a:srgbClr val="003300"/>
                </a:solidFill>
                <a:latin typeface="Calibri"/>
                <a:ea typeface="Calibri"/>
              </a:rPr>
              <a:t>S</a:t>
            </a:r>
            <a:r>
              <a:rPr b="0" lang="en-CA" sz="3200" spc="-1" strike="noStrike">
                <a:solidFill>
                  <a:srgbClr val="003300"/>
                </a:solidFill>
                <a:latin typeface="Calibri"/>
                <a:ea typeface="Calibri"/>
              </a:rPr>
              <a:t> reductio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Therefore 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SampBP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SampBQ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Open Problem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228600" y="281952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The converse direction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Given a search problem, can we construct an equivalent sampling proble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228600" y="1143000"/>
            <a:ext cx="8534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Can we show there’s no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black-box equivalence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between search and sampling problems?  (I.e., that our use of Kolmogorov complexity was necessary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228600" y="3962520"/>
            <a:ext cx="8534520" cy="19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What if we want the search problem to be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checkable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Calibri"/>
                <a:ea typeface="Calibri"/>
              </a:rPr>
              <a:t>Can redo proof with space-bounded Kolmogorov complexity to put search problem in </a:t>
            </a:r>
            <a:r>
              <a:rPr b="1" lang="en-CA" sz="2400" spc="-1" strike="noStrike">
                <a:solidFill>
                  <a:srgbClr val="7030a0"/>
                </a:solidFill>
                <a:latin typeface="Calibri"/>
                <a:ea typeface="Calibri"/>
              </a:rPr>
              <a:t>PSPACE</a:t>
            </a:r>
            <a:r>
              <a:rPr b="0" lang="en-CA" sz="2400" spc="-1" strike="noStrike">
                <a:solidFill>
                  <a:srgbClr val="009900"/>
                </a:solidFill>
                <a:latin typeface="Calibri"/>
                <a:ea typeface="Calibri"/>
              </a:rPr>
              <a:t>, but seems hard to do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7"/>
          <p:cNvSpPr/>
          <p:nvPr/>
        </p:nvSpPr>
        <p:spPr>
          <a:xfrm>
            <a:off x="304920" y="556272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More equivalence theorems—ideally, involving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decision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and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promise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problem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In complexity theory, we love at least four types of problem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Text Box 37"/>
          <p:cNvSpPr/>
          <p:nvPr/>
        </p:nvSpPr>
        <p:spPr>
          <a:xfrm>
            <a:off x="380880" y="2666880"/>
            <a:ext cx="838224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Languages / Decision Problems.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 Decide if x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L or x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Promise Problems.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 Decide if x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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YES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or x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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Search Problems.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 Output an element of a (nonempty) set A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 with probability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 in poly(n,1/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Sampling Problems.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 Sample from a probability distribution D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over m-bit strings, with error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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variation distance, in poly(n,1/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304920" y="17524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000000"/>
                </a:solidFill>
                <a:latin typeface="Calibri"/>
                <a:ea typeface="Calibri"/>
              </a:rPr>
              <a:t>Given an input x</a:t>
            </a:r>
            <a:r>
              <a:rPr b="0" i="1" lang="en-CA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CA" sz="36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i="1" lang="en-CA" sz="3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i="1" lang="en-CA" sz="3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  <a:ea typeface="Calibri"/>
              </a:rPr>
              <a:t>Suppose we want to know whether quantum computers are stronger than classical computers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057400" y="3581280"/>
            <a:ext cx="5181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 vs. 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PromiseBP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 vs. 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PromiseBQ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FBP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 vs. 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FBQ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SampBP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 vs. 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SampBQ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7"/>
          <p:cNvSpPr/>
          <p:nvPr/>
        </p:nvSpPr>
        <p:spPr>
          <a:xfrm>
            <a:off x="152280" y="20574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(To pick a random example of a complexity ques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7"/>
          <p:cNvSpPr/>
          <p:nvPr/>
        </p:nvSpPr>
        <p:spPr>
          <a:xfrm>
            <a:off x="228600" y="27432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which formal question do we “really” mean to as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Easy Implica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Text Box 37"/>
          <p:cNvSpPr/>
          <p:nvPr/>
        </p:nvSpPr>
        <p:spPr>
          <a:xfrm>
            <a:off x="380880" y="1371600"/>
            <a:ext cx="838224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SampB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SampBQ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FB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FBQ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PromiseB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PromiseBQ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7"/>
          <p:cNvSpPr/>
          <p:nvPr/>
        </p:nvSpPr>
        <p:spPr>
          <a:xfrm>
            <a:off x="304920" y="342900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3300"/>
                </a:solidFill>
                <a:latin typeface="Calibri"/>
                <a:ea typeface="Calibri"/>
              </a:rPr>
              <a:t>Crucial question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Can these implications be rever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7"/>
          <p:cNvSpPr/>
          <p:nvPr/>
        </p:nvSpPr>
        <p:spPr>
          <a:xfrm>
            <a:off x="304920" y="4343400"/>
            <a:ext cx="85341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3300"/>
                </a:solidFill>
                <a:latin typeface="Calibri"/>
                <a:ea typeface="Calibri"/>
              </a:rPr>
              <a:t>We show that at least one of them ca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FB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FBQ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SampB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SampBQ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Application to Linear Optic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Text Box 37"/>
          <p:cNvSpPr/>
          <p:nvPr/>
        </p:nvSpPr>
        <p:spPr>
          <a:xfrm>
            <a:off x="304920" y="1066680"/>
            <a:ext cx="853416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9900"/>
                </a:solidFill>
                <a:latin typeface="Calibri"/>
                <a:ea typeface="Calibri"/>
              </a:rPr>
              <a:t>[A.-Arkhipov, STOC’11]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study a rudimentary type of quantum computer based entirely on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linear optics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: identical, non-interacting photons passing through a network of beamsplit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Our model doesn’t seem to be universal for quantum computing (or even classical computing)—but it can solve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sampling problems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that we give evidence are hard classic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Using today’s result, we automatically also get a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search problem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solvable with linear optics that ought to be hard classic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  <a:ea typeface="Calibri"/>
              </a:rPr>
              <a:t>But the QC stuff is just </a:t>
            </a:r>
            <a:r>
              <a:rPr b="1" lang="en-US" sz="3800" spc="-1" strike="noStrike">
                <a:solidFill>
                  <a:srgbClr val="ff0000"/>
                </a:solidFill>
                <a:latin typeface="Calibri"/>
                <a:ea typeface="Calibri"/>
              </a:rPr>
              <a:t>one application </a:t>
            </a:r>
            <a:r>
              <a:rPr b="1" lang="en-US" sz="3800" spc="-1" strike="noStrike">
                <a:solidFill>
                  <a:srgbClr val="333399"/>
                </a:solidFill>
                <a:latin typeface="Calibri"/>
                <a:ea typeface="Calibri"/>
              </a:rPr>
              <a:t>of a much more general result…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Text Box 37"/>
          <p:cNvSpPr/>
          <p:nvPr/>
        </p:nvSpPr>
        <p:spPr>
          <a:xfrm>
            <a:off x="380880" y="1523880"/>
            <a:ext cx="8534520" cy="45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Informal Statemen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Let S={D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}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be any sampling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Then there exists a search problem R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={A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}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that’s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equivalent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to S, in the following sen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any “reasonable” complexity class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C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BPPSPACE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etc.)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en-CA" sz="3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CA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CA" sz="3600" spc="-1" strike="noStrike">
                <a:solidFill>
                  <a:srgbClr val="7030a0"/>
                </a:solidFill>
                <a:latin typeface="Calibri"/>
                <a:ea typeface="Calibri"/>
              </a:rPr>
              <a:t>FC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CA" sz="3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  <a:ea typeface="Calibri"/>
              </a:rPr>
              <a:t> S</a:t>
            </a:r>
            <a:r>
              <a:rPr b="0" lang="en-CA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CA" sz="3600" spc="-1" strike="noStrike">
                <a:solidFill>
                  <a:srgbClr val="7030a0"/>
                </a:solidFill>
                <a:latin typeface="Calibri"/>
                <a:ea typeface="Calibri"/>
              </a:rPr>
              <a:t>Samp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Intuitio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Text Box 37"/>
          <p:cNvSpPr/>
          <p:nvPr/>
        </p:nvSpPr>
        <p:spPr>
          <a:xfrm>
            <a:off x="304920" y="1219320"/>
            <a:ext cx="861048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Suppose our sampling problem is to sample uniformly from a set A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First stab at an “equivalent” search problem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output any element of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That clearly doesn’t work—finding an A element could be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much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easier than sampling a random elemen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Better idea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output an element y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A </a:t>
            </a:r>
            <a:r>
              <a:rPr b="0" i="1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whose Kolmogorov complexity K(y) is close to log</a:t>
            </a:r>
            <a:r>
              <a:rPr b="0" i="1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i="1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|A|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7"/>
          <p:cNvSpPr/>
          <p:nvPr/>
        </p:nvSpPr>
        <p:spPr>
          <a:xfrm>
            <a:off x="304920" y="457200"/>
            <a:ext cx="853416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Clearly, if we can sample a random y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A, then with high probability K(y)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log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|A|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But conversely, if a randomized machine M outputs a y with K(y)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log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|A|, it can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only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do so by sampling y almost-uniformly from A.  For otherwise, M would yield a succinct description of y, contrary to assump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7"/>
          <p:cNvSpPr/>
          <p:nvPr/>
        </p:nvSpPr>
        <p:spPr>
          <a:xfrm>
            <a:off x="304920" y="4343400"/>
            <a:ext cx="861048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Technical part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Generalize to nonuniform dis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Requires notion of a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universal randomness test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from algorithmic information theor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Comment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Text Box 37"/>
          <p:cNvSpPr/>
          <p:nvPr/>
        </p:nvSpPr>
        <p:spPr>
          <a:xfrm>
            <a:off x="304920" y="2971800"/>
            <a:ext cx="845820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Our “reduction” from sampling to search is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non-black-box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: it requires the assumption that we have a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Turing machine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to solve R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304920" y="4648320"/>
            <a:ext cx="8458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Our result provides an extremely natural application of Kolmogorov complexity to “standard” complexity: one that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doesn’t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just amount to a counting argu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304920" y="1295280"/>
            <a:ext cx="84582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If we just wanted a search problem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at least as hard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as S, that would be easy: Kolmogorov complexity only comes in because we need R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to be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equivalent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to 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owner</cp:lastModifiedBy>
  <dcterms:modified xsi:type="dcterms:W3CDTF">2011-06-12T20:56:33Z</dcterms:modified>
  <cp:revision>409</cp:revision>
  <dc:subject/>
  <dc:title>Slide 1</dc:title>
</cp:coreProperties>
</file>