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700-65C3-446B-9605-53DDBF082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9AB6-9C4B-44B3-A356-BF37D1E4E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EBE-110C-47EC-9FF7-7550306C6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93A5-49B5-4D94-B59D-B596CDEFB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157-847D-498B-B7C7-4E5D16FB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473-FD81-4C48-90C5-07BF0A3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D15-9484-4695-8D66-D38D1468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4C4-CD4D-463C-B9FF-4CEF5EEE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A2C-3CF8-4027-8DD5-6B467C8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5D7-CBA4-4534-AA02-7C17598A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341-4752-4BE9-84B0-89D1265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B56-BEF1-487D-BAD3-F781C64B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E5E-3837-4EC2-A0F5-7B981CD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C30-37BB-422F-9E40-544E24A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24F-240D-47DD-852A-6B3EEDA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8E8-A06C-4835-9259-7F0AC44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621-2B47-4238-B3FF-53065F9C7A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4ED-08C8-42F8-82AB-09887D775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60" y="13284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A Question About Quantum Finite Automat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2880" y="75852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03320" y="1371600"/>
            <a:ext cx="8915400" cy="218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re a QFA that takes as input an infinite sequence of i.i.d. coin flips, and whose limiting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being in an “Accept” stat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/3 if the coin is fai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/3 if the coin is unfair?  (Where                                 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204840" y="358920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ellman-Cover 197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answer is “no” for classical finite automata.  Indeed, any DFA that distinguishes a fair coin from a coin with b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.h.p., must hav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198360" y="496080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A.-Drucker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Hellman-Cover argument fail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!  Indeed, for an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&gt;0, there’s a 2-state QFA that distinguishes a fair coin from a coin with b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halting after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with a probably-correc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"/>
              <p:cNvSpPr txBox="1"/>
              <p:nvPr/>
            </p:nvSpPr>
            <p:spPr>
              <a:xfrm>
                <a:off x="3540240" y="2117880"/>
                <a:ext cx="4360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cep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ubtitle 2"/>
          <p:cNvSpPr/>
          <p:nvPr/>
        </p:nvSpPr>
        <p:spPr>
          <a:xfrm>
            <a:off x="411120" y="304920"/>
            <a:ext cx="446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dea of the QFA for fixed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Just rotate a qubit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amount clockwise with each heads, or counterclockwise with each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probability, measure in {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876920" y="152280"/>
            <a:ext cx="3595680" cy="3657600"/>
            <a:chOff x="4876920" y="152280"/>
            <a:chExt cx="3595680" cy="3657600"/>
          </a:xfrm>
        </p:grpSpPr>
        <p:sp>
          <p:nvSpPr>
            <p:cNvPr id="56" name="Oval 8"/>
            <p:cNvSpPr/>
            <p:nvPr/>
          </p:nvSpPr>
          <p:spPr>
            <a:xfrm>
              <a:off x="4876920" y="7617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4876920" y="228564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>
              <a:off x="6401160" y="7617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Object 11"/>
            <p:cNvGraphicFramePr/>
            <p:nvPr/>
          </p:nvGraphicFramePr>
          <p:xfrm>
            <a:off x="7925040" y="19047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5040" y="19047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12"/>
            <p:cNvGraphicFramePr/>
            <p:nvPr/>
          </p:nvGraphicFramePr>
          <p:xfrm>
            <a:off x="6189840" y="15228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89840" y="15228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Object 13"/>
            <p:cNvGraphicFramePr/>
            <p:nvPr/>
          </p:nvGraphicFramePr>
          <p:xfrm>
            <a:off x="7315560" y="60948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15560" y="60948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Line 14"/>
          <p:cNvSpPr/>
          <p:nvPr/>
        </p:nvSpPr>
        <p:spPr>
          <a:xfrm>
            <a:off x="6393960" y="2292120"/>
            <a:ext cx="155484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6390720" y="2080440"/>
            <a:ext cx="1558080" cy="20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6376320" y="186732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ubtitle 2"/>
          <p:cNvSpPr/>
          <p:nvPr/>
        </p:nvSpPr>
        <p:spPr>
          <a:xfrm>
            <a:off x="326880" y="3610080"/>
            <a:ext cx="56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 the other hand: 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coin bias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dimension of the QFA.  Then Drucker and I showed that the limiting acceptanc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a quoti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f two degree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s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cept possi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0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(and that’s the trouble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6248520" y="4110120"/>
            <a:ext cx="2655720" cy="2395440"/>
            <a:chOff x="6248520" y="4110120"/>
            <a:chExt cx="2655720" cy="2395440"/>
          </a:xfrm>
        </p:grpSpPr>
        <p:sp>
          <p:nvSpPr>
            <p:cNvPr id="70" name="Rectangle 20"/>
            <p:cNvSpPr/>
            <p:nvPr/>
          </p:nvSpPr>
          <p:spPr>
            <a:xfrm>
              <a:off x="6248520" y="4110120"/>
              <a:ext cx="2655720" cy="1752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6248520" y="4338720"/>
              <a:ext cx="2655720" cy="1295280"/>
            </a:xfrm>
            <a:custGeom>
              <a:avLst/>
              <a:gdLst/>
              <a:ahLst/>
              <a:rect l="l" t="t" r="r" b="b"/>
              <a:pathLst>
                <a:path w="8360229" h="3141617">
                  <a:moveTo>
                    <a:pt x="0" y="2281645"/>
                  </a:moveTo>
                  <a:cubicBezTo>
                    <a:pt x="349431" y="1386839"/>
                    <a:pt x="698863" y="492034"/>
                    <a:pt x="1188720" y="596537"/>
                  </a:cubicBezTo>
                  <a:cubicBezTo>
                    <a:pt x="1678577" y="701040"/>
                    <a:pt x="2222863" y="3004457"/>
                    <a:pt x="2939143" y="2908663"/>
                  </a:cubicBezTo>
                  <a:cubicBezTo>
                    <a:pt x="3655423" y="2812869"/>
                    <a:pt x="4746171" y="0"/>
                    <a:pt x="5486400" y="21771"/>
                  </a:cubicBezTo>
                  <a:cubicBezTo>
                    <a:pt x="6226629" y="43542"/>
                    <a:pt x="6901544" y="2936965"/>
                    <a:pt x="7380515" y="3039291"/>
                  </a:cubicBezTo>
                  <a:cubicBezTo>
                    <a:pt x="7859487" y="3141617"/>
                    <a:pt x="8109858" y="1888671"/>
                    <a:pt x="8360229" y="63572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"/>
            <p:cNvSpPr/>
            <p:nvPr/>
          </p:nvSpPr>
          <p:spPr>
            <a:xfrm>
              <a:off x="8147160" y="4186080"/>
              <a:ext cx="757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a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7346160" y="5862600"/>
              <a:ext cx="757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"/>
            <p:cNvSpPr/>
            <p:nvPr/>
          </p:nvSpPr>
          <p:spPr>
            <a:xfrm>
              <a:off x="6715800" y="482904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7543800" y="476640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2"/>
            <p:cNvSpPr/>
            <p:nvPr/>
          </p:nvSpPr>
          <p:spPr>
            <a:xfrm>
              <a:off x="7543800" y="5453280"/>
              <a:ext cx="180720" cy="180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3"/>
            <p:cNvSpPr/>
            <p:nvPr/>
          </p:nvSpPr>
          <p:spPr>
            <a:xfrm>
              <a:off x="6730200" y="4186080"/>
              <a:ext cx="180720" cy="180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ubtitle 2"/>
          <p:cNvSpPr/>
          <p:nvPr/>
        </p:nvSpPr>
        <p:spPr>
          <a:xfrm>
            <a:off x="326880" y="685800"/>
            <a:ext cx="858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, if the QF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entering an Accept state, then we can show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a rational function o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ntire ope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0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Though possibly not at the endpoints—do you see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, at least in the halting case, a single QFA indeed can’t distinguis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/2 from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question is whether this can be extended to QFAs that never halt, but only “accept” or “reject” in 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03:16Z</dcterms:created>
  <dc:creator>Scott Aaronson</dc:creator>
  <dc:description/>
  <dc:language>en-US</dc:language>
  <cp:lastModifiedBy>Scott</cp:lastModifiedBy>
  <dcterms:modified xsi:type="dcterms:W3CDTF">2014-06-11T15:49:54Z</dcterms:modified>
  <cp:revision>119</cp:revision>
  <dc:subject/>
  <dc:title>Arthur-Merlin and Black-Box Groups in Quantum Computing</dc:title>
</cp:coreProperties>
</file>