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F3C-29FB-4365-882E-2B924AF93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5BA-D37B-4293-A0DB-50910A64F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E8A5-9CBA-478B-8310-DA90097E6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F374-5365-4B2D-A5A3-FDDFBF0D1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63C-3ECC-43E9-ADFE-2947E7B9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039-1C8D-46CF-890C-1F2F6345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6CE-552F-4C9E-B7AB-EC0E3079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D2E-CAAD-4BED-BC1C-E46C7F47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218-0868-4701-B549-0273CA78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393-736D-4151-8B34-B2071E7D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A89-EA0E-49E7-BDDC-B240C377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B45-D2E7-41E2-B497-232282D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499-F1B9-447A-B4BD-AE5E920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EEF-E8B9-4DE0-AF04-4012BF5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F86-5EC5-4074-B279-CE4077F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A0D-44D7-4950-A830-26A7347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5248-8D58-4D1F-8A56-369A2BABA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4618-243C-483A-8533-6FAA7F09D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60" y="13284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A Question About Quantum Finite Automat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2880" y="75852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03320" y="1371600"/>
            <a:ext cx="8915400" cy="218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s there a QFA that takes as input an infinite sequence of i.i.d. coin flips, and whose limiting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f being in an “Accept” stat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/3 if the coin is fai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1/3 if the coin is unfair?  (Where                                            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204840" y="358920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Hellman-Cover 1970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answer is “no” for classical finite automata.  Indeed, any DFA that distinguishes a fair coin from a coin with b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w.h.p., must hav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198360" y="496080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A.-Drucker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The Hellman-Cover argument fail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As!  Indeed, for an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x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&gt;0, there’s a 2-state QFA that distinguishes a fair coin from a coin with b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halting after ~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 with a probably-correc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"/>
              <p:cNvSpPr txBox="1"/>
              <p:nvPr/>
            </p:nvSpPr>
            <p:spPr>
              <a:xfrm>
                <a:off x="3540240" y="2117880"/>
                <a:ext cx="43606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ccep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ubtitle 2"/>
          <p:cNvSpPr/>
          <p:nvPr/>
        </p:nvSpPr>
        <p:spPr>
          <a:xfrm>
            <a:off x="411120" y="304920"/>
            <a:ext cx="4465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Idea of the QFA for fixed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Just rotate a qubit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amount clockwise with each heads, or counterclockwise with each 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probability, measure in {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|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}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876920" y="152280"/>
            <a:ext cx="3595680" cy="3657600"/>
            <a:chOff x="4876920" y="152280"/>
            <a:chExt cx="3595680" cy="3657600"/>
          </a:xfrm>
        </p:grpSpPr>
        <p:sp>
          <p:nvSpPr>
            <p:cNvPr id="56" name="Oval 8"/>
            <p:cNvSpPr/>
            <p:nvPr/>
          </p:nvSpPr>
          <p:spPr>
            <a:xfrm>
              <a:off x="4876920" y="761760"/>
              <a:ext cx="304812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4876920" y="2285640"/>
              <a:ext cx="304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>
              <a:off x="6401160" y="761760"/>
              <a:ext cx="144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Object 11"/>
            <p:cNvGraphicFramePr/>
            <p:nvPr/>
          </p:nvGraphicFramePr>
          <p:xfrm>
            <a:off x="7925040" y="1904760"/>
            <a:ext cx="54756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25040" y="190476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Object 12"/>
            <p:cNvGraphicFramePr/>
            <p:nvPr/>
          </p:nvGraphicFramePr>
          <p:xfrm>
            <a:off x="6189840" y="152280"/>
            <a:ext cx="5130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89840" y="152280"/>
                      <a:ext cx="5130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Object 13"/>
            <p:cNvGraphicFramePr/>
            <p:nvPr/>
          </p:nvGraphicFramePr>
          <p:xfrm>
            <a:off x="7315560" y="609480"/>
            <a:ext cx="868320" cy="73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15560" y="609480"/>
                      <a:ext cx="86832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Line 14"/>
          <p:cNvSpPr/>
          <p:nvPr/>
        </p:nvSpPr>
        <p:spPr>
          <a:xfrm>
            <a:off x="6393960" y="2292120"/>
            <a:ext cx="155484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6390720" y="2080440"/>
            <a:ext cx="1558080" cy="209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6376320" y="1867320"/>
            <a:ext cx="1501200" cy="42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ubtitle 2"/>
          <p:cNvSpPr/>
          <p:nvPr/>
        </p:nvSpPr>
        <p:spPr>
          <a:xfrm>
            <a:off x="326880" y="3610080"/>
            <a:ext cx="56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 the other hand: le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coin bias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= dimension of the QFA.  Then Drucker and I showed that the limiting acceptance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a quoti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of two degree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s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xcept possi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=0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  <a:ea typeface="Arial"/>
              </a:rPr>
              <a:t>(and that’s the trouble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6248520" y="4110120"/>
            <a:ext cx="2655720" cy="2395440"/>
            <a:chOff x="6248520" y="4110120"/>
            <a:chExt cx="2655720" cy="2395440"/>
          </a:xfrm>
        </p:grpSpPr>
        <p:sp>
          <p:nvSpPr>
            <p:cNvPr id="70" name="Rectangle 20"/>
            <p:cNvSpPr/>
            <p:nvPr/>
          </p:nvSpPr>
          <p:spPr>
            <a:xfrm>
              <a:off x="6248520" y="4110120"/>
              <a:ext cx="2655720" cy="17524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6248520" y="4338720"/>
              <a:ext cx="2655720" cy="1295280"/>
            </a:xfrm>
            <a:custGeom>
              <a:avLst/>
              <a:gdLst/>
              <a:ahLst/>
              <a:rect l="l" t="t" r="r" b="b"/>
              <a:pathLst>
                <a:path w="8360229" h="3141617">
                  <a:moveTo>
                    <a:pt x="0" y="2281645"/>
                  </a:moveTo>
                  <a:cubicBezTo>
                    <a:pt x="349431" y="1386839"/>
                    <a:pt x="698863" y="492034"/>
                    <a:pt x="1188720" y="596537"/>
                  </a:cubicBezTo>
                  <a:cubicBezTo>
                    <a:pt x="1678577" y="701040"/>
                    <a:pt x="2222863" y="3004457"/>
                    <a:pt x="2939143" y="2908663"/>
                  </a:cubicBezTo>
                  <a:cubicBezTo>
                    <a:pt x="3655423" y="2812869"/>
                    <a:pt x="4746171" y="0"/>
                    <a:pt x="5486400" y="21771"/>
                  </a:cubicBezTo>
                  <a:cubicBezTo>
                    <a:pt x="6226629" y="43542"/>
                    <a:pt x="6901544" y="2936965"/>
                    <a:pt x="7380515" y="3039291"/>
                  </a:cubicBezTo>
                  <a:cubicBezTo>
                    <a:pt x="7859487" y="3141617"/>
                    <a:pt x="8109858" y="1888671"/>
                    <a:pt x="8360229" y="63572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"/>
            <p:cNvSpPr/>
            <p:nvPr/>
          </p:nvSpPr>
          <p:spPr>
            <a:xfrm>
              <a:off x="8147160" y="4186080"/>
              <a:ext cx="757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a(p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7346160" y="5862600"/>
              <a:ext cx="7570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"/>
            <p:cNvSpPr/>
            <p:nvPr/>
          </p:nvSpPr>
          <p:spPr>
            <a:xfrm>
              <a:off x="6715800" y="482904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9"/>
            <p:cNvSpPr/>
            <p:nvPr/>
          </p:nvSpPr>
          <p:spPr>
            <a:xfrm>
              <a:off x="7543800" y="4766400"/>
              <a:ext cx="180720" cy="180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2"/>
            <p:cNvSpPr/>
            <p:nvPr/>
          </p:nvSpPr>
          <p:spPr>
            <a:xfrm>
              <a:off x="7543800" y="5453280"/>
              <a:ext cx="180720" cy="180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3"/>
            <p:cNvSpPr/>
            <p:nvPr/>
          </p:nvSpPr>
          <p:spPr>
            <a:xfrm>
              <a:off x="6730200" y="4186080"/>
              <a:ext cx="180720" cy="180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ubtitle 2"/>
          <p:cNvSpPr/>
          <p:nvPr/>
        </p:nvSpPr>
        <p:spPr>
          <a:xfrm>
            <a:off x="326880" y="685800"/>
            <a:ext cx="858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w, if the QF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ha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on entering an Accept state, then we can show 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is a rational function on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entire open inter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0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(Though possibly not at the endpoints—do you see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o, at least in the halting case, a single QFA indeed can’t distinguis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1/2 from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 question is whether this can be extended to QFAs that never halt, but only “accept” or “reject” in 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03:16Z</dcterms:created>
  <dc:creator>Scott Aaronson</dc:creator>
  <dc:description/>
  <dc:language>en-US</dc:language>
  <cp:lastModifiedBy>Scott</cp:lastModifiedBy>
  <dcterms:modified xsi:type="dcterms:W3CDTF">2014-06-11T15:49:54Z</dcterms:modified>
  <cp:revision>119</cp:revision>
  <dc:subject/>
  <dc:title>Arthur-Merlin and Black-Box Groups in Quantum Computing</dc:title>
</cp:coreProperties>
</file>