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73B-BBCB-4177-8062-77BDC872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389-AD92-408E-BFBF-55BEC790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BC6-69BA-4010-8AB4-04DF815B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3D9-1A68-43F5-9210-54F470EA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259-BBD8-4B45-9504-EAA0604A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0CB-B4AF-4D5B-BE43-EF50E2F6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AB5-796D-40CC-A42E-F73EFCB8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924-DBD3-4E3E-957F-47E977AA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3D6-CE34-43BE-845D-11A25355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E8D-3EA5-4273-A77D-D2856DCB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770-9BFE-4460-B7E3-84B2EB2E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3BC-0C41-4140-9F3F-1EB20D5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CB65-FF8D-4476-99E6-A81578C37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62" t="0" r="0" b="0"/>
          <a:stretch/>
        </p:blipFill>
        <p:spPr>
          <a:xfrm>
            <a:off x="1295280" y="533520"/>
            <a:ext cx="67010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 Hamiltonian is not a type of sand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828800"/>
            <a:ext cx="80773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ctually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me interesting questions about continuous-time quantum computing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a Hamiltonian H has the for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here each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ts on two neighboring vertices of a graph.  Can we approximate 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y a unitary whose only nonzero entries are between neighboring vertices?  What about vice vers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bustness of adiabatic quantum comp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finite-dimensional Hilbert spaces are more trouble than they’re w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590920"/>
            <a:ext cx="81532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A: Quantum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row out probability structure of Q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nly look at lattice of subspaces of Hilber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8006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y insight of quantum comput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don’t need to go to infinite-dimensional Hilbert space to get interest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WHAT DAVE WOULD LIKE TO LEARN FROM COMPUTER SCIENTI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is the power of the unstoppable-gate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80716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BQP=PP.  (Another crazy thing we thought we’d put on this sli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000" y="1523880"/>
            <a:ext cx="854208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scientists are used to mucking around with reality (AWPP, Mo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, NEE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245412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ists are really bad at mucking around with reality (But we can muck around with Hamiltonians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1400" y="3368520"/>
            <a:ext cx="708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mputer science contribute to concep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olutions in physic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920" y="4362480"/>
            <a:ext cx="2892240" cy="128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540320"/>
            <a:ext cx="563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: Gates are unstopp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ment time: uncert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else can we modular-exponenti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514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ything that we can modular exponentiate in polynomial time but not logarithmic dep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9480" y="3657600"/>
            <a:ext cx="830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ed to Jozsa’s question: Is BQP = BP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BQN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4419720"/>
            <a:ext cx="7086600" cy="1736640"/>
            <a:chOff x="1219320" y="4419720"/>
            <a:chExt cx="7086600" cy="1736640"/>
          </a:xfrm>
        </p:grpSpPr>
        <p:sp>
          <p:nvSpPr>
            <p:cNvPr id="207" name=""/>
            <p:cNvSpPr/>
            <p:nvPr/>
          </p:nvSpPr>
          <p:spPr>
            <a:xfrm>
              <a:off x="1219320" y="48006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7920" y="48006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19320" y="50292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7920" y="50292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76520" y="48006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5120" y="48006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50292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5120" y="50292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19320" y="52578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7920" y="52578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19320" y="54864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7920" y="54864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52578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52578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76520" y="54864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05120" y="54864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3429000" y="5639040"/>
              <a:ext cx="14796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285280" y="4648320"/>
              <a:ext cx="3948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Modular exponentiate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Hamiltonians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6705720" y="449604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629400" y="4419720"/>
              <a:ext cx="1676520" cy="167652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365200" y="1752480"/>
            <a:ext cx="44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sides group element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hould we worry about 4-manifold isomorphism being undecid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281952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cott’s answe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33920" y="3657600"/>
            <a:ext cx="2412720" cy="259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920" y="3581280"/>
            <a:ext cx="29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ave’s answ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WHAT SCOTT WOULD LIKE TO LEARN FROM PHYSICI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o ordered m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066680"/>
            <a:ext cx="845820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 is weird (compared to charge, spin, etc.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ds space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convertible with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es of undiscovered particles seem hard to predi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clear if it comes in discrete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886200"/>
            <a:ext cx="7315200" cy="1556280"/>
          </a:xfrm>
          <a:prstGeom prst="rect">
            <a:avLst/>
          </a:prstGeom>
          <a:solidFill>
            <a:srgbClr val="ffe5f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Ques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me up with an abstract computational model where an analogue of mass pops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62284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ask about anything (spacetime, particles, speed of light,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aw, black holes, 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’s with the holographic princi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9568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ographic princi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hysics of the bulk has an isomorphic description on the bound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ve my arm.  How does the boundary of the solar system know about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20574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ographic entropy boun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region of space can store at most 1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per square meter of surface area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581280"/>
            <a:ext cx="3657600" cy="581400"/>
          </a:xfrm>
          <a:prstGeom prst="rect">
            <a:avLst/>
          </a:prstGeom>
          <a:solidFill>
            <a:srgbClr val="ffe5f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’s with the dimensionality of space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752480"/>
            <a:ext cx="82296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ccording to the physicist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space had 2 dimensions, we’d already have a theory of quantum grav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space had 4 or more dimensions, we’d already have fault-tolerant quantum compu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19720" y="4572000"/>
            <a:ext cx="4724280" cy="2286000"/>
            <a:chOff x="4419720" y="4572000"/>
            <a:chExt cx="4724280" cy="228600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953400" y="5019840"/>
              <a:ext cx="21906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419720" y="4572000"/>
              <a:ext cx="2743200" cy="1447920"/>
            </a:xfrm>
            <a:prstGeom prst="wedgeEllipseCallout">
              <a:avLst>
                <a:gd name="adj1" fmla="val 58624"/>
                <a:gd name="adj2" fmla="val 31689"/>
              </a:avLst>
            </a:prstGeom>
            <a:solidFill>
              <a:srgbClr val="dce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L Help Cyrillic"/>
                </a:rPr>
                <a:t>uoc’ge 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LI</a:t>
              </a:r>
              <a:r>
                <a:rPr b="0" lang="en-US" sz="3000" spc="-1" strike="noStrike">
                  <a:solidFill>
                    <a:srgbClr val="000000"/>
                  </a:solidFill>
                  <a:latin typeface="TL Help Cyrillic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L Help Cyrillic"/>
                </a:rPr>
                <a:t> m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57200" y="4724280"/>
            <a:ext cx="39625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3 dimensions suck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Have I Learned F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81080" y="441936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19720"/>
            <a:ext cx="5105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1360" y="1600200"/>
            <a:ext cx="26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hysic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333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mputer Scient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6240" y="2362320"/>
            <a:ext cx="677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d What Else Would I Lik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 Learn from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ne thing physicists and computer scientists can agree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971800"/>
            <a:ext cx="769644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question is only meaningful if it’s phrased in terms of procedures (experiments, computations) that could in principle be perfor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ther wor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real enemy is mathema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WHAT DAVE HAS LEARNED FROM COMPUTER SCIENTI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 doesn’t stand for “Not Polynomia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048120"/>
            <a:ext cx="838224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Scott’s proposal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 is 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hysicist complexity cla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) C has complete promise problems an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i) 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s: L, P, BPP, BQP, PSP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y do physicists have so much trouble with NP?  Because it’s not something they’d ever come up with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4864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exity theory of physicist-classes waiting to be developed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14600" y="60958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er scientists have been studying Bell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733920"/>
            <a:ext cx="71625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scientists have been thinking for decades about communication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ed to Bell inequalities                           (“no-communication complexity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5680" y="1447920"/>
            <a:ext cx="8640000" cy="3504960"/>
            <a:chOff x="355680" y="1447920"/>
            <a:chExt cx="8640000" cy="35049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355680" y="1600200"/>
              <a:ext cx="18540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608800" y="1447920"/>
              <a:ext cx="720720" cy="16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2819520" y="1600200"/>
              <a:ext cx="88416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932280" y="1752480"/>
              <a:ext cx="1447920" cy="457200"/>
            </a:xfrm>
            <a:prstGeom prst="rightArrow">
              <a:avLst>
                <a:gd name="adj1" fmla="val 50000"/>
                <a:gd name="adj2" fmla="val 7917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932280" y="2362320"/>
              <a:ext cx="1447920" cy="457200"/>
            </a:xfrm>
            <a:prstGeom prst="rightArrow">
              <a:avLst>
                <a:gd name="adj1" fmla="val 50000"/>
                <a:gd name="adj2" fmla="val 7917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92000" y="3124080"/>
              <a:ext cx="133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lice: 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56080" y="312408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Bob: y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53440" y="1752480"/>
              <a:ext cx="244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ompute: f(x,y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52360" y="2254320"/>
              <a:ext cx="2335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Quantify: bi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ommunicate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019920" y="60958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141960" y="6124680"/>
            <a:ext cx="201600" cy="38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505320" y="6095880"/>
            <a:ext cx="1981080" cy="43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62720" y="6146640"/>
            <a:ext cx="380880" cy="25416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64"/>
                </a:moveTo>
                <a:cubicBezTo>
                  <a:pt x="16" y="32"/>
                  <a:pt x="32" y="0"/>
                  <a:pt x="48" y="16"/>
                </a:cubicBezTo>
                <a:cubicBezTo>
                  <a:pt x="64" y="32"/>
                  <a:pt x="80" y="160"/>
                  <a:pt x="96" y="160"/>
                </a:cubicBezTo>
                <a:cubicBezTo>
                  <a:pt x="112" y="160"/>
                  <a:pt x="120" y="32"/>
                  <a:pt x="144" y="16"/>
                </a:cubicBezTo>
                <a:cubicBezTo>
                  <a:pt x="168" y="0"/>
                  <a:pt x="204" y="32"/>
                  <a:pt x="240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66880" y="6172200"/>
            <a:ext cx="20160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3048120" y="6222960"/>
            <a:ext cx="380880" cy="25416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64"/>
                </a:moveTo>
                <a:cubicBezTo>
                  <a:pt x="16" y="32"/>
                  <a:pt x="32" y="0"/>
                  <a:pt x="48" y="16"/>
                </a:cubicBezTo>
                <a:cubicBezTo>
                  <a:pt x="64" y="32"/>
                  <a:pt x="80" y="160"/>
                  <a:pt x="96" y="160"/>
                </a:cubicBezTo>
                <a:cubicBezTo>
                  <a:pt x="112" y="160"/>
                  <a:pt x="120" y="32"/>
                  <a:pt x="144" y="16"/>
                </a:cubicBezTo>
                <a:cubicBezTo>
                  <a:pt x="168" y="0"/>
                  <a:pt x="204" y="32"/>
                  <a:pt x="240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828800" y="1752480"/>
            <a:ext cx="5029200" cy="4267440"/>
            <a:chOff x="1828800" y="1752480"/>
            <a:chExt cx="5029200" cy="4267440"/>
          </a:xfrm>
        </p:grpSpPr>
        <p:sp>
          <p:nvSpPr>
            <p:cNvPr id="73" name=""/>
            <p:cNvSpPr/>
            <p:nvPr/>
          </p:nvSpPr>
          <p:spPr>
            <a:xfrm>
              <a:off x="1828800" y="1752480"/>
              <a:ext cx="5029200" cy="42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7"/>
            <a:srcRect l="0" t="14375" r="0" b="0"/>
            <a:stretch/>
          </p:blipFill>
          <p:spPr>
            <a:xfrm>
              <a:off x="4572000" y="3200400"/>
              <a:ext cx="219096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057400" y="1981080"/>
              <a:ext cx="4724640" cy="55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loset computer scientist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0240" y="2543040"/>
              <a:ext cx="7617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t’s the representation, stup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2880" y="3352680"/>
            <a:ext cx="83059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equences for the everyday physici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 simulation of quantum system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straete, Vidal, Osborne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952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structures are a big deal! 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not always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33520" y="2209680"/>
            <a:ext cx="8229600" cy="932040"/>
            <a:chOff x="533520" y="2209680"/>
            <a:chExt cx="8229600" cy="93204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2895480" y="2209680"/>
              <a:ext cx="3581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33520" y="2590920"/>
              <a:ext cx="822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omplex numbers vs. 2n complex number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206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492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06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492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778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064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778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064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06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492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06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92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78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064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778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064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350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350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922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08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922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208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0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350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922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208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922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08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494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780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494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780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066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52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066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52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494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780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494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780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66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52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066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52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06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92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06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778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064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78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064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350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50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922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208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922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208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494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780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494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80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066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52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066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352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630396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2720" y="560556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55680" y="6053040"/>
            <a:ext cx="293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559584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2200" y="5594400"/>
            <a:ext cx="0" cy="73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55680" y="6041880"/>
            <a:ext cx="0" cy="28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92800" y="5105520"/>
            <a:ext cx="2741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anglem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rtional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09920" y="5105520"/>
            <a:ext cx="1896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10160" y="5562720"/>
            <a:ext cx="676440" cy="685800"/>
          </a:xfrm>
          <a:prstGeom prst="rightArrow">
            <a:avLst>
              <a:gd name="adj1" fmla="val 50000"/>
              <a:gd name="adj2" fmla="val 4074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219320"/>
            <a:ext cx="63244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r scientists have taught me           how to know when I am defeat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029360" y="200160"/>
            <a:ext cx="1505160" cy="2009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1752840" cy="1633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441972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wer of        “reduction”-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4114800"/>
            <a:ext cx="3200400" cy="1523880"/>
          </a:xfrm>
          <a:prstGeom prst="wedgeRectCallout">
            <a:avLst>
              <a:gd name="adj1" fmla="val -77481"/>
              <a:gd name="adj2" fmla="val -13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tion: 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is h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ing A is h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1440" y="6156360"/>
            <a:ext cx="473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ness of approx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5520" y="5638680"/>
            <a:ext cx="92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28600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QMA-complete problem: Determine whether a given 2-local Hamiltonian has maximum eigenvalue at least c+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at most c-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promised that one of these is the c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65600" y="5638680"/>
            <a:ext cx="104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WHAT SCOTT HAS LEARNED FROM PHYSICI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Physicists have been studying the Parallel Repetition Theorem and didn’t know i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1523880"/>
            <a:ext cx="4648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y such a game n times in parallel.  Does the probability of winning all n games decrease exponentially in 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41148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arallel Repetition 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1447920"/>
            <a:ext cx="3129120" cy="1981080"/>
            <a:chOff x="457200" y="1447920"/>
            <a:chExt cx="3129120" cy="1981080"/>
          </a:xfrm>
        </p:grpSpPr>
        <p:grpSp>
          <p:nvGrpSpPr>
            <p:cNvPr id="179" name=""/>
            <p:cNvGrpSpPr/>
            <p:nvPr/>
          </p:nvGrpSpPr>
          <p:grpSpPr>
            <a:xfrm>
              <a:off x="990720" y="2438280"/>
              <a:ext cx="2133360" cy="609840"/>
              <a:chOff x="990720" y="2438280"/>
              <a:chExt cx="2133360" cy="609840"/>
            </a:xfrm>
          </p:grpSpPr>
          <p:sp>
            <p:nvSpPr>
              <p:cNvPr id="180" name=""/>
              <p:cNvSpPr/>
              <p:nvPr/>
            </p:nvSpPr>
            <p:spPr>
              <a:xfrm>
                <a:off x="990720" y="2472120"/>
                <a:ext cx="6094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1142640" y="2438280"/>
                <a:ext cx="6094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361960" y="2438280"/>
                <a:ext cx="6094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514600" y="2472120"/>
                <a:ext cx="6094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457200" y="1523880"/>
              <a:ext cx="812880" cy="9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15656" t="1787" r="13419" b="36633"/>
            <a:stretch/>
          </p:blipFill>
          <p:spPr>
            <a:xfrm>
              <a:off x="2743200" y="1447920"/>
              <a:ext cx="843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676520" y="2743200"/>
              <a:ext cx="68580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28600" y="358128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ed by physicists in the case of the CHSH g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4648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CHSH game, best known result comes from Feige-Lovasz semidefinite programming relax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638680"/>
            <a:ext cx="6477120" cy="977400"/>
          </a:xfrm>
          <a:prstGeom prst="rect">
            <a:avLst/>
          </a:prstGeom>
          <a:solidFill>
            <a:srgbClr val="ffff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ice and Bob can win n parallel CHSH games with probability at mo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85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0:09:42Z</dcterms:created>
  <dc:creator>Scott Aaronson</dc:creator>
  <dc:description/>
  <dc:language>en-US</dc:language>
  <cp:lastModifiedBy>Scott Aaronson</cp:lastModifiedBy>
  <dcterms:modified xsi:type="dcterms:W3CDTF">2006-10-13T07:17:49Z</dcterms:modified>
  <cp:revision>26</cp:revision>
  <dc:subject/>
  <dc:title>What Have I Learned From Physicists / Computer Scientists and What Else Would I Like to Learn from Them?</dc:title>
</cp:coreProperties>
</file>