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3A5B-D58F-479D-9E30-57CEE8707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3D6C-E5B9-4F70-8EBE-7FD99980A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DAF9-D09E-4490-B043-86F3787DB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D6DF-4204-4B0E-8EAD-4746909BF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ACB4-C155-4EE4-9A44-D3F9899B4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E794-52B1-491D-A83E-CE2CA0698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82F7-B587-4742-A934-4DE2161D6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AD4-4AEF-4EEE-93AD-B997E15E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42C-14E3-4165-8D45-4F539D24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5EB-BD6C-4D3B-A7C2-76C285C5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1F7-FDE8-4ACB-BBE4-578E2B7A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053-351C-4590-ABAB-4FD8EF9B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B34-56C0-45B5-945C-EBCE0BE9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636-A7DD-4D02-9A58-38843E2D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DF3-6D22-4FBC-B111-92E5AB85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4FA3-67A4-416C-8D3E-EDE8E396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C07-978A-47E5-9D6F-FB66D41F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E64-3F13-4F6D-A988-60A4803A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E8F-F8DF-4CF5-8335-342C8A0B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DE4A-F18C-413D-A5D4-917D2C0DC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5341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3300"/>
                </a:solidFill>
                <a:latin typeface="Calibri"/>
              </a:rPr>
              <a:t>Generating Random Stabilizer States in Matrix Multiplication Time:</a:t>
            </a:r>
            <a:br>
              <a:rPr sz="4800"/>
            </a:b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 Theorem in Search of an Applicat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vid 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04920" y="228600"/>
            <a:ext cx="8534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Stabilizer Sta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04920" y="99072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-qubit quantum states that can be produced from |0…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y applying CNOT, Hadamard, and            gates on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5181480" y="1447920"/>
                <a:ext cx="8049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Rectangle 4"/>
          <p:cNvSpPr/>
          <p:nvPr/>
        </p:nvSpPr>
        <p:spPr>
          <a:xfrm>
            <a:off x="304920" y="236232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y the celebrated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Gottesman-Knill Theore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such states are classically describable using 2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+n bi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304920" y="3255840"/>
                <a:ext cx="858816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⊗</m:t>
                    </m:r>
                    <m:f>
                      <m:num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m>
                      <m:mr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XII</m:t>
                          </m:r>
                        </m:e>
                      </m:mr>
                      <m:mr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IXX</m:t>
                          </m:r>
                        </m:e>
                      </m:mr>
                      <m:mr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IZZ</m:t>
                          </m:r>
                        </m:e>
                      </m:mr>
                    </m:m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m>
                      <m:mr>
                        <m:e>
                          <m:r>
                            <m:t xml:space="preserve">−</m:t>
                          </m:r>
                        </m:e>
                      </m:mr>
                      <m:mr>
                        <m:e>
                          <m:r>
                            <m:t xml:space="preserve">+</m:t>
                          </m:r>
                        </m:e>
                      </m:mr>
                      <m:mr>
                        <m:e>
                          <m:r>
                            <m:t xml:space="preserve">+</m:t>
                          </m:r>
                        </m:e>
                      </m:mr>
                    </m:m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groupChr>
                      </m:e>
                      <m:lim>
                        <m:r>
                          <m:t xml:space="preserve">X</m:t>
                        </m:r>
                      </m:lim>
                    </m:limLow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groupChr>
                      </m:e>
                      <m:lim>
                        <m:r>
                          <m:t xml:space="preserve">Z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55" name="Rectangle 7"/>
          <p:cNvSpPr/>
          <p:nvPr/>
        </p:nvSpPr>
        <p:spPr>
          <a:xfrm>
            <a:off x="304920" y="5257800"/>
            <a:ext cx="8534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The X and Z matrices must satisfy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1) XZ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symmetric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2) (XZ) (considered as an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n matrix) has rank 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28600" y="152280"/>
            <a:ext cx="8763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How Would You Generate A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assical description of a</a:t>
            </a: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 Uniformly-Random Stabilizer Stat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28600" y="1600200"/>
            <a:ext cx="861048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original motivation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enerating random stabilizer measurements, in order to learn an unknown stabilizer st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bvious approach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uild up the stabilizer group, by repeatedly adding a random generator independent of all the previous generat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kes 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time—or rather, 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+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, wher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.376 is the exponent of matrix multi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re clever approach: 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0"/>
          <p:cNvGrpSpPr/>
          <p:nvPr/>
        </p:nvGrpSpPr>
        <p:grpSpPr>
          <a:xfrm>
            <a:off x="228600" y="5715000"/>
            <a:ext cx="8763120" cy="914400"/>
            <a:chOff x="228600" y="5715000"/>
            <a:chExt cx="8763120" cy="914400"/>
          </a:xfrm>
        </p:grpSpPr>
        <p:sp>
          <p:nvSpPr>
            <p:cNvPr id="59" name="AutoShape 9"/>
            <p:cNvSpPr/>
            <p:nvPr/>
          </p:nvSpPr>
          <p:spPr>
            <a:xfrm>
              <a:off x="228600" y="5715000"/>
              <a:ext cx="8763120" cy="914400"/>
            </a:xfrm>
            <a:prstGeom prst="verticalScroll">
              <a:avLst>
                <a:gd name="adj" fmla="val 540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5"/>
            <p:cNvSpPr/>
            <p:nvPr/>
          </p:nvSpPr>
          <p:spPr>
            <a:xfrm>
              <a:off x="304560" y="5943600"/>
              <a:ext cx="8687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Calibri"/>
                </a:rPr>
                <a:t>Our Result:</a:t>
              </a:r>
              <a:r>
                <a:rPr b="0" lang="en-US" sz="2500" spc="-1" strike="noStrike">
                  <a:solidFill>
                    <a:srgbClr val="000000"/>
                  </a:solidFill>
                  <a:latin typeface="Calibri"/>
                </a:rPr>
                <a:t> Can generate a random stabilizer state in O(n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500" spc="-1" strike="noStrike">
                  <a:solidFill>
                    <a:srgbClr val="000000"/>
                  </a:solidFill>
                  <a:latin typeface="Calibri"/>
                </a:rPr>
                <a:t>) tim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304920" y="53352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ur algorithm is a consequence of a new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“Atomic Structure Theorem”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or stabilizer states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04920" y="1828800"/>
            <a:ext cx="8534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very stabilizer state can be transformed, using CNOT and Pauli gates only, into a tensor product of the following four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“stabilizer atoms”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457200" y="3200400"/>
                <a:ext cx="84027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⟩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⟩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304920" y="441972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And even the fourth “atom”—which arises because of a peculiarity of GF(2)—can be decomposed into the first three atoms, using the second or third atoms as a cataly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304920" y="380880"/>
            <a:ext cx="85341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the Atomic Structure Theorem in hand, we can easily generate a random stabilizer state as follow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nerate a random tensor product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f stabilizer atoms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and we’ve explicitly calculated the probabilities for each of the poly(n) possible tensor produc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nerate a random circuit C of CNOT gates, by repeatedly choosing an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 matrix over GF(2) until you find one that’s invert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y the circuit C to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(using [A|B]</a:t>
            </a:r>
            <a:r>
              <a:rPr b="0" lang="en-US" sz="27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[AC|BC</a:t>
            </a:r>
            <a:r>
              <a:rPr b="0" lang="en-US" sz="2700" spc="-1" strike="noStrike" baseline="30000">
                <a:solidFill>
                  <a:srgbClr val="008000"/>
                </a:solidFill>
                <a:latin typeface="Calibri"/>
              </a:rPr>
              <a:t>-T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]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oose a random sign (+ or -) for each stabiliz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04920" y="5715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running time is dominated by steps 2 and 3, both of which take 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380880" y="1143000"/>
            <a:ext cx="853452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the killer app for fast generation of random stabilizer state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another application for our Atomic Structure Theorem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it possible to generate a random invertible matrix over GF(2)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i.e., a random CNOT circuit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less tha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im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10-01-20T17:25:16Z</dcterms:modified>
  <cp:revision>131</cp:revision>
  <dc:subject/>
  <dc:title>The Learnability of Quantum States</dc:title>
</cp:coreProperties>
</file>