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C549-B4BC-4673-940D-E0B863876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BC91-4758-4CFA-A40A-9F6AAC98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A104-1860-4693-95C6-3E38F42C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5979-021B-4258-BEBD-F2F8C45AB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C2F4-3D4D-4E6A-AF2D-9D2BBE2C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49FC-D086-483C-A652-C8C8C6FC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C76-83B9-43E2-AC2C-0D765E96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D7E-9ED8-4324-BAD0-70FE4200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430-94B1-440E-BF37-CA604730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AE5-DC8A-406A-8F2A-EE8F6EB0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1D3-339C-47E7-941F-D380BD24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0D4-8131-468E-9F29-D3C3086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AE9-6E8A-4AAE-BD27-B0CF5D5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89F-2990-4086-BF7D-CD1A9A38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DF9-3FB5-4A97-8C0A-6CC1BC5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732-58B5-47DF-839D-2EC04660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C1B-B318-4134-8E0F-289BB13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3D5-9D1A-4058-8791-D33335CF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342-4A63-4EB5-B773-5B5E6C78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A93-74A6-44D7-9FE5-1009A38E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3300"/>
                </a:solidFill>
                <a:latin typeface="Calibri"/>
              </a:rPr>
              <a:t>Generating Random Stabilizer States in Matrix Multiplication Time:</a:t>
            </a:r>
            <a:br>
              <a:rPr sz="4800"/>
            </a:b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 Theorem in Search of an Applicat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04920" y="228600"/>
            <a:ext cx="853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Stabilizer Sta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4920" y="9907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-qubit quantum states that can be produced from |0…0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y applying CNOT, Hadamard, and            gates on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5181480" y="1447920"/>
                <a:ext cx="8049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Rectangle 4"/>
          <p:cNvSpPr/>
          <p:nvPr/>
        </p:nvSpPr>
        <p:spPr>
          <a:xfrm>
            <a:off x="304920" y="23623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y the celebrated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Gottesman-Knill Theore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such states are classically describable using 2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+n bit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304920" y="3255840"/>
                <a:ext cx="858816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⊗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XII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IXX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IZZ</m:t>
                          </m:r>
                        </m:e>
                      </m:mr>
                    </m:m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−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</m:e>
                      </m:mr>
                      <m:mr>
                        <m:e>
                          <m:r>
                            <m:t xml:space="preserve">+</m:t>
                          </m:r>
                        </m:e>
                      </m:mr>
                    </m:m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groupChr>
                      </m:e>
                      <m:lim>
                        <m:r>
                          <m:t xml:space="preserve">X</m:t>
                        </m:r>
                      </m:lim>
                    </m:limLow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groupChr>
                      </m:e>
                      <m:lim>
                        <m:r>
                          <m:t xml:space="preserve">Z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5" name="Rectangle 7"/>
          <p:cNvSpPr/>
          <p:nvPr/>
        </p:nvSpPr>
        <p:spPr>
          <a:xfrm>
            <a:off x="304920" y="525780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 X and Z matrices must satisfy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) XZ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symmetric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2) (XZ) (considered as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n matrix) has rank 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" y="152280"/>
            <a:ext cx="8763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How Would You Generate A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ical description of a</a:t>
            </a:r>
            <a:r>
              <a:rPr b="1" lang="en-US" sz="4200" spc="-1" strike="noStrike">
                <a:solidFill>
                  <a:srgbClr val="333399"/>
                </a:solidFill>
                <a:latin typeface="Calibri"/>
              </a:rPr>
              <a:t> Uniformly-Random Stabilizer Stat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8600" y="1600200"/>
            <a:ext cx="8610480" cy="44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ur original motivatio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enerating random stabilizer measurements, in order to learn an unknown stabilizer st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Obvious approach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Build up the stabilizer group, by repeatedly adding a random generator independent of all the previous generat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kes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time—or rather,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+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, where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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.376 is the exponent of matrix multi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re clever approach: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228600" y="5715000"/>
            <a:ext cx="8763120" cy="914400"/>
            <a:chOff x="228600" y="5715000"/>
            <a:chExt cx="8763120" cy="914400"/>
          </a:xfrm>
        </p:grpSpPr>
        <p:sp>
          <p:nvSpPr>
            <p:cNvPr id="59" name="AutoShape 9"/>
            <p:cNvSpPr/>
            <p:nvPr/>
          </p:nvSpPr>
          <p:spPr>
            <a:xfrm>
              <a:off x="228600" y="5715000"/>
              <a:ext cx="8763120" cy="914400"/>
            </a:xfrm>
            <a:prstGeom prst="verticalScroll">
              <a:avLst>
                <a:gd name="adj" fmla="val 5402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5"/>
            <p:cNvSpPr/>
            <p:nvPr/>
          </p:nvSpPr>
          <p:spPr>
            <a:xfrm>
              <a:off x="304560" y="5943600"/>
              <a:ext cx="8687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00"/>
                  </a:solidFill>
                  <a:latin typeface="Calibri"/>
                </a:rPr>
                <a:t>Our Result:</a:t>
              </a:r>
              <a:r>
                <a:rPr b="0" lang="en-US" sz="2500" spc="-1" strike="noStrike">
                  <a:solidFill>
                    <a:srgbClr val="000000"/>
                  </a:solidFill>
                  <a:latin typeface="Calibri"/>
                </a:rPr>
                <a:t> Can generate a random stabilizer state in O(n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500" spc="-1" strike="noStrike">
                  <a:solidFill>
                    <a:srgbClr val="000000"/>
                  </a:solidFill>
                  <a:latin typeface="Calibri"/>
                </a:rPr>
                <a:t>) tim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304920" y="5335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r algorithm is a consequence of a new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“Atomic Structure Theorem”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for stabilizer states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1828800"/>
            <a:ext cx="85341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Theorem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very stabilizer state can be transformed, using CNOT and Pauli gates only, into a tensor product of the following four </a:t>
            </a:r>
            <a:r>
              <a:rPr b="1" lang="en-US" sz="2700" spc="-1" strike="noStrike">
                <a:solidFill>
                  <a:srgbClr val="008000"/>
                </a:solidFill>
                <a:latin typeface="Calibri"/>
              </a:rPr>
              <a:t>“stabilizer atoms”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57200" y="3200400"/>
                <a:ext cx="8402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⟩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⟩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⟩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04920" y="441972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(And even the fourth “atom”—which arises because of a peculiarity of GF(2)—can be decomposed into the first three atoms, using the second or third atoms as a cataly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04920" y="380880"/>
            <a:ext cx="85341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 the Atomic Structure Theorem in hand, we can easily generate a random stabilizer state as follow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erate a random tensor product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stabilizer atoms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and we’ve explicitly calculated the probabilities for each of the poly(n) possible tensor produc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erate a random circuit C of CNOT gates, by repeatedly choosing an n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matrix over GF(2) until you find one that’s invert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ply the circuit C to |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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(using [A|B]</a:t>
            </a:r>
            <a:r>
              <a:rPr b="0" lang="en-US" sz="27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[AC|BC</a:t>
            </a:r>
            <a:r>
              <a:rPr b="0" lang="en-US" sz="2700" spc="-1" strike="noStrike" baseline="30000">
                <a:solidFill>
                  <a:srgbClr val="008000"/>
                </a:solidFill>
                <a:latin typeface="Calibri"/>
              </a:rPr>
              <a:t>-T</a:t>
            </a: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]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oose a random sign (+ or -) for each stabiliz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04920" y="5715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unning time is dominated by steps 2 and 3, both of which take O(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ti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Open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80880" y="1143000"/>
            <a:ext cx="853452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the killer app for fast generation of random stabilizer stat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another application for our Atomic Structure Theorem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it possible to generate a random invertible matrix over GF(2) </a:t>
            </a:r>
            <a:r>
              <a:rPr b="0" lang="en-US" sz="2200" spc="-1" strike="noStrike">
                <a:solidFill>
                  <a:srgbClr val="008000"/>
                </a:solidFill>
                <a:latin typeface="Calibri"/>
              </a:rPr>
              <a:t>(i.e., a random CNOT circuit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less tha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im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0:46:23Z</dcterms:created>
  <dc:creator>Scott Aaronson</dc:creator>
  <dc:description/>
  <dc:language>en-US</dc:language>
  <cp:lastModifiedBy>Scott Aaronson</cp:lastModifiedBy>
  <dcterms:modified xsi:type="dcterms:W3CDTF">2010-01-20T17:25:16Z</dcterms:modified>
  <cp:revision>131</cp:revision>
  <dc:subject/>
  <dc:title>The Learnability of Quantum States</dc:title>
</cp:coreProperties>
</file>