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BCA-B2EB-4284-98C4-FEBA6AC6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5C6-4C9E-4047-9578-2DF817C7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9A1-512E-4089-88FB-41C6F700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627-E9F1-42BD-94F7-BBBBCC9B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01A-0BA0-48AE-B05E-53CC3098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0E3-809B-41DE-B19B-30A7D7C6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AE6-8227-49DD-9AB8-4CC61BB0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4F1-B16E-47A9-B11F-EC9BEF99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ABD-ADE0-4ACD-A316-64C42A59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42A-7F4F-484D-8008-2ADA348A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85F-450C-4B5F-8D95-30BC378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920-11E9-4FEC-B2F9-2B1CE598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94D4-825C-4251-AD5F-FE4F28095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mputation, Quantum Theory, and You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fying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3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Quantum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computer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binary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ach string Y, associat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su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e Y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rac ket not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asi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Unitary Evol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tate changes by multiplying amplitude vector with unitary matrix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(t+1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U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† conjugate trans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Linear transformation that preserves norm=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ircuit mode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 must be efficiently comp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Black-box mode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o such re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895480" y="3886200"/>
          <a:ext cx="1905120" cy="116532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724280" y="4114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|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  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Query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qu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orkb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: index to 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z: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8" name=""/>
          <p:cNvGraphicFramePr/>
          <p:nvPr/>
        </p:nvGraphicFramePr>
        <p:xfrm>
          <a:off x="3657600" y="1523880"/>
          <a:ext cx="350532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350532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3520" y="3429000"/>
            <a:ext cx="800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1148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ry unitaries that don’t depend on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4800600"/>
            <a:ext cx="7775280" cy="1552680"/>
            <a:chOff x="533520" y="4800600"/>
            <a:chExt cx="7775280" cy="1552680"/>
          </a:xfrm>
        </p:grpSpPr>
        <p:graphicFrame>
          <p:nvGraphicFramePr>
            <p:cNvPr id="93" name=""/>
            <p:cNvGraphicFramePr/>
            <p:nvPr/>
          </p:nvGraphicFramePr>
          <p:xfrm>
            <a:off x="1211400" y="5181480"/>
            <a:ext cx="7097400" cy="117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1400" y="5181480"/>
                      <a:ext cx="7097400" cy="11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533520" y="480060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y end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3. Collision 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828800"/>
          <a:ext cx="5638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56386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28600" y="2514600"/>
            <a:ext cx="80773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1160" indent="-45396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X is one-to-one (permutation) 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X is two-to-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572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de which w.h.p., using few queries to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9400" y="5791320"/>
            <a:ext cx="47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al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ntum algorithm for the collision problem use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que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 STOC’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02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iously no lower bound better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.  Open since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05320"/>
            <a:ext cx="76201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 improved t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when |range| &gt;&gt;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A for which SZ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K: Statistical Zero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trivial” polytime quantum algorithm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abelian hidden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cryptographic hash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rassard-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øyer-Tapp (1997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Symbol"/>
                <a:ea typeface="Symbol"/>
              </a:rPr>
              <a:t>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a50021"/>
                </a:solidFill>
                <a:latin typeface="Arial"/>
              </a:rPr>
              <a:t>1/3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) quantum alg for colli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5715000"/>
          <a:ext cx="2667240" cy="59328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505320" y="5410080"/>
            <a:ext cx="44956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queried classical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 for fast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657600" y="2590920"/>
          <a:ext cx="4648320" cy="583920"/>
        </p:xfrm>
        <a:graphic>
          <a:graphicData uri="http://schemas.openxmlformats.org/drawingml/2006/table">
            <a:tbl>
              <a:tblPr/>
              <a:tblGrid>
                <a:gridCol w="664560"/>
                <a:gridCol w="663120"/>
                <a:gridCol w="664920"/>
                <a:gridCol w="663120"/>
                <a:gridCol w="664560"/>
                <a:gridCol w="663480"/>
                <a:gridCol w="6645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4920" y="243828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914400" y="32004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99840" y="32004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86000" y="32004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71440" y="32004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72000" y="35812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733920"/>
            <a:ext cx="3733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I collide with any of the pink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Previous Lower Bound Techniques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sensitivity (Beals et al. 1998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s(f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048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um adversary method (Ambainis 20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blem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very 1-1 input differs in at least n/2 places from every 2-1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emma (follows Beals et al. 1998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=1 if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h, 0 otherwise.  Then P(X) is poly of de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over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3520" y="2209680"/>
            <a:ext cx="8381880" cy="4143600"/>
            <a:chOff x="533520" y="2209680"/>
            <a:chExt cx="8381880" cy="4143600"/>
          </a:xfrm>
        </p:grpSpPr>
        <p:graphicFrame>
          <p:nvGraphicFramePr>
            <p:cNvPr id="128" name=""/>
            <p:cNvGraphicFramePr/>
            <p:nvPr/>
          </p:nvGraphicFramePr>
          <p:xfrm>
            <a:off x="4495680" y="5410080"/>
            <a:ext cx="3803760" cy="94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5410080"/>
                      <a:ext cx="3803760" cy="9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533520" y="2209680"/>
              <a:ext cx="838188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Arial"/>
                </a:rPr>
                <a:t>Proof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amplitude of |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after t queries.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is poly of deg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, by inducti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ase case (t=0) trivial.  Unitaries can’t increase degree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uery replaces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b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r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antum Computing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llision Lower 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ynamica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urrent and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put Distrib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(g): Uniform distribution over g-1 inpu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514600"/>
            <a:ext cx="784872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181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Technicality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g might not divide 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t assume for simplicity that it do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85800" y="3886200"/>
            <a:ext cx="6032520" cy="852480"/>
            <a:chOff x="685800" y="3886200"/>
            <a:chExt cx="6032520" cy="852480"/>
          </a:xfrm>
        </p:grpSpPr>
        <p:graphicFrame>
          <p:nvGraphicFramePr>
            <p:cNvPr id="135" name=""/>
            <p:cNvGraphicFramePr/>
            <p:nvPr/>
          </p:nvGraphicFramePr>
          <p:xfrm>
            <a:off x="2133720" y="3886200"/>
            <a:ext cx="45846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3886200"/>
                      <a:ext cx="45846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685800" y="39625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8580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xercis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that, if T=O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, then P(g) is a polynomial of degre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in g for integers 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nomials of P(X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(X) = product of r variabl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3048120"/>
            <a:ext cx="6484320" cy="961920"/>
            <a:chOff x="533520" y="3048120"/>
            <a:chExt cx="6484320" cy="961920"/>
          </a:xfrm>
        </p:grpSpPr>
        <p:graphicFrame>
          <p:nvGraphicFramePr>
            <p:cNvPr id="142" name=""/>
            <p:cNvGraphicFramePr/>
            <p:nvPr/>
          </p:nvGraphicFramePr>
          <p:xfrm>
            <a:off x="1828800" y="3124080"/>
            <a:ext cx="518904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124080"/>
                      <a:ext cx="51890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533520" y="3048120"/>
              <a:ext cx="45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3520" y="4952880"/>
            <a:ext cx="8181360" cy="1062000"/>
            <a:chOff x="533520" y="4952880"/>
            <a:chExt cx="8181360" cy="1062000"/>
          </a:xfrm>
        </p:grpSpPr>
        <p:graphicFrame>
          <p:nvGraphicFramePr>
            <p:cNvPr id="146" name=""/>
            <p:cNvGraphicFramePr/>
            <p:nvPr/>
          </p:nvGraphicFramePr>
          <p:xfrm>
            <a:off x="4267080" y="4952880"/>
            <a:ext cx="4447800" cy="106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7080" y="4952880"/>
                      <a:ext cx="44478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533520" y="4952880"/>
              <a:ext cx="4647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9528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n for some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1</a:t>
            </a:r>
            <a:endParaRPr b="1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752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” of I: 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=|Y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59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,g) = 0 unless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(“range” of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9480" y="3352680"/>
            <a:ext cx="5881680" cy="3065760"/>
            <a:chOff x="609480" y="3352680"/>
            <a:chExt cx="5881680" cy="3065760"/>
          </a:xfrm>
        </p:grpSpPr>
        <p:graphicFrame>
          <p:nvGraphicFramePr>
            <p:cNvPr id="153" name=""/>
            <p:cNvGraphicFramePr/>
            <p:nvPr/>
          </p:nvGraphicFramePr>
          <p:xfrm>
            <a:off x="2649600" y="5334120"/>
            <a:ext cx="3612960" cy="108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49600" y="5334120"/>
                      <a:ext cx="3612960" cy="10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3214800" y="3352680"/>
            <a:ext cx="3276360" cy="199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3352680"/>
                      <a:ext cx="3276360" cy="19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609480" y="3809880"/>
              <a:ext cx="251460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461880">
                <a:lnSpc>
                  <a:spcPct val="100000"/>
                </a:lnSpc>
                <a:spcBef>
                  <a:spcPts val="33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2</a:t>
            </a:r>
            <a:endParaRPr b="1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S containing 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g-1 inputs of size n: n!/(g!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/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743200"/>
            <a:ext cx="79246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be distinct values i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# of time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s in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520" y="4419720"/>
            <a:ext cx="7924680" cy="2163600"/>
            <a:chOff x="533520" y="4419720"/>
            <a:chExt cx="7924680" cy="2163600"/>
          </a:xfrm>
        </p:grpSpPr>
        <p:graphicFrame>
          <p:nvGraphicFramePr>
            <p:cNvPr id="162" name=""/>
            <p:cNvGraphicFramePr/>
            <p:nvPr/>
          </p:nvGraphicFramePr>
          <p:xfrm>
            <a:off x="2394000" y="4954680"/>
            <a:ext cx="3287520" cy="16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94000" y="4954680"/>
                      <a:ext cx="3287520" cy="16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533520" y="4419720"/>
              <a:ext cx="7924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# of g-1 inputs X with range S s.t. I(X)=1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ecomes ~polynomial(g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65160" y="2909880"/>
          <a:ext cx="766908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909880"/>
                    <a:ext cx="76690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2514600" y="4038120"/>
            <a:ext cx="6400800" cy="2161800"/>
            <a:chOff x="2514600" y="4038120"/>
            <a:chExt cx="6400800" cy="2161800"/>
          </a:xfrm>
        </p:grpSpPr>
        <p:sp>
          <p:nvSpPr>
            <p:cNvPr id="169" name=""/>
            <p:cNvSpPr/>
            <p:nvPr/>
          </p:nvSpPr>
          <p:spPr>
            <a:xfrm rot="16200000">
              <a:off x="5371920" y="1180440"/>
              <a:ext cx="685800" cy="64008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66680 h 6400800"/>
                <a:gd name="textAreaBottom" fmla="*/ 6234120 h 640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90920" y="4876920"/>
              <a:ext cx="58672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olynomial in g of deg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 + (r-w) = 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2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rkov’s Inequal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P(x) be a poly with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|dP(x*)/dx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for som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992320" y="2954160"/>
          <a:ext cx="4227480" cy="15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2954160"/>
                    <a:ext cx="42274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33520" y="4876920"/>
            <a:ext cx="6781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952880"/>
            <a:ext cx="6781680" cy="736560"/>
          </a:xfrm>
          <a:custGeom>
            <a:avLst/>
            <a:gdLst/>
            <a:ahLst/>
            <a:rect l="l" t="t" r="r" b="b"/>
            <a:pathLst>
              <a:path w="4272" h="464">
                <a:moveTo>
                  <a:pt x="0" y="408"/>
                </a:moveTo>
                <a:cubicBezTo>
                  <a:pt x="184" y="364"/>
                  <a:pt x="368" y="320"/>
                  <a:pt x="528" y="264"/>
                </a:cubicBezTo>
                <a:cubicBezTo>
                  <a:pt x="688" y="208"/>
                  <a:pt x="760" y="40"/>
                  <a:pt x="960" y="72"/>
                </a:cubicBezTo>
                <a:cubicBezTo>
                  <a:pt x="1160" y="104"/>
                  <a:pt x="1544" y="464"/>
                  <a:pt x="1728" y="456"/>
                </a:cubicBezTo>
                <a:cubicBezTo>
                  <a:pt x="1912" y="448"/>
                  <a:pt x="1832" y="48"/>
                  <a:pt x="2064" y="24"/>
                </a:cubicBezTo>
                <a:cubicBezTo>
                  <a:pt x="2296" y="0"/>
                  <a:pt x="2752" y="312"/>
                  <a:pt x="3120" y="312"/>
                </a:cubicBezTo>
                <a:cubicBezTo>
                  <a:pt x="3488" y="312"/>
                  <a:pt x="3880" y="168"/>
                  <a:pt x="4272" y="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5200" y="5867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7000" y="50292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33160" y="6095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6095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848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267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8006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g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for all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59092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1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/10 and P(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P/d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/5 som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9625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ower bound would follow if g always divide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51055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x to obtain 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found a better way to 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4. Dynamical Model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 Puzzl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29528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you seeing a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r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you seeing a </a:t>
            </a: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bl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6386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the probability that you see the dot change colo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14600" y="2666880"/>
          <a:ext cx="393228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666880"/>
                    <a:ext cx="39322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y Is This An Issue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90512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theory says nothing about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multiple-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babiliti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952880"/>
            <a:ext cx="769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n what is a “prediction,” or the “output of a computation,” or the “utility of a decision”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048120"/>
            <a:ext cx="7620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have no direct knowledge o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ast anyway, just records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1. Serm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15238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ubmitted to PRL, quant-ph/020505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1337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you could examine an observer’s entire history?  Defined class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DQ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35268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ed SZK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.  Combined with collision bound, implies oracle A for which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502920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search an N-element list in order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eps, though not few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36680" y="2819520"/>
            <a:ext cx="901224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4952880"/>
            <a:ext cx="3414600" cy="405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66960" y="3505320"/>
            <a:ext cx="6075360" cy="6553080"/>
          </a:xfrm>
          <a:custGeom>
            <a:avLst/>
            <a:gdLst/>
            <a:ahLst/>
            <a:rect l="l" t="t" r="r" b="b"/>
            <a:pathLst>
              <a:path w="2564" h="2785">
                <a:moveTo>
                  <a:pt x="492" y="160"/>
                </a:moveTo>
                <a:lnTo>
                  <a:pt x="441" y="195"/>
                </a:lnTo>
                <a:lnTo>
                  <a:pt x="393" y="233"/>
                </a:lnTo>
                <a:lnTo>
                  <a:pt x="347" y="273"/>
                </a:lnTo>
                <a:lnTo>
                  <a:pt x="305" y="316"/>
                </a:lnTo>
                <a:lnTo>
                  <a:pt x="265" y="361"/>
                </a:lnTo>
                <a:lnTo>
                  <a:pt x="227" y="408"/>
                </a:lnTo>
                <a:lnTo>
                  <a:pt x="193" y="458"/>
                </a:lnTo>
                <a:lnTo>
                  <a:pt x="161" y="509"/>
                </a:lnTo>
                <a:lnTo>
                  <a:pt x="132" y="563"/>
                </a:lnTo>
                <a:lnTo>
                  <a:pt x="106" y="618"/>
                </a:lnTo>
                <a:lnTo>
                  <a:pt x="83" y="675"/>
                </a:lnTo>
                <a:lnTo>
                  <a:pt x="62" y="733"/>
                </a:lnTo>
                <a:lnTo>
                  <a:pt x="45" y="793"/>
                </a:lnTo>
                <a:lnTo>
                  <a:pt x="30" y="854"/>
                </a:lnTo>
                <a:lnTo>
                  <a:pt x="18" y="916"/>
                </a:lnTo>
                <a:lnTo>
                  <a:pt x="9" y="979"/>
                </a:lnTo>
                <a:lnTo>
                  <a:pt x="3" y="1044"/>
                </a:lnTo>
                <a:lnTo>
                  <a:pt x="0" y="1109"/>
                </a:lnTo>
                <a:lnTo>
                  <a:pt x="0" y="1174"/>
                </a:lnTo>
                <a:lnTo>
                  <a:pt x="3" y="1241"/>
                </a:lnTo>
                <a:lnTo>
                  <a:pt x="9" y="1308"/>
                </a:lnTo>
                <a:lnTo>
                  <a:pt x="18" y="1375"/>
                </a:lnTo>
                <a:lnTo>
                  <a:pt x="29" y="1442"/>
                </a:lnTo>
                <a:lnTo>
                  <a:pt x="44" y="1510"/>
                </a:lnTo>
                <a:lnTo>
                  <a:pt x="62" y="1577"/>
                </a:lnTo>
                <a:lnTo>
                  <a:pt x="83" y="1645"/>
                </a:lnTo>
                <a:lnTo>
                  <a:pt x="107" y="1712"/>
                </a:lnTo>
                <a:lnTo>
                  <a:pt x="133" y="1779"/>
                </a:lnTo>
                <a:lnTo>
                  <a:pt x="163" y="1845"/>
                </a:lnTo>
                <a:lnTo>
                  <a:pt x="197" y="1911"/>
                </a:lnTo>
                <a:lnTo>
                  <a:pt x="233" y="1976"/>
                </a:lnTo>
                <a:lnTo>
                  <a:pt x="272" y="2040"/>
                </a:lnTo>
                <a:lnTo>
                  <a:pt x="314" y="2103"/>
                </a:lnTo>
                <a:lnTo>
                  <a:pt x="358" y="2163"/>
                </a:lnTo>
                <a:lnTo>
                  <a:pt x="404" y="2220"/>
                </a:lnTo>
                <a:lnTo>
                  <a:pt x="452" y="2275"/>
                </a:lnTo>
                <a:lnTo>
                  <a:pt x="501" y="2328"/>
                </a:lnTo>
                <a:lnTo>
                  <a:pt x="552" y="2378"/>
                </a:lnTo>
                <a:lnTo>
                  <a:pt x="605" y="2425"/>
                </a:lnTo>
                <a:lnTo>
                  <a:pt x="659" y="2469"/>
                </a:lnTo>
                <a:lnTo>
                  <a:pt x="714" y="2511"/>
                </a:lnTo>
                <a:lnTo>
                  <a:pt x="770" y="2549"/>
                </a:lnTo>
                <a:lnTo>
                  <a:pt x="828" y="2585"/>
                </a:lnTo>
                <a:lnTo>
                  <a:pt x="886" y="2619"/>
                </a:lnTo>
                <a:lnTo>
                  <a:pt x="945" y="2649"/>
                </a:lnTo>
                <a:lnTo>
                  <a:pt x="1005" y="2676"/>
                </a:lnTo>
                <a:lnTo>
                  <a:pt x="1065" y="2701"/>
                </a:lnTo>
                <a:lnTo>
                  <a:pt x="1126" y="2722"/>
                </a:lnTo>
                <a:lnTo>
                  <a:pt x="1188" y="2740"/>
                </a:lnTo>
                <a:lnTo>
                  <a:pt x="1249" y="2755"/>
                </a:lnTo>
                <a:lnTo>
                  <a:pt x="1311" y="2767"/>
                </a:lnTo>
                <a:lnTo>
                  <a:pt x="1372" y="2776"/>
                </a:lnTo>
                <a:lnTo>
                  <a:pt x="1434" y="2782"/>
                </a:lnTo>
                <a:lnTo>
                  <a:pt x="1495" y="2785"/>
                </a:lnTo>
                <a:lnTo>
                  <a:pt x="1556" y="2784"/>
                </a:lnTo>
                <a:lnTo>
                  <a:pt x="1617" y="2780"/>
                </a:lnTo>
                <a:lnTo>
                  <a:pt x="1677" y="2773"/>
                </a:lnTo>
                <a:lnTo>
                  <a:pt x="1736" y="2762"/>
                </a:lnTo>
                <a:lnTo>
                  <a:pt x="1795" y="2748"/>
                </a:lnTo>
                <a:lnTo>
                  <a:pt x="1852" y="2730"/>
                </a:lnTo>
                <a:lnTo>
                  <a:pt x="1909" y="2709"/>
                </a:lnTo>
                <a:lnTo>
                  <a:pt x="1965" y="2685"/>
                </a:lnTo>
                <a:lnTo>
                  <a:pt x="2019" y="2657"/>
                </a:lnTo>
                <a:lnTo>
                  <a:pt x="2072" y="2625"/>
                </a:lnTo>
                <a:lnTo>
                  <a:pt x="2123" y="2590"/>
                </a:lnTo>
                <a:lnTo>
                  <a:pt x="2171" y="2552"/>
                </a:lnTo>
                <a:lnTo>
                  <a:pt x="2217" y="2512"/>
                </a:lnTo>
                <a:lnTo>
                  <a:pt x="2260" y="2469"/>
                </a:lnTo>
                <a:lnTo>
                  <a:pt x="2300" y="2424"/>
                </a:lnTo>
                <a:lnTo>
                  <a:pt x="2337" y="2377"/>
                </a:lnTo>
                <a:lnTo>
                  <a:pt x="2371" y="2327"/>
                </a:lnTo>
                <a:lnTo>
                  <a:pt x="2403" y="2276"/>
                </a:lnTo>
                <a:lnTo>
                  <a:pt x="2432" y="2223"/>
                </a:lnTo>
                <a:lnTo>
                  <a:pt x="2458" y="2167"/>
                </a:lnTo>
                <a:lnTo>
                  <a:pt x="2481" y="2111"/>
                </a:lnTo>
                <a:lnTo>
                  <a:pt x="2502" y="2052"/>
                </a:lnTo>
                <a:lnTo>
                  <a:pt x="2519" y="1992"/>
                </a:lnTo>
                <a:lnTo>
                  <a:pt x="2534" y="1931"/>
                </a:lnTo>
                <a:lnTo>
                  <a:pt x="2546" y="1869"/>
                </a:lnTo>
                <a:lnTo>
                  <a:pt x="2555" y="1806"/>
                </a:lnTo>
                <a:lnTo>
                  <a:pt x="2561" y="1742"/>
                </a:lnTo>
                <a:lnTo>
                  <a:pt x="2564" y="1677"/>
                </a:lnTo>
                <a:lnTo>
                  <a:pt x="2564" y="1611"/>
                </a:lnTo>
                <a:lnTo>
                  <a:pt x="2561" y="1544"/>
                </a:lnTo>
                <a:lnTo>
                  <a:pt x="2555" y="1478"/>
                </a:lnTo>
                <a:lnTo>
                  <a:pt x="2547" y="1410"/>
                </a:lnTo>
                <a:lnTo>
                  <a:pt x="2535" y="1343"/>
                </a:lnTo>
                <a:lnTo>
                  <a:pt x="2520" y="1275"/>
                </a:lnTo>
                <a:lnTo>
                  <a:pt x="2502" y="1208"/>
                </a:lnTo>
                <a:lnTo>
                  <a:pt x="2482" y="1140"/>
                </a:lnTo>
                <a:lnTo>
                  <a:pt x="2458" y="1073"/>
                </a:lnTo>
                <a:lnTo>
                  <a:pt x="2431" y="1006"/>
                </a:lnTo>
                <a:lnTo>
                  <a:pt x="2401" y="940"/>
                </a:lnTo>
                <a:lnTo>
                  <a:pt x="2368" y="874"/>
                </a:lnTo>
                <a:lnTo>
                  <a:pt x="2331" y="809"/>
                </a:lnTo>
                <a:lnTo>
                  <a:pt x="2292" y="745"/>
                </a:lnTo>
                <a:lnTo>
                  <a:pt x="2250" y="682"/>
                </a:lnTo>
                <a:lnTo>
                  <a:pt x="2206" y="622"/>
                </a:lnTo>
                <a:lnTo>
                  <a:pt x="2160" y="565"/>
                </a:lnTo>
                <a:lnTo>
                  <a:pt x="2112" y="510"/>
                </a:lnTo>
                <a:lnTo>
                  <a:pt x="2063" y="457"/>
                </a:lnTo>
                <a:lnTo>
                  <a:pt x="2012" y="408"/>
                </a:lnTo>
                <a:lnTo>
                  <a:pt x="1959" y="361"/>
                </a:lnTo>
                <a:lnTo>
                  <a:pt x="1905" y="316"/>
                </a:lnTo>
                <a:lnTo>
                  <a:pt x="1850" y="275"/>
                </a:lnTo>
                <a:lnTo>
                  <a:pt x="1794" y="236"/>
                </a:lnTo>
                <a:lnTo>
                  <a:pt x="1736" y="200"/>
                </a:lnTo>
                <a:lnTo>
                  <a:pt x="1678" y="167"/>
                </a:lnTo>
                <a:lnTo>
                  <a:pt x="1619" y="136"/>
                </a:lnTo>
                <a:lnTo>
                  <a:pt x="1559" y="109"/>
                </a:lnTo>
                <a:lnTo>
                  <a:pt x="1499" y="85"/>
                </a:lnTo>
                <a:lnTo>
                  <a:pt x="1438" y="63"/>
                </a:lnTo>
                <a:lnTo>
                  <a:pt x="1377" y="45"/>
                </a:lnTo>
                <a:lnTo>
                  <a:pt x="1315" y="30"/>
                </a:lnTo>
                <a:lnTo>
                  <a:pt x="1254" y="18"/>
                </a:lnTo>
                <a:lnTo>
                  <a:pt x="1192" y="9"/>
                </a:lnTo>
                <a:lnTo>
                  <a:pt x="1130" y="3"/>
                </a:lnTo>
                <a:lnTo>
                  <a:pt x="1069" y="0"/>
                </a:lnTo>
                <a:lnTo>
                  <a:pt x="1008" y="1"/>
                </a:lnTo>
                <a:lnTo>
                  <a:pt x="947" y="5"/>
                </a:lnTo>
                <a:lnTo>
                  <a:pt x="887" y="12"/>
                </a:lnTo>
                <a:lnTo>
                  <a:pt x="828" y="23"/>
                </a:lnTo>
                <a:lnTo>
                  <a:pt x="769" y="37"/>
                </a:lnTo>
                <a:lnTo>
                  <a:pt x="712" y="55"/>
                </a:lnTo>
                <a:lnTo>
                  <a:pt x="655" y="76"/>
                </a:lnTo>
                <a:lnTo>
                  <a:pt x="599" y="100"/>
                </a:lnTo>
                <a:lnTo>
                  <a:pt x="545" y="128"/>
                </a:lnTo>
                <a:lnTo>
                  <a:pt x="492" y="16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3527280"/>
            <a:ext cx="6075360" cy="6661440"/>
          </a:xfrm>
          <a:custGeom>
            <a:avLst/>
            <a:gdLst/>
            <a:ahLst/>
            <a:rect l="l" t="t" r="r" b="b"/>
            <a:pathLst>
              <a:path w="2564" h="2785">
                <a:moveTo>
                  <a:pt x="2072" y="160"/>
                </a:moveTo>
                <a:lnTo>
                  <a:pt x="2123" y="195"/>
                </a:lnTo>
                <a:lnTo>
                  <a:pt x="2171" y="233"/>
                </a:lnTo>
                <a:lnTo>
                  <a:pt x="2217" y="273"/>
                </a:lnTo>
                <a:lnTo>
                  <a:pt x="2260" y="316"/>
                </a:lnTo>
                <a:lnTo>
                  <a:pt x="2300" y="361"/>
                </a:lnTo>
                <a:lnTo>
                  <a:pt x="2337" y="408"/>
                </a:lnTo>
                <a:lnTo>
                  <a:pt x="2371" y="458"/>
                </a:lnTo>
                <a:lnTo>
                  <a:pt x="2403" y="509"/>
                </a:lnTo>
                <a:lnTo>
                  <a:pt x="2432" y="563"/>
                </a:lnTo>
                <a:lnTo>
                  <a:pt x="2458" y="618"/>
                </a:lnTo>
                <a:lnTo>
                  <a:pt x="2481" y="675"/>
                </a:lnTo>
                <a:lnTo>
                  <a:pt x="2502" y="733"/>
                </a:lnTo>
                <a:lnTo>
                  <a:pt x="2519" y="793"/>
                </a:lnTo>
                <a:lnTo>
                  <a:pt x="2534" y="854"/>
                </a:lnTo>
                <a:lnTo>
                  <a:pt x="2546" y="916"/>
                </a:lnTo>
                <a:lnTo>
                  <a:pt x="2555" y="979"/>
                </a:lnTo>
                <a:lnTo>
                  <a:pt x="2561" y="1044"/>
                </a:lnTo>
                <a:lnTo>
                  <a:pt x="2564" y="1109"/>
                </a:lnTo>
                <a:lnTo>
                  <a:pt x="2564" y="1174"/>
                </a:lnTo>
                <a:lnTo>
                  <a:pt x="2561" y="1241"/>
                </a:lnTo>
                <a:lnTo>
                  <a:pt x="2555" y="1308"/>
                </a:lnTo>
                <a:lnTo>
                  <a:pt x="2547" y="1375"/>
                </a:lnTo>
                <a:lnTo>
                  <a:pt x="2535" y="1442"/>
                </a:lnTo>
                <a:lnTo>
                  <a:pt x="2520" y="1510"/>
                </a:lnTo>
                <a:lnTo>
                  <a:pt x="2502" y="1577"/>
                </a:lnTo>
                <a:lnTo>
                  <a:pt x="2482" y="1645"/>
                </a:lnTo>
                <a:lnTo>
                  <a:pt x="2458" y="1712"/>
                </a:lnTo>
                <a:lnTo>
                  <a:pt x="2431" y="1779"/>
                </a:lnTo>
                <a:lnTo>
                  <a:pt x="2401" y="1845"/>
                </a:lnTo>
                <a:lnTo>
                  <a:pt x="2368" y="1911"/>
                </a:lnTo>
                <a:lnTo>
                  <a:pt x="2331" y="1976"/>
                </a:lnTo>
                <a:lnTo>
                  <a:pt x="2292" y="2040"/>
                </a:lnTo>
                <a:lnTo>
                  <a:pt x="2250" y="2103"/>
                </a:lnTo>
                <a:lnTo>
                  <a:pt x="2206" y="2163"/>
                </a:lnTo>
                <a:lnTo>
                  <a:pt x="2160" y="2220"/>
                </a:lnTo>
                <a:lnTo>
                  <a:pt x="2112" y="2275"/>
                </a:lnTo>
                <a:lnTo>
                  <a:pt x="2063" y="2328"/>
                </a:lnTo>
                <a:lnTo>
                  <a:pt x="2012" y="2378"/>
                </a:lnTo>
                <a:lnTo>
                  <a:pt x="1959" y="2425"/>
                </a:lnTo>
                <a:lnTo>
                  <a:pt x="1905" y="2469"/>
                </a:lnTo>
                <a:lnTo>
                  <a:pt x="1850" y="2511"/>
                </a:lnTo>
                <a:lnTo>
                  <a:pt x="1794" y="2549"/>
                </a:lnTo>
                <a:lnTo>
                  <a:pt x="1736" y="2585"/>
                </a:lnTo>
                <a:lnTo>
                  <a:pt x="1678" y="2619"/>
                </a:lnTo>
                <a:lnTo>
                  <a:pt x="1619" y="2649"/>
                </a:lnTo>
                <a:lnTo>
                  <a:pt x="1559" y="2676"/>
                </a:lnTo>
                <a:lnTo>
                  <a:pt x="1499" y="2701"/>
                </a:lnTo>
                <a:lnTo>
                  <a:pt x="1438" y="2722"/>
                </a:lnTo>
                <a:lnTo>
                  <a:pt x="1377" y="2740"/>
                </a:lnTo>
                <a:lnTo>
                  <a:pt x="1315" y="2755"/>
                </a:lnTo>
                <a:lnTo>
                  <a:pt x="1254" y="2767"/>
                </a:lnTo>
                <a:lnTo>
                  <a:pt x="1192" y="2776"/>
                </a:lnTo>
                <a:lnTo>
                  <a:pt x="1130" y="2782"/>
                </a:lnTo>
                <a:lnTo>
                  <a:pt x="1069" y="2785"/>
                </a:lnTo>
                <a:lnTo>
                  <a:pt x="1008" y="2784"/>
                </a:lnTo>
                <a:lnTo>
                  <a:pt x="947" y="2780"/>
                </a:lnTo>
                <a:lnTo>
                  <a:pt x="887" y="2773"/>
                </a:lnTo>
                <a:lnTo>
                  <a:pt x="828" y="2762"/>
                </a:lnTo>
                <a:lnTo>
                  <a:pt x="769" y="2748"/>
                </a:lnTo>
                <a:lnTo>
                  <a:pt x="712" y="2730"/>
                </a:lnTo>
                <a:lnTo>
                  <a:pt x="655" y="2709"/>
                </a:lnTo>
                <a:lnTo>
                  <a:pt x="599" y="2685"/>
                </a:lnTo>
                <a:lnTo>
                  <a:pt x="545" y="2657"/>
                </a:lnTo>
                <a:lnTo>
                  <a:pt x="492" y="2625"/>
                </a:lnTo>
                <a:lnTo>
                  <a:pt x="441" y="2590"/>
                </a:lnTo>
                <a:lnTo>
                  <a:pt x="393" y="2552"/>
                </a:lnTo>
                <a:lnTo>
                  <a:pt x="347" y="2512"/>
                </a:lnTo>
                <a:lnTo>
                  <a:pt x="305" y="2469"/>
                </a:lnTo>
                <a:lnTo>
                  <a:pt x="265" y="2424"/>
                </a:lnTo>
                <a:lnTo>
                  <a:pt x="227" y="2377"/>
                </a:lnTo>
                <a:lnTo>
                  <a:pt x="193" y="2327"/>
                </a:lnTo>
                <a:lnTo>
                  <a:pt x="161" y="2276"/>
                </a:lnTo>
                <a:lnTo>
                  <a:pt x="132" y="2223"/>
                </a:lnTo>
                <a:lnTo>
                  <a:pt x="106" y="2167"/>
                </a:lnTo>
                <a:lnTo>
                  <a:pt x="83" y="2111"/>
                </a:lnTo>
                <a:lnTo>
                  <a:pt x="62" y="2052"/>
                </a:lnTo>
                <a:lnTo>
                  <a:pt x="45" y="1992"/>
                </a:lnTo>
                <a:lnTo>
                  <a:pt x="30" y="1931"/>
                </a:lnTo>
                <a:lnTo>
                  <a:pt x="18" y="1869"/>
                </a:lnTo>
                <a:lnTo>
                  <a:pt x="9" y="1806"/>
                </a:lnTo>
                <a:lnTo>
                  <a:pt x="3" y="1742"/>
                </a:lnTo>
                <a:lnTo>
                  <a:pt x="0" y="1677"/>
                </a:lnTo>
                <a:lnTo>
                  <a:pt x="0" y="1611"/>
                </a:lnTo>
                <a:lnTo>
                  <a:pt x="3" y="1544"/>
                </a:lnTo>
                <a:lnTo>
                  <a:pt x="9" y="1478"/>
                </a:lnTo>
                <a:lnTo>
                  <a:pt x="18" y="1410"/>
                </a:lnTo>
                <a:lnTo>
                  <a:pt x="29" y="1343"/>
                </a:lnTo>
                <a:lnTo>
                  <a:pt x="44" y="1275"/>
                </a:lnTo>
                <a:lnTo>
                  <a:pt x="62" y="1208"/>
                </a:lnTo>
                <a:lnTo>
                  <a:pt x="83" y="1140"/>
                </a:lnTo>
                <a:lnTo>
                  <a:pt x="107" y="1073"/>
                </a:lnTo>
                <a:lnTo>
                  <a:pt x="133" y="1006"/>
                </a:lnTo>
                <a:lnTo>
                  <a:pt x="163" y="940"/>
                </a:lnTo>
                <a:lnTo>
                  <a:pt x="197" y="874"/>
                </a:lnTo>
                <a:lnTo>
                  <a:pt x="233" y="809"/>
                </a:lnTo>
                <a:lnTo>
                  <a:pt x="272" y="745"/>
                </a:lnTo>
                <a:lnTo>
                  <a:pt x="314" y="682"/>
                </a:lnTo>
                <a:lnTo>
                  <a:pt x="358" y="622"/>
                </a:lnTo>
                <a:lnTo>
                  <a:pt x="404" y="565"/>
                </a:lnTo>
                <a:lnTo>
                  <a:pt x="452" y="510"/>
                </a:lnTo>
                <a:lnTo>
                  <a:pt x="501" y="457"/>
                </a:lnTo>
                <a:lnTo>
                  <a:pt x="552" y="408"/>
                </a:lnTo>
                <a:lnTo>
                  <a:pt x="605" y="361"/>
                </a:lnTo>
                <a:lnTo>
                  <a:pt x="659" y="316"/>
                </a:lnTo>
                <a:lnTo>
                  <a:pt x="714" y="275"/>
                </a:lnTo>
                <a:lnTo>
                  <a:pt x="770" y="236"/>
                </a:lnTo>
                <a:lnTo>
                  <a:pt x="828" y="200"/>
                </a:lnTo>
                <a:lnTo>
                  <a:pt x="886" y="167"/>
                </a:lnTo>
                <a:lnTo>
                  <a:pt x="945" y="136"/>
                </a:lnTo>
                <a:lnTo>
                  <a:pt x="1005" y="109"/>
                </a:lnTo>
                <a:lnTo>
                  <a:pt x="1065" y="85"/>
                </a:lnTo>
                <a:lnTo>
                  <a:pt x="1126" y="63"/>
                </a:lnTo>
                <a:lnTo>
                  <a:pt x="1188" y="45"/>
                </a:lnTo>
                <a:lnTo>
                  <a:pt x="1249" y="30"/>
                </a:lnTo>
                <a:lnTo>
                  <a:pt x="1311" y="18"/>
                </a:lnTo>
                <a:lnTo>
                  <a:pt x="1372" y="9"/>
                </a:lnTo>
                <a:lnTo>
                  <a:pt x="1434" y="3"/>
                </a:lnTo>
                <a:lnTo>
                  <a:pt x="1495" y="0"/>
                </a:lnTo>
                <a:lnTo>
                  <a:pt x="1556" y="1"/>
                </a:lnTo>
                <a:lnTo>
                  <a:pt x="1617" y="5"/>
                </a:lnTo>
                <a:lnTo>
                  <a:pt x="1677" y="12"/>
                </a:lnTo>
                <a:lnTo>
                  <a:pt x="1736" y="23"/>
                </a:lnTo>
                <a:lnTo>
                  <a:pt x="1795" y="37"/>
                </a:lnTo>
                <a:lnTo>
                  <a:pt x="1852" y="55"/>
                </a:lnTo>
                <a:lnTo>
                  <a:pt x="1909" y="76"/>
                </a:lnTo>
                <a:lnTo>
                  <a:pt x="1965" y="100"/>
                </a:lnTo>
                <a:lnTo>
                  <a:pt x="2019" y="128"/>
                </a:lnTo>
                <a:lnTo>
                  <a:pt x="2072" y="16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676520"/>
            <a:ext cx="8001000" cy="849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486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Q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Z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2286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Q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5. Current and Future Wor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QP versus P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523880"/>
            <a:ext cx="838188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most-complete (?!) joint work with Ume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n oracle 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est known: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cursive Fourier Samp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reduced problem to generalizing the Razborov-Smolensky circuit lower b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show “replacer gates” don’t help us compute sum modulo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PP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vs. BQP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for random A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600200"/>
            <a:ext cx="8381880" cy="49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BPP=BQP, then BP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probability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What I can show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BPP=BQP then BPTime[polylog]=BQTime[polylog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What’s missing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xtend the result of Beals et al. (1998) that D(f)=O(Q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for all total f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most-tot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the same hold for BPP vs. SZK, or even P vs. N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P? (cf. Rudich’s thesi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imitations of Shor-like algorithm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1828800"/>
            <a:ext cx="838188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d a class BP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shor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class of quantum algorithms that prepare a stat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f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ignore |f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do something “simple” to |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jecture 1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shor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.  Implies that if N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sh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n PH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njecture 2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hor-like query algorithms yield no asymptotic speedup for any total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hysics Modulo Complexity Assump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676520"/>
            <a:ext cx="838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some version of M-theory decide SAT? (cf. Preskill’s talk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f so, move on to the next version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657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hropic computer” for solving NP-complete problems efficient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502920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tupid ques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y can’t I just “will” myself to solve NP-complete problems?  (Or generate truly random sequences?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09480" y="167652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ostulat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 matter who you are, someone can give you a 3SAT instance that you can’t decide with probabilit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038480"/>
            <a:ext cx="80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onstraints does that impos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Computer Scientist’s Idea of Physic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81480" y="3276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Does Our World Have That Conway’s Doesn’t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057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or more spatial dim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895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733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vistic cov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56876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um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m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419720"/>
            <a:ext cx="5791320" cy="9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0000"/>
                </a:solidFill>
                <a:latin typeface="Arial"/>
              </a:rPr>
              <a:t>Quantum theory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y Own View…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280" y="1006560"/>
            <a:ext cx="8778960" cy="5851440"/>
            <a:chOff x="152280" y="1006560"/>
            <a:chExt cx="8778960" cy="5851440"/>
          </a:xfrm>
        </p:grpSpPr>
        <p:pic>
          <p:nvPicPr>
            <p:cNvPr id="58" name="canyon" descr=""/>
            <p:cNvPicPr/>
            <p:nvPr/>
          </p:nvPicPr>
          <p:blipFill>
            <a:blip r:embed="rId1"/>
            <a:stretch/>
          </p:blipFill>
          <p:spPr>
            <a:xfrm>
              <a:off x="152280" y="1006560"/>
              <a:ext cx="8778960" cy="58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553080" y="1295280"/>
              <a:ext cx="221004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What w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experienc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880" y="1295280"/>
              <a:ext cx="190512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Quantum theor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762120"/>
            <a:ext cx="8153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esearch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e complexity results, focusing on quantum computing, that are motivated by this gap between physics and what we experi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572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Disclaimer: I will not bridge the gap in my thesis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2. Quantum Comput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ome Mileston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2 1983 1984 19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6 1987 1988 1989 1990 1991 1992 1993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1447920"/>
            <a:ext cx="1612800" cy="2438280"/>
            <a:chOff x="0" y="1447920"/>
            <a:chExt cx="1612800" cy="2438280"/>
          </a:xfrm>
        </p:grpSpPr>
        <p:pic>
          <p:nvPicPr>
            <p:cNvPr id="68" name="feynman" descr=""/>
            <p:cNvPicPr/>
            <p:nvPr/>
          </p:nvPicPr>
          <p:blipFill>
            <a:blip r:embed="rId1"/>
            <a:stretch/>
          </p:blipFill>
          <p:spPr>
            <a:xfrm>
              <a:off x="0" y="1447920"/>
              <a:ext cx="16128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 flipV="1">
              <a:off x="380880" y="342900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832440" y="1676520"/>
            <a:ext cx="1684440" cy="2209680"/>
            <a:chOff x="6832440" y="1676520"/>
            <a:chExt cx="1684440" cy="2209680"/>
          </a:xfrm>
        </p:grpSpPr>
        <p:pic>
          <p:nvPicPr>
            <p:cNvPr id="71" name="vazirani" descr=""/>
            <p:cNvPicPr/>
            <p:nvPr/>
          </p:nvPicPr>
          <p:blipFill>
            <a:blip r:embed="rId2"/>
            <a:stretch/>
          </p:blipFill>
          <p:spPr>
            <a:xfrm>
              <a:off x="6832440" y="1676520"/>
              <a:ext cx="16844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flipV="1">
              <a:off x="7924680" y="342900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752480" y="4267080"/>
            <a:ext cx="1685880" cy="2438640"/>
            <a:chOff x="1752480" y="4267080"/>
            <a:chExt cx="1685880" cy="2438640"/>
          </a:xfrm>
        </p:grpSpPr>
        <p:pic>
          <p:nvPicPr>
            <p:cNvPr id="74" name="deutsch" descr=""/>
            <p:cNvPicPr/>
            <p:nvPr/>
          </p:nvPicPr>
          <p:blipFill>
            <a:blip r:embed="rId3"/>
            <a:stretch/>
          </p:blipFill>
          <p:spPr>
            <a:xfrm>
              <a:off x="1752480" y="4846680"/>
              <a:ext cx="1685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438280" y="4267080"/>
              <a:ext cx="0" cy="609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721640" y="4267080"/>
            <a:ext cx="1422360" cy="2590920"/>
            <a:chOff x="7721640" y="4267080"/>
            <a:chExt cx="1422360" cy="2590920"/>
          </a:xfrm>
        </p:grpSpPr>
        <p:pic>
          <p:nvPicPr>
            <p:cNvPr id="77" name="shor" descr=""/>
            <p:cNvPicPr/>
            <p:nvPr/>
          </p:nvPicPr>
          <p:blipFill>
            <a:blip r:embed="rId4"/>
            <a:stretch/>
          </p:blipFill>
          <p:spPr>
            <a:xfrm>
              <a:off x="7721640" y="4724280"/>
              <a:ext cx="14223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610480" y="4267080"/>
              <a:ext cx="0" cy="609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2:19:56Z</dcterms:created>
  <dc:creator>aaronson</dc:creator>
  <dc:description/>
  <dc:language>en-US</dc:language>
  <cp:lastModifiedBy>aaronson</cp:lastModifiedBy>
  <dcterms:modified xsi:type="dcterms:W3CDTF">2002-05-14T05:04:05Z</dcterms:modified>
  <cp:revision>12</cp:revision>
  <dc:subject/>
  <dc:title>Computation, Quantum Theory, and You</dc:title>
</cp:coreProperties>
</file>