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813-A596-439E-BA38-A08FB919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665C-27DC-4771-986E-AEBAFCE4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38B3-A57A-41DA-B0F1-44333676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F4F-5266-468A-8A20-67CD44A3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8AB-684A-4013-BC0C-4C611ABC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1DE-4899-410E-B438-033C745C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EAA-8336-4D59-9B94-A6E09B73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455A-A5A2-4B13-B45F-037CA440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20C-C75F-4C02-802C-2F4F72DF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3CC-FA32-4DE2-A686-B15AD187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52F-756F-4AAB-B0F9-51CE3471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213-8CE1-4B84-AC53-5A775AF1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7FCD-9BC7-411F-9F88-F1007C70A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QP/qpoly 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EXP/pol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 Berke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QP/qpol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of languages recognized by a bounded-error polytime quantum algorithm, with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size quantum advice 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depends only on the inpu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uhrma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QP/qpo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ything/pol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ur Resul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QP/qpo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/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 we shouldn’t hope for an unrelativized separation between BQP/poly and BQP/qpoly—since it would imply P/po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/poly, which is equivalent to EX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/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Proof Sketch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BQP/qpoly algorithm, make error prob. exponentially small by taking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p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put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oop through all 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in lexicographic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, let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set of advice states that cause algorithm to output i with prob. 1-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n there exist orthogonal subspaces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.t. all states in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exponentially close to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see thi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ceptance probability on advic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writte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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or some Hermitian p.s.d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eigenvalues in [0,1].  Le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subspaces spanned by eigenvector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responding to eigenvalues in [0,1/3], [2/3,1]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Subspac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subspace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compatible with inputs 1,…,y (initiall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whole Hilbert sp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whichever has larger dimension: projection of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to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projection of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to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ical advice says to pick the subspace of smaller dimens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ime we pick smaller subspace, dim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at least halved.  So advice needs to intervene only polynomially man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1143000"/>
            <a:ext cx="3886200" cy="1066680"/>
          </a:xfrm>
          <a:prstGeom prst="parallelogram">
            <a:avLst>
              <a:gd name="adj" fmla="val 910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22860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2860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11430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Subspac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everything in EXP (diagonalize exponentially large matri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op over all input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in technical fac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rror (distance from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p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stays bounded over all it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pen Problem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 separation between BQP/poly and BQP/q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BQP/qpo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SPACE/po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BQP/qpol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P/poly relative to an ora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natu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s in BQP/qpoly (besides cousins of QMA problem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8T02:30:51Z</dcterms:created>
  <dc:creator>Avaya User</dc:creator>
  <dc:description/>
  <dc:language>en-US</dc:language>
  <cp:lastModifiedBy>Avaya User</cp:lastModifiedBy>
  <dcterms:modified xsi:type="dcterms:W3CDTF">2003-07-08T17:07:23Z</dcterms:modified>
  <cp:revision>3</cp:revision>
  <dc:subject/>
  <dc:title>BQP/qpoly  EXP/poly</dc:title>
</cp:coreProperties>
</file>