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580-5763-4B90-95D9-E9317EC4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122D-CF32-4B8D-97C7-C59BD85E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2F98-4343-4484-BBFD-D5EE58245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7EBD-5372-4DBF-826A-E9CBA006B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A2EE-00A5-464C-9458-FB5DEE72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FC37-E887-40D3-8090-1884B58DA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6CBD-AA44-4AF4-B664-91BD48ED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6DD7-EDA8-4591-B1EC-E128E54AC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8897-60B7-40E4-BFF7-46172AB61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FAFC-5D38-4B50-8433-F4A1E673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3A31-CFF7-4E42-A7BA-8ECDBD30E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EF9E-5D86-474A-B77F-8607E7575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9CB2-B63E-4A04-8555-559A29637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5BD2-49ED-4235-B965-6C70112D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59B0-9E7C-4667-B98F-BA2037E5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A8A4-A304-459A-8A13-BFD6E3AAB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CED3-B2DE-4D35-B8D6-A4E4F89C4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D58E-7B75-40DC-99B3-71636C1A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AEC3-FAC5-4B92-8F67-4B5BB7C0E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C9B7-7BDA-4B89-9636-069F33DDD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1053-3831-4609-94DF-A6134687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4998-AAEC-49DE-AFC8-874D818DF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E80A-7F1F-426A-A33F-FBB7581E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BB84-9188-465E-8526-F4D43478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0ED-5B9C-4F58-AB1C-146513E5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EFA8-ACC2-4BCA-8F75-AA423F7A0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94FD-D3BF-48AF-808E-7917BEBEF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474-C987-4224-ADE8-754DDAB1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15E-0A62-4829-BD2A-746B07A5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341-396A-4968-80FF-0D526A0E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55E-B5A6-4CE4-99D1-BE8BB0DC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440-F449-42B3-895B-BD5DFB9D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33F-0387-4FE8-A0A8-86D12230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88E-A151-465A-8B3B-EA8FFE4A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AE7-F909-47A4-8C87-4EAE88C3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C11-97E9-449C-8778-7CBD47F4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367-87D6-4421-9E34-7E67D432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309-F23F-49C7-AC97-E51C093B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546-6CCE-4CAC-BCD6-B9999CC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6AA6-A5D7-4177-8291-1CA08BFD7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Quantum Money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46483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3"/>
          <p:cNvGrpSpPr/>
          <p:nvPr/>
        </p:nvGrpSpPr>
        <p:grpSpPr>
          <a:xfrm>
            <a:off x="3505320" y="1447560"/>
            <a:ext cx="2284200" cy="3141720"/>
            <a:chOff x="3505320" y="1447560"/>
            <a:chExt cx="2284200" cy="3141720"/>
          </a:xfrm>
        </p:grpSpPr>
        <p:sp>
          <p:nvSpPr>
            <p:cNvPr id="51" name="Line 43"/>
            <p:cNvSpPr/>
            <p:nvPr/>
          </p:nvSpPr>
          <p:spPr>
            <a:xfrm flipV="1">
              <a:off x="4010040" y="1447560"/>
              <a:ext cx="1552320" cy="314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3505320" y="1739880"/>
              <a:ext cx="2284200" cy="22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7952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partly on joint work with Ed Farhi, David Gosset, Avinatan Hassidim, Jon Kelner, Andy Lutomirski, and Peter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80880" y="152280"/>
            <a:ext cx="84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Definition of Quantum Money Sche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914400"/>
            <a:ext cx="853416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ecurity paramete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all computations should be polynomial in 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-size quantum circuit (the “bank”), which maps a secret key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a public ke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quantum bankno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-size quantum circuit (the “authenticator”), which takes (e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as input and either accepts or re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3505320"/>
            <a:ext cx="8305560" cy="25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,A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mplete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every 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,A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ound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every poly(n)-size quantum circuit C (the “counterfeiter”) mapp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r&gt;k output register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3162240" y="5392800"/>
                <a:ext cx="56768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cepts</m:t>
                            </m:r>
                          </m:e>
                        </m:d>
                      </m:e>
                    </m:nary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401920" y="3962520"/>
                <a:ext cx="5025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457200" y="45720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erfeiter only ge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cheme is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private-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erfeiter gets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cheme is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public-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1981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ublic-key scheme where completeness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oundness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both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3276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verifying a bill also destroy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t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mall enoug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380880" y="304920"/>
            <a:ext cx="8382240" cy="66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o public-key quantum money scheme can be information-theoretically sec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counterfeiter with unlimited computation time can do thi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 be an ensemble of possible quantum money stat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tain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t:=0 to n-1 {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legitimate authenticator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*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ccepts a random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e from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high probability, we’re d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wise, get a legitimate quantum money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*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d an authenticator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rejects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tates i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ut accep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*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+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et of states in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ccepts w.h.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9"/>
          <p:cNvGrpSpPr/>
          <p:nvPr/>
        </p:nvGrpSpPr>
        <p:grpSpPr>
          <a:xfrm>
            <a:off x="2286000" y="3657600"/>
            <a:ext cx="4876920" cy="2286000"/>
            <a:chOff x="2286000" y="3657600"/>
            <a:chExt cx="4876920" cy="2286000"/>
          </a:xfrm>
        </p:grpSpPr>
        <p:pic>
          <p:nvPicPr>
            <p:cNvPr id="131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2286000" y="3657600"/>
              <a:ext cx="4876920" cy="2286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2" name="Straight Arrow Connector 25"/>
            <p:cNvCxnSpPr/>
            <p:nvPr/>
          </p:nvCxnSpPr>
          <p:spPr>
            <a:xfrm flipV="1">
              <a:off x="3809880" y="426672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3" name="Straight Arrow Connector 26"/>
            <p:cNvCxnSpPr/>
            <p:nvPr/>
          </p:nvCxnSpPr>
          <p:spPr>
            <a:xfrm flipH="1" flipV="1">
              <a:off x="4495320" y="426672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4" name="Straight Arrow Connector 27"/>
            <p:cNvCxnSpPr/>
            <p:nvPr/>
          </p:nvCxnSpPr>
          <p:spPr>
            <a:xfrm flipH="1" flipV="1">
              <a:off x="5105160" y="41904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5" name="Straight Arrow Connector 28"/>
            <p:cNvCxnSpPr/>
            <p:nvPr/>
          </p:nvCxnSpPr>
          <p:spPr>
            <a:xfrm flipV="1">
              <a:off x="5943600" y="411408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29"/>
            <p:cNvCxnSpPr/>
            <p:nvPr/>
          </p:nvCxnSpPr>
          <p:spPr>
            <a:xfrm>
              <a:off x="6248160" y="449568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7" name="Straight Arrow Connector 30"/>
            <p:cNvCxnSpPr/>
            <p:nvPr/>
          </p:nvCxnSpPr>
          <p:spPr>
            <a:xfrm>
              <a:off x="3733560" y="510552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8" name="Straight Arrow Connector 31"/>
            <p:cNvCxnSpPr/>
            <p:nvPr/>
          </p:nvCxnSpPr>
          <p:spPr>
            <a:xfrm flipV="1">
              <a:off x="4724640" y="479988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9" name="Straight Arrow Connector 32"/>
            <p:cNvCxnSpPr/>
            <p:nvPr/>
          </p:nvCxnSpPr>
          <p:spPr>
            <a:xfrm flipV="1">
              <a:off x="5410440" y="479988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0" name="Straight Arrow Connector 33"/>
            <p:cNvCxnSpPr/>
            <p:nvPr/>
          </p:nvCxnSpPr>
          <p:spPr>
            <a:xfrm>
              <a:off x="5714640" y="510552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1" name="Straight Arrow Connector 34"/>
            <p:cNvCxnSpPr/>
            <p:nvPr/>
          </p:nvCxnSpPr>
          <p:spPr>
            <a:xfrm flipH="1" flipV="1">
              <a:off x="6324480" y="487656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2" name="Straight Arrow Connector 35"/>
            <p:cNvCxnSpPr/>
            <p:nvPr/>
          </p:nvCxnSpPr>
          <p:spPr>
            <a:xfrm flipH="1" flipV="1">
              <a:off x="3200040" y="495252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3" name="Straight Arrow Connector 36"/>
            <p:cNvCxnSpPr/>
            <p:nvPr/>
          </p:nvCxnSpPr>
          <p:spPr>
            <a:xfrm flipV="1">
              <a:off x="2590560" y="495252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</p:grpSp>
      <p:cxnSp>
        <p:nvCxnSpPr>
          <p:cNvPr id="144" name="Straight Arrow Connector 24"/>
          <p:cNvCxnSpPr/>
          <p:nvPr/>
        </p:nvCxnSpPr>
        <p:spPr>
          <a:xfrm flipV="1">
            <a:off x="3505320" y="4190400"/>
            <a:ext cx="216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45" name="Text Box 2"/>
          <p:cNvSpPr/>
          <p:nvPr/>
        </p:nvSpPr>
        <p:spPr>
          <a:xfrm>
            <a:off x="457200" y="3049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Public-Key Quantum Money Secure Against 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Black-Box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 Advers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0880" y="1828800"/>
            <a:ext cx="84582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n’t Wiesner’s scheme already provide thi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No!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A counterfeiter could copy a bill, by using the checking device to figure out the polarization of one qubit at a tim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23"/>
          <p:cNvCxnSpPr/>
          <p:nvPr/>
        </p:nvCxnSpPr>
        <p:spPr>
          <a:xfrm>
            <a:off x="2438280" y="4343400"/>
            <a:ext cx="61056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48" name="Straight Arrow Connector 38"/>
          <p:cNvCxnSpPr/>
          <p:nvPr/>
        </p:nvCxnSpPr>
        <p:spPr>
          <a:xfrm>
            <a:off x="3047760" y="434340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49" name="Straight Arrow Connector 40"/>
          <p:cNvCxnSpPr/>
          <p:nvPr/>
        </p:nvCxnSpPr>
        <p:spPr>
          <a:xfrm>
            <a:off x="2590560" y="44953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457200" y="304920"/>
            <a:ext cx="82296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olu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bank chooses an n-qubit quantum money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niformly at random under the Haar mea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hecking device, U, accept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rejects every state orthogonal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a counterfeiter create additional copies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using k=poly(n) copies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ogether wi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(n) queries to 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57200" y="3809880"/>
            <a:ext cx="82296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If the counterfeiter only had |</a:t>
            </a:r>
            <a:r>
              <a:rPr b="1" lang="en-US" sz="2600" spc="-1" strike="noStrike">
                <a:solidFill>
                  <a:srgbClr val="990099"/>
                </a:solidFill>
                <a:latin typeface="Symbol"/>
                <a:ea typeface="Symbol"/>
              </a:rPr>
              <a:t></a:t>
            </a:r>
            <a:r>
              <a:rPr b="1" lang="en-US" sz="2600" spc="-1" strike="noStrike" baseline="30000">
                <a:solidFill>
                  <a:srgbClr val="990099"/>
                </a:solidFill>
                <a:latin typeface="Symbol"/>
                <a:ea typeface="Symbol"/>
              </a:rPr>
              <a:t></a:t>
            </a:r>
            <a:r>
              <a:rPr b="1" lang="en-US" sz="2600" spc="-1" strike="noStrike" baseline="30000">
                <a:solidFill>
                  <a:srgbClr val="990099"/>
                </a:solidFill>
                <a:latin typeface="Calibri"/>
              </a:rPr>
              <a:t>k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, and not U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, by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If the counterfeiter only had U, and not |</a:t>
            </a:r>
            <a:r>
              <a:rPr b="1" lang="en-US" sz="2600" spc="-1" strike="noStrike">
                <a:solidFill>
                  <a:srgbClr val="990099"/>
                </a:solidFill>
                <a:latin typeface="Symbol"/>
                <a:ea typeface="Symbol"/>
              </a:rPr>
              <a:t></a:t>
            </a:r>
            <a:r>
              <a:rPr b="1" lang="en-US" sz="2600" spc="-1" strike="noStrike" baseline="30000">
                <a:solidFill>
                  <a:srgbClr val="990099"/>
                </a:solidFill>
                <a:latin typeface="Symbol"/>
                <a:ea typeface="Symbol"/>
              </a:rPr>
              <a:t></a:t>
            </a:r>
            <a:r>
              <a:rPr b="1" lang="en-US" sz="2600" spc="-1" strike="noStrike" baseline="30000">
                <a:solidFill>
                  <a:srgbClr val="990099"/>
                </a:solidFill>
                <a:latin typeface="Calibri"/>
              </a:rPr>
              <a:t>k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, by the optimality of Grover’s search algorith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U must be queried 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2</a:t>
            </a:r>
            <a:r>
              <a:rPr b="0" lang="en-US" sz="2600" spc="-1" strike="noStrike" baseline="30000">
                <a:solidFill>
                  <a:srgbClr val="008000"/>
                </a:solidFill>
                <a:latin typeface="Calibri"/>
              </a:rPr>
              <a:t>n/2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) times to find 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But what if the counterfeiter has both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omplexity-Theoretic No-Cloning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1066680"/>
            <a:ext cx="861048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an n-qubit state.  Suppose we’re giv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s well 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black box U that accept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rejects all states orthogonal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Then to prepare r&gt;k stat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514600" y="2438280"/>
                <a:ext cx="37130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</m:e>
                    </m:nary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≥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3"/>
          <p:cNvSpPr/>
          <p:nvPr/>
        </p:nvSpPr>
        <p:spPr>
          <a:xfrm>
            <a:off x="379440" y="403848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need this many queries to 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3"/>
              <p:cNvSpPr txBox="1"/>
              <p:nvPr/>
            </p:nvSpPr>
            <p:spPr>
              <a:xfrm>
                <a:off x="5029200" y="3505320"/>
                <a:ext cx="311148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Text Box 3"/>
          <p:cNvSpPr/>
          <p:nvPr/>
        </p:nvSpPr>
        <p:spPr>
          <a:xfrm>
            <a:off x="685800" y="5257800"/>
            <a:ext cx="8001000" cy="1281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of requires generalizing Ambainis’s adversary method, to the case where the quantum algorithm’s initial state already encodes some information about the target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5720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Explicit Candidate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04920" y="106668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stabilizer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state obtainable from |0…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applying Hadamard, Controlled-NOT, and Phase gates on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80880" y="4267080"/>
            <a:ext cx="830592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y scheme, a dollar bill consists o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 random stabilizer states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n qubits 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table of measurements to apply to the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(conventional) digital signature of th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380880" y="2057400"/>
                <a:ext cx="54324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Rectangle 12"/>
          <p:cNvSpPr/>
          <p:nvPr/>
        </p:nvSpPr>
        <p:spPr>
          <a:xfrm>
            <a:off x="5943600" y="2743200"/>
            <a:ext cx="2895480" cy="16779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se states can always be efficiently prepar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6"/>
          <p:cNvSpPr/>
          <p:nvPr/>
        </p:nvSpPr>
        <p:spPr>
          <a:xfrm>
            <a:off x="380880" y="228600"/>
            <a:ext cx="3581640" cy="388620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304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The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533520" y="990720"/>
                <a:ext cx="3087720" cy="30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⟩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⟩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⟩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6" name="Text Box 3"/>
          <p:cNvSpPr/>
          <p:nvPr/>
        </p:nvSpPr>
        <p:spPr>
          <a:xfrm>
            <a:off x="4419720" y="914400"/>
            <a:ext cx="41907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|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have lots of random garbage measurements, but also a secr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action that commute with |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920" y="4191120"/>
            <a:ext cx="838188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To verify a b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y the table’s digital 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i, apply a random measuremen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|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if more than               of the measurement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3886200" y="5972040"/>
                <a:ext cx="885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7"/>
          <p:cNvSpPr/>
          <p:nvPr/>
        </p:nvSpPr>
        <p:spPr>
          <a:xfrm>
            <a:off x="2362320" y="2895480"/>
            <a:ext cx="5105160" cy="244116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alibri"/>
              </a:rPr>
              <a:t>Hop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earning classical descriptions of the |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’s, or copying them in any other way, is computationally intractable (a “noisy parity problem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380880" y="1066680"/>
            <a:ext cx="822960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Two c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extremely small.  Then the test is “too weak,” and we can guess our own states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pass the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reasonably large.  Then for each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consider a graph of the possible measurements, with an edge between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f they commute with each oth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reaking Aaronson’s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4419720"/>
            <a:ext cx="762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5181480"/>
            <a:ext cx="761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6095880"/>
            <a:ext cx="762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743200" y="6095880"/>
            <a:ext cx="762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505320" y="5181480"/>
            <a:ext cx="761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590920" y="4419720"/>
            <a:ext cx="761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6"/>
          <p:cNvSpPr/>
          <p:nvPr/>
        </p:nvSpPr>
        <p:spPr>
          <a:xfrm>
            <a:off x="1143000" y="563868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8"/>
          <p:cNvSpPr/>
          <p:nvPr/>
        </p:nvSpPr>
        <p:spPr>
          <a:xfrm>
            <a:off x="3124080" y="4876920"/>
            <a:ext cx="4572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9"/>
          <p:cNvSpPr/>
          <p:nvPr/>
        </p:nvSpPr>
        <p:spPr>
          <a:xfrm flipV="1">
            <a:off x="1066680" y="472392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31"/>
          <p:cNvSpPr/>
          <p:nvPr/>
        </p:nvSpPr>
        <p:spPr>
          <a:xfrm flipV="1">
            <a:off x="1905120" y="5562360"/>
            <a:ext cx="167616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3"/>
          <p:cNvSpPr/>
          <p:nvPr/>
        </p:nvSpPr>
        <p:spPr>
          <a:xfrm flipH="1">
            <a:off x="1752120" y="4800600"/>
            <a:ext cx="114300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39"/>
          <p:cNvSpPr/>
          <p:nvPr/>
        </p:nvSpPr>
        <p:spPr>
          <a:xfrm>
            <a:off x="1143000" y="5486400"/>
            <a:ext cx="243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2"/>
          <p:cNvSpPr/>
          <p:nvPr/>
        </p:nvSpPr>
        <p:spPr>
          <a:xfrm flipV="1">
            <a:off x="3200400" y="5638680"/>
            <a:ext cx="5335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44"/>
          <p:cNvSpPr/>
          <p:nvPr/>
        </p:nvSpPr>
        <p:spPr>
          <a:xfrm flipH="1" flipV="1">
            <a:off x="2971800" y="4800600"/>
            <a:ext cx="763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52"/>
          <p:cNvSpPr/>
          <p:nvPr/>
        </p:nvSpPr>
        <p:spPr>
          <a:xfrm flipH="1" flipV="1">
            <a:off x="1600200" y="4800600"/>
            <a:ext cx="763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53"/>
          <p:cNvSpPr/>
          <p:nvPr/>
        </p:nvSpPr>
        <p:spPr>
          <a:xfrm flipH="1">
            <a:off x="1905120" y="46483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56"/>
          <p:cNvSpPr/>
          <p:nvPr/>
        </p:nvSpPr>
        <p:spPr>
          <a:xfrm flipV="1">
            <a:off x="838080" y="464796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2"/>
          <p:cNvSpPr/>
          <p:nvPr/>
        </p:nvSpPr>
        <p:spPr>
          <a:xfrm>
            <a:off x="4343400" y="4191120"/>
            <a:ext cx="4419720" cy="25246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“secret” measurements that commute with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so commute with each other.  Thus, the problem reduces to finding a “planted clique” in a random-looking grap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3"/>
          <p:cNvSpPr/>
          <p:nvPr/>
        </p:nvSpPr>
        <p:spPr>
          <a:xfrm>
            <a:off x="1905120" y="2666880"/>
            <a:ext cx="5562360" cy="237816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 we’re able to adapt an eigenvector-based algorithm of Alon, Krivelevich, and Sudakov (SODA’98) for finding large planted cliques in random grap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457200" y="2895480"/>
            <a:ext cx="83818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t with an equal superposition over all n-bit 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e randomly-chosen hash functions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(with m ~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asure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…,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 leaving a superpositio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ver all x’s for which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 on prescribed values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the dollar bill, distribu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r=(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 and a conventional digital signature of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Our New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3276720" y="1143000"/>
                <a:ext cx="24811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828800" y="1143000"/>
                <a:ext cx="55832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3352680" y="1523880"/>
                <a:ext cx="26463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3200400" y="1523880"/>
                <a:ext cx="2728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33520" y="304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 since there’s been money, there’ve been people trying to counterfei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1371600" cy="144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3048120" y="4419720"/>
            <a:ext cx="3000240" cy="1395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3520" y="274320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his capacity as Master of the Mint, Isaac Newton added milled edges to English coins to make them harder to counterf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3"/>
          <a:stretch/>
        </p:blipFill>
        <p:spPr>
          <a:xfrm>
            <a:off x="6705720" y="3733920"/>
            <a:ext cx="1752480" cy="2239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80880" y="6095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ewton also personally oversaw hangings of many counterfe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33520" y="1371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ne of the oldest “security problems” facing human civilization; has to be solved reasonably well before a market economy become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304920" y="228600"/>
            <a:ext cx="85341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To verify a bill |</a:t>
            </a:r>
            <a:r>
              <a:rPr b="1" lang="en-US" sz="2600" spc="-1" strike="noStrike">
                <a:solidFill>
                  <a:srgbClr val="ff3300"/>
                </a:solidFill>
                <a:latin typeface="Symbol"/>
                <a:ea typeface="Symbol"/>
              </a:rPr>
              <a:t>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|r</a:t>
            </a:r>
            <a:r>
              <a:rPr b="1" lang="en-US" sz="2600" spc="-1" strike="noStrike">
                <a:solidFill>
                  <a:srgbClr val="ff3300"/>
                </a:solidFill>
                <a:latin typeface="Symbol"/>
                <a:ea typeface="Symbol"/>
              </a:rPr>
              <a:t>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|sig(r)</a:t>
            </a:r>
            <a:r>
              <a:rPr b="1" lang="en-US" sz="2600" spc="-1" strike="noStrike">
                <a:solidFill>
                  <a:srgbClr val="ff3300"/>
                </a:solidFill>
                <a:latin typeface="Symbol"/>
                <a:ea typeface="Symbol"/>
              </a:rPr>
              <a:t>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ify r’s digital signa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ruct a Markov chain M, whose stationary distribution is uniform over the set S = {x :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=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=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}.  Using M, verify tha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n equal superposition over 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752480" y="2819520"/>
            <a:ext cx="5410440" cy="885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2d8a"/>
                </a:solidFill>
                <a:latin typeface="Calibri"/>
              </a:rPr>
              <a:t>Conjectur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y quantum algorithm needs exponential time to copy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04920" y="3809880"/>
            <a:ext cx="85341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Striking feature of this scheme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an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’t copy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y more than a counterfeiter can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r (we believe) can the bank efficiently create two bills with the same “serial number”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like with the stabilizer scheme, here there’s no obvious “classical secret” that lets you copy a bill if you learn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45720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Quantum Software Copy-Pro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0880" y="57150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task closely related to quantum money—which like the latter, seems “on the verge of being possib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1279440" cy="1600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380880" y="29718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know copy-protection 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undamentally impossib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classical worl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not that that’s stopped people from trying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Callout 7"/>
          <p:cNvSpPr/>
          <p:nvPr/>
        </p:nvSpPr>
        <p:spPr>
          <a:xfrm>
            <a:off x="2362320" y="1143000"/>
            <a:ext cx="6553080" cy="1523880"/>
          </a:xfrm>
          <a:prstGeom prst="wedgeEllipseCallout">
            <a:avLst>
              <a:gd name="adj1" fmla="val -59361"/>
              <a:gd name="adj2" fmla="val 15439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590920" y="1676520"/>
            <a:ext cx="632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ly, a serious use for quantum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80880" y="3962520"/>
            <a:ext cx="830592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you have a quantum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lets you efficiently compute an unknown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, 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an’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efficiently used to prepare more states that also let you efficiently compute f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457200" y="762120"/>
            <a:ext cx="82296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you run a “quantum program”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o you also destroy that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For the software company, maybe that would be a feature, not a bug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f you buy k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some k=poly(n), you can make the “damage”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each run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ne Implic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y quantum copy-protection scheme will have to rely on computational assump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just like the public-key quantum money sche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380880" y="380880"/>
            <a:ext cx="8229600" cy="59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obstruction to copy-protec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ppose you could efficiently learn f, given oracle access to f.  Then there’s no hope of copy-protecting f, using quantum mechanics or anything el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odulo that obstruction, it’s possible to quantumly copy-protect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amily of functions, provided the pirates have only black-box access to the device that measures the stat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of follows the same outline as black-box security proof for quantum money, but is more complic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Need to construct a “simulator,” which converts any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algorithm for pirating 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 into an algorithm for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learning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py-Protecting Point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7200" y="4343400"/>
            <a:ext cx="830592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sible Solut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s to generate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seudorandom quantum circu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ompute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 measure                   in the standard basis, and see if you get back the all-0 st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0880" y="1981080"/>
                <a:ext cx="31147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s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Text Box 3"/>
          <p:cNvSpPr/>
          <p:nvPr/>
        </p:nvSpPr>
        <p:spPr>
          <a:xfrm>
            <a:off x="380880" y="129528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oint fun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886200" y="1295280"/>
            <a:ext cx="5029200" cy="273096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in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UNIX password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cept, given the quantum progra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we want it to be hard not merely to learn the password s, but even to create more programs able to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recogniz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4419720" y="4724280"/>
                <a:ext cx="2342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4191120" y="5334120"/>
                <a:ext cx="1171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457200" y="121932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forgeable money (and copy-protected software, etc.) remains one of the most striking potential applications of quantum mechanics to computer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we’ve been revisiting this 40-year-old idea using the arsenal of modern CS the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Biggest challeng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ecure quantum money that anyone can verify (not just the ban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showed how to achieve this in the ‘black-box world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n the ‘real’ world, finding a scheme that withstands attack is harder than it look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Maybe we found one anyway; time will t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457200" y="1600200"/>
            <a:ext cx="822960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base the security of public-key quantum money on a “standard” cryptographic assumption?  How about copy-prot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copy-protect anything besides point func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get provably-secure public-key quantum money, with the help of only a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class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lack box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“non-cloneable functionalities”: keys?  ID car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2860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6858000" y="-175680"/>
            <a:ext cx="1630080" cy="2020320"/>
            <a:chOff x="6858000" y="-175680"/>
            <a:chExt cx="1630080" cy="2020320"/>
          </a:xfrm>
        </p:grpSpPr>
        <p:grpSp>
          <p:nvGrpSpPr>
            <p:cNvPr id="221" name="Group 14"/>
            <p:cNvGrpSpPr/>
            <p:nvPr/>
          </p:nvGrpSpPr>
          <p:grpSpPr>
            <a:xfrm>
              <a:off x="6858000" y="228600"/>
              <a:ext cx="914400" cy="1616040"/>
              <a:chOff x="6858000" y="228600"/>
              <a:chExt cx="914400" cy="1616040"/>
            </a:xfrm>
          </p:grpSpPr>
          <p:sp>
            <p:nvSpPr>
              <p:cNvPr id="222" name="AutoShape 13"/>
              <p:cNvSpPr/>
              <p:nvPr/>
            </p:nvSpPr>
            <p:spPr>
              <a:xfrm>
                <a:off x="68580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15"/>
              <p:cNvSpPr/>
              <p:nvPr/>
            </p:nvSpPr>
            <p:spPr>
              <a:xfrm>
                <a:off x="69926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9"/>
            <p:cNvSpPr/>
            <p:nvPr/>
          </p:nvSpPr>
          <p:spPr>
            <a:xfrm rot="2698800">
              <a:off x="74329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 rot="2698800">
              <a:off x="71211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 rot="2698800">
              <a:off x="72514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7"/>
          <p:cNvGrpSpPr/>
          <p:nvPr/>
        </p:nvGrpSpPr>
        <p:grpSpPr>
          <a:xfrm>
            <a:off x="914400" y="-175680"/>
            <a:ext cx="1630080" cy="2020320"/>
            <a:chOff x="914400" y="-175680"/>
            <a:chExt cx="1630080" cy="2020320"/>
          </a:xfrm>
        </p:grpSpPr>
        <p:grpSp>
          <p:nvGrpSpPr>
            <p:cNvPr id="228" name="Group 18"/>
            <p:cNvGrpSpPr/>
            <p:nvPr/>
          </p:nvGrpSpPr>
          <p:grpSpPr>
            <a:xfrm>
              <a:off x="914400" y="228600"/>
              <a:ext cx="914400" cy="1616040"/>
              <a:chOff x="914400" y="228600"/>
              <a:chExt cx="914400" cy="1616040"/>
            </a:xfrm>
          </p:grpSpPr>
          <p:sp>
            <p:nvSpPr>
              <p:cNvPr id="229" name="AutoShape 19"/>
              <p:cNvSpPr/>
              <p:nvPr/>
            </p:nvSpPr>
            <p:spPr>
              <a:xfrm>
                <a:off x="9144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20"/>
              <p:cNvSpPr/>
              <p:nvPr/>
            </p:nvSpPr>
            <p:spPr>
              <a:xfrm>
                <a:off x="10490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AutoShape 21"/>
            <p:cNvSpPr/>
            <p:nvPr/>
          </p:nvSpPr>
          <p:spPr>
            <a:xfrm rot="2698800">
              <a:off x="14893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2"/>
            <p:cNvSpPr/>
            <p:nvPr/>
          </p:nvSpPr>
          <p:spPr>
            <a:xfrm rot="2698800">
              <a:off x="11775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 rot="2698800">
              <a:off x="13078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17"/>
          <p:cNvSpPr/>
          <p:nvPr/>
        </p:nvSpPr>
        <p:spPr>
          <a:xfrm>
            <a:off x="457200" y="533412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keep a quantum money state coherent for more than a few secon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152388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s to an arms race with no obvious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80880" y="3808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da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lograms, embedded strips, “microprinting,” special in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90720" cy="2523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04920" y="30481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CS perspective, uncopyable cash seems impossible for trivi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3880" y="411480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ny printing technology the good guys can build, bad guys can in principle build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(x,x) is a polynomial-tim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0948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’s done in practic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a trusted third party (the bank) authorize every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09480" y="30481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K, but there are some cases where you want the convenience, privacy, and anonymity of cash, and it seems you can never mak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yptographically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51055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 you can’t, in classical phys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39680" cy="12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189864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6095880" y="1371600"/>
            <a:ext cx="1371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590920" y="609480"/>
            <a:ext cx="6095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Uncertainty Principle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measure a particle’s position, or its momentum, but not both to unlimited pre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8860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467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7"/>
          <p:cNvGrpSpPr/>
          <p:nvPr/>
        </p:nvGrpSpPr>
        <p:grpSpPr>
          <a:xfrm>
            <a:off x="990720" y="3124080"/>
            <a:ext cx="7302240" cy="3529080"/>
            <a:chOff x="990720" y="3124080"/>
            <a:chExt cx="7302240" cy="3529080"/>
          </a:xfrm>
        </p:grpSpPr>
        <p:sp>
          <p:nvSpPr>
            <p:cNvPr id="77" name="Cube 20"/>
            <p:cNvSpPr/>
            <p:nvPr/>
          </p:nvSpPr>
          <p:spPr>
            <a:xfrm>
              <a:off x="3276720" y="4038120"/>
              <a:ext cx="1752480" cy="175248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23"/>
            <p:cNvCxnSpPr/>
            <p:nvPr/>
          </p:nvCxnSpPr>
          <p:spPr>
            <a:xfrm>
              <a:off x="2133360" y="495252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79" name="Object 2"/>
                <p:cNvSpPr txBox="1"/>
                <p:nvPr/>
              </p:nvSpPr>
              <p:spPr>
                <a:xfrm>
                  <a:off x="990720" y="4266720"/>
                  <a:ext cx="12337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80" name="Straight Arrow Connector 26"/>
            <p:cNvCxnSpPr/>
            <p:nvPr/>
          </p:nvCxnSpPr>
          <p:spPr>
            <a:xfrm>
              <a:off x="4952520" y="495252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81" name="Object 3"/>
                <p:cNvSpPr txBox="1"/>
                <p:nvPr/>
              </p:nvSpPr>
              <p:spPr>
                <a:xfrm>
                  <a:off x="6019920" y="4266720"/>
                  <a:ext cx="22730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82" name="Picture 5" descr="C:\Users\od user\AppData\Local\Microsoft\Windows\Temporary Internet Files\Content.IE5\N7YD4WXK\MCj04325380000[1].png"/>
            <p:cNvPicPr/>
            <p:nvPr/>
          </p:nvPicPr>
          <p:blipFill>
            <a:blip r:embed="rId3"/>
            <a:stretch/>
          </p:blipFill>
          <p:spPr>
            <a:xfrm>
              <a:off x="2286000" y="3124080"/>
              <a:ext cx="3581280" cy="35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Rectangle 41"/>
          <p:cNvSpPr/>
          <p:nvPr/>
        </p:nvSpPr>
        <p:spPr>
          <a:xfrm>
            <a:off x="1094040" y="2514600"/>
            <a:ext cx="682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gical consequence: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-Cloning The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04920" y="30492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First Idea in the History of Quantum In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920" y="106668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iesner 1969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oney that’s impossible to counterfeit, assuming only the validity of quantum mechan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8"/>
          <p:cNvGrpSpPr/>
          <p:nvPr/>
        </p:nvGrpSpPr>
        <p:grpSpPr>
          <a:xfrm>
            <a:off x="304920" y="1981080"/>
            <a:ext cx="4876560" cy="2286000"/>
            <a:chOff x="304920" y="1981080"/>
            <a:chExt cx="4876560" cy="2286000"/>
          </a:xfrm>
        </p:grpSpPr>
        <p:pic>
          <p:nvPicPr>
            <p:cNvPr id="87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304920" y="1981080"/>
              <a:ext cx="4876560" cy="2286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8" name="Straight Arrow Connector 13"/>
            <p:cNvCxnSpPr/>
            <p:nvPr/>
          </p:nvCxnSpPr>
          <p:spPr>
            <a:xfrm>
              <a:off x="533160" y="28191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89" name="Straight Arrow Connector 14"/>
            <p:cNvCxnSpPr/>
            <p:nvPr/>
          </p:nvCxnSpPr>
          <p:spPr>
            <a:xfrm flipV="1">
              <a:off x="1523880" y="251352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0" name="Straight Arrow Connector 15"/>
            <p:cNvCxnSpPr/>
            <p:nvPr/>
          </p:nvCxnSpPr>
          <p:spPr>
            <a:xfrm flipV="1">
              <a:off x="1828800" y="25902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1" name="Straight Arrow Connector 16"/>
            <p:cNvCxnSpPr/>
            <p:nvPr/>
          </p:nvCxnSpPr>
          <p:spPr>
            <a:xfrm flipH="1" flipV="1">
              <a:off x="2514240" y="25902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2" name="Straight Arrow Connector 25"/>
            <p:cNvCxnSpPr/>
            <p:nvPr/>
          </p:nvCxnSpPr>
          <p:spPr>
            <a:xfrm flipH="1" flipV="1">
              <a:off x="3123720" y="251388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3" name="Straight Arrow Connector 26"/>
            <p:cNvCxnSpPr/>
            <p:nvPr/>
          </p:nvCxnSpPr>
          <p:spPr>
            <a:xfrm flipV="1">
              <a:off x="3962520" y="243756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4" name="Straight Arrow Connector 27"/>
            <p:cNvCxnSpPr/>
            <p:nvPr/>
          </p:nvCxnSpPr>
          <p:spPr>
            <a:xfrm>
              <a:off x="4266720" y="28191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5" name="Straight Arrow Connector 28"/>
            <p:cNvCxnSpPr/>
            <p:nvPr/>
          </p:nvCxnSpPr>
          <p:spPr>
            <a:xfrm>
              <a:off x="1752120" y="34290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6" name="Straight Arrow Connector 29"/>
            <p:cNvCxnSpPr/>
            <p:nvPr/>
          </p:nvCxnSpPr>
          <p:spPr>
            <a:xfrm flipV="1">
              <a:off x="2743200" y="312336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7" name="Straight Arrow Connector 30"/>
            <p:cNvCxnSpPr/>
            <p:nvPr/>
          </p:nvCxnSpPr>
          <p:spPr>
            <a:xfrm flipV="1">
              <a:off x="3429000" y="312336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8" name="Straight Arrow Connector 31"/>
            <p:cNvCxnSpPr/>
            <p:nvPr/>
          </p:nvCxnSpPr>
          <p:spPr>
            <a:xfrm>
              <a:off x="3733560" y="34290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9" name="Straight Arrow Connector 32"/>
            <p:cNvCxnSpPr/>
            <p:nvPr/>
          </p:nvCxnSpPr>
          <p:spPr>
            <a:xfrm flipH="1" flipV="1">
              <a:off x="4343040" y="320004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0" name="Straight Arrow Connector 33"/>
            <p:cNvCxnSpPr/>
            <p:nvPr/>
          </p:nvCxnSpPr>
          <p:spPr>
            <a:xfrm flipH="1" flipV="1">
              <a:off x="1218960" y="32760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1" name="Straight Arrow Connector 34"/>
            <p:cNvCxnSpPr/>
            <p:nvPr/>
          </p:nvCxnSpPr>
          <p:spPr>
            <a:xfrm flipV="1">
              <a:off x="609480" y="32760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02" name="Text Box 3"/>
          <p:cNvSpPr/>
          <p:nvPr/>
        </p:nvSpPr>
        <p:spPr>
          <a:xfrm>
            <a:off x="5410080" y="2057400"/>
            <a:ext cx="3429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bill includes a few hundred qubits (say electrons), secretly polarized in one of four random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42670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a giant database, the bank remembers how it polarized every electron on every b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525780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t to verify a bill?  Take it to the bank.  Bank uses its knowledge of the polarizations to measure each electron in the appropriate basis:                 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4514760" y="32446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6" name="Group 44"/>
          <p:cNvGrpSpPr/>
          <p:nvPr/>
        </p:nvGrpSpPr>
        <p:grpSpPr>
          <a:xfrm>
            <a:off x="3885840" y="6095520"/>
            <a:ext cx="609840" cy="612000"/>
            <a:chOff x="3885840" y="6095520"/>
            <a:chExt cx="609840" cy="612000"/>
          </a:xfrm>
        </p:grpSpPr>
        <p:cxnSp>
          <p:nvCxnSpPr>
            <p:cNvPr id="107" name="Straight Arrow Connector 42"/>
            <p:cNvCxnSpPr/>
            <p:nvPr/>
          </p:nvCxnSpPr>
          <p:spPr>
            <a:xfrm>
              <a:off x="3885840" y="6705720"/>
              <a:ext cx="610200" cy="21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08" name="Straight Arrow Connector 43"/>
            <p:cNvCxnSpPr/>
            <p:nvPr/>
          </p:nvCxnSpPr>
          <p:spPr>
            <a:xfrm flipV="1">
              <a:off x="3886200" y="6095520"/>
              <a:ext cx="2160" cy="6105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grpSp>
        <p:nvGrpSpPr>
          <p:cNvPr id="109" name="Group 45"/>
          <p:cNvGrpSpPr/>
          <p:nvPr/>
        </p:nvGrpSpPr>
        <p:grpSpPr>
          <a:xfrm>
            <a:off x="5335200" y="6213960"/>
            <a:ext cx="862920" cy="438840"/>
            <a:chOff x="5335200" y="6213960"/>
            <a:chExt cx="862920" cy="438840"/>
          </a:xfrm>
        </p:grpSpPr>
        <p:cxnSp>
          <p:nvCxnSpPr>
            <p:cNvPr id="110" name="Straight Arrow Connector 46"/>
            <p:cNvCxnSpPr/>
            <p:nvPr/>
          </p:nvCxnSpPr>
          <p:spPr>
            <a:xfrm flipV="1">
              <a:off x="5758920" y="6229080"/>
              <a:ext cx="439560" cy="42408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11" name="Straight Arrow Connector 47"/>
            <p:cNvCxnSpPr/>
            <p:nvPr/>
          </p:nvCxnSpPr>
          <p:spPr>
            <a:xfrm flipH="1" flipV="1">
              <a:off x="5335200" y="6213960"/>
              <a:ext cx="424080" cy="43920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304920" y="4343400"/>
            <a:ext cx="8610480" cy="1600200"/>
          </a:xfrm>
          <a:prstGeom prst="rect">
            <a:avLst/>
          </a:prstGeom>
          <a:solidFill>
            <a:srgbClr val="ff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0880" y="380880"/>
            <a:ext cx="8458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unterfeiter who doesn’t know a bill’s state can copy it with probability at most (5/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where n is the number of electrons per b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088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backs of Wiesner’s sc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2743200"/>
            <a:ext cx="84582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keep bills from decohering in your wall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 needs to maintain a giant polarization databa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olution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 (Bennett et al. ‘82): Pseudorandom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he bank knows how to authenticate the bil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No analogue of a convenience-store clerk holding up a 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bill to the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04920" y="304920"/>
            <a:ext cx="85341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ich brings us to…</a:t>
            </a:r>
            <a:br>
              <a:rPr sz="3600"/>
            </a:b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Public-Key Quantum Money</a:t>
            </a:r>
            <a:br>
              <a:rPr sz="36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(Secure Quantum Money That Anyone Can Authentic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0880" y="21337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view of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0880" y="2819520"/>
            <a:ext cx="8458200" cy="38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[A., CCC 200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blic-key quantum money requires computational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e public-key quantum money is possible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unterfeiters only have black-box access to checking devi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(Already nontrivial: “Complexity-Theoretic No-Cloning Theorem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” (non-black-box) candidate scheme, based on random stabiliz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33520" y="457200"/>
            <a:ext cx="800100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[AFGHKLS, submitted, 200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eak of Aaronson’s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candidate scheme, where not even the bank can duplicate a b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(Security assumption: Our scheme can’t be bro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33520" y="3505320"/>
            <a:ext cx="80769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Related task [A., CCC’09]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antum software copy-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ic” copy-protection secure against black-box advers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candidate schemes for copy-protecting the family of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int function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9-29T22:52:39Z</dcterms:modified>
  <cp:revision>161</cp:revision>
  <dc:subject/>
  <dc:title>The Learnability of Quantum States</dc:title>
</cp:coreProperties>
</file>