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E79-36EF-4DAF-A53C-7A198E3E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E05-D5A2-4A0A-9B66-1EDAEE2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52E-F3B1-48F2-B4CD-6BDFF537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6F4-2BD9-4E9F-B9D4-B77D4E81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0B4-6526-46DF-ABCF-37EB04B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B0A-3029-4F2D-BFFF-F133E34F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B5C-741A-4801-911B-466C714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8FE-6FCD-4C06-8D2B-EA5A2445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D6F-7016-400B-85D4-28873DD2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E63-5CC7-4D8B-9D50-EFF2F50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589-F622-48A2-8F00-D9FCA80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C57-558A-42CC-8715-611B4EA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40DA-487B-4366-8311-B7270C8E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554200" cy="347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QMA/qpoly </a:t>
            </a:r>
            <a:r>
              <a:rPr b="1" lang="en-US" sz="4800" spc="-1" strike="noStrike">
                <a:solidFill>
                  <a:srgbClr val="cc3300"/>
                </a:solidFill>
                <a:latin typeface="Symbol"/>
                <a:ea typeface="Symbol"/>
              </a:rPr>
              <a:t>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 PSPACE/poly: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e-Merlinizing Quantum Protoco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1170400">
            <a:off x="3276360" y="2286000"/>
            <a:ext cx="3047760" cy="3048120"/>
          </a:xfrm>
          <a:prstGeom prst="noSmoking">
            <a:avLst>
              <a:gd name="adj" fmla="val 64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armup: The Classic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320040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all aw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, there’s a randomized protocol where Alice sends a+O(log N) bits and Merlin sends w b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4343400"/>
            <a:ext cx="8610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lice divides x into w-bit substrings.  She then encodes each one with an error-correcting code, and sends Bob a random k along with the k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it of each codeword.  Merlin sends the substring containing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990720"/>
            <a:ext cx="1143000" cy="761760"/>
          </a:xfrm>
          <a:prstGeom prst="cloudCallout">
            <a:avLst>
              <a:gd name="adj1" fmla="val -53472"/>
              <a:gd name="adj2" fmla="val 47916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armup: The Classical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3429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previous protocol is optim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114800"/>
            <a:ext cx="8458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lice amplifies her a-bit randomized advice O(w+1) times.  Then Bob’s error probability become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So Bob no longer needs Merlin—he can just loop over all possible w-bit witnesses.  Hence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990720"/>
            <a:ext cx="1143000" cy="761760"/>
          </a:xfrm>
          <a:prstGeom prst="cloudCallout">
            <a:avLst>
              <a:gd name="adj1" fmla="val -53472"/>
              <a:gd name="adj2" fmla="val 47916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3808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rouble in QuantumLa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447920"/>
            <a:ext cx="838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ob wants to eliminate Merlin’s w-qubit quantum witness, the number of states he needs to loop through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oub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onential in w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3809880"/>
            <a:ext cx="8077320" cy="2667240"/>
            <a:chOff x="457200" y="3809880"/>
            <a:chExt cx="8077320" cy="266724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447920" y="5029200"/>
                  <a:ext cx="2484360" cy="109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z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d>
                                    <m:dPr>
                                      <m:begChr m:val="⟨"/>
                                      <m:sepChr m:val="|"/>
                                      <m:endChr m:val="⟩"/>
                                    </m:dPr>
                                    <m:e>
                                      <m:r>
                                        <m:t xml:space="preserve">ϕ</m:t>
                                      </m:r>
                                    </m:e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d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457200" y="3809880"/>
              <a:ext cx="8077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ob will detect 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y looking for the “shadows” it casts on computational basis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562720" y="4876560"/>
              <a:ext cx="2286000" cy="1600560"/>
              <a:chOff x="5562720" y="4876560"/>
              <a:chExt cx="2286000" cy="1600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562720" y="6477120"/>
                <a:ext cx="19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5562720" y="4876560"/>
                <a:ext cx="0" cy="160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562720" y="5257440"/>
                <a:ext cx="1295280" cy="121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86600" y="5486400"/>
                <a:ext cx="76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|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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2720" y="6477120"/>
                <a:ext cx="1447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5562720" y="5867280"/>
                <a:ext cx="0" cy="609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562720" y="6095520"/>
                <a:ext cx="380880" cy="38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562720" y="5790960"/>
                <a:ext cx="15238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457200" y="28195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lice can’t afford to amplify her message exponentially many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51920"/>
            <a:ext cx="955440" cy="1219320"/>
            <a:chOff x="304920" y="151920"/>
            <a:chExt cx="955440" cy="1219320"/>
          </a:xfrm>
        </p:grpSpPr>
        <p:sp>
          <p:nvSpPr>
            <p:cNvPr id="181" name=""/>
            <p:cNvSpPr/>
            <p:nvPr/>
          </p:nvSpPr>
          <p:spPr>
            <a:xfrm flipV="1">
              <a:off x="516240" y="1789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04920" y="1789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flipV="1" rot="5400000">
              <a:off x="690840" y="7182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84120" y="364680"/>
              <a:ext cx="397800" cy="312120"/>
              <a:chOff x="384120" y="364680"/>
              <a:chExt cx="397800" cy="312120"/>
            </a:xfrm>
          </p:grpSpPr>
          <p:sp>
            <p:nvSpPr>
              <p:cNvPr id="185" name=""/>
              <p:cNvSpPr/>
              <p:nvPr/>
            </p:nvSpPr>
            <p:spPr>
              <a:xfrm>
                <a:off x="39672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444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92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968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412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244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724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900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400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52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988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35200" y="364680"/>
              <a:ext cx="397800" cy="312120"/>
              <a:chOff x="835200" y="364680"/>
              <a:chExt cx="397800" cy="312120"/>
            </a:xfrm>
          </p:grpSpPr>
          <p:sp>
            <p:nvSpPr>
              <p:cNvPr id="197" name=""/>
              <p:cNvSpPr/>
              <p:nvPr/>
            </p:nvSpPr>
            <p:spPr>
              <a:xfrm>
                <a:off x="84780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552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5400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4076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3520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352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5832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8008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3508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8360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2096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781560" y="1519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968960" y="151920"/>
            <a:ext cx="909720" cy="1142640"/>
            <a:chOff x="7968960" y="151920"/>
            <a:chExt cx="909720" cy="1142640"/>
          </a:xfrm>
        </p:grpSpPr>
        <p:sp>
          <p:nvSpPr>
            <p:cNvPr id="210" name=""/>
            <p:cNvSpPr/>
            <p:nvPr/>
          </p:nvSpPr>
          <p:spPr>
            <a:xfrm flipH="1" flipV="1">
              <a:off x="8203680" y="1767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 flipH="1">
              <a:off x="7968960" y="1771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flipH="1" flipV="1" rot="16200000">
              <a:off x="8336880" y="6760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446680" y="431280"/>
              <a:ext cx="345240" cy="213480"/>
              <a:chOff x="8446680" y="431280"/>
              <a:chExt cx="345240" cy="21348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844632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47332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55144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58816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8023320" y="431280"/>
              <a:ext cx="345240" cy="213480"/>
              <a:chOff x="8023320" y="431280"/>
              <a:chExt cx="345240" cy="21348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802296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804996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12808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816480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H="1" flipV="1">
              <a:off x="8182440" y="1519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143000"/>
            <a:ext cx="800100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 quantum verifier that tak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 witness tha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cepts with probability at lea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at, instead of feed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e feed it 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random basis states in sequence: |j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j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reusing the same advice |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througho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09480" y="4648320"/>
            <a:ext cx="7696440" cy="1904760"/>
            <a:chOff x="609480" y="4648320"/>
            <a:chExt cx="7696440" cy="1904760"/>
          </a:xfrm>
        </p:grpSpPr>
        <p:sp>
          <p:nvSpPr>
            <p:cNvPr id="227" name=""/>
            <p:cNvSpPr/>
            <p:nvPr/>
          </p:nvSpPr>
          <p:spPr>
            <a:xfrm>
              <a:off x="609480" y="4648320"/>
              <a:ext cx="7696440" cy="19047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334120" y="5181480"/>
                  <a:ext cx="1828800" cy="12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η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T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9" name=""/>
            <p:cNvSpPr/>
            <p:nvPr/>
          </p:nvSpPr>
          <p:spPr>
            <a:xfrm>
              <a:off x="685800" y="4724280"/>
              <a:ext cx="752940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will accept at least one of the basis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tes with probability at lea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33520" y="990720"/>
            <a:ext cx="4572000" cy="2209680"/>
            <a:chOff x="533520" y="990720"/>
            <a:chExt cx="4572000" cy="2209680"/>
          </a:xfrm>
        </p:grpSpPr>
        <p:sp>
          <p:nvSpPr>
            <p:cNvPr id="231" name=""/>
            <p:cNvSpPr/>
            <p:nvPr/>
          </p:nvSpPr>
          <p:spPr>
            <a:xfrm>
              <a:off x="533520" y="990720"/>
              <a:ext cx="4572000" cy="2209680"/>
            </a:xfrm>
            <a:prstGeom prst="wedgeEllipseCallout">
              <a:avLst>
                <a:gd name="adj1" fmla="val -61666"/>
                <a:gd name="adj2" fmla="val 70907"/>
              </a:avLst>
            </a:prstGeom>
            <a:solidFill>
              <a:srgbClr val="7000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4400" y="1371600"/>
              <a:ext cx="3809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ut couldn’t the measurements destroy |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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0" y="3200400"/>
            <a:ext cx="6172200" cy="3429000"/>
            <a:chOff x="2286000" y="3200400"/>
            <a:chExt cx="6172200" cy="3429000"/>
          </a:xfrm>
        </p:grpSpPr>
        <p:sp>
          <p:nvSpPr>
            <p:cNvPr id="234" name=""/>
            <p:cNvSpPr/>
            <p:nvPr/>
          </p:nvSpPr>
          <p:spPr>
            <a:xfrm>
              <a:off x="2286000" y="3200400"/>
              <a:ext cx="6172200" cy="3429000"/>
            </a:xfrm>
            <a:prstGeom prst="wedgeEllipseCallout">
              <a:avLst>
                <a:gd name="adj1" fmla="val 61111"/>
                <a:gd name="adj2" fmla="val 38009"/>
              </a:avLst>
            </a:prstGeom>
            <a:solidFill>
              <a:srgbClr val="005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3657600"/>
              <a:ext cx="533412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Sure.  But that can only mean one of the measurements has </a:t>
              </a:r>
              <a:r>
                <a:rPr b="1" lang="en-US" sz="3000" spc="-1" strike="noStrike">
                  <a:solidFill>
                    <a:srgbClr val="ffd1d1"/>
                  </a:solidFill>
                  <a:latin typeface="Arial"/>
                </a:rPr>
                <a:t>already accepted</a:t>
              </a: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 with non-negligible probabili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/qpol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QPSPACE/q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79246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ation 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Repeatedly choose a random basis state |j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, then simulate the QMA machine with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as advice and |j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as wi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quantum OR bound, if there’s a valid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hen w.h.p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teration will 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343400"/>
            <a:ext cx="79246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what if there’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id witn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control soundness error, we use an unusual amplification procedure—one that involves amplifying Alice’s message poly(n) times and Merlin’s message only log(n)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n we get below PSPACE/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905120"/>
            <a:ext cx="8229600" cy="35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Theorem: QMA/rpoly = QMA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rst amplify, then find a single random string r that works for all inputs of size n and all quantum witnesses (doubly-exponentially many, but O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hicken &amp; egg 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more we amplify the witness, the more w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ampl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-place amplification [Marriott &amp; Watrou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Theorem: QCMA/qpoly </a:t>
            </a:r>
            <a:r>
              <a:rPr b="1" lang="en-US" sz="3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 PP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if either the advic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itness is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0" y="28954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68580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5638680"/>
            <a:ext cx="32767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QP/poly = BQP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648320"/>
            <a:ext cx="37339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CMA/poly = QCMA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3657600"/>
            <a:ext cx="33526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A/poly = QMA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2666880"/>
            <a:ext cx="35053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P/poly = PostBQP/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876920"/>
            <a:ext cx="17524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QP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886200"/>
            <a:ext cx="19810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CMA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895480"/>
            <a:ext cx="175248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A/q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1676520"/>
            <a:ext cx="434340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PACE/poly = PSPACE/r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85800"/>
            <a:ext cx="3962520" cy="518400"/>
          </a:xfrm>
          <a:prstGeom prst="rect">
            <a:avLst/>
          </a:prstGeom>
          <a:solidFill>
            <a:srgbClr val="e2f0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P/rpoly = IP(2)/rpoly =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57800" y="32767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257800" y="2133720"/>
            <a:ext cx="91440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5257800" y="320004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57800" y="434304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57800" y="5334120"/>
            <a:ext cx="9144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Quantum Advice Hypothesis true?  What about for QMA(2) (QMA with two unentangled yes-prover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1148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QMA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/po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66688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we tighten the de-Merlinization result from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/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 to a(w+1)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124080"/>
            <a:ext cx="838224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, a grad student, has a thesis problem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, Bob’s omniscient advisor, knows the binary answer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every thesis problem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she’s too busy to find out which specific problems her students are working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instead, she just doles out the same generic advice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all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276720"/>
            <a:ext cx="83818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s to 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 bits long, for Bob to be able to lear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/3 for any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4343400"/>
            <a:ext cx="83818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mbainis et al., Naya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ed, this is true even if Alice can send a quantum messag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410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in desperation, Bob turns for help to Merlin, the star student in his departme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105520" y="1219320"/>
            <a:ext cx="4038480" cy="1907280"/>
            <a:chOff x="5105520" y="1219320"/>
            <a:chExt cx="4038480" cy="190728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391520" y="1219320"/>
              <a:ext cx="11523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flipH="1">
              <a:off x="5105520" y="1981080"/>
              <a:ext cx="22860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0280" y="26668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16002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99"/>
                  </a:solidFill>
                  <a:latin typeface="Arial"/>
                </a:rPr>
                <a:t>One-W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3276720"/>
            <a:ext cx="83818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plus sid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rlin knows 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ob play Alice’s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vague but reliable adv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ainst Merlin’s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specific but unreliable wit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o lear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ing polylog(N) bits from bo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2040" y="3886200"/>
            <a:ext cx="60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minus sid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e’s a lying weas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94360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ard to prove that this is classically im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81080"/>
            <a:ext cx="2743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…,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403848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909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152360" cy="156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5105520" y="1981080"/>
            <a:ext cx="22860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685800"/>
            <a:ext cx="1143000" cy="762120"/>
          </a:xfrm>
          <a:prstGeom prst="cloudCallout">
            <a:avLst>
              <a:gd name="adj1" fmla="val -126527"/>
              <a:gd name="adj2" fmla="val 57499"/>
            </a:avLst>
          </a:prstGeom>
          <a:solidFill>
            <a:srgbClr val="d5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600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3429000"/>
            <a:ext cx="8001000" cy="3085920"/>
            <a:chOff x="533520" y="3429000"/>
            <a:chExt cx="8001000" cy="3085920"/>
          </a:xfrm>
        </p:grpSpPr>
        <p:sp>
          <p:nvSpPr>
            <p:cNvPr id="107" name=""/>
            <p:cNvSpPr/>
            <p:nvPr/>
          </p:nvSpPr>
          <p:spPr>
            <a:xfrm>
              <a:off x="533520" y="3429000"/>
              <a:ext cx="8001000" cy="3085920"/>
            </a:xfrm>
            <a:prstGeom prst="rect">
              <a:avLst/>
            </a:prstGeom>
            <a:solidFill>
              <a:srgbClr val="ffffb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Main Result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Even in the quantum case, if Alice sends a qubits and Merlin sends w qubits, for Bob to learn 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w.h.p. we need</a:t>
              </a:r>
              <a:br>
                <a:rPr sz="3200"/>
              </a:br>
              <a:br>
                <a:rPr sz="3200"/>
              </a:b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362320" y="4952880"/>
                  <a:ext cx="4038840" cy="13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w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plication to Quantum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666880"/>
            <a:ext cx="8153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, CCC 20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QP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tBQP/poly = PP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Seemed to place a strong limit on quantum advi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715000"/>
            <a:ext cx="861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z’s result actually has nothing to do with quantum mechanics, since IP/rpoly = ALL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problems solvable efficiently by a quantum computer with help from polynomial-size “quantum advice stat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3886200"/>
            <a:ext cx="7543800" cy="1676520"/>
            <a:chOff x="762120" y="3886200"/>
            <a:chExt cx="7543800" cy="1676520"/>
          </a:xfrm>
        </p:grpSpPr>
        <p:sp>
          <p:nvSpPr>
            <p:cNvPr id="114" name=""/>
            <p:cNvSpPr/>
            <p:nvPr/>
          </p:nvSpPr>
          <p:spPr>
            <a:xfrm>
              <a:off x="762120" y="3886200"/>
              <a:ext cx="7543800" cy="1676520"/>
            </a:xfrm>
            <a:prstGeom prst="rect">
              <a:avLst/>
            </a:prstGeom>
            <a:gradFill rotWithShape="0">
              <a:gsLst>
                <a:gs pos="0">
                  <a:srgbClr val="ffffbb"/>
                </a:gs>
                <a:gs pos="100000">
                  <a:srgbClr val="ffd1d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0040" y="4114800"/>
              <a:ext cx="48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Ran Raz’s curveball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333399"/>
                  </a:solidFill>
                  <a:latin typeface="Arial"/>
                </a:rPr>
                <a:t>QIP/qpoly = A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raz" descr=""/>
            <p:cNvPicPr/>
            <p:nvPr/>
          </p:nvPicPr>
          <p:blipFill>
            <a:blip r:embed="rId1"/>
            <a:stretch/>
          </p:blipFill>
          <p:spPr>
            <a:xfrm rot="1168200">
              <a:off x="7086240" y="4114800"/>
              <a:ext cx="9144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raz" descr=""/>
            <p:cNvPicPr/>
            <p:nvPr/>
          </p:nvPicPr>
          <p:blipFill>
            <a:blip r:embed="rId2"/>
            <a:stretch/>
          </p:blipFill>
          <p:spPr>
            <a:xfrm rot="20391000">
              <a:off x="1067040" y="4114440"/>
              <a:ext cx="9144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ere’s The Phase Transition?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he point in the complexity hierarchy where quantum advice starts acting like exponentially-long classical ad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352680"/>
            <a:ext cx="84582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languages L for which there exists a poly-time quantum verifier V, together with poly-size quantum advice states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, such that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then there exists a poly-size quantum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V accepts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, then for all purported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rejects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828800"/>
            <a:ext cx="7286400" cy="1433520"/>
            <a:chOff x="304920" y="1828800"/>
            <a:chExt cx="7286400" cy="1433520"/>
          </a:xfrm>
        </p:grpSpPr>
        <p:sp>
          <p:nvSpPr>
            <p:cNvPr id="121" name=""/>
            <p:cNvSpPr/>
            <p:nvPr/>
          </p:nvSpPr>
          <p:spPr>
            <a:xfrm>
              <a:off x="304920" y="1905120"/>
              <a:ext cx="60195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Oded Regev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What about QMA/qpoly?  Is that also equal to ALL?  Or can you upper-bound it by (say) PP/poly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rcRect l="28555" t="15077" r="24986" b="58633"/>
            <a:stretch/>
          </p:blipFill>
          <p:spPr>
            <a:xfrm>
              <a:off x="6400800" y="1828800"/>
              <a:ext cx="119052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762120" y="3886200"/>
            <a:ext cx="7772400" cy="13712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few months later, I had my answer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MA/qpoly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SPACE/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82520" y="1487520"/>
            <a:ext cx="8839080" cy="2362320"/>
            <a:chOff x="182520" y="1487520"/>
            <a:chExt cx="8839080" cy="2362320"/>
          </a:xfrm>
        </p:grpSpPr>
        <p:sp>
          <p:nvSpPr>
            <p:cNvPr id="125" name=""/>
            <p:cNvSpPr/>
            <p:nvPr/>
          </p:nvSpPr>
          <p:spPr>
            <a:xfrm>
              <a:off x="182520" y="1487520"/>
              <a:ext cx="8839080" cy="236232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880" y="1847880"/>
              <a:ext cx="8202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eufm10"/>
                </a:rPr>
                <a:t>The Quantum Advice Hypothesis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0640" y="258768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or any “natural” complexity class C, if C/qpoly=ALL, then C/rpoly=ALL as we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20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, quantum advice is a weird resource, but so is classical randomized advic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760" y="4170240"/>
            <a:ext cx="82724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our Confirming Instances So F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BQP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/poly, BQP/rpoly = BQP/pol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QIP/qpoly = QIP/rpoly =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PostBQP/qpoly = PostBQP/rpoly =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QMA/q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SPACE/poly, QMA/rpoly = QMA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438280" y="48769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n of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715000"/>
            <a:ext cx="4191120" cy="550800"/>
          </a:xfrm>
          <a:prstGeom prst="rect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MA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343400"/>
            <a:ext cx="4191120" cy="550800"/>
          </a:xfrm>
          <a:prstGeom prst="rect">
            <a:avLst/>
          </a:prstGeom>
          <a:solidFill>
            <a:srgbClr val="e2f0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QPSPACE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2971800"/>
            <a:ext cx="4191120" cy="1371600"/>
            <a:chOff x="457200" y="2971800"/>
            <a:chExt cx="4191120" cy="1371600"/>
          </a:xfrm>
        </p:grpSpPr>
        <p:sp>
          <p:nvSpPr>
            <p:cNvPr id="135" name=""/>
            <p:cNvSpPr/>
            <p:nvPr/>
          </p:nvSpPr>
          <p:spPr>
            <a:xfrm>
              <a:off x="2438280" y="35053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2971800"/>
              <a:ext cx="4191120" cy="550800"/>
            </a:xfrm>
            <a:prstGeom prst="rect">
              <a:avLst/>
            </a:prstGeom>
            <a:solidFill>
              <a:srgbClr val="e2f0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stBQPSPACE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" y="1600200"/>
            <a:ext cx="4191120" cy="1371600"/>
            <a:chOff x="457200" y="1600200"/>
            <a:chExt cx="4191120" cy="1371600"/>
          </a:xfrm>
        </p:grpSpPr>
        <p:sp>
          <p:nvSpPr>
            <p:cNvPr id="138" name=""/>
            <p:cNvSpPr/>
            <p:nvPr/>
          </p:nvSpPr>
          <p:spPr>
            <a:xfrm>
              <a:off x="2438280" y="21337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4191120" cy="550800"/>
            </a:xfrm>
            <a:prstGeom prst="rect">
              <a:avLst/>
            </a:prstGeom>
            <a:solidFill>
              <a:srgbClr val="e2f0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SPACE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876920" y="4876920"/>
            <a:ext cx="4114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difficulty of proof</a:t>
            </a:r>
            <a:br>
              <a:rPr sz="2600"/>
            </a:br>
            <a:r>
              <a:rPr b="0" i="1" lang="en-US" sz="2300" spc="-1" strike="noStrike">
                <a:solidFill>
                  <a:srgbClr val="008000"/>
                </a:solidFill>
                <a:latin typeface="Arial"/>
              </a:rPr>
              <a:t>(Why doesn’t it follow trivially from QMA</a:t>
            </a:r>
            <a:r>
              <a:rPr b="0" i="1" lang="en-US" sz="2300" spc="-1" strike="noStrike">
                <a:solidFill>
                  <a:srgbClr val="008000"/>
                </a:solidFill>
                <a:latin typeface="Symbol"/>
                <a:ea typeface="Symbol"/>
              </a:rPr>
              <a:t></a:t>
            </a:r>
            <a:r>
              <a:rPr b="0" i="1" lang="en-US" sz="2300" spc="-1" strike="noStrike">
                <a:solidFill>
                  <a:srgbClr val="008000"/>
                </a:solidFill>
                <a:latin typeface="Arial"/>
              </a:rPr>
              <a:t>PSPACE??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50532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my result that BQP/qpol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BQP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133720"/>
            <a:ext cx="4343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Watrous’s result that BQPSPACE=P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7-19T21:06:37Z</dcterms:modified>
  <cp:revision>53</cp:revision>
  <dc:subject/>
  <dc:title>The Learnability of Quantum States</dc:title>
</cp:coreProperties>
</file>