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FC0D-0B21-42FA-9BB5-141EA09F9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E049-6A0B-4394-BB37-97FB88729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804F-533C-41F2-8870-3265A1B60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935D-2002-4C94-9C93-2ED848934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BA24-E96F-44C7-B457-21CC0DC29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F106-BB9E-4A19-B9D7-5FB7ED488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F45F-D99C-4148-95D2-615FC1E20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3AFD-C686-4A8D-A7F4-46DEB70EF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C4EA-D310-489F-B169-A02F181DC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A7C1-EDA6-489A-B4A2-C84B66CF7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496B-E558-4707-AC6B-6E212DAC1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49DB-5FE9-482E-BE9A-B21A08F5C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3749-1560-41B7-9BF6-72A384304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3AF5-82CA-43E3-9388-F8F29661F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4059-4383-4082-820D-6D77DE753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3E0D-858F-4E48-82EE-59FA069A1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38B2-5677-4FF3-AD17-81F6B1435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5750-B1BA-452F-8846-C76F94357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2869-3036-42DE-9685-88BCA614B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8C5B-A8E2-4E15-A53A-9FB54EABE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4D4-2BDE-4E11-B18A-85A67F52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480-596A-4849-AEDE-79C12007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7D4-66E4-4B67-9D23-4D23A5C4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C8C-7013-4AFD-A65B-DC9B99D5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AFF-95D0-4A18-A8A9-94F3919E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2C0-FFB9-4357-89C4-4879BD93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BCD-FC92-4DD3-A986-60DACD2D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6E68-9B4E-4F04-B9C5-7FE6DD4F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667-0CB3-44EB-9CE5-6D70F06E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CA2-BDEB-49CD-B8EA-B363AF2D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505-0AE8-4FEB-9681-D186B076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099-AAF8-4688-A3D1-A655F200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AB83-FAE7-4717-935B-149A7B524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The Power of Unentanglemen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4343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lman Beigi (M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ew Drucker (M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238880" y="1981080"/>
            <a:ext cx="838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5486400"/>
            <a:ext cx="4572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l Fefferman (Calte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ter Shor (M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flipH="1">
            <a:off x="6477120" y="1219320"/>
            <a:ext cx="814320" cy="1743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1179720" cy="1598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flipH="1">
            <a:off x="4191120" y="1219320"/>
            <a:ext cx="814320" cy="1743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 flipH="1">
            <a:off x="1905120" y="1219320"/>
            <a:ext cx="814320" cy="1743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14600" y="2819520"/>
            <a:ext cx="160020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952520" y="2819520"/>
            <a:ext cx="160020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952880" y="2057400"/>
            <a:ext cx="838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666880" y="2057400"/>
            <a:ext cx="838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1371600"/>
            <a:ext cx="2819520" cy="3333240"/>
          </a:xfrm>
          <a:prstGeom prst="rect">
            <a:avLst/>
          </a:prstGeom>
          <a:solidFill>
            <a:srgbClr val="ffd1d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 1/3 pro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ck a random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do the Satisfiability Test described earl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124080" y="1371600"/>
            <a:ext cx="2895840" cy="3387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 1/3 pro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ck two random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and do a Swap-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Ensures mos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are pretty much identic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172200" y="1371600"/>
            <a:ext cx="2819520" cy="333324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 1/3 pro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Uniformity T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make sure th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are close to proper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72200" y="43434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43434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2286000" y="456840"/>
            <a:ext cx="457200" cy="2743200"/>
          </a:xfrm>
          <a:custGeom>
            <a:avLst/>
            <a:gdLst>
              <a:gd name="textAreaLeft" fmla="*/ 134280 w 457200"/>
              <a:gd name="textAreaRight" fmla="*/ 457560 w 457200"/>
              <a:gd name="textAreaTop" fmla="*/ 567360 h 2743200"/>
              <a:gd name="textAreaBottom" fmla="*/ 217584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468"/>
                  <a:pt x="0" y="8935"/>
                </a:cubicBezTo>
                <a:lnTo>
                  <a:pt x="0" y="12665"/>
                </a:lnTo>
                <a:cubicBezTo>
                  <a:pt x="0" y="1713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685760" y="1485720"/>
            <a:ext cx="457200" cy="685800"/>
          </a:xfrm>
          <a:custGeom>
            <a:avLst/>
            <a:gdLst>
              <a:gd name="textAreaLeft" fmla="*/ 134280 w 457200"/>
              <a:gd name="textAreaRight" fmla="*/ 457560 w 457200"/>
              <a:gd name="textAreaTop" fmla="*/ 141840 h 685800"/>
              <a:gd name="textAreaBottom" fmla="*/ 5439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468"/>
                  <a:pt x="0" y="8935"/>
                </a:cubicBezTo>
                <a:lnTo>
                  <a:pt x="0" y="12665"/>
                </a:lnTo>
                <a:cubicBezTo>
                  <a:pt x="0" y="1713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 rot="16200000">
            <a:off x="3999960" y="37800"/>
            <a:ext cx="457200" cy="4800600"/>
          </a:xfrm>
          <a:custGeom>
            <a:avLst/>
            <a:gdLst>
              <a:gd name="textAreaLeft" fmla="*/ 134280 w 457200"/>
              <a:gd name="textAreaRight" fmla="*/ 457560 w 457200"/>
              <a:gd name="textAreaTop" fmla="*/ 992880 h 4800600"/>
              <a:gd name="textAreaBottom" fmla="*/ 380772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468"/>
                  <a:pt x="0" y="8935"/>
                </a:cubicBezTo>
                <a:lnTo>
                  <a:pt x="0" y="12665"/>
                </a:lnTo>
                <a:cubicBezTo>
                  <a:pt x="0" y="1713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6400800" y="1142640"/>
            <a:ext cx="457200" cy="1371600"/>
          </a:xfrm>
          <a:custGeom>
            <a:avLst/>
            <a:gdLst>
              <a:gd name="textAreaLeft" fmla="*/ 134280 w 457200"/>
              <a:gd name="textAreaRight" fmla="*/ 457560 w 457200"/>
              <a:gd name="textAreaTop" fmla="*/ 283680 h 1371600"/>
              <a:gd name="textAreaBottom" fmla="*/ 10879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468"/>
                  <a:pt x="0" y="8935"/>
                </a:cubicBezTo>
                <a:lnTo>
                  <a:pt x="0" y="12665"/>
                </a:lnTo>
                <a:cubicBezTo>
                  <a:pt x="0" y="1713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 rot="16200000">
            <a:off x="2704680" y="2018520"/>
            <a:ext cx="304920" cy="685800"/>
          </a:xfrm>
          <a:custGeom>
            <a:avLst/>
            <a:gdLst>
              <a:gd name="textAreaLeft" fmla="*/ 89640 w 304920"/>
              <a:gd name="textAreaRight" fmla="*/ 305280 w 304920"/>
              <a:gd name="textAreaTop" fmla="*/ 141840 h 685800"/>
              <a:gd name="textAreaBottom" fmla="*/ 5439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468"/>
                  <a:pt x="0" y="8935"/>
                </a:cubicBezTo>
                <a:lnTo>
                  <a:pt x="0" y="12665"/>
                </a:lnTo>
                <a:cubicBezTo>
                  <a:pt x="0" y="1713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Uniformity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0880" y="99072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ck a random matching M on [n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666880" y="3505320"/>
            <a:ext cx="29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(i,j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80880" y="281952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 each witnes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a basis cont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7200" y="3352680"/>
                <a:ext cx="204480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⟩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Text Box 3"/>
          <p:cNvSpPr/>
          <p:nvPr/>
        </p:nvSpPr>
        <p:spPr>
          <a:xfrm>
            <a:off x="304920" y="5334120"/>
            <a:ext cx="8305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ce there ar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witnesses, by the Birthday Paradox, with constant probability we’ll see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olli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wo outcomes involving the same edge (i,j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441972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990099"/>
                </a:solidFill>
                <a:latin typeface="Arial"/>
              </a:rPr>
              <a:t>|3</a:t>
            </a:r>
            <a:r>
              <a:rPr b="1" lang="en-CA" sz="3000" spc="-1" strike="noStrike">
                <a:solidFill>
                  <a:srgbClr val="990099"/>
                </a:solidFill>
                <a:latin typeface="Symbol"/>
                <a:ea typeface="Symbol"/>
              </a:rPr>
              <a:t></a:t>
            </a:r>
            <a:r>
              <a:rPr b="1" lang="en-CA" sz="3000" spc="-1" strike="noStrike">
                <a:solidFill>
                  <a:srgbClr val="990099"/>
                </a:solidFill>
                <a:latin typeface="Arial"/>
              </a:rPr>
              <a:t>-|4</a:t>
            </a:r>
            <a:r>
              <a:rPr b="1" lang="en-CA" sz="3000" spc="-1" strike="noStrike">
                <a:solidFill>
                  <a:srgbClr val="990099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419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990099"/>
                </a:solidFill>
                <a:latin typeface="Arial"/>
              </a:rPr>
              <a:t>|8</a:t>
            </a:r>
            <a:r>
              <a:rPr b="1" lang="en-CA" sz="3000" spc="-1" strike="noStrike">
                <a:solidFill>
                  <a:srgbClr val="990099"/>
                </a:solidFill>
                <a:latin typeface="Symbol"/>
                <a:ea typeface="Symbol"/>
              </a:rPr>
              <a:t></a:t>
            </a:r>
            <a:r>
              <a:rPr b="1" lang="en-CA" sz="3000" spc="-1" strike="noStrike">
                <a:solidFill>
                  <a:srgbClr val="990099"/>
                </a:solidFill>
                <a:latin typeface="Arial"/>
              </a:rPr>
              <a:t>+|10</a:t>
            </a:r>
            <a:r>
              <a:rPr b="1" lang="en-CA" sz="3000" spc="-1" strike="noStrike">
                <a:solidFill>
                  <a:srgbClr val="990099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4419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990099"/>
                </a:solidFill>
                <a:latin typeface="Arial"/>
              </a:rPr>
              <a:t>|2</a:t>
            </a:r>
            <a:r>
              <a:rPr b="1" lang="en-CA" sz="3000" spc="-1" strike="noStrike">
                <a:solidFill>
                  <a:srgbClr val="990099"/>
                </a:solidFill>
                <a:latin typeface="Symbol"/>
                <a:ea typeface="Symbol"/>
              </a:rPr>
              <a:t></a:t>
            </a:r>
            <a:r>
              <a:rPr b="1" lang="en-CA" sz="3000" spc="-1" strike="noStrike">
                <a:solidFill>
                  <a:srgbClr val="990099"/>
                </a:solidFill>
                <a:latin typeface="Arial"/>
              </a:rPr>
              <a:t>+|9</a:t>
            </a:r>
            <a:r>
              <a:rPr b="1" lang="en-CA" sz="3000" spc="-1" strike="noStrike">
                <a:solidFill>
                  <a:srgbClr val="990099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4419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990099"/>
                </a:solidFill>
                <a:latin typeface="Arial"/>
              </a:rPr>
              <a:t>|8</a:t>
            </a:r>
            <a:r>
              <a:rPr b="1" lang="en-CA" sz="3000" spc="-1" strike="noStrike">
                <a:solidFill>
                  <a:srgbClr val="990099"/>
                </a:solidFill>
                <a:latin typeface="Symbol"/>
                <a:ea typeface="Symbol"/>
              </a:rPr>
              <a:t></a:t>
            </a:r>
            <a:r>
              <a:rPr b="1" lang="en-CA" sz="3000" spc="-1" strike="noStrike">
                <a:solidFill>
                  <a:srgbClr val="990099"/>
                </a:solidFill>
                <a:latin typeface="Arial"/>
              </a:rPr>
              <a:t>-|10</a:t>
            </a:r>
            <a:r>
              <a:rPr b="1" lang="en-CA" sz="3000" spc="-1" strike="noStrike">
                <a:solidFill>
                  <a:srgbClr val="990099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457200" y="609480"/>
            <a:ext cx="830592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both outcomes are |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|j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both |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|j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ccep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one outcome is |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|j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the other is |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|j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je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1981080"/>
            <a:ext cx="73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ccepts with certainty if the witnesses are identical and pro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2971800"/>
            <a:ext cx="84582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Rejects with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1) probability if witnesses are close to each other but far from pro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So intuitively obvious, it takes 14 pages to pr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724280"/>
            <a:ext cx="83059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hy doesn’t our protocol work with entangled witness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ecause the Merlins could send a state that passes all Swap-Tests, yet doesn’t produce colli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981080"/>
            <a:ext cx="914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 rot="16002000">
            <a:off x="6629400" y="4571280"/>
            <a:ext cx="1371600" cy="304200"/>
          </a:xfrm>
          <a:custGeom>
            <a:avLst/>
            <a:gdLst/>
            <a:ahLst/>
            <a:rect l="l" t="t" r="r" b="b"/>
            <a:pathLst>
              <a:path w="5184" h="314">
                <a:moveTo>
                  <a:pt x="0" y="154"/>
                </a:moveTo>
                <a:cubicBezTo>
                  <a:pt x="71" y="176"/>
                  <a:pt x="281" y="312"/>
                  <a:pt x="425" y="287"/>
                </a:cubicBezTo>
                <a:cubicBezTo>
                  <a:pt x="569" y="262"/>
                  <a:pt x="719" y="5"/>
                  <a:pt x="864" y="3"/>
                </a:cubicBezTo>
                <a:cubicBezTo>
                  <a:pt x="1009" y="1"/>
                  <a:pt x="1151" y="277"/>
                  <a:pt x="1294" y="277"/>
                </a:cubicBezTo>
                <a:cubicBezTo>
                  <a:pt x="1437" y="277"/>
                  <a:pt x="1581" y="0"/>
                  <a:pt x="1723" y="3"/>
                </a:cubicBezTo>
                <a:cubicBezTo>
                  <a:pt x="1865" y="6"/>
                  <a:pt x="1999" y="295"/>
                  <a:pt x="2144" y="296"/>
                </a:cubicBezTo>
                <a:cubicBezTo>
                  <a:pt x="2289" y="297"/>
                  <a:pt x="2446" y="9"/>
                  <a:pt x="2592" y="12"/>
                </a:cubicBezTo>
                <a:cubicBezTo>
                  <a:pt x="2738" y="15"/>
                  <a:pt x="2877" y="314"/>
                  <a:pt x="3022" y="314"/>
                </a:cubicBezTo>
                <a:cubicBezTo>
                  <a:pt x="3167" y="314"/>
                  <a:pt x="3316" y="14"/>
                  <a:pt x="3461" y="12"/>
                </a:cubicBezTo>
                <a:cubicBezTo>
                  <a:pt x="3606" y="10"/>
                  <a:pt x="3747" y="305"/>
                  <a:pt x="3890" y="305"/>
                </a:cubicBezTo>
                <a:cubicBezTo>
                  <a:pt x="4033" y="305"/>
                  <a:pt x="4177" y="15"/>
                  <a:pt x="4320" y="12"/>
                </a:cubicBezTo>
                <a:cubicBezTo>
                  <a:pt x="4463" y="9"/>
                  <a:pt x="4606" y="263"/>
                  <a:pt x="4750" y="287"/>
                </a:cubicBezTo>
                <a:cubicBezTo>
                  <a:pt x="4894" y="311"/>
                  <a:pt x="5094" y="182"/>
                  <a:pt x="5184" y="15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04920" y="10666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QMA, it’s easy to amplify success probability, even if Merlin cheats by entangling the wit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038480" y="601992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ntanglement Swapp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33520" y="3124080"/>
            <a:ext cx="830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n what’s the problem with amplifying QMA(2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143000" y="2361240"/>
            <a:ext cx="6095880" cy="369720"/>
          </a:xfrm>
          <a:custGeom>
            <a:avLst/>
            <a:gdLst/>
            <a:ahLst/>
            <a:rect l="l" t="t" r="r" b="b"/>
            <a:pathLst>
              <a:path w="5184" h="314">
                <a:moveTo>
                  <a:pt x="0" y="154"/>
                </a:moveTo>
                <a:cubicBezTo>
                  <a:pt x="71" y="176"/>
                  <a:pt x="281" y="312"/>
                  <a:pt x="425" y="287"/>
                </a:cubicBezTo>
                <a:cubicBezTo>
                  <a:pt x="569" y="262"/>
                  <a:pt x="719" y="5"/>
                  <a:pt x="864" y="3"/>
                </a:cubicBezTo>
                <a:cubicBezTo>
                  <a:pt x="1009" y="1"/>
                  <a:pt x="1151" y="277"/>
                  <a:pt x="1294" y="277"/>
                </a:cubicBezTo>
                <a:cubicBezTo>
                  <a:pt x="1437" y="277"/>
                  <a:pt x="1581" y="0"/>
                  <a:pt x="1723" y="3"/>
                </a:cubicBezTo>
                <a:cubicBezTo>
                  <a:pt x="1865" y="6"/>
                  <a:pt x="1999" y="295"/>
                  <a:pt x="2144" y="296"/>
                </a:cubicBezTo>
                <a:cubicBezTo>
                  <a:pt x="2289" y="297"/>
                  <a:pt x="2446" y="9"/>
                  <a:pt x="2592" y="12"/>
                </a:cubicBezTo>
                <a:cubicBezTo>
                  <a:pt x="2738" y="15"/>
                  <a:pt x="2877" y="314"/>
                  <a:pt x="3022" y="314"/>
                </a:cubicBezTo>
                <a:cubicBezTo>
                  <a:pt x="3167" y="314"/>
                  <a:pt x="3316" y="14"/>
                  <a:pt x="3461" y="12"/>
                </a:cubicBezTo>
                <a:cubicBezTo>
                  <a:pt x="3606" y="10"/>
                  <a:pt x="3747" y="305"/>
                  <a:pt x="3890" y="305"/>
                </a:cubicBezTo>
                <a:cubicBezTo>
                  <a:pt x="4033" y="305"/>
                  <a:pt x="4177" y="15"/>
                  <a:pt x="4320" y="12"/>
                </a:cubicBezTo>
                <a:cubicBezTo>
                  <a:pt x="4463" y="9"/>
                  <a:pt x="4606" y="263"/>
                  <a:pt x="4750" y="287"/>
                </a:cubicBezTo>
                <a:cubicBezTo>
                  <a:pt x="4894" y="311"/>
                  <a:pt x="5094" y="182"/>
                  <a:pt x="5184" y="15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286000"/>
            <a:ext cx="1447920" cy="510120"/>
          </a:xfrm>
          <a:prstGeom prst="rect">
            <a:avLst/>
          </a:prstGeom>
          <a:solidFill>
            <a:srgbClr val="d5ebe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tness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2286000"/>
            <a:ext cx="1447560" cy="510120"/>
          </a:xfrm>
          <a:prstGeom prst="rect">
            <a:avLst/>
          </a:prstGeom>
          <a:solidFill>
            <a:srgbClr val="d5ebe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tness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2286000"/>
            <a:ext cx="1447560" cy="510120"/>
          </a:xfrm>
          <a:prstGeom prst="rect">
            <a:avLst/>
          </a:prstGeom>
          <a:solidFill>
            <a:srgbClr val="d5ebe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tness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133720"/>
            <a:ext cx="1828800" cy="838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2133720"/>
            <a:ext cx="1828800" cy="838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 rot="16002000">
            <a:off x="4332240" y="4495320"/>
            <a:ext cx="1371600" cy="304200"/>
          </a:xfrm>
          <a:custGeom>
            <a:avLst/>
            <a:gdLst/>
            <a:ahLst/>
            <a:rect l="l" t="t" r="r" b="b"/>
            <a:pathLst>
              <a:path w="5184" h="314">
                <a:moveTo>
                  <a:pt x="0" y="154"/>
                </a:moveTo>
                <a:cubicBezTo>
                  <a:pt x="71" y="176"/>
                  <a:pt x="281" y="312"/>
                  <a:pt x="425" y="287"/>
                </a:cubicBezTo>
                <a:cubicBezTo>
                  <a:pt x="569" y="262"/>
                  <a:pt x="719" y="5"/>
                  <a:pt x="864" y="3"/>
                </a:cubicBezTo>
                <a:cubicBezTo>
                  <a:pt x="1009" y="1"/>
                  <a:pt x="1151" y="277"/>
                  <a:pt x="1294" y="277"/>
                </a:cubicBezTo>
                <a:cubicBezTo>
                  <a:pt x="1437" y="277"/>
                  <a:pt x="1581" y="0"/>
                  <a:pt x="1723" y="3"/>
                </a:cubicBezTo>
                <a:cubicBezTo>
                  <a:pt x="1865" y="6"/>
                  <a:pt x="1999" y="295"/>
                  <a:pt x="2144" y="296"/>
                </a:cubicBezTo>
                <a:cubicBezTo>
                  <a:pt x="2289" y="297"/>
                  <a:pt x="2446" y="9"/>
                  <a:pt x="2592" y="12"/>
                </a:cubicBezTo>
                <a:cubicBezTo>
                  <a:pt x="2738" y="15"/>
                  <a:pt x="2877" y="314"/>
                  <a:pt x="3022" y="314"/>
                </a:cubicBezTo>
                <a:cubicBezTo>
                  <a:pt x="3167" y="314"/>
                  <a:pt x="3316" y="14"/>
                  <a:pt x="3461" y="12"/>
                </a:cubicBezTo>
                <a:cubicBezTo>
                  <a:pt x="3606" y="10"/>
                  <a:pt x="3747" y="305"/>
                  <a:pt x="3890" y="305"/>
                </a:cubicBezTo>
                <a:cubicBezTo>
                  <a:pt x="4033" y="305"/>
                  <a:pt x="4177" y="15"/>
                  <a:pt x="4320" y="12"/>
                </a:cubicBezTo>
                <a:cubicBezTo>
                  <a:pt x="4463" y="9"/>
                  <a:pt x="4606" y="263"/>
                  <a:pt x="4750" y="287"/>
                </a:cubicBezTo>
                <a:cubicBezTo>
                  <a:pt x="4894" y="311"/>
                  <a:pt x="5094" y="182"/>
                  <a:pt x="5184" y="15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3886200"/>
            <a:ext cx="7696080" cy="1687320"/>
            <a:chOff x="304920" y="3886200"/>
            <a:chExt cx="7696080" cy="1687320"/>
          </a:xfrm>
        </p:grpSpPr>
        <p:sp>
          <p:nvSpPr>
            <p:cNvPr id="161" name=""/>
            <p:cNvSpPr/>
            <p:nvPr/>
          </p:nvSpPr>
          <p:spPr>
            <a:xfrm flipV="1">
              <a:off x="1905120" y="3961800"/>
              <a:ext cx="6095880" cy="369360"/>
            </a:xfrm>
            <a:custGeom>
              <a:avLst/>
              <a:gdLst/>
              <a:ahLst/>
              <a:rect l="l" t="t" r="r" b="b"/>
              <a:pathLst>
                <a:path w="5184" h="314">
                  <a:moveTo>
                    <a:pt x="0" y="154"/>
                  </a:moveTo>
                  <a:cubicBezTo>
                    <a:pt x="71" y="176"/>
                    <a:pt x="281" y="312"/>
                    <a:pt x="425" y="287"/>
                  </a:cubicBezTo>
                  <a:cubicBezTo>
                    <a:pt x="569" y="262"/>
                    <a:pt x="719" y="5"/>
                    <a:pt x="864" y="3"/>
                  </a:cubicBezTo>
                  <a:cubicBezTo>
                    <a:pt x="1009" y="1"/>
                    <a:pt x="1151" y="277"/>
                    <a:pt x="1294" y="277"/>
                  </a:cubicBezTo>
                  <a:cubicBezTo>
                    <a:pt x="1437" y="277"/>
                    <a:pt x="1581" y="0"/>
                    <a:pt x="1723" y="3"/>
                  </a:cubicBezTo>
                  <a:cubicBezTo>
                    <a:pt x="1865" y="6"/>
                    <a:pt x="1999" y="295"/>
                    <a:pt x="2144" y="296"/>
                  </a:cubicBezTo>
                  <a:cubicBezTo>
                    <a:pt x="2289" y="297"/>
                    <a:pt x="2446" y="9"/>
                    <a:pt x="2592" y="12"/>
                  </a:cubicBezTo>
                  <a:cubicBezTo>
                    <a:pt x="2738" y="15"/>
                    <a:pt x="2877" y="314"/>
                    <a:pt x="3022" y="314"/>
                  </a:cubicBezTo>
                  <a:cubicBezTo>
                    <a:pt x="3167" y="314"/>
                    <a:pt x="3316" y="14"/>
                    <a:pt x="3461" y="12"/>
                  </a:cubicBezTo>
                  <a:cubicBezTo>
                    <a:pt x="3606" y="10"/>
                    <a:pt x="3747" y="305"/>
                    <a:pt x="3890" y="305"/>
                  </a:cubicBezTo>
                  <a:cubicBezTo>
                    <a:pt x="4033" y="305"/>
                    <a:pt x="4177" y="15"/>
                    <a:pt x="4320" y="12"/>
                  </a:cubicBezTo>
                  <a:cubicBezTo>
                    <a:pt x="4463" y="9"/>
                    <a:pt x="4606" y="263"/>
                    <a:pt x="4750" y="287"/>
                  </a:cubicBezTo>
                  <a:cubicBezTo>
                    <a:pt x="4894" y="311"/>
                    <a:pt x="5094" y="182"/>
                    <a:pt x="5184" y="15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3886200"/>
              <a:ext cx="144756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itness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67080" y="3886200"/>
              <a:ext cx="144792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itness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53080" y="3886200"/>
              <a:ext cx="144792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itness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905120" y="5104800"/>
              <a:ext cx="6095880" cy="369360"/>
            </a:xfrm>
            <a:custGeom>
              <a:avLst/>
              <a:gdLst/>
              <a:ahLst/>
              <a:rect l="l" t="t" r="r" b="b"/>
              <a:pathLst>
                <a:path w="5184" h="314">
                  <a:moveTo>
                    <a:pt x="0" y="154"/>
                  </a:moveTo>
                  <a:cubicBezTo>
                    <a:pt x="71" y="176"/>
                    <a:pt x="281" y="312"/>
                    <a:pt x="425" y="287"/>
                  </a:cubicBezTo>
                  <a:cubicBezTo>
                    <a:pt x="569" y="262"/>
                    <a:pt x="719" y="5"/>
                    <a:pt x="864" y="3"/>
                  </a:cubicBezTo>
                  <a:cubicBezTo>
                    <a:pt x="1009" y="1"/>
                    <a:pt x="1151" y="277"/>
                    <a:pt x="1294" y="277"/>
                  </a:cubicBezTo>
                  <a:cubicBezTo>
                    <a:pt x="1437" y="277"/>
                    <a:pt x="1581" y="0"/>
                    <a:pt x="1723" y="3"/>
                  </a:cubicBezTo>
                  <a:cubicBezTo>
                    <a:pt x="1865" y="6"/>
                    <a:pt x="1999" y="295"/>
                    <a:pt x="2144" y="296"/>
                  </a:cubicBezTo>
                  <a:cubicBezTo>
                    <a:pt x="2289" y="297"/>
                    <a:pt x="2446" y="9"/>
                    <a:pt x="2592" y="12"/>
                  </a:cubicBezTo>
                  <a:cubicBezTo>
                    <a:pt x="2738" y="15"/>
                    <a:pt x="2877" y="314"/>
                    <a:pt x="3022" y="314"/>
                  </a:cubicBezTo>
                  <a:cubicBezTo>
                    <a:pt x="3167" y="314"/>
                    <a:pt x="3316" y="14"/>
                    <a:pt x="3461" y="12"/>
                  </a:cubicBezTo>
                  <a:cubicBezTo>
                    <a:pt x="3606" y="10"/>
                    <a:pt x="3747" y="305"/>
                    <a:pt x="3890" y="305"/>
                  </a:cubicBezTo>
                  <a:cubicBezTo>
                    <a:pt x="4033" y="305"/>
                    <a:pt x="4177" y="15"/>
                    <a:pt x="4320" y="12"/>
                  </a:cubicBezTo>
                  <a:cubicBezTo>
                    <a:pt x="4463" y="9"/>
                    <a:pt x="4606" y="263"/>
                    <a:pt x="4750" y="287"/>
                  </a:cubicBezTo>
                  <a:cubicBezTo>
                    <a:pt x="4894" y="311"/>
                    <a:pt x="5094" y="182"/>
                    <a:pt x="5184" y="15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5120" y="5028840"/>
              <a:ext cx="144756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itness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67080" y="5028840"/>
              <a:ext cx="144792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itness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53080" y="5028840"/>
              <a:ext cx="144792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itness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"/>
            <p:cNvSpPr/>
            <p:nvPr/>
          </p:nvSpPr>
          <p:spPr>
            <a:xfrm>
              <a:off x="304920" y="3886200"/>
              <a:ext cx="12952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Merlin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"/>
            <p:cNvSpPr/>
            <p:nvPr/>
          </p:nvSpPr>
          <p:spPr>
            <a:xfrm>
              <a:off x="304920" y="5028840"/>
              <a:ext cx="12952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Merlin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914400" y="2133720"/>
            <a:ext cx="1828800" cy="838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3733920"/>
            <a:ext cx="1828800" cy="1981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181480" y="4495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Uh-oh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286000" y="57592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Acce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380880" y="22860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et i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m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sible to defend against this bizarre behavior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80880" y="335268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irs of witnesses, of which we only measure a random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80880" y="434340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any tiny amount of entanglement that’s created during this protocol “spread itself thinly” across the registers in a reasonable wa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80880" y="57913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answer this question, we need a way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ntanglemen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219320" y="1371600"/>
            <a:ext cx="7010280" cy="1576800"/>
            <a:chOff x="1219320" y="1371600"/>
            <a:chExt cx="7010280" cy="1576800"/>
          </a:xfrm>
        </p:grpSpPr>
        <p:sp>
          <p:nvSpPr>
            <p:cNvPr id="180" name=""/>
            <p:cNvSpPr/>
            <p:nvPr/>
          </p:nvSpPr>
          <p:spPr>
            <a:xfrm flipV="1">
              <a:off x="4724280" y="1446840"/>
              <a:ext cx="3429000" cy="369720"/>
            </a:xfrm>
            <a:custGeom>
              <a:avLst/>
              <a:gdLst/>
              <a:ahLst/>
              <a:rect l="l" t="t" r="r" b="b"/>
              <a:pathLst>
                <a:path w="5184" h="314">
                  <a:moveTo>
                    <a:pt x="0" y="154"/>
                  </a:moveTo>
                  <a:cubicBezTo>
                    <a:pt x="71" y="176"/>
                    <a:pt x="281" y="312"/>
                    <a:pt x="425" y="287"/>
                  </a:cubicBezTo>
                  <a:cubicBezTo>
                    <a:pt x="569" y="262"/>
                    <a:pt x="719" y="5"/>
                    <a:pt x="864" y="3"/>
                  </a:cubicBezTo>
                  <a:cubicBezTo>
                    <a:pt x="1009" y="1"/>
                    <a:pt x="1151" y="277"/>
                    <a:pt x="1294" y="277"/>
                  </a:cubicBezTo>
                  <a:cubicBezTo>
                    <a:pt x="1437" y="277"/>
                    <a:pt x="1581" y="0"/>
                    <a:pt x="1723" y="3"/>
                  </a:cubicBezTo>
                  <a:cubicBezTo>
                    <a:pt x="1865" y="6"/>
                    <a:pt x="1999" y="295"/>
                    <a:pt x="2144" y="296"/>
                  </a:cubicBezTo>
                  <a:cubicBezTo>
                    <a:pt x="2289" y="297"/>
                    <a:pt x="2446" y="9"/>
                    <a:pt x="2592" y="12"/>
                  </a:cubicBezTo>
                  <a:cubicBezTo>
                    <a:pt x="2738" y="15"/>
                    <a:pt x="2877" y="314"/>
                    <a:pt x="3022" y="314"/>
                  </a:cubicBezTo>
                  <a:cubicBezTo>
                    <a:pt x="3167" y="314"/>
                    <a:pt x="3316" y="14"/>
                    <a:pt x="3461" y="12"/>
                  </a:cubicBezTo>
                  <a:cubicBezTo>
                    <a:pt x="3606" y="10"/>
                    <a:pt x="3747" y="305"/>
                    <a:pt x="3890" y="305"/>
                  </a:cubicBezTo>
                  <a:cubicBezTo>
                    <a:pt x="4033" y="305"/>
                    <a:pt x="4177" y="15"/>
                    <a:pt x="4320" y="12"/>
                  </a:cubicBezTo>
                  <a:cubicBezTo>
                    <a:pt x="4463" y="9"/>
                    <a:pt x="4606" y="263"/>
                    <a:pt x="4750" y="287"/>
                  </a:cubicBezTo>
                  <a:cubicBezTo>
                    <a:pt x="4894" y="311"/>
                    <a:pt x="5094" y="182"/>
                    <a:pt x="5184" y="15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724280" y="2513520"/>
              <a:ext cx="3429000" cy="369720"/>
            </a:xfrm>
            <a:custGeom>
              <a:avLst/>
              <a:gdLst/>
              <a:ahLst/>
              <a:rect l="l" t="t" r="r" b="b"/>
              <a:pathLst>
                <a:path w="5184" h="314">
                  <a:moveTo>
                    <a:pt x="0" y="154"/>
                  </a:moveTo>
                  <a:cubicBezTo>
                    <a:pt x="71" y="176"/>
                    <a:pt x="281" y="312"/>
                    <a:pt x="425" y="287"/>
                  </a:cubicBezTo>
                  <a:cubicBezTo>
                    <a:pt x="569" y="262"/>
                    <a:pt x="719" y="5"/>
                    <a:pt x="864" y="3"/>
                  </a:cubicBezTo>
                  <a:cubicBezTo>
                    <a:pt x="1009" y="1"/>
                    <a:pt x="1151" y="277"/>
                    <a:pt x="1294" y="277"/>
                  </a:cubicBezTo>
                  <a:cubicBezTo>
                    <a:pt x="1437" y="277"/>
                    <a:pt x="1581" y="0"/>
                    <a:pt x="1723" y="3"/>
                  </a:cubicBezTo>
                  <a:cubicBezTo>
                    <a:pt x="1865" y="6"/>
                    <a:pt x="1999" y="295"/>
                    <a:pt x="2144" y="296"/>
                  </a:cubicBezTo>
                  <a:cubicBezTo>
                    <a:pt x="2289" y="297"/>
                    <a:pt x="2446" y="9"/>
                    <a:pt x="2592" y="12"/>
                  </a:cubicBezTo>
                  <a:cubicBezTo>
                    <a:pt x="2738" y="15"/>
                    <a:pt x="2877" y="314"/>
                    <a:pt x="3022" y="314"/>
                  </a:cubicBezTo>
                  <a:cubicBezTo>
                    <a:pt x="3167" y="314"/>
                    <a:pt x="3316" y="14"/>
                    <a:pt x="3461" y="12"/>
                  </a:cubicBezTo>
                  <a:cubicBezTo>
                    <a:pt x="3606" y="10"/>
                    <a:pt x="3747" y="305"/>
                    <a:pt x="3890" y="305"/>
                  </a:cubicBezTo>
                  <a:cubicBezTo>
                    <a:pt x="4033" y="305"/>
                    <a:pt x="4177" y="15"/>
                    <a:pt x="4320" y="12"/>
                  </a:cubicBezTo>
                  <a:cubicBezTo>
                    <a:pt x="4463" y="9"/>
                    <a:pt x="4606" y="263"/>
                    <a:pt x="4750" y="287"/>
                  </a:cubicBezTo>
                  <a:cubicBezTo>
                    <a:pt x="4894" y="311"/>
                    <a:pt x="5094" y="182"/>
                    <a:pt x="5184" y="15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219320" y="1446840"/>
              <a:ext cx="3429000" cy="369720"/>
            </a:xfrm>
            <a:custGeom>
              <a:avLst/>
              <a:gdLst/>
              <a:ahLst/>
              <a:rect l="l" t="t" r="r" b="b"/>
              <a:pathLst>
                <a:path w="5184" h="314">
                  <a:moveTo>
                    <a:pt x="0" y="154"/>
                  </a:moveTo>
                  <a:cubicBezTo>
                    <a:pt x="71" y="176"/>
                    <a:pt x="281" y="312"/>
                    <a:pt x="425" y="287"/>
                  </a:cubicBezTo>
                  <a:cubicBezTo>
                    <a:pt x="569" y="262"/>
                    <a:pt x="719" y="5"/>
                    <a:pt x="864" y="3"/>
                  </a:cubicBezTo>
                  <a:cubicBezTo>
                    <a:pt x="1009" y="1"/>
                    <a:pt x="1151" y="277"/>
                    <a:pt x="1294" y="277"/>
                  </a:cubicBezTo>
                  <a:cubicBezTo>
                    <a:pt x="1437" y="277"/>
                    <a:pt x="1581" y="0"/>
                    <a:pt x="1723" y="3"/>
                  </a:cubicBezTo>
                  <a:cubicBezTo>
                    <a:pt x="1865" y="6"/>
                    <a:pt x="1999" y="295"/>
                    <a:pt x="2144" y="296"/>
                  </a:cubicBezTo>
                  <a:cubicBezTo>
                    <a:pt x="2289" y="297"/>
                    <a:pt x="2446" y="9"/>
                    <a:pt x="2592" y="12"/>
                  </a:cubicBezTo>
                  <a:cubicBezTo>
                    <a:pt x="2738" y="15"/>
                    <a:pt x="2877" y="314"/>
                    <a:pt x="3022" y="314"/>
                  </a:cubicBezTo>
                  <a:cubicBezTo>
                    <a:pt x="3167" y="314"/>
                    <a:pt x="3316" y="14"/>
                    <a:pt x="3461" y="12"/>
                  </a:cubicBezTo>
                  <a:cubicBezTo>
                    <a:pt x="3606" y="10"/>
                    <a:pt x="3747" y="305"/>
                    <a:pt x="3890" y="305"/>
                  </a:cubicBezTo>
                  <a:cubicBezTo>
                    <a:pt x="4033" y="305"/>
                    <a:pt x="4177" y="15"/>
                    <a:pt x="4320" y="12"/>
                  </a:cubicBezTo>
                  <a:cubicBezTo>
                    <a:pt x="4463" y="9"/>
                    <a:pt x="4606" y="263"/>
                    <a:pt x="4750" y="287"/>
                  </a:cubicBezTo>
                  <a:cubicBezTo>
                    <a:pt x="4894" y="311"/>
                    <a:pt x="5094" y="182"/>
                    <a:pt x="5184" y="15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19320" y="137160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0" y="137160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52680" y="1371600"/>
              <a:ext cx="60984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137160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86400" y="137160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3080" y="1371600"/>
              <a:ext cx="60984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20120" y="137160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219320" y="2513520"/>
              <a:ext cx="3429000" cy="369720"/>
            </a:xfrm>
            <a:custGeom>
              <a:avLst/>
              <a:gdLst/>
              <a:ahLst/>
              <a:rect l="l" t="t" r="r" b="b"/>
              <a:pathLst>
                <a:path w="5184" h="314">
                  <a:moveTo>
                    <a:pt x="0" y="154"/>
                  </a:moveTo>
                  <a:cubicBezTo>
                    <a:pt x="71" y="176"/>
                    <a:pt x="281" y="312"/>
                    <a:pt x="425" y="287"/>
                  </a:cubicBezTo>
                  <a:cubicBezTo>
                    <a:pt x="569" y="262"/>
                    <a:pt x="719" y="5"/>
                    <a:pt x="864" y="3"/>
                  </a:cubicBezTo>
                  <a:cubicBezTo>
                    <a:pt x="1009" y="1"/>
                    <a:pt x="1151" y="277"/>
                    <a:pt x="1294" y="277"/>
                  </a:cubicBezTo>
                  <a:cubicBezTo>
                    <a:pt x="1437" y="277"/>
                    <a:pt x="1581" y="0"/>
                    <a:pt x="1723" y="3"/>
                  </a:cubicBezTo>
                  <a:cubicBezTo>
                    <a:pt x="1865" y="6"/>
                    <a:pt x="1999" y="295"/>
                    <a:pt x="2144" y="296"/>
                  </a:cubicBezTo>
                  <a:cubicBezTo>
                    <a:pt x="2289" y="297"/>
                    <a:pt x="2446" y="9"/>
                    <a:pt x="2592" y="12"/>
                  </a:cubicBezTo>
                  <a:cubicBezTo>
                    <a:pt x="2738" y="15"/>
                    <a:pt x="2877" y="314"/>
                    <a:pt x="3022" y="314"/>
                  </a:cubicBezTo>
                  <a:cubicBezTo>
                    <a:pt x="3167" y="314"/>
                    <a:pt x="3316" y="14"/>
                    <a:pt x="3461" y="12"/>
                  </a:cubicBezTo>
                  <a:cubicBezTo>
                    <a:pt x="3606" y="10"/>
                    <a:pt x="3747" y="305"/>
                    <a:pt x="3890" y="305"/>
                  </a:cubicBezTo>
                  <a:cubicBezTo>
                    <a:pt x="4033" y="305"/>
                    <a:pt x="4177" y="15"/>
                    <a:pt x="4320" y="12"/>
                  </a:cubicBezTo>
                  <a:cubicBezTo>
                    <a:pt x="4463" y="9"/>
                    <a:pt x="4606" y="263"/>
                    <a:pt x="4750" y="287"/>
                  </a:cubicBezTo>
                  <a:cubicBezTo>
                    <a:pt x="4894" y="311"/>
                    <a:pt x="5094" y="182"/>
                    <a:pt x="5184" y="15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19320" y="243828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0" y="243828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52680" y="2438280"/>
              <a:ext cx="60984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19720" y="243828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86400" y="243828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53080" y="2438280"/>
              <a:ext cx="60984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0120" y="243828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24080" y="1219320"/>
            <a:ext cx="1067040" cy="1981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1143000"/>
            <a:ext cx="1067040" cy="1981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1219320"/>
            <a:ext cx="1066680" cy="1981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28600" y="228600"/>
            <a:ext cx="8686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ntanglement of Formation E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F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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AB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04920" y="9907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uitively, minimum # of EPR pairs needed to prepar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304920" y="1676520"/>
            <a:ext cx="8686800" cy="25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un Fac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only increase b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K when we act on a K-qubit regi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, the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close to a separable state in trace dis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4495680"/>
            <a:ext cx="3276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uperaddi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581280" y="4191120"/>
                <a:ext cx="53341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⋯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⋯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r>
                          <m:t xml:space="preserve">≥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380880" y="5562720"/>
            <a:ext cx="861084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Shor 2003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quivalent to proving the “additivity of quantum channel capacity,” a famous ope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76160" y="2743200"/>
            <a:ext cx="2895840" cy="489960"/>
            <a:chOff x="1676160" y="2743200"/>
            <a:chExt cx="2895840" cy="489960"/>
          </a:xfrm>
        </p:grpSpPr>
        <p:sp>
          <p:nvSpPr>
            <p:cNvPr id="208" name=""/>
            <p:cNvSpPr/>
            <p:nvPr/>
          </p:nvSpPr>
          <p:spPr>
            <a:xfrm flipH="1">
              <a:off x="1676160" y="2971800"/>
              <a:ext cx="76212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"/>
            <p:cNvSpPr/>
            <p:nvPr/>
          </p:nvSpPr>
          <p:spPr>
            <a:xfrm>
              <a:off x="2438640" y="2743200"/>
              <a:ext cx="213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0099"/>
                  </a:solidFill>
                  <a:latin typeface="Arial"/>
                </a:rPr>
                <a:t>Good for u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590560" y="3733920"/>
            <a:ext cx="2895840" cy="489960"/>
            <a:chOff x="2590560" y="3733920"/>
            <a:chExt cx="2895840" cy="489960"/>
          </a:xfrm>
        </p:grpSpPr>
        <p:sp>
          <p:nvSpPr>
            <p:cNvPr id="211" name=""/>
            <p:cNvSpPr/>
            <p:nvPr/>
          </p:nvSpPr>
          <p:spPr>
            <a:xfrm flipH="1">
              <a:off x="2590560" y="3962520"/>
              <a:ext cx="76212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"/>
            <p:cNvSpPr/>
            <p:nvPr/>
          </p:nvSpPr>
          <p:spPr>
            <a:xfrm>
              <a:off x="3353040" y="3733920"/>
              <a:ext cx="213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0099"/>
                  </a:solidFill>
                  <a:latin typeface="Arial"/>
                </a:rPr>
                <a:t>Good for u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111250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"/>
          <p:cNvSpPr/>
          <p:nvPr/>
        </p:nvSpPr>
        <p:spPr>
          <a:xfrm>
            <a:off x="228600" y="304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Assuming the Additivity Conjecture, we show tha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04920" y="1676520"/>
            <a:ext cx="861048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QMA(2) protocols can be amplified to exponentially small 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QMA(2)=QMA(k) for all 2</a:t>
            </a:r>
            <a:r>
              <a:rPr b="1" lang="en-US" sz="2600" spc="-1" strike="noStrike">
                <a:solidFill>
                  <a:srgbClr val="ff66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ff66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poly(n) 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(building on [KMY]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SymQMA(k)=QMA(k)</a:t>
            </a:r>
            <a:br>
              <a:rPr sz="2600"/>
            </a:b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(SymQMA(k): All k Merlins send the same st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For every fixed polynomial p, p(n) entanglement gives the Merlins no extra power to ch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Upper Bounds for QMA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124080" y="1219320"/>
            <a:ext cx="5562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’s obvious that QMA(2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XP.  Embarrassingly, we still don’t have a better upper boun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124080" y="5105520"/>
            <a:ext cx="5486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On the other hand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amplification that reus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nesses is possible, then PSPACE=NEXP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3124080" y="2895480"/>
            <a:ext cx="5639040" cy="20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Our Result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MA(2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SPACE, assuming “Strong Amplification” of QMA(2)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mplification that reus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Merlin’s witnesses over and o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371600"/>
            <a:ext cx="2743200" cy="5257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514600"/>
            <a:ext cx="2209680" cy="388620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3733920"/>
            <a:ext cx="1752480" cy="2514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4114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8080"/>
                </a:solidFill>
                <a:latin typeface="Arial"/>
              </a:rPr>
              <a:t>P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2743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8080"/>
                </a:solidFill>
                <a:latin typeface="Arial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8080"/>
                </a:solidFill>
                <a:latin typeface="Arial"/>
              </a:rPr>
              <a:t>N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4800600"/>
            <a:ext cx="1295280" cy="129528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181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8080"/>
                </a:solidFill>
                <a:latin typeface="Arial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09480" y="2057400"/>
            <a:ext cx="2181240" cy="3651120"/>
            <a:chOff x="609480" y="2057400"/>
            <a:chExt cx="2181240" cy="3651120"/>
          </a:xfrm>
        </p:grpSpPr>
        <p:sp>
          <p:nvSpPr>
            <p:cNvPr id="229" name=""/>
            <p:cNvSpPr/>
            <p:nvPr/>
          </p:nvSpPr>
          <p:spPr>
            <a:xfrm>
              <a:off x="609480" y="2057400"/>
              <a:ext cx="2181240" cy="3651120"/>
            </a:xfrm>
            <a:custGeom>
              <a:avLst/>
              <a:gdLst/>
              <a:ahLst/>
              <a:rect l="l" t="t" r="r" b="b"/>
              <a:pathLst>
                <a:path w="1374" h="2300">
                  <a:moveTo>
                    <a:pt x="443" y="1908"/>
                  </a:moveTo>
                  <a:cubicBezTo>
                    <a:pt x="434" y="1881"/>
                    <a:pt x="422" y="1864"/>
                    <a:pt x="402" y="1843"/>
                  </a:cubicBezTo>
                  <a:cubicBezTo>
                    <a:pt x="391" y="1801"/>
                    <a:pt x="370" y="1706"/>
                    <a:pt x="313" y="1697"/>
                  </a:cubicBezTo>
                  <a:cubicBezTo>
                    <a:pt x="257" y="1688"/>
                    <a:pt x="142" y="1681"/>
                    <a:pt x="142" y="1681"/>
                  </a:cubicBezTo>
                  <a:cubicBezTo>
                    <a:pt x="131" y="1673"/>
                    <a:pt x="119" y="1667"/>
                    <a:pt x="110" y="1657"/>
                  </a:cubicBezTo>
                  <a:cubicBezTo>
                    <a:pt x="97" y="1642"/>
                    <a:pt x="78" y="1608"/>
                    <a:pt x="78" y="1608"/>
                  </a:cubicBezTo>
                  <a:cubicBezTo>
                    <a:pt x="73" y="1589"/>
                    <a:pt x="60" y="1571"/>
                    <a:pt x="61" y="1551"/>
                  </a:cubicBezTo>
                  <a:cubicBezTo>
                    <a:pt x="68" y="1450"/>
                    <a:pt x="102" y="1308"/>
                    <a:pt x="199" y="1259"/>
                  </a:cubicBezTo>
                  <a:cubicBezTo>
                    <a:pt x="209" y="1165"/>
                    <a:pt x="215" y="1199"/>
                    <a:pt x="240" y="1121"/>
                  </a:cubicBezTo>
                  <a:cubicBezTo>
                    <a:pt x="235" y="1043"/>
                    <a:pt x="236" y="964"/>
                    <a:pt x="224" y="886"/>
                  </a:cubicBezTo>
                  <a:cubicBezTo>
                    <a:pt x="222" y="873"/>
                    <a:pt x="207" y="865"/>
                    <a:pt x="199" y="854"/>
                  </a:cubicBezTo>
                  <a:cubicBezTo>
                    <a:pt x="170" y="813"/>
                    <a:pt x="130" y="776"/>
                    <a:pt x="94" y="740"/>
                  </a:cubicBezTo>
                  <a:cubicBezTo>
                    <a:pt x="81" y="702"/>
                    <a:pt x="61" y="683"/>
                    <a:pt x="29" y="659"/>
                  </a:cubicBezTo>
                  <a:cubicBezTo>
                    <a:pt x="0" y="570"/>
                    <a:pt x="13" y="480"/>
                    <a:pt x="53" y="399"/>
                  </a:cubicBezTo>
                  <a:cubicBezTo>
                    <a:pt x="59" y="361"/>
                    <a:pt x="79" y="230"/>
                    <a:pt x="102" y="205"/>
                  </a:cubicBezTo>
                  <a:cubicBezTo>
                    <a:pt x="185" y="117"/>
                    <a:pt x="288" y="26"/>
                    <a:pt x="410" y="2"/>
                  </a:cubicBezTo>
                  <a:cubicBezTo>
                    <a:pt x="429" y="5"/>
                    <a:pt x="451" y="0"/>
                    <a:pt x="467" y="10"/>
                  </a:cubicBezTo>
                  <a:cubicBezTo>
                    <a:pt x="483" y="20"/>
                    <a:pt x="499" y="58"/>
                    <a:pt x="499" y="58"/>
                  </a:cubicBezTo>
                  <a:cubicBezTo>
                    <a:pt x="502" y="128"/>
                    <a:pt x="498" y="199"/>
                    <a:pt x="508" y="269"/>
                  </a:cubicBezTo>
                  <a:cubicBezTo>
                    <a:pt x="511" y="291"/>
                    <a:pt x="624" y="308"/>
                    <a:pt x="637" y="310"/>
                  </a:cubicBezTo>
                  <a:cubicBezTo>
                    <a:pt x="659" y="321"/>
                    <a:pt x="695" y="319"/>
                    <a:pt x="702" y="342"/>
                  </a:cubicBezTo>
                  <a:cubicBezTo>
                    <a:pt x="707" y="358"/>
                    <a:pt x="718" y="391"/>
                    <a:pt x="718" y="391"/>
                  </a:cubicBezTo>
                  <a:cubicBezTo>
                    <a:pt x="725" y="518"/>
                    <a:pt x="717" y="584"/>
                    <a:pt x="783" y="683"/>
                  </a:cubicBezTo>
                  <a:cubicBezTo>
                    <a:pt x="920" y="673"/>
                    <a:pt x="854" y="679"/>
                    <a:pt x="937" y="651"/>
                  </a:cubicBezTo>
                  <a:cubicBezTo>
                    <a:pt x="969" y="619"/>
                    <a:pt x="973" y="595"/>
                    <a:pt x="994" y="553"/>
                  </a:cubicBezTo>
                  <a:cubicBezTo>
                    <a:pt x="1028" y="487"/>
                    <a:pt x="1053" y="419"/>
                    <a:pt x="1084" y="351"/>
                  </a:cubicBezTo>
                  <a:cubicBezTo>
                    <a:pt x="1035" y="279"/>
                    <a:pt x="1013" y="186"/>
                    <a:pt x="954" y="123"/>
                  </a:cubicBezTo>
                  <a:cubicBezTo>
                    <a:pt x="946" y="99"/>
                    <a:pt x="937" y="75"/>
                    <a:pt x="929" y="50"/>
                  </a:cubicBezTo>
                  <a:cubicBezTo>
                    <a:pt x="969" y="40"/>
                    <a:pt x="1005" y="35"/>
                    <a:pt x="1035" y="67"/>
                  </a:cubicBezTo>
                  <a:cubicBezTo>
                    <a:pt x="1040" y="83"/>
                    <a:pt x="1046" y="99"/>
                    <a:pt x="1051" y="115"/>
                  </a:cubicBezTo>
                  <a:cubicBezTo>
                    <a:pt x="1058" y="135"/>
                    <a:pt x="1090" y="152"/>
                    <a:pt x="1100" y="172"/>
                  </a:cubicBezTo>
                  <a:cubicBezTo>
                    <a:pt x="1111" y="195"/>
                    <a:pt x="1112" y="222"/>
                    <a:pt x="1124" y="245"/>
                  </a:cubicBezTo>
                  <a:cubicBezTo>
                    <a:pt x="1144" y="284"/>
                    <a:pt x="1154" y="291"/>
                    <a:pt x="1181" y="318"/>
                  </a:cubicBezTo>
                  <a:cubicBezTo>
                    <a:pt x="1194" y="358"/>
                    <a:pt x="1216" y="393"/>
                    <a:pt x="1230" y="432"/>
                  </a:cubicBezTo>
                  <a:cubicBezTo>
                    <a:pt x="1224" y="553"/>
                    <a:pt x="1228" y="609"/>
                    <a:pt x="1189" y="708"/>
                  </a:cubicBezTo>
                  <a:cubicBezTo>
                    <a:pt x="1174" y="797"/>
                    <a:pt x="1144" y="798"/>
                    <a:pt x="1067" y="813"/>
                  </a:cubicBezTo>
                  <a:cubicBezTo>
                    <a:pt x="1034" y="829"/>
                    <a:pt x="1005" y="850"/>
                    <a:pt x="970" y="862"/>
                  </a:cubicBezTo>
                  <a:cubicBezTo>
                    <a:pt x="926" y="894"/>
                    <a:pt x="899" y="953"/>
                    <a:pt x="848" y="975"/>
                  </a:cubicBezTo>
                  <a:cubicBezTo>
                    <a:pt x="828" y="984"/>
                    <a:pt x="804" y="984"/>
                    <a:pt x="783" y="991"/>
                  </a:cubicBezTo>
                  <a:cubicBezTo>
                    <a:pt x="778" y="997"/>
                    <a:pt x="767" y="1000"/>
                    <a:pt x="767" y="1008"/>
                  </a:cubicBezTo>
                  <a:cubicBezTo>
                    <a:pt x="765" y="1078"/>
                    <a:pt x="770" y="1149"/>
                    <a:pt x="775" y="1219"/>
                  </a:cubicBezTo>
                  <a:cubicBezTo>
                    <a:pt x="779" y="1278"/>
                    <a:pt x="870" y="1275"/>
                    <a:pt x="905" y="1300"/>
                  </a:cubicBezTo>
                  <a:cubicBezTo>
                    <a:pt x="951" y="1332"/>
                    <a:pt x="989" y="1384"/>
                    <a:pt x="1043" y="1397"/>
                  </a:cubicBezTo>
                  <a:cubicBezTo>
                    <a:pt x="1073" y="1394"/>
                    <a:pt x="1103" y="1395"/>
                    <a:pt x="1132" y="1389"/>
                  </a:cubicBezTo>
                  <a:cubicBezTo>
                    <a:pt x="1160" y="1383"/>
                    <a:pt x="1178" y="1341"/>
                    <a:pt x="1189" y="1324"/>
                  </a:cubicBezTo>
                  <a:cubicBezTo>
                    <a:pt x="1200" y="1307"/>
                    <a:pt x="1232" y="1293"/>
                    <a:pt x="1246" y="1275"/>
                  </a:cubicBezTo>
                  <a:cubicBezTo>
                    <a:pt x="1310" y="1193"/>
                    <a:pt x="1271" y="1232"/>
                    <a:pt x="1311" y="1194"/>
                  </a:cubicBezTo>
                  <a:cubicBezTo>
                    <a:pt x="1324" y="1213"/>
                    <a:pt x="1338" y="1232"/>
                    <a:pt x="1351" y="1251"/>
                  </a:cubicBezTo>
                  <a:cubicBezTo>
                    <a:pt x="1356" y="1259"/>
                    <a:pt x="1367" y="1275"/>
                    <a:pt x="1367" y="1275"/>
                  </a:cubicBezTo>
                  <a:cubicBezTo>
                    <a:pt x="1361" y="1332"/>
                    <a:pt x="1374" y="1397"/>
                    <a:pt x="1343" y="1446"/>
                  </a:cubicBezTo>
                  <a:cubicBezTo>
                    <a:pt x="1313" y="1493"/>
                    <a:pt x="1278" y="1524"/>
                    <a:pt x="1246" y="1567"/>
                  </a:cubicBezTo>
                  <a:cubicBezTo>
                    <a:pt x="1219" y="1603"/>
                    <a:pt x="1195" y="1654"/>
                    <a:pt x="1165" y="1689"/>
                  </a:cubicBezTo>
                  <a:cubicBezTo>
                    <a:pt x="1140" y="1718"/>
                    <a:pt x="1111" y="1743"/>
                    <a:pt x="1084" y="1770"/>
                  </a:cubicBezTo>
                  <a:cubicBezTo>
                    <a:pt x="1065" y="1789"/>
                    <a:pt x="1026" y="1799"/>
                    <a:pt x="1002" y="1811"/>
                  </a:cubicBezTo>
                  <a:cubicBezTo>
                    <a:pt x="991" y="1824"/>
                    <a:pt x="983" y="1840"/>
                    <a:pt x="970" y="1851"/>
                  </a:cubicBezTo>
                  <a:cubicBezTo>
                    <a:pt x="921" y="1893"/>
                    <a:pt x="968" y="1826"/>
                    <a:pt x="929" y="1876"/>
                  </a:cubicBezTo>
                  <a:cubicBezTo>
                    <a:pt x="897" y="1916"/>
                    <a:pt x="884" y="1957"/>
                    <a:pt x="856" y="1997"/>
                  </a:cubicBezTo>
                  <a:cubicBezTo>
                    <a:pt x="851" y="2024"/>
                    <a:pt x="843" y="2051"/>
                    <a:pt x="840" y="2079"/>
                  </a:cubicBezTo>
                  <a:cubicBezTo>
                    <a:pt x="835" y="2128"/>
                    <a:pt x="845" y="2181"/>
                    <a:pt x="824" y="2225"/>
                  </a:cubicBezTo>
                  <a:cubicBezTo>
                    <a:pt x="816" y="2242"/>
                    <a:pt x="786" y="2230"/>
                    <a:pt x="767" y="2233"/>
                  </a:cubicBezTo>
                  <a:cubicBezTo>
                    <a:pt x="664" y="2300"/>
                    <a:pt x="737" y="2266"/>
                    <a:pt x="524" y="2257"/>
                  </a:cubicBezTo>
                  <a:cubicBezTo>
                    <a:pt x="503" y="2250"/>
                    <a:pt x="478" y="2253"/>
                    <a:pt x="459" y="2241"/>
                  </a:cubicBezTo>
                  <a:cubicBezTo>
                    <a:pt x="442" y="2231"/>
                    <a:pt x="418" y="2200"/>
                    <a:pt x="418" y="2200"/>
                  </a:cubicBezTo>
                  <a:cubicBezTo>
                    <a:pt x="405" y="2120"/>
                    <a:pt x="395" y="2105"/>
                    <a:pt x="410" y="2006"/>
                  </a:cubicBezTo>
                  <a:cubicBezTo>
                    <a:pt x="412" y="1994"/>
                    <a:pt x="416" y="1980"/>
                    <a:pt x="426" y="1973"/>
                  </a:cubicBezTo>
                  <a:cubicBezTo>
                    <a:pt x="440" y="1963"/>
                    <a:pt x="475" y="1957"/>
                    <a:pt x="475" y="1957"/>
                  </a:cubicBezTo>
                  <a:cubicBezTo>
                    <a:pt x="472" y="1949"/>
                    <a:pt x="473" y="1939"/>
                    <a:pt x="467" y="1933"/>
                  </a:cubicBezTo>
                  <a:cubicBezTo>
                    <a:pt x="438" y="1903"/>
                    <a:pt x="443" y="1944"/>
                    <a:pt x="443" y="1908"/>
                  </a:cubicBezTo>
                  <a:close/>
                </a:path>
              </a:pathLst>
            </a:custGeom>
            <a:solidFill>
              <a:srgbClr val="ff0000">
                <a:alpha val="4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4445400">
              <a:off x="509400" y="3756600"/>
              <a:ext cx="205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600" spc="-1" strike="noStrike">
                  <a:solidFill>
                    <a:srgbClr val="000000"/>
                  </a:solidFill>
                  <a:latin typeface="Script MT Bold"/>
                </a:rPr>
                <a:t>QMA(2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143000" y="2057400"/>
            <a:ext cx="914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22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8.67052E-007 L -0.00261 0.15584 E">
                                      <p:cBhvr>
                                        <p:cTn id="274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oes QMA(2)=Q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9907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 now, even proving an oracle separation between them seems way beyond reach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80880" y="571500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We show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you want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erf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entangler, then the input Hilbert space needs to be infinite-dimens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1981080"/>
            <a:ext cx="8305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onjecture (Watrous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re’s no way to simulate QMA(2) in QMA by taking an arbitrary polynomial-size witness, and “disentangling” it to produce an arbitrary roughly-separable wit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80880" y="3886200"/>
            <a:ext cx="8458200" cy="1676520"/>
            <a:chOff x="380880" y="3886200"/>
            <a:chExt cx="8458200" cy="1676520"/>
          </a:xfrm>
        </p:grpSpPr>
        <p:sp>
          <p:nvSpPr>
            <p:cNvPr id="237" name=""/>
            <p:cNvSpPr/>
            <p:nvPr/>
          </p:nvSpPr>
          <p:spPr>
            <a:xfrm>
              <a:off x="1828800" y="3886200"/>
              <a:ext cx="1676520" cy="1676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038480"/>
              <a:ext cx="1371600" cy="1219320"/>
            </a:xfrm>
            <a:custGeom>
              <a:avLst/>
              <a:gdLst/>
              <a:ahLst/>
              <a:rect l="l" t="t" r="r" b="b"/>
              <a:pathLst>
                <a:path w="1152" h="864">
                  <a:moveTo>
                    <a:pt x="192" y="144"/>
                  </a:moveTo>
                  <a:lnTo>
                    <a:pt x="768" y="0"/>
                  </a:lnTo>
                  <a:lnTo>
                    <a:pt x="1152" y="336"/>
                  </a:lnTo>
                  <a:lnTo>
                    <a:pt x="1152" y="768"/>
                  </a:lnTo>
                  <a:lnTo>
                    <a:pt x="288" y="864"/>
                  </a:lnTo>
                  <a:lnTo>
                    <a:pt x="0" y="528"/>
                  </a:lnTo>
                  <a:lnTo>
                    <a:pt x="192" y="144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"/>
            <p:cNvSpPr/>
            <p:nvPr/>
          </p:nvSpPr>
          <p:spPr>
            <a:xfrm>
              <a:off x="6477120" y="3886200"/>
              <a:ext cx="23619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ll separable stat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3"/>
            <p:cNvSpPr/>
            <p:nvPr/>
          </p:nvSpPr>
          <p:spPr>
            <a:xfrm>
              <a:off x="380880" y="3962520"/>
              <a:ext cx="2743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ll stat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8120" y="4191120"/>
              <a:ext cx="259056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666880" y="5028840"/>
              <a:ext cx="31244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895480" y="4647960"/>
              <a:ext cx="304812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ore 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04920" y="1219320"/>
            <a:ext cx="7238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ur 3SAT protocol, can the assumption of unentanglement be removed?  If so, then we get a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Õ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ntum algorithm for 3S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jectur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r protocol can be modified to require onl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ers sen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Õ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bits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04920" y="42670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efining QMA(2), does it matter whether amplitudes are real or comple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04920" y="5181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natural group-theoretic problems in QMA(2)?  Does QMA(2) have natural complete promis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04920" y="3657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improve 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Õ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get evidence against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391520" y="1143000"/>
            <a:ext cx="1523880" cy="11923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"/>
          <p:cNvSpPr/>
          <p:nvPr/>
        </p:nvSpPr>
        <p:spPr>
          <a:xfrm>
            <a:off x="304920" y="6095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dditivity/amplification assump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2590920" y="380880"/>
            <a:ext cx="60195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is not yet entirely clear what advances in our understanding of quantum computation and quantum information can be expected as a result of the study of quantitative measures of entangleme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lsen &amp; Chuang (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312408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is work, we connect quantum complexity theory to entanglement theory—ironically, by studying the power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c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entanglemen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33520" y="4648320"/>
            <a:ext cx="8153280" cy="1884240"/>
          </a:xfrm>
          <a:prstGeom prst="rect">
            <a:avLst/>
          </a:prstGeom>
          <a:solidFill>
            <a:srgbClr val="ffffb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evious 3 talks,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 talks at upcoming FOC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um multi-prover interactive proof systems where provers share entang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at I’ll be talking about to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18432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6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ai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04920" y="1219320"/>
            <a:ext cx="861048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roving 3SAT With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  <a:ea typeface="Arial"/>
              </a:rPr>
              <a:t>Õ(</a:t>
            </a:r>
            <a:r>
              <a:rPr b="1" lang="en-US" sz="2800" spc="-1" strike="noStrike">
                <a:solidFill>
                  <a:srgbClr val="990099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  <a:ea typeface="Arial"/>
              </a:rPr>
              <a:t>n)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 3SAT instance of size n.  Someone can prove to you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atisfiable by giving you only O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polylog n) qubits—provided you know certain subsets of the qubits are unentangled with the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is nonrelativizing, and requires a tight PCP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04920" y="4191120"/>
            <a:ext cx="830556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Additivity </a:t>
            </a:r>
            <a:r>
              <a:rPr b="1" lang="en-US" sz="28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Amplification and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rover quantum MA can be amplified to exponentially small error, and three or more Merlins can be simulated with two, assuming the famo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ditivity Conj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quantum information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28600" y="304920"/>
            <a:ext cx="8686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MA: Quantum Merlin-Arthur</a:t>
            </a:r>
            <a:br>
              <a:rPr sz="4400"/>
            </a:b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Kitaev and Watrous, 2000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80880" y="1752480"/>
            <a:ext cx="84582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of languages L such that for all inputs x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ists a witnes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poly(n) qubits, causing polytime quantum verifier Arthur to accept w.p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ll witness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rthur accepts w.p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80880" y="441972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know a reasonable amount about QMA: it’s contained in PP, allows amplification, has natural complete promise problem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28600" y="304920"/>
            <a:ext cx="8686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MA(k)</a:t>
            </a:r>
            <a:br>
              <a:rPr sz="4400"/>
            </a:b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Kobayashi, Matsumoto, Yamakami 2003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80880" y="4343400"/>
            <a:ext cx="5334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cally, this is completely uninteresting: MA(k)=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80880" y="57913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quantumly, a single Merlin could cheat by entangling the k proof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80880" y="1676520"/>
            <a:ext cx="830592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of languages L such that for all inputs x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re exist witness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using Arthur to accept w.p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ll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rthur accepts w.p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30241" t="30233" r="0" b="20155"/>
          <a:stretch/>
        </p:blipFill>
        <p:spPr>
          <a:xfrm>
            <a:off x="4876920" y="4038480"/>
            <a:ext cx="31240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8600" y="30492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o Multiple Quantum Proofs Ever Actually Hel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1905120"/>
            <a:ext cx="56390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Liu, Christandl, Verstraet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atural problem from quantum chemistry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ure state N-representabil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is in QMA(2) but not known to be in Q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0880" y="411480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lier and Tapp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independent of us)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3-COLORING admits a 2-prover QMA protocol with witnesses of size log(n), and 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/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robability of catching cheating pro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80880" y="563868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is work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protocol for 3SAT wit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Õ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um witnesses of size log(n)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und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700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ur Protocol for 3S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0880" y="129528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’ll work not with 3SAT but with “2-out-of-4-SAT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0880" y="4114800"/>
            <a:ext cx="61722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 can get all of this using known classical reductions from 3SAT (including Dinur’s gap amplification procedure), incurring a polylog(n) blowup in the number of variables and clau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259092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need our 2-out-of-4-SAT instance to b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alanc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ach variable occurs in O(1) clauses), as well as a PCP (either satisfiable o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far from satisfia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066680" y="1905120"/>
            <a:ext cx="5639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2 (mod 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1641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380880" y="38088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suppose Arthur has done all this, to obtain a 2-out-of-4-SAT instanc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And suppose Merlin sends him a log(n)-qubit state of the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04920" y="4038480"/>
            <a:ext cx="8305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Arthur can measur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a basis corresponding to the clauses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obtaining the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286000" y="1638360"/>
                <a:ext cx="38098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" name="Text Box 3"/>
          <p:cNvSpPr/>
          <p:nvPr/>
        </p:nvSpPr>
        <p:spPr>
          <a:xfrm>
            <a:off x="304920" y="2971800"/>
            <a:ext cx="8305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claimed satisfying assignment fo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(I.e.,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p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ate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00200" y="4952880"/>
                <a:ext cx="60958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⟩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</m:sSup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⟩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p>
                    <m:r>
                      <m:t xml:space="preserve">|</m:t>
                    </m:r>
                    <m:r>
                      <m:t xml:space="preserve">k</m:t>
                    </m:r>
                    <m:r>
                      <m:t xml:space="preserve">⟩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p>
                    </m:sSup>
                    <m:r>
                      <m:t xml:space="preserve">|</m:t>
                    </m:r>
                    <m:r>
                      <m:t xml:space="preserve">l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ext Box 3"/>
          <p:cNvSpPr/>
          <p:nvPr/>
        </p:nvSpPr>
        <p:spPr>
          <a:xfrm>
            <a:off x="380880" y="5715000"/>
            <a:ext cx="8305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some clause C=(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  A further measurement reveals whether C is satisfied with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probabi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80880" y="380880"/>
            <a:ext cx="8382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w can Arthur force Merlin to send him a proper state?  (E.g., what if Merlin cheats by putting all amplitude on a few computational basis states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80880" y="19051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olu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re Merli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514600" y="1905120"/>
            <a:ext cx="6629400" cy="4722840"/>
            <a:chOff x="2514600" y="1905120"/>
            <a:chExt cx="6629400" cy="4722840"/>
          </a:xfrm>
        </p:grpSpPr>
        <p:sp>
          <p:nvSpPr>
            <p:cNvPr id="96" name="Rectangle 12"/>
            <p:cNvSpPr/>
            <p:nvPr/>
          </p:nvSpPr>
          <p:spPr>
            <a:xfrm>
              <a:off x="7848360" y="3429360"/>
              <a:ext cx="8384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 flipH="1">
              <a:off x="7086600" y="2667240"/>
              <a:ext cx="814320" cy="17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647960" y="5029560"/>
              <a:ext cx="1179720" cy="15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 flipH="1">
              <a:off x="4800600" y="2667240"/>
              <a:ext cx="814320" cy="17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 flipH="1">
              <a:off x="2514600" y="2667240"/>
              <a:ext cx="81432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124080" y="4267440"/>
              <a:ext cx="16002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562000" y="4267440"/>
              <a:ext cx="16002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57800" y="441972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2"/>
            <p:cNvSpPr/>
            <p:nvPr/>
          </p:nvSpPr>
          <p:spPr>
            <a:xfrm>
              <a:off x="5562360" y="3505320"/>
              <a:ext cx="838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2"/>
            <p:cNvSpPr/>
            <p:nvPr/>
          </p:nvSpPr>
          <p:spPr>
            <a:xfrm>
              <a:off x="3276360" y="3505320"/>
              <a:ext cx="838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5218920" y="-266400"/>
              <a:ext cx="457200" cy="57150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49040 h 5715000"/>
                <a:gd name="textAreaBottom" fmla="*/ 5565960 h 57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7619760" y="1905120"/>
              <a:ext cx="990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924680" y="403884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g(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2"/>
            <p:cNvSpPr/>
            <p:nvPr/>
          </p:nvSpPr>
          <p:spPr>
            <a:xfrm>
              <a:off x="5638680" y="411516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g(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3352680" y="411516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g(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0880" y="5257800"/>
                <a:ext cx="36576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8-06-25T15:48:00Z</dcterms:modified>
  <cp:revision>77</cp:revision>
  <dc:subject/>
  <dc:title>The Learnability of Quantum States</dc:title>
</cp:coreProperties>
</file>