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805-49BE-4357-8716-68948CC9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957-8381-4C19-BF59-4572EA3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2E-7434-4800-900E-90EF1EC9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3FA-A1A2-4745-8BCE-6BE28799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442-A32F-4A81-9FA3-E1C545C8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666-3A50-406D-8D38-EC433D04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4B4-C2A5-40B6-8227-B6ACC9F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894-9F5D-46A0-B06F-606BDDD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434-8980-4F9B-B829-72A53B5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C6B-499E-44D5-A776-765A06C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0A9-DE59-430F-9BFB-5295254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991-505E-43A3-8FAA-EAEC25F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1B02-95D4-4020-9EF0-02809795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antum Versus Classical Proofs and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11480" y="4357800"/>
            <a:ext cx="305928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lo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4720" y="5554800"/>
            <a:ext cx="30589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g Kuperber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C Da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5520" y="344484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5120" y="2262960"/>
            <a:ext cx="1909440" cy="1819800"/>
            <a:chOff x="465120" y="2262960"/>
            <a:chExt cx="1909440" cy="1819800"/>
          </a:xfrm>
        </p:grpSpPr>
        <p:sp>
          <p:nvSpPr>
            <p:cNvPr id="46" name=""/>
            <p:cNvSpPr/>
            <p:nvPr/>
          </p:nvSpPr>
          <p:spPr>
            <a:xfrm>
              <a:off x="470520" y="3116520"/>
              <a:ext cx="1901880" cy="966240"/>
            </a:xfrm>
            <a:custGeom>
              <a:avLst/>
              <a:gdLst/>
              <a:ahLst/>
              <a:rect l="l" t="t" r="r" b="b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lnTo>
                    <a:pt x="537" y="69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1760" y="3716640"/>
              <a:ext cx="595800" cy="312480"/>
            </a:xfrm>
            <a:custGeom>
              <a:avLst/>
              <a:gdLst/>
              <a:ahLst/>
              <a:rect l="l" t="t" r="r" b="b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2640" y="3576600"/>
              <a:ext cx="682920" cy="457920"/>
            </a:xfrm>
            <a:custGeom>
              <a:avLst/>
              <a:gdLst/>
              <a:ahLst/>
              <a:rect l="l" t="t" r="r" b="b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lnTo>
                    <a:pt x="89" y="311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5520" y="3194640"/>
              <a:ext cx="345240" cy="742680"/>
            </a:xfrm>
            <a:custGeom>
              <a:avLst/>
              <a:gdLst/>
              <a:ahLst/>
              <a:rect l="l" t="t" r="r" b="b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lnTo>
                    <a:pt x="445" y="83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72960" y="3817440"/>
              <a:ext cx="139320" cy="139680"/>
            </a:xfrm>
            <a:custGeom>
              <a:avLst/>
              <a:gdLst/>
              <a:ahLst/>
              <a:rect l="l" t="t" r="r" b="b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1280" y="3712680"/>
              <a:ext cx="110160" cy="112680"/>
            </a:xfrm>
            <a:custGeom>
              <a:avLst/>
              <a:gdLst/>
              <a:ahLst/>
              <a:rect l="l" t="t" r="r" b="b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9520" y="3864240"/>
              <a:ext cx="93240" cy="8928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8920" y="3887280"/>
              <a:ext cx="114120" cy="10440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8880" y="3722400"/>
              <a:ext cx="155160" cy="143280"/>
            </a:xfrm>
            <a:custGeom>
              <a:avLst/>
              <a:gdLst/>
              <a:ahLst/>
              <a:rect l="l" t="t" r="r" b="b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9760" y="3454200"/>
              <a:ext cx="83160" cy="6984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680" y="3273840"/>
              <a:ext cx="110880" cy="137520"/>
            </a:xfrm>
            <a:custGeom>
              <a:avLst/>
              <a:gdLst/>
              <a:ahLst/>
              <a:rect l="l" t="t" r="r" b="b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23960" y="2948040"/>
              <a:ext cx="661320" cy="609120"/>
            </a:xfrm>
            <a:custGeom>
              <a:avLst/>
              <a:gdLst/>
              <a:ahLst/>
              <a:rect l="l" t="t" r="r" b="b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160" y="2969280"/>
              <a:ext cx="483120" cy="463680"/>
            </a:xfrm>
            <a:custGeom>
              <a:avLst/>
              <a:gdLst/>
              <a:ahLst/>
              <a:rect l="l" t="t" r="r" b="b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lnTo>
                    <a:pt x="548" y="1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9200" y="2266920"/>
              <a:ext cx="1387440" cy="1812240"/>
            </a:xfrm>
            <a:custGeom>
              <a:avLst/>
              <a:gdLst/>
              <a:ahLst/>
              <a:rect l="l" t="t" r="r" b="b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2760" y="3237480"/>
              <a:ext cx="543240" cy="789480"/>
            </a:xfrm>
            <a:custGeom>
              <a:avLst/>
              <a:gdLst/>
              <a:ahLst/>
              <a:rect l="l" t="t" r="r" b="b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lnTo>
                    <a:pt x="0" y="609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14240" y="2577240"/>
              <a:ext cx="267480" cy="366840"/>
            </a:xfrm>
            <a:custGeom>
              <a:avLst/>
              <a:gdLst/>
              <a:ahLst/>
              <a:rect l="l" t="t" r="r" b="b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lnTo>
                    <a:pt x="51" y="328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0640" y="2945880"/>
              <a:ext cx="199800" cy="166680"/>
            </a:xfrm>
            <a:custGeom>
              <a:avLst/>
              <a:gdLst/>
              <a:ahLst/>
              <a:rect l="l" t="t" r="r" b="b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4320" y="3046680"/>
              <a:ext cx="265680" cy="291240"/>
            </a:xfrm>
            <a:custGeom>
              <a:avLst/>
              <a:gdLst/>
              <a:ahLst/>
              <a:rect l="l" t="t" r="r" b="b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4920" y="2697840"/>
              <a:ext cx="413640" cy="583920"/>
            </a:xfrm>
            <a:custGeom>
              <a:avLst/>
              <a:gdLst/>
              <a:ahLst/>
              <a:rect l="l" t="t" r="r" b="b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lnTo>
                    <a:pt x="244" y="197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7560" y="2276280"/>
              <a:ext cx="605160" cy="283320"/>
            </a:xfrm>
            <a:custGeom>
              <a:avLst/>
              <a:gdLst/>
              <a:ahLst/>
              <a:rect l="l" t="t" r="r" b="b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lnTo>
                    <a:pt x="401" y="58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69440" y="2441520"/>
              <a:ext cx="354960" cy="16452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8400" y="2550240"/>
              <a:ext cx="430560" cy="160920"/>
            </a:xfrm>
            <a:custGeom>
              <a:avLst/>
              <a:gdLst/>
              <a:ahLst/>
              <a:rect l="l" t="t" r="r" b="b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lnTo>
                    <a:pt x="585" y="4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4320" y="2371680"/>
              <a:ext cx="407520" cy="19800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5840" y="3371040"/>
              <a:ext cx="285480" cy="269640"/>
            </a:xfrm>
            <a:custGeom>
              <a:avLst/>
              <a:gdLst/>
              <a:ahLst/>
              <a:rect l="l" t="t" r="r" b="b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38880" y="3388680"/>
              <a:ext cx="234720" cy="220680"/>
            </a:xfrm>
            <a:custGeom>
              <a:avLst/>
              <a:gdLst/>
              <a:ahLst/>
              <a:rect l="l" t="t" r="r" b="b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lnTo>
                    <a:pt x="334" y="3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14640" y="3188520"/>
              <a:ext cx="155160" cy="316440"/>
            </a:xfrm>
            <a:custGeom>
              <a:avLst/>
              <a:gdLst/>
              <a:ahLst/>
              <a:rect l="l" t="t" r="r" b="b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lnTo>
                    <a:pt x="189" y="3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6120" y="3111120"/>
              <a:ext cx="533520" cy="579960"/>
            </a:xfrm>
            <a:custGeom>
              <a:avLst/>
              <a:gdLst/>
              <a:ahLst/>
              <a:rect l="l" t="t" r="r" b="b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1480" y="2600280"/>
              <a:ext cx="595800" cy="615240"/>
            </a:xfrm>
            <a:custGeom>
              <a:avLst/>
              <a:gdLst/>
              <a:ahLst/>
              <a:rect l="l" t="t" r="r" b="b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lnTo>
                    <a:pt x="469" y="31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11280" y="2751840"/>
              <a:ext cx="104400" cy="176400"/>
            </a:xfrm>
            <a:custGeom>
              <a:avLst/>
              <a:gdLst/>
              <a:ahLst/>
              <a:rect l="l" t="t" r="r" b="b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lnTo>
                    <a:pt x="7" y="116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2440" y="2874240"/>
              <a:ext cx="207720" cy="149400"/>
            </a:xfrm>
            <a:custGeom>
              <a:avLst/>
              <a:gdLst/>
              <a:ahLst/>
              <a:rect l="l" t="t" r="r" b="b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1480" y="2672280"/>
              <a:ext cx="228600" cy="349200"/>
            </a:xfrm>
            <a:custGeom>
              <a:avLst/>
              <a:gdLst/>
              <a:ahLst/>
              <a:rect l="l" t="t" r="r" b="b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lnTo>
                    <a:pt x="123" y="7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440" y="2514960"/>
              <a:ext cx="549000" cy="242280"/>
            </a:xfrm>
            <a:custGeom>
              <a:avLst/>
              <a:gdLst/>
              <a:ahLst/>
              <a:rect l="l" t="t" r="r" b="b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lnTo>
                    <a:pt x="836" y="43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9960" y="2666520"/>
              <a:ext cx="145440" cy="106920"/>
            </a:xfrm>
            <a:custGeom>
              <a:avLst/>
              <a:gdLst/>
              <a:ahLst/>
              <a:rect l="l" t="t" r="r" b="b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lnTo>
                    <a:pt x="16" y="160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5840" y="2472480"/>
              <a:ext cx="545400" cy="409680"/>
            </a:xfrm>
            <a:custGeom>
              <a:avLst/>
              <a:gdLst/>
              <a:ahLst/>
              <a:rect l="l" t="t" r="r" b="b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4520" y="2678400"/>
              <a:ext cx="79560" cy="220680"/>
            </a:xfrm>
            <a:custGeom>
              <a:avLst/>
              <a:gdLst/>
              <a:ahLst/>
              <a:rect l="l" t="t" r="r" b="b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1800" y="2466720"/>
              <a:ext cx="258120" cy="73440"/>
            </a:xfrm>
            <a:custGeom>
              <a:avLst/>
              <a:gdLst/>
              <a:ahLst/>
              <a:rect l="l" t="t" r="r" b="b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65480" y="2499480"/>
              <a:ext cx="362880" cy="384120"/>
            </a:xfrm>
            <a:custGeom>
              <a:avLst/>
              <a:gdLst/>
              <a:ahLst/>
              <a:rect l="l" t="t" r="r" b="b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79960" y="2658600"/>
              <a:ext cx="97200" cy="112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0240" y="2363760"/>
              <a:ext cx="198000" cy="112680"/>
            </a:xfrm>
            <a:custGeom>
              <a:avLst/>
              <a:gdLst/>
              <a:ahLst/>
              <a:rect l="l" t="t" r="r" b="b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25400" y="2377080"/>
              <a:ext cx="56160" cy="71640"/>
            </a:xfrm>
            <a:custGeom>
              <a:avLst/>
              <a:gdLst/>
              <a:ahLst/>
              <a:rect l="l" t="t" r="r" b="b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47000" y="2388960"/>
              <a:ext cx="151200" cy="118080"/>
            </a:xfrm>
            <a:custGeom>
              <a:avLst/>
              <a:gdLst/>
              <a:ahLst/>
              <a:rect l="l" t="t" r="r" b="b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48800" y="2503440"/>
              <a:ext cx="114120" cy="32760"/>
            </a:xfrm>
            <a:custGeom>
              <a:avLst/>
              <a:gdLst/>
              <a:ahLst/>
              <a:rect l="l" t="t" r="r" b="b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84320" y="2354040"/>
              <a:ext cx="413280" cy="198000"/>
            </a:xfrm>
            <a:custGeom>
              <a:avLst/>
              <a:gdLst/>
              <a:ahLst/>
              <a:rect l="l" t="t" r="r" b="b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2840" y="2499480"/>
              <a:ext cx="81360" cy="2880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4840" y="2466720"/>
              <a:ext cx="114120" cy="1332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5120" y="2378880"/>
              <a:ext cx="164880" cy="209880"/>
            </a:xfrm>
            <a:custGeom>
              <a:avLst/>
              <a:gdLst/>
              <a:ahLst/>
              <a:rect l="l" t="t" r="r" b="b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48240" y="2361960"/>
              <a:ext cx="213120" cy="203760"/>
            </a:xfrm>
            <a:custGeom>
              <a:avLst/>
              <a:gdLst/>
              <a:ahLst/>
              <a:rect l="l" t="t" r="r" b="b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5600" y="2381040"/>
              <a:ext cx="180360" cy="18612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7160" y="2571480"/>
              <a:ext cx="23040" cy="71640"/>
            </a:xfrm>
            <a:custGeom>
              <a:avLst/>
              <a:gdLst/>
              <a:ahLst/>
              <a:rect l="l" t="t" r="r" b="b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800" y="2295720"/>
              <a:ext cx="354960" cy="352800"/>
            </a:xfrm>
            <a:custGeom>
              <a:avLst/>
              <a:gdLst/>
              <a:ahLst/>
              <a:rect l="l" t="t" r="r" b="b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lnTo>
                    <a:pt x="0" y="546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7880" y="2262960"/>
              <a:ext cx="360720" cy="182160"/>
            </a:xfrm>
            <a:custGeom>
              <a:avLst/>
              <a:gdLst/>
              <a:ahLst/>
              <a:rect l="l" t="t" r="r" b="b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600" y="2608200"/>
              <a:ext cx="122040" cy="345240"/>
            </a:xfrm>
            <a:custGeom>
              <a:avLst/>
              <a:gdLst/>
              <a:ahLst/>
              <a:rect l="l" t="t" r="r" b="b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160" y="2579400"/>
              <a:ext cx="126000" cy="411480"/>
            </a:xfrm>
            <a:custGeom>
              <a:avLst/>
              <a:gdLst/>
              <a:ahLst/>
              <a:rect l="l" t="t" r="r" b="b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24760" y="2666520"/>
              <a:ext cx="199800" cy="283320"/>
            </a:xfrm>
            <a:custGeom>
              <a:avLst/>
              <a:gdLst/>
              <a:ahLst/>
              <a:rect l="l" t="t" r="r" b="b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3760" y="2876040"/>
              <a:ext cx="56160" cy="9324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55560" y="2932200"/>
              <a:ext cx="137880" cy="15840"/>
            </a:xfrm>
            <a:custGeom>
              <a:avLst/>
              <a:gdLst/>
              <a:ahLst/>
              <a:rect l="l" t="t" r="r" b="b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8960" y="2949840"/>
              <a:ext cx="180360" cy="4068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4000" y="2975040"/>
              <a:ext cx="83520" cy="4248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6760" y="2849040"/>
              <a:ext cx="409680" cy="323640"/>
            </a:xfrm>
            <a:custGeom>
              <a:avLst/>
              <a:gdLst/>
              <a:ahLst/>
              <a:rect l="l" t="t" r="r" b="b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3040" y="2716920"/>
              <a:ext cx="114120" cy="210960"/>
            </a:xfrm>
            <a:custGeom>
              <a:avLst/>
              <a:gdLst/>
              <a:ahLst/>
              <a:rect l="l" t="t" r="r" b="b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7520" y="2837160"/>
              <a:ext cx="118080" cy="362880"/>
            </a:xfrm>
            <a:custGeom>
              <a:avLst/>
              <a:gdLst/>
              <a:ahLst/>
              <a:rect l="l" t="t" r="r" b="b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640" y="2769480"/>
              <a:ext cx="279360" cy="457920"/>
            </a:xfrm>
            <a:custGeom>
              <a:avLst/>
              <a:gdLst/>
              <a:ahLst/>
              <a:rect l="l" t="t" r="r" b="b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lnTo>
                    <a:pt x="434" y="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080" y="2699280"/>
              <a:ext cx="447840" cy="871200"/>
            </a:xfrm>
            <a:custGeom>
              <a:avLst/>
              <a:gdLst/>
              <a:ahLst/>
              <a:rect l="l" t="t" r="r" b="b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440" y="3221280"/>
              <a:ext cx="228600" cy="370800"/>
            </a:xfrm>
            <a:custGeom>
              <a:avLst/>
              <a:gdLst/>
              <a:ahLst/>
              <a:rect l="l" t="t" r="r" b="b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920" y="2982960"/>
              <a:ext cx="228600" cy="438840"/>
            </a:xfrm>
            <a:custGeom>
              <a:avLst/>
              <a:gdLst/>
              <a:ahLst/>
              <a:rect l="l" t="t" r="r" b="b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lnTo>
                    <a:pt x="295" y="2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720" y="3441240"/>
              <a:ext cx="40680" cy="95040"/>
            </a:xfrm>
            <a:custGeom>
              <a:avLst/>
              <a:gdLst/>
              <a:ahLst/>
              <a:rect l="l" t="t" r="r" b="b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9720" y="3316680"/>
              <a:ext cx="203760" cy="248400"/>
            </a:xfrm>
            <a:custGeom>
              <a:avLst/>
              <a:gdLst/>
              <a:ahLst/>
              <a:rect l="l" t="t" r="r" b="b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080" y="3266280"/>
              <a:ext cx="125640" cy="151200"/>
            </a:xfrm>
            <a:custGeom>
              <a:avLst/>
              <a:gdLst/>
              <a:ahLst/>
              <a:rect l="l" t="t" r="r" b="b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00" y="3538080"/>
              <a:ext cx="228600" cy="16884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4400" y="3603960"/>
              <a:ext cx="211680" cy="122040"/>
            </a:xfrm>
            <a:custGeom>
              <a:avLst/>
              <a:gdLst/>
              <a:ahLst/>
              <a:rect l="l" t="t" r="r" b="b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10160" y="3508920"/>
              <a:ext cx="38520" cy="333360"/>
            </a:xfrm>
            <a:custGeom>
              <a:avLst/>
              <a:gdLst/>
              <a:ahLst/>
              <a:rect l="l" t="t" r="r" b="b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2360" y="3580560"/>
              <a:ext cx="38520" cy="13356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2600" y="2821680"/>
              <a:ext cx="121680" cy="425160"/>
            </a:xfrm>
            <a:custGeom>
              <a:avLst/>
              <a:gdLst/>
              <a:ahLst/>
              <a:rect l="l" t="t" r="r" b="b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82160" y="3012120"/>
              <a:ext cx="200160" cy="15120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8960" y="3303360"/>
              <a:ext cx="72000" cy="236160"/>
            </a:xfrm>
            <a:custGeom>
              <a:avLst/>
              <a:gdLst/>
              <a:ahLst/>
              <a:rect l="l" t="t" r="r" b="b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lnTo>
                    <a:pt x="18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7560" y="3017520"/>
              <a:ext cx="201240" cy="522000"/>
            </a:xfrm>
            <a:custGeom>
              <a:avLst/>
              <a:gdLst/>
              <a:ahLst/>
              <a:rect l="l" t="t" r="r" b="b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3250440"/>
              <a:ext cx="174600" cy="293040"/>
            </a:xfrm>
            <a:custGeom>
              <a:avLst/>
              <a:gdLst/>
              <a:ahLst/>
              <a:rect l="l" t="t" r="r" b="b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6400" y="3318840"/>
              <a:ext cx="38520" cy="125640"/>
            </a:xfrm>
            <a:custGeom>
              <a:avLst/>
              <a:gdLst/>
              <a:ahLst/>
              <a:rect l="l" t="t" r="r" b="b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7080" y="3151800"/>
              <a:ext cx="265680" cy="315720"/>
            </a:xfrm>
            <a:custGeom>
              <a:avLst/>
              <a:gdLst/>
              <a:ahLst/>
              <a:rect l="l" t="t" r="r" b="b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lnTo>
                    <a:pt x="411" y="13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9360" y="3404160"/>
              <a:ext cx="118080" cy="11412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6480" y="3477600"/>
              <a:ext cx="500760" cy="368640"/>
            </a:xfrm>
            <a:custGeom>
              <a:avLst/>
              <a:gdLst/>
              <a:ahLst/>
              <a:rect l="l" t="t" r="r" b="b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lnTo>
                    <a:pt x="5" y="56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5120" y="3720600"/>
              <a:ext cx="81360" cy="298800"/>
            </a:xfrm>
            <a:custGeom>
              <a:avLst/>
              <a:gdLst/>
              <a:ahLst/>
              <a:rect l="l" t="t" r="r" b="b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360" y="3479760"/>
              <a:ext cx="217080" cy="508320"/>
            </a:xfrm>
            <a:custGeom>
              <a:avLst/>
              <a:gdLst/>
              <a:ahLst/>
              <a:rect l="l" t="t" r="r" b="b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1720" y="3192480"/>
              <a:ext cx="378360" cy="477360"/>
            </a:xfrm>
            <a:custGeom>
              <a:avLst/>
              <a:gdLst/>
              <a:ahLst/>
              <a:rect l="l" t="t" r="r" b="b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4240" y="3346200"/>
              <a:ext cx="44280" cy="22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8400" y="3291480"/>
              <a:ext cx="52560" cy="2484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8960" y="3234960"/>
              <a:ext cx="87480" cy="4068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0760" y="3161520"/>
              <a:ext cx="255960" cy="234360"/>
            </a:xfrm>
            <a:custGeom>
              <a:avLst/>
              <a:gdLst/>
              <a:ahLst/>
              <a:rect l="l" t="t" r="r" b="b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0080" y="3277800"/>
              <a:ext cx="34920" cy="170640"/>
            </a:xfrm>
            <a:custGeom>
              <a:avLst/>
              <a:gdLst/>
              <a:ahLst/>
              <a:rect l="l" t="t" r="r" b="b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1440" y="3607920"/>
              <a:ext cx="141480" cy="210960"/>
            </a:xfrm>
            <a:custGeom>
              <a:avLst/>
              <a:gdLst/>
              <a:ahLst/>
              <a:rect l="l" t="t" r="r" b="b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41280" y="3641040"/>
              <a:ext cx="246240" cy="392040"/>
            </a:xfrm>
            <a:custGeom>
              <a:avLst/>
              <a:gdLst/>
              <a:ahLst/>
              <a:rect l="l" t="t" r="r" b="b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50000" y="3716640"/>
              <a:ext cx="108360" cy="267480"/>
            </a:xfrm>
            <a:custGeom>
              <a:avLst/>
              <a:gdLst/>
              <a:ahLst/>
              <a:rect l="l" t="t" r="r" b="b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81320" y="3720600"/>
              <a:ext cx="162720" cy="358560"/>
            </a:xfrm>
            <a:custGeom>
              <a:avLst/>
              <a:gdLst/>
              <a:ahLst/>
              <a:rect l="l" t="t" r="r" b="b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56920" y="3668400"/>
              <a:ext cx="119880" cy="385920"/>
            </a:xfrm>
            <a:custGeom>
              <a:avLst/>
              <a:gdLst/>
              <a:ahLst/>
              <a:rect l="l" t="t" r="r" b="b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960" y="3635280"/>
              <a:ext cx="54360" cy="273240"/>
            </a:xfrm>
            <a:custGeom>
              <a:avLst/>
              <a:gdLst/>
              <a:ahLst/>
              <a:rect l="l" t="t" r="r" b="b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15240" y="3642840"/>
              <a:ext cx="104400" cy="357120"/>
            </a:xfrm>
            <a:custGeom>
              <a:avLst/>
              <a:gdLst/>
              <a:ahLst/>
              <a:rect l="l" t="t" r="r" b="b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20000" y="4015440"/>
              <a:ext cx="23040" cy="522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0000" y="3722400"/>
              <a:ext cx="106200" cy="335520"/>
            </a:xfrm>
            <a:custGeom>
              <a:avLst/>
              <a:gdLst/>
              <a:ahLst/>
              <a:rect l="l" t="t" r="r" b="b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lnTo>
                    <a:pt x="61" y="519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37280" y="3510720"/>
              <a:ext cx="38520" cy="118080"/>
            </a:xfrm>
            <a:custGeom>
              <a:avLst/>
              <a:gdLst/>
              <a:ahLst/>
              <a:rect l="l" t="t" r="r" b="b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0960" y="3479760"/>
              <a:ext cx="59760" cy="178200"/>
            </a:xfrm>
            <a:custGeom>
              <a:avLst/>
              <a:gdLst/>
              <a:ahLst/>
              <a:rect l="l" t="t" r="r" b="b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58520" y="3431520"/>
              <a:ext cx="73800" cy="216720"/>
            </a:xfrm>
            <a:custGeom>
              <a:avLst/>
              <a:gdLst/>
              <a:ahLst/>
              <a:rect l="l" t="t" r="r" b="b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87680" y="3425400"/>
              <a:ext cx="341280" cy="477360"/>
            </a:xfrm>
            <a:custGeom>
              <a:avLst/>
              <a:gdLst/>
              <a:ahLst/>
              <a:rect l="l" t="t" r="r" b="b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440" y="3390480"/>
              <a:ext cx="263880" cy="174600"/>
            </a:xfrm>
            <a:custGeom>
              <a:avLst/>
              <a:gdLst/>
              <a:ahLst/>
              <a:rect l="l" t="t" r="r" b="b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17000" y="3365280"/>
              <a:ext cx="457560" cy="542880"/>
            </a:xfrm>
            <a:custGeom>
              <a:avLst/>
              <a:gdLst/>
              <a:ahLst/>
              <a:rect l="l" t="t" r="r" b="b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lnTo>
                    <a:pt x="257" y="4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1040" y="3229560"/>
              <a:ext cx="129600" cy="25776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lnTo>
                    <a:pt x="1" y="370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7640" y="3562920"/>
              <a:ext cx="28800" cy="180720"/>
            </a:xfrm>
            <a:custGeom>
              <a:avLst/>
              <a:gdLst/>
              <a:ahLst/>
              <a:rect l="l" t="t" r="r" b="b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2400" y="3173040"/>
              <a:ext cx="156960" cy="250200"/>
            </a:xfrm>
            <a:custGeom>
              <a:avLst/>
              <a:gdLst/>
              <a:ahLst/>
              <a:rect l="l" t="t" r="r" b="b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85880" y="3332520"/>
              <a:ext cx="323640" cy="162720"/>
            </a:xfrm>
            <a:custGeom>
              <a:avLst/>
              <a:gdLst/>
              <a:ahLst/>
              <a:rect l="l" t="t" r="r" b="b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22560" y="3016080"/>
              <a:ext cx="112320" cy="156960"/>
            </a:xfrm>
            <a:custGeom>
              <a:avLst/>
              <a:gdLst/>
              <a:ahLst/>
              <a:rect l="l" t="t" r="r" b="b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5120" y="2941920"/>
              <a:ext cx="655920" cy="582120"/>
            </a:xfrm>
            <a:custGeom>
              <a:avLst/>
              <a:gdLst/>
              <a:ahLst/>
              <a:rect l="l" t="t" r="r" b="b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lnTo>
                    <a:pt x="993" y="383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4760" y="3044880"/>
              <a:ext cx="116280" cy="123840"/>
            </a:xfrm>
            <a:custGeom>
              <a:avLst/>
              <a:gdLst/>
              <a:ahLst/>
              <a:rect l="l" t="t" r="r" b="b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lnTo>
                    <a:pt x="163" y="7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36640" y="3161520"/>
              <a:ext cx="30600" cy="54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4960" y="3879360"/>
              <a:ext cx="129600" cy="12780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2320" y="3883320"/>
              <a:ext cx="44280" cy="2700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160" y="3714480"/>
              <a:ext cx="174600" cy="167040"/>
            </a:xfrm>
            <a:custGeom>
              <a:avLst/>
              <a:gdLst/>
              <a:ahLst/>
              <a:rect l="l" t="t" r="r" b="b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" y="3714480"/>
              <a:ext cx="11880" cy="5220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5840" y="3852360"/>
              <a:ext cx="118080" cy="11088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lnTo>
                    <a:pt x="97" y="1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0280" y="3852360"/>
              <a:ext cx="17280" cy="3276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3640" y="3444480"/>
              <a:ext cx="95040" cy="81720"/>
            </a:xfrm>
            <a:custGeom>
              <a:avLst/>
              <a:gdLst/>
              <a:ahLst/>
              <a:rect l="l" t="t" r="r" b="b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8280" y="3460320"/>
              <a:ext cx="50040" cy="1332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9960" y="3524400"/>
              <a:ext cx="83520" cy="30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57320" y="3701160"/>
              <a:ext cx="122040" cy="129600"/>
            </a:xfrm>
            <a:custGeom>
              <a:avLst/>
              <a:gdLst/>
              <a:ahLst/>
              <a:rect l="l" t="t" r="r" b="b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09880" y="3701160"/>
              <a:ext cx="21240" cy="3456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57120" y="3809520"/>
              <a:ext cx="163080" cy="157320"/>
            </a:xfrm>
            <a:custGeom>
              <a:avLst/>
              <a:gdLst/>
              <a:ahLst/>
              <a:rect l="l" t="t" r="r" b="b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lnTo>
                    <a:pt x="168" y="1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4040" y="3809520"/>
              <a:ext cx="11160" cy="64080"/>
            </a:xfrm>
            <a:custGeom>
              <a:avLst/>
              <a:gdLst/>
              <a:ahLst/>
              <a:rect l="l" t="t" r="r" b="b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rcRect l="0" t="0" r="0" b="62524"/>
          <a:stretch/>
        </p:blipFill>
        <p:spPr>
          <a:xfrm>
            <a:off x="6703920" y="2317680"/>
            <a:ext cx="1592280" cy="1892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68840" y="2203560"/>
            <a:ext cx="154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CA" sz="6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666880" y="2058840"/>
            <a:ext cx="3533760" cy="1204920"/>
            <a:chOff x="2666880" y="2058840"/>
            <a:chExt cx="3533760" cy="1204920"/>
          </a:xfrm>
        </p:grpSpPr>
        <p:sp>
          <p:nvSpPr>
            <p:cNvPr id="174" name=""/>
            <p:cNvSpPr/>
            <p:nvPr/>
          </p:nvSpPr>
          <p:spPr>
            <a:xfrm>
              <a:off x="2666880" y="2058840"/>
              <a:ext cx="353376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9040" y="2421000"/>
              <a:ext cx="2330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CA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CA" sz="4500" spc="-1" strike="noStrike">
                  <a:solidFill>
                    <a:srgbClr val="000000"/>
                  </a:solidFill>
                  <a:latin typeface="Arial"/>
                </a:rPr>
                <a:t>{0,1}</a:t>
              </a:r>
              <a:r>
                <a:rPr b="0" lang="en-CA" sz="45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049400">
            <a:off x="8052840" y="216540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7960" y="1168560"/>
            <a:ext cx="838548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we’re given oracle access to an n-qubit unitary U, and want to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=I is the identity operator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secret “marked state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even if we’re given an m-bit classical witness in support of case (ii), we st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986200" y="4533840"/>
                <a:ext cx="2049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54160" y="599292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to U to verify the w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72040" y="4776840"/>
            <a:ext cx="2854440" cy="173988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oof uses BBBV hybrid arg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697040" y="2257560"/>
            <a:ext cx="5243400" cy="3060720"/>
            <a:chOff x="1697040" y="2257560"/>
            <a:chExt cx="5243400" cy="3060720"/>
          </a:xfrm>
        </p:grpSpPr>
        <p:sp>
          <p:nvSpPr>
            <p:cNvPr id="244" name=""/>
            <p:cNvSpPr/>
            <p:nvPr/>
          </p:nvSpPr>
          <p:spPr>
            <a:xfrm>
              <a:off x="1697040" y="2257560"/>
              <a:ext cx="5243400" cy="306072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51120" y="2577960"/>
              <a:ext cx="49100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antum oracles relative to which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QMA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QCMA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BQ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/qpol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BQ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/pol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now follow by standard argumen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800" y="1095480"/>
            <a:ext cx="80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can find an n-qubit “marked state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n m-bit classical hint, together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most-Matching Upper Boun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57480" y="2068560"/>
                <a:ext cx="2038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92040" y="3508200"/>
            <a:ext cx="8385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to the quantum oracle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(Provided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520" y="4327560"/>
            <a:ext cx="480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“mesh”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tells Arthur the state closest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thur then uses as a starting point for Grover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789520" y="4238640"/>
            <a:ext cx="2273400" cy="2273400"/>
            <a:chOff x="5789520" y="4238640"/>
            <a:chExt cx="2273400" cy="227340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5789520" y="4238640"/>
              <a:ext cx="2273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4920" y="47768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8120" y="5435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11920" y="48038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69160" y="5553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0360" y="6022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10400" y="6211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2400" y="5599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15280" y="502272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4920" y="53420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34040" y="5913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07080" y="44067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68880" y="48196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5014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ut What About A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Oracle Separation Between QMA and QCMA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80" y="1884240"/>
            <a:ext cx="83599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’ve had essentially one candidate problem for this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roup Non-Membershi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Bab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oup G, a subgroup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, and an elemen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,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ere G and H are specified as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black-box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99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very x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 is labeled by a meaningless string s(x), and we’re given an oracle that maps s(x) and s(y) to s(xy) and s(x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800" y="1538280"/>
            <a:ext cx="83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rous (2000) showed how to solve GNM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ing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17880" y="2281320"/>
                <a:ext cx="2774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28760" y="347328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w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7840" y="420840"/>
            <a:ext cx="838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Non-Membership (as an oracle problem) is known to be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outsid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6840" y="4276800"/>
            <a:ext cx="8523000" cy="21333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r 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hur can verify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lynomial-size 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ness from Merlin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ynomially many quantum queries to the group ora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(but possibly an exponential amount of comput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179640" y="-1184760"/>
            <a:ext cx="9808200" cy="9292680"/>
            <a:chOff x="-179640" y="-1184760"/>
            <a:chExt cx="9808200" cy="9292680"/>
          </a:xfrm>
        </p:grpSpPr>
        <p:sp>
          <p:nvSpPr>
            <p:cNvPr id="273" name=""/>
            <p:cNvSpPr/>
            <p:nvPr/>
          </p:nvSpPr>
          <p:spPr>
            <a:xfrm rot="1276800">
              <a:off x="809280" y="0"/>
              <a:ext cx="7829640" cy="6923160"/>
            </a:xfrm>
            <a:prstGeom prst="irregularSeal2">
              <a:avLst/>
            </a:prstGeom>
            <a:solidFill>
              <a:srgbClr val="eaf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4040" y="2373480"/>
              <a:ext cx="44053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onclus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he Group Non-Membership problem cannot, alas, lead to an oracle separation between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QM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QCM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77920" y="46044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Pull the group out of the black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86280" y="1593720"/>
            <a:ext cx="3015000" cy="30146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1200" y="1955880"/>
            <a:ext cx="2946600" cy="2724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37200" y="2705040"/>
            <a:ext cx="1738440" cy="1608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63760" y="2668680"/>
            <a:ext cx="2295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5680" y="48070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xplici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86900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lack-box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0240" y="2816280"/>
            <a:ext cx="222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morphism claimed by M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09400" y="4202280"/>
            <a:ext cx="2295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72880" y="349200"/>
            <a:ext cx="86281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gives Arthur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gether with a claimed isomorphism f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defined by its action on gener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 checks that f is a homomorphism using the BCLR t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hecks that f is one-to-one by solving an instance of the Hidden Subgroup Probl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f is one-to-one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kernel of f is triv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ttinger-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er-Kn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dden Subgroup Problem has polynomial quantum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we’ve replaced G by an explicit group, no more queries to the group oracle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9760" y="1463760"/>
            <a:ext cx="89042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pro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separation betwee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gger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prove a quantum oracle separation, can we also prove a classic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roup Non-Membership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I.e. is the computational complexity polynomial,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 addition to the query complexit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quantum oracle separation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524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6080" y="557280"/>
            <a:ext cx="85467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“quantum proofs” let us verify certain theorems exponentially faster than classical proo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9900"/>
                </a:solidFill>
                <a:latin typeface="Arial"/>
              </a:rPr>
              <a:t>Yes (we thin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to argue for the power of quantum proofs, we’ll have to introduce a new kind of evidence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“Quantum Oracle Separ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It’s not just that we failed to find the old kind of evidence—we can tell you exactly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wh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e fai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7000" y="969840"/>
            <a:ext cx="8578800" cy="1708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Merlin-Arthur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problems for which a “yes” answer can be verified in quantum polynomial-time, with help from a polynomial-size quantum witness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ch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nger’s Zoo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790720"/>
            <a:ext cx="8553240" cy="916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Classical Merlin-Arthur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, except now the witness has to be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4621320"/>
            <a:ext cx="8589960" cy="136728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QP/qpo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problems solvable in quantum polynomial time, with help from a “quantum advice state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00" y="6040440"/>
            <a:ext cx="8604000" cy="520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QP/po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, except now advice has to be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00" y="3865680"/>
            <a:ext cx="860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losely related to quantum proofs is quantum </a:t>
            </a:r>
            <a:r>
              <a:rPr b="0" i="1" lang="en-CA" sz="27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18000" y="2522520"/>
            <a:ext cx="2835360" cy="2855880"/>
          </a:xfrm>
          <a:prstGeom prst="ellipse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2160" y="2762280"/>
            <a:ext cx="2201760" cy="2500200"/>
          </a:xfrm>
          <a:prstGeom prst="ellipse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7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321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QC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025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Q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321080"/>
            <a:ext cx="24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32480" y="30258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/q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180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663480"/>
            <a:ext cx="19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57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57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93092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49309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05320" y="119664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504960" y="4930920"/>
            <a:ext cx="5331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943240" y="49309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3634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76720" y="3558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16320" y="233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105520" y="1273320"/>
            <a:ext cx="7617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0280" y="262080"/>
            <a:ext cx="235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9900"/>
                </a:solidFill>
                <a:latin typeface="Arial"/>
              </a:rPr>
              <a:t>Surely it should at least be easy to separate these classes by orac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23120" y="730080"/>
            <a:ext cx="2351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5000" spc="-1" strike="noStrike">
                <a:solidFill>
                  <a:srgbClr val="009900"/>
                </a:solidFill>
                <a:latin typeface="Arial"/>
              </a:rPr>
              <a:t>Dream o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36760" y="2876400"/>
            <a:ext cx="728640" cy="857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3760" y="2355840"/>
            <a:ext cx="2184480" cy="7095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3920" y="1149480"/>
            <a:ext cx="86407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re exist “quantum oracles” U and V such that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BQP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/qpol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BQP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/po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Quantum orac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 sequence of unitary transformations {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} that a quantum algorithm can apply in a black-box fash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Models subroutines that take quantum input and 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produce quantum out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kind of evidence that two complexity classes are 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a has already found other applications in quantum computing [A07] [MS07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This Talk: </a:t>
            </a:r>
            <a:r>
              <a:rPr b="1" i="1" lang="en-US" sz="3700" spc="-1" strike="noStrike">
                <a:solidFill>
                  <a:srgbClr val="333399"/>
                </a:solidFill>
                <a:latin typeface="Arial"/>
              </a:rPr>
              <a:t>Quantum</a:t>
            </a: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 Oracle Separations</a:t>
            </a:r>
            <a:endParaRPr b="1" lang="en-US" sz="37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800" y="1239840"/>
            <a:ext cx="846000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unitary that map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e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oracle access to U,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Y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=I is the identit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this problem is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The witness: |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 is not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Oracle Problem We’ll Us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524400" y="1803240"/>
            <a:ext cx="45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t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1720" y="299880"/>
            <a:ext cx="694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nderlying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uch does 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it classical hint help in searching for an unknow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mensional unit v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1520" y="2705040"/>
            <a:ext cx="8313840" cy="3759120"/>
            <a:chOff x="371520" y="2705040"/>
            <a:chExt cx="8313840" cy="3759120"/>
          </a:xfrm>
        </p:grpSpPr>
        <p:grpSp>
          <p:nvGrpSpPr>
            <p:cNvPr id="215" name=""/>
            <p:cNvGrpSpPr/>
            <p:nvPr/>
          </p:nvGrpSpPr>
          <p:grpSpPr>
            <a:xfrm>
              <a:off x="1104840" y="3295800"/>
              <a:ext cx="3168720" cy="3168360"/>
              <a:chOff x="1104840" y="3295800"/>
              <a:chExt cx="3168720" cy="316836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4840" y="3295800"/>
                <a:ext cx="3168720" cy="31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V="1">
                <a:off x="1589040" y="5275080"/>
                <a:ext cx="934920" cy="72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2511000" y="5283000"/>
                <a:ext cx="560520" cy="33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925720" y="5594040"/>
                <a:ext cx="14436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160" y="4740120"/>
                <a:ext cx="1307880" cy="54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053880" y="5290920"/>
                <a:ext cx="1187640" cy="33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8840" y="4269960"/>
                <a:ext cx="72864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93960" y="4296960"/>
                <a:ext cx="1163520" cy="10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57280" y="3362040"/>
                <a:ext cx="438120" cy="9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187800" y="3820680"/>
                <a:ext cx="72864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940280" y="3797280"/>
                  <a:ext cx="11034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5861160" y="4235400"/>
              <a:ext cx="282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vice region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677760" y="4487760"/>
              <a:ext cx="128916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520" y="2705040"/>
              <a:ext cx="484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dimensional unit sp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800" y="1704960"/>
            <a:ext cx="83854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probability measure over N-dimensional unit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-un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an be obtained by starting from the uniform measure, and then conditioning on an event that occur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-uniform, then for every fixed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 prove the intuition, we need a geometric lemma…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87600" y="5145120"/>
                <a:ext cx="57848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∈</m:t>
                        </m:r>
                        <m:r>
                          <m:t xml:space="preserve">μ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ψ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ϕ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52440" y="627120"/>
            <a:ext cx="838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st you can do is let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the uniform measure over the fraction p of states that are closest to |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5920" y="3770280"/>
            <a:ext cx="2455920" cy="238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59160" y="3294000"/>
            <a:ext cx="59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52920" y="3623760"/>
            <a:ext cx="1440" cy="3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75200" y="2862360"/>
            <a:ext cx="9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6-14T20:44:28Z</dcterms:modified>
  <cp:revision>192</cp:revision>
  <dc:subject/>
  <dc:title>Slide 1</dc:title>
</cp:coreProperties>
</file>