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DEB3-2F82-4394-928D-D35A440E9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531A-7D12-4065-A97D-0EBE7D4E87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F1F-CE1B-46DA-8CFE-3D5A101659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E605-139D-414C-B513-F3933C8DBF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C400-69F1-4253-93E1-7900445B76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CCCE-FC9B-467C-94B3-52C4178F2D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206B-AD9B-4C44-B6E0-4AFF723133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E345-2A9D-40DA-9D0E-DD1DEE4B2C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F749-0987-407E-B6E6-B359FB3C0F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BE68-CFC2-4751-BBC9-DFA1691A38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780B-8187-4943-AC86-CF0B87E42D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C60B-B0A8-42DD-9A43-2C1F2378ED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E08D-3478-4347-A84B-9E66FFD069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EAB1-E0C4-47D2-93E4-3AE80C5087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3C96-6004-484B-93AD-C9D9733049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FE5E-AC57-40D9-ACDA-EA54A0126E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261E-97C0-482D-A627-7B1B2FCEE7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6347-FB35-4702-A792-A4CF49349D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3677-CF63-40B6-ADBA-899C4BB437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89EF-C16D-4591-AB92-DEEE69651D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9BB7-E5EB-4077-931C-3AE7BBECCA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3469-E2D9-49C9-A237-3F64F41BED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AA5A-2167-4160-820F-EFA5742E7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0B68-5C51-4159-9B7D-72EF8853E9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8763-B6B4-458D-B20C-8133C67308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7982-D9CC-4E9C-BA1C-E2889553F5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673-E057-4259-AA79-FC4B8AA1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AF4-20DD-41F7-A84E-50FB14F9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7EC-9F27-4E44-B3BE-D02B2CA8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81C-984F-45E6-B669-091BEB61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49D-50C6-4F77-B680-87B83EA9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773-255C-4815-94A7-CD9E4CF4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313-2692-414A-85D8-4868CEC7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7BC-9F13-49BA-96DE-AF1647AB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C8A-849D-4C14-AC33-AF7F9CF1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0C0-46C0-426D-9D20-1C543A3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1C4-F5C2-462D-A5A4-2143EB2F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3B0-235A-49D1-80A4-EA14D8F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A0FA-AB89-4979-9598-9FC4381C1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Private-Key Quantum Money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3"/>
          <p:cNvSpPr/>
          <p:nvPr/>
        </p:nvSpPr>
        <p:spPr>
          <a:xfrm flipV="1">
            <a:off x="4010040" y="1917360"/>
            <a:ext cx="1552680" cy="3141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4" descr="MCDD01775_0000[1]"/>
          <p:cNvPicPr/>
          <p:nvPr/>
        </p:nvPicPr>
        <p:blipFill>
          <a:blip r:embed="rId1"/>
          <a:stretch/>
        </p:blipFill>
        <p:spPr>
          <a:xfrm>
            <a:off x="3505320" y="2209680"/>
            <a:ext cx="2284200" cy="228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rcRect l="0" t="0" r="45581" b="49487"/>
          <a:stretch/>
        </p:blipFill>
        <p:spPr>
          <a:xfrm>
            <a:off x="3657600" y="2514600"/>
            <a:ext cx="196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560520" y="285840"/>
            <a:ext cx="8327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  <a:ea typeface="Arial"/>
              </a:rPr>
              <a:t>Goal of This Talk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Use our new understanding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ublic-ke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quantum money, to go back and solve open problems about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ivate-ke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quantum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98440" y="1901880"/>
            <a:ext cx="85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Open problems?  About private-key quantum mone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98440" y="2543040"/>
            <a:ext cx="85899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re the Wiesner and BBBW schemes really sec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oes every private-key money scheme requir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ith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 giant database, 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 computational assump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“interactive attack problem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9"/>
          <p:cNvGrpSpPr/>
          <p:nvPr/>
        </p:nvGrpSpPr>
        <p:grpSpPr>
          <a:xfrm>
            <a:off x="2057400" y="4713120"/>
            <a:ext cx="4876920" cy="2133720"/>
            <a:chOff x="2057400" y="4713120"/>
            <a:chExt cx="4876920" cy="2133720"/>
          </a:xfrm>
        </p:grpSpPr>
        <p:pic>
          <p:nvPicPr>
            <p:cNvPr id="148" name="Picture 2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2057400" y="4713120"/>
              <a:ext cx="4876920" cy="213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9" name="Straight Arrow Connector 25"/>
            <p:cNvCxnSpPr/>
            <p:nvPr/>
          </p:nvCxnSpPr>
          <p:spPr>
            <a:xfrm flipV="1">
              <a:off x="3581280" y="52812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0" name="Straight Arrow Connector 26"/>
            <p:cNvCxnSpPr/>
            <p:nvPr/>
          </p:nvCxnSpPr>
          <p:spPr>
            <a:xfrm flipH="1" flipV="1">
              <a:off x="4266720" y="52812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1" name="Straight Arrow Connector 27"/>
            <p:cNvCxnSpPr/>
            <p:nvPr/>
          </p:nvCxnSpPr>
          <p:spPr>
            <a:xfrm flipH="1" flipV="1">
              <a:off x="4876560" y="521028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2" name="Straight Arrow Connector 28"/>
            <p:cNvCxnSpPr/>
            <p:nvPr/>
          </p:nvCxnSpPr>
          <p:spPr>
            <a:xfrm flipV="1">
              <a:off x="5715000" y="513900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3" name="Straight Arrow Connector 29"/>
            <p:cNvCxnSpPr/>
            <p:nvPr/>
          </p:nvCxnSpPr>
          <p:spPr>
            <a:xfrm>
              <a:off x="6019560" y="54954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4" name="Straight Arrow Connector 30"/>
            <p:cNvCxnSpPr/>
            <p:nvPr/>
          </p:nvCxnSpPr>
          <p:spPr>
            <a:xfrm>
              <a:off x="3504960" y="606456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5" name="Straight Arrow Connector 31"/>
            <p:cNvCxnSpPr/>
            <p:nvPr/>
          </p:nvCxnSpPr>
          <p:spPr>
            <a:xfrm flipV="1">
              <a:off x="4496040" y="577944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6" name="Straight Arrow Connector 32"/>
            <p:cNvCxnSpPr/>
            <p:nvPr/>
          </p:nvCxnSpPr>
          <p:spPr>
            <a:xfrm flipV="1">
              <a:off x="5181840" y="577944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7" name="Straight Arrow Connector 33"/>
            <p:cNvCxnSpPr/>
            <p:nvPr/>
          </p:nvCxnSpPr>
          <p:spPr>
            <a:xfrm>
              <a:off x="5486040" y="606456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8" name="Straight Arrow Connector 34"/>
            <p:cNvCxnSpPr/>
            <p:nvPr/>
          </p:nvCxnSpPr>
          <p:spPr>
            <a:xfrm flipH="1" flipV="1">
              <a:off x="6095880" y="5850720"/>
              <a:ext cx="457920" cy="3564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9" name="Straight Arrow Connector 35"/>
            <p:cNvCxnSpPr/>
            <p:nvPr/>
          </p:nvCxnSpPr>
          <p:spPr>
            <a:xfrm flipH="1" flipV="1">
              <a:off x="2971440" y="592164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60" name="Straight Arrow Connector 36"/>
            <p:cNvCxnSpPr/>
            <p:nvPr/>
          </p:nvCxnSpPr>
          <p:spPr>
            <a:xfrm flipV="1">
              <a:off x="2361960" y="592164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</p:grpSp>
      <p:cxnSp>
        <p:nvCxnSpPr>
          <p:cNvPr id="161" name="Straight Arrow Connector 28"/>
          <p:cNvCxnSpPr/>
          <p:nvPr/>
        </p:nvCxnSpPr>
        <p:spPr>
          <a:xfrm flipV="1">
            <a:off x="3276720" y="5093640"/>
            <a:ext cx="2160" cy="53388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162" name="Straight Arrow Connector 35"/>
          <p:cNvCxnSpPr/>
          <p:nvPr/>
        </p:nvCxnSpPr>
        <p:spPr>
          <a:xfrm>
            <a:off x="2209680" y="5246280"/>
            <a:ext cx="61056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163" name="Straight Arrow Connector 36"/>
          <p:cNvCxnSpPr/>
          <p:nvPr/>
        </p:nvCxnSpPr>
        <p:spPr>
          <a:xfrm>
            <a:off x="2819160" y="524628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164" name="Straight Arrow Connector 37"/>
          <p:cNvCxnSpPr/>
          <p:nvPr/>
        </p:nvCxnSpPr>
        <p:spPr>
          <a:xfrm>
            <a:off x="2361960" y="539856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04920" y="152280"/>
            <a:ext cx="8610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ur Results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Arial"/>
              </a:rPr>
              <a:t>(paper still in prepa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6880" y="1523880"/>
            <a:ext cx="858852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igorous, unified security proof for Wiesner and BBBW schemes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building on Werner, Molina-Vidick-Watrous, Gavinsky, Pastawski et al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formation-theoretic break of any BBBW-like scheme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most technically-novel p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rst private-key quantum money scheme provably secure against interactive attack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building on A.-Christ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600200" y="5105520"/>
            <a:ext cx="6019920" cy="5205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rst we need some formal defini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228600" y="909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Consists of two polynomial-time quantum algorith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28600" y="283068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 h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omplete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f for all k and valid $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077840" y="3403440"/>
                <a:ext cx="53863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$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pts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3"/>
          <p:cNvSpPr/>
          <p:nvPr/>
        </p:nvSpPr>
        <p:spPr>
          <a:xfrm>
            <a:off x="228600" y="41832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 h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und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f for all polynomial-time counterfeiter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7"/>
              <p:cNvSpPr txBox="1"/>
              <p:nvPr/>
            </p:nvSpPr>
            <p:spPr>
              <a:xfrm>
                <a:off x="1254240" y="5097600"/>
                <a:ext cx="6296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$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$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&gt;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≤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3"/>
          <p:cNvSpPr/>
          <p:nvPr/>
        </p:nvSpPr>
        <p:spPr>
          <a:xfrm>
            <a:off x="228600" y="582444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ere Count returns the number of C’s r&gt;q output registers 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…,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at Ver(k,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914400" y="1533600"/>
            <a:ext cx="7467480" cy="116928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Bank(k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tes quantum banknote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Ver(k, ¢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cepts or rejects claimed banknote 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920" y="15228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Private-Key Quantum Money Sche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23880" y="2293920"/>
            <a:ext cx="6400800" cy="2159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Mini-Scheme”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Only needs to be secure in the special case q=1 and r=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e’ll use as a crucial building block, as A.-Christiano did for public-key sche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228600" y="2133720"/>
            <a:ext cx="830592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Molina-Vidick-Watrous 201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Wiesner mini-scheme has soundness error ≤ (3/4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nd this is tight, by a non-obvious counterfeiting strateg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of uses SDP / quantum games form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303120" y="1036800"/>
                <a:ext cx="6061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iesner Mini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6440400" y="2108160"/>
            <a:ext cx="2505240" cy="5907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852480" y="4917960"/>
            <a:ext cx="7515360" cy="1488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Gavinsky 2011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even make all communication between verifier and bank clas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astawski et al. 2012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even tolerate no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440400" y="925560"/>
            <a:ext cx="23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with no serial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455760" y="2743200"/>
            <a:ext cx="8305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M’ is insecure.  Then either the underlying mini-scheme M was insecure, or els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asn’t really a pseudorandom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04920" y="152280"/>
            <a:ext cx="8610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“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Standard Construction” of a Money Scheme M’ from a Mini-Scheme 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063800" y="1662120"/>
                <a:ext cx="70912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t xml:space="preserve"> </m:t>
                    </m:r>
                    <m:r>
                      <m:t xml:space="preserve">|</m:t>
                    </m:r>
                    <m:sSubSup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⟩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3"/>
          <p:cNvSpPr/>
          <p:nvPr/>
        </p:nvSpPr>
        <p:spPr>
          <a:xfrm>
            <a:off x="1676520" y="5334120"/>
            <a:ext cx="5105160" cy="947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esner and BBBW schemes handled in unified w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28880" y="4278240"/>
            <a:ext cx="71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uitively obvious,” but still need to prov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304920" y="1522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roof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435480" y="1471680"/>
            <a:ext cx="236196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eak M’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 a mini-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635880" y="228600"/>
            <a:ext cx="209052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eak M as a mini-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346800" y="2906640"/>
            <a:ext cx="2362320" cy="1006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istinguish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1680" y="2730600"/>
            <a:ext cx="25560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eak M’ as a money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683320" y="16430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739960" y="29448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2"/>
          <p:cNvCxnSpPr/>
          <p:nvPr/>
        </p:nvCxnSpPr>
        <p:spPr>
          <a:xfrm flipV="1">
            <a:off x="2866680" y="2393280"/>
            <a:ext cx="564120" cy="3373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6" name="Straight Arrow Connector 23"/>
          <p:cNvCxnSpPr>
            <a:endCxn id="191" idx="1"/>
          </p:cNvCxnSpPr>
          <p:nvPr/>
        </p:nvCxnSpPr>
        <p:spPr>
          <a:xfrm flipV="1">
            <a:off x="2867040" y="3384000"/>
            <a:ext cx="3480480" cy="300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>
            <a:off x="5792400" y="2425680"/>
            <a:ext cx="554760" cy="481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8" name="Straight Arrow Connector 29"/>
          <p:cNvCxnSpPr/>
          <p:nvPr/>
        </p:nvCxnSpPr>
        <p:spPr>
          <a:xfrm flipV="1">
            <a:off x="5792760" y="1164960"/>
            <a:ext cx="843840" cy="3038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9" name="Text Box 3"/>
          <p:cNvSpPr/>
          <p:nvPr/>
        </p:nvSpPr>
        <p:spPr>
          <a:xfrm>
            <a:off x="388800" y="4189320"/>
            <a:ext cx="845352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you can copy bills with the same serial numbers, you can break the mini-scheme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you can create bills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rial numbers, then a “hybrid argument” / simulating the bank’s verification yourself lets you distinguish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a random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1" descr="http://abusehurts.com/wp-content/uploads/Lady-justice-final.jpg"/>
          <p:cNvPicPr/>
          <p:nvPr/>
        </p:nvPicPr>
        <p:blipFill>
          <a:blip r:embed="rId1"/>
          <a:stretch/>
        </p:blipFill>
        <p:spPr>
          <a:xfrm>
            <a:off x="4530600" y="485640"/>
            <a:ext cx="4459320" cy="29876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380880" y="939960"/>
            <a:ext cx="4497480" cy="31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M be any money scheme where the bank has an n-bit secret ke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M can be broken using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legitimate money states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(n) trial verifications,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ly(n) quantum computati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04920" y="1522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Tradeoff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62120" y="4191120"/>
            <a:ext cx="7905600" cy="2567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isn’t this obvio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cause essentially the only way to learn about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using the states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but measuring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uld destroy it!  Also,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ight happen to be accepted by many keys k other than “true”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354720" y="2289240"/>
            <a:ext cx="1495440" cy="489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IES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962840" y="2133720"/>
            <a:ext cx="1104840" cy="489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BB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4920" y="10476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Secret Acceptor Lemm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04920" y="95724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POV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we’re promised there exists an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82600" y="4932360"/>
            <a:ext cx="86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a measurement strategy to find an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3657600" y="3513240"/>
                <a:ext cx="28893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2232000" y="2790720"/>
                <a:ext cx="41878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3"/>
          <p:cNvSpPr/>
          <p:nvPr/>
        </p:nvSpPr>
        <p:spPr>
          <a:xfrm>
            <a:off x="282600" y="39560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giv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82600" y="6165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success probability ≥1-1/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1935000" y="5514840"/>
                <a:ext cx="47800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pts</m:t>
                        </m:r>
                      </m:e>
                    </m:d>
                    <m:r>
                      <m:t xml:space="preserve">≥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roof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2730600" y="1096920"/>
            <a:ext cx="2755800" cy="1780920"/>
            <a:chOff x="2730600" y="1096920"/>
            <a:chExt cx="2755800" cy="1780920"/>
          </a:xfrm>
        </p:grpSpPr>
        <p:sp>
          <p:nvSpPr>
            <p:cNvPr id="216" name="Text Box 3"/>
            <p:cNvSpPr/>
            <p:nvPr/>
          </p:nvSpPr>
          <p:spPr>
            <a:xfrm>
              <a:off x="2730600" y="1096920"/>
              <a:ext cx="2755800" cy="1780920"/>
            </a:xfrm>
            <a:prstGeom prst="rect">
              <a:avLst/>
            </a:prstGeom>
            <a:solidFill>
              <a:srgbClr val="ffe7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lmost As Good As New Lem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7"/>
                <p:cNvSpPr txBox="1"/>
                <p:nvPr/>
              </p:nvSpPr>
              <p:spPr>
                <a:xfrm>
                  <a:off x="2773800" y="2090160"/>
                  <a:ext cx="263196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ρ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ρ</m:t>
                              </m:r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ε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Text Box 3"/>
          <p:cNvSpPr/>
          <p:nvPr/>
        </p:nvSpPr>
        <p:spPr>
          <a:xfrm>
            <a:off x="5567400" y="1096920"/>
            <a:ext cx="3429000" cy="2876760"/>
          </a:xfrm>
          <a:prstGeom prst="rect">
            <a:avLst/>
          </a:prstGeom>
          <a:solidFill>
            <a:srgbClr val="e7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OR Bound (A. 2006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1) probability, then applying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…,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successio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ccept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1)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14480" y="1096920"/>
            <a:ext cx="2535120" cy="1781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mplification / Chernoff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54080" y="3786120"/>
            <a:ext cx="5116320" cy="589320"/>
            <a:chOff x="154080" y="3786120"/>
            <a:chExt cx="5116320" cy="589320"/>
          </a:xfrm>
        </p:grpSpPr>
        <p:sp>
          <p:nvSpPr>
            <p:cNvPr id="221" name="Text Box 3"/>
            <p:cNvSpPr/>
            <p:nvPr/>
          </p:nvSpPr>
          <p:spPr>
            <a:xfrm>
              <a:off x="154080" y="378828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"/>
            <p:cNvSpPr/>
            <p:nvPr/>
          </p:nvSpPr>
          <p:spPr>
            <a:xfrm>
              <a:off x="773280" y="379188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"/>
            <p:cNvSpPr/>
            <p:nvPr/>
          </p:nvSpPr>
          <p:spPr>
            <a:xfrm>
              <a:off x="1392480" y="379584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"/>
            <p:cNvSpPr/>
            <p:nvPr/>
          </p:nvSpPr>
          <p:spPr>
            <a:xfrm>
              <a:off x="2008440" y="378828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"/>
            <p:cNvSpPr/>
            <p:nvPr/>
          </p:nvSpPr>
          <p:spPr>
            <a:xfrm>
              <a:off x="2796840" y="378612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"/>
            <p:cNvSpPr/>
            <p:nvPr/>
          </p:nvSpPr>
          <p:spPr>
            <a:xfrm>
              <a:off x="3416040" y="378972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"/>
            <p:cNvSpPr/>
            <p:nvPr/>
          </p:nvSpPr>
          <p:spPr>
            <a:xfrm>
              <a:off x="4032000" y="378612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"/>
            <p:cNvSpPr/>
            <p:nvPr/>
          </p:nvSpPr>
          <p:spPr>
            <a:xfrm>
              <a:off x="4651200" y="378612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Left Brace 1"/>
          <p:cNvSpPr/>
          <p:nvPr/>
        </p:nvSpPr>
        <p:spPr>
          <a:xfrm rot="16200000">
            <a:off x="1222200" y="3330360"/>
            <a:ext cx="338400" cy="2475000"/>
          </a:xfrm>
          <a:custGeom>
            <a:avLst/>
            <a:gdLst>
              <a:gd name="textAreaLeft" fmla="*/ 216360 w 338400"/>
              <a:gd name="textAreaRight" fmla="*/ 338760 w 338400"/>
              <a:gd name="textAreaTop" fmla="*/ 8640 h 2475000"/>
              <a:gd name="textAreaBottom" fmla="*/ 2466360 h 247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6"/>
                </a:cubicBezTo>
                <a:lnTo>
                  <a:pt x="10800" y="10554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6"/>
                </a:cubicBezTo>
                <a:lnTo>
                  <a:pt x="10800" y="21354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14480" y="4743360"/>
            <a:ext cx="297000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s there an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half that accep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ith ≥p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/(logN) probabil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eft Brace 38"/>
          <p:cNvSpPr/>
          <p:nvPr/>
        </p:nvSpPr>
        <p:spPr>
          <a:xfrm rot="16200000">
            <a:off x="3864600" y="3321360"/>
            <a:ext cx="338040" cy="2473200"/>
          </a:xfrm>
          <a:custGeom>
            <a:avLst/>
            <a:gdLst>
              <a:gd name="textAreaLeft" fmla="*/ 216000 w 338040"/>
              <a:gd name="textAreaRight" fmla="*/ 338400 w 338040"/>
              <a:gd name="textAreaTop" fmla="*/ 8640 h 2473200"/>
              <a:gd name="textAreaBottom" fmla="*/ 2464560 h 247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6"/>
                </a:cubicBezTo>
                <a:lnTo>
                  <a:pt x="10800" y="10554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6"/>
                </a:cubicBezTo>
                <a:lnTo>
                  <a:pt x="10800" y="21354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955960" y="4741920"/>
            <a:ext cx="237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at about i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half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326200" y="4075200"/>
            <a:ext cx="371952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Strategy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o a binary search for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decreasing the acceptance threshold b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/(logN) at each level, and using fresh copi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85840" y="30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The Counterfeiting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97000" y="644400"/>
            <a:ext cx="861048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Let S be the set of keys “still in the running.”  Initially S=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epeat O(n) ti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bmi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or trial verif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if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S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 is accepted, then hal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s rejected, then let U be the set of all keys k such that Ver(k,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rejects with high probability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at least one such k must exist, namely k</a:t>
            </a:r>
            <a:r>
              <a:rPr b="0" lang="en-US" sz="20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Use Secret Acceptor Lemma, and O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copies of |$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to find a key k’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U such that Ver(k’,|$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cepts with high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again, at least one such k’ must exist, namely k</a:t>
            </a:r>
            <a:r>
              <a:rPr b="0" lang="en-US" sz="20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liminate from S every key 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 such that Ver(k’,|$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rejects with high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k* itself must survive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1477800" y="1555920"/>
                <a:ext cx="24876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$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$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7" name="Left Brace 2"/>
          <p:cNvSpPr/>
          <p:nvPr/>
        </p:nvSpPr>
        <p:spPr>
          <a:xfrm>
            <a:off x="76320" y="1752480"/>
            <a:ext cx="380880" cy="48769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876920"/>
              <a:gd name="textAreaBottom" fmla="*/ 486720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"/>
                  <a:pt x="10800" y="141"/>
                </a:cubicBezTo>
                <a:lnTo>
                  <a:pt x="10800" y="10659"/>
                </a:lnTo>
                <a:cubicBezTo>
                  <a:pt x="10800" y="10730"/>
                  <a:pt x="5400" y="10800"/>
                  <a:pt x="0" y="10800"/>
                </a:cubicBezTo>
                <a:cubicBezTo>
                  <a:pt x="5400" y="10800"/>
                  <a:pt x="10800" y="10871"/>
                  <a:pt x="10800" y="10941"/>
                </a:cubicBezTo>
                <a:lnTo>
                  <a:pt x="10800" y="21459"/>
                </a:lnTo>
                <a:cubicBezTo>
                  <a:pt x="10800" y="2153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8120" y="2971800"/>
            <a:ext cx="3468600" cy="19213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rucial observatio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S shrinks by a constant factor at each it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533520" y="304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r since there’s been money, there’ve been people trying to counterfei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1371600" cy="144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3048120" y="3962520"/>
            <a:ext cx="3000240" cy="1395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33520" y="167652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evious work on the physics of mon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his capacity as Master of the Mint, Isaac Newton worked on making English coins harder to counterf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6705720" y="3276720"/>
            <a:ext cx="175248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143000" y="5638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He also personally oversaw hangings of counterfeit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2631960" y="1306440"/>
            <a:ext cx="4092840" cy="409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554040" y="44226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= “Still in the run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93760" y="131904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l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ssible quantum money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133720" y="264960"/>
            <a:ext cx="233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l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ssible ver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1690560" y="3224160"/>
                <a:ext cx="851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∗</m:t>
                        </m:r>
                        <m:r>
                          <m:t xml:space="preserve">⟩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4" name="Rectangle 2"/>
          <p:cNvSpPr/>
          <p:nvPr/>
        </p:nvSpPr>
        <p:spPr>
          <a:xfrm>
            <a:off x="2631960" y="3448080"/>
            <a:ext cx="4092840" cy="311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 rot="16200000">
            <a:off x="3240000" y="3204720"/>
            <a:ext cx="4092840" cy="3114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4487760" y="612720"/>
                <a:ext cx="1498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Text Box 3"/>
          <p:cNvSpPr/>
          <p:nvPr/>
        </p:nvSpPr>
        <p:spPr>
          <a:xfrm>
            <a:off x="6672240" y="784080"/>
            <a:ext cx="230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 = “Rejects a random state in S w.h.p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 rot="16200000">
            <a:off x="2425320" y="3196800"/>
            <a:ext cx="4108680" cy="31104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335320" y="5724360"/>
            <a:ext cx="6181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verifier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 (not necessaril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hat nevertheless accepts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.h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2"/>
          <p:cNvGrpSpPr/>
          <p:nvPr/>
        </p:nvGrpSpPr>
        <p:grpSpPr>
          <a:xfrm>
            <a:off x="3622680" y="1203480"/>
            <a:ext cx="3076560" cy="581400"/>
            <a:chOff x="3622680" y="1203480"/>
            <a:chExt cx="3076560" cy="581400"/>
          </a:xfrm>
        </p:grpSpPr>
        <p:sp>
          <p:nvSpPr>
            <p:cNvPr id="251" name="Oval 13"/>
            <p:cNvSpPr/>
            <p:nvPr/>
          </p:nvSpPr>
          <p:spPr>
            <a:xfrm rot="5400000">
              <a:off x="4932720" y="-39240"/>
              <a:ext cx="456480" cy="3076560"/>
            </a:xfrm>
            <a:prstGeom prst="ellipse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"/>
            <p:cNvSpPr/>
            <p:nvPr/>
          </p:nvSpPr>
          <p:spPr>
            <a:xfrm>
              <a:off x="5669280" y="1203480"/>
              <a:ext cx="5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3"/>
          <p:cNvSpPr/>
          <p:nvPr/>
        </p:nvSpPr>
        <p:spPr>
          <a:xfrm>
            <a:off x="6813720" y="2400480"/>
            <a:ext cx="221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row out everything in S that Ver(k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rejects w.h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2598840" y="2147760"/>
            <a:ext cx="4125960" cy="9954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1"/>
          <p:cNvGrpSpPr/>
          <p:nvPr/>
        </p:nvGrpSpPr>
        <p:grpSpPr>
          <a:xfrm>
            <a:off x="2448000" y="1839960"/>
            <a:ext cx="539640" cy="2905200"/>
            <a:chOff x="2448000" y="1839960"/>
            <a:chExt cx="539640" cy="2905200"/>
          </a:xfrm>
        </p:grpSpPr>
        <p:sp>
          <p:nvSpPr>
            <p:cNvPr id="256" name="Oval 3"/>
            <p:cNvSpPr/>
            <p:nvPr/>
          </p:nvSpPr>
          <p:spPr>
            <a:xfrm>
              <a:off x="2488680" y="1839960"/>
              <a:ext cx="457920" cy="2905200"/>
            </a:xfrm>
            <a:prstGeom prst="ellipse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"/>
            <p:cNvSpPr/>
            <p:nvPr/>
          </p:nvSpPr>
          <p:spPr>
            <a:xfrm>
              <a:off x="2448000" y="3968280"/>
              <a:ext cx="5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8" name="Straight Arrow Connector 24"/>
          <p:cNvCxnSpPr>
            <a:endCxn id="248" idx="1"/>
          </p:cNvCxnSpPr>
          <p:nvPr/>
        </p:nvCxnSpPr>
        <p:spPr>
          <a:xfrm flipH="1" flipV="1">
            <a:off x="4479480" y="5406840"/>
            <a:ext cx="8640" cy="4132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59" name="Straight Arrow Connector 27"/>
          <p:cNvCxnSpPr/>
          <p:nvPr/>
        </p:nvCxnSpPr>
        <p:spPr>
          <a:xfrm flipH="1" flipV="1">
            <a:off x="6678000" y="2636640"/>
            <a:ext cx="492840" cy="8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74680" y="604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Interactive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74680" y="2508120"/>
            <a:ext cx="8458200" cy="33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want a private-key quantum money scheme that remains secure, even if the counterfeiter can start with poly(n) legitimate bills, then repeatedly modify them and submit for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Gavinsky did this, but in his scheme, the bill gets destroyed after ~n ver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Farhi et al. showed that, if the verification is just a projection, then we can’t have interactive security with unentangled b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274680" y="574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bserv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a scheme follows from my previous work with Christiano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ublic-k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uantu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521400" y="819000"/>
            <a:ext cx="2362320" cy="16891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25"/>
          <p:cNvCxnSpPr/>
          <p:nvPr/>
        </p:nvCxnSpPr>
        <p:spPr>
          <a:xfrm>
            <a:off x="2525400" y="1674360"/>
            <a:ext cx="3886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mc:AlternateContent>
        <mc:Choice xmlns:a14="http://schemas.microsoft.com/office/drawing/2010/main" Requires="a14">
          <p:sp>
            <p:nvSpPr>
              <p:cNvPr id="265" name="Object 22"/>
              <p:cNvSpPr txBox="1"/>
              <p:nvPr/>
            </p:nvSpPr>
            <p:spPr>
              <a:xfrm>
                <a:off x="2990880" y="838080"/>
                <a:ext cx="8380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66" name="Straight Arrow Connector 31"/>
          <p:cNvCxnSpPr/>
          <p:nvPr/>
        </p:nvCxnSpPr>
        <p:spPr>
          <a:xfrm flipH="1">
            <a:off x="2525040" y="1890360"/>
            <a:ext cx="3963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mc:AlternateContent>
        <mc:Choice xmlns:a14="http://schemas.microsoft.com/office/drawing/2010/main" Requires="a14">
          <p:sp>
            <p:nvSpPr>
              <p:cNvPr id="267" name="Object 22"/>
              <p:cNvSpPr txBox="1"/>
              <p:nvPr/>
            </p:nvSpPr>
            <p:spPr>
              <a:xfrm>
                <a:off x="4116240" y="819000"/>
                <a:ext cx="9223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461880" y="906480"/>
            <a:ext cx="1957320" cy="14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Object 22"/>
              <p:cNvSpPr txBox="1"/>
              <p:nvPr/>
            </p:nvSpPr>
            <p:spPr>
              <a:xfrm>
                <a:off x="5278320" y="803160"/>
                <a:ext cx="881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387360" y="491508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-Christiano 2012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ven given membership oracles for A and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y counterfeiter n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quantum queries to copy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cess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533520" y="944640"/>
            <a:ext cx="4952880" cy="2092320"/>
          </a:xfrm>
          <a:prstGeom prst="rect">
            <a:avLst/>
          </a:prstGeom>
          <a:solidFill>
            <a:srgbClr val="e7f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2860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Hidden Subspace Mini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895320" y="1378080"/>
                <a:ext cx="42292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Text Box 3"/>
          <p:cNvSpPr/>
          <p:nvPr/>
        </p:nvSpPr>
        <p:spPr>
          <a:xfrm>
            <a:off x="704880" y="9889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Quantum money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5943600" y="1003320"/>
                <a:ext cx="24382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sSub>
                          <m:e>
                            <m:r>
                              <m:t xml:space="preserve">≤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Text Box 3"/>
          <p:cNvSpPr/>
          <p:nvPr/>
        </p:nvSpPr>
        <p:spPr>
          <a:xfrm>
            <a:off x="387360" y="3235320"/>
            <a:ext cx="8458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easy to prepare, given a basis for A.  It’s also easy to verify, given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embership orac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A and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954000" y="4184640"/>
            <a:ext cx="786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A.-Christiano proposed a cryptographic way to “instantiate” such membership oracles, without revealing A—but not directly releva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960480" y="63039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Proof uses modification of Ambainis’s quantum adversary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612720" y="838080"/>
            <a:ext cx="807732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nsidered a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key mini-scheme, the hidden subspace scheme must be secure against interactive attac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With no computational or oracle assum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609480" y="32767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an interactive attack existed.  Then a public-key counterfeiter could simulate that attack, using membership oracles for A and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imulate the bank’s verification.  He’d thereby break the public-key scheme, which we already proved to be secure against such counterfe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457200" y="950760"/>
            <a:ext cx="8305920" cy="59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mprove th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our Tradeoff Theor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oes private-key quantum money without a giant database require one-way function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We know it requires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some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 computational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have private-key quantum money secure against interactive attack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ith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ighly-entangled bills?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Farhi et al. show that if so, verification will need to be non-pro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have unconditionally-secur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ublic-k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uantum money, relative 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acl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If we remove the word “public-key”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or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 the word “random,” then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-key quantum copy-prot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(3/4)</a:t>
            </a:r>
            <a:r>
              <a:rPr b="1" lang="en-US" sz="4400" spc="-1" strike="noStrike" baseline="30000">
                <a:solidFill>
                  <a:srgbClr val="333399"/>
                </a:solidFill>
                <a:latin typeface="Calibri"/>
                <a:ea typeface="Arial"/>
              </a:rPr>
              <a:t>n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 Counterfei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49280" y="1087560"/>
            <a:ext cx="73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ach qubit in the money state,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573120" y="1778040"/>
            <a:ext cx="8319960" cy="2622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449280" y="4995720"/>
            <a:ext cx="739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Note: “Obvious” strategy only succeeds with (5/8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bability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3520" y="533520"/>
            <a:ext cx="4647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oda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olograms, embedded strips, “microprinting,” special in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ads to an arms race with no obvious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33526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a CS perspective, uncopyable cash seems impossible for trivial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52480" y="4419720"/>
            <a:ext cx="6248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ny printing device a good guy can build, a determined bad guy can als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x </a:t>
            </a: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(x,x) is an easy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http://www.cbc.ca/gfx/images/news/photos/2012/11/06/li-new-money-035350461.jpg"/>
          <p:cNvPicPr/>
          <p:nvPr/>
        </p:nvPicPr>
        <p:blipFill>
          <a:blip r:embed="rId1"/>
          <a:stretch/>
        </p:blipFill>
        <p:spPr>
          <a:xfrm>
            <a:off x="5337000" y="609480"/>
            <a:ext cx="3502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60948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hat’s done in practic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ve a trusted third party authorize every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5181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K, but sometimes you wan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that seems impossible to secure, at least in classical physic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39680" cy="123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189864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6095880" y="137160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590920" y="34290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(BitCoin: “Trusted third party” is distributed over the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914400" y="30481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7"/>
          <p:cNvGrpSpPr/>
          <p:nvPr/>
        </p:nvGrpSpPr>
        <p:grpSpPr>
          <a:xfrm>
            <a:off x="990720" y="1752480"/>
            <a:ext cx="7302240" cy="3529080"/>
            <a:chOff x="990720" y="1752480"/>
            <a:chExt cx="7302240" cy="3529080"/>
          </a:xfrm>
        </p:grpSpPr>
        <p:sp>
          <p:nvSpPr>
            <p:cNvPr id="71" name="Cube 20"/>
            <p:cNvSpPr/>
            <p:nvPr/>
          </p:nvSpPr>
          <p:spPr>
            <a:xfrm>
              <a:off x="3276720" y="2666520"/>
              <a:ext cx="1752480" cy="175248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Straight Arrow Connector 23"/>
            <p:cNvCxnSpPr/>
            <p:nvPr/>
          </p:nvCxnSpPr>
          <p:spPr>
            <a:xfrm>
              <a:off x="2133360" y="358092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73" name="Object 2"/>
                <p:cNvSpPr txBox="1"/>
                <p:nvPr/>
              </p:nvSpPr>
              <p:spPr>
                <a:xfrm>
                  <a:off x="990720" y="2895120"/>
                  <a:ext cx="12337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74" name="Straight Arrow Connector 26"/>
            <p:cNvCxnSpPr/>
            <p:nvPr/>
          </p:nvCxnSpPr>
          <p:spPr>
            <a:xfrm>
              <a:off x="4952520" y="358092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75" name="Object 3"/>
                <p:cNvSpPr txBox="1"/>
                <p:nvPr/>
              </p:nvSpPr>
              <p:spPr>
                <a:xfrm>
                  <a:off x="6019920" y="2895120"/>
                  <a:ext cx="22730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6" name="Picture 5" descr="C:\Users\od user\AppData\Local\Microsoft\Windows\Temporary Internet Files\Content.IE5\N7YD4WXK\MCj04325380000[1].png"/>
            <p:cNvPicPr/>
            <p:nvPr/>
          </p:nvPicPr>
          <p:blipFill>
            <a:blip r:embed="rId1"/>
            <a:stretch/>
          </p:blipFill>
          <p:spPr>
            <a:xfrm>
              <a:off x="2286000" y="1752480"/>
              <a:ext cx="3581280" cy="35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No-Cloning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84120" y="1670040"/>
            <a:ext cx="4651560" cy="1981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304920" y="22860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Arial"/>
              </a:rPr>
              <a:t>First Idea in the History of Quantum In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04920" y="906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iesner ~196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-key quantu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3"/>
          <p:cNvCxnSpPr/>
          <p:nvPr/>
        </p:nvCxnSpPr>
        <p:spPr>
          <a:xfrm>
            <a:off x="480600" y="2649600"/>
            <a:ext cx="61020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2" name="Straight Arrow Connector 14"/>
          <p:cNvCxnSpPr/>
          <p:nvPr/>
        </p:nvCxnSpPr>
        <p:spPr>
          <a:xfrm flipV="1">
            <a:off x="1471680" y="2344320"/>
            <a:ext cx="216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3" name="Straight Arrow Connector 15"/>
          <p:cNvCxnSpPr/>
          <p:nvPr/>
        </p:nvCxnSpPr>
        <p:spPr>
          <a:xfrm flipV="1">
            <a:off x="1776240" y="24206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4" name="Straight Arrow Connector 16"/>
          <p:cNvCxnSpPr/>
          <p:nvPr/>
        </p:nvCxnSpPr>
        <p:spPr>
          <a:xfrm flipH="1" flipV="1">
            <a:off x="2461680" y="24206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5" name="Straight Arrow Connector 25"/>
          <p:cNvCxnSpPr/>
          <p:nvPr/>
        </p:nvCxnSpPr>
        <p:spPr>
          <a:xfrm flipH="1" flipV="1">
            <a:off x="3071520" y="234432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6" name="Straight Arrow Connector 26"/>
          <p:cNvCxnSpPr/>
          <p:nvPr/>
        </p:nvCxnSpPr>
        <p:spPr>
          <a:xfrm flipV="1">
            <a:off x="3908880" y="2268000"/>
            <a:ext cx="252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7" name="Straight Arrow Connector 27"/>
          <p:cNvCxnSpPr/>
          <p:nvPr/>
        </p:nvCxnSpPr>
        <p:spPr>
          <a:xfrm>
            <a:off x="4214520" y="2649600"/>
            <a:ext cx="61020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8" name="Straight Arrow Connector 28"/>
          <p:cNvCxnSpPr/>
          <p:nvPr/>
        </p:nvCxnSpPr>
        <p:spPr>
          <a:xfrm>
            <a:off x="1699920" y="32587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9" name="Straight Arrow Connector 29"/>
          <p:cNvCxnSpPr/>
          <p:nvPr/>
        </p:nvCxnSpPr>
        <p:spPr>
          <a:xfrm flipV="1">
            <a:off x="2689560" y="2953800"/>
            <a:ext cx="252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0" name="Straight Arrow Connector 30"/>
          <p:cNvCxnSpPr/>
          <p:nvPr/>
        </p:nvCxnSpPr>
        <p:spPr>
          <a:xfrm flipV="1">
            <a:off x="3375360" y="2953800"/>
            <a:ext cx="252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1" name="Straight Arrow Connector 31"/>
          <p:cNvCxnSpPr/>
          <p:nvPr/>
        </p:nvCxnSpPr>
        <p:spPr>
          <a:xfrm>
            <a:off x="3681000" y="32587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2" name="Straight Arrow Connector 32"/>
          <p:cNvCxnSpPr/>
          <p:nvPr/>
        </p:nvCxnSpPr>
        <p:spPr>
          <a:xfrm flipH="1" flipV="1">
            <a:off x="4290480" y="303012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3" name="Straight Arrow Connector 33"/>
          <p:cNvCxnSpPr/>
          <p:nvPr/>
        </p:nvCxnSpPr>
        <p:spPr>
          <a:xfrm flipH="1" flipV="1">
            <a:off x="1166400" y="31064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4" name="Straight Arrow Connector 34"/>
          <p:cNvCxnSpPr/>
          <p:nvPr/>
        </p:nvCxnSpPr>
        <p:spPr>
          <a:xfrm flipV="1">
            <a:off x="557280" y="31064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95" name="Text Box 3"/>
          <p:cNvSpPr/>
          <p:nvPr/>
        </p:nvSpPr>
        <p:spPr>
          <a:xfrm>
            <a:off x="5105520" y="1563840"/>
            <a:ext cx="3884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esides a classical serial number s, each bill has n qubits, secretly prepared in one of the four BB84 states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|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|+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|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5600" y="3900600"/>
            <a:ext cx="8415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 a giant database, the bank stores f(s), a description of the quantum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f(s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orresponding to serial number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5600" y="4815000"/>
            <a:ext cx="8793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ant to verify a bill?  Take it to the bank.  Bank uses knowledge of f(s) to measure each qubit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f(s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n the correct bas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4462560" y="30751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99" name="Group 44"/>
          <p:cNvGrpSpPr/>
          <p:nvPr/>
        </p:nvGrpSpPr>
        <p:grpSpPr>
          <a:xfrm>
            <a:off x="3333600" y="5847840"/>
            <a:ext cx="610200" cy="612000"/>
            <a:chOff x="3333600" y="5847840"/>
            <a:chExt cx="610200" cy="612000"/>
          </a:xfrm>
        </p:grpSpPr>
        <p:cxnSp>
          <p:nvCxnSpPr>
            <p:cNvPr id="100" name="Straight Arrow Connector 42"/>
            <p:cNvCxnSpPr/>
            <p:nvPr/>
          </p:nvCxnSpPr>
          <p:spPr>
            <a:xfrm>
              <a:off x="3333600" y="6458040"/>
              <a:ext cx="610560" cy="21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01" name="Straight Arrow Connector 43"/>
            <p:cNvCxnSpPr/>
            <p:nvPr/>
          </p:nvCxnSpPr>
          <p:spPr>
            <a:xfrm flipV="1">
              <a:off x="3333600" y="5847840"/>
              <a:ext cx="2160" cy="6105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  <p:grpSp>
        <p:nvGrpSpPr>
          <p:cNvPr id="102" name="Group 45"/>
          <p:cNvGrpSpPr/>
          <p:nvPr/>
        </p:nvGrpSpPr>
        <p:grpSpPr>
          <a:xfrm>
            <a:off x="5240160" y="5965920"/>
            <a:ext cx="862200" cy="439200"/>
            <a:chOff x="5240160" y="5965920"/>
            <a:chExt cx="862200" cy="439200"/>
          </a:xfrm>
        </p:grpSpPr>
        <p:cxnSp>
          <p:nvCxnSpPr>
            <p:cNvPr id="103" name="Straight Arrow Connector 46"/>
            <p:cNvCxnSpPr/>
            <p:nvPr/>
          </p:nvCxnSpPr>
          <p:spPr>
            <a:xfrm flipV="1">
              <a:off x="5663520" y="5981760"/>
              <a:ext cx="439200" cy="42372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04" name="Straight Arrow Connector 47"/>
            <p:cNvCxnSpPr/>
            <p:nvPr/>
          </p:nvCxnSpPr>
          <p:spPr>
            <a:xfrm flipH="1" flipV="1">
              <a:off x="5240160" y="5965920"/>
              <a:ext cx="424080" cy="4395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  <p:sp>
        <p:nvSpPr>
          <p:cNvPr id="105" name="Text Box 3"/>
          <p:cNvSpPr/>
          <p:nvPr/>
        </p:nvSpPr>
        <p:spPr>
          <a:xfrm>
            <a:off x="4172040" y="5848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  <a:ea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017800" y="2835360"/>
            <a:ext cx="5081400" cy="143280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t least at a handwaving level, seems impossible to cop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f(s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you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know the right ba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09760" y="1743120"/>
            <a:ext cx="440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erial number: 0110000101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Decohering Mone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032280" y="1208160"/>
            <a:ext cx="561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re’s a reason why quantum money is not yet practical…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eed a quantum memory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cf. Fernando Pastawski’s talk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3" descr="Burning a hole in my pocket."/>
          <p:cNvPicPr/>
          <p:nvPr/>
        </p:nvPicPr>
        <p:blipFill>
          <a:blip r:embed="rId1"/>
          <a:stretch/>
        </p:blipFill>
        <p:spPr>
          <a:xfrm>
            <a:off x="898560" y="1090440"/>
            <a:ext cx="1838160" cy="1676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600120" y="3009960"/>
            <a:ext cx="51912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ore fundamentally: won’t verifying a bill necessarily destroy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swer: N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3276720" y="4038480"/>
            <a:ext cx="5410080" cy="2438640"/>
            <a:chOff x="3276720" y="4038480"/>
            <a:chExt cx="5410080" cy="2438640"/>
          </a:xfrm>
        </p:grpSpPr>
        <p:sp>
          <p:nvSpPr>
            <p:cNvPr id="113" name="Rectangle 7"/>
            <p:cNvSpPr/>
            <p:nvPr/>
          </p:nvSpPr>
          <p:spPr>
            <a:xfrm>
              <a:off x="3276720" y="4038480"/>
              <a:ext cx="5410080" cy="2438640"/>
            </a:xfrm>
            <a:prstGeom prst="rect">
              <a:avLst/>
            </a:prstGeom>
            <a:solidFill>
              <a:srgbClr val="e7f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"/>
            <p:cNvSpPr/>
            <p:nvPr/>
          </p:nvSpPr>
          <p:spPr>
            <a:xfrm>
              <a:off x="3463920" y="4176000"/>
              <a:ext cx="51814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“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entle Measurement / Almost As Good As New Lemma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"/>
            <p:cNvSpPr/>
            <p:nvPr/>
          </p:nvSpPr>
          <p:spPr>
            <a:xfrm>
              <a:off x="3458160" y="5869080"/>
              <a:ext cx="5181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cept w.p. ≥1-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damage by ≤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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Straight Arrow Connector 5"/>
            <p:cNvCxnSpPr/>
            <p:nvPr/>
          </p:nvCxnSpPr>
          <p:spPr>
            <a:xfrm>
              <a:off x="4443840" y="5526360"/>
              <a:ext cx="2667240" cy="108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117" name="Straight Arrow Connector 30"/>
            <p:cNvCxnSpPr/>
            <p:nvPr/>
          </p:nvCxnSpPr>
          <p:spPr>
            <a:xfrm flipV="1">
              <a:off x="4443840" y="5145480"/>
              <a:ext cx="2591280" cy="3625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Giant Databas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03200" y="973080"/>
            <a:ext cx="84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sn’t it cumbersome for the bank to remember a classical description f(s) of every bill in circul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2023920"/>
            <a:ext cx="8534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lution (Bennett, Brassard, Breidbart, Wiesner 1982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seudorandom functions!  Bank remembers just a single n-bit secret key k.  Then each bill has the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838080" y="3492360"/>
                <a:ext cx="35496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⟩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3"/>
          <p:cNvSpPr/>
          <p:nvPr/>
        </p:nvSpPr>
        <p:spPr>
          <a:xfrm>
            <a:off x="403200" y="4927680"/>
            <a:ext cx="84139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Handwavy security argument for BBBW schem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pose we could copy |$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ith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e could also copy the bills in Wiesner’s original scheme, 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e’d be distinguishing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a truly random function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"/>
          <p:cNvGrpSpPr/>
          <p:nvPr/>
        </p:nvGrpSpPr>
        <p:grpSpPr>
          <a:xfrm>
            <a:off x="4952880" y="3441600"/>
            <a:ext cx="3505320" cy="1117800"/>
            <a:chOff x="4952880" y="3441600"/>
            <a:chExt cx="3505320" cy="1117800"/>
          </a:xfrm>
        </p:grpSpPr>
        <p:sp>
          <p:nvSpPr>
            <p:cNvPr id="124" name="Rectangle 3"/>
            <p:cNvSpPr/>
            <p:nvPr/>
          </p:nvSpPr>
          <p:spPr>
            <a:xfrm>
              <a:off x="4952880" y="3441600"/>
              <a:ext cx="3505320" cy="1117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"/>
            <p:cNvSpPr/>
            <p:nvPr/>
          </p:nvSpPr>
          <p:spPr>
            <a:xfrm>
              <a:off x="5257440" y="406656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ryptographic PR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21"/>
                <p:cNvSpPr txBox="1"/>
                <p:nvPr/>
              </p:nvSpPr>
              <p:spPr>
                <a:xfrm>
                  <a:off x="5105160" y="3441600"/>
                  <a:ext cx="3124440" cy="67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:</m:t>
                      </m:r>
                      <m:s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,1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→</m:t>
                      </m:r>
                      <m:s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,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Text Box 3"/>
          <p:cNvSpPr/>
          <p:nvPr/>
        </p:nvSpPr>
        <p:spPr>
          <a:xfrm>
            <a:off x="1333440" y="1589040"/>
            <a:ext cx="6629400" cy="13366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Reinterpretation of Wiesner’s original schem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t’s just the BBBW scheme, but where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s)=A(k,s) for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andom orac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04920" y="279360"/>
            <a:ext cx="8415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till, if only the bank can verify the bills, doesn’t that sort of defeat the purpose of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as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920" y="1279440"/>
            <a:ext cx="85881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deed!  That’s why lots of recent work has been o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ublic-key quantum mone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A. 2009), which anyone could verif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This inherently requires a computational assumption—not just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quantum mechanics!  (Why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47600" y="3016080"/>
            <a:ext cx="8939160" cy="3841920"/>
            <a:chOff x="147600" y="3016080"/>
            <a:chExt cx="8939160" cy="3841920"/>
          </a:xfrm>
        </p:grpSpPr>
        <p:pic>
          <p:nvPicPr>
            <p:cNvPr id="131" name="Picture 2" descr=""/>
            <p:cNvPicPr/>
            <p:nvPr/>
          </p:nvPicPr>
          <p:blipFill>
            <a:blip r:embed="rId1"/>
            <a:stretch/>
          </p:blipFill>
          <p:spPr>
            <a:xfrm>
              <a:off x="1456560" y="4883760"/>
              <a:ext cx="11689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3"/>
            <p:cNvGrpSpPr/>
            <p:nvPr/>
          </p:nvGrpSpPr>
          <p:grpSpPr>
            <a:xfrm>
              <a:off x="4243320" y="4833000"/>
              <a:ext cx="1752480" cy="1657800"/>
              <a:chOff x="4243320" y="4833000"/>
              <a:chExt cx="1752480" cy="1657800"/>
            </a:xfrm>
          </p:grpSpPr>
          <p:sp>
            <p:nvSpPr>
              <p:cNvPr id="133" name="Rectangle 10"/>
              <p:cNvSpPr/>
              <p:nvPr/>
            </p:nvSpPr>
            <p:spPr>
              <a:xfrm>
                <a:off x="4395600" y="4833000"/>
                <a:ext cx="1600200" cy="160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1"/>
              <p:cNvSpPr/>
              <p:nvPr/>
            </p:nvSpPr>
            <p:spPr>
              <a:xfrm>
                <a:off x="4395600" y="5970240"/>
                <a:ext cx="1600200" cy="46332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3"/>
              <p:cNvSpPr/>
              <p:nvPr/>
            </p:nvSpPr>
            <p:spPr>
              <a:xfrm rot="16200000">
                <a:off x="3826800" y="5401800"/>
                <a:ext cx="1600560" cy="46296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15"/>
              <p:cNvSpPr/>
              <p:nvPr/>
            </p:nvSpPr>
            <p:spPr>
              <a:xfrm>
                <a:off x="4243320" y="491724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A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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Box 16"/>
              <p:cNvSpPr/>
              <p:nvPr/>
            </p:nvSpPr>
            <p:spPr>
              <a:xfrm>
                <a:off x="5532840" y="5970240"/>
                <a:ext cx="46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3"/>
            <p:cNvSpPr/>
            <p:nvPr/>
          </p:nvSpPr>
          <p:spPr>
            <a:xfrm>
              <a:off x="147600" y="3727800"/>
              <a:ext cx="383688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arhi et al. 2011: Quantum money from kno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898560" y="4748760"/>
              <a:ext cx="2786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     </a:t>
              </a:r>
              <a:r>
                <a:rPr b="0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"/>
            <p:cNvSpPr/>
            <p:nvPr/>
          </p:nvSpPr>
          <p:spPr>
            <a:xfrm>
              <a:off x="4243320" y="3722400"/>
              <a:ext cx="457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.-Christiano 2012: Quantum money from hidden subspac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"/>
            <p:cNvSpPr/>
            <p:nvPr/>
          </p:nvSpPr>
          <p:spPr>
            <a:xfrm>
              <a:off x="6191280" y="4663440"/>
              <a:ext cx="2895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vable black-box security!  And non-black-box security under a plausible crypto assump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"/>
            <p:cNvSpPr/>
            <p:nvPr/>
          </p:nvSpPr>
          <p:spPr>
            <a:xfrm>
              <a:off x="2347920" y="3016080"/>
              <a:ext cx="371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Calibri"/>
                  <a:ea typeface="Arial"/>
                </a:rPr>
                <a:t>Main Proposals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5"/>
            <p:cNvSpPr/>
            <p:nvPr/>
          </p:nvSpPr>
          <p:spPr>
            <a:xfrm>
              <a:off x="4142160" y="3722400"/>
              <a:ext cx="0" cy="313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3-08-08T12:34:37Z</dcterms:modified>
  <cp:revision>1728</cp:revision>
  <dc:subject/>
  <dc:title>The Learnability of Quantum States</dc:title>
</cp:coreProperties>
</file>