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6.wmf" ContentType="image/x-wmf"/>
  <Override PartName="/ppt/media/image8.gif" ContentType="image/gi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A98-96CB-478B-BAEA-4D3FA619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E20-2230-4E55-A6A2-A58D5121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5DB-E4E5-4302-AD5B-C2F60C84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660-56FB-410E-8F0E-62B0ACB1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625-908E-4867-BDA9-95DA06D5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779-AFF3-4C51-AB1E-3E81014C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39A-F2F1-4253-B50D-30DF59FC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B12-D6DD-4E34-8D34-C7C989A4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390-99C9-4093-90BC-234F8CEA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02A-A53A-4E69-9B7D-0CE0AE87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4B1-4EBF-43F6-811A-1C66AC58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1E4-B983-46FC-8D81-AB785AA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C223-E813-433C-80C0-96F4964F5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t pour l'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de Avanç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676520"/>
            <a:ext cx="655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993366"/>
                </a:solidFill>
                <a:latin typeface="Arial"/>
              </a:rPr>
              <a:t>Le Principe de la Postselectio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438280"/>
            <a:ext cx="62481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But what about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quantum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anthropic computing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3520" y="2209680"/>
            <a:ext cx="1298520" cy="1657440"/>
            <a:chOff x="533520" y="2209680"/>
            <a:chExt cx="1298520" cy="1657440"/>
          </a:xfrm>
        </p:grpSpPr>
        <p:sp>
          <p:nvSpPr>
            <p:cNvPr id="76" name=""/>
            <p:cNvSpPr/>
            <p:nvPr/>
          </p:nvSpPr>
          <p:spPr>
            <a:xfrm flipV="1">
              <a:off x="820800" y="2246400"/>
              <a:ext cx="69084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533520" y="2246400"/>
              <a:ext cx="12985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rot="16200000">
              <a:off x="990720" y="2798280"/>
              <a:ext cx="38124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41520" y="2498760"/>
              <a:ext cx="541080" cy="425160"/>
              <a:chOff x="641520" y="2498760"/>
              <a:chExt cx="541080" cy="425160"/>
            </a:xfrm>
          </p:grpSpPr>
          <p:sp>
            <p:nvSpPr>
              <p:cNvPr id="80" name=""/>
              <p:cNvSpPr/>
              <p:nvPr/>
            </p:nvSpPr>
            <p:spPr>
              <a:xfrm>
                <a:off x="658440" y="2615040"/>
                <a:ext cx="501120" cy="3088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6600" y="2649600"/>
                <a:ext cx="424800" cy="241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160" y="2667960"/>
                <a:ext cx="20448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20880" y="2729160"/>
                <a:ext cx="32760" cy="33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1520" y="2595600"/>
                <a:ext cx="70920" cy="7812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1080" y="2544120"/>
                <a:ext cx="54720" cy="8532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09280" y="2512080"/>
                <a:ext cx="35280" cy="8676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10600" y="2602800"/>
                <a:ext cx="72000" cy="7704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49400" y="2548800"/>
                <a:ext cx="56160" cy="8460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979560" y="2514600"/>
                <a:ext cx="37800" cy="878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93880" y="2498760"/>
                <a:ext cx="30240" cy="882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254240" y="2498760"/>
              <a:ext cx="541080" cy="425160"/>
              <a:chOff x="1254240" y="2498760"/>
              <a:chExt cx="541080" cy="425160"/>
            </a:xfrm>
          </p:grpSpPr>
          <p:sp>
            <p:nvSpPr>
              <p:cNvPr id="92" name=""/>
              <p:cNvSpPr/>
              <p:nvPr/>
            </p:nvSpPr>
            <p:spPr>
              <a:xfrm>
                <a:off x="1271160" y="2615040"/>
                <a:ext cx="501120" cy="30888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09320" y="2649600"/>
                <a:ext cx="424800" cy="24156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15880" y="2667960"/>
                <a:ext cx="20448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533600" y="2729160"/>
                <a:ext cx="32760" cy="3384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254240" y="2595600"/>
                <a:ext cx="70920" cy="78120"/>
              </a:xfrm>
              <a:custGeom>
                <a:avLst/>
                <a:gdLst/>
                <a:ahLst/>
                <a:rect l="l" t="t" r="r" b="b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33800" y="2544120"/>
                <a:ext cx="54720" cy="85320"/>
              </a:xfrm>
              <a:custGeom>
                <a:avLst/>
                <a:gdLst/>
                <a:ahLst/>
                <a:rect l="l" t="t" r="r" b="b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22000" y="2512080"/>
                <a:ext cx="35280" cy="86760"/>
              </a:xfrm>
              <a:custGeom>
                <a:avLst/>
                <a:gdLst/>
                <a:ahLst/>
                <a:rect l="l" t="t" r="r" b="b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723320" y="2602800"/>
                <a:ext cx="72000" cy="77040"/>
              </a:xfrm>
              <a:custGeom>
                <a:avLst/>
                <a:gdLst/>
                <a:ahLst/>
                <a:rect l="l" t="t" r="r" b="b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62120" y="2548800"/>
                <a:ext cx="56160" cy="84600"/>
              </a:xfrm>
              <a:custGeom>
                <a:avLst/>
                <a:gdLst/>
                <a:ahLst/>
                <a:rect l="l" t="t" r="r" b="b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92280" y="2514600"/>
                <a:ext cx="37800" cy="8784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06600" y="2498760"/>
                <a:ext cx="30240" cy="88200"/>
              </a:xfrm>
              <a:custGeom>
                <a:avLst/>
                <a:gdLst/>
                <a:ahLst/>
                <a:rect l="l" t="t" r="r" b="b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 flipV="1">
              <a:off x="1181160" y="220968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315200" y="2209680"/>
            <a:ext cx="1317600" cy="1657440"/>
            <a:chOff x="7315200" y="2209680"/>
            <a:chExt cx="1317600" cy="1657440"/>
          </a:xfrm>
        </p:grpSpPr>
        <p:sp>
          <p:nvSpPr>
            <p:cNvPr id="105" name=""/>
            <p:cNvSpPr/>
            <p:nvPr/>
          </p:nvSpPr>
          <p:spPr>
            <a:xfrm flipH="1" flipV="1">
              <a:off x="7654680" y="2246400"/>
              <a:ext cx="69048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 flipH="1">
              <a:off x="7315200" y="2246400"/>
              <a:ext cx="13176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flipH="1" rot="5400000">
              <a:off x="7777080" y="2958840"/>
              <a:ext cx="380880" cy="54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8007120" y="2614680"/>
              <a:ext cx="500040" cy="309600"/>
              <a:chOff x="8007120" y="2614680"/>
              <a:chExt cx="500040" cy="309600"/>
            </a:xfrm>
          </p:grpSpPr>
          <p:sp>
            <p:nvSpPr>
              <p:cNvPr id="109" name=""/>
              <p:cNvSpPr/>
              <p:nvPr/>
            </p:nvSpPr>
            <p:spPr>
              <a:xfrm flipH="1">
                <a:off x="8006760" y="26146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8044920" y="26496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8157600" y="26686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8211600" y="27288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94400" y="2614680"/>
              <a:ext cx="500040" cy="309600"/>
              <a:chOff x="7394400" y="2614680"/>
              <a:chExt cx="500040" cy="30960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7394040" y="26146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432200" y="26496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544880" y="26686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598880" y="27288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H="1" flipV="1">
              <a:off x="7624440" y="220968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99"/>
                </a:solidFill>
                <a:latin typeface="Arial"/>
              </a:rPr>
              <a:t>PostBQP</a:t>
            </a:r>
            <a:endParaRPr b="1" lang="en-US" sz="7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80988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of languages decidable by a bounded-error polynomial-time quantum computer, if at any time you can measure a qubit that has a nonzero probability of being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ssu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outcome will be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77160" y="609480"/>
            <a:ext cx="2166840" cy="2667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81080" y="762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uclid Fraktur"/>
              </a:rPr>
              <a:t>I hereby define a ne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Euclid Fraktur"/>
              </a:rPr>
              <a:t>complexity clas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flipH="1">
            <a:off x="-360" y="609480"/>
            <a:ext cx="2104920" cy="2590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89480" y="2819520"/>
            <a:ext cx="39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Postselected BQ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Another Important Animal: PP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447920"/>
            <a:ext cx="7391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of languages decidable by a nondeterministic poly-time Turing machine that accepts iff the majority of its paths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352680"/>
            <a:ext cx="5333760" cy="312444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3962520"/>
            <a:ext cx="4267440" cy="251460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4572000"/>
            <a:ext cx="3200400" cy="1905120"/>
          </a:xfrm>
          <a:prstGeom prst="ellipse">
            <a:avLst/>
          </a:prstGeom>
          <a:solidFill>
            <a:srgbClr val="ff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5181480"/>
            <a:ext cx="2133360" cy="129564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525780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464832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403848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#P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3429000"/>
            <a:ext cx="21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5791320"/>
            <a:ext cx="1067040" cy="685800"/>
          </a:xfrm>
          <a:prstGeom prst="ellipse">
            <a:avLst/>
          </a:prstGeom>
          <a:solidFill>
            <a:srgbClr val="d3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5867280"/>
            <a:ext cx="106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orem (A., 2004):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ostBQP = PP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209680"/>
            <a:ext cx="5715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expectedly, this theorem turned out to have an implication fo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lexity: the simplest known proof of the “Beigel-Reingold-Spielman Theorem,” that PP is closed under inter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tou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371600"/>
            <a:ext cx="815328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“maximally mixed state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just the uniform distribution over n-bit str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33520" y="2666880"/>
            <a:ext cx="7924680" cy="3432960"/>
            <a:chOff x="533520" y="2666880"/>
            <a:chExt cx="7924680" cy="3432960"/>
          </a:xfrm>
        </p:grpSpPr>
        <p:sp>
          <p:nvSpPr>
            <p:cNvPr id="144" name=""/>
            <p:cNvSpPr/>
            <p:nvPr/>
          </p:nvSpPr>
          <p:spPr>
            <a:xfrm>
              <a:off x="533520" y="2666880"/>
              <a:ext cx="792468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But a key fact about quantum mechanics is that, given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ny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orthogonal basis of n-qubit quantum states,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819520" y="4127400"/>
                  <a:ext cx="27432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⟩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sub>
                      </m:sSub>
                      <m:r>
                        <m:t xml:space="preserve">⟩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33520" y="5029200"/>
              <a:ext cx="7772400" cy="10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e could just as well write I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as the uniform distribution over that basi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Proof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371600"/>
            <a:ext cx="7848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M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efined by Kitaev and Watrous) is the quantum version of NP: “Does there exist a quantum state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cepted by such-and-such a circuit with high probability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58128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 NP, QMA doesn’t seem to be “self-reducible”—we don’t know how to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onstruc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n an oracle for QMA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4100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w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truct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PostBQP.  (Why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040120" cy="2895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267080"/>
            <a:ext cx="845820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BQP/qpol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lass of languages decidable by polynomial-size, bounded-error quantum circuits, given a polynomial-siz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quantum advic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pends only on the input length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143000"/>
            <a:ext cx="586764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ike &amp; Ik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We know that many systems in Nature ‘prefer’ to sit in highly entangled states of many systems; might it be possible to exploit this preference to obtain extra computational powe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144792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powerful is quantum advi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438280"/>
            <a:ext cx="78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ld it let us solve problems that are not even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comput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n classical advice of similar size?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22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3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2895480"/>
            <a:ext cx="8610480" cy="3733920"/>
          </a:xfrm>
          <a:prstGeom prst="rect">
            <a:avLst/>
          </a:prstGeom>
          <a:solidFill>
            <a:srgbClr val="ffff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imitations of Quantum Advic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523880"/>
            <a:ext cx="815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NP </a:t>
            </a:r>
            <a:r>
              <a:rPr b="1" lang="en-US" sz="3600" spc="-1" strike="noStrike">
                <a:solidFill>
                  <a:srgbClr val="cc3399"/>
                </a:solidFill>
                <a:latin typeface="Symbol"/>
                <a:ea typeface="Symbol"/>
              </a:rPr>
              <a:t>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 BQP/qpo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lative to an oracl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direct product theorem for quantum se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0481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BQP/qpoly </a:t>
            </a:r>
            <a:r>
              <a:rPr b="1" lang="en-US" sz="3600" spc="-1" strike="noStrike">
                <a:solidFill>
                  <a:srgbClr val="cc3399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 PostBQP/poly</a:t>
            </a:r>
            <a:br>
              <a:rPr sz="3600"/>
            </a:b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( = PP/po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4419720"/>
            <a:ext cx="8153280" cy="1809720"/>
            <a:chOff x="457200" y="4419720"/>
            <a:chExt cx="8153280" cy="180972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2009880" y="5562720"/>
                  <a:ext cx="5122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f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Q</m:t>
                              </m:r>
                            </m:e>
                            <m:sub>
                              <m:r>
                                <m:t xml:space="preserve">ε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sSubSup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ε</m:t>
                              </m:r>
                            </m:sub>
                            <m:sup>
                              <m:r>
                                <m:t xml:space="preserve">1</m:t>
                              </m:r>
                            </m:sup>
                          </m:sSub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f</m:t>
                              </m:r>
                            </m:e>
                          </m:d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457200" y="4419720"/>
              <a:ext cx="81532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losely related: for all (partial or total) Boolean functions f : {0,1}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{0,1}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{0,1},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lice’s Classical Advi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280" y="4648320"/>
            <a:ext cx="1733760" cy="2009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09680" y="914400"/>
            <a:ext cx="6705720" cy="5791320"/>
          </a:xfrm>
          <a:prstGeom prst="wedgeRoundRectCallout">
            <a:avLst>
              <a:gd name="adj1" fmla="val -58523"/>
              <a:gd name="adj2" fmla="val 1968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b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se you used the maximally mixed state in place of your quantum advice. 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xicographically first input for which you’d output the right answer with probability less than 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uppose you succeeded o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used the resulting reduced state as your advice. 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xicographically first input afte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which you’d output the right answer with probability less than ½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1066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295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1523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1752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1981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2096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2438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809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0384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352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2895480"/>
            <a:ext cx="2286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3124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905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30481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523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666880"/>
            <a:ext cx="53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985400" y="997200"/>
            <a:ext cx="7100280" cy="6026040"/>
            <a:chOff x="1985400" y="997200"/>
            <a:chExt cx="7100280" cy="6026040"/>
          </a:xfrm>
        </p:grpSpPr>
        <p:sp>
          <p:nvSpPr>
            <p:cNvPr id="190" name=""/>
            <p:cNvSpPr/>
            <p:nvPr/>
          </p:nvSpPr>
          <p:spPr>
            <a:xfrm rot="1092600">
              <a:off x="2514600" y="1832040"/>
              <a:ext cx="604188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29000" y="3124080"/>
              <a:ext cx="36576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Given an input x, clearly lets Bob decide in PostBQP whether x</a:t>
              </a: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uld you ever learn enough about a person to predict his or her future behavior reliably?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0"/>
            <a:ext cx="1752840" cy="175248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4648320"/>
            <a:ext cx="1752480" cy="1752480"/>
          </a:xfrm>
          <a:prstGeom prst="smileyFace">
            <a:avLst>
              <a:gd name="adj" fmla="val 928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3352680"/>
            <a:ext cx="1219320" cy="12193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666880"/>
            <a:ext cx="3352680" cy="2667240"/>
          </a:xfrm>
          <a:prstGeom prst="cloudCallout">
            <a:avLst>
              <a:gd name="adj1" fmla="val 66523"/>
              <a:gd name="adj2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But how many inputs must Alice specify?</a:t>
            </a:r>
            <a:endParaRPr b="1" lang="en-US" sz="3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914400"/>
            <a:ext cx="7848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</a:t>
            </a: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bo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quantum advice state so that the error probability on any input is at most (say)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100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n Bob can reuse the advice on as many inputs as he l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048120"/>
            <a:ext cx="7848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can decompose the maximally mixed state on p(n) qubits as the boosted advice plus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p(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1 orthogonal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472428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ce needs to specify at most p(n) inputs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 since each one cuts Bob’s total success probability by at least half, but the probability must be at least ~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p(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y the 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PP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Does Not Have Quantum Circuits of Size n</a:t>
            </a:r>
            <a:r>
              <a:rPr b="1" lang="en-US" sz="40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971800"/>
            <a:ext cx="487692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066680" y="1600200"/>
            <a:ext cx="5410080" cy="1373400"/>
            <a:chOff x="1066680" y="1600200"/>
            <a:chExt cx="5410080" cy="1373400"/>
          </a:xfrm>
        </p:grpSpPr>
        <p:sp>
          <p:nvSpPr>
            <p:cNvPr id="199" name=""/>
            <p:cNvSpPr/>
            <p:nvPr/>
          </p:nvSpPr>
          <p:spPr>
            <a:xfrm>
              <a:off x="1066680" y="1600200"/>
              <a:ext cx="4495680" cy="1373400"/>
            </a:xfrm>
            <a:prstGeom prst="rect">
              <a:avLst/>
            </a:prstGeom>
            <a:solidFill>
              <a:srgbClr val="ffffc1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U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: Picks a size-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quantum circuit uniformly at random and runs i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2360" y="22860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553080" y="2057400"/>
            <a:ext cx="6098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2666880"/>
            <a:ext cx="6098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553080" y="2057400"/>
            <a:ext cx="1295640" cy="4343400"/>
            <a:chOff x="6553080" y="2057400"/>
            <a:chExt cx="1295640" cy="4343400"/>
          </a:xfrm>
        </p:grpSpPr>
        <p:sp>
          <p:nvSpPr>
            <p:cNvPr id="204" name=""/>
            <p:cNvSpPr/>
            <p:nvPr/>
          </p:nvSpPr>
          <p:spPr>
            <a:xfrm>
              <a:off x="6553080" y="205740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53080" y="2666880"/>
              <a:ext cx="609840" cy="55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53080" y="327672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3080" y="388620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3080" y="4495680"/>
              <a:ext cx="609840" cy="55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3080" y="5105520"/>
              <a:ext cx="6098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1680" y="5867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1680" y="6095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1680" y="632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8880" y="205740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8880" y="266688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8880" y="327672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38880" y="388620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8880" y="449568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8880" y="5105520"/>
              <a:ext cx="609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066680" y="3657600"/>
            <a:ext cx="487692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ed on deciding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rrectly, 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267080"/>
            <a:ext cx="487692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ed on deciding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rrectly, does U accep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.p.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½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es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no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069 L 0.00416 0.10058 E">
                                      <p:cBhvr>
                                        <p:cTn id="17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10058 L 0.00416 0.18798 E">
                                      <p:cBhvr>
                                        <p:cTn id="189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1295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ny k, defines a language L that does not have quantum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85800" y="2590920"/>
            <a:ext cx="7848720" cy="1509480"/>
            <a:chOff x="685800" y="2590920"/>
            <a:chExt cx="7848720" cy="1509480"/>
          </a:xfrm>
        </p:grpSpPr>
        <p:sp>
          <p:nvSpPr>
            <p:cNvPr id="223" name=""/>
            <p:cNvSpPr/>
            <p:nvPr/>
          </p:nvSpPr>
          <p:spPr>
            <a:xfrm>
              <a:off x="685800" y="2590920"/>
              <a:ext cx="78487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66"/>
                  </a:solidFill>
                  <a:latin typeface="Arial"/>
                </a:rPr>
                <a:t>Why?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Intuitively, each iteration cuts the number of potential circuits in half, but there were at most            circuits to begin with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124440" y="3429000"/>
                  <a:ext cx="10666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~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5" name=""/>
          <p:cNvSpPr/>
          <p:nvPr/>
        </p:nvSpPr>
        <p:spPr>
          <a:xfrm>
            <a:off x="685800" y="434340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other hand, clearly 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18720" y="155880"/>
            <a:ext cx="7100280" cy="6026040"/>
            <a:chOff x="918720" y="155880"/>
            <a:chExt cx="7100280" cy="6026040"/>
          </a:xfrm>
        </p:grpSpPr>
        <p:sp>
          <p:nvSpPr>
            <p:cNvPr id="227" name=""/>
            <p:cNvSpPr/>
            <p:nvPr/>
          </p:nvSpPr>
          <p:spPr>
            <a:xfrm rot="1092600">
              <a:off x="1447920" y="990720"/>
              <a:ext cx="604188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2320" y="2282760"/>
              <a:ext cx="36576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ven works for quantum circuits with quantum advice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Arial"/>
              </a:rPr>
              <a:t>Quantum Karp-Lipton Theorem</a:t>
            </a:r>
            <a:endParaRPr b="1" lang="en-US" sz="4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09480" y="1752480"/>
            <a:ext cx="7772400" cy="1464480"/>
            <a:chOff x="609480" y="1752480"/>
            <a:chExt cx="7772400" cy="1464480"/>
          </a:xfrm>
        </p:grpSpPr>
        <p:sp>
          <p:nvSpPr>
            <p:cNvPr id="231" name=""/>
            <p:cNvSpPr/>
            <p:nvPr/>
          </p:nvSpPr>
          <p:spPr>
            <a:xfrm>
              <a:off x="609480" y="1752480"/>
              <a:ext cx="77724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 PP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BQP/qpoly, then the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counting hierarchy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—consisting of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tc.—collapses to P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5029200" y="2133360"/>
                  <a:ext cx="3193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P</m:t>
                      </m:r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P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PP</m:t>
                              </m:r>
                            </m:sup>
                          </m:sSup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3" name=""/>
          <p:cNvSpPr/>
          <p:nvPr/>
        </p:nvSpPr>
        <p:spPr>
          <a:xfrm>
            <a:off x="609480" y="3505320"/>
            <a:ext cx="777240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ls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P does not have quantum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XP requires quantum circuits of size f(n), where f(f(n)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ding Thought: What Makes Science Possible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3623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which we can observe, we can und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429000"/>
            <a:ext cx="8229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which we can observe, and then observe in a new situation where we can’t predict what it will do even given the earlier observation, and so on for a polynomial number of steps, we can understand (provided we can postselect a description consistent with our observ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590920"/>
            <a:ext cx="800100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 Show PP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stBQP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06668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a Boolean function f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s=|{x : f(x)=1}|.  Need to decide if s&gt;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80880" y="2298600"/>
            <a:ext cx="8455320" cy="2293920"/>
            <a:chOff x="380880" y="2298600"/>
            <a:chExt cx="8455320" cy="2293920"/>
          </a:xfrm>
        </p:grpSpPr>
        <p:sp>
          <p:nvSpPr>
            <p:cNvPr id="241" name=""/>
            <p:cNvSpPr/>
            <p:nvPr/>
          </p:nvSpPr>
          <p:spPr>
            <a:xfrm>
              <a:off x="380880" y="2361960"/>
              <a:ext cx="12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2" name=""/>
            <p:cNvGraphicFramePr/>
            <p:nvPr/>
          </p:nvGraphicFramePr>
          <p:xfrm>
            <a:off x="1641600" y="2298600"/>
            <a:ext cx="2813040" cy="90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1600" y="2298600"/>
                      <a:ext cx="281304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457200" y="3352680"/>
            <a:ext cx="8379000" cy="1239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3352680"/>
                      <a:ext cx="837900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4572000" y="2361960"/>
              <a:ext cx="396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e can easily prepar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80880" y="46483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cide if these amplitudes have the same or opposite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352680"/>
            <a:ext cx="1981440" cy="533520"/>
          </a:xfrm>
          <a:prstGeom prst="roundRect">
            <a:avLst>
              <a:gd name="adj" fmla="val 50000"/>
            </a:avLst>
          </a:pr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3352680"/>
            <a:ext cx="304920" cy="53352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533520"/>
              <a:gd name="textAreaBottom" fmla="*/ 488880 h 533520"/>
            </a:gdLst>
            <a:ahLst/>
            <a:rect l="textAreaLeft" t="textAreaTop" r="textAreaRight" b="textAreaBottom"/>
            <a:pathLst>
              <a:path w="21600" h="37775">
                <a:moveTo>
                  <a:pt x="10800" y="0"/>
                </a:moveTo>
                <a:arcTo wR="10800" hR="10800" stAng="16200000" swAng="-5400000"/>
                <a:lnTo>
                  <a:pt x="0" y="26975"/>
                </a:lnTo>
                <a:arcTo wR="10800" hR="10800" stAng="10800000" swAng="-5400000"/>
                <a:lnTo>
                  <a:pt x="10800" y="377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569916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some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postselect on second qubit being |1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57200" y="5029200"/>
            <a:ext cx="8229600" cy="1239840"/>
            <a:chOff x="457200" y="5029200"/>
            <a:chExt cx="8229600" cy="1239840"/>
          </a:xfrm>
        </p:grpSpPr>
        <p:graphicFrame>
          <p:nvGraphicFramePr>
            <p:cNvPr id="252" name=""/>
            <p:cNvGraphicFramePr/>
            <p:nvPr/>
          </p:nvGraphicFramePr>
          <p:xfrm>
            <a:off x="1752480" y="5029200"/>
            <a:ext cx="4614840" cy="123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52480" y="5029200"/>
                      <a:ext cx="461484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4" name=""/>
            <p:cNvSpPr/>
            <p:nvPr/>
          </p:nvSpPr>
          <p:spPr>
            <a:xfrm>
              <a:off x="457200" y="52578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Yield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77120" y="525780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n first qubi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 Show PP </a:t>
            </a:r>
            <a:r>
              <a:rPr b="1" lang="en-US" sz="44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PostBQP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5029200"/>
            <a:ext cx="8229600" cy="1239840"/>
            <a:chOff x="457200" y="5029200"/>
            <a:chExt cx="8229600" cy="1239840"/>
          </a:xfrm>
        </p:grpSpPr>
        <p:graphicFrame>
          <p:nvGraphicFramePr>
            <p:cNvPr id="258" name=""/>
            <p:cNvGraphicFramePr/>
            <p:nvPr/>
          </p:nvGraphicFramePr>
          <p:xfrm>
            <a:off x="1752480" y="5029200"/>
            <a:ext cx="4614840" cy="12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5029200"/>
                      <a:ext cx="461484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>
              <a:off x="457200" y="525780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Yield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77120" y="5257800"/>
              <a:ext cx="2209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n first qubi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33520" y="1676520"/>
            <a:ext cx="304776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320040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676520"/>
            <a:ext cx="14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124080" y="1676520"/>
          <a:ext cx="49860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76520"/>
                    <a:ext cx="4986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 flipV="1">
            <a:off x="2051280" y="212940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905120" y="1143000"/>
          <a:ext cx="41580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143000"/>
                    <a:ext cx="4158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581280" y="2895480"/>
          <a:ext cx="443160" cy="55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2895480"/>
                    <a:ext cx="4431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 flipV="1">
            <a:off x="2066760" y="1973880"/>
            <a:ext cx="895680" cy="123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043000" y="2306160"/>
            <a:ext cx="1248120" cy="874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60280" y="3210480"/>
            <a:ext cx="1518120" cy="1328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5029200"/>
            <a:ext cx="228600" cy="5335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533520"/>
              <a:gd name="textAreaBottom" fmla="*/ 500040 h 533520"/>
            </a:gdLst>
            <a:ahLst/>
            <a:rect l="textAreaLeft" t="textAreaTop" r="textAreaRight" b="textAreaBottom"/>
            <a:pathLst>
              <a:path w="21600" h="50366">
                <a:moveTo>
                  <a:pt x="10800" y="0"/>
                </a:moveTo>
                <a:arcTo wR="10800" hR="10800" stAng="16200000" swAng="-5400000"/>
                <a:lnTo>
                  <a:pt x="0" y="39566"/>
                </a:lnTo>
                <a:arcTo wR="10800" hR="10800" stAng="10800000" swAng="-5400000"/>
                <a:lnTo>
                  <a:pt x="10800" y="503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5029200"/>
            <a:ext cx="1219320" cy="533520"/>
          </a:xfrm>
          <a:prstGeom prst="roundRect">
            <a:avLst>
              <a:gd name="adj" fmla="val 50000"/>
            </a:avLst>
          </a:prstGeom>
          <a:solidFill>
            <a:srgbClr val="ff33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419720" y="1219320"/>
            <a:ext cx="4190760" cy="3597120"/>
            <a:chOff x="4419720" y="1219320"/>
            <a:chExt cx="4190760" cy="3597120"/>
          </a:xfrm>
        </p:grpSpPr>
        <p:sp>
          <p:nvSpPr>
            <p:cNvPr id="278" name=""/>
            <p:cNvSpPr/>
            <p:nvPr/>
          </p:nvSpPr>
          <p:spPr>
            <a:xfrm>
              <a:off x="4419720" y="1219320"/>
              <a:ext cx="4190760" cy="26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uppose s and 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-2s are both positiv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n by trying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for all i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{-n,…,n}, we’ll eventually get close to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9" name=""/>
            <p:cNvGraphicFramePr/>
            <p:nvPr/>
          </p:nvGraphicFramePr>
          <p:xfrm>
            <a:off x="5410080" y="3810240"/>
            <a:ext cx="1980720" cy="1006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10080" y="3810240"/>
                      <a:ext cx="1980720" cy="100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1" name=""/>
          <p:cNvSpPr/>
          <p:nvPr/>
        </p:nvSpPr>
        <p:spPr>
          <a:xfrm>
            <a:off x="4495680" y="1295280"/>
            <a:ext cx="4038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other hand, if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s is negative, then we won’t.  Q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304920"/>
            <a:ext cx="822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Beigel, Reingold, Spielman 1990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P is “closed under intersection”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ed a problem that was open for 18 year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724280"/>
            <a:ext cx="6248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classical results proved with quantum techniques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enidis &amp; de Wolf, A., Aharonov &amp; Regev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905120"/>
            <a:ext cx="807732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Observa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stBQP is trivially closed under intersection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P is to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tBQP, to decide if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ostselect on both computations succeeding, and accept iff they both ac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629400" y="4952880"/>
            <a:ext cx="1317600" cy="1657440"/>
            <a:chOff x="6629400" y="4952880"/>
            <a:chExt cx="1317600" cy="1657440"/>
          </a:xfrm>
        </p:grpSpPr>
        <p:sp>
          <p:nvSpPr>
            <p:cNvPr id="286" name=""/>
            <p:cNvSpPr/>
            <p:nvPr/>
          </p:nvSpPr>
          <p:spPr>
            <a:xfrm flipH="1" flipV="1">
              <a:off x="6968880" y="4989600"/>
              <a:ext cx="690480" cy="16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 flipH="1">
              <a:off x="6629400" y="4989600"/>
              <a:ext cx="13176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flipH="1" rot="5400000">
              <a:off x="7091280" y="5702040"/>
              <a:ext cx="380880" cy="540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7321320" y="5357880"/>
              <a:ext cx="500040" cy="309600"/>
              <a:chOff x="7321320" y="5357880"/>
              <a:chExt cx="500040" cy="309600"/>
            </a:xfrm>
          </p:grpSpPr>
          <p:sp>
            <p:nvSpPr>
              <p:cNvPr id="290" name=""/>
              <p:cNvSpPr/>
              <p:nvPr/>
            </p:nvSpPr>
            <p:spPr>
              <a:xfrm flipH="1">
                <a:off x="7320960" y="53578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359120" y="53928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7471800" y="54118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7525800" y="54720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708600" y="5357880"/>
              <a:ext cx="500040" cy="309600"/>
              <a:chOff x="6708600" y="5357880"/>
              <a:chExt cx="500040" cy="30960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6708240" y="5357880"/>
                <a:ext cx="500040" cy="309600"/>
              </a:xfrm>
              <a:custGeom>
                <a:avLst/>
                <a:gdLst/>
                <a:ahLst/>
                <a:rect l="l" t="t" r="r" b="b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6746400" y="5392800"/>
                <a:ext cx="423720" cy="241200"/>
              </a:xfrm>
              <a:custGeom>
                <a:avLst/>
                <a:gdLst/>
                <a:ahLst/>
                <a:rect l="l" t="t" r="r" b="b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6859080" y="5411880"/>
                <a:ext cx="204840" cy="204480"/>
              </a:xfrm>
              <a:custGeom>
                <a:avLst/>
                <a:gdLst/>
                <a:ahLst/>
                <a:rect l="l" t="t" r="r" b="b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913080" y="547200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H="1" flipV="1">
              <a:off x="6938640" y="4952880"/>
              <a:ext cx="360360" cy="8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ample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666880" cy="167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3565440"/>
            <a:ext cx="7543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novels don’t just put their characters in random situations—they repeatedly subject the characters to “crucial tests” that reveal aspects of their personalities we didn’t already k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1992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 gue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267080" y="2819520"/>
            <a:ext cx="1397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Karp-Lipton Theorem (1982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3059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se NP-complete problems were solvable in polynomial time, but only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onuniform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that is, with polynomial-size circu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we could use those circuits to collapse the Polynomial-Time Hierarchy down to the seocnd level, N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would be almost as shocking as if P=NP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f pigs could whistle, then donkeys could fly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e want to exploit a small circuit for solving NP-complete problems… but all we know is that it exists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666880"/>
            <a:ext cx="830592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ther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xi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circuit C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uch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or 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oolean formula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size 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 correctly decides whether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satisfiable,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 outputs “yes” on whatever problem we wanted to solve originall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But why should we care?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020320" y="1334160"/>
            <a:ext cx="6027120" cy="4953240"/>
            <a:chOff x="2020320" y="1334160"/>
            <a:chExt cx="6027120" cy="4953240"/>
          </a:xfrm>
        </p:grpSpPr>
        <p:sp>
          <p:nvSpPr>
            <p:cNvPr id="60" name=""/>
            <p:cNvSpPr/>
            <p:nvPr/>
          </p:nvSpPr>
          <p:spPr>
            <a:xfrm rot="1092600">
              <a:off x="2437920" y="2057400"/>
              <a:ext cx="5191200" cy="3506760"/>
            </a:xfrm>
            <a:prstGeom prst="irregularSeal2">
              <a:avLst/>
            </a:prstGeom>
            <a:solidFill>
              <a:srgbClr val="ff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68560" y="2970360"/>
              <a:ext cx="365760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0000"/>
                  </a:solidFill>
                  <a:latin typeface="Arial"/>
                </a:rPr>
                <a:t>CIRCUIT LOWER BOUNDS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305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orem (Kannan 1982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every k, there exists a language in N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oes not have circuits of size 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1809720"/>
            <a:ext cx="8381880" cy="1255320"/>
            <a:chOff x="304920" y="1809720"/>
            <a:chExt cx="8381880" cy="1255320"/>
          </a:xfrm>
        </p:grpSpPr>
        <p:sp>
          <p:nvSpPr>
            <p:cNvPr id="64" name=""/>
            <p:cNvSpPr/>
            <p:nvPr/>
          </p:nvSpPr>
          <p:spPr>
            <a:xfrm>
              <a:off x="304920" y="2057400"/>
              <a:ext cx="8381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Proof: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It’s not hard to show that 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doesn’t have circuits of size n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867280" y="1809720"/>
                  <a:ext cx="137160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" name=""/>
          <p:cNvGrpSpPr/>
          <p:nvPr/>
        </p:nvGrpSpPr>
        <p:grpSpPr>
          <a:xfrm>
            <a:off x="304920" y="3200400"/>
            <a:ext cx="8381880" cy="3092040"/>
            <a:chOff x="304920" y="3200400"/>
            <a:chExt cx="8381880" cy="3092040"/>
          </a:xfrm>
        </p:grpSpPr>
        <p:sp>
          <p:nvSpPr>
            <p:cNvPr id="67" name=""/>
            <p:cNvSpPr/>
            <p:nvPr/>
          </p:nvSpPr>
          <p:spPr>
            <a:xfrm>
              <a:off x="304920" y="3200400"/>
              <a:ext cx="8381880" cy="30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o eithe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P doesn’t have circuits of size n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, in which case NP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NP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doesn’t either, o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P </a:t>
              </a: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does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have circuits of size n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, in which cas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nd we win again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304920" y="5486400"/>
                  <a:ext cx="2895480" cy="7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Bshouty et al.’s Improvement (1994)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295280"/>
            <a:ext cx="830592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function f:{0,1}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 has a polynomial-size circuit, then we ca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circuit in ZPP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rovided we can somehow compute 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PP: Zero-Error Probabilistic Polynomial-Ti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dea: Iterative learning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Repeatedly find an inpu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that, among the circuits that correctly compute f on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t least a 1/3 fraction g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rocess can’t continue for lo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24480" y="716040"/>
            <a:ext cx="7438320" cy="6136920"/>
            <a:chOff x="924480" y="716040"/>
            <a:chExt cx="7438320" cy="6136920"/>
          </a:xfrm>
        </p:grpSpPr>
        <p:sp>
          <p:nvSpPr>
            <p:cNvPr id="72" name=""/>
            <p:cNvSpPr/>
            <p:nvPr/>
          </p:nvSpPr>
          <p:spPr>
            <a:xfrm rot="1092600">
              <a:off x="1444680" y="1606320"/>
              <a:ext cx="6397560" cy="4356000"/>
            </a:xfrm>
            <a:prstGeom prst="irregularSeal2">
              <a:avLst/>
            </a:prstGeom>
            <a:solidFill>
              <a:srgbClr val="e5ff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14600" y="3048120"/>
              <a:ext cx="36576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Corollary: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ZPP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Arial"/>
                </a:rPr>
                <a:t>NP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 does not have circuits of size n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2:08:45Z</dcterms:created>
  <dc:creator>Scott Aaronson</dc:creator>
  <dc:description/>
  <dc:language>en-US</dc:language>
  <cp:lastModifiedBy>Scott Aaronson</cp:lastModifiedBy>
  <dcterms:modified xsi:type="dcterms:W3CDTF">2005-08-27T14:28:43Z</dcterms:modified>
  <cp:revision>43</cp:revision>
  <dc:subject/>
  <dc:title>The Amazing Power of Postselection</dc:title>
</cp:coreProperties>
</file>