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1897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01D3-A645-41AA-A572-40AB90AD9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2A77-CBC0-4E6D-9FBE-BF6B3BE7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A873-CE8F-489D-A49A-5729FF0A3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EB0D-938D-498E-BD48-D6D5CF2CA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BF90-52C0-4A66-94CB-8BC1382C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68BE-177B-4CB4-AC60-714F3BF1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D8BC-58DF-4AFB-ACCA-B92F0C3D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7D5F-C6EB-4B5B-B234-469102F6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AD30-596A-40EE-9997-96C01329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7D06-5E3A-4776-A1BC-1A596AF8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F79C-F960-4BE9-A4BD-9F84367D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F915-114A-4FDF-B3D3-28E7D69A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0889A-E4CA-42E0-B3BD-A0A9BB969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antum Lower Bounds</a:t>
            </a:r>
            <a:br>
              <a:rPr sz="44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e Polynomial and Adversary Method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ember 14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lim Exam Ta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Approximate Degree of OR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676520"/>
            <a:ext cx="77724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orem (Ehlich, Zeller 1964; Rivlin, Cheney 1966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et p: R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be a polynomial s.t.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i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every integer   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 and |dp(x)/dx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 for some real 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. 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(p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cn / (c +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rollary (Nisan, Szegedy 1994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~deg(O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oof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et r: R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be symmetrization of approximating polynomial for O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Then 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(i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 for every integer         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, and dr(x)/d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1/3 for some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0,1] because          r(0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/3 and r(1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/3.  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(r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n/3 / (1/3 + 1 – 0)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Definitions: C(f) and bs(f)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1676520"/>
            <a:ext cx="7772400" cy="49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otal Boolean function f and input 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X with variables in set B fli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ertificate complex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) = Minimum size of set A s.t. f(X) = f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all B disjoint from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(f) = ma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lock sensitiv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) = Maximum numbe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sjo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s B s.t. f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s(f) = ma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mmedia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s(f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(f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(f), D(f) deterministic query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cc"/>
                </a:solidFill>
                <a:latin typeface="Arial"/>
              </a:rPr>
              <a:t>Bound for Total Boolean Functions</a:t>
            </a:r>
            <a:endParaRPr b="1" lang="en-US" sz="35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1600200"/>
            <a:ext cx="777240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heorem (Beals et al.)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D(f) = O(Q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f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for all total f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Proof overview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s(f) = O(Q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f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.  Follows easily from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 lower bound for O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(f)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s(f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  Proved on next slid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(f)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(f) bs(f).  Proof omitted.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dea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evaluate f, repeatedly query a 1-certificate consistent with everything queried so far.  Need to repeat at most bs(f) tim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33520" y="457200"/>
            <a:ext cx="8001000" cy="62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mma (Nisan 1991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(f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s(f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oof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et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0,1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input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disjoint minimal blocks s.t. b = b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s(f).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ai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0,1}, variables set according to X, is a certificate for X of size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s(f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C were not a certificate, let X’ be input that agrees with C s.t. f(X’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(X).  Let X’ =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Then B is a sensitive block for X disjoint fro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ntradi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, |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s(f).  For if we flip a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variable in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B[i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unction value must flip from f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B[i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o f(X), otherwise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ouldn’t be minimal.  So every singleton in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ensitive block for f on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B[i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Hence size of C 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s(f) bs(f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Is lemma tight?  Open problem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Quantum Adversary Method</a:t>
            </a:r>
            <a:br>
              <a:rPr sz="4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mbainis, STOC’2000, to appear in JCSS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ey Id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 algorithm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uper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inp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(I=inputs, A=algorithm) a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ipartite quantum st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ly I and A ar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unentangl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By end of computation, they must b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ighly entangl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per-bound how much entanglement can increase via a single que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nsity matri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Density Matrice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1676520"/>
            <a:ext cx="746748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ixed sta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stribution over quantum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e., one part of composite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Not mixed: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on-unique decomposition into pure sta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.p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.p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w.p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,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w.p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nsity matrix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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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has (i,j) entr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s all measurable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Entanglement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Quantum state is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entangle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f not a mixture of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roduct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tates for which measuring one subsystem reveal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hing about other subsyste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Exampl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(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0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|01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|1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|11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 unentangl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0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w.p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|11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w.p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unentangl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0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|11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: entangled (EPR pair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Plan of Attack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nput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1/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S|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i,z,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t,i,z,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t,i,z,a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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t,i,z,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after t quer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itially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put and algorithm unentangled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pure state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/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S|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ll X,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end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ighly entangled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ighly mixed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(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/(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S|) (say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ll X,Y with f(X)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Y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oal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pper-bou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,Y:f(X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(Y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|(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-|(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609480"/>
            <a:ext cx="8229600" cy="59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emma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X,Y with f(X)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(Y)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(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(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/|S|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roof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i,z,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i,z,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i,z,a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i,z,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i,z,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i,z,a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final algorithm states on X and Y respectively.  Th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1/|S|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i,z,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i,z,a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i,z,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/|S|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i,z,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i,z,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i,z,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i,z,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by Cauchy-Schwarz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/|S|) {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i,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i,z,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i,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i,z,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i,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i,z,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i,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i,z,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 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/|S|)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-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, where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error prob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457200"/>
            <a:ext cx="8153280" cy="65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O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of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et S contain all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Hamming wt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n-1 and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/2 (say); we show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,Y:f(X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(Y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,z,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,z,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,Y:f(X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(Y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,z,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,z,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,z,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,z,a,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,z,a,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inc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,z,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pure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query map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,z,a,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(-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x[i]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,z,a,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,z,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         (-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x[i]+y[i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,z,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And for all X,Y, x[i]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[i] for only two values of i, so only four rows/columns change. 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 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,z,a,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,z,a,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,z,a,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= 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by Cauchy-Schwar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Motivation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76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Quantum computing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odel of computation based on our best-confirmed physical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understand quantum computing, must know limitations as well as cap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can QC’s decide NP in polynomial ti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rt money says no, but proving it implies 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76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opular alternativ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udy restricted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Game-Tree Search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some problems, adversary method yields better bound than polynomial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.e. AND o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 OR’s o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 vars 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Upper bound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cursive Grover, O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 log 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s(f) = O(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f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yields only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f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dversary method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f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dea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can be changed i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 places to produce Y s.t. f(X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(Y), Y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Talk Overview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ntro to Quantum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olynomial Method (Beals et al. 199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lower bound for 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of D(f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1/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ound for total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dversary Method (Ambainis 2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nsity matrices and entang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lower bound for search (aga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The Quantum Model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of computer: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uper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ver binary 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each string Y, associate complex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mplitu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easu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ee Y with probability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irac ket nota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 written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|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called a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asis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Unitary Evolution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ntum state changes by multiplying amplitude vector with unitary matrix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(t+1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U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(t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is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unit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f 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† conjugate transp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inear transformation that preserves norm=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ircuit model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must be efficiently compu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lack-box model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 such restr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743200" y="3809880"/>
          <a:ext cx="1828800" cy="11653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/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4572000" y="40384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0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|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  =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Query Model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lgorithm state i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i,z,a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i,z,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i,z,a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 index to query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 workspace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 answer b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put: X=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{0,1}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Query replaces each |i,z,a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y (-1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x[i]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i,z,a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lgorithm alternates unitaries and queri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re arbitrary, but independent of inpu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y end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i,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i,z,f(X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2/3 for every X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Lower Bounds by Polynomials</a:t>
            </a:r>
            <a:br>
              <a:rPr sz="40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Beals, Buhrman, Cleve, Mosca, de Wolf, FOCS 1998</a:t>
            </a:r>
            <a:br>
              <a:rPr sz="2400"/>
            </a:b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ey 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f) = minimum no. of queries used by quantum alg that evaluates f: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0,1} w.p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/3 for all X=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quantum algorithm makes T queries, acceptance probability is degree-2T polynomial over input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ies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f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deg(f)/2, where ~deg(f) = min degree of polynomial p s.t. |p(X)–f(X)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/3 for all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w ~deg(f) is large for function f of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304920"/>
            <a:ext cx="8153280" cy="66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Lemma: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(f)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~deg(f)/2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Proof: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After T queries, amplitude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i,z,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of basis state |i,z,a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is a complex-valued multilinear polynomial of degree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T over 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  By induc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Base case: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Before any queries,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i,z,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is degree-0 polynomia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Query: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Replaces each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i,z,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by (1-2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i,z,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  Increases degree by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1.  Since 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{0,1}, can replace 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by 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87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Unitary: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Replaces each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i,z,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by linear combination of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i’,z’,a’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  So degree doesn’t increas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parating real and imaginary parts,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i,z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</a:rPr>
              <a:t>i,z,f(X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7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is a real-valued multilinear polynomial of degree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2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380880"/>
            <a:ext cx="7772400" cy="62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mma (Minsky, Papert 1968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p: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is a multilinear polynomial, there’s a polynomial q: R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s.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(q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g(p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(|X|) =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y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) = (1/n!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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(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|X|: Hamming weight of 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(n): Symmetric grou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oof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et d = deg(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y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g(p).  Le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sum of all products of j distinct variables.  Since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y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symmetric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y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) =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…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some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. 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sumes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(|X|,j) = |X|(|X|-1)(|X|-2)…(|X|-j+1)/j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X, which is a polynomial of degree j of |X|.  So construct q(|X|) of degree d according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4T21:52:18Z</dcterms:created>
  <dc:creator>aaronson</dc:creator>
  <dc:description/>
  <dc:language>en-US</dc:language>
  <cp:lastModifiedBy>aaronson</cp:lastModifiedBy>
  <dcterms:modified xsi:type="dcterms:W3CDTF">2001-09-17T21:20:07Z</dcterms:modified>
  <cp:revision>26</cp:revision>
  <dc:subject/>
  <dc:title>Quantum Lower Bounds The Polynomial and Adversary Methods</dc:title>
</cp:coreProperties>
</file>