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A96-7F8B-4475-9A9B-77E94095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426-036A-4360-A75D-1334B346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A9D-D3CF-4759-B6FD-D19A861B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5E6-EE55-417B-A2AA-65CFF044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BDB1-3309-4582-8F5D-AA632911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2A0-ED40-4E76-9F6E-C87151F1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D08-0532-4C4A-9E11-FE57BB73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1DD-3028-42C1-9365-F7A39C73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CC1-E3ED-48C9-B69A-4E12C647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F18-AED8-42B4-9AC8-D691F5E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572-E68A-4D39-94E3-99509C7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B24-E687-4CF9-87DA-5A1073C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DCE1-E433-4AEB-BCED-6D85B7D90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Lower Bounds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Polynomial and Adversary Method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 Exam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roximate Degree of OR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676520"/>
            <a:ext cx="7772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orem (Ehlich, Zeller 1964; Rivlin, Cheney 1966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p: 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be a polynomial s.t.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very integer  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 and |dp(x)/dx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for some real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.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(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cn / (c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rollary (Nisan, Szegedy 1994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deg(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r: 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be symmetrization of approximating polynomial for 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n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for every integer        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, and dr(x)/d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/3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0,1] because          r(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3 and r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/3. 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/3 / (1/3 + 1 – 0)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tions: C(f) and bs(f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7772400" cy="49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otal Boolean function f and input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 with variables in set B fli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ertificate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= Minimum size of set A s.t. f(X) = f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all B disjoint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f) =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lock se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= Maximum numb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j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s B s.t. 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(f) =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medi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(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(f), D(f) deterministic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Bound for Total Boolean Functions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00200"/>
            <a:ext cx="777240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orem (Beals et al.)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(f) = O(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for all total 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roof overvie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s(f) = O(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.  Follows easily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 lower bound for O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(f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s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 Proved on next sl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(f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(f) bs(f).  Proof omitted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evaluate f, repeatedly query a 1-certificate consistent with everything queried so far.  Need to repeat at most bs(f) tim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57200"/>
            <a:ext cx="8001000" cy="62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mma (Nisan 1991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(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input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disjoint minimal blocks s.t. b = 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i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0,1}, variables set according to X, is a certificate for X of size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 were not a certificate, let X’ be input that agrees with C s.t. f(X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(X).  Let X’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n B is a sensitive block for X disjoint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rad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, |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.  For if we flip a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riable in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[i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unction value must flip from f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[i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f(X), otherwise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n’t be minimal.  So every singleton 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nsitive block for f on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[i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Hence size of C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 bs(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s lemma tight?  Open problem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Adversary Method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mbainis, STOC’2000, to appear in JCS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y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algorithm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per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(I=inputs, A=algorithm) 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ipartite quantum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I and A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entang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By end of computation, they must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ghly entang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-bound how much entanglement can increase via a single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nsity matr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nsity Matric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676520"/>
            <a:ext cx="7467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xed sta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tribution over quantum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one part of composit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t mixed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-unique decomposition into pure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.p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.p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w.p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,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w.p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nsity matri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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has (i,j) ent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all measurabl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ntanglemen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uantum state 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ntangl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not a mixture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duct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tates for which measuring one subsystem revea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hing about other subs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0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|0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|1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|1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unentangl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0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|1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unentangl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0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|1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entangled (EPR pai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lan of Attac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S|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,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,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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,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after t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itially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put and algorithm unentangle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ure stat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S|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X,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nd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ghly entangle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ghly mixe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(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S|) (say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X,Y with f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per-b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,Y:f(X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(Y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09480"/>
            <a:ext cx="8229600" cy="59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mma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X,Y with f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(Y)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|S|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final algorithm states on X and Y respectively.  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/|S|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|S|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y Cauchy-Schwarz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|S|) {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/|S|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wher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rror pro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457200"/>
            <a:ext cx="8153280" cy="65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t S contain all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amming wt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n-1 and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/2 (say); we show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,Y:f(X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(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,Y:f(X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(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i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ur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ery map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[i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        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[i]+y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And for all X,Y, x[i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[i] for only two values of i, so only four rows/columns change. 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 Cauchy-Schwar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antum comput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l of computation based on our best-confirmed physical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quantum computing, must know limitations as well as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can QC’s decide NP in polynomial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money says no, but proving it implies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pular alterna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dy restricte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ame-Tree Sear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problems, adversary method yields better bound than polynomial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AND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OR’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vars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pper boun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ursive Grover, O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(f) = O(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ields only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versary metho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can be changed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places to produce Y s.t. f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Y),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verview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ro to Quantu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ynomial Method (Beals et al. 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lower bound fo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D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/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und for tot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versary Method (Ambainis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ity matrices and entang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lower bound for search (ag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Quantum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computer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per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binary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ach string Y, associate complex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asu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e Y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ac ket not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 writte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i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Unitary Evol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um state changes by multiplying amplitude vector with unitary matrix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t+1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U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 conjugate trans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near transformation that preserves norm=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rcuit mode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must be efficiently comp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ack-box mode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such 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43200" y="3809880"/>
          <a:ext cx="1828800" cy="11653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57200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|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  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ery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gorithm state i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index to query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workspace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answer b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put: X=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uery replaces each 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y (-1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x[i]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gorithm alternates unitaries and queri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re arbitrary, but independent of inp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end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f(X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2/3 for every X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ower Bounds by Polynomials</a:t>
            </a:r>
            <a:br>
              <a:rPr sz="40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eals, Buhrman, Cleve, Mosca, de Wolf, FOCS 1998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ey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) = minimum no. of queries used by quantum alg that evaluates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1}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/3 for all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quantum algorithm makes T queries, acceptance probability is degree-2T polynomial over input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es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deg(f)/2, where ~deg(f) = min degree of polynomial p s.t. |p(X)–f(X)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/3 for all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~deg(f) is large for function f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815328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Lemma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f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~deg(f)/2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fter T queries, amplitud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of basis state |i,z,a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a complex-valued multilinear polynomial of degre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 over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 By indu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ase case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fore any queries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degree-0 polynomi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Query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eplaces each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y (1-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 Increases degree b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.  Since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0,1}, can replace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y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Unitary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eplaces each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y linear combination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’,z’,a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 So degree doesn’t increa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parating real and imaginary parts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f(X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a real-valued multilinear polynomial of degre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2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80880"/>
            <a:ext cx="7772400" cy="62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mma (Minsky, Papert 1968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p: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is a multilinear polynomial, there’s a polynomial q: 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(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g(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(|X|) =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= (1/n!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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|X|: Hamming weight of 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(n): Symmetric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d = deg(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g(p).  Le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um of all products of j distinct variables.  Since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ymmetric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ume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(|X|,j) = |X|(|X|-1)(|X|-2)…(|X|-j+1)/j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X, which is a polynomial of degree j of |X|.  So construct q(|X|) of degree d according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21:52:18Z</dcterms:created>
  <dc:creator>aaronson</dc:creator>
  <dc:description/>
  <dc:language>en-US</dc:language>
  <cp:lastModifiedBy>aaronson</cp:lastModifiedBy>
  <dcterms:modified xsi:type="dcterms:W3CDTF">2001-09-17T21:20:07Z</dcterms:modified>
  <cp:revision>26</cp:revision>
  <dc:subject/>
  <dc:title>Quantum Lower Bounds The Polynomial and Adversary Methods</dc:title>
</cp:coreProperties>
</file>