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1.png" ContentType="image/png"/>
  <Override PartName="/ppt/media/image20.gif" ContentType="image/gif"/>
  <Override PartName="/ppt/media/image18.jpeg" ContentType="image/jpe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6.wmf" ContentType="image/x-wmf"/>
  <Override PartName="/ppt/media/image19.jpeg" ContentType="image/jpe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973-A0E1-44D2-A6E8-C921379E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DC1-8DE1-4191-AE47-F8C6E4AF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5EB-0448-4108-9685-4F4E8839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784-BD6C-4A24-9333-AB567A26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C74-0F31-4239-9412-A0AB6404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69F-EC2D-451B-BEB3-870F708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D8E-C667-4A6C-AAF1-F3C3CB6C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381-DA19-4395-A130-D3B5E3C8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088-01AB-4E64-8DC3-BE2FABFA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5B2-5B2D-4320-A02A-73080F9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BE1-CD5F-4C1A-975E-1C855F14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A98-83B1-4C4A-ABEE-ED02634F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0550-7357-4D2B-95B5-4F844421D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312600">
            <a:off x="304560" y="380880"/>
            <a:ext cx="7543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CES OF COMPLEXITY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04840" y="2133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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X Featur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9866600">
            <a:off x="4578840" y="44161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Arial"/>
              </a:rPr>
              <a:t>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37400">
            <a:off x="2895120" y="3428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921400">
            <a:off x="1441440" y="4495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0040" y="4035600"/>
            <a:ext cx="60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-0.04208 L 0.13333 0.20208 E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81 -0.00439 L 0.30486 -0.17086 E">
                                      <p:cBhvr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98 -0.02613 L -0.35902 -0.09272 E">
                                      <p:cBhvr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omething about a question by conditioning on the fact that you’re ask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28600"/>
            <a:ext cx="8610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3399"/>
                </a:solidFill>
                <a:latin typeface="Arial"/>
              </a:rPr>
              <a:t>What </a:t>
            </a:r>
            <a:r>
              <a:rPr b="1" lang="en-US" sz="70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5500" spc="-1" strike="noStrike">
                <a:solidFill>
                  <a:srgbClr val="333399"/>
                </a:solidFill>
                <a:latin typeface="Arial"/>
              </a:rPr>
              <a:t>Postselection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5800" y="3429000"/>
            <a:ext cx="7772400" cy="2511360"/>
            <a:chOff x="685800" y="3429000"/>
            <a:chExt cx="7772400" cy="251136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2743200" y="3552840"/>
              <a:ext cx="3809880" cy="23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6477120" y="3429000"/>
              <a:ext cx="19047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762120" y="3429000"/>
              <a:ext cx="19047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666880" y="4267080"/>
              <a:ext cx="304920" cy="290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72200" y="4114800"/>
              <a:ext cx="304920" cy="290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48769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RKEL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00800" y="48769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MBRI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2481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about the quantum case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4382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nthropic Computing”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foolproof way to solve NP-complete problems in polynomial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85800" y="3886200"/>
            <a:ext cx="7848720" cy="2286000"/>
            <a:chOff x="685800" y="3886200"/>
            <a:chExt cx="7848720" cy="2286000"/>
          </a:xfrm>
        </p:grpSpPr>
        <p:sp>
          <p:nvSpPr>
            <p:cNvPr id="78" name=""/>
            <p:cNvSpPr/>
            <p:nvPr/>
          </p:nvSpPr>
          <p:spPr>
            <a:xfrm>
              <a:off x="1143000" y="4496040"/>
              <a:ext cx="7391520" cy="16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874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ccept the many-worlds interpreta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51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Generate a random truth assignment X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51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 X doesn’t satisfy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, kill yourself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14400" y="4572000"/>
              <a:ext cx="228600" cy="1600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3886200"/>
              <a:ext cx="5943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Input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A Boolean formula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85800" y="380880"/>
            <a:ext cx="1298520" cy="1657440"/>
            <a:chOff x="685800" y="380880"/>
            <a:chExt cx="1298520" cy="1657440"/>
          </a:xfrm>
        </p:grpSpPr>
        <p:sp>
          <p:nvSpPr>
            <p:cNvPr id="82" name=""/>
            <p:cNvSpPr/>
            <p:nvPr/>
          </p:nvSpPr>
          <p:spPr>
            <a:xfrm flipV="1">
              <a:off x="973080" y="417600"/>
              <a:ext cx="69084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685800" y="417600"/>
              <a:ext cx="12985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16200000">
              <a:off x="1143000" y="969480"/>
              <a:ext cx="38124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93800" y="669960"/>
              <a:ext cx="541080" cy="425160"/>
              <a:chOff x="793800" y="669960"/>
              <a:chExt cx="541080" cy="425160"/>
            </a:xfrm>
          </p:grpSpPr>
          <p:sp>
            <p:nvSpPr>
              <p:cNvPr id="86" name=""/>
              <p:cNvSpPr/>
              <p:nvPr/>
            </p:nvSpPr>
            <p:spPr>
              <a:xfrm>
                <a:off x="810720" y="786240"/>
                <a:ext cx="501120" cy="3088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48880" y="820800"/>
                <a:ext cx="424800" cy="241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55440" y="839160"/>
                <a:ext cx="20448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73160" y="900360"/>
                <a:ext cx="32760" cy="33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93800" y="766800"/>
                <a:ext cx="70920" cy="7812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73360" y="715320"/>
                <a:ext cx="54720" cy="8532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61560" y="683280"/>
                <a:ext cx="35280" cy="8676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262880" y="774000"/>
                <a:ext cx="72000" cy="7704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01680" y="720000"/>
                <a:ext cx="56160" cy="8460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31840" y="685800"/>
                <a:ext cx="37800" cy="878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46160" y="669960"/>
                <a:ext cx="30240" cy="882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406520" y="669960"/>
              <a:ext cx="541080" cy="425160"/>
              <a:chOff x="1406520" y="669960"/>
              <a:chExt cx="541080" cy="425160"/>
            </a:xfrm>
          </p:grpSpPr>
          <p:sp>
            <p:nvSpPr>
              <p:cNvPr id="98" name=""/>
              <p:cNvSpPr/>
              <p:nvPr/>
            </p:nvSpPr>
            <p:spPr>
              <a:xfrm>
                <a:off x="1423440" y="786240"/>
                <a:ext cx="501120" cy="3088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61600" y="820800"/>
                <a:ext cx="424800" cy="241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68160" y="839160"/>
                <a:ext cx="20448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685880" y="900360"/>
                <a:ext cx="32760" cy="33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06520" y="766800"/>
                <a:ext cx="70920" cy="7812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86080" y="715320"/>
                <a:ext cx="54720" cy="8532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74280" y="683280"/>
                <a:ext cx="35280" cy="8676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75600" y="774000"/>
                <a:ext cx="72000" cy="7704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14400" y="720000"/>
                <a:ext cx="56160" cy="8460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44560" y="685800"/>
                <a:ext cx="37800" cy="878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58880" y="669960"/>
                <a:ext cx="30240" cy="882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V="1">
              <a:off x="1333440" y="38088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162920" y="380880"/>
            <a:ext cx="1317600" cy="1657440"/>
            <a:chOff x="7162920" y="380880"/>
            <a:chExt cx="1317600" cy="1657440"/>
          </a:xfrm>
        </p:grpSpPr>
        <p:sp>
          <p:nvSpPr>
            <p:cNvPr id="111" name=""/>
            <p:cNvSpPr/>
            <p:nvPr/>
          </p:nvSpPr>
          <p:spPr>
            <a:xfrm flipH="1" flipV="1">
              <a:off x="7502400" y="417600"/>
              <a:ext cx="69048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 flipH="1">
              <a:off x="7162920" y="417600"/>
              <a:ext cx="13176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flipH="1" rot="5400000">
              <a:off x="7624800" y="1130040"/>
              <a:ext cx="380880" cy="54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7854840" y="785880"/>
              <a:ext cx="500040" cy="309600"/>
              <a:chOff x="7854840" y="785880"/>
              <a:chExt cx="500040" cy="309600"/>
            </a:xfrm>
          </p:grpSpPr>
          <p:sp>
            <p:nvSpPr>
              <p:cNvPr id="115" name=""/>
              <p:cNvSpPr/>
              <p:nvPr/>
            </p:nvSpPr>
            <p:spPr>
              <a:xfrm flipH="1">
                <a:off x="7854480" y="7858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892640" y="8208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8005320" y="8398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8059320" y="9000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7242120" y="785880"/>
              <a:ext cx="500040" cy="309600"/>
              <a:chOff x="7242120" y="785880"/>
              <a:chExt cx="500040" cy="30960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7241760" y="7858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279920" y="8208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392600" y="8398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446600" y="9000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H="1" flipV="1">
              <a:off x="7472160" y="38088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 This Talk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971800"/>
            <a:ext cx="8001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ill lead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xtremely simple proof of the celebrated Beigel-Reingold-Spielman theo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ations on quantum advice and one-way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Unrelativiz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antum circuit lower b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143000"/>
            <a:ext cx="77724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ll study what you could do with a quantum computer,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ou could measure a qubit and postselect on its being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Arial"/>
              </a:rPr>
              <a:t>PostBQP</a:t>
            </a:r>
            <a:endParaRPr b="1" lang="en-US" sz="7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809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of languages decidable by a bounded-error polynomial-time quantum computer, if at any time you can measure a qubit that has a nonzero probability of being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ssu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outcome will be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977160" y="609480"/>
            <a:ext cx="2166840" cy="2667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uclid Fraktur"/>
              </a:rPr>
              <a:t>I hereby define a ne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Euclid Fraktur"/>
              </a:rPr>
              <a:t>complexity clas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flipH="1">
            <a:off x="-360" y="609480"/>
            <a:ext cx="2104920" cy="259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89480" y="2819520"/>
            <a:ext cx="39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Postselected BQ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Another Important Animal: PP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447920"/>
            <a:ext cx="7391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of languages decidable by a nondeterministic poly-time Turing machine that accepts iff the majority of its paths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352680"/>
            <a:ext cx="5333760" cy="312444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962520"/>
            <a:ext cx="4267440" cy="251460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572000"/>
            <a:ext cx="3200400" cy="1905120"/>
          </a:xfrm>
          <a:prstGeom prst="ellipse">
            <a:avLst/>
          </a:prstGeom>
          <a:solidFill>
            <a:srgbClr val="ff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81480"/>
            <a:ext cx="2133360" cy="129564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525780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46483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403848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34290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5791320"/>
            <a:ext cx="1067040" cy="68580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orem: PostBQP = PP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1447920"/>
            <a:ext cx="8555040" cy="4919400"/>
            <a:chOff x="380880" y="1447920"/>
            <a:chExt cx="8555040" cy="4919400"/>
          </a:xfrm>
        </p:grpSpPr>
        <p:sp>
          <p:nvSpPr>
            <p:cNvPr id="150" name=""/>
            <p:cNvSpPr/>
            <p:nvPr/>
          </p:nvSpPr>
          <p:spPr>
            <a:xfrm>
              <a:off x="380880" y="1447920"/>
              <a:ext cx="8458200" cy="49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Arial"/>
                </a:rPr>
                <a:t>Easy half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PostBQP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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P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dleman, DeMarrais, and Huang (1997) showed BQP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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PP using “Feynman sum-over-histories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Arial"/>
                </a:rPr>
                <a:t>Idea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Write acceptance and rejection probabilities as sums of exponentially many easy-to-compute terms; then use PP to decide which sum is greate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or PostBQP, just sum over postselected outcomes on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8458200" y="2666880"/>
              <a:ext cx="47772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 Show PP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stBQP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0666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a Boolean function f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s=|{x : f(x)=1}|.  Need to decide if s&g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2298600"/>
            <a:ext cx="8455320" cy="2293920"/>
            <a:chOff x="380880" y="2298600"/>
            <a:chExt cx="8455320" cy="2293920"/>
          </a:xfrm>
        </p:grpSpPr>
        <p:sp>
          <p:nvSpPr>
            <p:cNvPr id="155" name=""/>
            <p:cNvSpPr/>
            <p:nvPr/>
          </p:nvSpPr>
          <p:spPr>
            <a:xfrm>
              <a:off x="380880" y="2361960"/>
              <a:ext cx="12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641600" y="2298600"/>
            <a:ext cx="2813040" cy="90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1600" y="2298600"/>
                      <a:ext cx="281304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457200" y="3352680"/>
            <a:ext cx="8379000" cy="123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3352680"/>
                      <a:ext cx="837900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>
              <a:off x="4572000" y="2361960"/>
              <a:ext cx="396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e can easily prepar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80880" y="46483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ide if these amplitudes have the same or opposite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3352680"/>
            <a:ext cx="1981440" cy="533520"/>
          </a:xfrm>
          <a:prstGeom prst="roundRect">
            <a:avLst>
              <a:gd name="adj" fmla="val 50000"/>
            </a:avLst>
          </a:pr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352680"/>
            <a:ext cx="304920" cy="5335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533520"/>
              <a:gd name="textAreaBottom" fmla="*/ 488880 h 533520"/>
            </a:gdLst>
            <a:ahLst/>
            <a:rect l="textAreaLeft" t="textAreaTop" r="textAreaRight" b="textAreaBottom"/>
            <a:pathLst>
              <a:path w="21600" h="37775">
                <a:moveTo>
                  <a:pt x="10800" y="0"/>
                </a:moveTo>
                <a:arcTo wR="10800" hR="10800" stAng="16200000" swAng="-5400000"/>
                <a:lnTo>
                  <a:pt x="0" y="26975"/>
                </a:lnTo>
                <a:arcTo wR="10800" hR="10800" stAng="10800000" swAng="-5400000"/>
                <a:lnTo>
                  <a:pt x="10800" y="377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69916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som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postselect on second qubit being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57200" y="5029200"/>
            <a:ext cx="8229600" cy="1239840"/>
            <a:chOff x="457200" y="5029200"/>
            <a:chExt cx="8229600" cy="1239840"/>
          </a:xfrm>
        </p:grpSpPr>
        <p:graphicFrame>
          <p:nvGraphicFramePr>
            <p:cNvPr id="166" name=""/>
            <p:cNvGraphicFramePr/>
            <p:nvPr/>
          </p:nvGraphicFramePr>
          <p:xfrm>
            <a:off x="1752480" y="5029200"/>
            <a:ext cx="4614840" cy="123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52480" y="5029200"/>
                      <a:ext cx="461484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"/>
            <p:cNvSpPr/>
            <p:nvPr/>
          </p:nvSpPr>
          <p:spPr>
            <a:xfrm>
              <a:off x="457200" y="52578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Yield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7120" y="525780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n first qubi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 Show PP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stBQP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5029200"/>
            <a:ext cx="8229600" cy="1239840"/>
            <a:chOff x="457200" y="5029200"/>
            <a:chExt cx="8229600" cy="1239840"/>
          </a:xfrm>
        </p:grpSpPr>
        <p:graphicFrame>
          <p:nvGraphicFramePr>
            <p:cNvPr id="172" name=""/>
            <p:cNvGraphicFramePr/>
            <p:nvPr/>
          </p:nvGraphicFramePr>
          <p:xfrm>
            <a:off x="1752480" y="5029200"/>
            <a:ext cx="4614840" cy="12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5029200"/>
                      <a:ext cx="461484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457200" y="52578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Yield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525780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n first qubi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3520" y="1676520"/>
            <a:ext cx="304776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320040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676520"/>
            <a:ext cx="14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124080" y="1676520"/>
          <a:ext cx="49860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4986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 flipV="1">
            <a:off x="2051280" y="212940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905120" y="1143000"/>
          <a:ext cx="41580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143000"/>
                    <a:ext cx="41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581280" y="2895480"/>
          <a:ext cx="443160" cy="55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2895480"/>
                    <a:ext cx="4431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 flipV="1">
            <a:off x="2066760" y="1973880"/>
            <a:ext cx="895680" cy="123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043000" y="2306160"/>
            <a:ext cx="1248120" cy="874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60280" y="3210480"/>
            <a:ext cx="1518120" cy="132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5029200"/>
            <a:ext cx="228600" cy="5335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533520"/>
              <a:gd name="textAreaBottom" fmla="*/ 500040 h 533520"/>
            </a:gdLst>
            <a:ahLst/>
            <a:rect l="textAreaLeft" t="textAreaTop" r="textAreaRight" b="textAreaBottom"/>
            <a:pathLst>
              <a:path w="21600" h="50366">
                <a:moveTo>
                  <a:pt x="10800" y="0"/>
                </a:moveTo>
                <a:arcTo wR="10800" hR="10800" stAng="16200000" swAng="-5400000"/>
                <a:lnTo>
                  <a:pt x="0" y="39566"/>
                </a:lnTo>
                <a:arcTo wR="10800" hR="10800" stAng="10800000" swAng="-5400000"/>
                <a:lnTo>
                  <a:pt x="10800" y="503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5029200"/>
            <a:ext cx="1219320" cy="533520"/>
          </a:xfrm>
          <a:prstGeom prst="roundRect">
            <a:avLst>
              <a:gd name="adj" fmla="val 50000"/>
            </a:avLst>
          </a:pr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19720" y="1219320"/>
            <a:ext cx="4190760" cy="3597120"/>
            <a:chOff x="4419720" y="1219320"/>
            <a:chExt cx="4190760" cy="3597120"/>
          </a:xfrm>
        </p:grpSpPr>
        <p:sp>
          <p:nvSpPr>
            <p:cNvPr id="192" name=""/>
            <p:cNvSpPr/>
            <p:nvPr/>
          </p:nvSpPr>
          <p:spPr>
            <a:xfrm>
              <a:off x="4419720" y="1219320"/>
              <a:ext cx="4190760" cy="26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uppose s and 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-2s are both positiv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n by trying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for all i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{-n,…,n}, we’ll eventually get close to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5410080" y="3810240"/>
            <a:ext cx="1980720" cy="1006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10080" y="3810240"/>
                      <a:ext cx="1980720" cy="100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5" name=""/>
          <p:cNvSpPr/>
          <p:nvPr/>
        </p:nvSpPr>
        <p:spPr>
          <a:xfrm>
            <a:off x="4495680" y="1295280"/>
            <a:ext cx="4038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hand, if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s is negative, then we won’t.  Q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2286000"/>
            <a:ext cx="7238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ly unexpectedly, the PostBQP=PP theorem turned out to have implications 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lexity theor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397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1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457200"/>
            <a:ext cx="655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Scott’s Grab Bag o’ Cheap Yuk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3049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Beigel, Reingold, Spielman 1990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P is “closed under intersection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ed a problem that was open for 18 yea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876920"/>
            <a:ext cx="8153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Other Classical Results Proved With Quantum Techniqu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enidis &amp; de Wolf, A., Aharonov &amp; Regev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07732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Observa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stBQP is trivially closed under interse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P is to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BQP, to decide if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ostselect on both computations succeeding, and accept iff they both ac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43800" y="4572000"/>
            <a:ext cx="1317600" cy="1657440"/>
            <a:chOff x="7543800" y="4572000"/>
            <a:chExt cx="1317600" cy="1657440"/>
          </a:xfrm>
        </p:grpSpPr>
        <p:sp>
          <p:nvSpPr>
            <p:cNvPr id="203" name=""/>
            <p:cNvSpPr/>
            <p:nvPr/>
          </p:nvSpPr>
          <p:spPr>
            <a:xfrm flipH="1" flipV="1">
              <a:off x="7883280" y="4608720"/>
              <a:ext cx="69048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 flipH="1">
              <a:off x="7543800" y="4608720"/>
              <a:ext cx="13176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flipH="1" rot="5400000">
              <a:off x="8005680" y="5321160"/>
              <a:ext cx="380880" cy="54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8235720" y="4977000"/>
              <a:ext cx="500040" cy="309600"/>
              <a:chOff x="8235720" y="4977000"/>
              <a:chExt cx="500040" cy="30960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8235360" y="497700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8273520" y="501192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8386200" y="503100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8440200" y="509112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623000" y="4977000"/>
              <a:ext cx="500040" cy="309600"/>
              <a:chOff x="7623000" y="4977000"/>
              <a:chExt cx="500040" cy="309600"/>
            </a:xfrm>
          </p:grpSpPr>
          <p:sp>
            <p:nvSpPr>
              <p:cNvPr id="212" name=""/>
              <p:cNvSpPr/>
              <p:nvPr/>
            </p:nvSpPr>
            <p:spPr>
              <a:xfrm flipH="1">
                <a:off x="7622640" y="497700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7660800" y="501192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7773480" y="503100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7827480" y="509112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H="1" flipV="1">
              <a:off x="7853040" y="457200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ther Results that PostBQP=PP Makes Simple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590920"/>
            <a:ext cx="441972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ortnow and Reingol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ortnow and Rog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Kitaev and Watro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066680" y="2438280"/>
                <a:ext cx="23623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66680" y="3352680"/>
                <a:ext cx="29289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QP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66680" y="4267080"/>
                <a:ext cx="2740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MA</m:t>
                    </m:r>
                    <m:r>
                      <m:t xml:space="preserve">⊆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040120" cy="2895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267080"/>
            <a:ext cx="845820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BQP/qpo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lass of languages decidable by polynomial-size, bounded-error quantum circuits, given a polynomial-siz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uantum advic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pends only on the input length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143000"/>
            <a:ext cx="586764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ike &amp; Ik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We know that many systems in Nature ‘prefer’ to sit in highly entangled states of many systems; might it be possible to exploit this preference to obtain extra computational powe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144792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powerful is quantum advi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43828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ld it let us solve problems that are not even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recursively enumer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classical advice of similar size?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28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3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2895480"/>
            <a:ext cx="8610480" cy="373392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mitations of Quantum Advic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523880"/>
            <a:ext cx="815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NP </a:t>
            </a:r>
            <a:r>
              <a:rPr b="1" lang="en-US" sz="3600" spc="-1" strike="noStrike">
                <a:solidFill>
                  <a:srgbClr val="cc3399"/>
                </a:solidFill>
                <a:latin typeface="Symbol"/>
                <a:ea typeface="Symbol"/>
              </a:rPr>
              <a:t>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 BQP/qpo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lative to an oracl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direct product theorem for quantum 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8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BQP/qpoly </a:t>
            </a:r>
            <a:r>
              <a:rPr b="1" lang="en-US" sz="3600" spc="-1" strike="noStrike">
                <a:solidFill>
                  <a:srgbClr val="cc3399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 PostBQP/poly</a:t>
            </a:r>
            <a:br>
              <a:rPr sz="3600"/>
            </a:b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( = PP/po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57200" y="4419720"/>
            <a:ext cx="8153280" cy="1809720"/>
            <a:chOff x="457200" y="4419720"/>
            <a:chExt cx="8153280" cy="1809720"/>
          </a:xfrm>
        </p:grpSpPr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2009880" y="5562720"/>
                  <a:ext cx="5122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f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Q</m:t>
                              </m:r>
                            </m:e>
                            <m:sub>
                              <m:r>
                                <m:t xml:space="preserve">ε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sSubSup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ε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457200" y="4419720"/>
              <a:ext cx="8153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losely related: for all (partial or total) Boolean functions f : {0,1}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{0,1}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{0,1},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ice’s Classical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1733760" cy="20095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09680" y="914400"/>
            <a:ext cx="6705720" cy="5791320"/>
          </a:xfrm>
          <a:prstGeom prst="wedgeRoundRectCallout">
            <a:avLst>
              <a:gd name="adj1" fmla="val -58523"/>
              <a:gd name="adj2" fmla="val 1968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b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se you used the maximally mixed state in place of your quantum advice. 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xicographically first input for which you’d output the right answer with probability less than 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uppose you succeeded 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used the resulting reduced state as your advice. 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xicographically first input afte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hich you’d output the right answer with probability less than ½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1066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1295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1523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1752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09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3809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4038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3352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2895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124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1905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048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523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666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985400" y="997200"/>
            <a:ext cx="7100280" cy="6026040"/>
            <a:chOff x="1985400" y="997200"/>
            <a:chExt cx="7100280" cy="6026040"/>
          </a:xfrm>
        </p:grpSpPr>
        <p:sp>
          <p:nvSpPr>
            <p:cNvPr id="261" name=""/>
            <p:cNvSpPr/>
            <p:nvPr/>
          </p:nvSpPr>
          <p:spPr>
            <a:xfrm rot="1092600">
              <a:off x="2514600" y="1832040"/>
              <a:ext cx="604188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29000" y="3124080"/>
              <a:ext cx="36576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Given an input x, clearly lets Bob decide in PostBQP whether x</a:t>
              </a: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But how many inputs must Alice specify?</a:t>
            </a:r>
            <a:endParaRPr b="1" lang="en-US" sz="3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914400"/>
            <a:ext cx="7848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bo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quantum advice state so that the error probability on any input is at most (say)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00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n Bob can reuse the advice on as many inputs as he l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304812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decompose the maximally mixed state on p(n) qubits as the boosted advice plus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p(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 orthogonal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72428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ce needs to specify at most p(n) inputs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 since each one cuts Bob’s total success probability by least half, but the probability must b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p(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by the 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P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Does Not Have Quantum Circuits of Size n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971800"/>
            <a:ext cx="487692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066680" y="1600200"/>
            <a:ext cx="5410080" cy="1373400"/>
            <a:chOff x="1066680" y="1600200"/>
            <a:chExt cx="5410080" cy="1373400"/>
          </a:xfrm>
        </p:grpSpPr>
        <p:sp>
          <p:nvSpPr>
            <p:cNvPr id="270" name=""/>
            <p:cNvSpPr/>
            <p:nvPr/>
          </p:nvSpPr>
          <p:spPr>
            <a:xfrm>
              <a:off x="1066680" y="1600200"/>
              <a:ext cx="4495680" cy="137340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U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 Picks a size-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quantum circuit uniformly at random and runs i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2360" y="22860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53080" y="2057400"/>
            <a:ext cx="609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666880"/>
            <a:ext cx="609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553080" y="2057400"/>
            <a:ext cx="1295640" cy="4343400"/>
            <a:chOff x="6553080" y="2057400"/>
            <a:chExt cx="1295640" cy="4343400"/>
          </a:xfrm>
        </p:grpSpPr>
        <p:sp>
          <p:nvSpPr>
            <p:cNvPr id="275" name=""/>
            <p:cNvSpPr/>
            <p:nvPr/>
          </p:nvSpPr>
          <p:spPr>
            <a:xfrm>
              <a:off x="6553080" y="205740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53080" y="2666880"/>
              <a:ext cx="609840" cy="55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53080" y="327672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53080" y="388620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3080" y="4495680"/>
              <a:ext cx="609840" cy="55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080" y="510552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81680" y="5867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6095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8168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8880" y="205740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266688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38880" y="327672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38880" y="388620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38880" y="449568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510552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66680" y="3657600"/>
            <a:ext cx="487692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ed on deciding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rrectly, 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4267080"/>
            <a:ext cx="487692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ed on deciding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rrectly, 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069 L 0.00416 0.10058 E">
                                      <p:cBhvr>
                                        <p:cTn id="182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10058 L 0.00416 0.18798 E">
                                      <p:cBhvr>
                                        <p:cTn id="195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1295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ny k, defines a language L that does not have quantum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5800" y="2590920"/>
            <a:ext cx="7848720" cy="1509480"/>
            <a:chOff x="685800" y="2590920"/>
            <a:chExt cx="7848720" cy="1509480"/>
          </a:xfrm>
        </p:grpSpPr>
        <p:sp>
          <p:nvSpPr>
            <p:cNvPr id="294" name=""/>
            <p:cNvSpPr/>
            <p:nvPr/>
          </p:nvSpPr>
          <p:spPr>
            <a:xfrm>
              <a:off x="685800" y="2590920"/>
              <a:ext cx="78487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Why?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Intuitively, each iteration cuts the number of potential circuits in half, but there were at most            circuits to begin wit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3124440" y="3429000"/>
                  <a:ext cx="10666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6" name=""/>
          <p:cNvSpPr/>
          <p:nvPr/>
        </p:nvSpPr>
        <p:spPr>
          <a:xfrm>
            <a:off x="685800" y="43434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hand, clearly 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18720" y="155880"/>
            <a:ext cx="7100280" cy="6026040"/>
            <a:chOff x="918720" y="155880"/>
            <a:chExt cx="7100280" cy="6026040"/>
          </a:xfrm>
        </p:grpSpPr>
        <p:sp>
          <p:nvSpPr>
            <p:cNvPr id="298" name=""/>
            <p:cNvSpPr/>
            <p:nvPr/>
          </p:nvSpPr>
          <p:spPr>
            <a:xfrm rot="1092600">
              <a:off x="1447920" y="990720"/>
              <a:ext cx="604188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2282760"/>
              <a:ext cx="36576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ven works for quantum circuits with quantum advic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so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295280"/>
            <a:ext cx="815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function f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 has a polynomial-size quantum circuit, then a PostBQP machine ca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 circuit using queries to 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5627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iniscent of a classical learning theory result of Bshouty, Cleve, et 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2971800"/>
            <a:ext cx="83818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ui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uess random inputs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quantum circuits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Repeatedly use postselection to f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inpu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which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ircuit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succeeds on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18720" y="689040"/>
            <a:ext cx="7100280" cy="6026040"/>
            <a:chOff x="918720" y="689040"/>
            <a:chExt cx="7100280" cy="6026040"/>
          </a:xfrm>
        </p:grpSpPr>
        <p:sp>
          <p:nvSpPr>
            <p:cNvPr id="305" name=""/>
            <p:cNvSpPr/>
            <p:nvPr/>
          </p:nvSpPr>
          <p:spPr>
            <a:xfrm rot="1092600">
              <a:off x="1447920" y="1523880"/>
              <a:ext cx="604188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62320" y="2815920"/>
              <a:ext cx="36576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ven works for quantum circuits with quantum advic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57200"/>
            <a:ext cx="7086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993366"/>
                </a:solidFill>
                <a:latin typeface="Arial"/>
              </a:rPr>
              <a:t>Dr.</a:t>
            </a: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 Scott’s Grab Bag o’ Cheap Yuk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701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522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nd now for a grand final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85800"/>
            <a:ext cx="9144000" cy="66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0-1-NPC - #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#L - #L/poly - #P - #W[t] - +EXP - +L - +L/poly - +P - +SAC1 - A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P - AC - AC0 - 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[m] - AC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AH - AL - AlgP/poly - AM - AM-EXP - AM intersect coAM - AM[polylog] - AmpMP - AmpP-BQP - AP - AP - APP - APP - APX - AUC-SPACE(f(n)) - AVBPP - AvE - AvP - AW[P] - AWPP - AW[SAT] - AW[*] - AW[t] - βP - BH - BPE - BPEE - B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SPACE(f(n)) - BPL - BP•NP - BPP - BP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cc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BP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K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BPP-OBDD - BP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path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BPQP - BPSPACE(f(n)) - BPTIME(f(n)) - BQNC - BQNP - BQP - BQP/log - BQP/poly - BQP/qlog - BQP/qpoly - BQP-OBDD - BQ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t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/poly - BQTIME(f(n)) - k-BWBP - 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=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=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L - 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=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CFL - CLOG - CH - Check - 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CNP - coAM - co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=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cofrIP - Coh - coMA - coModkP - compIP - compNP - coNE - coNEXP - coNL - coNP - coN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cc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coNP/poly - coNQP - coRE - coRNC - coRP - coSL - coUCC - coUP - CP - CSIZE(f(n)) - CSL - CZK - D#P - Δ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δ-BPP - δ-RP - DET - Diff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DisNP - DistNP - DP - DQP - DSPACE(f(n)) - DTIME(f(n)) - DTISP(t(n),s(n)) - Dyn-FO - Dyn-Th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E - EE - EEE - EESPACE - EEXP - EH - ELEMENTARY - EL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EPTAS - k-EQBP - EQP - EQTIME(f(n)) - ESPACE - </a:t>
            </a:r>
            <a:r>
              <a:rPr b="0" lang="en-US" sz="1300" spc="-1" strike="noStrike">
                <a:solidFill>
                  <a:srgbClr val="00cc00"/>
                </a:solidFill>
                <a:latin typeface="Symbol"/>
                <a:ea typeface="Symbol"/>
              </a:rPr>
              <a:t>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BPP - </a:t>
            </a:r>
            <a:r>
              <a:rPr b="0" lang="en-US" sz="1300" spc="-1" strike="noStrike">
                <a:solidFill>
                  <a:srgbClr val="00cc00"/>
                </a:solidFill>
                <a:latin typeface="Symbol"/>
                <a:ea typeface="Symbol"/>
              </a:rPr>
              <a:t>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NISZK - EXP - EXP/poly - EXPSPACE - FBQP - Few - FewP - FH - FNL - FNL/poly - FNP - FO(t(n)) - FOLL - FP - F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[log] - FPR - FPRAS - FPT - FPT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nu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FPT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su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FPTAS - FQMA - frIP - F-TAPE(f(n)) - F-TIME(f(n)) - GA - GAN-SPACE(f(n)) - Gap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GapL - GapP - GC(s(n),C) - GI - GPCD(r(n),q(n)) - G[t] - HeurBPP - HeurBPTIME(f(n)) - H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HVSZK - IC[log,poly] - IP - IPP - L - LIN - L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LOGCFL - LogFew - LogFewNL - LOGNP - LOGSNP - L/poly - LWPP - MA - MA' - M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MA-E - MA-EXP - mAL - MaxNP - MaxPB - MaxSNP - MaxSN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mcoNL - MinPB - MIP - MIP*[2,1] - MIPEXP - (M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)P - mL - m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mNL - mNP - Mod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L - Mod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ModP - ModZ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L - mP - MP - MPC - mP/poly - mT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C - 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E - NE/poly - NEE - NEEE - NEEXP - NEXP - NEXP/poly - NIQSZK - NISZK - NISZK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L - NL/poly - NLIN - NLOG - NP - NPC - N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cc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PC - NPI - NP</a:t>
            </a:r>
            <a:r>
              <a:rPr b="0" lang="en-US" sz="1300" spc="-1" strike="noStrike">
                <a:solidFill>
                  <a:srgbClr val="00cc00"/>
                </a:solidFill>
                <a:latin typeface="Symbol"/>
                <a:ea typeface="Symbol"/>
              </a:rPr>
              <a:t>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coNP - (NP</a:t>
            </a:r>
            <a:r>
              <a:rPr b="0" lang="en-US" sz="1300" spc="-1" strike="noStrike">
                <a:solidFill>
                  <a:srgbClr val="00cc00"/>
                </a:solidFill>
                <a:latin typeface="Symbol"/>
                <a:ea typeface="Symbol"/>
              </a:rPr>
              <a:t>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coNP)/poly - NP/log - NPMV - NPMV-sel - NPMV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PMV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-sel - NPO - NPOPB - NP/poly - (NP,P-samplable) - NPR - NPSPACE - NPSV - NPSV-sel - NPSV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NPSV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t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-sel - NQP - NSPACE(f(n)) - NT - NTIME(f(n)) - OCQ - OptP - P - P/log - P/poly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#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#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[1] - P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BP - k-PBP - PC - 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cc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CD(r(n),q(n)) - P-close - PCP(r(n),q(n)) - PermUP - PEXP - PF - PFCHK(t(n)) - PH - PH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cc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Φ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PhP - Π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PINC - PIO - PK - PKC - PL - PL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L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infinity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LF - PLL - PLS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[k]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[log]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[log^2]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-OBDD - PODN - polyL - PostBQP - PP - PP/poly - PPA - PPAD - PPADS - PPP - 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P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PSPACE - PQUERY - PR - PR - Pr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SPACE(f(n)) - PromiseBPP - PromiseBQP - PromiseP - PromiseRP - PrSPACE(f(n)) - P-Sel - PSK - PSPACE - PT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PTAPE - PTAS - PT/WK(f(n),g(n)) - PZK - Q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[m] - QAC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AM - QCFL - QCMA - QH - QIP - QIP(2) - QMA - QMA+ - QMA(2) - QMA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log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MAM - QMIP - QMI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le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MI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ne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NCf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N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QP - QPLIN - QPSPACE - QSZK - R - RE - REG - RevSPACE(f(n)) - RHL - RL - RNC - RP - RPP - RSPACE(f(n)) - S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S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-EXP•P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NP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SAC - S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SA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1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SAPTIME - SBP - SC - SEH - SelfNP - SF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Σ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SKC - SL - SLICEWISE PSPACE - SNP - SO-E - SP - SP - span-P - SPARSE - SPL - SPP - SUBEXP - symP - SZK - SZK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h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TALLY - TC</a:t>
            </a:r>
            <a:r>
              <a:rPr b="0" lang="en-US" sz="1300" spc="-1" strike="noStrike" baseline="30000">
                <a:solidFill>
                  <a:srgbClr val="00cc00"/>
                </a:solidFill>
                <a:latin typeface="Arial"/>
              </a:rPr>
              <a:t>0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TFNP - Θ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P - TreeBQP - TREE-REGULAR - UAP - UCC - UE - UL - UL/poly - UP - US - VNC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VN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V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VQ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k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W[1] - WAPP - W[P] - WPP - W[SAT] - W[*] - W[t] - W*[t] - XOR-MIP*[2,1] - XP - XP</a:t>
            </a:r>
            <a:r>
              <a:rPr b="0" lang="en-US" sz="1300" spc="-1" strike="noStrike" baseline="-25000">
                <a:solidFill>
                  <a:srgbClr val="00cc00"/>
                </a:solidFill>
                <a:latin typeface="Arial"/>
              </a:rPr>
              <a:t>uniform</a:t>
            </a:r>
            <a:r>
              <a:rPr b="0" lang="en-US" sz="1300" spc="-1" strike="noStrike">
                <a:solidFill>
                  <a:srgbClr val="00cc00"/>
                </a:solidFill>
                <a:latin typeface="Arial"/>
              </a:rPr>
              <a:t> - YACC - ZPE - ZPP - ZPTIME(f(n)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98108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E EDWARD H. FAR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APITAL LET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YROTECHNICS DISPL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Quantum Karp-Lipton Theorem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905120"/>
            <a:ext cx="7772400" cy="1464480"/>
            <a:chOff x="609480" y="1905120"/>
            <a:chExt cx="7772400" cy="1464480"/>
          </a:xfrm>
        </p:grpSpPr>
        <p:sp>
          <p:nvSpPr>
            <p:cNvPr id="313" name=""/>
            <p:cNvSpPr/>
            <p:nvPr/>
          </p:nvSpPr>
          <p:spPr>
            <a:xfrm>
              <a:off x="609480" y="1905120"/>
              <a:ext cx="77724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 PP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BQP/qpoly, then the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counting hierarch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—consisting of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tc.—collapses to P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5029200" y="2286000"/>
                  <a:ext cx="3193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P</m:t>
                      </m:r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sup>
                          </m:sSup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5" name=""/>
          <p:cNvSpPr/>
          <p:nvPr/>
        </p:nvSpPr>
        <p:spPr>
          <a:xfrm>
            <a:off x="609480" y="365760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But there’s mo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no assumptions, PP does not have quantum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9528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nd mo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EXP requires quantum circuits of size f(n), where f(f(n)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Even Stronger Separations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905120"/>
            <a:ext cx="777240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M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 subclass of PEXP) is not in BQP/q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CM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 subclass of QM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is not in BQP/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4495680"/>
            <a:ext cx="76964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P (a subclass of PP) does not have quantum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21114600">
            <a:off x="1368720" y="2438280"/>
            <a:ext cx="6130800" cy="855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NONRELATIVIZ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676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tarted out with a weird philosophical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36576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it—it work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26668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ended up with seven or eight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8153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Outlook on the Future of Quantum Computing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40760" y="2690640"/>
            <a:ext cx="11919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76212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The Remarkable Ubiquity of Postsele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76212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The Stupendous Strength of Postsele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76212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The Hunky, Rippling Manliness of Postsele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76212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Lessons Learned in the Gottesman Institute of Comedy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57200"/>
            <a:ext cx="7467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The Amazing Power of Postsele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2:08:45Z</dcterms:created>
  <dc:creator>Scott Aaronson</dc:creator>
  <dc:description/>
  <dc:language>en-US</dc:language>
  <cp:lastModifiedBy>Scott Aaronson</cp:lastModifiedBy>
  <dcterms:modified xsi:type="dcterms:W3CDTF">2006-05-08T03:53:23Z</dcterms:modified>
  <cp:revision>30</cp:revision>
  <dc:subject/>
  <dc:title>The Amazing Power of Postselection</dc:title>
</cp:coreProperties>
</file>