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21.png" ContentType="image/png"/>
  <Override PartName="/ppt/media/image20.gif" ContentType="image/gif"/>
  <Override PartName="/ppt/media/image18.jpeg" ContentType="image/jpeg"/>
  <Override PartName="/ppt/media/image17.png" ContentType="image/png"/>
  <Override PartName="/ppt/media/image16.wmf" ContentType="image/x-wmf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6.wmf" ContentType="image/x-wmf"/>
  <Override PartName="/ppt/media/image19.jpeg" ContentType="image/jpe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E911-F899-46E1-83B5-34427100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7B2B-1D24-49C5-A041-B59D4625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93A3-3AEA-41E5-BEE6-29E2CA42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E6DF-1E68-40DC-AE9D-2B5CA85F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AAF6-9291-48A7-8F6F-A3FE0EA1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C5DC-5113-4AAA-8BC2-27A64774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B55D-D22E-4A64-8A69-6EBC1BE0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5476-0DD8-456A-962C-388A562D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F098-E531-408C-B859-8F52A275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86A6-9B6A-4C8F-9149-50F9AC98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90C6-99C7-4AD3-8BB8-8FB21AD7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A724-CFF2-415D-8AD9-5E156DE0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07FB-1230-44C4-B4E1-6A6B5F9A1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312600">
            <a:off x="304560" y="380880"/>
            <a:ext cx="75438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0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ORCES OF COMPLEXITY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204840" y="2133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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AX Feature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9866600">
            <a:off x="4578840" y="441612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66"/>
                </a:solidFill>
                <a:latin typeface="Arial"/>
              </a:rPr>
              <a:t>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737400">
            <a:off x="2895120" y="34286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BQ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20921400">
            <a:off x="1441440" y="44956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40040" y="4035600"/>
            <a:ext cx="60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4 -0.04208 L 0.13333 0.20208 E">
                                      <p:cBhvr>
                                        <p:cTn id="6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81 -0.00439 L 0.30486 -0.17086 E">
                                      <p:cBhvr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98 -0.02613 L -0.35902 -0.09272 E">
                                      <p:cBhvr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something about a question by conditioning on the fact that you’re asking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228600"/>
            <a:ext cx="86108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3399"/>
                </a:solidFill>
                <a:latin typeface="Arial"/>
              </a:rPr>
              <a:t>What </a:t>
            </a:r>
            <a:r>
              <a:rPr b="1" lang="en-US" sz="7000" spc="-1" strike="noStrike">
                <a:solidFill>
                  <a:srgbClr val="ff0066"/>
                </a:solidFill>
                <a:latin typeface="Arial"/>
              </a:rPr>
              <a:t>IS</a:t>
            </a:r>
            <a:r>
              <a:rPr b="1" lang="en-US" sz="55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5500" spc="-1" strike="noStrike">
                <a:solidFill>
                  <a:srgbClr val="333399"/>
                </a:solidFill>
                <a:latin typeface="Arial"/>
              </a:rPr>
              <a:t>Postselection?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85800" y="3429000"/>
            <a:ext cx="7772400" cy="2511360"/>
            <a:chOff x="685800" y="3429000"/>
            <a:chExt cx="7772400" cy="251136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2743200" y="3552840"/>
              <a:ext cx="3809880" cy="23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6477120" y="3429000"/>
              <a:ext cx="190476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762120" y="3429000"/>
              <a:ext cx="190476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2666880" y="4267080"/>
              <a:ext cx="304920" cy="290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72200" y="4114800"/>
              <a:ext cx="304920" cy="290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5800" y="487692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RKELE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00800" y="487692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MBRID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about the quantum case?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43828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Anthropic Computing”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 foolproof way to solve NP-complete problems in polynomial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85800" y="3886200"/>
            <a:ext cx="7848720" cy="2286000"/>
            <a:chOff x="685800" y="3886200"/>
            <a:chExt cx="7848720" cy="2286000"/>
          </a:xfrm>
        </p:grpSpPr>
        <p:sp>
          <p:nvSpPr>
            <p:cNvPr id="78" name=""/>
            <p:cNvSpPr/>
            <p:nvPr/>
          </p:nvSpPr>
          <p:spPr>
            <a:xfrm>
              <a:off x="1143000" y="4496040"/>
              <a:ext cx="7391520" cy="165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874"/>
                </a:spcBef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Accept the many-worlds interpreta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51"/>
                </a:spcBef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Generate a random truth assignment X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51"/>
                </a:spcBef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f X doesn’t satisfy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, kill yourself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14400" y="4572000"/>
              <a:ext cx="228600" cy="16002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5800" y="3886200"/>
              <a:ext cx="5943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Input: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A Boolean formula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85800" y="380880"/>
            <a:ext cx="1298520" cy="1657440"/>
            <a:chOff x="685800" y="380880"/>
            <a:chExt cx="1298520" cy="1657440"/>
          </a:xfrm>
        </p:grpSpPr>
        <p:sp>
          <p:nvSpPr>
            <p:cNvPr id="82" name=""/>
            <p:cNvSpPr/>
            <p:nvPr/>
          </p:nvSpPr>
          <p:spPr>
            <a:xfrm flipV="1">
              <a:off x="973080" y="417600"/>
              <a:ext cx="690840" cy="16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685800" y="417600"/>
              <a:ext cx="12985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rot="16200000">
              <a:off x="1143000" y="969480"/>
              <a:ext cx="381240" cy="76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37" y="1197"/>
                    <a:pt x="6674" y="5080"/>
                    <a:pt x="6674" y="10800"/>
                  </a:cubicBezTo>
                  <a:cubicBezTo>
                    <a:pt x="6674" y="16520"/>
                    <a:pt x="14137" y="2040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793800" y="669960"/>
              <a:ext cx="541080" cy="425160"/>
              <a:chOff x="793800" y="669960"/>
              <a:chExt cx="541080" cy="425160"/>
            </a:xfrm>
          </p:grpSpPr>
          <p:sp>
            <p:nvSpPr>
              <p:cNvPr id="86" name=""/>
              <p:cNvSpPr/>
              <p:nvPr/>
            </p:nvSpPr>
            <p:spPr>
              <a:xfrm>
                <a:off x="810720" y="786240"/>
                <a:ext cx="501120" cy="30888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48880" y="820800"/>
                <a:ext cx="424800" cy="24156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55440" y="839160"/>
                <a:ext cx="204480" cy="20448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073160" y="900360"/>
                <a:ext cx="32760" cy="3384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93800" y="766800"/>
                <a:ext cx="70920" cy="7812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73360" y="715320"/>
                <a:ext cx="54720" cy="8532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961560" y="683280"/>
                <a:ext cx="35280" cy="8676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262880" y="774000"/>
                <a:ext cx="72000" cy="7704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201680" y="720000"/>
                <a:ext cx="56160" cy="8460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31840" y="685800"/>
                <a:ext cx="37800" cy="8784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046160" y="669960"/>
                <a:ext cx="30240" cy="8820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406520" y="669960"/>
              <a:ext cx="541080" cy="425160"/>
              <a:chOff x="1406520" y="669960"/>
              <a:chExt cx="541080" cy="425160"/>
            </a:xfrm>
          </p:grpSpPr>
          <p:sp>
            <p:nvSpPr>
              <p:cNvPr id="98" name=""/>
              <p:cNvSpPr/>
              <p:nvPr/>
            </p:nvSpPr>
            <p:spPr>
              <a:xfrm>
                <a:off x="1423440" y="786240"/>
                <a:ext cx="501120" cy="30888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461600" y="820800"/>
                <a:ext cx="424800" cy="24156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68160" y="839160"/>
                <a:ext cx="204480" cy="20448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685880" y="900360"/>
                <a:ext cx="32760" cy="3384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06520" y="766800"/>
                <a:ext cx="70920" cy="7812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86080" y="715320"/>
                <a:ext cx="54720" cy="8532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574280" y="683280"/>
                <a:ext cx="35280" cy="8676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875600" y="774000"/>
                <a:ext cx="72000" cy="7704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814400" y="720000"/>
                <a:ext cx="56160" cy="8460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744560" y="685800"/>
                <a:ext cx="37800" cy="8784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658880" y="669960"/>
                <a:ext cx="30240" cy="8820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 flipV="1">
              <a:off x="1333440" y="380880"/>
              <a:ext cx="360360" cy="8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7162920" y="380880"/>
            <a:ext cx="1317600" cy="1657440"/>
            <a:chOff x="7162920" y="380880"/>
            <a:chExt cx="1317600" cy="1657440"/>
          </a:xfrm>
        </p:grpSpPr>
        <p:sp>
          <p:nvSpPr>
            <p:cNvPr id="111" name=""/>
            <p:cNvSpPr/>
            <p:nvPr/>
          </p:nvSpPr>
          <p:spPr>
            <a:xfrm flipH="1" flipV="1">
              <a:off x="7502400" y="417600"/>
              <a:ext cx="690480" cy="16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 flipH="1">
              <a:off x="7162920" y="417600"/>
              <a:ext cx="131760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 flipH="1" rot="5400000">
              <a:off x="7624800" y="1130040"/>
              <a:ext cx="380880" cy="540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885" y="1824"/>
                    <a:pt x="10170" y="5080"/>
                    <a:pt x="10170" y="10800"/>
                  </a:cubicBezTo>
                  <a:cubicBezTo>
                    <a:pt x="10170" y="16520"/>
                    <a:pt x="15885" y="1977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7854840" y="785880"/>
              <a:ext cx="500040" cy="309600"/>
              <a:chOff x="7854840" y="785880"/>
              <a:chExt cx="500040" cy="309600"/>
            </a:xfrm>
          </p:grpSpPr>
          <p:sp>
            <p:nvSpPr>
              <p:cNvPr id="115" name=""/>
              <p:cNvSpPr/>
              <p:nvPr/>
            </p:nvSpPr>
            <p:spPr>
              <a:xfrm flipH="1">
                <a:off x="7854480" y="785880"/>
                <a:ext cx="500040" cy="3096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7892640" y="820800"/>
                <a:ext cx="423720" cy="24120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8005320" y="839880"/>
                <a:ext cx="204840" cy="20448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8059320" y="900000"/>
                <a:ext cx="33480" cy="349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7242120" y="785880"/>
              <a:ext cx="500040" cy="309600"/>
              <a:chOff x="7242120" y="785880"/>
              <a:chExt cx="500040" cy="309600"/>
            </a:xfrm>
          </p:grpSpPr>
          <p:sp>
            <p:nvSpPr>
              <p:cNvPr id="120" name=""/>
              <p:cNvSpPr/>
              <p:nvPr/>
            </p:nvSpPr>
            <p:spPr>
              <a:xfrm flipH="1">
                <a:off x="7241760" y="785880"/>
                <a:ext cx="500040" cy="3096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7279920" y="820800"/>
                <a:ext cx="423720" cy="24120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7392600" y="839880"/>
                <a:ext cx="204840" cy="20448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7446600" y="900000"/>
                <a:ext cx="33480" cy="349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 flipH="1" flipV="1">
              <a:off x="7472160" y="380880"/>
              <a:ext cx="360360" cy="8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39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 This Talk…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2971800"/>
            <a:ext cx="800100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will lead 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extremely simple proof of the celebrated Beigel-Reingold-Spielman theor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mitations on quantum advice and one-way commun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Unrelativiz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quantum circuit lower bo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mor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143000"/>
            <a:ext cx="77724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’ll study what you could do with a quantum computer,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you could measure a qubit and postselect on its being |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3399"/>
                </a:solidFill>
                <a:latin typeface="Arial"/>
              </a:rPr>
              <a:t>PostBQP</a:t>
            </a:r>
            <a:endParaRPr b="1" lang="en-US" sz="7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80988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ss of languages decidable by a bounded-error polynomial-time quantum computer, if at any time you can measure a qubit that has a nonzero probability of being |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assu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outcome will be |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977160" y="609480"/>
            <a:ext cx="2166840" cy="2667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81080" y="76212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uclid Fraktur"/>
              </a:rPr>
              <a:t>I hereby define a new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Euclid Fraktur"/>
              </a:rPr>
              <a:t>complexity clas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 flipH="1">
            <a:off x="-360" y="609480"/>
            <a:ext cx="2104920" cy="2590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89480" y="2819520"/>
            <a:ext cx="39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Postselected BQ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Another Important Animal: PP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447920"/>
            <a:ext cx="7391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ss of languages decidable by a nondeterministic poly-time Turing machine that accepts iff the majority of its paths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3352680"/>
            <a:ext cx="5333760" cy="3124440"/>
          </a:xfrm>
          <a:prstGeom prst="ellipse">
            <a:avLst/>
          </a:prstGeom>
          <a:solidFill>
            <a:srgbClr val="d3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962520"/>
            <a:ext cx="4267440" cy="2514600"/>
          </a:xfrm>
          <a:prstGeom prst="ellipse">
            <a:avLst/>
          </a:prstGeom>
          <a:solidFill>
            <a:srgbClr val="d3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572000"/>
            <a:ext cx="3200400" cy="1905120"/>
          </a:xfrm>
          <a:prstGeom prst="ellipse">
            <a:avLst/>
          </a:prstGeom>
          <a:solidFill>
            <a:srgbClr val="ff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81480"/>
            <a:ext cx="2133360" cy="1295640"/>
          </a:xfrm>
          <a:prstGeom prst="ellipse">
            <a:avLst/>
          </a:prstGeom>
          <a:solidFill>
            <a:srgbClr val="d3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5257800"/>
            <a:ext cx="106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4648320"/>
            <a:ext cx="106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4038480"/>
            <a:ext cx="167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#P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3429000"/>
            <a:ext cx="213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SP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5791320"/>
            <a:ext cx="1067040" cy="685800"/>
          </a:xfrm>
          <a:prstGeom prst="ellipse">
            <a:avLst/>
          </a:prstGeom>
          <a:solidFill>
            <a:srgbClr val="d3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5867280"/>
            <a:ext cx="106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orem: PostBQP = PP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80880" y="1447920"/>
            <a:ext cx="8555040" cy="4919400"/>
            <a:chOff x="380880" y="1447920"/>
            <a:chExt cx="8555040" cy="4919400"/>
          </a:xfrm>
        </p:grpSpPr>
        <p:sp>
          <p:nvSpPr>
            <p:cNvPr id="150" name=""/>
            <p:cNvSpPr/>
            <p:nvPr/>
          </p:nvSpPr>
          <p:spPr>
            <a:xfrm>
              <a:off x="380880" y="1447920"/>
              <a:ext cx="8458200" cy="49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3300"/>
                  </a:solidFill>
                  <a:latin typeface="Arial"/>
                </a:rPr>
                <a:t>Easy half: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PostBQP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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PP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Adleman, DeMarrais, and Huang (1997) showed BQP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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PP using “Feynman sum-over-histories”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3300"/>
                  </a:solidFill>
                  <a:latin typeface="Arial"/>
                </a:rPr>
                <a:t>Idea: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Write acceptance and rejection probabilities as sums of exponentially many easy-to-compute terms; then use PP to decide which sum is greate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For PostBQP, just sum over postselected outcomes onl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8458200" y="2666880"/>
              <a:ext cx="477720" cy="609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o Show PP 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PostBQP…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0666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 a Boolean function f:{0,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0,1}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s=|{x : f(x)=1}|.  Need to decide if s&gt;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80880" y="2298600"/>
            <a:ext cx="8455320" cy="2293920"/>
            <a:chOff x="380880" y="2298600"/>
            <a:chExt cx="8455320" cy="2293920"/>
          </a:xfrm>
        </p:grpSpPr>
        <p:sp>
          <p:nvSpPr>
            <p:cNvPr id="155" name=""/>
            <p:cNvSpPr/>
            <p:nvPr/>
          </p:nvSpPr>
          <p:spPr>
            <a:xfrm>
              <a:off x="380880" y="2361960"/>
              <a:ext cx="1219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From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6" name=""/>
            <p:cNvGraphicFramePr/>
            <p:nvPr/>
          </p:nvGraphicFramePr>
          <p:xfrm>
            <a:off x="1641600" y="2298600"/>
            <a:ext cx="2813040" cy="90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41600" y="2298600"/>
                      <a:ext cx="2813040" cy="90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8" name=""/>
            <p:cNvGraphicFramePr/>
            <p:nvPr/>
          </p:nvGraphicFramePr>
          <p:xfrm>
            <a:off x="457200" y="3352680"/>
            <a:ext cx="8379000" cy="1239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" y="3352680"/>
                      <a:ext cx="8379000" cy="12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0" name=""/>
            <p:cNvSpPr/>
            <p:nvPr/>
          </p:nvSpPr>
          <p:spPr>
            <a:xfrm>
              <a:off x="4572000" y="2361960"/>
              <a:ext cx="3962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we can easily prepar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80880" y="464832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Goal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cide if these amplitudes have the same or opposite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53080" y="3352680"/>
            <a:ext cx="1981440" cy="533520"/>
          </a:xfrm>
          <a:prstGeom prst="roundRect">
            <a:avLst>
              <a:gd name="adj" fmla="val 50000"/>
            </a:avLst>
          </a:prstGeom>
          <a:solidFill>
            <a:srgbClr val="ff33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3352680"/>
            <a:ext cx="304920" cy="53352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533520"/>
              <a:gd name="textAreaBottom" fmla="*/ 488880 h 533520"/>
            </a:gdLst>
            <a:ahLst/>
            <a:rect l="textAreaLeft" t="textAreaTop" r="textAreaRight" b="textAreaBottom"/>
            <a:pathLst>
              <a:path w="21600" h="37775">
                <a:moveTo>
                  <a:pt x="10800" y="0"/>
                </a:moveTo>
                <a:arcTo wR="10800" hR="10800" stAng="16200000" swAng="-5400000"/>
                <a:lnTo>
                  <a:pt x="0" y="26975"/>
                </a:lnTo>
                <a:arcTo wR="10800" hR="10800" stAng="10800000" swAng="-5400000"/>
                <a:lnTo>
                  <a:pt x="10800" y="3777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33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569916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par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som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n postselect on second qubit being |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57200" y="5029200"/>
            <a:ext cx="8229600" cy="1239840"/>
            <a:chOff x="457200" y="5029200"/>
            <a:chExt cx="8229600" cy="1239840"/>
          </a:xfrm>
        </p:grpSpPr>
        <p:graphicFrame>
          <p:nvGraphicFramePr>
            <p:cNvPr id="166" name=""/>
            <p:cNvGraphicFramePr/>
            <p:nvPr/>
          </p:nvGraphicFramePr>
          <p:xfrm>
            <a:off x="1752480" y="5029200"/>
            <a:ext cx="4614840" cy="1239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52480" y="5029200"/>
                      <a:ext cx="4614840" cy="12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8" name=""/>
            <p:cNvSpPr/>
            <p:nvPr/>
          </p:nvSpPr>
          <p:spPr>
            <a:xfrm>
              <a:off x="457200" y="5257800"/>
              <a:ext cx="129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Yield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77120" y="525780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n first qubit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o Show PP 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PostBQP…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57200" y="5029200"/>
            <a:ext cx="8229600" cy="1239840"/>
            <a:chOff x="457200" y="5029200"/>
            <a:chExt cx="8229600" cy="1239840"/>
          </a:xfrm>
        </p:grpSpPr>
        <p:graphicFrame>
          <p:nvGraphicFramePr>
            <p:cNvPr id="172" name=""/>
            <p:cNvGraphicFramePr/>
            <p:nvPr/>
          </p:nvGraphicFramePr>
          <p:xfrm>
            <a:off x="1752480" y="5029200"/>
            <a:ext cx="4614840" cy="1239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5029200"/>
                      <a:ext cx="4614840" cy="12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457200" y="5257800"/>
              <a:ext cx="129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Yield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77120" y="525780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n first qubit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33520" y="1676520"/>
            <a:ext cx="3047760" cy="30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3200400"/>
            <a:ext cx="304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676520"/>
            <a:ext cx="144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124080" y="1676520"/>
          <a:ext cx="498600" cy="55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676520"/>
                    <a:ext cx="4986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 flipV="1">
            <a:off x="2051280" y="2129400"/>
            <a:ext cx="1078920" cy="1076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905120" y="1143000"/>
          <a:ext cx="41580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1143000"/>
                    <a:ext cx="4158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581280" y="2895480"/>
          <a:ext cx="443160" cy="55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2895480"/>
                    <a:ext cx="44316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 flipV="1">
            <a:off x="2066760" y="1973880"/>
            <a:ext cx="895680" cy="1233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043000" y="2306160"/>
            <a:ext cx="1248120" cy="874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60280" y="3210480"/>
            <a:ext cx="1518120" cy="1328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5029200"/>
            <a:ext cx="228600" cy="53352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533520"/>
              <a:gd name="textAreaBottom" fmla="*/ 500040 h 533520"/>
            </a:gdLst>
            <a:ahLst/>
            <a:rect l="textAreaLeft" t="textAreaTop" r="textAreaRight" b="textAreaBottom"/>
            <a:pathLst>
              <a:path w="21600" h="50366">
                <a:moveTo>
                  <a:pt x="10800" y="0"/>
                </a:moveTo>
                <a:arcTo wR="10800" hR="10800" stAng="16200000" swAng="-5400000"/>
                <a:lnTo>
                  <a:pt x="0" y="39566"/>
                </a:lnTo>
                <a:arcTo wR="10800" hR="10800" stAng="10800000" swAng="-5400000"/>
                <a:lnTo>
                  <a:pt x="10800" y="5036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33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5029200"/>
            <a:ext cx="1219320" cy="533520"/>
          </a:xfrm>
          <a:prstGeom prst="roundRect">
            <a:avLst>
              <a:gd name="adj" fmla="val 50000"/>
            </a:avLst>
          </a:prstGeom>
          <a:solidFill>
            <a:srgbClr val="ff33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419720" y="1219320"/>
            <a:ext cx="4190760" cy="3597120"/>
            <a:chOff x="4419720" y="1219320"/>
            <a:chExt cx="4190760" cy="3597120"/>
          </a:xfrm>
        </p:grpSpPr>
        <p:sp>
          <p:nvSpPr>
            <p:cNvPr id="192" name=""/>
            <p:cNvSpPr/>
            <p:nvPr/>
          </p:nvSpPr>
          <p:spPr>
            <a:xfrm>
              <a:off x="4419720" y="1219320"/>
              <a:ext cx="4190760" cy="26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Suppose s and 2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-2s are both positiv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Then by trying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= 2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for all i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{-n,…,n}, we’ll eventually get close to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3" name=""/>
            <p:cNvGraphicFramePr/>
            <p:nvPr/>
          </p:nvGraphicFramePr>
          <p:xfrm>
            <a:off x="5410080" y="3810240"/>
            <a:ext cx="1980720" cy="1006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10080" y="3810240"/>
                      <a:ext cx="1980720" cy="100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5" name=""/>
          <p:cNvSpPr/>
          <p:nvPr/>
        </p:nvSpPr>
        <p:spPr>
          <a:xfrm>
            <a:off x="4495680" y="1295280"/>
            <a:ext cx="4038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other hand, if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2s is negative, then we won’t.  Q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14400" y="2286000"/>
            <a:ext cx="7238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ly unexpectedly, the PostBQP=PP theorem turned out to have implications for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assic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plexity theory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267080" y="2819520"/>
            <a:ext cx="13971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1000" fill="hold"/>
                                        <p:tgtEl>
                                          <p:spTgt spid="19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47920" y="5866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 (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457200"/>
            <a:ext cx="6553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993366"/>
                </a:solidFill>
                <a:latin typeface="Arial"/>
              </a:rPr>
              <a:t>Scott’s Grab Bag o’ Cheap Yuk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0880" y="30492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Beigel, Reingold, Spielman 1990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P is “closed under intersection”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ved a problem that was open for 18 year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876920"/>
            <a:ext cx="8153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Other Classical Results Proved With Quantum Technique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renidis &amp; de Wolf, A., Aharonov &amp; Regev,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981080"/>
            <a:ext cx="8077320" cy="27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Observation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ostBQP is trivially closed under intersectio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P is to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 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tBQP, to decide if 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postselect on both computations succeeding, and accept iff they both ac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543800" y="4572000"/>
            <a:ext cx="1317600" cy="1657440"/>
            <a:chOff x="7543800" y="4572000"/>
            <a:chExt cx="1317600" cy="1657440"/>
          </a:xfrm>
        </p:grpSpPr>
        <p:sp>
          <p:nvSpPr>
            <p:cNvPr id="203" name=""/>
            <p:cNvSpPr/>
            <p:nvPr/>
          </p:nvSpPr>
          <p:spPr>
            <a:xfrm flipH="1" flipV="1">
              <a:off x="7883280" y="4608720"/>
              <a:ext cx="690480" cy="16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 flipH="1">
              <a:off x="7543800" y="4608720"/>
              <a:ext cx="131760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 flipH="1" rot="5400000">
              <a:off x="8005680" y="5321160"/>
              <a:ext cx="380880" cy="540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885" y="1824"/>
                    <a:pt x="10170" y="5080"/>
                    <a:pt x="10170" y="10800"/>
                  </a:cubicBezTo>
                  <a:cubicBezTo>
                    <a:pt x="10170" y="16520"/>
                    <a:pt x="15885" y="1977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8235720" y="4977000"/>
              <a:ext cx="500040" cy="309600"/>
              <a:chOff x="8235720" y="4977000"/>
              <a:chExt cx="500040" cy="309600"/>
            </a:xfrm>
          </p:grpSpPr>
          <p:sp>
            <p:nvSpPr>
              <p:cNvPr id="207" name=""/>
              <p:cNvSpPr/>
              <p:nvPr/>
            </p:nvSpPr>
            <p:spPr>
              <a:xfrm flipH="1">
                <a:off x="8235360" y="4977000"/>
                <a:ext cx="500040" cy="3096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8273520" y="5011920"/>
                <a:ext cx="423720" cy="24120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8386200" y="5031000"/>
                <a:ext cx="204840" cy="20448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8440200" y="5091120"/>
                <a:ext cx="33480" cy="349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7623000" y="4977000"/>
              <a:ext cx="500040" cy="309600"/>
              <a:chOff x="7623000" y="4977000"/>
              <a:chExt cx="500040" cy="309600"/>
            </a:xfrm>
          </p:grpSpPr>
          <p:sp>
            <p:nvSpPr>
              <p:cNvPr id="212" name=""/>
              <p:cNvSpPr/>
              <p:nvPr/>
            </p:nvSpPr>
            <p:spPr>
              <a:xfrm flipH="1">
                <a:off x="7622640" y="4977000"/>
                <a:ext cx="500040" cy="3096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7660800" y="5011920"/>
                <a:ext cx="423720" cy="24120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7773480" y="5031000"/>
                <a:ext cx="204840" cy="20448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7827480" y="5091120"/>
                <a:ext cx="33480" cy="349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 flipH="1" flipV="1">
              <a:off x="7853040" y="4572000"/>
              <a:ext cx="360360" cy="8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ther Results that PostBQP=PP Makes Simpler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2590920"/>
            <a:ext cx="4419720" cy="23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Fortnow and Reingol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Fortnow and Rog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Kitaev and Watro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066680" y="2438280"/>
                <a:ext cx="23623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|</m:t>
                        </m:r>
                        <m:r>
                          <m:t xml:space="preserve">|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066680" y="3352680"/>
                <a:ext cx="29289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BQP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066680" y="4267080"/>
                <a:ext cx="27403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MA</m:t>
                    </m:r>
                    <m:r>
                      <m:t xml:space="preserve">⊆</m:t>
                    </m:r>
                    <m:r>
                      <m:rPr>
                        <m:lit/>
                        <m:nor/>
                      </m:rPr>
                      <m:t xml:space="preserve">P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095880" y="1143000"/>
            <a:ext cx="2040120" cy="28954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Advic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4267080"/>
            <a:ext cx="8458200" cy="20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BQP/qpol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lass of languages decidable by polynomial-size, bounded-error quantum circuits, given a polynomial-siz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quantum advice st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depends only on the input length 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1143000"/>
            <a:ext cx="5867640" cy="26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Mike &amp; Ik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We know that many systems in Nature ‘prefer’ to sit in highly entangled states of many systems; might it be possible to exploit this preference to obtain extra computational power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144792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powerful is quantum advic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438280"/>
            <a:ext cx="7848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uld it let us solve problems that are not even </a:t>
            </a: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recursively enumera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iven classical advice of similar size?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886200" y="5829480"/>
            <a:ext cx="13143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0.00312 -0.60278 E">
                                      <p:cBhvr>
                                        <p:cTn id="128" dur="3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3000" fill="hold"/>
                                        <p:tgtEl>
                                          <p:spTgt spid="228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04920" y="2895480"/>
            <a:ext cx="8610480" cy="3733920"/>
          </a:xfrm>
          <a:prstGeom prst="rect">
            <a:avLst/>
          </a:prstGeom>
          <a:solidFill>
            <a:srgbClr val="ffff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imitations of Quantum Advice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523880"/>
            <a:ext cx="815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NP </a:t>
            </a:r>
            <a:r>
              <a:rPr b="1" lang="en-US" sz="3600" spc="-1" strike="noStrike">
                <a:solidFill>
                  <a:srgbClr val="cc3399"/>
                </a:solidFill>
                <a:latin typeface="Symbol"/>
                <a:ea typeface="Symbol"/>
              </a:rPr>
              <a:t></a:t>
            </a: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 BQP/qpo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lative to an oracl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direct product theorem for quantum sear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30481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BQP/qpoly </a:t>
            </a:r>
            <a:r>
              <a:rPr b="1" lang="en-US" sz="3600" spc="-1" strike="noStrike">
                <a:solidFill>
                  <a:srgbClr val="cc3399"/>
                </a:solidFill>
                <a:latin typeface="Symbol"/>
                <a:ea typeface="Symbol"/>
              </a:rPr>
              <a:t></a:t>
            </a: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 PostBQP/poly</a:t>
            </a:r>
            <a:br>
              <a:rPr sz="3600"/>
            </a:b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( = PP/pol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57200" y="4419720"/>
            <a:ext cx="8153280" cy="1809720"/>
            <a:chOff x="457200" y="4419720"/>
            <a:chExt cx="8153280" cy="1809720"/>
          </a:xfrm>
        </p:grpSpPr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2009880" y="5562720"/>
                  <a:ext cx="512280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D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f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O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Q</m:t>
                              </m:r>
                            </m:e>
                            <m:sub>
                              <m:r>
                                <m:t xml:space="preserve">ε</m:t>
                              </m:r>
                            </m:sub>
                            <m:sup>
                              <m:r>
                                <m:t xml:space="preserve">1</m:t>
                              </m:r>
                            </m:sup>
                          </m:sSub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f</m:t>
                              </m:r>
                            </m:e>
                          </m:d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  <m:sSubSup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ε</m:t>
                              </m:r>
                            </m:sub>
                            <m:sup>
                              <m:r>
                                <m:t xml:space="preserve">1</m:t>
                              </m:r>
                            </m:sup>
                          </m:sSub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f</m:t>
                              </m:r>
                            </m:e>
                          </m:d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5" name=""/>
            <p:cNvSpPr/>
            <p:nvPr/>
          </p:nvSpPr>
          <p:spPr>
            <a:xfrm>
              <a:off x="457200" y="4419720"/>
              <a:ext cx="81532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Closely related: for all (partial or total) Boolean functions f : {0,1}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{0,1}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{0,1},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lice’s Classical Advic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52280" y="4648320"/>
            <a:ext cx="1733760" cy="20095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209680" y="914400"/>
            <a:ext cx="6705720" cy="5791320"/>
          </a:xfrm>
          <a:prstGeom prst="wedgeRoundRectCallout">
            <a:avLst>
              <a:gd name="adj1" fmla="val -58523"/>
              <a:gd name="adj2" fmla="val 1968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ob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ppose you used the maximally mixed state in place of your quantum advice.  The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lexicographically first input for which you’d output the right answer with probability less than 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suppose you succeeded o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used the resulting reduced state as your advice.  The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lexicographically first input after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which you’d output the right answer with probability less than ½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47920" y="1066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1295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1523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175248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47920" y="1981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2209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2438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3581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3809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40384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33526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47920" y="289548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2666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31240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19051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30481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523880"/>
            <a:ext cx="5331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666880"/>
            <a:ext cx="5331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3809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4038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985400" y="997200"/>
            <a:ext cx="7100280" cy="6026040"/>
            <a:chOff x="1985400" y="997200"/>
            <a:chExt cx="7100280" cy="6026040"/>
          </a:xfrm>
        </p:grpSpPr>
        <p:sp>
          <p:nvSpPr>
            <p:cNvPr id="261" name=""/>
            <p:cNvSpPr/>
            <p:nvPr/>
          </p:nvSpPr>
          <p:spPr>
            <a:xfrm rot="1092600">
              <a:off x="2514600" y="1832040"/>
              <a:ext cx="6041880" cy="4356000"/>
            </a:xfrm>
            <a:prstGeom prst="irregularSeal2">
              <a:avLst/>
            </a:prstGeom>
            <a:solidFill>
              <a:srgbClr val="e5ff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29000" y="3124080"/>
              <a:ext cx="365760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Given an input x, clearly lets Bob decide in PostBQP whether x</a:t>
              </a: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But how many inputs must Alice specify?</a:t>
            </a:r>
            <a:endParaRPr b="1" lang="en-US" sz="3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914400"/>
            <a:ext cx="7848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can </a:t>
            </a: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boo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 quantum advice state so that the error probability on any input is at most (say)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100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then Bob can reuse the advice on as many inputs as he lik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3048120"/>
            <a:ext cx="7848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can decompose the maximally mixed state on p(n) qubits as the boosted advice plus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p(n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1 orthogonal st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4724280"/>
            <a:ext cx="7848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ce needs to specify at most p(n) inputs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…, since each one cuts Bob’s total success probability by least half, but the probability must b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p(n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by the 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4000" spc="-1" strike="noStrike" baseline="30000">
                <a:solidFill>
                  <a:srgbClr val="333399"/>
                </a:solidFill>
                <a:latin typeface="Arial"/>
              </a:rPr>
              <a:t>PP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Does Not Have Quantum Circuits of Size n</a:t>
            </a:r>
            <a:r>
              <a:rPr b="1" lang="en-US" sz="4000" spc="-1" strike="noStrike" baseline="30000">
                <a:solidFill>
                  <a:srgbClr val="333399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66680" y="2971800"/>
            <a:ext cx="487692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U accep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.p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½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es, se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no, se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066680" y="1600200"/>
            <a:ext cx="5410080" cy="1373400"/>
            <a:chOff x="1066680" y="1600200"/>
            <a:chExt cx="5410080" cy="1373400"/>
          </a:xfrm>
        </p:grpSpPr>
        <p:sp>
          <p:nvSpPr>
            <p:cNvPr id="270" name=""/>
            <p:cNvSpPr/>
            <p:nvPr/>
          </p:nvSpPr>
          <p:spPr>
            <a:xfrm>
              <a:off x="1066680" y="1600200"/>
              <a:ext cx="4495680" cy="137340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U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: Picks a size-n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quantum circuit uniformly at random and runs i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62360" y="22860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553080" y="2057400"/>
            <a:ext cx="6098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553080" y="2666880"/>
            <a:ext cx="6098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553080" y="2057400"/>
            <a:ext cx="1295640" cy="4343400"/>
            <a:chOff x="6553080" y="2057400"/>
            <a:chExt cx="1295640" cy="4343400"/>
          </a:xfrm>
        </p:grpSpPr>
        <p:sp>
          <p:nvSpPr>
            <p:cNvPr id="275" name=""/>
            <p:cNvSpPr/>
            <p:nvPr/>
          </p:nvSpPr>
          <p:spPr>
            <a:xfrm>
              <a:off x="6553080" y="2057400"/>
              <a:ext cx="6098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53080" y="2666880"/>
              <a:ext cx="609840" cy="55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53080" y="3276720"/>
              <a:ext cx="6098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53080" y="3886200"/>
              <a:ext cx="6098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53080" y="4495680"/>
              <a:ext cx="609840" cy="55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53080" y="5105520"/>
              <a:ext cx="6098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81680" y="5867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81680" y="60958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81680" y="6324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38880" y="2057400"/>
              <a:ext cx="609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38880" y="2666880"/>
              <a:ext cx="609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38880" y="3276720"/>
              <a:ext cx="609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38880" y="3886200"/>
              <a:ext cx="609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38880" y="4495680"/>
              <a:ext cx="609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38880" y="5105520"/>
              <a:ext cx="609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066680" y="3657600"/>
            <a:ext cx="4876920" cy="26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ditioned on deciding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rrectly, does U accep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.p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½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es, se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no, se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66680" y="4267080"/>
            <a:ext cx="4876920" cy="26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ditioned on deciding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rrectly, does U accep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.p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½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es, se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no, se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-0.00069 L 0.00416 0.10058 E">
                                      <p:cBhvr>
                                        <p:cTn id="182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10058 L 0.00416 0.18798 E">
                                      <p:cBhvr>
                                        <p:cTn id="195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85800" y="129528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any k, defines a language L that does not have quantum circuits of size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685800" y="2590920"/>
            <a:ext cx="7848720" cy="1509480"/>
            <a:chOff x="685800" y="2590920"/>
            <a:chExt cx="7848720" cy="1509480"/>
          </a:xfrm>
        </p:grpSpPr>
        <p:sp>
          <p:nvSpPr>
            <p:cNvPr id="294" name=""/>
            <p:cNvSpPr/>
            <p:nvPr/>
          </p:nvSpPr>
          <p:spPr>
            <a:xfrm>
              <a:off x="685800" y="2590920"/>
              <a:ext cx="784872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66"/>
                  </a:solidFill>
                  <a:latin typeface="Arial"/>
                </a:rPr>
                <a:t>Why?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 Intuitively, each iteration cuts the number of potential circuits in half, but there were at most            circuits to begin with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3124440" y="3429000"/>
                  <a:ext cx="106668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~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6" name=""/>
          <p:cNvSpPr/>
          <p:nvPr/>
        </p:nvSpPr>
        <p:spPr>
          <a:xfrm>
            <a:off x="685800" y="434340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other hand, clearly L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918720" y="155880"/>
            <a:ext cx="7100280" cy="6026040"/>
            <a:chOff x="918720" y="155880"/>
            <a:chExt cx="7100280" cy="6026040"/>
          </a:xfrm>
        </p:grpSpPr>
        <p:sp>
          <p:nvSpPr>
            <p:cNvPr id="298" name=""/>
            <p:cNvSpPr/>
            <p:nvPr/>
          </p:nvSpPr>
          <p:spPr>
            <a:xfrm rot="1092600">
              <a:off x="1447920" y="990720"/>
              <a:ext cx="6041880" cy="4356000"/>
            </a:xfrm>
            <a:prstGeom prst="irregularSeal2">
              <a:avLst/>
            </a:prstGeom>
            <a:solidFill>
              <a:srgbClr val="e5ff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62320" y="2282760"/>
              <a:ext cx="365760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Even works for quantum circuits with quantum advice!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lso…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1295280"/>
            <a:ext cx="8153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function f:{0,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0,1} has a polynomial-size quantum circuit, then a PostBQP machine ca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ch a circuit using queries to 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556272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iniscent of a classical learning theory result of Bshouty, Cleve, et 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2971800"/>
            <a:ext cx="83818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Intuition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uess random inputs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quantum circuits 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Repeatedly use postselection to f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inpu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n which 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ircuit 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succeeds on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918720" y="689040"/>
            <a:ext cx="7100280" cy="6026040"/>
            <a:chOff x="918720" y="689040"/>
            <a:chExt cx="7100280" cy="6026040"/>
          </a:xfrm>
        </p:grpSpPr>
        <p:sp>
          <p:nvSpPr>
            <p:cNvPr id="305" name=""/>
            <p:cNvSpPr/>
            <p:nvPr/>
          </p:nvSpPr>
          <p:spPr>
            <a:xfrm rot="1092600">
              <a:off x="1447920" y="1523880"/>
              <a:ext cx="6041880" cy="4356000"/>
            </a:xfrm>
            <a:prstGeom prst="irregularSeal2">
              <a:avLst/>
            </a:prstGeom>
            <a:solidFill>
              <a:srgbClr val="e5ff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362320" y="2815920"/>
              <a:ext cx="365760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Even works for quantum circuits with quantum advice!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5866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 (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457200"/>
            <a:ext cx="7086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3366"/>
                </a:solidFill>
                <a:latin typeface="Arial"/>
              </a:rPr>
              <a:t>Dr.</a:t>
            </a:r>
            <a:r>
              <a:rPr b="1" lang="en-US" sz="5500" spc="-1" strike="noStrike">
                <a:solidFill>
                  <a:srgbClr val="993366"/>
                </a:solidFill>
                <a:latin typeface="Arial"/>
              </a:rPr>
              <a:t> Scott’s Grab Bag o’ Cheap Yuk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9144000" cy="7010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15228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nd now for a grand final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685800"/>
            <a:ext cx="9144000" cy="66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0-1-NPC - #A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#L - #L/poly - #P - #W[t] - +EXP - +L - +L/poly - +P - +SAC1 - A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PP - AC - AC0 - A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[m] - AC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AH - AL - AlgP/poly - AM - AM-EXP - AM intersect coAM - AM[polylog] - AmpMP - AmpP-BQP - AP - AP - APP - APP - APX - AUC-SPACE(f(n)) - AVBPP - AvE - AvP - AW[P] - AWPP - AW[SAT] - AW[*] - AW[t] - βP - BH - BPE - BPEE - BP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H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SPACE(f(n)) - BPL - BP•NP - BPP - BPP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cc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BPP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KT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BPP-OBDD - BPP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path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BPQP - BPSPACE(f(n)) - BPTIME(f(n)) - BQNC - BQNP - BQP - BQP/log - BQP/poly - BQP/qlog - BQP/qpoly - BQP-OBDD - BQP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tt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/poly - BQTIME(f(n)) - k-BWBP - C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=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A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C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=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L - C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=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P - CFL - CLOG - CH - Check - C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k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P - CNP - coAM - coC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=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P - cofrIP - Coh - coMA - coModkP - compIP - compNP - coNE - coNEXP - coNL - coNP - coNP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cc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coNP/poly - coNQP - coRE - coRNC - coRP - coSL - coUCC - coUP - CP - CSIZE(f(n)) - CSL - CZK - D#P - Δ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P - δ-BPP - δ-RP - DET - DiffA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DisNP - DistNP - DP - DQP - DSPACE(f(n)) - DTIME(f(n)) - DTISP(t(n),s(n)) - Dyn-FO - Dyn-Th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E - EE - EEE - EESPACE - EEXP - EH - ELEMENTARY - EL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k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P - EPTAS - k-EQBP - EQP - EQTIME(f(n)) - ESPACE - </a:t>
            </a:r>
            <a:r>
              <a:rPr b="0" lang="en-US" sz="1300" spc="-1" strike="noStrike">
                <a:solidFill>
                  <a:srgbClr val="00cc00"/>
                </a:solidFill>
                <a:latin typeface="Symbol"/>
                <a:ea typeface="Symbol"/>
              </a:rPr>
              <a:t>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BPP - </a:t>
            </a:r>
            <a:r>
              <a:rPr b="0" lang="en-US" sz="1300" spc="-1" strike="noStrike">
                <a:solidFill>
                  <a:srgbClr val="00cc00"/>
                </a:solidFill>
                <a:latin typeface="Symbol"/>
                <a:ea typeface="Symbol"/>
              </a:rPr>
              <a:t>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NISZK - EXP - EXP/poly - EXPSPACE - FBQP - Few - FewP - FH - FNL - FNL/poly - FNP - FO(t(n)) - FOLL - FP - FP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NP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[log] - FPR - FPRAS - FPT - FPT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nu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FPT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su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FPTAS - FQMA - frIP - F-TAPE(f(n)) - F-TIME(f(n)) - GA - GAN-SPACE(f(n)) - GapA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GapL - GapP - GC(s(n),C) - GI - GPCD(r(n),q(n)) - G[t] - HeurBPP - HeurBPTIME(f(n)) - H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k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P - HVSZK - IC[log,poly] - IP - IPP - L - LIN - L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k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P - LOGCFL - LogFew - LogFewNL - LOGNP - LOGSNP - L/poly - LWPP - MA - MA' - MA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MA-E - MA-EXP - mAL - MaxNP - MaxPB - MaxSNP - MaxSNP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mcoNL - MinPB - MIP - MIP*[2,1] - MIPEXP - (M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k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)P - mL - mN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1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mNL - mNP - Mod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k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L - Mod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k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P - ModP - ModZ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k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L - mP - MP - MPC - mP/poly - mT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NC - N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N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1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N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2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NE - NE/poly - NEE - NEEE - NEEXP - NEXP - NEXP/poly - NIQSZK - NISZK - NISZK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h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NL - NL/poly - NLIN - NLOG - NP - NPC - NP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cc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NPC - NPI - NP</a:t>
            </a:r>
            <a:r>
              <a:rPr b="0" lang="en-US" sz="1300" spc="-1" strike="noStrike">
                <a:solidFill>
                  <a:srgbClr val="00cc00"/>
                </a:solidFill>
                <a:latin typeface="Symbol"/>
                <a:ea typeface="Symbol"/>
              </a:rPr>
              <a:t>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coNP - (NP</a:t>
            </a:r>
            <a:r>
              <a:rPr b="0" lang="en-US" sz="1300" spc="-1" strike="noStrike">
                <a:solidFill>
                  <a:srgbClr val="00cc00"/>
                </a:solidFill>
                <a:latin typeface="Symbol"/>
                <a:ea typeface="Symbol"/>
              </a:rPr>
              <a:t>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coNP)/poly - NP/log - NPMV - NPMV-sel - NPMV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NPMV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-sel - NPO - NPOPB - NP/poly - (NP,P-samplable) - NPR - NPSPACE - NPSV - NPSV-sel - NPSV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NPSV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-sel - NQP - NSPACE(f(n)) - NT - NTIME(f(n)) - OCQ - OptP - P - P/log - P/poly - P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#P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P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#P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[1] - PA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PBP - k-PBP - PC - P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cc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PCD(r(n),q(n)) - P-close - PCP(r(n),q(n)) - PermUP - PEXP - PF - PFCHK(t(n)) - PH - PH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cc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Φ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P - PhP - Π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P - PINC - PIO - PK - PKC - PL - PL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1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PL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infinity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PLF - PLL - PLS - P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NP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P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NP[k]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P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NP[log]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P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NP[log^2]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P-OBDD - PODN - polyL - PostBQP - PP - PP/poly - PPA - PPAD - PPADS - PPP - P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PP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PPSPACE - PQUERY - PR - PR - Pr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H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SPACE(f(n)) - PromiseBPP - PromiseBQP - PromiseP - PromiseRP - PrSPACE(f(n)) - P-Sel - PSK - PSPACE - PT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1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PTAPE - PTAS - PT/WK(f(n),g(n)) - PZK - QA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QA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[m] - QAC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QAM - QCFL - QCMA - QH - QIP - QIP(2) - QMA - QMA+ - QMA(2) - QMA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log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QMAM - QMIP - QMIP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le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QMIP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ne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QN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QNCf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QN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1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QP - QPLIN - QPSPACE - QSZK - R - RE - REG - RevSPACE(f(n)) - RHL - RL - RNC - RP - RPP - RSPACE(f(n)) - S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P - S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-EXP•P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NP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SAC - SA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SA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1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SAPTIME - SBP - SC - SEH - SelfNP - SF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k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Σ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P - SKC - SL - SLICEWISE PSPACE - SNP - SO-E - SP - SP - span-P - SPARSE - SPL - SPP - SUBEXP - symP - SZK - SZK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h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TALLY - T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TFNP - Θ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P - TreeBQP - TREE-REGULAR - UAP - UCC - UE - UL - UL/poly - UP - US - VNC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k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VNP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k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VP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k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VQP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k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W[1] - WAPP - W[P] - WPP - W[SAT] - W[*] - W[t] - W*[t] - XOR-MIP*[2,1] - XP - XP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uniform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YACC - ZPE - ZPP - ZPTIME(f(n)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1981080"/>
            <a:ext cx="80010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HE EDWARD H. FARH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APITAL LET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YROTECHNICS DISPL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Quantum Karp-Lipton Theorem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905120"/>
            <a:ext cx="7772400" cy="1464480"/>
            <a:chOff x="609480" y="1905120"/>
            <a:chExt cx="7772400" cy="1464480"/>
          </a:xfrm>
        </p:grpSpPr>
        <p:sp>
          <p:nvSpPr>
            <p:cNvPr id="313" name=""/>
            <p:cNvSpPr/>
            <p:nvPr/>
          </p:nvSpPr>
          <p:spPr>
            <a:xfrm>
              <a:off x="609480" y="1905120"/>
              <a:ext cx="777240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f PP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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BQP/qpoly, then the </a:t>
              </a: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counting hierarchy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—consisting of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etc.—collapses to PP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5029200" y="2286000"/>
                  <a:ext cx="3193920" cy="70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P</m:t>
                      </m:r>
                      <m:r>
                        <m:t xml:space="preserve">,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PP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PP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PP</m:t>
                          </m:r>
                        </m:e>
                        <m: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P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PP</m:t>
                              </m:r>
                            </m:sup>
                          </m:sSup>
                        </m:sup>
                      </m:sSup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5" name=""/>
          <p:cNvSpPr/>
          <p:nvPr/>
        </p:nvSpPr>
        <p:spPr>
          <a:xfrm>
            <a:off x="609480" y="365760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But there’s mor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 no assumptions, PP does not have quantum circuits of size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4952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nd mor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EXP requires quantum circuits of size f(n), where f(f(n)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Even Stronger Separations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1905120"/>
            <a:ext cx="7772400" cy="22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M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a subclass of PEXP) is not in BQP/qpo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CM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a subclass of QM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is not in BQP/po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4495680"/>
            <a:ext cx="769644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P (a subclass of PP) does not have quantum circuits of size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21114600">
            <a:off x="1368720" y="2438280"/>
            <a:ext cx="6130800" cy="85572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NONRELATIVIZING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16765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started out with a weird philosophical ques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36576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it—it work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3520" y="26668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ended up with seven or eight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47920" y="5866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 (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57200"/>
            <a:ext cx="81532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993366"/>
                </a:solidFill>
                <a:latin typeface="Arial"/>
              </a:rPr>
              <a:t>Outlook on the Future of Quantum Computing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40760" y="2690640"/>
            <a:ext cx="119196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47920" y="5866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 (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762120"/>
            <a:ext cx="7925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993366"/>
                </a:solidFill>
                <a:latin typeface="Arial"/>
              </a:rPr>
              <a:t>The Remarkable Ubiquity of Postselection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47920" y="5866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 (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762120"/>
            <a:ext cx="7925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993366"/>
                </a:solidFill>
                <a:latin typeface="Arial"/>
              </a:rPr>
              <a:t>The Stupendous Strength of Postselection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5866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 (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762120"/>
            <a:ext cx="7925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993366"/>
                </a:solidFill>
                <a:latin typeface="Arial"/>
              </a:rPr>
              <a:t>The Hunky, Rippling Manliness of Postselection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7920" y="5866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 (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762120"/>
            <a:ext cx="7925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993366"/>
                </a:solidFill>
                <a:latin typeface="Arial"/>
              </a:rPr>
              <a:t>Lessons Learned in the Gottesman Institute of Comedy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47920" y="5866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 (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457200"/>
            <a:ext cx="74678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993366"/>
                </a:solidFill>
                <a:latin typeface="Arial"/>
              </a:rPr>
              <a:t>The Amazing Power of Postselection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2:08:45Z</dcterms:created>
  <dc:creator>Scott Aaronson</dc:creator>
  <dc:description/>
  <dc:language>en-US</dc:language>
  <cp:lastModifiedBy>Scott Aaronson</cp:lastModifiedBy>
  <dcterms:modified xsi:type="dcterms:W3CDTF">2006-05-08T03:53:23Z</dcterms:modified>
  <cp:revision>30</cp:revision>
  <dc:subject/>
  <dc:title>The Amazing Power of Postselection</dc:title>
</cp:coreProperties>
</file>