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233-CC16-4688-97D9-290B2739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E9E-4C93-4185-8989-7B8D897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D12-2933-4C13-A7BF-D243632E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2FE-84C1-4125-979E-D24483B7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AE5-1E9A-4654-BCD8-0E478FA1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A7A-797D-43A7-B690-5339F9E5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330-1ACE-430E-A435-4FE02F3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5F2-63EC-490C-894A-C5F8796E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D58-B85F-42B8-AF85-E87105BC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3C6-5142-4FAE-9AD5-4F9D674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D8D-2E4E-4501-AC05-83C7BD6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F7F-1CAF-4D67-B051-1A684FC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CC7-B86A-4686-897F-5ECA73591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Lower Bounds for Local Search by Quantum Argument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berkeley.edu/~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4,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terministic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eturns decreasing values of f(v), until the set of queried vertices cuts G in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oracle restricts the problem to largest p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ability”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gh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izes query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09680" y="2057400"/>
            <a:ext cx="2743200" cy="2590920"/>
            <a:chOff x="2209680" y="2057400"/>
            <a:chExt cx="2743200" cy="2590920"/>
          </a:xfrm>
        </p:grpSpPr>
        <p:sp>
          <p:nvSpPr>
            <p:cNvPr id="127" name=""/>
            <p:cNvSpPr/>
            <p:nvPr/>
          </p:nvSpPr>
          <p:spPr>
            <a:xfrm flipV="1">
              <a:off x="2666880" y="38858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114800" y="38858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14800" y="251424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66880" y="25142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209680" y="2667240"/>
              <a:ext cx="2057400" cy="1981080"/>
              <a:chOff x="2209680" y="2667240"/>
              <a:chExt cx="2057400" cy="198108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962160" y="297144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514600" y="297144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14600" y="43434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14600" y="29718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09680" y="4038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4038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09680" y="26672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57600" y="26672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895480" y="2057400"/>
              <a:ext cx="2057400" cy="1981080"/>
              <a:chOff x="2895480" y="2057400"/>
              <a:chExt cx="2057400" cy="198108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4647960" y="236160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3200400" y="236160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00400" y="373356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00400" y="236196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95480" y="34290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43400" y="34290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20574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43400" y="205740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3657600" y="4038480"/>
            <a:ext cx="609480" cy="609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038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3429000"/>
            <a:ext cx="60984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429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2666880"/>
            <a:ext cx="609840" cy="60984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09680" y="2666880"/>
            <a:ext cx="609480" cy="1953000"/>
            <a:chOff x="2209680" y="2666880"/>
            <a:chExt cx="609480" cy="1953000"/>
          </a:xfrm>
        </p:grpSpPr>
        <p:sp>
          <p:nvSpPr>
            <p:cNvPr id="155" name=""/>
            <p:cNvSpPr/>
            <p:nvPr/>
          </p:nvSpPr>
          <p:spPr>
            <a:xfrm>
              <a:off x="2209680" y="2666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4038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343400" y="205740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95480" y="2057400"/>
            <a:ext cx="2057400" cy="1191240"/>
            <a:chOff x="2895480" y="2057400"/>
            <a:chExt cx="2057400" cy="1191240"/>
          </a:xfrm>
        </p:grpSpPr>
        <p:sp>
          <p:nvSpPr>
            <p:cNvPr id="159" name=""/>
            <p:cNvSpPr/>
            <p:nvPr/>
          </p:nvSpPr>
          <p:spPr>
            <a:xfrm>
              <a:off x="4343400" y="2057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95480" y="2057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26672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343400" y="3429000"/>
            <a:ext cx="609480" cy="609480"/>
          </a:xfrm>
          <a:prstGeom prst="ellips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191120" y="3276720"/>
            <a:ext cx="914400" cy="914400"/>
            <a:chOff x="4191120" y="3276720"/>
            <a:chExt cx="914400" cy="914400"/>
          </a:xfrm>
        </p:grpSpPr>
        <p:sp>
          <p:nvSpPr>
            <p:cNvPr id="164" name=""/>
            <p:cNvSpPr/>
            <p:nvPr/>
          </p:nvSpPr>
          <p:spPr>
            <a:xfrm>
              <a:off x="4343760" y="3429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32767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lewellyn, Tovey, Trick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Boolean hypercube 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ized Query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raph with N vertices and max degre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epest descent algorith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 uniformly and query th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et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queried vertex with minimum 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peatedly let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minimum neighbor of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til local min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min is found w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w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ertices have smaller f-value than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p.  In that case distance from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cal min in “steepest descent tree” is at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066680"/>
          <a:ext cx="1371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209680" y="2514600"/>
          <a:ext cx="82872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8287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791320" y="4191120"/>
          <a:ext cx="20574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19112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8120" y="4800600"/>
          <a:ext cx="105732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800600"/>
                    <a:ext cx="1057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924680" y="5791320"/>
          <a:ext cx="105732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24680" y="5791320"/>
                    <a:ext cx="105732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andomized Lower Boun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33560" y="3124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walk mixes in n log n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n’t yet found a v with f(v)&l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uitively the best you can do is continue “stabbing in the da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rd to pr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3124080"/>
            <a:ext cx="2743200" cy="2590920"/>
            <a:chOff x="533520" y="3124080"/>
            <a:chExt cx="2743200" cy="2590920"/>
          </a:xfrm>
        </p:grpSpPr>
        <p:sp>
          <p:nvSpPr>
            <p:cNvPr id="182" name=""/>
            <p:cNvSpPr/>
            <p:nvPr/>
          </p:nvSpPr>
          <p:spPr>
            <a:xfrm flipV="1">
              <a:off x="990720" y="49525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438640" y="49525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438640" y="3580920"/>
              <a:ext cx="30456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990720" y="358092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33520" y="3733920"/>
              <a:ext cx="2057400" cy="1981080"/>
              <a:chOff x="533520" y="3733920"/>
              <a:chExt cx="2057400" cy="198108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2286000" y="403812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838440" y="403812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38440" y="54100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38440" y="403848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520" y="51055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81440" y="51055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520" y="37339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81440" y="373392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9320" y="3124080"/>
              <a:ext cx="2057400" cy="1981080"/>
              <a:chOff x="1219320" y="3124080"/>
              <a:chExt cx="2057400" cy="198108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971800" y="34282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1524240" y="3428280"/>
                <a:ext cx="0" cy="129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4240" y="48002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24240" y="342864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19320" y="44956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67240" y="44956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19320" y="31240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67240" y="312408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1219320" y="4495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4495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05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5105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3733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733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371600"/>
            <a:ext cx="8534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dous 198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-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hypercu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k random start vertex, then take random walk.  Label each vertex wit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tt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Query Complex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(N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any graph with N vertices and max degre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(Nd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uniformly a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rover’s quantum search algorithm to find th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inimum f-value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before, follow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cal min by steepes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666880" y="4267080"/>
          <a:ext cx="388620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8862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600200"/>
            <a:ext cx="853416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Set of 0-inp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Set of 1-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function R(f,g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 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and indices v,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mbainis’ Adversary Method</a:t>
            </a:r>
            <a:br>
              <a:rPr sz="4000"/>
            </a:b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“Most General” Version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3040" y="3324240"/>
          <a:ext cx="889164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3324240"/>
                    <a:ext cx="88916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311560" y="5715000"/>
          <a:ext cx="640080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1560" y="5715000"/>
                    <a:ext cx="64008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04920" y="5029200"/>
            <a:ext cx="853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quantum query complexity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ge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N) for Inverting a Permut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09680" y="2819520"/>
            <a:ext cx="5562360" cy="4227840"/>
            <a:chOff x="2209680" y="2819520"/>
            <a:chExt cx="5562360" cy="4227840"/>
          </a:xfrm>
        </p:grpSpPr>
        <p:sp>
          <p:nvSpPr>
            <p:cNvPr id="226" name=""/>
            <p:cNvSpPr/>
            <p:nvPr/>
          </p:nvSpPr>
          <p:spPr>
            <a:xfrm>
              <a:off x="2209680" y="2819520"/>
              <a:ext cx="5562360" cy="42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240" y="2895480"/>
              <a:ext cx="0" cy="221004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440" y="2895480"/>
              <a:ext cx="914400" cy="91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040" y="2895480"/>
              <a:ext cx="914400" cy="91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560" y="3733920"/>
              <a:ext cx="3124080" cy="304560"/>
            </a:xfrm>
            <a:custGeom>
              <a:avLst/>
              <a:gdLst/>
              <a:ahLst/>
              <a:rect l="l" t="t" r="r" b="b"/>
              <a:pathLst>
                <a:path w="1968" h="192">
                  <a:moveTo>
                    <a:pt x="0" y="0"/>
                  </a:moveTo>
                  <a:cubicBezTo>
                    <a:pt x="316" y="96"/>
                    <a:pt x="632" y="192"/>
                    <a:pt x="960" y="192"/>
                  </a:cubicBezTo>
                  <a:cubicBezTo>
                    <a:pt x="1288" y="192"/>
                    <a:pt x="1628" y="96"/>
                    <a:pt x="1968" y="0"/>
                  </a:cubicBezTo>
                </a:path>
              </a:pathLst>
            </a:custGeom>
            <a:noFill/>
            <a:ln w="5400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80880" y="8380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 = set of permutations of {1,…,N} with ‘1’ on left half, B = set with ‘1’ on right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f,g)=1 if g obtained from f by swapping the ‘1’, R(f,g)=0 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819520"/>
            <a:ext cx="609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51814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2)=1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2)=2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6)=1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6)=2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39960" y="5715000"/>
          <a:ext cx="728028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5715000"/>
                    <a:ext cx="728028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33520" y="38862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lational Adversary Method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17600" y="2955960"/>
          <a:ext cx="815652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955960"/>
                    <a:ext cx="81565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33520" y="1295280"/>
            <a:ext cx="83055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A, B, R(f,g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,v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,v) be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ical random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ery complexity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49160" y="4462560"/>
          <a:ext cx="749304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9160" y="4462560"/>
                    <a:ext cx="74930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3520" y="5486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verting a permutation, we g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instea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ew Lower Bounds for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31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100" spc="-1" strike="noStrike">
                <a:solidFill>
                  <a:srgbClr val="3333cc"/>
                </a:solidFill>
                <a:latin typeface="Arial"/>
              </a:rPr>
              <a:t>EARCH</a:t>
            </a:r>
            <a:endParaRPr b="1" lang="en-US" sz="3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990720"/>
            <a:ext cx="876312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 Boolean hypercube {0,1}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6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queries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n d-dimensional cube of N vertices (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≥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um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domiz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1523880"/>
          <a:ext cx="14176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1417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3520" y="2590920"/>
          <a:ext cx="1417680" cy="114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141768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57200" y="4191120"/>
          <a:ext cx="2201760" cy="12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22017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09480" y="5410080"/>
          <a:ext cx="1930680" cy="114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410080"/>
                    <a:ext cx="19306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dified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648320"/>
            <a:ext cx="8534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rting from the head, follow a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“snake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L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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descending values to the unique local minimum of f, then return an answer bit found there.  Clearly a lower bound for this problem implies an equivalent lower bound for 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1066680"/>
            <a:ext cx="8991720" cy="3477240"/>
            <a:chOff x="0" y="1066680"/>
            <a:chExt cx="8991720" cy="3477240"/>
          </a:xfrm>
        </p:grpSpPr>
        <p:sp>
          <p:nvSpPr>
            <p:cNvPr id="257" name=""/>
            <p:cNvSpPr/>
            <p:nvPr/>
          </p:nvSpPr>
          <p:spPr>
            <a:xfrm>
              <a:off x="1600200" y="1066680"/>
              <a:ext cx="5334120" cy="3429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520" y="2361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2742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920" y="20570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00600" y="1752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57800" y="2514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72200" y="3047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09680" y="2742840"/>
              <a:ext cx="5335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048120" y="2437920"/>
              <a:ext cx="76176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114800" y="2056680"/>
              <a:ext cx="7621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81480" y="205704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62720" y="2895480"/>
              <a:ext cx="6094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1904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2895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6880" y="2133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3200" y="1371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8280" y="3276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8120" y="36572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6720" y="29714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9880" y="2590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5680" y="2438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6720" y="1981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1218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67080" y="12189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7800" y="1447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0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72200" y="25905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33920" y="32000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0200" y="236196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205704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Known) Snake H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9400" y="335268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ake Tail (contains binary ans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600" y="3809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36572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30477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4120" y="327636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3047760"/>
              <a:ext cx="60984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7120" y="1218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1371600"/>
            <a:ext cx="861048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D be a distribution over snakes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h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jacent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y an X drawn from D i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 following holds.  Choose j uniformly from {0,…,L-1}, and l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distribution over snakes Y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drawn from D condition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t&gt;j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 all vertices v of 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ood Snak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54200" y="4267080"/>
          <a:ext cx="8237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237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572000" y="5486400"/>
          <a:ext cx="393876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5486400"/>
                    <a:ext cx="3938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Quantum Background Needed for This Talk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1523880"/>
            <a:ext cx="86104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ppose there’s a snake distribution D, such that a snake drawn from D i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good with probability at least 9/10.  Then the quantum query complexity of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G is              , and the randomized 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162920" y="3429000"/>
          <a:ext cx="11062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429000"/>
                    <a:ext cx="1106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733400" y="3352680"/>
          <a:ext cx="1252800" cy="11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3352680"/>
                    <a:ext cx="125280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7238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ensitivity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14300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809880" y="1828800"/>
            <a:ext cx="609840" cy="609480"/>
            <a:chOff x="3809880" y="1828800"/>
            <a:chExt cx="609840" cy="609480"/>
          </a:xfrm>
        </p:grpSpPr>
        <p:sp>
          <p:nvSpPr>
            <p:cNvPr id="308" name=""/>
            <p:cNvSpPr/>
            <p:nvPr/>
          </p:nvSpPr>
          <p:spPr>
            <a:xfrm>
              <a:off x="3809880" y="182880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9880" y="1828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43200" y="990720"/>
            <a:ext cx="609480" cy="609480"/>
            <a:chOff x="2743200" y="990720"/>
            <a:chExt cx="609480" cy="609480"/>
          </a:xfrm>
        </p:grpSpPr>
        <p:sp>
          <p:nvSpPr>
            <p:cNvPr id="311" name=""/>
            <p:cNvSpPr/>
            <p:nvPr/>
          </p:nvSpPr>
          <p:spPr>
            <a:xfrm>
              <a:off x="2743200" y="9907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43200" y="990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295280" y="1447920"/>
            <a:ext cx="609840" cy="609480"/>
            <a:chOff x="1295280" y="1447920"/>
            <a:chExt cx="609840" cy="609480"/>
          </a:xfrm>
        </p:grpSpPr>
        <p:sp>
          <p:nvSpPr>
            <p:cNvPr id="314" name=""/>
            <p:cNvSpPr/>
            <p:nvPr/>
          </p:nvSpPr>
          <p:spPr>
            <a:xfrm>
              <a:off x="1295280" y="14479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95280" y="1447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80880" y="609480"/>
            <a:ext cx="609840" cy="609840"/>
            <a:chOff x="380880" y="609480"/>
            <a:chExt cx="609840" cy="609840"/>
          </a:xfrm>
        </p:grpSpPr>
        <p:sp>
          <p:nvSpPr>
            <p:cNvPr id="317" name=""/>
            <p:cNvSpPr/>
            <p:nvPr/>
          </p:nvSpPr>
          <p:spPr>
            <a:xfrm>
              <a:off x="380880" y="609480"/>
              <a:ext cx="60984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609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105520" y="1447920"/>
            <a:ext cx="609480" cy="609480"/>
            <a:chOff x="5105520" y="1447920"/>
            <a:chExt cx="609480" cy="609480"/>
          </a:xfrm>
        </p:grpSpPr>
        <p:sp>
          <p:nvSpPr>
            <p:cNvPr id="320" name=""/>
            <p:cNvSpPr/>
            <p:nvPr/>
          </p:nvSpPr>
          <p:spPr>
            <a:xfrm>
              <a:off x="5105520" y="14479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1447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400800" y="1066680"/>
            <a:ext cx="609480" cy="609840"/>
            <a:chOff x="6400800" y="1066680"/>
            <a:chExt cx="609480" cy="609840"/>
          </a:xfrm>
        </p:grpSpPr>
        <p:sp>
          <p:nvSpPr>
            <p:cNvPr id="323" name=""/>
            <p:cNvSpPr/>
            <p:nvPr/>
          </p:nvSpPr>
          <p:spPr>
            <a:xfrm>
              <a:off x="6400800" y="106668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0800" y="1066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238880" y="1981080"/>
            <a:ext cx="609840" cy="609840"/>
            <a:chOff x="7238880" y="1981080"/>
            <a:chExt cx="609840" cy="609840"/>
          </a:xfrm>
        </p:grpSpPr>
        <p:sp>
          <p:nvSpPr>
            <p:cNvPr id="326" name=""/>
            <p:cNvSpPr/>
            <p:nvPr/>
          </p:nvSpPr>
          <p:spPr>
            <a:xfrm>
              <a:off x="7238880" y="1981080"/>
              <a:ext cx="60984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388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467480" y="3048120"/>
            <a:ext cx="609840" cy="609480"/>
            <a:chOff x="7467480" y="3048120"/>
            <a:chExt cx="609840" cy="609480"/>
          </a:xfrm>
        </p:grpSpPr>
        <p:sp>
          <p:nvSpPr>
            <p:cNvPr id="329" name=""/>
            <p:cNvSpPr/>
            <p:nvPr/>
          </p:nvSpPr>
          <p:spPr>
            <a:xfrm>
              <a:off x="7467480" y="30481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30481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153280" y="4114800"/>
            <a:ext cx="609840" cy="609480"/>
            <a:chOff x="8153280" y="4114800"/>
            <a:chExt cx="609840" cy="609480"/>
          </a:xfrm>
        </p:grpSpPr>
        <p:sp>
          <p:nvSpPr>
            <p:cNvPr id="332" name=""/>
            <p:cNvSpPr/>
            <p:nvPr/>
          </p:nvSpPr>
          <p:spPr>
            <a:xfrm>
              <a:off x="8153280" y="411480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4114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162920" y="49528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86600" y="4952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5638680"/>
            <a:ext cx="609480" cy="6098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638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905120" y="137160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15238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419720" y="182844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15000" y="1447560"/>
            <a:ext cx="685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1523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43800" y="25909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35812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96080" y="46483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553080" y="540972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248520" y="838080"/>
            <a:ext cx="1447560" cy="990720"/>
            <a:chOff x="6248520" y="838080"/>
            <a:chExt cx="1447560" cy="990720"/>
          </a:xfrm>
        </p:grpSpPr>
        <p:sp>
          <p:nvSpPr>
            <p:cNvPr id="348" name=""/>
            <p:cNvSpPr/>
            <p:nvPr/>
          </p:nvSpPr>
          <p:spPr>
            <a:xfrm>
              <a:off x="7010280" y="838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91440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914400" y="30492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219320" y="1066680"/>
            <a:ext cx="7543800" cy="5181480"/>
            <a:chOff x="1219320" y="1066680"/>
            <a:chExt cx="7543800" cy="5181480"/>
          </a:xfrm>
        </p:grpSpPr>
        <p:grpSp>
          <p:nvGrpSpPr>
            <p:cNvPr id="352" name=""/>
            <p:cNvGrpSpPr/>
            <p:nvPr/>
          </p:nvGrpSpPr>
          <p:grpSpPr>
            <a:xfrm>
              <a:off x="1905120" y="1066680"/>
              <a:ext cx="6858000" cy="5181480"/>
              <a:chOff x="1905120" y="1066680"/>
              <a:chExt cx="6858000" cy="518148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5867280" y="2514600"/>
                <a:ext cx="609840" cy="609480"/>
                <a:chOff x="5867280" y="2514600"/>
                <a:chExt cx="609840" cy="6094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867280" y="251460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867280" y="25146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4572000" y="2590920"/>
                <a:ext cx="609480" cy="609480"/>
                <a:chOff x="4572000" y="2590920"/>
                <a:chExt cx="609480" cy="6094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572000" y="259092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572000" y="259092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657600" y="3581280"/>
                <a:ext cx="609480" cy="609480"/>
                <a:chOff x="3657600" y="3581280"/>
                <a:chExt cx="609480" cy="609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657600" y="35812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57600" y="35812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505320" y="4952880"/>
                <a:ext cx="609480" cy="609480"/>
                <a:chOff x="3505320" y="4952880"/>
                <a:chExt cx="609480" cy="609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505320" y="49528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505320" y="49528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1905120" y="4495680"/>
                <a:ext cx="609480" cy="609480"/>
                <a:chOff x="1905120" y="4495680"/>
                <a:chExt cx="609480" cy="609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905120" y="44956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05120" y="4495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 flipV="1">
                <a:off x="6248520" y="1676520"/>
                <a:ext cx="38088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181480" y="2819160"/>
                <a:ext cx="68580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191120" y="3047760"/>
                <a:ext cx="4572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3809880" y="4191120"/>
                <a:ext cx="15264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14600" y="4876920"/>
                <a:ext cx="9907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6400800" y="1066680"/>
                <a:ext cx="609480" cy="609480"/>
                <a:chOff x="6400800" y="1066680"/>
                <a:chExt cx="609480" cy="60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400800" y="1066680"/>
                  <a:ext cx="60948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400800" y="1066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238880" y="1981080"/>
                <a:ext cx="609840" cy="609480"/>
                <a:chOff x="7238880" y="1981080"/>
                <a:chExt cx="609840" cy="60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238880" y="19810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238880" y="198108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467480" y="3048120"/>
                <a:ext cx="609840" cy="609480"/>
                <a:chOff x="7467480" y="3048120"/>
                <a:chExt cx="609840" cy="60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467480" y="304812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67480" y="304812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153280" y="4114800"/>
                <a:ext cx="609840" cy="609480"/>
                <a:chOff x="8153280" y="4114800"/>
                <a:chExt cx="609840" cy="60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153280" y="411480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53280" y="41148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086600" y="4952880"/>
                <a:ext cx="761760" cy="609480"/>
                <a:chOff x="7086600" y="4952880"/>
                <a:chExt cx="761760" cy="60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162560" y="49528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086600" y="495288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943600" y="5638680"/>
                <a:ext cx="761760" cy="609480"/>
                <a:chOff x="5943600" y="5638680"/>
                <a:chExt cx="761760" cy="60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019560" y="5638680"/>
                  <a:ext cx="609840" cy="609480"/>
                </a:xfrm>
                <a:prstGeom prst="ellipse">
                  <a:avLst/>
                </a:prstGeom>
                <a:solidFill>
                  <a:srgbClr val="cc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943600" y="563868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99"/>
                      </a:solidFill>
                      <a:latin typeface="Arial"/>
                    </a:rPr>
                    <a:t>1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" name=""/>
            <p:cNvSpPr/>
            <p:nvPr/>
          </p:nvSpPr>
          <p:spPr>
            <a:xfrm>
              <a:off x="1219320" y="5029200"/>
              <a:ext cx="1066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228600"/>
            <a:ext cx="3504960" cy="1523880"/>
            <a:chOff x="2590920" y="228600"/>
            <a:chExt cx="3504960" cy="1523880"/>
          </a:xfrm>
        </p:grpSpPr>
        <p:sp>
          <p:nvSpPr>
            <p:cNvPr id="393" name=""/>
            <p:cNvSpPr/>
            <p:nvPr/>
          </p:nvSpPr>
          <p:spPr>
            <a:xfrm>
              <a:off x="3429000" y="228600"/>
              <a:ext cx="2666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 but small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90920" y="838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24280" y="2362320"/>
            <a:ext cx="2667240" cy="1903320"/>
            <a:chOff x="4724280" y="2362320"/>
            <a:chExt cx="2667240" cy="1903320"/>
          </a:xfrm>
        </p:grpSpPr>
        <p:sp>
          <p:nvSpPr>
            <p:cNvPr id="396" name=""/>
            <p:cNvSpPr/>
            <p:nvPr/>
          </p:nvSpPr>
          <p:spPr>
            <a:xfrm>
              <a:off x="4724280" y="3200400"/>
              <a:ext cx="26672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rg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 but small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v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15000" y="23623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6553080" y="601992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ources of Troubl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914400" y="914400"/>
            <a:ext cx="2819520" cy="3733560"/>
            <a:chOff x="914400" y="914400"/>
            <a:chExt cx="2819520" cy="3733560"/>
          </a:xfrm>
        </p:grpSpPr>
        <p:grpSp>
          <p:nvGrpSpPr>
            <p:cNvPr id="401" name=""/>
            <p:cNvGrpSpPr/>
            <p:nvPr/>
          </p:nvGrpSpPr>
          <p:grpSpPr>
            <a:xfrm>
              <a:off x="990720" y="2057400"/>
              <a:ext cx="2666880" cy="2590560"/>
              <a:chOff x="990720" y="2057400"/>
              <a:chExt cx="2666880" cy="2590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676520" y="2895480"/>
                <a:ext cx="68580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2057400" y="3200400"/>
                <a:ext cx="609840" cy="609480"/>
                <a:chOff x="2057400" y="3200400"/>
                <a:chExt cx="609840" cy="6094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057400" y="3200400"/>
                  <a:ext cx="60984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057400" y="32004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143000" y="2361960"/>
                <a:ext cx="609840" cy="609840"/>
                <a:chOff x="1143000" y="2361960"/>
                <a:chExt cx="609840" cy="6098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143000" y="2361960"/>
                  <a:ext cx="60984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43000" y="236196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2743200" y="2057400"/>
                <a:ext cx="609840" cy="609480"/>
                <a:chOff x="2743200" y="2057400"/>
                <a:chExt cx="609840" cy="60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743200" y="2057400"/>
                  <a:ext cx="60984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743200" y="205740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990720" y="3429000"/>
                <a:ext cx="609480" cy="609480"/>
                <a:chOff x="990720" y="3429000"/>
                <a:chExt cx="609480" cy="609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990720" y="3429000"/>
                  <a:ext cx="60948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90720" y="342900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2590920" y="3733560"/>
                <a:ext cx="609480" cy="609840"/>
                <a:chOff x="2590920" y="3733560"/>
                <a:chExt cx="609480" cy="6098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590920" y="3733560"/>
                  <a:ext cx="60948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90920" y="373356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048120" y="3047760"/>
                <a:ext cx="609480" cy="609840"/>
                <a:chOff x="3048120" y="3047760"/>
                <a:chExt cx="609480" cy="6098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048120" y="3047760"/>
                  <a:ext cx="60948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48120" y="304776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828800" y="2133360"/>
                <a:ext cx="609840" cy="609840"/>
                <a:chOff x="1828800" y="2133360"/>
                <a:chExt cx="609840" cy="6098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828800" y="2133360"/>
                  <a:ext cx="609840" cy="60984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828800" y="2133360"/>
                  <a:ext cx="609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676520" y="4038480"/>
                <a:ext cx="609480" cy="609480"/>
                <a:chOff x="1676520" y="4038480"/>
                <a:chExt cx="609480" cy="6094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676520" y="4038480"/>
                  <a:ext cx="609480" cy="60948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76520" y="40384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 flipH="1">
                <a:off x="2514240" y="2590560"/>
                <a:ext cx="38124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524240" y="2514600"/>
                <a:ext cx="129528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flipV="1">
                <a:off x="1600200" y="3809520"/>
                <a:ext cx="9907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3047760" y="358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362320" y="2590560"/>
                <a:ext cx="7621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981080" y="2743200"/>
                <a:ext cx="7596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914400" y="91440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unched-Up Snak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2880" y="990720"/>
            <a:ext cx="2895480" cy="3657600"/>
            <a:chOff x="4952880" y="990720"/>
            <a:chExt cx="2895480" cy="3657600"/>
          </a:xfrm>
        </p:grpSpPr>
        <p:sp>
          <p:nvSpPr>
            <p:cNvPr id="435" name=""/>
            <p:cNvSpPr/>
            <p:nvPr/>
          </p:nvSpPr>
          <p:spPr>
            <a:xfrm>
              <a:off x="5562360" y="2590920"/>
              <a:ext cx="6094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171840" y="2362320"/>
              <a:ext cx="609840" cy="609840"/>
              <a:chOff x="6171840" y="2362320"/>
              <a:chExt cx="609840" cy="609840"/>
            </a:xfrm>
          </p:grpSpPr>
          <p:sp>
            <p:nvSpPr>
              <p:cNvPr id="437" name=""/>
              <p:cNvSpPr/>
              <p:nvPr/>
            </p:nvSpPr>
            <p:spPr>
              <a:xfrm>
                <a:off x="6171840" y="2362320"/>
                <a:ext cx="609840" cy="60984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71840" y="236232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52880" y="2210040"/>
              <a:ext cx="609480" cy="609480"/>
              <a:chOff x="4952880" y="2210040"/>
              <a:chExt cx="609480" cy="609480"/>
            </a:xfrm>
          </p:grpSpPr>
          <p:sp>
            <p:nvSpPr>
              <p:cNvPr id="440" name=""/>
              <p:cNvSpPr/>
              <p:nvPr/>
            </p:nvSpPr>
            <p:spPr>
              <a:xfrm>
                <a:off x="4952880" y="22100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52880" y="22100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4952880" y="990720"/>
              <a:ext cx="2819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nake Tails Interse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238880" y="2895840"/>
              <a:ext cx="609480" cy="609480"/>
              <a:chOff x="7238880" y="2895840"/>
              <a:chExt cx="609480" cy="609480"/>
            </a:xfrm>
          </p:grpSpPr>
          <p:sp>
            <p:nvSpPr>
              <p:cNvPr id="444" name=""/>
              <p:cNvSpPr/>
              <p:nvPr/>
            </p:nvSpPr>
            <p:spPr>
              <a:xfrm>
                <a:off x="7238880" y="2895840"/>
                <a:ext cx="60948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38880" y="28958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086240" y="4038840"/>
              <a:ext cx="609840" cy="609480"/>
              <a:chOff x="7086240" y="4038840"/>
              <a:chExt cx="609840" cy="609480"/>
            </a:xfrm>
          </p:grpSpPr>
          <p:sp>
            <p:nvSpPr>
              <p:cNvPr id="447" name=""/>
              <p:cNvSpPr/>
              <p:nvPr/>
            </p:nvSpPr>
            <p:spPr>
              <a:xfrm>
                <a:off x="7086240" y="4038840"/>
                <a:ext cx="609840" cy="60948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86240" y="40388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6781680" y="2743560"/>
              <a:ext cx="5331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467120" y="3505320"/>
              <a:ext cx="759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715000" y="1905120"/>
            <a:ext cx="2514600" cy="2361600"/>
            <a:chOff x="5715000" y="1905120"/>
            <a:chExt cx="2514600" cy="2361600"/>
          </a:xfrm>
        </p:grpSpPr>
        <p:grpSp>
          <p:nvGrpSpPr>
            <p:cNvPr id="452" name=""/>
            <p:cNvGrpSpPr/>
            <p:nvPr/>
          </p:nvGrpSpPr>
          <p:grpSpPr>
            <a:xfrm>
              <a:off x="5715000" y="3429000"/>
              <a:ext cx="609840" cy="609120"/>
              <a:chOff x="5715000" y="3429000"/>
              <a:chExt cx="609840" cy="609120"/>
            </a:xfrm>
          </p:grpSpPr>
          <p:sp>
            <p:nvSpPr>
              <p:cNvPr id="453" name=""/>
              <p:cNvSpPr/>
              <p:nvPr/>
            </p:nvSpPr>
            <p:spPr>
              <a:xfrm>
                <a:off x="5715000" y="3429000"/>
                <a:ext cx="609840" cy="60912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5000" y="34290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324840" y="3809880"/>
              <a:ext cx="76176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171840" y="2971800"/>
              <a:ext cx="2286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6172200" y="2361960"/>
              <a:ext cx="609840" cy="609480"/>
              <a:chOff x="6172200" y="2361960"/>
              <a:chExt cx="60984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6172200" y="2361960"/>
                <a:ext cx="609840" cy="60948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172200" y="236196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620120" y="1905120"/>
              <a:ext cx="609480" cy="609480"/>
              <a:chOff x="7620120" y="1905120"/>
              <a:chExt cx="609480" cy="609480"/>
            </a:xfrm>
          </p:grpSpPr>
          <p:sp>
            <p:nvSpPr>
              <p:cNvPr id="461" name=""/>
              <p:cNvSpPr/>
              <p:nvPr/>
            </p:nvSpPr>
            <p:spPr>
              <a:xfrm>
                <a:off x="7620120" y="1905120"/>
                <a:ext cx="609480" cy="60948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20120" y="19051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V="1">
              <a:off x="6705720" y="2286000"/>
              <a:ext cx="91440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28600" y="47242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ust remove inputs that cause trou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a graph G has average degree k.  Then G has an induced subgraph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ree at least k/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4920" y="1143000"/>
            <a:ext cx="838188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Aldous’ random walk, more convenient to define snake distribution D using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coordinate loo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et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v with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 flipp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½ probabilit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t mod 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½ 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s completely in n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nake drawn from D is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ood with probability at least 9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oolean Hypercube {0,1}</a:t>
            </a:r>
            <a:r>
              <a:rPr b="1" lang="en-US" sz="4400" spc="-1" strike="noStrike" baseline="30000">
                <a:solidFill>
                  <a:srgbClr val="3333cc"/>
                </a:solidFill>
                <a:latin typeface="Arial"/>
              </a:rPr>
              <a:t>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6200" y="1219320"/>
            <a:ext cx="4952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 of random walk become more serious: mixing time is too long, too many self-inter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define D by “struts” of randomly chosen lengths connected at end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-dimensional cube (d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Arial"/>
              </a:rPr>
              <a:t>≥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)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09120" y="1295280"/>
            <a:ext cx="2901600" cy="3036600"/>
            <a:chOff x="609120" y="1295280"/>
            <a:chExt cx="2901600" cy="3036600"/>
          </a:xfrm>
        </p:grpSpPr>
        <p:sp>
          <p:nvSpPr>
            <p:cNvPr id="470" name=""/>
            <p:cNvSpPr/>
            <p:nvPr/>
          </p:nvSpPr>
          <p:spPr>
            <a:xfrm>
              <a:off x="609480" y="3012120"/>
              <a:ext cx="263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31440" y="3274560"/>
              <a:ext cx="0" cy="79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31440" y="4066200"/>
              <a:ext cx="10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88760" y="2219400"/>
              <a:ext cx="0" cy="184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588760" y="1295280"/>
              <a:ext cx="921960" cy="92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28880" y="1295280"/>
              <a:ext cx="15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928880" y="1295280"/>
              <a:ext cx="0" cy="184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8720" y="3144240"/>
              <a:ext cx="1189800" cy="11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8720" y="4331880"/>
              <a:ext cx="39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136520" y="2746800"/>
              <a:ext cx="0" cy="158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136520" y="2746800"/>
              <a:ext cx="65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09120" y="1825200"/>
              <a:ext cx="1186920" cy="11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1796400" y="1824840"/>
              <a:ext cx="0" cy="92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248640" y="1825200"/>
              <a:ext cx="0" cy="11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248640" y="1559880"/>
              <a:ext cx="26208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01840" y="1559880"/>
              <a:ext cx="210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01840" y="3144240"/>
              <a:ext cx="261360" cy="26208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9000" y="1427760"/>
              <a:ext cx="262080" cy="261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57200" y="49528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nake drawn from D is (logN)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-1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ood with probability at least 9/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pen Problem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s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p for quantum complexity on 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s.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gap for randomized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 square g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jectu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terministic, randomized, and quantum query complexities are polynomially related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ra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relational adversary method to other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 a local minimum of a function using as few function evaluations (queries)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lational adversary metho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ntum method for proving quantu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clas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wer bounds on query complex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y other example: Kerenidis and de Wolf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the method to 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he L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ARCH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Proble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irected connected graph G=(V,E) an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nd a 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uch th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neighbors w of 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24280" y="1981080"/>
          <a:ext cx="1844640" cy="5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18446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791320" y="2438280"/>
          <a:ext cx="22888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438280"/>
                    <a:ext cx="2288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1600200" y="3809880"/>
            <a:ext cx="5334120" cy="2666880"/>
            <a:chOff x="1600200" y="3809880"/>
            <a:chExt cx="5334120" cy="2666880"/>
          </a:xfrm>
        </p:grpSpPr>
        <p:sp>
          <p:nvSpPr>
            <p:cNvPr id="53" name=""/>
            <p:cNvSpPr/>
            <p:nvPr/>
          </p:nvSpPr>
          <p:spPr>
            <a:xfrm flipV="1">
              <a:off x="2895840" y="5104800"/>
              <a:ext cx="9144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181480" y="5638320"/>
              <a:ext cx="14475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105160" y="4724280"/>
              <a:ext cx="3049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10240" y="5105160"/>
              <a:ext cx="13716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4114440"/>
              <a:ext cx="6098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440" y="4800240"/>
              <a:ext cx="8380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840" y="5714640"/>
              <a:ext cx="2286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124440" y="4114440"/>
              <a:ext cx="22860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752840" y="4114440"/>
              <a:ext cx="144756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00200" y="441936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840" y="38098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5867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520" y="441936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54100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840" y="586728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05320" y="4800240"/>
              <a:ext cx="609480" cy="60984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505320" y="4800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5867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5410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5867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447920" y="4267080"/>
            <a:ext cx="4419360" cy="1905120"/>
            <a:chOff x="1447920" y="4267080"/>
            <a:chExt cx="4419360" cy="1905120"/>
          </a:xfrm>
        </p:grpSpPr>
        <p:sp>
          <p:nvSpPr>
            <p:cNvPr id="77" name=""/>
            <p:cNvSpPr/>
            <p:nvPr/>
          </p:nvSpPr>
          <p:spPr>
            <a:xfrm>
              <a:off x="4724280" y="525780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7920" y="4267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2880" y="42670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464832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local search algorithms work so well in pract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ventional wisdo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cause finding a local optimum is intrinsically not that h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show this is false—even for quantum compu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ises a ques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y do exponentially long chains of descending values, as used for lower bounds, almost never occur in “real-world” probl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 #2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Quantum adiabatic algorithm (Farhi et al.):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Quantum analogue of simulated anneal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sometimes “tunnel” through barriers to reach global instead of local opti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Further strange feature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or function f(x)=|x| on Boolean hypercube {0,1}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finds minimum 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n O(1) queries, instead of O(n) classicall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 give first example where adiabatic algorithm is provably only polynomially faster than simulated annealing at finding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ptim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tivation #3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giddo and Papadimitriou defined a complexity class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TF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of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earch problems for which we know a solution exi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iven a circuit that maps 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o {0,1}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find two inputs that map to same out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Papadimitriou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FNP problems good candidates for fast quantum algorithm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My answer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robably no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ision lower bound (A 2002)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PP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FBQ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e to an oracle (PPP = Polynomial Pigeonhole Principle, FBQP = Function Bounded-Error Quantum Polytim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work: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LS </a:t>
            </a:r>
            <a:r>
              <a:rPr b="1" lang="en-US" sz="2500" spc="-1" strike="noStrike">
                <a:solidFill>
                  <a:srgbClr val="ff0000"/>
                </a:solidFill>
                <a:latin typeface="Symbol"/>
                <a:ea typeface="Symbol"/>
              </a:rPr>
              <a:t>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FBQ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lative to an oracle (PLS = Polynomial Local Search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219320"/>
            <a:ext cx="495324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05120"/>
            <a:ext cx="434340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F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819520"/>
            <a:ext cx="281916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819520"/>
            <a:ext cx="281916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257800"/>
            <a:ext cx="1752840" cy="8686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648320"/>
            <a:ext cx="8153280" cy="8229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5410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B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terministic Query Complexity of L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CAL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ARCH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graph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514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N-vertex lin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3962520"/>
            <a:ext cx="8153280" cy="609480"/>
            <a:chOff x="533520" y="3962520"/>
            <a:chExt cx="8153280" cy="609480"/>
          </a:xfrm>
        </p:grpSpPr>
        <p:sp>
          <p:nvSpPr>
            <p:cNvPr id="103" name=""/>
            <p:cNvSpPr/>
            <p:nvPr/>
          </p:nvSpPr>
          <p:spPr>
            <a:xfrm>
              <a:off x="685800" y="4267080"/>
              <a:ext cx="792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481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246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627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3962520"/>
              <a:ext cx="60984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924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77320" y="3962520"/>
              <a:ext cx="609480" cy="6094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3962520"/>
            <a:ext cx="1447920" cy="581400"/>
            <a:chOff x="3886200" y="3962520"/>
            <a:chExt cx="1447920" cy="581400"/>
          </a:xfrm>
        </p:grpSpPr>
        <p:sp>
          <p:nvSpPr>
            <p:cNvPr id="115" name=""/>
            <p:cNvSpPr/>
            <p:nvPr/>
          </p:nvSpPr>
          <p:spPr>
            <a:xfrm>
              <a:off x="388620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4280" y="3962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400800" y="3962520"/>
            <a:ext cx="1447920" cy="581400"/>
            <a:chOff x="6400800" y="3962520"/>
            <a:chExt cx="1447920" cy="581400"/>
          </a:xfrm>
        </p:grpSpPr>
        <p:sp>
          <p:nvSpPr>
            <p:cNvPr id="118" name=""/>
            <p:cNvSpPr/>
            <p:nvPr/>
          </p:nvSpPr>
          <p:spPr>
            <a:xfrm>
              <a:off x="640080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8880" y="3962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72000" y="3809880"/>
            <a:ext cx="1600200" cy="914400"/>
            <a:chOff x="4572000" y="3809880"/>
            <a:chExt cx="1600200" cy="914400"/>
          </a:xfrm>
        </p:grpSpPr>
        <p:sp>
          <p:nvSpPr>
            <p:cNvPr id="121" name=""/>
            <p:cNvSpPr/>
            <p:nvPr/>
          </p:nvSpPr>
          <p:spPr>
            <a:xfrm>
              <a:off x="5562720" y="39625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809880"/>
              <a:ext cx="9144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for complete binary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21:35:12Z</dcterms:created>
  <dc:creator>Avaya User</dc:creator>
  <dc:description/>
  <dc:language>en-US</dc:language>
  <cp:lastModifiedBy>aaronson</cp:lastModifiedBy>
  <dcterms:modified xsi:type="dcterms:W3CDTF">2003-08-29T23:43:09Z</dcterms:modified>
  <cp:revision>34</cp:revision>
  <dc:subject/>
  <dc:title>Quantum Certificate Complexity</dc:title>
</cp:coreProperties>
</file>