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064-ADA6-416A-9238-2C402961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266-847C-47F8-A4C8-FE591705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22D-51E8-4A13-B7A5-7FD87DDA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F57-7BB1-4C0C-8A18-90EFC482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21D-07FE-4032-AAE0-471E0AA6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5F6-A73E-4AD1-8A85-C498E13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12C-996C-4EC9-A7A0-680C0C51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A5B-AFF9-49DC-9159-1736DF19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F90-6BE9-42F1-944C-6C182A80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E11-ABE1-4F6E-B3B8-9E7257C3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37E-0FE1-4B2C-8E7C-BB2FAD6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732-A123-40B8-8D17-1691C01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D44-025C-42B7-B577-274D28D01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05120"/>
            <a:ext cx="8001000" cy="3690360"/>
            <a:chOff x="533520" y="1905120"/>
            <a:chExt cx="8001000" cy="3690360"/>
          </a:xfrm>
        </p:grpSpPr>
        <p:sp>
          <p:nvSpPr>
            <p:cNvPr id="42" name=""/>
            <p:cNvSpPr/>
            <p:nvPr/>
          </p:nvSpPr>
          <p:spPr>
            <a:xfrm flipH="1">
              <a:off x="533520" y="3581280"/>
              <a:ext cx="914400" cy="228600"/>
            </a:xfrm>
            <a:prstGeom prst="flowChartOnlineStorag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8080" y="3352680"/>
              <a:ext cx="990720" cy="685800"/>
            </a:xfrm>
            <a:prstGeom prst="ellipse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1143000" y="2133360"/>
              <a:ext cx="7189920" cy="3195360"/>
            </a:xfrm>
            <a:custGeom>
              <a:avLst/>
              <a:gdLst/>
              <a:ahLst/>
              <a:rect l="l" t="t" r="r" b="b"/>
              <a:pathLst>
                <a:path w="4529" h="2013">
                  <a:moveTo>
                    <a:pt x="0" y="1098"/>
                  </a:moveTo>
                  <a:cubicBezTo>
                    <a:pt x="105" y="1075"/>
                    <a:pt x="394" y="996"/>
                    <a:pt x="630" y="958"/>
                  </a:cubicBezTo>
                  <a:cubicBezTo>
                    <a:pt x="866" y="920"/>
                    <a:pt x="1197" y="842"/>
                    <a:pt x="1416" y="872"/>
                  </a:cubicBezTo>
                  <a:cubicBezTo>
                    <a:pt x="1635" y="902"/>
                    <a:pt x="1654" y="954"/>
                    <a:pt x="1946" y="1137"/>
                  </a:cubicBezTo>
                  <a:cubicBezTo>
                    <a:pt x="2238" y="1320"/>
                    <a:pt x="2773" y="1927"/>
                    <a:pt x="3169" y="1970"/>
                  </a:cubicBezTo>
                  <a:cubicBezTo>
                    <a:pt x="3565" y="2013"/>
                    <a:pt x="4113" y="1634"/>
                    <a:pt x="4321" y="1394"/>
                  </a:cubicBezTo>
                  <a:cubicBezTo>
                    <a:pt x="4529" y="1154"/>
                    <a:pt x="4485" y="762"/>
                    <a:pt x="4417" y="530"/>
                  </a:cubicBezTo>
                  <a:cubicBezTo>
                    <a:pt x="4349" y="298"/>
                    <a:pt x="4136" y="0"/>
                    <a:pt x="3915" y="1"/>
                  </a:cubicBezTo>
                  <a:cubicBezTo>
                    <a:pt x="3694" y="2"/>
                    <a:pt x="3366" y="490"/>
                    <a:pt x="3090" y="538"/>
                  </a:cubicBezTo>
                  <a:cubicBezTo>
                    <a:pt x="2814" y="586"/>
                    <a:pt x="2431" y="342"/>
                    <a:pt x="2257" y="290"/>
                  </a:cubicBezTo>
                </a:path>
              </a:pathLst>
            </a:custGeom>
            <a:noFill/>
            <a:ln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19720" y="4572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05520" y="42670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91320" y="41911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00800" y="4495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34320" y="49528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43800" y="4724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24680" y="4114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3429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96080" y="2743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10280" y="2286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4480" y="1905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86400" y="19810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0600" y="24382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1120" y="29718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5320" y="3429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35812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35053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33526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88100"/>
                  </a:solidFill>
                  <a:latin typeface="Arial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920" y="1905120"/>
            <a:ext cx="8381880" cy="3657600"/>
            <a:chOff x="304920" y="1905120"/>
            <a:chExt cx="8381880" cy="3657600"/>
          </a:xfrm>
        </p:grpSpPr>
        <p:sp>
          <p:nvSpPr>
            <p:cNvPr id="64" name=""/>
            <p:cNvSpPr/>
            <p:nvPr/>
          </p:nvSpPr>
          <p:spPr>
            <a:xfrm>
              <a:off x="304920" y="1905120"/>
              <a:ext cx="838188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33160" y="1905120"/>
              <a:ext cx="8076960" cy="3385440"/>
              <a:chOff x="533160" y="1905120"/>
              <a:chExt cx="8076960" cy="338544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32800" y="3581280"/>
                <a:ext cx="914040" cy="228240"/>
              </a:xfrm>
              <a:prstGeom prst="flowChartOnlineStorag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38080" y="3352680"/>
                <a:ext cx="990360" cy="685440"/>
              </a:xfrm>
              <a:prstGeom prst="ellipse">
                <a:avLst/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3000" y="2157120"/>
                <a:ext cx="7320960" cy="2985840"/>
              </a:xfrm>
              <a:custGeom>
                <a:avLst/>
                <a:gdLst/>
                <a:ahLst/>
                <a:rect l="l" t="t" r="r" b="b"/>
                <a:pathLst>
                  <a:path w="4612" h="1881">
                    <a:moveTo>
                      <a:pt x="0" y="901"/>
                    </a:moveTo>
                    <a:cubicBezTo>
                      <a:pt x="105" y="924"/>
                      <a:pt x="394" y="1003"/>
                      <a:pt x="630" y="1041"/>
                    </a:cubicBezTo>
                    <a:cubicBezTo>
                      <a:pt x="866" y="1079"/>
                      <a:pt x="1197" y="1157"/>
                      <a:pt x="1416" y="1127"/>
                    </a:cubicBezTo>
                    <a:cubicBezTo>
                      <a:pt x="1635" y="1097"/>
                      <a:pt x="1795" y="922"/>
                      <a:pt x="1946" y="862"/>
                    </a:cubicBezTo>
                    <a:cubicBezTo>
                      <a:pt x="2097" y="802"/>
                      <a:pt x="2121" y="617"/>
                      <a:pt x="2322" y="767"/>
                    </a:cubicBezTo>
                    <a:cubicBezTo>
                      <a:pt x="2523" y="917"/>
                      <a:pt x="2806" y="1647"/>
                      <a:pt x="3155" y="1764"/>
                    </a:cubicBezTo>
                    <a:cubicBezTo>
                      <a:pt x="3504" y="1881"/>
                      <a:pt x="4222" y="1699"/>
                      <a:pt x="4417" y="1469"/>
                    </a:cubicBezTo>
                    <a:cubicBezTo>
                      <a:pt x="4612" y="1239"/>
                      <a:pt x="4471" y="624"/>
                      <a:pt x="4323" y="386"/>
                    </a:cubicBezTo>
                    <a:cubicBezTo>
                      <a:pt x="4175" y="148"/>
                      <a:pt x="3823" y="86"/>
                      <a:pt x="3529" y="43"/>
                    </a:cubicBezTo>
                    <a:cubicBezTo>
                      <a:pt x="3235" y="0"/>
                      <a:pt x="2759" y="111"/>
                      <a:pt x="2556" y="129"/>
                    </a:cubicBezTo>
                  </a:path>
                </a:pathLst>
              </a:custGeom>
              <a:noFill/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52880" y="1981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638680" y="19051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480" y="19051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10280" y="1981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19760" y="2361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924680" y="29718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960" y="36576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72400" y="4267080"/>
                <a:ext cx="5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8880" y="45720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00800" y="464796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715000" y="457200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81480" y="40384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00600" y="342900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90760" y="29718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04960" y="34290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66880" y="35812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28800" y="350496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14400" y="335268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d88100"/>
                    </a:solidFill>
                    <a:latin typeface="Arial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wer Bounds for Local Search by Quantum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5334120"/>
            <a:ext cx="4267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5715000" y="1905120"/>
            <a:ext cx="2819160" cy="2818800"/>
            <a:chOff x="5715000" y="1905120"/>
            <a:chExt cx="2819160" cy="2818800"/>
          </a:xfrm>
        </p:grpSpPr>
        <p:sp>
          <p:nvSpPr>
            <p:cNvPr id="181" name=""/>
            <p:cNvSpPr/>
            <p:nvPr/>
          </p:nvSpPr>
          <p:spPr>
            <a:xfrm>
              <a:off x="61848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50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546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40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456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4360" y="1905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848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50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46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2440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9456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4360" y="23749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848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50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46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2440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9456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64360" y="28447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848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546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2440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9456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64360" y="33145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48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546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440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456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64360" y="37843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848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150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6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2440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9456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4360" y="4254120"/>
              <a:ext cx="469800" cy="46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How to find a local minimum in                    queries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(d = maximum degre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781680" y="228600"/>
          <a:ext cx="15242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8600"/>
                    <a:ext cx="1524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380880" y="1676520"/>
            <a:ext cx="4724640" cy="1007640"/>
            <a:chOff x="380880" y="1676520"/>
            <a:chExt cx="4724640" cy="1007640"/>
          </a:xfrm>
        </p:grpSpPr>
        <p:sp>
          <p:nvSpPr>
            <p:cNvPr id="221" name=""/>
            <p:cNvSpPr/>
            <p:nvPr/>
          </p:nvSpPr>
          <p:spPr>
            <a:xfrm>
              <a:off x="380880" y="1676520"/>
              <a:ext cx="47246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Query           vertices uniformly at rando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1600200" y="1676520"/>
            <a:ext cx="9208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1676520"/>
                      <a:ext cx="9208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4" name=""/>
          <p:cNvSpPr/>
          <p:nvPr/>
        </p:nvSpPr>
        <p:spPr>
          <a:xfrm>
            <a:off x="380880" y="5334120"/>
            <a:ext cx="8458200" cy="1188000"/>
          </a:xfrm>
          <a:prstGeom prst="rect">
            <a:avLst/>
          </a:prstGeom>
          <a:solidFill>
            <a:srgbClr val="ccffcc">
              <a:alpha val="4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ly,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queries su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ove algorithm, find v using Grover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1752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2209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915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05920" y="26668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915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31240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915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05920" y="35812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915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4495680"/>
            <a:ext cx="3808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49568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86400" y="1752480"/>
            <a:ext cx="3276720" cy="3080520"/>
            <a:chOff x="5486400" y="1752480"/>
            <a:chExt cx="3276720" cy="3080520"/>
          </a:xfrm>
        </p:grpSpPr>
        <p:sp>
          <p:nvSpPr>
            <p:cNvPr id="276" name=""/>
            <p:cNvSpPr/>
            <p:nvPr/>
          </p:nvSpPr>
          <p:spPr>
            <a:xfrm>
              <a:off x="8229600" y="2666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724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00800" y="3124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6400" y="2666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296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2209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43600" y="4495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2209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29600" y="1752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486400" y="3581280"/>
            <a:ext cx="990720" cy="794520"/>
            <a:chOff x="5486400" y="3581280"/>
            <a:chExt cx="990720" cy="794520"/>
          </a:xfrm>
        </p:grpSpPr>
        <p:sp>
          <p:nvSpPr>
            <p:cNvPr id="287" name=""/>
            <p:cNvSpPr/>
            <p:nvPr/>
          </p:nvSpPr>
          <p:spPr>
            <a:xfrm>
              <a:off x="59436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4038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35812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6400" y="3581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80880" y="2819520"/>
            <a:ext cx="4724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v be the queried vertex for which f(v) is mini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962520"/>
            <a:ext cx="487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v to a local minimum by steepest d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790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mbainis’ Quantum Adversary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4724280"/>
            <a:ext cx="82296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number of quantum queries needed to separate 0- from 1-inputs w.h.p.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p)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19349" t="22800" r="64352" b="52803"/>
          <a:stretch/>
        </p:blipFill>
        <p:spPr>
          <a:xfrm rot="20737800">
            <a:off x="456840" y="304920"/>
            <a:ext cx="1087560" cy="121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rcRect l="19349" t="22800" r="64352" b="52803"/>
          <a:stretch/>
        </p:blipFill>
        <p:spPr>
          <a:xfrm rot="878400">
            <a:off x="7620120" y="304560"/>
            <a:ext cx="108720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04920" y="1600200"/>
            <a:ext cx="85341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-inputs, 1-inputs, and function R(A,B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that measures the “closeness” of 0-input A to 1-inpu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0-inputs A and query locations x,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x) be probability that A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(x), where B is a 1-input chosen with probability proportional to R(A,B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,x) simil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03400" y="5791320"/>
          <a:ext cx="624996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5791320"/>
                    <a:ext cx="62499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ample: Inverting a Perm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038480"/>
            <a:ext cx="8534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1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obtained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a swap, R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0 otherw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251460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2209680"/>
            <a:ext cx="0" cy="1447920"/>
          </a:xfrm>
          <a:prstGeom prst="line">
            <a:avLst/>
          </a:prstGeom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7400" y="3429000"/>
            <a:ext cx="2438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t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x)=2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2438280"/>
            <a:ext cx="1067040" cy="106704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838080"/>
            <a:ext cx="8153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de whether ‘1’ is on left half (0-input) or right half (1-inpu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520" y="5029200"/>
            <a:ext cx="8305560" cy="1464480"/>
            <a:chOff x="533520" y="5029200"/>
            <a:chExt cx="8305560" cy="1464480"/>
          </a:xfrm>
        </p:grpSpPr>
        <p:graphicFrame>
          <p:nvGraphicFramePr>
            <p:cNvPr id="315" name=""/>
            <p:cNvGraphicFramePr/>
            <p:nvPr/>
          </p:nvGraphicFramePr>
          <p:xfrm>
            <a:off x="533520" y="5181480"/>
            <a:ext cx="4800600" cy="119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5181480"/>
                      <a:ext cx="480060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5638680" y="5029200"/>
              <a:ext cx="3200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) quantum queries neede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373760" y="205740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x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92 C 0.03177 0.02126 0.09982 0.13216 0.18264 0.13216 C 0.26545 0.13216 0.43316 0.0268 0.49896 -0.00092 E">
                                      <p:cBhvr>
                                        <p:cTn id="147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92 C -0.05 -0.02472 -0.22535 -0.14071 -0.30816 -0.14025 C -0.39098 -0.13979 -0.4566 -0.02726 -0.49566 0.00254 E">
                                      <p:cBhvr>
                                        <p:cTn id="14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896 -0.00092 C 0.41267 -0.06331 0.32777 -0.12685 0.26111 -0.12685 C 0.19444 -0.12685 0.13281 -0.02726 0.09896 -0.00092 E">
                                      <p:cBhvr>
                                        <p:cTn id="156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9.24214E-007 C 0.06684 0.05753 0.13437 0.1146 0.2 0.11507 C 0.26562 0.11553 0.35312 0.02588 0.3934 0.00254 E">
                                      <p:cBhvr>
                                        <p:cTn id="15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781680" y="4267080"/>
            <a:ext cx="1143000" cy="1904760"/>
            <a:chOff x="6781680" y="4267080"/>
            <a:chExt cx="1143000" cy="1904760"/>
          </a:xfrm>
        </p:grpSpPr>
        <p:sp>
          <p:nvSpPr>
            <p:cNvPr id="320" name=""/>
            <p:cNvSpPr/>
            <p:nvPr/>
          </p:nvSpPr>
          <p:spPr>
            <a:xfrm>
              <a:off x="6781680" y="4267080"/>
              <a:ext cx="11430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4647960"/>
              <a:ext cx="114300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1680" y="5028840"/>
              <a:ext cx="114300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81680" y="5410080"/>
              <a:ext cx="11430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781680" y="4267080"/>
            <a:ext cx="1143000" cy="1904760"/>
            <a:chOff x="6781680" y="4267080"/>
            <a:chExt cx="1143000" cy="1904760"/>
          </a:xfrm>
        </p:grpSpPr>
        <p:sp>
          <p:nvSpPr>
            <p:cNvPr id="325" name=""/>
            <p:cNvSpPr/>
            <p:nvPr/>
          </p:nvSpPr>
          <p:spPr>
            <a:xfrm>
              <a:off x="6781680" y="426708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1680" y="464796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81680" y="5028840"/>
              <a:ext cx="11430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1680" y="541008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81680" y="5790960"/>
              <a:ext cx="11430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781680" y="4267080"/>
            <a:ext cx="1143000" cy="1904760"/>
            <a:chOff x="6781680" y="4267080"/>
            <a:chExt cx="1143000" cy="1904760"/>
          </a:xfrm>
        </p:grpSpPr>
        <p:sp>
          <p:nvSpPr>
            <p:cNvPr id="331" name=""/>
            <p:cNvSpPr/>
            <p:nvPr/>
          </p:nvSpPr>
          <p:spPr>
            <a:xfrm>
              <a:off x="6781680" y="4267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81680" y="46479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81680" y="502884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81680" y="541008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81680" y="57909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617184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04920" y="1523880"/>
            <a:ext cx="85341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is identical, exce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plac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4267080"/>
            <a:ext cx="49528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of Idea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that each query can separate only so many input pa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04920"/>
            <a:ext cx="8534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ve an analogue of the quantum adversary theorem 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ical random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666880" y="2133720"/>
          <a:ext cx="359280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133720"/>
                    <a:ext cx="35928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5105520" y="1447920"/>
          <a:ext cx="2817720" cy="7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447920"/>
                    <a:ext cx="2817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2895480"/>
            <a:ext cx="8534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up to quadratically better bound—e.g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instea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permut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629400" y="4114800"/>
            <a:ext cx="1447920" cy="2209320"/>
            <a:chOff x="6629400" y="4114800"/>
            <a:chExt cx="1447920" cy="2209320"/>
          </a:xfrm>
        </p:grpSpPr>
        <p:sp>
          <p:nvSpPr>
            <p:cNvPr id="346" name=""/>
            <p:cNvSpPr/>
            <p:nvPr/>
          </p:nvSpPr>
          <p:spPr>
            <a:xfrm>
              <a:off x="6629400" y="411480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29400" y="4495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9400" y="4876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29400" y="525744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29400" y="5638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29400" y="6019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2400" y="411480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2400" y="4495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72400" y="4876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525744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2400" y="5638680"/>
              <a:ext cx="304920" cy="304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72400" y="601956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 rot="16200000">
            <a:off x="5380920" y="49060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0-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7512840" y="49060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1-inp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 flipH="1">
            <a:off x="609480" y="304812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 apply the lower bound theorems to L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OCA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EARCH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 we us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snak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281952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219320" y="1599120"/>
            <a:ext cx="7189560" cy="3195720"/>
          </a:xfrm>
          <a:custGeom>
            <a:avLst/>
            <a:gdLst/>
            <a:ahLst/>
            <a:rect l="l" t="t" r="r" b="b"/>
            <a:pathLst>
              <a:path w="4529" h="2013">
                <a:moveTo>
                  <a:pt x="0" y="1098"/>
                </a:moveTo>
                <a:cubicBezTo>
                  <a:pt x="105" y="1075"/>
                  <a:pt x="394" y="996"/>
                  <a:pt x="630" y="958"/>
                </a:cubicBezTo>
                <a:cubicBezTo>
                  <a:pt x="866" y="920"/>
                  <a:pt x="1197" y="842"/>
                  <a:pt x="1416" y="872"/>
                </a:cubicBezTo>
                <a:cubicBezTo>
                  <a:pt x="1635" y="902"/>
                  <a:pt x="1654" y="954"/>
                  <a:pt x="1946" y="1137"/>
                </a:cubicBezTo>
                <a:cubicBezTo>
                  <a:pt x="2238" y="1320"/>
                  <a:pt x="2773" y="1927"/>
                  <a:pt x="3169" y="1970"/>
                </a:cubicBezTo>
                <a:cubicBezTo>
                  <a:pt x="3565" y="2013"/>
                  <a:pt x="4113" y="1634"/>
                  <a:pt x="4321" y="1394"/>
                </a:cubicBezTo>
                <a:cubicBezTo>
                  <a:pt x="4529" y="1154"/>
                  <a:pt x="4485" y="762"/>
                  <a:pt x="4417" y="530"/>
                </a:cubicBezTo>
                <a:cubicBezTo>
                  <a:pt x="4349" y="298"/>
                  <a:pt x="4136" y="0"/>
                  <a:pt x="3915" y="1"/>
                </a:cubicBezTo>
                <a:cubicBezTo>
                  <a:pt x="3694" y="2"/>
                  <a:pt x="3366" y="490"/>
                  <a:pt x="3090" y="538"/>
                </a:cubicBezTo>
                <a:cubicBezTo>
                  <a:pt x="2814" y="586"/>
                  <a:pt x="2431" y="342"/>
                  <a:pt x="2257" y="290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95680" y="4038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3657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3962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4191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01000" y="3581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77320" y="28954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7240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1371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1447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1905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2438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2895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3048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8195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1981080"/>
            <a:ext cx="236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“head” vert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41972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que local minimum of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28600" y="1905120"/>
            <a:ext cx="3962520" cy="4421160"/>
            <a:chOff x="228600" y="1905120"/>
            <a:chExt cx="3962520" cy="4421160"/>
          </a:xfrm>
        </p:grpSpPr>
        <p:sp>
          <p:nvSpPr>
            <p:cNvPr id="385" name=""/>
            <p:cNvSpPr/>
            <p:nvPr/>
          </p:nvSpPr>
          <p:spPr>
            <a:xfrm flipH="1" flipV="1">
              <a:off x="1599840" y="36576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1904760" y="34290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2133360" y="3962160"/>
              <a:ext cx="5331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742840" y="4038480"/>
              <a:ext cx="6094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980720" y="2666880"/>
              <a:ext cx="685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819160" y="2742840"/>
              <a:ext cx="685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2743200" y="4114800"/>
              <a:ext cx="533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1828800" y="426672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2819160" y="2286000"/>
              <a:ext cx="6858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3657600" y="2514600"/>
              <a:ext cx="5335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2742840" y="1905120"/>
              <a:ext cx="3049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62120" y="3657240"/>
              <a:ext cx="380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95280" y="37339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57200" y="3504960"/>
              <a:ext cx="5335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0880" y="2590920"/>
              <a:ext cx="4572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62120" y="4038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600" y="4648320"/>
              <a:ext cx="2971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l vertices of G not in the snake just lead to the hea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276720" y="571500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et a decision problem, we put an “answer bit” at the local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564720" y="3540960"/>
            <a:ext cx="2243160" cy="1528560"/>
            <a:chOff x="3564720" y="3540960"/>
            <a:chExt cx="2243160" cy="1528560"/>
          </a:xfrm>
        </p:grpSpPr>
        <p:sp>
          <p:nvSpPr>
            <p:cNvPr id="404" name=""/>
            <p:cNvSpPr/>
            <p:nvPr/>
          </p:nvSpPr>
          <p:spPr>
            <a:xfrm rot="687000">
              <a:off x="3657240" y="3733560"/>
              <a:ext cx="2057400" cy="1143000"/>
            </a:xfrm>
            <a:prstGeom prst="irregularSeal2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e16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62520" y="4038480"/>
              <a:ext cx="1371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99"/>
                  </a:solidFill>
                  <a:latin typeface="Arial"/>
                </a:rPr>
                <a:t>b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</a:t>
              </a:r>
              <a:r>
                <a:rPr b="1" lang="en-US" sz="2600" spc="-1" strike="noStrike">
                  <a:solidFill>
                    <a:srgbClr val="333399"/>
                  </a:solidFill>
                  <a:latin typeface="Arial"/>
                </a:rPr>
                <a:t>{0,1</a:t>
              </a:r>
              <a:r>
                <a:rPr b="0" lang="en-US" sz="2600" spc="-1" strike="noStrike">
                  <a:solidFill>
                    <a:srgbClr val="333399"/>
                  </a:solidFill>
                  <a:latin typeface="Arial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181480" y="2438280"/>
            <a:ext cx="228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H="1">
            <a:off x="609480" y="342900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320040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219320" y="1980000"/>
            <a:ext cx="7189560" cy="3195720"/>
          </a:xfrm>
          <a:custGeom>
            <a:avLst/>
            <a:gdLst/>
            <a:ahLst/>
            <a:rect l="l" t="t" r="r" b="b"/>
            <a:pathLst>
              <a:path w="4529" h="2013">
                <a:moveTo>
                  <a:pt x="0" y="1098"/>
                </a:moveTo>
                <a:cubicBezTo>
                  <a:pt x="105" y="1075"/>
                  <a:pt x="394" y="996"/>
                  <a:pt x="630" y="958"/>
                </a:cubicBezTo>
                <a:cubicBezTo>
                  <a:pt x="866" y="920"/>
                  <a:pt x="1197" y="842"/>
                  <a:pt x="1416" y="872"/>
                </a:cubicBezTo>
                <a:cubicBezTo>
                  <a:pt x="1635" y="902"/>
                  <a:pt x="1654" y="954"/>
                  <a:pt x="1946" y="1137"/>
                </a:cubicBezTo>
                <a:cubicBezTo>
                  <a:pt x="2238" y="1320"/>
                  <a:pt x="2773" y="1927"/>
                  <a:pt x="3169" y="1970"/>
                </a:cubicBezTo>
                <a:cubicBezTo>
                  <a:pt x="3565" y="2013"/>
                  <a:pt x="4113" y="1634"/>
                  <a:pt x="4321" y="1394"/>
                </a:cubicBezTo>
                <a:cubicBezTo>
                  <a:pt x="4529" y="1154"/>
                  <a:pt x="4485" y="762"/>
                  <a:pt x="4417" y="530"/>
                </a:cubicBezTo>
                <a:cubicBezTo>
                  <a:pt x="4349" y="298"/>
                  <a:pt x="4136" y="0"/>
                  <a:pt x="3915" y="1"/>
                </a:cubicBezTo>
                <a:cubicBezTo>
                  <a:pt x="3694" y="2"/>
                  <a:pt x="3366" y="490"/>
                  <a:pt x="3090" y="538"/>
                </a:cubicBezTo>
                <a:cubicBezTo>
                  <a:pt x="2814" y="586"/>
                  <a:pt x="2431" y="342"/>
                  <a:pt x="2257" y="290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81480" y="4114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4038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201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3962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77320" y="3276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590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8660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1828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2286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3276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3352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200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en a 0-input f, how do we create a random 1-input g that’s “close” to 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670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33520" y="1600200"/>
            <a:ext cx="4495680" cy="1981080"/>
            <a:chOff x="533520" y="1600200"/>
            <a:chExt cx="4495680" cy="1981080"/>
          </a:xfrm>
        </p:grpSpPr>
        <p:sp>
          <p:nvSpPr>
            <p:cNvPr id="430" name=""/>
            <p:cNvSpPr/>
            <p:nvPr/>
          </p:nvSpPr>
          <p:spPr>
            <a:xfrm>
              <a:off x="533520" y="1600200"/>
              <a:ext cx="39621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hoose a “pivot” vertex uniformly at random on the snak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67080" y="281952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 flipH="1">
            <a:off x="609480" y="342900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iven a 0-input f, how do we create a random 1-input g that’s “close” to 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20040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2004840"/>
            <a:ext cx="7321320" cy="2986200"/>
          </a:xfrm>
          <a:custGeom>
            <a:avLst/>
            <a:gdLst/>
            <a:ahLst/>
            <a:rect l="l" t="t" r="r" b="b"/>
            <a:pathLst>
              <a:path w="4612" h="1881">
                <a:moveTo>
                  <a:pt x="0" y="901"/>
                </a:moveTo>
                <a:cubicBezTo>
                  <a:pt x="105" y="924"/>
                  <a:pt x="394" y="1003"/>
                  <a:pt x="630" y="1041"/>
                </a:cubicBezTo>
                <a:cubicBezTo>
                  <a:pt x="866" y="1079"/>
                  <a:pt x="1197" y="1157"/>
                  <a:pt x="1416" y="1127"/>
                </a:cubicBezTo>
                <a:cubicBezTo>
                  <a:pt x="1635" y="1097"/>
                  <a:pt x="1795" y="922"/>
                  <a:pt x="1946" y="862"/>
                </a:cubicBezTo>
                <a:cubicBezTo>
                  <a:pt x="2097" y="802"/>
                  <a:pt x="2121" y="617"/>
                  <a:pt x="2322" y="767"/>
                </a:cubicBezTo>
                <a:cubicBezTo>
                  <a:pt x="2523" y="917"/>
                  <a:pt x="2806" y="1647"/>
                  <a:pt x="3155" y="1764"/>
                </a:cubicBezTo>
                <a:cubicBezTo>
                  <a:pt x="3504" y="1881"/>
                  <a:pt x="4222" y="1699"/>
                  <a:pt x="4417" y="1469"/>
                </a:cubicBezTo>
                <a:cubicBezTo>
                  <a:pt x="4612" y="1239"/>
                  <a:pt x="4471" y="624"/>
                  <a:pt x="4323" y="386"/>
                </a:cubicBezTo>
                <a:cubicBezTo>
                  <a:pt x="4175" y="148"/>
                  <a:pt x="3823" y="86"/>
                  <a:pt x="3529" y="43"/>
                </a:cubicBezTo>
                <a:cubicBezTo>
                  <a:pt x="3235" y="0"/>
                  <a:pt x="2759" y="111"/>
                  <a:pt x="2556" y="129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1752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00800" y="1752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8660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960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001000" y="2819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3505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48720" y="4114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4419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7120" y="4495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4419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3886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3276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2819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276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3429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33526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90720" y="3200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81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5181480"/>
            <a:ext cx="6476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ing from the pivot, generate a new “tail” using (say) a random w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67080" y="2819520"/>
            <a:ext cx="76212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029120" y="3298680"/>
            <a:ext cx="4262400" cy="968400"/>
          </a:xfrm>
          <a:custGeom>
            <a:avLst/>
            <a:gdLst/>
            <a:ahLst/>
            <a:rect l="l" t="t" r="r" b="b"/>
            <a:pathLst>
              <a:path w="2685" h="610">
                <a:moveTo>
                  <a:pt x="0" y="0"/>
                </a:moveTo>
                <a:cubicBezTo>
                  <a:pt x="114" y="20"/>
                  <a:pt x="507" y="55"/>
                  <a:pt x="684" y="117"/>
                </a:cubicBezTo>
                <a:cubicBezTo>
                  <a:pt x="861" y="179"/>
                  <a:pt x="887" y="344"/>
                  <a:pt x="1062" y="370"/>
                </a:cubicBezTo>
                <a:cubicBezTo>
                  <a:pt x="1237" y="396"/>
                  <a:pt x="1550" y="234"/>
                  <a:pt x="1734" y="274"/>
                </a:cubicBezTo>
                <a:cubicBezTo>
                  <a:pt x="1918" y="314"/>
                  <a:pt x="2008" y="610"/>
                  <a:pt x="2166" y="610"/>
                </a:cubicBezTo>
                <a:cubicBezTo>
                  <a:pt x="2324" y="610"/>
                  <a:pt x="2577" y="343"/>
                  <a:pt x="2685" y="273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andwaving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12193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vertices v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, eith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,v) 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g,v) should be at most ~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 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(as in the permutation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04920" y="3200400"/>
            <a:ext cx="914400" cy="228600"/>
          </a:xfrm>
          <a:prstGeom prst="flowChartOnlineStorag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2971800"/>
            <a:ext cx="990720" cy="68580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666880"/>
            <a:ext cx="7105680" cy="781200"/>
          </a:xfrm>
          <a:custGeom>
            <a:avLst/>
            <a:gdLst/>
            <a:ahLst/>
            <a:rect l="l" t="t" r="r" b="b"/>
            <a:pathLst>
              <a:path w="4476" h="492">
                <a:moveTo>
                  <a:pt x="0" y="492"/>
                </a:moveTo>
                <a:cubicBezTo>
                  <a:pt x="121" y="469"/>
                  <a:pt x="506" y="352"/>
                  <a:pt x="724" y="351"/>
                </a:cubicBezTo>
                <a:cubicBezTo>
                  <a:pt x="942" y="350"/>
                  <a:pt x="1120" y="476"/>
                  <a:pt x="1308" y="484"/>
                </a:cubicBezTo>
                <a:cubicBezTo>
                  <a:pt x="1496" y="492"/>
                  <a:pt x="1676" y="420"/>
                  <a:pt x="1850" y="398"/>
                </a:cubicBezTo>
                <a:cubicBezTo>
                  <a:pt x="2024" y="376"/>
                  <a:pt x="2103" y="366"/>
                  <a:pt x="2351" y="351"/>
                </a:cubicBezTo>
                <a:cubicBezTo>
                  <a:pt x="2599" y="336"/>
                  <a:pt x="3113" y="358"/>
                  <a:pt x="3339" y="305"/>
                </a:cubicBezTo>
                <a:cubicBezTo>
                  <a:pt x="3565" y="252"/>
                  <a:pt x="3610" y="64"/>
                  <a:pt x="3705" y="32"/>
                </a:cubicBezTo>
                <a:cubicBezTo>
                  <a:pt x="3800" y="0"/>
                  <a:pt x="3799" y="110"/>
                  <a:pt x="3907" y="110"/>
                </a:cubicBezTo>
                <a:cubicBezTo>
                  <a:pt x="4015" y="110"/>
                  <a:pt x="4256" y="34"/>
                  <a:pt x="4351" y="32"/>
                </a:cubicBezTo>
                <a:cubicBezTo>
                  <a:pt x="4446" y="30"/>
                  <a:pt x="4450" y="82"/>
                  <a:pt x="4476" y="95"/>
                </a:cubicBezTo>
              </a:path>
            </a:pathLst>
          </a:custGeom>
          <a:noFill/>
          <a:ln w="3816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52280" y="4343400"/>
            <a:ext cx="8597880" cy="2095560"/>
            <a:chOff x="152280" y="4343400"/>
            <a:chExt cx="8597880" cy="2095560"/>
          </a:xfrm>
        </p:grpSpPr>
        <p:sp>
          <p:nvSpPr>
            <p:cNvPr id="463" name=""/>
            <p:cNvSpPr/>
            <p:nvPr/>
          </p:nvSpPr>
          <p:spPr>
            <a:xfrm>
              <a:off x="685800" y="5562720"/>
              <a:ext cx="4114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Quantum lower bound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280" y="4495680"/>
              <a:ext cx="464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Randomized lower bound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4800600" y="4343400"/>
            <a:ext cx="3949560" cy="100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0600" y="4343400"/>
                      <a:ext cx="394956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4800600" y="5410080"/>
            <a:ext cx="3309840" cy="102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5410080"/>
                      <a:ext cx="3309840" cy="102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9" name=""/>
          <p:cNvSpPr/>
          <p:nvPr/>
        </p:nvSpPr>
        <p:spPr>
          <a:xfrm>
            <a:off x="822960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0592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666880" y="2590920"/>
            <a:ext cx="4114800" cy="609480"/>
            <a:chOff x="2666880" y="2590920"/>
            <a:chExt cx="4114800" cy="609480"/>
          </a:xfrm>
        </p:grpSpPr>
        <p:sp>
          <p:nvSpPr>
            <p:cNvPr id="472" name=""/>
            <p:cNvSpPr/>
            <p:nvPr/>
          </p:nvSpPr>
          <p:spPr>
            <a:xfrm>
              <a:off x="6477120" y="2895480"/>
              <a:ext cx="304560" cy="304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66880" y="2590920"/>
              <a:ext cx="3810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f,v)=1 but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g,v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00200" y="3657600"/>
            <a:ext cx="4191120" cy="489960"/>
            <a:chOff x="1600200" y="3657600"/>
            <a:chExt cx="4191120" cy="489960"/>
          </a:xfrm>
        </p:grpSpPr>
        <p:sp>
          <p:nvSpPr>
            <p:cNvPr id="475" name=""/>
            <p:cNvSpPr/>
            <p:nvPr/>
          </p:nvSpPr>
          <p:spPr>
            <a:xfrm>
              <a:off x="5486400" y="3733920"/>
              <a:ext cx="304920" cy="304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3657600"/>
              <a:ext cx="3809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g,v)=1 but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f,v)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/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Nontrivial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219320"/>
            <a:ext cx="8153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prevent snake tails from intersecting, spending too much time in one part of the graph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3809880"/>
            <a:ext cx="7620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Generalize quantum adversary method to work with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puts instead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3124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Nontrivial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1219320"/>
            <a:ext cx="8153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prevent snake tails from intersecting, spending too much time in one part of the graph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790960" y="3505320"/>
            <a:ext cx="2902320" cy="3036600"/>
            <a:chOff x="5790960" y="3505320"/>
            <a:chExt cx="2902320" cy="3036600"/>
          </a:xfrm>
        </p:grpSpPr>
        <p:sp>
          <p:nvSpPr>
            <p:cNvPr id="484" name=""/>
            <p:cNvSpPr/>
            <p:nvPr/>
          </p:nvSpPr>
          <p:spPr>
            <a:xfrm>
              <a:off x="5791320" y="5222520"/>
              <a:ext cx="264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13640" y="5484600"/>
              <a:ext cx="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13640" y="6276600"/>
              <a:ext cx="10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770960" y="4430160"/>
              <a:ext cx="0" cy="184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770960" y="3505320"/>
              <a:ext cx="92232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10720" y="3505320"/>
              <a:ext cx="158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110720" y="3505320"/>
              <a:ext cx="0" cy="18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921640" y="5354280"/>
              <a:ext cx="1189080" cy="11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21640" y="6541920"/>
              <a:ext cx="3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318360" y="4957560"/>
              <a:ext cx="0" cy="15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318000" y="4957560"/>
              <a:ext cx="66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790960" y="4035240"/>
              <a:ext cx="1187640" cy="11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978960" y="4034880"/>
              <a:ext cx="0" cy="92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8431560" y="4034880"/>
              <a:ext cx="0" cy="11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8431560" y="3769560"/>
              <a:ext cx="26172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83680" y="3769920"/>
              <a:ext cx="210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83680" y="5354280"/>
              <a:ext cx="261720" cy="2617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51920" y="3636720"/>
              <a:ext cx="261720" cy="2631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57200" y="3809880"/>
            <a:ext cx="510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Use a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“coordinate loop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stead of a random walk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mixes faster and has fewer self-inter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3124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133720"/>
            <a:ext cx="845820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Monotype Corsiva"/>
              </a:rPr>
              <a:t>Quantum Generosity…</a:t>
            </a:r>
            <a:br>
              <a:rPr sz="4800"/>
            </a:br>
            <a:r>
              <a:rPr b="0" lang="en-US" sz="5200" spc="-1" strike="noStrike">
                <a:solidFill>
                  <a:srgbClr val="000000"/>
                </a:solidFill>
                <a:latin typeface="Monotype Corsiva"/>
              </a:rPr>
              <a:t>Giving back because we care</a:t>
            </a:r>
            <a:r>
              <a:rPr b="0" lang="en-US" sz="5200" spc="-1" strike="noStrike" baseline="30000">
                <a:solidFill>
                  <a:srgbClr val="000000"/>
                </a:solidFill>
                <a:latin typeface="Monotype Corsiva"/>
              </a:rPr>
              <a:t>TM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n quantum ideas help us prove new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resul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4197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ampl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enidis &amp; de Wolf 200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aronov &amp; Regev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 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371600"/>
            <a:ext cx="8229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or Boolean hypercube {0,1}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3657600"/>
            <a:ext cx="8381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or d-dimensional cube N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1/d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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1/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(d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80880" y="2057400"/>
          <a:ext cx="14176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1417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4800600" y="2057400"/>
          <a:ext cx="1417680" cy="11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057400"/>
                    <a:ext cx="1417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1828800" y="22860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48520" y="22860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380880" y="4343400"/>
          <a:ext cx="1930680" cy="114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343400"/>
                    <a:ext cx="1930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4800600" y="4267080"/>
          <a:ext cx="220176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267080"/>
                    <a:ext cx="22017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2286000" y="457200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10280" y="457200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447920"/>
            <a:ext cx="769608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optima aren’t the only reason optimization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function problems: below NP, but still too hard for quantum compu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reasonable Effectiveness of Quantum Lower Bound Metho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OCAL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EARC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143000"/>
            <a:ext cx="815364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 a graph G=(V,E) and oracle access to a function f:V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{0,1,2,…}, find a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local minimum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f f—a vertex v such that f(v)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(w) for all neighbors w of v.  Use as few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quer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o f as possi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71800" y="3352680"/>
            <a:ext cx="3352320" cy="3166560"/>
            <a:chOff x="2971800" y="3352680"/>
            <a:chExt cx="3352320" cy="3166560"/>
          </a:xfrm>
        </p:grpSpPr>
        <p:sp>
          <p:nvSpPr>
            <p:cNvPr id="95" name=""/>
            <p:cNvSpPr/>
            <p:nvPr/>
          </p:nvSpPr>
          <p:spPr>
            <a:xfrm flipV="1">
              <a:off x="3530520" y="5587560"/>
              <a:ext cx="37260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99920" y="5587560"/>
              <a:ext cx="37188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299920" y="3911040"/>
              <a:ext cx="37188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30520" y="3911040"/>
              <a:ext cx="372600" cy="37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113440" y="447012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344400" y="447012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44400" y="614700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44400" y="447012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577404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1200" y="577404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1800" y="409752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41200" y="4097520"/>
              <a:ext cx="744840" cy="745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1520" y="372528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182480" y="3725280"/>
              <a:ext cx="0" cy="158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82480" y="540180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82480" y="3725280"/>
              <a:ext cx="186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9880" y="502920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9280" y="502920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335268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9280" y="3352680"/>
              <a:ext cx="744840" cy="744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724280" y="58165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9360" y="50655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30480" y="4143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7120" y="5770440"/>
            <a:ext cx="744480" cy="7448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67120" y="58165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1800" y="50655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1219320"/>
            <a:ext cx="85341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quantum lower bound for 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CA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ARC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olean hypercube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antum algorithm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) queries to find a local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tter classical lower bound via a quantum argu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andomized algorithm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queries to find a local min on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revious bound: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Arial"/>
              </a:rPr>
              <a:t>n/2-o(n)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(Aldous 1983)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Upper bound: O(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andomiz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lower bounds for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constant-dimensional hyper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in Ope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514600"/>
            <a:ext cx="70866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deterministic, randomized, and quantum query complexities of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lynomially related for </a:t>
            </a:r>
            <a:r>
              <a:rPr b="1" lang="en-US" sz="3000" spc="-1" strike="noStrike">
                <a:solidFill>
                  <a:srgbClr val="339933"/>
                </a:solidFill>
                <a:latin typeface="Arial"/>
              </a:rPr>
              <a:t>ev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raph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29000" y="609480"/>
            <a:ext cx="1523880" cy="1371600"/>
            <a:chOff x="3429000" y="609480"/>
            <a:chExt cx="1523880" cy="1371600"/>
          </a:xfrm>
        </p:grpSpPr>
        <p:sp>
          <p:nvSpPr>
            <p:cNvPr id="126" name=""/>
            <p:cNvSpPr/>
            <p:nvPr/>
          </p:nvSpPr>
          <p:spPr>
            <a:xfrm>
              <a:off x="3429000" y="609480"/>
              <a:ext cx="152388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733560" y="609480"/>
              <a:ext cx="99072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21069000">
            <a:off x="2362320" y="167616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ntha &amp; Szegedy, this ST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143000"/>
            <a:ext cx="807732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optimization hard?  Are local optima the only reas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iabatic algorithm (Farhi et al. 2000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at are its limitati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apadimitriou 2003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quantum computers help solve total function probl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4952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PADS          PODN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      PPP             P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14288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ivial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038480"/>
            <a:ext cx="91440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te Graph on N Vert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randomized qu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antum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0840" y="1523880"/>
            <a:ext cx="2362320" cy="21733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48040" y="236232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90840" y="2362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90840" y="2362320"/>
            <a:ext cx="19051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10160" y="152388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848040" y="15235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91040" y="342900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34290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86280" y="20574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48240" y="205740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12193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ivial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486400"/>
            <a:ext cx="8686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o interesting graphs are of </a:t>
            </a: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intermediat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nectedne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752480"/>
            <a:ext cx="640080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03848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e Graph on N Vert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deterministic queries su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4479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7524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3623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6668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2971800"/>
            <a:ext cx="60948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276720"/>
            <a:ext cx="609840" cy="6094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oolean Hypercube {0,1}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48120" y="1523880"/>
            <a:ext cx="2818800" cy="2663640"/>
            <a:chOff x="3048120" y="1523880"/>
            <a:chExt cx="2818800" cy="2663640"/>
          </a:xfrm>
        </p:grpSpPr>
        <p:sp>
          <p:nvSpPr>
            <p:cNvPr id="159" name=""/>
            <p:cNvSpPr/>
            <p:nvPr/>
          </p:nvSpPr>
          <p:spPr>
            <a:xfrm flipV="1">
              <a:off x="3517920" y="3404160"/>
              <a:ext cx="31320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005800" y="3404160"/>
              <a:ext cx="31284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005800" y="1993680"/>
              <a:ext cx="31284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17920" y="1993680"/>
              <a:ext cx="313200" cy="31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848840" y="246348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361320" y="246348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1320" y="387432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1320" y="246384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356076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6000" y="356076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215028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36000" y="2150280"/>
              <a:ext cx="626040" cy="62676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553720" y="183672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066200" y="1836720"/>
              <a:ext cx="0" cy="13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6200" y="324756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6200" y="1837080"/>
              <a:ext cx="156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2640" y="293400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40880" y="293400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2640" y="152388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0880" y="1523880"/>
              <a:ext cx="626040" cy="6264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520" y="4572000"/>
            <a:ext cx="80769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dous 198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randomized algorithm need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-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to find local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uses complicated random wal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3:27:54Z</dcterms:created>
  <dc:creator>Scott Aaronson</dc:creator>
  <dc:description/>
  <dc:language>en-US</dc:language>
  <cp:lastModifiedBy>Scott Aaronson</cp:lastModifiedBy>
  <dcterms:modified xsi:type="dcterms:W3CDTF">2004-06-15T02:38:14Z</dcterms:modified>
  <cp:revision>39</cp:revision>
  <dc:subject/>
  <dc:title>Lower Bounds for Local Search by Quantum Arguments</dc:title>
</cp:coreProperties>
</file>