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4AD-6D92-40D5-976B-55DE21D5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0F7-34AF-403E-932F-0FF7855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31A-A8D9-42D9-B15D-E948B5AC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5EC-960E-4136-AF59-D459BDFF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813-483A-4603-A85E-2D8DF90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0A0-DE7D-4338-B710-4FEBF24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50A-5D54-40B5-B136-1E0157C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BCE-44D7-4C0C-ADEA-FD72C16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B24-BBFD-4A63-BBF5-9C746849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88B-53A4-407D-8A52-3954E26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99D-A571-483D-8B26-E98C16F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6DF-6EC8-4360-8689-900758B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9A7-3FBA-4414-A203-A719F2FE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Pretty-Good Tomograph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216540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05320" y="1828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0880" y="457200"/>
            <a:ext cx="8305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tension to process tomograph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2133720"/>
            <a:ext cx="86104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U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some random Boolean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values of f(x) constitut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ependently acce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to be learne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each measurement provides at most n of th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no analogue of my learning theorem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720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tension to k-outcome measu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213372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, if we increase the number of sample measurements m by a poly(k)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re’s no hope of learning to simulat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utcome measurements (i.e. measurements on all n qubits) after poly(n) sampl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09480" y="38088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How do we actually </a:t>
            </a: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find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880" y="4191120"/>
            <a:ext cx="80773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convex programming problem, which can be solved in time polynomial in the Hilbert space dimension N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general, we can’t hope for better than this—for basic computational complexity rea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80880" y="1295280"/>
            <a:ext cx="8305920" cy="2816280"/>
            <a:chOff x="380880" y="1295280"/>
            <a:chExt cx="8305920" cy="2816280"/>
          </a:xfrm>
        </p:grpSpPr>
        <p:sp>
          <p:nvSpPr>
            <p:cNvPr id="821" name=""/>
            <p:cNvSpPr/>
            <p:nvPr/>
          </p:nvSpPr>
          <p:spPr>
            <a:xfrm>
              <a:off x="380880" y="1295280"/>
              <a:ext cx="830592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b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…,b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e the binary outcomes of measurements 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…,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n choose a hypothesis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to minimiz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"/>
                <p:cNvSpPr txBox="1"/>
                <p:nvPr/>
              </p:nvSpPr>
              <p:spPr>
                <a:xfrm>
                  <a:off x="3011400" y="2743200"/>
                  <a:ext cx="350064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04920" y="30492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ustom Convex Programming Method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E. Hazan,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" y="57150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(Hazan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is algorithm returns a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optimal solution after only log(m)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t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990720" y="1371600"/>
                <a:ext cx="4948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σ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304920" y="167652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" y="2666880"/>
            <a:ext cx="87631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I/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:=0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smallest eigenvector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step siz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minimizes f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-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-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Implement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A. &amp; 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04920" y="16765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mplemented Hazan’s algorithm in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vailable 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IT’s computing cluster, we then did numerical simulations to check experimentally that the learning theorem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04920" y="30492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periments We R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880" y="1371600"/>
            <a:ext cx="82296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1. Classical States (sanity check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States have form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x|, measurements check if i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bit is 1 or 0, distribution over measurements is un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2. Linear Cluster States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States are n qubits, prepared by starting with 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then applying conditional phase (P|xy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(-1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x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xy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 to each neighboring pair.  Measurements check three randomly-chosen neighboring qubits, in a basis like {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}.  Acceptance probability is always 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380880" y="380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3. Z</a:t>
            </a:r>
            <a:r>
              <a:rPr b="1" lang="en-CA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2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Subgroup States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 H be a subgroup of G=Z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order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State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| are equal superpositions over H.  There’s a measurement E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each element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, which checks whether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2895480" y="2362320"/>
                <a:ext cx="33339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685800" y="33526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 U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g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ll 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.  E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ccepts with probability 1 if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, or ½ if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pired by </a:t>
            </a:r>
            <a:r>
              <a:rPr b="0" lang="en-CA" sz="2800" spc="-1" strike="noStrike">
                <a:solidFill>
                  <a:srgbClr val="008000"/>
                </a:solidFill>
                <a:latin typeface="Arial"/>
              </a:rPr>
              <a:t>[Watrous 2000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; meant to showcase pretty-good tomography with non-commuting measu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81160" y="504720"/>
            <a:ext cx="858168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" y="2133720"/>
            <a:ext cx="83059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more convincing applications of our lear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special classes of states for which learning can be done using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mp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ime polynomial in the number of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he parameters of the lear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demonstr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841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842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847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848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094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re’s a problem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8229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o tomography on an entangled state of n qubits, we need exp(n)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mean that a generic state of (say) 10,000 particles can never be “learned” within the lifetime of the uni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o, this is certainly a practical problem—but to me, it’s a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ncept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68960" y="380520"/>
            <a:ext cx="909720" cy="1142640"/>
            <a:chOff x="7968960" y="380520"/>
            <a:chExt cx="909720" cy="1142640"/>
          </a:xfrm>
        </p:grpSpPr>
        <p:sp>
          <p:nvSpPr>
            <p:cNvPr id="48" name=""/>
            <p:cNvSpPr/>
            <p:nvPr/>
          </p:nvSpPr>
          <p:spPr>
            <a:xfrm flipH="1" flipV="1">
              <a:off x="8203680" y="4053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 flipH="1">
              <a:off x="7968960" y="4057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flipH="1" flipV="1" rot="16200000">
              <a:off x="8336880" y="9046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8446680" y="659880"/>
              <a:ext cx="345240" cy="213480"/>
              <a:chOff x="8446680" y="659880"/>
              <a:chExt cx="345240" cy="21348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8446320" y="6598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8473320" y="6836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8551440" y="6969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8588160" y="7383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8023320" y="659880"/>
              <a:ext cx="345240" cy="213480"/>
              <a:chOff x="8023320" y="659880"/>
              <a:chExt cx="345240" cy="21348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8022960" y="6598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49960" y="6836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128080" y="6969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800" y="7383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 flipV="1">
              <a:off x="8182440" y="3805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80520"/>
            <a:ext cx="955440" cy="1219320"/>
            <a:chOff x="304920" y="380520"/>
            <a:chExt cx="955440" cy="1219320"/>
          </a:xfrm>
        </p:grpSpPr>
        <p:sp>
          <p:nvSpPr>
            <p:cNvPr id="63" name=""/>
            <p:cNvSpPr/>
            <p:nvPr/>
          </p:nvSpPr>
          <p:spPr>
            <a:xfrm flipV="1">
              <a:off x="516240" y="4075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04920" y="4075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V="1" rot="5400000">
              <a:off x="690840" y="9468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84120" y="593280"/>
              <a:ext cx="397800" cy="312120"/>
              <a:chOff x="384120" y="593280"/>
              <a:chExt cx="397800" cy="312120"/>
            </a:xfrm>
          </p:grpSpPr>
          <p:sp>
            <p:nvSpPr>
              <p:cNvPr id="67" name=""/>
              <p:cNvSpPr/>
              <p:nvPr/>
            </p:nvSpPr>
            <p:spPr>
              <a:xfrm>
                <a:off x="396720" y="6786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4440" y="7041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2920" y="7174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9680" y="7624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4120" y="6642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2440" y="62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7240" y="6030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9000" y="6696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4000" y="6300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2520" y="6048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9880" y="5932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35200" y="593280"/>
              <a:ext cx="397800" cy="312120"/>
              <a:chOff x="835200" y="593280"/>
              <a:chExt cx="397800" cy="312120"/>
            </a:xfrm>
          </p:grpSpPr>
          <p:sp>
            <p:nvSpPr>
              <p:cNvPr id="79" name=""/>
              <p:cNvSpPr/>
              <p:nvPr/>
            </p:nvSpPr>
            <p:spPr>
              <a:xfrm>
                <a:off x="847800" y="6786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5520" y="7041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54000" y="7174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40760" y="7624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5200" y="6642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3520" y="62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58320" y="6030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80080" y="6696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35080" y="6300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83600" y="6048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20960" y="5932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V="1">
              <a:off x="781560" y="3805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a quantum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state of the world”?  A “state of knowledge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05740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ever else it is, should at least be a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useful hypothe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encapsulates previous observations and lets us predict future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5812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“useful” is a hypothesis that takes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its even to write dow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7242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ms to bolster the arguments of quantum computing skeptics who think quantum mechanics will break down in the “large N lim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8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Really we’re talking about Hume’s Problem of Induction…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ee 500 ravens.  Every one is black.  Why does that give you any grounds whatsoever for expecting the next raven to be bl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66680" y="2971800"/>
            <a:ext cx="4501440" cy="1779480"/>
            <a:chOff x="1066680" y="2971800"/>
            <a:chExt cx="4501440" cy="1779480"/>
          </a:xfrm>
        </p:grpSpPr>
        <p:grpSp>
          <p:nvGrpSpPr>
            <p:cNvPr id="99" name=""/>
            <p:cNvGrpSpPr/>
            <p:nvPr/>
          </p:nvGrpSpPr>
          <p:grpSpPr>
            <a:xfrm>
              <a:off x="1066680" y="3024000"/>
              <a:ext cx="626400" cy="784440"/>
              <a:chOff x="1066680" y="3024000"/>
              <a:chExt cx="626400" cy="784440"/>
            </a:xfrm>
          </p:grpSpPr>
          <p:sp>
            <p:nvSpPr>
              <p:cNvPr id="100" name=""/>
              <p:cNvSpPr/>
              <p:nvPr/>
            </p:nvSpPr>
            <p:spPr>
              <a:xfrm>
                <a:off x="1066680" y="30240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01320" y="30276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14880" y="30607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55200" y="30924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54960" y="32965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89600" y="32281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06880" y="32403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23800" y="32522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1080" y="32637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58720" y="32756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76000" y="32878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71880" y="32000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3040" y="32101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280" y="32209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06080" y="32310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17960" y="32414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29480" y="32522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16240" y="30481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8200" y="30520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8720" y="30549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43680" y="30556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60520" y="31050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60520" y="32122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20000" y="32176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07240" y="32202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64760" y="3246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9000" y="32515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0240" y="32662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38840" y="32670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6480" y="32691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50880" y="32796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03920" y="32904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16240" y="33058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3246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3000" y="33253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37400" y="33307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22920" y="33346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62800" y="34617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91960" y="35107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61520" y="35265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40000" y="35341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58840" y="35406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71320" y="35910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19400" y="36057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87560" y="36439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15280" y="36471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10920" y="36518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42080" y="36565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96720" y="36698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88080" y="36712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31520" y="36846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74640" y="36853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1200" y="36939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04200" y="37112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71000" y="37126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1320" y="37173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52720" y="37227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9800" y="37249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5880" y="3727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64840" y="3730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01600" y="37342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17240" y="3736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36520" y="3740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00240" y="37429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22480" y="37508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90880" y="37555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96920" y="3756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25400" y="37609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47320" y="37695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14560" y="37702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09160" y="3778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0520" y="31071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32880" y="31176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5400" y="30722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19840" y="30657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009160" y="3024000"/>
              <a:ext cx="626400" cy="784440"/>
              <a:chOff x="2009160" y="3024000"/>
              <a:chExt cx="626400" cy="78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2009160" y="30240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43800" y="30276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57360" y="30607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97680" y="30924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97440" y="32965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32080" y="32281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49360" y="32403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66280" y="32522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83560" y="32637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1200" y="32756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18480" y="32878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14360" y="32000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5520" y="32101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37760" y="32209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48560" y="32310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60440" y="32414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1960" y="32522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8720" y="30481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0680" y="30520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01200" y="30549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86160" y="30556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03000" y="31050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03000" y="32122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62480" y="32176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49720" y="32202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07240" y="3246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81480" y="32515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2720" y="32662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81320" y="32670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88960" y="32691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3360" y="32796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46400" y="32904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58720" y="33058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1000" y="33246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5480" y="33253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9880" y="33307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65400" y="33346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05280" y="34617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34440" y="35107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4000" y="35265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82480" y="35341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01320" y="35406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13800" y="35910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61880" y="36057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30040" y="36439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57760" y="36471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53400" y="36518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84560" y="36565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39200" y="36698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30560" y="36712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74000" y="36846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17120" y="36853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3680" y="36939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46680" y="37112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13480" y="37126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13800" y="37173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95200" y="37227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42280" y="37249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88360" y="3727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07320" y="3730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44080" y="37342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59720" y="3736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79000" y="3740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42720" y="37429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64960" y="37508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33360" y="37555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39400" y="3756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67880" y="37609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89800" y="37695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57040" y="37702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51640" y="3778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03000" y="31071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360" y="31176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87880" y="30722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62320" y="30657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003840" y="2971800"/>
              <a:ext cx="626400" cy="784440"/>
              <a:chOff x="3003840" y="2971800"/>
              <a:chExt cx="626400" cy="784440"/>
            </a:xfrm>
          </p:grpSpPr>
          <p:sp>
            <p:nvSpPr>
              <p:cNvPr id="252" name=""/>
              <p:cNvSpPr/>
              <p:nvPr/>
            </p:nvSpPr>
            <p:spPr>
              <a:xfrm>
                <a:off x="300384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3848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5204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9236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9212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2676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4404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6096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824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9588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1316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904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2020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3244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4324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5512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664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5340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6536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588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8084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9768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9768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5716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4440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92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7616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740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00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8364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8804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4108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5340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0568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016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7456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6008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9996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2912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868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7716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9600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0848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5656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2472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5244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08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7924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3388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2524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6868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1180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4836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4136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816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0848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8988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3696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8304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0200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3876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5440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7368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3740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5964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804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3408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6256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8448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5172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4632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768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004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8256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5700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46680" y="2971800"/>
              <a:ext cx="626400" cy="784440"/>
              <a:chOff x="3946680" y="2971800"/>
              <a:chExt cx="626400" cy="7844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4668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132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9488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3520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3496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6960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8688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0380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2108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3872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5600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188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6304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7528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08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796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0948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9624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0820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3872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2368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4052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4052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0000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8724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24476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900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3024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1884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2648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3088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8392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9624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4852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29300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1740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0292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4280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7196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4152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2000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3884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5132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9940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756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9528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9092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2208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17672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6808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1152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5464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9120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8420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5100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5132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3272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7980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02588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4484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8160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724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1652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8024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248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7088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7692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0540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2732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9456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8916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4052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1288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2540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9984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941720" y="2971800"/>
              <a:ext cx="626400" cy="784440"/>
              <a:chOff x="4941720" y="2971800"/>
              <a:chExt cx="626400" cy="784440"/>
            </a:xfrm>
          </p:grpSpPr>
          <p:sp>
            <p:nvSpPr>
              <p:cNvPr id="404" name=""/>
              <p:cNvSpPr/>
              <p:nvPr/>
            </p:nvSpPr>
            <p:spPr>
              <a:xfrm>
                <a:off x="494172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7636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8992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43024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3000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6464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8192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9884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1612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3376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5104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4692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5808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17032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8112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9300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0452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9128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324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3376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1872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3556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3556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504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28228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3980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1404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2528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1388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2152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2592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7896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9128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4356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8804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1244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9796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3784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700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3656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3388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4636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9444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6260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9032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38596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21712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7176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6312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0656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4968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8624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7924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4604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34636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2776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7484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2092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3988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7664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9228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56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528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9752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6592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7196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0044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236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8960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8420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56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0792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2044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9488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470480" y="3914280"/>
              <a:ext cx="626400" cy="784440"/>
              <a:chOff x="4470480" y="3914280"/>
              <a:chExt cx="626400" cy="784440"/>
            </a:xfrm>
          </p:grpSpPr>
          <p:sp>
            <p:nvSpPr>
              <p:cNvPr id="480" name=""/>
              <p:cNvSpPr/>
              <p:nvPr/>
            </p:nvSpPr>
            <p:spPr>
              <a:xfrm>
                <a:off x="4470480" y="391428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05120" y="391788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18680" y="395100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9000" y="398268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58760" y="418680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93400" y="411840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10680" y="413064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27600" y="414252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44880" y="415404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62520" y="416592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79800" y="417816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75680" y="409032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86840" y="410040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99080" y="411120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09880" y="412128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21760" y="413172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33280" y="414252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20040" y="393840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32000" y="39423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862520" y="39452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47480" y="394596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64320" y="399528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64320" y="410256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23800" y="410796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11040" y="411048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68560" y="41371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42800" y="414180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54040" y="415656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42640" y="415728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50280" y="415944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54680" y="416988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07720" y="418068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20040" y="419616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72320" y="421488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16800" y="421560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1200" y="422100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26720" y="422496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66600" y="435204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5760" y="440100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65320" y="441684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43800" y="442440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62640" y="443088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75120" y="448128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23200" y="449604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91360" y="453420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19080" y="453744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14720" y="454212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45880" y="454680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00520" y="456012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1880" y="45615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35320" y="457488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78440" y="457560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15000" y="45842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08000" y="4601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74800" y="460296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75120" y="460764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56520" y="461304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03600" y="461520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49680" y="46177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68640" y="462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05400" y="462456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21040" y="4626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40320" y="4630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604040" y="46332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26280" y="464112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94680" y="464580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00720" y="464724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29200" y="4651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51120" y="465984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18360" y="46605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12960" y="4668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64320" y="399744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36680" y="400788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9200" y="396252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23640" y="395604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23240" y="3966840"/>
              <a:ext cx="626400" cy="784440"/>
              <a:chOff x="3423240" y="3966840"/>
              <a:chExt cx="626400" cy="784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423240" y="396684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57880" y="397044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71440" y="400356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11760" y="403524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423936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46160" y="417096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63440" y="418320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80360" y="419508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7640" y="420660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15280" y="421848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32560" y="42307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28440" y="414288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39600" y="415296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51840" y="416376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62640" y="417384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74520" y="418428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86040" y="419508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72800" y="399096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4760" y="399492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15280" y="399780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900240" y="399852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17080" y="404784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17080" y="415512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76560" y="416052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63800" y="416304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21320" y="418968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95560" y="419436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6800" y="4209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95400" y="420984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03040" y="421200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07440" y="422244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60480" y="423324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72800" y="424872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925080" y="426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69560" y="426816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93960" y="427356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79480" y="427752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19360" y="440460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48520" y="445356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718080" y="446940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96560" y="447696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515400" y="448344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27880" y="4533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75960" y="454860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4120" y="458676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1840" y="459000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67480" y="459468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98640" y="459936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653280" y="461268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44640" y="461412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88080" y="462744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31200" y="462816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767760" y="4636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560760" y="46540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27560" y="465552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27880" y="466020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509280" y="4665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456360" y="466776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502440" y="46702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21400" y="467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58160" y="4677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73800" y="46789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93080" y="46828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56800" y="46857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79040" y="469368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547440" y="4698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453480" y="469980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81960" y="47037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03880" y="47124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1120" y="4713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65720" y="4721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17080" y="405000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89440" y="406044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01960" y="401508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76400" y="400860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375640" y="3914280"/>
              <a:ext cx="626400" cy="784440"/>
              <a:chOff x="2375640" y="3914280"/>
              <a:chExt cx="626400" cy="784440"/>
            </a:xfrm>
          </p:grpSpPr>
          <p:sp>
            <p:nvSpPr>
              <p:cNvPr id="632" name=""/>
              <p:cNvSpPr/>
              <p:nvPr/>
            </p:nvSpPr>
            <p:spPr>
              <a:xfrm>
                <a:off x="2375640" y="391428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510280" y="391788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23840" y="395100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64160" y="398268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63920" y="418680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98560" y="411840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15840" y="413064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32760" y="414252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50040" y="415404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7680" y="416592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84960" y="417816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80840" y="409032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92000" y="410040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04240" y="411120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15040" y="412128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26920" y="413172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38440" y="414252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25200" y="393840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37160" y="39423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67680" y="39452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52640" y="394596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69480" y="399528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69480" y="410256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28960" y="410796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16200" y="411048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73720" y="41371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47960" y="414180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59200" y="415656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647800" y="415728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55440" y="415944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59840" y="416988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12880" y="418068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25200" y="419616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77480" y="421488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21960" y="421560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46360" y="422100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31880" y="422496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71760" y="435204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00920" y="440100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70480" y="441684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8960" y="442440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467800" y="443088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80280" y="448128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28360" y="449604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96520" y="453420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24240" y="453744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819880" y="454212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51040" y="454680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05680" y="456012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7040" y="45615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40480" y="457488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83600" y="457560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20160" y="45842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13160" y="4601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379960" y="460296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80280" y="460764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61680" y="461304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08760" y="461520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54840" y="46177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773800" y="462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10560" y="462456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26200" y="4626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5480" y="4630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09200" y="46332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31440" y="464112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99840" y="464580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5880" y="464724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34360" y="4651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6280" y="465984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23520" y="46605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18120" y="4668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769480" y="399744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841840" y="400788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54360" y="396252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28800" y="395604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275840" y="3966840"/>
              <a:ext cx="626400" cy="784440"/>
              <a:chOff x="1275840" y="3966840"/>
              <a:chExt cx="626400" cy="7844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75840" y="396684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10480" y="397044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724040" y="400356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64360" y="403524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64120" y="423936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598760" y="417096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16040" y="418320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32960" y="419508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50240" y="420660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67880" y="421848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85160" y="42307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81040" y="414288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492200" y="415296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504440" y="416376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515240" y="417384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527120" y="418428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38640" y="419508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25400" y="399096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37360" y="399492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67880" y="399780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52840" y="399852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69680" y="404784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69680" y="415512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29160" y="416052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16400" y="416304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73920" y="418968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748160" y="419436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859400" y="4209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48000" y="420984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55640" y="421200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760040" y="422244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13080" y="423324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25400" y="424872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77680" y="426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22160" y="426816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46560" y="427356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32080" y="427752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71960" y="440460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01120" y="445356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70680" y="446940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49160" y="447696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68000" y="448344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80480" y="4533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28560" y="454860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296720" y="458676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4440" y="459000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720080" y="459468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1240" y="459936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05880" y="461268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97240" y="461412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40680" y="462744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83800" y="462816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20360" y="4636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413360" y="46540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80160" y="465552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680480" y="466020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361880" y="4665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308960" y="466776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55040" y="46702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74000" y="467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310760" y="4677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26400" y="46789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45680" y="46828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09400" y="46857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31640" y="469368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00040" y="4698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306080" y="469980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34560" y="47037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356480" y="47124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23720" y="4713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18320" y="4721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669680" y="405000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42040" y="406044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654560" y="401508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629000" y="400860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3" name="" descr=""/>
          <p:cNvPicPr/>
          <p:nvPr/>
        </p:nvPicPr>
        <p:blipFill>
          <a:blip r:embed="rId1"/>
          <a:srcRect l="0" t="9999" r="0" b="0"/>
          <a:stretch/>
        </p:blipFill>
        <p:spPr>
          <a:xfrm>
            <a:off x="7010280" y="3429000"/>
            <a:ext cx="1257480" cy="13716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rot="1321800">
            <a:off x="7238160" y="2438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495288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 answer, according to computational learning theo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ractice, we always restrict attention to some class of hypotheses vastly smaller than the class of all logically conceivable hypo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8600" y="22860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obably Approximately Correct (PAC) Lear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9480" y="1600200"/>
            <a:ext cx="815364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 called the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sample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distribution D over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C of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hypothe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functions from S to {0,1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function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independently from D, together with f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output a hypothesis h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438280" y="5105520"/>
                <a:ext cx="4572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04920" y="22096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Valiant 198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the hypothesis class C is finite, then any hypothesis consisten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048120" y="3048120"/>
                <a:ext cx="26668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304920" y="426708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samples will also be consistent with a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action of future data, 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the choice of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4920" y="5791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ression implies predi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219320" y="762120"/>
            <a:ext cx="6781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809880" y="3352680"/>
            <a:ext cx="4876920" cy="2438640"/>
          </a:xfrm>
          <a:prstGeom prst="wedgeEllipseCallout">
            <a:avLst>
              <a:gd name="adj1" fmla="val 59828"/>
              <a:gd name="adj2" fmla="val 58856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ven if we discretize, it’s still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doub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onential in the number of qubi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" y="1981080"/>
            <a:ext cx="3809880" cy="1981440"/>
          </a:xfrm>
          <a:prstGeom prst="wedgeEllipseCallout">
            <a:avLst>
              <a:gd name="adj1" fmla="val -61124"/>
              <a:gd name="adj2" fmla="val 66828"/>
            </a:avLst>
          </a:prstGeom>
          <a:solidFill>
            <a:srgbClr val="ec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number of quantum states is infin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80880" y="914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 [A. 200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n-qubit quantum state can be “simulated” using O(n log n log m) classical bits, where m is the number of (binary) measurements whose outcomes we car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0880" y="5638680"/>
            <a:ext cx="79250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s, from which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an be estimated to within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n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without know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15228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 Hint of What’s Possibl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819520" y="4343400"/>
                <a:ext cx="2806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0880" y="2895480"/>
            <a:ext cx="8534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E=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 two-outcome POVMs on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given (classical descriptions of) E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an produce a classical strin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295280"/>
            <a:ext cx="86104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state, and let D be a distribution over two-outcome measu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draw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find a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minim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880" y="152280"/>
            <a:ext cx="83059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antum Occam’s Razor Theorem</a:t>
            </a:r>
            <a:br>
              <a:rPr sz="3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1447920" y="5486400"/>
                <a:ext cx="5103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γε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1371600" y="4191120"/>
                <a:ext cx="56386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2209680" y="3048120"/>
                <a:ext cx="30862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σ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304920" y="4267080"/>
            <a:ext cx="830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04920" y="5029200"/>
            <a:ext cx="830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638680" y="33526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b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= outcome of E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57913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C a const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609480" y="45720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Beyond the Bayesian and Max-Lik creeds: a third w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2120" y="2057400"/>
            <a:ext cx="7772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not assuming any prior ov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moves a lot of probl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we assume a distribution ov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that be preferable for some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e can control which measurements to apply, but not what the stat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8-08-26T13:11:49Z</dcterms:modified>
  <cp:revision>79</cp:revision>
  <dc:subject/>
  <dc:title>The Learnability of Quantum States</dc:title>
</cp:coreProperties>
</file>