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9F6B-D171-4208-A18C-3A1AEC81F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0882-6F20-4C06-9780-D3ABC9F75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8E61-9C39-453F-8C3A-8872C07E5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17BF-A831-4E05-8968-97F0EFF44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C557-D1DB-42DD-8AF9-D2F9DE803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72FA-BDCE-42FA-B6E0-BDED05E06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6B8C-F0C9-4C5F-A18B-73885526B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C9C0-7F76-4384-BA76-1B6738E1C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49B7-BF01-4974-BA66-EAEAE8B8C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F4C5-4A37-47AF-A40F-6399FD8AB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4E4D-ACEE-4CDB-9F39-6D9D38EEF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A050-AC55-4C97-83BD-EC424E4B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8955-D1AB-4A3A-80A2-29FC0D50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4690-42B2-4DCC-8D63-ADF97638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3639-6F21-4A6A-87AE-AD7BF496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7089-590C-4F36-9594-F455784A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EF3C-C850-4B68-B081-6AD7786F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BAE3-3325-4744-8F2E-36AEF03D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08F7-0F2D-4239-BCC6-48EB3B4E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BC20-3072-40D5-9F4C-AFA7C4B2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53E5-8273-46D7-8057-A8224FEB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903F-71F9-4F6C-A2AC-2BFE7C69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629-6381-477F-BEBD-BCD27983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3DB7-5222-4E1F-AA90-8CF0A4129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alibri"/>
              </a:rPr>
              <a:t>New Evidence That Quantum Mechanics Is Hard to Simulate on Classical Computer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8006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s based on joint work with Alex Arkhip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2860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380880" y="1143000"/>
            <a:ext cx="8534520" cy="23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’ve often said we have three choices: eith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Extended Church-Turing Thesis is false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extbook quantum mechanics is false, 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QCs can be efficiently simulated classicall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4"/>
          <p:cNvSpPr/>
          <p:nvPr/>
        </p:nvSpPr>
        <p:spPr>
          <a:xfrm>
            <a:off x="380880" y="3276720"/>
            <a:ext cx="67057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3200400" y="3505320"/>
            <a:ext cx="5029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Bradley Hand ITC"/>
              </a:rPr>
              <a:t>For all intents and purpos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shor"/>
          <p:cNvPicPr/>
          <p:nvPr/>
        </p:nvPicPr>
        <p:blipFill>
          <a:blip r:embed="rId1"/>
          <a:srcRect l="1600" t="2400" r="16003" b="2400"/>
          <a:stretch/>
        </p:blipFill>
        <p:spPr>
          <a:xfrm>
            <a:off x="6019920" y="2819520"/>
            <a:ext cx="988920" cy="761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shor"/>
          <p:cNvPicPr/>
          <p:nvPr/>
        </p:nvPicPr>
        <p:blipFill>
          <a:blip r:embed="rId2"/>
          <a:srcRect l="16003" t="2400" r="1600" b="2400"/>
          <a:stretch/>
        </p:blipFill>
        <p:spPr>
          <a:xfrm>
            <a:off x="2133720" y="2819520"/>
            <a:ext cx="988920" cy="7617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228600" y="152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In 1994, something big happened in the foundations of computer science, whose meaning is still debated tod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2895480" y="1752480"/>
            <a:ext cx="3295800" cy="2971800"/>
          </a:xfrm>
          <a:prstGeom prst="rect">
            <a:avLst/>
          </a:prstGeom>
          <a:ln w="0">
            <a:noFill/>
          </a:ln>
        </p:spPr>
      </p:pic>
      <p:sp>
        <p:nvSpPr>
          <p:cNvPr id="54" name="Freeform 8"/>
          <p:cNvSpPr/>
          <p:nvPr/>
        </p:nvSpPr>
        <p:spPr>
          <a:xfrm>
            <a:off x="2895480" y="2895480"/>
            <a:ext cx="1511280" cy="4636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511808" h="463296">
                <a:moveTo>
                  <a:pt x="12192" y="195072"/>
                </a:moveTo>
                <a:lnTo>
                  <a:pt x="1511808" y="0"/>
                </a:lnTo>
                <a:lnTo>
                  <a:pt x="743712" y="134112"/>
                </a:lnTo>
                <a:lnTo>
                  <a:pt x="1341120" y="463296"/>
                </a:lnTo>
                <a:lnTo>
                  <a:pt x="658368" y="146304"/>
                </a:lnTo>
                <a:lnTo>
                  <a:pt x="0" y="25603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4178160" y="2289240"/>
            <a:ext cx="2000520" cy="1377720"/>
          </a:xfrm>
          <a:custGeom>
            <a:avLst/>
            <a:gdLst>
              <a:gd name="textAreaLeft" fmla="*/ 0 w 2000520"/>
              <a:gd name="textAreaRight" fmla="*/ 2000880 w 2000520"/>
              <a:gd name="textAreaTop" fmla="*/ 0 h 1377720"/>
              <a:gd name="textAreaBottom" fmla="*/ 1378080 h 1377720"/>
            </a:gdLst>
            <a:ahLst/>
            <a:rect l="textAreaLeft" t="textAreaTop" r="textAreaRight" b="textAreaBottom"/>
            <a:pathLst>
              <a:path w="1999488" h="1377696">
                <a:moveTo>
                  <a:pt x="1987296" y="841248"/>
                </a:moveTo>
                <a:lnTo>
                  <a:pt x="743712" y="0"/>
                </a:lnTo>
                <a:lnTo>
                  <a:pt x="1219200" y="377952"/>
                </a:lnTo>
                <a:lnTo>
                  <a:pt x="304800" y="329184"/>
                </a:lnTo>
                <a:lnTo>
                  <a:pt x="1207008" y="414528"/>
                </a:lnTo>
                <a:lnTo>
                  <a:pt x="1548384" y="633984"/>
                </a:lnTo>
                <a:lnTo>
                  <a:pt x="280416" y="902208"/>
                </a:lnTo>
                <a:lnTo>
                  <a:pt x="1584960" y="670560"/>
                </a:lnTo>
                <a:lnTo>
                  <a:pt x="1938528" y="877824"/>
                </a:lnTo>
                <a:lnTo>
                  <a:pt x="0" y="1377696"/>
                </a:lnTo>
                <a:lnTo>
                  <a:pt x="1999488" y="92659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914400" y="4724280"/>
            <a:ext cx="769608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exactly was Shor’s algorithm importan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ooster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cause it means we’ll build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keptic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cause it means w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on’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uild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 reasons having nothing to do with building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" dur="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" dur="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" dur="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" dur="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28600" y="2286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Shor’s algorithm was a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hardness result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for one of the central computational problems of modern science: QUANTUM SIM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952880" y="3200400"/>
            <a:ext cx="3810240" cy="35298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hor’s Theore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ANTUM SIMULATION is not in probabilistic polynomial time, unless FACTORING is al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1"/>
          <p:cNvGrpSpPr/>
          <p:nvPr/>
        </p:nvGrpSpPr>
        <p:grpSpPr>
          <a:xfrm>
            <a:off x="304920" y="2057400"/>
            <a:ext cx="4724280" cy="4648320"/>
            <a:chOff x="304920" y="2057400"/>
            <a:chExt cx="4724280" cy="4648320"/>
          </a:xfrm>
        </p:grpSpPr>
        <p:pic>
          <p:nvPicPr>
            <p:cNvPr id="60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2743200"/>
              <a:ext cx="365760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6"/>
            <p:cNvSpPr/>
            <p:nvPr/>
          </p:nvSpPr>
          <p:spPr>
            <a:xfrm>
              <a:off x="304920" y="2057400"/>
              <a:ext cx="4724280" cy="64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Use of DoE supercomputers by area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from a talk by Alán Aspuru-Guzik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Straight Arrow Connector 7"/>
            <p:cNvCxnSpPr/>
            <p:nvPr/>
          </p:nvCxnSpPr>
          <p:spPr>
            <a:xfrm flipH="1" flipV="1">
              <a:off x="3047400" y="312372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63" name="Straight Arrow Connector 9"/>
            <p:cNvCxnSpPr/>
            <p:nvPr/>
          </p:nvCxnSpPr>
          <p:spPr>
            <a:xfrm flipH="1" flipV="1">
              <a:off x="2971080" y="335232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64" name="Straight Arrow Connector 10"/>
            <p:cNvCxnSpPr/>
            <p:nvPr/>
          </p:nvCxnSpPr>
          <p:spPr>
            <a:xfrm flipH="1" flipV="1">
              <a:off x="1980360" y="434304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6"/>
          <p:cNvSpPr/>
          <p:nvPr/>
        </p:nvSpPr>
        <p:spPr>
          <a:xfrm>
            <a:off x="228600" y="1447920"/>
            <a:ext cx="4648320" cy="56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dvantages of the new result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ased on “generic” complexity assumptions, rather than the classical hardness of FACTO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e only extremely weak kinds of quantum computing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e.g. nonadaptive linear optics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—testable before I’m dead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 evidence that QCs have capabilities outside the entire polynomial hierarch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152280" y="152280"/>
            <a:ext cx="8839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2060"/>
                </a:solidFill>
                <a:latin typeface="Calibri"/>
              </a:rPr>
              <a:t>Today: A different kind of hardness result for simulating quantum mechanic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4952880" y="1447920"/>
            <a:ext cx="419112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Disadvantag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pply to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sampling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blems (or to problems with many possible valid outputs), not decision proble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rder to convince a skeptic that your QC is solving the relevant hard probl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blems don’t seem “useful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6"/>
          <p:cNvSpPr/>
          <p:nvPr/>
        </p:nvSpPr>
        <p:spPr>
          <a:xfrm>
            <a:off x="4876920" y="1523880"/>
            <a:ext cx="0" cy="533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First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228600" y="838080"/>
            <a:ext cx="8610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n a random Boolean function f:{0,1}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{-1,1}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nd subsets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[n] of the input bits, most of whose parities are “slightly better correlated than chance” with 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.g., sample a subset S with probability               whe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2"/>
              <p:cNvSpPr txBox="1"/>
              <p:nvPr/>
            </p:nvSpPr>
            <p:spPr>
              <a:xfrm>
                <a:off x="2133720" y="2895480"/>
                <a:ext cx="388620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S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2"/>
              <p:cNvSpPr txBox="1"/>
              <p:nvPr/>
            </p:nvSpPr>
            <p:spPr>
              <a:xfrm>
                <a:off x="6629400" y="2895480"/>
                <a:ext cx="21956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⊆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</m:sub>
                          <m:sup/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2"/>
              <p:cNvSpPr txBox="1"/>
              <p:nvPr/>
            </p:nvSpPr>
            <p:spPr>
              <a:xfrm>
                <a:off x="5791320" y="2438280"/>
                <a:ext cx="990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4" name="Picture 35" descr=""/>
          <p:cNvPicPr/>
          <p:nvPr/>
        </p:nvPicPr>
        <p:blipFill>
          <a:blip r:embed="rId1"/>
          <a:stretch/>
        </p:blipFill>
        <p:spPr>
          <a:xfrm>
            <a:off x="380880" y="3900600"/>
            <a:ext cx="4362480" cy="2957400"/>
          </a:xfrm>
          <a:prstGeom prst="rect">
            <a:avLst/>
          </a:prstGeom>
          <a:ln w="0">
            <a:noFill/>
          </a:ln>
        </p:spPr>
      </p:pic>
      <p:cxnSp>
        <p:nvCxnSpPr>
          <p:cNvPr id="75" name="Straight Arrow Connector 36"/>
          <p:cNvCxnSpPr>
            <a:stCxn id="76" idx="1"/>
          </p:cNvCxnSpPr>
          <p:nvPr/>
        </p:nvCxnSpPr>
        <p:spPr>
          <a:xfrm flipH="1" flipV="1">
            <a:off x="990000" y="4419000"/>
            <a:ext cx="1600920" cy="294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76" name="Text Box 3"/>
          <p:cNvSpPr/>
          <p:nvPr/>
        </p:nvSpPr>
        <p:spPr>
          <a:xfrm>
            <a:off x="2590920" y="4267080"/>
            <a:ext cx="6019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tribution of these Fourier coefficient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a random 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429000" y="5410080"/>
            <a:ext cx="541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Distribution for the S’s that you’re being asked to out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Straight Arrow Connector 39"/>
          <p:cNvCxnSpPr>
            <a:stCxn id="77" idx="1"/>
          </p:cNvCxnSpPr>
          <p:nvPr/>
        </p:nvCxnSpPr>
        <p:spPr>
          <a:xfrm flipH="1" flipV="1">
            <a:off x="2285280" y="5406480"/>
            <a:ext cx="1143720" cy="4496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</p:cxnSp>
      <mc:AlternateContent>
        <mc:Choice xmlns:a14="http://schemas.microsoft.com/office/drawing/2010/main" Requires="a14">
          <p:sp>
            <p:nvSpPr>
              <p:cNvPr id="79" name="Object 2"/>
              <p:cNvSpPr txBox="1"/>
              <p:nvPr/>
            </p:nvSpPr>
            <p:spPr>
              <a:xfrm>
                <a:off x="8077320" y="4267080"/>
                <a:ext cx="757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6"/>
          <p:cNvSpPr/>
          <p:nvPr/>
        </p:nvSpPr>
        <p:spPr>
          <a:xfrm>
            <a:off x="304920" y="38088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s problem is trivial to solve using a quantum computer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32"/>
          <p:cNvGrpSpPr/>
          <p:nvPr/>
        </p:nvGrpSpPr>
        <p:grpSpPr>
          <a:xfrm>
            <a:off x="3657600" y="228600"/>
            <a:ext cx="4354920" cy="2333160"/>
            <a:chOff x="3657600" y="228600"/>
            <a:chExt cx="4354920" cy="2333160"/>
          </a:xfrm>
        </p:grpSpPr>
        <p:sp>
          <p:nvSpPr>
            <p:cNvPr id="82" name="Straight Connector 8"/>
            <p:cNvSpPr/>
            <p:nvPr/>
          </p:nvSpPr>
          <p:spPr>
            <a:xfrm>
              <a:off x="4190760" y="137160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Straight Connector 9"/>
            <p:cNvSpPr/>
            <p:nvPr/>
          </p:nvSpPr>
          <p:spPr>
            <a:xfrm>
              <a:off x="4190760" y="205740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traight Connector 10"/>
            <p:cNvSpPr/>
            <p:nvPr/>
          </p:nvSpPr>
          <p:spPr>
            <a:xfrm>
              <a:off x="4190760" y="68580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4"/>
            <p:cNvSpPr/>
            <p:nvPr/>
          </p:nvSpPr>
          <p:spPr>
            <a:xfrm>
              <a:off x="4572000" y="3808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6"/>
            <p:cNvSpPr/>
            <p:nvPr/>
          </p:nvSpPr>
          <p:spPr>
            <a:xfrm>
              <a:off x="4572000" y="10666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7"/>
            <p:cNvSpPr/>
            <p:nvPr/>
          </p:nvSpPr>
          <p:spPr>
            <a:xfrm>
              <a:off x="4572000" y="17528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4"/>
            <p:cNvSpPr/>
            <p:nvPr/>
          </p:nvSpPr>
          <p:spPr>
            <a:xfrm>
              <a:off x="5486400" y="380880"/>
              <a:ext cx="533160" cy="19051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9"/>
            <p:cNvSpPr/>
            <p:nvPr/>
          </p:nvSpPr>
          <p:spPr>
            <a:xfrm>
              <a:off x="6400800" y="3808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0"/>
            <p:cNvSpPr/>
            <p:nvPr/>
          </p:nvSpPr>
          <p:spPr>
            <a:xfrm>
              <a:off x="6400800" y="10666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11"/>
            <p:cNvSpPr/>
            <p:nvPr/>
          </p:nvSpPr>
          <p:spPr>
            <a:xfrm>
              <a:off x="6400800" y="17528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9"/>
            <p:cNvGrpSpPr/>
            <p:nvPr/>
          </p:nvGrpSpPr>
          <p:grpSpPr>
            <a:xfrm>
              <a:off x="7202160" y="228600"/>
              <a:ext cx="810360" cy="961560"/>
              <a:chOff x="7202160" y="228600"/>
              <a:chExt cx="810360" cy="961560"/>
            </a:xfrm>
          </p:grpSpPr>
          <p:sp>
            <p:nvSpPr>
              <p:cNvPr id="93" name="Chord 29"/>
              <p:cNvSpPr/>
              <p:nvPr/>
            </p:nvSpPr>
            <p:spPr>
              <a:xfrm rot="7220400">
                <a:off x="7303680" y="48888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4" name="Straight Arrow Connector 30"/>
              <p:cNvCxnSpPr>
                <a:stCxn id="93" idx="2"/>
              </p:cNvCxnSpPr>
              <p:nvPr/>
            </p:nvCxnSpPr>
            <p:spPr>
              <a:xfrm flipV="1">
                <a:off x="7605000" y="2286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95" name="Group 50"/>
            <p:cNvGrpSpPr/>
            <p:nvPr/>
          </p:nvGrpSpPr>
          <p:grpSpPr>
            <a:xfrm>
              <a:off x="7202160" y="914400"/>
              <a:ext cx="810360" cy="961560"/>
              <a:chOff x="7202160" y="914400"/>
              <a:chExt cx="810360" cy="961560"/>
            </a:xfrm>
          </p:grpSpPr>
          <p:sp>
            <p:nvSpPr>
              <p:cNvPr id="96" name="Chord 27"/>
              <p:cNvSpPr/>
              <p:nvPr/>
            </p:nvSpPr>
            <p:spPr>
              <a:xfrm rot="7220400">
                <a:off x="7303680" y="117468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7" name="Straight Arrow Connector 28"/>
              <p:cNvCxnSpPr>
                <a:stCxn id="96" idx="2"/>
              </p:cNvCxnSpPr>
              <p:nvPr/>
            </p:nvCxnSpPr>
            <p:spPr>
              <a:xfrm flipV="1">
                <a:off x="7605000" y="9144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98" name="Group 53"/>
            <p:cNvGrpSpPr/>
            <p:nvPr/>
          </p:nvGrpSpPr>
          <p:grpSpPr>
            <a:xfrm>
              <a:off x="7202160" y="1600200"/>
              <a:ext cx="810360" cy="961560"/>
              <a:chOff x="7202160" y="1600200"/>
              <a:chExt cx="810360" cy="961560"/>
            </a:xfrm>
          </p:grpSpPr>
          <p:sp>
            <p:nvSpPr>
              <p:cNvPr id="99" name="Chord 25"/>
              <p:cNvSpPr/>
              <p:nvPr/>
            </p:nvSpPr>
            <p:spPr>
              <a:xfrm rot="7220400">
                <a:off x="7303680" y="186048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0" name="Straight Arrow Connector 26"/>
              <p:cNvCxnSpPr>
                <a:stCxn id="99" idx="2"/>
              </p:cNvCxnSpPr>
              <p:nvPr/>
            </p:nvCxnSpPr>
            <p:spPr>
              <a:xfrm flipV="1">
                <a:off x="7605000" y="16002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sp>
          <p:nvSpPr>
            <p:cNvPr id="101" name="Text Box 3"/>
            <p:cNvSpPr/>
            <p:nvPr/>
          </p:nvSpPr>
          <p:spPr>
            <a:xfrm>
              <a:off x="5486400" y="1066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3"/>
            <p:cNvSpPr/>
            <p:nvPr/>
          </p:nvSpPr>
          <p:spPr>
            <a:xfrm>
              <a:off x="3657600" y="3808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"/>
            <p:cNvSpPr/>
            <p:nvPr/>
          </p:nvSpPr>
          <p:spPr>
            <a:xfrm>
              <a:off x="3657600" y="10666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3"/>
            <p:cNvSpPr/>
            <p:nvPr/>
          </p:nvSpPr>
          <p:spPr>
            <a:xfrm>
              <a:off x="3657600" y="175284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16"/>
          <p:cNvSpPr/>
          <p:nvPr/>
        </p:nvSpPr>
        <p:spPr>
          <a:xfrm>
            <a:off x="228600" y="2514600"/>
            <a:ext cx="8686800" cy="23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Theorem 1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ny classical probabilistic algorithm to solve it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even approximately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ust make exponentially many queries to 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Theorem 2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his is true even if we imagine that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and that the classical algorithm can ask questions lik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228600" y="5027760"/>
            <a:ext cx="86868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Theorem 3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ven if we “instantiate” f by some explicit function (like 3SAT), any classical algorithm to solve the problem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real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ccurately would imply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700"/>
            </a:b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meaning “the polynomial hierarchy would collapse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2"/>
              <p:cNvSpPr txBox="1"/>
              <p:nvPr/>
            </p:nvSpPr>
            <p:spPr>
              <a:xfrm>
                <a:off x="2057400" y="4419720"/>
                <a:ext cx="49878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x</m:t>
                    </m:r>
                    <m:r>
                      <m:t xml:space="preserve">∀</m:t>
                    </m:r>
                    <m:r>
                      <m:t xml:space="preserve">y</m:t>
                    </m:r>
                    <m:r>
                      <m:t xml:space="preserve">∃</m:t>
                    </m:r>
                    <m:r>
                      <m:t xml:space="preserve">z</m:t>
                    </m:r>
                    <m:r>
                      <m:t xml:space="preserve">∀</m:t>
                    </m:r>
                    <m:r>
                      <m:t xml:space="preserve">w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≠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e>
                    </m:d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6"/>
          <p:cNvSpPr/>
          <p:nvPr/>
        </p:nvSpPr>
        <p:spPr>
          <a:xfrm>
            <a:off x="457200" y="22860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deally, we want a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simple, explicit quantum syste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Q, such that any classical algorithm that even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pproximate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imulates Q would have dramatic consequences for classical complexity theo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457200" y="20574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argue that this possible, using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non-interacting bos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"/>
              <p:cNvSpPr txBox="1"/>
              <p:nvPr/>
            </p:nvSpPr>
            <p:spPr>
              <a:xfrm>
                <a:off x="304920" y="5334120"/>
                <a:ext cx="358128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1" name="Text Box 16"/>
          <p:cNvSpPr/>
          <p:nvPr/>
        </p:nvSpPr>
        <p:spPr>
          <a:xfrm>
            <a:off x="1295280" y="4191120"/>
            <a:ext cx="16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alibri"/>
              </a:rPr>
              <a:t>BOS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1"/>
          <a:srcRect l="11708" t="0" r="23416" b="18373"/>
          <a:stretch/>
        </p:blipFill>
        <p:spPr>
          <a:xfrm>
            <a:off x="1523880" y="3200400"/>
            <a:ext cx="1295640" cy="103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" name="Object 2"/>
              <p:cNvSpPr txBox="1"/>
              <p:nvPr/>
            </p:nvSpPr>
            <p:spPr>
              <a:xfrm>
                <a:off x="4267080" y="5334120"/>
                <a:ext cx="4713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g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</m:sup>
                        </m:sSup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5562720" y="3200400"/>
            <a:ext cx="1689120" cy="990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6"/>
          <p:cNvSpPr/>
          <p:nvPr/>
        </p:nvSpPr>
        <p:spPr>
          <a:xfrm>
            <a:off x="5410080" y="419112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alibri"/>
              </a:rPr>
              <a:t>FERM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990720" y="2666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There are two basic types of particle in the univer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990720" y="49528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Their transition amplitudes are given respectively b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3"/>
          <a:srcRect l="22399" t="3750" r="22399" b="0"/>
          <a:stretch/>
        </p:blipFill>
        <p:spPr>
          <a:xfrm>
            <a:off x="5715000" y="3048120"/>
            <a:ext cx="1577880" cy="2346120"/>
          </a:xfrm>
          <a:prstGeom prst="rect">
            <a:avLst/>
          </a:prstGeom>
          <a:ln w="0">
            <a:noFill/>
          </a:ln>
        </p:spPr>
      </p:pic>
      <p:sp>
        <p:nvSpPr>
          <p:cNvPr id="119" name="Oval Callout 22"/>
          <p:cNvSpPr/>
          <p:nvPr/>
        </p:nvSpPr>
        <p:spPr>
          <a:xfrm>
            <a:off x="1066680" y="2590920"/>
            <a:ext cx="4724640" cy="1143000"/>
          </a:xfrm>
          <a:prstGeom prst="wedgeEllipseCallout">
            <a:avLst>
              <a:gd name="adj1" fmla="val 55513"/>
              <a:gd name="adj2" fmla="val 71342"/>
            </a:avLst>
          </a:prstGeom>
          <a:solidFill>
            <a:srgbClr val="e4f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1371600" y="27432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I can say is, the bosons got the harder job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88"/>
          <p:cNvSpPr/>
          <p:nvPr/>
        </p:nvSpPr>
        <p:spPr>
          <a:xfrm>
            <a:off x="4495680" y="1981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d1d1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304920" y="152280"/>
            <a:ext cx="8534160" cy="20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Calibri"/>
              </a:rPr>
              <a:t>Our Current Resul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ake a system of n photons with m=O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“modes” each.  Put each photon in a known mode, then apply a random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 scattering matrix U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304920" y="3429000"/>
            <a:ext cx="8534160" cy="31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t D be the distribution that results from measuring the photons.  Suppose there’s an efficient classical algorithm that samples any distribution even 1/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os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D.  Then in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one can approximate the permanent of a matrix A of independent N(0,1) Gaussians, to additive error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th high probability over 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hallenge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ve the above problem is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2"/>
              <p:cNvSpPr txBox="1"/>
              <p:nvPr/>
            </p:nvSpPr>
            <p:spPr>
              <a:xfrm>
                <a:off x="7467480" y="5029200"/>
                <a:ext cx="9334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e>
                        </m:rad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O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Rectangle 75"/>
          <p:cNvSpPr/>
          <p:nvPr/>
        </p:nvSpPr>
        <p:spPr>
          <a:xfrm>
            <a:off x="4419720" y="1828800"/>
            <a:ext cx="30456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6"/>
          <p:cNvSpPr/>
          <p:nvPr/>
        </p:nvSpPr>
        <p:spPr>
          <a:xfrm>
            <a:off x="4419720" y="2133720"/>
            <a:ext cx="30456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7"/>
          <p:cNvSpPr/>
          <p:nvPr/>
        </p:nvSpPr>
        <p:spPr>
          <a:xfrm>
            <a:off x="4419720" y="2438280"/>
            <a:ext cx="30456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8"/>
          <p:cNvSpPr/>
          <p:nvPr/>
        </p:nvSpPr>
        <p:spPr>
          <a:xfrm>
            <a:off x="4419720" y="2743200"/>
            <a:ext cx="30456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9"/>
          <p:cNvSpPr/>
          <p:nvPr/>
        </p:nvSpPr>
        <p:spPr>
          <a:xfrm>
            <a:off x="4419720" y="3048120"/>
            <a:ext cx="30456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0"/>
          <p:cNvSpPr/>
          <p:nvPr/>
        </p:nvSpPr>
        <p:spPr>
          <a:xfrm>
            <a:off x="5638680" y="18288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1"/>
          <p:cNvSpPr/>
          <p:nvPr/>
        </p:nvSpPr>
        <p:spPr>
          <a:xfrm>
            <a:off x="5638680" y="2133720"/>
            <a:ext cx="30492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2"/>
          <p:cNvSpPr/>
          <p:nvPr/>
        </p:nvSpPr>
        <p:spPr>
          <a:xfrm>
            <a:off x="5638680" y="243828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3"/>
          <p:cNvSpPr/>
          <p:nvPr/>
        </p:nvSpPr>
        <p:spPr>
          <a:xfrm>
            <a:off x="5638680" y="27432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4"/>
          <p:cNvSpPr/>
          <p:nvPr/>
        </p:nvSpPr>
        <p:spPr>
          <a:xfrm>
            <a:off x="5638680" y="3048120"/>
            <a:ext cx="30492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85"/>
          <p:cNvSpPr/>
          <p:nvPr/>
        </p:nvSpPr>
        <p:spPr>
          <a:xfrm>
            <a:off x="4419720" y="1828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86"/>
          <p:cNvSpPr/>
          <p:nvPr/>
        </p:nvSpPr>
        <p:spPr>
          <a:xfrm>
            <a:off x="4419720" y="21337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87"/>
          <p:cNvSpPr/>
          <p:nvPr/>
        </p:nvSpPr>
        <p:spPr>
          <a:xfrm>
            <a:off x="4419720" y="2438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23034E-006 L 0.14584 0.12766 E">
                                      <p:cBhvr>
                                        <p:cTn id="173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56059E-006 L 0.1375 0.10546 E">
                                      <p:cBhvr>
                                        <p:cTn id="175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0916E-006 L 0.1375 -0.03886 E">
                                      <p:cBhvr>
                                        <p:cTn id="177" dur="1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Experimental Prosp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380880" y="1143000"/>
            <a:ext cx="487692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would it take to implement this experiment with photonic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e phase-shift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e beamsplitt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e single-photon sour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e photodetector array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t crucially, no nonlinear optics or postselected measurement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5410080" y="1371600"/>
            <a:ext cx="3105360" cy="2800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6"/>
          <p:cNvSpPr/>
          <p:nvPr/>
        </p:nvSpPr>
        <p:spPr>
          <a:xfrm>
            <a:off x="380880" y="53341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Our Proposal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ncentrate on (say) n=30 photons, so that classical simulation is 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</a:rPr>
              <a:t>difficult but not impossi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09-12-10T16:59:17Z</dcterms:modified>
  <cp:revision>203</cp:revision>
  <dc:subject/>
  <dc:title>The Learnability of Quantum States</dc:title>
</cp:coreProperties>
</file>