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jpeg" ContentType="image/jpeg"/>
  <Override PartName="/ppt/media/image14.gif" ContentType="image/gif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C029-5131-49D4-899D-D85A56E76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BA55-1BA4-447B-9D2D-70AE298FFAA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67B9-4802-48D2-B5E7-CFCB5C7A5A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F63F-6F28-4B7B-9857-13B6FBB056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2672-B9BE-4751-B213-5499CF17AA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805-4D01-48CC-ADAF-6C3A4957E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6DDA-6097-42BD-A67A-D67EA7EE3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7773-EE92-4C0F-9173-3C663B121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FC22-B700-4D89-B45A-84D3410A0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67CF-1842-4A8C-8653-E04549FA3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86B1-BBC3-4CB2-B845-5B82DF7A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FFAC-4A2E-475F-9F8D-6B7444E46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BC64-C109-4776-8984-946117ADBD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8F3F-8FCE-48E5-802F-55923EF68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1A1C-1DF8-4F53-B6E0-CB5ED4EFE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26B-7FBA-40B2-B60B-0BECBC9DE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C06-E655-4207-90EE-E33090DF5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2144-B46A-4BEA-9D82-B88C18919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C56-E082-4E41-83A7-185BC84C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C758-5753-4CB3-B953-2B2888CB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376E-A16F-414B-B16B-C70B6A751A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7EFF-663D-4761-88C1-0A784CB4FF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A843-A412-4382-8CD1-6CB3CBAC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D196-3E9B-48C6-934C-7BE51413A3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E04-A4DE-4D71-8AB6-DB16E38B9F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A30-FEF8-4742-AD1C-79AFB620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1E1-E9D0-4126-A119-CAF525F3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114-C641-4369-A1C4-AC75B6C5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17D-5578-4793-9375-E5C5A970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C814-9B9C-46C8-9910-62D4D1C6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0909-C523-4F08-956B-2BABC46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D407-C18D-48DF-B234-490F311D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B543-EC45-4301-90E7-96CFABA8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3B0D-E8C4-4171-92C0-5091E6C6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FE2F-606E-4FC3-9514-F08D2C8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BE52-51E9-4CD9-933A-0F09610C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A0F-B2C3-482E-BB20-B365D36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50C5-1D2A-4314-8FA8-8D0309E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67A2-5965-4863-B212-CBD13EF6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4A0A-1E45-4109-A9BE-83E53482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9317-EED2-4691-AC50-7AC6903B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53DE-9A9D-4051-8B56-1DA75CF2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BCEC-F7B1-4AF1-A315-68EC7064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4A5D-7DAB-4B3C-B386-8A1FD62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81EE-4881-4656-A9DF-77460A5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D80F-76FB-44B3-AA9F-2BD5A64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0564-DB28-4E2B-8D5D-B7D267D1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6CA-23D1-4DD4-A3C5-2CB4161F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46D6-4A2A-4CB8-B053-116032C1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5295-B170-4561-AD5C-50A0490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78C0-EA34-4B04-87B4-1ADE71E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31B0-6F4D-491B-8775-1D8E1CA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C928-E026-4914-9B54-FBD182A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D4C9-4996-49CD-B789-0BAED6EC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8401-186C-4C40-8EFF-0C4AD406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24F-375D-4921-821F-DDE234A9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ED8-B229-4F62-8345-0F5863C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EC6-9C44-4A25-9F35-67FC96FD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3A5-7B70-4802-8F89-B41FD33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075-F08D-4E05-A9D7-05464E9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6B4-7904-4C0B-B465-C9732F6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150-409C-4129-86D6-31AAA4E2C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B4B-19DC-4EAA-B440-F357E76C0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72ED-F339-46EF-AC55-551DD6B01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Black Holes, Firewalls, and the Complexity of States and Unitarie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32236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26836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takes exp(n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 main result from my 2004 PhD thesis, the “collision lower bound”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Rectangle 41"/>
          <p:cNvSpPr/>
          <p:nvPr/>
        </p:nvSpPr>
        <p:spPr>
          <a:xfrm>
            <a:off x="295200" y="3124080"/>
            <a:ext cx="858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the last qubit of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recently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207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15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Favorite Researc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380880" y="838080"/>
            <a:ext cx="85899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derstand, more systematically, the quantum circuit complexity of preparing n-qubit states and applying unitary transformations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“not just for quantum gravity!  also for quantum algorithms, quantum money, and so much m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 ques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1"/>
          <p:cNvSpPr/>
          <p:nvPr/>
        </p:nvSpPr>
        <p:spPr>
          <a:xfrm>
            <a:off x="2066760" y="4103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1"/>
          <p:cNvSpPr/>
          <p:nvPr/>
        </p:nvSpPr>
        <p:spPr>
          <a:xfrm>
            <a:off x="361800" y="53388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to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Related Grand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276120" y="1130400"/>
            <a:ext cx="858996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classify all possible sets of quantum gates acting on qubits, in terms of which unitary transformations they approximately gene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Quantum Computing’s Classification of Finite Simple Grou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276120" y="4863960"/>
            <a:ext cx="85899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Bouland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very nontrivial two-mode beamsplitter is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Baby case that already took lots of representation theo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1"/>
          <p:cNvSpPr/>
          <p:nvPr/>
        </p:nvSpPr>
        <p:spPr>
          <a:xfrm>
            <a:off x="298440" y="3419640"/>
            <a:ext cx="85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armu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y all the possible Hamiltonians / Lie algebras.  Even just on 1 and 2 qubi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-23760" y="84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lassical Ca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3352680" y="82224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1"/>
          <p:cNvSpPr/>
          <p:nvPr/>
        </p:nvSpPr>
        <p:spPr>
          <a:xfrm>
            <a:off x="228600" y="839880"/>
            <a:ext cx="44956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reversible transformations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http://upload.wikimedia.org/wikipedia/commons/thumb/c/ca/Fredkin_gate.svg/150px-Fredkin_gate.svg.png"/>
          <p:cNvPicPr/>
          <p:nvPr/>
        </p:nvPicPr>
        <p:blipFill>
          <a:blip r:embed="rId2"/>
          <a:stretch/>
        </p:blipFill>
        <p:spPr>
          <a:xfrm>
            <a:off x="1940040" y="480060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1"/>
          <p:cNvSpPr/>
          <p:nvPr/>
        </p:nvSpPr>
        <p:spPr>
          <a:xfrm>
            <a:off x="1866960" y="6132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d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http://upload.wikimedia.org/wikipedia/commons/thumb/2/26/Toffoli_gate.svg/150px-Toffoli_gate.svg.png"/>
          <p:cNvPicPr/>
          <p:nvPr/>
        </p:nvPicPr>
        <p:blipFill>
          <a:blip r:embed="rId3"/>
          <a:stretch/>
        </p:blipFill>
        <p:spPr>
          <a:xfrm>
            <a:off x="320760" y="499752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1"/>
          <p:cNvSpPr/>
          <p:nvPr/>
        </p:nvSpPr>
        <p:spPr>
          <a:xfrm>
            <a:off x="276120" y="61358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ff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http://upload.wikimedia.org/wikipedia/commons/thumb/4/4e/CNOT_gate.svg/150px-CNOT_gate.svg.png"/>
          <p:cNvPicPr/>
          <p:nvPr/>
        </p:nvPicPr>
        <p:blipFill>
          <a:blip r:embed="rId4"/>
          <a:stretch/>
        </p:blipFill>
        <p:spPr>
          <a:xfrm>
            <a:off x="1838160" y="343692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1"/>
          <p:cNvSpPr/>
          <p:nvPr/>
        </p:nvSpPr>
        <p:spPr>
          <a:xfrm>
            <a:off x="1854360" y="4191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:\Users\Scott\AppData\Local\Microsoft\Windows\Temporary Internet Files\Content.IE5\EKKBWV0B\bridges[1].gif"/>
          <p:cNvPicPr/>
          <p:nvPr/>
        </p:nvPicPr>
        <p:blipFill>
          <a:blip r:embed="rId1"/>
          <a:stretch/>
        </p:blipFill>
        <p:spPr>
          <a:xfrm>
            <a:off x="-152280" y="57780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Star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193680" y="1301760"/>
            <a:ext cx="2030400" cy="7034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6705720" y="3429000"/>
            <a:ext cx="2305080" cy="10688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3060720" y="3030480"/>
            <a:ext cx="2946240" cy="1312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UM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952880" y="1808280"/>
            <a:ext cx="3895920" cy="9165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SONS &amp; FERMIONS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f. my talk at IQC yester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357120" y="2523960"/>
            <a:ext cx="2422440" cy="1373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LACK HOLES, AdS/CFT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Today’s ta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2768760" y="1486080"/>
            <a:ext cx="1592280" cy="10076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1"/>
          <p:cNvSpPr/>
          <p:nvPr/>
        </p:nvSpPr>
        <p:spPr>
          <a:xfrm>
            <a:off x="6781680" y="127080"/>
            <a:ext cx="236232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aeffer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first known “physically-universal” cellular automaton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ble to implement any transformation in any bounded region, by suitably initializing the complement of that 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ved open problem of Janz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0" y="1440"/>
            <a:ext cx="681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-23760" y="15228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Bonus: Rise and Fall of Complexity in Closed Thermodynamic Syst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311040" y="16542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Unlike entropy, “interesting structure” seems to first increase and then decrease as systems mix to equilibri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371600" y="3124080"/>
            <a:ext cx="605304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1"/>
          <p:cNvSpPr/>
          <p:nvPr/>
        </p:nvSpPr>
        <p:spPr>
          <a:xfrm>
            <a:off x="1066680" y="2674800"/>
            <a:ext cx="747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ean Carroll’s 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1"/>
          <p:cNvSpPr/>
          <p:nvPr/>
        </p:nvSpPr>
        <p:spPr>
          <a:xfrm>
            <a:off x="281160" y="6172200"/>
            <a:ext cx="853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ut how to quantify this patter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2460600" y="3962520"/>
            <a:ext cx="6172200" cy="1328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pparent Complexity”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Entropy (as measured, e.g., by compressed file size) of a coarse-grained version of the im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-23760" y="23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offee Automa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1"/>
          <p:cNvSpPr/>
          <p:nvPr/>
        </p:nvSpPr>
        <p:spPr>
          <a:xfrm>
            <a:off x="220680" y="62244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, Carroll, Mohan, Ouellette, Werness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 probabilistic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 reversible system that starts half “coffee” and half “cream.”  At each time step, we randomly “shear” half the coffee cup horizontally or vertically (assuming a toroidal c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217440" y="2438280"/>
            <a:ext cx="4295880" cy="4324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252360" y="2482920"/>
            <a:ext cx="4295880" cy="4305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"/>
          <p:cNvPicPr/>
          <p:nvPr/>
        </p:nvPicPr>
        <p:blipFill>
          <a:blip r:embed="rId3"/>
          <a:stretch/>
        </p:blipFill>
        <p:spPr>
          <a:xfrm>
            <a:off x="247680" y="2482920"/>
            <a:ext cx="4295880" cy="4295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4"/>
          <a:stretch/>
        </p:blipFill>
        <p:spPr>
          <a:xfrm>
            <a:off x="200160" y="2454120"/>
            <a:ext cx="4343400" cy="4353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5"/>
          <a:stretch/>
        </p:blipFill>
        <p:spPr>
          <a:xfrm>
            <a:off x="219240" y="2454120"/>
            <a:ext cx="4305240" cy="4324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"/>
          <p:cNvPicPr/>
          <p:nvPr/>
        </p:nvPicPr>
        <p:blipFill>
          <a:blip r:embed="rId6"/>
          <a:stretch/>
        </p:blipFill>
        <p:spPr>
          <a:xfrm>
            <a:off x="219240" y="2454120"/>
            <a:ext cx="4324320" cy="4314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"/>
          <p:cNvPicPr/>
          <p:nvPr/>
        </p:nvPicPr>
        <p:blipFill>
          <a:blip r:embed="rId7"/>
          <a:stretch/>
        </p:blipFill>
        <p:spPr>
          <a:xfrm>
            <a:off x="237960" y="2459160"/>
            <a:ext cx="4305600" cy="43146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1"/>
          <p:cNvSpPr/>
          <p:nvPr/>
        </p:nvSpPr>
        <p:spPr>
          <a:xfrm>
            <a:off x="4724280" y="2460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prove that the apparent complexity of this image has a rising-falling pattern, with a maximum of at least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Chart 16" descr=""/>
          <p:cNvPicPr/>
          <p:nvPr/>
        </p:nvPicPr>
        <p:blipFill>
          <a:blip r:embed="rId8"/>
          <a:stretch/>
        </p:blipFill>
        <p:spPr>
          <a:xfrm>
            <a:off x="4346640" y="3889440"/>
            <a:ext cx="1074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111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228600" y="846000"/>
            <a:ext cx="861048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 established a remarkable intellectual bridge between computer science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That’s always been why I’ve cared!  Actual devices would be a bo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research agenda: to see just how much weight this bridge can c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building physics in the language of computation won’t b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ar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easy as some people (e.g., Wolfram) have thought!  Not only does it require engaging our actual understanding of physics (QM, QFT, AdS/CFT…); it requires hard mathematical work, often making new demands on theoretical computer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 think it’s ultimately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last year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46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7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9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5-27T13:54:47Z</dcterms:modified>
  <cp:revision>437</cp:revision>
  <dc:subject/>
  <dc:title>The Future of Computer Science</dc:title>
</cp:coreProperties>
</file>