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686-4394-4D1E-9643-B1C1CC381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1037-8BFA-4150-8E70-A68F0DEA51D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9FC-6A05-474C-8F9F-009E8B5C2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DA2-9B1E-41A1-8785-7A0A0C8CBB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5143-E134-4708-AE34-4EF31C196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C21D-179C-4BB7-8210-E63BCFF96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937-79AD-4DBF-8F53-B6E125446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2DD-44E6-46E1-90DD-6A87B3CDD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01C-42B9-45AE-93E8-8A2F245B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F81-96CB-4179-A9B7-71C8FF401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D1C-091E-4D7D-89A9-6F10110D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110-5093-4957-8841-A1C0D33E1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87CE-6661-4AD6-9868-AAFE5A33D6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6E0-5FD0-4622-8B90-638CE95B8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F48-D762-4C1F-8D48-F66D2ACAE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03B-AA51-4B25-8F03-07862312C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B22-CF4F-4E8C-9986-0C4FB90CF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F1D-2479-4CA0-8735-629360536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89D-BE7A-4432-9267-FA139F24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4F4A-BCE0-4839-8D1E-A1D8681D0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78B0-3920-4AFE-9BA2-DEFAE432C0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356-E31A-4EC1-8F18-01F19575F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080-9AC2-48EB-A59A-A78C11C5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079B-892E-4C42-B7AE-E97E420388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775-C849-4FCC-91F4-1AE6C54FBF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401-6D79-4421-8502-4CEDCB2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271-916D-43A9-96F5-8A1BAEEC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EE5-902F-4E32-ABFE-AAECA9A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604-5F8D-47EF-9DA7-598B55AD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4E15-9CFA-4A08-83D3-4901308C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B326-56D0-48CC-8D53-CA7C56AF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DB5-E8C8-4B6E-B22F-B94CF6E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88D-6CA4-4C9A-B77B-EFD3EE8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EE95-01E1-401C-A927-8C1C788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7281-EBA0-44A3-9A07-A90A1B2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AE7D-7631-497B-9F23-2A239B3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277-B50B-415D-A52D-A5C54866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9317-8442-4FAE-BDFE-0B8B009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8613-29C9-4E7C-9080-0818106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10A-1D2C-4BA0-BB5C-6B2A8A5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266F-FA46-4C77-BD50-93E9E0A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7B9-529B-428E-9471-4C3AB24D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596C-5D10-4CF0-95AD-48B0898F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577F-604D-450F-877B-C8B79F0C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B712-1CC4-45C2-B430-463CCD0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F8F0-5D74-4528-AE0F-FA89A72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0AB4-8321-4E28-885E-8535D736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41F-B640-43EB-A1E9-8D186C5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3C7B-5D00-4C8B-850B-1E5F42A8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3912-B7D6-4DD3-92F2-49FBAA5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18DB-07FA-498D-B818-A2D74CE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AF11-C149-4D28-8CC5-0B9C8AF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21D7-A6EA-466D-8578-D4E014FF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6D8B-98C5-4E42-B407-53B0B2B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5940-D662-4F20-8BB2-7670B64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275-4553-40A6-9998-963C48AE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D85-06C7-404B-805B-8EF09A7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2CA-3208-4488-8A04-2E5454A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527-98C9-4DFF-9D8C-2B74BFCB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230-ABFD-4389-BC34-139DEAD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FC4-8268-4C12-AA9B-E0EBB11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D02-C2C2-4346-A73B-74B716FF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F2E0-CD46-4BB9-91D2-3D0ACF9D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110-7CFA-45A4-A786-36E1066B7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exp(n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 main result from my 2004 PhD thesis, the “collision lower bound”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Rectangle 41"/>
          <p:cNvSpPr/>
          <p:nvPr/>
        </p:nvSpPr>
        <p:spPr>
          <a:xfrm>
            <a:off x="295200" y="3124080"/>
            <a:ext cx="858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207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Related Grand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276120" y="1130400"/>
            <a:ext cx="858996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classify all possible sets of quantum gates acting on qubits, in terms of which unitary transformations they approximately gene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Quantum Computing’s Classification of Finite Simple Grou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276120" y="4863960"/>
            <a:ext cx="85899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Bouland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very nontrivial two-mode beamsplitter is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Baby case that already took lots of representation theo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1"/>
          <p:cNvSpPr/>
          <p:nvPr/>
        </p:nvSpPr>
        <p:spPr>
          <a:xfrm>
            <a:off x="298440" y="341964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armu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y all the possible Hamiltonians / Lie algebras.  Even just on 1 and 2 qubi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-23760" y="84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lassical C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3352680" y="82224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1"/>
          <p:cNvSpPr/>
          <p:nvPr/>
        </p:nvSpPr>
        <p:spPr>
          <a:xfrm>
            <a:off x="228600" y="839880"/>
            <a:ext cx="44956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reversible transformations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upload.wikimedia.org/wikipedia/commons/thumb/c/ca/Fredkin_gate.svg/150px-Fredkin_gate.svg.png"/>
          <p:cNvPicPr/>
          <p:nvPr/>
        </p:nvPicPr>
        <p:blipFill>
          <a:blip r:embed="rId2"/>
          <a:stretch/>
        </p:blipFill>
        <p:spPr>
          <a:xfrm>
            <a:off x="1940040" y="48006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1"/>
          <p:cNvSpPr/>
          <p:nvPr/>
        </p:nvSpPr>
        <p:spPr>
          <a:xfrm>
            <a:off x="1866960" y="6132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http://upload.wikimedia.org/wikipedia/commons/thumb/2/26/Toffoli_gate.svg/150px-Toffoli_gate.svg.png"/>
          <p:cNvPicPr/>
          <p:nvPr/>
        </p:nvPicPr>
        <p:blipFill>
          <a:blip r:embed="rId3"/>
          <a:stretch/>
        </p:blipFill>
        <p:spPr>
          <a:xfrm>
            <a:off x="320760" y="499752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1"/>
          <p:cNvSpPr/>
          <p:nvPr/>
        </p:nvSpPr>
        <p:spPr>
          <a:xfrm>
            <a:off x="276120" y="61358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http://upload.wikimedia.org/wikipedia/commons/thumb/4/4e/CNOT_gate.svg/150px-CNOT_gate.svg.png"/>
          <p:cNvPicPr/>
          <p:nvPr/>
        </p:nvPicPr>
        <p:blipFill>
          <a:blip r:embed="rId4"/>
          <a:stretch/>
        </p:blipFill>
        <p:spPr>
          <a:xfrm>
            <a:off x="1838160" y="343692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1"/>
          <p:cNvSpPr/>
          <p:nvPr/>
        </p:nvSpPr>
        <p:spPr>
          <a:xfrm>
            <a:off x="1854360" y="4191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:\Users\Scott\AppData\Local\Microsoft\Windows\Temporary Internet Files\Content.IE5\EKKBWV0B\bridges[1].gif"/>
          <p:cNvPicPr/>
          <p:nvPr/>
        </p:nvPicPr>
        <p:blipFill>
          <a:blip r:embed="rId1"/>
          <a:stretch/>
        </p:blipFill>
        <p:spPr>
          <a:xfrm>
            <a:off x="-152280" y="5778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3680" y="1301760"/>
            <a:ext cx="2030400" cy="703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705720" y="3429000"/>
            <a:ext cx="2305080" cy="1068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060720" y="3030480"/>
            <a:ext cx="2946240" cy="1312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UM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952880" y="1808280"/>
            <a:ext cx="3895920" cy="916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SONS &amp; FERMIONS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f. my talk at IQC 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57120" y="2523960"/>
            <a:ext cx="2422440" cy="1373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LACK HOLES, AdS/CFT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Today’s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2768760" y="1486080"/>
            <a:ext cx="1592280" cy="100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-23760" y="152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Bonus: Rise and Fall of Complexity in Closed Thermodynamic Sys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311040" y="16542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Unlike entropy, “interesting structure” seems to first increase and then decrease as systems mix to equilibri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371600" y="312408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1"/>
          <p:cNvSpPr/>
          <p:nvPr/>
        </p:nvSpPr>
        <p:spPr>
          <a:xfrm>
            <a:off x="1066680" y="267480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281160" y="6172200"/>
            <a:ext cx="853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t how to quantify this patter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2460600" y="3962520"/>
            <a:ext cx="6172200" cy="1328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pparent Complexity”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Entropy (as measured, e.g., by compressed file size) of a coarse-grained version of the 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228600" y="846000"/>
            <a:ext cx="861048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established a remarkable intellectual bridge between computer science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That’s always been why I’ve cared!  Actual devices would be a bo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research agenda: to see just how much weight this bridge can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building physics in the language of computation won’t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ar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easy as some people (e.g., Wolfram) have thought!  Not only does it require engaging our actual understanding of physics (QM, QFT, AdS/CFT…); it requires hard mathematical work, often making new demands on theoretical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 think it’s ultimatel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last year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7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9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5-27T13:54:47Z</dcterms:modified>
  <cp:revision>437</cp:revision>
  <dc:subject/>
  <dc:title>The Future of Computer Science</dc:title>
</cp:coreProperties>
</file>