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F3F2-B555-41DF-BBED-736B19F26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E766-5BAE-4F65-9409-85E2017EF6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6EF3-74D0-457C-9248-399862779C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D1D8-40B2-408D-9908-860C111240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EFD8-50FB-4328-8B43-326E6E39A6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087C-B907-4D50-8F26-4205B317B4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1DED-7C7B-4040-967F-0B7D8DD4C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C071-71C1-410B-94B9-B639E5372B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85F5-684B-476C-A290-91FF3236C4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531C-ECFC-460B-97A6-193F4F3A7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FF2A-D38C-48D9-B4A9-3C264EE07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ir paper – there’s strings and branes flying all over the place but then when you finally get to why the problem is hard – the collision lower bou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CD58-568E-4296-AC39-F33FF1B3BA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2A85-1BFC-44B4-BA0B-15B99AF80D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C470-ABF5-42B8-A73B-68B08580F8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1164-43F3-41F5-9970-1F939C2603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7395-8C89-4264-A074-2B796E7E54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5BBD-BD7A-46D7-B7DF-DF1091CE45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AEF3-178A-4077-BA9D-EFBE0DE3B7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ABD8-A637-41C6-B1AB-41743382A4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723C-D452-48BF-8456-8F4D813A3E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0FEC-4607-4009-94FE-BDE26A8EC2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6F9-66C4-4F8C-A1C4-CD8A08E0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0BB-9857-45D2-AFA0-3D0C964D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0F9-DDC6-4325-A3E1-A443DEAD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332-BBF6-4FC7-A378-8B184ADB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05E-BC17-48FC-9E1C-5A7EE78E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1CE-DABE-4EA4-82C4-87A94F83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880-D675-4255-82FF-2428C260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44B-88EB-4AD4-92EA-BBCC445A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1E8-52C4-432C-B781-121DC1F2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AB7-1395-4C6B-AB26-1E8D5C4B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F98-87B8-4B44-AA0E-5A53154D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977-E621-45E9-B7D4-7D910B17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17CA-8B17-4764-94FB-3965B2EB0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5000" spc="-1" strike="noStrike">
                <a:solidFill>
                  <a:srgbClr val="0070c0"/>
                </a:solidFill>
                <a:latin typeface="Calibri"/>
              </a:rPr>
              <a:t>Computational Complexity and Physics”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419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ew Insights Into Computational Intrac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Oxford University, October 3, 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80880" y="22860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Recent Criticisms of Gogolin et al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rXiv:1306.3995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ubtitle 4"/>
          <p:cNvSpPr/>
          <p:nvPr/>
        </p:nvSpPr>
        <p:spPr>
          <a:xfrm>
            <a:off x="446040" y="1523880"/>
            <a:ext cx="8393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you ignore which actual photodetectors light up, and count only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umber of time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ach output configuration occurs.  In that case, the BosonSampling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 exponentially-close to the uniform distribution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ubtitle 4"/>
          <p:cNvSpPr/>
          <p:nvPr/>
        </p:nvSpPr>
        <p:spPr>
          <a:xfrm>
            <a:off x="1176480" y="4038480"/>
            <a:ext cx="6933960" cy="23623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sponse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y would you ignore which detectors light up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output of almos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lgorithm is also gobbledygook if you ignore the order of the output bi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0880" y="22860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Recent Criticisms of Gogolin et al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rXiv:1306.3995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ubtitle 4"/>
          <p:cNvSpPr/>
          <p:nvPr/>
        </p:nvSpPr>
        <p:spPr>
          <a:xfrm>
            <a:off x="522360" y="1676520"/>
            <a:ext cx="7924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K, so mayb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n’t close to uniform.  Still, the very same arguments we gave for why polynomial-time classical algorithms can’t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ggest that they can’t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ubtitle 4"/>
          <p:cNvSpPr/>
          <p:nvPr/>
        </p:nvSpPr>
        <p:spPr>
          <a:xfrm>
            <a:off x="522360" y="3886200"/>
            <a:ext cx="8164440" cy="2514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sponse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’s why we said to focus on 10-30 photons—a range where a classical compute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verify a BosonSampling device’s output, but the BosonSampling device might be “faster”!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(And 10-30 photons is probably the best you can do anyway, without quantum fault-tole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457200" y="615960"/>
            <a:ext cx="9925200" cy="62514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"/>
          <p:cNvSpPr/>
          <p:nvPr/>
        </p:nvSpPr>
        <p:spPr>
          <a:xfrm>
            <a:off x="380880" y="228600"/>
            <a:ext cx="8382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ore Decisive Responses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, arXiv:1309.74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ubtitle 4"/>
          <p:cNvSpPr/>
          <p:nvPr/>
        </p:nvSpPr>
        <p:spPr>
          <a:xfrm>
            <a:off x="1523880" y="15796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a Haar-random BosonSampling matrix, where m≥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5.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Then with 1-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probability over A, the BosonSampling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has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Calibri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1) variation distance from the uniform distribution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"/>
          <p:cNvSpPr/>
          <p:nvPr/>
        </p:nvSpPr>
        <p:spPr>
          <a:xfrm flipV="1">
            <a:off x="4800600" y="-360"/>
            <a:ext cx="0" cy="65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ubtitle 4"/>
          <p:cNvSpPr/>
          <p:nvPr/>
        </p:nvSpPr>
        <p:spPr>
          <a:xfrm>
            <a:off x="4800600" y="4648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nder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ubtitle 4"/>
          <p:cNvSpPr/>
          <p:nvPr/>
        </p:nvSpPr>
        <p:spPr>
          <a:xfrm>
            <a:off x="1219320" y="440064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Calibri"/>
                <a:ea typeface="Calibri"/>
              </a:rPr>
              <a:t>Histogram of (normalized) probabilities under D</a:t>
            </a:r>
            <a:r>
              <a:rPr b="0" i="1" lang="en-US" sz="24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ubtitle 4"/>
          <p:cNvSpPr/>
          <p:nvPr/>
        </p:nvSpPr>
        <p:spPr>
          <a:xfrm>
            <a:off x="3086280" y="5410080"/>
            <a:ext cx="5833800" cy="9716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cessary, though not sufficient, for approximately sampling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be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ubtitle 4"/>
          <p:cNvSpPr/>
          <p:nvPr/>
        </p:nvSpPr>
        <p:spPr>
          <a:xfrm>
            <a:off x="27612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A. 2013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Haar-random, where m&gt;&gt;n.  Then ther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 classical polynomial-time algorithm C(A) that distinguishes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from U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with high probability over A and constant bias, and using only O(1) s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ubtitle 4"/>
          <p:cNvSpPr/>
          <p:nvPr/>
        </p:nvSpPr>
        <p:spPr>
          <a:xfrm>
            <a:off x="276120" y="1801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Strategy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the 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n submatrix of A corresponding to output S.  Let P be the product of squared 2-norms of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’s rows.  If P&gt;E[P], then guess S was drawn from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; otherwise guess S was drawn from 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0"/>
          <p:cNvGrpSpPr/>
          <p:nvPr/>
        </p:nvGrpSpPr>
        <p:grpSpPr>
          <a:xfrm>
            <a:off x="4114800" y="3610080"/>
            <a:ext cx="4824360" cy="3047760"/>
            <a:chOff x="4114800" y="3610080"/>
            <a:chExt cx="4824360" cy="3047760"/>
          </a:xfrm>
        </p:grpSpPr>
        <p:pic>
          <p:nvPicPr>
            <p:cNvPr id="124" name="Picture 7" descr=""/>
            <p:cNvPicPr/>
            <p:nvPr/>
          </p:nvPicPr>
          <p:blipFill>
            <a:blip r:embed="rId1"/>
            <a:stretch/>
          </p:blipFill>
          <p:spPr>
            <a:xfrm>
              <a:off x="4114800" y="3610080"/>
              <a:ext cx="471168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Subtitle 4"/>
            <p:cNvSpPr/>
            <p:nvPr/>
          </p:nvSpPr>
          <p:spPr>
            <a:xfrm>
              <a:off x="4952880" y="3809880"/>
              <a:ext cx="3962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 under uniform distribution (a lognormal random variabl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ubtitle 4"/>
            <p:cNvSpPr/>
            <p:nvPr/>
          </p:nvSpPr>
          <p:spPr>
            <a:xfrm>
              <a:off x="5462640" y="4875120"/>
              <a:ext cx="3476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 under a BosonSampling distrib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Straight Arrow Connector 15"/>
            <p:cNvCxnSpPr/>
            <p:nvPr/>
          </p:nvCxnSpPr>
          <p:spPr>
            <a:xfrm flipH="1">
              <a:off x="7085880" y="5333400"/>
              <a:ext cx="115200" cy="824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128" name="Straight Arrow Connector 18"/>
            <p:cNvCxnSpPr/>
            <p:nvPr/>
          </p:nvCxnSpPr>
          <p:spPr>
            <a:xfrm flipH="1">
              <a:off x="4952520" y="4554720"/>
              <a:ext cx="381600" cy="245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29" name="Group 19"/>
          <p:cNvGrpSpPr/>
          <p:nvPr/>
        </p:nvGrpSpPr>
        <p:grpSpPr>
          <a:xfrm>
            <a:off x="276120" y="3589200"/>
            <a:ext cx="3460680" cy="3129120"/>
            <a:chOff x="276120" y="3589200"/>
            <a:chExt cx="3460680" cy="3129120"/>
          </a:xfrm>
        </p:grpSpPr>
        <p:sp>
          <p:nvSpPr>
            <p:cNvPr id="130" name="Double Bracket 2"/>
            <p:cNvSpPr/>
            <p:nvPr/>
          </p:nvSpPr>
          <p:spPr>
            <a:xfrm>
              <a:off x="793440" y="3589200"/>
              <a:ext cx="1828800" cy="2277720"/>
            </a:xfrm>
            <a:prstGeom prst="bracketPair">
              <a:avLst>
                <a:gd name="adj" fmla="val 17129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ounded Rectangle 4"/>
            <p:cNvSpPr/>
            <p:nvPr/>
          </p:nvSpPr>
          <p:spPr>
            <a:xfrm>
              <a:off x="793440" y="416052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ounded Rectangle 9"/>
            <p:cNvSpPr/>
            <p:nvPr/>
          </p:nvSpPr>
          <p:spPr>
            <a:xfrm>
              <a:off x="789480" y="440064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ounded Rectangle 10"/>
            <p:cNvSpPr/>
            <p:nvPr/>
          </p:nvSpPr>
          <p:spPr>
            <a:xfrm>
              <a:off x="785160" y="464040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11"/>
            <p:cNvSpPr/>
            <p:nvPr/>
          </p:nvSpPr>
          <p:spPr>
            <a:xfrm>
              <a:off x="780840" y="488016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ubtitle 4"/>
            <p:cNvSpPr/>
            <p:nvPr/>
          </p:nvSpPr>
          <p:spPr>
            <a:xfrm>
              <a:off x="1461960" y="5180040"/>
              <a:ext cx="46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ubtitle 4"/>
            <p:cNvSpPr/>
            <p:nvPr/>
          </p:nvSpPr>
          <p:spPr>
            <a:xfrm>
              <a:off x="1411200" y="4275000"/>
              <a:ext cx="609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Object 22"/>
                <p:cNvSpPr txBox="1"/>
                <p:nvPr/>
              </p:nvSpPr>
              <p:spPr>
                <a:xfrm>
                  <a:off x="276120" y="5693400"/>
                  <a:ext cx="3460680" cy="102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⋯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≥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80880" y="228600"/>
            <a:ext cx="83822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Using Quantum Optics to Prove that the Permanent is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[A.,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Proc. Roy. Soc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ubtitle 4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ubtitle 4"/>
          <p:cNvSpPr/>
          <p:nvPr/>
        </p:nvSpPr>
        <p:spPr>
          <a:xfrm>
            <a:off x="380880" y="220968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aliant showed that the permanent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—but his proof required strange, custom-made ga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ubtitle 4"/>
          <p:cNvSpPr/>
          <p:nvPr/>
        </p:nvSpPr>
        <p:spPr>
          <a:xfrm>
            <a:off x="380880" y="327672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 gave a new, arguably more transparent proof by combining three f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-photon amplitudes correspond to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2) Postselected quantum optics can simulate universal quantum computation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Knill-Laflamme-Milburn 200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) Quantum computations can encod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quantities in their ampl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16080" y="38088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lack Holes and Computational Complexit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ubtitle 4"/>
          <p:cNvSpPr/>
          <p:nvPr/>
        </p:nvSpPr>
        <p:spPr>
          <a:xfrm>
            <a:off x="228600" y="4800600"/>
            <a:ext cx="8663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YES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mazing connection made this year by Harlow &amp; Hay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first, we need to review 40 years of black hol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http://www.physics.ntua.gr/~lpapa/images/black_hole.jpg"/>
          <p:cNvPicPr/>
          <p:nvPr/>
        </p:nvPicPr>
        <p:blipFill>
          <a:blip r:embed="rId1"/>
          <a:stretch/>
        </p:blipFill>
        <p:spPr>
          <a:xfrm>
            <a:off x="743040" y="1981080"/>
            <a:ext cx="3506760" cy="2514600"/>
          </a:xfrm>
          <a:prstGeom prst="rect">
            <a:avLst/>
          </a:prstGeom>
          <a:ln w="0">
            <a:noFill/>
          </a:ln>
        </p:spPr>
      </p:pic>
      <p:sp>
        <p:nvSpPr>
          <p:cNvPr id="145" name="Subtitle 4"/>
          <p:cNvSpPr/>
          <p:nvPr/>
        </p:nvSpPr>
        <p:spPr>
          <a:xfrm>
            <a:off x="5489640" y="31496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SZ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ubtitle 4"/>
          <p:cNvSpPr/>
          <p:nvPr/>
        </p:nvSpPr>
        <p:spPr>
          <a:xfrm>
            <a:off x="6686640" y="256068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QSZ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ubtitle 4"/>
          <p:cNvSpPr/>
          <p:nvPr/>
        </p:nvSpPr>
        <p:spPr>
          <a:xfrm>
            <a:off x="5477040" y="4014720"/>
            <a:ext cx="10569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B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ubtitle 4"/>
          <p:cNvSpPr/>
          <p:nvPr/>
        </p:nvSpPr>
        <p:spPr>
          <a:xfrm>
            <a:off x="6686640" y="359712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BQ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ubtitle 4"/>
          <p:cNvSpPr/>
          <p:nvPr/>
        </p:nvSpPr>
        <p:spPr>
          <a:xfrm>
            <a:off x="5489640" y="21207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2"/>
          <p:cNvSpPr/>
          <p:nvPr/>
        </p:nvSpPr>
        <p:spPr>
          <a:xfrm>
            <a:off x="6019920" y="2560680"/>
            <a:ext cx="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3"/>
          <p:cNvSpPr/>
          <p:nvPr/>
        </p:nvSpPr>
        <p:spPr>
          <a:xfrm>
            <a:off x="6005520" y="3597120"/>
            <a:ext cx="0" cy="56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8"/>
          <p:cNvSpPr/>
          <p:nvPr/>
        </p:nvSpPr>
        <p:spPr>
          <a:xfrm>
            <a:off x="7216920" y="3038400"/>
            <a:ext cx="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9"/>
          <p:cNvSpPr/>
          <p:nvPr/>
        </p:nvSpPr>
        <p:spPr>
          <a:xfrm flipH="1">
            <a:off x="6275160" y="296064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21"/>
          <p:cNvSpPr/>
          <p:nvPr/>
        </p:nvSpPr>
        <p:spPr>
          <a:xfrm flipH="1">
            <a:off x="6281640" y="3881520"/>
            <a:ext cx="53352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ubtitle 4"/>
          <p:cNvSpPr/>
          <p:nvPr/>
        </p:nvSpPr>
        <p:spPr>
          <a:xfrm>
            <a:off x="6686640" y="16239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Q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3"/>
          <p:cNvSpPr/>
          <p:nvPr/>
        </p:nvSpPr>
        <p:spPr>
          <a:xfrm>
            <a:off x="7216920" y="206532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4"/>
          <p:cNvSpPr/>
          <p:nvPr/>
        </p:nvSpPr>
        <p:spPr>
          <a:xfrm flipH="1">
            <a:off x="6294240" y="198108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ubtitle 4"/>
          <p:cNvSpPr/>
          <p:nvPr/>
        </p:nvSpPr>
        <p:spPr>
          <a:xfrm>
            <a:off x="328680" y="304920"/>
            <a:ext cx="8510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ekenstein 1972, Hawking 1975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lack holes have entropy and temperature!  They emit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Information Los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Calculations suggest that Hawking radiation is thermal—uncorrelated with whatever fell in.  So, is infalling information lost forever?  Would violate the unitarity / reversibility of Q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K then, assume the information somehow gets 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Xeroxing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How could the same qubi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fall inexorably toward the singularity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emerge in Hawking radiation?  Would violate the No-Cloning 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lack Hole Complementarity (Susskind, ‘t Hooft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n external observer can describe everything unitarily without including the interior at all!  Interior should be seen as “just a scrambled re-encoding” of the exterior degrees of free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www.spacetelescope.org/static/archives/images/screen/heic0211h.jpg"/>
          <p:cNvPicPr/>
          <p:nvPr/>
        </p:nvPicPr>
        <p:blipFill>
          <a:blip r:embed="rId1"/>
          <a:stretch/>
        </p:blipFill>
        <p:spPr>
          <a:xfrm>
            <a:off x="0" y="-461880"/>
            <a:ext cx="9144000" cy="7319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1"/>
          <p:cNvSpPr/>
          <p:nvPr/>
        </p:nvSpPr>
        <p:spPr>
          <a:xfrm>
            <a:off x="380880" y="5562720"/>
            <a:ext cx="8305920" cy="100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Violates “monogamy of entanglement”!  The same qubit can’t be maximally entangled with 2 th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The Firewall Paradox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AMPS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35268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666880" y="1295280"/>
            <a:ext cx="3886200" cy="388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1"/>
          <p:cNvSpPr/>
          <p:nvPr/>
        </p:nvSpPr>
        <p:spPr>
          <a:xfrm>
            <a:off x="3733920" y="2590920"/>
            <a:ext cx="1752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B = Interior of “Old” Black 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1"/>
          <p:cNvSpPr/>
          <p:nvPr/>
        </p:nvSpPr>
        <p:spPr>
          <a:xfrm>
            <a:off x="228600" y="83808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R = Faraway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1"/>
          <p:cNvSpPr/>
          <p:nvPr/>
        </p:nvSpPr>
        <p:spPr>
          <a:xfrm>
            <a:off x="2057400" y="1523880"/>
            <a:ext cx="533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H = Just-Emitted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6"/>
          <p:cNvSpPr/>
          <p:nvPr/>
        </p:nvSpPr>
        <p:spPr>
          <a:xfrm flipH="1" rot="4500000">
            <a:off x="3800880" y="340848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6"/>
          <p:cNvSpPr/>
          <p:nvPr/>
        </p:nvSpPr>
        <p:spPr>
          <a:xfrm flipH="1" rot="5400000">
            <a:off x="2262240" y="261360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alice"/>
          <p:cNvPicPr/>
          <p:nvPr/>
        </p:nvPicPr>
        <p:blipFill>
          <a:blip r:embed="rId2"/>
          <a:stretch/>
        </p:blipFill>
        <p:spPr>
          <a:xfrm>
            <a:off x="609480" y="152388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41"/>
          <p:cNvSpPr/>
          <p:nvPr/>
        </p:nvSpPr>
        <p:spPr>
          <a:xfrm>
            <a:off x="380880" y="350532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1"/>
          <p:cNvSpPr/>
          <p:nvPr/>
        </p:nvSpPr>
        <p:spPr>
          <a:xfrm>
            <a:off x="3048120" y="434340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Also 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3" descr="C:\Users\owner\AppData\Local\Microsoft\Windows\Temporary Internet Files\Content.IE5\V550YIX2\MP900438774[1].jpg"/>
          <p:cNvPicPr/>
          <p:nvPr/>
        </p:nvPicPr>
        <p:blipFill>
          <a:blip r:embed="rId3"/>
          <a:stretch/>
        </p:blipFill>
        <p:spPr>
          <a:xfrm>
            <a:off x="3352680" y="2438280"/>
            <a:ext cx="1278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19948 0.0757 E">
                                      <p:cBhvr>
                                        <p:cTn id="244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0757 L 0.32448 0.12014 E">
                                      <p:cBhvr>
                                        <p:cTn id="25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27448 0.13125 E">
                                      <p:cBhvr>
                                        <p:cTn id="26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1"/>
          <p:cNvSpPr/>
          <p:nvPr/>
        </p:nvSpPr>
        <p:spPr>
          <a:xfrm>
            <a:off x="380880" y="380880"/>
            <a:ext cx="845820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Harlow-Hayden 2013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  <a:ea typeface="Arial"/>
              </a:rPr>
              <a:t>(arXiv:1301.4504)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riking argument that Alice’s decoding task would require exponential time</a:t>
            </a:r>
            <a:br>
              <a:rPr sz="2800"/>
            </a:br>
            <a:r>
              <a:rPr b="1" lang="en-US" sz="2500" spc="-1" strike="noStrike">
                <a:solidFill>
                  <a:srgbClr val="008000"/>
                </a:solidFill>
                <a:latin typeface="Calibri"/>
                <a:ea typeface="Arial"/>
              </a:rPr>
              <a:t>Complexity theory to the rescue of quantum field theory?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380880" y="1905120"/>
            <a:ext cx="85345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 HH decoding problem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n-qubit pure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BH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duced by a known, poly-size quantum circuit.  Promised that, by act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R (the “Hawking radiation”), it’s possible to distill an EPR pair (|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|1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√2 between R and B (the “black hole interior”).  Distill such a pair, by applying a unitary transformation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he qubits in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orem (HH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is decoding problem is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Q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o presumably intractable, unless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QSZ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which we have oracle evidence against)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ubtitle 4"/>
          <p:cNvSpPr/>
          <p:nvPr/>
        </p:nvSpPr>
        <p:spPr>
          <a:xfrm>
            <a:off x="309600" y="228600"/>
            <a:ext cx="8682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Improvement (A. 2013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uppose there are poly-size quantum circuits for the HH decoding problem.  Then any OWF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p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can be inverted in quantum polynomial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ubtitle 4"/>
          <p:cNvSpPr/>
          <p:nvPr/>
        </p:nvSpPr>
        <p:spPr>
          <a:xfrm>
            <a:off x="341280" y="1523880"/>
            <a:ext cx="8510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ssume for simplicity that f is injective.  Consi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361800" y="2019240"/>
                <a:ext cx="85140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Subtitle 4"/>
          <p:cNvSpPr/>
          <p:nvPr/>
        </p:nvSpPr>
        <p:spPr>
          <a:xfrm>
            <a:off x="297000" y="3124080"/>
            <a:ext cx="8510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uppose applying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o R decodes an EPR pair between R and B.  Then for some {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{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we must h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1219320" y="4038480"/>
                <a:ext cx="6665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8"/>
              <p:cNvSpPr txBox="1"/>
              <p:nvPr/>
            </p:nvSpPr>
            <p:spPr>
              <a:xfrm>
                <a:off x="457200" y="5486400"/>
                <a:ext cx="52419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|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Subtitle 4"/>
          <p:cNvSpPr/>
          <p:nvPr/>
        </p:nvSpPr>
        <p:spPr>
          <a:xfrm>
            <a:off x="276120" y="4648320"/>
            <a:ext cx="8510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Furthermore, to get perfect entanglement, we need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=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for all x!  So from U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we can get unitaries V,W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1"/>
              <p:cNvSpPr txBox="1"/>
              <p:nvPr/>
            </p:nvSpPr>
            <p:spPr>
              <a:xfrm>
                <a:off x="4935600" y="6019920"/>
                <a:ext cx="3908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|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41"/>
          <p:cNvSpPr/>
          <p:nvPr/>
        </p:nvSpPr>
        <p:spPr>
          <a:xfrm>
            <a:off x="863640" y="4417920"/>
            <a:ext cx="746748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eralizing to arbitrary OWFs requires techniques similar to those used in HILL Theor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4120" y="228600"/>
            <a:ext cx="8267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Calibri"/>
              </a:rPr>
              <a:t>Title is too broa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4"/>
          <p:cNvSpPr/>
          <p:nvPr/>
        </p:nvSpPr>
        <p:spPr>
          <a:xfrm>
            <a:off x="441360" y="914400"/>
            <a:ext cx="80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, I’ll just give two “tales from the trenche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ne about BosonSampling, one about black h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430200" y="2133720"/>
            <a:ext cx="8161200" cy="4446360"/>
            <a:chOff x="430200" y="2133720"/>
            <a:chExt cx="8161200" cy="4446360"/>
          </a:xfrm>
        </p:grpSpPr>
        <p:sp>
          <p:nvSpPr>
            <p:cNvPr id="53" name="Subtitle 4"/>
            <p:cNvSpPr/>
            <p:nvPr/>
          </p:nvSpPr>
          <p:spPr>
            <a:xfrm>
              <a:off x="430200" y="2133720"/>
              <a:ext cx="8152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hat you should take away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"/>
            <p:cNvSpPr/>
            <p:nvPr/>
          </p:nvSpPr>
          <p:spPr>
            <a:xfrm>
              <a:off x="1425240" y="2840400"/>
              <a:ext cx="4194720" cy="167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0"/>
            <p:cNvSpPr/>
            <p:nvPr/>
          </p:nvSpPr>
          <p:spPr>
            <a:xfrm>
              <a:off x="4396680" y="2840400"/>
              <a:ext cx="4194720" cy="1676520"/>
            </a:xfrm>
            <a:prstGeom prst="ellipse">
              <a:avLst/>
            </a:prstGeom>
            <a:solidFill>
              <a:srgbClr val="ff0000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ubtitle 4"/>
            <p:cNvSpPr/>
            <p:nvPr/>
          </p:nvSpPr>
          <p:spPr>
            <a:xfrm>
              <a:off x="470160" y="2877120"/>
              <a:ext cx="12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Calibri"/>
                  <a:ea typeface="Calibri"/>
                </a:rPr>
                <a:t>1990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ubtitle 4"/>
            <p:cNvSpPr/>
            <p:nvPr/>
          </p:nvSpPr>
          <p:spPr>
            <a:xfrm>
              <a:off x="1750320" y="3221640"/>
              <a:ext cx="2514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3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utational Complex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ubtitle 4"/>
            <p:cNvSpPr/>
            <p:nvPr/>
          </p:nvSpPr>
          <p:spPr>
            <a:xfrm>
              <a:off x="5914800" y="3205800"/>
              <a:ext cx="1913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Quantum Physic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ubtitle 4"/>
            <p:cNvSpPr/>
            <p:nvPr/>
          </p:nvSpPr>
          <p:spPr>
            <a:xfrm>
              <a:off x="4499280" y="3350520"/>
              <a:ext cx="103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hor &amp; Gro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5"/>
            <p:cNvSpPr/>
            <p:nvPr/>
          </p:nvSpPr>
          <p:spPr>
            <a:xfrm>
              <a:off x="1970280" y="4882680"/>
              <a:ext cx="4194720" cy="1676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6"/>
            <p:cNvSpPr/>
            <p:nvPr/>
          </p:nvSpPr>
          <p:spPr>
            <a:xfrm>
              <a:off x="3256560" y="4903560"/>
              <a:ext cx="4194720" cy="1676520"/>
            </a:xfrm>
            <a:prstGeom prst="ellipse">
              <a:avLst/>
            </a:prstGeom>
            <a:solidFill>
              <a:srgbClr val="ff0000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ubtitle 4"/>
            <p:cNvSpPr/>
            <p:nvPr/>
          </p:nvSpPr>
          <p:spPr>
            <a:xfrm>
              <a:off x="478800" y="4940280"/>
              <a:ext cx="12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Calibri"/>
                  <a:ea typeface="Calibri"/>
                </a:rPr>
                <a:t>Today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ubtitle 4"/>
            <p:cNvSpPr/>
            <p:nvPr/>
          </p:nvSpPr>
          <p:spPr>
            <a:xfrm>
              <a:off x="2265480" y="5284440"/>
              <a:ext cx="2514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3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utational Complex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ubtitle 4"/>
            <p:cNvSpPr/>
            <p:nvPr/>
          </p:nvSpPr>
          <p:spPr>
            <a:xfrm>
              <a:off x="5159520" y="5263560"/>
              <a:ext cx="1913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Quantum Physic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28680" y="13824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ther Exciting Recent Complexity/Physics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ubtitle 4"/>
          <p:cNvSpPr/>
          <p:nvPr/>
        </p:nvSpPr>
        <p:spPr>
          <a:xfrm>
            <a:off x="457200" y="1752480"/>
            <a:ext cx="8253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Quantum PCP Conjecture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“Is approximate quantum MAX-k-SAT hard for quantum NP?”  If so, will require the construction exotic condensed matter systems, exhibiting room-temperature entanglem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Beautiful recent survey by Aharonov et al. (arXiv:1309.74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Using Entanglement to Steer Quantum System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an use Bell inequality violation for guaranteed randomness expansion (Vazirani-Vidick), blind and authenticated QC with a classical polynomial-time verifier, QMIP=MIP* (Reichardt-Unger-Vazirani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1"/>
          <p:cNvSpPr/>
          <p:nvPr/>
        </p:nvSpPr>
        <p:spPr>
          <a:xfrm>
            <a:off x="2220840" y="3657600"/>
            <a:ext cx="6489720" cy="267624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 hope for, and expect, many more such striking connectio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ndeed, making these connections possible might be the most important result of quantum computing research—even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seful QCs eventually get buil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520" y="1028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ubtitle 4"/>
          <p:cNvSpPr/>
          <p:nvPr/>
        </p:nvSpPr>
        <p:spPr>
          <a:xfrm>
            <a:off x="76320" y="2128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ubtitle 4"/>
          <p:cNvSpPr/>
          <p:nvPr/>
        </p:nvSpPr>
        <p:spPr>
          <a:xfrm>
            <a:off x="3505320" y="21286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eplacing the balls by photons leads to famously counterintuitive phenomena, like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ng-Ou-Mandel d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mathworld.wolfram.com/images/eps-gif/GaltonBoard_1000.gif"/>
          <p:cNvPicPr/>
          <p:nvPr/>
        </p:nvPicPr>
        <p:blipFill>
          <a:blip r:embed="rId1"/>
          <a:stretch/>
        </p:blipFill>
        <p:spPr>
          <a:xfrm>
            <a:off x="533520" y="3135240"/>
            <a:ext cx="2819160" cy="338004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8"/>
          <p:cNvSpPr/>
          <p:nvPr/>
        </p:nvSpPr>
        <p:spPr>
          <a:xfrm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9"/>
          <p:cNvSpPr/>
          <p:nvPr/>
        </p:nvSpPr>
        <p:spPr>
          <a:xfrm flipH="1"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 rot="16200000">
            <a:off x="5562360" y="5066640"/>
            <a:ext cx="1219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5"/>
          <p:cNvSpPr/>
          <p:nvPr/>
        </p:nvSpPr>
        <p:spPr>
          <a:xfrm>
            <a:off x="41911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78487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 L -0.19167 0.2 E">
                                      <p:cBhvr>
                                        <p:cTn id="3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167 0.2 E">
                                      <p:cBhvr>
                                        <p:cTn id="38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4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4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4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58920" y="189000"/>
            <a:ext cx="668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we consider a network of beamsplitters, with n input “modes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location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m&gt;&gt;n outpu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269120" y="4176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77" name="Subtitle 4"/>
          <p:cNvSpPr/>
          <p:nvPr/>
        </p:nvSpPr>
        <p:spPr>
          <a:xfrm>
            <a:off x="358920" y="1636560"/>
            <a:ext cx="68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identical photons enter, one per input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ume for simplicity they all leave in different modes—there are        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ubtitle 4"/>
          <p:cNvSpPr/>
          <p:nvPr/>
        </p:nvSpPr>
        <p:spPr>
          <a:xfrm>
            <a:off x="358920" y="3487680"/>
            <a:ext cx="84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beamsplitter network defines a column-orthonormal matrix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1654200" y="4489560"/>
                <a:ext cx="3814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4549680" y="2579760"/>
                <a:ext cx="5320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6"/>
              <p:cNvSpPr txBox="1"/>
              <p:nvPr/>
            </p:nvSpPr>
            <p:spPr>
              <a:xfrm>
                <a:off x="4268880" y="3909960"/>
                <a:ext cx="4570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come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Subtitle 4"/>
          <p:cNvSpPr/>
          <p:nvPr/>
        </p:nvSpPr>
        <p:spPr>
          <a:xfrm>
            <a:off x="358920" y="48448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ubtitle 4"/>
          <p:cNvSpPr/>
          <p:nvPr/>
        </p:nvSpPr>
        <p:spPr>
          <a:xfrm>
            <a:off x="357120" y="5837400"/>
            <a:ext cx="37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 the matrix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6210360" y="4488840"/>
            <a:ext cx="2628720" cy="1330920"/>
            <a:chOff x="6210360" y="4488840"/>
            <a:chExt cx="2628720" cy="1330920"/>
          </a:xfrm>
        </p:grpSpPr>
        <p:sp>
          <p:nvSpPr>
            <p:cNvPr id="85" name="Subtitle 4"/>
            <p:cNvSpPr/>
            <p:nvPr/>
          </p:nvSpPr>
          <p:spPr>
            <a:xfrm>
              <a:off x="6210360" y="4968720"/>
              <a:ext cx="2628720" cy="85104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 submatrix of A corresponding to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" name="Straight Arrow Connector 4"/>
            <p:cNvCxnSpPr/>
            <p:nvPr/>
          </p:nvCxnSpPr>
          <p:spPr>
            <a:xfrm flipV="1">
              <a:off x="8130600" y="4488840"/>
              <a:ext cx="76680" cy="4798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  <p:sp>
        <p:nvSpPr>
          <p:cNvPr id="87" name="Subtitle 4"/>
          <p:cNvSpPr/>
          <p:nvPr/>
        </p:nvSpPr>
        <p:spPr>
          <a:xfrm>
            <a:off x="4268880" y="5943600"/>
            <a:ext cx="4570200" cy="798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simplicity, I’m ignoring outputs with ≥2 photons p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4"/>
          <p:cNvSpPr/>
          <p:nvPr/>
        </p:nvSpPr>
        <p:spPr>
          <a:xfrm>
            <a:off x="380880" y="9223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 Hong-Ou-Mandel experi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9"/>
              <p:cNvSpPr txBox="1"/>
              <p:nvPr/>
            </p:nvSpPr>
            <p:spPr>
              <a:xfrm>
                <a:off x="646200" y="1407960"/>
                <a:ext cx="785016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,1</m:t>
                        </m:r>
                        <m:r>
                          <m:t xml:space="preserve">⟩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Subtitle 4"/>
          <p:cNvSpPr/>
          <p:nvPr/>
        </p:nvSpPr>
        <p:spPr>
          <a:xfrm>
            <a:off x="380880" y="4038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complex permanent is a sum of n! terms, almost all of which can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hard is it to estimate the “tiny residue” left o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nsw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, even for constant-factor appr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Contrast with nonnegative permane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, Can We Use Quantum Optics to Solve a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838080" y="279864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X is sub-unitary, then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ill usually be exponentially small.  So to get a reasonable estimate of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 given X, we’d generally need to repeat the optical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ubtitle 4"/>
          <p:cNvSpPr/>
          <p:nvPr/>
        </p:nvSpPr>
        <p:spPr>
          <a:xfrm>
            <a:off x="533520" y="18288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02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3000" fill="hold"/>
                                        <p:tgtEl>
                                          <p:spTgt spid="95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ubtitle 4"/>
          <p:cNvSpPr/>
          <p:nvPr/>
        </p:nvSpPr>
        <p:spPr>
          <a:xfrm>
            <a:off x="45720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input, le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oson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problem of mere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same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at the beamsplitter network samples from—the one defined by Pr[S]=|Per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ubtitle 4"/>
          <p:cNvSpPr/>
          <p:nvPr/>
        </p:nvSpPr>
        <p:spPr>
          <a:xfrm>
            <a:off x="609480" y="525780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factoring algorithm, we g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erent/stron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idence that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ak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stem can do something classicall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ubtitle 4"/>
          <p:cNvSpPr/>
          <p:nvPr/>
        </p:nvSpPr>
        <p:spPr>
          <a:xfrm>
            <a:off x="457200" y="2209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.-Arkhipov 2011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BosonSampling is solvable in classical polynomial time. 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ubtitle 4"/>
          <p:cNvSpPr/>
          <p:nvPr/>
        </p:nvSpPr>
        <p:spPr>
          <a:xfrm>
            <a:off x="436680" y="32767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we can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oximat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classical polynomial time.  Then i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it’s possible to estimate Per(X), with high probability over a Gaussian random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6"/>
              <p:cNvSpPr txBox="1"/>
              <p:nvPr/>
            </p:nvSpPr>
            <p:spPr>
              <a:xfrm>
                <a:off x="6781680" y="4470480"/>
                <a:ext cx="2187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Ν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ubtitle 4"/>
          <p:cNvSpPr/>
          <p:nvPr/>
        </p:nvSpPr>
        <p:spPr>
          <a:xfrm>
            <a:off x="1333440" y="4191120"/>
            <a:ext cx="64771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# of experiments &gt; # of phot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410080" y="1415880"/>
            <a:ext cx="3200400" cy="2143440"/>
          </a:xfrm>
          <a:prstGeom prst="rect">
            <a:avLst/>
          </a:prstGeom>
          <a:ln w="0">
            <a:noFill/>
          </a:ln>
        </p:spPr>
      </p:pic>
      <p:sp>
        <p:nvSpPr>
          <p:cNvPr id="104" name="Subtitle 4"/>
          <p:cNvSpPr/>
          <p:nvPr/>
        </p:nvSpPr>
        <p:spPr>
          <a:xfrm>
            <a:off x="457200" y="1166760"/>
            <a:ext cx="468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st year, groups in Brisban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xfo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Rome, and Vienna reported the first 3-photon BosonSampling experiments, confirming that the amplitudes were given by 3x3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ubtitle 4"/>
          <p:cNvSpPr/>
          <p:nvPr/>
        </p:nvSpPr>
        <p:spPr>
          <a:xfrm>
            <a:off x="455760" y="259092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Goal (in our view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cale to 10-30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on’t want to scale much beyond that—both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probably can’t without fault-toleranc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classical computer probably couldn’t even verify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ubtitle 4"/>
          <p:cNvSpPr/>
          <p:nvPr/>
        </p:nvSpPr>
        <p:spPr>
          <a:xfrm>
            <a:off x="457200" y="380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bvious Challenges for Scaling 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liable single-photon sources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optical multiplex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nimizing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tting high probability of n-photon co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ubtitle 4"/>
          <p:cNvSpPr/>
          <p:nvPr/>
        </p:nvSpPr>
        <p:spPr>
          <a:xfrm>
            <a:off x="380880" y="5181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tical Challeng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rgue that, even with photon losses and messier initial states, you’re still solving a classically-intractable sampl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13-10-03T06:58:07Z</dcterms:modified>
  <cp:revision>1589</cp:revision>
  <dc:subject/>
  <dc:title>The Learnability of Quantum States</dc:title>
</cp:coreProperties>
</file>