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F78A-208F-46CE-BBAA-91D0A6E0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636-CC11-4ABC-B691-DA6C19E000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098-B705-4C79-B5BB-47602B660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6BA7-344A-4D19-BC30-4EECB9E83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5B84-7ECD-41BD-A5E7-493FC13EF1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B97-EDDC-4BD9-B3FC-CE7150F9DB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4587-085F-4FAA-97C1-0B0D1AE84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3F06-28D0-4A59-B114-FAC1488BE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864-634C-49DF-9389-BDC6CE1F7E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BF2-91A2-4AB5-83D9-D692C508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512E-F634-435B-BA2F-CD5F6C87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ir paper – there’s strings and branes flying all over the place but then when you finally get to why the problem is hard – the collision lower bou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2BFE-463A-413A-8F47-F7CB6D60EA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9352-CECE-4B4F-A0A4-232DC9F8B6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1404-8CAB-4C2E-B9F7-0D5BB1E93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15B-252F-4BFF-A8C2-418CB371E9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C5C3-113B-4B45-9F88-A88C2A3A2B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8FD1-D213-45ED-8862-680C340865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7F21-EEAB-4DAC-A201-770C6419C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44FC-3C85-4BB5-9A06-6CB9063699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40FC-141A-4EB2-BBE0-4946D0211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686-33B6-4A35-87FE-1601F7A5C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9D2-AEB8-4E1C-BE74-5E502242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77A-3255-47F7-B9EC-33B96C13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594-9D9F-4F82-862B-0615E7E5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BB5-848F-460F-8152-91AA6A85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B52-9551-4EB0-AE10-CA121CC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BBB-E033-4BFE-8648-124B3B8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B44-C909-4209-9B57-2652425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E08-53D1-4DB1-8CAB-8906CE91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498-A431-4C9B-87DD-10E47D6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E74-B6B3-499D-AA2C-9686ACD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88-7C4A-4DE9-808D-BA7C981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74C-59C6-4A48-9F02-ED53222A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E65-524E-457E-8C1A-EE426398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Computational Complexity and Physics”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ew Insights Into Computational Intrac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xford University, October 3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ubtitle 4"/>
          <p:cNvSpPr/>
          <p:nvPr/>
        </p:nvSpPr>
        <p:spPr>
          <a:xfrm>
            <a:off x="446040" y="1523880"/>
            <a:ext cx="839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you ignore which actual photodetectors light up, and count only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umber of time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output configuration occurs.  In that case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exponentially-close to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1176480" y="4038480"/>
            <a:ext cx="6933960" cy="2362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you ignore which detectors light up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utput of almo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lgorithm is also gobbledygook if you ignore the order of the output b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522360" y="167652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K, so mayb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n’t close to uniform.  Still, the very same arguments we gave for why polynomial-time classical algorithms can’t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ggest that they can’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ubtitle 4"/>
          <p:cNvSpPr/>
          <p:nvPr/>
        </p:nvSpPr>
        <p:spPr>
          <a:xfrm>
            <a:off x="522360" y="3886200"/>
            <a:ext cx="8164440" cy="2514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’s why we said to focus on 10-30 photons—a range where a classical compute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verify a BosonSampling device’s output, but the BosonSampling device might be “faster”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And 10-30 photons is probably the best you can do anyway, without quantum fault-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ore Decisive Response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, arXiv:1309.74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1523880" y="1579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 Haar-random BosonSampling matrix, where m≥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5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en with 1-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probability over A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a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) variation distance from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ubtitle 4"/>
          <p:cNvSpPr/>
          <p:nvPr/>
        </p:nvSpPr>
        <p:spPr>
          <a:xfrm>
            <a:off x="4800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4"/>
          <p:cNvSpPr/>
          <p:nvPr/>
        </p:nvSpPr>
        <p:spPr>
          <a:xfrm>
            <a:off x="1219320" y="440064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D</a:t>
            </a:r>
            <a:r>
              <a:rPr b="0" i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3086280" y="5410080"/>
            <a:ext cx="5833800" cy="971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cessary, though not sufficient, for approximately sampling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be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ubtitle 4"/>
          <p:cNvSpPr/>
          <p:nvPr/>
        </p:nvSpPr>
        <p:spPr>
          <a:xfrm>
            <a:off x="27612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classical polynomial-time algorithm C(A) that distinguishe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high probability over A and constant bias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24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28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29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30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arguably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this year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we need to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45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6686640" y="359712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 1972, Hawking 1975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“monogamy of entanglement”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3352680" y="2438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244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25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26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1"/>
          <p:cNvSpPr/>
          <p:nvPr/>
        </p:nvSpPr>
        <p:spPr>
          <a:xfrm>
            <a:off x="380880" y="380880"/>
            <a:ext cx="84582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decoding task would require exponential time</a:t>
            </a:r>
            <a:br>
              <a:rPr sz="2800"/>
            </a:br>
            <a:r>
              <a:rPr b="1" lang="en-US" sz="25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380880" y="1905120"/>
            <a:ext cx="85345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 HH decoding problem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n-qubit pure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duced by a known, poly-size quantum circuit.  Promised that, by act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”), it’s possible to distill an EPR pair (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√2 between R and B (the “black hole interior”).  Distill such a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H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is decoding problem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o presumably intractable, unles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QSZ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which we have oracle evidence against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ubtitle 4"/>
          <p:cNvSpPr/>
          <p:nvPr/>
        </p:nvSpPr>
        <p:spPr>
          <a:xfrm>
            <a:off x="309600" y="228600"/>
            <a:ext cx="868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Improvement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uppose there are poly-size quantum circuits for the HH decoding problem.  Then any OWF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p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can be inverted in quantum polynomial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ubtitle 4"/>
          <p:cNvSpPr/>
          <p:nvPr/>
        </p:nvSpPr>
        <p:spPr>
          <a:xfrm>
            <a:off x="341280" y="1523880"/>
            <a:ext cx="851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ssume for simplicity that f is injective.  Consi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61800" y="2019240"/>
                <a:ext cx="8514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Subtitle 4"/>
          <p:cNvSpPr/>
          <p:nvPr/>
        </p:nvSpPr>
        <p:spPr>
          <a:xfrm>
            <a:off x="297000" y="3124080"/>
            <a:ext cx="8510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uppose applying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R decodes an EPR pair between R and B.  Then for some {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{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e must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219320" y="4038480"/>
                <a:ext cx="6665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457200" y="5486400"/>
                <a:ext cx="5241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Subtitle 4"/>
          <p:cNvSpPr/>
          <p:nvPr/>
        </p:nvSpPr>
        <p:spPr>
          <a:xfrm>
            <a:off x="276120" y="4648320"/>
            <a:ext cx="851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urthermore, to get perfect entanglement, we need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or all x!  So from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e can get unitaries V,W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4935600" y="6019920"/>
                <a:ext cx="3908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1"/>
          <p:cNvSpPr/>
          <p:nvPr/>
        </p:nvSpPr>
        <p:spPr>
          <a:xfrm>
            <a:off x="863640" y="4417920"/>
            <a:ext cx="746748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lizing to arbitrary OWFs requires techniques similar to those used in HILL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4120" y="228600"/>
            <a:ext cx="8267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Calibri"/>
              </a:rPr>
              <a:t>Title is too bro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4"/>
          <p:cNvSpPr/>
          <p:nvPr/>
        </p:nvSpPr>
        <p:spPr>
          <a:xfrm>
            <a:off x="441360" y="914400"/>
            <a:ext cx="80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, I’ll just give two “tales from the trenche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ne about BosonSampling, one about black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430200" y="2133720"/>
            <a:ext cx="8161200" cy="4446360"/>
            <a:chOff x="430200" y="2133720"/>
            <a:chExt cx="8161200" cy="4446360"/>
          </a:xfrm>
        </p:grpSpPr>
        <p:sp>
          <p:nvSpPr>
            <p:cNvPr id="53" name="Subtitle 4"/>
            <p:cNvSpPr/>
            <p:nvPr/>
          </p:nvSpPr>
          <p:spPr>
            <a:xfrm>
              <a:off x="430200" y="2133720"/>
              <a:ext cx="8152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hat you should take away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"/>
            <p:cNvSpPr/>
            <p:nvPr/>
          </p:nvSpPr>
          <p:spPr>
            <a:xfrm>
              <a:off x="1425240" y="2840400"/>
              <a:ext cx="4194720" cy="167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4396680" y="2840400"/>
              <a:ext cx="4194720" cy="1676520"/>
            </a:xfrm>
            <a:prstGeom prst="ellipse">
              <a:avLst/>
            </a:prstGeom>
            <a:solidFill>
              <a:srgbClr val="ff000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ubtitle 4"/>
            <p:cNvSpPr/>
            <p:nvPr/>
          </p:nvSpPr>
          <p:spPr>
            <a:xfrm>
              <a:off x="470160" y="2877120"/>
              <a:ext cx="12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Calibri"/>
                  <a:ea typeface="Calibri"/>
                </a:rPr>
                <a:t>1990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ubtitle 4"/>
            <p:cNvSpPr/>
            <p:nvPr/>
          </p:nvSpPr>
          <p:spPr>
            <a:xfrm>
              <a:off x="1750320" y="3221640"/>
              <a:ext cx="25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ational Complex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ubtitle 4"/>
            <p:cNvSpPr/>
            <p:nvPr/>
          </p:nvSpPr>
          <p:spPr>
            <a:xfrm>
              <a:off x="5914800" y="3205800"/>
              <a:ext cx="191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Quantum Phys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ubtitle 4"/>
            <p:cNvSpPr/>
            <p:nvPr/>
          </p:nvSpPr>
          <p:spPr>
            <a:xfrm>
              <a:off x="4499280" y="3350520"/>
              <a:ext cx="103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or &amp; Gro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5"/>
            <p:cNvSpPr/>
            <p:nvPr/>
          </p:nvSpPr>
          <p:spPr>
            <a:xfrm>
              <a:off x="1970280" y="4882680"/>
              <a:ext cx="4194720" cy="167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6"/>
            <p:cNvSpPr/>
            <p:nvPr/>
          </p:nvSpPr>
          <p:spPr>
            <a:xfrm>
              <a:off x="3256560" y="4903560"/>
              <a:ext cx="4194720" cy="1676520"/>
            </a:xfrm>
            <a:prstGeom prst="ellipse">
              <a:avLst/>
            </a:prstGeom>
            <a:solidFill>
              <a:srgbClr val="ff000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ubtitle 4"/>
            <p:cNvSpPr/>
            <p:nvPr/>
          </p:nvSpPr>
          <p:spPr>
            <a:xfrm>
              <a:off x="478800" y="4940280"/>
              <a:ext cx="12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Calibri"/>
                  <a:ea typeface="Calibri"/>
                </a:rPr>
                <a:t>Today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ubtitle 4"/>
            <p:cNvSpPr/>
            <p:nvPr/>
          </p:nvSpPr>
          <p:spPr>
            <a:xfrm>
              <a:off x="2265480" y="5284440"/>
              <a:ext cx="25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ational Complex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ubtitle 4"/>
            <p:cNvSpPr/>
            <p:nvPr/>
          </p:nvSpPr>
          <p:spPr>
            <a:xfrm>
              <a:off x="5159520" y="5263560"/>
              <a:ext cx="191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Quantum Phys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28680" y="13824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ther Exciting Recent Complexity/Physics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ubtitle 4"/>
          <p:cNvSpPr/>
          <p:nvPr/>
        </p:nvSpPr>
        <p:spPr>
          <a:xfrm>
            <a:off x="457200" y="1752480"/>
            <a:ext cx="825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Quantum PCP Conjectur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“Is approximate quantum MAX-k-SAT hard for quantum NP?”  If so, will require the construction exotic condensed matter systems, exhibiting room-temperature entangle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eautiful recent survey by Aharonov et al. (arXiv:1309.74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Using Entanglement to Steer Quantum System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an use Bell inequality violation for guaranteed randomness expansion (Vazirani-Vidick), blind and authenticated QC with a classical polynomial-time verifier, QMIP=MIP* (Reichardt-Unger-Vazirani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220840" y="3657600"/>
            <a:ext cx="6489720" cy="26762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 hope for, and expect, many more such striking connect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deed, making these connections possible might be the most important result of quantum computing research—even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eful QCs eventually get buil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3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4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4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4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5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87" name="Subtitle 4"/>
          <p:cNvSpPr/>
          <p:nvPr/>
        </p:nvSpPr>
        <p:spPr>
          <a:xfrm>
            <a:off x="4268880" y="5943600"/>
            <a:ext cx="4570200" cy="798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simplicity, I’m ignoring outputs with ≥2 photons p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02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3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609480" y="5257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ubtitle 4"/>
          <p:cNvSpPr/>
          <p:nvPr/>
        </p:nvSpPr>
        <p:spPr>
          <a:xfrm>
            <a:off x="436680" y="3276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6781680" y="447048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4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xfo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ubtitle 4"/>
          <p:cNvSpPr/>
          <p:nvPr/>
        </p:nvSpPr>
        <p:spPr>
          <a:xfrm>
            <a:off x="455760" y="2590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4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ubtitle 4"/>
          <p:cNvSpPr/>
          <p:nvPr/>
        </p:nvSpPr>
        <p:spPr>
          <a:xfrm>
            <a:off x="380880" y="5181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tical Challen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gue that, even with photon losses and messier initial states, you’re still solving a classically-intractabl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3-10-03T06:58:07Z</dcterms:modified>
  <cp:revision>1589</cp:revision>
  <dc:subject/>
  <dc:title>The Learnability of Quantum States</dc:title>
</cp:coreProperties>
</file>