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12.wmf" ContentType="image/x-wmf"/>
  <Override PartName="/ppt/media/image4.png" ContentType="image/png"/>
  <Override PartName="/ppt/media/image7.png" ContentType="image/png"/>
  <Override PartName="/ppt/media/image11.wmf" ContentType="image/x-wmf"/>
  <Override PartName="/ppt/media/image8.gif" ContentType="image/gif"/>
  <Override PartName="/ppt/media/image9.png" ContentType="image/png"/>
  <Override PartName="/ppt/media/image13.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4DF3-5E97-43C0-A3BA-CD770A8E5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2212-A211-49A2-8B9A-D8F4BD5B8E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FA1-1A88-4579-BAE2-7001E489BE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4CF3-5E38-4186-9264-5F0AC7E24F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3696-4736-4CFE-B8CD-B13F8CDBFD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20B5-B975-41EC-AE48-62BEAB6E61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A481-5151-4FE8-B0F8-11BB22D56C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7DF4-74F5-4643-9897-535CE49FD3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F1AD-A0BE-40C8-9CC5-61559F256E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E018-BDE0-4797-80B5-69179ABF43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83CA-1CFB-4C29-A0B1-0C58805556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FFCA-E3AA-47E6-8EE8-F7DBEDB716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20BA-7754-45BC-90B7-28C5256199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FFDD-0182-4E49-A4A6-DB8FB58498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E811-C0D6-4F79-A5FC-E130720863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DFE3-B52C-4463-80B3-5782A196F1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8775-F396-4ABF-84ED-41D0C41B59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97CF-788B-4C25-B64A-978F2F401D2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C6CC-69BD-42FE-9043-649B2D941A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39EF-151A-494F-BECB-807D2D468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0D98-1B9A-4501-9C0F-0BFE7F44FE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9359-7767-45A0-8D08-9F629ABEDC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443B-BEB3-42B1-B832-0415454134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A909-ADDE-4DE7-ADF7-745DEA7982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96177-FDE7-4517-AD3F-FB74701A4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12D1-1320-4425-B17A-B98AF7AEB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0DD89-C4F5-4142-AB07-B5F550F3F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C2C25-A16D-4739-BD2C-112ACCD16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AFDF-42A4-4CCA-A6AF-85B26870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381D2-2DD0-4178-A0C2-2AA34B58F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BA5C-EE0B-49AF-9F1B-E88DDBEE4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579F7-C568-4EAE-8C35-A8A7426CC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4212A-CF6D-453F-B8F9-408037F2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53D5-6DDB-4F04-9647-EEC4B613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23D3-BB70-4E5A-8699-BC55B1FD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C640-377A-47B0-979E-A390C3DEC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AABA-AFC3-4F78-B005-1F5FDAA02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4104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49" name="PlaceHolder 2"/>
          <p:cNvSpPr>
            <a:spLocks noGrp="1"/>
          </p:cNvSpPr>
          <p:nvPr>
            <p:ph type="subTitle"/>
          </p:nvPr>
        </p:nvSpPr>
        <p:spPr>
          <a:xfrm>
            <a:off x="380520" y="4232160"/>
            <a:ext cx="8393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University of Texas,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MO Seminar, Weizmann Institute, January 9, 2017</a:t>
            </a:r>
            <a:endParaRPr b="0" lang="en-US" sz="3000" spc="-1" strike="noStrike">
              <a:solidFill>
                <a:srgbClr val="000000"/>
              </a:solidFill>
              <a:latin typeface="Arial"/>
            </a:endParaRPr>
          </a:p>
        </p:txBody>
      </p:sp>
      <p:pic>
        <p:nvPicPr>
          <p:cNvPr id="50" name="Picture 4" descr=""/>
          <p:cNvPicPr/>
          <p:nvPr/>
        </p:nvPicPr>
        <p:blipFill>
          <a:blip r:embed="rId1"/>
          <a:stretch/>
        </p:blipFill>
        <p:spPr>
          <a:xfrm>
            <a:off x="914400" y="1185840"/>
            <a:ext cx="3105000" cy="2800440"/>
          </a:xfrm>
          <a:prstGeom prst="rect">
            <a:avLst/>
          </a:prstGeom>
          <a:ln w="0">
            <a:noFill/>
          </a:ln>
        </p:spPr>
      </p:pic>
      <p:pic>
        <p:nvPicPr>
          <p:cNvPr id="51" name="Picture 6" descr="C:\photos\arkhipov.jpg"/>
          <p:cNvPicPr/>
          <p:nvPr/>
        </p:nvPicPr>
        <p:blipFill>
          <a:blip r:embed="rId2"/>
          <a:stretch/>
        </p:blipFill>
        <p:spPr>
          <a:xfrm>
            <a:off x="7848720" y="5524560"/>
            <a:ext cx="925560" cy="1225440"/>
          </a:xfrm>
          <a:prstGeom prst="rect">
            <a:avLst/>
          </a:prstGeom>
          <a:ln w="0">
            <a:noFill/>
          </a:ln>
        </p:spPr>
      </p:pic>
      <p:sp>
        <p:nvSpPr>
          <p:cNvPr id="52" name="Subtitle 4"/>
          <p:cNvSpPr/>
          <p:nvPr/>
        </p:nvSpPr>
        <p:spPr>
          <a:xfrm>
            <a:off x="228600" y="590868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53" name="Picture 4" descr=""/>
          <p:cNvPicPr/>
          <p:nvPr/>
        </p:nvPicPr>
        <p:blipFill>
          <a:blip r:embed="rId3"/>
          <a:stretch/>
        </p:blipFill>
        <p:spPr>
          <a:xfrm>
            <a:off x="4648320" y="128916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34"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35"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36"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37"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38" name="Group 2"/>
          <p:cNvGrpSpPr/>
          <p:nvPr/>
        </p:nvGrpSpPr>
        <p:grpSpPr>
          <a:xfrm>
            <a:off x="4229280" y="3543480"/>
            <a:ext cx="4419360" cy="2743200"/>
            <a:chOff x="4229280" y="3543480"/>
            <a:chExt cx="4419360" cy="2743200"/>
          </a:xfrm>
        </p:grpSpPr>
        <p:grpSp>
          <p:nvGrpSpPr>
            <p:cNvPr id="139" name="Group 73"/>
            <p:cNvGrpSpPr/>
            <p:nvPr/>
          </p:nvGrpSpPr>
          <p:grpSpPr>
            <a:xfrm>
              <a:off x="4229280" y="4229280"/>
              <a:ext cx="4419360" cy="1160280"/>
              <a:chOff x="4229280" y="4229280"/>
              <a:chExt cx="4419360" cy="1160280"/>
            </a:xfrm>
          </p:grpSpPr>
          <p:sp>
            <p:nvSpPr>
              <p:cNvPr id="140"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42" name="Group 18"/>
            <p:cNvGrpSpPr/>
            <p:nvPr/>
          </p:nvGrpSpPr>
          <p:grpSpPr>
            <a:xfrm>
              <a:off x="4229280" y="3695760"/>
              <a:ext cx="761760" cy="457200"/>
              <a:chOff x="4229280" y="3695760"/>
              <a:chExt cx="761760" cy="457200"/>
            </a:xfrm>
          </p:grpSpPr>
          <p:sp>
            <p:nvSpPr>
              <p:cNvPr id="143"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Group 19"/>
            <p:cNvGrpSpPr/>
            <p:nvPr/>
          </p:nvGrpSpPr>
          <p:grpSpPr>
            <a:xfrm>
              <a:off x="5143680" y="3695760"/>
              <a:ext cx="761760" cy="457200"/>
              <a:chOff x="5143680" y="3695760"/>
              <a:chExt cx="761760" cy="457200"/>
            </a:xfrm>
          </p:grpSpPr>
          <p:sp>
            <p:nvSpPr>
              <p:cNvPr id="147"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3"/>
            <p:cNvGrpSpPr/>
            <p:nvPr/>
          </p:nvGrpSpPr>
          <p:grpSpPr>
            <a:xfrm>
              <a:off x="6058080" y="3695760"/>
              <a:ext cx="761760" cy="457200"/>
              <a:chOff x="6058080" y="3695760"/>
              <a:chExt cx="761760" cy="457200"/>
            </a:xfrm>
          </p:grpSpPr>
          <p:sp>
            <p:nvSpPr>
              <p:cNvPr id="151"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Group 27"/>
            <p:cNvGrpSpPr/>
            <p:nvPr/>
          </p:nvGrpSpPr>
          <p:grpSpPr>
            <a:xfrm>
              <a:off x="6972480" y="3695760"/>
              <a:ext cx="761760" cy="457200"/>
              <a:chOff x="6972480" y="3695760"/>
              <a:chExt cx="761760" cy="457200"/>
            </a:xfrm>
          </p:grpSpPr>
          <p:sp>
            <p:nvSpPr>
              <p:cNvPr id="155"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35"/>
            <p:cNvGrpSpPr/>
            <p:nvPr/>
          </p:nvGrpSpPr>
          <p:grpSpPr>
            <a:xfrm>
              <a:off x="7886880" y="3695760"/>
              <a:ext cx="761760" cy="457200"/>
              <a:chOff x="7886880" y="3695760"/>
              <a:chExt cx="761760" cy="457200"/>
            </a:xfrm>
          </p:grpSpPr>
          <p:sp>
            <p:nvSpPr>
              <p:cNvPr id="162"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68"/>
            <p:cNvGrpSpPr/>
            <p:nvPr/>
          </p:nvGrpSpPr>
          <p:grpSpPr>
            <a:xfrm>
              <a:off x="4229280" y="5067360"/>
              <a:ext cx="4419360" cy="1219320"/>
              <a:chOff x="4229280" y="5067360"/>
              <a:chExt cx="4419360" cy="1219320"/>
            </a:xfrm>
          </p:grpSpPr>
          <p:grpSp>
            <p:nvGrpSpPr>
              <p:cNvPr id="166" name="Group 40"/>
              <p:cNvGrpSpPr/>
              <p:nvPr/>
            </p:nvGrpSpPr>
            <p:grpSpPr>
              <a:xfrm>
                <a:off x="4229280" y="5829480"/>
                <a:ext cx="761760" cy="457200"/>
                <a:chOff x="4229280" y="5829480"/>
                <a:chExt cx="761760" cy="457200"/>
              </a:xfrm>
            </p:grpSpPr>
            <p:sp>
              <p:nvSpPr>
                <p:cNvPr id="167"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44"/>
              <p:cNvGrpSpPr/>
              <p:nvPr/>
            </p:nvGrpSpPr>
            <p:grpSpPr>
              <a:xfrm>
                <a:off x="5143680" y="5829480"/>
                <a:ext cx="761760" cy="457200"/>
                <a:chOff x="5143680" y="5829480"/>
                <a:chExt cx="761760" cy="457200"/>
              </a:xfrm>
            </p:grpSpPr>
            <p:sp>
              <p:nvSpPr>
                <p:cNvPr id="171"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48"/>
              <p:cNvGrpSpPr/>
              <p:nvPr/>
            </p:nvGrpSpPr>
            <p:grpSpPr>
              <a:xfrm>
                <a:off x="6058080" y="5829480"/>
                <a:ext cx="761760" cy="457200"/>
                <a:chOff x="6058080" y="5829480"/>
                <a:chExt cx="761760" cy="457200"/>
              </a:xfrm>
            </p:grpSpPr>
            <p:sp>
              <p:nvSpPr>
                <p:cNvPr id="175"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52"/>
              <p:cNvGrpSpPr/>
              <p:nvPr/>
            </p:nvGrpSpPr>
            <p:grpSpPr>
              <a:xfrm>
                <a:off x="6972480" y="5829480"/>
                <a:ext cx="761760" cy="457200"/>
                <a:chOff x="6972480" y="5829480"/>
                <a:chExt cx="761760" cy="457200"/>
              </a:xfrm>
            </p:grpSpPr>
            <p:sp>
              <p:nvSpPr>
                <p:cNvPr id="179"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0"/>
              <p:cNvGrpSpPr/>
              <p:nvPr/>
            </p:nvGrpSpPr>
            <p:grpSpPr>
              <a:xfrm>
                <a:off x="7886880" y="5829480"/>
                <a:ext cx="761760" cy="457200"/>
                <a:chOff x="7886880" y="5829480"/>
                <a:chExt cx="761760" cy="457200"/>
              </a:xfrm>
            </p:grpSpPr>
            <p:sp>
              <p:nvSpPr>
                <p:cNvPr id="187"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192"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193"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194"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195"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196" name="Text Box 16"/>
          <p:cNvSpPr/>
          <p:nvPr/>
        </p:nvSpPr>
        <p:spPr>
          <a:xfrm>
            <a:off x="266760" y="502272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198" name="Object 2" descr=""/>
          <p:cNvPicPr/>
          <p:nvPr/>
        </p:nvPicPr>
        <p:blipFill>
          <a:blip r:embed="rId1"/>
          <a:stretch/>
        </p:blipFill>
        <p:spPr>
          <a:xfrm>
            <a:off x="1600200" y="5545080"/>
            <a:ext cx="6238800" cy="990720"/>
          </a:xfrm>
          <a:prstGeom prst="rect">
            <a:avLst/>
          </a:prstGeom>
          <a:ln w="0">
            <a:noFill/>
          </a:ln>
        </p:spPr>
      </p:pic>
      <p:sp>
        <p:nvSpPr>
          <p:cNvPr id="199"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00" name="Text Box 16"/>
          <p:cNvSpPr/>
          <p:nvPr/>
        </p:nvSpPr>
        <p:spPr>
          <a:xfrm>
            <a:off x="304920" y="386856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01"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9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0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0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03"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04" name="Text Box 16"/>
          <p:cNvSpPr/>
          <p:nvPr/>
        </p:nvSpPr>
        <p:spPr>
          <a:xfrm>
            <a:off x="304920" y="564192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05" name="Object 2" descr=""/>
          <p:cNvPicPr/>
          <p:nvPr/>
        </p:nvPicPr>
        <p:blipFill>
          <a:blip r:embed="rId1"/>
          <a:stretch/>
        </p:blipFill>
        <p:spPr>
          <a:xfrm>
            <a:off x="5989680" y="4962600"/>
            <a:ext cx="2932200" cy="658800"/>
          </a:xfrm>
          <a:prstGeom prst="rect">
            <a:avLst/>
          </a:prstGeom>
          <a:ln w="0">
            <a:noFill/>
          </a:ln>
        </p:spPr>
      </p:pic>
      <p:pic>
        <p:nvPicPr>
          <p:cNvPr id="206" name="Object 7" descr=""/>
          <p:cNvPicPr/>
          <p:nvPr/>
        </p:nvPicPr>
        <p:blipFill>
          <a:blip r:embed="rId2"/>
          <a:stretch/>
        </p:blipFill>
        <p:spPr>
          <a:xfrm>
            <a:off x="1219320" y="5356080"/>
            <a:ext cx="6630840" cy="1052640"/>
          </a:xfrm>
          <a:prstGeom prst="rect">
            <a:avLst/>
          </a:prstGeom>
          <a:ln w="0">
            <a:noFill/>
          </a:ln>
        </p:spPr>
      </p:pic>
      <p:sp>
        <p:nvSpPr>
          <p:cNvPr id="207"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206"/>
                                        </p:tgtEl>
                                        <p:attrNameLst>
                                          <p:attrName>style.visibility</p:attrName>
                                        </p:attrNameLst>
                                      </p:cBhvr>
                                      <p:to>
                                        <p:strVal val="visible"/>
                                      </p:to>
                                    </p:set>
                                  </p:childTnLst>
                                </p:cTn>
                              </p:par>
                              <p:par>
                                <p:cTn id="213" nodeType="withEffect" fill="hold" presetClass="path" presetID="64">
                                  <p:stCondLst>
                                    <p:cond delay="0"/>
                                  </p:stCondLst>
                                  <p:childTnLst>
                                    <p:animMotion origin="layout" path="M -3.33333E-006 1.39685E-006 L -0.00416 -0.7204 E">
                                      <p:cBhvr>
                                        <p:cTn id="214" dur="1000" fill="hold"/>
                                        <p:tgtEl>
                                          <p:spTgt spid="206"/>
                                        </p:tgtEl>
                                      </p:cBhvr>
                                    </p:animMotion>
                                  </p:childTnLst>
                                </p:cTn>
                              </p:par>
                            </p:childTnLst>
                          </p:cTn>
                        </p:par>
                        <p:par>
                          <p:cTn id="215" nodeType="afterEffect" fill="hold">
                            <p:stCondLst>
                              <p:cond delay="1000"/>
                            </p:stCondLst>
                            <p:childTnLst>
                              <p:par>
                                <p:cTn id="216" nodeType="afterEffect" fill="hold" presetClass="entr" presetID="1">
                                  <p:stCondLst>
                                    <p:cond delay="0"/>
                                  </p:stCondLst>
                                  <p:childTnLst>
                                    <p:set>
                                      <p:cBhvr>
                                        <p:cTn id="217" dur="1" fill="hold">
                                          <p:stCondLst>
                                            <p:cond delay="0"/>
                                          </p:stCondLst>
                                        </p:cTn>
                                        <p:tgtEl>
                                          <p:spTgt spid="202">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02">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03">
                                            <p:txEl>
                                              <p:pRg st="0" end="0"/>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20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03">
                                            <p:txEl>
                                              <p:pRg st="1" end="1"/>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05"/>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09"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10"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11"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12"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13"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ntr" presetID="1">
                                  <p:stCondLst>
                                    <p:cond delay="0"/>
                                  </p:stCondLst>
                                  <p:childTnLst>
                                    <p:set>
                                      <p:cBhvr>
                                        <p:cTn id="2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11">
                                            <p:txEl>
                                              <p:pRg st="0" end="0"/>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15"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16" name="Text Box 16"/>
          <p:cNvSpPr/>
          <p:nvPr/>
        </p:nvSpPr>
        <p:spPr>
          <a:xfrm>
            <a:off x="349200" y="494496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17"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18"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wa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17"/>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18"/>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28600" y="15228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cent Breakthrough</a:t>
            </a:r>
            <a:br>
              <a:rPr sz="4400"/>
            </a:br>
            <a:r>
              <a:rPr b="1" lang="en-US" sz="2800" spc="-1" strike="noStrike">
                <a:solidFill>
                  <a:srgbClr val="0070c0"/>
                </a:solidFill>
                <a:latin typeface="Calibri"/>
                <a:ea typeface="Arial"/>
              </a:rPr>
              <a:t>Eldar and Mehraban 2017</a:t>
            </a:r>
            <a:endParaRPr b="0" lang="en-US" sz="2800" spc="-1" strike="noStrike">
              <a:solidFill>
                <a:srgbClr val="000000"/>
              </a:solidFill>
              <a:latin typeface="Arial"/>
            </a:endParaRPr>
          </a:p>
        </p:txBody>
      </p:sp>
      <p:sp>
        <p:nvSpPr>
          <p:cNvPr id="220" name="Text Box 16"/>
          <p:cNvSpPr/>
          <p:nvPr/>
        </p:nvSpPr>
        <p:spPr>
          <a:xfrm>
            <a:off x="349200" y="162396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a:t>
            </a:r>
            <a:r>
              <a:rPr b="0" lang="en-US" sz="3000" spc="-1" strike="noStrike" baseline="30000">
                <a:solidFill>
                  <a:srgbClr val="000000"/>
                </a:solidFill>
                <a:latin typeface="Calibri"/>
                <a:ea typeface="Arial"/>
              </a:rPr>
              <a:t>polylog(n)</a:t>
            </a:r>
            <a:r>
              <a:rPr b="0" lang="en-US" sz="3000" spc="-1" strike="noStrike">
                <a:solidFill>
                  <a:srgbClr val="000000"/>
                </a:solidFill>
                <a:latin typeface="Calibri"/>
                <a:ea typeface="Arial"/>
              </a:rPr>
              <a:t>-time algorithm, using complex analysis methods, to approximate the permanent of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matrix A of i.i.d. Gaussian entries with variance 1 </a:t>
            </a:r>
            <a:r>
              <a:rPr b="1" lang="en-US" sz="3000" spc="-1" strike="noStrike">
                <a:solidFill>
                  <a:srgbClr val="ff0000"/>
                </a:solidFill>
                <a:latin typeface="Calibri"/>
                <a:ea typeface="Arial"/>
              </a:rPr>
              <a:t>and mean 1/polylog(n)</a:t>
            </a:r>
            <a:r>
              <a:rPr b="0" lang="en-US" sz="3000" spc="-1" strike="noStrike">
                <a:solidFill>
                  <a:srgbClr val="000000"/>
                </a:solidFill>
                <a:latin typeface="Calibri"/>
                <a:ea typeface="Arial"/>
              </a:rPr>
              <a:t>, with high probability over A</a:t>
            </a:r>
            <a:endParaRPr b="0" lang="en-US" sz="3000" spc="-1" strike="noStrike">
              <a:solidFill>
                <a:srgbClr val="000000"/>
              </a:solidFill>
              <a:latin typeface="Arial"/>
            </a:endParaRPr>
          </a:p>
        </p:txBody>
      </p:sp>
      <p:sp>
        <p:nvSpPr>
          <p:cNvPr id="221" name="Text Box 16"/>
          <p:cNvSpPr/>
          <p:nvPr/>
        </p:nvSpPr>
        <p:spPr>
          <a:xfrm>
            <a:off x="360360" y="411480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uld be extended to the mean-0 case (or even mean 1/poly(n)), would falsify our main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pic>
        <p:nvPicPr>
          <p:cNvPr id="223"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24"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itial experiments with 3 photons (groups in Rome, Oxford, Vienna, and Brisban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arolan et al. 2015:</a:t>
            </a:r>
            <a:r>
              <a:rPr b="0" lang="en-US" sz="2800" spc="-1" strike="noStrike">
                <a:solidFill>
                  <a:srgbClr val="000000"/>
                </a:solidFill>
                <a:latin typeface="Calibri"/>
                <a:ea typeface="Calibri"/>
              </a:rPr>
              <a:t> With 6 photons, but initial states of the form |3,3</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Wang et al. 2017:</a:t>
            </a:r>
            <a:r>
              <a:rPr b="0" lang="en-US" sz="2800" spc="-1" strike="noStrike">
                <a:solidFill>
                  <a:srgbClr val="000000"/>
                </a:solidFill>
                <a:latin typeface="Calibri"/>
                <a:ea typeface="Calibri"/>
              </a:rPr>
              <a:t> With 5 photons, initial states of the form |1,1,1,1,1</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30-5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6"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28"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29"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56"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57"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60" name="Text Box 16"/>
          <p:cNvSpPr/>
          <p:nvPr/>
        </p:nvSpPr>
        <p:spPr>
          <a:xfrm>
            <a:off x="2057400" y="1270080"/>
            <a:ext cx="4952880" cy="39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500"/>
                                  </p:stCondLst>
                                  <p:childTnLst>
                                    <p:set>
                                      <p:cBhvr>
                                        <p:cTn id="11" dur="1" fill="hold">
                                          <p:stCondLst>
                                            <p:cond delay="0"/>
                                          </p:stCondLst>
                                        </p:cTn>
                                        <p:tgtEl>
                                          <p:spTgt spid="55"/>
                                        </p:tgtEl>
                                        <p:attrNameLst>
                                          <p:attrName>style.visibility</p:attrName>
                                        </p:attrNameLst>
                                      </p:cBhvr>
                                      <p:to>
                                        <p:strVal val="visible"/>
                                      </p:to>
                                    </p:set>
                                    <p:anim calcmode="lin" valueType="num">
                                      <p:cBhvr additive="base">
                                        <p:cTn id="12" dur="500" fill="hold"/>
                                        <p:tgtEl>
                                          <p:spTgt spid="55"/>
                                        </p:tgtEl>
                                        <p:attrNameLst>
                                          <p:attrName>ppt_x</p:attrName>
                                        </p:attrNameLst>
                                      </p:cBhvr>
                                      <p:tavLst>
                                        <p:tav tm="0">
                                          <p:val>
                                            <p:strVal val="1+#ppt_w/2"/>
                                          </p:val>
                                        </p:tav>
                                        <p:tav tm="100000">
                                          <p:val>
                                            <p:strVal val="#ppt_x"/>
                                          </p:val>
                                        </p:tav>
                                      </p:tavLst>
                                    </p:anim>
                                    <p:anim calcmode="lin" valueType="num">
                                      <p:cBhvr additive="base">
                                        <p:cTn id="13" dur="500" fill="hold"/>
                                        <p:tgtEl>
                                          <p:spTgt spid="5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500"/>
                            </p:stCondLst>
                            <p:childTnLst>
                              <p:par>
                                <p:cTn id="15" nodeType="afterEffect" fill="hold" presetClass="entr" presetID="1">
                                  <p:stCondLst>
                                    <p:cond delay="500"/>
                                  </p:stCondLst>
                                  <p:childTnLst>
                                    <p:set>
                                      <p:cBhvr>
                                        <p:cTn id="16" dur="1" fill="hold">
                                          <p:stCondLst>
                                            <p:cond delay="0"/>
                                          </p:stCondLst>
                                        </p:cTn>
                                        <p:tgtEl>
                                          <p:spTgt spid="57"/>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1">
                                  <p:stCondLst>
                                    <p:cond delay="0"/>
                                  </p:stCondLst>
                                  <p:childTnLst>
                                    <p:set>
                                      <p:cBhvr>
                                        <p:cTn id="19" dur="1" fill="hold">
                                          <p:stCondLst>
                                            <p:cond delay="0"/>
                                          </p:stCondLst>
                                        </p:cTn>
                                        <p:tgtEl>
                                          <p:spTgt spid="58"/>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9"/>
                                        </p:tgtEl>
                                        <p:attrNameLst>
                                          <p:attrName>style.visibility</p:attrName>
                                        </p:attrNameLst>
                                      </p:cBhvr>
                                      <p:to>
                                        <p:strVal val="visible"/>
                                      </p:to>
                                    </p:set>
                                    <p:anim calcmode="lin" valueType="num">
                                      <p:cBhvr additive="base">
                                        <p:cTn id="24" dur="500" fill="hold"/>
                                        <p:tgtEl>
                                          <p:spTgt spid="59"/>
                                        </p:tgtEl>
                                        <p:attrNameLst>
                                          <p:attrName>ppt_x</p:attrName>
                                        </p:attrNameLst>
                                      </p:cBhvr>
                                      <p:tavLst>
                                        <p:tav tm="0">
                                          <p:val>
                                            <p:strVal val="#ppt_x"/>
                                          </p:val>
                                        </p:tav>
                                        <p:tav tm="100000">
                                          <p:val>
                                            <p:strVal val="#ppt_x"/>
                                          </p:val>
                                        </p:tav>
                                      </p:tavLst>
                                    </p:anim>
                                    <p:anim calcmode="lin" valueType="num">
                                      <p:cBhvr additive="base">
                                        <p:cTn id="2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380880" y="17928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a:t>
            </a:r>
            <a:r>
              <a:rPr b="1" i="1" lang="en-US" sz="2800" spc="-1" strike="noStrike">
                <a:solidFill>
                  <a:srgbClr val="0070c0"/>
                </a:solidFill>
                <a:latin typeface="Calibri"/>
                <a:ea typeface="Arial"/>
              </a:rPr>
              <a:t>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31" name="Subtitle 4"/>
          <p:cNvSpPr/>
          <p:nvPr/>
        </p:nvSpPr>
        <p:spPr>
          <a:xfrm>
            <a:off x="609480" y="221616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ubtitle 4"/>
          <p:cNvSpPr/>
          <p:nvPr/>
        </p:nvSpPr>
        <p:spPr>
          <a:xfrm>
            <a:off x="380880" y="2160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33" name="Subtitle 4"/>
          <p:cNvSpPr/>
          <p:nvPr/>
        </p:nvSpPr>
        <p:spPr>
          <a:xfrm>
            <a:off x="380880" y="322740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379440" y="76320"/>
            <a:ext cx="8381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re There BosonSampling Instances Whose Answers Are Easily Verified?</a:t>
            </a:r>
            <a:endParaRPr b="0" lang="en-US" sz="4400" spc="-1" strike="noStrike">
              <a:solidFill>
                <a:srgbClr val="000000"/>
              </a:solidFill>
              <a:latin typeface="Arial"/>
            </a:endParaRPr>
          </a:p>
        </p:txBody>
      </p:sp>
      <p:sp>
        <p:nvSpPr>
          <p:cNvPr id="235" name="Subtitle 4"/>
          <p:cNvSpPr/>
          <p:nvPr/>
        </p:nvSpPr>
        <p:spPr>
          <a:xfrm>
            <a:off x="380880" y="221292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36" name="Subtitle 4"/>
          <p:cNvSpPr/>
          <p:nvPr/>
        </p:nvSpPr>
        <p:spPr>
          <a:xfrm>
            <a:off x="345960" y="404172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37" name="Subtitle 4"/>
          <p:cNvSpPr/>
          <p:nvPr/>
        </p:nvSpPr>
        <p:spPr>
          <a:xfrm>
            <a:off x="380880" y="5489640"/>
            <a:ext cx="8382240" cy="457200"/>
          </a:xfrm>
          <a:prstGeom prst="rect">
            <a:avLst/>
          </a:prstGeom>
          <a:noFill/>
          <a:ln w="0">
            <a:noFill/>
          </a:ln>
        </p:spPr>
        <p:style>
          <a:lnRef idx="0"/>
          <a:fillRef idx="0"/>
          <a:effectRef idx="0"/>
          <a:fontRef idx="minor"/>
        </p:style>
        <p:txBody>
          <a:bodyPr lIns="90000" rIns="90000" tIns="46800" bIns="46800" anchor="t">
            <a:normAutofit fontScale="7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2014, Berkowitz-Devlin 2016:</a:t>
            </a:r>
            <a:r>
              <a:rPr b="0" lang="en-US" sz="2800" spc="-1" strike="noStrike">
                <a:solidFill>
                  <a:srgbClr val="000000"/>
                </a:solidFill>
                <a:latin typeface="Calibri"/>
                <a:ea typeface="Arial"/>
              </a:rPr>
              <a:t> The pessimistic conjecture 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39"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 photons in the initial state, but k are randomly lost.  Then the probability of each output has the form</a:t>
            </a:r>
            <a:endParaRPr b="0" lang="en-US" sz="2800" spc="-1" strike="noStrike">
              <a:solidFill>
                <a:srgbClr val="000000"/>
              </a:solidFill>
              <a:latin typeface="Arial"/>
            </a:endParaRPr>
          </a:p>
        </p:txBody>
      </p:sp>
      <p:sp>
        <p:nvSpPr>
          <p:cNvPr id="240" name="Subtitle 4"/>
          <p:cNvSpPr/>
          <p:nvPr/>
        </p:nvSpPr>
        <p:spPr>
          <a:xfrm>
            <a:off x="385920" y="4381560"/>
            <a:ext cx="7920000" cy="457200"/>
          </a:xfrm>
          <a:prstGeom prst="rect">
            <a:avLst/>
          </a:prstGeom>
          <a:noFill/>
          <a:ln w="0">
            <a:noFill/>
          </a:ln>
        </p:spPr>
        <p:style>
          <a:lnRef idx="0"/>
          <a:fillRef idx="0"/>
          <a:effectRef idx="0"/>
          <a:fontRef idx="minor"/>
        </p:style>
        <p:txBody>
          <a:bodyPr lIns="90000" rIns="90000" tIns="46800" bIns="46800" anchor="t">
            <a:normAutofit fontScale="3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rod 2016:</a:t>
            </a:r>
            <a:r>
              <a:rPr b="0" lang="en-US" sz="2800" spc="-1" strike="noStrike">
                <a:solidFill>
                  <a:srgbClr val="000000"/>
                </a:solidFill>
                <a:latin typeface="Calibri"/>
                <a:ea typeface="Arial"/>
              </a:rPr>
              <a:t> For any constant number of losses, k=O(1), the above quantities ar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assuming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tself i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don’t know what happens for k between O(1) and n-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mc:AlternateContent>
        <mc:Choice xmlns:a14="http://schemas.microsoft.com/office/drawing/2010/main" Requires="a14">
          <p:sp>
            <p:nvSpPr>
              <p:cNvPr id="241" name="Object 1"/>
              <p:cNvSpPr txBox="1"/>
              <p:nvPr/>
            </p:nvSpPr>
            <p:spPr>
              <a:xfrm>
                <a:off x="1701720" y="2725560"/>
                <a:ext cx="2838600" cy="147672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r>
                              <m:t xml:space="preserve">−</m:t>
                            </m:r>
                            <m:r>
                              <m:t xml:space="preserve">k</m:t>
                            </m:r>
                          </m:sub>
                          <m:sup/>
                          <m:e/>
                        </m:nary>
                        <m:r>
                          <m:t xml:space="preserve">S</m:t>
                        </m:r>
                        <m:r>
                          <m:t xml:space="preserve">⊂</m:t>
                        </m:r>
                        <m:d>
                          <m:dPr>
                            <m:begChr m:val="{"/>
                            <m:endChr m:val="}"/>
                          </m:dPr>
                          <m:e>
                            <m:r>
                              <m:t xml:space="preserve">1</m:t>
                            </m:r>
                            <m:r>
                              <m:t xml:space="preserve">,</m:t>
                            </m:r>
                            <m:r>
                              <m:t xml:space="preserve">…</m:t>
                            </m:r>
                            <m:r>
                              <m:t xml:space="preserve">,</m:t>
                            </m:r>
                            <m:r>
                              <m:t xml:space="preserve">n</m:t>
                            </m:r>
                          </m:e>
                        </m:d>
                      </m:e>
                    </m:eqArr>
                  </m:oMath>
                </a14:m>
              </a:p>
            </p:txBody>
          </p:sp>
        </mc:Choice>
        <mc:Fallback/>
      </mc:AlternateContent>
      <mc:AlternateContent>
        <mc:Choice xmlns:a14="http://schemas.microsoft.com/office/drawing/2010/main" Requires="a14">
          <p:sp>
            <p:nvSpPr>
              <p:cNvPr id="242" name="Object 5"/>
              <p:cNvSpPr txBox="1"/>
              <p:nvPr/>
            </p:nvSpPr>
            <p:spPr>
              <a:xfrm>
                <a:off x="5410080" y="297180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d>
                          <m:dPr>
                            <m:begChr m:val="("/>
                            <m:endChr m:val=")"/>
                          </m:dPr>
                          <m:e>
                            <m:r>
                              <m:t xml:space="preserve">n</m:t>
                            </m:r>
                            <m:r>
                              <m:t xml:space="preserve">−</m:t>
                            </m:r>
                            <m:r>
                              <m:t xml:space="preserve">k</m:t>
                            </m:r>
                          </m:e>
                        </m:d>
                        <m:r>
                          <m:t xml:space="preserve">×</m:t>
                        </m:r>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228600" y="493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244" name="Text Box 3"/>
          <p:cNvSpPr/>
          <p:nvPr/>
        </p:nvSpPr>
        <p:spPr>
          <a:xfrm>
            <a:off x="343080" y="81900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62"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4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63"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4"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5" name="Group 32"/>
          <p:cNvGrpSpPr/>
          <p:nvPr/>
        </p:nvGrpSpPr>
        <p:grpSpPr>
          <a:xfrm>
            <a:off x="6172200" y="4648320"/>
            <a:ext cx="1676520" cy="1617480"/>
            <a:chOff x="6172200" y="4648320"/>
            <a:chExt cx="1676520" cy="1617480"/>
          </a:xfrm>
        </p:grpSpPr>
        <p:sp>
          <p:nvSpPr>
            <p:cNvPr id="66"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67"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68"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9" name="Group 31"/>
          <p:cNvGrpSpPr/>
          <p:nvPr/>
        </p:nvGrpSpPr>
        <p:grpSpPr>
          <a:xfrm>
            <a:off x="1066680" y="4800600"/>
            <a:ext cx="1905120" cy="1541520"/>
            <a:chOff x="1066680" y="4800600"/>
            <a:chExt cx="1905120" cy="1541520"/>
          </a:xfrm>
        </p:grpSpPr>
        <p:pic>
          <p:nvPicPr>
            <p:cNvPr id="70" name="Picture 4" descr=""/>
            <p:cNvPicPr/>
            <p:nvPr/>
          </p:nvPicPr>
          <p:blipFill>
            <a:blip r:embed="rId2"/>
            <a:stretch/>
          </p:blipFill>
          <p:spPr>
            <a:xfrm>
              <a:off x="1218960" y="4800600"/>
              <a:ext cx="1689480" cy="990720"/>
            </a:xfrm>
            <a:prstGeom prst="rect">
              <a:avLst/>
            </a:prstGeom>
            <a:ln w="0">
              <a:noFill/>
            </a:ln>
          </p:spPr>
        </p:pic>
        <p:sp>
          <p:nvSpPr>
            <p:cNvPr id="71"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72"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cxnSp>
        <p:nvCxnSpPr>
          <p:cNvPr id="73" name="Straight Arrow Connector 27"/>
          <p:cNvCxnSpPr/>
          <p:nvPr/>
        </p:nvCxnSpPr>
        <p:spPr>
          <a:xfrm flipH="1">
            <a:off x="2208960" y="2514600"/>
            <a:ext cx="2520" cy="1905840"/>
          </a:xfrm>
          <a:prstGeom prst="straightConnector1">
            <a:avLst/>
          </a:prstGeom>
          <a:ln w="38160">
            <a:solidFill>
              <a:srgbClr val="008000"/>
            </a:solidFill>
            <a:miter/>
            <a:headEnd len="lg" type="arrow" w="lg"/>
            <a:tailEnd len="lg" type="arrow" w="lg"/>
          </a:ln>
        </p:spPr>
      </p:cxnSp>
      <p:cxnSp>
        <p:nvCxnSpPr>
          <p:cNvPr id="74" name="Straight Arrow Connector 28"/>
          <p:cNvCxnSpPr/>
          <p:nvPr/>
        </p:nvCxnSpPr>
        <p:spPr>
          <a:xfrm>
            <a:off x="6933960" y="2514600"/>
            <a:ext cx="1080" cy="1905840"/>
          </a:xfrm>
          <a:prstGeom prst="straightConnector1">
            <a:avLst/>
          </a:prstGeom>
          <a:ln w="38160">
            <a:solidFill>
              <a:srgbClr val="008000"/>
            </a:solidFill>
            <a:miter/>
            <a:headEnd len="lg" type="arrow" w="lg"/>
            <a:tailEnd len="lg" type="arrow" w="lg"/>
          </a:ln>
        </p:spPr>
      </p:cxnSp>
      <p:sp>
        <p:nvSpPr>
          <p:cNvPr id="75"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39"/>
          <p:cNvGrpSpPr/>
          <p:nvPr/>
        </p:nvGrpSpPr>
        <p:grpSpPr>
          <a:xfrm>
            <a:off x="3048120" y="3430440"/>
            <a:ext cx="304560" cy="2286000"/>
            <a:chOff x="3048120" y="3430440"/>
            <a:chExt cx="304560" cy="2286000"/>
          </a:xfrm>
        </p:grpSpPr>
        <p:sp>
          <p:nvSpPr>
            <p:cNvPr id="77"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38"/>
          <p:cNvGrpSpPr/>
          <p:nvPr/>
        </p:nvGrpSpPr>
        <p:grpSpPr>
          <a:xfrm>
            <a:off x="4572000" y="3430440"/>
            <a:ext cx="304920" cy="2286000"/>
            <a:chOff x="4572000" y="3430440"/>
            <a:chExt cx="304920" cy="2286000"/>
          </a:xfrm>
        </p:grpSpPr>
        <p:sp>
          <p:nvSpPr>
            <p:cNvPr id="81"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4" name="Straight Arrow Connector 29"/>
          <p:cNvCxnSpPr>
            <a:stCxn id="77" idx="6"/>
            <a:endCxn id="81"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85"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86"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87" name="Straight Arrow Connector 32"/>
          <p:cNvCxnSpPr>
            <a:stCxn id="77" idx="6"/>
            <a:endCxn id="82"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88"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89" name="Straight Arrow Connector 34"/>
          <p:cNvCxnSpPr>
            <a:endCxn id="82"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90"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91" name="Straight Arrow Connector 36"/>
          <p:cNvCxnSpPr>
            <a:stCxn id="77" idx="6"/>
            <a:endCxn id="83"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92" name="Straight Arrow Connector 37"/>
          <p:cNvCxnSpPr>
            <a:stCxn id="79" idx="6"/>
            <a:endCxn id="81" idx="2"/>
          </p:cNvCxnSpPr>
          <p:nvPr/>
        </p:nvCxnSpPr>
        <p:spPr>
          <a:xfrm flipV="1">
            <a:off x="3352320" y="3582360"/>
            <a:ext cx="1220040" cy="19818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9"/>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4"/>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5"/>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80"/>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7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86"/>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88"/>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9"/>
                                        </p:tgtEl>
                                        <p:attrNameLst>
                                          <p:attrName>style.visibility</p:attrName>
                                        </p:attrNameLst>
                                      </p:cBhvr>
                                      <p:to>
                                        <p:strVal val="visible"/>
                                      </p:to>
                                    </p:set>
                                  </p:childTnLst>
                                </p:cTn>
                              </p:par>
                              <p:par>
                                <p:cTn id="56" nodeType="withEffect" fill="hold" presetClass="exit" presetID="1">
                                  <p:stCondLst>
                                    <p:cond delay="0"/>
                                  </p:stCondLst>
                                  <p:childTnLst>
                                    <p:set>
                                      <p:cBhvr>
                                        <p:cTn id="57" dur="1" fill="hold">
                                          <p:stCondLst>
                                            <p:cond delay="0"/>
                                          </p:stCondLst>
                                        </p:cTn>
                                        <p:tgtEl>
                                          <p:spTgt spid="85"/>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86"/>
                                        </p:tgtEl>
                                        <p:attrNameLst>
                                          <p:attrName>style.visibility</p:attrName>
                                        </p:attrNameLst>
                                      </p:cBhvr>
                                      <p:to>
                                        <p:strVal val="hidden"/>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0"/>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6"/>
                                        </p:tgtEl>
                                        <p:attrNameLst>
                                          <p:attrName>style.visibility</p:attrName>
                                        </p:attrNameLst>
                                      </p:cBhvr>
                                      <p:to>
                                        <p:strVal val="visible"/>
                                      </p:to>
                                    </p:set>
                                  </p:childTnLst>
                                </p:cTn>
                              </p:par>
                              <p:par>
                                <p:cTn id="68" nodeType="withEffect" fill="hold" presetClass="exit" presetID="1">
                                  <p:stCondLst>
                                    <p:cond delay="0"/>
                                  </p:stCondLst>
                                  <p:childTnLst>
                                    <p:set>
                                      <p:cBhvr>
                                        <p:cTn id="69" dur="1" fill="hold">
                                          <p:stCondLst>
                                            <p:cond delay="0"/>
                                          </p:stCondLst>
                                        </p:cTn>
                                        <p:tgtEl>
                                          <p:spTgt spid="84"/>
                                        </p:tgtEl>
                                        <p:attrNameLst>
                                          <p:attrName>style.visibility</p:attrName>
                                        </p:attrNameLst>
                                      </p:cBhvr>
                                      <p:to>
                                        <p:strVal val="hidden"/>
                                      </p:to>
                                    </p:set>
                                  </p:childTnLst>
                                </p:cTn>
                              </p:par>
                              <p:par>
                                <p:cTn id="70" nodeType="withEffect" fill="hold" presetClass="exit" presetID="1">
                                  <p:stCondLst>
                                    <p:cond delay="0"/>
                                  </p:stCondLst>
                                  <p:childTnLst>
                                    <p:set>
                                      <p:cBhvr>
                                        <p:cTn id="71" dur="1" fill="hold">
                                          <p:stCondLst>
                                            <p:cond delay="0"/>
                                          </p:stCondLst>
                                        </p:cTn>
                                        <p:tgtEl>
                                          <p:spTgt spid="89"/>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88"/>
                                        </p:tgtEl>
                                        <p:attrNameLst>
                                          <p:attrName>style.visibility</p:attrName>
                                        </p:attrNameLst>
                                      </p:cBhvr>
                                      <p:to>
                                        <p:strVal val="hidden"/>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88"/>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2"/>
                                        </p:tgtEl>
                                        <p:attrNameLst>
                                          <p:attrName>style.visibility</p:attrName>
                                        </p:attrNameLst>
                                      </p:cBhvr>
                                      <p:to>
                                        <p:strVal val="visible"/>
                                      </p:to>
                                    </p:set>
                                  </p:childTnLst>
                                </p:cTn>
                              </p:par>
                              <p:par>
                                <p:cTn id="80" nodeType="withEffect" fill="hold" presetClass="exit" presetID="1">
                                  <p:stCondLst>
                                    <p:cond delay="0"/>
                                  </p:stCondLst>
                                  <p:childTnLst>
                                    <p:set>
                                      <p:cBhvr>
                                        <p:cTn id="81" dur="1" fill="hold">
                                          <p:stCondLst>
                                            <p:cond delay="0"/>
                                          </p:stCondLst>
                                        </p:cTn>
                                        <p:tgtEl>
                                          <p:spTgt spid="86"/>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90"/>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0"/>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89"/>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87"/>
                                        </p:tgtEl>
                                        <p:attrNameLst>
                                          <p:attrName>style.visibility</p:attrName>
                                        </p:attrNameLst>
                                      </p:cBhvr>
                                      <p:to>
                                        <p:strVal val="hidden"/>
                                      </p:to>
                                    </p:set>
                                  </p:childTnLst>
                                </p:cTn>
                              </p:par>
                              <p:par>
                                <p:cTn id="94" nodeType="withEffect" fill="hold" presetClass="exit" presetID="1">
                                  <p:stCondLst>
                                    <p:cond delay="0"/>
                                  </p:stCondLst>
                                  <p:childTnLst>
                                    <p:set>
                                      <p:cBhvr>
                                        <p:cTn id="95" dur="1" fill="hold">
                                          <p:stCondLst>
                                            <p:cond delay="0"/>
                                          </p:stCondLst>
                                        </p:cTn>
                                        <p:tgtEl>
                                          <p:spTgt spid="88"/>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92"/>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5"/>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92"/>
                                        </p:tgtEl>
                                        <p:attrNameLst>
                                          <p:attrName>style.visibility</p:attrName>
                                        </p:attrNameLst>
                                      </p:cBhvr>
                                      <p:to>
                                        <p:strVal val="visible"/>
                                      </p:to>
                                    </p:set>
                                  </p:childTnLst>
                                </p:cTn>
                              </p:par>
                              <p:par>
                                <p:cTn id="104" nodeType="withEffect" fill="hold" presetClass="exit" presetID="1">
                                  <p:stCondLst>
                                    <p:cond delay="0"/>
                                  </p:stCondLst>
                                  <p:childTnLst>
                                    <p:set>
                                      <p:cBhvr>
                                        <p:cTn id="105" dur="1" fill="hold">
                                          <p:stCondLst>
                                            <p:cond delay="0"/>
                                          </p:stCondLst>
                                        </p:cTn>
                                        <p:tgtEl>
                                          <p:spTgt spid="90"/>
                                        </p:tgtEl>
                                        <p:attrNameLst>
                                          <p:attrName>style.visibility</p:attrName>
                                        </p:attrNameLst>
                                      </p:cBhvr>
                                      <p:to>
                                        <p:strVal val="hidden"/>
                                      </p:to>
                                    </p:set>
                                  </p:childTnLst>
                                </p:cTn>
                              </p:par>
                              <p:par>
                                <p:cTn id="106" nodeType="withEffect" fill="hold" presetClass="exit" presetID="1">
                                  <p:stCondLst>
                                    <p:cond delay="0"/>
                                  </p:stCondLst>
                                  <p:childTnLst>
                                    <p:set>
                                      <p:cBhvr>
                                        <p:cTn id="107" dur="1" fill="hold">
                                          <p:stCondLst>
                                            <p:cond delay="0"/>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mplexity in One Slide</a:t>
            </a:r>
            <a:endParaRPr b="0" lang="en-US" sz="4400" spc="-1" strike="noStrike">
              <a:solidFill>
                <a:srgbClr val="000000"/>
              </a:solidFill>
              <a:latin typeface="Arial"/>
            </a:endParaRPr>
          </a:p>
        </p:txBody>
      </p:sp>
      <p:sp>
        <p:nvSpPr>
          <p:cNvPr id="94" name="Oval 13"/>
          <p:cNvSpPr/>
          <p:nvPr/>
        </p:nvSpPr>
        <p:spPr>
          <a:xfrm>
            <a:off x="2293920" y="1027080"/>
            <a:ext cx="6545160" cy="56228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1"/>
          <p:cNvSpPr/>
          <p:nvPr/>
        </p:nvSpPr>
        <p:spPr>
          <a:xfrm>
            <a:off x="3309840" y="2254320"/>
            <a:ext cx="3398760" cy="4321080"/>
          </a:xfrm>
          <a:prstGeom prst="ellipse">
            <a:avLst/>
          </a:prstGeom>
          <a:solidFill>
            <a:srgbClr val="f8fbf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1"/>
          <p:cNvSpPr/>
          <p:nvPr/>
        </p:nvSpPr>
        <p:spPr>
          <a:xfrm>
            <a:off x="3529080" y="356868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2"/>
          <p:cNvSpPr/>
          <p:nvPr/>
        </p:nvSpPr>
        <p:spPr>
          <a:xfrm>
            <a:off x="3529080" y="1185840"/>
            <a:ext cx="4167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P with Oracle for Counting Problems</a:t>
            </a:r>
            <a:endParaRPr b="0" lang="en-US" sz="1800" spc="-1" strike="noStrike">
              <a:solidFill>
                <a:srgbClr val="000000"/>
              </a:solidFill>
              <a:latin typeface="Arial"/>
            </a:endParaRPr>
          </a:p>
        </p:txBody>
      </p:sp>
      <p:sp>
        <p:nvSpPr>
          <p:cNvPr id="98" name="TextBox 12"/>
          <p:cNvSpPr/>
          <p:nvPr/>
        </p:nvSpPr>
        <p:spPr>
          <a:xfrm>
            <a:off x="3767040" y="363060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99" name="Freeform 10"/>
          <p:cNvSpPr/>
          <p:nvPr/>
        </p:nvSpPr>
        <p:spPr>
          <a:xfrm>
            <a:off x="3643200" y="4329000"/>
            <a:ext cx="4783320" cy="2289240"/>
          </a:xfrm>
          <a:custGeom>
            <a:avLst/>
            <a:gdLst/>
            <a:ahLst/>
            <a:rect l="l" t="t" r="r" b="b"/>
            <a:pathLst>
              <a:path w="4782962" h="2289299">
                <a:moveTo>
                  <a:pt x="938326" y="2195781"/>
                </a:moveTo>
                <a:cubicBezTo>
                  <a:pt x="976426" y="2199245"/>
                  <a:pt x="1014704" y="2201116"/>
                  <a:pt x="1052626" y="2206172"/>
                </a:cubicBezTo>
                <a:cubicBezTo>
                  <a:pt x="1078801" y="2209662"/>
                  <a:pt x="1136845" y="2230782"/>
                  <a:pt x="1156535" y="2237345"/>
                </a:cubicBezTo>
                <a:cubicBezTo>
                  <a:pt x="1166926" y="2240809"/>
                  <a:pt x="1177082" y="2245078"/>
                  <a:pt x="1187708" y="2247735"/>
                </a:cubicBezTo>
                <a:cubicBezTo>
                  <a:pt x="1263041" y="2266569"/>
                  <a:pt x="1215061" y="2256705"/>
                  <a:pt x="1333180" y="2268517"/>
                </a:cubicBezTo>
                <a:cubicBezTo>
                  <a:pt x="1369557" y="2277611"/>
                  <a:pt x="1410249" y="2289299"/>
                  <a:pt x="1447480" y="2289299"/>
                </a:cubicBezTo>
                <a:cubicBezTo>
                  <a:pt x="1551447" y="2289299"/>
                  <a:pt x="1655299" y="2282372"/>
                  <a:pt x="1759208" y="2278908"/>
                </a:cubicBezTo>
                <a:cubicBezTo>
                  <a:pt x="1776526" y="2268517"/>
                  <a:pt x="1792706" y="2255937"/>
                  <a:pt x="1811162" y="2247735"/>
                </a:cubicBezTo>
                <a:cubicBezTo>
                  <a:pt x="1824212" y="2241935"/>
                  <a:pt x="1838994" y="2241268"/>
                  <a:pt x="1852726" y="2237345"/>
                </a:cubicBezTo>
                <a:cubicBezTo>
                  <a:pt x="1863258" y="2234336"/>
                  <a:pt x="1873273" y="2229611"/>
                  <a:pt x="1883899" y="2226954"/>
                </a:cubicBezTo>
                <a:cubicBezTo>
                  <a:pt x="1901033" y="2222671"/>
                  <a:pt x="1918814" y="2221210"/>
                  <a:pt x="1935853" y="2216563"/>
                </a:cubicBezTo>
                <a:cubicBezTo>
                  <a:pt x="1956987" y="2210799"/>
                  <a:pt x="1977065" y="2201545"/>
                  <a:pt x="1998199" y="2195781"/>
                </a:cubicBezTo>
                <a:cubicBezTo>
                  <a:pt x="2015238" y="2191134"/>
                  <a:pt x="2033273" y="2190584"/>
                  <a:pt x="2050153" y="2185390"/>
                </a:cubicBezTo>
                <a:cubicBezTo>
                  <a:pt x="2078438" y="2176687"/>
                  <a:pt x="2104261" y="2160021"/>
                  <a:pt x="2133280" y="2154217"/>
                </a:cubicBezTo>
                <a:cubicBezTo>
                  <a:pt x="2174178" y="2146037"/>
                  <a:pt x="2216407" y="2147290"/>
                  <a:pt x="2257971" y="2143826"/>
                </a:cubicBezTo>
                <a:lnTo>
                  <a:pt x="2341099" y="2123045"/>
                </a:lnTo>
                <a:cubicBezTo>
                  <a:pt x="2354953" y="2119581"/>
                  <a:pt x="2368576" y="2115002"/>
                  <a:pt x="2382662" y="2112654"/>
                </a:cubicBezTo>
                <a:cubicBezTo>
                  <a:pt x="2427783" y="2105134"/>
                  <a:pt x="2453391" y="2101555"/>
                  <a:pt x="2496962" y="2091872"/>
                </a:cubicBezTo>
                <a:cubicBezTo>
                  <a:pt x="2510903" y="2088774"/>
                  <a:pt x="2524522" y="2084282"/>
                  <a:pt x="2538526" y="2081481"/>
                </a:cubicBezTo>
                <a:cubicBezTo>
                  <a:pt x="2689386" y="2051309"/>
                  <a:pt x="2498628" y="2096651"/>
                  <a:pt x="2683999" y="2050308"/>
                </a:cubicBezTo>
                <a:cubicBezTo>
                  <a:pt x="2768061" y="2029292"/>
                  <a:pt x="2712028" y="2044428"/>
                  <a:pt x="2850253" y="1998354"/>
                </a:cubicBezTo>
                <a:lnTo>
                  <a:pt x="2881426" y="1987963"/>
                </a:lnTo>
                <a:cubicBezTo>
                  <a:pt x="2954518" y="1896598"/>
                  <a:pt x="2889076" y="1969529"/>
                  <a:pt x="2964553" y="1904835"/>
                </a:cubicBezTo>
                <a:cubicBezTo>
                  <a:pt x="3014083" y="1862381"/>
                  <a:pt x="2973876" y="1880946"/>
                  <a:pt x="3026899" y="1863272"/>
                </a:cubicBezTo>
                <a:cubicBezTo>
                  <a:pt x="3044217" y="1845954"/>
                  <a:pt x="3062582" y="1829622"/>
                  <a:pt x="3078853" y="1811317"/>
                </a:cubicBezTo>
                <a:cubicBezTo>
                  <a:pt x="3090358" y="1798373"/>
                  <a:pt x="3097780" y="1782000"/>
                  <a:pt x="3110026" y="1769754"/>
                </a:cubicBezTo>
                <a:cubicBezTo>
                  <a:pt x="3118857" y="1760923"/>
                  <a:pt x="3131605" y="1756967"/>
                  <a:pt x="3141199" y="1748972"/>
                </a:cubicBezTo>
                <a:cubicBezTo>
                  <a:pt x="3152488" y="1739564"/>
                  <a:pt x="3160615" y="1726616"/>
                  <a:pt x="3172371" y="1717799"/>
                </a:cubicBezTo>
                <a:cubicBezTo>
                  <a:pt x="3211632" y="1688353"/>
                  <a:pt x="3217144" y="1689020"/>
                  <a:pt x="3255499" y="1676235"/>
                </a:cubicBezTo>
                <a:cubicBezTo>
                  <a:pt x="3284154" y="1647580"/>
                  <a:pt x="3284089" y="1643570"/>
                  <a:pt x="3317844" y="1624281"/>
                </a:cubicBezTo>
                <a:cubicBezTo>
                  <a:pt x="3341917" y="1610525"/>
                  <a:pt x="3369627" y="1601924"/>
                  <a:pt x="3390580" y="1582717"/>
                </a:cubicBezTo>
                <a:cubicBezTo>
                  <a:pt x="3423077" y="1552928"/>
                  <a:pt x="3446297" y="1511881"/>
                  <a:pt x="3484099" y="1489199"/>
                </a:cubicBezTo>
                <a:cubicBezTo>
                  <a:pt x="3501417" y="1478808"/>
                  <a:pt x="3520111" y="1470425"/>
                  <a:pt x="3536053" y="1458026"/>
                </a:cubicBezTo>
                <a:cubicBezTo>
                  <a:pt x="3551519" y="1445997"/>
                  <a:pt x="3561673" y="1427851"/>
                  <a:pt x="3577617" y="1416463"/>
                </a:cubicBezTo>
                <a:cubicBezTo>
                  <a:pt x="3585921" y="1410531"/>
                  <a:pt x="3645644" y="1397026"/>
                  <a:pt x="3650353" y="1395681"/>
                </a:cubicBezTo>
                <a:cubicBezTo>
                  <a:pt x="3754691" y="1365870"/>
                  <a:pt x="3593169" y="1407379"/>
                  <a:pt x="3723090" y="1374899"/>
                </a:cubicBezTo>
                <a:cubicBezTo>
                  <a:pt x="3800130" y="1323538"/>
                  <a:pt x="3760943" y="1338233"/>
                  <a:pt x="3837390" y="1322945"/>
                </a:cubicBezTo>
                <a:cubicBezTo>
                  <a:pt x="3854708" y="1312554"/>
                  <a:pt x="3870889" y="1299975"/>
                  <a:pt x="3889344" y="1291772"/>
                </a:cubicBezTo>
                <a:cubicBezTo>
                  <a:pt x="3902394" y="1285972"/>
                  <a:pt x="3917229" y="1285485"/>
                  <a:pt x="3930908" y="1281381"/>
                </a:cubicBezTo>
                <a:cubicBezTo>
                  <a:pt x="3951890" y="1275086"/>
                  <a:pt x="3972001" y="1265912"/>
                  <a:pt x="3993253" y="1260599"/>
                </a:cubicBezTo>
                <a:lnTo>
                  <a:pt x="4076380" y="1239817"/>
                </a:lnTo>
                <a:cubicBezTo>
                  <a:pt x="4125454" y="1207101"/>
                  <a:pt x="4090773" y="1224506"/>
                  <a:pt x="4159508" y="1208645"/>
                </a:cubicBezTo>
                <a:cubicBezTo>
                  <a:pt x="4187338" y="1202223"/>
                  <a:pt x="4214628" y="1193464"/>
                  <a:pt x="4242635" y="1187863"/>
                </a:cubicBezTo>
                <a:cubicBezTo>
                  <a:pt x="4278350" y="1180720"/>
                  <a:pt x="4301911" y="1176865"/>
                  <a:pt x="4336153" y="1167081"/>
                </a:cubicBezTo>
                <a:cubicBezTo>
                  <a:pt x="4346685" y="1164072"/>
                  <a:pt x="4356935" y="1160154"/>
                  <a:pt x="4367326" y="1156690"/>
                </a:cubicBezTo>
                <a:cubicBezTo>
                  <a:pt x="4388108" y="1135908"/>
                  <a:pt x="4405217" y="1110647"/>
                  <a:pt x="4429671" y="1094345"/>
                </a:cubicBezTo>
                <a:cubicBezTo>
                  <a:pt x="4440062" y="1087418"/>
                  <a:pt x="4451250" y="1081558"/>
                  <a:pt x="4460844" y="1073563"/>
                </a:cubicBezTo>
                <a:cubicBezTo>
                  <a:pt x="4472133" y="1064155"/>
                  <a:pt x="4479171" y="1049527"/>
                  <a:pt x="4492017" y="1042390"/>
                </a:cubicBezTo>
                <a:cubicBezTo>
                  <a:pt x="4511166" y="1031751"/>
                  <a:pt x="4533580" y="1028535"/>
                  <a:pt x="4554362" y="1021608"/>
                </a:cubicBezTo>
                <a:lnTo>
                  <a:pt x="4585535" y="1011217"/>
                </a:lnTo>
                <a:cubicBezTo>
                  <a:pt x="4595926" y="1007753"/>
                  <a:pt x="4607594" y="1006902"/>
                  <a:pt x="4616708" y="1000826"/>
                </a:cubicBezTo>
                <a:lnTo>
                  <a:pt x="4679053" y="959263"/>
                </a:lnTo>
                <a:lnTo>
                  <a:pt x="4720617" y="896917"/>
                </a:lnTo>
                <a:lnTo>
                  <a:pt x="4741399" y="865745"/>
                </a:lnTo>
                <a:cubicBezTo>
                  <a:pt x="4744863" y="793008"/>
                  <a:pt x="4746205" y="720140"/>
                  <a:pt x="4751790" y="647535"/>
                </a:cubicBezTo>
                <a:cubicBezTo>
                  <a:pt x="4753144" y="629926"/>
                  <a:pt x="4758349" y="612821"/>
                  <a:pt x="4762180" y="595581"/>
                </a:cubicBezTo>
                <a:cubicBezTo>
                  <a:pt x="4770878" y="556440"/>
                  <a:pt x="4771391" y="557557"/>
                  <a:pt x="4782962" y="522845"/>
                </a:cubicBezTo>
                <a:cubicBezTo>
                  <a:pt x="4779498" y="450108"/>
                  <a:pt x="4788040" y="375792"/>
                  <a:pt x="4772571" y="304635"/>
                </a:cubicBezTo>
                <a:cubicBezTo>
                  <a:pt x="4769281" y="289499"/>
                  <a:pt x="4743612" y="292857"/>
                  <a:pt x="4731008" y="283854"/>
                </a:cubicBezTo>
                <a:cubicBezTo>
                  <a:pt x="4662901" y="235206"/>
                  <a:pt x="4735532" y="264580"/>
                  <a:pt x="4668662" y="242290"/>
                </a:cubicBezTo>
                <a:lnTo>
                  <a:pt x="4595926" y="169554"/>
                </a:lnTo>
                <a:cubicBezTo>
                  <a:pt x="4585535" y="159163"/>
                  <a:pt x="4576980" y="146532"/>
                  <a:pt x="4564753" y="138381"/>
                </a:cubicBezTo>
                <a:cubicBezTo>
                  <a:pt x="4543971" y="124526"/>
                  <a:pt x="4523825" y="109667"/>
                  <a:pt x="4502408" y="96817"/>
                </a:cubicBezTo>
                <a:cubicBezTo>
                  <a:pt x="4466738" y="75416"/>
                  <a:pt x="4431575" y="49210"/>
                  <a:pt x="4388108" y="44863"/>
                </a:cubicBezTo>
                <a:cubicBezTo>
                  <a:pt x="4232387" y="29291"/>
                  <a:pt x="4318931" y="36787"/>
                  <a:pt x="4128335" y="24081"/>
                </a:cubicBezTo>
                <a:cubicBezTo>
                  <a:pt x="3897677" y="-14362"/>
                  <a:pt x="4045759" y="1940"/>
                  <a:pt x="3681526" y="13690"/>
                </a:cubicBezTo>
                <a:cubicBezTo>
                  <a:pt x="3671135" y="17154"/>
                  <a:pt x="3661139" y="22178"/>
                  <a:pt x="3650353" y="24081"/>
                </a:cubicBezTo>
                <a:cubicBezTo>
                  <a:pt x="3602115" y="32594"/>
                  <a:pt x="3504880" y="44863"/>
                  <a:pt x="3504880" y="44863"/>
                </a:cubicBezTo>
                <a:cubicBezTo>
                  <a:pt x="3487562" y="55254"/>
                  <a:pt x="3470052" y="65331"/>
                  <a:pt x="3452926" y="76035"/>
                </a:cubicBezTo>
                <a:cubicBezTo>
                  <a:pt x="3442336" y="82654"/>
                  <a:pt x="3432923" y="91232"/>
                  <a:pt x="3421753" y="96817"/>
                </a:cubicBezTo>
                <a:cubicBezTo>
                  <a:pt x="3405070" y="105159"/>
                  <a:pt x="3386104" y="108541"/>
                  <a:pt x="3369799" y="117599"/>
                </a:cubicBezTo>
                <a:cubicBezTo>
                  <a:pt x="3354660" y="126010"/>
                  <a:pt x="3342328" y="138706"/>
                  <a:pt x="3328235" y="148772"/>
                </a:cubicBezTo>
                <a:cubicBezTo>
                  <a:pt x="3306021" y="164639"/>
                  <a:pt x="3281135" y="180722"/>
                  <a:pt x="3255499" y="190335"/>
                </a:cubicBezTo>
                <a:cubicBezTo>
                  <a:pt x="3242127" y="195349"/>
                  <a:pt x="3227667" y="196803"/>
                  <a:pt x="3213935" y="200726"/>
                </a:cubicBezTo>
                <a:cubicBezTo>
                  <a:pt x="3203403" y="203735"/>
                  <a:pt x="3193294" y="208108"/>
                  <a:pt x="3182762" y="211117"/>
                </a:cubicBezTo>
                <a:cubicBezTo>
                  <a:pt x="3169031" y="215040"/>
                  <a:pt x="3154930" y="217585"/>
                  <a:pt x="3141199" y="221508"/>
                </a:cubicBezTo>
                <a:cubicBezTo>
                  <a:pt x="3130667" y="224517"/>
                  <a:pt x="3120766" y="229751"/>
                  <a:pt x="3110026" y="231899"/>
                </a:cubicBezTo>
                <a:cubicBezTo>
                  <a:pt x="3086010" y="236702"/>
                  <a:pt x="3061535" y="238826"/>
                  <a:pt x="3037290" y="242290"/>
                </a:cubicBezTo>
                <a:cubicBezTo>
                  <a:pt x="3026899" y="249217"/>
                  <a:pt x="3012736" y="252482"/>
                  <a:pt x="3006117" y="263072"/>
                </a:cubicBezTo>
                <a:cubicBezTo>
                  <a:pt x="2994507" y="281648"/>
                  <a:pt x="2997486" y="307190"/>
                  <a:pt x="2985335" y="325417"/>
                </a:cubicBezTo>
                <a:cubicBezTo>
                  <a:pt x="2971480" y="346199"/>
                  <a:pt x="2954941" y="365423"/>
                  <a:pt x="2943771" y="387763"/>
                </a:cubicBezTo>
                <a:cubicBezTo>
                  <a:pt x="2936844" y="401617"/>
                  <a:pt x="2933943" y="418373"/>
                  <a:pt x="2922990" y="429326"/>
                </a:cubicBezTo>
                <a:cubicBezTo>
                  <a:pt x="2915245" y="437071"/>
                  <a:pt x="2901392" y="434398"/>
                  <a:pt x="2891817" y="439717"/>
                </a:cubicBezTo>
                <a:cubicBezTo>
                  <a:pt x="2869983" y="451847"/>
                  <a:pt x="2850253" y="467426"/>
                  <a:pt x="2829471" y="481281"/>
                </a:cubicBezTo>
                <a:cubicBezTo>
                  <a:pt x="2819080" y="488208"/>
                  <a:pt x="2808290" y="494570"/>
                  <a:pt x="2798299" y="502063"/>
                </a:cubicBezTo>
                <a:cubicBezTo>
                  <a:pt x="2784444" y="512454"/>
                  <a:pt x="2772225" y="525490"/>
                  <a:pt x="2756735" y="533235"/>
                </a:cubicBezTo>
                <a:cubicBezTo>
                  <a:pt x="2743962" y="539622"/>
                  <a:pt x="2729026" y="540162"/>
                  <a:pt x="2715171" y="543626"/>
                </a:cubicBezTo>
                <a:cubicBezTo>
                  <a:pt x="2697853" y="554017"/>
                  <a:pt x="2681281" y="565767"/>
                  <a:pt x="2663217" y="574799"/>
                </a:cubicBezTo>
                <a:cubicBezTo>
                  <a:pt x="2653420" y="579697"/>
                  <a:pt x="2641841" y="580292"/>
                  <a:pt x="2632044" y="585190"/>
                </a:cubicBezTo>
                <a:cubicBezTo>
                  <a:pt x="2531604" y="635410"/>
                  <a:pt x="2692741" y="572819"/>
                  <a:pt x="2548917" y="626754"/>
                </a:cubicBezTo>
                <a:cubicBezTo>
                  <a:pt x="2502349" y="644217"/>
                  <a:pt x="2530778" y="631156"/>
                  <a:pt x="2476180" y="647535"/>
                </a:cubicBezTo>
                <a:cubicBezTo>
                  <a:pt x="2440741" y="658167"/>
                  <a:pt x="2396197" y="673847"/>
                  <a:pt x="2361880" y="689099"/>
                </a:cubicBezTo>
                <a:cubicBezTo>
                  <a:pt x="2347725" y="695390"/>
                  <a:pt x="2334171" y="702954"/>
                  <a:pt x="2320317" y="709881"/>
                </a:cubicBezTo>
                <a:cubicBezTo>
                  <a:pt x="2246881" y="695194"/>
                  <a:pt x="2285118" y="705075"/>
                  <a:pt x="2206017" y="678708"/>
                </a:cubicBezTo>
                <a:lnTo>
                  <a:pt x="2174844" y="668317"/>
                </a:lnTo>
                <a:cubicBezTo>
                  <a:pt x="2164453" y="664853"/>
                  <a:pt x="2152785" y="664002"/>
                  <a:pt x="2143671" y="657926"/>
                </a:cubicBezTo>
                <a:cubicBezTo>
                  <a:pt x="2133280" y="650999"/>
                  <a:pt x="2124460" y="640733"/>
                  <a:pt x="2112499" y="637145"/>
                </a:cubicBezTo>
                <a:cubicBezTo>
                  <a:pt x="2089040" y="630107"/>
                  <a:pt x="2063969" y="630478"/>
                  <a:pt x="2039762" y="626754"/>
                </a:cubicBezTo>
                <a:cubicBezTo>
                  <a:pt x="1886365" y="603154"/>
                  <a:pt x="2090476" y="627432"/>
                  <a:pt x="1800771" y="605972"/>
                </a:cubicBezTo>
                <a:cubicBezTo>
                  <a:pt x="1766057" y="603401"/>
                  <a:pt x="1731480" y="599225"/>
                  <a:pt x="1696862" y="595581"/>
                </a:cubicBezTo>
                <a:cubicBezTo>
                  <a:pt x="1611523" y="586598"/>
                  <a:pt x="1602475" y="585081"/>
                  <a:pt x="1520217" y="574799"/>
                </a:cubicBezTo>
                <a:lnTo>
                  <a:pt x="1426699" y="543626"/>
                </a:lnTo>
                <a:lnTo>
                  <a:pt x="1395526" y="533235"/>
                </a:lnTo>
                <a:lnTo>
                  <a:pt x="1364353" y="522845"/>
                </a:lnTo>
                <a:cubicBezTo>
                  <a:pt x="1353962" y="515918"/>
                  <a:pt x="1345654" y="502657"/>
                  <a:pt x="1333180" y="502063"/>
                </a:cubicBezTo>
                <a:lnTo>
                  <a:pt x="1146144" y="512454"/>
                </a:lnTo>
                <a:lnTo>
                  <a:pt x="896762" y="522845"/>
                </a:lnTo>
                <a:lnTo>
                  <a:pt x="834417" y="543626"/>
                </a:lnTo>
                <a:cubicBezTo>
                  <a:pt x="824026" y="547090"/>
                  <a:pt x="813984" y="551869"/>
                  <a:pt x="803244" y="554017"/>
                </a:cubicBezTo>
                <a:cubicBezTo>
                  <a:pt x="777351" y="559196"/>
                  <a:pt x="745221" y="563388"/>
                  <a:pt x="720117" y="574799"/>
                </a:cubicBezTo>
                <a:cubicBezTo>
                  <a:pt x="592346" y="632877"/>
                  <a:pt x="678700" y="602460"/>
                  <a:pt x="605817" y="626754"/>
                </a:cubicBezTo>
                <a:cubicBezTo>
                  <a:pt x="585035" y="647536"/>
                  <a:pt x="567925" y="672796"/>
                  <a:pt x="543471" y="689099"/>
                </a:cubicBezTo>
                <a:cubicBezTo>
                  <a:pt x="533080" y="696026"/>
                  <a:pt x="521893" y="701886"/>
                  <a:pt x="512299" y="709881"/>
                </a:cubicBezTo>
                <a:cubicBezTo>
                  <a:pt x="501010" y="719289"/>
                  <a:pt x="492726" y="732032"/>
                  <a:pt x="481126" y="741054"/>
                </a:cubicBezTo>
                <a:cubicBezTo>
                  <a:pt x="461411" y="756388"/>
                  <a:pt x="439562" y="768762"/>
                  <a:pt x="418780" y="782617"/>
                </a:cubicBezTo>
                <a:lnTo>
                  <a:pt x="387608" y="803399"/>
                </a:lnTo>
                <a:lnTo>
                  <a:pt x="346044" y="865745"/>
                </a:lnTo>
                <a:cubicBezTo>
                  <a:pt x="339117" y="876136"/>
                  <a:pt x="334092" y="888086"/>
                  <a:pt x="325262" y="896917"/>
                </a:cubicBezTo>
                <a:lnTo>
                  <a:pt x="294090" y="928090"/>
                </a:lnTo>
                <a:lnTo>
                  <a:pt x="262917" y="1021608"/>
                </a:lnTo>
                <a:cubicBezTo>
                  <a:pt x="259453" y="1031999"/>
                  <a:pt x="261288" y="1046209"/>
                  <a:pt x="252526" y="1052781"/>
                </a:cubicBezTo>
                <a:cubicBezTo>
                  <a:pt x="212567" y="1082750"/>
                  <a:pt x="180585" y="1103676"/>
                  <a:pt x="148617" y="1146299"/>
                </a:cubicBezTo>
                <a:cubicBezTo>
                  <a:pt x="123975" y="1179155"/>
                  <a:pt x="116667" y="1192981"/>
                  <a:pt x="86271" y="1219035"/>
                </a:cubicBezTo>
                <a:cubicBezTo>
                  <a:pt x="63711" y="1238372"/>
                  <a:pt x="38209" y="1254540"/>
                  <a:pt x="13535" y="1270990"/>
                </a:cubicBezTo>
                <a:cubicBezTo>
                  <a:pt x="208" y="1324299"/>
                  <a:pt x="-8691" y="1339394"/>
                  <a:pt x="13535" y="1406072"/>
                </a:cubicBezTo>
                <a:cubicBezTo>
                  <a:pt x="21433" y="1429767"/>
                  <a:pt x="55099" y="1468417"/>
                  <a:pt x="55099" y="1468417"/>
                </a:cubicBezTo>
                <a:cubicBezTo>
                  <a:pt x="58563" y="1482272"/>
                  <a:pt x="61386" y="1496302"/>
                  <a:pt x="65490" y="1509981"/>
                </a:cubicBezTo>
                <a:cubicBezTo>
                  <a:pt x="84248" y="1572508"/>
                  <a:pt x="71449" y="1566825"/>
                  <a:pt x="117444" y="1593108"/>
                </a:cubicBezTo>
                <a:cubicBezTo>
                  <a:pt x="130893" y="1600793"/>
                  <a:pt x="145153" y="1606963"/>
                  <a:pt x="159008" y="1613890"/>
                </a:cubicBezTo>
                <a:cubicBezTo>
                  <a:pt x="162472" y="1624281"/>
                  <a:pt x="166390" y="1634531"/>
                  <a:pt x="169399" y="1645063"/>
                </a:cubicBezTo>
                <a:cubicBezTo>
                  <a:pt x="173836" y="1660591"/>
                  <a:pt x="181879" y="1701196"/>
                  <a:pt x="190180" y="1717799"/>
                </a:cubicBezTo>
                <a:cubicBezTo>
                  <a:pt x="195765" y="1728969"/>
                  <a:pt x="205377" y="1737802"/>
                  <a:pt x="210962" y="1748972"/>
                </a:cubicBezTo>
                <a:cubicBezTo>
                  <a:pt x="223512" y="1774071"/>
                  <a:pt x="217319" y="1791464"/>
                  <a:pt x="242135" y="1811317"/>
                </a:cubicBezTo>
                <a:cubicBezTo>
                  <a:pt x="250688" y="1818159"/>
                  <a:pt x="262917" y="1818244"/>
                  <a:pt x="273308" y="1821708"/>
                </a:cubicBezTo>
                <a:cubicBezTo>
                  <a:pt x="356436" y="1877129"/>
                  <a:pt x="255986" y="1804387"/>
                  <a:pt x="325262" y="1873663"/>
                </a:cubicBezTo>
                <a:cubicBezTo>
                  <a:pt x="334093" y="1882494"/>
                  <a:pt x="346841" y="1886450"/>
                  <a:pt x="356435" y="1894445"/>
                </a:cubicBezTo>
                <a:cubicBezTo>
                  <a:pt x="408325" y="1937686"/>
                  <a:pt x="363999" y="1917747"/>
                  <a:pt x="418780" y="1936008"/>
                </a:cubicBezTo>
                <a:cubicBezTo>
                  <a:pt x="425707" y="1946399"/>
                  <a:pt x="429810" y="1959380"/>
                  <a:pt x="439562" y="1967181"/>
                </a:cubicBezTo>
                <a:cubicBezTo>
                  <a:pt x="446338" y="1972602"/>
                  <a:pt x="509584" y="1987284"/>
                  <a:pt x="512299" y="1987963"/>
                </a:cubicBezTo>
                <a:cubicBezTo>
                  <a:pt x="561698" y="2020897"/>
                  <a:pt x="531622" y="2004795"/>
                  <a:pt x="605817" y="2029526"/>
                </a:cubicBezTo>
                <a:lnTo>
                  <a:pt x="636990" y="2039917"/>
                </a:lnTo>
                <a:lnTo>
                  <a:pt x="668162" y="2050308"/>
                </a:lnTo>
                <a:cubicBezTo>
                  <a:pt x="688944" y="2071090"/>
                  <a:pt x="702626" y="2103360"/>
                  <a:pt x="730508" y="2112654"/>
                </a:cubicBezTo>
                <a:lnTo>
                  <a:pt x="792853" y="2133435"/>
                </a:lnTo>
                <a:cubicBezTo>
                  <a:pt x="803244" y="2140362"/>
                  <a:pt x="812333" y="2149832"/>
                  <a:pt x="824026" y="2154217"/>
                </a:cubicBezTo>
                <a:cubicBezTo>
                  <a:pt x="840562" y="2160418"/>
                  <a:pt x="859902" y="2157300"/>
                  <a:pt x="875980" y="2164608"/>
                </a:cubicBezTo>
                <a:cubicBezTo>
                  <a:pt x="898718" y="2174944"/>
                  <a:pt x="914631" y="2198274"/>
                  <a:pt x="938326" y="2206172"/>
                </a:cubicBezTo>
                <a:lnTo>
                  <a:pt x="1000671" y="2226954"/>
                </a:lnTo>
              </a:path>
            </a:pathLst>
          </a:custGeom>
          <a:solidFill>
            <a:srgbClr val="bbe0e3">
              <a:alpha val="48000"/>
            </a:srgbClr>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Oval 11"/>
          <p:cNvSpPr/>
          <p:nvPr/>
        </p:nvSpPr>
        <p:spPr>
          <a:xfrm>
            <a:off x="3909960" y="493236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12"/>
          <p:cNvSpPr/>
          <p:nvPr/>
        </p:nvSpPr>
        <p:spPr>
          <a:xfrm>
            <a:off x="4184640" y="5038560"/>
            <a:ext cx="17542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2400" spc="-1" strike="noStrike">
                <a:solidFill>
                  <a:srgbClr val="990099"/>
                </a:solidFill>
                <a:latin typeface="Arial"/>
                <a:ea typeface="Arial"/>
              </a:rPr>
              <a:t>(=BP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02" name="TextBox 12"/>
          <p:cNvSpPr/>
          <p:nvPr/>
        </p:nvSpPr>
        <p:spPr>
          <a:xfrm>
            <a:off x="3909960" y="236844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
        <p:nvSpPr>
          <p:cNvPr id="103" name="Text Box 9"/>
          <p:cNvSpPr/>
          <p:nvPr/>
        </p:nvSpPr>
        <p:spPr>
          <a:xfrm>
            <a:off x="6640560" y="4414680"/>
            <a:ext cx="1828800" cy="1038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ea typeface="Arial"/>
              </a:rPr>
              <a:t>BQP</a:t>
            </a:r>
            <a:br>
              <a:rPr sz="4400"/>
            </a:br>
            <a:r>
              <a:rPr b="1" lang="en-US" sz="1800" spc="-1" strike="noStrike">
                <a:solidFill>
                  <a:srgbClr val="7030a0"/>
                </a:solidFill>
                <a:latin typeface="Arial"/>
                <a:ea typeface="Arial"/>
              </a:rPr>
              <a:t>“Quantum P”</a:t>
            </a:r>
            <a:endParaRPr b="0" lang="en-US" sz="1800" spc="-1" strike="noStrike">
              <a:solidFill>
                <a:srgbClr val="000000"/>
              </a:solidFill>
              <a:latin typeface="Arial"/>
            </a:endParaRPr>
          </a:p>
        </p:txBody>
      </p:sp>
      <p:sp>
        <p:nvSpPr>
          <p:cNvPr id="104" name="TextBox 12"/>
          <p:cNvSpPr/>
          <p:nvPr/>
        </p:nvSpPr>
        <p:spPr>
          <a:xfrm>
            <a:off x="152280" y="922320"/>
            <a:ext cx="274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The permanen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Valiant 1979]</a:t>
            </a:r>
            <a:endParaRPr b="0" lang="en-US" sz="3000" spc="-1" strike="noStrike">
              <a:solidFill>
                <a:srgbClr val="000000"/>
              </a:solidFill>
              <a:latin typeface="Arial"/>
            </a:endParaRPr>
          </a:p>
        </p:txBody>
      </p:sp>
      <p:cxnSp>
        <p:nvCxnSpPr>
          <p:cNvPr id="105" name="Straight Arrow Connector 4"/>
          <p:cNvCxnSpPr>
            <a:stCxn id="104" idx="3"/>
          </p:cNvCxnSpPr>
          <p:nvPr/>
        </p:nvCxnSpPr>
        <p:spPr>
          <a:xfrm>
            <a:off x="2894040" y="1430280"/>
            <a:ext cx="1830960" cy="94320"/>
          </a:xfrm>
          <a:prstGeom prst="straightConnector1">
            <a:avLst/>
          </a:prstGeom>
          <a:ln w="25560">
            <a:solidFill>
              <a:srgbClr val="000000"/>
            </a:solidFill>
            <a:miter/>
            <a:tailEnd len="med" type="triangle" w="med"/>
          </a:ln>
        </p:spPr>
      </p:cxnSp>
      <p:sp>
        <p:nvSpPr>
          <p:cNvPr id="106" name="TextBox 12"/>
          <p:cNvSpPr/>
          <p:nvPr/>
        </p:nvSpPr>
        <p:spPr>
          <a:xfrm>
            <a:off x="23760" y="5410080"/>
            <a:ext cx="274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The determinant</a:t>
            </a:r>
            <a:endParaRPr b="0" lang="en-US" sz="3000" spc="-1" strike="noStrike">
              <a:solidFill>
                <a:srgbClr val="000000"/>
              </a:solidFill>
              <a:latin typeface="Arial"/>
            </a:endParaRPr>
          </a:p>
        </p:txBody>
      </p:sp>
      <p:cxnSp>
        <p:nvCxnSpPr>
          <p:cNvPr id="107" name="Straight Arrow Connector 24"/>
          <p:cNvCxnSpPr/>
          <p:nvPr/>
        </p:nvCxnSpPr>
        <p:spPr>
          <a:xfrm flipV="1">
            <a:off x="1981080" y="5776200"/>
            <a:ext cx="2439000" cy="831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09"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10"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11" name="Picture 12" descr="flyingpig"/>
          <p:cNvPicPr/>
          <p:nvPr/>
        </p:nvPicPr>
        <p:blipFill>
          <a:blip r:embed="rId1"/>
          <a:stretch/>
        </p:blipFill>
        <p:spPr>
          <a:xfrm>
            <a:off x="3886200" y="5829480"/>
            <a:ext cx="1314360" cy="1028520"/>
          </a:xfrm>
          <a:prstGeom prst="rect">
            <a:avLst/>
          </a:prstGeom>
          <a:ln w="0">
            <a:noFill/>
          </a:ln>
        </p:spPr>
      </p:pic>
      <p:sp>
        <p:nvSpPr>
          <p:cNvPr id="112"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10"/>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1"/>
                                        </p:tgtEl>
                                        <p:attrNameLst>
                                          <p:attrName>style.visibility</p:attrName>
                                        </p:attrNameLst>
                                      </p:cBhvr>
                                      <p:to>
                                        <p:strVal val="visible"/>
                                      </p:to>
                                    </p:set>
                                  </p:childTnLst>
                                </p:cTn>
                              </p:par>
                              <p:par>
                                <p:cTn id="118" nodeType="withEffect" fill="hold" presetClass="path" presetID="64">
                                  <p:stCondLst>
                                    <p:cond delay="0"/>
                                  </p:stCondLst>
                                  <p:childTnLst>
                                    <p:animMotion origin="layout" path="M 5E-006 0 L 0.00312 -0.60278 E">
                                      <p:cBhvr>
                                        <p:cTn id="119" dur="3000" fill="hold"/>
                                        <p:tgtEl>
                                          <p:spTgt spid="111"/>
                                        </p:tgtEl>
                                      </p:cBhvr>
                                    </p:animMotion>
                                  </p:childTnLst>
                                </p:cTn>
                              </p:par>
                              <p:par>
                                <p:cTn id="120" nodeType="withEffect" fill="hold" presetClass="emph" presetID="6">
                                  <p:stCondLst>
                                    <p:cond delay="0"/>
                                  </p:stCondLst>
                                  <p:childTnLst>
                                    <p:animScale>
                                      <p:cBhvr>
                                        <p:cTn id="121" dur="3000" fill="hold"/>
                                        <p:tgtEl>
                                          <p:spTgt spid="111"/>
                                        </p:tgtEl>
                                      </p:cBhvr>
                                      <p:to x="500000" y="500000"/>
                                    </p:animScale>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
                                  <p:stCondLst>
                                    <p:cond delay="0"/>
                                  </p:stCondLst>
                                  <p:childTnLst>
                                    <p:set>
                                      <p:cBhvr>
                                        <p:cTn id="125" dur="1" fill="hold">
                                          <p:stCondLst>
                                            <p:cond delay="0"/>
                                          </p:stCondLst>
                                        </p:cTn>
                                        <p:tgtEl>
                                          <p:spTgt spid="111"/>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ubtitle 4"/>
          <p:cNvSpPr/>
          <p:nvPr/>
        </p:nvSpPr>
        <p:spPr>
          <a:xfrm>
            <a:off x="266760" y="19810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14"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
        <p:nvSpPr>
          <p:cNvPr id="115" name="Subtitle 4"/>
          <p:cNvSpPr/>
          <p:nvPr/>
        </p:nvSpPr>
        <p:spPr>
          <a:xfrm>
            <a:off x="228600" y="304920"/>
            <a:ext cx="8763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Calibri"/>
                <a:ea typeface="Calibri"/>
              </a:rPr>
              <a:t>[A.-Arkhipov 2011]: Even so, that amplitudes are permanents lets us</a:t>
            </a:r>
            <a:br>
              <a:rPr sz="2800"/>
            </a:br>
            <a:r>
              <a:rPr b="1" lang="en-US" sz="3800" spc="-1" strike="noStrike">
                <a:solidFill>
                  <a:srgbClr val="0070c0"/>
                </a:solidFill>
                <a:latin typeface="Calibri"/>
                <a:ea typeface="Calibri"/>
              </a:rPr>
              <a:t>Use Bosons to Sample Hard Distributions</a:t>
            </a:r>
            <a:br>
              <a:rPr sz="2800"/>
            </a:br>
            <a:r>
              <a:rPr b="1" lang="en-US" sz="2300" spc="-1" strike="noStrike">
                <a:solidFill>
                  <a:srgbClr val="0070c0"/>
                </a:solidFill>
                <a:latin typeface="Calibri"/>
                <a:ea typeface="Calibri"/>
              </a:rPr>
              <a:t>(e.g., a random matrix A with probability weighted by |Per(A)|</a:t>
            </a:r>
            <a:r>
              <a:rPr b="1" lang="en-US" sz="2300" spc="-1" strike="noStrike" baseline="30000">
                <a:solidFill>
                  <a:srgbClr val="0070c0"/>
                </a:solidFill>
                <a:latin typeface="Calibri"/>
                <a:ea typeface="Calibri"/>
              </a:rPr>
              <a:t>2</a:t>
            </a:r>
            <a:r>
              <a:rPr b="1" lang="en-US" sz="2300" spc="-1" strike="noStrike">
                <a:solidFill>
                  <a:srgbClr val="0070c0"/>
                </a:solidFill>
                <a:latin typeface="Calibri"/>
                <a:ea typeface="Calibri"/>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13"/>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base">
                                        <p:cTn id="138" dur="500" fill="hold"/>
                                        <p:tgtEl>
                                          <p:spTgt spid="114"/>
                                        </p:tgtEl>
                                        <p:attrNameLst>
                                          <p:attrName>ppt_x</p:attrName>
                                        </p:attrNameLst>
                                      </p:cBhvr>
                                      <p:tavLst>
                                        <p:tav tm="0">
                                          <p:val>
                                            <p:strVal val="#ppt_x"/>
                                          </p:val>
                                        </p:tav>
                                        <p:tav tm="100000">
                                          <p:val>
                                            <p:strVal val="#ppt_x"/>
                                          </p:val>
                                        </p:tav>
                                      </p:tavLst>
                                    </p:anim>
                                    <p:anim calcmode="lin" valueType="num">
                                      <p:cBhvr additive="base">
                                        <p:cTn id="13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17"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18"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19"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20"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1">
                                  <p:stCondLst>
                                    <p:cond delay="0"/>
                                  </p:stCondLst>
                                  <p:childTnLst>
                                    <p:set>
                                      <p:cBhvr>
                                        <p:cTn id="145" dur="1" fill="hold">
                                          <p:stCondLst>
                                            <p:cond delay="499"/>
                                          </p:stCondLst>
                                        </p:cTn>
                                        <p:tgtEl>
                                          <p:spTgt spid="118"/>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1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1" name="Object 13"/>
              <p:cNvSpPr txBox="1"/>
              <p:nvPr/>
            </p:nvSpPr>
            <p:spPr>
              <a:xfrm>
                <a:off x="264960" y="3121200"/>
                <a:ext cx="1704960" cy="155880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22" name="Straight Connector 8"/>
          <p:cNvSpPr/>
          <p:nvPr/>
        </p:nvSpPr>
        <p:spPr>
          <a:xfrm>
            <a:off x="1117440" y="252900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9"/>
          <p:cNvSpPr/>
          <p:nvPr/>
        </p:nvSpPr>
        <p:spPr>
          <a:xfrm flipH="1">
            <a:off x="1117440" y="252900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25"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26" name="Subtitle 4"/>
          <p:cNvSpPr/>
          <p:nvPr/>
        </p:nvSpPr>
        <p:spPr>
          <a:xfrm>
            <a:off x="343080" y="176688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27" name="Rectangle 6"/>
          <p:cNvSpPr/>
          <p:nvPr/>
        </p:nvSpPr>
        <p:spPr>
          <a:xfrm>
            <a:off x="2336760" y="382428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0"/>
          <p:cNvSpPr/>
          <p:nvPr/>
        </p:nvSpPr>
        <p:spPr>
          <a:xfrm>
            <a:off x="965160" y="237636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1"/>
          <p:cNvSpPr/>
          <p:nvPr/>
        </p:nvSpPr>
        <p:spPr>
          <a:xfrm>
            <a:off x="4622760" y="237636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Subtitle 4"/>
          <p:cNvSpPr/>
          <p:nvPr/>
        </p:nvSpPr>
        <p:spPr>
          <a:xfrm>
            <a:off x="5460840" y="275760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31" name="Subtitle 4"/>
          <p:cNvSpPr/>
          <p:nvPr/>
        </p:nvSpPr>
        <p:spPr>
          <a:xfrm>
            <a:off x="228600" y="52578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32" name="Object 1"/>
              <p:cNvSpPr txBox="1"/>
              <p:nvPr/>
            </p:nvSpPr>
            <p:spPr>
              <a:xfrm>
                <a:off x="5276880" y="54784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2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2"/>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1"/>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2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27"/>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28"/>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29"/>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path" presetID="42">
                                  <p:stCondLst>
                                    <p:cond delay="0"/>
                                  </p:stCondLst>
                                  <p:childTnLst>
                                    <p:animMotion origin="layout" path="M 0 1.11111E-006 L -0.19167 0.2 E">
                                      <p:cBhvr>
                                        <p:cTn id="171" dur="2000" fill="hold"/>
                                        <p:tgtEl>
                                          <p:spTgt spid="129"/>
                                        </p:tgtEl>
                                      </p:cBhvr>
                                    </p:animMotion>
                                  </p:childTnLst>
                                </p:cTn>
                              </p:par>
                              <p:par>
                                <p:cTn id="172" nodeType="withEffect" fill="hold" presetClass="path" presetID="49">
                                  <p:stCondLst>
                                    <p:cond delay="0"/>
                                  </p:stCondLst>
                                  <p:childTnLst>
                                    <p:animMotion origin="layout" path="M 3.33333E-006 -1.11111E-006 L 0.19166 0.2 E">
                                      <p:cBhvr>
                                        <p:cTn id="173" dur="2000" fill="hold"/>
                                        <p:tgtEl>
                                          <p:spTgt spid="128"/>
                                        </p:tgtEl>
                                      </p:cBhvr>
                                    </p:animMotion>
                                  </p:childTnLst>
                                </p:cTn>
                              </p:par>
                            </p:childTnLst>
                          </p:cTn>
                        </p:par>
                        <p:par>
                          <p:cTn id="174" nodeType="afterEffect" fill="hold">
                            <p:stCondLst>
                              <p:cond delay="2000"/>
                            </p:stCondLst>
                            <p:childTnLst>
                              <p:par>
                                <p:cTn id="175" nodeType="afterEffect" fill="hold" presetClass="path" presetID="49">
                                  <p:stCondLst>
                                    <p:cond delay="0"/>
                                  </p:stCondLst>
                                  <p:childTnLst>
                                    <p:animMotion origin="layout" path="M -0.19167 0.2 L -0.01667 0.36667 E">
                                      <p:cBhvr>
                                        <p:cTn id="176" dur="2000" fill="hold"/>
                                        <p:tgtEl>
                                          <p:spTgt spid="129"/>
                                        </p:tgtEl>
                                      </p:cBhvr>
                                    </p:animMotion>
                                  </p:childTnLst>
                                </p:cTn>
                              </p:par>
                              <p:par>
                                <p:cTn id="177" nodeType="withEffect" fill="hold" presetClass="path" presetID="49">
                                  <p:stCondLst>
                                    <p:cond delay="0"/>
                                  </p:stCondLst>
                                  <p:childTnLst>
                                    <p:animMotion origin="layout" path="M 0.19167 0.2 L 0.375 0.38889 E">
                                      <p:cBhvr>
                                        <p:cTn id="178" dur="2000" fill="hold"/>
                                        <p:tgtEl>
                                          <p:spTgt spid="128"/>
                                        </p:tgtEl>
                                      </p:cBhvr>
                                    </p:animMotion>
                                  </p:childTnLst>
                                </p:cTn>
                              </p:par>
                            </p:childTnLst>
                          </p:cTn>
                        </p:par>
                        <p:par>
                          <p:cTn id="179" nodeType="afterEffect" fill="hold">
                            <p:stCondLst>
                              <p:cond delay="4000"/>
                            </p:stCondLst>
                            <p:childTnLst>
                              <p:par>
                                <p:cTn id="180" nodeType="afterEffect" fill="hold" presetClass="path" presetID="42">
                                  <p:stCondLst>
                                    <p:cond delay="0"/>
                                  </p:stCondLst>
                                  <p:childTnLst>
                                    <p:animMotion origin="layout" path="M 0.20833 0.2 L 0 0.4 E">
                                      <p:cBhvr>
                                        <p:cTn id="181" dur="2000" fill="hold"/>
                                        <p:tgtEl>
                                          <p:spTgt spid="128"/>
                                        </p:tgtEl>
                                      </p:cBhvr>
                                    </p:animMotion>
                                  </p:childTnLst>
                                </p:cTn>
                              </p:par>
                              <p:par>
                                <p:cTn id="182" nodeType="withEffect" fill="hold" presetClass="path" presetID="42">
                                  <p:stCondLst>
                                    <p:cond delay="0"/>
                                  </p:stCondLst>
                                  <p:childTnLst>
                                    <p:animMotion origin="layout" path="M -0.19167 0.2 L -0.38333 0.38889 E">
                                      <p:cBhvr>
                                        <p:cTn id="183" dur="2000" fill="hold"/>
                                        <p:tgtEl>
                                          <p:spTgt spid="129"/>
                                        </p:tgtEl>
                                      </p:cBhvr>
                                    </p:animMotion>
                                  </p:childTnLst>
                                </p:cTn>
                              </p:par>
                            </p:childTnLst>
                          </p:cTn>
                        </p:par>
                        <p:par>
                          <p:cTn id="184" nodeType="afterEffect" fill="hold">
                            <p:stCondLst>
                              <p:cond delay="6000"/>
                            </p:stCondLst>
                            <p:childTnLst>
                              <p:par>
                                <p:cTn id="185" nodeType="afterEffect" fill="hold" presetClass="entr" presetID="1">
                                  <p:stCondLst>
                                    <p:cond delay="0"/>
                                  </p:stCondLst>
                                  <p:childTnLst>
                                    <p:set>
                                      <p:cBhvr>
                                        <p:cTn id="186" dur="1" fill="hold">
                                          <p:stCondLst>
                                            <p:cond delay="0"/>
                                          </p:stCondLst>
                                        </p:cTn>
                                        <p:tgtEl>
                                          <p:spTgt spid="130"/>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1-09T05:13:22Z</dcterms:modified>
  <cp:revision>1668</cp:revision>
  <dc:subject/>
  <dc:title>The Learnability of Quantum States</dc:title>
</cp:coreProperties>
</file>