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E109-5757-4641-BC97-D8D02C73C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112C-8988-4C4F-8078-27E358A2A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0A30-2E3D-4AF4-A13F-8341EA1C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DD25-1BBB-4450-819F-ED1EE380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3B5A-CF64-47DF-95B6-54D620572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D207-D628-4869-843E-253C52FCB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DFE1-35E6-489E-850E-D8971098F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402F-65A7-4F0D-9CAD-A9FCCB72A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8163-408A-4CCF-B56C-63DF2549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80F7-3EB3-44B6-90E2-966911439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E659-A31C-4AA4-B73C-BD2342889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9D2-EE1A-4B18-B133-5CD38DCC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5796-EFE0-4710-9BDB-37402675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680F-85F7-4EC5-BCEE-FA22CE411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2F54-52D1-4A4E-B372-EEB5AB8A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0B87-DDF2-489A-B651-46179D5F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FC55-C903-46EF-8F0B-15DA5E815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805-A1B1-401E-ABF8-D9AAB754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407-6BBD-4AC9-B91D-77AC9270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A88-48D2-4934-986C-D807FDB1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65F-232B-447B-BD87-25835F96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1AB-5C54-4887-A2A2-B3C4B4CA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77B-3786-4515-A0BB-E9749683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8C9-CFFF-4E89-9E6D-605DFB7F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A24-1157-46B7-8641-39B4638F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AF9-82D4-44BE-83B7-D6A361CB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1E0-5E93-4AB9-8539-E7389E14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ACE-0B30-4957-9189-61637FC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8F5-5AEC-485B-82DE-C90A3542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CD5A-6A48-4984-A0CB-4EB179F61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5238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Quantum Computing with Noninteracting Boso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ased on 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ww.scottaaronson.com/papers/optics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r Card-Carrying Physic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228600" y="99072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model corresponds to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linear optic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ith single-photon Fock-state inputs and nonadaptive photon-number measu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228600" y="2590920"/>
            <a:ext cx="861048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sically, we’re asking for the n-photon generalization of the Hong-Ou-Mandel dip, where n = big as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  <a:ea typeface="Arial"/>
              </a:rPr>
              <a:t>Our results strongly suggest that such a generalized HOM dip could refute the Extended Church-Turing Thesi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600" y="4648320"/>
            <a:ext cx="8610480" cy="19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Experimental Challen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Reliable single-photon sourc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Reliable photodetector array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Getting a large n-photon coincidence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914400" y="2209680"/>
            <a:ext cx="7543800" cy="1007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hysicists we consult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Sounds hard!  But not as hard as building a universal QC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3962520"/>
            <a:ext cx="7848720" cy="1464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mark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point in scaling this experiment much beyond 20 or 30 photons, since then a classical computer can’t even verify the answ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28600" y="15228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OK, so why is it hard to sample the distribution over photon numbers classicall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ject 2" descr=""/>
          <p:cNvPicPr/>
          <p:nvPr/>
        </p:nvPicPr>
        <p:blipFill>
          <a:blip r:embed="rId1"/>
          <a:stretch/>
        </p:blipFill>
        <p:spPr>
          <a:xfrm>
            <a:off x="1600200" y="5638680"/>
            <a:ext cx="6238800" cy="990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6"/>
          <p:cNvSpPr/>
          <p:nvPr/>
        </p:nvSpPr>
        <p:spPr>
          <a:xfrm>
            <a:off x="304920" y="14479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U (where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304920" y="396252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ne photon in each of the first n modes), apply U, and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ject 3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2776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a classical reduction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ject 2" descr=""/>
          <p:cNvPicPr/>
          <p:nvPr/>
        </p:nvPicPr>
        <p:blipFill>
          <a:blip r:embed="rId1"/>
          <a:stretch/>
        </p:blipFill>
        <p:spPr>
          <a:xfrm>
            <a:off x="5989680" y="5029200"/>
            <a:ext cx="2932200" cy="6588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7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6630840" cy="105264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9685E-006 L -0.00416 -0.7204 E">
                                      <p:cBhvr>
                                        <p:cTn id="188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6"/>
          <p:cNvSpPr/>
          <p:nvPr/>
        </p:nvSpPr>
        <p:spPr>
          <a:xfrm>
            <a:off x="228600" y="1523880"/>
            <a:ext cx="8534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whole result hinged on the difficulty of estimating a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single, exponentially-small probability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—but what about noise and err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228600" y="457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Elephant i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228600" y="31240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 “right” question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a classical computer efficiently sample a distribution with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1/poly(n) variation distanc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om the linear-optical distribu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228600" y="4724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Our Main Result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it can.  Then there’s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to estimate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ith high probability over a Gaussian matri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3962520" y="5562720"/>
                <a:ext cx="2759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2" name="Freeform 11"/>
          <p:cNvSpPr/>
          <p:nvPr/>
        </p:nvSpPr>
        <p:spPr>
          <a:xfrm>
            <a:off x="6553080" y="227160"/>
            <a:ext cx="2438640" cy="1231920"/>
          </a:xfrm>
          <a:custGeom>
            <a:avLst/>
            <a:gdLst/>
            <a:ahLst/>
            <a:rect l="l" t="t" r="r" b="b"/>
            <a:pathLst>
              <a:path w="9502560" h="4687487">
                <a:moveTo>
                  <a:pt x="2058337" y="1798848"/>
                </a:moveTo>
                <a:cubicBezTo>
                  <a:pt x="2036566" y="1816265"/>
                  <a:pt x="2016666" y="1836323"/>
                  <a:pt x="1993023" y="1851100"/>
                </a:cubicBezTo>
                <a:cubicBezTo>
                  <a:pt x="1981346" y="1858398"/>
                  <a:pt x="1966490" y="1858738"/>
                  <a:pt x="1953834" y="1864162"/>
                </a:cubicBezTo>
                <a:cubicBezTo>
                  <a:pt x="1935936" y="1871833"/>
                  <a:pt x="1919000" y="1881579"/>
                  <a:pt x="1901583" y="1890288"/>
                </a:cubicBezTo>
                <a:cubicBezTo>
                  <a:pt x="1892874" y="1903351"/>
                  <a:pt x="1888770" y="1921156"/>
                  <a:pt x="1875457" y="1929477"/>
                </a:cubicBezTo>
                <a:cubicBezTo>
                  <a:pt x="1852104" y="1944072"/>
                  <a:pt x="1797080" y="1955602"/>
                  <a:pt x="1797080" y="1955602"/>
                </a:cubicBezTo>
                <a:cubicBezTo>
                  <a:pt x="1784017" y="1973019"/>
                  <a:pt x="1779561" y="2005757"/>
                  <a:pt x="1757891" y="2007854"/>
                </a:cubicBezTo>
                <a:cubicBezTo>
                  <a:pt x="1636461" y="2019605"/>
                  <a:pt x="1513876" y="2002646"/>
                  <a:pt x="1392131" y="1994791"/>
                </a:cubicBezTo>
                <a:cubicBezTo>
                  <a:pt x="1378390" y="1993904"/>
                  <a:pt x="1366490" y="1984191"/>
                  <a:pt x="1352943" y="1981728"/>
                </a:cubicBezTo>
                <a:cubicBezTo>
                  <a:pt x="1318404" y="1975448"/>
                  <a:pt x="1283137" y="1974003"/>
                  <a:pt x="1248440" y="1968665"/>
                </a:cubicBezTo>
                <a:cubicBezTo>
                  <a:pt x="1226496" y="1965289"/>
                  <a:pt x="1204897" y="1959956"/>
                  <a:pt x="1183126" y="1955602"/>
                </a:cubicBezTo>
                <a:cubicBezTo>
                  <a:pt x="1170063" y="1946894"/>
                  <a:pt x="1156712" y="1938602"/>
                  <a:pt x="1143937" y="1929477"/>
                </a:cubicBezTo>
                <a:cubicBezTo>
                  <a:pt x="1126221" y="1916823"/>
                  <a:pt x="1110589" y="1901090"/>
                  <a:pt x="1091686" y="1890288"/>
                </a:cubicBezTo>
                <a:cubicBezTo>
                  <a:pt x="1079731" y="1883456"/>
                  <a:pt x="1065560" y="1881579"/>
                  <a:pt x="1052497" y="1877225"/>
                </a:cubicBezTo>
                <a:cubicBezTo>
                  <a:pt x="925251" y="1749983"/>
                  <a:pt x="1121184" y="1935620"/>
                  <a:pt x="947994" y="1811911"/>
                </a:cubicBezTo>
                <a:cubicBezTo>
                  <a:pt x="935219" y="1802786"/>
                  <a:pt x="930577" y="1785785"/>
                  <a:pt x="921868" y="1772722"/>
                </a:cubicBezTo>
                <a:cubicBezTo>
                  <a:pt x="920126" y="1765752"/>
                  <a:pt x="903240" y="1692527"/>
                  <a:pt x="895743" y="1681282"/>
                </a:cubicBezTo>
                <a:cubicBezTo>
                  <a:pt x="885496" y="1665911"/>
                  <a:pt x="869617" y="1655157"/>
                  <a:pt x="856554" y="1642094"/>
                </a:cubicBezTo>
                <a:cubicBezTo>
                  <a:pt x="847845" y="1620323"/>
                  <a:pt x="838661" y="1598736"/>
                  <a:pt x="830428" y="1576780"/>
                </a:cubicBezTo>
                <a:cubicBezTo>
                  <a:pt x="825593" y="1563887"/>
                  <a:pt x="823524" y="1549907"/>
                  <a:pt x="817366" y="1537591"/>
                </a:cubicBezTo>
                <a:cubicBezTo>
                  <a:pt x="804765" y="1512389"/>
                  <a:pt x="749563" y="1444624"/>
                  <a:pt x="738988" y="1433088"/>
                </a:cubicBezTo>
                <a:cubicBezTo>
                  <a:pt x="709861" y="1401313"/>
                  <a:pt x="683413" y="1365559"/>
                  <a:pt x="647548" y="1341648"/>
                </a:cubicBezTo>
                <a:cubicBezTo>
                  <a:pt x="614360" y="1319522"/>
                  <a:pt x="594314" y="1309858"/>
                  <a:pt x="569171" y="1276334"/>
                </a:cubicBezTo>
                <a:cubicBezTo>
                  <a:pt x="553937" y="1256022"/>
                  <a:pt x="543046" y="1232791"/>
                  <a:pt x="529983" y="1211020"/>
                </a:cubicBezTo>
                <a:cubicBezTo>
                  <a:pt x="492480" y="1061006"/>
                  <a:pt x="544921" y="1245876"/>
                  <a:pt x="490794" y="1119580"/>
                </a:cubicBezTo>
                <a:cubicBezTo>
                  <a:pt x="483722" y="1103078"/>
                  <a:pt x="484803" y="1083830"/>
                  <a:pt x="477731" y="1067328"/>
                </a:cubicBezTo>
                <a:cubicBezTo>
                  <a:pt x="471547" y="1052898"/>
                  <a:pt x="458627" y="1042182"/>
                  <a:pt x="451606" y="1028140"/>
                </a:cubicBezTo>
                <a:cubicBezTo>
                  <a:pt x="445448" y="1015824"/>
                  <a:pt x="447145" y="999703"/>
                  <a:pt x="438543" y="988951"/>
                </a:cubicBezTo>
                <a:cubicBezTo>
                  <a:pt x="428735" y="976692"/>
                  <a:pt x="412417" y="971534"/>
                  <a:pt x="399354" y="962825"/>
                </a:cubicBezTo>
                <a:cubicBezTo>
                  <a:pt x="395000" y="941054"/>
                  <a:pt x="392133" y="918931"/>
                  <a:pt x="386291" y="897511"/>
                </a:cubicBezTo>
                <a:cubicBezTo>
                  <a:pt x="379045" y="870943"/>
                  <a:pt x="360166" y="819134"/>
                  <a:pt x="360166" y="819134"/>
                </a:cubicBezTo>
                <a:cubicBezTo>
                  <a:pt x="366563" y="799942"/>
                  <a:pt x="392595" y="727239"/>
                  <a:pt x="386291" y="714631"/>
                </a:cubicBezTo>
                <a:cubicBezTo>
                  <a:pt x="378262" y="698573"/>
                  <a:pt x="351457" y="705922"/>
                  <a:pt x="334040" y="701568"/>
                </a:cubicBezTo>
                <a:cubicBezTo>
                  <a:pt x="299206" y="705922"/>
                  <a:pt x="261617" y="700373"/>
                  <a:pt x="229537" y="714631"/>
                </a:cubicBezTo>
                <a:cubicBezTo>
                  <a:pt x="216954" y="720223"/>
                  <a:pt x="220257" y="740580"/>
                  <a:pt x="216474" y="753820"/>
                </a:cubicBezTo>
                <a:cubicBezTo>
                  <a:pt x="211542" y="771082"/>
                  <a:pt x="207765" y="788654"/>
                  <a:pt x="203411" y="806071"/>
                </a:cubicBezTo>
                <a:cubicBezTo>
                  <a:pt x="190348" y="801717"/>
                  <a:pt x="173959" y="802744"/>
                  <a:pt x="164223" y="793008"/>
                </a:cubicBezTo>
                <a:cubicBezTo>
                  <a:pt x="117817" y="746602"/>
                  <a:pt x="159588" y="708521"/>
                  <a:pt x="111971" y="779945"/>
                </a:cubicBezTo>
                <a:cubicBezTo>
                  <a:pt x="80881" y="873216"/>
                  <a:pt x="108760" y="873597"/>
                  <a:pt x="46657" y="832197"/>
                </a:cubicBezTo>
                <a:cubicBezTo>
                  <a:pt x="33594" y="836551"/>
                  <a:pt x="10808" y="831902"/>
                  <a:pt x="7468" y="845260"/>
                </a:cubicBezTo>
                <a:cubicBezTo>
                  <a:pt x="0" y="875130"/>
                  <a:pt x="14493" y="906508"/>
                  <a:pt x="20531" y="936700"/>
                </a:cubicBezTo>
                <a:cubicBezTo>
                  <a:pt x="29952" y="983806"/>
                  <a:pt x="41977" y="985011"/>
                  <a:pt x="72783" y="1028140"/>
                </a:cubicBezTo>
                <a:cubicBezTo>
                  <a:pt x="81908" y="1040915"/>
                  <a:pt x="90200" y="1054265"/>
                  <a:pt x="98908" y="1067328"/>
                </a:cubicBezTo>
                <a:cubicBezTo>
                  <a:pt x="103246" y="1149740"/>
                  <a:pt x="87343" y="1266767"/>
                  <a:pt x="125034" y="1354711"/>
                </a:cubicBezTo>
                <a:cubicBezTo>
                  <a:pt x="132705" y="1372609"/>
                  <a:pt x="142451" y="1389545"/>
                  <a:pt x="151160" y="1406962"/>
                </a:cubicBezTo>
                <a:cubicBezTo>
                  <a:pt x="155346" y="1423706"/>
                  <a:pt x="167915" y="1479660"/>
                  <a:pt x="177286" y="1498402"/>
                </a:cubicBezTo>
                <a:cubicBezTo>
                  <a:pt x="184307" y="1512444"/>
                  <a:pt x="196390" y="1523549"/>
                  <a:pt x="203411" y="1537591"/>
                </a:cubicBezTo>
                <a:cubicBezTo>
                  <a:pt x="209569" y="1549907"/>
                  <a:pt x="208836" y="1565323"/>
                  <a:pt x="216474" y="1576780"/>
                </a:cubicBezTo>
                <a:cubicBezTo>
                  <a:pt x="226721" y="1592151"/>
                  <a:pt x="243836" y="1601776"/>
                  <a:pt x="255663" y="1615968"/>
                </a:cubicBezTo>
                <a:cubicBezTo>
                  <a:pt x="319335" y="1692375"/>
                  <a:pt x="233906" y="1619247"/>
                  <a:pt x="334040" y="1694345"/>
                </a:cubicBezTo>
                <a:cubicBezTo>
                  <a:pt x="344664" y="1726217"/>
                  <a:pt x="347906" y="1747400"/>
                  <a:pt x="373228" y="1772722"/>
                </a:cubicBezTo>
                <a:cubicBezTo>
                  <a:pt x="384329" y="1783823"/>
                  <a:pt x="399354" y="1790139"/>
                  <a:pt x="412417" y="1798848"/>
                </a:cubicBezTo>
                <a:cubicBezTo>
                  <a:pt x="445254" y="1897358"/>
                  <a:pt x="400957" y="1775926"/>
                  <a:pt x="451606" y="1877225"/>
                </a:cubicBezTo>
                <a:cubicBezTo>
                  <a:pt x="457764" y="1889541"/>
                  <a:pt x="456066" y="1905662"/>
                  <a:pt x="464668" y="1916414"/>
                </a:cubicBezTo>
                <a:cubicBezTo>
                  <a:pt x="474475" y="1928674"/>
                  <a:pt x="491796" y="1932489"/>
                  <a:pt x="503857" y="1942540"/>
                </a:cubicBezTo>
                <a:cubicBezTo>
                  <a:pt x="518049" y="1954366"/>
                  <a:pt x="528464" y="1970386"/>
                  <a:pt x="543046" y="1981728"/>
                </a:cubicBezTo>
                <a:cubicBezTo>
                  <a:pt x="610424" y="2034133"/>
                  <a:pt x="601482" y="2027333"/>
                  <a:pt x="660611" y="2047042"/>
                </a:cubicBezTo>
                <a:cubicBezTo>
                  <a:pt x="673674" y="2060105"/>
                  <a:pt x="684429" y="2075983"/>
                  <a:pt x="699800" y="2086231"/>
                </a:cubicBezTo>
                <a:cubicBezTo>
                  <a:pt x="711257" y="2093869"/>
                  <a:pt x="726672" y="2093136"/>
                  <a:pt x="738988" y="2099294"/>
                </a:cubicBezTo>
                <a:cubicBezTo>
                  <a:pt x="753030" y="2106315"/>
                  <a:pt x="765402" y="2116295"/>
                  <a:pt x="778177" y="2125420"/>
                </a:cubicBezTo>
                <a:cubicBezTo>
                  <a:pt x="795893" y="2138074"/>
                  <a:pt x="812712" y="2151954"/>
                  <a:pt x="830428" y="2164608"/>
                </a:cubicBezTo>
                <a:cubicBezTo>
                  <a:pt x="843203" y="2173733"/>
                  <a:pt x="856842" y="2181609"/>
                  <a:pt x="869617" y="2190734"/>
                </a:cubicBezTo>
                <a:cubicBezTo>
                  <a:pt x="870972" y="2191702"/>
                  <a:pt x="949513" y="2252200"/>
                  <a:pt x="961057" y="2256048"/>
                </a:cubicBezTo>
                <a:cubicBezTo>
                  <a:pt x="986184" y="2264424"/>
                  <a:pt x="1013308" y="2264757"/>
                  <a:pt x="1039434" y="2269111"/>
                </a:cubicBezTo>
                <a:cubicBezTo>
                  <a:pt x="1056851" y="2286528"/>
                  <a:pt x="1071642" y="2307045"/>
                  <a:pt x="1091686" y="2321362"/>
                </a:cubicBezTo>
                <a:cubicBezTo>
                  <a:pt x="1102127" y="2328820"/>
                  <a:pt x="1177205" y="2345796"/>
                  <a:pt x="1183126" y="2347488"/>
                </a:cubicBezTo>
                <a:cubicBezTo>
                  <a:pt x="1276854" y="2374268"/>
                  <a:pt x="1154832" y="2347054"/>
                  <a:pt x="1287628" y="2373614"/>
                </a:cubicBezTo>
                <a:cubicBezTo>
                  <a:pt x="1361651" y="2369260"/>
                  <a:pt x="1435880" y="2367581"/>
                  <a:pt x="1509697" y="2360551"/>
                </a:cubicBezTo>
                <a:cubicBezTo>
                  <a:pt x="1540322" y="2357634"/>
                  <a:pt x="1571749" y="2342822"/>
                  <a:pt x="1601137" y="2334425"/>
                </a:cubicBezTo>
                <a:cubicBezTo>
                  <a:pt x="1655704" y="2318834"/>
                  <a:pt x="1670172" y="2318565"/>
                  <a:pt x="1731766" y="2308300"/>
                </a:cubicBezTo>
                <a:cubicBezTo>
                  <a:pt x="1749183" y="2295237"/>
                  <a:pt x="1765114" y="2279913"/>
                  <a:pt x="1784017" y="2269111"/>
                </a:cubicBezTo>
                <a:cubicBezTo>
                  <a:pt x="1795972" y="2262279"/>
                  <a:pt x="1810313" y="2260883"/>
                  <a:pt x="1823206" y="2256048"/>
                </a:cubicBezTo>
                <a:cubicBezTo>
                  <a:pt x="1845161" y="2247815"/>
                  <a:pt x="1867547" y="2240408"/>
                  <a:pt x="1888520" y="2229922"/>
                </a:cubicBezTo>
                <a:cubicBezTo>
                  <a:pt x="1902562" y="2222901"/>
                  <a:pt x="1912278" y="2206690"/>
                  <a:pt x="1927708" y="2203797"/>
                </a:cubicBezTo>
                <a:cubicBezTo>
                  <a:pt x="1983509" y="2193335"/>
                  <a:pt x="2040920" y="2195088"/>
                  <a:pt x="2097526" y="2190734"/>
                </a:cubicBezTo>
                <a:cubicBezTo>
                  <a:pt x="2192935" y="2158931"/>
                  <a:pt x="2149186" y="2171287"/>
                  <a:pt x="2228154" y="2151545"/>
                </a:cubicBezTo>
                <a:cubicBezTo>
                  <a:pt x="2244801" y="2126575"/>
                  <a:pt x="2266391" y="2088640"/>
                  <a:pt x="2293468" y="2073168"/>
                </a:cubicBezTo>
                <a:cubicBezTo>
                  <a:pt x="2309056" y="2064261"/>
                  <a:pt x="2328303" y="2064459"/>
                  <a:pt x="2345720" y="2060105"/>
                </a:cubicBezTo>
                <a:cubicBezTo>
                  <a:pt x="2354429" y="2047042"/>
                  <a:pt x="2358533" y="2029238"/>
                  <a:pt x="2371846" y="2020917"/>
                </a:cubicBezTo>
                <a:cubicBezTo>
                  <a:pt x="2393048" y="2007666"/>
                  <a:pt x="2471883" y="1989376"/>
                  <a:pt x="2502474" y="1981728"/>
                </a:cubicBezTo>
                <a:cubicBezTo>
                  <a:pt x="2506828" y="1968665"/>
                  <a:pt x="2509379" y="1954856"/>
                  <a:pt x="2515537" y="1942540"/>
                </a:cubicBezTo>
                <a:cubicBezTo>
                  <a:pt x="2533724" y="1906167"/>
                  <a:pt x="2551962" y="1893052"/>
                  <a:pt x="2580851" y="1864162"/>
                </a:cubicBezTo>
                <a:cubicBezTo>
                  <a:pt x="2585205" y="1851099"/>
                  <a:pt x="2585312" y="1835726"/>
                  <a:pt x="2593914" y="1824974"/>
                </a:cubicBezTo>
                <a:cubicBezTo>
                  <a:pt x="2618871" y="1793778"/>
                  <a:pt x="2640739" y="1801561"/>
                  <a:pt x="2672291" y="1785785"/>
                </a:cubicBezTo>
                <a:cubicBezTo>
                  <a:pt x="2686333" y="1778764"/>
                  <a:pt x="2697438" y="1766681"/>
                  <a:pt x="2711480" y="1759660"/>
                </a:cubicBezTo>
                <a:cubicBezTo>
                  <a:pt x="2751755" y="1739523"/>
                  <a:pt x="2819142" y="1738038"/>
                  <a:pt x="2855171" y="1733534"/>
                </a:cubicBezTo>
                <a:cubicBezTo>
                  <a:pt x="2868234" y="1729180"/>
                  <a:pt x="2881002" y="1723811"/>
                  <a:pt x="2894360" y="1720471"/>
                </a:cubicBezTo>
                <a:cubicBezTo>
                  <a:pt x="2924172" y="1713018"/>
                  <a:pt x="2969003" y="1709275"/>
                  <a:pt x="2998863" y="1694345"/>
                </a:cubicBezTo>
                <a:cubicBezTo>
                  <a:pt x="3012905" y="1687324"/>
                  <a:pt x="3024988" y="1676928"/>
                  <a:pt x="3038051" y="1668220"/>
                </a:cubicBezTo>
                <a:cubicBezTo>
                  <a:pt x="3059823" y="1672574"/>
                  <a:pt x="3084089" y="1670266"/>
                  <a:pt x="3103366" y="1681282"/>
                </a:cubicBezTo>
                <a:cubicBezTo>
                  <a:pt x="3116997" y="1689071"/>
                  <a:pt x="3118390" y="1709370"/>
                  <a:pt x="3129491" y="1720471"/>
                </a:cubicBezTo>
                <a:cubicBezTo>
                  <a:pt x="3140592" y="1731573"/>
                  <a:pt x="3155617" y="1737888"/>
                  <a:pt x="3168680" y="1746597"/>
                </a:cubicBezTo>
                <a:cubicBezTo>
                  <a:pt x="3177389" y="1759660"/>
                  <a:pt x="3193244" y="1770163"/>
                  <a:pt x="3194806" y="1785785"/>
                </a:cubicBezTo>
                <a:cubicBezTo>
                  <a:pt x="3197870" y="1816422"/>
                  <a:pt x="3196696" y="1850310"/>
                  <a:pt x="3181743" y="1877225"/>
                </a:cubicBezTo>
                <a:cubicBezTo>
                  <a:pt x="3172286" y="1894248"/>
                  <a:pt x="3146398" y="1893690"/>
                  <a:pt x="3129491" y="1903351"/>
                </a:cubicBezTo>
                <a:cubicBezTo>
                  <a:pt x="3115860" y="1911140"/>
                  <a:pt x="3103934" y="1921688"/>
                  <a:pt x="3090303" y="1929477"/>
                </a:cubicBezTo>
                <a:cubicBezTo>
                  <a:pt x="2974289" y="1995770"/>
                  <a:pt x="3094338" y="1918076"/>
                  <a:pt x="2998863" y="1981728"/>
                </a:cubicBezTo>
                <a:cubicBezTo>
                  <a:pt x="2994509" y="1994791"/>
                  <a:pt x="2995537" y="2011180"/>
                  <a:pt x="2985800" y="2020917"/>
                </a:cubicBezTo>
                <a:cubicBezTo>
                  <a:pt x="2976063" y="2030654"/>
                  <a:pt x="2958927" y="2027822"/>
                  <a:pt x="2946611" y="2033980"/>
                </a:cubicBezTo>
                <a:cubicBezTo>
                  <a:pt x="2845320" y="2084625"/>
                  <a:pt x="2966738" y="2040333"/>
                  <a:pt x="2868234" y="2073168"/>
                </a:cubicBezTo>
                <a:cubicBezTo>
                  <a:pt x="2863880" y="2086231"/>
                  <a:pt x="2866376" y="2104354"/>
                  <a:pt x="2855171" y="2112357"/>
                </a:cubicBezTo>
                <a:cubicBezTo>
                  <a:pt x="2832762" y="2128364"/>
                  <a:pt x="2776794" y="2138482"/>
                  <a:pt x="2776794" y="2138482"/>
                </a:cubicBezTo>
                <a:cubicBezTo>
                  <a:pt x="2763731" y="2147191"/>
                  <a:pt x="2752036" y="2158424"/>
                  <a:pt x="2737606" y="2164608"/>
                </a:cubicBezTo>
                <a:cubicBezTo>
                  <a:pt x="2721104" y="2171680"/>
                  <a:pt x="2700942" y="2168764"/>
                  <a:pt x="2685354" y="2177671"/>
                </a:cubicBezTo>
                <a:cubicBezTo>
                  <a:pt x="2567136" y="2245225"/>
                  <a:pt x="2740396" y="2198015"/>
                  <a:pt x="2580851" y="2229922"/>
                </a:cubicBezTo>
                <a:cubicBezTo>
                  <a:pt x="2572143" y="2242985"/>
                  <a:pt x="2566541" y="2258773"/>
                  <a:pt x="2554726" y="2269111"/>
                </a:cubicBezTo>
                <a:cubicBezTo>
                  <a:pt x="2492517" y="2323543"/>
                  <a:pt x="2489024" y="2318193"/>
                  <a:pt x="2424097" y="2334425"/>
                </a:cubicBezTo>
                <a:cubicBezTo>
                  <a:pt x="2337945" y="2324852"/>
                  <a:pt x="2203022" y="2308300"/>
                  <a:pt x="2123651" y="2308300"/>
                </a:cubicBezTo>
                <a:cubicBezTo>
                  <a:pt x="2101449" y="2308300"/>
                  <a:pt x="2080108" y="2317008"/>
                  <a:pt x="2058337" y="2321362"/>
                </a:cubicBezTo>
                <a:cubicBezTo>
                  <a:pt x="2049628" y="2338779"/>
                  <a:pt x="2039882" y="2355715"/>
                  <a:pt x="2032211" y="2373614"/>
                </a:cubicBezTo>
                <a:cubicBezTo>
                  <a:pt x="2026787" y="2386270"/>
                  <a:pt x="2024572" y="2400146"/>
                  <a:pt x="2019148" y="2412802"/>
                </a:cubicBezTo>
                <a:cubicBezTo>
                  <a:pt x="2011477" y="2430701"/>
                  <a:pt x="2001731" y="2447637"/>
                  <a:pt x="1993023" y="2465054"/>
                </a:cubicBezTo>
                <a:cubicBezTo>
                  <a:pt x="1994764" y="2472017"/>
                  <a:pt x="2011654" y="2545254"/>
                  <a:pt x="2019148" y="2556494"/>
                </a:cubicBezTo>
                <a:cubicBezTo>
                  <a:pt x="2040649" y="2588746"/>
                  <a:pt x="2110768" y="2634961"/>
                  <a:pt x="2136714" y="2647934"/>
                </a:cubicBezTo>
                <a:cubicBezTo>
                  <a:pt x="2154131" y="2656643"/>
                  <a:pt x="2170733" y="2667223"/>
                  <a:pt x="2188966" y="2674060"/>
                </a:cubicBezTo>
                <a:cubicBezTo>
                  <a:pt x="2205776" y="2680364"/>
                  <a:pt x="2223955" y="2682190"/>
                  <a:pt x="2241217" y="2687122"/>
                </a:cubicBezTo>
                <a:cubicBezTo>
                  <a:pt x="2254457" y="2690905"/>
                  <a:pt x="2266665" y="2699298"/>
                  <a:pt x="2280406" y="2700185"/>
                </a:cubicBezTo>
                <a:cubicBezTo>
                  <a:pt x="2402151" y="2708040"/>
                  <a:pt x="2524246" y="2708894"/>
                  <a:pt x="2646166" y="2713248"/>
                </a:cubicBezTo>
                <a:cubicBezTo>
                  <a:pt x="2720189" y="2708894"/>
                  <a:pt x="2794451" y="2707563"/>
                  <a:pt x="2868234" y="2700185"/>
                </a:cubicBezTo>
                <a:cubicBezTo>
                  <a:pt x="2881935" y="2698815"/>
                  <a:pt x="2895335" y="2693716"/>
                  <a:pt x="2907423" y="2687122"/>
                </a:cubicBezTo>
                <a:cubicBezTo>
                  <a:pt x="2943485" y="2667452"/>
                  <a:pt x="2972956" y="2634798"/>
                  <a:pt x="3011926" y="2621808"/>
                </a:cubicBezTo>
                <a:lnTo>
                  <a:pt x="3090303" y="2595682"/>
                </a:lnTo>
                <a:cubicBezTo>
                  <a:pt x="3112074" y="2578265"/>
                  <a:pt x="3131974" y="2558208"/>
                  <a:pt x="3155617" y="2543431"/>
                </a:cubicBezTo>
                <a:cubicBezTo>
                  <a:pt x="3167294" y="2536133"/>
                  <a:pt x="3183937" y="2538822"/>
                  <a:pt x="3194806" y="2530368"/>
                </a:cubicBezTo>
                <a:cubicBezTo>
                  <a:pt x="3326977" y="2427568"/>
                  <a:pt x="3221713" y="2469148"/>
                  <a:pt x="3312371" y="2438928"/>
                </a:cubicBezTo>
                <a:cubicBezTo>
                  <a:pt x="3321080" y="2425865"/>
                  <a:pt x="3327396" y="2410841"/>
                  <a:pt x="3338497" y="2399740"/>
                </a:cubicBezTo>
                <a:cubicBezTo>
                  <a:pt x="3375934" y="2362303"/>
                  <a:pt x="3374376" y="2381800"/>
                  <a:pt x="3416874" y="2360551"/>
                </a:cubicBezTo>
                <a:cubicBezTo>
                  <a:pt x="3444510" y="2346733"/>
                  <a:pt x="3484645" y="2310030"/>
                  <a:pt x="3508314" y="2295237"/>
                </a:cubicBezTo>
                <a:cubicBezTo>
                  <a:pt x="3524827" y="2284916"/>
                  <a:pt x="3543149" y="2277820"/>
                  <a:pt x="3560566" y="2269111"/>
                </a:cubicBezTo>
                <a:cubicBezTo>
                  <a:pt x="3573629" y="2247340"/>
                  <a:pt x="3581801" y="2221750"/>
                  <a:pt x="3599754" y="2203797"/>
                </a:cubicBezTo>
                <a:cubicBezTo>
                  <a:pt x="3613524" y="2190027"/>
                  <a:pt x="3635099" y="2187332"/>
                  <a:pt x="3652006" y="2177671"/>
                </a:cubicBezTo>
                <a:cubicBezTo>
                  <a:pt x="3722911" y="2137154"/>
                  <a:pt x="3658531" y="2162433"/>
                  <a:pt x="3730383" y="2138482"/>
                </a:cubicBezTo>
                <a:cubicBezTo>
                  <a:pt x="3743446" y="2125419"/>
                  <a:pt x="3759324" y="2114665"/>
                  <a:pt x="3769571" y="2099294"/>
                </a:cubicBezTo>
                <a:cubicBezTo>
                  <a:pt x="3777209" y="2087837"/>
                  <a:pt x="3772897" y="2069842"/>
                  <a:pt x="3782634" y="2060105"/>
                </a:cubicBezTo>
                <a:cubicBezTo>
                  <a:pt x="3792371" y="2050368"/>
                  <a:pt x="3808760" y="2051396"/>
                  <a:pt x="3821823" y="2047042"/>
                </a:cubicBezTo>
                <a:cubicBezTo>
                  <a:pt x="3865366" y="2055751"/>
                  <a:pt x="3912026" y="2054793"/>
                  <a:pt x="3952451" y="2073168"/>
                </a:cubicBezTo>
                <a:cubicBezTo>
                  <a:pt x="3964986" y="2078866"/>
                  <a:pt x="3961731" y="2099117"/>
                  <a:pt x="3965514" y="2112357"/>
                </a:cubicBezTo>
                <a:cubicBezTo>
                  <a:pt x="3970446" y="2129619"/>
                  <a:pt x="3974223" y="2147191"/>
                  <a:pt x="3978577" y="2164608"/>
                </a:cubicBezTo>
                <a:cubicBezTo>
                  <a:pt x="3974223" y="2260402"/>
                  <a:pt x="3972869" y="2356380"/>
                  <a:pt x="3965514" y="2451991"/>
                </a:cubicBezTo>
                <a:cubicBezTo>
                  <a:pt x="3964137" y="2469891"/>
                  <a:pt x="3961358" y="2488654"/>
                  <a:pt x="3952451" y="2504242"/>
                </a:cubicBezTo>
                <a:cubicBezTo>
                  <a:pt x="3943286" y="2520282"/>
                  <a:pt x="3926326" y="2530368"/>
                  <a:pt x="3913263" y="2543431"/>
                </a:cubicBezTo>
                <a:cubicBezTo>
                  <a:pt x="3884981" y="2656558"/>
                  <a:pt x="3919614" y="2534085"/>
                  <a:pt x="3874074" y="2647934"/>
                </a:cubicBezTo>
                <a:cubicBezTo>
                  <a:pt x="3827437" y="2764525"/>
                  <a:pt x="3872086" y="2690103"/>
                  <a:pt x="3821823" y="2765500"/>
                </a:cubicBezTo>
                <a:cubicBezTo>
                  <a:pt x="3817469" y="2782917"/>
                  <a:pt x="3814040" y="2800592"/>
                  <a:pt x="3808760" y="2817751"/>
                </a:cubicBezTo>
                <a:cubicBezTo>
                  <a:pt x="3796612" y="2857233"/>
                  <a:pt x="3779590" y="2895242"/>
                  <a:pt x="3769571" y="2935317"/>
                </a:cubicBezTo>
                <a:cubicBezTo>
                  <a:pt x="3765388" y="2952050"/>
                  <a:pt x="3752813" y="3008023"/>
                  <a:pt x="3743446" y="3026757"/>
                </a:cubicBezTo>
                <a:cubicBezTo>
                  <a:pt x="3736425" y="3040799"/>
                  <a:pt x="3724944" y="3052221"/>
                  <a:pt x="3717320" y="3065945"/>
                </a:cubicBezTo>
                <a:cubicBezTo>
                  <a:pt x="3703134" y="3091479"/>
                  <a:pt x="3692849" y="3119091"/>
                  <a:pt x="3678131" y="3144322"/>
                </a:cubicBezTo>
                <a:cubicBezTo>
                  <a:pt x="3662310" y="3171444"/>
                  <a:pt x="3635810" y="3192912"/>
                  <a:pt x="3625880" y="3222700"/>
                </a:cubicBezTo>
                <a:cubicBezTo>
                  <a:pt x="3621526" y="3235763"/>
                  <a:pt x="3618975" y="3249572"/>
                  <a:pt x="3612817" y="3261888"/>
                </a:cubicBezTo>
                <a:cubicBezTo>
                  <a:pt x="3601462" y="3284597"/>
                  <a:pt x="3584982" y="3304493"/>
                  <a:pt x="3573628" y="3327202"/>
                </a:cubicBezTo>
                <a:cubicBezTo>
                  <a:pt x="3553901" y="3366657"/>
                  <a:pt x="3559541" y="3400630"/>
                  <a:pt x="3547503" y="3444768"/>
                </a:cubicBezTo>
                <a:cubicBezTo>
                  <a:pt x="3541333" y="3467390"/>
                  <a:pt x="3529610" y="3488127"/>
                  <a:pt x="3521377" y="3510082"/>
                </a:cubicBezTo>
                <a:cubicBezTo>
                  <a:pt x="3516542" y="3522975"/>
                  <a:pt x="3511654" y="3535913"/>
                  <a:pt x="3508314" y="3549271"/>
                </a:cubicBezTo>
                <a:cubicBezTo>
                  <a:pt x="3502929" y="3570811"/>
                  <a:pt x="3502272" y="3593522"/>
                  <a:pt x="3495251" y="3614585"/>
                </a:cubicBezTo>
                <a:cubicBezTo>
                  <a:pt x="3489093" y="3633059"/>
                  <a:pt x="3476797" y="3648938"/>
                  <a:pt x="3469126" y="3666837"/>
                </a:cubicBezTo>
                <a:cubicBezTo>
                  <a:pt x="3457881" y="3693077"/>
                  <a:pt x="3449630" y="3731757"/>
                  <a:pt x="3443000" y="3758277"/>
                </a:cubicBezTo>
                <a:cubicBezTo>
                  <a:pt x="3438646" y="3797465"/>
                  <a:pt x="3434635" y="3836693"/>
                  <a:pt x="3429937" y="3875842"/>
                </a:cubicBezTo>
                <a:cubicBezTo>
                  <a:pt x="3421572" y="3945553"/>
                  <a:pt x="3410168" y="4014925"/>
                  <a:pt x="3403811" y="4084848"/>
                </a:cubicBezTo>
                <a:cubicBezTo>
                  <a:pt x="3397098" y="4158694"/>
                  <a:pt x="3395102" y="4232894"/>
                  <a:pt x="3390748" y="4306917"/>
                </a:cubicBezTo>
                <a:cubicBezTo>
                  <a:pt x="3395102" y="4367877"/>
                  <a:pt x="3379315" y="4433806"/>
                  <a:pt x="3403811" y="4489797"/>
                </a:cubicBezTo>
                <a:cubicBezTo>
                  <a:pt x="3414849" y="4515027"/>
                  <a:pt x="3456619" y="4505694"/>
                  <a:pt x="3482188" y="4515922"/>
                </a:cubicBezTo>
                <a:cubicBezTo>
                  <a:pt x="3503960" y="4524631"/>
                  <a:pt x="3525547" y="4533815"/>
                  <a:pt x="3547503" y="4542048"/>
                </a:cubicBezTo>
                <a:cubicBezTo>
                  <a:pt x="3560396" y="4546883"/>
                  <a:pt x="3573628" y="4550757"/>
                  <a:pt x="3586691" y="4555111"/>
                </a:cubicBezTo>
                <a:cubicBezTo>
                  <a:pt x="3625880" y="4546402"/>
                  <a:pt x="3665311" y="4538722"/>
                  <a:pt x="3704257" y="4528985"/>
                </a:cubicBezTo>
                <a:cubicBezTo>
                  <a:pt x="3753888" y="4516577"/>
                  <a:pt x="3738679" y="4511005"/>
                  <a:pt x="3795697" y="4502860"/>
                </a:cubicBezTo>
                <a:cubicBezTo>
                  <a:pt x="3839017" y="4496672"/>
                  <a:pt x="3882783" y="4494151"/>
                  <a:pt x="3926326" y="4489797"/>
                </a:cubicBezTo>
                <a:cubicBezTo>
                  <a:pt x="3939389" y="4481088"/>
                  <a:pt x="3949936" y="4465618"/>
                  <a:pt x="3965514" y="4463671"/>
                </a:cubicBezTo>
                <a:cubicBezTo>
                  <a:pt x="3987545" y="4460917"/>
                  <a:pt x="4009154" y="4471918"/>
                  <a:pt x="4030828" y="4476734"/>
                </a:cubicBezTo>
                <a:cubicBezTo>
                  <a:pt x="4048354" y="4480629"/>
                  <a:pt x="4065817" y="4484865"/>
                  <a:pt x="4083080" y="4489797"/>
                </a:cubicBezTo>
                <a:cubicBezTo>
                  <a:pt x="4096319" y="4493580"/>
                  <a:pt x="4108910" y="4499521"/>
                  <a:pt x="4122268" y="4502860"/>
                </a:cubicBezTo>
                <a:cubicBezTo>
                  <a:pt x="4143808" y="4508245"/>
                  <a:pt x="4165811" y="4511568"/>
                  <a:pt x="4187583" y="4515922"/>
                </a:cubicBezTo>
                <a:cubicBezTo>
                  <a:pt x="4299889" y="4590795"/>
                  <a:pt x="4157796" y="4501028"/>
                  <a:pt x="4265960" y="4555111"/>
                </a:cubicBezTo>
                <a:cubicBezTo>
                  <a:pt x="4356171" y="4600217"/>
                  <a:pt x="4248651" y="4567113"/>
                  <a:pt x="4357400" y="4594300"/>
                </a:cubicBezTo>
                <a:cubicBezTo>
                  <a:pt x="4370463" y="4589946"/>
                  <a:pt x="4383147" y="4584224"/>
                  <a:pt x="4396588" y="4581237"/>
                </a:cubicBezTo>
                <a:cubicBezTo>
                  <a:pt x="4422444" y="4575491"/>
                  <a:pt x="4453413" y="4583569"/>
                  <a:pt x="4474966" y="4568174"/>
                </a:cubicBezTo>
                <a:cubicBezTo>
                  <a:pt x="4489575" y="4557739"/>
                  <a:pt x="4483674" y="4533339"/>
                  <a:pt x="4488028" y="4515922"/>
                </a:cubicBezTo>
                <a:cubicBezTo>
                  <a:pt x="4474965" y="4428836"/>
                  <a:pt x="4476688" y="4338206"/>
                  <a:pt x="4448840" y="4254665"/>
                </a:cubicBezTo>
                <a:cubicBezTo>
                  <a:pt x="4444486" y="4241602"/>
                  <a:pt x="4439560" y="4228716"/>
                  <a:pt x="4435777" y="4215477"/>
                </a:cubicBezTo>
                <a:cubicBezTo>
                  <a:pt x="4430845" y="4198214"/>
                  <a:pt x="4435409" y="4175920"/>
                  <a:pt x="4422714" y="4163225"/>
                </a:cubicBezTo>
                <a:cubicBezTo>
                  <a:pt x="4410019" y="4150530"/>
                  <a:pt x="4387880" y="4154516"/>
                  <a:pt x="4370463" y="4150162"/>
                </a:cubicBezTo>
                <a:cubicBezTo>
                  <a:pt x="4319110" y="4073135"/>
                  <a:pt x="4359149" y="4145850"/>
                  <a:pt x="4331274" y="4006471"/>
                </a:cubicBezTo>
                <a:cubicBezTo>
                  <a:pt x="4320711" y="3953657"/>
                  <a:pt x="4305149" y="3901968"/>
                  <a:pt x="4292086" y="3849717"/>
                </a:cubicBezTo>
                <a:cubicBezTo>
                  <a:pt x="4318275" y="3587808"/>
                  <a:pt x="4273438" y="3808632"/>
                  <a:pt x="4344337" y="3666837"/>
                </a:cubicBezTo>
                <a:cubicBezTo>
                  <a:pt x="4356653" y="3642206"/>
                  <a:pt x="4370463" y="3588460"/>
                  <a:pt x="4370463" y="3588460"/>
                </a:cubicBezTo>
                <a:cubicBezTo>
                  <a:pt x="4389449" y="3474545"/>
                  <a:pt x="4368223" y="3542852"/>
                  <a:pt x="4422714" y="3444768"/>
                </a:cubicBezTo>
                <a:cubicBezTo>
                  <a:pt x="4432171" y="3427746"/>
                  <a:pt x="4441169" y="3410415"/>
                  <a:pt x="4448840" y="3392517"/>
                </a:cubicBezTo>
                <a:cubicBezTo>
                  <a:pt x="4454264" y="3379861"/>
                  <a:pt x="4453301" y="3364080"/>
                  <a:pt x="4461903" y="3353328"/>
                </a:cubicBezTo>
                <a:cubicBezTo>
                  <a:pt x="4471710" y="3341069"/>
                  <a:pt x="4488028" y="3335911"/>
                  <a:pt x="4501091" y="3327202"/>
                </a:cubicBezTo>
                <a:lnTo>
                  <a:pt x="4527217" y="3248825"/>
                </a:lnTo>
                <a:cubicBezTo>
                  <a:pt x="4531571" y="3235762"/>
                  <a:pt x="4527964" y="3215795"/>
                  <a:pt x="4540280" y="3209637"/>
                </a:cubicBezTo>
                <a:lnTo>
                  <a:pt x="4592531" y="3183511"/>
                </a:lnTo>
                <a:cubicBezTo>
                  <a:pt x="4605594" y="3166094"/>
                  <a:pt x="4614995" y="3145198"/>
                  <a:pt x="4631720" y="3131260"/>
                </a:cubicBezTo>
                <a:cubicBezTo>
                  <a:pt x="4642298" y="3122445"/>
                  <a:pt x="4658592" y="3124355"/>
                  <a:pt x="4670908" y="3118197"/>
                </a:cubicBezTo>
                <a:cubicBezTo>
                  <a:pt x="4684950" y="3111176"/>
                  <a:pt x="4697034" y="3100780"/>
                  <a:pt x="4710097" y="3092071"/>
                </a:cubicBezTo>
                <a:cubicBezTo>
                  <a:pt x="4753640" y="3096425"/>
                  <a:pt x="4799600" y="3090179"/>
                  <a:pt x="4840726" y="3105134"/>
                </a:cubicBezTo>
                <a:cubicBezTo>
                  <a:pt x="4853666" y="3109840"/>
                  <a:pt x="4846150" y="3132865"/>
                  <a:pt x="4853788" y="3144322"/>
                </a:cubicBezTo>
                <a:cubicBezTo>
                  <a:pt x="4864035" y="3159693"/>
                  <a:pt x="4879914" y="3170448"/>
                  <a:pt x="4892977" y="3183511"/>
                </a:cubicBezTo>
                <a:cubicBezTo>
                  <a:pt x="4897331" y="3205282"/>
                  <a:pt x="4892409" y="3231299"/>
                  <a:pt x="4906040" y="3248825"/>
                </a:cubicBezTo>
                <a:cubicBezTo>
                  <a:pt x="4925317" y="3273610"/>
                  <a:pt x="4962214" y="3278875"/>
                  <a:pt x="4984417" y="3301077"/>
                </a:cubicBezTo>
                <a:lnTo>
                  <a:pt x="5023606" y="3340265"/>
                </a:lnTo>
                <a:cubicBezTo>
                  <a:pt x="5044518" y="3570312"/>
                  <a:pt x="5045299" y="3511257"/>
                  <a:pt x="5023606" y="3836654"/>
                </a:cubicBezTo>
                <a:cubicBezTo>
                  <a:pt x="5022690" y="3850393"/>
                  <a:pt x="5014897" y="3862779"/>
                  <a:pt x="5010543" y="3875842"/>
                </a:cubicBezTo>
                <a:cubicBezTo>
                  <a:pt x="4982926" y="4207242"/>
                  <a:pt x="5009851" y="4087617"/>
                  <a:pt x="4971354" y="4241602"/>
                </a:cubicBezTo>
                <a:cubicBezTo>
                  <a:pt x="4967000" y="4276436"/>
                  <a:pt x="4971329" y="4313510"/>
                  <a:pt x="4958291" y="4346105"/>
                </a:cubicBezTo>
                <a:cubicBezTo>
                  <a:pt x="4952460" y="4360682"/>
                  <a:pt x="4927424" y="4358918"/>
                  <a:pt x="4919103" y="4372231"/>
                </a:cubicBezTo>
                <a:cubicBezTo>
                  <a:pt x="4904507" y="4395584"/>
                  <a:pt x="4901686" y="4424482"/>
                  <a:pt x="4892977" y="4450608"/>
                </a:cubicBezTo>
                <a:cubicBezTo>
                  <a:pt x="4888623" y="4463671"/>
                  <a:pt x="4887552" y="4478340"/>
                  <a:pt x="4879914" y="4489797"/>
                </a:cubicBezTo>
                <a:lnTo>
                  <a:pt x="4853788" y="4528985"/>
                </a:lnTo>
                <a:cubicBezTo>
                  <a:pt x="4862497" y="4542048"/>
                  <a:pt x="4872893" y="4554132"/>
                  <a:pt x="4879914" y="4568174"/>
                </a:cubicBezTo>
                <a:cubicBezTo>
                  <a:pt x="4903881" y="4616107"/>
                  <a:pt x="4876449" y="4609406"/>
                  <a:pt x="4932166" y="4646551"/>
                </a:cubicBezTo>
                <a:cubicBezTo>
                  <a:pt x="4943623" y="4654189"/>
                  <a:pt x="4958291" y="4655260"/>
                  <a:pt x="4971354" y="4659614"/>
                </a:cubicBezTo>
                <a:cubicBezTo>
                  <a:pt x="5006188" y="4655260"/>
                  <a:pt x="5041318" y="4652831"/>
                  <a:pt x="5075857" y="4646551"/>
                </a:cubicBezTo>
                <a:cubicBezTo>
                  <a:pt x="5089405" y="4644088"/>
                  <a:pt x="5101499" y="4635951"/>
                  <a:pt x="5115046" y="4633488"/>
                </a:cubicBezTo>
                <a:cubicBezTo>
                  <a:pt x="5149585" y="4627208"/>
                  <a:pt x="5184714" y="4624779"/>
                  <a:pt x="5219548" y="4620425"/>
                </a:cubicBezTo>
                <a:cubicBezTo>
                  <a:pt x="5329659" y="4583721"/>
                  <a:pt x="5203061" y="4620425"/>
                  <a:pt x="5454680" y="4620425"/>
                </a:cubicBezTo>
                <a:cubicBezTo>
                  <a:pt x="5533178" y="4620425"/>
                  <a:pt x="5611434" y="4611716"/>
                  <a:pt x="5689811" y="4607362"/>
                </a:cubicBezTo>
                <a:cubicBezTo>
                  <a:pt x="5724307" y="4593564"/>
                  <a:pt x="5758485" y="4578411"/>
                  <a:pt x="5794314" y="4568174"/>
                </a:cubicBezTo>
                <a:cubicBezTo>
                  <a:pt x="5837356" y="4555876"/>
                  <a:pt x="5866988" y="4551027"/>
                  <a:pt x="5911880" y="4542048"/>
                </a:cubicBezTo>
                <a:cubicBezTo>
                  <a:pt x="5920589" y="4528985"/>
                  <a:pt x="5926905" y="4513961"/>
                  <a:pt x="5938006" y="4502860"/>
                </a:cubicBezTo>
                <a:cubicBezTo>
                  <a:pt x="5953401" y="4487465"/>
                  <a:pt x="5981681" y="4483682"/>
                  <a:pt x="5990257" y="4463671"/>
                </a:cubicBezTo>
                <a:cubicBezTo>
                  <a:pt x="5997329" y="4447170"/>
                  <a:pt x="5986101" y="4427008"/>
                  <a:pt x="5977194" y="4411420"/>
                </a:cubicBezTo>
                <a:cubicBezTo>
                  <a:pt x="5968029" y="4395380"/>
                  <a:pt x="5949832" y="4386423"/>
                  <a:pt x="5938006" y="4372231"/>
                </a:cubicBezTo>
                <a:cubicBezTo>
                  <a:pt x="5927955" y="4360170"/>
                  <a:pt x="5919669" y="4346673"/>
                  <a:pt x="5911880" y="4333042"/>
                </a:cubicBezTo>
                <a:cubicBezTo>
                  <a:pt x="5902219" y="4316135"/>
                  <a:pt x="5898220" y="4295750"/>
                  <a:pt x="5885754" y="4280791"/>
                </a:cubicBezTo>
                <a:cubicBezTo>
                  <a:pt x="5875703" y="4268730"/>
                  <a:pt x="5859629" y="4263374"/>
                  <a:pt x="5846566" y="4254665"/>
                </a:cubicBezTo>
                <a:cubicBezTo>
                  <a:pt x="5837857" y="4241602"/>
                  <a:pt x="5831541" y="4226578"/>
                  <a:pt x="5820440" y="4215477"/>
                </a:cubicBezTo>
                <a:cubicBezTo>
                  <a:pt x="5801976" y="4197014"/>
                  <a:pt x="5749491" y="4173471"/>
                  <a:pt x="5729000" y="4163225"/>
                </a:cubicBezTo>
                <a:cubicBezTo>
                  <a:pt x="5720291" y="4150162"/>
                  <a:pt x="5709895" y="4138079"/>
                  <a:pt x="5702874" y="4124037"/>
                </a:cubicBezTo>
                <a:cubicBezTo>
                  <a:pt x="5696716" y="4111721"/>
                  <a:pt x="5697449" y="4096305"/>
                  <a:pt x="5689811" y="4084848"/>
                </a:cubicBezTo>
                <a:cubicBezTo>
                  <a:pt x="5679564" y="4069477"/>
                  <a:pt x="5661965" y="4060242"/>
                  <a:pt x="5650623" y="4045660"/>
                </a:cubicBezTo>
                <a:cubicBezTo>
                  <a:pt x="5631346" y="4020875"/>
                  <a:pt x="5598371" y="3967282"/>
                  <a:pt x="5598371" y="3967282"/>
                </a:cubicBezTo>
                <a:cubicBezTo>
                  <a:pt x="5594017" y="3936802"/>
                  <a:pt x="5585308" y="3906631"/>
                  <a:pt x="5585308" y="3875842"/>
                </a:cubicBezTo>
                <a:cubicBezTo>
                  <a:pt x="5585308" y="3642084"/>
                  <a:pt x="5572968" y="3690791"/>
                  <a:pt x="5611434" y="3575397"/>
                </a:cubicBezTo>
                <a:cubicBezTo>
                  <a:pt x="5615788" y="3510083"/>
                  <a:pt x="5610297" y="3443355"/>
                  <a:pt x="5624497" y="3379454"/>
                </a:cubicBezTo>
                <a:cubicBezTo>
                  <a:pt x="5628505" y="3361420"/>
                  <a:pt x="5655424" y="3356789"/>
                  <a:pt x="5663686" y="3340265"/>
                </a:cubicBezTo>
                <a:cubicBezTo>
                  <a:pt x="5673615" y="3320406"/>
                  <a:pt x="5672776" y="3296795"/>
                  <a:pt x="5676748" y="3274951"/>
                </a:cubicBezTo>
                <a:cubicBezTo>
                  <a:pt x="5676897" y="3274130"/>
                  <a:pt x="5689326" y="3174320"/>
                  <a:pt x="5702874" y="3157385"/>
                </a:cubicBezTo>
                <a:cubicBezTo>
                  <a:pt x="5712682" y="3145126"/>
                  <a:pt x="5728021" y="3138281"/>
                  <a:pt x="5742063" y="3131260"/>
                </a:cubicBezTo>
                <a:cubicBezTo>
                  <a:pt x="5777290" y="3113647"/>
                  <a:pt x="5820427" y="3099199"/>
                  <a:pt x="5859628" y="3092071"/>
                </a:cubicBezTo>
                <a:cubicBezTo>
                  <a:pt x="5889921" y="3086563"/>
                  <a:pt x="5920588" y="3083362"/>
                  <a:pt x="5951068" y="3079008"/>
                </a:cubicBezTo>
                <a:cubicBezTo>
                  <a:pt x="5962381" y="3081836"/>
                  <a:pt x="6027931" y="3096804"/>
                  <a:pt x="6042508" y="3105134"/>
                </a:cubicBezTo>
                <a:cubicBezTo>
                  <a:pt x="6061411" y="3115936"/>
                  <a:pt x="6077343" y="3131259"/>
                  <a:pt x="6094760" y="3144322"/>
                </a:cubicBezTo>
                <a:cubicBezTo>
                  <a:pt x="6103469" y="3166094"/>
                  <a:pt x="6105875" y="3191623"/>
                  <a:pt x="6120886" y="3209637"/>
                </a:cubicBezTo>
                <a:cubicBezTo>
                  <a:pt x="6129701" y="3220215"/>
                  <a:pt x="6147758" y="3216542"/>
                  <a:pt x="6160074" y="3222700"/>
                </a:cubicBezTo>
                <a:cubicBezTo>
                  <a:pt x="6174116" y="3229721"/>
                  <a:pt x="6186488" y="3239700"/>
                  <a:pt x="6199263" y="3248825"/>
                </a:cubicBezTo>
                <a:cubicBezTo>
                  <a:pt x="6216979" y="3261479"/>
                  <a:pt x="6232611" y="3277212"/>
                  <a:pt x="6251514" y="3288014"/>
                </a:cubicBezTo>
                <a:cubicBezTo>
                  <a:pt x="6263469" y="3294846"/>
                  <a:pt x="6277463" y="3297294"/>
                  <a:pt x="6290703" y="3301077"/>
                </a:cubicBezTo>
                <a:cubicBezTo>
                  <a:pt x="6418164" y="3337495"/>
                  <a:pt x="6448083" y="3318711"/>
                  <a:pt x="6643400" y="3327202"/>
                </a:cubicBezTo>
                <a:cubicBezTo>
                  <a:pt x="6775637" y="3283124"/>
                  <a:pt x="6694319" y="3298965"/>
                  <a:pt x="6891594" y="3314140"/>
                </a:cubicBezTo>
                <a:cubicBezTo>
                  <a:pt x="6914427" y="3428305"/>
                  <a:pt x="6918365" y="3418910"/>
                  <a:pt x="6891594" y="3588460"/>
                </a:cubicBezTo>
                <a:cubicBezTo>
                  <a:pt x="6889145" y="3603967"/>
                  <a:pt x="6874177" y="3614585"/>
                  <a:pt x="6865468" y="3627648"/>
                </a:cubicBezTo>
                <a:cubicBezTo>
                  <a:pt x="6842134" y="3790998"/>
                  <a:pt x="6856613" y="3673253"/>
                  <a:pt x="6839343" y="3915031"/>
                </a:cubicBezTo>
                <a:cubicBezTo>
                  <a:pt x="6839315" y="3915420"/>
                  <a:pt x="6836886" y="4126492"/>
                  <a:pt x="6800154" y="4163225"/>
                </a:cubicBezTo>
                <a:lnTo>
                  <a:pt x="6760966" y="4202414"/>
                </a:lnTo>
                <a:cubicBezTo>
                  <a:pt x="6756612" y="4219831"/>
                  <a:pt x="6753062" y="4237469"/>
                  <a:pt x="6747903" y="4254665"/>
                </a:cubicBezTo>
                <a:cubicBezTo>
                  <a:pt x="6730862" y="4311468"/>
                  <a:pt x="6731237" y="4339798"/>
                  <a:pt x="6682588" y="4372231"/>
                </a:cubicBezTo>
                <a:cubicBezTo>
                  <a:pt x="6671131" y="4379869"/>
                  <a:pt x="6656463" y="4380940"/>
                  <a:pt x="6643400" y="4385294"/>
                </a:cubicBezTo>
                <a:cubicBezTo>
                  <a:pt x="6639046" y="4398357"/>
                  <a:pt x="6635172" y="4411589"/>
                  <a:pt x="6630337" y="4424482"/>
                </a:cubicBezTo>
                <a:cubicBezTo>
                  <a:pt x="6622104" y="4446438"/>
                  <a:pt x="6606801" y="4466492"/>
                  <a:pt x="6604211" y="4489797"/>
                </a:cubicBezTo>
                <a:cubicBezTo>
                  <a:pt x="6602228" y="4507640"/>
                  <a:pt x="6613379" y="4524522"/>
                  <a:pt x="6617274" y="4542048"/>
                </a:cubicBezTo>
                <a:cubicBezTo>
                  <a:pt x="6622090" y="4563722"/>
                  <a:pt x="6618021" y="4588888"/>
                  <a:pt x="6630337" y="4607362"/>
                </a:cubicBezTo>
                <a:cubicBezTo>
                  <a:pt x="6637975" y="4618819"/>
                  <a:pt x="6655851" y="4618816"/>
                  <a:pt x="6669526" y="4620425"/>
                </a:cubicBezTo>
                <a:cubicBezTo>
                  <a:pt x="6755008" y="4630482"/>
                  <a:pt x="7054413" y="4643588"/>
                  <a:pt x="7113663" y="4646551"/>
                </a:cubicBezTo>
                <a:cubicBezTo>
                  <a:pt x="7118925" y="4649182"/>
                  <a:pt x="7189376" y="4687487"/>
                  <a:pt x="7205103" y="4685740"/>
                </a:cubicBezTo>
                <a:cubicBezTo>
                  <a:pt x="7232473" y="4682699"/>
                  <a:pt x="7256911" y="4666860"/>
                  <a:pt x="7283480" y="4659614"/>
                </a:cubicBezTo>
                <a:cubicBezTo>
                  <a:pt x="7304900" y="4653772"/>
                  <a:pt x="7327120" y="4651367"/>
                  <a:pt x="7348794" y="4646551"/>
                </a:cubicBezTo>
                <a:cubicBezTo>
                  <a:pt x="7366320" y="4642656"/>
                  <a:pt x="7383520" y="4637383"/>
                  <a:pt x="7401046" y="4633488"/>
                </a:cubicBezTo>
                <a:cubicBezTo>
                  <a:pt x="7422720" y="4628672"/>
                  <a:pt x="7444686" y="4625241"/>
                  <a:pt x="7466360" y="4620425"/>
                </a:cubicBezTo>
                <a:cubicBezTo>
                  <a:pt x="7515562" y="4609491"/>
                  <a:pt x="7514163" y="4608845"/>
                  <a:pt x="7557800" y="4594300"/>
                </a:cubicBezTo>
                <a:cubicBezTo>
                  <a:pt x="7562154" y="4581237"/>
                  <a:pt x="7566028" y="4568004"/>
                  <a:pt x="7570863" y="4555111"/>
                </a:cubicBezTo>
                <a:cubicBezTo>
                  <a:pt x="7579096" y="4533156"/>
                  <a:pt x="7596988" y="4513245"/>
                  <a:pt x="7596988" y="4489797"/>
                </a:cubicBezTo>
                <a:cubicBezTo>
                  <a:pt x="7596988" y="4413755"/>
                  <a:pt x="7592716" y="4372266"/>
                  <a:pt x="7531674" y="4346105"/>
                </a:cubicBezTo>
                <a:cubicBezTo>
                  <a:pt x="7515173" y="4339033"/>
                  <a:pt x="7496840" y="4337396"/>
                  <a:pt x="7479423" y="4333042"/>
                </a:cubicBezTo>
                <a:cubicBezTo>
                  <a:pt x="7466360" y="4319979"/>
                  <a:pt x="7454426" y="4305681"/>
                  <a:pt x="7440234" y="4293854"/>
                </a:cubicBezTo>
                <a:cubicBezTo>
                  <a:pt x="7428173" y="4283803"/>
                  <a:pt x="7409754" y="4280791"/>
                  <a:pt x="7401046" y="4267728"/>
                </a:cubicBezTo>
                <a:cubicBezTo>
                  <a:pt x="7391087" y="4252790"/>
                  <a:pt x="7392337" y="4232894"/>
                  <a:pt x="7387983" y="4215477"/>
                </a:cubicBezTo>
                <a:cubicBezTo>
                  <a:pt x="7433852" y="4032000"/>
                  <a:pt x="7399890" y="4181141"/>
                  <a:pt x="7427171" y="3758277"/>
                </a:cubicBezTo>
                <a:lnTo>
                  <a:pt x="7427171" y="3758277"/>
                </a:lnTo>
                <a:cubicBezTo>
                  <a:pt x="7431525" y="3732151"/>
                  <a:pt x="7434488" y="3705755"/>
                  <a:pt x="7440234" y="3679900"/>
                </a:cubicBezTo>
                <a:cubicBezTo>
                  <a:pt x="7449661" y="3637481"/>
                  <a:pt x="7460990" y="3631470"/>
                  <a:pt x="7479423" y="3588460"/>
                </a:cubicBezTo>
                <a:cubicBezTo>
                  <a:pt x="7484847" y="3575804"/>
                  <a:pt x="7488132" y="3562334"/>
                  <a:pt x="7492486" y="3549271"/>
                </a:cubicBezTo>
                <a:cubicBezTo>
                  <a:pt x="7496840" y="3483957"/>
                  <a:pt x="7496291" y="3418129"/>
                  <a:pt x="7505548" y="3353328"/>
                </a:cubicBezTo>
                <a:cubicBezTo>
                  <a:pt x="7509443" y="3326066"/>
                  <a:pt x="7531674" y="3274951"/>
                  <a:pt x="7531674" y="3274951"/>
                </a:cubicBezTo>
                <a:cubicBezTo>
                  <a:pt x="7794425" y="3318743"/>
                  <a:pt x="7501225" y="3274951"/>
                  <a:pt x="8132566" y="3274951"/>
                </a:cubicBezTo>
                <a:cubicBezTo>
                  <a:pt x="8163355" y="3274951"/>
                  <a:pt x="8193526" y="3283660"/>
                  <a:pt x="8224006" y="3288014"/>
                </a:cubicBezTo>
                <a:cubicBezTo>
                  <a:pt x="8210943" y="3296723"/>
                  <a:pt x="8195155" y="3302325"/>
                  <a:pt x="8184817" y="3314140"/>
                </a:cubicBezTo>
                <a:cubicBezTo>
                  <a:pt x="8164141" y="3337770"/>
                  <a:pt x="8162354" y="3382588"/>
                  <a:pt x="8132566" y="3392517"/>
                </a:cubicBezTo>
                <a:lnTo>
                  <a:pt x="8093377" y="3405580"/>
                </a:lnTo>
                <a:cubicBezTo>
                  <a:pt x="8089023" y="3422997"/>
                  <a:pt x="8085246" y="3440569"/>
                  <a:pt x="8080314" y="3457831"/>
                </a:cubicBezTo>
                <a:cubicBezTo>
                  <a:pt x="8076531" y="3471071"/>
                  <a:pt x="8069198" y="3483389"/>
                  <a:pt x="8067251" y="3497020"/>
                </a:cubicBezTo>
                <a:cubicBezTo>
                  <a:pt x="8060063" y="3547336"/>
                  <a:pt x="8043118" y="3788736"/>
                  <a:pt x="8041126" y="3823591"/>
                </a:cubicBezTo>
                <a:cubicBezTo>
                  <a:pt x="8024296" y="4118123"/>
                  <a:pt x="8079360" y="4020965"/>
                  <a:pt x="8001937" y="4137100"/>
                </a:cubicBezTo>
                <a:cubicBezTo>
                  <a:pt x="8006291" y="4154517"/>
                  <a:pt x="8015000" y="4171398"/>
                  <a:pt x="8015000" y="4189351"/>
                </a:cubicBezTo>
                <a:cubicBezTo>
                  <a:pt x="8015000" y="4193706"/>
                  <a:pt x="7995034" y="4271551"/>
                  <a:pt x="7988874" y="4280791"/>
                </a:cubicBezTo>
                <a:cubicBezTo>
                  <a:pt x="7978627" y="4296162"/>
                  <a:pt x="7962749" y="4306917"/>
                  <a:pt x="7949686" y="4319980"/>
                </a:cubicBezTo>
                <a:cubicBezTo>
                  <a:pt x="7914851" y="4424482"/>
                  <a:pt x="7967104" y="4302561"/>
                  <a:pt x="7897434" y="4372231"/>
                </a:cubicBezTo>
                <a:cubicBezTo>
                  <a:pt x="7887697" y="4381968"/>
                  <a:pt x="7888725" y="4398357"/>
                  <a:pt x="7884371" y="4411420"/>
                </a:cubicBezTo>
                <a:cubicBezTo>
                  <a:pt x="7888725" y="4441900"/>
                  <a:pt x="7885999" y="4474273"/>
                  <a:pt x="7897434" y="4502860"/>
                </a:cubicBezTo>
                <a:cubicBezTo>
                  <a:pt x="7904295" y="4520012"/>
                  <a:pt x="7922431" y="4530221"/>
                  <a:pt x="7936623" y="4542048"/>
                </a:cubicBezTo>
                <a:cubicBezTo>
                  <a:pt x="8021663" y="4612915"/>
                  <a:pt x="8081922" y="4573759"/>
                  <a:pt x="8224006" y="4581237"/>
                </a:cubicBezTo>
                <a:cubicBezTo>
                  <a:pt x="8242494" y="4583291"/>
                  <a:pt x="8386914" y="4610142"/>
                  <a:pt x="8419948" y="4581237"/>
                </a:cubicBezTo>
                <a:cubicBezTo>
                  <a:pt x="8440673" y="4563103"/>
                  <a:pt x="8437365" y="4528986"/>
                  <a:pt x="8446074" y="4502860"/>
                </a:cubicBezTo>
                <a:cubicBezTo>
                  <a:pt x="8580633" y="4517810"/>
                  <a:pt x="8604095" y="4527410"/>
                  <a:pt x="8759583" y="4502860"/>
                </a:cubicBezTo>
                <a:cubicBezTo>
                  <a:pt x="8778818" y="4499823"/>
                  <a:pt x="8794417" y="4485443"/>
                  <a:pt x="8811834" y="4476734"/>
                </a:cubicBezTo>
                <a:cubicBezTo>
                  <a:pt x="8836347" y="4403195"/>
                  <a:pt x="8829334" y="4442480"/>
                  <a:pt x="8811834" y="4319980"/>
                </a:cubicBezTo>
                <a:cubicBezTo>
                  <a:pt x="8808694" y="4298000"/>
                  <a:pt x="8808700" y="4274524"/>
                  <a:pt x="8798771" y="4254665"/>
                </a:cubicBezTo>
                <a:cubicBezTo>
                  <a:pt x="8790510" y="4238142"/>
                  <a:pt x="8775732" y="4224448"/>
                  <a:pt x="8759583" y="4215477"/>
                </a:cubicBezTo>
                <a:cubicBezTo>
                  <a:pt x="8735510" y="4202103"/>
                  <a:pt x="8681206" y="4189351"/>
                  <a:pt x="8681206" y="4189351"/>
                </a:cubicBezTo>
                <a:cubicBezTo>
                  <a:pt x="8606719" y="4090038"/>
                  <a:pt x="8679770" y="4166783"/>
                  <a:pt x="8602828" y="4124037"/>
                </a:cubicBezTo>
                <a:cubicBezTo>
                  <a:pt x="8575380" y="4108788"/>
                  <a:pt x="8524451" y="4071785"/>
                  <a:pt x="8524451" y="4071785"/>
                </a:cubicBezTo>
                <a:cubicBezTo>
                  <a:pt x="8473562" y="3919121"/>
                  <a:pt x="8539948" y="4161687"/>
                  <a:pt x="8563640" y="4019534"/>
                </a:cubicBezTo>
                <a:cubicBezTo>
                  <a:pt x="8575830" y="3946392"/>
                  <a:pt x="8554931" y="3871488"/>
                  <a:pt x="8550577" y="3797465"/>
                </a:cubicBezTo>
                <a:cubicBezTo>
                  <a:pt x="8556445" y="3627298"/>
                  <a:pt x="8489200" y="3480019"/>
                  <a:pt x="8602828" y="3366391"/>
                </a:cubicBezTo>
                <a:cubicBezTo>
                  <a:pt x="8638667" y="3330552"/>
                  <a:pt x="8657485" y="3339663"/>
                  <a:pt x="8707331" y="3327202"/>
                </a:cubicBezTo>
                <a:cubicBezTo>
                  <a:pt x="8720689" y="3323862"/>
                  <a:pt x="8733078" y="3317127"/>
                  <a:pt x="8746520" y="3314140"/>
                </a:cubicBezTo>
                <a:cubicBezTo>
                  <a:pt x="8772375" y="3308395"/>
                  <a:pt x="8799042" y="3306823"/>
                  <a:pt x="8824897" y="3301077"/>
                </a:cubicBezTo>
                <a:cubicBezTo>
                  <a:pt x="8877474" y="3289393"/>
                  <a:pt x="8981651" y="3261888"/>
                  <a:pt x="8981651" y="3261888"/>
                </a:cubicBezTo>
                <a:cubicBezTo>
                  <a:pt x="9046524" y="3164580"/>
                  <a:pt x="8963140" y="3284104"/>
                  <a:pt x="9046966" y="3183511"/>
                </a:cubicBezTo>
                <a:cubicBezTo>
                  <a:pt x="9057017" y="3171450"/>
                  <a:pt x="9060832" y="3154129"/>
                  <a:pt x="9073091" y="3144322"/>
                </a:cubicBezTo>
                <a:cubicBezTo>
                  <a:pt x="9083843" y="3135720"/>
                  <a:pt x="9099217" y="3135614"/>
                  <a:pt x="9112280" y="3131260"/>
                </a:cubicBezTo>
                <a:cubicBezTo>
                  <a:pt x="9116634" y="3113843"/>
                  <a:pt x="9120411" y="3096271"/>
                  <a:pt x="9125343" y="3079008"/>
                </a:cubicBezTo>
                <a:cubicBezTo>
                  <a:pt x="9136451" y="3040130"/>
                  <a:pt x="9145018" y="3030566"/>
                  <a:pt x="9151468" y="2987568"/>
                </a:cubicBezTo>
                <a:cubicBezTo>
                  <a:pt x="9161883" y="2918134"/>
                  <a:pt x="9168885" y="2848231"/>
                  <a:pt x="9177594" y="2778562"/>
                </a:cubicBezTo>
                <a:cubicBezTo>
                  <a:pt x="9142559" y="2638426"/>
                  <a:pt x="9182053" y="2810105"/>
                  <a:pt x="9151468" y="2504242"/>
                </a:cubicBezTo>
                <a:cubicBezTo>
                  <a:pt x="9150098" y="2490541"/>
                  <a:pt x="9147008" y="2475806"/>
                  <a:pt x="9138406" y="2465054"/>
                </a:cubicBezTo>
                <a:cubicBezTo>
                  <a:pt x="9128598" y="2452795"/>
                  <a:pt x="9112280" y="2447637"/>
                  <a:pt x="9099217" y="2438928"/>
                </a:cubicBezTo>
                <a:cubicBezTo>
                  <a:pt x="9094863" y="2417157"/>
                  <a:pt x="9097921" y="2392442"/>
                  <a:pt x="9086154" y="2373614"/>
                </a:cubicBezTo>
                <a:cubicBezTo>
                  <a:pt x="9074615" y="2355152"/>
                  <a:pt x="9049298" y="2349820"/>
                  <a:pt x="9033903" y="2334425"/>
                </a:cubicBezTo>
                <a:cubicBezTo>
                  <a:pt x="9022802" y="2323324"/>
                  <a:pt x="9016486" y="2308300"/>
                  <a:pt x="9007777" y="2295237"/>
                </a:cubicBezTo>
                <a:lnTo>
                  <a:pt x="8981651" y="2216860"/>
                </a:lnTo>
                <a:cubicBezTo>
                  <a:pt x="8977297" y="2203797"/>
                  <a:pt x="8971927" y="2191030"/>
                  <a:pt x="8968588" y="2177671"/>
                </a:cubicBezTo>
                <a:cubicBezTo>
                  <a:pt x="8964234" y="2160254"/>
                  <a:pt x="8961830" y="2142230"/>
                  <a:pt x="8955526" y="2125420"/>
                </a:cubicBezTo>
                <a:cubicBezTo>
                  <a:pt x="8948689" y="2107187"/>
                  <a:pt x="8938109" y="2090585"/>
                  <a:pt x="8929400" y="2073168"/>
                </a:cubicBezTo>
                <a:cubicBezTo>
                  <a:pt x="8954688" y="1972019"/>
                  <a:pt x="8941326" y="2065207"/>
                  <a:pt x="8929400" y="1981728"/>
                </a:cubicBezTo>
                <a:cubicBezTo>
                  <a:pt x="8922598" y="1934117"/>
                  <a:pt x="8921648" y="1885837"/>
                  <a:pt x="8916337" y="1838037"/>
                </a:cubicBezTo>
                <a:cubicBezTo>
                  <a:pt x="8912937" y="1807436"/>
                  <a:pt x="8907628" y="1777077"/>
                  <a:pt x="8903274" y="1746597"/>
                </a:cubicBezTo>
                <a:cubicBezTo>
                  <a:pt x="8903851" y="1740826"/>
                  <a:pt x="8884966" y="1589842"/>
                  <a:pt x="8955526" y="1589842"/>
                </a:cubicBezTo>
                <a:cubicBezTo>
                  <a:pt x="8971225" y="1589842"/>
                  <a:pt x="8980672" y="1608947"/>
                  <a:pt x="8994714" y="1615968"/>
                </a:cubicBezTo>
                <a:cubicBezTo>
                  <a:pt x="9007030" y="1622126"/>
                  <a:pt x="9020840" y="1624677"/>
                  <a:pt x="9033903" y="1629031"/>
                </a:cubicBezTo>
                <a:cubicBezTo>
                  <a:pt x="9041358" y="1666305"/>
                  <a:pt x="9048963" y="1709714"/>
                  <a:pt x="9060028" y="1746597"/>
                </a:cubicBezTo>
                <a:cubicBezTo>
                  <a:pt x="9067941" y="1772975"/>
                  <a:pt x="9080753" y="1797970"/>
                  <a:pt x="9086154" y="1824974"/>
                </a:cubicBezTo>
                <a:cubicBezTo>
                  <a:pt x="9090508" y="1846745"/>
                  <a:pt x="9089288" y="1870430"/>
                  <a:pt x="9099217" y="1890288"/>
                </a:cubicBezTo>
                <a:cubicBezTo>
                  <a:pt x="9107479" y="1906812"/>
                  <a:pt x="9125343" y="1916414"/>
                  <a:pt x="9138406" y="1929477"/>
                </a:cubicBezTo>
                <a:cubicBezTo>
                  <a:pt x="9147011" y="1955294"/>
                  <a:pt x="9154572" y="1989437"/>
                  <a:pt x="9177594" y="2007854"/>
                </a:cubicBezTo>
                <a:cubicBezTo>
                  <a:pt x="9188346" y="2016456"/>
                  <a:pt x="9203720" y="2016563"/>
                  <a:pt x="9216783" y="2020917"/>
                </a:cubicBezTo>
                <a:cubicBezTo>
                  <a:pt x="9257620" y="2184261"/>
                  <a:pt x="9205429" y="1981176"/>
                  <a:pt x="9242908" y="2112357"/>
                </a:cubicBezTo>
                <a:cubicBezTo>
                  <a:pt x="9247840" y="2129619"/>
                  <a:pt x="9248899" y="2148107"/>
                  <a:pt x="9255971" y="2164608"/>
                </a:cubicBezTo>
                <a:cubicBezTo>
                  <a:pt x="9262156" y="2179038"/>
                  <a:pt x="9274579" y="2190014"/>
                  <a:pt x="9282097" y="2203797"/>
                </a:cubicBezTo>
                <a:cubicBezTo>
                  <a:pt x="9313127" y="2260686"/>
                  <a:pt x="9331712" y="2292541"/>
                  <a:pt x="9347411" y="2347488"/>
                </a:cubicBezTo>
                <a:cubicBezTo>
                  <a:pt x="9352343" y="2364751"/>
                  <a:pt x="9352445" y="2383682"/>
                  <a:pt x="9360474" y="2399740"/>
                </a:cubicBezTo>
                <a:cubicBezTo>
                  <a:pt x="9374516" y="2427824"/>
                  <a:pt x="9412726" y="2478117"/>
                  <a:pt x="9412726" y="2478117"/>
                </a:cubicBezTo>
                <a:cubicBezTo>
                  <a:pt x="9422669" y="2527835"/>
                  <a:pt x="9438851" y="2600489"/>
                  <a:pt x="9438851" y="2647934"/>
                </a:cubicBezTo>
                <a:cubicBezTo>
                  <a:pt x="9438851" y="2813454"/>
                  <a:pt x="9433852" y="2978999"/>
                  <a:pt x="9425788" y="3144322"/>
                </a:cubicBezTo>
                <a:cubicBezTo>
                  <a:pt x="9425117" y="3158075"/>
                  <a:pt x="9398956" y="3183511"/>
                  <a:pt x="9412726" y="3183511"/>
                </a:cubicBezTo>
                <a:cubicBezTo>
                  <a:pt x="9428426" y="3183511"/>
                  <a:pt x="9431830" y="3158364"/>
                  <a:pt x="9438851" y="3144322"/>
                </a:cubicBezTo>
                <a:cubicBezTo>
                  <a:pt x="9445009" y="3132006"/>
                  <a:pt x="9445756" y="3117450"/>
                  <a:pt x="9451914" y="3105134"/>
                </a:cubicBezTo>
                <a:cubicBezTo>
                  <a:pt x="9502560" y="3003844"/>
                  <a:pt x="9458269" y="3125256"/>
                  <a:pt x="9491103" y="3026757"/>
                </a:cubicBezTo>
                <a:cubicBezTo>
                  <a:pt x="9482394" y="2987568"/>
                  <a:pt x="9475321" y="2947980"/>
                  <a:pt x="9464977" y="2909191"/>
                </a:cubicBezTo>
                <a:cubicBezTo>
                  <a:pt x="9457881" y="2882582"/>
                  <a:pt x="9438851" y="2830814"/>
                  <a:pt x="9438851" y="2830814"/>
                </a:cubicBezTo>
                <a:cubicBezTo>
                  <a:pt x="9434497" y="2774208"/>
                  <a:pt x="9425788" y="2717770"/>
                  <a:pt x="9425788" y="2660997"/>
                </a:cubicBezTo>
                <a:cubicBezTo>
                  <a:pt x="9425788" y="2613546"/>
                  <a:pt x="9441970" y="2540901"/>
                  <a:pt x="9451914" y="2491180"/>
                </a:cubicBezTo>
                <a:cubicBezTo>
                  <a:pt x="9447560" y="2417157"/>
                  <a:pt x="9446229" y="2342894"/>
                  <a:pt x="9438851" y="2269111"/>
                </a:cubicBezTo>
                <a:cubicBezTo>
                  <a:pt x="9437481" y="2255410"/>
                  <a:pt x="9429571" y="2243162"/>
                  <a:pt x="9425788" y="2229922"/>
                </a:cubicBezTo>
                <a:cubicBezTo>
                  <a:pt x="9416317" y="2196774"/>
                  <a:pt x="9413087" y="2169805"/>
                  <a:pt x="9399663" y="2138482"/>
                </a:cubicBezTo>
                <a:cubicBezTo>
                  <a:pt x="9391992" y="2120584"/>
                  <a:pt x="9381208" y="2104129"/>
                  <a:pt x="9373537" y="2086231"/>
                </a:cubicBezTo>
                <a:cubicBezTo>
                  <a:pt x="9368113" y="2073575"/>
                  <a:pt x="9364257" y="2060282"/>
                  <a:pt x="9360474" y="2047042"/>
                </a:cubicBezTo>
                <a:cubicBezTo>
                  <a:pt x="9355542" y="2029780"/>
                  <a:pt x="9356318" y="2010379"/>
                  <a:pt x="9347411" y="1994791"/>
                </a:cubicBezTo>
                <a:cubicBezTo>
                  <a:pt x="9338246" y="1978751"/>
                  <a:pt x="9319565" y="1970184"/>
                  <a:pt x="9308223" y="1955602"/>
                </a:cubicBezTo>
                <a:cubicBezTo>
                  <a:pt x="9288946" y="1930817"/>
                  <a:pt x="9273388" y="1903351"/>
                  <a:pt x="9255971" y="1877225"/>
                </a:cubicBezTo>
                <a:cubicBezTo>
                  <a:pt x="9247263" y="1864162"/>
                  <a:pt x="9244740" y="1843002"/>
                  <a:pt x="9229846" y="1838037"/>
                </a:cubicBezTo>
                <a:lnTo>
                  <a:pt x="9190657" y="1824974"/>
                </a:lnTo>
                <a:cubicBezTo>
                  <a:pt x="9181948" y="1798848"/>
                  <a:pt x="9179806" y="1769511"/>
                  <a:pt x="9164531" y="1746597"/>
                </a:cubicBezTo>
                <a:cubicBezTo>
                  <a:pt x="9138296" y="1707243"/>
                  <a:pt x="9132166" y="1701558"/>
                  <a:pt x="9112280" y="1655157"/>
                </a:cubicBezTo>
                <a:cubicBezTo>
                  <a:pt x="9099006" y="1624185"/>
                  <a:pt x="9101435" y="1601075"/>
                  <a:pt x="9073091" y="1576780"/>
                </a:cubicBezTo>
                <a:cubicBezTo>
                  <a:pt x="9053814" y="1560257"/>
                  <a:pt x="9029548" y="1550654"/>
                  <a:pt x="9007777" y="1537591"/>
                </a:cubicBezTo>
                <a:cubicBezTo>
                  <a:pt x="9003423" y="1524528"/>
                  <a:pt x="9005919" y="1506405"/>
                  <a:pt x="8994714" y="1498402"/>
                </a:cubicBezTo>
                <a:cubicBezTo>
                  <a:pt x="8972305" y="1482395"/>
                  <a:pt x="8940968" y="1484593"/>
                  <a:pt x="8916337" y="1472277"/>
                </a:cubicBezTo>
                <a:lnTo>
                  <a:pt x="8864086" y="1446151"/>
                </a:lnTo>
                <a:cubicBezTo>
                  <a:pt x="8834573" y="1357613"/>
                  <a:pt x="8867981" y="1465626"/>
                  <a:pt x="8837960" y="1315522"/>
                </a:cubicBezTo>
                <a:cubicBezTo>
                  <a:pt x="8835260" y="1302020"/>
                  <a:pt x="8833499" y="1287086"/>
                  <a:pt x="8824897" y="1276334"/>
                </a:cubicBezTo>
                <a:cubicBezTo>
                  <a:pt x="8815089" y="1264075"/>
                  <a:pt x="8798771" y="1258917"/>
                  <a:pt x="8785708" y="1250208"/>
                </a:cubicBezTo>
                <a:cubicBezTo>
                  <a:pt x="8777000" y="1237145"/>
                  <a:pt x="8769003" y="1223579"/>
                  <a:pt x="8759583" y="1211020"/>
                </a:cubicBezTo>
                <a:cubicBezTo>
                  <a:pt x="8742854" y="1188715"/>
                  <a:pt x="8719800" y="1170643"/>
                  <a:pt x="8707331" y="1145705"/>
                </a:cubicBezTo>
                <a:cubicBezTo>
                  <a:pt x="8697402" y="1125847"/>
                  <a:pt x="8699260" y="1102025"/>
                  <a:pt x="8694268" y="1080391"/>
                </a:cubicBezTo>
                <a:cubicBezTo>
                  <a:pt x="8686194" y="1045404"/>
                  <a:pt x="8668143" y="975888"/>
                  <a:pt x="8668143" y="975888"/>
                </a:cubicBezTo>
                <a:cubicBezTo>
                  <a:pt x="8650726" y="988951"/>
                  <a:pt x="8637444" y="1011998"/>
                  <a:pt x="8615891" y="1015077"/>
                </a:cubicBezTo>
                <a:cubicBezTo>
                  <a:pt x="8600349" y="1017297"/>
                  <a:pt x="8586754" y="1001012"/>
                  <a:pt x="8576703" y="988951"/>
                </a:cubicBezTo>
                <a:cubicBezTo>
                  <a:pt x="8542724" y="948176"/>
                  <a:pt x="8557934" y="938350"/>
                  <a:pt x="8537514" y="897511"/>
                </a:cubicBezTo>
                <a:cubicBezTo>
                  <a:pt x="8530493" y="883469"/>
                  <a:pt x="8520097" y="871385"/>
                  <a:pt x="8511388" y="858322"/>
                </a:cubicBezTo>
                <a:cubicBezTo>
                  <a:pt x="8486429" y="783440"/>
                  <a:pt x="8511728" y="836422"/>
                  <a:pt x="8419948" y="753820"/>
                </a:cubicBezTo>
                <a:cubicBezTo>
                  <a:pt x="8401639" y="737342"/>
                  <a:pt x="8383084" y="720802"/>
                  <a:pt x="8367697" y="701568"/>
                </a:cubicBezTo>
                <a:cubicBezTo>
                  <a:pt x="8348082" y="677049"/>
                  <a:pt x="8345234" y="633120"/>
                  <a:pt x="8315446" y="623191"/>
                </a:cubicBezTo>
                <a:cubicBezTo>
                  <a:pt x="8289320" y="614482"/>
                  <a:pt x="8261700" y="609381"/>
                  <a:pt x="8237068" y="597065"/>
                </a:cubicBezTo>
                <a:cubicBezTo>
                  <a:pt x="8219651" y="588357"/>
                  <a:pt x="8203290" y="577098"/>
                  <a:pt x="8184817" y="570940"/>
                </a:cubicBezTo>
                <a:cubicBezTo>
                  <a:pt x="8163754" y="563919"/>
                  <a:pt x="8141274" y="562231"/>
                  <a:pt x="8119503" y="557877"/>
                </a:cubicBezTo>
                <a:cubicBezTo>
                  <a:pt x="8089023" y="544814"/>
                  <a:pt x="8058852" y="531004"/>
                  <a:pt x="8028063" y="518688"/>
                </a:cubicBezTo>
                <a:cubicBezTo>
                  <a:pt x="8015278" y="513574"/>
                  <a:pt x="8002537" y="503917"/>
                  <a:pt x="7988874" y="505625"/>
                </a:cubicBezTo>
                <a:cubicBezTo>
                  <a:pt x="7965607" y="508533"/>
                  <a:pt x="7945515" y="523518"/>
                  <a:pt x="7923560" y="531751"/>
                </a:cubicBezTo>
                <a:cubicBezTo>
                  <a:pt x="7910667" y="536586"/>
                  <a:pt x="7897434" y="540460"/>
                  <a:pt x="7884371" y="544814"/>
                </a:cubicBezTo>
                <a:cubicBezTo>
                  <a:pt x="7749388" y="536105"/>
                  <a:pt x="7614644" y="522069"/>
                  <a:pt x="7479423" y="518688"/>
                </a:cubicBezTo>
                <a:cubicBezTo>
                  <a:pt x="7440005" y="517703"/>
                  <a:pt x="7401200" y="534374"/>
                  <a:pt x="7361857" y="531751"/>
                </a:cubicBezTo>
                <a:cubicBezTo>
                  <a:pt x="7334379" y="529919"/>
                  <a:pt x="7283480" y="505625"/>
                  <a:pt x="7283480" y="505625"/>
                </a:cubicBezTo>
                <a:cubicBezTo>
                  <a:pt x="7248646" y="514334"/>
                  <a:pt x="7214736" y="528500"/>
                  <a:pt x="7178977" y="531751"/>
                </a:cubicBezTo>
                <a:cubicBezTo>
                  <a:pt x="7165264" y="532998"/>
                  <a:pt x="7153558" y="518688"/>
                  <a:pt x="7139788" y="518688"/>
                </a:cubicBezTo>
                <a:cubicBezTo>
                  <a:pt x="7117585" y="518688"/>
                  <a:pt x="7096374" y="528101"/>
                  <a:pt x="7074474" y="531751"/>
                </a:cubicBezTo>
                <a:cubicBezTo>
                  <a:pt x="7044103" y="536813"/>
                  <a:pt x="7013514" y="540460"/>
                  <a:pt x="6983034" y="544814"/>
                </a:cubicBezTo>
                <a:cubicBezTo>
                  <a:pt x="6978680" y="557877"/>
                  <a:pt x="6979707" y="574266"/>
                  <a:pt x="6969971" y="584002"/>
                </a:cubicBezTo>
                <a:cubicBezTo>
                  <a:pt x="6937314" y="616659"/>
                  <a:pt x="6878532" y="579649"/>
                  <a:pt x="6852406" y="570940"/>
                </a:cubicBezTo>
                <a:cubicBezTo>
                  <a:pt x="6839343" y="566586"/>
                  <a:pt x="6824674" y="565515"/>
                  <a:pt x="6813217" y="557877"/>
                </a:cubicBezTo>
                <a:cubicBezTo>
                  <a:pt x="6800154" y="549168"/>
                  <a:pt x="6789667" y="533131"/>
                  <a:pt x="6774028" y="531751"/>
                </a:cubicBezTo>
                <a:cubicBezTo>
                  <a:pt x="6639498" y="519881"/>
                  <a:pt x="6504021" y="524196"/>
                  <a:pt x="6369080" y="518688"/>
                </a:cubicBezTo>
                <a:cubicBezTo>
                  <a:pt x="6121025" y="508563"/>
                  <a:pt x="6145849" y="506947"/>
                  <a:pt x="5898817" y="479500"/>
                </a:cubicBezTo>
                <a:cubicBezTo>
                  <a:pt x="5807377" y="488208"/>
                  <a:pt x="5716271" y="501801"/>
                  <a:pt x="5624497" y="505625"/>
                </a:cubicBezTo>
                <a:cubicBezTo>
                  <a:pt x="5610739" y="506198"/>
                  <a:pt x="5599078" y="492562"/>
                  <a:pt x="5585308" y="492562"/>
                </a:cubicBezTo>
                <a:cubicBezTo>
                  <a:pt x="5554519" y="492562"/>
                  <a:pt x="5524348" y="501271"/>
                  <a:pt x="5493868" y="505625"/>
                </a:cubicBezTo>
                <a:cubicBezTo>
                  <a:pt x="5403996" y="475667"/>
                  <a:pt x="5512654" y="505625"/>
                  <a:pt x="5350177" y="505625"/>
                </a:cubicBezTo>
                <a:cubicBezTo>
                  <a:pt x="5336407" y="505625"/>
                  <a:pt x="5324051" y="496916"/>
                  <a:pt x="5310988" y="492562"/>
                </a:cubicBezTo>
                <a:cubicBezTo>
                  <a:pt x="5223902" y="496916"/>
                  <a:pt x="5136687" y="499184"/>
                  <a:pt x="5049731" y="505625"/>
                </a:cubicBezTo>
                <a:cubicBezTo>
                  <a:pt x="5019026" y="507899"/>
                  <a:pt x="4987996" y="510587"/>
                  <a:pt x="4958291" y="518688"/>
                </a:cubicBezTo>
                <a:cubicBezTo>
                  <a:pt x="4939504" y="523812"/>
                  <a:pt x="4923457" y="536105"/>
                  <a:pt x="4906040" y="544814"/>
                </a:cubicBezTo>
                <a:cubicBezTo>
                  <a:pt x="4892977" y="540460"/>
                  <a:pt x="4880514" y="530043"/>
                  <a:pt x="4866851" y="531751"/>
                </a:cubicBezTo>
                <a:cubicBezTo>
                  <a:pt x="4791089" y="541221"/>
                  <a:pt x="4811780" y="553422"/>
                  <a:pt x="4775411" y="597065"/>
                </a:cubicBezTo>
                <a:cubicBezTo>
                  <a:pt x="4763584" y="611257"/>
                  <a:pt x="4748050" y="622062"/>
                  <a:pt x="4736223" y="636254"/>
                </a:cubicBezTo>
                <a:cubicBezTo>
                  <a:pt x="4726172" y="648315"/>
                  <a:pt x="4722017" y="665225"/>
                  <a:pt x="4710097" y="675442"/>
                </a:cubicBezTo>
                <a:cubicBezTo>
                  <a:pt x="4670834" y="709096"/>
                  <a:pt x="4648338" y="713446"/>
                  <a:pt x="4605594" y="727694"/>
                </a:cubicBezTo>
                <a:cubicBezTo>
                  <a:pt x="4596885" y="740757"/>
                  <a:pt x="4590569" y="755781"/>
                  <a:pt x="4579468" y="766882"/>
                </a:cubicBezTo>
                <a:cubicBezTo>
                  <a:pt x="4539925" y="806425"/>
                  <a:pt x="4532867" y="804188"/>
                  <a:pt x="4488028" y="819134"/>
                </a:cubicBezTo>
                <a:cubicBezTo>
                  <a:pt x="4466257" y="814780"/>
                  <a:pt x="4444134" y="811913"/>
                  <a:pt x="4422714" y="806071"/>
                </a:cubicBezTo>
                <a:cubicBezTo>
                  <a:pt x="4396145" y="798825"/>
                  <a:pt x="4344337" y="779945"/>
                  <a:pt x="4344337" y="779945"/>
                </a:cubicBezTo>
                <a:cubicBezTo>
                  <a:pt x="4335628" y="762528"/>
                  <a:pt x="4323335" y="746481"/>
                  <a:pt x="4318211" y="727694"/>
                </a:cubicBezTo>
                <a:cubicBezTo>
                  <a:pt x="4310110" y="697989"/>
                  <a:pt x="4309830" y="666685"/>
                  <a:pt x="4305148" y="636254"/>
                </a:cubicBezTo>
                <a:cubicBezTo>
                  <a:pt x="4301121" y="610076"/>
                  <a:pt x="4296440" y="584003"/>
                  <a:pt x="4292086" y="557877"/>
                </a:cubicBezTo>
                <a:cubicBezTo>
                  <a:pt x="4294862" y="510689"/>
                  <a:pt x="4274988" y="351100"/>
                  <a:pt x="4331274" y="283557"/>
                </a:cubicBezTo>
                <a:cubicBezTo>
                  <a:pt x="4341325" y="271496"/>
                  <a:pt x="4357400" y="266140"/>
                  <a:pt x="4370463" y="257431"/>
                </a:cubicBezTo>
                <a:cubicBezTo>
                  <a:pt x="4374817" y="244368"/>
                  <a:pt x="4389684" y="230558"/>
                  <a:pt x="4383526" y="218242"/>
                </a:cubicBezTo>
                <a:cubicBezTo>
                  <a:pt x="4377368" y="205926"/>
                  <a:pt x="4356993" y="210604"/>
                  <a:pt x="4344337" y="205180"/>
                </a:cubicBezTo>
                <a:cubicBezTo>
                  <a:pt x="4326439" y="197509"/>
                  <a:pt x="4307932" y="190372"/>
                  <a:pt x="4292086" y="179054"/>
                </a:cubicBezTo>
                <a:cubicBezTo>
                  <a:pt x="4277053" y="168316"/>
                  <a:pt x="4267089" y="151692"/>
                  <a:pt x="4252897" y="139865"/>
                </a:cubicBezTo>
                <a:cubicBezTo>
                  <a:pt x="4240836" y="129814"/>
                  <a:pt x="4226771" y="122448"/>
                  <a:pt x="4213708" y="113740"/>
                </a:cubicBezTo>
                <a:cubicBezTo>
                  <a:pt x="4209354" y="96323"/>
                  <a:pt x="4211861" y="75507"/>
                  <a:pt x="4200646" y="61488"/>
                </a:cubicBezTo>
                <a:cubicBezTo>
                  <a:pt x="4192044" y="50736"/>
                  <a:pt x="4174113" y="53849"/>
                  <a:pt x="4161457" y="48425"/>
                </a:cubicBezTo>
                <a:cubicBezTo>
                  <a:pt x="4048464" y="0"/>
                  <a:pt x="4161923" y="39872"/>
                  <a:pt x="4070017" y="9237"/>
                </a:cubicBezTo>
                <a:cubicBezTo>
                  <a:pt x="3974223" y="13591"/>
                  <a:pt x="3878222" y="14653"/>
                  <a:pt x="3782634" y="22300"/>
                </a:cubicBezTo>
                <a:cubicBezTo>
                  <a:pt x="3768909" y="23398"/>
                  <a:pt x="3757147" y="33992"/>
                  <a:pt x="3743446" y="35362"/>
                </a:cubicBezTo>
                <a:cubicBezTo>
                  <a:pt x="3669663" y="42740"/>
                  <a:pt x="3595400" y="44071"/>
                  <a:pt x="3521377" y="48425"/>
                </a:cubicBezTo>
                <a:cubicBezTo>
                  <a:pt x="3395212" y="79967"/>
                  <a:pt x="3509622" y="53591"/>
                  <a:pt x="3260120" y="87614"/>
                </a:cubicBezTo>
                <a:cubicBezTo>
                  <a:pt x="3233877" y="91193"/>
                  <a:pt x="3207438" y="94253"/>
                  <a:pt x="3181743" y="100677"/>
                </a:cubicBezTo>
                <a:cubicBezTo>
                  <a:pt x="3155026" y="107356"/>
                  <a:pt x="3103366" y="126802"/>
                  <a:pt x="3103366" y="126802"/>
                </a:cubicBezTo>
                <a:cubicBezTo>
                  <a:pt x="3033195" y="173582"/>
                  <a:pt x="3046153" y="174873"/>
                  <a:pt x="2985800" y="192117"/>
                </a:cubicBezTo>
                <a:cubicBezTo>
                  <a:pt x="2968537" y="197049"/>
                  <a:pt x="2950965" y="200826"/>
                  <a:pt x="2933548" y="205180"/>
                </a:cubicBezTo>
                <a:cubicBezTo>
                  <a:pt x="2902458" y="298451"/>
                  <a:pt x="2922699" y="260644"/>
                  <a:pt x="2881297" y="322745"/>
                </a:cubicBezTo>
                <a:cubicBezTo>
                  <a:pt x="2846463" y="427248"/>
                  <a:pt x="2898714" y="305329"/>
                  <a:pt x="2829046" y="374997"/>
                </a:cubicBezTo>
                <a:cubicBezTo>
                  <a:pt x="2748338" y="455705"/>
                  <a:pt x="2855635" y="409676"/>
                  <a:pt x="2763731" y="440311"/>
                </a:cubicBezTo>
                <a:cubicBezTo>
                  <a:pt x="2755023" y="453374"/>
                  <a:pt x="2748707" y="468399"/>
                  <a:pt x="2737606" y="479500"/>
                </a:cubicBezTo>
                <a:cubicBezTo>
                  <a:pt x="2726505" y="490601"/>
                  <a:pt x="2710478" y="495574"/>
                  <a:pt x="2698417" y="505625"/>
                </a:cubicBezTo>
                <a:cubicBezTo>
                  <a:pt x="2684225" y="517452"/>
                  <a:pt x="2672291" y="531751"/>
                  <a:pt x="2659228" y="544814"/>
                </a:cubicBezTo>
                <a:cubicBezTo>
                  <a:pt x="2626397" y="643312"/>
                  <a:pt x="2674503" y="525720"/>
                  <a:pt x="2606977" y="610128"/>
                </a:cubicBezTo>
                <a:cubicBezTo>
                  <a:pt x="2598375" y="620880"/>
                  <a:pt x="2598268" y="636254"/>
                  <a:pt x="2593914" y="649317"/>
                </a:cubicBezTo>
                <a:cubicBezTo>
                  <a:pt x="2572164" y="1214809"/>
                  <a:pt x="2609597" y="846091"/>
                  <a:pt x="2567788" y="1041202"/>
                </a:cubicBezTo>
                <a:cubicBezTo>
                  <a:pt x="2548199" y="1132617"/>
                  <a:pt x="2562895" y="1154191"/>
                  <a:pt x="2515537" y="1211020"/>
                </a:cubicBezTo>
                <a:cubicBezTo>
                  <a:pt x="2503710" y="1225212"/>
                  <a:pt x="2489411" y="1237145"/>
                  <a:pt x="2476348" y="1250208"/>
                </a:cubicBezTo>
                <a:cubicBezTo>
                  <a:pt x="2471994" y="1263271"/>
                  <a:pt x="2473022" y="1279660"/>
                  <a:pt x="2463286" y="1289397"/>
                </a:cubicBezTo>
                <a:cubicBezTo>
                  <a:pt x="2453550" y="1299134"/>
                  <a:pt x="2432100" y="1291255"/>
                  <a:pt x="2424097" y="1302460"/>
                </a:cubicBezTo>
                <a:cubicBezTo>
                  <a:pt x="2408090" y="1324869"/>
                  <a:pt x="2406680" y="1354711"/>
                  <a:pt x="2397971" y="1380837"/>
                </a:cubicBezTo>
                <a:lnTo>
                  <a:pt x="2384908" y="1420025"/>
                </a:lnTo>
                <a:cubicBezTo>
                  <a:pt x="2380554" y="1433088"/>
                  <a:pt x="2378004" y="1446898"/>
                  <a:pt x="2371846" y="1459214"/>
                </a:cubicBezTo>
                <a:cubicBezTo>
                  <a:pt x="2363137" y="1476631"/>
                  <a:pt x="2353391" y="1493567"/>
                  <a:pt x="2345720" y="1511465"/>
                </a:cubicBezTo>
                <a:cubicBezTo>
                  <a:pt x="2340296" y="1524121"/>
                  <a:pt x="2339344" y="1538617"/>
                  <a:pt x="2332657" y="1550654"/>
                </a:cubicBezTo>
                <a:cubicBezTo>
                  <a:pt x="2317408" y="1578102"/>
                  <a:pt x="2310194" y="1619102"/>
                  <a:pt x="2280406" y="1629031"/>
                </a:cubicBezTo>
                <a:cubicBezTo>
                  <a:pt x="2254280" y="1637740"/>
                  <a:pt x="2224942" y="1639881"/>
                  <a:pt x="2202028" y="1655157"/>
                </a:cubicBezTo>
                <a:cubicBezTo>
                  <a:pt x="2151383" y="1688920"/>
                  <a:pt x="2177734" y="1676317"/>
                  <a:pt x="2123651" y="1694345"/>
                </a:cubicBezTo>
                <a:cubicBezTo>
                  <a:pt x="2083040" y="1816178"/>
                  <a:pt x="2153664" y="1613753"/>
                  <a:pt x="2071400" y="1798848"/>
                </a:cubicBezTo>
                <a:cubicBezTo>
                  <a:pt x="2064109" y="1815254"/>
                  <a:pt x="2062691" y="1833683"/>
                  <a:pt x="2058337" y="1851100"/>
                </a:cubicBezTo>
                <a:cubicBezTo>
                  <a:pt x="2006756" y="1833906"/>
                  <a:pt x="2032918" y="1838037"/>
                  <a:pt x="1979960" y="1838037"/>
                </a:cubicBezTo>
              </a:path>
            </a:pathLst>
          </a:custGeom>
          <a:solidFill>
            <a:srgbClr val="00b0f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6"/>
          <p:cNvSpPr/>
          <p:nvPr/>
        </p:nvSpPr>
        <p:spPr>
          <a:xfrm>
            <a:off x="1295280" y="990720"/>
            <a:ext cx="6400800" cy="10076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mating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for most Gaussian matrices A, is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Main Conj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228600" y="464832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prove it if you replace “estimating” by “calculating,” or “most” by “al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304920" y="205740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the conjecture holds, then even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n-photon Hong-Ou-Mandel experiment would falsify the Extended Church Thesis, assuming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920" y="35812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of our paper is devoted to giving evidence for this conj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228600" y="571500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First step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Understand the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distribu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Gaussian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248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lated Result: The KLM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8088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ields an alternate proof of our first result (fast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ical algorith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80880" y="3581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., last mont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LM also yields an alternate proof of Valiant’s Theorem,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o me, more “intuitive” than Valiant’s original 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80880" y="1219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 (Knill, Laflamme, Milburn 2001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inear optics with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do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57200" y="5105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ilarly,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 Kuperberg 200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ed Freedman-Kitaev-Larsen-Wang to reprove th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ness of the Jones poly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0880" y="32004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hardness results for other quantum systems (besides noninteracting bos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C with commuting Hamiltonians can sample hard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8088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ur model solve classically-intracta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676520" y="5486400"/>
            <a:ext cx="5790960" cy="10688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ult-tolerance within the noninteracting-boson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80880" y="1219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 our main conjecture ($1,000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304920"/>
            <a:ext cx="6553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This talk will involve </a:t>
            </a:r>
            <a:r>
              <a:rPr b="1" lang="en-US" sz="3800" spc="-1" strike="noStrike">
                <a:solidFill>
                  <a:srgbClr val="ff0000"/>
                </a:solidFill>
                <a:latin typeface="Calibri"/>
              </a:rPr>
              <a:t>two </a:t>
            </a: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topics in which Mike Freedman played a pioneering rol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304920" y="2514600"/>
            <a:ext cx="8534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Quantum computing beyond qubits”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QFT, nonabelian anyons…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Yields new links between complexity and physic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Can provide new implementation propos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04920" y="457200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Quantum computing and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computers can additively estimate the Jones polynomial, which is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omplete to compute exac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Vertical Scroll 10"/>
          <p:cNvSpPr/>
          <p:nvPr/>
        </p:nvSpPr>
        <p:spPr>
          <a:xfrm>
            <a:off x="1219320" y="228600"/>
            <a:ext cx="6629400" cy="43434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1981080"/>
            <a:ext cx="98928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1981080"/>
            <a:ext cx="98928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Freeform 8"/>
          <p:cNvSpPr/>
          <p:nvPr/>
        </p:nvSpPr>
        <p:spPr>
          <a:xfrm>
            <a:off x="1752480" y="205740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5257800" y="1447920"/>
            <a:ext cx="2000160" cy="137772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905120" y="914400"/>
            <a:ext cx="518148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28600" y="4648320"/>
            <a:ext cx="853452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building a QC able to factor n&gt;&gt;15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rd!  Can’t CS “meet physics halfway” on this one?</a:t>
            </a:r>
            <a:br>
              <a:rPr sz="3000"/>
            </a:b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I.e., show computational hardness in more easily-accessible quantum 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, factoring i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5334120" y="12193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2" name="Group 32"/>
          <p:cNvGrpSpPr/>
          <p:nvPr/>
        </p:nvGrpSpPr>
        <p:grpSpPr>
          <a:xfrm>
            <a:off x="6172200" y="4648320"/>
            <a:ext cx="1676520" cy="1617480"/>
            <a:chOff x="6172200" y="4648320"/>
            <a:chExt cx="1676520" cy="1617480"/>
          </a:xfrm>
        </p:grpSpPr>
        <p:sp>
          <p:nvSpPr>
            <p:cNvPr id="63" name="Text Box 16"/>
            <p:cNvSpPr/>
            <p:nvPr/>
          </p:nvSpPr>
          <p:spPr>
            <a:xfrm>
              <a:off x="6172200" y="5715000"/>
              <a:ext cx="167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Calibri"/>
                </a:rPr>
                <a:t>BOS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9" descr=""/>
            <p:cNvPicPr/>
            <p:nvPr/>
          </p:nvPicPr>
          <p:blipFill>
            <a:blip r:embed="rId1"/>
            <a:srcRect l="11708" t="0" r="23416" b="18373"/>
            <a:stretch/>
          </p:blipFill>
          <p:spPr>
            <a:xfrm>
              <a:off x="6400800" y="4648320"/>
              <a:ext cx="1295640" cy="10382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152280" y="12193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6" name="Group 31"/>
          <p:cNvGrpSpPr/>
          <p:nvPr/>
        </p:nvGrpSpPr>
        <p:grpSpPr>
          <a:xfrm>
            <a:off x="1066680" y="4800600"/>
            <a:ext cx="1905120" cy="1541520"/>
            <a:chOff x="1066680" y="4800600"/>
            <a:chExt cx="1905120" cy="1541520"/>
          </a:xfrm>
        </p:grpSpPr>
        <p:pic>
          <p:nvPicPr>
            <p:cNvPr id="67" name="Picture 4" descr=""/>
            <p:cNvPicPr/>
            <p:nvPr/>
          </p:nvPicPr>
          <p:blipFill>
            <a:blip r:embed="rId2"/>
            <a:stretch/>
          </p:blipFill>
          <p:spPr>
            <a:xfrm>
              <a:off x="1218960" y="4800600"/>
              <a:ext cx="16894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6"/>
            <p:cNvSpPr/>
            <p:nvPr/>
          </p:nvSpPr>
          <p:spPr>
            <a:xfrm>
              <a:off x="1066680" y="5791320"/>
              <a:ext cx="190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Calibri"/>
                </a:rPr>
                <a:t>FERMI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Star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066680" y="25909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5105520" y="2590920"/>
            <a:ext cx="37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omplete [Valiant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7"/>
          <p:cNvCxnSpPr/>
          <p:nvPr/>
        </p:nvCxnSpPr>
        <p:spPr>
          <a:xfrm flipH="1">
            <a:off x="2208960" y="3429000"/>
            <a:ext cx="2520" cy="991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lg" type="arrow" w="lg"/>
            <a:tailEnd len="lg" type="arrow" w="lg"/>
          </a:ln>
        </p:spPr>
      </p:cxnSp>
      <p:cxnSp>
        <p:nvCxnSpPr>
          <p:cNvPr id="73" name="Straight Arrow Connector 28"/>
          <p:cNvCxnSpPr/>
          <p:nvPr/>
        </p:nvCxnSpPr>
        <p:spPr>
          <a:xfrm flipH="1">
            <a:off x="6933960" y="3429000"/>
            <a:ext cx="2160" cy="991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lg" type="arrow" w="lg"/>
            <a:tailEnd len="lg" type="arrow" w="lg"/>
          </a:ln>
        </p:spPr>
      </p:cxnSp>
      <p:sp>
        <p:nvSpPr>
          <p:cNvPr id="74" name="Straight Connector 30"/>
          <p:cNvSpPr/>
          <p:nvPr/>
        </p:nvSpPr>
        <p:spPr>
          <a:xfrm>
            <a:off x="5029200" y="1371600"/>
            <a:ext cx="0" cy="548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3"/>
          <p:cNvGrpSpPr/>
          <p:nvPr/>
        </p:nvGrpSpPr>
        <p:grpSpPr>
          <a:xfrm>
            <a:off x="838080" y="2209680"/>
            <a:ext cx="6226200" cy="2803680"/>
            <a:chOff x="838080" y="2209680"/>
            <a:chExt cx="6226200" cy="2803680"/>
          </a:xfrm>
        </p:grpSpPr>
        <p:pic>
          <p:nvPicPr>
            <p:cNvPr id="76" name="Picture 5" descr=""/>
            <p:cNvPicPr/>
            <p:nvPr/>
          </p:nvPicPr>
          <p:blipFill>
            <a:blip r:embed="rId3"/>
            <a:srcRect l="22399" t="3750" r="22399" b="0"/>
            <a:stretch/>
          </p:blipFill>
          <p:spPr>
            <a:xfrm>
              <a:off x="5486400" y="2666880"/>
              <a:ext cx="157788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val Callout 22"/>
            <p:cNvSpPr/>
            <p:nvPr/>
          </p:nvSpPr>
          <p:spPr>
            <a:xfrm>
              <a:off x="838080" y="2209680"/>
              <a:ext cx="4724640" cy="1143000"/>
            </a:xfrm>
            <a:prstGeom prst="wedgeEllipseCallout">
              <a:avLst>
                <a:gd name="adj1" fmla="val 55513"/>
                <a:gd name="adj2" fmla="val 71342"/>
              </a:avLst>
            </a:prstGeom>
            <a:solidFill>
              <a:srgbClr val="e4f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6"/>
            <p:cNvSpPr/>
            <p:nvPr/>
          </p:nvSpPr>
          <p:spPr>
            <a:xfrm>
              <a:off x="1142640" y="2361960"/>
              <a:ext cx="411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All I can say is, the bosons got the harder jo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304920" y="19051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80880" y="30492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is Talk: The Bosons Indeed Got The Harder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04920" y="35812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r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y contrast, a QC built of noninteracting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bos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solve a sampling problem that’s hard for classical computers, under plausibl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54100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Sampling 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utput a mat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probability weighted by |Per(A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6232680" y="5029200"/>
                <a:ext cx="27590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6"/>
          <p:cNvSpPr/>
          <p:nvPr/>
        </p:nvSpPr>
        <p:spPr>
          <a:xfrm>
            <a:off x="30492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-bos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permanents, doesn’t that mean “Nature is solving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 problems”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ut wa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04920" y="2666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, becaus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mplitudes aren’t directly observ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304920" y="3657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can’t w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Per(A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using repeated tr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304920" y="48006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, but only up to additiv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Gurvits gave a poly-time classical randomized algorithm that estimates |Per(A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ust as we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5334120" y="4267080"/>
                <a:ext cx="15714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0" name="Group 10"/>
          <p:cNvGrpSpPr/>
          <p:nvPr/>
        </p:nvGrpSpPr>
        <p:grpSpPr>
          <a:xfrm>
            <a:off x="457200" y="1828800"/>
            <a:ext cx="8458200" cy="2671200"/>
            <a:chOff x="457200" y="1828800"/>
            <a:chExt cx="8458200" cy="2671200"/>
          </a:xfrm>
        </p:grpSpPr>
        <p:sp>
          <p:nvSpPr>
            <p:cNvPr id="91" name="Text Box 16"/>
            <p:cNvSpPr/>
            <p:nvPr/>
          </p:nvSpPr>
          <p:spPr>
            <a:xfrm>
              <a:off x="457200" y="1828800"/>
              <a:ext cx="8458200" cy="2671200"/>
            </a:xfrm>
            <a:prstGeom prst="rect">
              <a:avLst/>
            </a:prstGeom>
            <a:solidFill>
              <a:srgbClr val="ffffb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New result (from my flight here)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Poly-time randomized algorithm to estimate the probability of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any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final state of a “boson computer,” to withi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/poly(n) additive err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8" descr="C:\Users\owner\AppData\Local\Microsoft\Windows\Temporary Internet Files\Content.IE5\O4OY6I2M\MC900388676[1].wmf"/>
            <p:cNvPicPr/>
            <p:nvPr/>
          </p:nvPicPr>
          <p:blipFill>
            <a:blip r:embed="rId1"/>
            <a:stretch/>
          </p:blipFill>
          <p:spPr>
            <a:xfrm>
              <a:off x="1904760" y="3276720"/>
              <a:ext cx="5105520" cy="108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rucial step we take: switching attention to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ampling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3"/>
          <p:cNvSpPr/>
          <p:nvPr/>
        </p:nvSpPr>
        <p:spPr>
          <a:xfrm>
            <a:off x="152280" y="1523880"/>
            <a:ext cx="5639040" cy="533412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533520" y="2590920"/>
            <a:ext cx="2971800" cy="396216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295280" y="2743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2438280" y="1600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6"/>
          <p:cNvSpPr/>
          <p:nvPr/>
        </p:nvSpPr>
        <p:spPr>
          <a:xfrm rot="20263200">
            <a:off x="647640" y="2999880"/>
            <a:ext cx="5210280" cy="324036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 rot="20157600">
            <a:off x="1019160" y="3679560"/>
            <a:ext cx="3994200" cy="2441520"/>
          </a:xfrm>
          <a:prstGeom prst="ellipse">
            <a:avLst/>
          </a:prstGeom>
          <a:solidFill>
            <a:srgbClr val="e4f2f4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1447920" y="5029200"/>
            <a:ext cx="1600200" cy="106668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52388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2590920" y="3886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4038480" y="2895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1447920" y="4572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2057400" y="2057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3581280" y="4648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4572000" y="35053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8"/>
          <p:cNvGrpSpPr/>
          <p:nvPr/>
        </p:nvGrpSpPr>
        <p:grpSpPr>
          <a:xfrm>
            <a:off x="6477120" y="1600200"/>
            <a:ext cx="2438280" cy="2209680"/>
            <a:chOff x="6477120" y="1600200"/>
            <a:chExt cx="2438280" cy="2209680"/>
          </a:xfrm>
        </p:grpSpPr>
        <p:sp>
          <p:nvSpPr>
            <p:cNvPr id="109" name="Rectangle 34"/>
            <p:cNvSpPr/>
            <p:nvPr/>
          </p:nvSpPr>
          <p:spPr>
            <a:xfrm>
              <a:off x="6477120" y="1600200"/>
              <a:ext cx="2438280" cy="2209680"/>
            </a:xfrm>
            <a:prstGeom prst="rect">
              <a:avLst/>
            </a:prstGeom>
            <a:solidFill>
              <a:srgbClr val="e4f2f4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8"/>
            <p:cNvSpPr/>
            <p:nvPr/>
          </p:nvSpPr>
          <p:spPr>
            <a:xfrm>
              <a:off x="6705720" y="3048120"/>
              <a:ext cx="1981080" cy="642600"/>
            </a:xfrm>
            <a:prstGeom prst="rect">
              <a:avLst/>
            </a:prstGeom>
            <a:solidFill>
              <a:srgbClr val="ffffb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Sam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8"/>
            <p:cNvSpPr/>
            <p:nvPr/>
          </p:nvSpPr>
          <p:spPr>
            <a:xfrm>
              <a:off x="6477120" y="17524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99"/>
                  </a:solidFill>
                  <a:latin typeface="Arial"/>
                </a:rPr>
                <a:t>SampBQ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35"/>
          <p:cNvSpPr/>
          <p:nvPr/>
        </p:nvSpPr>
        <p:spPr>
          <a:xfrm rot="20830200">
            <a:off x="2866680" y="2084040"/>
            <a:ext cx="457200" cy="185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7467480" y="2362320"/>
            <a:ext cx="457200" cy="820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7"/>
          <p:cNvSpPr/>
          <p:nvPr/>
        </p:nvSpPr>
        <p:spPr>
          <a:xfrm rot="21360000">
            <a:off x="2873520" y="469800"/>
            <a:ext cx="48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019920" y="4191120"/>
            <a:ext cx="2971800" cy="2226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.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any sampling problem, can define an equivalent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3"/>
          <p:cNvGrpSpPr/>
          <p:nvPr/>
        </p:nvGrpSpPr>
        <p:grpSpPr>
          <a:xfrm>
            <a:off x="228600" y="2438280"/>
            <a:ext cx="4419720" cy="1160280"/>
            <a:chOff x="228600" y="2438280"/>
            <a:chExt cx="4419720" cy="1160280"/>
          </a:xfrm>
        </p:grpSpPr>
        <p:sp>
          <p:nvSpPr>
            <p:cNvPr id="117" name="Down Arrow 71"/>
            <p:cNvSpPr/>
            <p:nvPr/>
          </p:nvSpPr>
          <p:spPr>
            <a:xfrm>
              <a:off x="228600" y="2514240"/>
              <a:ext cx="4419720" cy="10774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72"/>
            <p:cNvSpPr/>
            <p:nvPr/>
          </p:nvSpPr>
          <p:spPr>
            <a:xfrm>
              <a:off x="1905120" y="2438280"/>
              <a:ext cx="10666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ffc000"/>
                  </a:solidFill>
                  <a:latin typeface="Arial"/>
                </a:rPr>
                <a:t>U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"/>
          <p:cNvSpPr/>
          <p:nvPr/>
        </p:nvSpPr>
        <p:spPr>
          <a:xfrm>
            <a:off x="22860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Computation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8"/>
          <p:cNvGrpSpPr/>
          <p:nvPr/>
        </p:nvGrpSpPr>
        <p:grpSpPr>
          <a:xfrm>
            <a:off x="228240" y="1905120"/>
            <a:ext cx="762480" cy="457200"/>
            <a:chOff x="228240" y="1905120"/>
            <a:chExt cx="762480" cy="457200"/>
          </a:xfrm>
        </p:grpSpPr>
        <p:sp>
          <p:nvSpPr>
            <p:cNvPr id="121" name="Straight Connector 8"/>
            <p:cNvSpPr/>
            <p:nvPr/>
          </p:nvSpPr>
          <p:spPr>
            <a:xfrm>
              <a:off x="22860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9"/>
            <p:cNvSpPr/>
            <p:nvPr/>
          </p:nvSpPr>
          <p:spPr>
            <a:xfrm>
              <a:off x="99072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10"/>
            <p:cNvSpPr/>
            <p:nvPr/>
          </p:nvSpPr>
          <p:spPr>
            <a:xfrm flipH="1">
              <a:off x="228240" y="2362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9"/>
          <p:cNvGrpSpPr/>
          <p:nvPr/>
        </p:nvGrpSpPr>
        <p:grpSpPr>
          <a:xfrm>
            <a:off x="1142640" y="1905120"/>
            <a:ext cx="762480" cy="457200"/>
            <a:chOff x="1142640" y="1905120"/>
            <a:chExt cx="762480" cy="457200"/>
          </a:xfrm>
        </p:grpSpPr>
        <p:sp>
          <p:nvSpPr>
            <p:cNvPr id="125" name="Straight Connector 20"/>
            <p:cNvSpPr/>
            <p:nvPr/>
          </p:nvSpPr>
          <p:spPr>
            <a:xfrm>
              <a:off x="114300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21"/>
            <p:cNvSpPr/>
            <p:nvPr/>
          </p:nvSpPr>
          <p:spPr>
            <a:xfrm>
              <a:off x="190512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22"/>
            <p:cNvSpPr/>
            <p:nvPr/>
          </p:nvSpPr>
          <p:spPr>
            <a:xfrm flipH="1">
              <a:off x="1142640" y="2362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3"/>
          <p:cNvGrpSpPr/>
          <p:nvPr/>
        </p:nvGrpSpPr>
        <p:grpSpPr>
          <a:xfrm>
            <a:off x="2057040" y="1905120"/>
            <a:ext cx="762480" cy="457200"/>
            <a:chOff x="2057040" y="1905120"/>
            <a:chExt cx="762480" cy="457200"/>
          </a:xfrm>
        </p:grpSpPr>
        <p:sp>
          <p:nvSpPr>
            <p:cNvPr id="129" name="Straight Connector 24"/>
            <p:cNvSpPr/>
            <p:nvPr/>
          </p:nvSpPr>
          <p:spPr>
            <a:xfrm>
              <a:off x="205740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25"/>
            <p:cNvSpPr/>
            <p:nvPr/>
          </p:nvSpPr>
          <p:spPr>
            <a:xfrm>
              <a:off x="281952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26"/>
            <p:cNvSpPr/>
            <p:nvPr/>
          </p:nvSpPr>
          <p:spPr>
            <a:xfrm flipH="1">
              <a:off x="2057040" y="2362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7"/>
          <p:cNvGrpSpPr/>
          <p:nvPr/>
        </p:nvGrpSpPr>
        <p:grpSpPr>
          <a:xfrm>
            <a:off x="2971440" y="1905120"/>
            <a:ext cx="762480" cy="457200"/>
            <a:chOff x="2971440" y="1905120"/>
            <a:chExt cx="762480" cy="457200"/>
          </a:xfrm>
        </p:grpSpPr>
        <p:sp>
          <p:nvSpPr>
            <p:cNvPr id="133" name="Straight Connector 28"/>
            <p:cNvSpPr/>
            <p:nvPr/>
          </p:nvSpPr>
          <p:spPr>
            <a:xfrm>
              <a:off x="297180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29"/>
            <p:cNvSpPr/>
            <p:nvPr/>
          </p:nvSpPr>
          <p:spPr>
            <a:xfrm>
              <a:off x="373392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30"/>
            <p:cNvSpPr/>
            <p:nvPr/>
          </p:nvSpPr>
          <p:spPr>
            <a:xfrm flipH="1">
              <a:off x="2971440" y="2362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Oval 31"/>
          <p:cNvSpPr/>
          <p:nvPr/>
        </p:nvSpPr>
        <p:spPr>
          <a:xfrm>
            <a:off x="304920" y="1752480"/>
            <a:ext cx="53316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2"/>
          <p:cNvSpPr/>
          <p:nvPr/>
        </p:nvSpPr>
        <p:spPr>
          <a:xfrm>
            <a:off x="1219320" y="1752480"/>
            <a:ext cx="53316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3"/>
          <p:cNvSpPr/>
          <p:nvPr/>
        </p:nvSpPr>
        <p:spPr>
          <a:xfrm>
            <a:off x="3048120" y="1752480"/>
            <a:ext cx="53316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4"/>
          <p:cNvSpPr/>
          <p:nvPr/>
        </p:nvSpPr>
        <p:spPr>
          <a:xfrm>
            <a:off x="1219320" y="1143000"/>
            <a:ext cx="53316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5"/>
          <p:cNvGrpSpPr/>
          <p:nvPr/>
        </p:nvGrpSpPr>
        <p:grpSpPr>
          <a:xfrm>
            <a:off x="3885840" y="1905120"/>
            <a:ext cx="762480" cy="457200"/>
            <a:chOff x="3885840" y="1905120"/>
            <a:chExt cx="762480" cy="457200"/>
          </a:xfrm>
        </p:grpSpPr>
        <p:sp>
          <p:nvSpPr>
            <p:cNvPr id="141" name="Straight Connector 36"/>
            <p:cNvSpPr/>
            <p:nvPr/>
          </p:nvSpPr>
          <p:spPr>
            <a:xfrm>
              <a:off x="388620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traight Connector 37"/>
            <p:cNvSpPr/>
            <p:nvPr/>
          </p:nvSpPr>
          <p:spPr>
            <a:xfrm>
              <a:off x="4648320" y="19051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38"/>
            <p:cNvSpPr/>
            <p:nvPr/>
          </p:nvSpPr>
          <p:spPr>
            <a:xfrm flipH="1">
              <a:off x="3885840" y="236232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6"/>
          <p:cNvSpPr/>
          <p:nvPr/>
        </p:nvSpPr>
        <p:spPr>
          <a:xfrm>
            <a:off x="4724280" y="914400"/>
            <a:ext cx="441972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Basis states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S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# of bosons in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ode (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…+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68"/>
          <p:cNvGrpSpPr/>
          <p:nvPr/>
        </p:nvGrpSpPr>
        <p:grpSpPr>
          <a:xfrm>
            <a:off x="228600" y="3124080"/>
            <a:ext cx="4419720" cy="1219320"/>
            <a:chOff x="228600" y="3124080"/>
            <a:chExt cx="4419720" cy="1219320"/>
          </a:xfrm>
        </p:grpSpPr>
        <p:grpSp>
          <p:nvGrpSpPr>
            <p:cNvPr id="146" name="Group 40"/>
            <p:cNvGrpSpPr/>
            <p:nvPr/>
          </p:nvGrpSpPr>
          <p:grpSpPr>
            <a:xfrm>
              <a:off x="228600" y="3886200"/>
              <a:ext cx="761760" cy="457200"/>
              <a:chOff x="228600" y="3886200"/>
              <a:chExt cx="761760" cy="457200"/>
            </a:xfrm>
          </p:grpSpPr>
          <p:sp>
            <p:nvSpPr>
              <p:cNvPr id="147" name="Straight Connector 41"/>
              <p:cNvSpPr/>
              <p:nvPr/>
            </p:nvSpPr>
            <p:spPr>
              <a:xfrm>
                <a:off x="22860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Straight Connector 42"/>
              <p:cNvSpPr/>
              <p:nvPr/>
            </p:nvSpPr>
            <p:spPr>
              <a:xfrm>
                <a:off x="99036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Straight Connector 43"/>
              <p:cNvSpPr/>
              <p:nvPr/>
            </p:nvSpPr>
            <p:spPr>
              <a:xfrm flipH="1">
                <a:off x="228600" y="43434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44"/>
            <p:cNvGrpSpPr/>
            <p:nvPr/>
          </p:nvGrpSpPr>
          <p:grpSpPr>
            <a:xfrm>
              <a:off x="1143000" y="3886200"/>
              <a:ext cx="761760" cy="457200"/>
              <a:chOff x="1143000" y="3886200"/>
              <a:chExt cx="761760" cy="457200"/>
            </a:xfrm>
          </p:grpSpPr>
          <p:sp>
            <p:nvSpPr>
              <p:cNvPr id="151" name="Straight Connector 45"/>
              <p:cNvSpPr/>
              <p:nvPr/>
            </p:nvSpPr>
            <p:spPr>
              <a:xfrm>
                <a:off x="114300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Straight Connector 46"/>
              <p:cNvSpPr/>
              <p:nvPr/>
            </p:nvSpPr>
            <p:spPr>
              <a:xfrm>
                <a:off x="190476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Straight Connector 47"/>
              <p:cNvSpPr/>
              <p:nvPr/>
            </p:nvSpPr>
            <p:spPr>
              <a:xfrm flipH="1">
                <a:off x="1143000" y="43434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48"/>
            <p:cNvGrpSpPr/>
            <p:nvPr/>
          </p:nvGrpSpPr>
          <p:grpSpPr>
            <a:xfrm>
              <a:off x="2057400" y="3886200"/>
              <a:ext cx="761760" cy="457200"/>
              <a:chOff x="2057400" y="3886200"/>
              <a:chExt cx="761760" cy="457200"/>
            </a:xfrm>
          </p:grpSpPr>
          <p:sp>
            <p:nvSpPr>
              <p:cNvPr id="155" name="Straight Connector 49"/>
              <p:cNvSpPr/>
              <p:nvPr/>
            </p:nvSpPr>
            <p:spPr>
              <a:xfrm>
                <a:off x="205740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Straight Connector 50"/>
              <p:cNvSpPr/>
              <p:nvPr/>
            </p:nvSpPr>
            <p:spPr>
              <a:xfrm>
                <a:off x="281916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Straight Connector 51"/>
              <p:cNvSpPr/>
              <p:nvPr/>
            </p:nvSpPr>
            <p:spPr>
              <a:xfrm flipH="1">
                <a:off x="2057400" y="43434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52"/>
            <p:cNvGrpSpPr/>
            <p:nvPr/>
          </p:nvGrpSpPr>
          <p:grpSpPr>
            <a:xfrm>
              <a:off x="2971800" y="3886200"/>
              <a:ext cx="761760" cy="457200"/>
              <a:chOff x="2971800" y="3886200"/>
              <a:chExt cx="761760" cy="457200"/>
            </a:xfrm>
          </p:grpSpPr>
          <p:sp>
            <p:nvSpPr>
              <p:cNvPr id="159" name="Straight Connector 53"/>
              <p:cNvSpPr/>
              <p:nvPr/>
            </p:nvSpPr>
            <p:spPr>
              <a:xfrm>
                <a:off x="297180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Straight Connector 54"/>
              <p:cNvSpPr/>
              <p:nvPr/>
            </p:nvSpPr>
            <p:spPr>
              <a:xfrm>
                <a:off x="373356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Straight Connector 55"/>
              <p:cNvSpPr/>
              <p:nvPr/>
            </p:nvSpPr>
            <p:spPr>
              <a:xfrm flipH="1">
                <a:off x="2971800" y="43434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Oval 56"/>
            <p:cNvSpPr/>
            <p:nvPr/>
          </p:nvSpPr>
          <p:spPr>
            <a:xfrm>
              <a:off x="3962520" y="3733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7"/>
            <p:cNvSpPr/>
            <p:nvPr/>
          </p:nvSpPr>
          <p:spPr>
            <a:xfrm>
              <a:off x="3962520" y="31240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8"/>
            <p:cNvSpPr/>
            <p:nvPr/>
          </p:nvSpPr>
          <p:spPr>
            <a:xfrm>
              <a:off x="3048120" y="3733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9"/>
            <p:cNvSpPr/>
            <p:nvPr/>
          </p:nvSpPr>
          <p:spPr>
            <a:xfrm>
              <a:off x="2133720" y="3733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0"/>
            <p:cNvGrpSpPr/>
            <p:nvPr/>
          </p:nvGrpSpPr>
          <p:grpSpPr>
            <a:xfrm>
              <a:off x="3886560" y="3886200"/>
              <a:ext cx="761760" cy="457200"/>
              <a:chOff x="3886560" y="3886200"/>
              <a:chExt cx="761760" cy="457200"/>
            </a:xfrm>
          </p:grpSpPr>
          <p:sp>
            <p:nvSpPr>
              <p:cNvPr id="167" name="Straight Connector 61"/>
              <p:cNvSpPr/>
              <p:nvPr/>
            </p:nvSpPr>
            <p:spPr>
              <a:xfrm>
                <a:off x="388656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Straight Connector 62"/>
              <p:cNvSpPr/>
              <p:nvPr/>
            </p:nvSpPr>
            <p:spPr>
              <a:xfrm>
                <a:off x="4648320" y="3886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Straight Connector 63"/>
              <p:cNvSpPr/>
              <p:nvPr/>
            </p:nvSpPr>
            <p:spPr>
              <a:xfrm flipH="1">
                <a:off x="3886560" y="4343400"/>
                <a:ext cx="76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16"/>
          <p:cNvSpPr/>
          <p:nvPr/>
        </p:nvSpPr>
        <p:spPr>
          <a:xfrm>
            <a:off x="4724280" y="2514600"/>
            <a:ext cx="441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tandard initial state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65"/>
          <p:cNvSpPr/>
          <p:nvPr/>
        </p:nvSpPr>
        <p:spPr>
          <a:xfrm>
            <a:off x="2133720" y="1752480"/>
            <a:ext cx="533160" cy="533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7"/>
          <p:cNvSpPr/>
          <p:nvPr/>
        </p:nvSpPr>
        <p:spPr>
          <a:xfrm>
            <a:off x="4876920" y="3581280"/>
            <a:ext cx="4267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get to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mode-mixing unitary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9"/>
          <p:cNvSpPr/>
          <p:nvPr/>
        </p:nvSpPr>
        <p:spPr>
          <a:xfrm>
            <a:off x="304920" y="45720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 induces a unitar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U) on the n-boson states, whose entries are permanents of submatrices of 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600200" y="5638680"/>
                <a:ext cx="58626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33"/>
          <p:cNvGrpSpPr/>
          <p:nvPr/>
        </p:nvGrpSpPr>
        <p:grpSpPr>
          <a:xfrm>
            <a:off x="6095880" y="1143000"/>
            <a:ext cx="2057400" cy="1219320"/>
            <a:chOff x="6095880" y="1143000"/>
            <a:chExt cx="2057400" cy="1219320"/>
          </a:xfrm>
        </p:grpSpPr>
        <p:sp>
          <p:nvSpPr>
            <p:cNvPr id="176" name="Rectangle 28"/>
            <p:cNvSpPr/>
            <p:nvPr/>
          </p:nvSpPr>
          <p:spPr>
            <a:xfrm>
              <a:off x="609588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609588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3"/>
            <p:cNvSpPr/>
            <p:nvPr/>
          </p:nvSpPr>
          <p:spPr>
            <a:xfrm>
              <a:off x="6400440" y="12189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d1d1"/>
                  </a:solidFill>
                  <a:latin typeface="Arial"/>
                </a:rPr>
                <a:t>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9"/>
            <p:cNvSpPr/>
            <p:nvPr/>
          </p:nvSpPr>
          <p:spPr>
            <a:xfrm>
              <a:off x="754380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7"/>
            <p:cNvSpPr/>
            <p:nvPr/>
          </p:nvSpPr>
          <p:spPr>
            <a:xfrm>
              <a:off x="754380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2"/>
          <p:cNvSpPr/>
          <p:nvPr/>
        </p:nvSpPr>
        <p:spPr>
          <a:xfrm>
            <a:off x="228600" y="15228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Example: The Hong-Ou-Mandel Dip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33520" y="15238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3124080" y="3505320"/>
                <a:ext cx="2170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133720" y="1219320"/>
                <a:ext cx="28940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Oval 24"/>
          <p:cNvSpPr/>
          <p:nvPr/>
        </p:nvSpPr>
        <p:spPr>
          <a:xfrm>
            <a:off x="6248520" y="1295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5"/>
          <p:cNvSpPr/>
          <p:nvPr/>
        </p:nvSpPr>
        <p:spPr>
          <a:xfrm>
            <a:off x="6248520" y="1905120"/>
            <a:ext cx="30456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Pr[the two photons land in different modes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33520" y="441972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[they both land in the first mode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2209680" y="5029200"/>
                <a:ext cx="44784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!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8131E-006 L 0.14167 -0.01111 E">
                                      <p:cBhvr>
                                        <p:cTn id="137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6994E-006 L 0.175 -0.0666 E">
                                      <p:cBhvr>
                                        <p:cTn id="139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1-04-17T04:14:39Z</dcterms:modified>
  <cp:revision>1006</cp:revision>
  <dc:subject/>
  <dc:title>The Learnability of Quantum States</dc:title>
</cp:coreProperties>
</file>