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73F-8256-4E22-8760-EF8BE6778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D910-4287-49D6-89FE-6CB9633A86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B51F-F026-449B-A316-65EFED4A3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B8AE-C408-4D56-B6EB-AB38BA5DBF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6B6C-CDA6-4BF2-B975-A07EBC61D7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5609-4A92-492B-B148-D13D752B03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85FB-1653-4564-AFC8-315C4565C1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C05C-CECF-426A-8145-381A48F032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4CFC-BCCD-43F0-A5D0-ED8976D51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5572-EB04-4F72-84B8-15525B71DE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4F26-92E4-44BC-915B-272E96620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B245-D885-425F-8522-A180975BFA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9769-B2B0-4842-A41B-0D2A9D6242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584E-4820-40E0-80DA-EFC7A54F1D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434-DA8E-4A96-A048-6EAC5EC165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8978-40CC-4D85-BACC-2483F08192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18A9-C421-4DA0-ACB7-EF5D335272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E8C-9C5E-47BC-B15A-539A735120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5297-80AB-4800-AE44-D28014F05A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C78-0625-4106-8873-464636E6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0AA-1BF2-4BC8-9A76-8CA5B5CA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018-1330-4C7B-96A3-71D0E21A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8CC-5B7F-4982-88E7-B4A70687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1F9-515F-44C4-B9F0-4DC548F7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2B2-408D-4CB7-804F-0B7AE97C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E6E-5747-4434-B2C1-CEC4DC4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3B5-1AAB-4F72-BDA1-3BBCF398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03D-385E-49F6-9946-A8CA72BC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F98-8AFC-41FD-84D8-FC7E63B7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38D-E100-43C6-8AF9-9A58AD1A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432-462E-4CE3-AE7D-FF8AD69C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09CA-92D5-4566-8D02-48028E35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1447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From EPR to BQP”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antum Computing as 2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Century Bell Inequality Violation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562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ll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84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3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permanental probability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4"/>
          <p:cNvSpPr/>
          <p:nvPr/>
        </p:nvSpPr>
        <p:spPr>
          <a:xfrm>
            <a:off x="609480" y="5257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ubtitle 4"/>
          <p:cNvSpPr/>
          <p:nvPr/>
        </p:nvSpPr>
        <p:spPr>
          <a:xfrm>
            <a:off x="436680" y="3276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ard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6781680" y="447048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ubtitle 4"/>
          <p:cNvSpPr/>
          <p:nvPr/>
        </p:nvSpPr>
        <p:spPr>
          <a:xfrm>
            <a:off x="1333440" y="377676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14300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126" name="Subtitle 4"/>
          <p:cNvSpPr/>
          <p:nvPr/>
        </p:nvSpPr>
        <p:spPr>
          <a:xfrm>
            <a:off x="609480" y="494676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s there “cheating” (reliance on postselection)?  Sure!  Just like with many other current quantum computing experi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ubtitle 4"/>
          <p:cNvSpPr/>
          <p:nvPr/>
        </p:nvSpPr>
        <p:spPr>
          <a:xfrm>
            <a:off x="477720" y="126360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Oxford, Rome, and Vienna reported the first 3-photon BosonSampling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ubtitle 4"/>
          <p:cNvSpPr/>
          <p:nvPr/>
        </p:nvSpPr>
        <p:spPr>
          <a:xfrm>
            <a:off x="455760" y="25909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ubtitle 4"/>
          <p:cNvSpPr/>
          <p:nvPr/>
        </p:nvSpPr>
        <p:spPr>
          <a:xfrm>
            <a:off x="45720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ubtitle 4"/>
          <p:cNvSpPr/>
          <p:nvPr/>
        </p:nvSpPr>
        <p:spPr>
          <a:xfrm>
            <a:off x="380880" y="5181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tical Challeng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how that, even with (say) Gaussian inputs or modest photon losses, you’re still solving a classically-intractable sampl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4"/>
          <p:cNvSpPr/>
          <p:nvPr/>
        </p:nvSpPr>
        <p:spPr>
          <a:xfrm>
            <a:off x="446040" y="1523880"/>
            <a:ext cx="8393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you ignore ‘side information’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(i.e., which actual photodetectors light up in a given output stat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count only the number of times each output state occurs.  In that case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exponentially-close to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ubtitle 4"/>
          <p:cNvSpPr/>
          <p:nvPr/>
        </p:nvSpPr>
        <p:spPr>
          <a:xfrm>
            <a:off x="446040" y="4191120"/>
            <a:ext cx="8480520" cy="19047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ude, why on earth would you ignore which detectors light up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output of Shor’s factoring algorithm is also gobbledygook if you ignore the order of the output bi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522360" y="167652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K, so mayb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n’t close to uniform.  Still, the very same arguments [A.-Arkhipov] gave for why polynomial-time classical algorithms can’t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ggest that they can’t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t from 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4"/>
          <p:cNvSpPr/>
          <p:nvPr/>
        </p:nvSpPr>
        <p:spPr>
          <a:xfrm>
            <a:off x="522360" y="3962520"/>
            <a:ext cx="8164440" cy="2514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’s exactly why we suggested to focus on 10-30 photons—a range where a classical compute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verify the BosonSampling device’s output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BosonSampling device is “faster”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And 10-30 photons is likely the best you can do anyway, without fault-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457200" y="615960"/>
            <a:ext cx="9925200" cy="6251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380880" y="22860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ven More Decisive Responses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paper 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ubtitle 4"/>
          <p:cNvSpPr/>
          <p:nvPr/>
        </p:nvSpPr>
        <p:spPr>
          <a:xfrm>
            <a:off x="1523880" y="15796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 Haar-random BosonSampling matrix, where m&gt;&gt;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Then with overwhelming probability over A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as variation distance at least 0.313 from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4"/>
          <p:cNvSpPr/>
          <p:nvPr/>
        </p:nvSpPr>
        <p:spPr>
          <a:xfrm flipV="1">
            <a:off x="4800600" y="-360"/>
            <a:ext cx="0" cy="65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4"/>
          <p:cNvSpPr/>
          <p:nvPr/>
        </p:nvSpPr>
        <p:spPr>
          <a:xfrm>
            <a:off x="480060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er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ubtitle 4"/>
          <p:cNvSpPr/>
          <p:nvPr/>
        </p:nvSpPr>
        <p:spPr>
          <a:xfrm>
            <a:off x="1219320" y="440064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Histogram of (normalized) probabilities under D</a:t>
            </a:r>
            <a:r>
              <a:rPr b="0" i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ubtitle 4"/>
          <p:cNvSpPr/>
          <p:nvPr/>
        </p:nvSpPr>
        <p:spPr>
          <a:xfrm>
            <a:off x="27612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.  Then 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 classical polynomial-time algorithm C(A) that distinguishes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ith high probability over A and constant bias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Subtitle 4"/>
            <p:cNvSpPr/>
            <p:nvPr/>
          </p:nvSpPr>
          <p:spPr>
            <a:xfrm>
              <a:off x="4952880" y="3809520"/>
              <a:ext cx="3962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ubtitle 4"/>
            <p:cNvSpPr/>
            <p:nvPr/>
          </p:nvSpPr>
          <p:spPr>
            <a:xfrm>
              <a:off x="5462640" y="487548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50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51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52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ubtitle 4"/>
            <p:cNvSpPr/>
            <p:nvPr/>
          </p:nvSpPr>
          <p:spPr>
            <a:xfrm>
              <a:off x="1461240" y="5180400"/>
              <a:ext cx="468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28680" y="13824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ubtitle 4"/>
          <p:cNvSpPr/>
          <p:nvPr/>
        </p:nvSpPr>
        <p:spPr>
          <a:xfrm>
            <a:off x="328680" y="990720"/>
            <a:ext cx="8510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 advocate that our community approach QC experiments as we approached the Bell experiments: as an exciting scientific quest to rule out “polynomial-time hidden-variable theori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ith any practical applications a “bonus” for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ubtitle 4"/>
          <p:cNvSpPr/>
          <p:nvPr/>
        </p:nvSpPr>
        <p:spPr>
          <a:xfrm>
            <a:off x="328680" y="2862360"/>
            <a:ext cx="851040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is perspective 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onstrain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: It puts the question of classical hardness front and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But mostly it’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libera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: It means we can aim, not only for universal QC, but f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y quantum system whatsoeve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at doe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yth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hat we can argue is asymptotically hard to simulate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ubtitle 4"/>
          <p:cNvSpPr/>
          <p:nvPr/>
        </p:nvSpPr>
        <p:spPr>
          <a:xfrm>
            <a:off x="328680" y="5638680"/>
            <a:ext cx="8510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 is just one example of what this perspective can lead us to think about.  I expect many mor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Quantum Computing Is Like Bell Inequality Vi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1828800"/>
            <a:ext cx="8267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volutionary insight abo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what can be d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using QM—and about wha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done by any classical simulation of some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btitle 4"/>
          <p:cNvSpPr/>
          <p:nvPr/>
        </p:nvSpPr>
        <p:spPr>
          <a:xfrm>
            <a:off x="495360" y="323856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t one level, “just” a logical consequence of 1920s QM—yet wasn’t discovered till decades afte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4"/>
          <p:cNvSpPr/>
          <p:nvPr/>
        </p:nvSpPr>
        <p:spPr>
          <a:xfrm>
            <a:off x="473040" y="42480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heds light on murky philosophical issu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“spooky action at a distance” / “huge size of configuration space”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perationaliz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btitle 4"/>
          <p:cNvSpPr/>
          <p:nvPr/>
        </p:nvSpPr>
        <p:spPr>
          <a:xfrm>
            <a:off x="473040" y="57164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hallenges an “obvious” classical assumption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Local Hidden Variables / Extended Church-Turing The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Quantum Computing Is Like Bell Inequality Vi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416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ll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eople think it lets you signa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QC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ople think it lets you solv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ubtitle 4"/>
          <p:cNvSpPr/>
          <p:nvPr/>
        </p:nvSpPr>
        <p:spPr>
          <a:xfrm>
            <a:off x="453960" y="289404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the truth is subtler! 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You can “merely” win CHSH 85% of the time / factor int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ubtitle 4"/>
          <p:cNvSpPr/>
          <p:nvPr/>
        </p:nvSpPr>
        <p:spPr>
          <a:xfrm>
            <a:off x="431640" y="5192640"/>
            <a:ext cx="829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assically, the resources needed to win CHSH could also signal, while those needed to factor could also solv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.  But quantum is differ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ubtitle 4"/>
          <p:cNvSpPr/>
          <p:nvPr/>
        </p:nvSpPr>
        <p:spPr>
          <a:xfrm>
            <a:off x="431640" y="3822840"/>
            <a:ext cx="851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ven in QM, signaling is still impossible,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 are still believed to be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Calibri"/>
              </a:rPr>
              <a:t>Tsirelson bound, collision lower bound, etc. constrain QM even more shar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Quantum Computing Is Like Bell Inequality Vi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1827360"/>
            <a:ext cx="8496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mmediately suggests a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—one that’s beyond the technology at the time it’s proposed, but not obviously beyond the technology of a few decade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ubtitle 4"/>
          <p:cNvSpPr/>
          <p:nvPr/>
        </p:nvSpPr>
        <p:spPr>
          <a:xfrm>
            <a:off x="380880" y="34290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om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Ho-hum, the outcome will just confirm Q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ther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This is so crazy, it amounts to a proof that new physical principles have to prevent 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ubtitle 4"/>
          <p:cNvSpPr/>
          <p:nvPr/>
        </p:nvSpPr>
        <p:spPr>
          <a:xfrm>
            <a:off x="380880" y="51055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ven after an experiment is done, it remains to close various loopholes.  (For example, related to the use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ostsel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22860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h, but quantum computing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(supposed to be) 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seful!  Isn’t that an important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82360" y="2519280"/>
            <a:ext cx="5676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nstein-certified rando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ubtitle 4"/>
          <p:cNvSpPr/>
          <p:nvPr/>
        </p:nvSpPr>
        <p:spPr>
          <a:xfrm>
            <a:off x="1028880" y="5943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urns out Bell inequality violation is useful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528480" y="3782880"/>
            <a:ext cx="5267520" cy="1835280"/>
            <a:chOff x="528480" y="3782880"/>
            <a:chExt cx="5267520" cy="1835280"/>
          </a:xfrm>
        </p:grpSpPr>
        <p:sp>
          <p:nvSpPr>
            <p:cNvPr id="68" name="Subtitle 4"/>
            <p:cNvSpPr/>
            <p:nvPr/>
          </p:nvSpPr>
          <p:spPr>
            <a:xfrm>
              <a:off x="958680" y="3782880"/>
              <a:ext cx="411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evice-independent QK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Cube 1"/>
            <p:cNvSpPr/>
            <p:nvPr/>
          </p:nvSpPr>
          <p:spPr>
            <a:xfrm>
              <a:off x="528480" y="4398120"/>
              <a:ext cx="1218960" cy="122004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ube 10"/>
            <p:cNvSpPr/>
            <p:nvPr/>
          </p:nvSpPr>
          <p:spPr>
            <a:xfrm>
              <a:off x="4577040" y="4394520"/>
              <a:ext cx="1218960" cy="122004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9"/>
            <p:cNvGrpSpPr/>
            <p:nvPr/>
          </p:nvGrpSpPr>
          <p:grpSpPr>
            <a:xfrm>
              <a:off x="845640" y="4703400"/>
              <a:ext cx="4495680" cy="709920"/>
              <a:chOff x="845640" y="4703400"/>
              <a:chExt cx="4495680" cy="709920"/>
            </a:xfrm>
          </p:grpSpPr>
          <p:sp>
            <p:nvSpPr>
              <p:cNvPr id="72" name="Freeform 13"/>
              <p:cNvSpPr/>
              <p:nvPr/>
            </p:nvSpPr>
            <p:spPr>
              <a:xfrm rot="5400000">
                <a:off x="2738520" y="2810160"/>
                <a:ext cx="709920" cy="4495680"/>
              </a:xfrm>
              <a:custGeom>
                <a:avLst/>
                <a:gdLst>
                  <a:gd name="textAreaLeft" fmla="*/ 0 w 709920"/>
                  <a:gd name="textAreaRight" fmla="*/ 710280 w 709920"/>
                  <a:gd name="textAreaTop" fmla="*/ 0 h 4495680"/>
                  <a:gd name="textAreaBottom" fmla="*/ 4496040 h 4495680"/>
                </a:gdLst>
                <a:ahLst/>
                <a:rect l="textAreaLeft" t="textAreaTop" r="textAreaRight" b="textAreaBottom"/>
                <a:pathLst>
                  <a:path w="499" h="5764">
                    <a:moveTo>
                      <a:pt x="249" y="5616"/>
                    </a:moveTo>
                    <a:lnTo>
                      <a:pt x="249" y="5764"/>
                    </a:lnTo>
                    <a:lnTo>
                      <a:pt x="358" y="5725"/>
                    </a:lnTo>
                    <a:lnTo>
                      <a:pt x="435" y="5630"/>
                    </a:lnTo>
                    <a:lnTo>
                      <a:pt x="482" y="5494"/>
                    </a:lnTo>
                    <a:lnTo>
                      <a:pt x="499" y="5338"/>
                    </a:lnTo>
                    <a:lnTo>
                      <a:pt x="482" y="5181"/>
                    </a:lnTo>
                    <a:lnTo>
                      <a:pt x="435" y="5044"/>
                    </a:lnTo>
                    <a:lnTo>
                      <a:pt x="358" y="4948"/>
                    </a:lnTo>
                    <a:lnTo>
                      <a:pt x="249" y="4913"/>
                    </a:lnTo>
                    <a:lnTo>
                      <a:pt x="178" y="4889"/>
                    </a:lnTo>
                    <a:lnTo>
                      <a:pt x="127" y="4826"/>
                    </a:lnTo>
                    <a:lnTo>
                      <a:pt x="97" y="4738"/>
                    </a:lnTo>
                    <a:lnTo>
                      <a:pt x="88" y="4637"/>
                    </a:lnTo>
                    <a:lnTo>
                      <a:pt x="97" y="4534"/>
                    </a:lnTo>
                    <a:lnTo>
                      <a:pt x="127" y="4447"/>
                    </a:lnTo>
                    <a:lnTo>
                      <a:pt x="178" y="4385"/>
                    </a:lnTo>
                    <a:lnTo>
                      <a:pt x="249" y="4362"/>
                    </a:lnTo>
                    <a:lnTo>
                      <a:pt x="358" y="4324"/>
                    </a:lnTo>
                    <a:lnTo>
                      <a:pt x="435" y="4227"/>
                    </a:lnTo>
                    <a:lnTo>
                      <a:pt x="482" y="4091"/>
                    </a:lnTo>
                    <a:lnTo>
                      <a:pt x="499" y="3935"/>
                    </a:lnTo>
                    <a:lnTo>
                      <a:pt x="482" y="3778"/>
                    </a:lnTo>
                    <a:lnTo>
                      <a:pt x="435" y="3642"/>
                    </a:lnTo>
                    <a:lnTo>
                      <a:pt x="358" y="3545"/>
                    </a:lnTo>
                    <a:lnTo>
                      <a:pt x="249" y="3510"/>
                    </a:lnTo>
                    <a:lnTo>
                      <a:pt x="178" y="3486"/>
                    </a:lnTo>
                    <a:lnTo>
                      <a:pt x="127" y="3423"/>
                    </a:lnTo>
                    <a:lnTo>
                      <a:pt x="97" y="3335"/>
                    </a:lnTo>
                    <a:lnTo>
                      <a:pt x="88" y="3234"/>
                    </a:lnTo>
                    <a:lnTo>
                      <a:pt x="97" y="3131"/>
                    </a:lnTo>
                    <a:lnTo>
                      <a:pt x="127" y="3043"/>
                    </a:lnTo>
                    <a:lnTo>
                      <a:pt x="178" y="2980"/>
                    </a:lnTo>
                    <a:lnTo>
                      <a:pt x="249" y="2958"/>
                    </a:lnTo>
                    <a:lnTo>
                      <a:pt x="358" y="2919"/>
                    </a:lnTo>
                    <a:lnTo>
                      <a:pt x="435" y="2825"/>
                    </a:lnTo>
                    <a:lnTo>
                      <a:pt x="482" y="2688"/>
                    </a:lnTo>
                    <a:lnTo>
                      <a:pt x="499" y="2532"/>
                    </a:lnTo>
                    <a:lnTo>
                      <a:pt x="482" y="2375"/>
                    </a:lnTo>
                    <a:lnTo>
                      <a:pt x="435" y="2239"/>
                    </a:lnTo>
                    <a:lnTo>
                      <a:pt x="358" y="2142"/>
                    </a:lnTo>
                    <a:lnTo>
                      <a:pt x="249" y="2107"/>
                    </a:lnTo>
                    <a:lnTo>
                      <a:pt x="178" y="2081"/>
                    </a:lnTo>
                    <a:lnTo>
                      <a:pt x="127" y="2019"/>
                    </a:lnTo>
                    <a:lnTo>
                      <a:pt x="97" y="1931"/>
                    </a:lnTo>
                    <a:lnTo>
                      <a:pt x="88" y="1829"/>
                    </a:lnTo>
                    <a:lnTo>
                      <a:pt x="97" y="1727"/>
                    </a:lnTo>
                    <a:lnTo>
                      <a:pt x="127" y="1638"/>
                    </a:lnTo>
                    <a:lnTo>
                      <a:pt x="178" y="1576"/>
                    </a:lnTo>
                    <a:lnTo>
                      <a:pt x="249" y="1553"/>
                    </a:lnTo>
                    <a:lnTo>
                      <a:pt x="358" y="1515"/>
                    </a:lnTo>
                    <a:lnTo>
                      <a:pt x="435" y="1420"/>
                    </a:lnTo>
                    <a:lnTo>
                      <a:pt x="482" y="1284"/>
                    </a:lnTo>
                    <a:lnTo>
                      <a:pt x="499" y="1128"/>
                    </a:lnTo>
                    <a:lnTo>
                      <a:pt x="482" y="971"/>
                    </a:lnTo>
                    <a:lnTo>
                      <a:pt x="435" y="834"/>
                    </a:lnTo>
                    <a:lnTo>
                      <a:pt x="358" y="738"/>
                    </a:lnTo>
                    <a:lnTo>
                      <a:pt x="249" y="703"/>
                    </a:lnTo>
                    <a:lnTo>
                      <a:pt x="178" y="677"/>
                    </a:lnTo>
                    <a:lnTo>
                      <a:pt x="127" y="614"/>
                    </a:lnTo>
                    <a:lnTo>
                      <a:pt x="97" y="526"/>
                    </a:lnTo>
                    <a:lnTo>
                      <a:pt x="88" y="425"/>
                    </a:lnTo>
                    <a:lnTo>
                      <a:pt x="97" y="322"/>
                    </a:lnTo>
                    <a:lnTo>
                      <a:pt x="127" y="234"/>
                    </a:lnTo>
                    <a:lnTo>
                      <a:pt x="178" y="171"/>
                    </a:lnTo>
                    <a:lnTo>
                      <a:pt x="249" y="149"/>
                    </a:lnTo>
                    <a:lnTo>
                      <a:pt x="249" y="0"/>
                    </a:lnTo>
                    <a:lnTo>
                      <a:pt x="139" y="35"/>
                    </a:lnTo>
                    <a:lnTo>
                      <a:pt x="62" y="131"/>
                    </a:lnTo>
                    <a:lnTo>
                      <a:pt x="15" y="268"/>
                    </a:lnTo>
                    <a:lnTo>
                      <a:pt x="0" y="425"/>
                    </a:lnTo>
                    <a:lnTo>
                      <a:pt x="15" y="581"/>
                    </a:lnTo>
                    <a:lnTo>
                      <a:pt x="62" y="717"/>
                    </a:lnTo>
                    <a:lnTo>
                      <a:pt x="139" y="813"/>
                    </a:lnTo>
                    <a:lnTo>
                      <a:pt x="249" y="852"/>
                    </a:lnTo>
                    <a:lnTo>
                      <a:pt x="319" y="874"/>
                    </a:lnTo>
                    <a:lnTo>
                      <a:pt x="370" y="937"/>
                    </a:lnTo>
                    <a:lnTo>
                      <a:pt x="400" y="1025"/>
                    </a:lnTo>
                    <a:lnTo>
                      <a:pt x="411" y="1128"/>
                    </a:lnTo>
                    <a:lnTo>
                      <a:pt x="400" y="1229"/>
                    </a:lnTo>
                    <a:lnTo>
                      <a:pt x="370" y="1317"/>
                    </a:lnTo>
                    <a:lnTo>
                      <a:pt x="319" y="1380"/>
                    </a:lnTo>
                    <a:lnTo>
                      <a:pt x="249" y="1404"/>
                    </a:lnTo>
                    <a:lnTo>
                      <a:pt x="139" y="1439"/>
                    </a:lnTo>
                    <a:lnTo>
                      <a:pt x="62" y="1536"/>
                    </a:lnTo>
                    <a:lnTo>
                      <a:pt x="15" y="1672"/>
                    </a:lnTo>
                    <a:lnTo>
                      <a:pt x="0" y="1829"/>
                    </a:lnTo>
                    <a:lnTo>
                      <a:pt x="15" y="1985"/>
                    </a:lnTo>
                    <a:lnTo>
                      <a:pt x="62" y="2122"/>
                    </a:lnTo>
                    <a:lnTo>
                      <a:pt x="139" y="2216"/>
                    </a:lnTo>
                    <a:lnTo>
                      <a:pt x="249" y="2255"/>
                    </a:lnTo>
                    <a:lnTo>
                      <a:pt x="319" y="2277"/>
                    </a:lnTo>
                    <a:lnTo>
                      <a:pt x="370" y="2340"/>
                    </a:lnTo>
                    <a:lnTo>
                      <a:pt x="400" y="2428"/>
                    </a:lnTo>
                    <a:lnTo>
                      <a:pt x="411" y="2531"/>
                    </a:lnTo>
                    <a:lnTo>
                      <a:pt x="400" y="2632"/>
                    </a:lnTo>
                    <a:lnTo>
                      <a:pt x="370" y="2720"/>
                    </a:lnTo>
                    <a:lnTo>
                      <a:pt x="319" y="2783"/>
                    </a:lnTo>
                    <a:lnTo>
                      <a:pt x="249" y="2809"/>
                    </a:lnTo>
                    <a:lnTo>
                      <a:pt x="139" y="2844"/>
                    </a:lnTo>
                    <a:lnTo>
                      <a:pt x="62" y="2940"/>
                    </a:lnTo>
                    <a:lnTo>
                      <a:pt x="15" y="3077"/>
                    </a:lnTo>
                    <a:lnTo>
                      <a:pt x="0" y="3232"/>
                    </a:lnTo>
                    <a:lnTo>
                      <a:pt x="15" y="3388"/>
                    </a:lnTo>
                    <a:lnTo>
                      <a:pt x="62" y="3524"/>
                    </a:lnTo>
                    <a:lnTo>
                      <a:pt x="139" y="3619"/>
                    </a:lnTo>
                    <a:lnTo>
                      <a:pt x="249" y="3658"/>
                    </a:lnTo>
                    <a:lnTo>
                      <a:pt x="319" y="3680"/>
                    </a:lnTo>
                    <a:lnTo>
                      <a:pt x="370" y="3743"/>
                    </a:lnTo>
                    <a:lnTo>
                      <a:pt x="400" y="3831"/>
                    </a:lnTo>
                    <a:lnTo>
                      <a:pt x="411" y="3935"/>
                    </a:lnTo>
                    <a:lnTo>
                      <a:pt x="400" y="4036"/>
                    </a:lnTo>
                    <a:lnTo>
                      <a:pt x="370" y="4125"/>
                    </a:lnTo>
                    <a:lnTo>
                      <a:pt x="319" y="4187"/>
                    </a:lnTo>
                    <a:lnTo>
                      <a:pt x="249" y="4213"/>
                    </a:lnTo>
                    <a:lnTo>
                      <a:pt x="139" y="4248"/>
                    </a:lnTo>
                    <a:lnTo>
                      <a:pt x="62" y="4345"/>
                    </a:lnTo>
                    <a:lnTo>
                      <a:pt x="15" y="4481"/>
                    </a:lnTo>
                    <a:lnTo>
                      <a:pt x="0" y="4637"/>
                    </a:lnTo>
                    <a:lnTo>
                      <a:pt x="15" y="4792"/>
                    </a:lnTo>
                    <a:lnTo>
                      <a:pt x="62" y="4929"/>
                    </a:lnTo>
                    <a:lnTo>
                      <a:pt x="139" y="5024"/>
                    </a:lnTo>
                    <a:lnTo>
                      <a:pt x="249" y="5062"/>
                    </a:lnTo>
                    <a:lnTo>
                      <a:pt x="319" y="5085"/>
                    </a:lnTo>
                    <a:lnTo>
                      <a:pt x="370" y="5147"/>
                    </a:lnTo>
                    <a:lnTo>
                      <a:pt x="400" y="5235"/>
                    </a:lnTo>
                    <a:lnTo>
                      <a:pt x="411" y="5338"/>
                    </a:lnTo>
                    <a:lnTo>
                      <a:pt x="400" y="5439"/>
                    </a:lnTo>
                    <a:lnTo>
                      <a:pt x="370" y="5528"/>
                    </a:lnTo>
                    <a:lnTo>
                      <a:pt x="319" y="5590"/>
                    </a:lnTo>
                    <a:lnTo>
                      <a:pt x="249" y="5616"/>
                    </a:lnTo>
                    <a:close/>
                  </a:path>
                </a:pathLst>
              </a:custGeom>
              <a:solidFill>
                <a:srgbClr val="7a451f"/>
              </a:solidFill>
              <a:ln w="19080">
                <a:solidFill>
                  <a:srgbClr val="6b360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rot="5400000">
                <a:off x="2759040" y="2826720"/>
                <a:ext cx="670320" cy="4462920"/>
              </a:xfrm>
              <a:custGeom>
                <a:avLst/>
                <a:gdLst>
                  <a:gd name="textAreaLeft" fmla="*/ 0 w 670320"/>
                  <a:gd name="textAreaRight" fmla="*/ 670680 w 670320"/>
                  <a:gd name="textAreaTop" fmla="*/ 0 h 4462920"/>
                  <a:gd name="textAreaBottom" fmla="*/ 4463280 h 4462920"/>
                </a:gdLst>
                <a:ahLst/>
                <a:rect l="textAreaLeft" t="textAreaTop" r="textAreaRight" b="textAreaBottom"/>
                <a:pathLst>
                  <a:path w="471" h="5723">
                    <a:moveTo>
                      <a:pt x="235" y="5618"/>
                    </a:moveTo>
                    <a:lnTo>
                      <a:pt x="235" y="5631"/>
                    </a:lnTo>
                    <a:lnTo>
                      <a:pt x="235" y="5644"/>
                    </a:lnTo>
                    <a:lnTo>
                      <a:pt x="235" y="5657"/>
                    </a:lnTo>
                    <a:lnTo>
                      <a:pt x="235" y="5670"/>
                    </a:lnTo>
                    <a:lnTo>
                      <a:pt x="235" y="5683"/>
                    </a:lnTo>
                    <a:lnTo>
                      <a:pt x="235" y="5695"/>
                    </a:lnTo>
                    <a:lnTo>
                      <a:pt x="235" y="5708"/>
                    </a:lnTo>
                    <a:lnTo>
                      <a:pt x="235" y="5723"/>
                    </a:lnTo>
                    <a:lnTo>
                      <a:pt x="337" y="5687"/>
                    </a:lnTo>
                    <a:lnTo>
                      <a:pt x="411" y="5596"/>
                    </a:lnTo>
                    <a:lnTo>
                      <a:pt x="455" y="5467"/>
                    </a:lnTo>
                    <a:lnTo>
                      <a:pt x="471" y="5321"/>
                    </a:lnTo>
                    <a:lnTo>
                      <a:pt x="455" y="5174"/>
                    </a:lnTo>
                    <a:lnTo>
                      <a:pt x="411" y="5045"/>
                    </a:lnTo>
                    <a:lnTo>
                      <a:pt x="337" y="4955"/>
                    </a:lnTo>
                    <a:lnTo>
                      <a:pt x="235" y="4922"/>
                    </a:lnTo>
                    <a:lnTo>
                      <a:pt x="157" y="4894"/>
                    </a:lnTo>
                    <a:lnTo>
                      <a:pt x="102" y="4825"/>
                    </a:lnTo>
                    <a:lnTo>
                      <a:pt x="68" y="4729"/>
                    </a:lnTo>
                    <a:lnTo>
                      <a:pt x="57" y="4618"/>
                    </a:lnTo>
                    <a:lnTo>
                      <a:pt x="68" y="4506"/>
                    </a:lnTo>
                    <a:lnTo>
                      <a:pt x="102" y="4410"/>
                    </a:lnTo>
                    <a:lnTo>
                      <a:pt x="157" y="4341"/>
                    </a:lnTo>
                    <a:lnTo>
                      <a:pt x="235" y="4317"/>
                    </a:lnTo>
                    <a:lnTo>
                      <a:pt x="337" y="4281"/>
                    </a:lnTo>
                    <a:lnTo>
                      <a:pt x="411" y="4190"/>
                    </a:lnTo>
                    <a:lnTo>
                      <a:pt x="455" y="4061"/>
                    </a:lnTo>
                    <a:lnTo>
                      <a:pt x="471" y="3915"/>
                    </a:lnTo>
                    <a:lnTo>
                      <a:pt x="455" y="3768"/>
                    </a:lnTo>
                    <a:lnTo>
                      <a:pt x="411" y="3639"/>
                    </a:lnTo>
                    <a:lnTo>
                      <a:pt x="337" y="3549"/>
                    </a:lnTo>
                    <a:lnTo>
                      <a:pt x="235" y="3516"/>
                    </a:lnTo>
                    <a:lnTo>
                      <a:pt x="157" y="3488"/>
                    </a:lnTo>
                    <a:lnTo>
                      <a:pt x="102" y="3421"/>
                    </a:lnTo>
                    <a:lnTo>
                      <a:pt x="68" y="3325"/>
                    </a:lnTo>
                    <a:lnTo>
                      <a:pt x="57" y="3214"/>
                    </a:lnTo>
                    <a:lnTo>
                      <a:pt x="68" y="3102"/>
                    </a:lnTo>
                    <a:lnTo>
                      <a:pt x="102" y="3005"/>
                    </a:lnTo>
                    <a:lnTo>
                      <a:pt x="157" y="2936"/>
                    </a:lnTo>
                    <a:lnTo>
                      <a:pt x="235" y="2912"/>
                    </a:lnTo>
                    <a:lnTo>
                      <a:pt x="337" y="2877"/>
                    </a:lnTo>
                    <a:lnTo>
                      <a:pt x="411" y="2785"/>
                    </a:lnTo>
                    <a:lnTo>
                      <a:pt x="455" y="2657"/>
                    </a:lnTo>
                    <a:lnTo>
                      <a:pt x="471" y="2511"/>
                    </a:lnTo>
                    <a:lnTo>
                      <a:pt x="455" y="2363"/>
                    </a:lnTo>
                    <a:lnTo>
                      <a:pt x="411" y="2235"/>
                    </a:lnTo>
                    <a:lnTo>
                      <a:pt x="337" y="2145"/>
                    </a:lnTo>
                    <a:lnTo>
                      <a:pt x="235" y="2111"/>
                    </a:lnTo>
                    <a:lnTo>
                      <a:pt x="157" y="2084"/>
                    </a:lnTo>
                    <a:lnTo>
                      <a:pt x="102" y="2016"/>
                    </a:lnTo>
                    <a:lnTo>
                      <a:pt x="68" y="1920"/>
                    </a:lnTo>
                    <a:lnTo>
                      <a:pt x="57" y="1809"/>
                    </a:lnTo>
                    <a:lnTo>
                      <a:pt x="68" y="1699"/>
                    </a:lnTo>
                    <a:lnTo>
                      <a:pt x="102" y="1602"/>
                    </a:lnTo>
                    <a:lnTo>
                      <a:pt x="157" y="1533"/>
                    </a:lnTo>
                    <a:lnTo>
                      <a:pt x="235" y="1509"/>
                    </a:lnTo>
                    <a:lnTo>
                      <a:pt x="337" y="1474"/>
                    </a:lnTo>
                    <a:lnTo>
                      <a:pt x="411" y="1382"/>
                    </a:lnTo>
                    <a:lnTo>
                      <a:pt x="455" y="1252"/>
                    </a:lnTo>
                    <a:lnTo>
                      <a:pt x="471" y="1106"/>
                    </a:lnTo>
                    <a:lnTo>
                      <a:pt x="455" y="959"/>
                    </a:lnTo>
                    <a:lnTo>
                      <a:pt x="411" y="830"/>
                    </a:lnTo>
                    <a:lnTo>
                      <a:pt x="337" y="739"/>
                    </a:lnTo>
                    <a:lnTo>
                      <a:pt x="235" y="705"/>
                    </a:lnTo>
                    <a:lnTo>
                      <a:pt x="157" y="678"/>
                    </a:lnTo>
                    <a:lnTo>
                      <a:pt x="102" y="610"/>
                    </a:lnTo>
                    <a:lnTo>
                      <a:pt x="68" y="514"/>
                    </a:lnTo>
                    <a:lnTo>
                      <a:pt x="57" y="403"/>
                    </a:lnTo>
                    <a:lnTo>
                      <a:pt x="68" y="291"/>
                    </a:lnTo>
                    <a:lnTo>
                      <a:pt x="102" y="195"/>
                    </a:lnTo>
                    <a:lnTo>
                      <a:pt x="157" y="126"/>
                    </a:lnTo>
                    <a:lnTo>
                      <a:pt x="235" y="102"/>
                    </a:lnTo>
                    <a:lnTo>
                      <a:pt x="235" y="87"/>
                    </a:lnTo>
                    <a:lnTo>
                      <a:pt x="235" y="74"/>
                    </a:lnTo>
                    <a:lnTo>
                      <a:pt x="235" y="61"/>
                    </a:lnTo>
                    <a:lnTo>
                      <a:pt x="235" y="50"/>
                    </a:lnTo>
                    <a:lnTo>
                      <a:pt x="235" y="36"/>
                    </a:lnTo>
                    <a:lnTo>
                      <a:pt x="235" y="25"/>
                    </a:lnTo>
                    <a:lnTo>
                      <a:pt x="235" y="12"/>
                    </a:lnTo>
                    <a:lnTo>
                      <a:pt x="235" y="0"/>
                    </a:lnTo>
                    <a:lnTo>
                      <a:pt x="131" y="34"/>
                    </a:lnTo>
                    <a:lnTo>
                      <a:pt x="58" y="124"/>
                    </a:lnTo>
                    <a:lnTo>
                      <a:pt x="14" y="252"/>
                    </a:lnTo>
                    <a:lnTo>
                      <a:pt x="0" y="400"/>
                    </a:lnTo>
                    <a:lnTo>
                      <a:pt x="14" y="546"/>
                    </a:lnTo>
                    <a:lnTo>
                      <a:pt x="58" y="675"/>
                    </a:lnTo>
                    <a:lnTo>
                      <a:pt x="131" y="766"/>
                    </a:lnTo>
                    <a:lnTo>
                      <a:pt x="235" y="801"/>
                    </a:lnTo>
                    <a:lnTo>
                      <a:pt x="311" y="825"/>
                    </a:lnTo>
                    <a:lnTo>
                      <a:pt x="368" y="894"/>
                    </a:lnTo>
                    <a:lnTo>
                      <a:pt x="401" y="991"/>
                    </a:lnTo>
                    <a:lnTo>
                      <a:pt x="413" y="1103"/>
                    </a:lnTo>
                    <a:lnTo>
                      <a:pt x="401" y="1214"/>
                    </a:lnTo>
                    <a:lnTo>
                      <a:pt x="368" y="1310"/>
                    </a:lnTo>
                    <a:lnTo>
                      <a:pt x="311" y="1378"/>
                    </a:lnTo>
                    <a:lnTo>
                      <a:pt x="235" y="1405"/>
                    </a:lnTo>
                    <a:lnTo>
                      <a:pt x="131" y="1439"/>
                    </a:lnTo>
                    <a:lnTo>
                      <a:pt x="58" y="1529"/>
                    </a:lnTo>
                    <a:lnTo>
                      <a:pt x="14" y="1657"/>
                    </a:lnTo>
                    <a:lnTo>
                      <a:pt x="0" y="1805"/>
                    </a:lnTo>
                    <a:lnTo>
                      <a:pt x="14" y="1951"/>
                    </a:lnTo>
                    <a:lnTo>
                      <a:pt x="58" y="2079"/>
                    </a:lnTo>
                    <a:lnTo>
                      <a:pt x="131" y="2171"/>
                    </a:lnTo>
                    <a:lnTo>
                      <a:pt x="235" y="2206"/>
                    </a:lnTo>
                    <a:lnTo>
                      <a:pt x="311" y="2230"/>
                    </a:lnTo>
                    <a:lnTo>
                      <a:pt x="368" y="2299"/>
                    </a:lnTo>
                    <a:lnTo>
                      <a:pt x="401" y="2395"/>
                    </a:lnTo>
                    <a:lnTo>
                      <a:pt x="413" y="2506"/>
                    </a:lnTo>
                    <a:lnTo>
                      <a:pt x="401" y="2617"/>
                    </a:lnTo>
                    <a:lnTo>
                      <a:pt x="368" y="2713"/>
                    </a:lnTo>
                    <a:lnTo>
                      <a:pt x="311" y="2781"/>
                    </a:lnTo>
                    <a:lnTo>
                      <a:pt x="235" y="2808"/>
                    </a:lnTo>
                    <a:lnTo>
                      <a:pt x="131" y="2842"/>
                    </a:lnTo>
                    <a:lnTo>
                      <a:pt x="58" y="2933"/>
                    </a:lnTo>
                    <a:lnTo>
                      <a:pt x="14" y="3061"/>
                    </a:lnTo>
                    <a:lnTo>
                      <a:pt x="0" y="3209"/>
                    </a:lnTo>
                    <a:lnTo>
                      <a:pt x="14" y="3355"/>
                    </a:lnTo>
                    <a:lnTo>
                      <a:pt x="58" y="3485"/>
                    </a:lnTo>
                    <a:lnTo>
                      <a:pt x="131" y="3577"/>
                    </a:lnTo>
                    <a:lnTo>
                      <a:pt x="235" y="3612"/>
                    </a:lnTo>
                    <a:lnTo>
                      <a:pt x="311" y="3636"/>
                    </a:lnTo>
                    <a:lnTo>
                      <a:pt x="368" y="3705"/>
                    </a:lnTo>
                    <a:lnTo>
                      <a:pt x="401" y="3801"/>
                    </a:lnTo>
                    <a:lnTo>
                      <a:pt x="413" y="3914"/>
                    </a:lnTo>
                    <a:lnTo>
                      <a:pt x="401" y="4024"/>
                    </a:lnTo>
                    <a:lnTo>
                      <a:pt x="368" y="4121"/>
                    </a:lnTo>
                    <a:lnTo>
                      <a:pt x="311" y="4188"/>
                    </a:lnTo>
                    <a:lnTo>
                      <a:pt x="235" y="4215"/>
                    </a:lnTo>
                    <a:lnTo>
                      <a:pt x="131" y="4249"/>
                    </a:lnTo>
                    <a:lnTo>
                      <a:pt x="58" y="4339"/>
                    </a:lnTo>
                    <a:lnTo>
                      <a:pt x="14" y="4468"/>
                    </a:lnTo>
                    <a:lnTo>
                      <a:pt x="0" y="4615"/>
                    </a:lnTo>
                    <a:lnTo>
                      <a:pt x="14" y="4761"/>
                    </a:lnTo>
                    <a:lnTo>
                      <a:pt x="58" y="4890"/>
                    </a:lnTo>
                    <a:lnTo>
                      <a:pt x="131" y="4981"/>
                    </a:lnTo>
                    <a:lnTo>
                      <a:pt x="235" y="5016"/>
                    </a:lnTo>
                    <a:lnTo>
                      <a:pt x="311" y="5041"/>
                    </a:lnTo>
                    <a:lnTo>
                      <a:pt x="368" y="5110"/>
                    </a:lnTo>
                    <a:lnTo>
                      <a:pt x="401" y="5206"/>
                    </a:lnTo>
                    <a:lnTo>
                      <a:pt x="413" y="5317"/>
                    </a:lnTo>
                    <a:lnTo>
                      <a:pt x="401" y="5427"/>
                    </a:lnTo>
                    <a:lnTo>
                      <a:pt x="368" y="5524"/>
                    </a:lnTo>
                    <a:lnTo>
                      <a:pt x="311" y="5591"/>
                    </a:lnTo>
                    <a:lnTo>
                      <a:pt x="235" y="5618"/>
                    </a:lnTo>
                    <a:close/>
                  </a:path>
                </a:pathLst>
              </a:custGeom>
              <a:solidFill>
                <a:srgbClr val="b58059"/>
              </a:solidFill>
              <a:ln w="17640">
                <a:solidFill>
                  <a:srgbClr val="9e69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rot="5400000">
                <a:off x="2777760" y="2840400"/>
                <a:ext cx="633240" cy="4434840"/>
              </a:xfrm>
              <a:custGeom>
                <a:avLst/>
                <a:gdLst>
                  <a:gd name="textAreaLeft" fmla="*/ 0 w 633240"/>
                  <a:gd name="textAreaRight" fmla="*/ 633600 w 633240"/>
                  <a:gd name="textAreaTop" fmla="*/ 0 h 4434840"/>
                  <a:gd name="textAreaBottom" fmla="*/ 4435200 h 4434840"/>
                </a:gdLst>
                <a:ahLst/>
                <a:rect l="textAreaLeft" t="textAreaTop" r="textAreaRight" b="textAreaBottom"/>
                <a:pathLst>
                  <a:path w="445" h="5685">
                    <a:moveTo>
                      <a:pt x="222" y="5626"/>
                    </a:moveTo>
                    <a:lnTo>
                      <a:pt x="222" y="5641"/>
                    </a:lnTo>
                    <a:lnTo>
                      <a:pt x="222" y="5655"/>
                    </a:lnTo>
                    <a:lnTo>
                      <a:pt x="222" y="5669"/>
                    </a:lnTo>
                    <a:lnTo>
                      <a:pt x="222" y="5685"/>
                    </a:lnTo>
                    <a:lnTo>
                      <a:pt x="319" y="5652"/>
                    </a:lnTo>
                    <a:lnTo>
                      <a:pt x="388" y="5567"/>
                    </a:lnTo>
                    <a:lnTo>
                      <a:pt x="431" y="5445"/>
                    </a:lnTo>
                    <a:lnTo>
                      <a:pt x="445" y="5308"/>
                    </a:lnTo>
                    <a:lnTo>
                      <a:pt x="431" y="5169"/>
                    </a:lnTo>
                    <a:lnTo>
                      <a:pt x="388" y="5048"/>
                    </a:lnTo>
                    <a:lnTo>
                      <a:pt x="319" y="4963"/>
                    </a:lnTo>
                    <a:lnTo>
                      <a:pt x="222" y="4931"/>
                    </a:lnTo>
                    <a:lnTo>
                      <a:pt x="137" y="4902"/>
                    </a:lnTo>
                    <a:lnTo>
                      <a:pt x="77" y="4828"/>
                    </a:lnTo>
                    <a:lnTo>
                      <a:pt x="41" y="4722"/>
                    </a:lnTo>
                    <a:lnTo>
                      <a:pt x="29" y="4604"/>
                    </a:lnTo>
                    <a:lnTo>
                      <a:pt x="41" y="4483"/>
                    </a:lnTo>
                    <a:lnTo>
                      <a:pt x="77" y="4377"/>
                    </a:lnTo>
                    <a:lnTo>
                      <a:pt x="137" y="4303"/>
                    </a:lnTo>
                    <a:lnTo>
                      <a:pt x="222" y="4276"/>
                    </a:lnTo>
                    <a:lnTo>
                      <a:pt x="319" y="4242"/>
                    </a:lnTo>
                    <a:lnTo>
                      <a:pt x="388" y="4157"/>
                    </a:lnTo>
                    <a:lnTo>
                      <a:pt x="431" y="4037"/>
                    </a:lnTo>
                    <a:lnTo>
                      <a:pt x="445" y="3901"/>
                    </a:lnTo>
                    <a:lnTo>
                      <a:pt x="431" y="3761"/>
                    </a:lnTo>
                    <a:lnTo>
                      <a:pt x="388" y="3642"/>
                    </a:lnTo>
                    <a:lnTo>
                      <a:pt x="319" y="3557"/>
                    </a:lnTo>
                    <a:lnTo>
                      <a:pt x="222" y="3525"/>
                    </a:lnTo>
                    <a:lnTo>
                      <a:pt x="137" y="3496"/>
                    </a:lnTo>
                    <a:lnTo>
                      <a:pt x="77" y="3422"/>
                    </a:lnTo>
                    <a:lnTo>
                      <a:pt x="41" y="3316"/>
                    </a:lnTo>
                    <a:lnTo>
                      <a:pt x="29" y="3198"/>
                    </a:lnTo>
                    <a:lnTo>
                      <a:pt x="41" y="3077"/>
                    </a:lnTo>
                    <a:lnTo>
                      <a:pt x="77" y="2971"/>
                    </a:lnTo>
                    <a:lnTo>
                      <a:pt x="137" y="2897"/>
                    </a:lnTo>
                    <a:lnTo>
                      <a:pt x="222" y="2870"/>
                    </a:lnTo>
                    <a:lnTo>
                      <a:pt x="319" y="2836"/>
                    </a:lnTo>
                    <a:lnTo>
                      <a:pt x="388" y="2751"/>
                    </a:lnTo>
                    <a:lnTo>
                      <a:pt x="431" y="2629"/>
                    </a:lnTo>
                    <a:lnTo>
                      <a:pt x="445" y="2493"/>
                    </a:lnTo>
                    <a:lnTo>
                      <a:pt x="431" y="2353"/>
                    </a:lnTo>
                    <a:lnTo>
                      <a:pt x="388" y="2234"/>
                    </a:lnTo>
                    <a:lnTo>
                      <a:pt x="319" y="2149"/>
                    </a:lnTo>
                    <a:lnTo>
                      <a:pt x="222" y="2117"/>
                    </a:lnTo>
                    <a:lnTo>
                      <a:pt x="137" y="2088"/>
                    </a:lnTo>
                    <a:lnTo>
                      <a:pt x="77" y="2015"/>
                    </a:lnTo>
                    <a:lnTo>
                      <a:pt x="41" y="1909"/>
                    </a:lnTo>
                    <a:lnTo>
                      <a:pt x="29" y="1790"/>
                    </a:lnTo>
                    <a:lnTo>
                      <a:pt x="41" y="1669"/>
                    </a:lnTo>
                    <a:lnTo>
                      <a:pt x="77" y="1565"/>
                    </a:lnTo>
                    <a:lnTo>
                      <a:pt x="137" y="1491"/>
                    </a:lnTo>
                    <a:lnTo>
                      <a:pt x="222" y="1464"/>
                    </a:lnTo>
                    <a:lnTo>
                      <a:pt x="319" y="1430"/>
                    </a:lnTo>
                    <a:lnTo>
                      <a:pt x="388" y="1345"/>
                    </a:lnTo>
                    <a:lnTo>
                      <a:pt x="431" y="1223"/>
                    </a:lnTo>
                    <a:lnTo>
                      <a:pt x="445" y="1087"/>
                    </a:lnTo>
                    <a:lnTo>
                      <a:pt x="431" y="947"/>
                    </a:lnTo>
                    <a:lnTo>
                      <a:pt x="388" y="828"/>
                    </a:lnTo>
                    <a:lnTo>
                      <a:pt x="319" y="743"/>
                    </a:lnTo>
                    <a:lnTo>
                      <a:pt x="222" y="711"/>
                    </a:lnTo>
                    <a:lnTo>
                      <a:pt x="137" y="682"/>
                    </a:lnTo>
                    <a:lnTo>
                      <a:pt x="77" y="608"/>
                    </a:lnTo>
                    <a:lnTo>
                      <a:pt x="41" y="502"/>
                    </a:lnTo>
                    <a:lnTo>
                      <a:pt x="29" y="384"/>
                    </a:lnTo>
                    <a:lnTo>
                      <a:pt x="41" y="263"/>
                    </a:lnTo>
                    <a:lnTo>
                      <a:pt x="77" y="159"/>
                    </a:lnTo>
                    <a:lnTo>
                      <a:pt x="137" y="85"/>
                    </a:lnTo>
                    <a:lnTo>
                      <a:pt x="222" y="58"/>
                    </a:lnTo>
                    <a:lnTo>
                      <a:pt x="222" y="43"/>
                    </a:lnTo>
                    <a:lnTo>
                      <a:pt x="222" y="29"/>
                    </a:lnTo>
                    <a:lnTo>
                      <a:pt x="222" y="15"/>
                    </a:lnTo>
                    <a:lnTo>
                      <a:pt x="222" y="0"/>
                    </a:lnTo>
                    <a:lnTo>
                      <a:pt x="124" y="32"/>
                    </a:lnTo>
                    <a:lnTo>
                      <a:pt x="55" y="117"/>
                    </a:lnTo>
                    <a:lnTo>
                      <a:pt x="12" y="236"/>
                    </a:lnTo>
                    <a:lnTo>
                      <a:pt x="0" y="376"/>
                    </a:lnTo>
                    <a:lnTo>
                      <a:pt x="12" y="512"/>
                    </a:lnTo>
                    <a:lnTo>
                      <a:pt x="55" y="634"/>
                    </a:lnTo>
                    <a:lnTo>
                      <a:pt x="124" y="719"/>
                    </a:lnTo>
                    <a:lnTo>
                      <a:pt x="222" y="753"/>
                    </a:lnTo>
                    <a:lnTo>
                      <a:pt x="306" y="780"/>
                    </a:lnTo>
                    <a:lnTo>
                      <a:pt x="366" y="854"/>
                    </a:lnTo>
                    <a:lnTo>
                      <a:pt x="403" y="958"/>
                    </a:lnTo>
                    <a:lnTo>
                      <a:pt x="415" y="1079"/>
                    </a:lnTo>
                    <a:lnTo>
                      <a:pt x="403" y="1198"/>
                    </a:lnTo>
                    <a:lnTo>
                      <a:pt x="366" y="1303"/>
                    </a:lnTo>
                    <a:lnTo>
                      <a:pt x="306" y="1377"/>
                    </a:lnTo>
                    <a:lnTo>
                      <a:pt x="222" y="1406"/>
                    </a:lnTo>
                    <a:lnTo>
                      <a:pt x="124" y="1438"/>
                    </a:lnTo>
                    <a:lnTo>
                      <a:pt x="55" y="1523"/>
                    </a:lnTo>
                    <a:lnTo>
                      <a:pt x="12" y="1642"/>
                    </a:lnTo>
                    <a:lnTo>
                      <a:pt x="0" y="1782"/>
                    </a:lnTo>
                    <a:lnTo>
                      <a:pt x="12" y="1918"/>
                    </a:lnTo>
                    <a:lnTo>
                      <a:pt x="55" y="2040"/>
                    </a:lnTo>
                    <a:lnTo>
                      <a:pt x="124" y="2125"/>
                    </a:lnTo>
                    <a:lnTo>
                      <a:pt x="222" y="2159"/>
                    </a:lnTo>
                    <a:lnTo>
                      <a:pt x="306" y="2186"/>
                    </a:lnTo>
                    <a:lnTo>
                      <a:pt x="366" y="2260"/>
                    </a:lnTo>
                    <a:lnTo>
                      <a:pt x="403" y="2364"/>
                    </a:lnTo>
                    <a:lnTo>
                      <a:pt x="415" y="2485"/>
                    </a:lnTo>
                    <a:lnTo>
                      <a:pt x="403" y="2604"/>
                    </a:lnTo>
                    <a:lnTo>
                      <a:pt x="366" y="2710"/>
                    </a:lnTo>
                    <a:lnTo>
                      <a:pt x="306" y="2783"/>
                    </a:lnTo>
                    <a:lnTo>
                      <a:pt x="222" y="2812"/>
                    </a:lnTo>
                    <a:lnTo>
                      <a:pt x="124" y="2844"/>
                    </a:lnTo>
                    <a:lnTo>
                      <a:pt x="55" y="2929"/>
                    </a:lnTo>
                    <a:lnTo>
                      <a:pt x="12" y="3048"/>
                    </a:lnTo>
                    <a:lnTo>
                      <a:pt x="0" y="3188"/>
                    </a:lnTo>
                    <a:lnTo>
                      <a:pt x="12" y="3324"/>
                    </a:lnTo>
                    <a:lnTo>
                      <a:pt x="55" y="3446"/>
                    </a:lnTo>
                    <a:lnTo>
                      <a:pt x="124" y="3531"/>
                    </a:lnTo>
                    <a:lnTo>
                      <a:pt x="222" y="3565"/>
                    </a:lnTo>
                    <a:lnTo>
                      <a:pt x="306" y="3592"/>
                    </a:lnTo>
                    <a:lnTo>
                      <a:pt x="366" y="3666"/>
                    </a:lnTo>
                    <a:lnTo>
                      <a:pt x="403" y="3772"/>
                    </a:lnTo>
                    <a:lnTo>
                      <a:pt x="415" y="3893"/>
                    </a:lnTo>
                    <a:lnTo>
                      <a:pt x="403" y="4011"/>
                    </a:lnTo>
                    <a:lnTo>
                      <a:pt x="366" y="4117"/>
                    </a:lnTo>
                    <a:lnTo>
                      <a:pt x="306" y="4191"/>
                    </a:lnTo>
                    <a:lnTo>
                      <a:pt x="222" y="4220"/>
                    </a:lnTo>
                    <a:lnTo>
                      <a:pt x="124" y="4252"/>
                    </a:lnTo>
                    <a:lnTo>
                      <a:pt x="55" y="4337"/>
                    </a:lnTo>
                    <a:lnTo>
                      <a:pt x="12" y="4456"/>
                    </a:lnTo>
                    <a:lnTo>
                      <a:pt x="0" y="4596"/>
                    </a:lnTo>
                    <a:lnTo>
                      <a:pt x="12" y="4732"/>
                    </a:lnTo>
                    <a:lnTo>
                      <a:pt x="55" y="4852"/>
                    </a:lnTo>
                    <a:lnTo>
                      <a:pt x="124" y="4937"/>
                    </a:lnTo>
                    <a:lnTo>
                      <a:pt x="222" y="4971"/>
                    </a:lnTo>
                    <a:lnTo>
                      <a:pt x="306" y="4998"/>
                    </a:lnTo>
                    <a:lnTo>
                      <a:pt x="366" y="5072"/>
                    </a:lnTo>
                    <a:lnTo>
                      <a:pt x="403" y="5178"/>
                    </a:lnTo>
                    <a:lnTo>
                      <a:pt x="415" y="5299"/>
                    </a:lnTo>
                    <a:lnTo>
                      <a:pt x="403" y="5417"/>
                    </a:lnTo>
                    <a:lnTo>
                      <a:pt x="366" y="5523"/>
                    </a:lnTo>
                    <a:lnTo>
                      <a:pt x="306" y="5597"/>
                    </a:lnTo>
                    <a:lnTo>
                      <a:pt x="222" y="5626"/>
                    </a:lnTo>
                    <a:close/>
                  </a:path>
                </a:pathLst>
              </a:custGeom>
              <a:solidFill>
                <a:srgbClr val="f0ba94"/>
              </a:solidFill>
              <a:ln w="11160">
                <a:solidFill>
                  <a:srgbClr val="d49e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rot="5400000">
                <a:off x="2797200" y="2856960"/>
                <a:ext cx="597600" cy="4400640"/>
              </a:xfrm>
              <a:custGeom>
                <a:avLst/>
                <a:gdLst>
                  <a:gd name="textAreaLeft" fmla="*/ 0 w 597600"/>
                  <a:gd name="textAreaRight" fmla="*/ 597960 w 597600"/>
                  <a:gd name="textAreaTop" fmla="*/ 0 h 4400640"/>
                  <a:gd name="textAreaBottom" fmla="*/ 4401000 h 4400640"/>
                </a:gdLst>
                <a:ahLst/>
                <a:rect l="textAreaLeft" t="textAreaTop" r="textAreaRight" b="textAreaBottom"/>
                <a:pathLst>
                  <a:path w="420" h="5644">
                    <a:moveTo>
                      <a:pt x="210" y="5631"/>
                    </a:moveTo>
                    <a:lnTo>
                      <a:pt x="210" y="5644"/>
                    </a:lnTo>
                    <a:lnTo>
                      <a:pt x="300" y="5612"/>
                    </a:lnTo>
                    <a:lnTo>
                      <a:pt x="367" y="5533"/>
                    </a:lnTo>
                    <a:lnTo>
                      <a:pt x="406" y="5419"/>
                    </a:lnTo>
                    <a:lnTo>
                      <a:pt x="420" y="5292"/>
                    </a:lnTo>
                    <a:lnTo>
                      <a:pt x="406" y="5162"/>
                    </a:lnTo>
                    <a:lnTo>
                      <a:pt x="367" y="5050"/>
                    </a:lnTo>
                    <a:lnTo>
                      <a:pt x="300" y="4970"/>
                    </a:lnTo>
                    <a:lnTo>
                      <a:pt x="210" y="4941"/>
                    </a:lnTo>
                    <a:lnTo>
                      <a:pt x="118" y="4909"/>
                    </a:lnTo>
                    <a:lnTo>
                      <a:pt x="52" y="4830"/>
                    </a:lnTo>
                    <a:lnTo>
                      <a:pt x="13" y="4716"/>
                    </a:lnTo>
                    <a:lnTo>
                      <a:pt x="0" y="4588"/>
                    </a:lnTo>
                    <a:lnTo>
                      <a:pt x="13" y="4458"/>
                    </a:lnTo>
                    <a:lnTo>
                      <a:pt x="52" y="4344"/>
                    </a:lnTo>
                    <a:lnTo>
                      <a:pt x="118" y="4264"/>
                    </a:lnTo>
                    <a:lnTo>
                      <a:pt x="210" y="4235"/>
                    </a:lnTo>
                    <a:lnTo>
                      <a:pt x="300" y="4203"/>
                    </a:lnTo>
                    <a:lnTo>
                      <a:pt x="367" y="4124"/>
                    </a:lnTo>
                    <a:lnTo>
                      <a:pt x="406" y="4010"/>
                    </a:lnTo>
                    <a:lnTo>
                      <a:pt x="420" y="3883"/>
                    </a:lnTo>
                    <a:lnTo>
                      <a:pt x="406" y="3753"/>
                    </a:lnTo>
                    <a:lnTo>
                      <a:pt x="367" y="3641"/>
                    </a:lnTo>
                    <a:lnTo>
                      <a:pt x="300" y="3561"/>
                    </a:lnTo>
                    <a:lnTo>
                      <a:pt x="210" y="3532"/>
                    </a:lnTo>
                    <a:lnTo>
                      <a:pt x="118" y="3500"/>
                    </a:lnTo>
                    <a:lnTo>
                      <a:pt x="52" y="3421"/>
                    </a:lnTo>
                    <a:lnTo>
                      <a:pt x="13" y="3307"/>
                    </a:lnTo>
                    <a:lnTo>
                      <a:pt x="0" y="3180"/>
                    </a:lnTo>
                    <a:lnTo>
                      <a:pt x="13" y="3050"/>
                    </a:lnTo>
                    <a:lnTo>
                      <a:pt x="52" y="2938"/>
                    </a:lnTo>
                    <a:lnTo>
                      <a:pt x="118" y="2857"/>
                    </a:lnTo>
                    <a:lnTo>
                      <a:pt x="210" y="2829"/>
                    </a:lnTo>
                    <a:lnTo>
                      <a:pt x="300" y="2796"/>
                    </a:lnTo>
                    <a:lnTo>
                      <a:pt x="367" y="2718"/>
                    </a:lnTo>
                    <a:lnTo>
                      <a:pt x="406" y="2604"/>
                    </a:lnTo>
                    <a:lnTo>
                      <a:pt x="420" y="2475"/>
                    </a:lnTo>
                    <a:lnTo>
                      <a:pt x="406" y="2345"/>
                    </a:lnTo>
                    <a:lnTo>
                      <a:pt x="367" y="2233"/>
                    </a:lnTo>
                    <a:lnTo>
                      <a:pt x="300" y="2153"/>
                    </a:lnTo>
                    <a:lnTo>
                      <a:pt x="210" y="2124"/>
                    </a:lnTo>
                    <a:lnTo>
                      <a:pt x="118" y="2092"/>
                    </a:lnTo>
                    <a:lnTo>
                      <a:pt x="52" y="2013"/>
                    </a:lnTo>
                    <a:lnTo>
                      <a:pt x="13" y="1899"/>
                    </a:lnTo>
                    <a:lnTo>
                      <a:pt x="0" y="1772"/>
                    </a:lnTo>
                    <a:lnTo>
                      <a:pt x="13" y="1642"/>
                    </a:lnTo>
                    <a:lnTo>
                      <a:pt x="52" y="1530"/>
                    </a:lnTo>
                    <a:lnTo>
                      <a:pt x="118" y="1450"/>
                    </a:lnTo>
                    <a:lnTo>
                      <a:pt x="210" y="1421"/>
                    </a:lnTo>
                    <a:lnTo>
                      <a:pt x="300" y="1389"/>
                    </a:lnTo>
                    <a:lnTo>
                      <a:pt x="367" y="1310"/>
                    </a:lnTo>
                    <a:lnTo>
                      <a:pt x="406" y="1196"/>
                    </a:lnTo>
                    <a:lnTo>
                      <a:pt x="420" y="1069"/>
                    </a:lnTo>
                    <a:lnTo>
                      <a:pt x="406" y="939"/>
                    </a:lnTo>
                    <a:lnTo>
                      <a:pt x="367" y="827"/>
                    </a:lnTo>
                    <a:lnTo>
                      <a:pt x="300" y="747"/>
                    </a:lnTo>
                    <a:lnTo>
                      <a:pt x="210" y="718"/>
                    </a:lnTo>
                    <a:lnTo>
                      <a:pt x="118" y="686"/>
                    </a:lnTo>
                    <a:lnTo>
                      <a:pt x="52" y="607"/>
                    </a:lnTo>
                    <a:lnTo>
                      <a:pt x="13" y="493"/>
                    </a:lnTo>
                    <a:lnTo>
                      <a:pt x="0" y="365"/>
                    </a:lnTo>
                    <a:lnTo>
                      <a:pt x="13" y="235"/>
                    </a:lnTo>
                    <a:lnTo>
                      <a:pt x="52" y="121"/>
                    </a:lnTo>
                    <a:lnTo>
                      <a:pt x="118" y="40"/>
                    </a:lnTo>
                    <a:lnTo>
                      <a:pt x="210" y="12"/>
                    </a:lnTo>
                    <a:lnTo>
                      <a:pt x="210" y="0"/>
                    </a:lnTo>
                    <a:lnTo>
                      <a:pt x="118" y="29"/>
                    </a:lnTo>
                    <a:lnTo>
                      <a:pt x="52" y="110"/>
                    </a:lnTo>
                    <a:lnTo>
                      <a:pt x="13" y="222"/>
                    </a:lnTo>
                    <a:lnTo>
                      <a:pt x="0" y="352"/>
                    </a:lnTo>
                    <a:lnTo>
                      <a:pt x="13" y="479"/>
                    </a:lnTo>
                    <a:lnTo>
                      <a:pt x="52" y="593"/>
                    </a:lnTo>
                    <a:lnTo>
                      <a:pt x="118" y="671"/>
                    </a:lnTo>
                    <a:lnTo>
                      <a:pt x="210" y="703"/>
                    </a:lnTo>
                    <a:lnTo>
                      <a:pt x="300" y="732"/>
                    </a:lnTo>
                    <a:lnTo>
                      <a:pt x="367" y="813"/>
                    </a:lnTo>
                    <a:lnTo>
                      <a:pt x="406" y="925"/>
                    </a:lnTo>
                    <a:lnTo>
                      <a:pt x="420" y="1055"/>
                    </a:lnTo>
                    <a:lnTo>
                      <a:pt x="406" y="1183"/>
                    </a:lnTo>
                    <a:lnTo>
                      <a:pt x="367" y="1297"/>
                    </a:lnTo>
                    <a:lnTo>
                      <a:pt x="300" y="1376"/>
                    </a:lnTo>
                    <a:lnTo>
                      <a:pt x="210" y="1408"/>
                    </a:lnTo>
                    <a:lnTo>
                      <a:pt x="118" y="1437"/>
                    </a:lnTo>
                    <a:lnTo>
                      <a:pt x="52" y="1517"/>
                    </a:lnTo>
                    <a:lnTo>
                      <a:pt x="13" y="1630"/>
                    </a:lnTo>
                    <a:lnTo>
                      <a:pt x="0" y="1760"/>
                    </a:lnTo>
                    <a:lnTo>
                      <a:pt x="13" y="1886"/>
                    </a:lnTo>
                    <a:lnTo>
                      <a:pt x="52" y="2000"/>
                    </a:lnTo>
                    <a:lnTo>
                      <a:pt x="118" y="2079"/>
                    </a:lnTo>
                    <a:lnTo>
                      <a:pt x="210" y="2111"/>
                    </a:lnTo>
                    <a:lnTo>
                      <a:pt x="300" y="2140"/>
                    </a:lnTo>
                    <a:lnTo>
                      <a:pt x="367" y="2220"/>
                    </a:lnTo>
                    <a:lnTo>
                      <a:pt x="406" y="2333"/>
                    </a:lnTo>
                    <a:lnTo>
                      <a:pt x="420" y="2463"/>
                    </a:lnTo>
                    <a:lnTo>
                      <a:pt x="406" y="2591"/>
                    </a:lnTo>
                    <a:lnTo>
                      <a:pt x="367" y="2705"/>
                    </a:lnTo>
                    <a:lnTo>
                      <a:pt x="300" y="2784"/>
                    </a:lnTo>
                    <a:lnTo>
                      <a:pt x="210" y="2816"/>
                    </a:lnTo>
                    <a:lnTo>
                      <a:pt x="118" y="2845"/>
                    </a:lnTo>
                    <a:lnTo>
                      <a:pt x="52" y="2925"/>
                    </a:lnTo>
                    <a:lnTo>
                      <a:pt x="13" y="3037"/>
                    </a:lnTo>
                    <a:lnTo>
                      <a:pt x="0" y="3167"/>
                    </a:lnTo>
                    <a:lnTo>
                      <a:pt x="13" y="3296"/>
                    </a:lnTo>
                    <a:lnTo>
                      <a:pt x="52" y="3410"/>
                    </a:lnTo>
                    <a:lnTo>
                      <a:pt x="118" y="3488"/>
                    </a:lnTo>
                    <a:lnTo>
                      <a:pt x="210" y="3520"/>
                    </a:lnTo>
                    <a:lnTo>
                      <a:pt x="300" y="3549"/>
                    </a:lnTo>
                    <a:lnTo>
                      <a:pt x="367" y="3630"/>
                    </a:lnTo>
                    <a:lnTo>
                      <a:pt x="406" y="3742"/>
                    </a:lnTo>
                    <a:lnTo>
                      <a:pt x="420" y="3872"/>
                    </a:lnTo>
                    <a:lnTo>
                      <a:pt x="406" y="3999"/>
                    </a:lnTo>
                    <a:lnTo>
                      <a:pt x="367" y="4113"/>
                    </a:lnTo>
                    <a:lnTo>
                      <a:pt x="300" y="4191"/>
                    </a:lnTo>
                    <a:lnTo>
                      <a:pt x="210" y="4223"/>
                    </a:lnTo>
                    <a:lnTo>
                      <a:pt x="118" y="4252"/>
                    </a:lnTo>
                    <a:lnTo>
                      <a:pt x="52" y="4333"/>
                    </a:lnTo>
                    <a:lnTo>
                      <a:pt x="13" y="4445"/>
                    </a:lnTo>
                    <a:lnTo>
                      <a:pt x="0" y="4575"/>
                    </a:lnTo>
                    <a:lnTo>
                      <a:pt x="13" y="4703"/>
                    </a:lnTo>
                    <a:lnTo>
                      <a:pt x="52" y="4817"/>
                    </a:lnTo>
                    <a:lnTo>
                      <a:pt x="118" y="4896"/>
                    </a:lnTo>
                    <a:lnTo>
                      <a:pt x="210" y="4928"/>
                    </a:lnTo>
                    <a:lnTo>
                      <a:pt x="300" y="4957"/>
                    </a:lnTo>
                    <a:lnTo>
                      <a:pt x="367" y="5037"/>
                    </a:lnTo>
                    <a:lnTo>
                      <a:pt x="406" y="5150"/>
                    </a:lnTo>
                    <a:lnTo>
                      <a:pt x="420" y="5280"/>
                    </a:lnTo>
                    <a:lnTo>
                      <a:pt x="406" y="5406"/>
                    </a:lnTo>
                    <a:lnTo>
                      <a:pt x="367" y="5520"/>
                    </a:lnTo>
                    <a:lnTo>
                      <a:pt x="300" y="5599"/>
                    </a:lnTo>
                    <a:lnTo>
                      <a:pt x="210" y="5631"/>
                    </a:lnTo>
                    <a:close/>
                  </a:path>
                </a:pathLst>
              </a:custGeom>
              <a:solidFill>
                <a:srgbClr val="fff5cf"/>
              </a:solidFill>
              <a:ln w="9360">
                <a:solidFill>
                  <a:srgbClr val="ffd4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6" name="Object 6"/>
            <p:cNvGraphicFramePr/>
            <p:nvPr/>
          </p:nvGraphicFramePr>
          <p:xfrm>
            <a:off x="2217600" y="4627080"/>
            <a:ext cx="1803240" cy="99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17600" y="4627080"/>
                      <a:ext cx="1803240" cy="99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" name="Group 9"/>
          <p:cNvGrpSpPr/>
          <p:nvPr/>
        </p:nvGrpSpPr>
        <p:grpSpPr>
          <a:xfrm>
            <a:off x="6008760" y="2205000"/>
            <a:ext cx="2600280" cy="3052800"/>
            <a:chOff x="6008760" y="2205000"/>
            <a:chExt cx="2600280" cy="3052800"/>
          </a:xfrm>
        </p:grpSpPr>
        <p:pic>
          <p:nvPicPr>
            <p:cNvPr id="79" name="Picture 4" descr="Einstein 1921 by F Schmutzer.jpg"/>
            <p:cNvPicPr/>
            <p:nvPr/>
          </p:nvPicPr>
          <p:blipFill>
            <a:blip r:embed="rId3"/>
            <a:stretch/>
          </p:blipFill>
          <p:spPr>
            <a:xfrm>
              <a:off x="6513840" y="2503800"/>
              <a:ext cx="2095200" cy="27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"/>
            <p:cNvPicPr/>
            <p:nvPr/>
          </p:nvPicPr>
          <p:blipFill>
            <a:blip r:embed="rId4"/>
            <a:stretch/>
          </p:blipFill>
          <p:spPr>
            <a:xfrm>
              <a:off x="6008760" y="2205000"/>
              <a:ext cx="1844640" cy="193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Rectangle 3"/>
          <p:cNvSpPr/>
          <p:nvPr/>
        </p:nvSpPr>
        <p:spPr>
          <a:xfrm>
            <a:off x="1551960" y="30528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1010110000101111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Arial"/>
              </a:rPr>
              <a:t>OK, suppose we bought this analogy.  So what?  What would we do different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80880" y="15890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y 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analogy with Bell’s Inequality helps us focus on what’s essential for QC experiments (at present), and away from what’s nice but in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btitle 4"/>
          <p:cNvSpPr/>
          <p:nvPr/>
        </p:nvSpPr>
        <p:spPr>
          <a:xfrm>
            <a:off x="380880" y="3112920"/>
            <a:ext cx="482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ice But Inesse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iver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act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ever quantum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ditional” types of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5189400" y="3112920"/>
            <a:ext cx="3733920" cy="1981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sse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vidence that a classical computer can’t do equally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ubtitle 4"/>
          <p:cNvSpPr/>
          <p:nvPr/>
        </p:nvSpPr>
        <p:spPr>
          <a:xfrm>
            <a:off x="5189400" y="5248440"/>
            <a:ext cx="37339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For me, focus on this issue is th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defining attribute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of quantum computer 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  <a:ea typeface="Calibri"/>
              </a:rPr>
              <a:t>sci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562720" y="5067360"/>
            <a:ext cx="121896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12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12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12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13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13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58560" y="18900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modes and m≥n output modes (typically m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Subtitle 4"/>
          <p:cNvSpPr/>
          <p:nvPr/>
        </p:nvSpPr>
        <p:spPr>
          <a:xfrm>
            <a:off x="358920" y="1636560"/>
            <a:ext cx="66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single-photon Fock states 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107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109" name="Subtitle 4"/>
          <p:cNvSpPr/>
          <p:nvPr/>
        </p:nvSpPr>
        <p:spPr>
          <a:xfrm>
            <a:off x="4268880" y="5943600"/>
            <a:ext cx="4570200" cy="798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simplicity, I’m ignoring outputs with ≥2 photons p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Subtitle 4"/>
          <p:cNvSpPr/>
          <p:nvPr/>
        </p:nvSpPr>
        <p:spPr>
          <a:xfrm>
            <a:off x="380880" y="3886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.  As hard as any combinatorial counting problem, and even harder tha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3-08-16T04:49:03Z</dcterms:modified>
  <cp:revision>1537</cp:revision>
  <dc:subject/>
  <dc:title>The Learnability of Quantum States</dc:title>
</cp:coreProperties>
</file>