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710F-9107-430C-9D07-58A1009BD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E31B-6C19-40F7-A935-F1A4C6FBF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C632-B324-4F58-AAAB-4BAE4EA36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B485-E3DF-4302-AEF1-983F804BC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B1F4-E172-4B6F-93D9-F268CA8FE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C3E0-B277-4068-9DDE-CBC83D3C0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D6F2-5880-46D0-9983-2D247292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874A-E953-4574-AA83-D15FF60E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DFC5-B43B-45F7-822C-EB74B40B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F4A-6FB1-4C6C-9899-2DDF7769E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7A6-1B53-42C3-AF79-3D762013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412-3B2A-4C67-8D2C-B3283E33C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2CAE-80B9-4663-9E43-28293E26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72F0-1306-45A2-8EDF-0C29D7BF0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9310-BADB-4DAD-A9AA-03D422FF2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740B-8A12-4C80-B44F-13A1B2564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1AD1-7892-4A09-9BB8-4E9BE4E3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14C8-9B79-42D9-A018-819CB489D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AFBE-30FB-49C5-A807-0A55E6D5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BC78-33FD-4AB0-8C9F-A072E5EB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22D5-0283-44E6-BF0B-7CF930987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C95-2EE1-4588-9632-2E7B4964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FFB-ABF1-45DD-B33D-012EE3D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27D-8F6B-4B24-AF61-1F29473A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5C3-DA5F-4C50-B7FB-B715F88A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349-0D5E-4623-B810-8761FCAE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B78-E697-45B1-BC92-1A423FD6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C15-0893-4CF9-A763-BDAA52BC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0EC-F398-4A91-B426-CDEB92A3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5C4-7F25-4E27-999F-5838E41D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EB5-DFBC-46D5-8933-9B90BCF4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4A5-2597-4606-8BC6-9D37980C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34C-4A91-4CE2-8007-7C76AAB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1E01-D5E4-4D30-A095-3BEE91951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alibri"/>
              </a:rPr>
              <a:t>The Computational Complexity of Linear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and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819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v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33"/>
          <p:cNvGrpSpPr/>
          <p:nvPr/>
        </p:nvGrpSpPr>
        <p:grpSpPr>
          <a:xfrm>
            <a:off x="6095880" y="1143000"/>
            <a:ext cx="2057400" cy="1219320"/>
            <a:chOff x="6095880" y="1143000"/>
            <a:chExt cx="2057400" cy="1219320"/>
          </a:xfrm>
        </p:grpSpPr>
        <p:sp>
          <p:nvSpPr>
            <p:cNvPr id="317" name="Rectangle 28"/>
            <p:cNvSpPr/>
            <p:nvPr/>
          </p:nvSpPr>
          <p:spPr>
            <a:xfrm>
              <a:off x="609588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9"/>
            <p:cNvSpPr/>
            <p:nvPr/>
          </p:nvSpPr>
          <p:spPr>
            <a:xfrm>
              <a:off x="609588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13"/>
            <p:cNvSpPr/>
            <p:nvPr/>
          </p:nvSpPr>
          <p:spPr>
            <a:xfrm>
              <a:off x="6400440" y="12189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d1d1"/>
                  </a:solidFill>
                  <a:latin typeface="Arial"/>
                </a:rPr>
                <a:t>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"/>
            <p:cNvSpPr/>
            <p:nvPr/>
          </p:nvSpPr>
          <p:spPr>
            <a:xfrm>
              <a:off x="7543800" y="1143000"/>
              <a:ext cx="609480" cy="60948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7"/>
            <p:cNvSpPr/>
            <p:nvPr/>
          </p:nvSpPr>
          <p:spPr>
            <a:xfrm>
              <a:off x="7543800" y="1752480"/>
              <a:ext cx="609480" cy="609840"/>
            </a:xfrm>
            <a:prstGeom prst="rect">
              <a:avLst/>
            </a:prstGeom>
            <a:solidFill>
              <a:srgbClr val="6b6bcf"/>
            </a:solidFill>
            <a:ln w="158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2"/>
          <p:cNvSpPr/>
          <p:nvPr/>
        </p:nvSpPr>
        <p:spPr>
          <a:xfrm>
            <a:off x="228600" y="152280"/>
            <a:ext cx="86868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</a:rPr>
              <a:t>Example: The “Hong-Ou-Mandel Dip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533520" y="15238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3124080" y="3505320"/>
                <a:ext cx="2170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2133720" y="1219320"/>
                <a:ext cx="28940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Oval 24"/>
          <p:cNvSpPr/>
          <p:nvPr/>
        </p:nvSpPr>
        <p:spPr>
          <a:xfrm>
            <a:off x="6248520" y="129528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5"/>
          <p:cNvSpPr/>
          <p:nvPr/>
        </p:nvSpPr>
        <p:spPr>
          <a:xfrm>
            <a:off x="6248520" y="1905120"/>
            <a:ext cx="30456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533520" y="2895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Pr[the two photons land in different modes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533520" y="441972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[they both land in the first mode]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2209680" y="5029200"/>
                <a:ext cx="44784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!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8131E-006 L 0.14167 -0.01111 E">
                                      <p:cBhvr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6994E-006 L 0.175 -0.0666 E">
                                      <p:cBhvr>
                                        <p:cTn id="197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Beautiful Alternate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228600" y="990720"/>
            <a:ext cx="87631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state” of our computer, at any time, is a degree-n polynomial over the variables x=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(n&lt;&lt;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Initial state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(x) :=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transformation U to x, to obtain a new degree-n polynom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1384200" y="4040280"/>
                <a:ext cx="62485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bSup>
                        <m:r>
                          <m:t xml:space="preserve">⋯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4" name="Text Box 16"/>
          <p:cNvSpPr/>
          <p:nvPr/>
        </p:nvSpPr>
        <p:spPr>
          <a:xfrm>
            <a:off x="228600" y="525780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on “measuring,” we see the monomia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5"/>
              <p:cNvSpPr txBox="1"/>
              <p:nvPr/>
            </p:nvSpPr>
            <p:spPr>
              <a:xfrm>
                <a:off x="2971800" y="5791320"/>
                <a:ext cx="2430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!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6"/>
              <p:cNvSpPr txBox="1"/>
              <p:nvPr/>
            </p:nvSpPr>
            <p:spPr>
              <a:xfrm>
                <a:off x="7162920" y="5105520"/>
                <a:ext cx="17366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⋯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228600" y="15228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OK, so why is it hard to sample the distribution over photon numbers classicall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Object 2" descr=""/>
          <p:cNvPicPr/>
          <p:nvPr/>
        </p:nvPicPr>
        <p:blipFill>
          <a:blip r:embed="rId1"/>
          <a:stretch/>
        </p:blipFill>
        <p:spPr>
          <a:xfrm>
            <a:off x="1600200" y="5638680"/>
            <a:ext cx="6238800" cy="9907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6"/>
          <p:cNvSpPr/>
          <p:nvPr/>
        </p:nvSpPr>
        <p:spPr>
          <a:xfrm>
            <a:off x="304920" y="144792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U (where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304920" y="3962520"/>
            <a:ext cx="84582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ne photon in each of the first n modes), apply U, and mea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Object 3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2776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a classical reduction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ject 2" descr=""/>
          <p:cNvPicPr/>
          <p:nvPr/>
        </p:nvPicPr>
        <p:blipFill>
          <a:blip r:embed="rId1"/>
          <a:stretch/>
        </p:blipFill>
        <p:spPr>
          <a:xfrm>
            <a:off x="5989680" y="5029200"/>
            <a:ext cx="2932200" cy="658800"/>
          </a:xfrm>
          <a:prstGeom prst="rect">
            <a:avLst/>
          </a:prstGeom>
          <a:ln w="0">
            <a:noFill/>
          </a:ln>
        </p:spPr>
      </p:pic>
      <p:pic>
        <p:nvPicPr>
          <p:cNvPr id="346" name="Object 7" descr=""/>
          <p:cNvPicPr/>
          <p:nvPr/>
        </p:nvPicPr>
        <p:blipFill>
          <a:blip r:embed="rId2"/>
          <a:stretch/>
        </p:blipFill>
        <p:spPr>
          <a:xfrm>
            <a:off x="1219320" y="5410080"/>
            <a:ext cx="6630840" cy="1052640"/>
          </a:xfrm>
          <a:prstGeom prst="rect">
            <a:avLst/>
          </a:prstGeom>
          <a:ln w="0">
            <a:noFill/>
          </a:ln>
        </p:spPr>
      </p:pic>
      <p:sp>
        <p:nvSpPr>
          <p:cNvPr id="347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9685E-006 L -0.00416 -0.7204 E">
                                      <p:cBhvr>
                                        <p:cTn id="255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6"/>
          <p:cNvSpPr/>
          <p:nvPr/>
        </p:nvSpPr>
        <p:spPr>
          <a:xfrm>
            <a:off x="304920" y="5076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I said before, I find this result unsatisfying, since it only talks about the classical hardnes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exac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ampling the distribution over photon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304920" y="2743200"/>
            <a:ext cx="8534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ifficulty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sampler might adversarially refuse to output the one submatrix whose permanent we care about!  That changes the output distribution by only exp(-n), so we still have an excellent sampler … but we can no longer use it to estimate |Per(A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304920" y="160020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bout sampling a distribution that’s 1/poly(n)-close in variation dista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304920" y="51814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get around this difficulty, it seems we need to “smuggle in” the matrix A that we about as a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and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ubmatrix of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88"/>
          <p:cNvSpPr/>
          <p:nvPr/>
        </p:nvSpPr>
        <p:spPr>
          <a:xfrm>
            <a:off x="2743200" y="2133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152280" y="83808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applying a </a:t>
            </a: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, to n photons in m=poly(n) mo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5"/>
          <p:cNvSpPr/>
          <p:nvPr/>
        </p:nvSpPr>
        <p:spPr>
          <a:xfrm>
            <a:off x="2666880" y="19810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2666880" y="22860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7"/>
          <p:cNvSpPr/>
          <p:nvPr/>
        </p:nvSpPr>
        <p:spPr>
          <a:xfrm>
            <a:off x="2666880" y="25909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8"/>
          <p:cNvSpPr/>
          <p:nvPr/>
        </p:nvSpPr>
        <p:spPr>
          <a:xfrm>
            <a:off x="2666880" y="28954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9"/>
          <p:cNvSpPr/>
          <p:nvPr/>
        </p:nvSpPr>
        <p:spPr>
          <a:xfrm>
            <a:off x="2666880" y="32004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0"/>
          <p:cNvSpPr/>
          <p:nvPr/>
        </p:nvSpPr>
        <p:spPr>
          <a:xfrm>
            <a:off x="3886200" y="19810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1"/>
          <p:cNvSpPr/>
          <p:nvPr/>
        </p:nvSpPr>
        <p:spPr>
          <a:xfrm>
            <a:off x="3886200" y="22860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2"/>
          <p:cNvSpPr/>
          <p:nvPr/>
        </p:nvSpPr>
        <p:spPr>
          <a:xfrm>
            <a:off x="3886200" y="25909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3"/>
          <p:cNvSpPr/>
          <p:nvPr/>
        </p:nvSpPr>
        <p:spPr>
          <a:xfrm>
            <a:off x="3886200" y="28954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4"/>
          <p:cNvSpPr/>
          <p:nvPr/>
        </p:nvSpPr>
        <p:spPr>
          <a:xfrm>
            <a:off x="3886200" y="32004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5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86"/>
          <p:cNvSpPr/>
          <p:nvPr/>
        </p:nvSpPr>
        <p:spPr>
          <a:xfrm>
            <a:off x="2666880" y="2286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87"/>
          <p:cNvSpPr/>
          <p:nvPr/>
        </p:nvSpPr>
        <p:spPr>
          <a:xfrm>
            <a:off x="2666880" y="2590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152280" y="3657600"/>
            <a:ext cx="87631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there’s a classical algorithm to sample a distribu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lose to 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time.  Then for al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/poly(n), there’s also a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lgorithm to estimate |Per(X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within additive err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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!, with probability 1-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a Gaussian random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4724280" y="2209680"/>
            <a:ext cx="3429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tribution D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ver photon nu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2895480" y="5897520"/>
                <a:ext cx="2819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1" name="Text Box 3"/>
          <p:cNvSpPr/>
          <p:nvPr/>
        </p:nvSpPr>
        <p:spPr>
          <a:xfrm>
            <a:off x="685800" y="3200400"/>
            <a:ext cx="7543800" cy="21592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ain technical lemma used in proo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Then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Haar unitary matrix is Õ(1/n)-close in variation distance to a matrix of independent Gauss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302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304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306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6"/>
          <p:cNvSpPr/>
          <p:nvPr/>
        </p:nvSpPr>
        <p:spPr>
          <a:xfrm>
            <a:off x="380880" y="457200"/>
            <a:ext cx="8382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the question boils down to this: how hard is it to additively estimate |Per(X)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ith high probability over a Gaussian random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5334120" y="1295280"/>
                <a:ext cx="3179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Text Box 16"/>
          <p:cNvSpPr/>
          <p:nvPr/>
        </p:nvSpPr>
        <p:spPr>
          <a:xfrm>
            <a:off x="380880" y="2666880"/>
            <a:ext cx="8382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onjecture that it’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—in which case, even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assical simulation of our linear-optics experiment would imply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380880" y="4419720"/>
            <a:ext cx="8382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decompose this conjecture into two plausible sub-conjectures: that multiplicatively estimating Per(X) i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for Gaussian X, and that Per(X) is “not too concentrated around 0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6"/>
          <p:cNvSpPr/>
          <p:nvPr/>
        </p:nvSpPr>
        <p:spPr>
          <a:xfrm>
            <a:off x="228600" y="17524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llowing problem i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.  Given a matrix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i.i.d. Gaussian entries, together with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utput an approximation z such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-of-Gaussians Conjecture (PG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380880" y="3352680"/>
                <a:ext cx="8223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Text Box 16"/>
          <p:cNvSpPr/>
          <p:nvPr/>
        </p:nvSpPr>
        <p:spPr>
          <a:xfrm>
            <a:off x="609480" y="49528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can prove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ness if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0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0.  So what makes the PGC nontrivial is really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ombin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average-case with approxi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6"/>
          <p:cNvSpPr/>
          <p:nvPr/>
        </p:nvSpPr>
        <p:spPr>
          <a:xfrm>
            <a:off x="228600" y="1676520"/>
            <a:ext cx="868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constants C,D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 such that for all n and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0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ermanent Anti-Concentration Conjecture (PAC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990720" y="2209680"/>
                <a:ext cx="723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1813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6"/>
          <p:cNvSpPr/>
          <p:nvPr/>
        </p:nvSpPr>
        <p:spPr>
          <a:xfrm>
            <a:off x="4572000" y="358128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pirically tr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4572000" y="42670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so, we can prove it with determinant in place of perma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228600" y="990720"/>
            <a:ext cx="8610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eems well within current technology to do our experiment with (say) n=4 photons and m=20 modes</a:t>
            </a:r>
            <a:br>
              <a:rPr sz="30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Current record: n=2 phot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228600" y="243828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can scale to n photons and erro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 variation distance, using “poly(n,1/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experimental effort,” then modulo our complexity conjectures, the ECT is fal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228600" y="3962520"/>
            <a:ext cx="861048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would it take to scale to (say) n=20 photons and m=500 mod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liabl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ingle-photon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sources (standard laser isn’t good enoug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liable photodetector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Stable apparatus to ensure that w.h.p., all n photons arrive at photodetector arrays at exactly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914400" y="2209680"/>
            <a:ext cx="7543800" cy="1007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Physicists we consulted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Sounds hard!  But not as hard as building a universal QC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85800" y="3962520"/>
            <a:ext cx="7848720" cy="146448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Remark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oint in scaling this experiment much beyond 20 or 30 photons, since then a classical computer can’t even verify the answ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7961400" y="0"/>
            <a:ext cx="1182600" cy="1066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182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228600" y="304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380880" y="449568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hardness results for other natural quantum systems (besides linear optic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380880" y="1905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our linear-optics model solve classically-intractab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blems?  What about problems for which a classical computer can verify th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80880" y="3429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romise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romise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interesting structural complexity consequ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380880" y="1219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e the PGC ($200) and PACC ($100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r even seriously proposed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6"/>
          <p:cNvSpPr/>
          <p:nvPr/>
        </p:nvSpPr>
        <p:spPr>
          <a:xfrm>
            <a:off x="380880" y="4575240"/>
            <a:ext cx="85345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P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BQ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, then (say) the polynomial hierarchy collaps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6"/>
          <p:cNvSpPr/>
          <p:nvPr/>
        </p:nvSpPr>
        <p:spPr>
          <a:xfrm>
            <a:off x="304920" y="990720"/>
            <a:ext cx="861048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efine a model of computation based on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linear optic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n identical photons traveling through a network of poly(n) beamsplitters, phase-shifters, etc., then a measurement of where the photons ended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Crucial point: No entangling interactions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between pairs of photons nee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oday: “A New Attack on the EC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04920" y="411480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model is contained in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but seems unlikely to be </a:t>
            </a:r>
            <a:r>
              <a:rPr b="1" lang="en-US" sz="30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omplete.  We don’t know if it solves any decision problems that are hard class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304920" y="563868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 for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ampl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earc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blems, the situation is completely differen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6"/>
          <p:cNvSpPr/>
          <p:nvPr/>
        </p:nvSpPr>
        <p:spPr>
          <a:xfrm>
            <a:off x="304920" y="533520"/>
            <a:ext cx="861048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1.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se that for every linear-optics network, the probability distribution over measurement outcomes can be sampled in classical polynomial time.  The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so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lap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 generally, let O be any oracle that simulates a linear-optics network A, given a description of A and a random string r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 even if linear optics can be simulated in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30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at still collapse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! 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New evidence that QCs have capabilities beyo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, complementing [A’10],[FU’10]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4038480" y="3657600"/>
                <a:ext cx="3570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⊆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Text Box 16"/>
          <p:cNvSpPr/>
          <p:nvPr/>
        </p:nvSpPr>
        <p:spPr>
          <a:xfrm>
            <a:off x="1295280" y="2895480"/>
            <a:ext cx="6324840" cy="2531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K, but isn’t the real question the hardness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pproxim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mpling?  After all, experiments are noisy, and not even the linear-optics network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el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sample exactly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6"/>
          <p:cNvSpPr/>
          <p:nvPr/>
        </p:nvSpPr>
        <p:spPr>
          <a:xfrm>
            <a:off x="304920" y="228600"/>
            <a:ext cx="86104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Theorem 2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Suppose two plausible conjectures are true: the permanent of a Gaussian random matrix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hard to approximate, 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2) not too concentrated around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t O be any oracle takes as input a description of a linear-optics network A, a random string r, and 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that samples from a distribu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close to A’s in variation distance.  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4648320" y="4191120"/>
                <a:ext cx="3570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⊆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P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0" name="Text Box 16"/>
          <p:cNvSpPr/>
          <p:nvPr/>
        </p:nvSpPr>
        <p:spPr>
          <a:xfrm>
            <a:off x="533520" y="5181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In other words: if our conjectures hold, then even simulating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linear-optics experiments is classically intractable, unless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3000" spc="-1" strike="noStrike">
                <a:solidFill>
                  <a:srgbClr val="008000"/>
                </a:solidFill>
                <a:latin typeface="Calibri"/>
              </a:rPr>
              <a:t> collap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2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00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838080" y="3200400"/>
            <a:ext cx="7543800" cy="222696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ed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[Valiant 2002, Terhal-DiVincenzo 2002]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wed that noninterac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erm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ystems can be simulated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But, confirming Avi’s joke, we’ll argue that the analogous problem for bosons (such as photons) is much hard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Linear Optics for Dumm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380880" y="10666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be considering a special kind of quantum computer, which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ased on qu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80880" y="2209680"/>
            <a:ext cx="83059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asis states have the form |S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the number of photons in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“mod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380880" y="3429000"/>
            <a:ext cx="830592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ll never create or destroy photons.  So if there are n photons, then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nonnegative integers summing to 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80880" y="594360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state: |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=|1,…,1,0,……,0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80880" y="510552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us, m=poly(n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"/>
          <p:cNvSpPr/>
          <p:nvPr/>
        </p:nvSpPr>
        <p:spPr>
          <a:xfrm>
            <a:off x="228600" y="122400"/>
            <a:ext cx="8610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get to apply any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matrix 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n=1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(i.e., there’s only one photon, in a superposition over the m mode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U acts on that photon in the obvious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3657600" y="1905120"/>
                <a:ext cx="2133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2" name="Rectangle 12"/>
          <p:cNvSpPr/>
          <p:nvPr/>
        </p:nvSpPr>
        <p:spPr>
          <a:xfrm>
            <a:off x="228600" y="22860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general, there are                                ways to distribute n identical photons into m m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228600" y="339876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 induces an M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 unitar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U) on the n-photon states as follow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895480" y="4008600"/>
                <a:ext cx="520704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Text Box 16"/>
          <p:cNvSpPr/>
          <p:nvPr/>
        </p:nvSpPr>
        <p:spPr>
          <a:xfrm>
            <a:off x="228600" y="5380200"/>
            <a:ext cx="86868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submatrix of U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ossibly with repeated rows and column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obtained by taking 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lumn for all i,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0-11-12T14:42:13Z</dcterms:modified>
  <cp:revision>929</cp:revision>
  <dc:subject/>
  <dc:title>The Learnability of Quantum States</dc:title>
</cp:coreProperties>
</file>