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E31-3487-49EB-9790-2B1C96AEE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B5AF-BB84-4D59-8FE2-7CB3B7E95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35F7-029B-46D4-AC05-B52457B58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AB34-85A5-4438-8C78-14380E67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7365-5263-46F4-9FFA-25D8F9252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E25A-9690-4F30-B714-44956F14D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B336-F542-4441-B37D-E2673D82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9CE6-2E6F-415E-9A57-3E3DF79A4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3ABC-503F-4EE1-8AC4-F0A8E9F1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9CDB-AA0B-4822-A560-6BB67DB0E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603-F511-4561-8A4D-482CAFC43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DDAB-79BF-4DDE-98EF-21BEF050E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5BE8-DDC0-4750-98E9-38216FB5F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CDF-4538-4C1C-AD03-A986A6E61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94A7-A422-4ED7-BA0C-45F4ADE6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B49-CA22-4564-98ED-552525A7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14C6-1090-4A99-87C4-221ECA70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69E1-ECFE-4AA9-B88D-4B9503EF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CA4D-E490-428C-BD6D-E9A9A87F2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2619-5BB2-4DF3-A92A-BDD899B28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6D2F-60B9-4B1D-A8B3-F62736319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BB0-DE00-4050-819E-068AEE8D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877-2C24-4CEC-9812-25271FED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11D-EC5A-4951-B0D4-A8B162F7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7B3-BE71-4717-B0FD-720AEFCC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A32-4BCA-48F4-BF6E-AFBF08F4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301-BE53-4D66-BFE8-D311963D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6A2-059E-4E3C-86FA-8DC2E247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7AA-EB31-4E52-AA92-983ED08E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623-AE03-4CFE-9769-DDD654B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3DD-15FB-430F-8CA5-53523C27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93A-D23B-45CC-B28C-C8D1BBD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1E4-FCF4-4516-9D6F-0829198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B1CA-76F8-47FC-9032-DCF919E4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Computational Complexity of Linear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and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819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33"/>
          <p:cNvGrpSpPr/>
          <p:nvPr/>
        </p:nvGrpSpPr>
        <p:grpSpPr>
          <a:xfrm>
            <a:off x="6095880" y="1143000"/>
            <a:ext cx="2057400" cy="1219320"/>
            <a:chOff x="6095880" y="1143000"/>
            <a:chExt cx="2057400" cy="1219320"/>
          </a:xfrm>
        </p:grpSpPr>
        <p:sp>
          <p:nvSpPr>
            <p:cNvPr id="317" name="Rectangle 28"/>
            <p:cNvSpPr/>
            <p:nvPr/>
          </p:nvSpPr>
          <p:spPr>
            <a:xfrm>
              <a:off x="609588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9"/>
            <p:cNvSpPr/>
            <p:nvPr/>
          </p:nvSpPr>
          <p:spPr>
            <a:xfrm>
              <a:off x="609588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13"/>
            <p:cNvSpPr/>
            <p:nvPr/>
          </p:nvSpPr>
          <p:spPr>
            <a:xfrm>
              <a:off x="6400440" y="12189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d1d1"/>
                  </a:solidFill>
                  <a:latin typeface="Arial"/>
                </a:rPr>
                <a:t>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"/>
            <p:cNvSpPr/>
            <p:nvPr/>
          </p:nvSpPr>
          <p:spPr>
            <a:xfrm>
              <a:off x="754380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7"/>
            <p:cNvSpPr/>
            <p:nvPr/>
          </p:nvSpPr>
          <p:spPr>
            <a:xfrm>
              <a:off x="754380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2"/>
          <p:cNvSpPr/>
          <p:nvPr/>
        </p:nvSpPr>
        <p:spPr>
          <a:xfrm>
            <a:off x="228600" y="15228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Example: The “Hong-Ou-Mandel Dip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533520" y="15238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3124080" y="3505320"/>
                <a:ext cx="2170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2133720" y="1219320"/>
                <a:ext cx="28940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Oval 24"/>
          <p:cNvSpPr/>
          <p:nvPr/>
        </p:nvSpPr>
        <p:spPr>
          <a:xfrm>
            <a:off x="6248520" y="1295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5"/>
          <p:cNvSpPr/>
          <p:nvPr/>
        </p:nvSpPr>
        <p:spPr>
          <a:xfrm>
            <a:off x="6248520" y="1905120"/>
            <a:ext cx="30456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Pr[the two photons land in different modes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533520" y="441972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[they both land in the first mode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2209680" y="5029200"/>
                <a:ext cx="44784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!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8131E-006 L 0.14167 -0.01111 E">
                                      <p:cBhvr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6994E-006 L 0.175 -0.0666 E">
                                      <p:cBhvr>
                                        <p:cTn id="197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autiful Alternate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228600" y="990720"/>
            <a:ext cx="8763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state” of our computer, at any time, is a degree-n polynomial over the variables x=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(n&lt;&lt;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Initial stat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(x) :=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transformation U to x, to obtain a new degree-n polynom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1384200" y="4040280"/>
                <a:ext cx="62485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4" name="Text Box 16"/>
          <p:cNvSpPr/>
          <p:nvPr/>
        </p:nvSpPr>
        <p:spPr>
          <a:xfrm>
            <a:off x="228600" y="52578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on “measuring,” we see the monomia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5"/>
              <p:cNvSpPr txBox="1"/>
              <p:nvPr/>
            </p:nvSpPr>
            <p:spPr>
              <a:xfrm>
                <a:off x="2971800" y="5791320"/>
                <a:ext cx="2430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!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6"/>
              <p:cNvSpPr txBox="1"/>
              <p:nvPr/>
            </p:nvSpPr>
            <p:spPr>
              <a:xfrm>
                <a:off x="7162920" y="5105520"/>
                <a:ext cx="17366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⋯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Object 2" descr=""/>
          <p:cNvPicPr/>
          <p:nvPr/>
        </p:nvPicPr>
        <p:blipFill>
          <a:blip r:embed="rId1"/>
          <a:stretch/>
        </p:blipFill>
        <p:spPr>
          <a:xfrm>
            <a:off x="1600200" y="5638680"/>
            <a:ext cx="6238800" cy="9907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6"/>
          <p:cNvSpPr/>
          <p:nvPr/>
        </p:nvSpPr>
        <p:spPr>
          <a:xfrm>
            <a:off x="304920" y="14479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Object 3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277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2" descr=""/>
          <p:cNvPicPr/>
          <p:nvPr/>
        </p:nvPicPr>
        <p:blipFill>
          <a:blip r:embed="rId1"/>
          <a:stretch/>
        </p:blipFill>
        <p:spPr>
          <a:xfrm>
            <a:off x="5989680" y="5029200"/>
            <a:ext cx="2932200" cy="658800"/>
          </a:xfrm>
          <a:prstGeom prst="rect">
            <a:avLst/>
          </a:prstGeom>
          <a:ln w="0">
            <a:noFill/>
          </a:ln>
        </p:spPr>
      </p:pic>
      <p:pic>
        <p:nvPicPr>
          <p:cNvPr id="346" name="Object 7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6630840" cy="1052640"/>
          </a:xfrm>
          <a:prstGeom prst="rect">
            <a:avLst/>
          </a:prstGeom>
          <a:ln w="0">
            <a:noFill/>
          </a:ln>
        </p:spPr>
      </p:pic>
      <p:sp>
        <p:nvSpPr>
          <p:cNvPr id="347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9685E-006 L -0.00416 -0.7204 E">
                                      <p:cBhvr>
                                        <p:cTn id="255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6"/>
          <p:cNvSpPr/>
          <p:nvPr/>
        </p:nvSpPr>
        <p:spPr>
          <a:xfrm>
            <a:off x="304920" y="5076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I said before, I find this result unsatisfying, since it only talks about the classical hardnes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exac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ampling the distribution over photon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304920" y="2743200"/>
            <a:ext cx="8534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ifficulty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sampler might adversarially refuse to output the one submatrix whose permanent we care about!  That changes the output distribution by only exp(-n), so we still have an excellent sampler … but we can no longer use it to estimate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304920" y="160020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bout sampling a distribution that’s 1/poly(n)-close in variation dista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304920" y="51814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get around this difficulty, it seems we need to “smuggle in” the matrix A that we about as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and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ubmatrix of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88"/>
          <p:cNvSpPr/>
          <p:nvPr/>
        </p:nvSpPr>
        <p:spPr>
          <a:xfrm>
            <a:off x="2743200" y="2133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152280" y="83808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applying a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, to n photons in m=poly(n) m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5"/>
          <p:cNvSpPr/>
          <p:nvPr/>
        </p:nvSpPr>
        <p:spPr>
          <a:xfrm>
            <a:off x="2666880" y="19810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2666880" y="22860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7"/>
          <p:cNvSpPr/>
          <p:nvPr/>
        </p:nvSpPr>
        <p:spPr>
          <a:xfrm>
            <a:off x="2666880" y="25909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8"/>
          <p:cNvSpPr/>
          <p:nvPr/>
        </p:nvSpPr>
        <p:spPr>
          <a:xfrm>
            <a:off x="2666880" y="28954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9"/>
          <p:cNvSpPr/>
          <p:nvPr/>
        </p:nvSpPr>
        <p:spPr>
          <a:xfrm>
            <a:off x="2666880" y="32004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0"/>
          <p:cNvSpPr/>
          <p:nvPr/>
        </p:nvSpPr>
        <p:spPr>
          <a:xfrm>
            <a:off x="3886200" y="19810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1"/>
          <p:cNvSpPr/>
          <p:nvPr/>
        </p:nvSpPr>
        <p:spPr>
          <a:xfrm>
            <a:off x="3886200" y="22860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2"/>
          <p:cNvSpPr/>
          <p:nvPr/>
        </p:nvSpPr>
        <p:spPr>
          <a:xfrm>
            <a:off x="3886200" y="25909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3"/>
          <p:cNvSpPr/>
          <p:nvPr/>
        </p:nvSpPr>
        <p:spPr>
          <a:xfrm>
            <a:off x="3886200" y="28954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4"/>
          <p:cNvSpPr/>
          <p:nvPr/>
        </p:nvSpPr>
        <p:spPr>
          <a:xfrm>
            <a:off x="3886200" y="32004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5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86"/>
          <p:cNvSpPr/>
          <p:nvPr/>
        </p:nvSpPr>
        <p:spPr>
          <a:xfrm>
            <a:off x="2666880" y="2286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87"/>
          <p:cNvSpPr/>
          <p:nvPr/>
        </p:nvSpPr>
        <p:spPr>
          <a:xfrm>
            <a:off x="2666880" y="2590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152280" y="3657600"/>
            <a:ext cx="87631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there’s a classical algorithm to sample a distribu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lose to 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time.  Then for al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/poly(n), there’s also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to estimate |Per(X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within additive err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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!, with probability 1-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a Gaussian random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4724280" y="2209680"/>
            <a:ext cx="3429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ribution 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photon nu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2895480" y="5897520"/>
                <a:ext cx="2819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1" name="Text Box 3"/>
          <p:cNvSpPr/>
          <p:nvPr/>
        </p:nvSpPr>
        <p:spPr>
          <a:xfrm>
            <a:off x="685800" y="3200400"/>
            <a:ext cx="7543800" cy="21592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ain technical lemma used in proo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Then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Haar unitary matrix is Õ(1/n)-close in variation distance to a matrix of independent Gauss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302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304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306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6"/>
          <p:cNvSpPr/>
          <p:nvPr/>
        </p:nvSpPr>
        <p:spPr>
          <a:xfrm>
            <a:off x="380880" y="45720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the question boils down to this: how hard is it to additively estimate |Per(X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high probability over a Gaussian random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5334120" y="1295280"/>
                <a:ext cx="3179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Text Box 16"/>
          <p:cNvSpPr/>
          <p:nvPr/>
        </p:nvSpPr>
        <p:spPr>
          <a:xfrm>
            <a:off x="380880" y="2666880"/>
            <a:ext cx="8382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onjecture that it’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—in which case, eve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assical simulation of our linear-optics experiment would imply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380880" y="4419720"/>
            <a:ext cx="8382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decompose this conjecture into two plausible sub-conjectures: that multiplicatively estimating Per(X) i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for Gaussian X, and that Per(X) is “not too concentrated around 0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6"/>
          <p:cNvSpPr/>
          <p:nvPr/>
        </p:nvSpPr>
        <p:spPr>
          <a:xfrm>
            <a:off x="228600" y="17524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llowing problem i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.  Given a matrix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i.i.d. Gaussian entries, together with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utput an approximation z such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-of-Gaussians Conjecture (PG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380880" y="3352680"/>
                <a:ext cx="8223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Text Box 16"/>
          <p:cNvSpPr/>
          <p:nvPr/>
        </p:nvSpPr>
        <p:spPr>
          <a:xfrm>
            <a:off x="609480" y="49528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prove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ness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0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0.  So what makes the PGC nontrivial is really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ombin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average-case with approx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6"/>
          <p:cNvSpPr/>
          <p:nvPr/>
        </p:nvSpPr>
        <p:spPr>
          <a:xfrm>
            <a:off x="228600" y="167652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constants C,D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 such that for all n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 Anti-Concentration Conjecture (PA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990720" y="2209680"/>
                <a:ext cx="723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6"/>
          <p:cNvSpPr/>
          <p:nvPr/>
        </p:nvSpPr>
        <p:spPr>
          <a:xfrm>
            <a:off x="4572000" y="358128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4572000" y="42670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228600" y="990720"/>
            <a:ext cx="8610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eems well within current technology to do our experiment with (say) n=4 photons and m=20 modes</a:t>
            </a:r>
            <a:br>
              <a:rPr sz="30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Current record: n=2 phot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228600" y="243828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can scale to n photons and err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variation distance, using “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experimental effort,” then modulo our complexity conjectures, the ECT is fal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228600" y="3962520"/>
            <a:ext cx="861048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would it take to scale to (say) n=20 photons and m=500 mod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liabl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ingle-photon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sources (standard laser isn’t good enoug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liable photodetector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Stable apparatus to ensure that w.h.p., all n photons arrive at photodetector arrays at exactly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914400" y="2209680"/>
            <a:ext cx="7543800" cy="1007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hysicists we consul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Sounds hard!  But not as hard as building a universal QC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85800" y="3962520"/>
            <a:ext cx="7848720" cy="1464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mark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oint in scaling this experiment much beyond 20 or 30 photons, since then a classical computer can’t even verify the answ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7961400" y="0"/>
            <a:ext cx="1182600" cy="1066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182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380880" y="449568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hardness results for other natural quantum systems (besides linear opti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380880" y="1905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ur linear-optics model solve classically-intracta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?  What about problems for which a classical computer can verify th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80880" y="3429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romise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romise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interesting structural complexity consequ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380880" y="1219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the PGC ($200) and PACC ($100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r even seriously proposed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380880" y="4575240"/>
            <a:ext cx="85345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P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Q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, then (say) the polynomial hierarchy collaps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6"/>
          <p:cNvSpPr/>
          <p:nvPr/>
        </p:nvSpPr>
        <p:spPr>
          <a:xfrm>
            <a:off x="304920" y="990720"/>
            <a:ext cx="861048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efine a model of computation based o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linear optic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n identical photons traveling through a network of poly(n) beamsplitters, phase-shifters, etc., then a measurement of where the photons ended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rucial point: No entangling interactions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between pairs of photons nee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day: “A New Attack on the E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04920" y="411480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model is contained 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but seems unlikely to be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.  We don’t know if it solves any decision problems that are hard class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304920" y="563868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for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ampl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ear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blems, the situation is completely differen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6"/>
          <p:cNvSpPr/>
          <p:nvPr/>
        </p:nvSpPr>
        <p:spPr>
          <a:xfrm>
            <a:off x="304920" y="533520"/>
            <a:ext cx="861048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1.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that for every linear-optics network, the probability distribution over measurement outcomes can be sampled in classical polynomial time.  The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so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lap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generally, let O be any oracle that simulates a linear-optics network A, given a description of A and a random string r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even if linear optics can be simulated i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at still collapse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 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New evidence that QCs have capabilities beyo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, complementing [A’10],[FU’10]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4038480" y="3657600"/>
                <a:ext cx="3570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⊆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Text Box 16"/>
          <p:cNvSpPr/>
          <p:nvPr/>
        </p:nvSpPr>
        <p:spPr>
          <a:xfrm>
            <a:off x="1295280" y="2895480"/>
            <a:ext cx="6324840" cy="2531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, but isn’t the real question the hardness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mpling?  After all, experiments are noisy, and not even the linear-optics network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sample exactly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6"/>
          <p:cNvSpPr/>
          <p:nvPr/>
        </p:nvSpPr>
        <p:spPr>
          <a:xfrm>
            <a:off x="304920" y="228600"/>
            <a:ext cx="86104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2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Suppose two plausible conjectures are true: the permanent of a Gaussian random matrix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to approximate,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) not too concentrated around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O be any oracle takes as input a description of a linear-optics network A, a random string r, and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that samples from a distribu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lose to A’s in variation distance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4648320" y="4191120"/>
                <a:ext cx="3570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⊆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0" name="Text Box 16"/>
          <p:cNvSpPr/>
          <p:nvPr/>
        </p:nvSpPr>
        <p:spPr>
          <a:xfrm>
            <a:off x="533520" y="5181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In other words: if our conjectures hold, then even simulating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linear-optics experiments is classically intractable, unles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collap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2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00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838080" y="3200400"/>
            <a:ext cx="7543800" cy="22269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[Valiant 2002, Terhal-DiVincenzo 2002]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that noninterac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erm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ystems can be simulated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But, confirming Avi’s joke, we’ll argue that the analogous problem for bosons (such as photons) is much hard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Linear Optics for Dum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380880" y="10666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be considering a special kind of quantum computer, which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ased on qu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80880" y="2209680"/>
            <a:ext cx="83059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asis states have the form |S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the number of photons in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“mod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380880" y="3429000"/>
            <a:ext cx="830592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never create or destroy photons.  So if there are n photons, then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nonnegative integers summing to 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80880" y="59436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state: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…,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80880" y="51055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us, m=poly(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"/>
          <p:cNvSpPr/>
          <p:nvPr/>
        </p:nvSpPr>
        <p:spPr>
          <a:xfrm>
            <a:off x="228600" y="122400"/>
            <a:ext cx="8610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get to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=1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i.e., there’s only one photon, in a superposition over the m mode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U acts on that photon in the obviou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3657600" y="1905120"/>
                <a:ext cx="2133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2" name="Rectangle 12"/>
          <p:cNvSpPr/>
          <p:nvPr/>
        </p:nvSpPr>
        <p:spPr>
          <a:xfrm>
            <a:off x="228600" y="22860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general, there are                                ways to distribute n identical photons into m m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228600" y="339876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 induces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) on the n-photon states as follow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895480" y="4008600"/>
                <a:ext cx="520704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Text Box 16"/>
          <p:cNvSpPr/>
          <p:nvPr/>
        </p:nvSpPr>
        <p:spPr>
          <a:xfrm>
            <a:off x="228600" y="5380200"/>
            <a:ext cx="86868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U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ossibly with repeated rows and column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btained by taking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umn for all i,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0-11-12T14:42:13Z</dcterms:modified>
  <cp:revision>929</cp:revision>
  <dc:subject/>
  <dc:title>The Learnability of Quantum States</dc:title>
</cp:coreProperties>
</file>