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86A4-1905-402F-A9ED-05269372E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B89E-8C1C-4140-B9CA-7BF2D406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AA22-33FF-4B17-8598-BA59EE75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B880-2339-41DB-9C88-7C633CEF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88E3-96F7-4013-AEA0-AB38DA18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B1E-0286-43D8-9EA9-93D5A89B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416B-D187-439F-B2D4-68FE9DCF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94EB-F94E-4281-B8DD-C7523002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FFCA-BC36-47F7-82FB-BFD223C61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397-BAE4-48F1-9577-10ACA463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F0C-9CF4-4CED-97D1-8D5FF56FE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4FD-CD6D-4076-B8F1-51B76AF7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0BC0-A0CC-49D0-8D43-12837833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F080-EBCC-4C7B-A2C3-69EFDB1D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9E2-47EF-4B01-BEC5-3E104B1D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243-79C0-4B39-8111-8049D2F9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A25-5C34-4E56-926D-AB26C2686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810-D2A7-46B2-8F41-7F58AD20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7373-F48F-494E-8AE2-A6D75C73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217E-7A57-4E71-B8EC-92BCD08A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DF83-76FB-437B-B5FD-9AEF314D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BC8-69C3-4067-B2BF-A9AD5EA4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241-7A85-43B3-AEBD-52C5F3C1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E9D-2F68-4288-8B10-5B3D654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4F7-3F63-4869-AF0D-E3620A32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5B6-76DF-4555-9EE7-E41AA0F1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E67-0F3A-4B0E-9873-09ADF6EB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5E4-3F85-4DB4-9DFC-E5D6BFE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B2A-AA90-440A-B605-5D62A389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55A-535F-4B01-9304-0854A6A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656-07FD-437A-9AD5-C27978C8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08E-A1FA-4D1D-B3F5-33E68D0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E5B-7DF2-427B-ACFA-71B6F8C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FD2-0EFC-4B5E-B219-27316EF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4477-5338-486C-BD0D-B8584310C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Computational Complexity of Linear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304920" y="762120"/>
            <a:ext cx="86104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Feynman 1982, Abrams-Lloyd 1996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compose the m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m unitary U into a product of O(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elementary “linear-optics gates” (beamsplitters and phaseshifters), then simulate each gate using polylog(n) standard qubit 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304920" y="487692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Gurvits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ere exist classical algorithms to approxim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U)|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n randomized poly(n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time, and to compute the marginal distribution on photon numbers in k modes i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k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304920" y="3429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Bartlett-Sanders et al.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the inputs are Gaussian states and the measurements are homodyne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pper Bounds on the Power of 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y contrast, exactly sampling the distribution ove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l n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photons is extremely hard!  Here’s wh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1905120" y="5562720"/>
                <a:ext cx="50688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Text Box 16"/>
          <p:cNvSpPr/>
          <p:nvPr/>
        </p:nvSpPr>
        <p:spPr>
          <a:xfrm>
            <a:off x="304920" y="15238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 (wher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04920" y="3962520"/>
            <a:ext cx="85341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one photon in each of the first n modes), app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, and measu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2971800" y="2514600"/>
                <a:ext cx="2776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ε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5989680" y="5029200"/>
                <a:ext cx="29322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49560" y="5424480"/>
                <a:ext cx="5070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5634E-006 L -0.004 -0.70444 E">
                                      <p:cBhvr>
                                        <p:cTn id="183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6"/>
          <p:cNvSpPr/>
          <p:nvPr/>
        </p:nvSpPr>
        <p:spPr>
          <a:xfrm>
            <a:off x="304920" y="152280"/>
            <a:ext cx="853416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High-Level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ositive or 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-comp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ill hard, but known to be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quantum mechanics could be efficiently simulated classically, then these two problems would become equivalent—thereby plac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collaps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6"/>
          <p:cNvSpPr/>
          <p:nvPr/>
        </p:nvSpPr>
        <p:spPr>
          <a:xfrm flipH="1">
            <a:off x="0" y="449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04920" y="4724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tensions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Even simulation of QM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ould impl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Can desig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ing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hard linear-optics circuit for each 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Can let the inputs be coherent rather than Fock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6"/>
          <p:cNvSpPr/>
          <p:nvPr/>
        </p:nvSpPr>
        <p:spPr>
          <a:xfrm>
            <a:off x="304920" y="533520"/>
            <a:ext cx="853416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why aren’t we don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ause real quantum experiments are subject to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an efficient classical algorithm that sampled from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istribution—one that was only 1/poly(n)-close to the true distribution in variation distance—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 the polynomial hierarch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304920" y="48006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fficulty in showing thi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sampler might adversarially neglect to output the one submatrix whose permanent we care about!  So we’ll need to “smuggle” the PERMANENT instance we care about into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bmatri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304920" y="3657600"/>
            <a:ext cx="8534160" cy="91692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ain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Yes, assuming two plausible conjectures about random permanents (the “PGC” and the “PCC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6"/>
          <p:cNvSpPr/>
          <p:nvPr/>
        </p:nvSpPr>
        <p:spPr>
          <a:xfrm>
            <a:off x="228600" y="1752480"/>
            <a:ext cx="868680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ε,δ ≥ 1/poly(n) for which the following problem i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.  Given a Gaussian random matrix X drawn from N(0,1)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×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utput a complex number z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28600" y="434340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probability at least 1-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ver 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3276720" y="3124080"/>
                <a:ext cx="2333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16"/>
          <p:cNvSpPr/>
          <p:nvPr/>
        </p:nvSpPr>
        <p:spPr>
          <a:xfrm>
            <a:off x="304920" y="52578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can prove the conjecture i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0!  What makes it hard is th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average-case and approxi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6"/>
          <p:cNvSpPr/>
          <p:nvPr/>
        </p:nvSpPr>
        <p:spPr>
          <a:xfrm>
            <a:off x="228600" y="16765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polynomials q, there exists a polynomial p such that for all n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Concentration Conjecture (P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362320" y="2209680"/>
                <a:ext cx="48765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ra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6"/>
          <p:cNvSpPr/>
          <p:nvPr/>
        </p:nvSpPr>
        <p:spPr>
          <a:xfrm>
            <a:off x="4648320" y="373392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4648320" y="441972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88"/>
          <p:cNvSpPr/>
          <p:nvPr/>
        </p:nvSpPr>
        <p:spPr>
          <a:xfrm>
            <a:off x="281952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228600" y="99072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228600" y="4343400"/>
            <a:ext cx="8686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 fast classical algorithm that takes U as input, and samples any distribution eve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/poly(n)-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assuming the PGC and PCC,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hence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5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6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7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8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9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0"/>
          <p:cNvSpPr/>
          <p:nvPr/>
        </p:nvSpPr>
        <p:spPr>
          <a:xfrm>
            <a:off x="3962520" y="24382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1"/>
          <p:cNvSpPr/>
          <p:nvPr/>
        </p:nvSpPr>
        <p:spPr>
          <a:xfrm>
            <a:off x="3962520" y="2743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2"/>
          <p:cNvSpPr/>
          <p:nvPr/>
        </p:nvSpPr>
        <p:spPr>
          <a:xfrm>
            <a:off x="3962520" y="3048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3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4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5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6"/>
          <p:cNvSpPr/>
          <p:nvPr/>
        </p:nvSpPr>
        <p:spPr>
          <a:xfrm>
            <a:off x="2743200" y="2743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7"/>
          <p:cNvSpPr/>
          <p:nvPr/>
        </p:nvSpPr>
        <p:spPr>
          <a:xfrm>
            <a:off x="2743200" y="3048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270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272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274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6"/>
          <p:cNvSpPr/>
          <p:nvPr/>
        </p:nvSpPr>
        <p:spPr>
          <a:xfrm>
            <a:off x="228600" y="152280"/>
            <a:ext cx="87631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A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photons—in such a wa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, for some basis state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Useful lemma we rely on: given a Haar-random m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m unitary matrix, an n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n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28600" y="24382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classical sampler has “no way of knowing” which submatrix of U we care about—so even if it has 1/poly(n) error, with high probability it will return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228600" y="4191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, just like before, we can use approximate counting to estimate Pr[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228600" y="5181480"/>
            <a:ext cx="86104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uming the PCC, the above lets us estimate Per(A) itself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assuming the PGC, estimating Per(A)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5228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blem: Bosons like to pile on top of each 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380880" y="838080"/>
            <a:ext cx="8534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ll a basis state S=(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f every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0 or 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.e., there are no collisions between photon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bad basis states dominated, then our sampling algorithm might “work,” without ever having to solve a hard PERMANENT in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rthermore, the “bosonic birthday paradox” is even worse than the classical on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9"/>
          <p:cNvGrpSpPr/>
          <p:nvPr/>
        </p:nvGrpSpPr>
        <p:grpSpPr>
          <a:xfrm>
            <a:off x="914400" y="4724280"/>
            <a:ext cx="1066680" cy="533520"/>
            <a:chOff x="914400" y="4724280"/>
            <a:chExt cx="1066680" cy="533520"/>
          </a:xfrm>
        </p:grpSpPr>
        <p:sp>
          <p:nvSpPr>
            <p:cNvPr id="391" name="Rectangle 3"/>
            <p:cNvSpPr/>
            <p:nvPr/>
          </p:nvSpPr>
          <p:spPr>
            <a:xfrm>
              <a:off x="914400" y="4724280"/>
              <a:ext cx="53352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"/>
            <p:cNvSpPr/>
            <p:nvPr/>
          </p:nvSpPr>
          <p:spPr>
            <a:xfrm>
              <a:off x="1447920" y="4724280"/>
              <a:ext cx="53316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0"/>
          <p:cNvGrpSpPr/>
          <p:nvPr/>
        </p:nvGrpSpPr>
        <p:grpSpPr>
          <a:xfrm>
            <a:off x="990720" y="4800600"/>
            <a:ext cx="914400" cy="380880"/>
            <a:chOff x="990720" y="4800600"/>
            <a:chExt cx="914400" cy="380880"/>
          </a:xfrm>
        </p:grpSpPr>
        <p:sp>
          <p:nvSpPr>
            <p:cNvPr id="394" name="Oval 5"/>
            <p:cNvSpPr/>
            <p:nvPr/>
          </p:nvSpPr>
          <p:spPr>
            <a:xfrm>
              <a:off x="99072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>
              <a:off x="152424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1"/>
          <p:cNvGrpSpPr/>
          <p:nvPr/>
        </p:nvGrpSpPr>
        <p:grpSpPr>
          <a:xfrm>
            <a:off x="914400" y="4724280"/>
            <a:ext cx="533520" cy="533520"/>
            <a:chOff x="914400" y="4724280"/>
            <a:chExt cx="533520" cy="533520"/>
          </a:xfrm>
        </p:grpSpPr>
        <p:sp>
          <p:nvSpPr>
            <p:cNvPr id="397" name="Oval 5"/>
            <p:cNvSpPr/>
            <p:nvPr/>
          </p:nvSpPr>
          <p:spPr>
            <a:xfrm>
              <a:off x="914400" y="487656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"/>
            <p:cNvSpPr/>
            <p:nvPr/>
          </p:nvSpPr>
          <p:spPr>
            <a:xfrm>
              <a:off x="1066680" y="472428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2"/>
          <p:cNvGrpSpPr/>
          <p:nvPr/>
        </p:nvGrpSpPr>
        <p:grpSpPr>
          <a:xfrm>
            <a:off x="1447920" y="4724280"/>
            <a:ext cx="533160" cy="533520"/>
            <a:chOff x="1447920" y="4724280"/>
            <a:chExt cx="533160" cy="533520"/>
          </a:xfrm>
        </p:grpSpPr>
        <p:sp>
          <p:nvSpPr>
            <p:cNvPr id="400" name="Oval 5"/>
            <p:cNvSpPr/>
            <p:nvPr/>
          </p:nvSpPr>
          <p:spPr>
            <a:xfrm>
              <a:off x="1447920" y="487656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"/>
            <p:cNvSpPr/>
            <p:nvPr/>
          </p:nvSpPr>
          <p:spPr>
            <a:xfrm>
              <a:off x="1600200" y="472428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2590920" y="4267080"/>
                <a:ext cx="62532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oth particles land in the same bo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16"/>
          <p:cNvSpPr/>
          <p:nvPr/>
        </p:nvSpPr>
        <p:spPr>
          <a:xfrm>
            <a:off x="2590920" y="50292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 than ½ as with classical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tunately, we show that with n bos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des, the probability of a collision is still at most (say) 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62120" y="4724280"/>
            <a:ext cx="7848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228600" y="1066680"/>
            <a:ext cx="495288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otodetector arrays that can reliably distinguish 0 vs. 1 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6"/>
          <p:cNvSpPr/>
          <p:nvPr/>
        </p:nvSpPr>
        <p:spPr>
          <a:xfrm>
            <a:off x="5257800" y="3657600"/>
            <a:ext cx="3733920" cy="2974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20 photons and m=400 modes, so that classical simulation is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ontrivial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04920" y="106668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  (That approximating the permanent of an N(0,1) Gaussian random matrix is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04920" y="5638680"/>
            <a:ext cx="693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ur linear-optics experim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04920" y="45720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the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e.g., qubit-based) quantum systems for which approximate classical simulation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358128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our linear-optics model solve classically-intractabl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ble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04920" y="251460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Concentration Conjecture!  (That Pr[|Per(X)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lt;n!/p(n)] &lt; 1/q(n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876920" y="3200400"/>
            <a:ext cx="3886200" cy="3072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152280" y="1371600"/>
            <a:ext cx="44960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more “generic” complexity assumptions than the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s evidence that QCs have capabilities outside th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nvolves linear optic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With single-photon Fock state inputs, and nonadaptive multimode photon-detection measure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, a different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724280" y="1371600"/>
            <a:ext cx="426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es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roblems with many possible output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, not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 relevant for the N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13"/>
          <p:cNvSpPr/>
          <p:nvPr/>
        </p:nvSpPr>
        <p:spPr>
          <a:xfrm>
            <a:off x="1066680" y="1371600"/>
            <a:ext cx="708660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2057400" y="2438280"/>
            <a:ext cx="3200400" cy="39625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52280" y="754380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04920" y="304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stiary of Complexity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52280" y="9296280"/>
            <a:ext cx="80773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ust as they belie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omplexity theorists believ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infin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if you can show “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,” it’s damn good evidence that such-and-such is fa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048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388620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 rot="20263200">
            <a:off x="2265480" y="2889000"/>
            <a:ext cx="5572080" cy="324000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2743200" y="3809880"/>
            <a:ext cx="1752480" cy="23623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30481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 rot="20157600">
            <a:off x="2868120" y="4203720"/>
            <a:ext cx="4232520" cy="146988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3200400" y="5257800"/>
            <a:ext cx="838080" cy="762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2767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5867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6019920" y="2743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 rot="5400000">
            <a:off x="3782520" y="453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4800600" y="1905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24382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1"/>
          <p:cNvSpPr/>
          <p:nvPr/>
        </p:nvSpPr>
        <p:spPr>
          <a:xfrm>
            <a:off x="5334120" y="4495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2"/>
          <p:cNvSpPr/>
          <p:nvPr/>
        </p:nvSpPr>
        <p:spPr>
          <a:xfrm>
            <a:off x="5334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676520" y="2666880"/>
            <a:ext cx="6019560" cy="229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mplexity theorists say “such-and-such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uch-and-such is true, then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6"/>
          <p:cNvSpPr/>
          <p:nvPr/>
        </p:nvSpPr>
        <p:spPr>
          <a:xfrm>
            <a:off x="304920" y="914400"/>
            <a:ext cx="861048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the polynomial hierarchy collapses (indeed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by a classical computer with an oracle for the polynomial hierarchy, still the polynomial hierarchy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wo plausible conjectures are true: the permanent of a Gaussian random matrix i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output distribution of a linear-optics circuit can’t even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efficiently classically, unless the polynomial hierarchy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523880" y="2438280"/>
            <a:ext cx="609624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ur conjectures hold, then even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i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-optics experiment can sample from a probability distribution that no classical computer can feasibly sampl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8600" y="990720"/>
            <a:ext cx="8686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nill, Laflamme, Milburn 200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 optic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daptive measuremen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ields universal Q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aliant 2002, Terhal-DiVincenzo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interacting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erm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. 200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computer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stsel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unlikely measurement outcomes can solve hard counting problems (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hepherd, Bremner 2009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Instantaneous quantum computing” can solve sampling problems that seem hard classical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remner, Jozsa, Shepherd 2010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fficient simulation of instantaneous quantum computing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25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"/>
          <p:cNvSpPr/>
          <p:nvPr/>
        </p:nvSpPr>
        <p:spPr>
          <a:xfrm>
            <a:off x="228600" y="243828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ing from a fixed initial state—say,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 you get to choose any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induces an                                       unitar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-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s,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inear Optics for Dummi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or computer scienti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28600" y="838080"/>
            <a:ext cx="876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ational basis states have the form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nonnegative integers such that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 = # of identical photons      m = # of modes       For us, m&gt;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2971800" y="4038480"/>
                <a:ext cx="520056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2286000" y="3324240"/>
                <a:ext cx="2666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3" name="Text Box 16"/>
          <p:cNvSpPr/>
          <p:nvPr/>
        </p:nvSpPr>
        <p:spPr>
          <a:xfrm>
            <a:off x="228600" y="6172200"/>
            <a:ext cx="876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you get to measu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the computational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228600" y="5257800"/>
            <a:ext cx="86868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btained by taking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umn, for all i,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4-26T20:13:48Z</dcterms:modified>
  <cp:revision>377</cp:revision>
  <dc:subject/>
  <dc:title>The Learnability of Quantum States</dc:title>
</cp:coreProperties>
</file>