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44E-999B-4AFE-BEB6-270B3455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CD70-E9D9-4DCC-9426-DF88AD85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BA3-3977-4C33-A5EE-26D96A63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C86-D00B-402F-8F7D-C95C7ECD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7162-23A4-42DB-8025-D06ED6C7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7AB3-DE2F-493A-B928-B6D7F321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F471-C857-40B4-8153-FE440371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CCB3-168B-4E83-9D81-504BDC65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217-5DB7-49B6-86A7-ED501F68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0FF5-ED41-4D5C-BEE4-E86D963F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CBE-4397-4341-87D0-D69B2329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426-E715-457C-B3D1-00F58F30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DCE-0D4B-423E-9CAC-C5FBDE9C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E30-37B7-4C5F-8567-8AF7A1F8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E87-DC95-4AA3-B941-CAC27007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AD0-995F-4988-A710-62279225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759-1737-4AEC-A1F8-66492C8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CC4-2758-41E1-A3F9-538013A3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7A6-94D1-4022-B174-6586CF61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614-13A8-4AA0-AFD5-4A5E555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901-83EE-4F0D-9B70-8C08EB66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102-0692-42DA-8580-8E10F070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330-902F-4FE8-AB15-DC8D033F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ADA0-26D9-40A9-8735-6482913B4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1ff"/>
                </a:solidFill>
                <a:latin typeface="Calibri"/>
              </a:rPr>
              <a:t>New Computational Insights from Quantum Optic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ubtitle 4"/>
          <p:cNvSpPr/>
          <p:nvPr/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Do our optics experi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’re in contact with two groups working to do so: Terry Rudolph’s at Imperial College London and Andrew White’s in Brisbane,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urrent focus: 3-4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ubtitle 4"/>
          <p:cNvSpPr/>
          <p:nvPr/>
        </p:nvSpPr>
        <p:spPr>
          <a:xfrm>
            <a:off x="533520" y="3581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ve that eve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pproxim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lassical simulation of our experiment is infeasible assuming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P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s inf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st of [A.-Arkhipov 2011] is devoted to a program for proving this, but big piec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ubtitle 4"/>
          <p:cNvSpPr/>
          <p:nvPr/>
        </p:nvSpPr>
        <p:spPr>
          <a:xfrm>
            <a:off x="533520" y="5715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d more ways for quantum complexity theory to “meet the experimentalists half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Is Quantum Opt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rudimentary type of quantum computing, involving onl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non-interacting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galton.avi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400480" cy="3391200"/>
          </a:xfrm>
          <a:prstGeom prst="rect">
            <a:avLst/>
          </a:prstGeom>
          <a:ln w="0">
            <a:noFill/>
          </a:ln>
        </p:spPr>
      </p:pic>
      <p:sp>
        <p:nvSpPr>
          <p:cNvPr id="54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lassical counterpa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alton’s Board, on display at (e.g.) the Boston Museum of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4"/>
          <p:cNvSpPr/>
          <p:nvPr/>
        </p:nvSpPr>
        <p:spPr>
          <a:xfrm>
            <a:off x="3657600" y="335268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ing only pegs and non-interacting balls, you probably can’t build a universal computer—but you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ca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do some interesting computations, like generating the binomial distribu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traight Connector 8"/>
          <p:cNvSpPr/>
          <p:nvPr/>
        </p:nvSpPr>
        <p:spPr>
          <a:xfrm>
            <a:off x="1143000" y="33526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9"/>
          <p:cNvSpPr/>
          <p:nvPr/>
        </p:nvSpPr>
        <p:spPr>
          <a:xfrm flipH="1">
            <a:off x="1143000" y="3352680"/>
            <a:ext cx="3657600" cy="2743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Quantum Counter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t’s replace the ball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ntical single phot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nd the pegs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eamspl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ubtitle 4"/>
          <p:cNvSpPr/>
          <p:nvPr/>
        </p:nvSpPr>
        <p:spPr>
          <a:xfrm>
            <a:off x="45720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 fact that photons obey Bose statistics leads to strange phenomena, lik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ong-Ou-Mandel d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62320" y="4648320"/>
            <a:ext cx="121896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990720" y="320040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4648320" y="3200400"/>
            <a:ext cx="304560" cy="3049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ubtitle 4"/>
          <p:cNvSpPr/>
          <p:nvPr/>
        </p:nvSpPr>
        <p:spPr>
          <a:xfrm>
            <a:off x="5486400" y="3352680"/>
            <a:ext cx="3352680" cy="1828800"/>
          </a:xfrm>
          <a:prstGeom prst="rect">
            <a:avLst/>
          </a:prstGeom>
          <a:solidFill>
            <a:srgbClr val="ffffb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photons are now correlated, even though they never intera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19167 0.2 E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9166 0.2 E">
                                      <p:cBhvr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01667 0.36667 E">
                                      <p:cBhvr>
                                        <p:cTn id="4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167 0.2 L 0.375 0.38889 E">
                                      <p:cBhvr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33 0.2 L 0 0.4 E">
                                      <p:cBhvr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167 0.2 L -0.38333 0.38889 E">
                                      <p:cBhvr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1522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’s Going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90920" y="83808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mplitude for an n-photon final state in an optical experiment is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erma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3809880" y="1676520"/>
                <a:ext cx="3743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σ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609480" y="4879800"/>
                <a:ext cx="38847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Subtitle 4"/>
          <p:cNvSpPr/>
          <p:nvPr/>
        </p:nvSpPr>
        <p:spPr>
          <a:xfrm>
            <a:off x="380880" y="3886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or example, the amplitude of the final state |1,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the Hong-Ou-Mandel experimen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ubtitle 4"/>
          <p:cNvSpPr/>
          <p:nvPr/>
        </p:nvSpPr>
        <p:spPr>
          <a:xfrm>
            <a:off x="2590920" y="28954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here A=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is an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matrix of transition amplitudes for the individual ph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380880" y="990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80880" y="19810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380880" y="2971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1905120" y="990720"/>
            <a:ext cx="30456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1905120" y="19810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1905120" y="297180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6"/>
          <p:cNvCxnSpPr>
            <a:stCxn id="71" idx="6"/>
            <a:endCxn id="74" idx="2"/>
          </p:cNvCxnSpPr>
          <p:nvPr/>
        </p:nvCxnSpPr>
        <p:spPr>
          <a:xfrm>
            <a:off x="685440" y="114300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8" name="Straight Arrow Connector 17"/>
          <p:cNvCxnSpPr/>
          <p:nvPr/>
        </p:nvCxnSpPr>
        <p:spPr>
          <a:xfrm>
            <a:off x="685440" y="2133720"/>
            <a:ext cx="12200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9" name="Straight Arrow Connector 18"/>
          <p:cNvCxnSpPr/>
          <p:nvPr/>
        </p:nvCxnSpPr>
        <p:spPr>
          <a:xfrm>
            <a:off x="685440" y="3123720"/>
            <a:ext cx="12200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0" name="Straight Arrow Connector 19"/>
          <p:cNvCxnSpPr>
            <a:stCxn id="71" idx="6"/>
            <a:endCxn id="75" idx="2"/>
          </p:cNvCxnSpPr>
          <p:nvPr/>
        </p:nvCxnSpPr>
        <p:spPr>
          <a:xfrm>
            <a:off x="685440" y="114300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1" name="Straight Arrow Connector 23"/>
          <p:cNvCxnSpPr/>
          <p:nvPr/>
        </p:nvCxnSpPr>
        <p:spPr>
          <a:xfrm>
            <a:off x="685440" y="213336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2" name="Straight Arrow Connector 24"/>
          <p:cNvCxnSpPr>
            <a:endCxn id="75" idx="2"/>
          </p:cNvCxnSpPr>
          <p:nvPr/>
        </p:nvCxnSpPr>
        <p:spPr>
          <a:xfrm flipV="1">
            <a:off x="685440" y="2133000"/>
            <a:ext cx="1220040" cy="99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3" name="Straight Arrow Connector 26"/>
          <p:cNvCxnSpPr/>
          <p:nvPr/>
        </p:nvCxnSpPr>
        <p:spPr>
          <a:xfrm flipV="1">
            <a:off x="685440" y="1142640"/>
            <a:ext cx="12200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4" name="Straight Arrow Connector 27"/>
          <p:cNvCxnSpPr>
            <a:stCxn id="71" idx="6"/>
            <a:endCxn id="76" idx="2"/>
          </p:cNvCxnSpPr>
          <p:nvPr/>
        </p:nvCxnSpPr>
        <p:spPr>
          <a:xfrm>
            <a:off x="685440" y="114264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85" name="Straight Arrow Connector 30"/>
          <p:cNvCxnSpPr>
            <a:stCxn id="73" idx="6"/>
            <a:endCxn id="74" idx="2"/>
          </p:cNvCxnSpPr>
          <p:nvPr/>
        </p:nvCxnSpPr>
        <p:spPr>
          <a:xfrm flipV="1">
            <a:off x="685440" y="1142280"/>
            <a:ext cx="1220040" cy="1981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6" name="Subtitle 4"/>
          <p:cNvSpPr/>
          <p:nvPr/>
        </p:nvSpPr>
        <p:spPr>
          <a:xfrm>
            <a:off x="4724280" y="4876920"/>
            <a:ext cx="4114800" cy="1828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two contributions to the amplitud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 destructiv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cancelling each other 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1522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o, Can We Use Quantum Optics to Calculate the Perman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ubtitle 4"/>
          <p:cNvSpPr/>
          <p:nvPr/>
        </p:nvSpPr>
        <p:spPr>
          <a:xfrm>
            <a:off x="457200" y="24382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Explan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get a reasonable estimate of Per(A), you might need to repeat the optical experiment exponentially many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4"/>
          <p:cNvSpPr/>
          <p:nvPr/>
        </p:nvSpPr>
        <p:spPr>
          <a:xfrm>
            <a:off x="457200" y="3886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eorem (Gurvits 2005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ere’s an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classical randomized algorithm to estimate the probability that there will be one photon in each of n slots,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4"/>
          <p:cNvSpPr/>
          <p:nvPr/>
        </p:nvSpPr>
        <p:spPr>
          <a:xfrm>
            <a:off x="457200" y="57913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.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urvits’s algorithm can be generalized to estimate probabilitie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rbitr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ina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ubtitle 4"/>
          <p:cNvSpPr/>
          <p:nvPr/>
        </p:nvSpPr>
        <p:spPr>
          <a:xfrm>
            <a:off x="533520" y="14479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sounds way too good to be true—it would let us solve </a:t>
            </a:r>
            <a:r>
              <a:rPr b="1" i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NP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complete problems and more using Q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flyingpig"/>
          <p:cNvPicPr/>
          <p:nvPr/>
        </p:nvPicPr>
        <p:blipFill>
          <a:blip r:embed="rId1"/>
          <a:stretch/>
        </p:blipFill>
        <p:spPr>
          <a:xfrm>
            <a:off x="3886200" y="5829480"/>
            <a:ext cx="131436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0.00312 -0.60278 E">
                                      <p:cBhvr>
                                        <p:cTn id="140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3000" fill="hold"/>
                                        <p:tgtEl>
                                          <p:spTgt spid="92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04920" y="228600"/>
            <a:ext cx="85341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ven so, the fact that amplitudes are permanents does let us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Use Quantum Optics to Solve Hard Sampling Problems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-Arkhipov, STOC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60948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Our Basic Resul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uppose there were a polynomial-time classical randomized algorithm that took as input a description of a quantum optics experiment, and outpu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rom the correct final distribution over n-photon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n the polynomial hierarchy would col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4"/>
          <p:cNvSpPr/>
          <p:nvPr/>
        </p:nvSpPr>
        <p:spPr>
          <a:xfrm>
            <a:off x="609480" y="5257800"/>
            <a:ext cx="77724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Compared to (say) Shor’s factoring algorithm, we g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ron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evidence that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ak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stem can do interesting quantum comp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371600" y="228600"/>
            <a:ext cx="6324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Equivalence of Sampling and Searching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CSR 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ubtitle 4"/>
          <p:cNvSpPr/>
          <p:nvPr/>
        </p:nvSpPr>
        <p:spPr>
          <a:xfrm>
            <a:off x="380880" y="22096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[A.-Arkhipov] gave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“sampling problem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olvable using quantum optics that seems hard classically—but does that imply anything about more traditional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ubtitle 4"/>
          <p:cNvSpPr/>
          <p:nvPr/>
        </p:nvSpPr>
        <p:spPr>
          <a:xfrm>
            <a:off x="380880" y="3809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ecently, I found a way to convert any sampling problem into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arch probl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of “equivalent difficul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ubtitle 4"/>
          <p:cNvSpPr/>
          <p:nvPr/>
        </p:nvSpPr>
        <p:spPr>
          <a:xfrm>
            <a:off x="380880" y="5029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Basic 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Given a distribution D, the search problem is to find a string x in the support of D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ge Kolmogorov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7745400" y="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80880" y="228600"/>
            <a:ext cx="8382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Using Quantum Optics to Prove that the Permanent is </a:t>
            </a:r>
            <a:r>
              <a:rPr b="1" lang="en-US" sz="4400" spc="-1" strike="noStrike">
                <a:solidFill>
                  <a:srgbClr val="990099"/>
                </a:solidFill>
                <a:latin typeface="Calibri"/>
              </a:rPr>
              <a:t>#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-Hard</a:t>
            </a:r>
            <a:br>
              <a:rPr sz="44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[A.,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Proc. Roy. Soc.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201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ubtitle 4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ubtitle 4"/>
          <p:cNvSpPr/>
          <p:nvPr/>
        </p:nvSpPr>
        <p:spPr>
          <a:xfrm>
            <a:off x="380880" y="220968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liant famously showed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—but his proof required strange, custom-made ga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ubtitle 4"/>
          <p:cNvSpPr/>
          <p:nvPr/>
        </p:nvSpPr>
        <p:spPr>
          <a:xfrm>
            <a:off x="380880" y="327672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e gave a new, more transparent proof by combining three fa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-photon amplitudes correspond to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2) Postselected quantum optics can simulate universal quantum computation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[Knill-Laflamme-Milburn 200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3) Quantum computations can encode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 quantities in their ampl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ubtitle 4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Thinking about quantum optics l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experimental quantum computing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w evidence that QCs are hard to simulate clas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classical randomized algorithm for estimating perma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 new proof of Valiant’s result that the permanent is </a:t>
            </a:r>
            <a:r>
              <a:rPr b="1" lang="en-US" sz="2800" spc="-1" strike="noStrike">
                <a:solidFill>
                  <a:srgbClr val="990099"/>
                </a:solidFill>
                <a:latin typeface="Calibri"/>
                <a:ea typeface="Calibri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Indirectly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 new connection between sampling and sear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owner</cp:lastModifiedBy>
  <dcterms:modified xsi:type="dcterms:W3CDTF">2011-06-21T14:03:58Z</dcterms:modified>
  <cp:revision>1135</cp:revision>
  <dc:subject/>
  <dc:title>The Learnability of Quantum States</dc:title>
</cp:coreProperties>
</file>