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B74C-E668-4DDB-ADFC-6A09467B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E4C2-A760-451F-9B89-77D078EF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CC4D-17E9-41A2-8E2C-E294E99B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D584-4A48-4E66-B4AC-273AC518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1E1-1646-4227-AF2D-728E2B8C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7542-1B7E-4A5F-99BB-87827719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C15E-8B19-4A97-A4FD-504A85D3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79D4-A1DA-441D-920A-621B15C5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CAB-468E-4599-AD2C-E8C750FB9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69FD-5482-4A57-9D52-BA381ED8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7238-F1A7-4C13-A051-6A939229E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5D5-1871-462F-A9EB-10CF698C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C0D-F696-4DB4-84F5-E99F320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A41-F45A-4CCE-A67A-552B1C05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85B-0416-47E8-BADD-8F2EA2A5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112-8ED5-4892-8AEE-C3E67B04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F22-5B9A-4AB7-A262-F9E83F92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7F1-F065-4E88-B86F-D13972EC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7CC-88E6-4D1D-B629-FA67B23B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2DF-4AFE-46E8-968D-EF7748E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EAE-85E5-44AA-94CC-D6C6A2DF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B67-4D07-4815-96FA-009EE23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8CB-92CB-4C66-8423-2A375A41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0A84-6E5D-4699-9EB4-C622CFAC9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ff"/>
                </a:solidFill>
                <a:latin typeface="Calibri"/>
              </a:rPr>
              <a:t>New Computational Insights from Quantum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ubtitle 4"/>
          <p:cNvSpPr/>
          <p:nvPr/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o our optics experi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’re in contact with two groups working to do so: Terry Rudolph’s at Imperial College London and Andrew White’s in Brisbane,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urrent focus: 3-4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533520" y="3581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ve tha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pproxim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ssical simulation of our experiment is infeasible assuming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in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st of [A.-Arkhipov 2011] is devoted to a program for proving this, but big piec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ubtitle 4"/>
          <p:cNvSpPr/>
          <p:nvPr/>
        </p:nvSpPr>
        <p:spPr>
          <a:xfrm>
            <a:off x="533520" y="5715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d more ways for quantum complexity theory to “meet the experimentalists half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Is Quantum Op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alton.avi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400480" cy="3391200"/>
          </a:xfrm>
          <a:prstGeom prst="rect">
            <a:avLst/>
          </a:prstGeom>
          <a:ln w="0">
            <a:noFill/>
          </a:ln>
        </p:spPr>
      </p:pic>
      <p:sp>
        <p:nvSpPr>
          <p:cNvPr id="54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, on display at (e.g.) the Boston Museum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4"/>
          <p:cNvSpPr/>
          <p:nvPr/>
        </p:nvSpPr>
        <p:spPr>
          <a:xfrm>
            <a:off x="3657600" y="33526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only pegs and non-interacting balls, you probably can’t build a universal computer—but you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o some interesting computations, like generating the binomial distrib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traight Connector 8"/>
          <p:cNvSpPr/>
          <p:nvPr/>
        </p:nvSpPr>
        <p:spPr>
          <a:xfrm>
            <a:off x="1143000" y="33526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9"/>
          <p:cNvSpPr/>
          <p:nvPr/>
        </p:nvSpPr>
        <p:spPr>
          <a:xfrm flipH="1">
            <a:off x="1143000" y="33526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Counter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’s replace the ball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ntical single phot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the peg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amspl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ubtitle 4"/>
          <p:cNvSpPr/>
          <p:nvPr/>
        </p:nvSpPr>
        <p:spPr>
          <a:xfrm>
            <a:off x="45720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the fact that photons obey Bose statistics leads to strange phenomena, lik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ong-Ou-Mandel d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62320" y="4648320"/>
            <a:ext cx="12189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990720" y="320040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4648320" y="320040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5486400" y="3352680"/>
            <a:ext cx="3352680" cy="1828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two photons are now correlated, even though they never intera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19167 0.2 E">
                                      <p:cBhvr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9166 0.2 E">
                                      <p:cBhvr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90920" y="83808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amplitude for an n-photon final state in an optical experiment i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erma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3809880" y="1676520"/>
                <a:ext cx="3743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609480" y="4879800"/>
                <a:ext cx="38847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Subtitle 4"/>
          <p:cNvSpPr/>
          <p:nvPr/>
        </p:nvSpPr>
        <p:spPr>
          <a:xfrm>
            <a:off x="380880" y="3886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example, the amplitude of the final state |1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Hong-Ou-Mandel experimen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ubtitle 4"/>
          <p:cNvSpPr/>
          <p:nvPr/>
        </p:nvSpPr>
        <p:spPr>
          <a:xfrm>
            <a:off x="2590920" y="28954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 A=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is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matrix of transition amplitudes for the individual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380880" y="990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380880" y="19810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380880" y="2971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905120" y="990720"/>
            <a:ext cx="30456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1905120" y="19810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1905120" y="297180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6"/>
          <p:cNvCxnSpPr>
            <a:stCxn id="71" idx="6"/>
            <a:endCxn id="74" idx="2"/>
          </p:cNvCxnSpPr>
          <p:nvPr/>
        </p:nvCxnSpPr>
        <p:spPr>
          <a:xfrm>
            <a:off x="685440" y="114300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8" name="Straight Arrow Connector 17"/>
          <p:cNvCxnSpPr/>
          <p:nvPr/>
        </p:nvCxnSpPr>
        <p:spPr>
          <a:xfrm>
            <a:off x="685440" y="213372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9" name="Straight Arrow Connector 18"/>
          <p:cNvCxnSpPr/>
          <p:nvPr/>
        </p:nvCxnSpPr>
        <p:spPr>
          <a:xfrm>
            <a:off x="685440" y="3123720"/>
            <a:ext cx="12200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0" name="Straight Arrow Connector 19"/>
          <p:cNvCxnSpPr>
            <a:stCxn id="71" idx="6"/>
            <a:endCxn id="75" idx="2"/>
          </p:cNvCxnSpPr>
          <p:nvPr/>
        </p:nvCxnSpPr>
        <p:spPr>
          <a:xfrm>
            <a:off x="685440" y="114300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1" name="Straight Arrow Connector 23"/>
          <p:cNvCxnSpPr/>
          <p:nvPr/>
        </p:nvCxnSpPr>
        <p:spPr>
          <a:xfrm>
            <a:off x="685440" y="213336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2" name="Straight Arrow Connector 24"/>
          <p:cNvCxnSpPr>
            <a:endCxn id="75" idx="2"/>
          </p:cNvCxnSpPr>
          <p:nvPr/>
        </p:nvCxnSpPr>
        <p:spPr>
          <a:xfrm flipV="1">
            <a:off x="685440" y="213300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3" name="Straight Arrow Connector 26"/>
          <p:cNvCxnSpPr/>
          <p:nvPr/>
        </p:nvCxnSpPr>
        <p:spPr>
          <a:xfrm flipV="1">
            <a:off x="685440" y="114264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4" name="Straight Arrow Connector 27"/>
          <p:cNvCxnSpPr>
            <a:stCxn id="71" idx="6"/>
            <a:endCxn id="76" idx="2"/>
          </p:cNvCxnSpPr>
          <p:nvPr/>
        </p:nvCxnSpPr>
        <p:spPr>
          <a:xfrm>
            <a:off x="685440" y="114264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5" name="Straight Arrow Connector 30"/>
          <p:cNvCxnSpPr>
            <a:stCxn id="73" idx="6"/>
            <a:endCxn id="74" idx="2"/>
          </p:cNvCxnSpPr>
          <p:nvPr/>
        </p:nvCxnSpPr>
        <p:spPr>
          <a:xfrm flipV="1">
            <a:off x="685440" y="114228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6" name="Subtitle 4"/>
          <p:cNvSpPr/>
          <p:nvPr/>
        </p:nvSpPr>
        <p:spPr>
          <a:xfrm>
            <a:off x="4724280" y="4876920"/>
            <a:ext cx="4114800" cy="1828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two contributions to the amplitud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 destructiv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cancelling each other o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o, Can We Use Quantum Optics to Calculate the Perman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ubtitle 4"/>
          <p:cNvSpPr/>
          <p:nvPr/>
        </p:nvSpPr>
        <p:spPr>
          <a:xfrm>
            <a:off x="457200" y="2438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get a reasonable estimate of Per(A), you might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457200" y="3886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Gurvits 2005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re’s 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lassical randomized algorithm to estimate the probability that there will be one photon in each of n slots,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457200" y="57913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.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urvits’s algorithm can be generalized to estimate probabilitie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bitr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ina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4"/>
          <p:cNvSpPr/>
          <p:nvPr/>
        </p:nvSpPr>
        <p:spPr>
          <a:xfrm>
            <a:off x="533520" y="14479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—it would let us solve </a:t>
            </a:r>
            <a:r>
              <a:rPr b="1" i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 and more using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40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3000" fill="hold"/>
                                        <p:tgtEl>
                                          <p:spTgt spid="92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04920" y="228600"/>
            <a:ext cx="85341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Even so, the fact that amplitudes are permanents does let us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Use Quantum Optics to Solve Hard Sampling Problem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-Arkhipov, STOC 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60948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r Basic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ppose there were a polynomial-time classical randomized algorithm that took as input a description of a quantum optics experiment, and output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correct final distribution over n-photon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the polynomial hierarchy would col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609480" y="5257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interesting quantum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371600" y="228600"/>
            <a:ext cx="6324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quivalence of Sampling and Searching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CSR 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380880" y="22096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A.-Arkhipov] gave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“sampling problem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olvable using quantum optics that seems hard classically—but does that imply anything about more traditional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380880" y="3809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, I found a way to convert any sampling problem in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“equivalent difficul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ubtitle 4"/>
          <p:cNvSpPr/>
          <p:nvPr/>
        </p:nvSpPr>
        <p:spPr>
          <a:xfrm>
            <a:off x="380880" y="5029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asic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distribution D, the search problem is to find a string x in the support of 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rge Kolmogorov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590840" cy="159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7745400" y="0"/>
            <a:ext cx="1398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-Hard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famously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ubtitle 4"/>
          <p:cNvSpPr/>
          <p:nvPr/>
        </p:nvSpPr>
        <p:spPr>
          <a:xfrm>
            <a:off x="60948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inking about quantum optics l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experimental quantum computing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w evidence that QCs are hard to simulate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classical randomized algorithm for estimating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proof of Valiant’s result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Indirectly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 new connection between sampling and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1-06-21T14:03:58Z</dcterms:modified>
  <cp:revision>1135</cp:revision>
  <dc:subject/>
  <dc:title>The Learnability of Quantum States</dc:title>
</cp:coreProperties>
</file>