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11.png" ContentType="image/png"/>
  <Override PartName="/ppt/media/image19.jpeg" ContentType="image/jpeg"/>
  <Override PartName="/ppt/media/image9.gif" ContentType="image/gif"/>
  <Override PartName="/ppt/media/image7.png" ContentType="image/png"/>
  <Override PartName="/ppt/media/image15.wmf" ContentType="image/x-wmf"/>
  <Override PartName="/ppt/media/image12.wmf" ContentType="image/x-wmf"/>
  <Override PartName="/ppt/media/image4.png" ContentType="image/png"/>
  <Override PartName="/ppt/media/image27.png" ContentType="image/png"/>
  <Override PartName="/ppt/media/image6.jpeg" ContentType="image/jpeg"/>
  <Override PartName="/ppt/media/image10.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4.wmf" ContentType="image/x-wmf"/>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516B-BB66-4BD8-B938-689C6D017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63AD-C3B9-4F9B-83F8-DE7CC01509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0380-3413-4F34-84CA-2E8F567DE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79DC-6898-4481-BD0B-B45763617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E263-987F-4C82-B268-048432E7E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B6DC-DB94-4B54-8023-40FFF459A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2E0F-A2D4-499B-9E14-978D8ED53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D404-1D80-4F2A-9A32-911B0EA6E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DE29-6522-4671-856B-446997F12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E515-BBCA-4C2D-B1C5-BBEF1D408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C6B6-F3BB-4B17-BCB7-6B29F7E6F09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B6D5-EADA-4C7F-A2BD-A4BE346F8F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CD8F-4732-4FF8-819E-A072503EDA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0107-E2E2-4681-AAA0-A79FCA9499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62D1-0349-4996-89F9-5CB9B7C47E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40E8-9A0D-45F1-92AB-8F1E82A85A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67F5-0C1C-403F-968B-1214113004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168E-AC11-40A4-8842-744F61056F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96EC-0B65-48E3-A4AD-ED7F264F7E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3CB5-8E48-49C5-BF47-BF96C9EB0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97A1-1539-47F3-9DE2-AAB1286E7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E55C-DE73-4A22-8C5B-B944EA4637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1F4A-4808-455C-A9DA-F6BA0F0A40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CDB6-54D4-47B4-AB52-26456D167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E312-ACA0-4EA3-A0FB-2806E3A14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2ED4-64C8-4C53-8A83-1AA731D3B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3DC7-71EC-4F65-BC9E-E047EE8FB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7F07-388E-45EB-8419-F3DC64DA8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1C6EF-3DCF-4C34-A4E0-46B5D012D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947F7-A388-487B-BE0E-FCB50BAB6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80184-2E59-4C75-95AC-5D6F93C34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9740C-C7B2-41E5-B970-19C329250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A785E-E73F-4D81-89CA-B3E62FDEF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47F38-0A6A-4B87-AC54-0CFA5DA0A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9C479-9FBD-4CFA-B6BA-17D3BA23C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6B994-22A4-4696-9B3C-D14AE1464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F62DC-66B7-49C9-8C98-B3D8EE157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AB4B8-CD90-425A-A630-B146612ED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E9297-E030-47DF-A30B-691688408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DEE3B-F3DB-4A63-9841-840F7B2DA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BAB5E-80B9-4F33-B744-5D547CD69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B716E-E399-401B-875E-7A9313F34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93658-4471-4209-90E8-F3888A731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6AFD8-05D5-4492-B9C1-9C395AC81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F0B46-1A22-4B92-B924-ED46F5A7B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D9793-EB18-4D11-8B52-27A08000E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B4BA5-2E79-4B91-BA83-B1A15F7E4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56D0D-4037-4229-9B0E-B9DC4BAB5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ECF8A-173C-4256-8B54-D65C3430D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AF9E-71D9-4B82-802C-672BD3B0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B6A3-2627-4545-A982-B6F306EEE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E590-A1E5-4751-9F4E-E335C4F8D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F14E-EBD1-4349-A323-F6B1B16E9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910D-3E74-4926-AA2A-D3899A280A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13.xml"/><Relationship Id="rId10"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2720" y="151920"/>
            <a:ext cx="8458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70c0"/>
                </a:solidFill>
                <a:latin typeface="Calibri"/>
              </a:rPr>
              <a:t>BosonSampling</a:t>
            </a:r>
            <a:endParaRPr b="1" lang="en-US" sz="5000" spc="-1" strike="noStrike">
              <a:solidFill>
                <a:srgbClr val="333399"/>
              </a:solidFill>
              <a:latin typeface="Arial"/>
            </a:endParaRPr>
          </a:p>
        </p:txBody>
      </p:sp>
      <p:sp>
        <p:nvSpPr>
          <p:cNvPr id="90" name="PlaceHolder 2"/>
          <p:cNvSpPr>
            <a:spLocks noGrp="1"/>
          </p:cNvSpPr>
          <p:nvPr>
            <p:ph type="subTitle"/>
          </p:nvPr>
        </p:nvSpPr>
        <p:spPr>
          <a:xfrm>
            <a:off x="685800" y="4343400"/>
            <a:ext cx="7772400" cy="4572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Scott Aaronson (MIT)</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CMP 2015, Santiago, Chile</a:t>
            </a:r>
            <a:endParaRPr b="0" lang="en-US" sz="3000" spc="-1" strike="noStrike">
              <a:solidFill>
                <a:srgbClr val="000000"/>
              </a:solidFill>
              <a:latin typeface="Arial"/>
            </a:endParaRPr>
          </a:p>
        </p:txBody>
      </p:sp>
      <p:pic>
        <p:nvPicPr>
          <p:cNvPr id="91" name="Picture 4" descr=""/>
          <p:cNvPicPr/>
          <p:nvPr/>
        </p:nvPicPr>
        <p:blipFill>
          <a:blip r:embed="rId1"/>
          <a:stretch/>
        </p:blipFill>
        <p:spPr>
          <a:xfrm>
            <a:off x="914400" y="1349280"/>
            <a:ext cx="3105000" cy="2800440"/>
          </a:xfrm>
          <a:prstGeom prst="rect">
            <a:avLst/>
          </a:prstGeom>
          <a:ln w="0">
            <a:noFill/>
          </a:ln>
        </p:spPr>
      </p:pic>
      <p:pic>
        <p:nvPicPr>
          <p:cNvPr id="92" name="Picture 6" descr="C:\photos\arkhipov.jpg"/>
          <p:cNvPicPr/>
          <p:nvPr/>
        </p:nvPicPr>
        <p:blipFill>
          <a:blip r:embed="rId2"/>
          <a:stretch/>
        </p:blipFill>
        <p:spPr>
          <a:xfrm>
            <a:off x="8001000" y="5429160"/>
            <a:ext cx="1052640" cy="1393920"/>
          </a:xfrm>
          <a:prstGeom prst="rect">
            <a:avLst/>
          </a:prstGeom>
          <a:ln w="0">
            <a:noFill/>
          </a:ln>
        </p:spPr>
      </p:pic>
      <p:sp>
        <p:nvSpPr>
          <p:cNvPr id="93" name="Subtitle 4"/>
          <p:cNvSpPr/>
          <p:nvPr/>
        </p:nvSpPr>
        <p:spPr>
          <a:xfrm>
            <a:off x="380880" y="6248520"/>
            <a:ext cx="7772400" cy="45720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ased mostly on joint work with Alex Arkhipov</a:t>
            </a:r>
            <a:endParaRPr b="0" lang="en-US" sz="3000" spc="-1" strike="noStrike">
              <a:solidFill>
                <a:srgbClr val="000000"/>
              </a:solidFill>
              <a:latin typeface="Arial"/>
            </a:endParaRPr>
          </a:p>
        </p:txBody>
      </p:sp>
      <p:pic>
        <p:nvPicPr>
          <p:cNvPr id="94" name="Picture 4" descr=""/>
          <p:cNvPicPr/>
          <p:nvPr/>
        </p:nvPicPr>
        <p:blipFill>
          <a:blip r:embed="rId3"/>
          <a:stretch/>
        </p:blipFill>
        <p:spPr>
          <a:xfrm>
            <a:off x="4648320" y="1400040"/>
            <a:ext cx="3571920" cy="27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71" name="Object 13"/>
              <p:cNvSpPr txBox="1"/>
              <p:nvPr/>
            </p:nvSpPr>
            <p:spPr>
              <a:xfrm>
                <a:off x="264960" y="3259080"/>
                <a:ext cx="1704960" cy="1559160"/>
              </a:xfrm>
              <a:prstGeom prst="rect">
                <a:avLst/>
              </a:prstGeom>
            </p:spPr>
            <p:txBody>
              <a:bodyPr/>
              <a:p>
                <a14:m>
                  <m:oMath xmlns:m="http://schemas.openxmlformats.org/officeDocument/2006/math">
                    <m:d>
                      <m:dPr>
                        <m:begChr m:val="("/>
                        <m:endChr m:val=")"/>
                      </m:dPr>
                      <m:e>
                        <m:m>
                          <m:mr>
                            <m:e>
                              <m:f>
                                <m:num>
                                  <m:r>
                                    <m:t xml:space="preserve">1</m:t>
                                  </m:r>
                                </m:num>
                                <m:den>
                                  <m:rad>
                                    <m:radPr>
                                      <m:degHide m:val="1"/>
                                    </m:radPr>
                                    <m:deg/>
                                    <m:e>
                                      <m:r>
                                        <m:t xml:space="preserve">2</m:t>
                                      </m:r>
                                    </m:e>
                                  </m:rad>
                                </m:den>
                              </m:f>
                            </m:e>
                            <m:e>
                              <m:f>
                                <m:num>
                                  <m:r>
                                    <m:t xml:space="preserve">1</m:t>
                                  </m:r>
                                </m:num>
                                <m:den>
                                  <m:rad>
                                    <m:radPr>
                                      <m:degHide m:val="1"/>
                                    </m:radPr>
                                    <m:deg/>
                                    <m:e>
                                      <m:r>
                                        <m:t xml:space="preserve">2</m:t>
                                      </m:r>
                                    </m:e>
                                  </m:rad>
                                </m:den>
                              </m:f>
                            </m:e>
                          </m:mr>
                          <m:mr>
                            <m:e>
                              <m:f>
                                <m:num>
                                  <m:r>
                                    <m:t xml:space="preserve">1</m:t>
                                  </m:r>
                                </m:num>
                                <m:den>
                                  <m:rad>
                                    <m:radPr>
                                      <m:degHide m:val="1"/>
                                    </m:radPr>
                                    <m:deg/>
                                    <m:e>
                                      <m:r>
                                        <m:t xml:space="preserve">2</m:t>
                                      </m:r>
                                    </m:e>
                                  </m:rad>
                                </m:den>
                              </m:f>
                            </m:e>
                            <m:e>
                              <m:r>
                                <m:t xml:space="preserve">−</m:t>
                              </m:r>
                              <m:f>
                                <m:num>
                                  <m:r>
                                    <m:t xml:space="preserve">1</m:t>
                                  </m:r>
                                </m:num>
                                <m:den>
                                  <m:rad>
                                    <m:radPr>
                                      <m:degHide m:val="1"/>
                                    </m:radPr>
                                    <m:deg/>
                                    <m:e>
                                      <m:r>
                                        <m:t xml:space="preserve">2</m:t>
                                      </m:r>
                                    </m:e>
                                  </m:rad>
                                </m:den>
                              </m:f>
                            </m:e>
                          </m:mr>
                        </m:m>
                      </m:e>
                    </m:d>
                  </m:oMath>
                </a14:m>
              </a:p>
            </p:txBody>
          </p:sp>
        </mc:Choice>
        <mc:Fallback/>
      </mc:AlternateContent>
      <p:sp>
        <p:nvSpPr>
          <p:cNvPr id="172" name="Straight Connector 8"/>
          <p:cNvSpPr/>
          <p:nvPr/>
        </p:nvSpPr>
        <p:spPr>
          <a:xfrm>
            <a:off x="1117440" y="26668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9"/>
          <p:cNvSpPr/>
          <p:nvPr/>
        </p:nvSpPr>
        <p:spPr>
          <a:xfrm flipH="1">
            <a:off x="1117440" y="26668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2"/>
          <p:cNvSpPr/>
          <p:nvPr/>
        </p:nvSpPr>
        <p:spPr>
          <a:xfrm>
            <a:off x="380880" y="12384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Version</a:t>
            </a:r>
            <a:endParaRPr b="0" lang="en-US" sz="4400" spc="-1" strike="noStrike">
              <a:solidFill>
                <a:srgbClr val="000000"/>
              </a:solidFill>
              <a:latin typeface="Arial"/>
            </a:endParaRPr>
          </a:p>
        </p:txBody>
      </p:sp>
      <p:sp>
        <p:nvSpPr>
          <p:cNvPr id="175" name="PlaceHolder 1"/>
          <p:cNvSpPr>
            <a:spLocks noGrp="1"/>
          </p:cNvSpPr>
          <p:nvPr>
            <p:ph type="subTitle"/>
          </p:nvPr>
        </p:nvSpPr>
        <p:spPr>
          <a:xfrm>
            <a:off x="685800" y="896760"/>
            <a:ext cx="777240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s replace the balls by </a:t>
            </a:r>
            <a:r>
              <a:rPr b="1" lang="en-US" sz="2800" spc="-1" strike="noStrike">
                <a:solidFill>
                  <a:srgbClr val="ff0000"/>
                </a:solidFill>
                <a:latin typeface="Calibri"/>
                <a:ea typeface="Calibri"/>
              </a:rPr>
              <a:t>identical single photons</a:t>
            </a:r>
            <a:r>
              <a:rPr b="0" lang="en-US" sz="2800" spc="-1" strike="noStrike">
                <a:solidFill>
                  <a:srgbClr val="000000"/>
                </a:solidFill>
                <a:latin typeface="Calibri"/>
                <a:ea typeface="Calibri"/>
              </a:rPr>
              <a:t>, and the pegs by </a:t>
            </a:r>
            <a:r>
              <a:rPr b="1" lang="en-US" sz="2800" spc="-1" strike="noStrike">
                <a:solidFill>
                  <a:srgbClr val="ff0000"/>
                </a:solidFill>
                <a:latin typeface="Calibri"/>
                <a:ea typeface="Calibri"/>
              </a:rPr>
              <a:t>beamsplitters</a:t>
            </a:r>
            <a:endParaRPr b="0" lang="en-US" sz="2800" spc="-1" strike="noStrike">
              <a:solidFill>
                <a:srgbClr val="000000"/>
              </a:solidFill>
              <a:latin typeface="Arial"/>
            </a:endParaRPr>
          </a:p>
        </p:txBody>
      </p:sp>
      <p:sp>
        <p:nvSpPr>
          <p:cNvPr id="176" name="Subtitle 4"/>
          <p:cNvSpPr/>
          <p:nvPr/>
        </p:nvSpPr>
        <p:spPr>
          <a:xfrm>
            <a:off x="343080" y="1905120"/>
            <a:ext cx="8458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see strange things like the </a:t>
            </a:r>
            <a:r>
              <a:rPr b="1" lang="en-US" sz="2800" spc="-1" strike="noStrike">
                <a:solidFill>
                  <a:srgbClr val="ff0000"/>
                </a:solidFill>
                <a:latin typeface="Calibri"/>
                <a:ea typeface="Calibri"/>
              </a:rPr>
              <a:t>Hong-Ou-Mandel dip</a:t>
            </a:r>
            <a:endParaRPr b="0" lang="en-US" sz="2800" spc="-1" strike="noStrike">
              <a:solidFill>
                <a:srgbClr val="000000"/>
              </a:solidFill>
              <a:latin typeface="Arial"/>
            </a:endParaRPr>
          </a:p>
        </p:txBody>
      </p:sp>
      <p:sp>
        <p:nvSpPr>
          <p:cNvPr id="177" name="Rectangle 6"/>
          <p:cNvSpPr/>
          <p:nvPr/>
        </p:nvSpPr>
        <p:spPr>
          <a:xfrm>
            <a:off x="2336760" y="3962520"/>
            <a:ext cx="1219320" cy="1522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0"/>
          <p:cNvSpPr/>
          <p:nvPr/>
        </p:nvSpPr>
        <p:spPr>
          <a:xfrm>
            <a:off x="965160" y="251460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1"/>
          <p:cNvSpPr/>
          <p:nvPr/>
        </p:nvSpPr>
        <p:spPr>
          <a:xfrm>
            <a:off x="4622760" y="2514600"/>
            <a:ext cx="30492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ubtitle 4"/>
          <p:cNvSpPr/>
          <p:nvPr/>
        </p:nvSpPr>
        <p:spPr>
          <a:xfrm>
            <a:off x="5460840" y="2895480"/>
            <a:ext cx="3353040" cy="18288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two photons are now correlated, even though they never interacted!</a:t>
            </a:r>
            <a:endParaRPr b="0" lang="en-US" sz="2800" spc="-1" strike="noStrike">
              <a:solidFill>
                <a:srgbClr val="000000"/>
              </a:solidFill>
              <a:latin typeface="Arial"/>
            </a:endParaRPr>
          </a:p>
        </p:txBody>
      </p:sp>
      <p:sp>
        <p:nvSpPr>
          <p:cNvPr id="181" name="Subtitle 4"/>
          <p:cNvSpPr/>
          <p:nvPr/>
        </p:nvSpPr>
        <p:spPr>
          <a:xfrm>
            <a:off x="228600" y="5486400"/>
            <a:ext cx="62485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xplanation involves </a:t>
            </a:r>
            <a:r>
              <a:rPr b="1" lang="en-US" sz="2800" spc="-1" strike="noStrike">
                <a:solidFill>
                  <a:srgbClr val="ff0000"/>
                </a:solidFill>
                <a:latin typeface="Calibri"/>
                <a:ea typeface="Calibri"/>
              </a:rPr>
              <a:t>destructive interference of amplitudes</a:t>
            </a:r>
            <a:r>
              <a:rPr b="0" lang="en-US" sz="2800" spc="-1" strike="noStrike">
                <a:solidFill>
                  <a:srgbClr val="002060"/>
                </a:solidFill>
                <a:latin typeface="Calibri"/>
                <a:ea typeface="Calibri"/>
              </a:rPr>
              <a:t>:</a:t>
            </a:r>
            <a:br>
              <a:rPr sz="2800"/>
            </a:br>
            <a:r>
              <a:rPr b="0" lang="en-US" sz="2800" spc="-1" strike="noStrike">
                <a:solidFill>
                  <a:srgbClr val="000000"/>
                </a:solidFill>
                <a:latin typeface="Calibri"/>
                <a:ea typeface="Calibri"/>
              </a:rPr>
              <a:t>Final amplitude of non-collision is</a:t>
            </a:r>
            <a:endParaRPr b="0" lang="en-US" sz="2800" spc="-1" strike="noStrike">
              <a:solidFill>
                <a:srgbClr val="000000"/>
              </a:solidFill>
              <a:latin typeface="Arial"/>
            </a:endParaRPr>
          </a:p>
        </p:txBody>
      </p:sp>
      <mc:AlternateContent>
        <mc:Choice xmlns:a14="http://schemas.microsoft.com/office/drawing/2010/main" Requires="a14">
          <p:sp>
            <p:nvSpPr>
              <p:cNvPr id="182" name="Object 1"/>
              <p:cNvSpPr txBox="1"/>
              <p:nvPr/>
            </p:nvSpPr>
            <p:spPr>
              <a:xfrm>
                <a:off x="5276880" y="5707080"/>
                <a:ext cx="3719520" cy="9288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r>
                          <m:t xml:space="preserve">−</m:t>
                        </m:r>
                        <m:f>
                          <m:num>
                            <m:r>
                              <m:t xml:space="preserve">1</m:t>
                            </m:r>
                          </m:num>
                          <m:den>
                            <m:rad>
                              <m:radPr>
                                <m:degHide m:val="1"/>
                              </m:radPr>
                              <m:deg/>
                              <m:e>
                                <m:r>
                                  <m:t xml:space="preserve">2</m:t>
                                </m:r>
                              </m:e>
                            </m:rad>
                          </m:den>
                        </m:f>
                      </m:e>
                    </m:d>
                    <m:r>
                      <m:t xml:space="preserve">+</m:t>
                    </m:r>
                    <m:f>
                      <m:num>
                        <m:r>
                          <m:t xml:space="preserve">1</m:t>
                        </m:r>
                      </m:num>
                      <m:den>
                        <m:rad>
                          <m:radPr>
                            <m:degHide m:val="1"/>
                          </m:radPr>
                          <m:deg/>
                          <m:e>
                            <m:r>
                              <m:t xml:space="preserve">2</m:t>
                            </m:r>
                          </m:e>
                        </m:rad>
                      </m:den>
                    </m:f>
                    <m:d>
                      <m:dPr>
                        <m:begChr m:val="("/>
                        <m:endChr m:val=")"/>
                      </m:dPr>
                      <m:e>
                        <m:f>
                          <m:num>
                            <m:r>
                              <m:t xml:space="preserve">1</m:t>
                            </m:r>
                          </m:num>
                          <m:den>
                            <m:rad>
                              <m:radPr>
                                <m:degHide m:val="1"/>
                              </m:radPr>
                              <m:deg/>
                              <m:e>
                                <m:r>
                                  <m:t xml:space="preserve">2</m:t>
                                </m:r>
                              </m:e>
                            </m:rad>
                          </m:den>
                        </m:f>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76"/>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72"/>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7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73"/>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77"/>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7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79"/>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path" presetID="42">
                                  <p:stCondLst>
                                    <p:cond delay="0"/>
                                  </p:stCondLst>
                                  <p:childTnLst>
                                    <p:animMotion origin="layout" path="M 0 1.11111E-006 L -0.19167 0.2 E">
                                      <p:cBhvr>
                                        <p:cTn id="209" dur="2000" fill="hold"/>
                                        <p:tgtEl>
                                          <p:spTgt spid="179"/>
                                        </p:tgtEl>
                                      </p:cBhvr>
                                    </p:animMotion>
                                  </p:childTnLst>
                                </p:cTn>
                              </p:par>
                              <p:par>
                                <p:cTn id="210" nodeType="withEffect" fill="hold" presetClass="path" presetID="49">
                                  <p:stCondLst>
                                    <p:cond delay="0"/>
                                  </p:stCondLst>
                                  <p:childTnLst>
                                    <p:animMotion origin="layout" path="M 3.33333E-006 -1.11111E-006 L 0.19166 0.2 E">
                                      <p:cBhvr>
                                        <p:cTn id="211" dur="2000" fill="hold"/>
                                        <p:tgtEl>
                                          <p:spTgt spid="178"/>
                                        </p:tgtEl>
                                      </p:cBhvr>
                                    </p:animMotion>
                                  </p:childTnLst>
                                </p:cTn>
                              </p:par>
                            </p:childTnLst>
                          </p:cTn>
                        </p:par>
                        <p:par>
                          <p:cTn id="212" nodeType="afterEffect" fill="hold">
                            <p:stCondLst>
                              <p:cond delay="2000"/>
                            </p:stCondLst>
                            <p:childTnLst>
                              <p:par>
                                <p:cTn id="213" nodeType="afterEffect" fill="hold" presetClass="path" presetID="49">
                                  <p:stCondLst>
                                    <p:cond delay="0"/>
                                  </p:stCondLst>
                                  <p:childTnLst>
                                    <p:animMotion origin="layout" path="M -0.19167 0.2 L -0.01667 0.36667 E">
                                      <p:cBhvr>
                                        <p:cTn id="214" dur="2000" fill="hold"/>
                                        <p:tgtEl>
                                          <p:spTgt spid="179"/>
                                        </p:tgtEl>
                                      </p:cBhvr>
                                    </p:animMotion>
                                  </p:childTnLst>
                                </p:cTn>
                              </p:par>
                              <p:par>
                                <p:cTn id="215" nodeType="withEffect" fill="hold" presetClass="path" presetID="49">
                                  <p:stCondLst>
                                    <p:cond delay="0"/>
                                  </p:stCondLst>
                                  <p:childTnLst>
                                    <p:animMotion origin="layout" path="M 0.19167 0.2 L 0.375 0.38889 E">
                                      <p:cBhvr>
                                        <p:cTn id="216" dur="2000" fill="hold"/>
                                        <p:tgtEl>
                                          <p:spTgt spid="178"/>
                                        </p:tgtEl>
                                      </p:cBhvr>
                                    </p:animMotion>
                                  </p:childTnLst>
                                </p:cTn>
                              </p:par>
                            </p:childTnLst>
                          </p:cTn>
                        </p:par>
                        <p:par>
                          <p:cTn id="217" nodeType="afterEffect" fill="hold">
                            <p:stCondLst>
                              <p:cond delay="4000"/>
                            </p:stCondLst>
                            <p:childTnLst>
                              <p:par>
                                <p:cTn id="218" nodeType="afterEffect" fill="hold" presetClass="path" presetID="42">
                                  <p:stCondLst>
                                    <p:cond delay="0"/>
                                  </p:stCondLst>
                                  <p:childTnLst>
                                    <p:animMotion origin="layout" path="M 0.20833 0.2 L 0 0.4 E">
                                      <p:cBhvr>
                                        <p:cTn id="219" dur="2000" fill="hold"/>
                                        <p:tgtEl>
                                          <p:spTgt spid="178"/>
                                        </p:tgtEl>
                                      </p:cBhvr>
                                    </p:animMotion>
                                  </p:childTnLst>
                                </p:cTn>
                              </p:par>
                              <p:par>
                                <p:cTn id="220" nodeType="withEffect" fill="hold" presetClass="path" presetID="42">
                                  <p:stCondLst>
                                    <p:cond delay="0"/>
                                  </p:stCondLst>
                                  <p:childTnLst>
                                    <p:animMotion origin="layout" path="M -0.19167 0.2 L -0.38333 0.38889 E">
                                      <p:cBhvr>
                                        <p:cTn id="221" dur="2000" fill="hold"/>
                                        <p:tgtEl>
                                          <p:spTgt spid="179"/>
                                        </p:tgtEl>
                                      </p:cBhvr>
                                    </p:animMotion>
                                  </p:childTnLst>
                                </p:cTn>
                              </p:par>
                            </p:childTnLst>
                          </p:cTn>
                        </p:par>
                        <p:par>
                          <p:cTn id="222" nodeType="afterEffect" fill="hold">
                            <p:stCondLst>
                              <p:cond delay="6000"/>
                            </p:stCondLst>
                            <p:childTnLst>
                              <p:par>
                                <p:cTn id="223" nodeType="afterEffect" fill="hold" presetClass="entr" presetID="1">
                                  <p:stCondLst>
                                    <p:cond delay="0"/>
                                  </p:stCondLst>
                                  <p:childTnLst>
                                    <p:set>
                                      <p:cBhvr>
                                        <p:cTn id="224" dur="1" fill="hold">
                                          <p:stCondLst>
                                            <p:cond delay="0"/>
                                          </p:stCondLst>
                                        </p:cTn>
                                        <p:tgtEl>
                                          <p:spTgt spid="180"/>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81"/>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228600" y="684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Getting Formal </a:t>
            </a:r>
            <a:endParaRPr b="0" lang="en-US" sz="4400" spc="-1" strike="noStrike">
              <a:solidFill>
                <a:srgbClr val="000000"/>
              </a:solidFill>
              <a:latin typeface="Arial"/>
            </a:endParaRPr>
          </a:p>
        </p:txBody>
      </p:sp>
      <p:sp>
        <p:nvSpPr>
          <p:cNvPr id="184" name="Text Box 16"/>
          <p:cNvSpPr/>
          <p:nvPr/>
        </p:nvSpPr>
        <p:spPr>
          <a:xfrm>
            <a:off x="357120" y="838080"/>
            <a:ext cx="8305920" cy="113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basis states have the form |S</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where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is the number of photons in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mode”</a:t>
            </a:r>
            <a:endParaRPr b="0" lang="en-US" sz="3000" spc="-1" strike="noStrike">
              <a:solidFill>
                <a:srgbClr val="000000"/>
              </a:solidFill>
              <a:latin typeface="Arial"/>
            </a:endParaRPr>
          </a:p>
        </p:txBody>
      </p:sp>
      <p:sp>
        <p:nvSpPr>
          <p:cNvPr id="185" name="Text Box 16"/>
          <p:cNvSpPr/>
          <p:nvPr/>
        </p:nvSpPr>
        <p:spPr>
          <a:xfrm>
            <a:off x="357120" y="1973160"/>
            <a:ext cx="8481960" cy="107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e’ll never create or destroy photons.  So s</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s</a:t>
            </a:r>
            <a:r>
              <a:rPr b="0" lang="en-US" sz="3000" spc="-1" strike="noStrike" baseline="-25000">
                <a:solidFill>
                  <a:srgbClr val="000000"/>
                </a:solidFill>
                <a:latin typeface="Calibri"/>
                <a:ea typeface="Arial"/>
              </a:rPr>
              <a:t>m</a:t>
            </a:r>
            <a:r>
              <a:rPr b="0" lang="en-US" sz="3000" spc="-1" strike="noStrike">
                <a:solidFill>
                  <a:srgbClr val="000000"/>
                </a:solidFill>
                <a:latin typeface="Calibri"/>
                <a:ea typeface="Arial"/>
              </a:rPr>
              <a:t>=n is constant.</a:t>
            </a:r>
            <a:endParaRPr b="0" lang="en-US" sz="3000" spc="-1" strike="noStrike">
              <a:solidFill>
                <a:srgbClr val="000000"/>
              </a:solidFill>
              <a:latin typeface="Arial"/>
            </a:endParaRPr>
          </a:p>
        </p:txBody>
      </p:sp>
      <p:sp>
        <p:nvSpPr>
          <p:cNvPr id="186" name="Text Box 16"/>
          <p:cNvSpPr/>
          <p:nvPr/>
        </p:nvSpPr>
        <p:spPr>
          <a:xfrm>
            <a:off x="345960" y="3898800"/>
            <a:ext cx="33800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itial state: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87" name="Text Box 16"/>
          <p:cNvSpPr/>
          <p:nvPr/>
        </p:nvSpPr>
        <p:spPr>
          <a:xfrm>
            <a:off x="374760" y="3124080"/>
            <a:ext cx="8305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For us, m=n</a:t>
            </a:r>
            <a:r>
              <a:rPr b="0" lang="en-US" sz="3000" spc="-1" strike="noStrike" baseline="30000">
                <a:solidFill>
                  <a:srgbClr val="000000"/>
                </a:solidFill>
                <a:latin typeface="Calibri"/>
                <a:ea typeface="Arial"/>
              </a:rPr>
              <a:t>O(1)</a:t>
            </a:r>
            <a:r>
              <a:rPr b="0" lang="en-US" sz="3000" spc="-1" strike="noStrike">
                <a:solidFill>
                  <a:srgbClr val="000000"/>
                </a:solidFill>
                <a:latin typeface="Calibri"/>
                <a:ea typeface="Arial"/>
              </a:rPr>
              <a:t>  </a:t>
            </a:r>
            <a:endParaRPr b="0" lang="en-US" sz="3000" spc="-1" strike="noStrike">
              <a:solidFill>
                <a:srgbClr val="000000"/>
              </a:solidFill>
              <a:latin typeface="Arial"/>
            </a:endParaRPr>
          </a:p>
        </p:txBody>
      </p:sp>
      <p:grpSp>
        <p:nvGrpSpPr>
          <p:cNvPr id="188" name="Group 2"/>
          <p:cNvGrpSpPr/>
          <p:nvPr/>
        </p:nvGrpSpPr>
        <p:grpSpPr>
          <a:xfrm>
            <a:off x="4229280" y="3543480"/>
            <a:ext cx="4419360" cy="2743200"/>
            <a:chOff x="4229280" y="3543480"/>
            <a:chExt cx="4419360" cy="2743200"/>
          </a:xfrm>
        </p:grpSpPr>
        <p:grpSp>
          <p:nvGrpSpPr>
            <p:cNvPr id="189" name="Group 73"/>
            <p:cNvGrpSpPr/>
            <p:nvPr/>
          </p:nvGrpSpPr>
          <p:grpSpPr>
            <a:xfrm>
              <a:off x="4229280" y="4229280"/>
              <a:ext cx="4419360" cy="1160280"/>
              <a:chOff x="4229280" y="4229280"/>
              <a:chExt cx="4419360" cy="1160280"/>
            </a:xfrm>
          </p:grpSpPr>
          <p:sp>
            <p:nvSpPr>
              <p:cNvPr id="190" name="Down Arrow 71"/>
              <p:cNvSpPr/>
              <p:nvPr/>
            </p:nvSpPr>
            <p:spPr>
              <a:xfrm>
                <a:off x="4229280" y="4305240"/>
                <a:ext cx="4419360" cy="1077480"/>
              </a:xfrm>
              <a:prstGeom prst="downArrow">
                <a:avLst>
                  <a:gd name="adj1" fmla="val 50000"/>
                  <a:gd name="adj2" fmla="val 50000"/>
                </a:avLst>
              </a:prstGeom>
              <a:solidFill>
                <a:srgbClr val="bbe0e3"/>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72"/>
              <p:cNvSpPr/>
              <p:nvPr/>
            </p:nvSpPr>
            <p:spPr>
              <a:xfrm>
                <a:off x="5905440" y="4229280"/>
                <a:ext cx="1066680" cy="116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c000"/>
                    </a:solidFill>
                    <a:latin typeface="Arial"/>
                    <a:ea typeface="Arial"/>
                  </a:rPr>
                  <a:t>U</a:t>
                </a:r>
                <a:endParaRPr b="0" lang="en-US" sz="7000" spc="-1" strike="noStrike">
                  <a:solidFill>
                    <a:srgbClr val="000000"/>
                  </a:solidFill>
                  <a:latin typeface="Arial"/>
                </a:endParaRPr>
              </a:p>
            </p:txBody>
          </p:sp>
        </p:grpSp>
        <p:grpSp>
          <p:nvGrpSpPr>
            <p:cNvPr id="192" name="Group 18"/>
            <p:cNvGrpSpPr/>
            <p:nvPr/>
          </p:nvGrpSpPr>
          <p:grpSpPr>
            <a:xfrm>
              <a:off x="4229280" y="3695760"/>
              <a:ext cx="761760" cy="457200"/>
              <a:chOff x="4229280" y="3695760"/>
              <a:chExt cx="761760" cy="457200"/>
            </a:xfrm>
          </p:grpSpPr>
          <p:sp>
            <p:nvSpPr>
              <p:cNvPr id="193" name="Straight Connector 8"/>
              <p:cNvSpPr/>
              <p:nvPr/>
            </p:nvSpPr>
            <p:spPr>
              <a:xfrm>
                <a:off x="42292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Straight Connector 9"/>
              <p:cNvSpPr/>
              <p:nvPr/>
            </p:nvSpPr>
            <p:spPr>
              <a:xfrm>
                <a:off x="49910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Straight Connector 10"/>
              <p:cNvSpPr/>
              <p:nvPr/>
            </p:nvSpPr>
            <p:spPr>
              <a:xfrm flipH="1">
                <a:off x="42292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Group 19"/>
            <p:cNvGrpSpPr/>
            <p:nvPr/>
          </p:nvGrpSpPr>
          <p:grpSpPr>
            <a:xfrm>
              <a:off x="5143680" y="3695760"/>
              <a:ext cx="761760" cy="457200"/>
              <a:chOff x="5143680" y="3695760"/>
              <a:chExt cx="761760" cy="457200"/>
            </a:xfrm>
          </p:grpSpPr>
          <p:sp>
            <p:nvSpPr>
              <p:cNvPr id="197" name="Straight Connector 20"/>
              <p:cNvSpPr/>
              <p:nvPr/>
            </p:nvSpPr>
            <p:spPr>
              <a:xfrm>
                <a:off x="51436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21"/>
              <p:cNvSpPr/>
              <p:nvPr/>
            </p:nvSpPr>
            <p:spPr>
              <a:xfrm>
                <a:off x="59054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22"/>
              <p:cNvSpPr/>
              <p:nvPr/>
            </p:nvSpPr>
            <p:spPr>
              <a:xfrm flipH="1">
                <a:off x="51436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23"/>
            <p:cNvGrpSpPr/>
            <p:nvPr/>
          </p:nvGrpSpPr>
          <p:grpSpPr>
            <a:xfrm>
              <a:off x="6058080" y="3695760"/>
              <a:ext cx="761760" cy="457200"/>
              <a:chOff x="6058080" y="3695760"/>
              <a:chExt cx="761760" cy="457200"/>
            </a:xfrm>
          </p:grpSpPr>
          <p:sp>
            <p:nvSpPr>
              <p:cNvPr id="201" name="Straight Connector 24"/>
              <p:cNvSpPr/>
              <p:nvPr/>
            </p:nvSpPr>
            <p:spPr>
              <a:xfrm>
                <a:off x="60580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Straight Connector 25"/>
              <p:cNvSpPr/>
              <p:nvPr/>
            </p:nvSpPr>
            <p:spPr>
              <a:xfrm>
                <a:off x="68198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26"/>
              <p:cNvSpPr/>
              <p:nvPr/>
            </p:nvSpPr>
            <p:spPr>
              <a:xfrm flipH="1">
                <a:off x="60580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Group 27"/>
            <p:cNvGrpSpPr/>
            <p:nvPr/>
          </p:nvGrpSpPr>
          <p:grpSpPr>
            <a:xfrm>
              <a:off x="6972480" y="3695760"/>
              <a:ext cx="761760" cy="457200"/>
              <a:chOff x="6972480" y="3695760"/>
              <a:chExt cx="761760" cy="457200"/>
            </a:xfrm>
          </p:grpSpPr>
          <p:sp>
            <p:nvSpPr>
              <p:cNvPr id="205" name="Straight Connector 28"/>
              <p:cNvSpPr/>
              <p:nvPr/>
            </p:nvSpPr>
            <p:spPr>
              <a:xfrm>
                <a:off x="69724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29"/>
              <p:cNvSpPr/>
              <p:nvPr/>
            </p:nvSpPr>
            <p:spPr>
              <a:xfrm>
                <a:off x="77342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Straight Connector 30"/>
              <p:cNvSpPr/>
              <p:nvPr/>
            </p:nvSpPr>
            <p:spPr>
              <a:xfrm flipH="1">
                <a:off x="69724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Oval 31"/>
            <p:cNvSpPr/>
            <p:nvPr/>
          </p:nvSpPr>
          <p:spPr>
            <a:xfrm>
              <a:off x="43052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32"/>
            <p:cNvSpPr/>
            <p:nvPr/>
          </p:nvSpPr>
          <p:spPr>
            <a:xfrm>
              <a:off x="52196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33"/>
            <p:cNvSpPr/>
            <p:nvPr/>
          </p:nvSpPr>
          <p:spPr>
            <a:xfrm>
              <a:off x="70484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35"/>
            <p:cNvGrpSpPr/>
            <p:nvPr/>
          </p:nvGrpSpPr>
          <p:grpSpPr>
            <a:xfrm>
              <a:off x="7886880" y="3695760"/>
              <a:ext cx="761760" cy="457200"/>
              <a:chOff x="7886880" y="3695760"/>
              <a:chExt cx="761760" cy="457200"/>
            </a:xfrm>
          </p:grpSpPr>
          <p:sp>
            <p:nvSpPr>
              <p:cNvPr id="212" name="Straight Connector 36"/>
              <p:cNvSpPr/>
              <p:nvPr/>
            </p:nvSpPr>
            <p:spPr>
              <a:xfrm>
                <a:off x="788688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37"/>
              <p:cNvSpPr/>
              <p:nvPr/>
            </p:nvSpPr>
            <p:spPr>
              <a:xfrm>
                <a:off x="8648640" y="369576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38"/>
              <p:cNvSpPr/>
              <p:nvPr/>
            </p:nvSpPr>
            <p:spPr>
              <a:xfrm flipH="1">
                <a:off x="7886880" y="41529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68"/>
            <p:cNvGrpSpPr/>
            <p:nvPr/>
          </p:nvGrpSpPr>
          <p:grpSpPr>
            <a:xfrm>
              <a:off x="4229280" y="5067360"/>
              <a:ext cx="4419360" cy="1219320"/>
              <a:chOff x="4229280" y="5067360"/>
              <a:chExt cx="4419360" cy="1219320"/>
            </a:xfrm>
          </p:grpSpPr>
          <p:grpSp>
            <p:nvGrpSpPr>
              <p:cNvPr id="216" name="Group 40"/>
              <p:cNvGrpSpPr/>
              <p:nvPr/>
            </p:nvGrpSpPr>
            <p:grpSpPr>
              <a:xfrm>
                <a:off x="4229280" y="5829480"/>
                <a:ext cx="761760" cy="457200"/>
                <a:chOff x="4229280" y="5829480"/>
                <a:chExt cx="761760" cy="457200"/>
              </a:xfrm>
            </p:grpSpPr>
            <p:sp>
              <p:nvSpPr>
                <p:cNvPr id="217" name="Straight Connector 41"/>
                <p:cNvSpPr/>
                <p:nvPr/>
              </p:nvSpPr>
              <p:spPr>
                <a:xfrm>
                  <a:off x="42292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42"/>
                <p:cNvSpPr/>
                <p:nvPr/>
              </p:nvSpPr>
              <p:spPr>
                <a:xfrm>
                  <a:off x="49910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43"/>
                <p:cNvSpPr/>
                <p:nvPr/>
              </p:nvSpPr>
              <p:spPr>
                <a:xfrm flipH="1">
                  <a:off x="42292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 name="Group 44"/>
              <p:cNvGrpSpPr/>
              <p:nvPr/>
            </p:nvGrpSpPr>
            <p:grpSpPr>
              <a:xfrm>
                <a:off x="5143680" y="5829480"/>
                <a:ext cx="761760" cy="457200"/>
                <a:chOff x="5143680" y="5829480"/>
                <a:chExt cx="761760" cy="457200"/>
              </a:xfrm>
            </p:grpSpPr>
            <p:sp>
              <p:nvSpPr>
                <p:cNvPr id="221" name="Straight Connector 45"/>
                <p:cNvSpPr/>
                <p:nvPr/>
              </p:nvSpPr>
              <p:spPr>
                <a:xfrm>
                  <a:off x="51436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Straight Connector 46"/>
                <p:cNvSpPr/>
                <p:nvPr/>
              </p:nvSpPr>
              <p:spPr>
                <a:xfrm>
                  <a:off x="59054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Straight Connector 47"/>
                <p:cNvSpPr/>
                <p:nvPr/>
              </p:nvSpPr>
              <p:spPr>
                <a:xfrm flipH="1">
                  <a:off x="51436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48"/>
              <p:cNvGrpSpPr/>
              <p:nvPr/>
            </p:nvGrpSpPr>
            <p:grpSpPr>
              <a:xfrm>
                <a:off x="6058080" y="5829480"/>
                <a:ext cx="761760" cy="457200"/>
                <a:chOff x="6058080" y="5829480"/>
                <a:chExt cx="761760" cy="457200"/>
              </a:xfrm>
            </p:grpSpPr>
            <p:sp>
              <p:nvSpPr>
                <p:cNvPr id="225" name="Straight Connector 49"/>
                <p:cNvSpPr/>
                <p:nvPr/>
              </p:nvSpPr>
              <p:spPr>
                <a:xfrm>
                  <a:off x="60580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50"/>
                <p:cNvSpPr/>
                <p:nvPr/>
              </p:nvSpPr>
              <p:spPr>
                <a:xfrm>
                  <a:off x="68198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Straight Connector 51"/>
                <p:cNvSpPr/>
                <p:nvPr/>
              </p:nvSpPr>
              <p:spPr>
                <a:xfrm flipH="1">
                  <a:off x="60580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Group 52"/>
              <p:cNvGrpSpPr/>
              <p:nvPr/>
            </p:nvGrpSpPr>
            <p:grpSpPr>
              <a:xfrm>
                <a:off x="6972480" y="5829480"/>
                <a:ext cx="761760" cy="457200"/>
                <a:chOff x="6972480" y="5829480"/>
                <a:chExt cx="761760" cy="457200"/>
              </a:xfrm>
            </p:grpSpPr>
            <p:sp>
              <p:nvSpPr>
                <p:cNvPr id="229" name="Straight Connector 53"/>
                <p:cNvSpPr/>
                <p:nvPr/>
              </p:nvSpPr>
              <p:spPr>
                <a:xfrm>
                  <a:off x="69724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54"/>
                <p:cNvSpPr/>
                <p:nvPr/>
              </p:nvSpPr>
              <p:spPr>
                <a:xfrm>
                  <a:off x="77342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55"/>
                <p:cNvSpPr/>
                <p:nvPr/>
              </p:nvSpPr>
              <p:spPr>
                <a:xfrm flipH="1">
                  <a:off x="69724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Oval 56"/>
              <p:cNvSpPr/>
              <p:nvPr/>
            </p:nvSpPr>
            <p:spPr>
              <a:xfrm>
                <a:off x="79628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57"/>
              <p:cNvSpPr/>
              <p:nvPr/>
            </p:nvSpPr>
            <p:spPr>
              <a:xfrm>
                <a:off x="7962840" y="506736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58"/>
              <p:cNvSpPr/>
              <p:nvPr/>
            </p:nvSpPr>
            <p:spPr>
              <a:xfrm>
                <a:off x="70484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59"/>
              <p:cNvSpPr/>
              <p:nvPr/>
            </p:nvSpPr>
            <p:spPr>
              <a:xfrm>
                <a:off x="6134040" y="5676840"/>
                <a:ext cx="533160" cy="53352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60"/>
              <p:cNvGrpSpPr/>
              <p:nvPr/>
            </p:nvGrpSpPr>
            <p:grpSpPr>
              <a:xfrm>
                <a:off x="7886880" y="5829480"/>
                <a:ext cx="761760" cy="457200"/>
                <a:chOff x="7886880" y="5829480"/>
                <a:chExt cx="761760" cy="457200"/>
              </a:xfrm>
            </p:grpSpPr>
            <p:sp>
              <p:nvSpPr>
                <p:cNvPr id="237" name="Straight Connector 61"/>
                <p:cNvSpPr/>
                <p:nvPr/>
              </p:nvSpPr>
              <p:spPr>
                <a:xfrm>
                  <a:off x="788688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62"/>
                <p:cNvSpPr/>
                <p:nvPr/>
              </p:nvSpPr>
              <p:spPr>
                <a:xfrm>
                  <a:off x="8648640" y="5829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63"/>
                <p:cNvSpPr/>
                <p:nvPr/>
              </p:nvSpPr>
              <p:spPr>
                <a:xfrm flipH="1">
                  <a:off x="7886880" y="628668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0" name="Oval 65"/>
            <p:cNvSpPr/>
            <p:nvPr/>
          </p:nvSpPr>
          <p:spPr>
            <a:xfrm>
              <a:off x="6134040" y="3543480"/>
              <a:ext cx="533160" cy="5331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85"/>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87"/>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86"/>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
          <p:cNvSpPr/>
          <p:nvPr/>
        </p:nvSpPr>
        <p:spPr>
          <a:xfrm>
            <a:off x="266760" y="22860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You get to apply any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matrix U—say, using a collection of 2-mode beamsplitters</a:t>
            </a:r>
            <a:endParaRPr b="0" lang="en-US" sz="3000" spc="-1" strike="noStrike">
              <a:solidFill>
                <a:srgbClr val="000000"/>
              </a:solidFill>
              <a:latin typeface="Arial"/>
            </a:endParaRPr>
          </a:p>
        </p:txBody>
      </p:sp>
      <mc:AlternateContent>
        <mc:Choice xmlns:a14="http://schemas.microsoft.com/office/drawing/2010/main" Requires="a14">
          <p:sp>
            <p:nvSpPr>
              <p:cNvPr id="242" name="Object 3"/>
              <p:cNvSpPr txBox="1"/>
              <p:nvPr/>
            </p:nvSpPr>
            <p:spPr>
              <a:xfrm>
                <a:off x="3664080" y="1447920"/>
                <a:ext cx="2133360" cy="946080"/>
              </a:xfrm>
              <a:prstGeom prst="rect">
                <a:avLst/>
              </a:prstGeom>
            </p:spPr>
            <p:txBody>
              <a:bodyPr/>
              <a:p>
                <a14:m>
                  <m:oMath xmlns:m="http://schemas.openxmlformats.org/officeDocument/2006/math">
                    <m:r>
                      <m:t xml:space="preserve">M</m:t>
                    </m:r>
                    <m:r>
                      <m:t xml:space="preserve">:</m:t>
                    </m:r>
                    <m:r>
                      <m:t xml:space="preserve">=</m:t>
                    </m:r>
                    <m:d>
                      <m:dPr>
                        <m:begChr m:val="("/>
                        <m:endChr m:val=")"/>
                      </m:dPr>
                      <m:e>
                        <m:m>
                          <m:mr>
                            <m:e>
                              <m:r>
                                <m:t xml:space="preserve">m</m:t>
                              </m:r>
                              <m:r>
                                <m:t xml:space="preserve">+</m:t>
                              </m:r>
                              <m:r>
                                <m:t xml:space="preserve">n</m:t>
                              </m:r>
                              <m:r>
                                <m:t xml:space="preserve">−</m:t>
                              </m:r>
                              <m:r>
                                <m:t xml:space="preserve">1</m:t>
                              </m:r>
                            </m:e>
                          </m:mr>
                          <m:mr>
                            <m:e>
                              <m:r>
                                <m:t xml:space="preserve">n</m:t>
                              </m:r>
                            </m:e>
                          </m:mr>
                        </m:m>
                      </m:e>
                    </m:d>
                  </m:oMath>
                </a14:m>
              </a:p>
            </p:txBody>
          </p:sp>
        </mc:Choice>
        <mc:Fallback/>
      </mc:AlternateContent>
      <p:sp>
        <p:nvSpPr>
          <p:cNvPr id="243" name="Rectangle 12"/>
          <p:cNvSpPr/>
          <p:nvPr/>
        </p:nvSpPr>
        <p:spPr>
          <a:xfrm>
            <a:off x="235080" y="18288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 general, there are                                ways to distribute n identical photons into m modes </a:t>
            </a:r>
            <a:endParaRPr b="0" lang="en-US" sz="3000" spc="-1" strike="noStrike">
              <a:solidFill>
                <a:srgbClr val="000000"/>
              </a:solidFill>
              <a:latin typeface="Arial"/>
            </a:endParaRPr>
          </a:p>
        </p:txBody>
      </p:sp>
      <p:sp>
        <p:nvSpPr>
          <p:cNvPr id="244" name="Rectangle 13"/>
          <p:cNvSpPr/>
          <p:nvPr/>
        </p:nvSpPr>
        <p:spPr>
          <a:xfrm>
            <a:off x="266760" y="304812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 induces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U) on the n-photon states as follows: </a:t>
            </a:r>
            <a:endParaRPr b="0" lang="en-US" sz="3000" spc="-1" strike="noStrike">
              <a:solidFill>
                <a:srgbClr val="000000"/>
              </a:solidFill>
              <a:latin typeface="Arial"/>
            </a:endParaRPr>
          </a:p>
        </p:txBody>
      </p:sp>
      <mc:AlternateContent>
        <mc:Choice xmlns:a14="http://schemas.microsoft.com/office/drawing/2010/main" Requires="a14">
          <p:sp>
            <p:nvSpPr>
              <p:cNvPr id="245" name="Object 2"/>
              <p:cNvSpPr txBox="1"/>
              <p:nvPr/>
            </p:nvSpPr>
            <p:spPr>
              <a:xfrm>
                <a:off x="2933640" y="3657600"/>
                <a:ext cx="5207040" cy="1424160"/>
              </a:xfrm>
              <a:prstGeom prst="rect">
                <a:avLst/>
              </a:prstGeom>
            </p:spPr>
            <p:txBody>
              <a:bodyPr/>
              <a:p>
                <a14:m>
                  <m:oMath xmlns:m="http://schemas.openxmlformats.org/officeDocument/2006/math">
                    <m:r>
                      <m:t xml:space="preserve">ϕ</m:t>
                    </m:r>
                    <m:sSub>
                      <m:e>
                        <m:d>
                          <m:dPr>
                            <m:begChr m:val="("/>
                            <m:endChr m:val=")"/>
                          </m:dPr>
                          <m:e>
                            <m:r>
                              <m:t xml:space="preserve">U</m:t>
                            </m:r>
                          </m:e>
                        </m:d>
                      </m:e>
                      <m:sub>
                        <m:r>
                          <m:t xml:space="preserve">S</m:t>
                        </m:r>
                        <m:r>
                          <m:t xml:space="preserve">,</m:t>
                        </m:r>
                        <m:r>
                          <m:t xml:space="preserve">T</m:t>
                        </m:r>
                      </m:sub>
                    </m:sSub>
                    <m:r>
                      <m:t xml:space="preserve">=</m:t>
                    </m:r>
                    <m:f>
                      <m:num>
                        <m:r>
                          <m:rPr>
                            <m:lit/>
                            <m:nor/>
                          </m:rPr>
                          <m:t xml:space="preserve">Per</m:t>
                        </m:r>
                        <m:d>
                          <m:dPr>
                            <m:begChr m:val="("/>
                            <m:endChr m:val=")"/>
                          </m:dPr>
                          <m:e>
                            <m:sSub>
                              <m:e>
                                <m:r>
                                  <m:t xml:space="preserve">U</m:t>
                                </m:r>
                              </m:e>
                              <m:sub>
                                <m:r>
                                  <m:t xml:space="preserve">S</m:t>
                                </m:r>
                                <m:r>
                                  <m:t xml:space="preserve">,</m:t>
                                </m:r>
                                <m:r>
                                  <m:t xml:space="preserve">T</m:t>
                                </m:r>
                              </m:sub>
                            </m:sSub>
                          </m:e>
                        </m:d>
                      </m:num>
                      <m:den>
                        <m:rad>
                          <m:radPr>
                            <m:degHide m:val="1"/>
                          </m:radPr>
                          <m:deg/>
                          <m:e>
                            <m:sSub>
                              <m:e>
                                <m:r>
                                  <m:t xml:space="preserve">s</m:t>
                                </m:r>
                              </m:e>
                              <m:sub>
                                <m:r>
                                  <m:t xml:space="preserve">1</m:t>
                                </m:r>
                              </m:sub>
                            </m:sSub>
                            <m:r>
                              <m:t xml:space="preserve">!</m:t>
                            </m:r>
                            <m:r>
                              <m:t xml:space="preserve">⋯</m:t>
                            </m:r>
                            <m:sSub>
                              <m:e>
                                <m:r>
                                  <m:t xml:space="preserve">s</m:t>
                                </m:r>
                              </m:e>
                              <m:sub>
                                <m:r>
                                  <m:t xml:space="preserve">m</m:t>
                                </m:r>
                              </m:sub>
                            </m:sSub>
                            <m:r>
                              <m:t xml:space="preserve">!</m:t>
                            </m:r>
                            <m:sSub>
                              <m:e>
                                <m:r>
                                  <m:t xml:space="preserve">t</m:t>
                                </m:r>
                              </m:e>
                              <m:sub>
                                <m:r>
                                  <m:t xml:space="preserve">1</m:t>
                                </m:r>
                              </m:sub>
                            </m:sSub>
                            <m:r>
                              <m:t xml:space="preserve">!</m:t>
                            </m:r>
                            <m:r>
                              <m:t xml:space="preserve">⋯</m:t>
                            </m:r>
                            <m:sSub>
                              <m:e>
                                <m:r>
                                  <m:t xml:space="preserve">t</m:t>
                                </m:r>
                              </m:e>
                              <m:sub>
                                <m:r>
                                  <m:t xml:space="preserve">m</m:t>
                                </m:r>
                              </m:sub>
                            </m:sSub>
                            <m:r>
                              <m:t xml:space="preserve">!</m:t>
                            </m:r>
                          </m:e>
                        </m:rad>
                      </m:den>
                    </m:f>
                  </m:oMath>
                </a14:m>
              </a:p>
            </p:txBody>
          </p:sp>
        </mc:Choice>
        <mc:Fallback/>
      </mc:AlternateContent>
      <p:sp>
        <p:nvSpPr>
          <p:cNvPr id="246" name="Text Box 16"/>
          <p:cNvSpPr/>
          <p:nvPr/>
        </p:nvSpPr>
        <p:spPr>
          <a:xfrm>
            <a:off x="266760" y="5181480"/>
            <a:ext cx="8686800" cy="165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Here U</a:t>
            </a:r>
            <a:r>
              <a:rPr b="0" lang="en-US" sz="3000" spc="-1" strike="noStrike" baseline="-25000">
                <a:solidFill>
                  <a:srgbClr val="000000"/>
                </a:solidFill>
                <a:latin typeface="Calibri"/>
                <a:ea typeface="Arial"/>
              </a:rPr>
              <a:t>S,T</a:t>
            </a:r>
            <a:r>
              <a:rPr b="0" lang="en-US" sz="3000" spc="-1" strike="noStrike">
                <a:solidFill>
                  <a:srgbClr val="000000"/>
                </a:solidFill>
                <a:latin typeface="Calibri"/>
                <a:ea typeface="Arial"/>
              </a:rPr>
              <a:t> is an n</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submatrix of U </a:t>
            </a:r>
            <a:r>
              <a:rPr b="0" lang="en-US" sz="2200" spc="-1" strike="noStrike">
                <a:solidFill>
                  <a:srgbClr val="008000"/>
                </a:solidFill>
                <a:latin typeface="Calibri"/>
                <a:ea typeface="Arial"/>
              </a:rPr>
              <a:t>(possibly with repeated rows and columns)</a:t>
            </a:r>
            <a:r>
              <a:rPr b="0" lang="en-US" sz="3000" spc="-1" strike="noStrike">
                <a:solidFill>
                  <a:srgbClr val="000000"/>
                </a:solidFill>
                <a:latin typeface="Calibri"/>
                <a:ea typeface="Arial"/>
              </a:rPr>
              <a:t>, obtained by taking s</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 copies of the i</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row of U and t</a:t>
            </a:r>
            <a:r>
              <a:rPr b="0" lang="en-US" sz="3000" spc="-1" strike="noStrike" baseline="-25000">
                <a:solidFill>
                  <a:srgbClr val="000000"/>
                </a:solidFill>
                <a:latin typeface="Calibri"/>
                <a:ea typeface="Arial"/>
              </a:rPr>
              <a:t>j</a:t>
            </a:r>
            <a:r>
              <a:rPr b="0" lang="en-US" sz="3000" spc="-1" strike="noStrike">
                <a:solidFill>
                  <a:srgbClr val="000000"/>
                </a:solidFill>
                <a:latin typeface="Calibri"/>
                <a:ea typeface="Arial"/>
              </a:rPr>
              <a:t> copies of the j</a:t>
            </a:r>
            <a:r>
              <a:rPr b="0" lang="en-US" sz="3000" spc="-1" strike="noStrike" baseline="30000">
                <a:solidFill>
                  <a:srgbClr val="000000"/>
                </a:solidFill>
                <a:latin typeface="Calibri"/>
                <a:ea typeface="Arial"/>
              </a:rPr>
              <a:t>th</a:t>
            </a:r>
            <a:r>
              <a:rPr b="0" lang="en-US" sz="3000" spc="-1" strike="noStrike">
                <a:solidFill>
                  <a:srgbClr val="000000"/>
                </a:solidFill>
                <a:latin typeface="Calibri"/>
                <a:ea typeface="Arial"/>
              </a:rPr>
              <a:t> column for all i,j</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1">
                                  <p:stCondLst>
                                    <p:cond delay="0"/>
                                  </p:stCondLst>
                                  <p:childTnLst>
                                    <p:set>
                                      <p:cBhvr>
                                        <p:cTn id="25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43"/>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42"/>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44"/>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45"/>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eautiful Alternate Perspective</a:t>
            </a:r>
            <a:endParaRPr b="0" lang="en-US" sz="4400" spc="-1" strike="noStrike">
              <a:solidFill>
                <a:srgbClr val="000000"/>
              </a:solidFill>
              <a:latin typeface="Arial"/>
            </a:endParaRPr>
          </a:p>
        </p:txBody>
      </p:sp>
      <p:sp>
        <p:nvSpPr>
          <p:cNvPr id="248" name="Text Box 16"/>
          <p:cNvSpPr/>
          <p:nvPr/>
        </p:nvSpPr>
        <p:spPr>
          <a:xfrm>
            <a:off x="228600" y="990720"/>
            <a:ext cx="876312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state” of our computer, at any time, is a degree-n polynomial over the variables x=(x</a:t>
            </a:r>
            <a:r>
              <a:rPr b="0" lang="en-US" sz="3000" spc="-1" strike="noStrike" baseline="-25000">
                <a:solidFill>
                  <a:srgbClr val="000000"/>
                </a:solidFill>
                <a:latin typeface="Calibri"/>
              </a:rPr>
              <a:t>1</a:t>
            </a:r>
            <a:r>
              <a:rPr b="0" lang="en-US" sz="3000" spc="-1" strike="noStrike">
                <a:solidFill>
                  <a:srgbClr val="000000"/>
                </a:solidFill>
                <a:latin typeface="Calibri"/>
              </a:rPr>
              <a:t>,…,x</a:t>
            </a:r>
            <a:r>
              <a:rPr b="0" lang="en-US" sz="3000" spc="-1" strike="noStrike" baseline="-25000">
                <a:solidFill>
                  <a:srgbClr val="000000"/>
                </a:solidFill>
                <a:latin typeface="Calibri"/>
              </a:rPr>
              <a:t>m</a:t>
            </a:r>
            <a:r>
              <a:rPr b="0" lang="en-US" sz="3000" spc="-1" strike="noStrike">
                <a:solidFill>
                  <a:srgbClr val="000000"/>
                </a:solidFill>
                <a:latin typeface="Calibri"/>
              </a:rPr>
              <a:t>)  </a:t>
            </a:r>
            <a:r>
              <a:rPr b="0" lang="en-US" sz="3000" spc="-1" strike="noStrike">
                <a:solidFill>
                  <a:srgbClr val="008000"/>
                </a:solidFill>
                <a:latin typeface="Calibri"/>
              </a:rPr>
              <a:t>(n&lt;&lt;m)</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Initial state: </a:t>
            </a:r>
            <a:r>
              <a:rPr b="0" lang="en-US" sz="3000" spc="-1" strike="noStrike">
                <a:solidFill>
                  <a:srgbClr val="000000"/>
                </a:solidFill>
                <a:latin typeface="Calibri"/>
              </a:rPr>
              <a:t>p(x) := </a:t>
            </a:r>
            <a:r>
              <a:rPr b="0" lang="en-US" sz="3000" spc="-1" strike="noStrike">
                <a:solidFill>
                  <a:srgbClr val="000000"/>
                </a:solidFill>
                <a:latin typeface="Calibri"/>
              </a:rPr>
              <a:t>x</a:t>
            </a:r>
            <a:r>
              <a:rPr b="0" lang="en-US" sz="3000" spc="-1" strike="noStrike" baseline="-25000">
                <a:solidFill>
                  <a:srgbClr val="000000"/>
                </a:solidFill>
                <a:latin typeface="Calibri"/>
              </a:rPr>
              <a:t>1</a:t>
            </a:r>
            <a:r>
              <a:rPr b="0" lang="en-US" sz="3000" spc="-1" strike="noStrike">
                <a:solidFill>
                  <a:srgbClr val="000000"/>
                </a:solidFill>
                <a:latin typeface="Symbol"/>
                <a:ea typeface="Symbol"/>
              </a:rPr>
              <a:t></a:t>
            </a:r>
            <a:r>
              <a:rPr b="0" lang="en-US" sz="3000" spc="-1" strike="noStrike">
                <a:solidFill>
                  <a:srgbClr val="000000"/>
                </a:solidFill>
                <a:latin typeface="Calibri"/>
              </a:rPr>
              <a:t>x</a:t>
            </a:r>
            <a:r>
              <a:rPr b="0" lang="en-US" sz="3000" spc="-1" strike="noStrike" baseline="-25000">
                <a:solidFill>
                  <a:srgbClr val="000000"/>
                </a:solidFill>
                <a:latin typeface="Calibri"/>
              </a:rPr>
              <a:t>n</a:t>
            </a:r>
            <a:r>
              <a:rPr b="0" lang="en-US" sz="3000" spc="-1" strike="noStrike">
                <a:solidFill>
                  <a:srgbClr val="000000"/>
                </a:solidFill>
                <a:latin typeface="Calibri"/>
              </a:rPr>
              <a:t>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can apply any m</a:t>
            </a:r>
            <a:r>
              <a:rPr b="0" lang="en-US" sz="3000" spc="-1" strike="noStrike">
                <a:solidFill>
                  <a:srgbClr val="000000"/>
                </a:solidFill>
                <a:latin typeface="Symbol"/>
                <a:ea typeface="Symbol"/>
              </a:rPr>
              <a:t></a:t>
            </a:r>
            <a:r>
              <a:rPr b="0" lang="en-US" sz="3000" spc="-1" strike="noStrike">
                <a:solidFill>
                  <a:srgbClr val="000000"/>
                </a:solidFill>
                <a:latin typeface="Calibri"/>
              </a:rPr>
              <a:t>m unitary transformation U to x, to obtain a new degree-n polynomial</a:t>
            </a:r>
            <a:endParaRPr b="0" lang="en-US" sz="3000" spc="-1" strike="noStrike">
              <a:solidFill>
                <a:srgbClr val="000000"/>
              </a:solidFill>
              <a:latin typeface="Arial"/>
            </a:endParaRPr>
          </a:p>
        </p:txBody>
      </p:sp>
      <mc:AlternateContent>
        <mc:Choice xmlns:a14="http://schemas.microsoft.com/office/drawing/2010/main" Requires="a14">
          <p:sp>
            <p:nvSpPr>
              <p:cNvPr id="249" name="Object 2"/>
              <p:cNvSpPr txBox="1"/>
              <p:nvPr/>
            </p:nvSpPr>
            <p:spPr>
              <a:xfrm>
                <a:off x="1384200" y="4040280"/>
                <a:ext cx="6248520" cy="1116000"/>
              </a:xfrm>
              <a:prstGeom prst="rect">
                <a:avLst/>
              </a:prstGeom>
            </p:spPr>
            <p:txBody>
              <a:bodyPr/>
              <a:p>
                <a14:m>
                  <m:oMath xmlns:m="http://schemas.openxmlformats.org/officeDocument/2006/math">
                    <m:r>
                      <m:t xml:space="preserve">p</m:t>
                    </m:r>
                    <m:r>
                      <m:t xml:space="preserve">'</m:t>
                    </m:r>
                    <m:d>
                      <m:dPr>
                        <m:begChr m:val="("/>
                        <m:endChr m:val=")"/>
                      </m:dPr>
                      <m:e>
                        <m:r>
                          <m:t xml:space="preserve">x</m:t>
                        </m:r>
                      </m:e>
                    </m:d>
                    <m:r>
                      <m:t xml:space="preserve">=</m:t>
                    </m:r>
                    <m:r>
                      <m:t xml:space="preserve">p</m:t>
                    </m:r>
                    <m:d>
                      <m:dPr>
                        <m:begChr m:val="("/>
                        <m:endChr m:val=")"/>
                      </m:dPr>
                      <m:e>
                        <m:r>
                          <m:rPr>
                            <m:lit/>
                            <m:nor/>
                          </m:rPr>
                          <m:t xml:space="preserve">Ux</m:t>
                        </m:r>
                      </m:e>
                    </m:d>
                    <m:r>
                      <m:t xml:space="preserve">=</m:t>
                    </m:r>
                    <m:nary>
                      <m:naryPr>
                        <m:chr m:val="∑"/>
                        <m:supHide m:val="1"/>
                      </m:naryPr>
                      <m:sub>
                        <m:r>
                          <m:t xml:space="preserve">S</m:t>
                        </m:r>
                        <m:r>
                          <m:t xml:space="preserve">=</m:t>
                        </m:r>
                        <m:d>
                          <m:dPr>
                            <m:begChr m:val="("/>
                            <m:endChr m:val=")"/>
                          </m:dPr>
                          <m:e>
                            <m:sSub>
                              <m:e>
                                <m:r>
                                  <m:t xml:space="preserve">s</m:t>
                                </m:r>
                              </m:e>
                              <m:sub>
                                <m:r>
                                  <m:t xml:space="preserve">1</m:t>
                                </m:r>
                              </m:sub>
                            </m:sSub>
                            <m:r>
                              <m:t xml:space="preserve">,</m:t>
                            </m:r>
                            <m:r>
                              <m:t xml:space="preserve">…</m:t>
                            </m:r>
                            <m:r>
                              <m:t xml:space="preserve">,</m:t>
                            </m:r>
                            <m:sSub>
                              <m:e>
                                <m:r>
                                  <m:t xml:space="preserve">s</m:t>
                                </m:r>
                              </m:e>
                              <m:sub>
                                <m:r>
                                  <m:t xml:space="preserve">m</m:t>
                                </m:r>
                              </m:sub>
                            </m:sSub>
                          </m:e>
                        </m:d>
                      </m:sub>
                      <m:sup/>
                      <m:e>
                        <m:sSub>
                          <m:e>
                            <m:r>
                              <m:t xml:space="preserve">α</m:t>
                            </m:r>
                          </m:e>
                          <m:sub>
                            <m:r>
                              <m:t xml:space="preserve">S</m:t>
                            </m:r>
                          </m:sub>
                        </m:sSub>
                        <m:sSubSup>
                          <m:e>
                            <m:r>
                              <m:t xml:space="preserve">x</m:t>
                            </m:r>
                          </m:e>
                          <m:sub>
                            <m:r>
                              <m:t xml:space="preserve">1</m:t>
                            </m:r>
                          </m:sub>
                          <m:sup>
                            <m:sSub>
                              <m:e>
                                <m:r>
                                  <m:t xml:space="preserve">s</m:t>
                                </m:r>
                              </m:e>
                              <m:sub>
                                <m:r>
                                  <m:t xml:space="preserve">1</m:t>
                                </m:r>
                              </m:sub>
                            </m:sSub>
                          </m:sup>
                        </m:sSubSup>
                        <m:r>
                          <m:t xml:space="preserve">⋯</m:t>
                        </m:r>
                        <m:sSubSup>
                          <m:e>
                            <m:r>
                              <m:t xml:space="preserve">x</m:t>
                            </m:r>
                          </m:e>
                          <m:sub>
                            <m:r>
                              <m:t xml:space="preserve">m</m:t>
                            </m:r>
                          </m:sub>
                          <m:sup>
                            <m:sSub>
                              <m:e>
                                <m:r>
                                  <m:t xml:space="preserve">s</m:t>
                                </m:r>
                              </m:e>
                              <m:sub>
                                <m:r>
                                  <m:t xml:space="preserve">m</m:t>
                                </m:r>
                              </m:sub>
                            </m:sSub>
                          </m:sup>
                        </m:sSubSup>
                      </m:e>
                    </m:nary>
                  </m:oMath>
                </a14:m>
              </a:p>
            </p:txBody>
          </p:sp>
        </mc:Choice>
        <mc:Fallback/>
      </mc:AlternateContent>
      <p:sp>
        <p:nvSpPr>
          <p:cNvPr id="250" name="Text Box 16"/>
          <p:cNvSpPr/>
          <p:nvPr/>
        </p:nvSpPr>
        <p:spPr>
          <a:xfrm>
            <a:off x="228600" y="525780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on “measuring,” we see the monomial</a:t>
            </a:r>
            <a:br>
              <a:rPr sz="3000"/>
            </a:br>
            <a:r>
              <a:rPr b="0" lang="en-US" sz="3000" spc="-1" strike="noStrike">
                <a:solidFill>
                  <a:srgbClr val="000000"/>
                </a:solidFill>
                <a:latin typeface="Calibri"/>
                <a:ea typeface="Arial"/>
              </a:rPr>
              <a:t>with probability</a:t>
            </a:r>
            <a:endParaRPr b="0" lang="en-US" sz="3000" spc="-1" strike="noStrike">
              <a:solidFill>
                <a:srgbClr val="000000"/>
              </a:solidFill>
              <a:latin typeface="Arial"/>
            </a:endParaRPr>
          </a:p>
        </p:txBody>
      </p:sp>
      <mc:AlternateContent>
        <mc:Choice xmlns:a14="http://schemas.microsoft.com/office/drawing/2010/main" Requires="a14">
          <p:sp>
            <p:nvSpPr>
              <p:cNvPr id="251" name="Object 5"/>
              <p:cNvSpPr txBox="1"/>
              <p:nvPr/>
            </p:nvSpPr>
            <p:spPr>
              <a:xfrm>
                <a:off x="2971800" y="5791320"/>
                <a:ext cx="2430360" cy="846000"/>
              </a:xfrm>
              <a:prstGeom prst="rect">
                <a:avLst/>
              </a:prstGeom>
            </p:spPr>
            <p:txBody>
              <a:bodyPr/>
              <a:p>
                <a14:m>
                  <m:oMath xmlns:m="http://schemas.openxmlformats.org/officeDocument/2006/math">
                    <m:sSup>
                      <m:e>
                        <m:d>
                          <m:dPr>
                            <m:begChr m:val="|"/>
                            <m:endChr m:val="|"/>
                          </m:dPr>
                          <m:e>
                            <m:sSub>
                              <m:e>
                                <m:r>
                                  <m:t xml:space="preserve">α</m:t>
                                </m:r>
                              </m:e>
                              <m:sub>
                                <m:r>
                                  <m:t xml:space="preserve">S</m:t>
                                </m:r>
                              </m:sub>
                            </m:sSub>
                          </m:e>
                        </m:d>
                      </m:e>
                      <m:sup>
                        <m:r>
                          <m:t xml:space="preserve">2</m:t>
                        </m:r>
                      </m:sup>
                    </m:sSup>
                    <m:sSub>
                      <m:e>
                        <m:r>
                          <m:t xml:space="preserve">s</m:t>
                        </m:r>
                      </m:e>
                      <m:sub>
                        <m:r>
                          <m:t xml:space="preserve">1</m:t>
                        </m:r>
                      </m:sub>
                    </m:sSub>
                    <m:r>
                      <m:t xml:space="preserve">!</m:t>
                    </m:r>
                    <m:r>
                      <m:t xml:space="preserve">⋯</m:t>
                    </m:r>
                    <m:sSub>
                      <m:e>
                        <m:r>
                          <m:t xml:space="preserve">s</m:t>
                        </m:r>
                      </m:e>
                      <m:sub>
                        <m:r>
                          <m:t xml:space="preserve">m</m:t>
                        </m:r>
                      </m:sub>
                    </m:sSub>
                    <m:r>
                      <m:t xml:space="preserve">!</m:t>
                    </m:r>
                  </m:oMath>
                </a14:m>
              </a:p>
            </p:txBody>
          </p:sp>
        </mc:Choice>
        <mc:Fallback/>
      </mc:AlternateContent>
      <mc:AlternateContent>
        <mc:Choice xmlns:a14="http://schemas.microsoft.com/office/drawing/2010/main" Requires="a14">
          <p:sp>
            <p:nvSpPr>
              <p:cNvPr id="252" name="Object 6"/>
              <p:cNvSpPr txBox="1"/>
              <p:nvPr/>
            </p:nvSpPr>
            <p:spPr>
              <a:xfrm>
                <a:off x="7162920" y="5105520"/>
                <a:ext cx="1736640" cy="730080"/>
              </a:xfrm>
              <a:prstGeom prst="rect">
                <a:avLst/>
              </a:prstGeom>
            </p:spPr>
            <p:txBody>
              <a:bodyPr/>
              <a:p>
                <a14:m>
                  <m:oMath xmlns:m="http://schemas.openxmlformats.org/officeDocument/2006/math">
                    <m:sSubSup>
                      <m:e>
                        <m:r>
                          <m:t xml:space="preserve">x</m:t>
                        </m:r>
                      </m:e>
                      <m:sub>
                        <m:r>
                          <m:t xml:space="preserve">1</m:t>
                        </m:r>
                      </m:sub>
                      <m:sup>
                        <m:sSub>
                          <m:e>
                            <m:r>
                              <m:t xml:space="preserve">s</m:t>
                            </m:r>
                          </m:e>
                          <m:sub>
                            <m:r>
                              <m:t xml:space="preserve">1</m:t>
                            </m:r>
                          </m:sub>
                        </m:sSub>
                      </m:sup>
                    </m:sSubSup>
                    <m:r>
                      <m:t xml:space="preserve">⋯</m:t>
                    </m:r>
                    <m:sSubSup>
                      <m:e>
                        <m:r>
                          <m:t xml:space="preserve">x</m:t>
                        </m:r>
                      </m:e>
                      <m:sub>
                        <m:r>
                          <m:t xml:space="preserve">m</m:t>
                        </m:r>
                      </m:sub>
                      <m:sup>
                        <m:sSub>
                          <m:e>
                            <m:r>
                              <m:t xml:space="preserve">s</m:t>
                            </m:r>
                          </m:e>
                          <m:sub>
                            <m:r>
                              <m:t xml:space="preserve">m</m:t>
                            </m:r>
                          </m:sub>
                        </m:sSub>
                      </m:sup>
                    </m:sSub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228600" y="152280"/>
            <a:ext cx="8686800" cy="11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70c0"/>
                </a:solidFill>
                <a:latin typeface="Calibri"/>
                <a:ea typeface="Arial"/>
              </a:rPr>
              <a:t>OK, so why is it hard to sample the distribution over photon numbers classically?</a:t>
            </a:r>
            <a:endParaRPr b="0" lang="en-US" sz="3500" spc="-1" strike="noStrike">
              <a:solidFill>
                <a:srgbClr val="000000"/>
              </a:solidFill>
              <a:latin typeface="Arial"/>
            </a:endParaRPr>
          </a:p>
        </p:txBody>
      </p:sp>
      <p:pic>
        <p:nvPicPr>
          <p:cNvPr id="254" name="Object 2" descr=""/>
          <p:cNvPicPr/>
          <p:nvPr/>
        </p:nvPicPr>
        <p:blipFill>
          <a:blip r:embed="rId1"/>
          <a:stretch/>
        </p:blipFill>
        <p:spPr>
          <a:xfrm>
            <a:off x="1600200" y="5638680"/>
            <a:ext cx="6238800" cy="990720"/>
          </a:xfrm>
          <a:prstGeom prst="rect">
            <a:avLst/>
          </a:prstGeom>
          <a:ln w="0">
            <a:noFill/>
          </a:ln>
        </p:spPr>
      </p:pic>
      <p:sp>
        <p:nvSpPr>
          <p:cNvPr id="255" name="Text Box 16"/>
          <p:cNvSpPr/>
          <p:nvPr/>
        </p:nvSpPr>
        <p:spPr>
          <a:xfrm>
            <a:off x="304920" y="1447920"/>
            <a:ext cx="8534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a:t>
            </a:r>
            <a:r>
              <a:rPr b="1" lang="en-US" sz="3000" spc="-1" strike="noStrike">
                <a:solidFill>
                  <a:srgbClr val="ff0000"/>
                </a:solidFill>
                <a:latin typeface="Calibri"/>
                <a:ea typeface="Arial"/>
              </a:rPr>
              <a:t>any</a:t>
            </a:r>
            <a:r>
              <a:rPr b="0" lang="en-US" sz="3000" spc="-1" strike="noStrike">
                <a:solidFill>
                  <a:srgbClr val="000000"/>
                </a:solidFill>
                <a:latin typeface="Calibri"/>
                <a:ea typeface="Arial"/>
              </a:rPr>
              <a:t> matrix A</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C</a:t>
            </a:r>
            <a:r>
              <a:rPr b="0" lang="en-US" sz="3000" spc="-1" strike="noStrike" baseline="30000">
                <a:solidFill>
                  <a:srgbClr val="000000"/>
                </a:solidFill>
                <a:latin typeface="Calibri"/>
                <a:ea typeface="Arial"/>
              </a:rPr>
              <a:t>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Calibri"/>
                <a:ea typeface="Arial"/>
              </a:rPr>
              <a:t>n</a:t>
            </a:r>
            <a:r>
              <a:rPr b="0" lang="en-US" sz="3000" spc="-1" strike="noStrike">
                <a:solidFill>
                  <a:srgbClr val="000000"/>
                </a:solidFill>
                <a:latin typeface="Calibri"/>
                <a:ea typeface="Arial"/>
              </a:rPr>
              <a:t>, we can construct an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m unitary U (where m</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2n) as follows:</a:t>
            </a:r>
            <a:endParaRPr b="0" lang="en-US" sz="3000" spc="-1" strike="noStrike">
              <a:solidFill>
                <a:srgbClr val="000000"/>
              </a:solidFill>
              <a:latin typeface="Arial"/>
            </a:endParaRPr>
          </a:p>
        </p:txBody>
      </p:sp>
      <p:sp>
        <p:nvSpPr>
          <p:cNvPr id="256" name="Text Box 16"/>
          <p:cNvSpPr/>
          <p:nvPr/>
        </p:nvSpPr>
        <p:spPr>
          <a:xfrm>
            <a:off x="304920" y="3962520"/>
            <a:ext cx="845820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uppose we start with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1,…,1,0,…,0</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one photon in each of the first n modes), apply U, and measu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n the probability of observing |I</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gain is</a:t>
            </a:r>
            <a:endParaRPr b="0" lang="en-US" sz="3000" spc="-1" strike="noStrike">
              <a:solidFill>
                <a:srgbClr val="000000"/>
              </a:solidFill>
              <a:latin typeface="Arial"/>
            </a:endParaRPr>
          </a:p>
        </p:txBody>
      </p:sp>
      <p:pic>
        <p:nvPicPr>
          <p:cNvPr id="257" name="Object 3" descr=""/>
          <p:cNvPicPr/>
          <p:nvPr/>
        </p:nvPicPr>
        <p:blipFill>
          <a:blip r:embed="rId2"/>
          <a:stretch/>
        </p:blipFill>
        <p:spPr>
          <a:xfrm>
            <a:off x="2971800" y="2438280"/>
            <a:ext cx="2776680" cy="14479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55"/>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57"/>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56"/>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6"/>
          <p:cNvSpPr/>
          <p:nvPr/>
        </p:nvSpPr>
        <p:spPr>
          <a:xfrm>
            <a:off x="228600" y="1523880"/>
            <a:ext cx="426708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Claim 1:</a:t>
            </a:r>
            <a:r>
              <a:rPr b="0" lang="en-US" sz="2700" spc="-1" strike="noStrike">
                <a:solidFill>
                  <a:srgbClr val="000000"/>
                </a:solidFill>
                <a:latin typeface="Calibri"/>
              </a:rPr>
              <a:t> p is </a:t>
            </a:r>
            <a:r>
              <a:rPr b="1" lang="en-US" sz="2700" spc="-1" strike="noStrike">
                <a:solidFill>
                  <a:srgbClr val="990099"/>
                </a:solidFill>
                <a:latin typeface="Calibri"/>
              </a:rPr>
              <a:t>#P</a:t>
            </a:r>
            <a:r>
              <a:rPr b="0" lang="en-US" sz="2700" spc="-1" strike="noStrike">
                <a:solidFill>
                  <a:srgbClr val="000000"/>
                </a:solidFill>
                <a:latin typeface="Calibri"/>
              </a:rPr>
              <a:t>-complete to estimate </a:t>
            </a:r>
            <a:r>
              <a:rPr b="0" lang="en-US" sz="2100" spc="-1" strike="noStrike">
                <a:solidFill>
                  <a:srgbClr val="000000"/>
                </a:solidFill>
                <a:latin typeface="Calibri"/>
              </a:rPr>
              <a:t>(up to a constant factor)</a:t>
            </a:r>
            <a:endParaRPr b="0" lang="en-US" sz="21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Idea: </a:t>
            </a:r>
            <a:r>
              <a:rPr b="0" lang="en-US" sz="2700" spc="-1" strike="noStrike">
                <a:solidFill>
                  <a:srgbClr val="000000"/>
                </a:solidFill>
                <a:latin typeface="Calibri"/>
              </a:rPr>
              <a:t>Valiant proved that the PERMANENT is </a:t>
            </a:r>
            <a:r>
              <a:rPr b="1" lang="en-US" sz="2700" spc="-1" strike="noStrike">
                <a:solidFill>
                  <a:srgbClr val="990099"/>
                </a:solidFill>
                <a:latin typeface="Calibri"/>
              </a:rPr>
              <a:t>#P</a:t>
            </a:r>
            <a:r>
              <a:rPr b="0" lang="en-US" sz="2700" spc="-1" strike="noStrike">
                <a:solidFill>
                  <a:srgbClr val="000000"/>
                </a:solidFill>
                <a:latin typeface="Calibri"/>
              </a:rPr>
              <a:t>-complet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n use a classical reduction to go from a multiplicative approximation of |Per(A)|</a:t>
            </a:r>
            <a:r>
              <a:rPr b="0" lang="en-US" sz="2700" spc="-1" strike="noStrike" baseline="30000">
                <a:solidFill>
                  <a:srgbClr val="000000"/>
                </a:solidFill>
                <a:latin typeface="Calibri"/>
              </a:rPr>
              <a:t>2</a:t>
            </a:r>
            <a:r>
              <a:rPr b="0" lang="en-US" sz="2700" spc="-1" strike="noStrike">
                <a:solidFill>
                  <a:srgbClr val="000000"/>
                </a:solidFill>
                <a:latin typeface="Calibri"/>
              </a:rPr>
              <a:t> to Per(A) itself.</a:t>
            </a:r>
            <a:endParaRPr b="0" lang="en-US" sz="2700" spc="-1" strike="noStrike">
              <a:solidFill>
                <a:srgbClr val="000000"/>
              </a:solidFill>
              <a:latin typeface="Arial"/>
            </a:endParaRPr>
          </a:p>
        </p:txBody>
      </p:sp>
      <p:sp>
        <p:nvSpPr>
          <p:cNvPr id="259" name="Text Box 16"/>
          <p:cNvSpPr/>
          <p:nvPr/>
        </p:nvSpPr>
        <p:spPr>
          <a:xfrm>
            <a:off x="4572000" y="1523880"/>
            <a:ext cx="4267080" cy="40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laim 2:</a:t>
            </a:r>
            <a:r>
              <a:rPr b="0" lang="en-US" sz="2700" spc="-1" strike="noStrike">
                <a:solidFill>
                  <a:srgbClr val="000000"/>
                </a:solidFill>
                <a:latin typeface="Calibri"/>
                <a:ea typeface="Arial"/>
              </a:rPr>
              <a:t> Suppose we had a fast classical algorithm for boson sampling.  Then we could estimate p in </a:t>
            </a:r>
            <a:r>
              <a:rPr b="1" lang="en-US" sz="2700" spc="-1" strike="noStrike">
                <a:solidFill>
                  <a:srgbClr val="990099"/>
                </a:solidFill>
                <a:latin typeface="Calibri"/>
                <a:ea typeface="Arial"/>
              </a:rPr>
              <a:t>BPP</a:t>
            </a:r>
            <a:r>
              <a:rPr b="1" lang="en-US" sz="2700" spc="-1" strike="noStrike" baseline="30000">
                <a:solidFill>
                  <a:srgbClr val="990099"/>
                </a:solidFill>
                <a:latin typeface="Calibri"/>
                <a:ea typeface="Arial"/>
              </a:rPr>
              <a:t>NP</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Idea:</a:t>
            </a:r>
            <a:r>
              <a:rPr b="0" lang="en-US" sz="2700" spc="-1" strike="noStrike">
                <a:solidFill>
                  <a:srgbClr val="000000"/>
                </a:solidFill>
                <a:latin typeface="Calibri"/>
                <a:ea typeface="Arial"/>
              </a:rPr>
              <a:t> Let M be our classical sampling algorithm, and let r be its randomness.  Use approximate counting to estimate</a:t>
            </a:r>
            <a:endParaRPr b="0" lang="en-US" sz="2700" spc="-1" strike="noStrike">
              <a:solidFill>
                <a:srgbClr val="000000"/>
              </a:solidFill>
              <a:latin typeface="Arial"/>
            </a:endParaRPr>
          </a:p>
        </p:txBody>
      </p:sp>
      <p:sp>
        <p:nvSpPr>
          <p:cNvPr id="260" name="Text Box 16"/>
          <p:cNvSpPr/>
          <p:nvPr/>
        </p:nvSpPr>
        <p:spPr>
          <a:xfrm>
            <a:off x="304920" y="5715000"/>
            <a:ext cx="8610480" cy="9774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ea typeface="Arial"/>
              </a:rPr>
              <a:t>Conclusion:</a:t>
            </a:r>
            <a:r>
              <a:rPr b="0" lang="en-US" sz="2900" spc="-1" strike="noStrike">
                <a:solidFill>
                  <a:srgbClr val="000000"/>
                </a:solidFill>
                <a:latin typeface="Calibri"/>
                <a:ea typeface="Arial"/>
              </a:rPr>
              <a:t> Suppose we had a fast classical algorithm for boson sampling.  Then </a:t>
            </a:r>
            <a:r>
              <a:rPr b="1" lang="en-US" sz="2900" spc="-1" strike="noStrike">
                <a:solidFill>
                  <a:srgbClr val="990099"/>
                </a:solidFill>
                <a:latin typeface="Calibri"/>
                <a:ea typeface="Arial"/>
              </a:rPr>
              <a:t>P</a:t>
            </a:r>
            <a:r>
              <a:rPr b="1" lang="en-US" sz="2900" spc="-1" strike="noStrike" baseline="30000">
                <a:solidFill>
                  <a:srgbClr val="990099"/>
                </a:solidFill>
                <a:latin typeface="Calibri"/>
                <a:ea typeface="Arial"/>
              </a:rPr>
              <a:t>#P</a:t>
            </a:r>
            <a:r>
              <a:rPr b="0" lang="en-US" sz="2900" spc="-1" strike="noStrike">
                <a:solidFill>
                  <a:srgbClr val="000000"/>
                </a:solidFill>
                <a:latin typeface="Calibri"/>
                <a:ea typeface="Arial"/>
              </a:rPr>
              <a:t>=</a:t>
            </a:r>
            <a:r>
              <a:rPr b="1" lang="en-US" sz="2900" spc="-1" strike="noStrike">
                <a:solidFill>
                  <a:srgbClr val="990099"/>
                </a:solidFill>
                <a:latin typeface="Calibri"/>
                <a:ea typeface="Arial"/>
              </a:rPr>
              <a:t>BPP</a:t>
            </a:r>
            <a:r>
              <a:rPr b="1" lang="en-US" sz="2900" spc="-1" strike="noStrike" baseline="30000">
                <a:solidFill>
                  <a:srgbClr val="990099"/>
                </a:solidFill>
                <a:latin typeface="Calibri"/>
                <a:ea typeface="Arial"/>
              </a:rPr>
              <a:t>NP</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pic>
        <p:nvPicPr>
          <p:cNvPr id="261" name="Object 2" descr=""/>
          <p:cNvPicPr/>
          <p:nvPr/>
        </p:nvPicPr>
        <p:blipFill>
          <a:blip r:embed="rId1"/>
          <a:stretch/>
        </p:blipFill>
        <p:spPr>
          <a:xfrm>
            <a:off x="5989680" y="5029200"/>
            <a:ext cx="2932200" cy="658800"/>
          </a:xfrm>
          <a:prstGeom prst="rect">
            <a:avLst/>
          </a:prstGeom>
          <a:ln w="0">
            <a:noFill/>
          </a:ln>
        </p:spPr>
      </p:pic>
      <p:pic>
        <p:nvPicPr>
          <p:cNvPr id="262" name="Object 7" descr=""/>
          <p:cNvPicPr/>
          <p:nvPr/>
        </p:nvPicPr>
        <p:blipFill>
          <a:blip r:embed="rId2"/>
          <a:stretch/>
        </p:blipFill>
        <p:spPr>
          <a:xfrm>
            <a:off x="1219320" y="5410080"/>
            <a:ext cx="6630840" cy="1052640"/>
          </a:xfrm>
          <a:prstGeom prst="rect">
            <a:avLst/>
          </a:prstGeom>
          <a:ln w="0">
            <a:noFill/>
          </a:ln>
        </p:spPr>
      </p:pic>
      <p:sp>
        <p:nvSpPr>
          <p:cNvPr id="263" name="Straight Connector 9"/>
          <p:cNvSpPr/>
          <p:nvPr/>
        </p:nvSpPr>
        <p:spPr>
          <a:xfrm>
            <a:off x="4495680" y="1600200"/>
            <a:ext cx="0" cy="4038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1">
                                  <p:stCondLst>
                                    <p:cond delay="0"/>
                                  </p:stCondLst>
                                  <p:childTnLst>
                                    <p:set>
                                      <p:cBhvr>
                                        <p:cTn id="288" dur="1" fill="hold">
                                          <p:stCondLst>
                                            <p:cond delay="0"/>
                                          </p:stCondLst>
                                        </p:cTn>
                                        <p:tgtEl>
                                          <p:spTgt spid="262"/>
                                        </p:tgtEl>
                                        <p:attrNameLst>
                                          <p:attrName>style.visibility</p:attrName>
                                        </p:attrNameLst>
                                      </p:cBhvr>
                                      <p:to>
                                        <p:strVal val="visible"/>
                                      </p:to>
                                    </p:set>
                                  </p:childTnLst>
                                </p:cTn>
                              </p:par>
                              <p:par>
                                <p:cTn id="289" nodeType="withEffect" fill="hold" presetClass="path" presetID="64">
                                  <p:stCondLst>
                                    <p:cond delay="0"/>
                                  </p:stCondLst>
                                  <p:childTnLst>
                                    <p:animMotion origin="layout" path="M -3.33333E-006 1.39685E-006 L -0.00416 -0.7204 E">
                                      <p:cBhvr>
                                        <p:cTn id="290" dur="1000" fill="hold"/>
                                        <p:tgtEl>
                                          <p:spTgt spid="262"/>
                                        </p:tgtEl>
                                      </p:cBhvr>
                                    </p:animMotion>
                                  </p:childTnLst>
                                </p:cTn>
                              </p:par>
                            </p:childTnLst>
                          </p:cTn>
                        </p:par>
                        <p:par>
                          <p:cTn id="291" nodeType="afterEffect" fill="hold">
                            <p:stCondLst>
                              <p:cond delay="1000"/>
                            </p:stCondLst>
                            <p:childTnLst>
                              <p:par>
                                <p:cTn id="292" nodeType="afterEffect" fill="hold" presetClass="entr" presetID="1">
                                  <p:stCondLst>
                                    <p:cond delay="0"/>
                                  </p:stCondLst>
                                  <p:childTnLst>
                                    <p:set>
                                      <p:cBhvr>
                                        <p:cTn id="293" dur="1" fill="hold">
                                          <p:stCondLst>
                                            <p:cond delay="0"/>
                                          </p:stCondLst>
                                        </p:cTn>
                                        <p:tgtEl>
                                          <p:spTgt spid="258">
                                            <p:txEl>
                                              <p:pRg st="0" end="0"/>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58">
                                            <p:txEl>
                                              <p:pRg st="1" end="1"/>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59">
                                            <p:txEl>
                                              <p:pRg st="0" end="0"/>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63"/>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59">
                                            <p:txEl>
                                              <p:pRg st="1" end="1"/>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0"/>
                                          </p:stCondLst>
                                        </p:cTn>
                                        <p:tgtEl>
                                          <p:spTgt spid="261"/>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6"/>
          <p:cNvSpPr/>
          <p:nvPr/>
        </p:nvSpPr>
        <p:spPr>
          <a:xfrm>
            <a:off x="228600" y="1523880"/>
            <a:ext cx="8534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revious result hinged on the difficulty of estimating a </a:t>
            </a:r>
            <a:r>
              <a:rPr b="1" lang="en-US" sz="3000" spc="-1" strike="noStrike">
                <a:solidFill>
                  <a:srgbClr val="008000"/>
                </a:solidFill>
                <a:latin typeface="Calibri"/>
                <a:ea typeface="Arial"/>
              </a:rPr>
              <a:t>single, exponentially-small probability</a:t>
            </a:r>
            <a:r>
              <a:rPr b="0" lang="en-US" sz="3000" spc="-1" strike="noStrike">
                <a:solidFill>
                  <a:srgbClr val="008000"/>
                </a:solidFill>
                <a:latin typeface="Calibri"/>
                <a:ea typeface="Arial"/>
              </a:rPr>
              <a:t> </a:t>
            </a:r>
            <a:r>
              <a:rPr b="0" lang="en-US" sz="3000" spc="-1" strike="noStrike">
                <a:solidFill>
                  <a:srgbClr val="000000"/>
                </a:solidFill>
                <a:latin typeface="Calibri"/>
                <a:ea typeface="Arial"/>
              </a:rPr>
              <a:t>p—but what about noise and error?</a:t>
            </a:r>
            <a:endParaRPr b="0" lang="en-US" sz="3000" spc="-1" strike="noStrike">
              <a:solidFill>
                <a:srgbClr val="000000"/>
              </a:solidFill>
              <a:latin typeface="Arial"/>
            </a:endParaRPr>
          </a:p>
        </p:txBody>
      </p:sp>
      <p:sp>
        <p:nvSpPr>
          <p:cNvPr id="265" name="Text Box 2"/>
          <p:cNvSpPr/>
          <p:nvPr/>
        </p:nvSpPr>
        <p:spPr>
          <a:xfrm>
            <a:off x="228600" y="4572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Elephant in the Room</a:t>
            </a:r>
            <a:endParaRPr b="0" lang="en-US" sz="4400" spc="-1" strike="noStrike">
              <a:solidFill>
                <a:srgbClr val="000000"/>
              </a:solidFill>
              <a:latin typeface="Arial"/>
            </a:endParaRPr>
          </a:p>
        </p:txBody>
      </p:sp>
      <p:sp>
        <p:nvSpPr>
          <p:cNvPr id="266" name="Text Box 16"/>
          <p:cNvSpPr/>
          <p:nvPr/>
        </p:nvSpPr>
        <p:spPr>
          <a:xfrm>
            <a:off x="228600" y="31240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The “right” question: </a:t>
            </a:r>
            <a:r>
              <a:rPr b="0" lang="en-US" sz="3000" spc="-1" strike="noStrike">
                <a:solidFill>
                  <a:srgbClr val="000000"/>
                </a:solidFill>
                <a:latin typeface="Calibri"/>
                <a:ea typeface="Arial"/>
              </a:rPr>
              <a:t>can a classical computer efficiently sample a distribution with </a:t>
            </a:r>
            <a:r>
              <a:rPr b="1" lang="en-US" sz="3000" spc="-1" strike="noStrike">
                <a:solidFill>
                  <a:srgbClr val="008000"/>
                </a:solidFill>
                <a:latin typeface="Calibri"/>
                <a:ea typeface="Arial"/>
              </a:rPr>
              <a:t>1/n</a:t>
            </a:r>
            <a:r>
              <a:rPr b="1" lang="en-US" sz="3000" spc="-1" strike="noStrike" baseline="30000">
                <a:solidFill>
                  <a:srgbClr val="008000"/>
                </a:solidFill>
                <a:latin typeface="Calibri"/>
                <a:ea typeface="Arial"/>
              </a:rPr>
              <a:t>O(1)</a:t>
            </a:r>
            <a:r>
              <a:rPr b="1" lang="en-US" sz="3000" spc="-1" strike="noStrike">
                <a:solidFill>
                  <a:srgbClr val="008000"/>
                </a:solidFill>
                <a:latin typeface="Calibri"/>
                <a:ea typeface="Arial"/>
              </a:rPr>
              <a:t> variation distance </a:t>
            </a:r>
            <a:r>
              <a:rPr b="0" lang="en-US" sz="3000" spc="-1" strike="noStrike">
                <a:solidFill>
                  <a:srgbClr val="000000"/>
                </a:solidFill>
                <a:latin typeface="Calibri"/>
                <a:ea typeface="Arial"/>
              </a:rPr>
              <a:t>from the boson distribution?</a:t>
            </a:r>
            <a:endParaRPr b="0" lang="en-US" sz="3000" spc="-1" strike="noStrike">
              <a:solidFill>
                <a:srgbClr val="000000"/>
              </a:solidFill>
              <a:latin typeface="Arial"/>
            </a:endParaRPr>
          </a:p>
        </p:txBody>
      </p:sp>
      <p:sp>
        <p:nvSpPr>
          <p:cNvPr id="267" name="Text Box 16"/>
          <p:cNvSpPr/>
          <p:nvPr/>
        </p:nvSpPr>
        <p:spPr>
          <a:xfrm>
            <a:off x="228600" y="4724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Our Main Result: </a:t>
            </a:r>
            <a:r>
              <a:rPr b="0" lang="en-US" sz="3000" spc="-1" strike="noStrike">
                <a:solidFill>
                  <a:srgbClr val="000000"/>
                </a:solidFill>
                <a:latin typeface="Calibri"/>
                <a:ea typeface="Arial"/>
              </a:rPr>
              <a:t>Suppose it can.  Then there’s a </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 algorithm to estimate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a Gaussian matrix </a:t>
            </a:r>
            <a:endParaRPr b="0" lang="en-US" sz="3000" spc="-1" strike="noStrike">
              <a:solidFill>
                <a:srgbClr val="000000"/>
              </a:solidFill>
              <a:latin typeface="Arial"/>
            </a:endParaRPr>
          </a:p>
        </p:txBody>
      </p:sp>
      <mc:AlternateContent>
        <mc:Choice xmlns:a14="http://schemas.microsoft.com/office/drawing/2010/main" Requires="a14">
          <p:sp>
            <p:nvSpPr>
              <p:cNvPr id="268" name="Object 2"/>
              <p:cNvSpPr txBox="1"/>
              <p:nvPr/>
            </p:nvSpPr>
            <p:spPr>
              <a:xfrm>
                <a:off x="3962520" y="5562720"/>
                <a:ext cx="2759040" cy="960480"/>
              </a:xfrm>
              <a:prstGeom prst="rect">
                <a:avLst/>
              </a:prstGeom>
            </p:spPr>
            <p:txBody>
              <a:bodyPr/>
              <a:p>
                <a14:m>
                  <m:oMath xmlns:m="http://schemas.openxmlformats.org/officeDocument/2006/math">
                    <m:r>
                      <m:t xml:space="preserve">A</m:t>
                    </m:r>
                    <m:r>
                      <m:rPr>
                        <m:lit/>
                        <m:nor/>
                      </m:rPr>
                      <m:t xml:space="preserve">~</m:t>
                    </m:r>
                    <m:r>
                      <m:t xml:space="preserve">N</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269" name="Freeform 11"/>
          <p:cNvSpPr/>
          <p:nvPr/>
        </p:nvSpPr>
        <p:spPr>
          <a:xfrm>
            <a:off x="6553080" y="227160"/>
            <a:ext cx="2438640" cy="1231920"/>
          </a:xfrm>
          <a:custGeom>
            <a:avLst/>
            <a:gdLst/>
            <a:ahLst/>
            <a:rect l="l" t="t" r="r" b="b"/>
            <a:pathLst>
              <a:path w="9502560" h="4687487">
                <a:moveTo>
                  <a:pt x="2058337" y="1798848"/>
                </a:moveTo>
                <a:cubicBezTo>
                  <a:pt x="2036566" y="1816265"/>
                  <a:pt x="2016666" y="1836323"/>
                  <a:pt x="1993023" y="1851100"/>
                </a:cubicBezTo>
                <a:cubicBezTo>
                  <a:pt x="1981346" y="1858398"/>
                  <a:pt x="1966490" y="1858738"/>
                  <a:pt x="1953834" y="1864162"/>
                </a:cubicBezTo>
                <a:cubicBezTo>
                  <a:pt x="1935936" y="1871833"/>
                  <a:pt x="1919000" y="1881579"/>
                  <a:pt x="1901583" y="1890288"/>
                </a:cubicBezTo>
                <a:cubicBezTo>
                  <a:pt x="1892874" y="1903351"/>
                  <a:pt x="1888770" y="1921156"/>
                  <a:pt x="1875457" y="1929477"/>
                </a:cubicBezTo>
                <a:cubicBezTo>
                  <a:pt x="1852104" y="1944072"/>
                  <a:pt x="1797080" y="1955602"/>
                  <a:pt x="1797080" y="1955602"/>
                </a:cubicBezTo>
                <a:cubicBezTo>
                  <a:pt x="1784017" y="1973019"/>
                  <a:pt x="1779561" y="2005757"/>
                  <a:pt x="1757891" y="2007854"/>
                </a:cubicBezTo>
                <a:cubicBezTo>
                  <a:pt x="1636461" y="2019605"/>
                  <a:pt x="1513876" y="2002646"/>
                  <a:pt x="1392131" y="1994791"/>
                </a:cubicBezTo>
                <a:cubicBezTo>
                  <a:pt x="1378390" y="1993904"/>
                  <a:pt x="1366490" y="1984191"/>
                  <a:pt x="1352943" y="1981728"/>
                </a:cubicBezTo>
                <a:cubicBezTo>
                  <a:pt x="1318404" y="1975448"/>
                  <a:pt x="1283137" y="1974003"/>
                  <a:pt x="1248440" y="1968665"/>
                </a:cubicBezTo>
                <a:cubicBezTo>
                  <a:pt x="1226496" y="1965289"/>
                  <a:pt x="1204897" y="1959956"/>
                  <a:pt x="1183126" y="1955602"/>
                </a:cubicBezTo>
                <a:cubicBezTo>
                  <a:pt x="1170063" y="1946894"/>
                  <a:pt x="1156712" y="1938602"/>
                  <a:pt x="1143937" y="1929477"/>
                </a:cubicBezTo>
                <a:cubicBezTo>
                  <a:pt x="1126221" y="1916823"/>
                  <a:pt x="1110589" y="1901090"/>
                  <a:pt x="1091686" y="1890288"/>
                </a:cubicBezTo>
                <a:cubicBezTo>
                  <a:pt x="1079731" y="1883456"/>
                  <a:pt x="1065560" y="1881579"/>
                  <a:pt x="1052497" y="1877225"/>
                </a:cubicBezTo>
                <a:cubicBezTo>
                  <a:pt x="925251" y="1749983"/>
                  <a:pt x="1121184" y="1935620"/>
                  <a:pt x="947994" y="1811911"/>
                </a:cubicBezTo>
                <a:cubicBezTo>
                  <a:pt x="935219" y="1802786"/>
                  <a:pt x="930577" y="1785785"/>
                  <a:pt x="921868" y="1772722"/>
                </a:cubicBezTo>
                <a:cubicBezTo>
                  <a:pt x="920126" y="1765752"/>
                  <a:pt x="903240" y="1692527"/>
                  <a:pt x="895743" y="1681282"/>
                </a:cubicBezTo>
                <a:cubicBezTo>
                  <a:pt x="885496" y="1665911"/>
                  <a:pt x="869617" y="1655157"/>
                  <a:pt x="856554" y="1642094"/>
                </a:cubicBezTo>
                <a:cubicBezTo>
                  <a:pt x="847845" y="1620323"/>
                  <a:pt x="838661" y="1598736"/>
                  <a:pt x="830428" y="1576780"/>
                </a:cubicBezTo>
                <a:cubicBezTo>
                  <a:pt x="825593" y="1563887"/>
                  <a:pt x="823524" y="1549907"/>
                  <a:pt x="817366" y="1537591"/>
                </a:cubicBezTo>
                <a:cubicBezTo>
                  <a:pt x="804765" y="1512389"/>
                  <a:pt x="749563" y="1444624"/>
                  <a:pt x="738988" y="1433088"/>
                </a:cubicBezTo>
                <a:cubicBezTo>
                  <a:pt x="709861" y="1401313"/>
                  <a:pt x="683413" y="1365559"/>
                  <a:pt x="647548" y="1341648"/>
                </a:cubicBezTo>
                <a:cubicBezTo>
                  <a:pt x="614360" y="1319522"/>
                  <a:pt x="594314" y="1309858"/>
                  <a:pt x="569171" y="1276334"/>
                </a:cubicBezTo>
                <a:cubicBezTo>
                  <a:pt x="553937" y="1256022"/>
                  <a:pt x="543046" y="1232791"/>
                  <a:pt x="529983" y="1211020"/>
                </a:cubicBezTo>
                <a:cubicBezTo>
                  <a:pt x="492480" y="1061006"/>
                  <a:pt x="544921" y="1245876"/>
                  <a:pt x="490794" y="1119580"/>
                </a:cubicBezTo>
                <a:cubicBezTo>
                  <a:pt x="483722" y="1103078"/>
                  <a:pt x="484803" y="1083830"/>
                  <a:pt x="477731" y="1067328"/>
                </a:cubicBezTo>
                <a:cubicBezTo>
                  <a:pt x="471547" y="1052898"/>
                  <a:pt x="458627" y="1042182"/>
                  <a:pt x="451606" y="1028140"/>
                </a:cubicBezTo>
                <a:cubicBezTo>
                  <a:pt x="445448" y="1015824"/>
                  <a:pt x="447145" y="999703"/>
                  <a:pt x="438543" y="988951"/>
                </a:cubicBezTo>
                <a:cubicBezTo>
                  <a:pt x="428735" y="976692"/>
                  <a:pt x="412417" y="971534"/>
                  <a:pt x="399354" y="962825"/>
                </a:cubicBezTo>
                <a:cubicBezTo>
                  <a:pt x="395000" y="941054"/>
                  <a:pt x="392133" y="918931"/>
                  <a:pt x="386291" y="897511"/>
                </a:cubicBezTo>
                <a:cubicBezTo>
                  <a:pt x="379045" y="870943"/>
                  <a:pt x="360166" y="819134"/>
                  <a:pt x="360166" y="819134"/>
                </a:cubicBezTo>
                <a:cubicBezTo>
                  <a:pt x="366563" y="799942"/>
                  <a:pt x="392595" y="727239"/>
                  <a:pt x="386291" y="714631"/>
                </a:cubicBezTo>
                <a:cubicBezTo>
                  <a:pt x="378262" y="698573"/>
                  <a:pt x="351457" y="705922"/>
                  <a:pt x="334040" y="701568"/>
                </a:cubicBezTo>
                <a:cubicBezTo>
                  <a:pt x="299206" y="705922"/>
                  <a:pt x="261617" y="700373"/>
                  <a:pt x="229537" y="714631"/>
                </a:cubicBezTo>
                <a:cubicBezTo>
                  <a:pt x="216954" y="720223"/>
                  <a:pt x="220257" y="740580"/>
                  <a:pt x="216474" y="753820"/>
                </a:cubicBezTo>
                <a:cubicBezTo>
                  <a:pt x="211542" y="771082"/>
                  <a:pt x="207765" y="788654"/>
                  <a:pt x="203411" y="806071"/>
                </a:cubicBezTo>
                <a:cubicBezTo>
                  <a:pt x="190348" y="801717"/>
                  <a:pt x="173959" y="802744"/>
                  <a:pt x="164223" y="793008"/>
                </a:cubicBezTo>
                <a:cubicBezTo>
                  <a:pt x="117817" y="746602"/>
                  <a:pt x="159588" y="708521"/>
                  <a:pt x="111971" y="779945"/>
                </a:cubicBezTo>
                <a:cubicBezTo>
                  <a:pt x="80881" y="873216"/>
                  <a:pt x="108760" y="873597"/>
                  <a:pt x="46657" y="832197"/>
                </a:cubicBezTo>
                <a:cubicBezTo>
                  <a:pt x="33594" y="836551"/>
                  <a:pt x="10808" y="831902"/>
                  <a:pt x="7468" y="845260"/>
                </a:cubicBezTo>
                <a:cubicBezTo>
                  <a:pt x="0" y="875130"/>
                  <a:pt x="14493" y="906508"/>
                  <a:pt x="20531" y="936700"/>
                </a:cubicBezTo>
                <a:cubicBezTo>
                  <a:pt x="29952" y="983806"/>
                  <a:pt x="41977" y="985011"/>
                  <a:pt x="72783" y="1028140"/>
                </a:cubicBezTo>
                <a:cubicBezTo>
                  <a:pt x="81908" y="1040915"/>
                  <a:pt x="90200" y="1054265"/>
                  <a:pt x="98908" y="1067328"/>
                </a:cubicBezTo>
                <a:cubicBezTo>
                  <a:pt x="103246" y="1149740"/>
                  <a:pt x="87343" y="1266767"/>
                  <a:pt x="125034" y="1354711"/>
                </a:cubicBezTo>
                <a:cubicBezTo>
                  <a:pt x="132705" y="1372609"/>
                  <a:pt x="142451" y="1389545"/>
                  <a:pt x="151160" y="1406962"/>
                </a:cubicBezTo>
                <a:cubicBezTo>
                  <a:pt x="155346" y="1423706"/>
                  <a:pt x="167915" y="1479660"/>
                  <a:pt x="177286" y="1498402"/>
                </a:cubicBezTo>
                <a:cubicBezTo>
                  <a:pt x="184307" y="1512444"/>
                  <a:pt x="196390" y="1523549"/>
                  <a:pt x="203411" y="1537591"/>
                </a:cubicBezTo>
                <a:cubicBezTo>
                  <a:pt x="209569" y="1549907"/>
                  <a:pt x="208836" y="1565323"/>
                  <a:pt x="216474" y="1576780"/>
                </a:cubicBezTo>
                <a:cubicBezTo>
                  <a:pt x="226721" y="1592151"/>
                  <a:pt x="243836" y="1601776"/>
                  <a:pt x="255663" y="1615968"/>
                </a:cubicBezTo>
                <a:cubicBezTo>
                  <a:pt x="319335" y="1692375"/>
                  <a:pt x="233906" y="1619247"/>
                  <a:pt x="334040" y="1694345"/>
                </a:cubicBezTo>
                <a:cubicBezTo>
                  <a:pt x="344664" y="1726217"/>
                  <a:pt x="347906" y="1747400"/>
                  <a:pt x="373228" y="1772722"/>
                </a:cubicBezTo>
                <a:cubicBezTo>
                  <a:pt x="384329" y="1783823"/>
                  <a:pt x="399354" y="1790139"/>
                  <a:pt x="412417" y="1798848"/>
                </a:cubicBezTo>
                <a:cubicBezTo>
                  <a:pt x="445254" y="1897358"/>
                  <a:pt x="400957" y="1775926"/>
                  <a:pt x="451606" y="1877225"/>
                </a:cubicBezTo>
                <a:cubicBezTo>
                  <a:pt x="457764" y="1889541"/>
                  <a:pt x="456066" y="1905662"/>
                  <a:pt x="464668" y="1916414"/>
                </a:cubicBezTo>
                <a:cubicBezTo>
                  <a:pt x="474475" y="1928674"/>
                  <a:pt x="491796" y="1932489"/>
                  <a:pt x="503857" y="1942540"/>
                </a:cubicBezTo>
                <a:cubicBezTo>
                  <a:pt x="518049" y="1954366"/>
                  <a:pt x="528464" y="1970386"/>
                  <a:pt x="543046" y="1981728"/>
                </a:cubicBezTo>
                <a:cubicBezTo>
                  <a:pt x="610424" y="2034133"/>
                  <a:pt x="601482" y="2027333"/>
                  <a:pt x="660611" y="2047042"/>
                </a:cubicBezTo>
                <a:cubicBezTo>
                  <a:pt x="673674" y="2060105"/>
                  <a:pt x="684429" y="2075983"/>
                  <a:pt x="699800" y="2086231"/>
                </a:cubicBezTo>
                <a:cubicBezTo>
                  <a:pt x="711257" y="2093869"/>
                  <a:pt x="726672" y="2093136"/>
                  <a:pt x="738988" y="2099294"/>
                </a:cubicBezTo>
                <a:cubicBezTo>
                  <a:pt x="753030" y="2106315"/>
                  <a:pt x="765402" y="2116295"/>
                  <a:pt x="778177" y="2125420"/>
                </a:cubicBezTo>
                <a:cubicBezTo>
                  <a:pt x="795893" y="2138074"/>
                  <a:pt x="812712" y="2151954"/>
                  <a:pt x="830428" y="2164608"/>
                </a:cubicBezTo>
                <a:cubicBezTo>
                  <a:pt x="843203" y="2173733"/>
                  <a:pt x="856842" y="2181609"/>
                  <a:pt x="869617" y="2190734"/>
                </a:cubicBezTo>
                <a:cubicBezTo>
                  <a:pt x="870972" y="2191702"/>
                  <a:pt x="949513" y="2252200"/>
                  <a:pt x="961057" y="2256048"/>
                </a:cubicBezTo>
                <a:cubicBezTo>
                  <a:pt x="986184" y="2264424"/>
                  <a:pt x="1013308" y="2264757"/>
                  <a:pt x="1039434" y="2269111"/>
                </a:cubicBezTo>
                <a:cubicBezTo>
                  <a:pt x="1056851" y="2286528"/>
                  <a:pt x="1071642" y="2307045"/>
                  <a:pt x="1091686" y="2321362"/>
                </a:cubicBezTo>
                <a:cubicBezTo>
                  <a:pt x="1102127" y="2328820"/>
                  <a:pt x="1177205" y="2345796"/>
                  <a:pt x="1183126" y="2347488"/>
                </a:cubicBezTo>
                <a:cubicBezTo>
                  <a:pt x="1276854" y="2374268"/>
                  <a:pt x="1154832" y="2347054"/>
                  <a:pt x="1287628" y="2373614"/>
                </a:cubicBezTo>
                <a:cubicBezTo>
                  <a:pt x="1361651" y="2369260"/>
                  <a:pt x="1435880" y="2367581"/>
                  <a:pt x="1509697" y="2360551"/>
                </a:cubicBezTo>
                <a:cubicBezTo>
                  <a:pt x="1540322" y="2357634"/>
                  <a:pt x="1571749" y="2342822"/>
                  <a:pt x="1601137" y="2334425"/>
                </a:cubicBezTo>
                <a:cubicBezTo>
                  <a:pt x="1655704" y="2318834"/>
                  <a:pt x="1670172" y="2318565"/>
                  <a:pt x="1731766" y="2308300"/>
                </a:cubicBezTo>
                <a:cubicBezTo>
                  <a:pt x="1749183" y="2295237"/>
                  <a:pt x="1765114" y="2279913"/>
                  <a:pt x="1784017" y="2269111"/>
                </a:cubicBezTo>
                <a:cubicBezTo>
                  <a:pt x="1795972" y="2262279"/>
                  <a:pt x="1810313" y="2260883"/>
                  <a:pt x="1823206" y="2256048"/>
                </a:cubicBezTo>
                <a:cubicBezTo>
                  <a:pt x="1845161" y="2247815"/>
                  <a:pt x="1867547" y="2240408"/>
                  <a:pt x="1888520" y="2229922"/>
                </a:cubicBezTo>
                <a:cubicBezTo>
                  <a:pt x="1902562" y="2222901"/>
                  <a:pt x="1912278" y="2206690"/>
                  <a:pt x="1927708" y="2203797"/>
                </a:cubicBezTo>
                <a:cubicBezTo>
                  <a:pt x="1983509" y="2193335"/>
                  <a:pt x="2040920" y="2195088"/>
                  <a:pt x="2097526" y="2190734"/>
                </a:cubicBezTo>
                <a:cubicBezTo>
                  <a:pt x="2192935" y="2158931"/>
                  <a:pt x="2149186" y="2171287"/>
                  <a:pt x="2228154" y="2151545"/>
                </a:cubicBezTo>
                <a:cubicBezTo>
                  <a:pt x="2244801" y="2126575"/>
                  <a:pt x="2266391" y="2088640"/>
                  <a:pt x="2293468" y="2073168"/>
                </a:cubicBezTo>
                <a:cubicBezTo>
                  <a:pt x="2309056" y="2064261"/>
                  <a:pt x="2328303" y="2064459"/>
                  <a:pt x="2345720" y="2060105"/>
                </a:cubicBezTo>
                <a:cubicBezTo>
                  <a:pt x="2354429" y="2047042"/>
                  <a:pt x="2358533" y="2029238"/>
                  <a:pt x="2371846" y="2020917"/>
                </a:cubicBezTo>
                <a:cubicBezTo>
                  <a:pt x="2393048" y="2007666"/>
                  <a:pt x="2471883" y="1989376"/>
                  <a:pt x="2502474" y="1981728"/>
                </a:cubicBezTo>
                <a:cubicBezTo>
                  <a:pt x="2506828" y="1968665"/>
                  <a:pt x="2509379" y="1954856"/>
                  <a:pt x="2515537" y="1942540"/>
                </a:cubicBezTo>
                <a:cubicBezTo>
                  <a:pt x="2533724" y="1906167"/>
                  <a:pt x="2551962" y="1893052"/>
                  <a:pt x="2580851" y="1864162"/>
                </a:cubicBezTo>
                <a:cubicBezTo>
                  <a:pt x="2585205" y="1851099"/>
                  <a:pt x="2585312" y="1835726"/>
                  <a:pt x="2593914" y="1824974"/>
                </a:cubicBezTo>
                <a:cubicBezTo>
                  <a:pt x="2618871" y="1793778"/>
                  <a:pt x="2640739" y="1801561"/>
                  <a:pt x="2672291" y="1785785"/>
                </a:cubicBezTo>
                <a:cubicBezTo>
                  <a:pt x="2686333" y="1778764"/>
                  <a:pt x="2697438" y="1766681"/>
                  <a:pt x="2711480" y="1759660"/>
                </a:cubicBezTo>
                <a:cubicBezTo>
                  <a:pt x="2751755" y="1739523"/>
                  <a:pt x="2819142" y="1738038"/>
                  <a:pt x="2855171" y="1733534"/>
                </a:cubicBezTo>
                <a:cubicBezTo>
                  <a:pt x="2868234" y="1729180"/>
                  <a:pt x="2881002" y="1723811"/>
                  <a:pt x="2894360" y="1720471"/>
                </a:cubicBezTo>
                <a:cubicBezTo>
                  <a:pt x="2924172" y="1713018"/>
                  <a:pt x="2969003" y="1709275"/>
                  <a:pt x="2998863" y="1694345"/>
                </a:cubicBezTo>
                <a:cubicBezTo>
                  <a:pt x="3012905" y="1687324"/>
                  <a:pt x="3024988" y="1676928"/>
                  <a:pt x="3038051" y="1668220"/>
                </a:cubicBezTo>
                <a:cubicBezTo>
                  <a:pt x="3059823" y="1672574"/>
                  <a:pt x="3084089" y="1670266"/>
                  <a:pt x="3103366" y="1681282"/>
                </a:cubicBezTo>
                <a:cubicBezTo>
                  <a:pt x="3116997" y="1689071"/>
                  <a:pt x="3118390" y="1709370"/>
                  <a:pt x="3129491" y="1720471"/>
                </a:cubicBezTo>
                <a:cubicBezTo>
                  <a:pt x="3140592" y="1731573"/>
                  <a:pt x="3155617" y="1737888"/>
                  <a:pt x="3168680" y="1746597"/>
                </a:cubicBezTo>
                <a:cubicBezTo>
                  <a:pt x="3177389" y="1759660"/>
                  <a:pt x="3193244" y="1770163"/>
                  <a:pt x="3194806" y="1785785"/>
                </a:cubicBezTo>
                <a:cubicBezTo>
                  <a:pt x="3197870" y="1816422"/>
                  <a:pt x="3196696" y="1850310"/>
                  <a:pt x="3181743" y="1877225"/>
                </a:cubicBezTo>
                <a:cubicBezTo>
                  <a:pt x="3172286" y="1894248"/>
                  <a:pt x="3146398" y="1893690"/>
                  <a:pt x="3129491" y="1903351"/>
                </a:cubicBezTo>
                <a:cubicBezTo>
                  <a:pt x="3115860" y="1911140"/>
                  <a:pt x="3103934" y="1921688"/>
                  <a:pt x="3090303" y="1929477"/>
                </a:cubicBezTo>
                <a:cubicBezTo>
                  <a:pt x="2974289" y="1995770"/>
                  <a:pt x="3094338" y="1918076"/>
                  <a:pt x="2998863" y="1981728"/>
                </a:cubicBezTo>
                <a:cubicBezTo>
                  <a:pt x="2994509" y="1994791"/>
                  <a:pt x="2995537" y="2011180"/>
                  <a:pt x="2985800" y="2020917"/>
                </a:cubicBezTo>
                <a:cubicBezTo>
                  <a:pt x="2976063" y="2030654"/>
                  <a:pt x="2958927" y="2027822"/>
                  <a:pt x="2946611" y="2033980"/>
                </a:cubicBezTo>
                <a:cubicBezTo>
                  <a:pt x="2845320" y="2084625"/>
                  <a:pt x="2966738" y="2040333"/>
                  <a:pt x="2868234" y="2073168"/>
                </a:cubicBezTo>
                <a:cubicBezTo>
                  <a:pt x="2863880" y="2086231"/>
                  <a:pt x="2866376" y="2104354"/>
                  <a:pt x="2855171" y="2112357"/>
                </a:cubicBezTo>
                <a:cubicBezTo>
                  <a:pt x="2832762" y="2128364"/>
                  <a:pt x="2776794" y="2138482"/>
                  <a:pt x="2776794" y="2138482"/>
                </a:cubicBezTo>
                <a:cubicBezTo>
                  <a:pt x="2763731" y="2147191"/>
                  <a:pt x="2752036" y="2158424"/>
                  <a:pt x="2737606" y="2164608"/>
                </a:cubicBezTo>
                <a:cubicBezTo>
                  <a:pt x="2721104" y="2171680"/>
                  <a:pt x="2700942" y="2168764"/>
                  <a:pt x="2685354" y="2177671"/>
                </a:cubicBezTo>
                <a:cubicBezTo>
                  <a:pt x="2567136" y="2245225"/>
                  <a:pt x="2740396" y="2198015"/>
                  <a:pt x="2580851" y="2229922"/>
                </a:cubicBezTo>
                <a:cubicBezTo>
                  <a:pt x="2572143" y="2242985"/>
                  <a:pt x="2566541" y="2258773"/>
                  <a:pt x="2554726" y="2269111"/>
                </a:cubicBezTo>
                <a:cubicBezTo>
                  <a:pt x="2492517" y="2323543"/>
                  <a:pt x="2489024" y="2318193"/>
                  <a:pt x="2424097" y="2334425"/>
                </a:cubicBezTo>
                <a:cubicBezTo>
                  <a:pt x="2337945" y="2324852"/>
                  <a:pt x="2203022" y="2308300"/>
                  <a:pt x="2123651" y="2308300"/>
                </a:cubicBezTo>
                <a:cubicBezTo>
                  <a:pt x="2101449" y="2308300"/>
                  <a:pt x="2080108" y="2317008"/>
                  <a:pt x="2058337" y="2321362"/>
                </a:cubicBezTo>
                <a:cubicBezTo>
                  <a:pt x="2049628" y="2338779"/>
                  <a:pt x="2039882" y="2355715"/>
                  <a:pt x="2032211" y="2373614"/>
                </a:cubicBezTo>
                <a:cubicBezTo>
                  <a:pt x="2026787" y="2386270"/>
                  <a:pt x="2024572" y="2400146"/>
                  <a:pt x="2019148" y="2412802"/>
                </a:cubicBezTo>
                <a:cubicBezTo>
                  <a:pt x="2011477" y="2430701"/>
                  <a:pt x="2001731" y="2447637"/>
                  <a:pt x="1993023" y="2465054"/>
                </a:cubicBezTo>
                <a:cubicBezTo>
                  <a:pt x="1994764" y="2472017"/>
                  <a:pt x="2011654" y="2545254"/>
                  <a:pt x="2019148" y="2556494"/>
                </a:cubicBezTo>
                <a:cubicBezTo>
                  <a:pt x="2040649" y="2588746"/>
                  <a:pt x="2110768" y="2634961"/>
                  <a:pt x="2136714" y="2647934"/>
                </a:cubicBezTo>
                <a:cubicBezTo>
                  <a:pt x="2154131" y="2656643"/>
                  <a:pt x="2170733" y="2667223"/>
                  <a:pt x="2188966" y="2674060"/>
                </a:cubicBezTo>
                <a:cubicBezTo>
                  <a:pt x="2205776" y="2680364"/>
                  <a:pt x="2223955" y="2682190"/>
                  <a:pt x="2241217" y="2687122"/>
                </a:cubicBezTo>
                <a:cubicBezTo>
                  <a:pt x="2254457" y="2690905"/>
                  <a:pt x="2266665" y="2699298"/>
                  <a:pt x="2280406" y="2700185"/>
                </a:cubicBezTo>
                <a:cubicBezTo>
                  <a:pt x="2402151" y="2708040"/>
                  <a:pt x="2524246" y="2708894"/>
                  <a:pt x="2646166" y="2713248"/>
                </a:cubicBezTo>
                <a:cubicBezTo>
                  <a:pt x="2720189" y="2708894"/>
                  <a:pt x="2794451" y="2707563"/>
                  <a:pt x="2868234" y="2700185"/>
                </a:cubicBezTo>
                <a:cubicBezTo>
                  <a:pt x="2881935" y="2698815"/>
                  <a:pt x="2895335" y="2693716"/>
                  <a:pt x="2907423" y="2687122"/>
                </a:cubicBezTo>
                <a:cubicBezTo>
                  <a:pt x="2943485" y="2667452"/>
                  <a:pt x="2972956" y="2634798"/>
                  <a:pt x="3011926" y="2621808"/>
                </a:cubicBezTo>
                <a:lnTo>
                  <a:pt x="3090303" y="2595682"/>
                </a:lnTo>
                <a:cubicBezTo>
                  <a:pt x="3112074" y="2578265"/>
                  <a:pt x="3131974" y="2558208"/>
                  <a:pt x="3155617" y="2543431"/>
                </a:cubicBezTo>
                <a:cubicBezTo>
                  <a:pt x="3167294" y="2536133"/>
                  <a:pt x="3183937" y="2538822"/>
                  <a:pt x="3194806" y="2530368"/>
                </a:cubicBezTo>
                <a:cubicBezTo>
                  <a:pt x="3326977" y="2427568"/>
                  <a:pt x="3221713" y="2469148"/>
                  <a:pt x="3312371" y="2438928"/>
                </a:cubicBezTo>
                <a:cubicBezTo>
                  <a:pt x="3321080" y="2425865"/>
                  <a:pt x="3327396" y="2410841"/>
                  <a:pt x="3338497" y="2399740"/>
                </a:cubicBezTo>
                <a:cubicBezTo>
                  <a:pt x="3375934" y="2362303"/>
                  <a:pt x="3374376" y="2381800"/>
                  <a:pt x="3416874" y="2360551"/>
                </a:cubicBezTo>
                <a:cubicBezTo>
                  <a:pt x="3444510" y="2346733"/>
                  <a:pt x="3484645" y="2310030"/>
                  <a:pt x="3508314" y="2295237"/>
                </a:cubicBezTo>
                <a:cubicBezTo>
                  <a:pt x="3524827" y="2284916"/>
                  <a:pt x="3543149" y="2277820"/>
                  <a:pt x="3560566" y="2269111"/>
                </a:cubicBezTo>
                <a:cubicBezTo>
                  <a:pt x="3573629" y="2247340"/>
                  <a:pt x="3581801" y="2221750"/>
                  <a:pt x="3599754" y="2203797"/>
                </a:cubicBezTo>
                <a:cubicBezTo>
                  <a:pt x="3613524" y="2190027"/>
                  <a:pt x="3635099" y="2187332"/>
                  <a:pt x="3652006" y="2177671"/>
                </a:cubicBezTo>
                <a:cubicBezTo>
                  <a:pt x="3722911" y="2137154"/>
                  <a:pt x="3658531" y="2162433"/>
                  <a:pt x="3730383" y="2138482"/>
                </a:cubicBezTo>
                <a:cubicBezTo>
                  <a:pt x="3743446" y="2125419"/>
                  <a:pt x="3759324" y="2114665"/>
                  <a:pt x="3769571" y="2099294"/>
                </a:cubicBezTo>
                <a:cubicBezTo>
                  <a:pt x="3777209" y="2087837"/>
                  <a:pt x="3772897" y="2069842"/>
                  <a:pt x="3782634" y="2060105"/>
                </a:cubicBezTo>
                <a:cubicBezTo>
                  <a:pt x="3792371" y="2050368"/>
                  <a:pt x="3808760" y="2051396"/>
                  <a:pt x="3821823" y="2047042"/>
                </a:cubicBezTo>
                <a:cubicBezTo>
                  <a:pt x="3865366" y="2055751"/>
                  <a:pt x="3912026" y="2054793"/>
                  <a:pt x="3952451" y="2073168"/>
                </a:cubicBezTo>
                <a:cubicBezTo>
                  <a:pt x="3964986" y="2078866"/>
                  <a:pt x="3961731" y="2099117"/>
                  <a:pt x="3965514" y="2112357"/>
                </a:cubicBezTo>
                <a:cubicBezTo>
                  <a:pt x="3970446" y="2129619"/>
                  <a:pt x="3974223" y="2147191"/>
                  <a:pt x="3978577" y="2164608"/>
                </a:cubicBezTo>
                <a:cubicBezTo>
                  <a:pt x="3974223" y="2260402"/>
                  <a:pt x="3972869" y="2356380"/>
                  <a:pt x="3965514" y="2451991"/>
                </a:cubicBezTo>
                <a:cubicBezTo>
                  <a:pt x="3964137" y="2469891"/>
                  <a:pt x="3961358" y="2488654"/>
                  <a:pt x="3952451" y="2504242"/>
                </a:cubicBezTo>
                <a:cubicBezTo>
                  <a:pt x="3943286" y="2520282"/>
                  <a:pt x="3926326" y="2530368"/>
                  <a:pt x="3913263" y="2543431"/>
                </a:cubicBezTo>
                <a:cubicBezTo>
                  <a:pt x="3884981" y="2656558"/>
                  <a:pt x="3919614" y="2534085"/>
                  <a:pt x="3874074" y="2647934"/>
                </a:cubicBezTo>
                <a:cubicBezTo>
                  <a:pt x="3827437" y="2764525"/>
                  <a:pt x="3872086" y="2690103"/>
                  <a:pt x="3821823" y="2765500"/>
                </a:cubicBezTo>
                <a:cubicBezTo>
                  <a:pt x="3817469" y="2782917"/>
                  <a:pt x="3814040" y="2800592"/>
                  <a:pt x="3808760" y="2817751"/>
                </a:cubicBezTo>
                <a:cubicBezTo>
                  <a:pt x="3796612" y="2857233"/>
                  <a:pt x="3779590" y="2895242"/>
                  <a:pt x="3769571" y="2935317"/>
                </a:cubicBezTo>
                <a:cubicBezTo>
                  <a:pt x="3765388" y="2952050"/>
                  <a:pt x="3752813" y="3008023"/>
                  <a:pt x="3743446" y="3026757"/>
                </a:cubicBezTo>
                <a:cubicBezTo>
                  <a:pt x="3736425" y="3040799"/>
                  <a:pt x="3724944" y="3052221"/>
                  <a:pt x="3717320" y="3065945"/>
                </a:cubicBezTo>
                <a:cubicBezTo>
                  <a:pt x="3703134" y="3091479"/>
                  <a:pt x="3692849" y="3119091"/>
                  <a:pt x="3678131" y="3144322"/>
                </a:cubicBezTo>
                <a:cubicBezTo>
                  <a:pt x="3662310" y="3171444"/>
                  <a:pt x="3635810" y="3192912"/>
                  <a:pt x="3625880" y="3222700"/>
                </a:cubicBezTo>
                <a:cubicBezTo>
                  <a:pt x="3621526" y="3235763"/>
                  <a:pt x="3618975" y="3249572"/>
                  <a:pt x="3612817" y="3261888"/>
                </a:cubicBezTo>
                <a:cubicBezTo>
                  <a:pt x="3601462" y="3284597"/>
                  <a:pt x="3584982" y="3304493"/>
                  <a:pt x="3573628" y="3327202"/>
                </a:cubicBezTo>
                <a:cubicBezTo>
                  <a:pt x="3553901" y="3366657"/>
                  <a:pt x="3559541" y="3400630"/>
                  <a:pt x="3547503" y="3444768"/>
                </a:cubicBezTo>
                <a:cubicBezTo>
                  <a:pt x="3541333" y="3467390"/>
                  <a:pt x="3529610" y="3488127"/>
                  <a:pt x="3521377" y="3510082"/>
                </a:cubicBezTo>
                <a:cubicBezTo>
                  <a:pt x="3516542" y="3522975"/>
                  <a:pt x="3511654" y="3535913"/>
                  <a:pt x="3508314" y="3549271"/>
                </a:cubicBezTo>
                <a:cubicBezTo>
                  <a:pt x="3502929" y="3570811"/>
                  <a:pt x="3502272" y="3593522"/>
                  <a:pt x="3495251" y="3614585"/>
                </a:cubicBezTo>
                <a:cubicBezTo>
                  <a:pt x="3489093" y="3633059"/>
                  <a:pt x="3476797" y="3648938"/>
                  <a:pt x="3469126" y="3666837"/>
                </a:cubicBezTo>
                <a:cubicBezTo>
                  <a:pt x="3457881" y="3693077"/>
                  <a:pt x="3449630" y="3731757"/>
                  <a:pt x="3443000" y="3758277"/>
                </a:cubicBezTo>
                <a:cubicBezTo>
                  <a:pt x="3438646" y="3797465"/>
                  <a:pt x="3434635" y="3836693"/>
                  <a:pt x="3429937" y="3875842"/>
                </a:cubicBezTo>
                <a:cubicBezTo>
                  <a:pt x="3421572" y="3945553"/>
                  <a:pt x="3410168" y="4014925"/>
                  <a:pt x="3403811" y="4084848"/>
                </a:cubicBezTo>
                <a:cubicBezTo>
                  <a:pt x="3397098" y="4158694"/>
                  <a:pt x="3395102" y="4232894"/>
                  <a:pt x="3390748" y="4306917"/>
                </a:cubicBezTo>
                <a:cubicBezTo>
                  <a:pt x="3395102" y="4367877"/>
                  <a:pt x="3379315" y="4433806"/>
                  <a:pt x="3403811" y="4489797"/>
                </a:cubicBezTo>
                <a:cubicBezTo>
                  <a:pt x="3414849" y="4515027"/>
                  <a:pt x="3456619" y="4505694"/>
                  <a:pt x="3482188" y="4515922"/>
                </a:cubicBezTo>
                <a:cubicBezTo>
                  <a:pt x="3503960" y="4524631"/>
                  <a:pt x="3525547" y="4533815"/>
                  <a:pt x="3547503" y="4542048"/>
                </a:cubicBezTo>
                <a:cubicBezTo>
                  <a:pt x="3560396" y="4546883"/>
                  <a:pt x="3573628" y="4550757"/>
                  <a:pt x="3586691" y="4555111"/>
                </a:cubicBezTo>
                <a:cubicBezTo>
                  <a:pt x="3625880" y="4546402"/>
                  <a:pt x="3665311" y="4538722"/>
                  <a:pt x="3704257" y="4528985"/>
                </a:cubicBezTo>
                <a:cubicBezTo>
                  <a:pt x="3753888" y="4516577"/>
                  <a:pt x="3738679" y="4511005"/>
                  <a:pt x="3795697" y="4502860"/>
                </a:cubicBezTo>
                <a:cubicBezTo>
                  <a:pt x="3839017" y="4496672"/>
                  <a:pt x="3882783" y="4494151"/>
                  <a:pt x="3926326" y="4489797"/>
                </a:cubicBezTo>
                <a:cubicBezTo>
                  <a:pt x="3939389" y="4481088"/>
                  <a:pt x="3949936" y="4465618"/>
                  <a:pt x="3965514" y="4463671"/>
                </a:cubicBezTo>
                <a:cubicBezTo>
                  <a:pt x="3987545" y="4460917"/>
                  <a:pt x="4009154" y="4471918"/>
                  <a:pt x="4030828" y="4476734"/>
                </a:cubicBezTo>
                <a:cubicBezTo>
                  <a:pt x="4048354" y="4480629"/>
                  <a:pt x="4065817" y="4484865"/>
                  <a:pt x="4083080" y="4489797"/>
                </a:cubicBezTo>
                <a:cubicBezTo>
                  <a:pt x="4096319" y="4493580"/>
                  <a:pt x="4108910" y="4499521"/>
                  <a:pt x="4122268" y="4502860"/>
                </a:cubicBezTo>
                <a:cubicBezTo>
                  <a:pt x="4143808" y="4508245"/>
                  <a:pt x="4165811" y="4511568"/>
                  <a:pt x="4187583" y="4515922"/>
                </a:cubicBezTo>
                <a:cubicBezTo>
                  <a:pt x="4299889" y="4590795"/>
                  <a:pt x="4157796" y="4501028"/>
                  <a:pt x="4265960" y="4555111"/>
                </a:cubicBezTo>
                <a:cubicBezTo>
                  <a:pt x="4356171" y="4600217"/>
                  <a:pt x="4248651" y="4567113"/>
                  <a:pt x="4357400" y="4594300"/>
                </a:cubicBezTo>
                <a:cubicBezTo>
                  <a:pt x="4370463" y="4589946"/>
                  <a:pt x="4383147" y="4584224"/>
                  <a:pt x="4396588" y="4581237"/>
                </a:cubicBezTo>
                <a:cubicBezTo>
                  <a:pt x="4422444" y="4575491"/>
                  <a:pt x="4453413" y="4583569"/>
                  <a:pt x="4474966" y="4568174"/>
                </a:cubicBezTo>
                <a:cubicBezTo>
                  <a:pt x="4489575" y="4557739"/>
                  <a:pt x="4483674" y="4533339"/>
                  <a:pt x="4488028" y="4515922"/>
                </a:cubicBezTo>
                <a:cubicBezTo>
                  <a:pt x="4474965" y="4428836"/>
                  <a:pt x="4476688" y="4338206"/>
                  <a:pt x="4448840" y="4254665"/>
                </a:cubicBezTo>
                <a:cubicBezTo>
                  <a:pt x="4444486" y="4241602"/>
                  <a:pt x="4439560" y="4228716"/>
                  <a:pt x="4435777" y="4215477"/>
                </a:cubicBezTo>
                <a:cubicBezTo>
                  <a:pt x="4430845" y="4198214"/>
                  <a:pt x="4435409" y="4175920"/>
                  <a:pt x="4422714" y="4163225"/>
                </a:cubicBezTo>
                <a:cubicBezTo>
                  <a:pt x="4410019" y="4150530"/>
                  <a:pt x="4387880" y="4154516"/>
                  <a:pt x="4370463" y="4150162"/>
                </a:cubicBezTo>
                <a:cubicBezTo>
                  <a:pt x="4319110" y="4073135"/>
                  <a:pt x="4359149" y="4145850"/>
                  <a:pt x="4331274" y="4006471"/>
                </a:cubicBezTo>
                <a:cubicBezTo>
                  <a:pt x="4320711" y="3953657"/>
                  <a:pt x="4305149" y="3901968"/>
                  <a:pt x="4292086" y="3849717"/>
                </a:cubicBezTo>
                <a:cubicBezTo>
                  <a:pt x="4318275" y="3587808"/>
                  <a:pt x="4273438" y="3808632"/>
                  <a:pt x="4344337" y="3666837"/>
                </a:cubicBezTo>
                <a:cubicBezTo>
                  <a:pt x="4356653" y="3642206"/>
                  <a:pt x="4370463" y="3588460"/>
                  <a:pt x="4370463" y="3588460"/>
                </a:cubicBezTo>
                <a:cubicBezTo>
                  <a:pt x="4389449" y="3474545"/>
                  <a:pt x="4368223" y="3542852"/>
                  <a:pt x="4422714" y="3444768"/>
                </a:cubicBezTo>
                <a:cubicBezTo>
                  <a:pt x="4432171" y="3427746"/>
                  <a:pt x="4441169" y="3410415"/>
                  <a:pt x="4448840" y="3392517"/>
                </a:cubicBezTo>
                <a:cubicBezTo>
                  <a:pt x="4454264" y="3379861"/>
                  <a:pt x="4453301" y="3364080"/>
                  <a:pt x="4461903" y="3353328"/>
                </a:cubicBezTo>
                <a:cubicBezTo>
                  <a:pt x="4471710" y="3341069"/>
                  <a:pt x="4488028" y="3335911"/>
                  <a:pt x="4501091" y="3327202"/>
                </a:cubicBezTo>
                <a:lnTo>
                  <a:pt x="4527217" y="3248825"/>
                </a:lnTo>
                <a:cubicBezTo>
                  <a:pt x="4531571" y="3235762"/>
                  <a:pt x="4527964" y="3215795"/>
                  <a:pt x="4540280" y="3209637"/>
                </a:cubicBezTo>
                <a:lnTo>
                  <a:pt x="4592531" y="3183511"/>
                </a:lnTo>
                <a:cubicBezTo>
                  <a:pt x="4605594" y="3166094"/>
                  <a:pt x="4614995" y="3145198"/>
                  <a:pt x="4631720" y="3131260"/>
                </a:cubicBezTo>
                <a:cubicBezTo>
                  <a:pt x="4642298" y="3122445"/>
                  <a:pt x="4658592" y="3124355"/>
                  <a:pt x="4670908" y="3118197"/>
                </a:cubicBezTo>
                <a:cubicBezTo>
                  <a:pt x="4684950" y="3111176"/>
                  <a:pt x="4697034" y="3100780"/>
                  <a:pt x="4710097" y="3092071"/>
                </a:cubicBezTo>
                <a:cubicBezTo>
                  <a:pt x="4753640" y="3096425"/>
                  <a:pt x="4799600" y="3090179"/>
                  <a:pt x="4840726" y="3105134"/>
                </a:cubicBezTo>
                <a:cubicBezTo>
                  <a:pt x="4853666" y="3109840"/>
                  <a:pt x="4846150" y="3132865"/>
                  <a:pt x="4853788" y="3144322"/>
                </a:cubicBezTo>
                <a:cubicBezTo>
                  <a:pt x="4864035" y="3159693"/>
                  <a:pt x="4879914" y="3170448"/>
                  <a:pt x="4892977" y="3183511"/>
                </a:cubicBezTo>
                <a:cubicBezTo>
                  <a:pt x="4897331" y="3205282"/>
                  <a:pt x="4892409" y="3231299"/>
                  <a:pt x="4906040" y="3248825"/>
                </a:cubicBezTo>
                <a:cubicBezTo>
                  <a:pt x="4925317" y="3273610"/>
                  <a:pt x="4962214" y="3278875"/>
                  <a:pt x="4984417" y="3301077"/>
                </a:cubicBezTo>
                <a:lnTo>
                  <a:pt x="5023606" y="3340265"/>
                </a:lnTo>
                <a:cubicBezTo>
                  <a:pt x="5044518" y="3570312"/>
                  <a:pt x="5045299" y="3511257"/>
                  <a:pt x="5023606" y="3836654"/>
                </a:cubicBezTo>
                <a:cubicBezTo>
                  <a:pt x="5022690" y="3850393"/>
                  <a:pt x="5014897" y="3862779"/>
                  <a:pt x="5010543" y="3875842"/>
                </a:cubicBezTo>
                <a:cubicBezTo>
                  <a:pt x="4982926" y="4207242"/>
                  <a:pt x="5009851" y="4087617"/>
                  <a:pt x="4971354" y="4241602"/>
                </a:cubicBezTo>
                <a:cubicBezTo>
                  <a:pt x="4967000" y="4276436"/>
                  <a:pt x="4971329" y="4313510"/>
                  <a:pt x="4958291" y="4346105"/>
                </a:cubicBezTo>
                <a:cubicBezTo>
                  <a:pt x="4952460" y="4360682"/>
                  <a:pt x="4927424" y="4358918"/>
                  <a:pt x="4919103" y="4372231"/>
                </a:cubicBezTo>
                <a:cubicBezTo>
                  <a:pt x="4904507" y="4395584"/>
                  <a:pt x="4901686" y="4424482"/>
                  <a:pt x="4892977" y="4450608"/>
                </a:cubicBezTo>
                <a:cubicBezTo>
                  <a:pt x="4888623" y="4463671"/>
                  <a:pt x="4887552" y="4478340"/>
                  <a:pt x="4879914" y="4489797"/>
                </a:cubicBezTo>
                <a:lnTo>
                  <a:pt x="4853788" y="4528985"/>
                </a:lnTo>
                <a:cubicBezTo>
                  <a:pt x="4862497" y="4542048"/>
                  <a:pt x="4872893" y="4554132"/>
                  <a:pt x="4879914" y="4568174"/>
                </a:cubicBezTo>
                <a:cubicBezTo>
                  <a:pt x="4903881" y="4616107"/>
                  <a:pt x="4876449" y="4609406"/>
                  <a:pt x="4932166" y="4646551"/>
                </a:cubicBezTo>
                <a:cubicBezTo>
                  <a:pt x="4943623" y="4654189"/>
                  <a:pt x="4958291" y="4655260"/>
                  <a:pt x="4971354" y="4659614"/>
                </a:cubicBezTo>
                <a:cubicBezTo>
                  <a:pt x="5006188" y="4655260"/>
                  <a:pt x="5041318" y="4652831"/>
                  <a:pt x="5075857" y="4646551"/>
                </a:cubicBezTo>
                <a:cubicBezTo>
                  <a:pt x="5089405" y="4644088"/>
                  <a:pt x="5101499" y="4635951"/>
                  <a:pt x="5115046" y="4633488"/>
                </a:cubicBezTo>
                <a:cubicBezTo>
                  <a:pt x="5149585" y="4627208"/>
                  <a:pt x="5184714" y="4624779"/>
                  <a:pt x="5219548" y="4620425"/>
                </a:cubicBezTo>
                <a:cubicBezTo>
                  <a:pt x="5329659" y="4583721"/>
                  <a:pt x="5203061" y="4620425"/>
                  <a:pt x="5454680" y="4620425"/>
                </a:cubicBezTo>
                <a:cubicBezTo>
                  <a:pt x="5533178" y="4620425"/>
                  <a:pt x="5611434" y="4611716"/>
                  <a:pt x="5689811" y="4607362"/>
                </a:cubicBezTo>
                <a:cubicBezTo>
                  <a:pt x="5724307" y="4593564"/>
                  <a:pt x="5758485" y="4578411"/>
                  <a:pt x="5794314" y="4568174"/>
                </a:cubicBezTo>
                <a:cubicBezTo>
                  <a:pt x="5837356" y="4555876"/>
                  <a:pt x="5866988" y="4551027"/>
                  <a:pt x="5911880" y="4542048"/>
                </a:cubicBezTo>
                <a:cubicBezTo>
                  <a:pt x="5920589" y="4528985"/>
                  <a:pt x="5926905" y="4513961"/>
                  <a:pt x="5938006" y="4502860"/>
                </a:cubicBezTo>
                <a:cubicBezTo>
                  <a:pt x="5953401" y="4487465"/>
                  <a:pt x="5981681" y="4483682"/>
                  <a:pt x="5990257" y="4463671"/>
                </a:cubicBezTo>
                <a:cubicBezTo>
                  <a:pt x="5997329" y="4447170"/>
                  <a:pt x="5986101" y="4427008"/>
                  <a:pt x="5977194" y="4411420"/>
                </a:cubicBezTo>
                <a:cubicBezTo>
                  <a:pt x="5968029" y="4395380"/>
                  <a:pt x="5949832" y="4386423"/>
                  <a:pt x="5938006" y="4372231"/>
                </a:cubicBezTo>
                <a:cubicBezTo>
                  <a:pt x="5927955" y="4360170"/>
                  <a:pt x="5919669" y="4346673"/>
                  <a:pt x="5911880" y="4333042"/>
                </a:cubicBezTo>
                <a:cubicBezTo>
                  <a:pt x="5902219" y="4316135"/>
                  <a:pt x="5898220" y="4295750"/>
                  <a:pt x="5885754" y="4280791"/>
                </a:cubicBezTo>
                <a:cubicBezTo>
                  <a:pt x="5875703" y="4268730"/>
                  <a:pt x="5859629" y="4263374"/>
                  <a:pt x="5846566" y="4254665"/>
                </a:cubicBezTo>
                <a:cubicBezTo>
                  <a:pt x="5837857" y="4241602"/>
                  <a:pt x="5831541" y="4226578"/>
                  <a:pt x="5820440" y="4215477"/>
                </a:cubicBezTo>
                <a:cubicBezTo>
                  <a:pt x="5801976" y="4197014"/>
                  <a:pt x="5749491" y="4173471"/>
                  <a:pt x="5729000" y="4163225"/>
                </a:cubicBezTo>
                <a:cubicBezTo>
                  <a:pt x="5720291" y="4150162"/>
                  <a:pt x="5709895" y="4138079"/>
                  <a:pt x="5702874" y="4124037"/>
                </a:cubicBezTo>
                <a:cubicBezTo>
                  <a:pt x="5696716" y="4111721"/>
                  <a:pt x="5697449" y="4096305"/>
                  <a:pt x="5689811" y="4084848"/>
                </a:cubicBezTo>
                <a:cubicBezTo>
                  <a:pt x="5679564" y="4069477"/>
                  <a:pt x="5661965" y="4060242"/>
                  <a:pt x="5650623" y="4045660"/>
                </a:cubicBezTo>
                <a:cubicBezTo>
                  <a:pt x="5631346" y="4020875"/>
                  <a:pt x="5598371" y="3967282"/>
                  <a:pt x="5598371" y="3967282"/>
                </a:cubicBezTo>
                <a:cubicBezTo>
                  <a:pt x="5594017" y="3936802"/>
                  <a:pt x="5585308" y="3906631"/>
                  <a:pt x="5585308" y="3875842"/>
                </a:cubicBezTo>
                <a:cubicBezTo>
                  <a:pt x="5585308" y="3642084"/>
                  <a:pt x="5572968" y="3690791"/>
                  <a:pt x="5611434" y="3575397"/>
                </a:cubicBezTo>
                <a:cubicBezTo>
                  <a:pt x="5615788" y="3510083"/>
                  <a:pt x="5610297" y="3443355"/>
                  <a:pt x="5624497" y="3379454"/>
                </a:cubicBezTo>
                <a:cubicBezTo>
                  <a:pt x="5628505" y="3361420"/>
                  <a:pt x="5655424" y="3356789"/>
                  <a:pt x="5663686" y="3340265"/>
                </a:cubicBezTo>
                <a:cubicBezTo>
                  <a:pt x="5673615" y="3320406"/>
                  <a:pt x="5672776" y="3296795"/>
                  <a:pt x="5676748" y="3274951"/>
                </a:cubicBezTo>
                <a:cubicBezTo>
                  <a:pt x="5676897" y="3274130"/>
                  <a:pt x="5689326" y="3174320"/>
                  <a:pt x="5702874" y="3157385"/>
                </a:cubicBezTo>
                <a:cubicBezTo>
                  <a:pt x="5712682" y="3145126"/>
                  <a:pt x="5728021" y="3138281"/>
                  <a:pt x="5742063" y="3131260"/>
                </a:cubicBezTo>
                <a:cubicBezTo>
                  <a:pt x="5777290" y="3113647"/>
                  <a:pt x="5820427" y="3099199"/>
                  <a:pt x="5859628" y="3092071"/>
                </a:cubicBezTo>
                <a:cubicBezTo>
                  <a:pt x="5889921" y="3086563"/>
                  <a:pt x="5920588" y="3083362"/>
                  <a:pt x="5951068" y="3079008"/>
                </a:cubicBezTo>
                <a:cubicBezTo>
                  <a:pt x="5962381" y="3081836"/>
                  <a:pt x="6027931" y="3096804"/>
                  <a:pt x="6042508" y="3105134"/>
                </a:cubicBezTo>
                <a:cubicBezTo>
                  <a:pt x="6061411" y="3115936"/>
                  <a:pt x="6077343" y="3131259"/>
                  <a:pt x="6094760" y="3144322"/>
                </a:cubicBezTo>
                <a:cubicBezTo>
                  <a:pt x="6103469" y="3166094"/>
                  <a:pt x="6105875" y="3191623"/>
                  <a:pt x="6120886" y="3209637"/>
                </a:cubicBezTo>
                <a:cubicBezTo>
                  <a:pt x="6129701" y="3220215"/>
                  <a:pt x="6147758" y="3216542"/>
                  <a:pt x="6160074" y="3222700"/>
                </a:cubicBezTo>
                <a:cubicBezTo>
                  <a:pt x="6174116" y="3229721"/>
                  <a:pt x="6186488" y="3239700"/>
                  <a:pt x="6199263" y="3248825"/>
                </a:cubicBezTo>
                <a:cubicBezTo>
                  <a:pt x="6216979" y="3261479"/>
                  <a:pt x="6232611" y="3277212"/>
                  <a:pt x="6251514" y="3288014"/>
                </a:cubicBezTo>
                <a:cubicBezTo>
                  <a:pt x="6263469" y="3294846"/>
                  <a:pt x="6277463" y="3297294"/>
                  <a:pt x="6290703" y="3301077"/>
                </a:cubicBezTo>
                <a:cubicBezTo>
                  <a:pt x="6418164" y="3337495"/>
                  <a:pt x="6448083" y="3318711"/>
                  <a:pt x="6643400" y="3327202"/>
                </a:cubicBezTo>
                <a:cubicBezTo>
                  <a:pt x="6775637" y="3283124"/>
                  <a:pt x="6694319" y="3298965"/>
                  <a:pt x="6891594" y="3314140"/>
                </a:cubicBezTo>
                <a:cubicBezTo>
                  <a:pt x="6914427" y="3428305"/>
                  <a:pt x="6918365" y="3418910"/>
                  <a:pt x="6891594" y="3588460"/>
                </a:cubicBezTo>
                <a:cubicBezTo>
                  <a:pt x="6889145" y="3603967"/>
                  <a:pt x="6874177" y="3614585"/>
                  <a:pt x="6865468" y="3627648"/>
                </a:cubicBezTo>
                <a:cubicBezTo>
                  <a:pt x="6842134" y="3790998"/>
                  <a:pt x="6856613" y="3673253"/>
                  <a:pt x="6839343" y="3915031"/>
                </a:cubicBezTo>
                <a:cubicBezTo>
                  <a:pt x="6839315" y="3915420"/>
                  <a:pt x="6836886" y="4126492"/>
                  <a:pt x="6800154" y="4163225"/>
                </a:cubicBezTo>
                <a:lnTo>
                  <a:pt x="6760966" y="4202414"/>
                </a:lnTo>
                <a:cubicBezTo>
                  <a:pt x="6756612" y="4219831"/>
                  <a:pt x="6753062" y="4237469"/>
                  <a:pt x="6747903" y="4254665"/>
                </a:cubicBezTo>
                <a:cubicBezTo>
                  <a:pt x="6730862" y="4311468"/>
                  <a:pt x="6731237" y="4339798"/>
                  <a:pt x="6682588" y="4372231"/>
                </a:cubicBezTo>
                <a:cubicBezTo>
                  <a:pt x="6671131" y="4379869"/>
                  <a:pt x="6656463" y="4380940"/>
                  <a:pt x="6643400" y="4385294"/>
                </a:cubicBezTo>
                <a:cubicBezTo>
                  <a:pt x="6639046" y="4398357"/>
                  <a:pt x="6635172" y="4411589"/>
                  <a:pt x="6630337" y="4424482"/>
                </a:cubicBezTo>
                <a:cubicBezTo>
                  <a:pt x="6622104" y="4446438"/>
                  <a:pt x="6606801" y="4466492"/>
                  <a:pt x="6604211" y="4489797"/>
                </a:cubicBezTo>
                <a:cubicBezTo>
                  <a:pt x="6602228" y="4507640"/>
                  <a:pt x="6613379" y="4524522"/>
                  <a:pt x="6617274" y="4542048"/>
                </a:cubicBezTo>
                <a:cubicBezTo>
                  <a:pt x="6622090" y="4563722"/>
                  <a:pt x="6618021" y="4588888"/>
                  <a:pt x="6630337" y="4607362"/>
                </a:cubicBezTo>
                <a:cubicBezTo>
                  <a:pt x="6637975" y="4618819"/>
                  <a:pt x="6655851" y="4618816"/>
                  <a:pt x="6669526" y="4620425"/>
                </a:cubicBezTo>
                <a:cubicBezTo>
                  <a:pt x="6755008" y="4630482"/>
                  <a:pt x="7054413" y="4643588"/>
                  <a:pt x="7113663" y="4646551"/>
                </a:cubicBezTo>
                <a:cubicBezTo>
                  <a:pt x="7118925" y="4649182"/>
                  <a:pt x="7189376" y="4687487"/>
                  <a:pt x="7205103" y="4685740"/>
                </a:cubicBezTo>
                <a:cubicBezTo>
                  <a:pt x="7232473" y="4682699"/>
                  <a:pt x="7256911" y="4666860"/>
                  <a:pt x="7283480" y="4659614"/>
                </a:cubicBezTo>
                <a:cubicBezTo>
                  <a:pt x="7304900" y="4653772"/>
                  <a:pt x="7327120" y="4651367"/>
                  <a:pt x="7348794" y="4646551"/>
                </a:cubicBezTo>
                <a:cubicBezTo>
                  <a:pt x="7366320" y="4642656"/>
                  <a:pt x="7383520" y="4637383"/>
                  <a:pt x="7401046" y="4633488"/>
                </a:cubicBezTo>
                <a:cubicBezTo>
                  <a:pt x="7422720" y="4628672"/>
                  <a:pt x="7444686" y="4625241"/>
                  <a:pt x="7466360" y="4620425"/>
                </a:cubicBezTo>
                <a:cubicBezTo>
                  <a:pt x="7515562" y="4609491"/>
                  <a:pt x="7514163" y="4608845"/>
                  <a:pt x="7557800" y="4594300"/>
                </a:cubicBezTo>
                <a:cubicBezTo>
                  <a:pt x="7562154" y="4581237"/>
                  <a:pt x="7566028" y="4568004"/>
                  <a:pt x="7570863" y="4555111"/>
                </a:cubicBezTo>
                <a:cubicBezTo>
                  <a:pt x="7579096" y="4533156"/>
                  <a:pt x="7596988" y="4513245"/>
                  <a:pt x="7596988" y="4489797"/>
                </a:cubicBezTo>
                <a:cubicBezTo>
                  <a:pt x="7596988" y="4413755"/>
                  <a:pt x="7592716" y="4372266"/>
                  <a:pt x="7531674" y="4346105"/>
                </a:cubicBezTo>
                <a:cubicBezTo>
                  <a:pt x="7515173" y="4339033"/>
                  <a:pt x="7496840" y="4337396"/>
                  <a:pt x="7479423" y="4333042"/>
                </a:cubicBezTo>
                <a:cubicBezTo>
                  <a:pt x="7466360" y="4319979"/>
                  <a:pt x="7454426" y="4305681"/>
                  <a:pt x="7440234" y="4293854"/>
                </a:cubicBezTo>
                <a:cubicBezTo>
                  <a:pt x="7428173" y="4283803"/>
                  <a:pt x="7409754" y="4280791"/>
                  <a:pt x="7401046" y="4267728"/>
                </a:cubicBezTo>
                <a:cubicBezTo>
                  <a:pt x="7391087" y="4252790"/>
                  <a:pt x="7392337" y="4232894"/>
                  <a:pt x="7387983" y="4215477"/>
                </a:cubicBezTo>
                <a:cubicBezTo>
                  <a:pt x="7433852" y="4032000"/>
                  <a:pt x="7399890" y="4181141"/>
                  <a:pt x="7427171" y="3758277"/>
                </a:cubicBezTo>
                <a:lnTo>
                  <a:pt x="7427171" y="3758277"/>
                </a:lnTo>
                <a:cubicBezTo>
                  <a:pt x="7431525" y="3732151"/>
                  <a:pt x="7434488" y="3705755"/>
                  <a:pt x="7440234" y="3679900"/>
                </a:cubicBezTo>
                <a:cubicBezTo>
                  <a:pt x="7449661" y="3637481"/>
                  <a:pt x="7460990" y="3631470"/>
                  <a:pt x="7479423" y="3588460"/>
                </a:cubicBezTo>
                <a:cubicBezTo>
                  <a:pt x="7484847" y="3575804"/>
                  <a:pt x="7488132" y="3562334"/>
                  <a:pt x="7492486" y="3549271"/>
                </a:cubicBezTo>
                <a:cubicBezTo>
                  <a:pt x="7496840" y="3483957"/>
                  <a:pt x="7496291" y="3418129"/>
                  <a:pt x="7505548" y="3353328"/>
                </a:cubicBezTo>
                <a:cubicBezTo>
                  <a:pt x="7509443" y="3326066"/>
                  <a:pt x="7531674" y="3274951"/>
                  <a:pt x="7531674" y="3274951"/>
                </a:cubicBezTo>
                <a:cubicBezTo>
                  <a:pt x="7794425" y="3318743"/>
                  <a:pt x="7501225" y="3274951"/>
                  <a:pt x="8132566" y="3274951"/>
                </a:cubicBezTo>
                <a:cubicBezTo>
                  <a:pt x="8163355" y="3274951"/>
                  <a:pt x="8193526" y="3283660"/>
                  <a:pt x="8224006" y="3288014"/>
                </a:cubicBezTo>
                <a:cubicBezTo>
                  <a:pt x="8210943" y="3296723"/>
                  <a:pt x="8195155" y="3302325"/>
                  <a:pt x="8184817" y="3314140"/>
                </a:cubicBezTo>
                <a:cubicBezTo>
                  <a:pt x="8164141" y="3337770"/>
                  <a:pt x="8162354" y="3382588"/>
                  <a:pt x="8132566" y="3392517"/>
                </a:cubicBezTo>
                <a:lnTo>
                  <a:pt x="8093377" y="3405580"/>
                </a:lnTo>
                <a:cubicBezTo>
                  <a:pt x="8089023" y="3422997"/>
                  <a:pt x="8085246" y="3440569"/>
                  <a:pt x="8080314" y="3457831"/>
                </a:cubicBezTo>
                <a:cubicBezTo>
                  <a:pt x="8076531" y="3471071"/>
                  <a:pt x="8069198" y="3483389"/>
                  <a:pt x="8067251" y="3497020"/>
                </a:cubicBezTo>
                <a:cubicBezTo>
                  <a:pt x="8060063" y="3547336"/>
                  <a:pt x="8043118" y="3788736"/>
                  <a:pt x="8041126" y="3823591"/>
                </a:cubicBezTo>
                <a:cubicBezTo>
                  <a:pt x="8024296" y="4118123"/>
                  <a:pt x="8079360" y="4020965"/>
                  <a:pt x="8001937" y="4137100"/>
                </a:cubicBezTo>
                <a:cubicBezTo>
                  <a:pt x="8006291" y="4154517"/>
                  <a:pt x="8015000" y="4171398"/>
                  <a:pt x="8015000" y="4189351"/>
                </a:cubicBezTo>
                <a:cubicBezTo>
                  <a:pt x="8015000" y="4193706"/>
                  <a:pt x="7995034" y="4271551"/>
                  <a:pt x="7988874" y="4280791"/>
                </a:cubicBezTo>
                <a:cubicBezTo>
                  <a:pt x="7978627" y="4296162"/>
                  <a:pt x="7962749" y="4306917"/>
                  <a:pt x="7949686" y="4319980"/>
                </a:cubicBezTo>
                <a:cubicBezTo>
                  <a:pt x="7914851" y="4424482"/>
                  <a:pt x="7967104" y="4302561"/>
                  <a:pt x="7897434" y="4372231"/>
                </a:cubicBezTo>
                <a:cubicBezTo>
                  <a:pt x="7887697" y="4381968"/>
                  <a:pt x="7888725" y="4398357"/>
                  <a:pt x="7884371" y="4411420"/>
                </a:cubicBezTo>
                <a:cubicBezTo>
                  <a:pt x="7888725" y="4441900"/>
                  <a:pt x="7885999" y="4474273"/>
                  <a:pt x="7897434" y="4502860"/>
                </a:cubicBezTo>
                <a:cubicBezTo>
                  <a:pt x="7904295" y="4520012"/>
                  <a:pt x="7922431" y="4530221"/>
                  <a:pt x="7936623" y="4542048"/>
                </a:cubicBezTo>
                <a:cubicBezTo>
                  <a:pt x="8021663" y="4612915"/>
                  <a:pt x="8081922" y="4573759"/>
                  <a:pt x="8224006" y="4581237"/>
                </a:cubicBezTo>
                <a:cubicBezTo>
                  <a:pt x="8242494" y="4583291"/>
                  <a:pt x="8386914" y="4610142"/>
                  <a:pt x="8419948" y="4581237"/>
                </a:cubicBezTo>
                <a:cubicBezTo>
                  <a:pt x="8440673" y="4563103"/>
                  <a:pt x="8437365" y="4528986"/>
                  <a:pt x="8446074" y="4502860"/>
                </a:cubicBezTo>
                <a:cubicBezTo>
                  <a:pt x="8580633" y="4517810"/>
                  <a:pt x="8604095" y="4527410"/>
                  <a:pt x="8759583" y="4502860"/>
                </a:cubicBezTo>
                <a:cubicBezTo>
                  <a:pt x="8778818" y="4499823"/>
                  <a:pt x="8794417" y="4485443"/>
                  <a:pt x="8811834" y="4476734"/>
                </a:cubicBezTo>
                <a:cubicBezTo>
                  <a:pt x="8836347" y="4403195"/>
                  <a:pt x="8829334" y="4442480"/>
                  <a:pt x="8811834" y="4319980"/>
                </a:cubicBezTo>
                <a:cubicBezTo>
                  <a:pt x="8808694" y="4298000"/>
                  <a:pt x="8808700" y="4274524"/>
                  <a:pt x="8798771" y="4254665"/>
                </a:cubicBezTo>
                <a:cubicBezTo>
                  <a:pt x="8790510" y="4238142"/>
                  <a:pt x="8775732" y="4224448"/>
                  <a:pt x="8759583" y="4215477"/>
                </a:cubicBezTo>
                <a:cubicBezTo>
                  <a:pt x="8735510" y="4202103"/>
                  <a:pt x="8681206" y="4189351"/>
                  <a:pt x="8681206" y="4189351"/>
                </a:cubicBezTo>
                <a:cubicBezTo>
                  <a:pt x="8606719" y="4090038"/>
                  <a:pt x="8679770" y="4166783"/>
                  <a:pt x="8602828" y="4124037"/>
                </a:cubicBezTo>
                <a:cubicBezTo>
                  <a:pt x="8575380" y="4108788"/>
                  <a:pt x="8524451" y="4071785"/>
                  <a:pt x="8524451" y="4071785"/>
                </a:cubicBezTo>
                <a:cubicBezTo>
                  <a:pt x="8473562" y="3919121"/>
                  <a:pt x="8539948" y="4161687"/>
                  <a:pt x="8563640" y="4019534"/>
                </a:cubicBezTo>
                <a:cubicBezTo>
                  <a:pt x="8575830" y="3946392"/>
                  <a:pt x="8554931" y="3871488"/>
                  <a:pt x="8550577" y="3797465"/>
                </a:cubicBezTo>
                <a:cubicBezTo>
                  <a:pt x="8556445" y="3627298"/>
                  <a:pt x="8489200" y="3480019"/>
                  <a:pt x="8602828" y="3366391"/>
                </a:cubicBezTo>
                <a:cubicBezTo>
                  <a:pt x="8638667" y="3330552"/>
                  <a:pt x="8657485" y="3339663"/>
                  <a:pt x="8707331" y="3327202"/>
                </a:cubicBezTo>
                <a:cubicBezTo>
                  <a:pt x="8720689" y="3323862"/>
                  <a:pt x="8733078" y="3317127"/>
                  <a:pt x="8746520" y="3314140"/>
                </a:cubicBezTo>
                <a:cubicBezTo>
                  <a:pt x="8772375" y="3308395"/>
                  <a:pt x="8799042" y="3306823"/>
                  <a:pt x="8824897" y="3301077"/>
                </a:cubicBezTo>
                <a:cubicBezTo>
                  <a:pt x="8877474" y="3289393"/>
                  <a:pt x="8981651" y="3261888"/>
                  <a:pt x="8981651" y="3261888"/>
                </a:cubicBezTo>
                <a:cubicBezTo>
                  <a:pt x="9046524" y="3164580"/>
                  <a:pt x="8963140" y="3284104"/>
                  <a:pt x="9046966" y="3183511"/>
                </a:cubicBezTo>
                <a:cubicBezTo>
                  <a:pt x="9057017" y="3171450"/>
                  <a:pt x="9060832" y="3154129"/>
                  <a:pt x="9073091" y="3144322"/>
                </a:cubicBezTo>
                <a:cubicBezTo>
                  <a:pt x="9083843" y="3135720"/>
                  <a:pt x="9099217" y="3135614"/>
                  <a:pt x="9112280" y="3131260"/>
                </a:cubicBezTo>
                <a:cubicBezTo>
                  <a:pt x="9116634" y="3113843"/>
                  <a:pt x="9120411" y="3096271"/>
                  <a:pt x="9125343" y="3079008"/>
                </a:cubicBezTo>
                <a:cubicBezTo>
                  <a:pt x="9136451" y="3040130"/>
                  <a:pt x="9145018" y="3030566"/>
                  <a:pt x="9151468" y="2987568"/>
                </a:cubicBezTo>
                <a:cubicBezTo>
                  <a:pt x="9161883" y="2918134"/>
                  <a:pt x="9168885" y="2848231"/>
                  <a:pt x="9177594" y="2778562"/>
                </a:cubicBezTo>
                <a:cubicBezTo>
                  <a:pt x="9142559" y="2638426"/>
                  <a:pt x="9182053" y="2810105"/>
                  <a:pt x="9151468" y="2504242"/>
                </a:cubicBezTo>
                <a:cubicBezTo>
                  <a:pt x="9150098" y="2490541"/>
                  <a:pt x="9147008" y="2475806"/>
                  <a:pt x="9138406" y="2465054"/>
                </a:cubicBezTo>
                <a:cubicBezTo>
                  <a:pt x="9128598" y="2452795"/>
                  <a:pt x="9112280" y="2447637"/>
                  <a:pt x="9099217" y="2438928"/>
                </a:cubicBezTo>
                <a:cubicBezTo>
                  <a:pt x="9094863" y="2417157"/>
                  <a:pt x="9097921" y="2392442"/>
                  <a:pt x="9086154" y="2373614"/>
                </a:cubicBezTo>
                <a:cubicBezTo>
                  <a:pt x="9074615" y="2355152"/>
                  <a:pt x="9049298" y="2349820"/>
                  <a:pt x="9033903" y="2334425"/>
                </a:cubicBezTo>
                <a:cubicBezTo>
                  <a:pt x="9022802" y="2323324"/>
                  <a:pt x="9016486" y="2308300"/>
                  <a:pt x="9007777" y="2295237"/>
                </a:cubicBezTo>
                <a:lnTo>
                  <a:pt x="8981651" y="2216860"/>
                </a:lnTo>
                <a:cubicBezTo>
                  <a:pt x="8977297" y="2203797"/>
                  <a:pt x="8971927" y="2191030"/>
                  <a:pt x="8968588" y="2177671"/>
                </a:cubicBezTo>
                <a:cubicBezTo>
                  <a:pt x="8964234" y="2160254"/>
                  <a:pt x="8961830" y="2142230"/>
                  <a:pt x="8955526" y="2125420"/>
                </a:cubicBezTo>
                <a:cubicBezTo>
                  <a:pt x="8948689" y="2107187"/>
                  <a:pt x="8938109" y="2090585"/>
                  <a:pt x="8929400" y="2073168"/>
                </a:cubicBezTo>
                <a:cubicBezTo>
                  <a:pt x="8954688" y="1972019"/>
                  <a:pt x="8941326" y="2065207"/>
                  <a:pt x="8929400" y="1981728"/>
                </a:cubicBezTo>
                <a:cubicBezTo>
                  <a:pt x="8922598" y="1934117"/>
                  <a:pt x="8921648" y="1885837"/>
                  <a:pt x="8916337" y="1838037"/>
                </a:cubicBezTo>
                <a:cubicBezTo>
                  <a:pt x="8912937" y="1807436"/>
                  <a:pt x="8907628" y="1777077"/>
                  <a:pt x="8903274" y="1746597"/>
                </a:cubicBezTo>
                <a:cubicBezTo>
                  <a:pt x="8903851" y="1740826"/>
                  <a:pt x="8884966" y="1589842"/>
                  <a:pt x="8955526" y="1589842"/>
                </a:cubicBezTo>
                <a:cubicBezTo>
                  <a:pt x="8971225" y="1589842"/>
                  <a:pt x="8980672" y="1608947"/>
                  <a:pt x="8994714" y="1615968"/>
                </a:cubicBezTo>
                <a:cubicBezTo>
                  <a:pt x="9007030" y="1622126"/>
                  <a:pt x="9020840" y="1624677"/>
                  <a:pt x="9033903" y="1629031"/>
                </a:cubicBezTo>
                <a:cubicBezTo>
                  <a:pt x="9041358" y="1666305"/>
                  <a:pt x="9048963" y="1709714"/>
                  <a:pt x="9060028" y="1746597"/>
                </a:cubicBezTo>
                <a:cubicBezTo>
                  <a:pt x="9067941" y="1772975"/>
                  <a:pt x="9080753" y="1797970"/>
                  <a:pt x="9086154" y="1824974"/>
                </a:cubicBezTo>
                <a:cubicBezTo>
                  <a:pt x="9090508" y="1846745"/>
                  <a:pt x="9089288" y="1870430"/>
                  <a:pt x="9099217" y="1890288"/>
                </a:cubicBezTo>
                <a:cubicBezTo>
                  <a:pt x="9107479" y="1906812"/>
                  <a:pt x="9125343" y="1916414"/>
                  <a:pt x="9138406" y="1929477"/>
                </a:cubicBezTo>
                <a:cubicBezTo>
                  <a:pt x="9147011" y="1955294"/>
                  <a:pt x="9154572" y="1989437"/>
                  <a:pt x="9177594" y="2007854"/>
                </a:cubicBezTo>
                <a:cubicBezTo>
                  <a:pt x="9188346" y="2016456"/>
                  <a:pt x="9203720" y="2016563"/>
                  <a:pt x="9216783" y="2020917"/>
                </a:cubicBezTo>
                <a:cubicBezTo>
                  <a:pt x="9257620" y="2184261"/>
                  <a:pt x="9205429" y="1981176"/>
                  <a:pt x="9242908" y="2112357"/>
                </a:cubicBezTo>
                <a:cubicBezTo>
                  <a:pt x="9247840" y="2129619"/>
                  <a:pt x="9248899" y="2148107"/>
                  <a:pt x="9255971" y="2164608"/>
                </a:cubicBezTo>
                <a:cubicBezTo>
                  <a:pt x="9262156" y="2179038"/>
                  <a:pt x="9274579" y="2190014"/>
                  <a:pt x="9282097" y="2203797"/>
                </a:cubicBezTo>
                <a:cubicBezTo>
                  <a:pt x="9313127" y="2260686"/>
                  <a:pt x="9331712" y="2292541"/>
                  <a:pt x="9347411" y="2347488"/>
                </a:cubicBezTo>
                <a:cubicBezTo>
                  <a:pt x="9352343" y="2364751"/>
                  <a:pt x="9352445" y="2383682"/>
                  <a:pt x="9360474" y="2399740"/>
                </a:cubicBezTo>
                <a:cubicBezTo>
                  <a:pt x="9374516" y="2427824"/>
                  <a:pt x="9412726" y="2478117"/>
                  <a:pt x="9412726" y="2478117"/>
                </a:cubicBezTo>
                <a:cubicBezTo>
                  <a:pt x="9422669" y="2527835"/>
                  <a:pt x="9438851" y="2600489"/>
                  <a:pt x="9438851" y="2647934"/>
                </a:cubicBezTo>
                <a:cubicBezTo>
                  <a:pt x="9438851" y="2813454"/>
                  <a:pt x="9433852" y="2978999"/>
                  <a:pt x="9425788" y="3144322"/>
                </a:cubicBezTo>
                <a:cubicBezTo>
                  <a:pt x="9425117" y="3158075"/>
                  <a:pt x="9398956" y="3183511"/>
                  <a:pt x="9412726" y="3183511"/>
                </a:cubicBezTo>
                <a:cubicBezTo>
                  <a:pt x="9428426" y="3183511"/>
                  <a:pt x="9431830" y="3158364"/>
                  <a:pt x="9438851" y="3144322"/>
                </a:cubicBezTo>
                <a:cubicBezTo>
                  <a:pt x="9445009" y="3132006"/>
                  <a:pt x="9445756" y="3117450"/>
                  <a:pt x="9451914" y="3105134"/>
                </a:cubicBezTo>
                <a:cubicBezTo>
                  <a:pt x="9502560" y="3003844"/>
                  <a:pt x="9458269" y="3125256"/>
                  <a:pt x="9491103" y="3026757"/>
                </a:cubicBezTo>
                <a:cubicBezTo>
                  <a:pt x="9482394" y="2987568"/>
                  <a:pt x="9475321" y="2947980"/>
                  <a:pt x="9464977" y="2909191"/>
                </a:cubicBezTo>
                <a:cubicBezTo>
                  <a:pt x="9457881" y="2882582"/>
                  <a:pt x="9438851" y="2830814"/>
                  <a:pt x="9438851" y="2830814"/>
                </a:cubicBezTo>
                <a:cubicBezTo>
                  <a:pt x="9434497" y="2774208"/>
                  <a:pt x="9425788" y="2717770"/>
                  <a:pt x="9425788" y="2660997"/>
                </a:cubicBezTo>
                <a:cubicBezTo>
                  <a:pt x="9425788" y="2613546"/>
                  <a:pt x="9441970" y="2540901"/>
                  <a:pt x="9451914" y="2491180"/>
                </a:cubicBezTo>
                <a:cubicBezTo>
                  <a:pt x="9447560" y="2417157"/>
                  <a:pt x="9446229" y="2342894"/>
                  <a:pt x="9438851" y="2269111"/>
                </a:cubicBezTo>
                <a:cubicBezTo>
                  <a:pt x="9437481" y="2255410"/>
                  <a:pt x="9429571" y="2243162"/>
                  <a:pt x="9425788" y="2229922"/>
                </a:cubicBezTo>
                <a:cubicBezTo>
                  <a:pt x="9416317" y="2196774"/>
                  <a:pt x="9413087" y="2169805"/>
                  <a:pt x="9399663" y="2138482"/>
                </a:cubicBezTo>
                <a:cubicBezTo>
                  <a:pt x="9391992" y="2120584"/>
                  <a:pt x="9381208" y="2104129"/>
                  <a:pt x="9373537" y="2086231"/>
                </a:cubicBezTo>
                <a:cubicBezTo>
                  <a:pt x="9368113" y="2073575"/>
                  <a:pt x="9364257" y="2060282"/>
                  <a:pt x="9360474" y="2047042"/>
                </a:cubicBezTo>
                <a:cubicBezTo>
                  <a:pt x="9355542" y="2029780"/>
                  <a:pt x="9356318" y="2010379"/>
                  <a:pt x="9347411" y="1994791"/>
                </a:cubicBezTo>
                <a:cubicBezTo>
                  <a:pt x="9338246" y="1978751"/>
                  <a:pt x="9319565" y="1970184"/>
                  <a:pt x="9308223" y="1955602"/>
                </a:cubicBezTo>
                <a:cubicBezTo>
                  <a:pt x="9288946" y="1930817"/>
                  <a:pt x="9273388" y="1903351"/>
                  <a:pt x="9255971" y="1877225"/>
                </a:cubicBezTo>
                <a:cubicBezTo>
                  <a:pt x="9247263" y="1864162"/>
                  <a:pt x="9244740" y="1843002"/>
                  <a:pt x="9229846" y="1838037"/>
                </a:cubicBezTo>
                <a:lnTo>
                  <a:pt x="9190657" y="1824974"/>
                </a:lnTo>
                <a:cubicBezTo>
                  <a:pt x="9181948" y="1798848"/>
                  <a:pt x="9179806" y="1769511"/>
                  <a:pt x="9164531" y="1746597"/>
                </a:cubicBezTo>
                <a:cubicBezTo>
                  <a:pt x="9138296" y="1707243"/>
                  <a:pt x="9132166" y="1701558"/>
                  <a:pt x="9112280" y="1655157"/>
                </a:cubicBezTo>
                <a:cubicBezTo>
                  <a:pt x="9099006" y="1624185"/>
                  <a:pt x="9101435" y="1601075"/>
                  <a:pt x="9073091" y="1576780"/>
                </a:cubicBezTo>
                <a:cubicBezTo>
                  <a:pt x="9053814" y="1560257"/>
                  <a:pt x="9029548" y="1550654"/>
                  <a:pt x="9007777" y="1537591"/>
                </a:cubicBezTo>
                <a:cubicBezTo>
                  <a:pt x="9003423" y="1524528"/>
                  <a:pt x="9005919" y="1506405"/>
                  <a:pt x="8994714" y="1498402"/>
                </a:cubicBezTo>
                <a:cubicBezTo>
                  <a:pt x="8972305" y="1482395"/>
                  <a:pt x="8940968" y="1484593"/>
                  <a:pt x="8916337" y="1472277"/>
                </a:cubicBezTo>
                <a:lnTo>
                  <a:pt x="8864086" y="1446151"/>
                </a:lnTo>
                <a:cubicBezTo>
                  <a:pt x="8834573" y="1357613"/>
                  <a:pt x="8867981" y="1465626"/>
                  <a:pt x="8837960" y="1315522"/>
                </a:cubicBezTo>
                <a:cubicBezTo>
                  <a:pt x="8835260" y="1302020"/>
                  <a:pt x="8833499" y="1287086"/>
                  <a:pt x="8824897" y="1276334"/>
                </a:cubicBezTo>
                <a:cubicBezTo>
                  <a:pt x="8815089" y="1264075"/>
                  <a:pt x="8798771" y="1258917"/>
                  <a:pt x="8785708" y="1250208"/>
                </a:cubicBezTo>
                <a:cubicBezTo>
                  <a:pt x="8777000" y="1237145"/>
                  <a:pt x="8769003" y="1223579"/>
                  <a:pt x="8759583" y="1211020"/>
                </a:cubicBezTo>
                <a:cubicBezTo>
                  <a:pt x="8742854" y="1188715"/>
                  <a:pt x="8719800" y="1170643"/>
                  <a:pt x="8707331" y="1145705"/>
                </a:cubicBezTo>
                <a:cubicBezTo>
                  <a:pt x="8697402" y="1125847"/>
                  <a:pt x="8699260" y="1102025"/>
                  <a:pt x="8694268" y="1080391"/>
                </a:cubicBezTo>
                <a:cubicBezTo>
                  <a:pt x="8686194" y="1045404"/>
                  <a:pt x="8668143" y="975888"/>
                  <a:pt x="8668143" y="975888"/>
                </a:cubicBezTo>
                <a:cubicBezTo>
                  <a:pt x="8650726" y="988951"/>
                  <a:pt x="8637444" y="1011998"/>
                  <a:pt x="8615891" y="1015077"/>
                </a:cubicBezTo>
                <a:cubicBezTo>
                  <a:pt x="8600349" y="1017297"/>
                  <a:pt x="8586754" y="1001012"/>
                  <a:pt x="8576703" y="988951"/>
                </a:cubicBezTo>
                <a:cubicBezTo>
                  <a:pt x="8542724" y="948176"/>
                  <a:pt x="8557934" y="938350"/>
                  <a:pt x="8537514" y="897511"/>
                </a:cubicBezTo>
                <a:cubicBezTo>
                  <a:pt x="8530493" y="883469"/>
                  <a:pt x="8520097" y="871385"/>
                  <a:pt x="8511388" y="858322"/>
                </a:cubicBezTo>
                <a:cubicBezTo>
                  <a:pt x="8486429" y="783440"/>
                  <a:pt x="8511728" y="836422"/>
                  <a:pt x="8419948" y="753820"/>
                </a:cubicBezTo>
                <a:cubicBezTo>
                  <a:pt x="8401639" y="737342"/>
                  <a:pt x="8383084" y="720802"/>
                  <a:pt x="8367697" y="701568"/>
                </a:cubicBezTo>
                <a:cubicBezTo>
                  <a:pt x="8348082" y="677049"/>
                  <a:pt x="8345234" y="633120"/>
                  <a:pt x="8315446" y="623191"/>
                </a:cubicBezTo>
                <a:cubicBezTo>
                  <a:pt x="8289320" y="614482"/>
                  <a:pt x="8261700" y="609381"/>
                  <a:pt x="8237068" y="597065"/>
                </a:cubicBezTo>
                <a:cubicBezTo>
                  <a:pt x="8219651" y="588357"/>
                  <a:pt x="8203290" y="577098"/>
                  <a:pt x="8184817" y="570940"/>
                </a:cubicBezTo>
                <a:cubicBezTo>
                  <a:pt x="8163754" y="563919"/>
                  <a:pt x="8141274" y="562231"/>
                  <a:pt x="8119503" y="557877"/>
                </a:cubicBezTo>
                <a:cubicBezTo>
                  <a:pt x="8089023" y="544814"/>
                  <a:pt x="8058852" y="531004"/>
                  <a:pt x="8028063" y="518688"/>
                </a:cubicBezTo>
                <a:cubicBezTo>
                  <a:pt x="8015278" y="513574"/>
                  <a:pt x="8002537" y="503917"/>
                  <a:pt x="7988874" y="505625"/>
                </a:cubicBezTo>
                <a:cubicBezTo>
                  <a:pt x="7965607" y="508533"/>
                  <a:pt x="7945515" y="523518"/>
                  <a:pt x="7923560" y="531751"/>
                </a:cubicBezTo>
                <a:cubicBezTo>
                  <a:pt x="7910667" y="536586"/>
                  <a:pt x="7897434" y="540460"/>
                  <a:pt x="7884371" y="544814"/>
                </a:cubicBezTo>
                <a:cubicBezTo>
                  <a:pt x="7749388" y="536105"/>
                  <a:pt x="7614644" y="522069"/>
                  <a:pt x="7479423" y="518688"/>
                </a:cubicBezTo>
                <a:cubicBezTo>
                  <a:pt x="7440005" y="517703"/>
                  <a:pt x="7401200" y="534374"/>
                  <a:pt x="7361857" y="531751"/>
                </a:cubicBezTo>
                <a:cubicBezTo>
                  <a:pt x="7334379" y="529919"/>
                  <a:pt x="7283480" y="505625"/>
                  <a:pt x="7283480" y="505625"/>
                </a:cubicBezTo>
                <a:cubicBezTo>
                  <a:pt x="7248646" y="514334"/>
                  <a:pt x="7214736" y="528500"/>
                  <a:pt x="7178977" y="531751"/>
                </a:cubicBezTo>
                <a:cubicBezTo>
                  <a:pt x="7165264" y="532998"/>
                  <a:pt x="7153558" y="518688"/>
                  <a:pt x="7139788" y="518688"/>
                </a:cubicBezTo>
                <a:cubicBezTo>
                  <a:pt x="7117585" y="518688"/>
                  <a:pt x="7096374" y="528101"/>
                  <a:pt x="7074474" y="531751"/>
                </a:cubicBezTo>
                <a:cubicBezTo>
                  <a:pt x="7044103" y="536813"/>
                  <a:pt x="7013514" y="540460"/>
                  <a:pt x="6983034" y="544814"/>
                </a:cubicBezTo>
                <a:cubicBezTo>
                  <a:pt x="6978680" y="557877"/>
                  <a:pt x="6979707" y="574266"/>
                  <a:pt x="6969971" y="584002"/>
                </a:cubicBezTo>
                <a:cubicBezTo>
                  <a:pt x="6937314" y="616659"/>
                  <a:pt x="6878532" y="579649"/>
                  <a:pt x="6852406" y="570940"/>
                </a:cubicBezTo>
                <a:cubicBezTo>
                  <a:pt x="6839343" y="566586"/>
                  <a:pt x="6824674" y="565515"/>
                  <a:pt x="6813217" y="557877"/>
                </a:cubicBezTo>
                <a:cubicBezTo>
                  <a:pt x="6800154" y="549168"/>
                  <a:pt x="6789667" y="533131"/>
                  <a:pt x="6774028" y="531751"/>
                </a:cubicBezTo>
                <a:cubicBezTo>
                  <a:pt x="6639498" y="519881"/>
                  <a:pt x="6504021" y="524196"/>
                  <a:pt x="6369080" y="518688"/>
                </a:cubicBezTo>
                <a:cubicBezTo>
                  <a:pt x="6121025" y="508563"/>
                  <a:pt x="6145849" y="506947"/>
                  <a:pt x="5898817" y="479500"/>
                </a:cubicBezTo>
                <a:cubicBezTo>
                  <a:pt x="5807377" y="488208"/>
                  <a:pt x="5716271" y="501801"/>
                  <a:pt x="5624497" y="505625"/>
                </a:cubicBezTo>
                <a:cubicBezTo>
                  <a:pt x="5610739" y="506198"/>
                  <a:pt x="5599078" y="492562"/>
                  <a:pt x="5585308" y="492562"/>
                </a:cubicBezTo>
                <a:cubicBezTo>
                  <a:pt x="5554519" y="492562"/>
                  <a:pt x="5524348" y="501271"/>
                  <a:pt x="5493868" y="505625"/>
                </a:cubicBezTo>
                <a:cubicBezTo>
                  <a:pt x="5403996" y="475667"/>
                  <a:pt x="5512654" y="505625"/>
                  <a:pt x="5350177" y="505625"/>
                </a:cubicBezTo>
                <a:cubicBezTo>
                  <a:pt x="5336407" y="505625"/>
                  <a:pt x="5324051" y="496916"/>
                  <a:pt x="5310988" y="492562"/>
                </a:cubicBezTo>
                <a:cubicBezTo>
                  <a:pt x="5223902" y="496916"/>
                  <a:pt x="5136687" y="499184"/>
                  <a:pt x="5049731" y="505625"/>
                </a:cubicBezTo>
                <a:cubicBezTo>
                  <a:pt x="5019026" y="507899"/>
                  <a:pt x="4987996" y="510587"/>
                  <a:pt x="4958291" y="518688"/>
                </a:cubicBezTo>
                <a:cubicBezTo>
                  <a:pt x="4939504" y="523812"/>
                  <a:pt x="4923457" y="536105"/>
                  <a:pt x="4906040" y="544814"/>
                </a:cubicBezTo>
                <a:cubicBezTo>
                  <a:pt x="4892977" y="540460"/>
                  <a:pt x="4880514" y="530043"/>
                  <a:pt x="4866851" y="531751"/>
                </a:cubicBezTo>
                <a:cubicBezTo>
                  <a:pt x="4791089" y="541221"/>
                  <a:pt x="4811780" y="553422"/>
                  <a:pt x="4775411" y="597065"/>
                </a:cubicBezTo>
                <a:cubicBezTo>
                  <a:pt x="4763584" y="611257"/>
                  <a:pt x="4748050" y="622062"/>
                  <a:pt x="4736223" y="636254"/>
                </a:cubicBezTo>
                <a:cubicBezTo>
                  <a:pt x="4726172" y="648315"/>
                  <a:pt x="4722017" y="665225"/>
                  <a:pt x="4710097" y="675442"/>
                </a:cubicBezTo>
                <a:cubicBezTo>
                  <a:pt x="4670834" y="709096"/>
                  <a:pt x="4648338" y="713446"/>
                  <a:pt x="4605594" y="727694"/>
                </a:cubicBezTo>
                <a:cubicBezTo>
                  <a:pt x="4596885" y="740757"/>
                  <a:pt x="4590569" y="755781"/>
                  <a:pt x="4579468" y="766882"/>
                </a:cubicBezTo>
                <a:cubicBezTo>
                  <a:pt x="4539925" y="806425"/>
                  <a:pt x="4532867" y="804188"/>
                  <a:pt x="4488028" y="819134"/>
                </a:cubicBezTo>
                <a:cubicBezTo>
                  <a:pt x="4466257" y="814780"/>
                  <a:pt x="4444134" y="811913"/>
                  <a:pt x="4422714" y="806071"/>
                </a:cubicBezTo>
                <a:cubicBezTo>
                  <a:pt x="4396145" y="798825"/>
                  <a:pt x="4344337" y="779945"/>
                  <a:pt x="4344337" y="779945"/>
                </a:cubicBezTo>
                <a:cubicBezTo>
                  <a:pt x="4335628" y="762528"/>
                  <a:pt x="4323335" y="746481"/>
                  <a:pt x="4318211" y="727694"/>
                </a:cubicBezTo>
                <a:cubicBezTo>
                  <a:pt x="4310110" y="697989"/>
                  <a:pt x="4309830" y="666685"/>
                  <a:pt x="4305148" y="636254"/>
                </a:cubicBezTo>
                <a:cubicBezTo>
                  <a:pt x="4301121" y="610076"/>
                  <a:pt x="4296440" y="584003"/>
                  <a:pt x="4292086" y="557877"/>
                </a:cubicBezTo>
                <a:cubicBezTo>
                  <a:pt x="4294862" y="510689"/>
                  <a:pt x="4274988" y="351100"/>
                  <a:pt x="4331274" y="283557"/>
                </a:cubicBezTo>
                <a:cubicBezTo>
                  <a:pt x="4341325" y="271496"/>
                  <a:pt x="4357400" y="266140"/>
                  <a:pt x="4370463" y="257431"/>
                </a:cubicBezTo>
                <a:cubicBezTo>
                  <a:pt x="4374817" y="244368"/>
                  <a:pt x="4389684" y="230558"/>
                  <a:pt x="4383526" y="218242"/>
                </a:cubicBezTo>
                <a:cubicBezTo>
                  <a:pt x="4377368" y="205926"/>
                  <a:pt x="4356993" y="210604"/>
                  <a:pt x="4344337" y="205180"/>
                </a:cubicBezTo>
                <a:cubicBezTo>
                  <a:pt x="4326439" y="197509"/>
                  <a:pt x="4307932" y="190372"/>
                  <a:pt x="4292086" y="179054"/>
                </a:cubicBezTo>
                <a:cubicBezTo>
                  <a:pt x="4277053" y="168316"/>
                  <a:pt x="4267089" y="151692"/>
                  <a:pt x="4252897" y="139865"/>
                </a:cubicBezTo>
                <a:cubicBezTo>
                  <a:pt x="4240836" y="129814"/>
                  <a:pt x="4226771" y="122448"/>
                  <a:pt x="4213708" y="113740"/>
                </a:cubicBezTo>
                <a:cubicBezTo>
                  <a:pt x="4209354" y="96323"/>
                  <a:pt x="4211861" y="75507"/>
                  <a:pt x="4200646" y="61488"/>
                </a:cubicBezTo>
                <a:cubicBezTo>
                  <a:pt x="4192044" y="50736"/>
                  <a:pt x="4174113" y="53849"/>
                  <a:pt x="4161457" y="48425"/>
                </a:cubicBezTo>
                <a:cubicBezTo>
                  <a:pt x="4048464" y="0"/>
                  <a:pt x="4161923" y="39872"/>
                  <a:pt x="4070017" y="9237"/>
                </a:cubicBezTo>
                <a:cubicBezTo>
                  <a:pt x="3974223" y="13591"/>
                  <a:pt x="3878222" y="14653"/>
                  <a:pt x="3782634" y="22300"/>
                </a:cubicBezTo>
                <a:cubicBezTo>
                  <a:pt x="3768909" y="23398"/>
                  <a:pt x="3757147" y="33992"/>
                  <a:pt x="3743446" y="35362"/>
                </a:cubicBezTo>
                <a:cubicBezTo>
                  <a:pt x="3669663" y="42740"/>
                  <a:pt x="3595400" y="44071"/>
                  <a:pt x="3521377" y="48425"/>
                </a:cubicBezTo>
                <a:cubicBezTo>
                  <a:pt x="3395212" y="79967"/>
                  <a:pt x="3509622" y="53591"/>
                  <a:pt x="3260120" y="87614"/>
                </a:cubicBezTo>
                <a:cubicBezTo>
                  <a:pt x="3233877" y="91193"/>
                  <a:pt x="3207438" y="94253"/>
                  <a:pt x="3181743" y="100677"/>
                </a:cubicBezTo>
                <a:cubicBezTo>
                  <a:pt x="3155026" y="107356"/>
                  <a:pt x="3103366" y="126802"/>
                  <a:pt x="3103366" y="126802"/>
                </a:cubicBezTo>
                <a:cubicBezTo>
                  <a:pt x="3033195" y="173582"/>
                  <a:pt x="3046153" y="174873"/>
                  <a:pt x="2985800" y="192117"/>
                </a:cubicBezTo>
                <a:cubicBezTo>
                  <a:pt x="2968537" y="197049"/>
                  <a:pt x="2950965" y="200826"/>
                  <a:pt x="2933548" y="205180"/>
                </a:cubicBezTo>
                <a:cubicBezTo>
                  <a:pt x="2902458" y="298451"/>
                  <a:pt x="2922699" y="260644"/>
                  <a:pt x="2881297" y="322745"/>
                </a:cubicBezTo>
                <a:cubicBezTo>
                  <a:pt x="2846463" y="427248"/>
                  <a:pt x="2898714" y="305329"/>
                  <a:pt x="2829046" y="374997"/>
                </a:cubicBezTo>
                <a:cubicBezTo>
                  <a:pt x="2748338" y="455705"/>
                  <a:pt x="2855635" y="409676"/>
                  <a:pt x="2763731" y="440311"/>
                </a:cubicBezTo>
                <a:cubicBezTo>
                  <a:pt x="2755023" y="453374"/>
                  <a:pt x="2748707" y="468399"/>
                  <a:pt x="2737606" y="479500"/>
                </a:cubicBezTo>
                <a:cubicBezTo>
                  <a:pt x="2726505" y="490601"/>
                  <a:pt x="2710478" y="495574"/>
                  <a:pt x="2698417" y="505625"/>
                </a:cubicBezTo>
                <a:cubicBezTo>
                  <a:pt x="2684225" y="517452"/>
                  <a:pt x="2672291" y="531751"/>
                  <a:pt x="2659228" y="544814"/>
                </a:cubicBezTo>
                <a:cubicBezTo>
                  <a:pt x="2626397" y="643312"/>
                  <a:pt x="2674503" y="525720"/>
                  <a:pt x="2606977" y="610128"/>
                </a:cubicBezTo>
                <a:cubicBezTo>
                  <a:pt x="2598375" y="620880"/>
                  <a:pt x="2598268" y="636254"/>
                  <a:pt x="2593914" y="649317"/>
                </a:cubicBezTo>
                <a:cubicBezTo>
                  <a:pt x="2572164" y="1214809"/>
                  <a:pt x="2609597" y="846091"/>
                  <a:pt x="2567788" y="1041202"/>
                </a:cubicBezTo>
                <a:cubicBezTo>
                  <a:pt x="2548199" y="1132617"/>
                  <a:pt x="2562895" y="1154191"/>
                  <a:pt x="2515537" y="1211020"/>
                </a:cubicBezTo>
                <a:cubicBezTo>
                  <a:pt x="2503710" y="1225212"/>
                  <a:pt x="2489411" y="1237145"/>
                  <a:pt x="2476348" y="1250208"/>
                </a:cubicBezTo>
                <a:cubicBezTo>
                  <a:pt x="2471994" y="1263271"/>
                  <a:pt x="2473022" y="1279660"/>
                  <a:pt x="2463286" y="1289397"/>
                </a:cubicBezTo>
                <a:cubicBezTo>
                  <a:pt x="2453550" y="1299134"/>
                  <a:pt x="2432100" y="1291255"/>
                  <a:pt x="2424097" y="1302460"/>
                </a:cubicBezTo>
                <a:cubicBezTo>
                  <a:pt x="2408090" y="1324869"/>
                  <a:pt x="2406680" y="1354711"/>
                  <a:pt x="2397971" y="1380837"/>
                </a:cubicBezTo>
                <a:lnTo>
                  <a:pt x="2384908" y="1420025"/>
                </a:lnTo>
                <a:cubicBezTo>
                  <a:pt x="2380554" y="1433088"/>
                  <a:pt x="2378004" y="1446898"/>
                  <a:pt x="2371846" y="1459214"/>
                </a:cubicBezTo>
                <a:cubicBezTo>
                  <a:pt x="2363137" y="1476631"/>
                  <a:pt x="2353391" y="1493567"/>
                  <a:pt x="2345720" y="1511465"/>
                </a:cubicBezTo>
                <a:cubicBezTo>
                  <a:pt x="2340296" y="1524121"/>
                  <a:pt x="2339344" y="1538617"/>
                  <a:pt x="2332657" y="1550654"/>
                </a:cubicBezTo>
                <a:cubicBezTo>
                  <a:pt x="2317408" y="1578102"/>
                  <a:pt x="2310194" y="1619102"/>
                  <a:pt x="2280406" y="1629031"/>
                </a:cubicBezTo>
                <a:cubicBezTo>
                  <a:pt x="2254280" y="1637740"/>
                  <a:pt x="2224942" y="1639881"/>
                  <a:pt x="2202028" y="1655157"/>
                </a:cubicBezTo>
                <a:cubicBezTo>
                  <a:pt x="2151383" y="1688920"/>
                  <a:pt x="2177734" y="1676317"/>
                  <a:pt x="2123651" y="1694345"/>
                </a:cubicBezTo>
                <a:cubicBezTo>
                  <a:pt x="2083040" y="1816178"/>
                  <a:pt x="2153664" y="1613753"/>
                  <a:pt x="2071400" y="1798848"/>
                </a:cubicBezTo>
                <a:cubicBezTo>
                  <a:pt x="2064109" y="1815254"/>
                  <a:pt x="2062691" y="1833683"/>
                  <a:pt x="2058337" y="1851100"/>
                </a:cubicBezTo>
                <a:cubicBezTo>
                  <a:pt x="2006756" y="1833906"/>
                  <a:pt x="2032918" y="1838037"/>
                  <a:pt x="1979960" y="1838037"/>
                </a:cubicBezTo>
              </a:path>
            </a:pathLst>
          </a:custGeom>
          <a:solidFill>
            <a:srgbClr val="00b0f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1">
                                  <p:stCondLst>
                                    <p:cond delay="0"/>
                                  </p:stCondLst>
                                  <p:childTnLst>
                                    <p:set>
                                      <p:cBhvr>
                                        <p:cTn id="317"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267">
                                            <p:txEl>
                                              <p:pRg st="0" end="0"/>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16"/>
          <p:cNvSpPr/>
          <p:nvPr/>
        </p:nvSpPr>
        <p:spPr>
          <a:xfrm>
            <a:off x="1066680" y="1143000"/>
            <a:ext cx="7010640" cy="1007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stimating |Per(A)|</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with high probability over i.i.d. Gaussian A, is a </a:t>
            </a:r>
            <a:r>
              <a:rPr b="1" lang="en-US" sz="3000" spc="-1" strike="noStrike">
                <a:solidFill>
                  <a:srgbClr val="990099"/>
                </a:solidFill>
                <a:latin typeface="Calibri"/>
                <a:ea typeface="Arial"/>
              </a:rPr>
              <a:t>#P</a:t>
            </a:r>
            <a:r>
              <a:rPr b="0" lang="en-US" sz="3000" spc="-1" strike="noStrike">
                <a:solidFill>
                  <a:srgbClr val="000000"/>
                </a:solidFill>
                <a:latin typeface="Calibri"/>
                <a:ea typeface="Arial"/>
              </a:rPr>
              <a:t>-hard problem</a:t>
            </a:r>
            <a:endParaRPr b="0" lang="en-US" sz="3000" spc="-1" strike="noStrike">
              <a:solidFill>
                <a:srgbClr val="000000"/>
              </a:solidFill>
              <a:latin typeface="Arial"/>
            </a:endParaRPr>
          </a:p>
        </p:txBody>
      </p:sp>
      <p:sp>
        <p:nvSpPr>
          <p:cNvPr id="271"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Main Conjecture</a:t>
            </a:r>
            <a:endParaRPr b="0" lang="en-US" sz="4400" spc="-1" strike="noStrike">
              <a:solidFill>
                <a:srgbClr val="000000"/>
              </a:solidFill>
              <a:latin typeface="Arial"/>
            </a:endParaRPr>
          </a:p>
        </p:txBody>
      </p:sp>
      <p:sp>
        <p:nvSpPr>
          <p:cNvPr id="272" name="Text Box 16"/>
          <p:cNvSpPr/>
          <p:nvPr/>
        </p:nvSpPr>
        <p:spPr>
          <a:xfrm>
            <a:off x="349200" y="5181480"/>
            <a:ext cx="86104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makes the Gaussian ensemble special?  </a:t>
            </a:r>
            <a:r>
              <a:rPr b="1" lang="en-US" sz="3000" spc="-1" strike="noStrike">
                <a:solidFill>
                  <a:srgbClr val="ff0000"/>
                </a:solidFill>
                <a:latin typeface="Calibri"/>
                <a:ea typeface="Arial"/>
              </a:rPr>
              <a:t>Theorem:</a:t>
            </a:r>
            <a:r>
              <a:rPr b="0" lang="en-US" sz="3000" spc="-1" strike="noStrike">
                <a:solidFill>
                  <a:srgbClr val="000000"/>
                </a:solidFill>
                <a:latin typeface="Calibri"/>
                <a:ea typeface="Arial"/>
              </a:rPr>
              <a:t> It arises by considering sufficiently small submatrices of Haar-random unitary matrices.</a:t>
            </a:r>
            <a:endParaRPr b="0" lang="en-US" sz="3000" spc="-1" strike="noStrike">
              <a:solidFill>
                <a:srgbClr val="000000"/>
              </a:solidFill>
              <a:latin typeface="Arial"/>
            </a:endParaRPr>
          </a:p>
        </p:txBody>
      </p:sp>
      <p:sp>
        <p:nvSpPr>
          <p:cNvPr id="273" name="Text Box 16"/>
          <p:cNvSpPr/>
          <p:nvPr/>
        </p:nvSpPr>
        <p:spPr>
          <a:xfrm>
            <a:off x="349200" y="2362320"/>
            <a:ext cx="8458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this conjecture holds, then even a </a:t>
            </a:r>
            <a:r>
              <a:rPr b="1" lang="en-US" sz="3000" spc="-1" strike="noStrike">
                <a:solidFill>
                  <a:srgbClr val="ff0000"/>
                </a:solidFill>
                <a:latin typeface="Calibri"/>
                <a:ea typeface="Arial"/>
              </a:rPr>
              <a:t>noisy</a:t>
            </a:r>
            <a:r>
              <a:rPr b="0" lang="en-US" sz="3000" spc="-1" strike="noStrike">
                <a:solidFill>
                  <a:srgbClr val="000000"/>
                </a:solidFill>
                <a:latin typeface="Calibri"/>
                <a:ea typeface="Arial"/>
              </a:rPr>
              <a:t> n-photon experiment could falsify the Extended Church Thesis, assuming </a:t>
            </a:r>
            <a:r>
              <a:rPr b="1" lang="en-US" sz="3000" spc="-1" strike="noStrike">
                <a:solidFill>
                  <a:srgbClr val="990099"/>
                </a:solidFill>
                <a:latin typeface="Calibri"/>
                <a:ea typeface="Arial"/>
              </a:rPr>
              <a:t>P</a:t>
            </a:r>
            <a:r>
              <a:rPr b="1" lang="en-US" sz="3000" spc="-1" strike="noStrike" baseline="30000">
                <a:solidFill>
                  <a:srgbClr val="990099"/>
                </a:solidFill>
                <a:latin typeface="Calibri"/>
                <a:ea typeface="Arial"/>
              </a:rPr>
              <a:t>#P</a:t>
            </a:r>
            <a:r>
              <a:rPr b="0" lang="en-US" sz="3000" spc="-1" strike="noStrike">
                <a:solidFill>
                  <a:srgbClr val="000000"/>
                </a:solidFill>
                <a:latin typeface="Symbol"/>
                <a:ea typeface="Symbol"/>
              </a:rPr>
              <a:t></a:t>
            </a:r>
            <a:r>
              <a:rPr b="1" lang="en-US" sz="3000" spc="-1" strike="noStrike">
                <a:solidFill>
                  <a:srgbClr val="990099"/>
                </a:solidFill>
                <a:latin typeface="Calibri"/>
                <a:ea typeface="Arial"/>
              </a:rPr>
              <a:t>BPP</a:t>
            </a:r>
            <a:r>
              <a:rPr b="1" lang="en-US" sz="3000" spc="-1" strike="noStrike" baseline="30000">
                <a:solidFill>
                  <a:srgbClr val="990099"/>
                </a:solidFill>
                <a:latin typeface="Calibri"/>
                <a:ea typeface="Arial"/>
              </a:rPr>
              <a:t>NP</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74" name="Text Box 16"/>
          <p:cNvSpPr/>
          <p:nvPr/>
        </p:nvSpPr>
        <p:spPr>
          <a:xfrm>
            <a:off x="369720" y="391644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uch of our work is devoted to giving evidence for this conjectu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73"/>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74"/>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0" y="928800"/>
            <a:ext cx="9468000" cy="5964120"/>
          </a:xfrm>
          <a:prstGeom prst="rect">
            <a:avLst/>
          </a:prstGeom>
          <a:ln w="0">
            <a:noFill/>
          </a:ln>
        </p:spPr>
      </p:pic>
      <p:sp>
        <p:nvSpPr>
          <p:cNvPr id="276" name="TextBox 1"/>
          <p:cNvSpPr/>
          <p:nvPr/>
        </p:nvSpPr>
        <p:spPr>
          <a:xfrm>
            <a:off x="1450800" y="304920"/>
            <a:ext cx="7693200" cy="509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Easier” problem: Just show that, if A is an i.i.d. Gaussian matrix, then |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is approximately a lognormal random variable </a:t>
            </a:r>
            <a:r>
              <a:rPr b="0" lang="en-US" sz="2400" spc="-1" strike="noStrike">
                <a:solidFill>
                  <a:srgbClr val="008000"/>
                </a:solidFill>
                <a:latin typeface="Calibri"/>
                <a:ea typeface="Arial"/>
              </a:rPr>
              <a:t>(as numerics suggest)</a:t>
            </a:r>
            <a:r>
              <a:rPr b="0" lang="en-US" sz="2800" spc="-1" strike="noStrike">
                <a:solidFill>
                  <a:srgbClr val="000000"/>
                </a:solidFill>
                <a:latin typeface="Calibri"/>
                <a:ea typeface="Arial"/>
              </a:rPr>
              <a:t>, and not so concentrated around 0 as to preclude its being hard to estimate</a:t>
            </a:r>
            <a:endParaRPr b="0" lang="en-US" sz="2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prove for determinant in place of permanent.</a:t>
            </a:r>
            <a:br>
              <a:rPr sz="2800"/>
            </a:br>
            <a:r>
              <a:rPr b="0" lang="en-US" sz="2800" spc="-1" strike="noStrike">
                <a:solidFill>
                  <a:srgbClr val="000000"/>
                </a:solidFill>
                <a:latin typeface="Calibri"/>
                <a:ea typeface="Arial"/>
              </a:rPr>
              <a:t>For permanent, best known anti-concentration results </a:t>
            </a:r>
            <a:r>
              <a:rPr b="0" lang="en-US" sz="2800" spc="-1" strike="noStrike">
                <a:solidFill>
                  <a:srgbClr val="008000"/>
                </a:solidFill>
                <a:latin typeface="Calibri"/>
                <a:ea typeface="Arial"/>
              </a:rPr>
              <a:t>[Tao-Vu]</a:t>
            </a:r>
            <a:r>
              <a:rPr b="0" lang="en-US" sz="2800" spc="-1" strike="noStrike">
                <a:solidFill>
                  <a:srgbClr val="000000"/>
                </a:solidFill>
                <a:latin typeface="Calibri"/>
                <a:ea typeface="Arial"/>
              </a:rPr>
              <a:t> are not yet strong enough for us</a:t>
            </a:r>
            <a:endParaRPr b="0" lang="en-US" sz="2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calculate E[|Per(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n! and E[|Per(A)|</a:t>
            </a:r>
            <a:r>
              <a:rPr b="0" lang="en-US" sz="2800" spc="-1" strike="noStrike" baseline="30000">
                <a:solidFill>
                  <a:srgbClr val="000000"/>
                </a:solidFill>
                <a:latin typeface="Calibri"/>
                <a:ea typeface="Arial"/>
              </a:rPr>
              <a:t>4</a:t>
            </a:r>
            <a:r>
              <a:rPr b="0" lang="en-US" sz="2800" spc="-1" strike="noStrike">
                <a:solidFill>
                  <a:srgbClr val="000000"/>
                </a:solidFill>
                <a:latin typeface="Calibri"/>
                <a:ea typeface="Arial"/>
              </a:rPr>
              <a:t>]=(n+1)(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but not strong enough to imply anti-concentration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
                                  <p:stCondLst>
                                    <p:cond delay="0"/>
                                  </p:stCondLst>
                                  <p:childTnLst>
                                    <p:set>
                                      <p:cBhvr>
                                        <p:cTn id="343"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Experiments</a:t>
            </a:r>
            <a:endParaRPr b="0" lang="en-US" sz="4400" spc="-1" strike="noStrike">
              <a:solidFill>
                <a:srgbClr val="000000"/>
              </a:solidFill>
              <a:latin typeface="Arial"/>
            </a:endParaRPr>
          </a:p>
        </p:txBody>
      </p:sp>
      <p:sp>
        <p:nvSpPr>
          <p:cNvPr id="278" name="Subtitle 4"/>
          <p:cNvSpPr/>
          <p:nvPr/>
        </p:nvSpPr>
        <p:spPr>
          <a:xfrm>
            <a:off x="1333440" y="4191120"/>
            <a:ext cx="6477120" cy="72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ea typeface="Calibri"/>
              </a:rPr>
              <a:t># of experiments &gt; # of photons!</a:t>
            </a:r>
            <a:endParaRPr b="0" lang="en-US" sz="3600" spc="-1" strike="noStrike">
              <a:solidFill>
                <a:srgbClr val="000000"/>
              </a:solidFill>
              <a:latin typeface="Arial"/>
            </a:endParaRPr>
          </a:p>
        </p:txBody>
      </p:sp>
      <p:pic>
        <p:nvPicPr>
          <p:cNvPr id="279" name="Picture 5" descr="http://www.photonics.com/images2/Spectra/Features/2013/06/Quantum_Figure4.jpg"/>
          <p:cNvPicPr/>
          <p:nvPr/>
        </p:nvPicPr>
        <p:blipFill>
          <a:blip r:embed="rId1"/>
          <a:stretch/>
        </p:blipFill>
        <p:spPr>
          <a:xfrm>
            <a:off x="5410080" y="1415880"/>
            <a:ext cx="3200400" cy="2143440"/>
          </a:xfrm>
          <a:prstGeom prst="rect">
            <a:avLst/>
          </a:prstGeom>
          <a:ln w="0">
            <a:noFill/>
          </a:ln>
        </p:spPr>
      </p:pic>
      <p:sp>
        <p:nvSpPr>
          <p:cNvPr id="280" name="Subtitle 4"/>
          <p:cNvSpPr/>
          <p:nvPr/>
        </p:nvSpPr>
        <p:spPr>
          <a:xfrm>
            <a:off x="457200" y="1166760"/>
            <a:ext cx="4686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2012, groups in Brisbane, Oxford, Rome, and Vienna reported the first 3-photon BosonSampling experiments, confirming that the amplitudes were given by 3x3 perma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Oval 13"/>
          <p:cNvSpPr/>
          <p:nvPr/>
        </p:nvSpPr>
        <p:spPr>
          <a:xfrm>
            <a:off x="4724280" y="1011240"/>
            <a:ext cx="4189680" cy="5622840"/>
          </a:xfrm>
          <a:prstGeom prst="ellipse">
            <a:avLst/>
          </a:prstGeom>
          <a:solidFill>
            <a:srgbClr val="ffe1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1"/>
          <p:cNvSpPr/>
          <p:nvPr/>
        </p:nvSpPr>
        <p:spPr>
          <a:xfrm>
            <a:off x="5105520" y="2266920"/>
            <a:ext cx="3398760" cy="4321080"/>
          </a:xfrm>
          <a:prstGeom prst="ellipse">
            <a:avLst/>
          </a:prstGeom>
          <a:solidFill>
            <a:srgbClr val="badde1"/>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2"/>
          <p:cNvSpPr/>
          <p:nvPr/>
        </p:nvSpPr>
        <p:spPr>
          <a:xfrm>
            <a:off x="243000" y="228600"/>
            <a:ext cx="40384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What This Talk Won’t Have</a:t>
            </a:r>
            <a:endParaRPr b="0" lang="en-US" sz="3800" spc="-1" strike="noStrike">
              <a:solidFill>
                <a:srgbClr val="000000"/>
              </a:solidFill>
              <a:latin typeface="Arial"/>
            </a:endParaRPr>
          </a:p>
        </p:txBody>
      </p:sp>
      <p:sp>
        <p:nvSpPr>
          <p:cNvPr id="98" name="Text Box 2"/>
          <p:cNvSpPr/>
          <p:nvPr/>
        </p:nvSpPr>
        <p:spPr>
          <a:xfrm>
            <a:off x="4875120" y="228600"/>
            <a:ext cx="4038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What It </a:t>
            </a:r>
            <a:r>
              <a:rPr b="1" i="1" lang="en-US" sz="3800" spc="-1" strike="noStrike">
                <a:solidFill>
                  <a:srgbClr val="0070c0"/>
                </a:solidFill>
                <a:latin typeface="Calibri"/>
                <a:ea typeface="Arial"/>
              </a:rPr>
              <a:t>Will</a:t>
            </a:r>
            <a:r>
              <a:rPr b="1" lang="en-US" sz="3800" spc="-1" strike="noStrike">
                <a:solidFill>
                  <a:srgbClr val="0070c0"/>
                </a:solidFill>
                <a:latin typeface="Calibri"/>
                <a:ea typeface="Arial"/>
              </a:rPr>
              <a:t> Have</a:t>
            </a:r>
            <a:endParaRPr b="0" lang="en-US" sz="3800" spc="-1" strike="noStrike">
              <a:solidFill>
                <a:srgbClr val="000000"/>
              </a:solidFill>
              <a:latin typeface="Arial"/>
            </a:endParaRPr>
          </a:p>
        </p:txBody>
      </p:sp>
      <mc:AlternateContent>
        <mc:Choice xmlns:a14="http://schemas.microsoft.com/office/drawing/2010/main" Requires="a14">
          <p:sp>
            <p:nvSpPr>
              <p:cNvPr id="99" name="Object 1"/>
              <p:cNvSpPr txBox="1"/>
              <p:nvPr/>
            </p:nvSpPr>
            <p:spPr>
              <a:xfrm>
                <a:off x="631800" y="1981080"/>
                <a:ext cx="1612800" cy="2535480"/>
              </a:xfrm>
              <a:prstGeom prst="rect">
                <a:avLst/>
              </a:prstGeom>
            </p:spPr>
            <p:txBody>
              <a:bodyPr/>
              <a:p>
                <a14:m>
                  <m:oMath xmlns:m="http://schemas.openxmlformats.org/officeDocument/2006/math">
                    <m:nary>
                      <m:naryPr>
                        <m:chr m:val="∫"/>
                        <m:subHide m:val="1"/>
                        <m:supHide m:val="1"/>
                      </m:naryPr>
                      <m:sub/>
                      <m:sup/>
                      <m:e>
                        <m:r>
                          <m:t xml:space="preserve"> </m:t>
                        </m:r>
                      </m:e>
                    </m:nary>
                  </m:oMath>
                </a14:m>
              </a:p>
            </p:txBody>
          </p:sp>
        </mc:Choice>
        <mc:Fallback/>
      </mc:AlternateContent>
      <mc:AlternateContent>
        <mc:Choice xmlns:a14="http://schemas.microsoft.com/office/drawing/2010/main" Requires="a14">
          <p:sp>
            <p:nvSpPr>
              <p:cNvPr id="100" name="Object 7"/>
              <p:cNvSpPr txBox="1"/>
              <p:nvPr/>
            </p:nvSpPr>
            <p:spPr>
              <a:xfrm>
                <a:off x="1828800" y="2744640"/>
                <a:ext cx="1341360" cy="2444760"/>
              </a:xfrm>
              <a:prstGeom prst="rect">
                <a:avLst/>
              </a:prstGeom>
            </p:spPr>
            <p:txBody>
              <a:bodyPr/>
              <a:p>
                <a14:m>
                  <m:oMath xmlns:m="http://schemas.openxmlformats.org/officeDocument/2006/math">
                    <m:f>
                      <m:num>
                        <m:r>
                          <m:t xml:space="preserve">∂</m:t>
                        </m:r>
                      </m:num>
                      <m:den>
                        <m:r>
                          <m:t xml:space="preserve">∂</m:t>
                        </m:r>
                        <m:r>
                          <m:t xml:space="preserve">z</m:t>
                        </m:r>
                      </m:den>
                    </m:f>
                  </m:oMath>
                </a14:m>
              </a:p>
            </p:txBody>
          </p:sp>
        </mc:Choice>
        <mc:Fallback/>
      </mc:AlternateContent>
      <p:sp>
        <p:nvSpPr>
          <p:cNvPr id="101" name="Oval 11"/>
          <p:cNvSpPr/>
          <p:nvPr/>
        </p:nvSpPr>
        <p:spPr>
          <a:xfrm>
            <a:off x="5324400" y="3581280"/>
            <a:ext cx="2971800" cy="303372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2"/>
          <p:cNvSpPr/>
          <p:nvPr/>
        </p:nvSpPr>
        <p:spPr>
          <a:xfrm>
            <a:off x="5562720" y="1035000"/>
            <a:ext cx="2438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3600" spc="-1" strike="noStrike" baseline="30000">
                <a:solidFill>
                  <a:srgbClr val="990099"/>
                </a:solidFill>
                <a:latin typeface="Arial"/>
                <a:ea typeface="Arial"/>
              </a:rPr>
              <a:t>#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ea typeface="Arial"/>
              </a:rPr>
              <a:t>Oracle for Counting Problems</a:t>
            </a:r>
            <a:endParaRPr b="0" lang="en-US" sz="1800" spc="-1" strike="noStrike">
              <a:solidFill>
                <a:srgbClr val="000000"/>
              </a:solidFill>
              <a:latin typeface="Arial"/>
            </a:endParaRPr>
          </a:p>
        </p:txBody>
      </p:sp>
      <p:sp>
        <p:nvSpPr>
          <p:cNvPr id="103" name="TextBox 12"/>
          <p:cNvSpPr/>
          <p:nvPr/>
        </p:nvSpPr>
        <p:spPr>
          <a:xfrm>
            <a:off x="5562720" y="3643200"/>
            <a:ext cx="2590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NP</a:t>
            </a:r>
            <a:br>
              <a:rPr sz="3600"/>
            </a:br>
            <a:r>
              <a:rPr b="1" lang="en-US" sz="1800" spc="-1" strike="noStrike">
                <a:solidFill>
                  <a:srgbClr val="990099"/>
                </a:solidFill>
                <a:latin typeface="Arial"/>
                <a:ea typeface="Arial"/>
              </a:rPr>
              <a:t>Efficiently Checkable Problems</a:t>
            </a:r>
            <a:endParaRPr b="0" lang="en-US" sz="1800" spc="-1" strike="noStrike">
              <a:solidFill>
                <a:srgbClr val="000000"/>
              </a:solidFill>
              <a:latin typeface="Arial"/>
            </a:endParaRPr>
          </a:p>
        </p:txBody>
      </p:sp>
      <p:sp>
        <p:nvSpPr>
          <p:cNvPr id="104" name="Oval 11"/>
          <p:cNvSpPr/>
          <p:nvPr/>
        </p:nvSpPr>
        <p:spPr>
          <a:xfrm>
            <a:off x="5705640" y="4944960"/>
            <a:ext cx="2209680" cy="16430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2"/>
          <p:cNvSpPr/>
          <p:nvPr/>
        </p:nvSpPr>
        <p:spPr>
          <a:xfrm>
            <a:off x="6019920" y="4944960"/>
            <a:ext cx="16761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br>
              <a:rPr sz="3600"/>
            </a:br>
            <a:r>
              <a:rPr b="1" lang="en-US" sz="1800" spc="-1" strike="noStrike">
                <a:solidFill>
                  <a:srgbClr val="990099"/>
                </a:solidFill>
                <a:latin typeface="Arial"/>
                <a:ea typeface="Arial"/>
              </a:rPr>
              <a:t>Efficiently Solvable Problems</a:t>
            </a:r>
            <a:endParaRPr b="0" lang="en-US" sz="1800" spc="-1" strike="noStrike">
              <a:solidFill>
                <a:srgbClr val="000000"/>
              </a:solidFill>
              <a:latin typeface="Arial"/>
            </a:endParaRPr>
          </a:p>
        </p:txBody>
      </p:sp>
      <p:sp>
        <p:nvSpPr>
          <p:cNvPr id="106" name="Straight Connector 3"/>
          <p:cNvSpPr/>
          <p:nvPr/>
        </p:nvSpPr>
        <p:spPr>
          <a:xfrm>
            <a:off x="4572000" y="0"/>
            <a:ext cx="0" cy="686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Box 12"/>
          <p:cNvSpPr/>
          <p:nvPr/>
        </p:nvSpPr>
        <p:spPr>
          <a:xfrm>
            <a:off x="5705640" y="2381400"/>
            <a:ext cx="220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H</a:t>
            </a:r>
            <a:br>
              <a:rPr sz="3600"/>
            </a:br>
            <a:r>
              <a:rPr b="1" lang="en-US" sz="1800" spc="-1" strike="noStrike">
                <a:solidFill>
                  <a:srgbClr val="990099"/>
                </a:solidFill>
                <a:latin typeface="Arial"/>
                <a:ea typeface="Arial"/>
              </a:rPr>
              <a:t>Constant Number of NP Quantifi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5"/>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ubtitle 4"/>
          <p:cNvSpPr/>
          <p:nvPr/>
        </p:nvSpPr>
        <p:spPr>
          <a:xfrm>
            <a:off x="455760" y="342900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10-3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282" name="Subtitle 4"/>
          <p:cNvSpPr/>
          <p:nvPr/>
        </p:nvSpPr>
        <p:spPr>
          <a:xfrm>
            <a:off x="457200" y="68580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hallenges for Scaling Up:</a:t>
            </a:r>
            <a:endParaRPr b="0" lang="en-US" sz="2800" spc="-1" strike="noStrike">
              <a:solidFill>
                <a:srgbClr val="00000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 </a:t>
            </a:r>
            <a:r>
              <a:rPr b="0" lang="en-US" sz="2400" spc="-1" strike="noStrike">
                <a:solidFill>
                  <a:srgbClr val="008000"/>
                </a:solidFill>
                <a:latin typeface="Calibri"/>
                <a:ea typeface="Calibri"/>
              </a:rPr>
              <a:t>(optical multiplexing?)</a:t>
            </a:r>
            <a:endParaRPr b="0" lang="en-US" sz="24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cattershot BosonSampling</a:t>
            </a:r>
            <a:endParaRPr b="0" lang="en-US" sz="4400" spc="-1" strike="noStrike">
              <a:solidFill>
                <a:srgbClr val="000000"/>
              </a:solidFill>
              <a:latin typeface="Arial"/>
            </a:endParaRPr>
          </a:p>
        </p:txBody>
      </p:sp>
      <p:sp>
        <p:nvSpPr>
          <p:cNvPr id="284" name="Subtitle 4"/>
          <p:cNvSpPr/>
          <p:nvPr/>
        </p:nvSpPr>
        <p:spPr>
          <a:xfrm>
            <a:off x="369720" y="1295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xciting recent idea, proposed by Steve Kolthammer and others, for sampling a hard distribution even with highly unreliable (but heralded) photon sources, like SPDCs</a:t>
            </a:r>
            <a:endParaRPr b="0" lang="en-US" sz="2800" spc="-1" strike="noStrike">
              <a:solidFill>
                <a:srgbClr val="000000"/>
              </a:solidFill>
              <a:latin typeface="Arial"/>
            </a:endParaRPr>
          </a:p>
        </p:txBody>
      </p:sp>
      <p:sp>
        <p:nvSpPr>
          <p:cNvPr id="285" name="Subtitle 4"/>
          <p:cNvSpPr/>
          <p:nvPr/>
        </p:nvSpPr>
        <p:spPr>
          <a:xfrm>
            <a:off x="401760" y="2968560"/>
            <a:ext cx="8381880" cy="457200"/>
          </a:xfrm>
          <a:prstGeom prst="rect">
            <a:avLst/>
          </a:prstGeom>
          <a:noFill/>
          <a:ln w="0">
            <a:noFill/>
          </a:ln>
        </p:spPr>
        <p:style>
          <a:lnRef idx="0"/>
          <a:fillRef idx="0"/>
          <a:effectRef idx="0"/>
          <a:fontRef idx="minor"/>
        </p:style>
        <p:txBody>
          <a:bodyPr lIns="90000" rIns="90000" tIns="46800" bIns="46800" anchor="t">
            <a:normAutofit fontScale="3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idea: </a:t>
            </a:r>
            <a:r>
              <a:rPr b="0" lang="en-US" sz="2800" spc="-1" strike="noStrike">
                <a:solidFill>
                  <a:srgbClr val="000000"/>
                </a:solidFill>
                <a:latin typeface="Calibri"/>
                <a:ea typeface="Arial"/>
              </a:rPr>
              <a:t>Say you have 100 sources, of which only 10 (on average) generate a photon.  Then just detect which sources succeed, and use those to define your BosonSampling instanc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lexity analysis turns out to go through essentially without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380880" y="22860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sing Quantum Optics to Prove that the Permanent is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a:t>
            </a:r>
            <a:br>
              <a:rPr sz="4400"/>
            </a:br>
            <a:r>
              <a:rPr b="1" lang="en-US" sz="2800" spc="-1" strike="noStrike">
                <a:solidFill>
                  <a:srgbClr val="0070c0"/>
                </a:solidFill>
                <a:latin typeface="Calibri"/>
                <a:ea typeface="Arial"/>
              </a:rPr>
              <a:t>[A., </a:t>
            </a:r>
            <a:r>
              <a:rPr b="1" i="1" lang="en-US" sz="2800" spc="-1" strike="noStrike">
                <a:solidFill>
                  <a:srgbClr val="0070c0"/>
                </a:solidFill>
                <a:latin typeface="Calibri"/>
                <a:ea typeface="Arial"/>
              </a:rPr>
              <a:t>Proc. Roy. Soc. </a:t>
            </a:r>
            <a:r>
              <a:rPr b="1" lang="en-US" sz="2800" spc="-1" strike="noStrike">
                <a:solidFill>
                  <a:srgbClr val="0070c0"/>
                </a:solidFill>
                <a:latin typeface="Calibri"/>
                <a:ea typeface="Arial"/>
              </a:rPr>
              <a:t>2011]</a:t>
            </a:r>
            <a:endParaRPr b="0" lang="en-US" sz="2800" spc="-1" strike="noStrike">
              <a:solidFill>
                <a:srgbClr val="000000"/>
              </a:solidFill>
              <a:latin typeface="Arial"/>
            </a:endParaRPr>
          </a:p>
        </p:txBody>
      </p:sp>
      <p:sp>
        <p:nvSpPr>
          <p:cNvPr id="287"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Subtitle 4"/>
          <p:cNvSpPr/>
          <p:nvPr/>
        </p:nvSpPr>
        <p:spPr>
          <a:xfrm>
            <a:off x="380880" y="220968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aliant showed that the permanent is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but his proof required strange, custom-made gadgets</a:t>
            </a:r>
            <a:endParaRPr b="0" lang="en-US" sz="2800" spc="-1" strike="noStrike">
              <a:solidFill>
                <a:srgbClr val="000000"/>
              </a:solidFill>
              <a:latin typeface="Arial"/>
            </a:endParaRPr>
          </a:p>
        </p:txBody>
      </p:sp>
      <p:sp>
        <p:nvSpPr>
          <p:cNvPr id="289" name="Subtitle 4"/>
          <p:cNvSpPr/>
          <p:nvPr/>
        </p:nvSpPr>
        <p:spPr>
          <a:xfrm>
            <a:off x="380880" y="327672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gave a new, arguably more transparent proof by combining three facts:</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hoton amplitudes correspond to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n permanent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Postselected quantum optics can simulate universal quantum computation </a:t>
            </a:r>
            <a:r>
              <a:rPr b="1" lang="en-US" sz="2800" spc="-1" strike="noStrike">
                <a:solidFill>
                  <a:srgbClr val="008000"/>
                </a:solidFill>
                <a:latin typeface="Calibri"/>
                <a:ea typeface="Calibri"/>
              </a:rPr>
              <a:t>[Knill-Laflamme-Milburn 200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Quantum computations can encode </a:t>
            </a:r>
            <a:r>
              <a:rPr b="1" lang="en-US" sz="2800" spc="-1" strike="noStrike">
                <a:solidFill>
                  <a:srgbClr val="990099"/>
                </a:solidFill>
                <a:latin typeface="Calibri"/>
                <a:ea typeface="Calibri"/>
              </a:rPr>
              <a:t>#P</a:t>
            </a:r>
            <a:r>
              <a:rPr b="0" lang="en-US" sz="2800" spc="-1" strike="noStrike">
                <a:solidFill>
                  <a:srgbClr val="000000"/>
                </a:solidFill>
                <a:latin typeface="Calibri"/>
                <a:ea typeface="Calibri"/>
              </a:rPr>
              <a:t>-complete quantities in their amplitu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288"/>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380880" y="228600"/>
            <a:ext cx="838224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BosonSampling Solve Non-Sampling Problems?</a:t>
            </a:r>
            <a:br>
              <a:rPr sz="4400"/>
            </a:br>
            <a:r>
              <a:rPr b="1" lang="en-US" sz="2800" spc="-1" strike="noStrike">
                <a:solidFill>
                  <a:srgbClr val="0070c0"/>
                </a:solidFill>
                <a:latin typeface="Calibri"/>
                <a:ea typeface="Arial"/>
              </a:rPr>
              <a:t>(Could it even have cryptographic applications?)</a:t>
            </a:r>
            <a:endParaRPr b="0" lang="en-US" sz="2800" spc="-1" strike="noStrike">
              <a:solidFill>
                <a:srgbClr val="000000"/>
              </a:solidFill>
              <a:latin typeface="Arial"/>
            </a:endParaRPr>
          </a:p>
        </p:txBody>
      </p:sp>
      <p:sp>
        <p:nvSpPr>
          <p:cNvPr id="291" name="Subtitle 4"/>
          <p:cNvSpPr/>
          <p:nvPr/>
        </p:nvSpPr>
        <p:spPr>
          <a:xfrm>
            <a:off x="415800" y="213660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dea:</a:t>
            </a:r>
            <a:r>
              <a:rPr b="0" lang="en-US" sz="2800" spc="-1" strike="noStrike">
                <a:solidFill>
                  <a:srgbClr val="000000"/>
                </a:solidFill>
                <a:latin typeface="Calibri"/>
                <a:ea typeface="Arial"/>
              </a:rPr>
              <a:t> What if we could “smuggle” a matrix A with huge permanent, as a submatrix of a larger unitary matrix U?  Finding A could be hard classically, but shooting photons into an interferometer network would easily reveal it</a:t>
            </a:r>
            <a:endParaRPr b="0" lang="en-US" sz="2800" spc="-1" strike="noStrike">
              <a:solidFill>
                <a:srgbClr val="000000"/>
              </a:solidFill>
              <a:latin typeface="Arial"/>
            </a:endParaRPr>
          </a:p>
        </p:txBody>
      </p:sp>
      <p:sp>
        <p:nvSpPr>
          <p:cNvPr id="292" name="Subtitle 4"/>
          <p:cNvSpPr/>
          <p:nvPr/>
        </p:nvSpPr>
        <p:spPr>
          <a:xfrm>
            <a:off x="380880" y="396540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essimistic Conjecture:</a:t>
            </a:r>
            <a:r>
              <a:rPr b="0" lang="en-US" sz="2800" spc="-1" strike="noStrike">
                <a:solidFill>
                  <a:srgbClr val="000000"/>
                </a:solidFill>
                <a:latin typeface="Calibri"/>
                <a:ea typeface="Arial"/>
              </a:rPr>
              <a:t> If U is unitary and |Per(U)|</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n</a:t>
            </a:r>
            <a:r>
              <a:rPr b="0" lang="en-US" sz="2800" spc="-1" strike="noStrike" baseline="30000">
                <a:solidFill>
                  <a:srgbClr val="000000"/>
                </a:solidFill>
                <a:latin typeface="Calibri"/>
                <a:ea typeface="Arial"/>
              </a:rPr>
              <a:t>O(1)</a:t>
            </a:r>
            <a:r>
              <a:rPr b="0" lang="en-US" sz="2800" spc="-1" strike="noStrike">
                <a:solidFill>
                  <a:srgbClr val="000000"/>
                </a:solidFill>
                <a:latin typeface="Calibri"/>
                <a:ea typeface="Arial"/>
              </a:rPr>
              <a:t>, then U is “close” to a permuted diagonal matrix—so it “sticks out like a sore thumb”</a:t>
            </a:r>
            <a:endParaRPr b="0" lang="en-US" sz="2800" spc="-1" strike="noStrike">
              <a:solidFill>
                <a:srgbClr val="000000"/>
              </a:solidFill>
              <a:latin typeface="Arial"/>
            </a:endParaRPr>
          </a:p>
        </p:txBody>
      </p:sp>
      <p:sp>
        <p:nvSpPr>
          <p:cNvPr id="293" name="Subtitle 4"/>
          <p:cNvSpPr/>
          <p:nvPr/>
        </p:nvSpPr>
        <p:spPr>
          <a:xfrm>
            <a:off x="415800" y="5413320"/>
            <a:ext cx="8382240" cy="457200"/>
          </a:xfrm>
          <a:prstGeom prst="rect">
            <a:avLst/>
          </a:prstGeom>
          <a:noFill/>
          <a:ln w="0">
            <a:noFill/>
          </a:ln>
        </p:spPr>
        <p:style>
          <a:lnRef idx="0"/>
          <a:fillRef idx="0"/>
          <a:effectRef idx="0"/>
          <a:fontRef idx="minor"/>
        </p:style>
        <p:txBody>
          <a:bodyPr lIns="90000" rIns="90000" tIns="46800" bIns="46800" anchor="t">
            <a:normAutofit fontScale="4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Nguyen, Israel J. Math 2014:</a:t>
            </a:r>
            <a:r>
              <a:rPr b="0" lang="en-US" sz="2800" spc="-1" strike="noStrike">
                <a:solidFill>
                  <a:srgbClr val="000000"/>
                </a:solidFill>
                <a:latin typeface="Calibri"/>
                <a:ea typeface="Arial"/>
              </a:rPr>
              <a:t> Proof of a weaker version of the pessimistic conjecture, using inverse Littlewood-Offord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291"/>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292"/>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with Lost Photons</a:t>
            </a:r>
            <a:endParaRPr b="0" lang="en-US" sz="4400" spc="-1" strike="noStrike">
              <a:solidFill>
                <a:srgbClr val="000000"/>
              </a:solidFill>
              <a:latin typeface="Arial"/>
            </a:endParaRPr>
          </a:p>
        </p:txBody>
      </p:sp>
      <p:sp>
        <p:nvSpPr>
          <p:cNvPr id="295" name="Subtitle 4"/>
          <p:cNvSpPr/>
          <p:nvPr/>
        </p:nvSpPr>
        <p:spPr>
          <a:xfrm>
            <a:off x="395280" y="1295280"/>
            <a:ext cx="8381880" cy="457200"/>
          </a:xfrm>
          <a:prstGeom prst="rect">
            <a:avLst/>
          </a:prstGeom>
          <a:noFill/>
          <a:ln w="0">
            <a:noFill/>
          </a:ln>
        </p:spPr>
        <p:style>
          <a:lnRef idx="0"/>
          <a:fillRef idx="0"/>
          <a:effectRef idx="0"/>
          <a:fontRef idx="minor"/>
        </p:style>
        <p:txBody>
          <a:bodyPr lIns="90000" rIns="90000" tIns="46800" bIns="46800" anchor="t">
            <a:normAutofit fontScale="4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we have n+k photons in the initial state, but k are randomly lost.  Then the probability of each output has the form</a:t>
            </a:r>
            <a:endParaRPr b="0" lang="en-US" sz="2800" spc="-1" strike="noStrike">
              <a:solidFill>
                <a:srgbClr val="000000"/>
              </a:solidFill>
              <a:latin typeface="Arial"/>
            </a:endParaRPr>
          </a:p>
        </p:txBody>
      </p:sp>
      <p:sp>
        <p:nvSpPr>
          <p:cNvPr id="296" name="Subtitle 4"/>
          <p:cNvSpPr/>
          <p:nvPr/>
        </p:nvSpPr>
        <p:spPr>
          <a:xfrm>
            <a:off x="430200" y="4152960"/>
            <a:ext cx="838188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can we say about these quantities?  Are they also (plausibly) </a:t>
            </a:r>
            <a:r>
              <a:rPr b="1" lang="en-US" sz="2800" spc="-1" strike="noStrike">
                <a:solidFill>
                  <a:srgbClr val="990099"/>
                </a:solidFill>
                <a:latin typeface="Calibri"/>
                <a:ea typeface="Arial"/>
              </a:rPr>
              <a:t>#P</a:t>
            </a:r>
            <a:r>
              <a:rPr b="0" lang="en-US" sz="2800" spc="-1" strike="noStrike">
                <a:solidFill>
                  <a:srgbClr val="000000"/>
                </a:solidFill>
                <a:latin typeface="Calibri"/>
                <a:ea typeface="Arial"/>
              </a:rPr>
              <a:t>-hard to approximat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ork in progress with Daniel Brod</a:t>
            </a:r>
            <a:endParaRPr b="0" lang="en-US" sz="2800" spc="-1" strike="noStrike">
              <a:solidFill>
                <a:srgbClr val="000000"/>
              </a:solidFill>
              <a:latin typeface="Arial"/>
            </a:endParaRPr>
          </a:p>
        </p:txBody>
      </p:sp>
      <mc:AlternateContent>
        <mc:Choice xmlns:a14="http://schemas.microsoft.com/office/drawing/2010/main" Requires="a14">
          <p:sp>
            <p:nvSpPr>
              <p:cNvPr id="297" name="Object 1"/>
              <p:cNvSpPr txBox="1"/>
              <p:nvPr/>
            </p:nvSpPr>
            <p:spPr>
              <a:xfrm>
                <a:off x="2057400" y="2649600"/>
                <a:ext cx="2989440" cy="1476360"/>
              </a:xfrm>
              <a:prstGeom prst="rect">
                <a:avLst/>
              </a:prstGeom>
            </p:spPr>
            <p:txBody>
              <a:bodyPr/>
              <a:p>
                <a14:m>
                  <m:oMath xmlns:m="http://schemas.openxmlformats.org/officeDocument/2006/math">
                    <m:eqArr>
                      <m:e>
                        <m:nary>
                          <m:naryPr>
                            <m:chr m:val="∑"/>
                            <m:supHide m:val="1"/>
                          </m:naryPr>
                          <m:sub>
                            <m:d>
                              <m:dPr>
                                <m:begChr m:val="|"/>
                                <m:endChr m:val="|"/>
                              </m:dPr>
                              <m:e>
                                <m:r>
                                  <m:t xml:space="preserve">S</m:t>
                                </m:r>
                              </m:e>
                            </m:d>
                            <m:r>
                              <m:t xml:space="preserve">=</m:t>
                            </m:r>
                            <m:r>
                              <m:t xml:space="preserve">n</m:t>
                            </m:r>
                          </m:sub>
                          <m:sup/>
                          <m:e/>
                        </m:nary>
                        <m:r>
                          <m:t xml:space="preserve">S</m:t>
                        </m:r>
                        <m:r>
                          <m:t xml:space="preserve">⊂</m:t>
                        </m:r>
                        <m:d>
                          <m:dPr>
                            <m:begChr m:val="{"/>
                            <m:endChr m:val="}"/>
                          </m:dPr>
                          <m:e>
                            <m:r>
                              <m:t xml:space="preserve">1</m:t>
                            </m:r>
                            <m:r>
                              <m:t xml:space="preserve">,</m:t>
                            </m:r>
                            <m:r>
                              <m:t xml:space="preserve">…</m:t>
                            </m:r>
                            <m:r>
                              <m:t xml:space="preserve">,</m:t>
                            </m:r>
                            <m:r>
                              <m:t xml:space="preserve">n</m:t>
                            </m:r>
                            <m:r>
                              <m:t xml:space="preserve">+</m:t>
                            </m:r>
                            <m:r>
                              <m:t xml:space="preserve">k</m:t>
                            </m:r>
                          </m:e>
                        </m:d>
                      </m:e>
                    </m:eqArr>
                  </m:oMath>
                </a14:m>
              </a:p>
            </p:txBody>
          </p:sp>
        </mc:Choice>
        <mc:Fallback/>
      </mc:AlternateContent>
      <mc:AlternateContent>
        <mc:Choice xmlns:a14="http://schemas.microsoft.com/office/drawing/2010/main" Requires="a14">
          <p:sp>
            <p:nvSpPr>
              <p:cNvPr id="298" name="Object 5"/>
              <p:cNvSpPr txBox="1"/>
              <p:nvPr/>
            </p:nvSpPr>
            <p:spPr>
              <a:xfrm>
                <a:off x="5840280" y="2895480"/>
                <a:ext cx="2987640" cy="719280"/>
              </a:xfrm>
              <a:prstGeom prst="rect">
                <a:avLst/>
              </a:prstGeom>
            </p:spPr>
            <p:txBody>
              <a:bodyPr/>
              <a:p>
                <a14:m>
                  <m:oMath xmlns:m="http://schemas.openxmlformats.org/officeDocument/2006/math">
                    <m:r>
                      <m:t xml:space="preserve">A</m:t>
                    </m:r>
                    <m:r>
                      <m:rPr>
                        <m:lit/>
                        <m:nor/>
                      </m:rPr>
                      <m:t xml:space="preserve">~</m:t>
                    </m:r>
                    <m:r>
                      <m:t xml:space="preserve">N</m:t>
                    </m:r>
                    <m:sSup>
                      <m:e>
                        <m:d>
                          <m:dPr>
                            <m:begChr m:val="("/>
                            <m:endChr m:val=")"/>
                          </m:dPr>
                          <m:e>
                            <m:r>
                              <m:t xml:space="preserve">0,1</m:t>
                            </m:r>
                          </m:e>
                        </m:d>
                      </m:e>
                      <m:sup>
                        <m:r>
                          <m:t xml:space="preserve">n</m:t>
                        </m:r>
                        <m:r>
                          <m:t xml:space="preserve">×</m:t>
                        </m:r>
                        <m:d>
                          <m:dPr>
                            <m:begChr m:val="("/>
                            <m:endChr m:val=")"/>
                          </m:dPr>
                          <m:e>
                            <m:r>
                              <m:t xml:space="preserve">n</m:t>
                            </m:r>
                            <m:r>
                              <m:t xml:space="preserve">+</m:t>
                            </m:r>
                            <m:r>
                              <m:t xml:space="preserve">k</m:t>
                            </m:r>
                          </m:e>
                        </m:d>
                      </m:sup>
                    </m:sSup>
                  </m:oMath>
                </a14:m>
              </a:p>
            </p:txBody>
          </p:sp>
        </mc:Choice>
        <mc:Fallback/>
      </mc:AlternateContent>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
                                  <p:stCondLst>
                                    <p:cond delay="0"/>
                                  </p:stCondLst>
                                  <p:childTnLst>
                                    <p:set>
                                      <p:cBhvr>
                                        <p:cTn id="399"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228600" y="2206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ummary</a:t>
            </a:r>
            <a:endParaRPr b="0" lang="en-US" sz="4400" spc="-1" strike="noStrike">
              <a:solidFill>
                <a:srgbClr val="000000"/>
              </a:solidFill>
              <a:latin typeface="Arial"/>
            </a:endParaRPr>
          </a:p>
        </p:txBody>
      </p:sp>
      <p:sp>
        <p:nvSpPr>
          <p:cNvPr id="300" name="Text Box 3"/>
          <p:cNvSpPr/>
          <p:nvPr/>
        </p:nvSpPr>
        <p:spPr>
          <a:xfrm>
            <a:off x="343080" y="990720"/>
            <a:ext cx="8458200" cy="56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tuition suggests that not merely quantum computers, but </a:t>
            </a:r>
            <a:r>
              <a:rPr b="0" i="1" lang="en-US" sz="2800" spc="-1" strike="noStrike">
                <a:solidFill>
                  <a:srgbClr val="000000"/>
                </a:solidFill>
                <a:latin typeface="Calibri"/>
                <a:ea typeface="Arial"/>
              </a:rPr>
              <a:t>many</a:t>
            </a:r>
            <a:r>
              <a:rPr b="0" lang="en-US" sz="2800" spc="-1" strike="noStrike">
                <a:solidFill>
                  <a:srgbClr val="000000"/>
                </a:solidFill>
                <a:latin typeface="Calibri"/>
                <a:ea typeface="Arial"/>
              </a:rPr>
              <a:t> natural quantum systems, should be intractable to simulate on classical computers, because of the exponentiality of th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osonSampling provides a clear example of how we can formalize this intuition—or at least, base it on “standard” conjectures in theoretical computer scie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t’s also brought QC theory into closer contact with experiment.  And it’s highlighted the remarkable connection between bosons and the matrix permanent.  Future progress may depend on solving hard open problems about the perma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1">
                                  <p:stCondLst>
                                    <p:cond delay="0"/>
                                  </p:stCondLst>
                                  <p:childTnLst>
                                    <p:set>
                                      <p:cBhvr>
                                        <p:cTn id="405"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23760" y="152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Bonus: Rise and Fall of “Complexity”</a:t>
            </a:r>
            <a:endParaRPr b="0" lang="en-US" sz="4200" spc="-1" strike="noStrike">
              <a:solidFill>
                <a:srgbClr val="000000"/>
              </a:solidFill>
              <a:latin typeface="Arial"/>
            </a:endParaRPr>
          </a:p>
        </p:txBody>
      </p:sp>
      <p:sp>
        <p:nvSpPr>
          <p:cNvPr id="302" name="Rectangle 41"/>
          <p:cNvSpPr/>
          <p:nvPr/>
        </p:nvSpPr>
        <p:spPr>
          <a:xfrm>
            <a:off x="333360" y="4491000"/>
            <a:ext cx="854064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But how to quantify?  One simpleminded measure: </a:t>
            </a:r>
            <a:r>
              <a:rPr b="1" lang="en-US" sz="2700" spc="-1" strike="noStrike">
                <a:solidFill>
                  <a:srgbClr val="ff0000"/>
                </a:solidFill>
                <a:latin typeface="Calibri"/>
                <a:ea typeface="Arial"/>
              </a:rPr>
              <a:t>apparent complexity.</a:t>
            </a:r>
            <a:r>
              <a:rPr b="0" lang="en-US" sz="2700" spc="-1" strike="noStrike">
                <a:solidFill>
                  <a:srgbClr val="000000"/>
                </a:solidFill>
                <a:latin typeface="Calibri"/>
                <a:ea typeface="Arial"/>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 Kolmogorov complexity (estimated, say, by GZIP file size) of a </a:t>
            </a:r>
            <a:r>
              <a:rPr b="0" i="1" lang="en-US" sz="2700" spc="-1" strike="noStrike">
                <a:solidFill>
                  <a:srgbClr val="000000"/>
                </a:solidFill>
                <a:latin typeface="Calibri"/>
                <a:ea typeface="Arial"/>
              </a:rPr>
              <a:t>coarse-grained</a:t>
            </a:r>
            <a:r>
              <a:rPr b="0" lang="en-US" sz="2700" spc="-1" strike="noStrike">
                <a:solidFill>
                  <a:srgbClr val="000000"/>
                </a:solidFill>
                <a:latin typeface="Calibri"/>
                <a:ea typeface="Arial"/>
              </a:rPr>
              <a:t> (de-noised) description of our thermodynamic mixing process.  Does it rise and then fall?</a:t>
            </a:r>
            <a:endParaRPr b="0" lang="en-US" sz="2700" spc="-1" strike="noStrike">
              <a:solidFill>
                <a:srgbClr val="000000"/>
              </a:solidFill>
              <a:latin typeface="Arial"/>
            </a:endParaRPr>
          </a:p>
        </p:txBody>
      </p:sp>
      <p:pic>
        <p:nvPicPr>
          <p:cNvPr id="303" name="Picture 7" descr="http://www.scottaaronson.com/coffee-lrg.jpg"/>
          <p:cNvPicPr/>
          <p:nvPr/>
        </p:nvPicPr>
        <p:blipFill>
          <a:blip r:embed="rId1"/>
          <a:srcRect l="2583" t="25829" r="2583" b="20448"/>
          <a:stretch/>
        </p:blipFill>
        <p:spPr>
          <a:xfrm>
            <a:off x="360360" y="1571760"/>
            <a:ext cx="4668840" cy="2116080"/>
          </a:xfrm>
          <a:prstGeom prst="rect">
            <a:avLst/>
          </a:prstGeom>
          <a:ln w="0">
            <a:noFill/>
          </a:ln>
        </p:spPr>
      </p:pic>
      <p:sp>
        <p:nvSpPr>
          <p:cNvPr id="304" name="Rectangle 41"/>
          <p:cNvSpPr/>
          <p:nvPr/>
        </p:nvSpPr>
        <p:spPr>
          <a:xfrm>
            <a:off x="336600" y="1042920"/>
            <a:ext cx="4235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Sean Carroll’s example:</a:t>
            </a:r>
            <a:endParaRPr b="0" lang="en-US" sz="2700" spc="-1" strike="noStrike">
              <a:solidFill>
                <a:srgbClr val="000000"/>
              </a:solidFill>
              <a:latin typeface="Arial"/>
            </a:endParaRPr>
          </a:p>
        </p:txBody>
      </p:sp>
      <p:pic>
        <p:nvPicPr>
          <p:cNvPr id="305" name="Picture 2" descr="http://www.scottaaronson.com/complexity-lrg.jpg"/>
          <p:cNvPicPr/>
          <p:nvPr/>
        </p:nvPicPr>
        <p:blipFill>
          <a:blip r:embed="rId2"/>
          <a:stretch/>
        </p:blipFill>
        <p:spPr>
          <a:xfrm>
            <a:off x="4756320" y="1163520"/>
            <a:ext cx="4276440" cy="328608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23760" y="2376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The Coffee Automaton</a:t>
            </a:r>
            <a:endParaRPr b="0" lang="en-US" sz="4200" spc="-1" strike="noStrike">
              <a:solidFill>
                <a:srgbClr val="000000"/>
              </a:solidFill>
              <a:latin typeface="Arial"/>
            </a:endParaRPr>
          </a:p>
        </p:txBody>
      </p:sp>
      <p:sp>
        <p:nvSpPr>
          <p:cNvPr id="307" name="Rectangle 41"/>
          <p:cNvSpPr/>
          <p:nvPr/>
        </p:nvSpPr>
        <p:spPr>
          <a:xfrm>
            <a:off x="220680" y="622440"/>
            <a:ext cx="869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A., Carroll, Mohan, Ouellette, Werness 2015:</a:t>
            </a:r>
            <a:r>
              <a:rPr b="0" lang="en-US" sz="2700" spc="-1" strike="noStrike">
                <a:solidFill>
                  <a:srgbClr val="000000"/>
                </a:solidFill>
                <a:latin typeface="Calibri"/>
                <a:ea typeface="Arial"/>
              </a:rPr>
              <a:t> A probabilistic n</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n reversible system that starts half “coffee” and half “cream.”  At each time step, we randomly “shear” half the coffee cup horizontally or vertically (assuming a toroidal cup)</a:t>
            </a:r>
            <a:endParaRPr b="0" lang="en-US" sz="2700" spc="-1" strike="noStrike">
              <a:solidFill>
                <a:srgbClr val="000000"/>
              </a:solidFill>
              <a:latin typeface="Arial"/>
            </a:endParaRPr>
          </a:p>
        </p:txBody>
      </p:sp>
      <p:pic>
        <p:nvPicPr>
          <p:cNvPr id="308" name="Picture 1" descr=""/>
          <p:cNvPicPr/>
          <p:nvPr/>
        </p:nvPicPr>
        <p:blipFill>
          <a:blip r:embed="rId1"/>
          <a:stretch/>
        </p:blipFill>
        <p:spPr>
          <a:xfrm>
            <a:off x="217440" y="2438280"/>
            <a:ext cx="4295880" cy="4324320"/>
          </a:xfrm>
          <a:prstGeom prst="rect">
            <a:avLst/>
          </a:prstGeom>
          <a:ln w="0">
            <a:noFill/>
          </a:ln>
        </p:spPr>
      </p:pic>
      <p:pic>
        <p:nvPicPr>
          <p:cNvPr id="309" name="Picture 7" descr=""/>
          <p:cNvPicPr/>
          <p:nvPr/>
        </p:nvPicPr>
        <p:blipFill>
          <a:blip r:embed="rId2"/>
          <a:stretch/>
        </p:blipFill>
        <p:spPr>
          <a:xfrm>
            <a:off x="252360" y="2482920"/>
            <a:ext cx="4295880" cy="4305240"/>
          </a:xfrm>
          <a:prstGeom prst="rect">
            <a:avLst/>
          </a:prstGeom>
          <a:ln w="0">
            <a:noFill/>
          </a:ln>
        </p:spPr>
      </p:pic>
      <p:pic>
        <p:nvPicPr>
          <p:cNvPr id="310" name="Picture 8" descr=""/>
          <p:cNvPicPr/>
          <p:nvPr/>
        </p:nvPicPr>
        <p:blipFill>
          <a:blip r:embed="rId3"/>
          <a:stretch/>
        </p:blipFill>
        <p:spPr>
          <a:xfrm>
            <a:off x="247680" y="2482920"/>
            <a:ext cx="4295880" cy="4295880"/>
          </a:xfrm>
          <a:prstGeom prst="rect">
            <a:avLst/>
          </a:prstGeom>
          <a:ln w="0">
            <a:noFill/>
          </a:ln>
        </p:spPr>
      </p:pic>
      <p:pic>
        <p:nvPicPr>
          <p:cNvPr id="311" name="Picture 9" descr=""/>
          <p:cNvPicPr/>
          <p:nvPr/>
        </p:nvPicPr>
        <p:blipFill>
          <a:blip r:embed="rId4"/>
          <a:stretch/>
        </p:blipFill>
        <p:spPr>
          <a:xfrm>
            <a:off x="200160" y="2454120"/>
            <a:ext cx="4343400" cy="4353120"/>
          </a:xfrm>
          <a:prstGeom prst="rect">
            <a:avLst/>
          </a:prstGeom>
          <a:ln w="0">
            <a:noFill/>
          </a:ln>
        </p:spPr>
      </p:pic>
      <p:pic>
        <p:nvPicPr>
          <p:cNvPr id="312" name="Picture 10" descr=""/>
          <p:cNvPicPr/>
          <p:nvPr/>
        </p:nvPicPr>
        <p:blipFill>
          <a:blip r:embed="rId5"/>
          <a:stretch/>
        </p:blipFill>
        <p:spPr>
          <a:xfrm>
            <a:off x="219240" y="2454120"/>
            <a:ext cx="4305240" cy="4324680"/>
          </a:xfrm>
          <a:prstGeom prst="rect">
            <a:avLst/>
          </a:prstGeom>
          <a:ln w="0">
            <a:noFill/>
          </a:ln>
        </p:spPr>
      </p:pic>
      <p:pic>
        <p:nvPicPr>
          <p:cNvPr id="313" name="Picture 11" descr=""/>
          <p:cNvPicPr/>
          <p:nvPr/>
        </p:nvPicPr>
        <p:blipFill>
          <a:blip r:embed="rId6"/>
          <a:stretch/>
        </p:blipFill>
        <p:spPr>
          <a:xfrm>
            <a:off x="219240" y="2454120"/>
            <a:ext cx="4324320" cy="4314960"/>
          </a:xfrm>
          <a:prstGeom prst="rect">
            <a:avLst/>
          </a:prstGeom>
          <a:ln w="0">
            <a:noFill/>
          </a:ln>
        </p:spPr>
      </p:pic>
      <p:pic>
        <p:nvPicPr>
          <p:cNvPr id="314" name="Picture 12" descr=""/>
          <p:cNvPicPr/>
          <p:nvPr/>
        </p:nvPicPr>
        <p:blipFill>
          <a:blip r:embed="rId7"/>
          <a:stretch/>
        </p:blipFill>
        <p:spPr>
          <a:xfrm>
            <a:off x="237960" y="2459160"/>
            <a:ext cx="4305600" cy="4314600"/>
          </a:xfrm>
          <a:prstGeom prst="rect">
            <a:avLst/>
          </a:prstGeom>
          <a:ln w="0">
            <a:noFill/>
          </a:ln>
        </p:spPr>
      </p:pic>
      <p:sp>
        <p:nvSpPr>
          <p:cNvPr id="315" name="Rectangle 41"/>
          <p:cNvSpPr/>
          <p:nvPr/>
        </p:nvSpPr>
        <p:spPr>
          <a:xfrm>
            <a:off x="4724280" y="2460600"/>
            <a:ext cx="426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e prove that the apparent complexity of this image has a rising-falling pattern, with a maximum of at least ~n</a:t>
            </a:r>
            <a:r>
              <a:rPr b="0" lang="en-US" sz="2700" spc="-1" strike="noStrike" baseline="30000">
                <a:solidFill>
                  <a:srgbClr val="000000"/>
                </a:solidFill>
                <a:latin typeface="Calibri"/>
                <a:ea typeface="Arial"/>
              </a:rPr>
              <a:t>1/6</a:t>
            </a:r>
            <a:endParaRPr b="0" lang="en-US" sz="2700" spc="-1" strike="noStrike">
              <a:solidFill>
                <a:srgbClr val="000000"/>
              </a:solidFill>
              <a:latin typeface="Arial"/>
            </a:endParaRPr>
          </a:p>
        </p:txBody>
      </p:sp>
      <p:pic>
        <p:nvPicPr>
          <p:cNvPr id="316" name="Chart 16" descr=""/>
          <p:cNvPicPr/>
          <p:nvPr/>
        </p:nvPicPr>
        <p:blipFill>
          <a:blip r:embed="rId8"/>
          <a:stretch/>
        </p:blipFill>
        <p:spPr>
          <a:xfrm>
            <a:off x="4346640" y="3889440"/>
            <a:ext cx="10740960" cy="364500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309"/>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310"/>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311"/>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312"/>
                                        </p:tgtEl>
                                        <p:attrNameLst>
                                          <p:attrName>style.visibility</p:attrName>
                                        </p:attrNameLst>
                                      </p:cBhvr>
                                      <p:to>
                                        <p:strVal val="visible"/>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0"/>
                                          </p:stCondLst>
                                        </p:cTn>
                                        <p:tgtEl>
                                          <p:spTgt spid="313"/>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Vertical Scroll 10"/>
          <p:cNvSpPr/>
          <p:nvPr/>
        </p:nvSpPr>
        <p:spPr>
          <a:xfrm>
            <a:off x="1219320" y="380880"/>
            <a:ext cx="6629400" cy="48006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5" descr="shor"/>
          <p:cNvPicPr/>
          <p:nvPr/>
        </p:nvPicPr>
        <p:blipFill>
          <a:blip r:embed="rId1"/>
          <a:srcRect l="1600" t="2400" r="16003" b="2400"/>
          <a:stretch/>
        </p:blipFill>
        <p:spPr>
          <a:xfrm>
            <a:off x="7238880" y="2133720"/>
            <a:ext cx="989280" cy="761760"/>
          </a:xfrm>
          <a:prstGeom prst="rect">
            <a:avLst/>
          </a:prstGeom>
          <a:ln w="0">
            <a:noFill/>
          </a:ln>
        </p:spPr>
      </p:pic>
      <p:pic>
        <p:nvPicPr>
          <p:cNvPr id="110" name="Picture 5" descr="shor"/>
          <p:cNvPicPr/>
          <p:nvPr/>
        </p:nvPicPr>
        <p:blipFill>
          <a:blip r:embed="rId2"/>
          <a:srcRect l="16003" t="2400" r="1600" b="2400"/>
          <a:stretch/>
        </p:blipFill>
        <p:spPr>
          <a:xfrm>
            <a:off x="838080" y="2133720"/>
            <a:ext cx="989280" cy="761760"/>
          </a:xfrm>
          <a:prstGeom prst="rect">
            <a:avLst/>
          </a:prstGeom>
          <a:ln w="0">
            <a:noFill/>
          </a:ln>
        </p:spPr>
      </p:pic>
      <p:sp>
        <p:nvSpPr>
          <p:cNvPr id="111" name="Freeform 8"/>
          <p:cNvSpPr/>
          <p:nvPr/>
        </p:nvSpPr>
        <p:spPr>
          <a:xfrm>
            <a:off x="1752480" y="2209680"/>
            <a:ext cx="1511280" cy="463680"/>
          </a:xfrm>
          <a:custGeom>
            <a:avLst/>
            <a:gdLst>
              <a:gd name="textAreaLeft" fmla="*/ 0 w 1511280"/>
              <a:gd name="textAreaRight" fmla="*/ 1511640 w 1511280"/>
              <a:gd name="textAreaTop" fmla="*/ 0 h 463680"/>
              <a:gd name="textAreaBottom" fmla="*/ 464040 h 463680"/>
            </a:gdLst>
            <a:ahLst/>
            <a:rect l="textAreaLeft" t="textAreaTop" r="textAreaRight" b="textAreaBottom"/>
            <a:pathLst>
              <a:path w="1511808" h="463296">
                <a:moveTo>
                  <a:pt x="12192" y="195072"/>
                </a:moveTo>
                <a:lnTo>
                  <a:pt x="1511808" y="0"/>
                </a:lnTo>
                <a:lnTo>
                  <a:pt x="743712" y="134112"/>
                </a:lnTo>
                <a:lnTo>
                  <a:pt x="1341120" y="463296"/>
                </a:lnTo>
                <a:lnTo>
                  <a:pt x="658368" y="146304"/>
                </a:lnTo>
                <a:lnTo>
                  <a:pt x="0" y="25603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9"/>
          <p:cNvSpPr/>
          <p:nvPr/>
        </p:nvSpPr>
        <p:spPr>
          <a:xfrm>
            <a:off x="5257800" y="1600200"/>
            <a:ext cx="2000160" cy="1378080"/>
          </a:xfrm>
          <a:custGeom>
            <a:avLst/>
            <a:gdLst>
              <a:gd name="textAreaLeft" fmla="*/ 0 w 2000160"/>
              <a:gd name="textAreaRight" fmla="*/ 2000520 w 2000160"/>
              <a:gd name="textAreaTop" fmla="*/ 0 h 1378080"/>
              <a:gd name="textAreaBottom" fmla="*/ 1378440 h 1378080"/>
            </a:gdLst>
            <a:ahLst/>
            <a:rect l="textAreaLeft" t="textAreaTop" r="textAreaRight" b="textAreaBottom"/>
            <a:pathLst>
              <a:path w="1999488" h="1377696">
                <a:moveTo>
                  <a:pt x="1987296" y="841248"/>
                </a:moveTo>
                <a:lnTo>
                  <a:pt x="743712" y="0"/>
                </a:lnTo>
                <a:lnTo>
                  <a:pt x="1219200" y="377952"/>
                </a:lnTo>
                <a:lnTo>
                  <a:pt x="304800" y="329184"/>
                </a:lnTo>
                <a:lnTo>
                  <a:pt x="1207008" y="414528"/>
                </a:lnTo>
                <a:lnTo>
                  <a:pt x="1548384" y="633984"/>
                </a:lnTo>
                <a:lnTo>
                  <a:pt x="280416" y="902208"/>
                </a:lnTo>
                <a:lnTo>
                  <a:pt x="1584960" y="670560"/>
                </a:lnTo>
                <a:lnTo>
                  <a:pt x="1938528" y="877824"/>
                </a:lnTo>
                <a:lnTo>
                  <a:pt x="0" y="1377696"/>
                </a:lnTo>
                <a:lnTo>
                  <a:pt x="1999488" y="92659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16"/>
          <p:cNvSpPr/>
          <p:nvPr/>
        </p:nvSpPr>
        <p:spPr>
          <a:xfrm>
            <a:off x="304920" y="5562720"/>
            <a:ext cx="8610480" cy="1464480"/>
          </a:xfrm>
          <a:prstGeom prst="rect">
            <a:avLst/>
          </a:prstGeom>
          <a:solidFill>
            <a:srgbClr val="e4f2f4"/>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Shor’s Theorem:</a:t>
            </a:r>
            <a:r>
              <a:rPr b="0" lang="en-US" sz="3000" spc="-1" strike="noStrike">
                <a:solidFill>
                  <a:srgbClr val="000000"/>
                </a:solidFill>
                <a:latin typeface="Calibri"/>
              </a:rPr>
              <a:t>  QUANTUM SIMULATION has no efficient classical algorithm, unless FACTORING does also</a:t>
            </a:r>
            <a:endParaRPr b="0" lang="en-US" sz="3000" spc="-1" strike="noStrike">
              <a:solidFill>
                <a:srgbClr val="000000"/>
              </a:solidFill>
              <a:latin typeface="Arial"/>
            </a:endParaRPr>
          </a:p>
        </p:txBody>
      </p:sp>
      <p:sp>
        <p:nvSpPr>
          <p:cNvPr id="114" name="Text Box 16"/>
          <p:cNvSpPr/>
          <p:nvPr/>
        </p:nvSpPr>
        <p:spPr>
          <a:xfrm>
            <a:off x="2057400" y="1143000"/>
            <a:ext cx="4952880" cy="443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feasibly computable in the physical world is feasibly computable by a </a:t>
            </a:r>
            <a:r>
              <a:rPr b="0" lang="en-US" sz="2400" spc="-1" strike="noStrike">
                <a:solidFill>
                  <a:srgbClr val="000000"/>
                </a:solidFill>
                <a:latin typeface="Calibri"/>
              </a:rPr>
              <a:t>(probabilistic)</a:t>
            </a:r>
            <a:r>
              <a:rPr b="0" lang="en-US" sz="3200" spc="-1" strike="noStrike">
                <a:solidFill>
                  <a:srgbClr val="000000"/>
                </a:solidFill>
                <a:latin typeface="Calibri"/>
              </a:rPr>
              <a:t> Turing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gtEl>
                                        <p:attrNameLst>
                                          <p:attrName>style.visibility</p:attrName>
                                        </p:attrNameLst>
                                      </p:cBhvr>
                                      <p:to>
                                        <p:strVal val="visible"/>
                                      </p:to>
                                    </p:set>
                                    <p:anim calcmode="lin" valueType="num">
                                      <p:cBhvr additive="base">
                                        <p:cTn id="19" dur="500" fill="hold"/>
                                        <p:tgtEl>
                                          <p:spTgt spid="110"/>
                                        </p:tgtEl>
                                        <p:attrNameLst>
                                          <p:attrName>ppt_x</p:attrName>
                                        </p:attrNameLst>
                                      </p:cBhvr>
                                      <p:tavLst>
                                        <p:tav tm="0">
                                          <p:val>
                                            <p:strVal val="0-#ppt_w/2"/>
                                          </p:val>
                                        </p:tav>
                                        <p:tav tm="100000">
                                          <p:val>
                                            <p:strVal val="#ppt_x"/>
                                          </p:val>
                                        </p:tav>
                                      </p:tavLst>
                                    </p:anim>
                                    <p:anim calcmode="lin" valueType="num">
                                      <p:cBhvr additive="base">
                                        <p:cTn id="20" dur="500" fill="hold"/>
                                        <p:tgtEl>
                                          <p:spTgt spid="110"/>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500"/>
                            </p:stCondLst>
                            <p:childTnLst>
                              <p:par>
                                <p:cTn id="22" nodeType="afterEffect" fill="hold" presetClass="entr" presetID="2" presetSubtype="2">
                                  <p:stCondLst>
                                    <p:cond delay="500"/>
                                  </p:stCondLst>
                                  <p:childTnLst>
                                    <p:set>
                                      <p:cBhvr>
                                        <p:cTn id="23" dur="1" fill="hold">
                                          <p:stCondLst>
                                            <p:cond delay="0"/>
                                          </p:stCondLst>
                                        </p:cTn>
                                        <p:tgtEl>
                                          <p:spTgt spid="109"/>
                                        </p:tgtEl>
                                        <p:attrNameLst>
                                          <p:attrName>style.visibility</p:attrName>
                                        </p:attrNameLst>
                                      </p:cBhvr>
                                      <p:to>
                                        <p:strVal val="visible"/>
                                      </p:to>
                                    </p:set>
                                    <p:anim calcmode="lin" valueType="num">
                                      <p:cBhvr additive="base">
                                        <p:cTn id="24" dur="500" fill="hold"/>
                                        <p:tgtEl>
                                          <p:spTgt spid="109"/>
                                        </p:tgtEl>
                                        <p:attrNameLst>
                                          <p:attrName>ppt_x</p:attrName>
                                        </p:attrNameLst>
                                      </p:cBhvr>
                                      <p:tavLst>
                                        <p:tav tm="0">
                                          <p:val>
                                            <p:strVal val="1+#ppt_w/2"/>
                                          </p:val>
                                        </p:tav>
                                        <p:tav tm="100000">
                                          <p:val>
                                            <p:strVal val="#ppt_x"/>
                                          </p:val>
                                        </p:tav>
                                      </p:tavLst>
                                    </p:anim>
                                    <p:anim calcmode="lin" valueType="num">
                                      <p:cBhvr additive="base">
                                        <p:cTn id="25" dur="500" fill="hold"/>
                                        <p:tgtEl>
                                          <p:spTgt spid="109"/>
                                        </p:tgtEl>
                                        <p:attrNameLst>
                                          <p:attrName>ppt_y</p:attrName>
                                        </p:attrNameLst>
                                      </p:cBhvr>
                                      <p:tavLst>
                                        <p:tav tm="0">
                                          <p:val>
                                            <p:strVal val="#ppt_y"/>
                                          </p:val>
                                        </p:tav>
                                        <p:tav tm="100000">
                                          <p:val>
                                            <p:strVal val="#ppt_y"/>
                                          </p:val>
                                        </p:tav>
                                      </p:tavLst>
                                    </p:anim>
                                  </p:childTnLst>
                                </p:cTn>
                              </p:par>
                            </p:childTnLst>
                          </p:cTn>
                        </p:par>
                        <p:par>
                          <p:cTn id="26" nodeType="afterEffect" fill="hold">
                            <p:stCondLst>
                              <p:cond delay="1500"/>
                            </p:stCondLst>
                            <p:childTnLst>
                              <p:par>
                                <p:cTn id="27" nodeType="afterEffect" fill="hold" presetClass="entr" presetID="1">
                                  <p:stCondLst>
                                    <p:cond delay="500"/>
                                  </p:stCondLst>
                                  <p:childTnLst>
                                    <p:set>
                                      <p:cBhvr>
                                        <p:cTn id="28" dur="1" fill="hold">
                                          <p:stCondLst>
                                            <p:cond delay="0"/>
                                          </p:stCondLst>
                                        </p:cTn>
                                        <p:tgtEl>
                                          <p:spTgt spid="111"/>
                                        </p:tgtEl>
                                        <p:attrNameLst>
                                          <p:attrName>style.visibility</p:attrName>
                                        </p:attrNameLst>
                                      </p:cBhvr>
                                      <p:to>
                                        <p:strVal val="visible"/>
                                      </p:to>
                                    </p:set>
                                  </p:childTnLst>
                                </p:cTn>
                              </p:par>
                            </p:childTnLst>
                          </p:cTn>
                        </p:par>
                        <p:par>
                          <p:cTn id="29" nodeType="afterEffect" fill="hold">
                            <p:stCondLst>
                              <p:cond delay="2000"/>
                            </p:stCondLst>
                            <p:childTnLst>
                              <p:par>
                                <p:cTn id="30" nodeType="afterEffect" fill="hold" presetClass="entr" presetID="1">
                                  <p:stCondLst>
                                    <p:cond delay="0"/>
                                  </p:stCondLst>
                                  <p:childTnLst>
                                    <p:set>
                                      <p:cBhvr>
                                        <p:cTn id="31" dur="1" fill="hold">
                                          <p:stCondLst>
                                            <p:cond delay="0"/>
                                          </p:stCondLst>
                                        </p:cTn>
                                        <p:tgtEl>
                                          <p:spTgt spid="112"/>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3"/>
                                        </p:tgtEl>
                                        <p:attrNameLst>
                                          <p:attrName>style.visibility</p:attrName>
                                        </p:attrNameLst>
                                      </p:cBhvr>
                                      <p:to>
                                        <p:strVal val="visible"/>
                                      </p:to>
                                    </p:set>
                                    <p:anim calcmode="lin" valueType="num">
                                      <p:cBhvr additive="base">
                                        <p:cTn id="36" dur="500" fill="hold"/>
                                        <p:tgtEl>
                                          <p:spTgt spid="113"/>
                                        </p:tgtEl>
                                        <p:attrNameLst>
                                          <p:attrName>ppt_x</p:attrName>
                                        </p:attrNameLst>
                                      </p:cBhvr>
                                      <p:tavLst>
                                        <p:tav tm="0">
                                          <p:val>
                                            <p:strVal val="#ppt_x"/>
                                          </p:val>
                                        </p:tav>
                                        <p:tav tm="100000">
                                          <p:val>
                                            <p:strVal val="#ppt_x"/>
                                          </p:val>
                                        </p:tav>
                                      </p:tavLst>
                                    </p:anim>
                                    <p:anim calcmode="lin" valueType="num">
                                      <p:cBhvr additive="base">
                                        <p:cTn id="3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219320" y="228600"/>
            <a:ext cx="6553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So the ECT is false … what more evidence could anyone want?</a:t>
            </a:r>
            <a:endParaRPr b="0" lang="en-US" sz="3800" spc="-1" strike="noStrike">
              <a:solidFill>
                <a:srgbClr val="000000"/>
              </a:solidFill>
              <a:latin typeface="Arial"/>
            </a:endParaRPr>
          </a:p>
        </p:txBody>
      </p:sp>
      <p:sp>
        <p:nvSpPr>
          <p:cNvPr id="116" name="Text Box 16"/>
          <p:cNvSpPr/>
          <p:nvPr/>
        </p:nvSpPr>
        <p:spPr>
          <a:xfrm>
            <a:off x="380880" y="1523880"/>
            <a:ext cx="853452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ilding a QC able to factor large numbers is</a:t>
            </a:r>
            <a:r>
              <a:rPr b="1" lang="en-US" sz="3000" spc="-1" strike="noStrike">
                <a:solidFill>
                  <a:srgbClr val="ff0000"/>
                </a:solidFill>
                <a:latin typeface="Calibri"/>
              </a:rPr>
              <a:t> hard</a:t>
            </a:r>
            <a:r>
              <a:rPr b="0" lang="en-US" sz="3000" spc="-1" strike="noStrike">
                <a:solidFill>
                  <a:srgbClr val="000000"/>
                </a:solidFill>
                <a:latin typeface="Calibri"/>
              </a:rPr>
              <a:t>!  After 20 years, no fundamental obstacle has been found, but who knows?</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Can’t we “meet the physicists halfway,” and show computational hardness for quantum systems closer to what they actually work with now?</a:t>
            </a:r>
            <a:endParaRPr b="0" lang="en-US" sz="2700" spc="-1" strike="noStrike">
              <a:solidFill>
                <a:srgbClr val="000000"/>
              </a:solidFill>
              <a:latin typeface="Arial"/>
            </a:endParaRPr>
          </a:p>
        </p:txBody>
      </p:sp>
      <p:sp>
        <p:nvSpPr>
          <p:cNvPr id="117" name="Text Box 16"/>
          <p:cNvSpPr/>
          <p:nvPr/>
        </p:nvSpPr>
        <p:spPr>
          <a:xfrm>
            <a:off x="380880" y="4575240"/>
            <a:ext cx="8534520" cy="24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ING might be have a fast classical algorithm!  At any rate, it’s an extremely “special” problem</a:t>
            </a:r>
            <a:endParaRPr b="0" lang="en-US" sz="3000" spc="-1" strike="noStrike">
              <a:solidFill>
                <a:srgbClr val="000000"/>
              </a:solidFill>
              <a:latin typeface="Arial"/>
            </a:endParaRPr>
          </a:p>
          <a:p>
            <a:pPr lvl="1" marL="45720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Arial"/>
              </a:rPr>
              <a:t>Wouldn’t it be great to show that if, quantum computers can be simulated classically, then (say) </a:t>
            </a:r>
            <a:r>
              <a:rPr b="1" lang="en-US" sz="2700" spc="-1" strike="noStrike">
                <a:solidFill>
                  <a:srgbClr val="990099"/>
                </a:solidFill>
                <a:latin typeface="Calibri"/>
                <a:ea typeface="Arial"/>
              </a:rPr>
              <a:t>P</a:t>
            </a:r>
            <a:r>
              <a:rPr b="0" lang="en-US" sz="2700" spc="-1" strike="noStrike">
                <a:solidFill>
                  <a:srgbClr val="008000"/>
                </a:solidFill>
                <a:latin typeface="Calibri"/>
                <a:ea typeface="Arial"/>
              </a:rPr>
              <a:t>=</a:t>
            </a:r>
            <a:r>
              <a:rPr b="1" lang="en-US" sz="2700" spc="-1" strike="noStrike">
                <a:solidFill>
                  <a:srgbClr val="990099"/>
                </a:solidFill>
                <a:latin typeface="Calibri"/>
                <a:ea typeface="Arial"/>
              </a:rPr>
              <a:t>NP</a:t>
            </a:r>
            <a:r>
              <a:rPr b="0" lang="en-US" sz="2700" spc="-1" strike="noStrike">
                <a:solidFill>
                  <a:srgbClr val="008000"/>
                </a:solidFill>
                <a:latin typeface="Calibri"/>
                <a:ea typeface="Arial"/>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18" name="Object 2"/>
              <p:cNvSpPr txBox="1"/>
              <p:nvPr/>
            </p:nvSpPr>
            <p:spPr>
              <a:xfrm>
                <a:off x="5334120" y="121932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119" name="Group 32"/>
          <p:cNvGrpSpPr/>
          <p:nvPr/>
        </p:nvGrpSpPr>
        <p:grpSpPr>
          <a:xfrm>
            <a:off x="6172200" y="4648320"/>
            <a:ext cx="1676520" cy="1617480"/>
            <a:chOff x="6172200" y="4648320"/>
            <a:chExt cx="1676520" cy="1617480"/>
          </a:xfrm>
        </p:grpSpPr>
        <p:sp>
          <p:nvSpPr>
            <p:cNvPr id="120" name="Text Box 16"/>
            <p:cNvSpPr/>
            <p:nvPr/>
          </p:nvSpPr>
          <p:spPr>
            <a:xfrm>
              <a:off x="6172200" y="5715000"/>
              <a:ext cx="1676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121" name="Picture 9" descr=""/>
            <p:cNvPicPr/>
            <p:nvPr/>
          </p:nvPicPr>
          <p:blipFill>
            <a:blip r:embed="rId1"/>
            <a:srcRect l="11708" t="0" r="23416" b="18373"/>
            <a:stretch/>
          </p:blipFill>
          <p:spPr>
            <a:xfrm>
              <a:off x="6400800" y="4648320"/>
              <a:ext cx="1295640" cy="1038240"/>
            </a:xfrm>
            <a:prstGeom prst="rect">
              <a:avLst/>
            </a:prstGeom>
            <a:ln w="0">
              <a:noFill/>
            </a:ln>
          </p:spPr>
        </p:pic>
      </p:grpSp>
      <mc:AlternateContent>
        <mc:Choice xmlns:a14="http://schemas.microsoft.com/office/drawing/2010/main" Requires="a14">
          <p:sp>
            <p:nvSpPr>
              <p:cNvPr id="122" name="Object 3"/>
              <p:cNvSpPr txBox="1"/>
              <p:nvPr/>
            </p:nvSpPr>
            <p:spPr>
              <a:xfrm>
                <a:off x="152280" y="1219320"/>
                <a:ext cx="4713480" cy="115236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grpSp>
        <p:nvGrpSpPr>
          <p:cNvPr id="123" name="Group 31"/>
          <p:cNvGrpSpPr/>
          <p:nvPr/>
        </p:nvGrpSpPr>
        <p:grpSpPr>
          <a:xfrm>
            <a:off x="1066680" y="4800600"/>
            <a:ext cx="1905120" cy="1541520"/>
            <a:chOff x="1066680" y="4800600"/>
            <a:chExt cx="1905120" cy="1541520"/>
          </a:xfrm>
        </p:grpSpPr>
        <p:pic>
          <p:nvPicPr>
            <p:cNvPr id="124" name="Picture 4" descr=""/>
            <p:cNvPicPr/>
            <p:nvPr/>
          </p:nvPicPr>
          <p:blipFill>
            <a:blip r:embed="rId2"/>
            <a:stretch/>
          </p:blipFill>
          <p:spPr>
            <a:xfrm>
              <a:off x="1218960" y="4800600"/>
              <a:ext cx="1689480" cy="990720"/>
            </a:xfrm>
            <a:prstGeom prst="rect">
              <a:avLst/>
            </a:prstGeom>
            <a:ln w="0">
              <a:noFill/>
            </a:ln>
          </p:spPr>
        </p:pic>
        <p:sp>
          <p:nvSpPr>
            <p:cNvPr id="125" name="Text Box 16"/>
            <p:cNvSpPr/>
            <p:nvPr/>
          </p:nvSpPr>
          <p:spPr>
            <a:xfrm>
              <a:off x="1066680" y="5791320"/>
              <a:ext cx="1905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grpSp>
      <p:sp>
        <p:nvSpPr>
          <p:cNvPr id="126" name="Text Box 2"/>
          <p:cNvSpPr/>
          <p:nvPr/>
        </p:nvSpPr>
        <p:spPr>
          <a:xfrm>
            <a:off x="380880" y="3808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Starting Point</a:t>
            </a:r>
            <a:endParaRPr b="0" lang="en-US" sz="4400" spc="-1" strike="noStrike">
              <a:solidFill>
                <a:srgbClr val="000000"/>
              </a:solidFill>
              <a:latin typeface="Arial"/>
            </a:endParaRPr>
          </a:p>
        </p:txBody>
      </p:sp>
      <p:sp>
        <p:nvSpPr>
          <p:cNvPr id="127" name="Text Box 16"/>
          <p:cNvSpPr/>
          <p:nvPr/>
        </p:nvSpPr>
        <p:spPr>
          <a:xfrm>
            <a:off x="1066680" y="2590920"/>
            <a:ext cx="2210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1" lang="en-US" sz="3000" spc="-1" strike="noStrike">
                <a:solidFill>
                  <a:srgbClr val="990099"/>
                </a:solidFill>
                <a:latin typeface="Calibri"/>
              </a:rPr>
              <a:t>P</a:t>
            </a:r>
            <a:endParaRPr b="0" lang="en-US" sz="3000" spc="-1" strike="noStrike">
              <a:solidFill>
                <a:srgbClr val="000000"/>
              </a:solidFill>
              <a:latin typeface="Arial"/>
            </a:endParaRPr>
          </a:p>
        </p:txBody>
      </p:sp>
      <p:sp>
        <p:nvSpPr>
          <p:cNvPr id="128" name="Text Box 16"/>
          <p:cNvSpPr/>
          <p:nvPr/>
        </p:nvSpPr>
        <p:spPr>
          <a:xfrm>
            <a:off x="5105520" y="2590920"/>
            <a:ext cx="3733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Calibri"/>
              </a:rPr>
              <a:t>#P</a:t>
            </a:r>
            <a:r>
              <a:rPr b="0" lang="en-US" sz="3000" spc="-1" strike="noStrike">
                <a:solidFill>
                  <a:srgbClr val="000000"/>
                </a:solidFill>
                <a:latin typeface="Calibri"/>
              </a:rPr>
              <a:t>-complete [Valiant]</a:t>
            </a:r>
            <a:endParaRPr b="0" lang="en-US" sz="3000" spc="-1" strike="noStrike">
              <a:solidFill>
                <a:srgbClr val="000000"/>
              </a:solidFill>
              <a:latin typeface="Arial"/>
            </a:endParaRPr>
          </a:p>
        </p:txBody>
      </p:sp>
      <p:cxnSp>
        <p:nvCxnSpPr>
          <p:cNvPr id="129" name="Straight Arrow Connector 27"/>
          <p:cNvCxnSpPr/>
          <p:nvPr/>
        </p:nvCxnSpPr>
        <p:spPr>
          <a:xfrm flipH="1">
            <a:off x="2208960" y="3429000"/>
            <a:ext cx="2520" cy="991440"/>
          </a:xfrm>
          <a:prstGeom prst="straightConnector1">
            <a:avLst/>
          </a:prstGeom>
          <a:ln w="38160">
            <a:solidFill>
              <a:srgbClr val="008000"/>
            </a:solidFill>
            <a:miter/>
            <a:headEnd len="lg" type="arrow" w="lg"/>
            <a:tailEnd len="lg" type="arrow" w="lg"/>
          </a:ln>
        </p:spPr>
      </p:cxnSp>
      <p:cxnSp>
        <p:nvCxnSpPr>
          <p:cNvPr id="130" name="Straight Arrow Connector 28"/>
          <p:cNvCxnSpPr/>
          <p:nvPr/>
        </p:nvCxnSpPr>
        <p:spPr>
          <a:xfrm flipH="1">
            <a:off x="6933960" y="3429000"/>
            <a:ext cx="2160" cy="991440"/>
          </a:xfrm>
          <a:prstGeom prst="straightConnector1">
            <a:avLst/>
          </a:prstGeom>
          <a:ln w="38160">
            <a:solidFill>
              <a:srgbClr val="008000"/>
            </a:solidFill>
            <a:miter/>
            <a:headEnd len="lg" type="arrow" w="lg"/>
            <a:tailEnd len="lg" type="arrow" w="lg"/>
          </a:ln>
        </p:spPr>
      </p:cxnSp>
      <p:sp>
        <p:nvSpPr>
          <p:cNvPr id="131" name="Straight Connector 30"/>
          <p:cNvSpPr/>
          <p:nvPr/>
        </p:nvSpPr>
        <p:spPr>
          <a:xfrm>
            <a:off x="5029200" y="1371600"/>
            <a:ext cx="0" cy="548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 name="Group 39"/>
          <p:cNvGrpSpPr/>
          <p:nvPr/>
        </p:nvGrpSpPr>
        <p:grpSpPr>
          <a:xfrm>
            <a:off x="3048120" y="3430440"/>
            <a:ext cx="304560" cy="2286000"/>
            <a:chOff x="3048120" y="3430440"/>
            <a:chExt cx="304560" cy="2286000"/>
          </a:xfrm>
        </p:grpSpPr>
        <p:sp>
          <p:nvSpPr>
            <p:cNvPr id="133" name="Oval 9"/>
            <p:cNvSpPr/>
            <p:nvPr/>
          </p:nvSpPr>
          <p:spPr>
            <a:xfrm>
              <a:off x="3048120" y="343044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0"/>
            <p:cNvSpPr/>
            <p:nvPr/>
          </p:nvSpPr>
          <p:spPr>
            <a:xfrm>
              <a:off x="3048120" y="442116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1"/>
            <p:cNvSpPr/>
            <p:nvPr/>
          </p:nvSpPr>
          <p:spPr>
            <a:xfrm>
              <a:off x="3048120" y="5411880"/>
              <a:ext cx="30456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38"/>
          <p:cNvGrpSpPr/>
          <p:nvPr/>
        </p:nvGrpSpPr>
        <p:grpSpPr>
          <a:xfrm>
            <a:off x="4572000" y="3430440"/>
            <a:ext cx="304920" cy="2286000"/>
            <a:chOff x="4572000" y="3430440"/>
            <a:chExt cx="304920" cy="2286000"/>
          </a:xfrm>
        </p:grpSpPr>
        <p:sp>
          <p:nvSpPr>
            <p:cNvPr id="137" name="Oval 12"/>
            <p:cNvSpPr/>
            <p:nvPr/>
          </p:nvSpPr>
          <p:spPr>
            <a:xfrm>
              <a:off x="4572000" y="343044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3"/>
            <p:cNvSpPr/>
            <p:nvPr/>
          </p:nvSpPr>
          <p:spPr>
            <a:xfrm>
              <a:off x="4572000" y="442116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4"/>
            <p:cNvSpPr/>
            <p:nvPr/>
          </p:nvSpPr>
          <p:spPr>
            <a:xfrm>
              <a:off x="4572000" y="5411880"/>
              <a:ext cx="304920" cy="304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40" name="Straight Arrow Connector 29"/>
          <p:cNvCxnSpPr>
            <a:stCxn id="133" idx="6"/>
            <a:endCxn id="137" idx="2"/>
          </p:cNvCxnSpPr>
          <p:nvPr/>
        </p:nvCxnSpPr>
        <p:spPr>
          <a:xfrm>
            <a:off x="3352320" y="3583080"/>
            <a:ext cx="1220040" cy="2160"/>
          </a:xfrm>
          <a:prstGeom prst="straightConnector1">
            <a:avLst/>
          </a:prstGeom>
          <a:ln w="19080">
            <a:solidFill>
              <a:srgbClr val="000000"/>
            </a:solidFill>
            <a:miter/>
            <a:tailEnd len="med" type="triangle" w="med"/>
          </a:ln>
        </p:spPr>
      </p:cxnSp>
      <p:cxnSp>
        <p:nvCxnSpPr>
          <p:cNvPr id="141" name="Straight Arrow Connector 30"/>
          <p:cNvCxnSpPr/>
          <p:nvPr/>
        </p:nvCxnSpPr>
        <p:spPr>
          <a:xfrm>
            <a:off x="3352320" y="4573080"/>
            <a:ext cx="1220040" cy="2520"/>
          </a:xfrm>
          <a:prstGeom prst="straightConnector1">
            <a:avLst/>
          </a:prstGeom>
          <a:ln w="19080">
            <a:solidFill>
              <a:srgbClr val="000000"/>
            </a:solidFill>
            <a:miter/>
            <a:tailEnd len="med" type="triangle" w="med"/>
          </a:ln>
        </p:spPr>
      </p:cxnSp>
      <p:cxnSp>
        <p:nvCxnSpPr>
          <p:cNvPr id="142" name="Straight Arrow Connector 31"/>
          <p:cNvCxnSpPr/>
          <p:nvPr/>
        </p:nvCxnSpPr>
        <p:spPr>
          <a:xfrm>
            <a:off x="3352320" y="5564160"/>
            <a:ext cx="1220040" cy="2160"/>
          </a:xfrm>
          <a:prstGeom prst="straightConnector1">
            <a:avLst/>
          </a:prstGeom>
          <a:ln w="19080">
            <a:solidFill>
              <a:srgbClr val="000000"/>
            </a:solidFill>
            <a:miter/>
            <a:tailEnd len="med" type="triangle" w="med"/>
          </a:ln>
        </p:spPr>
      </p:cxnSp>
      <p:cxnSp>
        <p:nvCxnSpPr>
          <p:cNvPr id="143" name="Straight Arrow Connector 32"/>
          <p:cNvCxnSpPr>
            <a:stCxn id="133" idx="6"/>
            <a:endCxn id="138" idx="2"/>
          </p:cNvCxnSpPr>
          <p:nvPr/>
        </p:nvCxnSpPr>
        <p:spPr>
          <a:xfrm>
            <a:off x="3352320" y="3582720"/>
            <a:ext cx="1220040" cy="991080"/>
          </a:xfrm>
          <a:prstGeom prst="straightConnector1">
            <a:avLst/>
          </a:prstGeom>
          <a:ln w="19080">
            <a:solidFill>
              <a:srgbClr val="000000"/>
            </a:solidFill>
            <a:miter/>
            <a:tailEnd len="med" type="triangle" w="med"/>
          </a:ln>
        </p:spPr>
      </p:cxnSp>
      <p:cxnSp>
        <p:nvCxnSpPr>
          <p:cNvPr id="144" name="Straight Arrow Connector 33"/>
          <p:cNvCxnSpPr/>
          <p:nvPr/>
        </p:nvCxnSpPr>
        <p:spPr>
          <a:xfrm>
            <a:off x="3352320" y="4573440"/>
            <a:ext cx="1220040" cy="991440"/>
          </a:xfrm>
          <a:prstGeom prst="straightConnector1">
            <a:avLst/>
          </a:prstGeom>
          <a:ln w="19080">
            <a:solidFill>
              <a:srgbClr val="000000"/>
            </a:solidFill>
            <a:miter/>
            <a:tailEnd len="med" type="triangle" w="med"/>
          </a:ln>
        </p:spPr>
      </p:cxnSp>
      <p:cxnSp>
        <p:nvCxnSpPr>
          <p:cNvPr id="145" name="Straight Arrow Connector 34"/>
          <p:cNvCxnSpPr>
            <a:endCxn id="138" idx="2"/>
          </p:cNvCxnSpPr>
          <p:nvPr/>
        </p:nvCxnSpPr>
        <p:spPr>
          <a:xfrm flipV="1">
            <a:off x="3352320" y="4573080"/>
            <a:ext cx="1220040" cy="991440"/>
          </a:xfrm>
          <a:prstGeom prst="straightConnector1">
            <a:avLst/>
          </a:prstGeom>
          <a:ln w="19080">
            <a:solidFill>
              <a:srgbClr val="000000"/>
            </a:solidFill>
            <a:miter/>
            <a:tailEnd len="med" type="triangle" w="med"/>
          </a:ln>
        </p:spPr>
      </p:cxnSp>
      <p:cxnSp>
        <p:nvCxnSpPr>
          <p:cNvPr id="146" name="Straight Arrow Connector 35"/>
          <p:cNvCxnSpPr/>
          <p:nvPr/>
        </p:nvCxnSpPr>
        <p:spPr>
          <a:xfrm flipV="1">
            <a:off x="3352320" y="3582360"/>
            <a:ext cx="1220040" cy="991080"/>
          </a:xfrm>
          <a:prstGeom prst="straightConnector1">
            <a:avLst/>
          </a:prstGeom>
          <a:ln w="19080">
            <a:solidFill>
              <a:srgbClr val="000000"/>
            </a:solidFill>
            <a:miter/>
            <a:tailEnd len="med" type="triangle" w="med"/>
          </a:ln>
        </p:spPr>
      </p:cxnSp>
      <p:cxnSp>
        <p:nvCxnSpPr>
          <p:cNvPr id="147" name="Straight Arrow Connector 36"/>
          <p:cNvCxnSpPr>
            <a:stCxn id="133" idx="6"/>
            <a:endCxn id="139" idx="2"/>
          </p:cNvCxnSpPr>
          <p:nvPr/>
        </p:nvCxnSpPr>
        <p:spPr>
          <a:xfrm>
            <a:off x="3352320" y="3582720"/>
            <a:ext cx="1220040" cy="1981800"/>
          </a:xfrm>
          <a:prstGeom prst="straightConnector1">
            <a:avLst/>
          </a:prstGeom>
          <a:ln w="19080">
            <a:solidFill>
              <a:srgbClr val="000000"/>
            </a:solidFill>
            <a:miter/>
            <a:tailEnd len="med" type="triangle" w="med"/>
          </a:ln>
        </p:spPr>
      </p:cxnSp>
      <p:cxnSp>
        <p:nvCxnSpPr>
          <p:cNvPr id="148" name="Straight Arrow Connector 37"/>
          <p:cNvCxnSpPr>
            <a:stCxn id="135" idx="6"/>
            <a:endCxn id="137" idx="2"/>
          </p:cNvCxnSpPr>
          <p:nvPr/>
        </p:nvCxnSpPr>
        <p:spPr>
          <a:xfrm flipV="1">
            <a:off x="3352320" y="3582360"/>
            <a:ext cx="1220040" cy="1981800"/>
          </a:xfrm>
          <a:prstGeom prst="straightConnector1">
            <a:avLst/>
          </a:prstGeom>
          <a:ln w="19080">
            <a:solidFill>
              <a:srgbClr val="000000"/>
            </a:solidFill>
            <a:miter/>
            <a:tailEnd len="med" type="triangle" w="med"/>
          </a:ln>
        </p:spPr>
      </p:cxnSp>
      <p:grpSp>
        <p:nvGrpSpPr>
          <p:cNvPr id="149" name="Group 33"/>
          <p:cNvGrpSpPr/>
          <p:nvPr/>
        </p:nvGrpSpPr>
        <p:grpSpPr>
          <a:xfrm>
            <a:off x="838080" y="2209680"/>
            <a:ext cx="6226200" cy="2803680"/>
            <a:chOff x="838080" y="2209680"/>
            <a:chExt cx="6226200" cy="2803680"/>
          </a:xfrm>
        </p:grpSpPr>
        <p:pic>
          <p:nvPicPr>
            <p:cNvPr id="150" name="Picture 5" descr=""/>
            <p:cNvPicPr/>
            <p:nvPr/>
          </p:nvPicPr>
          <p:blipFill>
            <a:blip r:embed="rId3"/>
            <a:srcRect l="22399" t="3750" r="22399" b="0"/>
            <a:stretch/>
          </p:blipFill>
          <p:spPr>
            <a:xfrm>
              <a:off x="5486400" y="2666880"/>
              <a:ext cx="1577880" cy="2346480"/>
            </a:xfrm>
            <a:prstGeom prst="rect">
              <a:avLst/>
            </a:prstGeom>
            <a:ln w="0">
              <a:noFill/>
            </a:ln>
          </p:spPr>
        </p:pic>
        <p:sp>
          <p:nvSpPr>
            <p:cNvPr id="151" name="Oval Callout 22"/>
            <p:cNvSpPr/>
            <p:nvPr/>
          </p:nvSpPr>
          <p:spPr>
            <a:xfrm>
              <a:off x="838080" y="2209680"/>
              <a:ext cx="4724640" cy="1143000"/>
            </a:xfrm>
            <a:prstGeom prst="wedgeEllipseCallout">
              <a:avLst>
                <a:gd name="adj1" fmla="val 55513"/>
                <a:gd name="adj2" fmla="val 71342"/>
              </a:avLst>
            </a:prstGeom>
            <a:solidFill>
              <a:srgbClr val="e4f2f4"/>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6"/>
            <p:cNvSpPr/>
            <p:nvPr/>
          </p:nvSpPr>
          <p:spPr>
            <a:xfrm>
              <a:off x="1142640" y="2361960"/>
              <a:ext cx="4114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All I can say is, the bosons got the harder job</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27"/>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28"/>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9"/>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23"/>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130"/>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119"/>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36"/>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32"/>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40"/>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41"/>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142"/>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44"/>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45"/>
                                        </p:tgtEl>
                                        <p:attrNameLst>
                                          <p:attrName>style.visibility</p:attrName>
                                        </p:attrNameLst>
                                      </p:cBhvr>
                                      <p:to>
                                        <p:strVal val="visible"/>
                                      </p:to>
                                    </p:set>
                                  </p:childTnLst>
                                </p:cTn>
                              </p:par>
                              <p:par>
                                <p:cTn id="74" nodeType="withEffect" fill="hold" presetClass="exit" presetID="1">
                                  <p:stCondLst>
                                    <p:cond delay="0"/>
                                  </p:stCondLst>
                                  <p:childTnLst>
                                    <p:set>
                                      <p:cBhvr>
                                        <p:cTn id="75" dur="1" fill="hold">
                                          <p:stCondLst>
                                            <p:cond delay="0"/>
                                          </p:stCondLst>
                                        </p:cTn>
                                        <p:tgtEl>
                                          <p:spTgt spid="141"/>
                                        </p:tgtEl>
                                        <p:attrNameLst>
                                          <p:attrName>style.visibility</p:attrName>
                                        </p:attrNameLst>
                                      </p:cBhvr>
                                      <p:to>
                                        <p:strVal val="hidden"/>
                                      </p:to>
                                    </p:set>
                                  </p:childTnLst>
                                </p:cTn>
                              </p:par>
                              <p:par>
                                <p:cTn id="76" nodeType="withEffect" fill="hold" presetClass="exit" presetID="1">
                                  <p:stCondLst>
                                    <p:cond delay="0"/>
                                  </p:stCondLst>
                                  <p:childTnLst>
                                    <p:set>
                                      <p:cBhvr>
                                        <p:cTn id="77" dur="1" fill="hold">
                                          <p:stCondLst>
                                            <p:cond delay="0"/>
                                          </p:stCondLst>
                                        </p:cTn>
                                        <p:tgtEl>
                                          <p:spTgt spid="142"/>
                                        </p:tgtEl>
                                        <p:attrNameLst>
                                          <p:attrName>style.visibility</p:attrName>
                                        </p:attrNameLst>
                                      </p:cBhvr>
                                      <p:to>
                                        <p:strVal val="hidden"/>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43"/>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46"/>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42"/>
                                        </p:tgtEl>
                                        <p:attrNameLst>
                                          <p:attrName>style.visibility</p:attrName>
                                        </p:attrNameLst>
                                      </p:cBhvr>
                                      <p:to>
                                        <p:strVal val="visible"/>
                                      </p:to>
                                    </p:set>
                                  </p:childTnLst>
                                </p:cTn>
                              </p:par>
                              <p:par>
                                <p:cTn id="86" nodeType="withEffect" fill="hold" presetClass="exit" presetID="1">
                                  <p:stCondLst>
                                    <p:cond delay="0"/>
                                  </p:stCondLst>
                                  <p:childTnLst>
                                    <p:set>
                                      <p:cBhvr>
                                        <p:cTn id="87" dur="1" fill="hold">
                                          <p:stCondLst>
                                            <p:cond delay="0"/>
                                          </p:stCondLst>
                                        </p:cTn>
                                        <p:tgtEl>
                                          <p:spTgt spid="140"/>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45"/>
                                        </p:tgtEl>
                                        <p:attrNameLst>
                                          <p:attrName>style.visibility</p:attrName>
                                        </p:attrNameLst>
                                      </p:cBhvr>
                                      <p:to>
                                        <p:strVal val="hidden"/>
                                      </p:to>
                                    </p:set>
                                  </p:childTnLst>
                                </p:cTn>
                              </p:par>
                              <p:par>
                                <p:cTn id="90" nodeType="withEffect" fill="hold" presetClass="exit" presetID="1">
                                  <p:stCondLst>
                                    <p:cond delay="0"/>
                                  </p:stCondLst>
                                  <p:childTnLst>
                                    <p:set>
                                      <p:cBhvr>
                                        <p:cTn id="91" dur="1" fill="hold">
                                          <p:stCondLst>
                                            <p:cond delay="0"/>
                                          </p:stCondLst>
                                        </p:cTn>
                                        <p:tgtEl>
                                          <p:spTgt spid="144"/>
                                        </p:tgtEl>
                                        <p:attrNameLst>
                                          <p:attrName>style.visibility</p:attrName>
                                        </p:attrNameLst>
                                      </p:cBhvr>
                                      <p:to>
                                        <p:strVal val="hidden"/>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144"/>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48"/>
                                        </p:tgtEl>
                                        <p:attrNameLst>
                                          <p:attrName>style.visibility</p:attrName>
                                        </p:attrNameLst>
                                      </p:cBhvr>
                                      <p:to>
                                        <p:strVal val="visible"/>
                                      </p:to>
                                    </p:set>
                                  </p:childTnLst>
                                </p:cTn>
                              </p:par>
                              <p:par>
                                <p:cTn id="98" nodeType="withEffect" fill="hold" presetClass="exit" presetID="1">
                                  <p:stCondLst>
                                    <p:cond delay="0"/>
                                  </p:stCondLst>
                                  <p:childTnLst>
                                    <p:set>
                                      <p:cBhvr>
                                        <p:cTn id="99" dur="1" fill="hold">
                                          <p:stCondLst>
                                            <p:cond delay="0"/>
                                          </p:stCondLst>
                                        </p:cTn>
                                        <p:tgtEl>
                                          <p:spTgt spid="142"/>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146"/>
                                        </p:tgtEl>
                                        <p:attrNameLst>
                                          <p:attrName>style.visibility</p:attrName>
                                        </p:attrNameLst>
                                      </p:cBhvr>
                                      <p:to>
                                        <p:strVal val="hidden"/>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47"/>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4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45"/>
                                        </p:tgtEl>
                                        <p:attrNameLst>
                                          <p:attrName>style.visibility</p:attrName>
                                        </p:attrNameLst>
                                      </p:cBhvr>
                                      <p:to>
                                        <p:strVal val="visible"/>
                                      </p:to>
                                    </p:set>
                                  </p:childTnLst>
                                </p:cTn>
                              </p:par>
                              <p:par>
                                <p:cTn id="110" nodeType="withEffect" fill="hold" presetClass="exit" presetID="1">
                                  <p:stCondLst>
                                    <p:cond delay="0"/>
                                  </p:stCondLst>
                                  <p:childTnLst>
                                    <p:set>
                                      <p:cBhvr>
                                        <p:cTn id="111" dur="1" fill="hold">
                                          <p:stCondLst>
                                            <p:cond delay="0"/>
                                          </p:stCondLst>
                                        </p:cTn>
                                        <p:tgtEl>
                                          <p:spTgt spid="143"/>
                                        </p:tgtEl>
                                        <p:attrNameLst>
                                          <p:attrName>style.visibility</p:attrName>
                                        </p:attrNameLst>
                                      </p:cBhvr>
                                      <p:to>
                                        <p:strVal val="hidden"/>
                                      </p:to>
                                    </p:set>
                                  </p:childTnLst>
                                </p:cTn>
                              </p:par>
                              <p:par>
                                <p:cTn id="112" nodeType="withEffect" fill="hold" presetClass="exit" presetID="1">
                                  <p:stCondLst>
                                    <p:cond delay="0"/>
                                  </p:stCondLst>
                                  <p:childTnLst>
                                    <p:set>
                                      <p:cBhvr>
                                        <p:cTn id="113" dur="1" fill="hold">
                                          <p:stCondLst>
                                            <p:cond delay="0"/>
                                          </p:stCondLst>
                                        </p:cTn>
                                        <p:tgtEl>
                                          <p:spTgt spid="144"/>
                                        </p:tgtEl>
                                        <p:attrNameLst>
                                          <p:attrName>style.visibility</p:attrName>
                                        </p:attrNameLst>
                                      </p:cBhvr>
                                      <p:to>
                                        <p:strVal val="hidden"/>
                                      </p:to>
                                    </p:set>
                                  </p:childTnLst>
                                </p:cTn>
                              </p:par>
                              <p:par>
                                <p:cTn id="114" nodeType="withEffect" fill="hold" presetClass="exit" presetID="1">
                                  <p:stCondLst>
                                    <p:cond delay="0"/>
                                  </p:stCondLst>
                                  <p:childTnLst>
                                    <p:set>
                                      <p:cBhvr>
                                        <p:cTn id="115" dur="1" fill="hold">
                                          <p:stCondLst>
                                            <p:cond delay="0"/>
                                          </p:stCondLst>
                                        </p:cTn>
                                        <p:tgtEl>
                                          <p:spTgt spid="148"/>
                                        </p:tgtEl>
                                        <p:attrNameLst>
                                          <p:attrName>style.visibility</p:attrName>
                                        </p:attrNameLst>
                                      </p:cBhvr>
                                      <p:to>
                                        <p:strVal val="hidden"/>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41"/>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48"/>
                                        </p:tgtEl>
                                        <p:attrNameLst>
                                          <p:attrName>style.visibility</p:attrName>
                                        </p:attrNameLst>
                                      </p:cBhvr>
                                      <p:to>
                                        <p:strVal val="visible"/>
                                      </p:to>
                                    </p:set>
                                  </p:childTnLst>
                                </p:cTn>
                              </p:par>
                              <p:par>
                                <p:cTn id="122" nodeType="withEffect" fill="hold" presetClass="exit" presetID="1">
                                  <p:stCondLst>
                                    <p:cond delay="0"/>
                                  </p:stCondLst>
                                  <p:childTnLst>
                                    <p:set>
                                      <p:cBhvr>
                                        <p:cTn id="123" dur="1" fill="hold">
                                          <p:stCondLst>
                                            <p:cond delay="0"/>
                                          </p:stCondLst>
                                        </p:cTn>
                                        <p:tgtEl>
                                          <p:spTgt spid="146"/>
                                        </p:tgtEl>
                                        <p:attrNameLst>
                                          <p:attrName>style.visibility</p:attrName>
                                        </p:attrNameLst>
                                      </p:cBhvr>
                                      <p:to>
                                        <p:strVal val="hidden"/>
                                      </p:to>
                                    </p:set>
                                  </p:childTnLst>
                                </p:cTn>
                              </p:par>
                              <p:par>
                                <p:cTn id="124" nodeType="withEffect" fill="hold" presetClass="exit" presetID="1">
                                  <p:stCondLst>
                                    <p:cond delay="0"/>
                                  </p:stCondLst>
                                  <p:childTnLst>
                                    <p:set>
                                      <p:cBhvr>
                                        <p:cTn id="125" dur="1" fill="hold">
                                          <p:stCondLst>
                                            <p:cond delay="0"/>
                                          </p:stCondLst>
                                        </p:cTn>
                                        <p:tgtEl>
                                          <p:spTgt spid="145"/>
                                        </p:tgtEl>
                                        <p:attrNameLst>
                                          <p:attrName>style.visibility</p:attrName>
                                        </p:attrNameLst>
                                      </p:cBhvr>
                                      <p:to>
                                        <p:strVal val="hidden"/>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49"/>
                                        </p:tgtEl>
                                        <p:attrNameLst>
                                          <p:attrName>style.visibility</p:attrName>
                                        </p:attrNameLst>
                                      </p:cBhvr>
                                      <p:to>
                                        <p:strVal val="visible"/>
                                      </p:to>
                                    </p:set>
                                    <p:anim calcmode="lin" valueType="num">
                                      <p:cBhvr additive="base">
                                        <p:cTn id="130" dur="500" fill="hold"/>
                                        <p:tgtEl>
                                          <p:spTgt spid="149"/>
                                        </p:tgtEl>
                                        <p:attrNameLst>
                                          <p:attrName>ppt_x</p:attrName>
                                        </p:attrNameLst>
                                      </p:cBhvr>
                                      <p:tavLst>
                                        <p:tav tm="0">
                                          <p:val>
                                            <p:strVal val="#ppt_x"/>
                                          </p:val>
                                        </p:tav>
                                        <p:tav tm="100000">
                                          <p:val>
                                            <p:strVal val="#ppt_x"/>
                                          </p:val>
                                        </p:tav>
                                      </p:tavLst>
                                    </p:anim>
                                    <p:anim calcmode="lin" valueType="num">
                                      <p:cBhvr additive="base">
                                        <p:cTn id="131"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352440" y="8380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an We Use Bosons to Calculate the Permanent?</a:t>
            </a:r>
            <a:endParaRPr b="0" lang="en-US" sz="4400" spc="-1" strike="noStrike">
              <a:solidFill>
                <a:srgbClr val="000000"/>
              </a:solidFill>
              <a:latin typeface="Arial"/>
            </a:endParaRPr>
          </a:p>
        </p:txBody>
      </p:sp>
      <p:sp>
        <p:nvSpPr>
          <p:cNvPr id="154" name="Subtitle 4"/>
          <p:cNvSpPr/>
          <p:nvPr/>
        </p:nvSpPr>
        <p:spPr>
          <a:xfrm>
            <a:off x="457200" y="3467160"/>
            <a:ext cx="80773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Amplitudes aren’t directly observabl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get a reasonable estimate of Per(A), you might need to repeat the experiment exponentially many times</a:t>
            </a:r>
            <a:endParaRPr b="0" lang="en-US" sz="2800" spc="-1" strike="noStrike">
              <a:solidFill>
                <a:srgbClr val="000000"/>
              </a:solidFill>
              <a:latin typeface="Arial"/>
            </a:endParaRPr>
          </a:p>
        </p:txBody>
      </p:sp>
      <p:sp>
        <p:nvSpPr>
          <p:cNvPr id="155" name="Subtitle 4"/>
          <p:cNvSpPr/>
          <p:nvPr/>
        </p:nvSpPr>
        <p:spPr>
          <a:xfrm>
            <a:off x="549360" y="226044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it would let us solve </a:t>
            </a:r>
            <a:r>
              <a:rPr b="1" i="1" lang="en-US" sz="2800" spc="-1" strike="noStrike">
                <a:solidFill>
                  <a:srgbClr val="990099"/>
                </a:solidFill>
                <a:latin typeface="Calibri"/>
                <a:ea typeface="Calibri"/>
              </a:rPr>
              <a:t>NP</a:t>
            </a:r>
            <a:r>
              <a:rPr b="0" i="1" lang="en-US" sz="2800" spc="-1" strike="noStrike">
                <a:solidFill>
                  <a:srgbClr val="000000"/>
                </a:solidFill>
                <a:latin typeface="Calibri"/>
                <a:ea typeface="Calibri"/>
              </a:rPr>
              <a:t>-complete problems and more using QC!</a:t>
            </a:r>
            <a:endParaRPr b="0" lang="en-US" sz="2800" spc="-1" strike="noStrike">
              <a:solidFill>
                <a:srgbClr val="000000"/>
              </a:solidFill>
              <a:latin typeface="Arial"/>
            </a:endParaRPr>
          </a:p>
        </p:txBody>
      </p:sp>
      <p:pic>
        <p:nvPicPr>
          <p:cNvPr id="156" name="Picture 12" descr="flyingpig"/>
          <p:cNvPicPr/>
          <p:nvPr/>
        </p:nvPicPr>
        <p:blipFill>
          <a:blip r:embed="rId1"/>
          <a:stretch/>
        </p:blipFill>
        <p:spPr>
          <a:xfrm>
            <a:off x="3886200" y="5829480"/>
            <a:ext cx="1314360" cy="1028520"/>
          </a:xfrm>
          <a:prstGeom prst="rect">
            <a:avLst/>
          </a:prstGeom>
          <a:ln w="0">
            <a:noFill/>
          </a:ln>
        </p:spPr>
      </p:pic>
      <p:sp>
        <p:nvSpPr>
          <p:cNvPr id="157" name="Subtitle 4"/>
          <p:cNvSpPr/>
          <p:nvPr/>
        </p:nvSpPr>
        <p:spPr>
          <a:xfrm>
            <a:off x="382680" y="304920"/>
            <a:ext cx="807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 if n-boson amplitudes correspond to perma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55"/>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56"/>
                                        </p:tgtEl>
                                        <p:attrNameLst>
                                          <p:attrName>style.visibility</p:attrName>
                                        </p:attrNameLst>
                                      </p:cBhvr>
                                      <p:to>
                                        <p:strVal val="visible"/>
                                      </p:to>
                                    </p:set>
                                  </p:childTnLst>
                                </p:cTn>
                              </p:par>
                              <p:par>
                                <p:cTn id="142" nodeType="withEffect" fill="hold" presetClass="path" presetID="64">
                                  <p:stCondLst>
                                    <p:cond delay="0"/>
                                  </p:stCondLst>
                                  <p:childTnLst>
                                    <p:animMotion origin="layout" path="M 5E-006 0 L 0.00312 -0.60278 E">
                                      <p:cBhvr>
                                        <p:cTn id="143" dur="3000" fill="hold"/>
                                        <p:tgtEl>
                                          <p:spTgt spid="156"/>
                                        </p:tgtEl>
                                      </p:cBhvr>
                                    </p:animMotion>
                                  </p:childTnLst>
                                </p:cTn>
                              </p:par>
                              <p:par>
                                <p:cTn id="144" nodeType="withEffect" fill="hold" presetClass="emph" presetID="6">
                                  <p:stCondLst>
                                    <p:cond delay="0"/>
                                  </p:stCondLst>
                                  <p:childTnLst>
                                    <p:animScale>
                                      <p:cBhvr>
                                        <p:cTn id="145" dur="3000" fill="hold"/>
                                        <p:tgtEl>
                                          <p:spTgt spid="156"/>
                                        </p:tgtEl>
                                      </p:cBhvr>
                                      <p:to x="500000" y="500000"/>
                                    </p:animScale>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xit" presetID="1">
                                  <p:stCondLst>
                                    <p:cond delay="0"/>
                                  </p:stCondLst>
                                  <p:childTnLst>
                                    <p:set>
                                      <p:cBhvr>
                                        <p:cTn id="149" dur="1" fill="hold">
                                          <p:stCondLst>
                                            <p:cond delay="0"/>
                                          </p:stCondLst>
                                        </p:cTn>
                                        <p:tgtEl>
                                          <p:spTgt spid="15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ext Box 2" descr=""/>
          <p:cNvPicPr/>
          <p:nvPr/>
        </p:nvPicPr>
        <p:blipFill>
          <a:blip r:embed="rId1"/>
          <a:stretch/>
        </p:blipFill>
        <p:spPr>
          <a:xfrm>
            <a:off x="304920" y="231840"/>
            <a:ext cx="8534160" cy="1841400"/>
          </a:xfrm>
          <a:prstGeom prst="rect">
            <a:avLst/>
          </a:prstGeom>
          <a:ln w="0">
            <a:noFill/>
          </a:ln>
        </p:spPr>
      </p:pic>
      <p:sp>
        <p:nvSpPr>
          <p:cNvPr id="159" name="Subtitle 4"/>
          <p:cNvSpPr/>
          <p:nvPr/>
        </p:nvSpPr>
        <p:spPr>
          <a:xfrm>
            <a:off x="304920" y="230652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asic Result:</a:t>
            </a:r>
            <a:r>
              <a:rPr b="0" lang="en-US" sz="2800" spc="-1" strike="noStrike">
                <a:solidFill>
                  <a:srgbClr val="000000"/>
                </a:solidFill>
                <a:latin typeface="Calibri"/>
                <a:ea typeface="Calibri"/>
              </a:rPr>
              <a:t> Suppose there were a polynomial-time classical randomized algorithm that took as input a description of a noninteracting-boson experiment, and that output a </a:t>
            </a:r>
            <a:r>
              <a:rPr b="1" lang="en-US" sz="2800" spc="-1" strike="noStrike">
                <a:solidFill>
                  <a:srgbClr val="ff0000"/>
                </a:solidFill>
                <a:latin typeface="Calibri"/>
                <a:ea typeface="Calibri"/>
              </a:rPr>
              <a:t>sample</a:t>
            </a:r>
            <a:r>
              <a:rPr b="0" lang="en-US" sz="2800" spc="-1" strike="noStrike">
                <a:solidFill>
                  <a:srgbClr val="000000"/>
                </a:solidFill>
                <a:latin typeface="Calibri"/>
                <a:ea typeface="Calibri"/>
              </a:rPr>
              <a:t> from the correct final distribution over n-boson state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1"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1" lang="en-US" sz="2800" spc="-1" strike="noStrike">
                <a:solidFill>
                  <a:srgbClr val="000000"/>
                </a:solidFill>
                <a:latin typeface="Calibri"/>
                <a:ea typeface="Calibri"/>
              </a:rPr>
              <a:t> and the polynomial hierarchy collapses.</a:t>
            </a:r>
            <a:endParaRPr b="0" lang="en-US" sz="2800" spc="-1" strike="noStrike">
              <a:solidFill>
                <a:srgbClr val="000000"/>
              </a:solidFill>
              <a:latin typeface="Arial"/>
            </a:endParaRPr>
          </a:p>
        </p:txBody>
      </p:sp>
      <p:sp>
        <p:nvSpPr>
          <p:cNvPr id="160" name="Subtitle 4"/>
          <p:cNvSpPr/>
          <p:nvPr/>
        </p:nvSpPr>
        <p:spPr>
          <a:xfrm>
            <a:off x="609480" y="518148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tivation:</a:t>
            </a:r>
            <a:r>
              <a:rPr b="0" lang="en-US" sz="2800" spc="-1" strike="noStrike">
                <a:solidFill>
                  <a:srgbClr val="000000"/>
                </a:solidFill>
                <a:latin typeface="Calibri"/>
                <a:ea typeface="Calibri"/>
              </a:rPr>
              <a:t> Compared to (say) Shor’s algorithm, we get “stronger” evidence that a “weaker” system can do interesting quantum compu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159"/>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60"/>
                                        </p:tgtEl>
                                        <p:attrNameLst>
                                          <p:attrName>style.visibility</p:attrName>
                                        </p:attrNameLst>
                                      </p:cBhvr>
                                      <p:to>
                                        <p:strVal val="visible"/>
                                      </p:to>
                                    </p:set>
                                    <p:anim calcmode="lin" valueType="num">
                                      <p:cBhvr additive="base">
                                        <p:cTn id="162" dur="500" fill="hold"/>
                                        <p:tgtEl>
                                          <p:spTgt spid="160"/>
                                        </p:tgtEl>
                                        <p:attrNameLst>
                                          <p:attrName>ppt_x</p:attrName>
                                        </p:attrNameLst>
                                      </p:cBhvr>
                                      <p:tavLst>
                                        <p:tav tm="0">
                                          <p:val>
                                            <p:strVal val="#ppt_x"/>
                                          </p:val>
                                        </p:tav>
                                        <p:tav tm="100000">
                                          <p:val>
                                            <p:strVal val="#ppt_x"/>
                                          </p:val>
                                        </p:tav>
                                      </p:tavLst>
                                    </p:anim>
                                    <p:anim calcmode="lin" valueType="num">
                                      <p:cBhvr additive="base">
                                        <p:cTn id="16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34308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Valiant 2001, Terhal-DiVincenzo 2002, “folklore”:</a:t>
            </a:r>
            <a:r>
              <a:rPr b="0" lang="en-US" sz="2800" spc="-1" strike="noStrike">
                <a:solidFill>
                  <a:srgbClr val="000000"/>
                </a:solidFill>
                <a:latin typeface="Calibri"/>
                <a:ea typeface="Arial"/>
              </a:rPr>
              <a:t> </a:t>
            </a:r>
            <a:br>
              <a:rPr sz="2800"/>
            </a:br>
            <a:r>
              <a:rPr b="0" lang="en-US" sz="2800" spc="-1" strike="noStrike">
                <a:solidFill>
                  <a:srgbClr val="000000"/>
                </a:solidFill>
                <a:latin typeface="Calibri"/>
                <a:ea typeface="Arial"/>
              </a:rPr>
              <a:t>A QC built of noninteracting fermions can be efficiently simulated by a classical computer</a:t>
            </a:r>
            <a:endParaRPr b="0" lang="en-US" sz="2800" spc="-1" strike="noStrike">
              <a:solidFill>
                <a:srgbClr val="000000"/>
              </a:solidFill>
              <a:latin typeface="Arial"/>
            </a:endParaRPr>
          </a:p>
        </p:txBody>
      </p:sp>
      <p:sp>
        <p:nvSpPr>
          <p:cNvPr id="162" name="Text Box 2"/>
          <p:cNvSpPr/>
          <p:nvPr/>
        </p:nvSpPr>
        <p:spPr>
          <a:xfrm>
            <a:off x="228600" y="3049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elated Work</a:t>
            </a:r>
            <a:endParaRPr b="0" lang="en-US" sz="4400" spc="-1" strike="noStrike">
              <a:solidFill>
                <a:srgbClr val="000000"/>
              </a:solidFill>
              <a:latin typeface="Arial"/>
            </a:endParaRPr>
          </a:p>
        </p:txBody>
      </p:sp>
      <p:sp>
        <p:nvSpPr>
          <p:cNvPr id="163" name="Text Box 3"/>
          <p:cNvSpPr/>
          <p:nvPr/>
        </p:nvSpPr>
        <p:spPr>
          <a:xfrm>
            <a:off x="343080" y="27432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nill, Laflamme, Milburn 2001:</a:t>
            </a:r>
            <a:r>
              <a:rPr b="0" lang="en-US" sz="2800" spc="-1" strike="noStrike">
                <a:solidFill>
                  <a:srgbClr val="000000"/>
                </a:solidFill>
                <a:latin typeface="Calibri"/>
                <a:ea typeface="Arial"/>
              </a:rPr>
              <a:t> Noninteracting bosons plus </a:t>
            </a:r>
            <a:r>
              <a:rPr b="1" lang="en-US" sz="2800" spc="-1" strike="noStrike">
                <a:solidFill>
                  <a:srgbClr val="008000"/>
                </a:solidFill>
                <a:latin typeface="Calibri"/>
                <a:ea typeface="Arial"/>
              </a:rPr>
              <a:t>adaptive measurements</a:t>
            </a:r>
            <a:r>
              <a:rPr b="0" lang="en-US" sz="2800" spc="-1" strike="noStrike">
                <a:solidFill>
                  <a:srgbClr val="008000"/>
                </a:solidFill>
                <a:latin typeface="Calibri"/>
                <a:ea typeface="Arial"/>
              </a:rPr>
              <a:t> </a:t>
            </a:r>
            <a:r>
              <a:rPr b="0" lang="en-US" sz="2800" spc="-1" strike="noStrike">
                <a:solidFill>
                  <a:srgbClr val="000000"/>
                </a:solidFill>
                <a:latin typeface="Calibri"/>
                <a:ea typeface="Arial"/>
              </a:rPr>
              <a:t>yield universal QC</a:t>
            </a:r>
            <a:endParaRPr b="0" lang="en-US" sz="2800" spc="-1" strike="noStrike">
              <a:solidFill>
                <a:srgbClr val="000000"/>
              </a:solidFill>
              <a:latin typeface="Arial"/>
            </a:endParaRPr>
          </a:p>
        </p:txBody>
      </p:sp>
      <p:sp>
        <p:nvSpPr>
          <p:cNvPr id="164" name="Text Box 3"/>
          <p:cNvSpPr/>
          <p:nvPr/>
        </p:nvSpPr>
        <p:spPr>
          <a:xfrm>
            <a:off x="353880" y="3832200"/>
            <a:ext cx="841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Jerrum-Sinclair-Vigoda 2001:</a:t>
            </a:r>
            <a:r>
              <a:rPr b="0" lang="en-US" sz="2800" spc="-1" strike="noStrike">
                <a:solidFill>
                  <a:srgbClr val="000000"/>
                </a:solidFill>
                <a:latin typeface="Calibri"/>
                <a:ea typeface="Arial"/>
              </a:rPr>
              <a:t> Fast classical randomized algorithm to approximate Per(A) for </a:t>
            </a:r>
            <a:r>
              <a:rPr b="1" lang="en-US" sz="2800" spc="-1" strike="noStrike">
                <a:solidFill>
                  <a:srgbClr val="008000"/>
                </a:solidFill>
                <a:latin typeface="Calibri"/>
                <a:ea typeface="Arial"/>
              </a:rPr>
              <a:t>nonnegative</a:t>
            </a:r>
            <a:r>
              <a:rPr b="0" lang="en-US" sz="2800" spc="-1" strike="noStrike">
                <a:solidFill>
                  <a:srgbClr val="000000"/>
                </a:solidFill>
                <a:latin typeface="Calibri"/>
                <a:ea typeface="Arial"/>
              </a:rPr>
              <a:t> A</a:t>
            </a:r>
            <a:endParaRPr b="0" lang="en-US" sz="2800" spc="-1" strike="noStrike">
              <a:solidFill>
                <a:srgbClr val="000000"/>
              </a:solidFill>
              <a:latin typeface="Arial"/>
            </a:endParaRPr>
          </a:p>
        </p:txBody>
      </p:sp>
      <p:sp>
        <p:nvSpPr>
          <p:cNvPr id="165" name="Text Box 3"/>
          <p:cNvSpPr/>
          <p:nvPr/>
        </p:nvSpPr>
        <p:spPr>
          <a:xfrm>
            <a:off x="371520" y="5105520"/>
            <a:ext cx="8415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remner-Jozsa-Shepherd 2011 (independent of us):</a:t>
            </a:r>
            <a:r>
              <a:rPr b="0" lang="en-US" sz="2800" spc="-1" strike="noStrike">
                <a:solidFill>
                  <a:srgbClr val="000000"/>
                </a:solidFill>
                <a:latin typeface="Calibri"/>
                <a:ea typeface="Arial"/>
              </a:rPr>
              <a:t> Analogous hardness results for simulating “commuting Hamiltonian” quantum compu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16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64"/>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80880" y="22860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Quantum Optics Model</a:t>
            </a:r>
            <a:endParaRPr b="0" lang="en-US" sz="4400" spc="-1" strike="noStrike">
              <a:solidFill>
                <a:srgbClr val="000000"/>
              </a:solidFill>
              <a:latin typeface="Arial"/>
            </a:endParaRPr>
          </a:p>
        </p:txBody>
      </p:sp>
      <p:sp>
        <p:nvSpPr>
          <p:cNvPr id="167" name="PlaceHolder 1"/>
          <p:cNvSpPr>
            <a:spLocks noGrp="1"/>
          </p:cNvSpPr>
          <p:nvPr>
            <p:ph type="subTitle"/>
          </p:nvPr>
        </p:nvSpPr>
        <p:spPr>
          <a:xfrm>
            <a:off x="304920" y="990720"/>
            <a:ext cx="853416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subset of quantum computing, involving only </a:t>
            </a:r>
            <a:r>
              <a:rPr b="1" lang="en-US" sz="2800" spc="-1" strike="noStrike">
                <a:solidFill>
                  <a:srgbClr val="ff0000"/>
                </a:solidFill>
                <a:latin typeface="Calibri"/>
                <a:ea typeface="Calibri"/>
              </a:rPr>
              <a:t>non-interacting bosons</a:t>
            </a:r>
            <a:r>
              <a:rPr b="0" lang="en-US" sz="2800" spc="-1" strike="noStrike">
                <a:solidFill>
                  <a:srgbClr val="000000"/>
                </a:solidFill>
                <a:latin typeface="Calibri"/>
                <a:ea typeface="Calibri"/>
              </a:rPr>
              <a:t>, and </a:t>
            </a:r>
            <a:r>
              <a:rPr b="1" lang="en-US" sz="2800" spc="-1" strike="noStrike">
                <a:solidFill>
                  <a:srgbClr val="ff0000"/>
                </a:solidFill>
                <a:latin typeface="Calibri"/>
                <a:ea typeface="Calibri"/>
              </a:rPr>
              <a:t>not</a:t>
            </a:r>
            <a:r>
              <a:rPr b="0" lang="en-US" sz="2800" spc="-1" strike="noStrike">
                <a:solidFill>
                  <a:srgbClr val="000000"/>
                </a:solidFill>
                <a:latin typeface="Calibri"/>
                <a:ea typeface="Calibri"/>
              </a:rPr>
              <a:t> based on qubits</a:t>
            </a:r>
            <a:endParaRPr b="0" lang="en-US" sz="2800" spc="-1" strike="noStrike">
              <a:solidFill>
                <a:srgbClr val="000000"/>
              </a:solidFill>
              <a:latin typeface="Arial"/>
            </a:endParaRPr>
          </a:p>
        </p:txBody>
      </p:sp>
      <p:sp>
        <p:nvSpPr>
          <p:cNvPr id="168" name="Subtitle 4"/>
          <p:cNvSpPr/>
          <p:nvPr/>
        </p:nvSpPr>
        <p:spPr>
          <a:xfrm>
            <a:off x="609480" y="205740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assical counterpart:</a:t>
            </a:r>
            <a:r>
              <a:rPr b="0" lang="en-US" sz="2800" spc="-1" strike="noStrike">
                <a:solidFill>
                  <a:srgbClr val="000000"/>
                </a:solidFill>
                <a:latin typeface="Calibri"/>
                <a:ea typeface="Calibri"/>
              </a:rPr>
              <a:t> Galton’s Board, on display at many science museums</a:t>
            </a:r>
            <a:endParaRPr b="0" lang="en-US" sz="2800" spc="-1" strike="noStrike">
              <a:solidFill>
                <a:srgbClr val="000000"/>
              </a:solidFill>
              <a:latin typeface="Arial"/>
            </a:endParaRPr>
          </a:p>
        </p:txBody>
      </p:sp>
      <p:sp>
        <p:nvSpPr>
          <p:cNvPr id="169" name="Subtitle 4"/>
          <p:cNvSpPr/>
          <p:nvPr/>
        </p:nvSpPr>
        <p:spPr>
          <a:xfrm>
            <a:off x="3657600" y="3352680"/>
            <a:ext cx="5181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Using only pegs and non-interacting balls, you probably can’t build a universal computer—but you </a:t>
            </a:r>
            <a:r>
              <a:rPr b="1" i="1" lang="en-US" sz="2800" spc="-1" strike="noStrike">
                <a:solidFill>
                  <a:srgbClr val="ff0000"/>
                </a:solidFill>
                <a:latin typeface="Calibri"/>
                <a:ea typeface="Calibri"/>
              </a:rPr>
              <a:t>can</a:t>
            </a:r>
            <a:r>
              <a:rPr b="0" i="1" lang="en-US" sz="2800" spc="-1" strike="noStrike">
                <a:solidFill>
                  <a:srgbClr val="000000"/>
                </a:solidFill>
                <a:latin typeface="Calibri"/>
                <a:ea typeface="Calibri"/>
              </a:rPr>
              <a:t> do some interesting computations, like generating the binomial distribution!</a:t>
            </a:r>
            <a:endParaRPr b="0" lang="en-US" sz="2800" spc="-1" strike="noStrike">
              <a:solidFill>
                <a:srgbClr val="000000"/>
              </a:solidFill>
              <a:latin typeface="Arial"/>
            </a:endParaRPr>
          </a:p>
        </p:txBody>
      </p:sp>
      <p:pic>
        <p:nvPicPr>
          <p:cNvPr id="170" name="Picture 8" descr="GaltonBoard"/>
          <p:cNvPicPr/>
          <p:nvPr/>
        </p:nvPicPr>
        <p:blipFill>
          <a:blip r:embed="rId1"/>
          <a:stretch/>
        </p:blipFill>
        <p:spPr>
          <a:xfrm>
            <a:off x="457200" y="3154320"/>
            <a:ext cx="2759040" cy="33084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499"/>
                                          </p:stCondLst>
                                        </p:cTn>
                                        <p:tgtEl>
                                          <p:spTgt spid="168"/>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499"/>
                                          </p:stCondLst>
                                        </p:cTn>
                                        <p:tgtEl>
                                          <p:spTgt spid="169"/>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08-07T22:53:41Z</dcterms:modified>
  <cp:revision>1649</cp:revision>
  <dc:subject/>
  <dc:title>The Learnability of Quantum States</dc:title>
</cp:coreProperties>
</file>