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860-7BBD-48F6-915A-4D82310C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3A5A-A602-4C3D-B3A3-63DE6A44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1865-98FE-4197-9A00-182BC9E3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0A3-0238-4A18-A0DB-D1EFCF13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BEC-E0E3-46C9-B48A-7D82DF0A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5BF5-339B-4A8D-8316-6A837ABA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759A-E322-4C48-B1AD-17DB23DF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E483-53D2-4628-9549-EFB235DA3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3006-1578-42F9-ABA3-ED4AC88E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BAD4-6955-4E91-87D9-C3134FC4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8DE7-0037-41E1-AB2B-9C03611B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EDB-B382-4E69-9EF1-02B021A0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06E3-9EE9-4AAF-A0D7-52922B966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CA79-DB94-43E7-A863-55E2C0CA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AB8-90C1-4396-8240-64857B5F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3650-18AB-4D5F-A32E-9D5AA1D6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791-2BAB-472B-87A4-D0D4C78B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E1D-E9A2-4F23-BFB3-39059CB04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042-FA62-4B8B-B91D-4E1645A9B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616C-01F5-4469-9F92-28E1BFB7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4B0-C157-43DA-A94D-7D282042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1D0F-A726-41B8-A9A2-426AC3E2F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86D-8FB7-407C-8798-D6C7BB46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F1A-BE4E-4BD8-A00E-B9B9E81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29A-D85F-458F-9247-CCDCD7DD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867-E874-4E22-A2FA-7EF5AD80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6FB-8F02-4CF0-B9D1-8C904C5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ADC-5E63-48C2-ABDB-FEF0BA67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EAB-934A-4028-9A0D-6A0C1E76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960-5233-47F3-89DF-8290CAD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7B4-2C2C-4A82-8839-6E25042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277-7EB6-4C16-B60E-AEA9717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A6E-77BE-4DBB-A299-BC37BA7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2E9-4AC1-4C77-9428-5EC498B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7CC5-E9CF-432B-9264-5CB61D21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Computational Complexity of Linear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and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228600" y="12240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i.e., there’s only one photon, in a superposition over the m mod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U acts on that photon in the obviou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3657600" y="1905120"/>
                <a:ext cx="2133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Rectangle 12"/>
          <p:cNvSpPr/>
          <p:nvPr/>
        </p:nvSpPr>
        <p:spPr>
          <a:xfrm>
            <a:off x="228600" y="2286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general, there are                                ways to distribute n identical photons into m m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28600" y="339876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photon states as follow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2895480" y="4008600"/>
                <a:ext cx="52070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Text Box 16"/>
          <p:cNvSpPr/>
          <p:nvPr/>
        </p:nvSpPr>
        <p:spPr>
          <a:xfrm>
            <a:off x="228600" y="5380200"/>
            <a:ext cx="86868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U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ossibly with repeated rows and column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btained by taking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umn for all i,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33"/>
          <p:cNvGrpSpPr/>
          <p:nvPr/>
        </p:nvGrpSpPr>
        <p:grpSpPr>
          <a:xfrm>
            <a:off x="6095880" y="1143000"/>
            <a:ext cx="2057400" cy="1219320"/>
            <a:chOff x="6095880" y="1143000"/>
            <a:chExt cx="2057400" cy="1219320"/>
          </a:xfrm>
        </p:grpSpPr>
        <p:sp>
          <p:nvSpPr>
            <p:cNvPr id="324" name="Rectangle 28"/>
            <p:cNvSpPr/>
            <p:nvPr/>
          </p:nvSpPr>
          <p:spPr>
            <a:xfrm>
              <a:off x="609588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>
              <a:off x="609588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3"/>
            <p:cNvSpPr/>
            <p:nvPr/>
          </p:nvSpPr>
          <p:spPr>
            <a:xfrm>
              <a:off x="6400440" y="1218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d1d1"/>
                  </a:solidFill>
                  <a:latin typeface="Arial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9"/>
            <p:cNvSpPr/>
            <p:nvPr/>
          </p:nvSpPr>
          <p:spPr>
            <a:xfrm>
              <a:off x="754380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7"/>
            <p:cNvSpPr/>
            <p:nvPr/>
          </p:nvSpPr>
          <p:spPr>
            <a:xfrm>
              <a:off x="754380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2"/>
          <p:cNvSpPr/>
          <p:nvPr/>
        </p:nvSpPr>
        <p:spPr>
          <a:xfrm>
            <a:off x="228600" y="1522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Example: The “Hong-Ou-Mandel Dip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33520" y="15238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24080" y="3505320"/>
                <a:ext cx="2170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2133720" y="1219320"/>
                <a:ext cx="2894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Oval 24"/>
          <p:cNvSpPr/>
          <p:nvPr/>
        </p:nvSpPr>
        <p:spPr>
          <a:xfrm>
            <a:off x="6248520" y="1295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248520" y="1905120"/>
            <a:ext cx="30456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Pr[the two photons land in different modes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533520" y="4419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[they both land in the first mode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2209680" y="5029200"/>
                <a:ext cx="44784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!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8131E-006 L 0.14167 -0.01111 E">
                                      <p:cBhvr>
                                        <p:cTn id="215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L 0.175 -0.0666 E">
                                      <p:cBhvr>
                                        <p:cTn id="217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autiful Alternate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228600" y="990720"/>
            <a:ext cx="8763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state” of our computer, at any time, is a degree-n polynomial over the variable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(n&lt;&lt;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(x) :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transformation U to x, to obtain a new degree-n poly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1384200" y="4040280"/>
                <a:ext cx="6248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1" name="Text Box 16"/>
          <p:cNvSpPr/>
          <p:nvPr/>
        </p:nvSpPr>
        <p:spPr>
          <a:xfrm>
            <a:off x="228600" y="52578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on “measuring,” we see the monomi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971800" y="5791320"/>
                <a:ext cx="2430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!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7162920" y="5105520"/>
                <a:ext cx="1736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354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275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6"/>
          <p:cNvSpPr/>
          <p:nvPr/>
        </p:nvSpPr>
        <p:spPr>
          <a:xfrm>
            <a:off x="304920" y="5076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I said before, I find this result unsatisfying, since it only talks about the classical hardnes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ac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ampling the distribution over photo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04920" y="2743200"/>
            <a:ext cx="8534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ifficult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sampler might adversarially refuse to output the one submatrix whose permanent we care about!  That changes the output distribution by only exp(-n), so we still have an excellent sampler … but we can no longer use it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04920" y="16002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sampling a distribution that’s 1/poly(n)-close in variation dist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304920" y="5181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get around this difficulty, it seems we need to “smuggle in” the matrix A that we about as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bmatrix of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88"/>
          <p:cNvSpPr/>
          <p:nvPr/>
        </p:nvSpPr>
        <p:spPr>
          <a:xfrm>
            <a:off x="2743200" y="2133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152280" y="83808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apply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, to n photons in m=poly(n)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5"/>
          <p:cNvSpPr/>
          <p:nvPr/>
        </p:nvSpPr>
        <p:spPr>
          <a:xfrm>
            <a:off x="266688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6"/>
          <p:cNvSpPr/>
          <p:nvPr/>
        </p:nvSpPr>
        <p:spPr>
          <a:xfrm>
            <a:off x="266688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7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8"/>
          <p:cNvSpPr/>
          <p:nvPr/>
        </p:nvSpPr>
        <p:spPr>
          <a:xfrm>
            <a:off x="266688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9"/>
          <p:cNvSpPr/>
          <p:nvPr/>
        </p:nvSpPr>
        <p:spPr>
          <a:xfrm>
            <a:off x="266688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0"/>
          <p:cNvSpPr/>
          <p:nvPr/>
        </p:nvSpPr>
        <p:spPr>
          <a:xfrm>
            <a:off x="388620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1"/>
          <p:cNvSpPr/>
          <p:nvPr/>
        </p:nvSpPr>
        <p:spPr>
          <a:xfrm>
            <a:off x="388620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2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388620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4"/>
          <p:cNvSpPr/>
          <p:nvPr/>
        </p:nvSpPr>
        <p:spPr>
          <a:xfrm>
            <a:off x="388620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85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6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7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52280" y="3657600"/>
            <a:ext cx="87631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ere’s a classical algorithm to sample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ime.  Then for al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/poly(n), there’s also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within additive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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!, with probability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4724280" y="2209680"/>
            <a:ext cx="3429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ribution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photon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2895480" y="5897520"/>
                <a:ext cx="281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8" name="Text Box 3"/>
          <p:cNvSpPr/>
          <p:nvPr/>
        </p:nvSpPr>
        <p:spPr>
          <a:xfrm>
            <a:off x="685800" y="3200400"/>
            <a:ext cx="7543800" cy="21592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ain technical lemma used in pro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Then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Haar unitary matrix is Õ(1/n)-close in variation distance to a matrix of independent Gauss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22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24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26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6"/>
          <p:cNvSpPr/>
          <p:nvPr/>
        </p:nvSpPr>
        <p:spPr>
          <a:xfrm>
            <a:off x="380880" y="45720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the question boils down to this: how hard is it to additively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5334120" y="1295280"/>
                <a:ext cx="317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16"/>
          <p:cNvSpPr/>
          <p:nvPr/>
        </p:nvSpPr>
        <p:spPr>
          <a:xfrm>
            <a:off x="380880" y="2666880"/>
            <a:ext cx="8382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onjecture that it’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—in which case, eve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assical simulation of our linear-optics experiment would imply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380880" y="4419720"/>
            <a:ext cx="8382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decompose this conjecture into two plausible sub-conjectures: that multiplicatively estimating Per(X)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for Gaussian X, and that Per(X) is “not too concentrated around 0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6"/>
          <p:cNvSpPr/>
          <p:nvPr/>
        </p:nvSpPr>
        <p:spPr>
          <a:xfrm>
            <a:off x="228600" y="17524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llowing problem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.  Given a matrix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i.i.d. Gaussian entries, together with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utput an approximation z such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380880" y="3352680"/>
                <a:ext cx="8223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16"/>
          <p:cNvSpPr/>
          <p:nvPr/>
        </p:nvSpPr>
        <p:spPr>
          <a:xfrm>
            <a:off x="609480" y="4952880"/>
            <a:ext cx="80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ness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.  So what makes the PGC nontrivial is really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mbin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average-case with approxima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6"/>
          <p:cNvSpPr/>
          <p:nvPr/>
        </p:nvSpPr>
        <p:spPr>
          <a:xfrm>
            <a:off x="228600" y="167652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Anti-Concentration Conjecture (PA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990720" y="22096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228600" y="990720"/>
            <a:ext cx="861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eems well within current technology to do our experiment with (say) n=4 photons and m=20 modes</a:t>
            </a:r>
            <a:br>
              <a:rPr sz="30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urrent record: n=2 pho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8600" y="24382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can scale to n photons and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variation distance, using “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experimental effort,” then modulo our complexity conjectures, the ECT is fal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228600" y="3962520"/>
            <a:ext cx="86104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would it take to scale to (say) n=20 photons and m=500 mod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ingle-photon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sources (standard laser isn’t good enoug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photodetector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Stable apparatus to ensure that w.h.p., all n photons arrive at photodetector arrays at exactly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914400" y="2209680"/>
            <a:ext cx="7543800" cy="1007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 we consul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building a universa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5800" y="3962520"/>
            <a:ext cx="78487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oint in scaling this experiment much beyond 20 or 30 photons, since then a classical computer can’t even verify the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7961400" y="0"/>
            <a:ext cx="1182600" cy="1066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0880" y="449568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hardness results for other natural quantum systems (besides linear opt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80880" y="1905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linear-optics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  What about problems for which a classical computer can verify th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80880" y="3429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interesting structural complexity 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38088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the PGC ($200) and PACC ($1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80880" y="17524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r even seriously proposed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80880" y="4803840"/>
            <a:ext cx="8534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Q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, then (say) the polynomial hierarchy collaps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7924680" y="285840"/>
            <a:ext cx="1019160" cy="127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2"/>
          <a:srcRect l="0" t="9552" r="0" b="0"/>
          <a:stretch/>
        </p:blipFill>
        <p:spPr>
          <a:xfrm>
            <a:off x="228600" y="304920"/>
            <a:ext cx="92376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6"/>
          <p:cNvSpPr/>
          <p:nvPr/>
        </p:nvSpPr>
        <p:spPr>
          <a:xfrm>
            <a:off x="304920" y="990720"/>
            <a:ext cx="861048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fine a model of computation based o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linear optic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n identical photons traveling through a network of poly(n) mirrors, phase-shifters, etc., then a single measurement of where the photons ended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rucial point: No entangling interactions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between pairs of photons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day: “A New Attack on the E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04920" y="411480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model is contained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seems unlikely to be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.  We don’t know if it solves any decision problems that are hard class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304920" y="56386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for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blems, the situation is completely differe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6"/>
          <p:cNvSpPr/>
          <p:nvPr/>
        </p:nvSpPr>
        <p:spPr>
          <a:xfrm>
            <a:off x="304920" y="533520"/>
            <a:ext cx="861048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1.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at for every linear-optics network, the probability distribution over measurement outcomes can be sampled in classical polynomial time.  The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so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lap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generally, let O be any oracle that simulates a linear-optics network A, given a description of A and a random string r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even if linear optics can be simulated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at still collapse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New evidence that QCs have capabilities beyo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, complementing [A’10],[FU’10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4038480" y="3657600"/>
                <a:ext cx="3570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9" name="Text Box 16"/>
          <p:cNvSpPr/>
          <p:nvPr/>
        </p:nvSpPr>
        <p:spPr>
          <a:xfrm>
            <a:off x="1295280" y="2895480"/>
            <a:ext cx="632484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, but isn’t the real question the hardness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mpling?  After all, experiments are noisy, and not even the linear-optics network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sample exactly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6"/>
          <p:cNvSpPr/>
          <p:nvPr/>
        </p:nvSpPr>
        <p:spPr>
          <a:xfrm>
            <a:off x="304920" y="228600"/>
            <a:ext cx="86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Suppose two plausible conjectures are true: the permanent of a Gaussian random matrix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O be any oracle takes as input a description of a linear-optics network A, a random string r,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that samples from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A’s in variation distance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4648320" y="4191120"/>
                <a:ext cx="3570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Text Box 16"/>
          <p:cNvSpPr/>
          <p:nvPr/>
        </p:nvSpPr>
        <p:spPr>
          <a:xfrm>
            <a:off x="533520" y="5181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In other words: if our conjectures hold, then even simulating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linear-optics experiments is classically intractable, unles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collap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28600" y="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From Sampling to Relation Proble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04920" y="808200"/>
            <a:ext cx="8458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 the class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lation problem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like finding a Nash equilibrium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are solvable by classical and quantum computers respectively, in 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ime and with success probability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304920" y="294156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assuming our conjectures, eve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would imply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04920" y="41608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(A., last week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f and only i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04920" y="5380200"/>
            <a:ext cx="8458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oof Sketch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Samp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immediate.  For the other direction, use Kolmogorov complexit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9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07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838080" y="3200400"/>
            <a:ext cx="7543800" cy="22269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[Valiant 2002, Terhal-DiVincenzo 2002]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that noninterac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erm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ystems can be simulated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But, confirming Avi’s joke, we’ll argue that the analogous problem for bosons (such as photons) is much much hard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Linear Optics for Dum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80880" y="10666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be considering a special kind of quantum computer, which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sed on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380880" y="2209680"/>
            <a:ext cx="8305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asis states have the form 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number of photons in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“mod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80880" y="3429000"/>
            <a:ext cx="830592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never create or destroy photons.  So if there are n photons, then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nonnegative integers summing to 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80880" y="59436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state: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380880" y="51055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us, m=poly(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08-03T13:50:09Z</dcterms:modified>
  <cp:revision>666</cp:revision>
  <dc:subject/>
  <dc:title>The Learnability of Quantum States</dc:title>
</cp:coreProperties>
</file>