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B3A-30DC-4CB8-B07A-2D5CFD7B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A36-061A-4915-931A-5FA48C1829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348-309D-4536-9421-C7587E9B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AB7E-2990-4E13-9343-CCDD460C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8D2E-6100-4C9F-B8A8-3F00EAC1E2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52B1-E5A7-4564-8B20-42CA70ADA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FA2-41A4-4BBD-927B-CECEEB12A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83D3-C02A-4D82-8845-D87BFE904A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DE06-B80C-41E7-9589-65DF7BED92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6E57-7367-4A9F-B359-3DA085703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C348-43C6-4C43-B8BE-639EFABE2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F5F-B7E1-4CF0-A131-CF25E6686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A2F-E12A-4D85-BDF3-620FFF4F5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606-8AE7-4CF8-815C-5525DB4CD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EA95-4923-4568-BDB7-BC405E46B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26F7-E331-4C3C-BC3A-1967A1416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01D-65C2-4D39-BCE9-5658D76F2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D200-B28B-4ABC-B5DB-DC27C43DB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080-AE6B-4B91-AC56-7E52A601AF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31A-3B54-474E-9A9B-BE39009F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A3D-40F3-4D85-8FE9-21FD76D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435-BCCC-40E3-BF4D-56CB6A50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3E7-2027-4FEA-8201-0E1D04B3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D9C-2E04-45A8-877D-D1C3B2C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283-83C3-495E-85EC-16092165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236-1653-42E6-A26F-2F40A81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D76-C1E3-4BB2-BFCD-12F73774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21F-F973-4990-B0DB-57724CD3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DFF-1BFC-4A9D-95D6-9FFFFAD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AC9-479D-41C2-8977-BACF830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A7A-FA57-454F-985C-010FDA8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F3C5-AAD9-4F41-B9AD-53B06E849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5416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942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Based on joint work with Alex Arkhipov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November 20, 201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rXiv:1011.32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18288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5001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  <a:ea typeface="Arial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04920" y="144144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"/>
              <p:cNvSpPr txBox="1"/>
              <p:nvPr/>
            </p:nvSpPr>
            <p:spPr>
              <a:xfrm>
                <a:off x="3086280" y="2463840"/>
                <a:ext cx="297180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2971800" y="5791320"/>
                <a:ext cx="33433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228600" y="1523880"/>
            <a:ext cx="42670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from Valiant’s famous resul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uppose we had a fast classical algorithm for boson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at is, using a randomized algorithm with an oracle for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is follows from a classical result of Goldwasser-Sips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 Suppose we had a fast classical algorithm for boson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"/>
              <p:cNvSpPr txBox="1"/>
              <p:nvPr/>
            </p:nvSpPr>
            <p:spPr>
              <a:xfrm>
                <a:off x="2971800" y="5791320"/>
                <a:ext cx="33433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00886 -0.77732 E">
                                      <p:cBhvr>
                                        <p:cTn id="139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468000" cy="59641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1371600" y="158760"/>
            <a:ext cx="769320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fortunately, this argument hinged on the hardness of estimating a single, exponentially-small probability p.  As such, it’s not robust to realistic experimental err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ing that a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sonSampling device still samples a classically-intractable distribution is a much more complicated problem.  As mentioned, we can do it, but only under an additional assumption (that estimating Gaussian permanents is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irst step toward proving that conjecture, would simply be to understand the distribution of |Per(X)|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Gaussian X.  Is it (as we conjecture) approximately lognorm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2012, groups in Brisbane, Oxford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36972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citing recent idea, proposed by Steve Kolthammer and others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4"/>
          <p:cNvSpPr/>
          <p:nvPr/>
        </p:nvSpPr>
        <p:spPr>
          <a:xfrm>
            <a:off x="401760" y="296856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 analysis turns out to go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olynomial-Time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Verification of BosonSampling De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304920" y="1598760"/>
            <a:ext cx="409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  <a:ea typeface="Calibri"/>
              </a:rPr>
              <a:t>Idea 1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e the product of squared 2-norms of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Check whether the observed distribution over P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is consistent with BosonSamp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ubtitle 4"/>
          <p:cNvSpPr/>
          <p:nvPr/>
        </p:nvSpPr>
        <p:spPr>
          <a:xfrm>
            <a:off x="343080" y="4859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a 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the scattering matrix U be a discrete Fourier transform.  Then because of cancellations in the permanent, a ~1/n fraction of outcomes S should have probability 0.  Check that these never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4395960" y="1598760"/>
            <a:ext cx="4824360" cy="3047760"/>
            <a:chOff x="4395960" y="1598760"/>
            <a:chExt cx="4824360" cy="3047760"/>
          </a:xfrm>
        </p:grpSpPr>
        <p:pic>
          <p:nvPicPr>
            <p:cNvPr id="128" name="Picture 7" descr=""/>
            <p:cNvPicPr/>
            <p:nvPr/>
          </p:nvPicPr>
          <p:blipFill>
            <a:blip r:embed="rId1"/>
            <a:stretch/>
          </p:blipFill>
          <p:spPr>
            <a:xfrm>
              <a:off x="4395960" y="159876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Subtitle 4"/>
            <p:cNvSpPr/>
            <p:nvPr/>
          </p:nvSpPr>
          <p:spPr>
            <a:xfrm>
              <a:off x="5234040" y="179856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ubtitle 4"/>
            <p:cNvSpPr/>
            <p:nvPr/>
          </p:nvSpPr>
          <p:spPr>
            <a:xfrm>
              <a:off x="5743800" y="286380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Straight Arrow Connector 15"/>
            <p:cNvCxnSpPr/>
            <p:nvPr/>
          </p:nvCxnSpPr>
          <p:spPr>
            <a:xfrm flipH="1">
              <a:off x="7367040" y="332208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32" name="Straight Arrow Connector 18"/>
            <p:cNvCxnSpPr/>
            <p:nvPr/>
          </p:nvCxnSpPr>
          <p:spPr>
            <a:xfrm flipH="1">
              <a:off x="5233680" y="254340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43434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the polynomia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60360" y="2111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60360" y="3100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143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20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6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 (Valiant 1979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(meaning: as hard as any combinatorial counting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Contrast with nonnegative perman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89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ev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X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4-11-20T14:21:43Z</dcterms:modified>
  <cp:revision>1623</cp:revision>
  <dc:subject/>
  <dc:title>The Learnability of Quantum States</dc:title>
</cp:coreProperties>
</file>