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gif" ContentType="image/gi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A3164-1D36-4228-82D9-60301F269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AC101-723B-416A-8FE5-9C17C6F98EF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FFC3D-CA2E-424C-B4D9-17C1B1036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B5F78-4124-471C-AADC-C316B6710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1586F-7C47-4DAD-8122-541212BF24C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7C1DC-F8EF-4787-B80A-670307AB80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D8C1A-BE58-4CB9-B23E-9FACE58CB2D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5547F-4E58-4D87-AC17-8FC33D87751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1B927-D978-4C49-B3EC-60BDFFD489F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C9BF4-04A8-4356-90C5-F957D6C150B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A05EA-F37A-4B4A-97C7-29BA2465EC6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4B067-37BB-4DCB-A7B8-D32F95EAC6B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698A2-6C4C-4FC9-9C29-4CDF622D40F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981C2-DC0F-4CF5-9187-892453715C4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15D41-63A5-489F-AF84-32540754E8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D190-F3AB-428E-BC5E-AC7510E1ADF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C113A-D81F-4F8E-8C1E-530DD390BB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33A89-9921-4BD8-8C47-282FC6E8858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BF7CE-D9CE-4056-BD42-A0D201FDCE1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514A-7308-42BE-AC64-542AE0623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390E-72CC-4F86-A8EF-0A3A7B61A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F37C-F75C-4296-8D7B-E7E10DD48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A08E-F130-413D-ADDA-BC4EA65F1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EFC0-82D3-439E-9B7E-68235E041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9826-62A5-4E96-ADC8-D084DB7FD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BDDD-6B22-4D88-ABD8-95F8A9FA6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BBA3-0B41-43DB-988F-5430E6676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B6C2-21EE-413F-8DC2-1348F8FA8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2205-2155-4477-830B-31D0C23E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A514-1078-43FC-9F0A-98A7C727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7375-74AC-472E-967C-E4EE8E3F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40040-161C-4763-B1A7-D2FD82F06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2720" y="25416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70c0"/>
                </a:solidFill>
                <a:latin typeface="Calibri"/>
              </a:rPr>
              <a:t>BosonSampling</a:t>
            </a:r>
            <a:endParaRPr b="1" lang="en-US" sz="5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449424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Scott Aaronson (MI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Based on joint work with Alex Arkhipov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November 20, 201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arXiv:1011.3245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http://www.photonics.com/images2/Spectra/Features/2013/06/Quantum_Figure4.jpg"/>
          <p:cNvPicPr/>
          <p:nvPr/>
        </p:nvPicPr>
        <p:blipFill>
          <a:blip r:embed="rId1"/>
          <a:stretch/>
        </p:blipFill>
        <p:spPr>
          <a:xfrm>
            <a:off x="5181480" y="1828800"/>
            <a:ext cx="3200400" cy="2143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914400" y="1500120"/>
            <a:ext cx="310500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228600" y="152280"/>
            <a:ext cx="86868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70c0"/>
                </a:solidFill>
                <a:latin typeface="Calibri"/>
                <a:ea typeface="Arial"/>
              </a:rPr>
              <a:t>OK, so why is it hard to sample the distribution over photon numbers classically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6"/>
          <p:cNvSpPr/>
          <p:nvPr/>
        </p:nvSpPr>
        <p:spPr>
          <a:xfrm>
            <a:off x="304920" y="1441440"/>
            <a:ext cx="85341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Given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an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matrix X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, we can construct an m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m unitary U (where m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2n) as follow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6"/>
          <p:cNvSpPr/>
          <p:nvPr/>
        </p:nvSpPr>
        <p:spPr>
          <a:xfrm>
            <a:off x="304920" y="3962520"/>
            <a:ext cx="845820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Suppose we start with |I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=|1,…,1,0,…,0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(one photon in each of the first n modes), apply U, and measu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Then the probability of observing |I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again 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1"/>
              <p:cNvSpPr txBox="1"/>
              <p:nvPr/>
            </p:nvSpPr>
            <p:spPr>
              <a:xfrm>
                <a:off x="3086280" y="2463840"/>
                <a:ext cx="2971800" cy="14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εX</m:t>
                              </m:r>
                            </m:e>
                            <m:e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>
                                <m:t xml:space="preserve">Z</m:t>
                              </m:r>
                            </m:e>
                            <m:e>
                              <m:r>
                                <m:t xml:space="preserve">W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7"/>
              <p:cNvSpPr txBox="1"/>
              <p:nvPr/>
            </p:nvSpPr>
            <p:spPr>
              <a:xfrm>
                <a:off x="2971800" y="5791320"/>
                <a:ext cx="334332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ε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n</m:t>
                        </m:r>
                      </m:sup>
                    </m:sSup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6"/>
          <p:cNvSpPr/>
          <p:nvPr/>
        </p:nvSpPr>
        <p:spPr>
          <a:xfrm>
            <a:off x="228600" y="1523880"/>
            <a:ext cx="4267080" cy="19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Claim 1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p is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complete to estimate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(up to a constant factor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s follows from Valiant’s famous result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6"/>
          <p:cNvSpPr/>
          <p:nvPr/>
        </p:nvSpPr>
        <p:spPr>
          <a:xfrm>
            <a:off x="4572000" y="1523880"/>
            <a:ext cx="4267080" cy="40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Claim 2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Suppose we had a fast classical algorithm for boson sampling.  Then we could estimate p in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  <a:ea typeface="Arial"/>
              </a:rPr>
              <a:t>BPP</a:t>
            </a:r>
            <a:r>
              <a:rPr b="1" lang="en-US" sz="2700" spc="-1" strike="noStrike" baseline="30000">
                <a:solidFill>
                  <a:srgbClr val="990099"/>
                </a:solidFill>
                <a:latin typeface="Calibri"/>
                <a:ea typeface="Arial"/>
              </a:rPr>
              <a:t>NP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—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that is, using a randomized algorithm with an oracle for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  <a:ea typeface="Arial"/>
              </a:rPr>
              <a:t>N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-complete problem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This follows from a classical result of Goldwasser-Sips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304920" y="5715000"/>
            <a:ext cx="8610480" cy="97740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Calibri"/>
                <a:ea typeface="Arial"/>
              </a:rPr>
              <a:t>Conclusion: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  <a:ea typeface="Arial"/>
              </a:rPr>
              <a:t> Suppose we had a fast classical algorithm for boson sampling.  Then </a:t>
            </a:r>
            <a:r>
              <a:rPr b="1" lang="en-US" sz="2900" spc="-1" strike="noStrike">
                <a:solidFill>
                  <a:srgbClr val="990099"/>
                </a:solidFill>
                <a:latin typeface="Calibri"/>
                <a:ea typeface="Arial"/>
              </a:rPr>
              <a:t>P</a:t>
            </a:r>
            <a:r>
              <a:rPr b="1" lang="en-US" sz="2900" spc="-1" strike="noStrike" baseline="30000">
                <a:solidFill>
                  <a:srgbClr val="990099"/>
                </a:solidFill>
                <a:latin typeface="Calibri"/>
                <a:ea typeface="Arial"/>
              </a:rPr>
              <a:t>#P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  <a:ea typeface="Arial"/>
              </a:rPr>
              <a:t>=</a:t>
            </a:r>
            <a:r>
              <a:rPr b="1" lang="en-US" sz="2900" spc="-1" strike="noStrike">
                <a:solidFill>
                  <a:srgbClr val="990099"/>
                </a:solidFill>
                <a:latin typeface="Calibri"/>
                <a:ea typeface="Arial"/>
              </a:rPr>
              <a:t>BPP</a:t>
            </a:r>
            <a:r>
              <a:rPr b="1" lang="en-US" sz="2900" spc="-1" strike="noStrike" baseline="30000">
                <a:solidFill>
                  <a:srgbClr val="990099"/>
                </a:solidFill>
                <a:latin typeface="Calibri"/>
                <a:ea typeface="Arial"/>
              </a:rPr>
              <a:t>NP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9"/>
          <p:cNvSpPr/>
          <p:nvPr/>
        </p:nvSpPr>
        <p:spPr>
          <a:xfrm>
            <a:off x="4495680" y="1600200"/>
            <a:ext cx="0" cy="403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1"/>
              <p:cNvSpPr txBox="1"/>
              <p:nvPr/>
            </p:nvSpPr>
            <p:spPr>
              <a:xfrm>
                <a:off x="2971800" y="5791320"/>
                <a:ext cx="334332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ε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n</m:t>
                        </m:r>
                      </m:sup>
                    </m:sSup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85185E-006 L 0.00886 -0.77732 E">
                                      <p:cBhvr>
                                        <p:cTn id="139" dur="1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0" y="928800"/>
            <a:ext cx="9468000" cy="5964120"/>
          </a:xfrm>
          <a:prstGeom prst="rect">
            <a:avLst/>
          </a:prstGeom>
          <a:ln w="0">
            <a:noFill/>
          </a:ln>
        </p:spPr>
      </p:pic>
      <p:sp>
        <p:nvSpPr>
          <p:cNvPr id="114" name="TextBox 1"/>
          <p:cNvSpPr/>
          <p:nvPr/>
        </p:nvSpPr>
        <p:spPr>
          <a:xfrm>
            <a:off x="1371600" y="158760"/>
            <a:ext cx="7693200" cy="51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nfortunately, this argument hinged on the hardness of estimating a single, exponentially-small probability p.  As such, it’s not robust to realistic experimental erro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howing that a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nois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osonSampling device still samples a classically-intractable distribution is a much more complicated problem.  As mentioned, we can do it, but only under an additional assumption (that estimating Gaussian permanents is </a:t>
            </a:r>
            <a:r>
              <a:rPr b="1" lang="en-US" sz="2600" spc="-1" strike="noStrike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-comple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 first step toward proving that conjecture, would simply be to understand the distribution of |Per(X)|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for Gaussian X.  Is it (as we conjecture) approximately lognormal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BosonSampling Experi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ubtitle 4"/>
          <p:cNvSpPr/>
          <p:nvPr/>
        </p:nvSpPr>
        <p:spPr>
          <a:xfrm>
            <a:off x="1333440" y="4191120"/>
            <a:ext cx="647712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Calibri"/>
                <a:ea typeface="Calibri"/>
              </a:rPr>
              <a:t># of experiments &gt; # of photon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http://www.photonics.com/images2/Spectra/Features/2013/06/Quantum_Figure4.jpg"/>
          <p:cNvPicPr/>
          <p:nvPr/>
        </p:nvPicPr>
        <p:blipFill>
          <a:blip r:embed="rId1"/>
          <a:stretch/>
        </p:blipFill>
        <p:spPr>
          <a:xfrm>
            <a:off x="5410080" y="1415880"/>
            <a:ext cx="3200400" cy="2143440"/>
          </a:xfrm>
          <a:prstGeom prst="rect">
            <a:avLst/>
          </a:prstGeom>
          <a:ln w="0">
            <a:noFill/>
          </a:ln>
        </p:spPr>
      </p:pic>
      <p:sp>
        <p:nvSpPr>
          <p:cNvPr id="118" name="Subtitle 4"/>
          <p:cNvSpPr/>
          <p:nvPr/>
        </p:nvSpPr>
        <p:spPr>
          <a:xfrm>
            <a:off x="457200" y="1166760"/>
            <a:ext cx="4686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n 2012, groups in Brisbane, Oxford, Rome, and Vienna reported the first 3-photon BosonSampling experiments, confirming that the amplitudes were given by 3x3 perma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ubtitle 4"/>
          <p:cNvSpPr/>
          <p:nvPr/>
        </p:nvSpPr>
        <p:spPr>
          <a:xfrm>
            <a:off x="455760" y="3429000"/>
            <a:ext cx="8305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Goal (in our view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Scale to 10-30 pho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on’t want to scale much beyond that—both bec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you probably can’t without fault-tolerance,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 classical computer probably couldn’t even verify the result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ubtitle 4"/>
          <p:cNvSpPr/>
          <p:nvPr/>
        </p:nvSpPr>
        <p:spPr>
          <a:xfrm>
            <a:off x="457200" y="68580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Obvious Challenges for Scaling U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Reliable single-photon sources 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Calibri"/>
              </a:rPr>
              <a:t>(optical multiplex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Minimizing lo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Getting high probability of n-photon coinc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380880" y="30492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Scattershot BosonSam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ubtitle 4"/>
          <p:cNvSpPr/>
          <p:nvPr/>
        </p:nvSpPr>
        <p:spPr>
          <a:xfrm>
            <a:off x="369720" y="129528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Exciting recent idea, proposed by Steve Kolthammer and others, for sampling a hard distribution even with highly unreliable (but heralded) photon sources, like SPD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ubtitle 4"/>
          <p:cNvSpPr/>
          <p:nvPr/>
        </p:nvSpPr>
        <p:spPr>
          <a:xfrm>
            <a:off x="401760" y="296856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1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The ide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ay you have 100 sources, of which only 10 (on average) generate a photon.  Then just detect which sources succeed, and use those to define your BosonSampling instanc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omplexity analysis turns out to go through essentially without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380880" y="152280"/>
            <a:ext cx="8382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Polynomial-Time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 Verification of BosonSampling Devic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ubtitle 4"/>
          <p:cNvSpPr/>
          <p:nvPr/>
        </p:nvSpPr>
        <p:spPr>
          <a:xfrm>
            <a:off x="304920" y="1598760"/>
            <a:ext cx="4091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Calibri"/>
                <a:ea typeface="Calibri"/>
              </a:rPr>
              <a:t>Idea 1: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Let A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 be the n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n submatrix of A corresponding to output S.  Let P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 be the product of squared 2-norms of A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’s rows.  Check whether the observed distribution over P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 is consistent with BosonSampl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ubtitle 4"/>
          <p:cNvSpPr/>
          <p:nvPr/>
        </p:nvSpPr>
        <p:spPr>
          <a:xfrm>
            <a:off x="343080" y="48592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Idea 2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Let the scattering matrix U be a discrete Fourier transform.  Then because of cancellations in the permanent, a ~1/n fraction of outcomes S should have probability 0.  Check that these never occ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6"/>
          <p:cNvGrpSpPr/>
          <p:nvPr/>
        </p:nvGrpSpPr>
        <p:grpSpPr>
          <a:xfrm>
            <a:off x="4395960" y="1598760"/>
            <a:ext cx="4824360" cy="3047760"/>
            <a:chOff x="4395960" y="1598760"/>
            <a:chExt cx="4824360" cy="3047760"/>
          </a:xfrm>
        </p:grpSpPr>
        <p:pic>
          <p:nvPicPr>
            <p:cNvPr id="128" name="Picture 7" descr=""/>
            <p:cNvPicPr/>
            <p:nvPr/>
          </p:nvPicPr>
          <p:blipFill>
            <a:blip r:embed="rId1"/>
            <a:stretch/>
          </p:blipFill>
          <p:spPr>
            <a:xfrm>
              <a:off x="4395960" y="1598760"/>
              <a:ext cx="4711680" cy="30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Subtitle 4"/>
            <p:cNvSpPr/>
            <p:nvPr/>
          </p:nvSpPr>
          <p:spPr>
            <a:xfrm>
              <a:off x="5234040" y="1798560"/>
              <a:ext cx="3962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P under uniform distribution (a lognormal random variable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Subtitle 4"/>
            <p:cNvSpPr/>
            <p:nvPr/>
          </p:nvSpPr>
          <p:spPr>
            <a:xfrm>
              <a:off x="5743800" y="2863800"/>
              <a:ext cx="3476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P under a BosonSampling distributi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1" name="Straight Arrow Connector 15"/>
            <p:cNvCxnSpPr/>
            <p:nvPr/>
          </p:nvCxnSpPr>
          <p:spPr>
            <a:xfrm flipH="1">
              <a:off x="7367040" y="3322080"/>
              <a:ext cx="115200" cy="8247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lg" type="arrow" w="lg"/>
            </a:ln>
          </p:spPr>
        </p:cxnSp>
        <p:cxnSp>
          <p:nvCxnSpPr>
            <p:cNvPr id="132" name="Straight Arrow Connector 18"/>
            <p:cNvCxnSpPr/>
            <p:nvPr/>
          </p:nvCxnSpPr>
          <p:spPr>
            <a:xfrm flipH="1">
              <a:off x="5233680" y="2543400"/>
              <a:ext cx="381600" cy="245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arrow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380880" y="228600"/>
            <a:ext cx="838224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Using Quantum Optics to Prove that the Permanent is </a:t>
            </a:r>
            <a:r>
              <a:rPr b="1" lang="en-US" sz="4400" spc="-1" strike="noStrike">
                <a:solidFill>
                  <a:srgbClr val="990099"/>
                </a:solidFill>
                <a:latin typeface="Calibri"/>
                <a:ea typeface="Arial"/>
              </a:rPr>
              <a:t>#P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-Complete</a:t>
            </a:r>
            <a:br>
              <a:rPr sz="4400"/>
            </a:b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[A., </a:t>
            </a:r>
            <a:r>
              <a:rPr b="1" i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Proc. Roy. Soc. 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201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ubtitle 4"/>
          <p:cNvSpPr/>
          <p:nvPr/>
        </p:nvSpPr>
        <p:spPr>
          <a:xfrm>
            <a:off x="609480" y="20574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ubtitle 4"/>
          <p:cNvSpPr/>
          <p:nvPr/>
        </p:nvSpPr>
        <p:spPr>
          <a:xfrm>
            <a:off x="380880" y="2209680"/>
            <a:ext cx="8610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Valiant showed that the permanent is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#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-complete—but his proof required strange, custom-made ga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ubtitle 4"/>
          <p:cNvSpPr/>
          <p:nvPr/>
        </p:nvSpPr>
        <p:spPr>
          <a:xfrm>
            <a:off x="380880" y="3276720"/>
            <a:ext cx="8610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e gave a new, arguably more transparent proof by combining three fa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-photon amplitudes correspond to 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 perma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(2) Postselected quantum optics can simulate universal quantum computation </a:t>
            </a: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Calibri"/>
              </a:rPr>
              <a:t>[Knill-Laflamme-Milburn 200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(3) Quantum computations can encode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#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-complete quantities in their amplitu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228600" y="2206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Open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380880" y="4343400"/>
            <a:ext cx="84582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imilar hardness results for other natural quantum systems (besides linear optics)?</a:t>
            </a:r>
            <a:br>
              <a:rPr sz="3200"/>
            </a:b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Bremner, Jozsa, Shepherd 2010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Another system for which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xac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classical simulation would collapse the polynomial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360360" y="21114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an the BosonSampling model solve classically-hard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decis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problems?  With verifiable answ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360360" y="31003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an one efficiently sample a distribution that can’t be efficiently distinguished from BosonSampl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380880" y="11430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rove that Gaussian permanent approximation is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Arial"/>
              </a:rPr>
              <a:t>#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hard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(first step: understand distribution of Gaussian perman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Vertical Scroll 10"/>
          <p:cNvSpPr/>
          <p:nvPr/>
        </p:nvSpPr>
        <p:spPr>
          <a:xfrm>
            <a:off x="1219320" y="380880"/>
            <a:ext cx="6629400" cy="4800600"/>
          </a:xfrm>
          <a:prstGeom prst="verticalScroll">
            <a:avLst>
              <a:gd name="adj" fmla="val 12500"/>
            </a:avLst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shor"/>
          <p:cNvPicPr/>
          <p:nvPr/>
        </p:nvPicPr>
        <p:blipFill>
          <a:blip r:embed="rId1"/>
          <a:srcRect l="1600" t="2400" r="16003" b="2400"/>
          <a:stretch/>
        </p:blipFill>
        <p:spPr>
          <a:xfrm>
            <a:off x="7238880" y="2133720"/>
            <a:ext cx="989280" cy="761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shor"/>
          <p:cNvPicPr/>
          <p:nvPr/>
        </p:nvPicPr>
        <p:blipFill>
          <a:blip r:embed="rId2"/>
          <a:srcRect l="16003" t="2400" r="1600" b="2400"/>
          <a:stretch/>
        </p:blipFill>
        <p:spPr>
          <a:xfrm>
            <a:off x="838080" y="2133720"/>
            <a:ext cx="989280" cy="761760"/>
          </a:xfrm>
          <a:prstGeom prst="rect">
            <a:avLst/>
          </a:prstGeom>
          <a:ln w="0">
            <a:noFill/>
          </a:ln>
        </p:spPr>
      </p:pic>
      <p:sp>
        <p:nvSpPr>
          <p:cNvPr id="55" name="Freeform 8"/>
          <p:cNvSpPr/>
          <p:nvPr/>
        </p:nvSpPr>
        <p:spPr>
          <a:xfrm>
            <a:off x="1752480" y="2209680"/>
            <a:ext cx="1511280" cy="46368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w="1511808" h="463296">
                <a:moveTo>
                  <a:pt x="12192" y="195072"/>
                </a:moveTo>
                <a:lnTo>
                  <a:pt x="1511808" y="0"/>
                </a:lnTo>
                <a:lnTo>
                  <a:pt x="743712" y="134112"/>
                </a:lnTo>
                <a:lnTo>
                  <a:pt x="1341120" y="463296"/>
                </a:lnTo>
                <a:lnTo>
                  <a:pt x="658368" y="146304"/>
                </a:lnTo>
                <a:lnTo>
                  <a:pt x="0" y="256032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5257800" y="1600200"/>
            <a:ext cx="2000160" cy="1378080"/>
          </a:xfrm>
          <a:custGeom>
            <a:avLst/>
            <a:gdLst>
              <a:gd name="textAreaLeft" fmla="*/ 0 w 2000160"/>
              <a:gd name="textAreaRight" fmla="*/ 2000520 w 2000160"/>
              <a:gd name="textAreaTop" fmla="*/ 0 h 1378080"/>
              <a:gd name="textAreaBottom" fmla="*/ 1378440 h 1378080"/>
            </a:gdLst>
            <a:ahLst/>
            <a:rect l="textAreaLeft" t="textAreaTop" r="textAreaRight" b="textAreaBottom"/>
            <a:pathLst>
              <a:path w="1999488" h="1377696">
                <a:moveTo>
                  <a:pt x="1987296" y="841248"/>
                </a:moveTo>
                <a:lnTo>
                  <a:pt x="743712" y="0"/>
                </a:lnTo>
                <a:lnTo>
                  <a:pt x="1219200" y="377952"/>
                </a:lnTo>
                <a:lnTo>
                  <a:pt x="304800" y="329184"/>
                </a:lnTo>
                <a:lnTo>
                  <a:pt x="1207008" y="414528"/>
                </a:lnTo>
                <a:lnTo>
                  <a:pt x="1548384" y="633984"/>
                </a:lnTo>
                <a:lnTo>
                  <a:pt x="280416" y="902208"/>
                </a:lnTo>
                <a:lnTo>
                  <a:pt x="1584960" y="670560"/>
                </a:lnTo>
                <a:lnTo>
                  <a:pt x="1938528" y="877824"/>
                </a:lnTo>
                <a:lnTo>
                  <a:pt x="0" y="1377696"/>
                </a:lnTo>
                <a:lnTo>
                  <a:pt x="1999488" y="926592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304920" y="5562720"/>
            <a:ext cx="8610480" cy="1464480"/>
          </a:xfrm>
          <a:prstGeom prst="rect">
            <a:avLst/>
          </a:prstGeom>
          <a:solidFill>
            <a:srgbClr val="e4f2f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Shor’s Theorem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QUANTUM SIMULATION has no efficient classical algorithm, unless FACTORING does als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2057400" y="1143000"/>
            <a:ext cx="4952880" cy="44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Old English Text MT"/>
              </a:rPr>
              <a:t>The Extended Church-Turing Thesis (ECT)</a:t>
            </a:r>
            <a:r>
              <a:rPr b="0" lang="en-US" sz="3600" spc="-1" strike="noStrike">
                <a:solidFill>
                  <a:srgbClr val="000000"/>
                </a:solidFill>
                <a:latin typeface="Old English Text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rything feasibly computable in the physical world is feasibly computable by a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probabilistic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uring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219320" y="228600"/>
            <a:ext cx="65530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70c0"/>
                </a:solidFill>
                <a:latin typeface="Calibri"/>
                <a:ea typeface="Arial"/>
              </a:rPr>
              <a:t>So the ECT is false … what more evidence could anyone wa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380880" y="1523880"/>
            <a:ext cx="8534520" cy="29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uilding a QC able to factor large numbers is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damn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ard!  After 20 years, no fundamental obstacle has been found, but who know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Arial"/>
              </a:rPr>
              <a:t>Can’t we “meet the physicists halfway,” and show computational hardness for quantum systems closer to what they actually work with now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6"/>
          <p:cNvSpPr/>
          <p:nvPr/>
        </p:nvSpPr>
        <p:spPr>
          <a:xfrm>
            <a:off x="380880" y="4575240"/>
            <a:ext cx="8534520" cy="24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ACTORING might be have a fast classical algorithm!  At any rate, it’s an extremely “special” probl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Arial"/>
              </a:rPr>
              <a:t>Wouldn’t it be great to show that if, quantum computers can be simulated classically, then (say)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  <a:ea typeface="Arial"/>
              </a:rPr>
              <a:t>P</a:t>
            </a: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Arial"/>
              </a:rPr>
              <a:t>=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  <a:ea typeface="Arial"/>
              </a:rPr>
              <a:t>NP</a:t>
            </a: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Arial"/>
              </a:rPr>
              <a:t>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80880" y="18576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BosonSampling 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(A.-Arkhipov 20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80520" y="102888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 rudimentary type of quantum computing, involving only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non-interacting pho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ubtitle 4"/>
          <p:cNvSpPr/>
          <p:nvPr/>
        </p:nvSpPr>
        <p:spPr>
          <a:xfrm>
            <a:off x="76320" y="212868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Classical counterpart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Galton’s Bo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ubtitle 4"/>
          <p:cNvSpPr/>
          <p:nvPr/>
        </p:nvSpPr>
        <p:spPr>
          <a:xfrm>
            <a:off x="3505320" y="212868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Replacing the balls by photons leads to famously counterintuitive phenomena, like the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Hong-Ou-Mandel di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http://mathworld.wolfram.com/images/eps-gif/GaltonBoard_1000.gif"/>
          <p:cNvPicPr/>
          <p:nvPr/>
        </p:nvPicPr>
        <p:blipFill>
          <a:blip r:embed="rId1"/>
          <a:stretch/>
        </p:blipFill>
        <p:spPr>
          <a:xfrm>
            <a:off x="533520" y="3135240"/>
            <a:ext cx="2819160" cy="3380040"/>
          </a:xfrm>
          <a:prstGeom prst="rect">
            <a:avLst/>
          </a:prstGeom>
          <a:ln w="0">
            <a:noFill/>
          </a:ln>
        </p:spPr>
      </p:pic>
      <p:sp>
        <p:nvSpPr>
          <p:cNvPr id="67" name="Straight Connector 8"/>
          <p:cNvSpPr/>
          <p:nvPr/>
        </p:nvSpPr>
        <p:spPr>
          <a:xfrm>
            <a:off x="4343400" y="3772080"/>
            <a:ext cx="3657600" cy="2743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traight Connector 9"/>
          <p:cNvSpPr/>
          <p:nvPr/>
        </p:nvSpPr>
        <p:spPr>
          <a:xfrm flipH="1">
            <a:off x="4343400" y="3772080"/>
            <a:ext cx="3657600" cy="2743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 rot="16200000">
            <a:off x="5562360" y="5066640"/>
            <a:ext cx="121932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15"/>
          <p:cNvSpPr/>
          <p:nvPr/>
        </p:nvSpPr>
        <p:spPr>
          <a:xfrm>
            <a:off x="4191120" y="3619440"/>
            <a:ext cx="304560" cy="30492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6"/>
          <p:cNvSpPr/>
          <p:nvPr/>
        </p:nvSpPr>
        <p:spPr>
          <a:xfrm>
            <a:off x="7848720" y="3619440"/>
            <a:ext cx="304560" cy="30492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0 L -0.19167 0.2 E">
                                      <p:cBhvr>
                                        <p:cTn id="59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9167 0.2 E">
                                      <p:cBhvr>
                                        <p:cTn id="61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167 0.2 L -0.01667 0.36667 E">
                                      <p:cBhvr>
                                        <p:cTn id="64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167 0.2 L 0.375 0.38889 E">
                                      <p:cBhvr>
                                        <p:cTn id="66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833 0.2 L 0 0.4 E">
                                      <p:cBhvr>
                                        <p:cTn id="69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167 0.2 L -0.38333 0.38889 E">
                                      <p:cBhvr>
                                        <p:cTn id="71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58920" y="189000"/>
            <a:ext cx="6681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n general, we consider a network of beamsplitters, with n input “modes”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(locations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and m&gt;&gt;n output m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7269120" y="417600"/>
            <a:ext cx="1647720" cy="2438280"/>
          </a:xfrm>
          <a:prstGeom prst="rect">
            <a:avLst/>
          </a:prstGeom>
          <a:ln w="0">
            <a:noFill/>
          </a:ln>
        </p:spPr>
      </p:pic>
      <p:sp>
        <p:nvSpPr>
          <p:cNvPr id="74" name="Subtitle 4"/>
          <p:cNvSpPr/>
          <p:nvPr/>
        </p:nvSpPr>
        <p:spPr>
          <a:xfrm>
            <a:off x="358920" y="1636560"/>
            <a:ext cx="6879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 identical photons enter, one per input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ssume for simplicity they all leave in different modes—there are         possi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ubtitle 4"/>
          <p:cNvSpPr/>
          <p:nvPr/>
        </p:nvSpPr>
        <p:spPr>
          <a:xfrm>
            <a:off x="358920" y="3487680"/>
            <a:ext cx="848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e beamsplitter network defines a column-orthonormal matrix 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such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6"/>
              <p:cNvSpPr txBox="1"/>
              <p:nvPr/>
            </p:nvSpPr>
            <p:spPr>
              <a:xfrm>
                <a:off x="1654200" y="4489560"/>
                <a:ext cx="381456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σ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  <m:sup/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σ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i</m:t>
                                    </m:r>
                                  </m:e>
                                </m:d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6"/>
              <p:cNvSpPr txBox="1"/>
              <p:nvPr/>
            </p:nvSpPr>
            <p:spPr>
              <a:xfrm>
                <a:off x="4549680" y="2579760"/>
                <a:ext cx="532080" cy="79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m</m:t>
                              </m:r>
                            </m:e>
                          </m:mr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6"/>
              <p:cNvSpPr txBox="1"/>
              <p:nvPr/>
            </p:nvSpPr>
            <p:spPr>
              <a:xfrm>
                <a:off x="4268880" y="3909960"/>
                <a:ext cx="45702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outcome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9" name="Subtitle 4"/>
          <p:cNvSpPr/>
          <p:nvPr/>
        </p:nvSpPr>
        <p:spPr>
          <a:xfrm>
            <a:off x="358920" y="48448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ubtitle 4"/>
          <p:cNvSpPr/>
          <p:nvPr/>
        </p:nvSpPr>
        <p:spPr>
          <a:xfrm>
            <a:off x="357120" y="5837400"/>
            <a:ext cx="3735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s the matrix perma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5"/>
          <p:cNvGrpSpPr/>
          <p:nvPr/>
        </p:nvGrpSpPr>
        <p:grpSpPr>
          <a:xfrm>
            <a:off x="6210360" y="4488840"/>
            <a:ext cx="2628720" cy="1330920"/>
            <a:chOff x="6210360" y="4488840"/>
            <a:chExt cx="2628720" cy="1330920"/>
          </a:xfrm>
        </p:grpSpPr>
        <p:sp>
          <p:nvSpPr>
            <p:cNvPr id="82" name="Subtitle 4"/>
            <p:cNvSpPr/>
            <p:nvPr/>
          </p:nvSpPr>
          <p:spPr>
            <a:xfrm>
              <a:off x="6210360" y="4968720"/>
              <a:ext cx="2628720" cy="85104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n submatrix of A corresponding to 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3" name="Straight Arrow Connector 4"/>
            <p:cNvCxnSpPr/>
            <p:nvPr/>
          </p:nvCxnSpPr>
          <p:spPr>
            <a:xfrm flipV="1">
              <a:off x="8130600" y="4488840"/>
              <a:ext cx="76680" cy="4798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lg" type="arrow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380880" y="15228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ubtitle 4"/>
          <p:cNvSpPr/>
          <p:nvPr/>
        </p:nvSpPr>
        <p:spPr>
          <a:xfrm>
            <a:off x="380880" y="9223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For Hong-Ou-Mandel experimen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9"/>
              <p:cNvSpPr txBox="1"/>
              <p:nvPr/>
            </p:nvSpPr>
            <p:spPr>
              <a:xfrm>
                <a:off x="646200" y="1407960"/>
                <a:ext cx="7850160" cy="22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output</m:t>
                        </m:r>
                        <m:r>
                          <m:t xml:space="preserve"> 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1,1</m:t>
                        </m:r>
                        <m:r>
                          <m:t xml:space="preserve">⟩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f>
                                        <m:num>
                                          <m:r>
                                            <m:t xml:space="preserve">1</m:t>
                                          </m:r>
                                        </m:num>
                                        <m:den>
                                          <m:rad>
                                            <m:radPr>
                                              <m:degHide m:val="1"/>
                                            </m:radPr>
                                            <m:deg/>
                                            <m:e>
                                              <m:r>
                                                <m:t xml:space="preserve">2</m:t>
                                              </m:r>
                                            </m:e>
                                          </m:rad>
                                        </m:den>
                                      </m:f>
                                    </m:e>
                                    <m:e>
                                      <m:f>
                                        <m:num>
                                          <m:r>
                                            <m:t xml:space="preserve">1</m:t>
                                          </m:r>
                                        </m:num>
                                        <m:den>
                                          <m:rad>
                                            <m:radPr>
                                              <m:degHide m:val="1"/>
                                            </m:radPr>
                                            <m:deg/>
                                            <m:e>
                                              <m:r>
                                                <m:t xml:space="preserve">2</m:t>
                                              </m:r>
                                            </m:e>
                                          </m:rad>
                                        </m:den>
                                      </m:f>
                                    </m:e>
                                  </m:mr>
                                  <m:mr>
                                    <m:e>
                                      <m:f>
                                        <m:num>
                                          <m:r>
                                            <m:t xml:space="preserve">1</m:t>
                                          </m:r>
                                        </m:num>
                                        <m:den>
                                          <m:rad>
                                            <m:radPr>
                                              <m:degHide m:val="1"/>
                                            </m:radPr>
                                            <m:deg/>
                                            <m:e>
                                              <m:r>
                                                <m:t xml:space="preserve">2</m:t>
                                              </m:r>
                                            </m:e>
                                          </m:rad>
                                        </m:den>
                                      </m:f>
                                    </m:e>
                                    <m:e>
                                      <m:r>
                                        <m:t xml:space="preserve">−</m:t>
                                      </m:r>
                                      <m:f>
                                        <m:num>
                                          <m:r>
                                            <m:t xml:space="preserve">1</m:t>
                                          </m:r>
                                        </m:num>
                                        <m:den>
                                          <m:rad>
                                            <m:radPr>
                                              <m:degHide m:val="1"/>
                                            </m:radPr>
                                            <m:deg/>
                                            <m:e>
                                              <m:r>
                                                <m:t xml:space="preserve">2</m:t>
                                              </m:r>
                                            </m:e>
                                          </m:rad>
                                        </m:den>
                                      </m:f>
                                    </m:e>
                                  </m:mr>
                                </m:m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Subtitle 4"/>
          <p:cNvSpPr/>
          <p:nvPr/>
        </p:nvSpPr>
        <p:spPr>
          <a:xfrm>
            <a:off x="380880" y="3809880"/>
            <a:ext cx="822960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n general, an 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 complex permanent is a sum of n! terms, almost all of which can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How hard is it to estimate the “tiny residue” left ov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Answer (Valiant 1979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#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-complete (meaning: as hard as any combinatorial counting proble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Calibri"/>
                <a:ea typeface="Calibri"/>
              </a:rPr>
              <a:t>Contrast with nonnegative permanent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380880" y="152280"/>
            <a:ext cx="8382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So, Can We Use Quantum Optics to Solve a </a:t>
            </a:r>
            <a:r>
              <a:rPr b="1" lang="en-US" sz="4400" spc="-1" strike="noStrike">
                <a:solidFill>
                  <a:srgbClr val="990099"/>
                </a:solidFill>
                <a:latin typeface="Calibri"/>
                <a:ea typeface="Arial"/>
              </a:rPr>
              <a:t>#P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-Complete Proble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ubtitle 4"/>
          <p:cNvSpPr/>
          <p:nvPr/>
        </p:nvSpPr>
        <p:spPr>
          <a:xfrm>
            <a:off x="838080" y="2798640"/>
            <a:ext cx="7239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Explanation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If X is sub-unitary, then |Per(X)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will usually be exponentially small.  So to get a reasonable estimate of |Per(X)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for a given X, we’d generally need to repeat the optical experiment exponentially many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ubtitle 4"/>
          <p:cNvSpPr/>
          <p:nvPr/>
        </p:nvSpPr>
        <p:spPr>
          <a:xfrm>
            <a:off x="533520" y="1828800"/>
            <a:ext cx="807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at sounds way too good to be tru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2" descr="flyingpig"/>
          <p:cNvPicPr/>
          <p:nvPr/>
        </p:nvPicPr>
        <p:blipFill>
          <a:blip r:embed="rId1"/>
          <a:stretch/>
        </p:blipFill>
        <p:spPr>
          <a:xfrm>
            <a:off x="3886200" y="5829480"/>
            <a:ext cx="131436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0 L 0.00312 -0.60278 E">
                                      <p:cBhvr>
                                        <p:cTn id="89" dur="3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1" dur="3000" fill="hold"/>
                                        <p:tgtEl>
                                          <p:spTgt spid="91"/>
                                        </p:tgtEl>
                                      </p:cBhvr>
                                      <p:to x="500000" y="5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ubtitle 4"/>
          <p:cNvSpPr/>
          <p:nvPr/>
        </p:nvSpPr>
        <p:spPr>
          <a:xfrm>
            <a:off x="457200" y="304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Better ide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Given 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as input, let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BosonSampl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be the problem of merely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ampl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from the same distribution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that the beamsplitter network samples from—the one defined by Pr[S]=|Per(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)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ubtitle 4"/>
          <p:cNvSpPr/>
          <p:nvPr/>
        </p:nvSpPr>
        <p:spPr>
          <a:xfrm>
            <a:off x="457200" y="22096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Theorem (A.-Arkhipov 2011)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uppose BosonSampling is solvable in classical polynomial time.  Then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P</a:t>
            </a:r>
            <a:r>
              <a:rPr b="1" lang="en-US" sz="2800" spc="-1" strike="noStrike" baseline="30000">
                <a:solidFill>
                  <a:srgbClr val="990099"/>
                </a:solidFill>
                <a:latin typeface="Calibri"/>
                <a:ea typeface="Calibri"/>
              </a:rPr>
              <a:t>#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=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BPP</a:t>
            </a:r>
            <a:r>
              <a:rPr b="1" lang="en-US" sz="2800" spc="-1" strike="noStrike" baseline="30000">
                <a:solidFill>
                  <a:srgbClr val="990099"/>
                </a:solidFill>
                <a:latin typeface="Calibri"/>
                <a:ea typeface="Calibri"/>
              </a:rPr>
              <a:t>N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ubtitle 4"/>
          <p:cNvSpPr/>
          <p:nvPr/>
        </p:nvSpPr>
        <p:spPr>
          <a:xfrm>
            <a:off x="425520" y="32004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Better Theorem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uppose we can sample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eve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pproximate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in classical polynomial time.  Then in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BPP</a:t>
            </a:r>
            <a:r>
              <a:rPr b="1" lang="en-US" sz="2800" spc="-1" strike="noStrike" baseline="30000">
                <a:solidFill>
                  <a:srgbClr val="990099"/>
                </a:solidFill>
                <a:latin typeface="Calibri"/>
                <a:ea typeface="Calibri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it’s possible to estimate Per(X), with high probability over a Gaussian random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6"/>
              <p:cNvSpPr txBox="1"/>
              <p:nvPr/>
            </p:nvSpPr>
            <p:spPr>
              <a:xfrm>
                <a:off x="6770520" y="4394160"/>
                <a:ext cx="21877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Ν</m:t>
                    </m:r>
                    <m:sSub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96" name="Subtitle 4"/>
          <p:cNvSpPr/>
          <p:nvPr/>
        </p:nvSpPr>
        <p:spPr>
          <a:xfrm>
            <a:off x="789120" y="2743200"/>
            <a:ext cx="7772400" cy="13716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Upshot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Compared to (say) Shor’s factoring algorithm, we ge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ifferent/strong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evidence that 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eak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system can do something classically h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ubtitle 4"/>
          <p:cNvSpPr/>
          <p:nvPr/>
        </p:nvSpPr>
        <p:spPr>
          <a:xfrm>
            <a:off x="1095480" y="4952880"/>
            <a:ext cx="715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Calibri"/>
              </a:rPr>
              <a:t>We conjecture that the above problem is already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  <a:ea typeface="Calibri"/>
              </a:rPr>
              <a:t>#P</a:t>
            </a: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Calibri"/>
              </a:rPr>
              <a:t>-complete.  If it is, then even a fast classical algorithm for </a:t>
            </a:r>
            <a:r>
              <a:rPr b="0" i="1" lang="en-US" sz="2700" spc="-1" strike="noStrike">
                <a:solidFill>
                  <a:srgbClr val="008000"/>
                </a:solidFill>
                <a:latin typeface="Calibri"/>
                <a:ea typeface="Calibri"/>
              </a:rPr>
              <a:t>approximate</a:t>
            </a: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Calibri"/>
              </a:rPr>
              <a:t> BosonSampling would have the consequence tha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  <a:ea typeface="Calibri"/>
              </a:rPr>
              <a:t>P</a:t>
            </a:r>
            <a:r>
              <a:rPr b="1" lang="en-US" sz="2700" spc="-1" strike="noStrike" baseline="30000">
                <a:solidFill>
                  <a:srgbClr val="990099"/>
                </a:solidFill>
                <a:latin typeface="Calibri"/>
                <a:ea typeface="Calibri"/>
              </a:rPr>
              <a:t>#P</a:t>
            </a: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Calibri"/>
              </a:rPr>
              <a:t>=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  <a:ea typeface="Calibri"/>
              </a:rPr>
              <a:t>BPP</a:t>
            </a:r>
            <a:r>
              <a:rPr b="1" lang="en-US" sz="2700" spc="-1" strike="noStrike" baseline="30000">
                <a:solidFill>
                  <a:srgbClr val="990099"/>
                </a:solidFill>
                <a:latin typeface="Calibri"/>
                <a:ea typeface="Calibri"/>
              </a:rPr>
              <a:t>NP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3"/>
          <p:cNvSpPr/>
          <p:nvPr/>
        </p:nvSpPr>
        <p:spPr>
          <a:xfrm>
            <a:off x="304920" y="83808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Valiant 2001, Terhal-DiVincenzo 2002, “folklore”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 QC built of noninteracting fermions can be efficiently simulated by a classical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228600" y="7632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Related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304920" y="23623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Knill, Laflamme, Milburn 2001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Noninteracting bosons plus </a:t>
            </a: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Arial"/>
              </a:rPr>
              <a:t>adaptive measurements</a:t>
            </a:r>
            <a:r>
              <a:rPr b="0" lang="en-US" sz="2800" spc="-1" strike="noStrike">
                <a:solidFill>
                  <a:srgbClr val="0080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yield universal Q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316080" y="3451320"/>
            <a:ext cx="84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Jerrum-Sinclair-Vigoda 2001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Fast classical randomized algorithm to approximate Per(X) for </a:t>
            </a: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Arial"/>
              </a:rPr>
              <a:t>nonnegativ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316080" y="4572000"/>
            <a:ext cx="8415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Gurvits 2002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 classical randomized algorithm to approximate an n-photon amplitude to ±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dditive error 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(also, to compute k-mode marginal distribution in 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O(k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20:46:23Z</dcterms:created>
  <dc:creator>Scott Aaronson</dc:creator>
  <dc:description/>
  <dc:language>en-US</dc:language>
  <cp:lastModifiedBy>Scott</cp:lastModifiedBy>
  <dcterms:modified xsi:type="dcterms:W3CDTF">2014-11-20T14:21:43Z</dcterms:modified>
  <cp:revision>1623</cp:revision>
  <dc:subject/>
  <dc:title>The Learnability of Quantum States</dc:title>
</cp:coreProperties>
</file>