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FCD9E-F67A-49F2-97D5-DEF6C43D0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0F6EA-26BF-48CC-953C-91DFEEEF8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CD503-34BF-40FF-A265-2179A7FCB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CE0D0-C0E6-49E2-B53C-7DE2D8691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C0246-16BF-4252-86CE-9FE27524D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EBF18-EF34-4550-8BB0-3EAA14A1F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DFD6D-A768-43BF-91AE-EB0DA012B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98AB8-5D4E-4090-928D-13C245AA4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0E193-36B4-4F0F-8004-9EE496508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636D3-6FC2-4C27-A8A2-AE24B9F67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63D07-03F2-4588-9438-7C7641CFC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0BC81-F842-44F4-AB51-4C3E2E473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153F8-CB7A-4A23-8497-B90C296A5E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280" y="1125360"/>
            <a:ext cx="84247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How to Solve Longstanding Open Problems In Quantum Computing Using Only Fourier Analys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44960"/>
            <a:ext cx="6400800" cy="14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ott Aaronson (MI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63640" y="4581360"/>
            <a:ext cx="5616720" cy="1556280"/>
          </a:xfrm>
          <a:prstGeom prst="rect">
            <a:avLst/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those who hate quantum: The open problems will be in off-white boxes like this 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Problem 1: BQP </a:t>
            </a:r>
            <a:r>
              <a:rPr b="1" lang="en-US" sz="4400" spc="-1" strike="noStrike">
                <a:solidFill>
                  <a:srgbClr val="333399"/>
                </a:solidFill>
                <a:latin typeface="Symbol"/>
                <a:ea typeface="Symbol"/>
              </a:rPr>
              <a:t>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PH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7416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Open since Bernstein-Vazirani 199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2206800"/>
            <a:ext cx="8280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tural” conjecture would be that BQP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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. But we don’t even have an oracle sepa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5280" y="3575160"/>
            <a:ext cx="8280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fact, we don’t even have an oracle A such that BQ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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 (Best is BQ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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4870440"/>
            <a:ext cx="8280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rthermore, until recently our only candidate problem was a monstrosity (“Recursive Fourier Sampling”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333360"/>
            <a:ext cx="82803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New Candidate Problem: “Fourier Checking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24000" y="1557000"/>
            <a:ext cx="84960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60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ff3300"/>
                </a:solidFill>
                <a:latin typeface="Arial"/>
              </a:rPr>
              <a:t>Given: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Oracle access to functions f,g:{-1,1}</a:t>
            </a:r>
            <a:r>
              <a:rPr b="0" lang="en-CA" sz="28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CA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CA" sz="2800" spc="-1" strike="noStrike">
                <a:solidFill>
                  <a:srgbClr val="000000"/>
                </a:solidFill>
                <a:latin typeface="Symbol"/>
                <a:ea typeface="Symbol"/>
              </a:rPr>
              <a:t>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60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ff3300"/>
                </a:solidFill>
                <a:latin typeface="Arial"/>
              </a:rPr>
              <a:t>Promised: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Ei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60240" indent="-660240">
              <a:spcBef>
                <a:spcPts val="700"/>
              </a:spcBef>
              <a:buClr>
                <a:srgbClr val="000000"/>
              </a:buClr>
              <a:buFont typeface="Arial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All f(x) and g(x) values are drawn independently from the Gaussian distribution N(0,1), 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60240" indent="-660240">
              <a:spcBef>
                <a:spcPts val="700"/>
              </a:spcBef>
              <a:buClr>
                <a:srgbClr val="000000"/>
              </a:buClr>
              <a:buFont typeface="Arial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 f(x)’s are drawn independently from N(0,1), and g=FT(f) is the Fourier transform of f over Z</a:t>
            </a:r>
            <a:r>
              <a:rPr b="0" lang="en-CA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CA" sz="28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60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ff3300"/>
                </a:solidFill>
                <a:latin typeface="Arial"/>
              </a:rPr>
              <a:t>Problem: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Decide which, with constant bi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95280" y="5157720"/>
            <a:ext cx="8280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Claim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ourier Checking is in BQ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5950080"/>
            <a:ext cx="7993080" cy="581400"/>
          </a:xfrm>
          <a:prstGeom prst="rect">
            <a:avLst/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Conjecture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ourier Checking is not in 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24000" y="333360"/>
            <a:ext cx="8424720" cy="66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As usual, the problem boils down to showing Fourier Checking has no AC</a:t>
            </a:r>
            <a:r>
              <a:rPr b="0" lang="en-CA" sz="26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 circuit of size 2</a:t>
            </a:r>
            <a:r>
              <a:rPr b="0" lang="en-CA" sz="2600" spc="-1" strike="noStrike" baseline="30000">
                <a:solidFill>
                  <a:srgbClr val="000000"/>
                </a:solidFill>
                <a:latin typeface="Arial"/>
              </a:rPr>
              <a:t>poly(n)</a:t>
            </a: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Alas, all known techniques for constant-depth circuit lower bounds (random restriction, Razborov-Smolensky, Nisan-Wigderson…) fail for interesting reasons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600" spc="-1" strike="noStrike">
                <a:solidFill>
                  <a:srgbClr val="ff3300"/>
                </a:solidFill>
                <a:latin typeface="Arial"/>
              </a:rPr>
              <a:t>Conjecture (Linial-Nisan 1989):</a:t>
            </a: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 Polylog-wise independence fools AC</a:t>
            </a:r>
            <a:r>
              <a:rPr b="0" lang="en-CA" sz="26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2200" spc="-1" strike="noStrike">
                <a:solidFill>
                  <a:srgbClr val="008000"/>
                </a:solidFill>
                <a:latin typeface="Arial"/>
              </a:rPr>
              <a:t>[recently proved by Bazzi for DNFs!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What I want: The “</a:t>
            </a:r>
            <a:r>
              <a:rPr b="0" i="1" lang="en-CA" sz="2600" spc="-1" strike="noStrike">
                <a:solidFill>
                  <a:srgbClr val="000000"/>
                </a:solidFill>
                <a:latin typeface="Arial"/>
              </a:rPr>
              <a:t>Generalized</a:t>
            </a: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 Linial-Nisan Conjecture.”  Namely, no distribution D over {0,1}</a:t>
            </a:r>
            <a:r>
              <a:rPr b="0" lang="en-CA" sz="26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 such th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for all conjunctions C of polylog(N) literals, can be distinguished from uniform 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(with </a:t>
            </a:r>
            <a:r>
              <a:rPr b="0" lang="en-CA" sz="20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(1) bias)</a:t>
            </a: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 in AC</a:t>
            </a:r>
            <a:r>
              <a:rPr b="0" lang="en-CA" sz="26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2149560" y="4653000"/>
                <a:ext cx="426384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Ω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</m:e>
                            </m:d>
                          </m:sup>
                        </m:sSup>
                      </m:den>
                    </m:f>
                    <m:r>
                      <m:t xml:space="preserve">≤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r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</m:num>
                      <m:den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−</m:t>
                            </m:r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C</m:t>
                                </m:r>
                              </m:e>
                            </m:d>
                          </m:sup>
                        </m:sSup>
                      </m:den>
                    </m:f>
                    <m:r>
                      <m:t xml:space="preserve">≤</m:t>
                    </m:r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Ω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</m:e>
                            </m:d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Problem 2: The Need for Structure in Quantum Speedu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323640" y="1628280"/>
            <a:ext cx="828036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ff3300"/>
                </a:solidFill>
                <a:latin typeface="Arial"/>
              </a:rPr>
              <a:t>Beals et al 1998: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Quantum and classical decision tree complexities are polynomially related for all total Boolean functions f: D(f)=O(Q(f)</a:t>
            </a:r>
            <a:r>
              <a:rPr b="0" lang="en-CA" sz="28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4000" y="5229360"/>
            <a:ext cx="8280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could a quantum computer evaluate a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lmo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total function with exponentially fewer queri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3213000"/>
            <a:ext cx="828036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uggests that if you want an exponential quantum speedup, then you need to exploit some </a:t>
            </a:r>
            <a:r>
              <a:rPr b="0" i="1" lang="en-CA" sz="2800" spc="-1" strike="noStrike">
                <a:solidFill>
                  <a:srgbClr val="000000"/>
                </a:solidFill>
                <a:latin typeface="Arial"/>
              </a:rPr>
              <a:t>structure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in the oracle being queried (e.g. periodicity in the case of Shor’s factoring algorith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78920" y="188640"/>
            <a:ext cx="8209080" cy="194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Conjectur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et Q be a T-query quantum algorithm.  Then a classical randomized algorithm that makes T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O(1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queries can approximate Q’s acceptance probability 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o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puts x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{0,1}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179280" y="3355920"/>
            <a:ext cx="8569440" cy="3313080"/>
            <a:chOff x="179280" y="3355920"/>
            <a:chExt cx="8569440" cy="3313080"/>
          </a:xfrm>
        </p:grpSpPr>
        <p:sp>
          <p:nvSpPr>
            <p:cNvPr id="61" name=""/>
            <p:cNvSpPr/>
            <p:nvPr/>
          </p:nvSpPr>
          <p:spPr>
            <a:xfrm>
              <a:off x="179280" y="3355920"/>
              <a:ext cx="8569440" cy="3313080"/>
            </a:xfrm>
            <a:prstGeom prst="rect">
              <a:avLst/>
            </a:prstGeom>
            <a:solidFill>
              <a:srgbClr val="ffff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Arial"/>
                </a:rPr>
                <a:t>Would suffice to prove that “every low-degree bounded polynomial has an influential variable”: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Let p:{-1,1}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0" lang="en-US" sz="2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[-1,1] be a real polynomial of degree d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Suppos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Let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Then there exists an i such that Inf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1/poly(d)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2" name=""/>
                <p:cNvSpPr txBox="1"/>
                <p:nvPr/>
              </p:nvSpPr>
              <p:spPr>
                <a:xfrm>
                  <a:off x="874800" y="5589720"/>
                  <a:ext cx="2786040" cy="618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Inf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=</m:t>
                      </m:r>
                      <m:limLow>
                        <m:e>
                          <m:r>
                            <m:t xml:space="preserve">E</m:t>
                          </m:r>
                        </m:e>
                        <m:lim>
                          <m:r>
                            <m:t xml:space="preserve">x</m:t>
                          </m:r>
                        </m:lim>
                      </m:limLow>
                      <m:d>
                        <m:dPr>
                          <m:begChr m:val="["/>
                          <m:endChr m:val="]"/>
                        </m:dPr>
                        <m:e>
                          <m:d>
                            <m:dPr>
                              <m:begChr m:val="|"/>
                              <m:endChr m:val="|"/>
                            </m:dPr>
                            <m:e>
                              <m:r>
                                <m:t xml:space="preserve">p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x</m:t>
                                  </m:r>
                                </m:e>
                              </m:d>
                              <m:r>
                                <m:t xml:space="preserve">−</m:t>
                              </m:r>
                              <m:r>
                                <m:t xml:space="preserve">p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sSup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p>
                                      <m:r>
                                        <m:t xml:space="preserve">i</m:t>
                                      </m:r>
                                    </m:sup>
                                  </m:sSup>
                                </m:e>
                              </m:d>
                            </m:e>
                          </m:d>
                        </m:e>
                      </m:d>
                      <m:r>
                        <m:rPr>
                          <m:lit/>
                          <m:nor/>
                        </m:rPr>
                        <m:t xml:space="preserve">.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3" name=""/>
                <p:cNvSpPr txBox="1"/>
                <p:nvPr/>
              </p:nvSpPr>
              <p:spPr>
                <a:xfrm>
                  <a:off x="1763640" y="5013360"/>
                  <a:ext cx="2863800" cy="619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limLow>
                        <m:e>
                          <m:r>
                            <m:t xml:space="preserve">E</m:t>
                          </m:r>
                        </m:e>
                        <m:lim>
                          <m:r>
                            <m:t xml:space="preserve">x</m:t>
                          </m:r>
                          <m:r>
                            <m:t xml:space="preserve">,</m:t>
                          </m:r>
                          <m:r>
                            <m:t xml:space="preserve">y</m:t>
                          </m:r>
                        </m:lim>
                      </m:limLow>
                      <m:d>
                        <m:dPr>
                          <m:begChr m:val="["/>
                          <m:endChr m:val="]"/>
                        </m:dPr>
                        <m:e>
                          <m:d>
                            <m:dPr>
                              <m:begChr m:val="|"/>
                              <m:endChr m:val="|"/>
                            </m:dPr>
                            <m:e>
                              <m:r>
                                <m:t xml:space="preserve">p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x</m:t>
                                  </m:r>
                                </m:e>
                              </m:d>
                              <m:r>
                                <m:t xml:space="preserve">−</m:t>
                              </m:r>
                              <m:r>
                                <m:t xml:space="preserve">p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y</m:t>
                                  </m:r>
                                </m:e>
                              </m:d>
                            </m:e>
                          </m:d>
                        </m:e>
                      </m:d>
                      <m:r>
                        <m:t xml:space="preserve">=</m:t>
                      </m:r>
                      <m:r>
                        <m:t xml:space="preserve">Ω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1</m:t>
                          </m:r>
                        </m:e>
                      </m:d>
                      <m:r>
                        <m:rPr>
                          <m:lit/>
                          <m:nor/>
                        </m:rPr>
                        <m:t xml:space="preserve">.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64" name=""/>
          <p:cNvSpPr/>
          <p:nvPr/>
        </p:nvSpPr>
        <p:spPr>
          <a:xfrm>
            <a:off x="179280" y="2205000"/>
            <a:ext cx="83520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ff3300"/>
                </a:solidFill>
                <a:latin typeface="Arial"/>
              </a:rPr>
              <a:t>Conjecture 2: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If P=P</a:t>
            </a:r>
            <a:r>
              <a:rPr b="0" lang="en-CA" sz="2800" spc="-1" strike="noStrike" baseline="30000">
                <a:solidFill>
                  <a:srgbClr val="000000"/>
                </a:solidFill>
                <a:latin typeface="Arial"/>
              </a:rPr>
              <a:t>#P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, then P</a:t>
            </a:r>
            <a:r>
              <a:rPr b="0" lang="en-CA" sz="2800" spc="-1" strike="noStrike" baseline="30000">
                <a:solidFill>
                  <a:srgbClr val="000000"/>
                </a:solidFill>
                <a:latin typeface="Arial"/>
              </a:rPr>
              <a:t>A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=BQP</a:t>
            </a:r>
            <a:r>
              <a:rPr b="0" lang="en-CA" sz="2800" spc="-1" strike="noStrike" baseline="30000">
                <a:solidFill>
                  <a:srgbClr val="000000"/>
                </a:solidFill>
                <a:latin typeface="Arial"/>
              </a:rPr>
              <a:t>A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with probability 1 for a random oracle A. </a:t>
            </a:r>
            <a:r>
              <a:rPr b="0" lang="en-CA" sz="1900" spc="-1" strike="noStrike">
                <a:solidFill>
                  <a:srgbClr val="008000"/>
                </a:solidFill>
                <a:latin typeface="Arial"/>
              </a:rPr>
              <a:t>[insert avg, i.o. to taste]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What We K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323640" y="1341000"/>
            <a:ext cx="828036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3300"/>
                </a:solidFill>
                <a:latin typeface="Arial"/>
              </a:rPr>
              <a:t>Dinur, Friedgut, Kindler, O’Donnell 2006: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Every degree-d polynomial p:{-1,1}</a:t>
            </a:r>
            <a:r>
              <a:rPr b="0" lang="en-CA" sz="32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CA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[-1,1] with </a:t>
            </a:r>
            <a:r>
              <a:rPr b="0" lang="en-CA" sz="32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(1) variance has a variable with influence at least 1/exp(d).  (Indeed, p is close to an exp(d)-junta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24000" y="4149720"/>
            <a:ext cx="849600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3300"/>
                </a:solidFill>
                <a:latin typeface="Arial"/>
              </a:rPr>
              <a:t>O’Donnell, Saks, Schramm, Servedio 2005: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Every </a:t>
            </a:r>
            <a:r>
              <a:rPr b="0" i="1" lang="en-CA" sz="3200" spc="-1" strike="noStrike">
                <a:solidFill>
                  <a:srgbClr val="000000"/>
                </a:solidFill>
                <a:latin typeface="Arial"/>
              </a:rPr>
              <a:t>classical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decision tree of depth d has a variable with influence </a:t>
            </a:r>
            <a:r>
              <a:rPr b="0" lang="en-CA" sz="32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(1/d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395280" y="3645000"/>
            <a:ext cx="8280360" cy="1556280"/>
          </a:xfrm>
          <a:prstGeom prst="rect">
            <a:avLst/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we find a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fix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 (depending only on the input length n), such that computing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n y as input is #P-complet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Problem 3: Quantum Algorithm for a #P-complete Problem?!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394920" y="1628640"/>
            <a:ext cx="82803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 f:{0,1}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{0,1} be efficiently comput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5867280" y="2852640"/>
                <a:ext cx="1008360" cy="61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f</m:t>
                        </m:r>
                      </m:e>
                    </m:acc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y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7020000" y="4149720"/>
                <a:ext cx="1008000" cy="61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f</m:t>
                        </m:r>
                      </m:e>
                    </m:acc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y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3780000" y="5373720"/>
                <a:ext cx="1008000" cy="61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f</m:t>
                        </m:r>
                      </m:e>
                    </m:acc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y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395280" y="2349360"/>
            <a:ext cx="8353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n a simple quantum algorithm outputs each y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{0,1}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ith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95280" y="5373720"/>
            <a:ext cx="8207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eve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stimat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is #P-complete on average, then FBPP=FBQP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#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A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Open Probl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5T04:21:33Z</dcterms:created>
  <dc:creator>Scott Aaronson</dc:creator>
  <dc:description/>
  <dc:language>en-US</dc:language>
  <cp:lastModifiedBy>Scott Aaronson</cp:lastModifiedBy>
  <dcterms:modified xsi:type="dcterms:W3CDTF">2008-08-05T20:53:19Z</dcterms:modified>
  <cp:revision>10</cp:revision>
  <dc:subject/>
  <dc:title>How to Solve Longstanding Open Problems In Quantum Computing Using Only Fourier Analysis</dc:title>
</cp:coreProperties>
</file>