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D46F-3165-483E-8767-64170C86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6F77-5223-4865-A5BF-8A95D26D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58DF-B1AA-4E49-B1D6-0054C5DD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8A2C-73AA-4073-8350-040D1B61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3847-5B01-4D9B-9487-DD43AFE7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202B-AAF5-47F3-9674-592B470B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140E-821D-4AF9-A3E8-3F2BFA32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875E-2483-4BB3-831A-90FF5B89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4FCD-51E4-4F6A-8373-F87BB8C8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FDF6-443F-4874-844C-070A3F83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AA13-8F15-45BC-93EC-E0E19A0D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7599-8317-4410-A24A-F2FE4170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1EC7-2F91-4E6A-8FAB-598B8438E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42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ow to Solve Longstanding Open Problems In Quantum Computing Using Only Fourier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44960"/>
            <a:ext cx="64008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4581360"/>
            <a:ext cx="5616720" cy="15562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ose who hate quantum: The open problems will be in off-white boxes like this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roblem 1: BQP 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P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7416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pen since Bernstein-Vazirani 19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20680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” conjecture would be that BQP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. But we don’t even have an oracle s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57516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fact, we don’t even have an oracle A such that BQ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(Best is BQ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487044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more, until recently our only candidate problem was a monstrosity (“Recursive Fourier Sampling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80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ew Candidate Problem: “Fourier Checking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4000" y="1557000"/>
            <a:ext cx="8496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Given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Oracle access to functions f,g:{-1,1}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Promised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f(x) and g(x) values are drawn independently from the Gaussian distribution N(0,1)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f(x)’s are drawn independently from N(0,1), and g=FT(f) is the Fourier transform of f over Z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Problem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Decide which, with constant b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515772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lai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urier Checking is in BQ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950080"/>
            <a:ext cx="7993080" cy="5814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onjectur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urier Checking is not in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333360"/>
            <a:ext cx="8424720" cy="66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s usual, the problem boils down to showing Fourier Checking has no AC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circuit of size 2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poly(n)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las, all known techniques for constant-depth circuit lower bounds (random restriction, Razborov-Smolensky, Nisan-Wigderson…) fail for interesting reason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Conjecture (Linial-Nisan 1989)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Polylog-wise independence fools AC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200" spc="-1" strike="noStrike">
                <a:solidFill>
                  <a:srgbClr val="008000"/>
                </a:solidFill>
                <a:latin typeface="Arial"/>
              </a:rPr>
              <a:t>[recently proved by Bazzi for DNFs!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hat I want: The “</a:t>
            </a:r>
            <a:r>
              <a:rPr b="0" i="1" lang="en-CA" sz="2600" spc="-1" strike="noStrike">
                <a:solidFill>
                  <a:srgbClr val="000000"/>
                </a:solidFill>
                <a:latin typeface="Arial"/>
              </a:rPr>
              <a:t>Generalized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Linial-Nisan Conjecture.”  Namely, no distribution D over {0,1}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for all conjunctions C of polylog(N) literals, can be distinguished from uniform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(with </a:t>
            </a:r>
            <a:r>
              <a:rPr b="0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(1) bias)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in AC</a:t>
            </a:r>
            <a:r>
              <a:rPr b="0" lang="en-CA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149560" y="4653000"/>
                <a:ext cx="4263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Ω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den>
                    </m:f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sup>
                        </m:sSup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Ω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roblem 2: The Need for Structure in Quantum Speed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23640" y="1628280"/>
            <a:ext cx="8280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Beals et al 1998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Quantum and classical decision tree complexities are polynomially related for all total Boolean functions f: D(f)=O(Q(f)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522936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could a quantum computer evaluate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m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otal function with exponentially fewer quer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3213000"/>
            <a:ext cx="8280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uggests that if you want an exponential quantum speedup, then you need to exploit some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in the oracle being queried (e.g. periodicity in the case of Shor’s factoring algorith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8920" y="188640"/>
            <a:ext cx="820908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njectur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t Q be a T-query quantum algorithm.  Then a classical randomized algorithm that makes 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ries can approximate Q’s acceptance probability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puts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79280" y="3355920"/>
            <a:ext cx="8569440" cy="3313080"/>
            <a:chOff x="179280" y="3355920"/>
            <a:chExt cx="8569440" cy="3313080"/>
          </a:xfrm>
        </p:grpSpPr>
        <p:sp>
          <p:nvSpPr>
            <p:cNvPr id="61" name=""/>
            <p:cNvSpPr/>
            <p:nvPr/>
          </p:nvSpPr>
          <p:spPr>
            <a:xfrm>
              <a:off x="179280" y="3355920"/>
              <a:ext cx="8569440" cy="331308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Would suffice to prove that “every low-degree bounded polynomial has an influential variable”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et p:{-1,1}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[-1,1] be a real polynomial of degree d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upp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et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n there exists an i such that In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/poly(d)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874800" y="5589720"/>
                  <a:ext cx="2786040" cy="61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Inf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limLow>
                        <m:e>
                          <m:r>
                            <m:t xml:space="preserve">E</m:t>
                          </m:r>
                        </m:e>
                        <m:lim>
                          <m:r>
                            <m:t xml:space="preserve">x</m:t>
                          </m:r>
                        </m:lim>
                      </m:limLow>
                      <m:d>
                        <m:dPr>
                          <m:begChr m:val="["/>
                          <m:endChr m:val="]"/>
                        </m:dPr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</m:e>
                              </m:d>
                            </m:e>
                          </m:d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763640" y="5013360"/>
                  <a:ext cx="2863800" cy="6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t xml:space="preserve">E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</m:lim>
                      </m:limLow>
                      <m:d>
                        <m:dPr>
                          <m:begChr m:val="["/>
                          <m:endChr m:val="]"/>
                        </m:dPr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y</m:t>
                                  </m:r>
                                </m:e>
                              </m:d>
                            </m:e>
                          </m:d>
                        </m:e>
                      </m:d>
                      <m:r>
                        <m:t xml:space="preserve">=</m:t>
                      </m:r>
                      <m:r>
                        <m:t xml:space="preserve">Ω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" name=""/>
          <p:cNvSpPr/>
          <p:nvPr/>
        </p:nvSpPr>
        <p:spPr>
          <a:xfrm>
            <a:off x="179280" y="2205000"/>
            <a:ext cx="8352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Conjecture 2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If P=P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#P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, then P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=BQP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with probability 1 for a random oracle A. </a:t>
            </a:r>
            <a:r>
              <a:rPr b="0" lang="en-CA" sz="1900" spc="-1" strike="noStrike">
                <a:solidFill>
                  <a:srgbClr val="008000"/>
                </a:solidFill>
                <a:latin typeface="Arial"/>
              </a:rPr>
              <a:t>[insert avg, i.o. to taste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We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23640" y="1341000"/>
            <a:ext cx="8280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Dinur, Friedgut, Kindler, O’Donnell 2006: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Every degree-d polynomial p:{-1,1}</a:t>
            </a:r>
            <a:r>
              <a:rPr b="0" lang="en-CA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[-1,1] with </a:t>
            </a:r>
            <a:r>
              <a:rPr b="0" lang="en-CA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1) variance has a variable with influence at least 1/exp(d).  (Indeed, p is close to an exp(d)-junta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4149720"/>
            <a:ext cx="849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O’Donnell, Saks, Schramm, Servedio 2005: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Every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classical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decision tree of depth d has a variable with influence </a:t>
            </a:r>
            <a:r>
              <a:rPr b="0" lang="en-CA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1/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95280" y="3645000"/>
            <a:ext cx="8280360" cy="15562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find 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ix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 (depending only on the input length n), such that comput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y as input is #P-comple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roblem 3: Quantum Algorithm for a #P-complete Problem?!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94920" y="1628640"/>
            <a:ext cx="828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f:{0,1}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0,1} be efficiently compu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867280" y="2852640"/>
                <a:ext cx="10083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7020000" y="4149720"/>
                <a:ext cx="10080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780000" y="5373720"/>
                <a:ext cx="10080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395280" y="2349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a simple quantum algorithm outputs each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537372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stim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is #P-complete on average, then FBPP=FBQ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#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04:21:33Z</dcterms:created>
  <dc:creator>Scott Aaronson</dc:creator>
  <dc:description/>
  <dc:language>en-US</dc:language>
  <cp:lastModifiedBy>Scott Aaronson</cp:lastModifiedBy>
  <dcterms:modified xsi:type="dcterms:W3CDTF">2008-08-05T20:53:19Z</dcterms:modified>
  <cp:revision>10</cp:revision>
  <dc:subject/>
  <dc:title>How to Solve Longstanding Open Problems In Quantum Computing Using Only Fourier Analysis</dc:title>
</cp:coreProperties>
</file>