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22.wmf" ContentType="image/x-wmf"/>
  <Override PartName="/ppt/media/image21.wmf" ContentType="image/x-wmf"/>
  <Override PartName="/ppt/media/image5.png" ContentType="image/png"/>
  <Override PartName="/ppt/media/image6.jpeg" ContentType="image/jpeg"/>
  <Override PartName="/ppt/media/image10.png" ContentType="image/png"/>
  <Override PartName="/ppt/media/image19.png" ContentType="image/png"/>
  <Override PartName="/ppt/media/image18.wmf" ContentType="image/x-wmf"/>
  <Override PartName="/ppt/media/image20.wmf" ContentType="image/x-wmf"/>
  <Override PartName="/ppt/media/image4.png" ContentType="image/png"/>
  <Override PartName="/ppt/media/image17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dt" idx="7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ftr" idx="7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 type="sldNum" idx="7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C4C7-8A1A-4A07-A527-28CAE55AB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FC55-6FDC-49FC-BD30-05D04D546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BD02-AEB2-4857-99B3-60F0384C21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86AE-94D2-426A-AF82-E47F84CCA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BBD6-7A83-4521-9E5D-C294F2D488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907C-069C-4825-862B-E030CC49BC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0739-BE29-4452-AB7F-24A447E4C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37AE-4CC4-4AAF-B2EF-49DF0026C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E16A-04FE-4A38-8DDD-F6DCFF994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8753-A86D-4523-BCCB-9A893419EF92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483A-FA5C-445A-819F-FD54DCC53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4B0B-09F7-4C49-9439-675D9CDE3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372A-E346-4C2C-B006-A7EF4BB0D6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D534-44C5-4220-A5B1-F238CDEE77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4CDE-3C0C-440A-B860-7E4AA0623F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27FE-8A52-42FE-8098-70EB75CDE5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9811-3FA1-4EE9-B0A3-4E499A048E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E837-5BEF-45B0-9AD2-B7DC165301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8ABC-4879-414D-B1DA-E90A23A27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CC11-D938-40CF-9FCC-D911FAA319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069-2DC2-477D-9EA7-DAFBF247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346F-2F25-4B8D-A3DF-6CE4BCC8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D6423-6F05-4EDE-A6E7-32478A89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62AA2-D289-47E5-BE2D-F6115337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62F68-2009-4590-B8F6-3B1632C8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8735E-E1C8-4286-86AC-12848135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E6244-5CCF-4773-97D0-8443E7A8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BFCE1-51C9-4BC1-80E6-BCDAE317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160D5-26C0-4A7F-ABB1-54F10AF9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D1F5F-0E99-4AF9-95B0-D8EF3A9A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F075F-84F1-41C3-BAB4-AFF8D0D1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DA7FF-BDC3-40E9-9F48-CC29EBD3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71EA-3748-4F2D-9747-995BE3A7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F7270-6315-4595-902E-6969052B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B32D5-9A0C-40B2-9923-8DA8D956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1FCAA-43EF-46F6-A1B4-843B0908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F540E-EF90-4BC5-A625-13CDD53A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88F95-20B7-4511-A7C5-A384183C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79040-FC67-4D97-8C85-D58855A0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F8919-0191-43FD-AA76-0C2D60C5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BF36A-3BD5-4510-B066-A1B11D1D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6F590-E2BA-4E6F-A46D-04A9F5FF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1ACD7-876E-4F53-9A77-2D0951E0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82FD-5EF9-4BC6-B7DA-C9EA5FDD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2E140-59CF-4325-9DDA-49249B3A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3B062-0CF0-4DD8-8BFE-4ED6E3FA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3827F-AC63-4187-813E-C3B64B05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22574-C983-462E-9B19-EDFB062E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57665-F10C-4CEB-80A6-823BB797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EAA7E-AAAA-4E95-BD43-53083697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B7BFC-C63B-4B2C-9F77-D851AD2B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39D5F-8BB3-4D76-B6E1-94EA4B08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A16BD-74A1-4FAC-92BA-BBB69607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2112F-53B4-4605-86B3-5F0021E2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9BD5-7FBB-4803-90C3-A017850B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9867B-3750-41F4-A2D5-8597F2D6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5D0ED-63CE-440A-BAE1-175AA288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F3B25-B496-4810-9B63-DC35BC0C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79393-EE1F-450C-AD9D-E09D9630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0DFF2-0917-489E-AD97-FBB3C9C7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62766-03A5-4F3E-B7B6-FB9B1E79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2273C-033A-47D6-819A-1AAE87E3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0BFB4-D574-4044-B289-AF82B5F8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1EB3E-A56F-4929-87EE-B1B21174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729D9-FBBF-48C6-941F-AFA01D94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878D-C7DE-4883-A524-EAA0EE22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47CB2-38BB-4511-A687-EA036D81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36312-CBE8-45A3-BBA7-79ABC549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AA230-A458-427D-8C60-90D7BA75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475D9-C446-4531-829B-CD96F88F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8F4DF-4D9D-4516-82CD-AEA5A0CA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EC75D-B5E7-49DE-BCB2-9D3EB92E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FB3EF-C9BE-4B68-83E5-6F8F6C52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E633C-E6E0-4CCA-9E87-860A8E6D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821B8-7DEC-4408-8868-7371A272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388779-85D1-4B30-8F7D-2D797402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8A5D-BB4E-4BA4-A82F-A768255A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00F0B-C21F-4E0D-B463-34480343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CFEBD-654E-4952-9687-33062D4B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E59B52-0BFD-4C4B-8FB1-662DE2C1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F28D6-630D-4BED-90D0-991AE118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31399-9D3D-4702-84B8-4D5BFE55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09BB67-79FF-4634-A8C1-9BADA43D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B1F806-E05B-4896-A9DD-36C29559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66402-EBC7-4A38-BB4A-FFE9BA3A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ABCD6E-1CCE-4A67-A1BD-9CD62576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ACB07-EB7F-4079-8F0A-92AFC349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DA95-5830-479F-82BD-D70AF377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CA43A7-2E7F-4DA6-A584-A2C60803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EE4130-4E8B-46AE-9ABC-0C70D7B6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0C5D00-C022-47E9-9615-CD1A3832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F765E6-51E9-44D5-B95F-1BBE223C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125F33-0D72-4066-8D7D-57B5467D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006FE3-BA2B-4D1B-875C-EF52EC7F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B25128-47DB-45F6-B730-82C03573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19010F-51A6-41DF-9DC3-DADD64EE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D9622-F2A7-42F9-8AE9-8C47F8ED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6A59B7-CDD7-4E5F-96ED-C39B751B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394A-56C5-4AFD-837B-7C84D62A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B9121F-B6AB-4627-ABCE-525A864B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A35179-D2BA-4F72-9E27-8BE97FD8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314DF8-0A4A-4BAB-BE79-212B87EC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CC1393-F7AF-4FAD-A2EE-F745FCAE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DAFF2E-882E-48D1-B306-995723F3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C6D6CB-3AC1-407A-88C5-B6E42F48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CC5ED4-47D2-46D5-8743-2CFDB09D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908F0F-4BAE-4A73-98AF-BB66DF07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EA40F3-B331-4245-8166-1268F62D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7A31B0-7374-4FA2-AF19-8FD82E57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4E40-58D7-43E6-8C37-71E6F871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E15A6F-FDA9-438D-B25F-20199AFD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B91772-F6AE-4DDB-804D-EF244974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579F24-A5EE-4C88-BEEF-C87AAB43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501CAB-C44F-448D-BB8B-0A62F475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38890B-190F-4CF8-AD30-3E73F25C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1F9A08-D05A-434F-B53D-E386E8F4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49351E-BCB5-4077-BC9D-99AFFE19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EE3538-ECAE-479E-8014-B406BDBE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EE8A06-4A08-40BC-AF20-14495BCF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B9FCF8-CEF2-4F63-BBCA-5E260647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7A86-EBC3-437C-9DA9-4649665D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E98CAF-F868-47CF-9200-7DB3B2D2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59F58A-0BED-4785-B0DB-284455FB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616E6C-C8A0-483A-9B4C-846A670F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87A632-FB05-4195-A9A1-7EC3E761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6EBEDB-D0AE-43C6-BE13-D5EB991A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BFDF8F-B3F5-44AA-AA3F-9AA5EE39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8FF510-D22E-40B3-BC20-B7C90FFA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02BD76-5510-46BD-A560-134183CB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041AEF-6EE8-47F5-AB5C-B388EE24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CAD21C-5CB4-4DF9-A56F-7CFB7CD4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1F47-8651-462D-BD33-1DDACBFA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25A4-60B4-473E-B464-7E9D6D9D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44E392-A4A7-40DB-9547-6A2CFAF6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5CE0DF-A324-4FC7-8697-1FECE065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703213-20D0-44E8-9458-7B33AE3C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C3C7D2-0ED4-450D-94B1-AD0E7AD2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B42949-2ED8-4457-9006-3D12B910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D42349-332E-4C12-B947-EBF32A6C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D10D15-BDFA-41FB-82F5-5ACB9DE9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7BC4E7-68E7-4F24-B879-EA3D870B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5F24D4-6725-48C6-81C9-28662381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A972A2-31A1-4728-92CB-077CF26A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28E2-6930-477A-A84A-3E10227A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6D4BAB-E583-486C-AACE-FA629EDF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17F81C-F4C3-455A-933B-1950FAB7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701B5F-EC05-4E76-B8DD-994FB62B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636645-370C-4F23-AD92-AA81DCF9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BD1248-34BA-4DDD-BF3F-C3AEC5B2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5A8DAC-3BC5-4312-A66E-709186D5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5D87A7-484F-4DD1-9654-EE9C4569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B4C3A6-4C78-4D44-B3F6-7ED23A78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E61A5D-C327-4538-AB74-00D786D7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351E26-1289-4F4C-9A09-2B9BCFEA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39DB-EFBF-4103-8420-40C396A1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5A8833-3316-4326-AE67-D27B75E2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8035AE-41BF-4C2A-A720-7E11E232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68B846-5284-4D96-8C48-FC6A9E32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25B46D-4501-4E8B-86DF-A0EF1317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6A5271-A1FD-41ED-A7A8-AE571C9B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DD8C71-5FE5-44F6-9E33-5593B6A2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1F2737-4B91-44C1-A3C5-B1A40E78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0C94F7-6132-4D1E-A564-F323A474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6E6A3F-A359-406C-AEE8-50ED9EC0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727ACE-FF7F-4D57-9CD6-0F015C75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02E5-0EB7-4A86-A585-0DDC0F4E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10520B-48E2-4433-959C-D3647317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DD67EE-0D4C-4CFA-A23F-6D7AB434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22F958-6AA9-4F9A-9AD8-6E879664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5CE7F5-82DC-43F3-9F71-54484832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A73537-E8A4-448D-A9E7-E12E5FB7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32762C-BB30-4777-B54B-1F89684B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FBBB46-7FC1-43A8-A139-E1EDAA03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8EB2F5-BE5A-46B6-A3FB-82395F4D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79FBA6-AE5D-4E0C-8761-6B716A88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B7969A-2F31-4F8A-9AE0-8C16E270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E450-1C70-4CFD-94F1-794CB041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0ECDCA-DC7C-4941-BEC2-D137C6AB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360A0B-4182-4B42-851C-50396EF7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2D7819-D211-415D-9218-153598DA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36E0D9-FA57-4064-8EB3-B39C03FB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187DDE-FC88-4CF8-9CEC-1B515113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2BC48E-5799-4C80-8EDA-7E035E73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C5F2B0-0BFE-4DEC-8833-0D38A139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D4200B-7CAE-49E1-9D53-EA32DFC2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69A54F-7543-438C-A83F-C698C9C6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82F0B7-6515-473A-97C4-21B32A34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635BF-9499-40D4-97FB-383B282F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40E164-9C7D-4534-AFD2-B6F55788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8BD2CE-7300-45EC-A172-FE0500AB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1A318E-BA05-4FF6-9F23-6B1F43D2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492610-238F-4502-8DFD-C3BC6A88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32B2C4-042D-472F-BE21-EBC404E6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FF5830-7A6E-4EC4-AD84-C66846BD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F78910-7A64-4C01-AD41-7BAC4539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815CA6-A803-49FE-8033-62FDE96B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353AAD-BA8B-4DC0-AC82-5E630547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43F2FF-92F8-4F2B-BEE4-9EC7CF77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2A0B7-8C95-4B08-9880-AFBAB651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217CDD-8DD0-43B0-9DF0-00761CA5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3DD089-788D-4006-8837-25B3CE0A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186372-ABD1-4D8D-8774-F767B2D2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4AE00E-EC6B-4510-8A24-A7CD4211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21365A-2CD6-4D56-AF7F-0A7AF262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FC91C1-1C1B-40E5-95FD-12DD7046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DB512E-91C2-4311-A932-B49B182F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1CCFE6-7321-48A1-B589-1023FDCE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03FD1E-6965-4C3D-A468-39FED059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C8CF4E-348E-4D89-BD13-6C8F5F47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09E26-61D6-44F6-AFA5-B8C535A7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EFF7A3-5606-4797-83B4-C780C9E4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7D8A75-24DB-448C-9850-1E5C1C16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32A521-C678-4E7D-9F44-38A25718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4668F3-DB74-4059-8DE7-1168F0B6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F6C886-5070-44DE-820A-BD55BBF0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7DD2F3-D473-4769-8269-5AB42839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17A0EF-B42C-400E-9AED-D16C6912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B9A8A4-6D87-483B-B70C-F04A88A9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616328-4CB4-4010-9A1B-5353AE7B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2D1F4B-355A-4A39-99A6-CE0A12E7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FB7B1-04FE-446B-907C-F5026FB0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791A41-B5D0-47B0-9AB5-52B78FA3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0ABF67-8211-4E39-A04D-6B22D04D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15F4D6-2557-4B8E-AA71-C60E4B01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E96E23-0551-41B9-B856-E38F968F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D63ADC-61BE-4E9E-B9D3-CCD2B8F4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2CFCE4-254A-4900-B1A3-508BB014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1F66FD-50C5-4537-86A4-11E67987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00D3E1-4A8A-437D-826C-E7EFC017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45CC69-F9E7-4B2F-8EC8-BA90BCF2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555CD5-04C0-41B2-95E0-55782DC0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32A9F-80F9-464C-9BF6-57B66B60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A74493-9E72-46B1-8F33-2A850AD6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79F4DA-D545-4A20-8824-F6EAF676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B6B991-E8E0-4485-8379-7AC68949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DAA346-5714-4894-AB87-4149E2EE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68E78A-98DF-4800-A369-AA218D3D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016148-BF14-451B-B94C-6B946C9C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5DA511-F237-4552-BB3E-0B1A23E4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C74EE7-58E2-46BA-A64C-118A5645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966680-6B76-4D52-ACF8-C23F4889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B0FAAC-85D2-4E6E-B0DB-A68F95DA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5E1-DFB1-41BA-82B9-21689920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BD87B-2CE9-4252-AA7A-529187DE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FF86F6-B140-427E-B6AB-120501FE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AFD08-BC04-4B17-9F58-AF095BB4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07D23-7447-49C0-9EFC-55403A47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F19AD-90F9-4C04-B209-3CAE1292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5E78A-CE18-4F31-AE00-481DE136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C71DF-4D98-49AA-92AF-65D68494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7C7BD-BD23-4991-A4CD-04197F1F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A490A-7B57-403E-A7DA-3C60C276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E5995-6E82-45A5-A117-64C0A22B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328FE-DF74-4151-9F7F-D66B5C25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477-6640-400B-978F-D4D94DE9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92DD1-DA7A-49C9-BD41-D91D014E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F4811-EBBC-43E5-9734-89EA015B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C2F25-E336-4DF4-8D68-B2BD0642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F34AF-8B68-4E5C-A4D5-98AD557E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A4453-3444-45B6-BA6F-EFA4E159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A05FD-0416-49FE-9218-E376B5D6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EB01F-A5DF-4D49-9D7F-BD95D672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1145A-3561-45E9-95C1-648B0E75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F9456-4578-4B78-B558-014214C4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F7ABF-1C26-4252-8CCB-2F67B7C7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9E69-E44E-44A3-AA07-AC4890EC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4CC7E-3406-4B82-AFD1-C1D112A5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4F2D1-0D3D-4034-85D7-FC5DE4D7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FCEC5-E781-4104-96B3-65F27EDC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0CEF4-F4F8-413E-9369-40C25C09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E22F3-4B24-4F1F-8432-9ADF526B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63119-B748-467B-802D-516B6779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B0317-F420-4716-B8D2-D56A8ABD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CE83C-D29C-4CC9-877B-E21B2411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DA6A7-A609-4B8D-9F5A-DFF48532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4B76C-04F6-45E7-A18A-455C5B8C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38CD-9EB2-41B2-B704-F90FA2C7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18005-DEFE-466E-8EF1-4599E5F9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D34BB-E9B1-4F7A-A73F-61B10405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1C902-25F4-4BFC-803C-888CBF18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04742-3625-4854-A90C-79F705FF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B7E8D-4B1E-43A6-83A9-E00F3E7A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3EBB1-3A42-4B23-8485-01BF525F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693C3-8A68-45B9-99EA-BA0697F3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6F4DD-3692-47FF-9C75-18C55A97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F0A11-8E8B-4F4F-86D4-CD46F4E4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82965-8C77-4DEF-8367-85479659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E60-05A5-436A-99D8-50FDA276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CC65F-59AF-4670-8E5D-1CA69CCF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9607F-2708-4F9A-9CEC-6FD57333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5135D-C412-4670-A281-6854A5D8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C9158-42A5-4F9E-942C-131F8B7A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2910F-25EC-442B-BCA2-477DC50E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D1D98-96EF-482C-9F18-DC0690C3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3500F-ED68-42CE-9E49-ACC0B1F2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77B75-5F48-4DD8-ADDF-4DF5C3F7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36AB0-97F3-4C29-98C2-49EB6CD6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F9D88-004E-4DBC-BDF7-67F4009F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672-5020-42A3-BEDE-E854B38F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19B19-B5DA-4F3C-96FE-11C285B8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C376E-D8D1-4349-A808-54D37940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6D3DD-C9E7-498A-8686-6742E0E7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F26EC-1AFE-4823-850B-6A6D5C32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30A0A-5101-4A56-9E63-97F0911C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DE01B-B3FF-41C8-A3A9-C8C23E12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43876-7797-4E40-883B-11D81ED7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40119-F954-4697-80E4-8203AE48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1E0A1-B6E0-464B-9335-7D6758EF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1974E-1E72-41FB-A949-640D4C64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0A1-473A-414B-98CF-B3DC99CC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EF3D5-971F-4CDB-8AE8-0BCC9FDC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99B5B-949F-4FCC-A334-10D2ADBF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0DEF7-6C81-4006-ACDB-B5401F02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0BF47-69BA-4C5A-97D4-97A7870E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56362-9AB5-419F-8B45-F92CBDE2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2977D-8EE9-4276-87BE-A607ECE4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42156-1E97-499F-BABD-5D2F74BC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FD60E-C26E-40DF-A11E-29E99D09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2AA74-1BEB-402E-B744-B48C4A8D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E8FF4-1824-4491-B869-CEAC6C03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55CA-C21B-4B5F-8C70-F21BC51816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F26B-D360-4249-B19B-C9D53EB25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2582-DAFC-4EDE-8300-A43242C30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B418-30D5-4552-920D-DB94AA1D2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1B3F-8654-44CA-9FCB-2070001C0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909B-4B4D-4A1A-A46D-ABD5ED517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D630-8479-4EAE-8DE8-BB8EA7A6D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4B29-F40B-4E0C-AB87-D029E008F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7354-AC2C-47A7-AFBC-66EBF898C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7B59-25D9-4FC1-8D22-402ED7B35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B6F4-2B6F-44A0-8A7E-BF71B8163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B11F-7BD0-4171-B8A6-DD56AB0C7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30C9-778E-46B9-8705-72BE2B114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929F-9BC9-400C-AADC-BA63FC08E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63A7-FD1F-4F16-8AAF-49BD1DBF9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3619-3862-4BD3-BB13-3D40D002A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33D0-782B-489F-9F25-367574288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F3E5-3334-4D0E-B990-8E9DAA8AC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B2F0-8A17-4872-B96D-05D689A6A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FA00-1008-42A1-91E9-D60E4D707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8DE9-EF46-4367-A5CC-2A6EE0DF5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2F84-88E0-4B32-AC91-0638A74C4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D4E0-520F-4560-8E42-AAF3A486C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966E-3339-4D92-9D34-93956886D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7B87-A10C-4AC0-924C-E54277F47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B104-18C8-486D-B1EE-F2EB92973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279360" y="4419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t work with Xinyi Chen, Elad Hazan, Satyen Kale, and Ashwin Nay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Xiv:1802.09025 / NeurIPS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3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Online Learning of Quantum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Picture 6" descr="MCj02909010000[1]"/>
          <p:cNvPicPr/>
          <p:nvPr/>
        </p:nvPicPr>
        <p:blipFill>
          <a:blip r:embed="rId1"/>
          <a:stretch/>
        </p:blipFill>
        <p:spPr>
          <a:xfrm>
            <a:off x="3809880" y="1447920"/>
            <a:ext cx="2165400" cy="1226880"/>
          </a:xfrm>
          <a:prstGeom prst="rect">
            <a:avLst/>
          </a:prstGeom>
          <a:ln w="0">
            <a:noFill/>
          </a:ln>
        </p:spPr>
      </p:pic>
      <p:sp>
        <p:nvSpPr>
          <p:cNvPr id="1035" name="Rectangle 12"/>
          <p:cNvSpPr/>
          <p:nvPr/>
        </p:nvSpPr>
        <p:spPr>
          <a:xfrm>
            <a:off x="3505320" y="1219320"/>
            <a:ext cx="1981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Oval 19"/>
          <p:cNvSpPr/>
          <p:nvPr/>
        </p:nvSpPr>
        <p:spPr>
          <a:xfrm>
            <a:off x="3576600" y="609480"/>
            <a:ext cx="2209680" cy="2219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ight Triangle 12"/>
          <p:cNvSpPr/>
          <p:nvPr/>
        </p:nvSpPr>
        <p:spPr>
          <a:xfrm>
            <a:off x="457200" y="0"/>
            <a:ext cx="7543800" cy="5657760"/>
          </a:xfrm>
          <a:prstGeom prst="rtTriangle">
            <a:avLst/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lowchart: Connector 11"/>
          <p:cNvSpPr/>
          <p:nvPr/>
        </p:nvSpPr>
        <p:spPr>
          <a:xfrm>
            <a:off x="6362640" y="380880"/>
            <a:ext cx="2514600" cy="28195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Picture 23" descr=""/>
          <p:cNvPicPr/>
          <p:nvPr/>
        </p:nvPicPr>
        <p:blipFill>
          <a:blip r:embed="rId1"/>
          <a:stretch/>
        </p:blipFill>
        <p:spPr>
          <a:xfrm>
            <a:off x="563400" y="976320"/>
            <a:ext cx="1204920" cy="160020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4" descr=""/>
          <p:cNvPicPr/>
          <p:nvPr/>
        </p:nvPicPr>
        <p:blipFill>
          <a:blip r:embed="rId2"/>
          <a:stretch/>
        </p:blipFill>
        <p:spPr>
          <a:xfrm>
            <a:off x="3962520" y="1065240"/>
            <a:ext cx="1438200" cy="132876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3"/>
          <a:stretch/>
        </p:blipFill>
        <p:spPr>
          <a:xfrm>
            <a:off x="6705720" y="93024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2" descr="Image result for xinyi chen princeton"/>
          <p:cNvPicPr/>
          <p:nvPr/>
        </p:nvPicPr>
        <p:blipFill>
          <a:blip r:embed="rId4"/>
          <a:stretch/>
        </p:blipFill>
        <p:spPr>
          <a:xfrm>
            <a:off x="609480" y="4191120"/>
            <a:ext cx="1473480" cy="14396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Image result for satyen kale"/>
          <p:cNvPicPr/>
          <p:nvPr/>
        </p:nvPicPr>
        <p:blipFill>
          <a:blip r:embed="rId5"/>
          <a:stretch/>
        </p:blipFill>
        <p:spPr>
          <a:xfrm>
            <a:off x="3048120" y="4191120"/>
            <a:ext cx="1439640" cy="1439640"/>
          </a:xfrm>
          <a:prstGeom prst="rect">
            <a:avLst/>
          </a:prstGeom>
          <a:ln w="0">
            <a:noFill/>
          </a:ln>
        </p:spPr>
      </p:pic>
      <p:cxnSp>
        <p:nvCxnSpPr>
          <p:cNvPr id="1135" name="Straight Arrow Connector 2"/>
          <p:cNvCxnSpPr>
            <a:stCxn id="1130" idx="3"/>
            <a:endCxn id="1131" idx="1"/>
          </p:cNvCxnSpPr>
          <p:nvPr/>
        </p:nvCxnSpPr>
        <p:spPr>
          <a:xfrm flipV="1">
            <a:off x="1767960" y="1728360"/>
            <a:ext cx="2194920" cy="48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  <p:cxnSp>
        <p:nvCxnSpPr>
          <p:cNvPr id="1136" name="Straight Arrow Connector 13"/>
          <p:cNvCxnSpPr>
            <a:endCxn id="1132" idx="1"/>
          </p:cNvCxnSpPr>
          <p:nvPr/>
        </p:nvCxnSpPr>
        <p:spPr>
          <a:xfrm>
            <a:off x="5400360" y="1753920"/>
            <a:ext cx="13057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  <p:cxnSp>
        <p:nvCxnSpPr>
          <p:cNvPr id="1137" name="Straight Arrow Connector 15"/>
          <p:cNvCxnSpPr/>
          <p:nvPr/>
        </p:nvCxnSpPr>
        <p:spPr>
          <a:xfrm>
            <a:off x="1337760" y="2598480"/>
            <a:ext cx="1080" cy="1593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  <p:cxnSp>
        <p:nvCxnSpPr>
          <p:cNvPr id="1138" name="Straight Arrow Connector 17"/>
          <p:cNvCxnSpPr/>
          <p:nvPr/>
        </p:nvCxnSpPr>
        <p:spPr>
          <a:xfrm>
            <a:off x="1767960" y="2576160"/>
            <a:ext cx="1280520" cy="1593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  <p:sp>
        <p:nvSpPr>
          <p:cNvPr id="1139" name="TextBox 20"/>
          <p:cNvSpPr/>
          <p:nvPr/>
        </p:nvSpPr>
        <p:spPr>
          <a:xfrm>
            <a:off x="6629400" y="3200400"/>
            <a:ext cx="2133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equential fat-shattering dimen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29"/>
          <p:cNvSpPr/>
          <p:nvPr/>
        </p:nvSpPr>
        <p:spPr>
          <a:xfrm>
            <a:off x="990720" y="5715000"/>
            <a:ext cx="4876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Online Convex Optimization / Matrix Multiplicative We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0"/>
          <p:cNvSpPr/>
          <p:nvPr/>
        </p:nvSpPr>
        <p:spPr>
          <a:xfrm>
            <a:off x="2760840" y="2786040"/>
            <a:ext cx="36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ostselected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 Box 2"/>
          <p:cNvSpPr/>
          <p:nvPr/>
        </p:nvSpPr>
        <p:spPr>
          <a:xfrm>
            <a:off x="343080" y="5335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1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’s an explicit strategy, for online learning of an n-qubit quantum state, that’s wrong by 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t most O(n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times (and this is t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2"/>
          <p:cNvSpPr/>
          <p:nvPr/>
        </p:nvSpPr>
        <p:spPr>
          <a:xfrm>
            <a:off x="343080" y="25146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2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ven if the data the adversary gives you isn’t consistent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-qubit quantum state, there’s still an explicit strategy such that your tota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gr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fter T iterations, is at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4" name="Object 1"/>
          <p:cNvGraphicFramePr/>
          <p:nvPr/>
        </p:nvGraphicFramePr>
        <p:xfrm>
          <a:off x="3657600" y="3900600"/>
          <a:ext cx="1577880" cy="8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900600"/>
                    <a:ext cx="15778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6" name="Text Box 2"/>
          <p:cNvSpPr/>
          <p:nvPr/>
        </p:nvSpPr>
        <p:spPr>
          <a:xfrm>
            <a:off x="352440" y="4952880"/>
            <a:ext cx="84582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gret = (Your total error) – (Total error if you’d started with the best hypothesis state from the very begin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rror can be either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Box 4"/>
          <p:cNvSpPr/>
          <p:nvPr/>
        </p:nvSpPr>
        <p:spPr>
          <a:xfrm>
            <a:off x="6095880" y="3948120"/>
            <a:ext cx="2397240" cy="92628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ght for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possibly not for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8" name="Straight Arrow Connector 13"/>
          <p:cNvCxnSpPr/>
          <p:nvPr/>
        </p:nvCxnSpPr>
        <p:spPr>
          <a:xfrm flipH="1">
            <a:off x="5257440" y="4330440"/>
            <a:ext cx="8388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Text Box 2"/>
          <p:cNvSpPr/>
          <p:nvPr/>
        </p:nvSpPr>
        <p:spPr>
          <a:xfrm>
            <a:off x="228600" y="223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My Way: Postselect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700"/>
          <p:cNvSpPr/>
          <p:nvPr/>
        </p:nvSpPr>
        <p:spPr>
          <a:xfrm>
            <a:off x="228600" y="3200400"/>
            <a:ext cx="87631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n the beginning, the learner knows nothing ab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so he guesses it’s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maximally mixed st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= I/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ach time the learner encounters a measuremen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on which his current hypothesi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badly fails, he tries t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impro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—by letting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be the state obtained by starting fro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then performing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ostselec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on getting the right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mplification + Gentle Measurement Lemma are used to bound the damage caused by these measu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Cloud Callout 5"/>
          <p:cNvSpPr/>
          <p:nvPr/>
        </p:nvSpPr>
        <p:spPr>
          <a:xfrm>
            <a:off x="4402080" y="1143000"/>
            <a:ext cx="3429000" cy="1600200"/>
          </a:xfrm>
          <a:prstGeom prst="cloudCallout">
            <a:avLst>
              <a:gd name="adj1" fmla="val -74495"/>
              <a:gd name="adj2" fmla="val -25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6" descr=""/>
          <p:cNvPicPr/>
          <p:nvPr/>
        </p:nvPicPr>
        <p:blipFill>
          <a:blip r:embed="rId1"/>
          <a:stretch/>
        </p:blipFill>
        <p:spPr>
          <a:xfrm>
            <a:off x="1811160" y="1295280"/>
            <a:ext cx="1676520" cy="1654200"/>
          </a:xfrm>
          <a:prstGeom prst="rect">
            <a:avLst/>
          </a:prstGeom>
          <a:ln w="0">
            <a:noFill/>
          </a:ln>
        </p:spPr>
      </p:pic>
      <p:sp>
        <p:nvSpPr>
          <p:cNvPr id="1153" name="Rectangle 12"/>
          <p:cNvSpPr/>
          <p:nvPr/>
        </p:nvSpPr>
        <p:spPr>
          <a:xfrm>
            <a:off x="5011560" y="1066680"/>
            <a:ext cx="22100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  <a:ea typeface="Arial"/>
              </a:rPr>
              <a:t>I/2</a:t>
            </a:r>
            <a:r>
              <a:rPr b="0" lang="en-US" sz="10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12"/>
          <p:cNvSpPr/>
          <p:nvPr/>
        </p:nvSpPr>
        <p:spPr>
          <a:xfrm>
            <a:off x="5126040" y="762120"/>
            <a:ext cx="1981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12"/>
          <p:cNvSpPr/>
          <p:nvPr/>
        </p:nvSpPr>
        <p:spPr>
          <a:xfrm>
            <a:off x="5146560" y="727200"/>
            <a:ext cx="1981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12"/>
          <p:cNvSpPr/>
          <p:nvPr/>
        </p:nvSpPr>
        <p:spPr>
          <a:xfrm>
            <a:off x="5146560" y="727200"/>
            <a:ext cx="1981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Text Box 700"/>
          <p:cNvSpPr/>
          <p:nvPr/>
        </p:nvSpPr>
        <p:spPr>
          <a:xfrm>
            <a:off x="152280" y="380880"/>
            <a:ext cx="883944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Le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= const for simpli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  <a:ea typeface="Arial"/>
              </a:rPr>
              <a:t>Crucial Clai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he iterative learning procedure must converge to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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log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after at most T=O(n log(n)) serious mistak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  <a:ea typeface="Arial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Let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= Pr[first t postselections all succeed].  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Object 3"/>
              <p:cNvSpPr txBox="1"/>
              <p:nvPr/>
            </p:nvSpPr>
            <p:spPr>
              <a:xfrm>
                <a:off x="1066680" y="2651040"/>
                <a:ext cx="350532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1159" name="Straight Arrow Connector 14"/>
          <p:cNvCxnSpPr/>
          <p:nvPr/>
        </p:nvCxnSpPr>
        <p:spPr>
          <a:xfrm flipH="1" flipV="1">
            <a:off x="2208960" y="3895200"/>
            <a:ext cx="229320" cy="457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  <p:graphicFrame>
        <p:nvGraphicFramePr>
          <p:cNvPr id="1160" name="Object 3"/>
          <p:cNvGraphicFramePr/>
          <p:nvPr/>
        </p:nvGraphicFramePr>
        <p:xfrm>
          <a:off x="797040" y="4334040"/>
          <a:ext cx="6362640" cy="12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4334040"/>
                    <a:ext cx="6362640" cy="12506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162" name="Straight Arrow Connector 20"/>
          <p:cNvCxnSpPr/>
          <p:nvPr/>
        </p:nvCxnSpPr>
        <p:spPr>
          <a:xfrm flipH="1">
            <a:off x="4647600" y="3438000"/>
            <a:ext cx="6865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  <p:sp>
        <p:nvSpPr>
          <p:cNvPr id="1163" name="Text Box 700"/>
          <p:cNvSpPr/>
          <p:nvPr/>
        </p:nvSpPr>
        <p:spPr>
          <a:xfrm>
            <a:off x="5334120" y="2676600"/>
            <a:ext cx="3124080" cy="139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f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asn’t less than, say, (2/3)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learning would’ve ende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24"/>
          <p:cNvSpPr/>
          <p:nvPr/>
        </p:nvSpPr>
        <p:spPr>
          <a:xfrm>
            <a:off x="1295280" y="6019920"/>
            <a:ext cx="7162920" cy="5814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olving, we find that t = O(n log(n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Text Box 2"/>
          <p:cNvSpPr/>
          <p:nvPr/>
        </p:nvSpPr>
        <p:spPr>
          <a:xfrm>
            <a:off x="228600" y="233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shwin’s Way: Sequential Fat-Shattering Dim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2"/>
          <p:cNvSpPr/>
          <p:nvPr/>
        </p:nvSpPr>
        <p:spPr>
          <a:xfrm>
            <a:off x="263520" y="1828800"/>
            <a:ext cx="8458200" cy="28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ew generalization of Ashwin’s random access codes lower bound from 1999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You can store at most m=O(n) bits x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in an n-qubit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in such a way that any on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f your choice can later be read out w.h.p. by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ven if the measurement basis is allowed to depend on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-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2"/>
          <p:cNvSpPr/>
          <p:nvPr/>
        </p:nvSpPr>
        <p:spPr>
          <a:xfrm>
            <a:off x="307800" y="4724280"/>
            <a:ext cx="8607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mplies an O(n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upper bound for the “online / sequential” version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fat-shatter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bined with a general result of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[Rakhlin et al. 2015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utomatically implies online learning alg + regret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Text Box 2"/>
          <p:cNvSpPr/>
          <p:nvPr/>
        </p:nvSpPr>
        <p:spPr>
          <a:xfrm>
            <a:off x="228600" y="233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lad, Xinyi, Satyen’s Way: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nline Convex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Picture 2" descr="C:\Users\Scott\AppData\Local\Microsoft\Windows\INetCache\IE\4W3MHCY4\Hammer[1].png"/>
          <p:cNvPicPr/>
          <p:nvPr/>
        </p:nvPicPr>
        <p:blipFill>
          <a:blip r:embed="rId1"/>
          <a:stretch/>
        </p:blipFill>
        <p:spPr>
          <a:xfrm>
            <a:off x="4876920" y="1554120"/>
            <a:ext cx="3863880" cy="3733920"/>
          </a:xfrm>
          <a:prstGeom prst="rect">
            <a:avLst/>
          </a:prstGeom>
          <a:ln w="0">
            <a:noFill/>
          </a:ln>
        </p:spPr>
      </p:pic>
      <p:sp>
        <p:nvSpPr>
          <p:cNvPr id="1170" name="Text Box 2"/>
          <p:cNvSpPr/>
          <p:nvPr/>
        </p:nvSpPr>
        <p:spPr>
          <a:xfrm>
            <a:off x="347760" y="1828800"/>
            <a:ext cx="469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gularized Follow-the-Leader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[Hazan 201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radient descent using von Neumann en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2"/>
          <p:cNvSpPr/>
          <p:nvPr/>
        </p:nvSpPr>
        <p:spPr>
          <a:xfrm>
            <a:off x="322200" y="4114800"/>
            <a:ext cx="469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atrix Multiplicative Weights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[Arora and Kale 201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2"/>
          <p:cNvSpPr/>
          <p:nvPr/>
        </p:nvSpPr>
        <p:spPr>
          <a:xfrm>
            <a:off x="343080" y="5257800"/>
            <a:ext cx="560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echnical work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eralize power tools that already existed for real matrices to complex Hermitian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2"/>
          <p:cNvSpPr/>
          <p:nvPr/>
        </p:nvSpPr>
        <p:spPr>
          <a:xfrm>
            <a:off x="5943600" y="5303880"/>
            <a:ext cx="2895480" cy="13737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ields optimal mistake bou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regret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Text Box 2"/>
          <p:cNvSpPr/>
          <p:nvPr/>
        </p:nvSpPr>
        <p:spPr>
          <a:xfrm>
            <a:off x="304920" y="1522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: Shadow Tom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2"/>
          <p:cNvSpPr/>
          <p:nvPr/>
        </p:nvSpPr>
        <p:spPr>
          <a:xfrm>
            <a:off x="357120" y="1011240"/>
            <a:ext cx="84582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 Task (A. 2016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an unknown D-dimensional mixed state. 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known 2-outcome POVMs.  Estimate 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] to with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M]—the “shadows”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sts on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with high probability, by measuring as few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6" name="Object 1"/>
          <p:cNvGraphicFramePr/>
          <p:nvPr/>
        </p:nvGraphicFramePr>
        <p:xfrm>
          <a:off x="2743200" y="5572080"/>
          <a:ext cx="4842000" cy="12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572080"/>
                    <a:ext cx="484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Text Box 2"/>
          <p:cNvSpPr/>
          <p:nvPr/>
        </p:nvSpPr>
        <p:spPr>
          <a:xfrm>
            <a:off x="357120" y="34290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early k=O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copies suffice (do ordinary tomograp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early k=O(M) suffice (apply each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separate cop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what if we wanted to know, e.g., the behavior of an n-qubit state on all accept/reject circuits with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ates?  Could we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TextBox 3"/>
          <p:cNvSpPr/>
          <p:nvPr/>
        </p:nvSpPr>
        <p:spPr>
          <a:xfrm>
            <a:off x="3430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(A., STOC’2018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t’s possible to do Shadow Tomography using 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0" name="Object 1"/>
          <p:cNvGraphicFramePr/>
          <p:nvPr/>
        </p:nvGraphicFramePr>
        <p:xfrm>
          <a:off x="4114800" y="934920"/>
          <a:ext cx="316080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934920"/>
                    <a:ext cx="316080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2" name="TextBox 3"/>
          <p:cNvSpPr/>
          <p:nvPr/>
        </p:nvSpPr>
        <p:spPr>
          <a:xfrm>
            <a:off x="343080" y="2362320"/>
            <a:ext cx="857232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of (in retrospect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Just combine two ingredi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“Quantum OR Bound”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[A. 2006, corrected by Harrow-Montanaro-Lin 2017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o repeatedly search for a measuremen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ch that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, without much damaging 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.  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our current hypothesis stat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(initially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= maximally mix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ur online learning theorem, to upper-bound the number of updates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ntil we converge on a hypothesis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.t.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 Box 2"/>
          <p:cNvSpPr/>
          <p:nvPr/>
        </p:nvSpPr>
        <p:spPr>
          <a:xfrm>
            <a:off x="228600" y="233280"/>
            <a:ext cx="8686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New Shadow Tomography Protocol!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[A.-Rothblum 2019, coming any day to an arXiv near you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2"/>
          <p:cNvSpPr/>
          <p:nvPr/>
        </p:nvSpPr>
        <p:spPr>
          <a:xfrm>
            <a:off x="343080" y="16002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ploits a new connection that Guy and I discovered between gentle measurement of quantum states,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ifferential privac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an area of classical 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2"/>
          <p:cNvSpPr/>
          <p:nvPr/>
        </p:nvSpPr>
        <p:spPr>
          <a:xfrm>
            <a:off x="352440" y="3200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ased on the “Private Multiplicative Weights” algorithm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[Hardt-Rothblum 201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6" name="Object 1"/>
          <p:cNvGraphicFramePr/>
          <p:nvPr/>
        </p:nvGraphicFramePr>
        <p:xfrm>
          <a:off x="4572000" y="3857760"/>
          <a:ext cx="3327480" cy="127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857760"/>
                    <a:ext cx="3327480" cy="12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8" name="Text Box 2"/>
          <p:cNvSpPr/>
          <p:nvPr/>
        </p:nvSpPr>
        <p:spPr>
          <a:xfrm>
            <a:off x="352440" y="4495680"/>
            <a:ext cx="879156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es this many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ile also being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n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properties we didn’t have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2"/>
          <p:cNvSpPr/>
          <p:nvPr/>
        </p:nvSpPr>
        <p:spPr>
          <a:xfrm>
            <a:off x="343080" y="5867280"/>
            <a:ext cx="863892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plicitly uses online learning theorem as a key ingre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Text Box 2"/>
          <p:cNvSpPr/>
          <p:nvPr/>
        </p:nvSpPr>
        <p:spPr>
          <a:xfrm>
            <a:off x="228600" y="233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2"/>
          <p:cNvSpPr/>
          <p:nvPr/>
        </p:nvSpPr>
        <p:spPr>
          <a:xfrm>
            <a:off x="343080" y="1335240"/>
            <a:ext cx="845820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eralize to k-outcome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ptimal regret for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 special cases of online learning of quantum states can be done with only poly(n) compu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’s the true sample complexity of shadow tomograp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Text Box 3"/>
          <p:cNvSpPr/>
          <p:nvPr/>
        </p:nvSpPr>
        <p:spPr>
          <a:xfrm>
            <a:off x="1179360" y="392040"/>
            <a:ext cx="6993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n n-qubit pure state requires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  <a:ea typeface="Arial"/>
              </a:rPr>
              <a:t>2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omplex numbers to specify, even approximat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Object 2"/>
              <p:cNvSpPr txBox="1"/>
              <p:nvPr/>
            </p:nvSpPr>
            <p:spPr>
              <a:xfrm>
                <a:off x="2089080" y="1905120"/>
                <a:ext cx="5143680" cy="19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38" name="Text Box 3"/>
          <p:cNvSpPr/>
          <p:nvPr/>
        </p:nvSpPr>
        <p:spPr>
          <a:xfrm>
            <a:off x="304920" y="3962520"/>
            <a:ext cx="85341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et measuring yields at most n bits (Holevo’s Theor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 should we say that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omplex numbers are “really there” in a single copy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or “just in our head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probability distribution over n-bit strings also involve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real numbers.  But probabilities don’t interf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9" name="Group 4"/>
          <p:cNvGrpSpPr/>
          <p:nvPr/>
        </p:nvGrpSpPr>
        <p:grpSpPr>
          <a:xfrm>
            <a:off x="8048160" y="547200"/>
            <a:ext cx="909720" cy="1142640"/>
            <a:chOff x="8048160" y="547200"/>
            <a:chExt cx="909720" cy="1142640"/>
          </a:xfrm>
        </p:grpSpPr>
        <p:sp>
          <p:nvSpPr>
            <p:cNvPr id="1040" name="Line 5"/>
            <p:cNvSpPr/>
            <p:nvPr/>
          </p:nvSpPr>
          <p:spPr>
            <a:xfrm flipH="1" flipV="1">
              <a:off x="8282880" y="57204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1" name="Picture 6" descr="MCED00214_0000[1]"/>
            <p:cNvPicPr/>
            <p:nvPr/>
          </p:nvPicPr>
          <p:blipFill>
            <a:blip r:embed="rId1"/>
            <a:stretch/>
          </p:blipFill>
          <p:spPr>
            <a:xfrm flipH="1">
              <a:off x="8048160" y="57240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2" name="AutoShape 7"/>
            <p:cNvSpPr/>
            <p:nvPr/>
          </p:nvSpPr>
          <p:spPr>
            <a:xfrm flipH="1" flipV="1" rot="16200000">
              <a:off x="8416080" y="107136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3" name="Group 8"/>
            <p:cNvGrpSpPr/>
            <p:nvPr/>
          </p:nvGrpSpPr>
          <p:grpSpPr>
            <a:xfrm>
              <a:off x="8525880" y="826560"/>
              <a:ext cx="345240" cy="213480"/>
              <a:chOff x="8525880" y="826560"/>
              <a:chExt cx="345240" cy="213480"/>
            </a:xfrm>
          </p:grpSpPr>
          <p:sp>
            <p:nvSpPr>
              <p:cNvPr id="1044" name="Freeform 9"/>
              <p:cNvSpPr/>
              <p:nvPr/>
            </p:nvSpPr>
            <p:spPr>
              <a:xfrm flipH="1">
                <a:off x="8525520" y="82656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10"/>
              <p:cNvSpPr/>
              <p:nvPr/>
            </p:nvSpPr>
            <p:spPr>
              <a:xfrm flipH="1">
                <a:off x="8552520" y="85032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11"/>
              <p:cNvSpPr/>
              <p:nvPr/>
            </p:nvSpPr>
            <p:spPr>
              <a:xfrm flipH="1">
                <a:off x="8630640" y="86364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12"/>
              <p:cNvSpPr/>
              <p:nvPr/>
            </p:nvSpPr>
            <p:spPr>
              <a:xfrm flipH="1">
                <a:off x="8667360" y="90504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Group 13"/>
            <p:cNvGrpSpPr/>
            <p:nvPr/>
          </p:nvGrpSpPr>
          <p:grpSpPr>
            <a:xfrm>
              <a:off x="8102520" y="826560"/>
              <a:ext cx="345240" cy="213480"/>
              <a:chOff x="8102520" y="826560"/>
              <a:chExt cx="345240" cy="213480"/>
            </a:xfrm>
          </p:grpSpPr>
          <p:sp>
            <p:nvSpPr>
              <p:cNvPr id="1049" name="Freeform 14"/>
              <p:cNvSpPr/>
              <p:nvPr/>
            </p:nvSpPr>
            <p:spPr>
              <a:xfrm flipH="1">
                <a:off x="8102160" y="82656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15"/>
              <p:cNvSpPr/>
              <p:nvPr/>
            </p:nvSpPr>
            <p:spPr>
              <a:xfrm flipH="1">
                <a:off x="8129160" y="85032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16"/>
              <p:cNvSpPr/>
              <p:nvPr/>
            </p:nvSpPr>
            <p:spPr>
              <a:xfrm flipH="1">
                <a:off x="8207280" y="86364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17"/>
              <p:cNvSpPr/>
              <p:nvPr/>
            </p:nvSpPr>
            <p:spPr>
              <a:xfrm flipH="1">
                <a:off x="8244000" y="90504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3" name="Line 18"/>
            <p:cNvSpPr/>
            <p:nvPr/>
          </p:nvSpPr>
          <p:spPr>
            <a:xfrm flipH="1" flipV="1">
              <a:off x="8261640" y="54720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Group 19"/>
          <p:cNvGrpSpPr/>
          <p:nvPr/>
        </p:nvGrpSpPr>
        <p:grpSpPr>
          <a:xfrm>
            <a:off x="235080" y="579240"/>
            <a:ext cx="955440" cy="1218600"/>
            <a:chOff x="235080" y="579240"/>
            <a:chExt cx="955440" cy="1218600"/>
          </a:xfrm>
        </p:grpSpPr>
        <p:sp>
          <p:nvSpPr>
            <p:cNvPr id="1055" name="Line 20"/>
            <p:cNvSpPr/>
            <p:nvPr/>
          </p:nvSpPr>
          <p:spPr>
            <a:xfrm flipV="1">
              <a:off x="446400" y="60588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6" name="Picture 21" descr="MCDD01775_0000[1]"/>
            <p:cNvPicPr/>
            <p:nvPr/>
          </p:nvPicPr>
          <p:blipFill>
            <a:blip r:embed="rId2"/>
            <a:stretch/>
          </p:blipFill>
          <p:spPr>
            <a:xfrm>
              <a:off x="235080" y="606240"/>
              <a:ext cx="95544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7" name="AutoShape 22"/>
            <p:cNvSpPr/>
            <p:nvPr/>
          </p:nvSpPr>
          <p:spPr>
            <a:xfrm flipV="1" rot="5400000">
              <a:off x="621000" y="114552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8" name="Group 23"/>
            <p:cNvGrpSpPr/>
            <p:nvPr/>
          </p:nvGrpSpPr>
          <p:grpSpPr>
            <a:xfrm>
              <a:off x="313200" y="767520"/>
              <a:ext cx="399240" cy="310320"/>
              <a:chOff x="313200" y="767520"/>
              <a:chExt cx="399240" cy="310320"/>
            </a:xfrm>
          </p:grpSpPr>
          <p:sp>
            <p:nvSpPr>
              <p:cNvPr id="1059" name="Freeform 24"/>
              <p:cNvSpPr/>
              <p:nvPr/>
            </p:nvSpPr>
            <p:spPr>
              <a:xfrm>
                <a:off x="325800" y="85248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25"/>
              <p:cNvSpPr/>
              <p:nvPr/>
            </p:nvSpPr>
            <p:spPr>
              <a:xfrm>
                <a:off x="353880" y="87732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26"/>
              <p:cNvSpPr/>
              <p:nvPr/>
            </p:nvSpPr>
            <p:spPr>
              <a:xfrm>
                <a:off x="432360" y="89100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27"/>
              <p:cNvSpPr/>
              <p:nvPr/>
            </p:nvSpPr>
            <p:spPr>
              <a:xfrm>
                <a:off x="519120" y="93564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28"/>
              <p:cNvSpPr/>
              <p:nvPr/>
            </p:nvSpPr>
            <p:spPr>
              <a:xfrm>
                <a:off x="313200" y="83808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29"/>
              <p:cNvSpPr/>
              <p:nvPr/>
            </p:nvSpPr>
            <p:spPr>
              <a:xfrm>
                <a:off x="371880" y="80064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0"/>
              <p:cNvSpPr/>
              <p:nvPr/>
            </p:nvSpPr>
            <p:spPr>
              <a:xfrm>
                <a:off x="436680" y="77724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1"/>
              <p:cNvSpPr/>
              <p:nvPr/>
            </p:nvSpPr>
            <p:spPr>
              <a:xfrm>
                <a:off x="659160" y="84348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2"/>
              <p:cNvSpPr/>
              <p:nvPr/>
            </p:nvSpPr>
            <p:spPr>
              <a:xfrm>
                <a:off x="614160" y="80388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3"/>
              <p:cNvSpPr/>
              <p:nvPr/>
            </p:nvSpPr>
            <p:spPr>
              <a:xfrm>
                <a:off x="562320" y="77904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4"/>
              <p:cNvSpPr/>
              <p:nvPr/>
            </p:nvSpPr>
            <p:spPr>
              <a:xfrm>
                <a:off x="499320" y="76752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0" name="Group 35"/>
            <p:cNvGrpSpPr/>
            <p:nvPr/>
          </p:nvGrpSpPr>
          <p:grpSpPr>
            <a:xfrm>
              <a:off x="764280" y="767520"/>
              <a:ext cx="399240" cy="310320"/>
              <a:chOff x="764280" y="767520"/>
              <a:chExt cx="399240" cy="310320"/>
            </a:xfrm>
          </p:grpSpPr>
          <p:sp>
            <p:nvSpPr>
              <p:cNvPr id="1071" name="Freeform 36"/>
              <p:cNvSpPr/>
              <p:nvPr/>
            </p:nvSpPr>
            <p:spPr>
              <a:xfrm>
                <a:off x="776880" y="85248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7"/>
              <p:cNvSpPr/>
              <p:nvPr/>
            </p:nvSpPr>
            <p:spPr>
              <a:xfrm>
                <a:off x="804960" y="87732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8"/>
              <p:cNvSpPr/>
              <p:nvPr/>
            </p:nvSpPr>
            <p:spPr>
              <a:xfrm>
                <a:off x="883440" y="89100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39"/>
              <p:cNvSpPr/>
              <p:nvPr/>
            </p:nvSpPr>
            <p:spPr>
              <a:xfrm>
                <a:off x="970200" y="93564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40"/>
              <p:cNvSpPr/>
              <p:nvPr/>
            </p:nvSpPr>
            <p:spPr>
              <a:xfrm>
                <a:off x="764280" y="83808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41"/>
              <p:cNvSpPr/>
              <p:nvPr/>
            </p:nvSpPr>
            <p:spPr>
              <a:xfrm>
                <a:off x="822960" y="80064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42"/>
              <p:cNvSpPr/>
              <p:nvPr/>
            </p:nvSpPr>
            <p:spPr>
              <a:xfrm>
                <a:off x="887760" y="77724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43"/>
              <p:cNvSpPr/>
              <p:nvPr/>
            </p:nvSpPr>
            <p:spPr>
              <a:xfrm>
                <a:off x="1110240" y="84348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44"/>
              <p:cNvSpPr/>
              <p:nvPr/>
            </p:nvSpPr>
            <p:spPr>
              <a:xfrm>
                <a:off x="1065240" y="80388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45"/>
              <p:cNvSpPr/>
              <p:nvPr/>
            </p:nvSpPr>
            <p:spPr>
              <a:xfrm>
                <a:off x="1013400" y="77904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46"/>
              <p:cNvSpPr/>
              <p:nvPr/>
            </p:nvSpPr>
            <p:spPr>
              <a:xfrm>
                <a:off x="950400" y="76752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2" name="Line 47"/>
            <p:cNvSpPr/>
            <p:nvPr/>
          </p:nvSpPr>
          <p:spPr>
            <a:xfrm flipV="1">
              <a:off x="711720" y="57924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Text Box 2"/>
          <p:cNvSpPr/>
          <p:nvPr/>
        </p:nvSpPr>
        <p:spPr>
          <a:xfrm>
            <a:off x="609480" y="609480"/>
            <a:ext cx="4724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  <a:ea typeface="Arial"/>
              </a:rPr>
              <a:t>Quantum State Tom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3"/>
          <p:cNvSpPr/>
          <p:nvPr/>
        </p:nvSpPr>
        <p:spPr>
          <a:xfrm>
            <a:off x="380880" y="2590920"/>
            <a:ext cx="83822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ask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iven lots of copies of an unknown D-dimensional quantum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produce an approximate classical description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’Donnell and Wright and Haah et al., STOC’2016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~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re necessary and sufficient fo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perimental Record (Song et al. 2017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10 qubits, millions of measurement settings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Keep in mind: D = 2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161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514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Explosion 2 7"/>
          <p:cNvSpPr/>
          <p:nvPr/>
        </p:nvSpPr>
        <p:spPr>
          <a:xfrm rot="159600">
            <a:off x="6171840" y="3722760"/>
            <a:ext cx="2824200" cy="1150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699"/>
          <p:cNvSpPr/>
          <p:nvPr/>
        </p:nvSpPr>
        <p:spPr>
          <a:xfrm>
            <a:off x="304920" y="1947960"/>
            <a:ext cx="8610480" cy="49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e an unknown D-dimensional st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you just want to be able to estimate the acceptance probabilities of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mos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easurements E drawn from some probability distrib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it suffices to do the following, for some m=O(log D)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hoose m measurements independently from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Go into your lab and estimate acceptance probabilities of all of them on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nd </a:t>
            </a: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“hypothesis state”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approximately consistent with all measurement outcom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728"/>
          <p:cNvSpPr/>
          <p:nvPr/>
        </p:nvSpPr>
        <p:spPr>
          <a:xfrm>
            <a:off x="1523880" y="457200"/>
            <a:ext cx="60199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70c0"/>
                </a:solidFill>
                <a:latin typeface="Calibri"/>
                <a:ea typeface="Arial"/>
              </a:rPr>
              <a:t>Quantum Occam’s Razor Theorem (A. 2006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Picture 729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38240" cy="14479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730" descr="razor"/>
          <p:cNvPicPr/>
          <p:nvPr/>
        </p:nvPicPr>
        <p:blipFill>
          <a:blip r:embed="rId2"/>
          <a:srcRect l="0" t="0" r="20000" b="40500"/>
          <a:stretch/>
        </p:blipFill>
        <p:spPr>
          <a:xfrm>
            <a:off x="7680240" y="380880"/>
            <a:ext cx="1463760" cy="1344600"/>
          </a:xfrm>
          <a:prstGeom prst="rect">
            <a:avLst/>
          </a:prstGeom>
          <a:ln w="0">
            <a:noFill/>
          </a:ln>
        </p:spPr>
      </p:pic>
      <p:sp>
        <p:nvSpPr>
          <p:cNvPr id="1091" name="Text Box 12"/>
          <p:cNvSpPr/>
          <p:nvPr/>
        </p:nvSpPr>
        <p:spPr>
          <a:xfrm>
            <a:off x="1828800" y="2236680"/>
            <a:ext cx="5029200" cy="13129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“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Quantum states are PAC-learnabl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" dur="1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Text Box 2"/>
          <p:cNvSpPr/>
          <p:nvPr/>
        </p:nvSpPr>
        <p:spPr>
          <a:xfrm>
            <a:off x="347760" y="228600"/>
            <a:ext cx="8567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  <a:ea typeface="Calibri"/>
              </a:rPr>
              <a:t>Can prove by combining two fact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325440" y="958680"/>
            <a:ext cx="849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1) The class of [0,1]-valued functions of the form f(E)=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,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s a D-dimensional mixed state, has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-fat-shattering dimen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((log D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3"/>
          <p:cNvSpPr/>
          <p:nvPr/>
        </p:nvSpPr>
        <p:spPr>
          <a:xfrm>
            <a:off x="393840" y="5384880"/>
            <a:ext cx="84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2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lass of [0,1]-valued functions is PAC-learnable using a number of samples linear in its fat-shattering dimension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Calibri"/>
              </a:rPr>
              <a:t>[Alon et al., Bartlett-Lon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4" descr=""/>
          <p:cNvPicPr/>
          <p:nvPr/>
        </p:nvPicPr>
        <p:blipFill>
          <a:blip r:embed="rId1"/>
          <a:srcRect l="6000" t="0" r="29999" b="12000"/>
          <a:stretch/>
        </p:blipFill>
        <p:spPr>
          <a:xfrm>
            <a:off x="1604880" y="2532240"/>
            <a:ext cx="998640" cy="1371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20" descr=""/>
          <p:cNvPicPr/>
          <p:nvPr/>
        </p:nvPicPr>
        <p:blipFill>
          <a:blip r:embed="rId2"/>
          <a:srcRect l="26667" t="0" r="18667" b="20000"/>
          <a:stretch/>
        </p:blipFill>
        <p:spPr>
          <a:xfrm>
            <a:off x="309600" y="2532240"/>
            <a:ext cx="1295280" cy="1261800"/>
          </a:xfrm>
          <a:prstGeom prst="rect">
            <a:avLst/>
          </a:prstGeom>
          <a:ln w="0">
            <a:noFill/>
          </a:ln>
        </p:spPr>
      </p:pic>
      <p:grpSp>
        <p:nvGrpSpPr>
          <p:cNvPr id="1097" name="Group 19"/>
          <p:cNvGrpSpPr/>
          <p:nvPr/>
        </p:nvGrpSpPr>
        <p:grpSpPr>
          <a:xfrm>
            <a:off x="733320" y="3929040"/>
            <a:ext cx="7543440" cy="1523520"/>
            <a:chOff x="733320" y="3929040"/>
            <a:chExt cx="7543440" cy="1523520"/>
          </a:xfrm>
        </p:grpSpPr>
        <p:sp>
          <p:nvSpPr>
            <p:cNvPr id="1098" name="Line 10"/>
            <p:cNvSpPr/>
            <p:nvPr/>
          </p:nvSpPr>
          <p:spPr>
            <a:xfrm>
              <a:off x="1446840" y="461556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12"/>
            <p:cNvSpPr/>
            <p:nvPr/>
          </p:nvSpPr>
          <p:spPr>
            <a:xfrm flipV="1">
              <a:off x="2772360" y="451332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13"/>
            <p:cNvSpPr/>
            <p:nvPr/>
          </p:nvSpPr>
          <p:spPr>
            <a:xfrm flipV="1">
              <a:off x="4097160" y="430956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14"/>
            <p:cNvSpPr/>
            <p:nvPr/>
          </p:nvSpPr>
          <p:spPr>
            <a:xfrm>
              <a:off x="4810680" y="420732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15"/>
            <p:cNvSpPr/>
            <p:nvPr/>
          </p:nvSpPr>
          <p:spPr>
            <a:xfrm>
              <a:off x="6441840" y="451332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16"/>
            <p:cNvSpPr/>
            <p:nvPr/>
          </p:nvSpPr>
          <p:spPr>
            <a:xfrm flipV="1">
              <a:off x="7665120" y="420732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8"/>
            <p:cNvSpPr/>
            <p:nvPr/>
          </p:nvSpPr>
          <p:spPr>
            <a:xfrm>
              <a:off x="733320" y="3929040"/>
              <a:ext cx="7543440" cy="1523520"/>
            </a:xfrm>
            <a:custGeom>
              <a:avLst/>
              <a:gdLst/>
              <a:ahLst/>
              <a:rect l="l" t="t" r="r" b="b"/>
              <a:pathLst>
                <a:path w="3552" h="717">
                  <a:moveTo>
                    <a:pt x="0" y="515"/>
                  </a:moveTo>
                  <a:cubicBezTo>
                    <a:pt x="68" y="538"/>
                    <a:pt x="272" y="717"/>
                    <a:pt x="406" y="656"/>
                  </a:cubicBezTo>
                  <a:cubicBezTo>
                    <a:pt x="540" y="595"/>
                    <a:pt x="597" y="239"/>
                    <a:pt x="803" y="150"/>
                  </a:cubicBezTo>
                  <a:cubicBezTo>
                    <a:pt x="1009" y="61"/>
                    <a:pt x="1451" y="45"/>
                    <a:pt x="1644" y="119"/>
                  </a:cubicBezTo>
                  <a:cubicBezTo>
                    <a:pt x="1837" y="193"/>
                    <a:pt x="1758" y="520"/>
                    <a:pt x="1963" y="594"/>
                  </a:cubicBezTo>
                  <a:cubicBezTo>
                    <a:pt x="2168" y="668"/>
                    <a:pt x="2666" y="649"/>
                    <a:pt x="2874" y="563"/>
                  </a:cubicBezTo>
                  <a:cubicBezTo>
                    <a:pt x="3082" y="477"/>
                    <a:pt x="3095" y="160"/>
                    <a:pt x="3208" y="80"/>
                  </a:cubicBezTo>
                  <a:cubicBezTo>
                    <a:pt x="3321" y="0"/>
                    <a:pt x="3480" y="83"/>
                    <a:pt x="3552" y="83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Text Box 3"/>
          <p:cNvSpPr/>
          <p:nvPr/>
        </p:nvSpPr>
        <p:spPr>
          <a:xfrm>
            <a:off x="2666880" y="2343240"/>
            <a:ext cx="63248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Largest k for which we can find inputs x</a:t>
            </a:r>
            <a:r>
              <a:rPr b="0" lang="en-US" sz="2400" spc="-1" strike="noStrike" baseline="-25000">
                <a:solidFill>
                  <a:srgbClr val="7f7f7f"/>
                </a:solidFill>
                <a:latin typeface="Calibri"/>
                <a:ea typeface="Calibri"/>
              </a:rPr>
              <a:t>1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,…,x</a:t>
            </a:r>
            <a:r>
              <a:rPr b="0" lang="en-US" sz="2400" spc="-1" strike="noStrike" baseline="-25000">
                <a:solidFill>
                  <a:srgbClr val="7f7f7f"/>
                </a:solidFill>
                <a:latin typeface="Calibri"/>
                <a:ea typeface="Calibri"/>
              </a:rPr>
              <a:t>k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, and values a</a:t>
            </a:r>
            <a:r>
              <a:rPr b="0" lang="en-US" sz="2400" spc="-1" strike="noStrike" baseline="-25000">
                <a:solidFill>
                  <a:srgbClr val="7f7f7f"/>
                </a:solidFill>
                <a:latin typeface="Calibri"/>
                <a:ea typeface="Calibri"/>
              </a:rPr>
              <a:t>1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,…,a</a:t>
            </a:r>
            <a:r>
              <a:rPr b="0" lang="en-US" sz="2400" spc="-1" strike="noStrike" baseline="-25000">
                <a:solidFill>
                  <a:srgbClr val="7f7f7f"/>
                </a:solidFill>
                <a:latin typeface="Calibri"/>
                <a:ea typeface="Calibri"/>
              </a:rPr>
              <a:t>k</a:t>
            </a:r>
            <a:r>
              <a:rPr b="0" lang="en-US" sz="2400" spc="-1" strike="noStrike">
                <a:solidFill>
                  <a:srgbClr val="7f7f7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[0,1], such that all 2</a:t>
            </a:r>
            <a:r>
              <a:rPr b="0" lang="en-US" sz="2400" spc="-1" strike="noStrike" baseline="30000">
                <a:solidFill>
                  <a:srgbClr val="7f7f7f"/>
                </a:solidFill>
                <a:latin typeface="Calibri"/>
                <a:ea typeface="Calibri"/>
              </a:rPr>
              <a:t>k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 possible behaviors involving f(x</a:t>
            </a:r>
            <a:r>
              <a:rPr b="0" lang="en-US" sz="2400" spc="-1" strike="noStrike" baseline="-25000">
                <a:solidFill>
                  <a:srgbClr val="7f7f7f"/>
                </a:solidFill>
                <a:latin typeface="Calibri"/>
                <a:ea typeface="Calibri"/>
              </a:rPr>
              <a:t>i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) exceeding a</a:t>
            </a:r>
            <a:r>
              <a:rPr b="0" lang="en-US" sz="2400" spc="-1" strike="noStrike" baseline="-25000">
                <a:solidFill>
                  <a:srgbClr val="7f7f7f"/>
                </a:solidFill>
                <a:latin typeface="Calibri"/>
                <a:ea typeface="Calibri"/>
              </a:rPr>
              <a:t>i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 by </a:t>
            </a:r>
            <a:r>
              <a:rPr b="0" lang="en-US" sz="2400" spc="-1" strike="noStrike">
                <a:solidFill>
                  <a:srgbClr val="7f7f7f"/>
                </a:solidFill>
                <a:latin typeface="Symbol"/>
                <a:ea typeface="Symbol"/>
              </a:rPr>
              <a:t>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 or vice versa are realized by some f in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Text Box 2"/>
          <p:cNvSpPr/>
          <p:nvPr/>
        </p:nvSpPr>
        <p:spPr>
          <a:xfrm>
            <a:off x="347760" y="304920"/>
            <a:ext cx="8567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  <a:ea typeface="Calibri"/>
              </a:rPr>
              <a:t>To upper-bound the fat-shattering dimension of quantum state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3"/>
          <p:cNvSpPr/>
          <p:nvPr/>
        </p:nvSpPr>
        <p:spPr>
          <a:xfrm>
            <a:off x="347760" y="1917720"/>
            <a:ext cx="704376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se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l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ound for quantum random access codes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Calibri"/>
              </a:rPr>
              <a:t>[Nayak 1999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 Nam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nee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n) qubits to encode n bit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to a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so that any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your choice can later be recovered w.h.p. by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3" descr=""/>
          <p:cNvPicPr/>
          <p:nvPr/>
        </p:nvPicPr>
        <p:blipFill>
          <a:blip r:embed="rId1"/>
          <a:stretch/>
        </p:blipFill>
        <p:spPr>
          <a:xfrm>
            <a:off x="7315200" y="204156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0" descr="C:\Users\Scott\AppData\Local\Microsoft\Windows\INetCache\IE\RHPK08JT\lemon-citrina[1].png"/>
          <p:cNvPicPr/>
          <p:nvPr/>
        </p:nvPicPr>
        <p:blipFill>
          <a:blip r:embed="rId2"/>
          <a:stretch/>
        </p:blipFill>
        <p:spPr>
          <a:xfrm>
            <a:off x="382680" y="4952880"/>
            <a:ext cx="1620720" cy="16210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1" descr="C:\Users\Scott\AppData\Local\Microsoft\Windows\INetCache\IE\IVR9QIKH\uXOpy[1].jpg"/>
          <p:cNvPicPr/>
          <p:nvPr/>
        </p:nvPicPr>
        <p:blipFill>
          <a:blip r:embed="rId3"/>
          <a:stretch/>
        </p:blipFill>
        <p:spPr>
          <a:xfrm>
            <a:off x="7683480" y="5052960"/>
            <a:ext cx="914400" cy="1424160"/>
          </a:xfrm>
          <a:prstGeom prst="rect">
            <a:avLst/>
          </a:prstGeom>
          <a:ln w="0">
            <a:noFill/>
          </a:ln>
        </p:spPr>
      </p:pic>
      <p:sp>
        <p:nvSpPr>
          <p:cNvPr id="1111" name="Text Box 3"/>
          <p:cNvSpPr/>
          <p:nvPr/>
        </p:nvSpPr>
        <p:spPr>
          <a:xfrm>
            <a:off x="2235240" y="4943520"/>
            <a:ext cx="479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Then turn this lemon into lemonad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2"/>
          <p:cNvSpPr/>
          <p:nvPr/>
        </p:nvSpPr>
        <p:spPr>
          <a:xfrm>
            <a:off x="347760" y="304920"/>
            <a:ext cx="8567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  <a:ea typeface="Calibri"/>
              </a:rPr>
              <a:t>How do we find the hypothesis stat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3"/>
          <p:cNvSpPr/>
          <p:nvPr/>
        </p:nvSpPr>
        <p:spPr>
          <a:xfrm>
            <a:off x="347760" y="4243320"/>
            <a:ext cx="84913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is is a convex programming problem, which can be solved in time polynomial in D=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(good enough in practice for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5 or 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ptimized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linear-ti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terative method for this problem: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Hazan 200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Group 4"/>
          <p:cNvGrpSpPr/>
          <p:nvPr/>
        </p:nvGrpSpPr>
        <p:grpSpPr>
          <a:xfrm>
            <a:off x="347760" y="1189080"/>
            <a:ext cx="8305560" cy="2968560"/>
            <a:chOff x="347760" y="1189080"/>
            <a:chExt cx="8305560" cy="2968560"/>
          </a:xfrm>
        </p:grpSpPr>
        <p:sp>
          <p:nvSpPr>
            <p:cNvPr id="1115" name="Text Box 5"/>
            <p:cNvSpPr/>
            <p:nvPr/>
          </p:nvSpPr>
          <p:spPr>
            <a:xfrm>
              <a:off x="347760" y="1189080"/>
              <a:ext cx="8305560" cy="17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Here’s one way: let 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,…,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be the outcomes of measurements 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,…,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hen choose a hypothesis state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to minimiz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6" name="Object 6"/>
                <p:cNvSpPr txBox="1"/>
                <p:nvPr/>
              </p:nvSpPr>
              <p:spPr>
                <a:xfrm>
                  <a:off x="2938320" y="2789280"/>
                  <a:ext cx="3499920" cy="13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r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σ</m:t>
                                      </m:r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Picture 23" descr=""/>
          <p:cNvPicPr/>
          <p:nvPr/>
        </p:nvPicPr>
        <p:blipFill>
          <a:blip r:embed="rId1"/>
          <a:stretch/>
        </p:blipFill>
        <p:spPr>
          <a:xfrm>
            <a:off x="457200" y="1238400"/>
            <a:ext cx="1203480" cy="1600200"/>
          </a:xfrm>
          <a:prstGeom prst="rect">
            <a:avLst/>
          </a:prstGeom>
          <a:ln w="0">
            <a:noFill/>
          </a:ln>
        </p:spPr>
      </p:pic>
      <p:sp>
        <p:nvSpPr>
          <p:cNvPr id="1118" name="Rounded Rectangular Callout 1"/>
          <p:cNvSpPr/>
          <p:nvPr/>
        </p:nvSpPr>
        <p:spPr>
          <a:xfrm>
            <a:off x="1905120" y="838080"/>
            <a:ext cx="6781680" cy="2438640"/>
          </a:xfrm>
          <a:prstGeom prst="wedgeRoundRectCallout">
            <a:avLst>
              <a:gd name="adj1" fmla="val -57041"/>
              <a:gd name="adj2" fmla="val 4467"/>
              <a:gd name="adj3" fmla="val 16667"/>
            </a:avLst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3"/>
          <p:cNvSpPr/>
          <p:nvPr/>
        </p:nvSpPr>
        <p:spPr>
          <a:xfrm>
            <a:off x="2362320" y="914400"/>
            <a:ext cx="6324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know, PAC-learning is so 1990s.  Who wants to assume a fixed, unchanging distribu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ver the sample data?  These days all the cool kids prove theorems abou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n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0" name="Picture 24" descr=""/>
          <p:cNvPicPr/>
          <p:nvPr/>
        </p:nvPicPr>
        <p:blipFill>
          <a:blip r:embed="rId2"/>
          <a:stretch/>
        </p:blipFill>
        <p:spPr>
          <a:xfrm>
            <a:off x="7248600" y="4068720"/>
            <a:ext cx="1438200" cy="1328760"/>
          </a:xfrm>
          <a:prstGeom prst="rect">
            <a:avLst/>
          </a:prstGeom>
          <a:ln w="0">
            <a:noFill/>
          </a:ln>
        </p:spPr>
      </p:pic>
      <p:sp>
        <p:nvSpPr>
          <p:cNvPr id="1121" name="Rounded Rectangular Callout 14"/>
          <p:cNvSpPr/>
          <p:nvPr/>
        </p:nvSpPr>
        <p:spPr>
          <a:xfrm>
            <a:off x="2819520" y="4114800"/>
            <a:ext cx="4114800" cy="698400"/>
          </a:xfrm>
          <a:prstGeom prst="wedgeRoundRectCallout">
            <a:avLst>
              <a:gd name="adj1" fmla="val 63324"/>
              <a:gd name="adj2" fmla="val 44518"/>
              <a:gd name="adj3" fmla="val 16667"/>
            </a:avLst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3"/>
          <p:cNvSpPr/>
          <p:nvPr/>
        </p:nvSpPr>
        <p:spPr>
          <a:xfrm>
            <a:off x="3048120" y="420228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’s online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Text Box 2"/>
          <p:cNvSpPr/>
          <p:nvPr/>
        </p:nvSpPr>
        <p:spPr>
          <a:xfrm>
            <a:off x="347760" y="304920"/>
            <a:ext cx="8567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  <a:ea typeface="Calibri"/>
              </a:rPr>
              <a:t>Online Learn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3"/>
          <p:cNvSpPr/>
          <p:nvPr/>
        </p:nvSpPr>
        <p:spPr>
          <a:xfrm>
            <a:off x="293760" y="1198440"/>
            <a:ext cx="862164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wo-outcome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 on a D-dimensional state arrive one by one—chosen by an adaptive adver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No more fixed distribution over measurements, no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independence, no nothin’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3"/>
          <p:cNvSpPr/>
          <p:nvPr/>
        </p:nvSpPr>
        <p:spPr>
          <a:xfrm>
            <a:off x="293760" y="3484440"/>
            <a:ext cx="856116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or each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you—the learner—are challenged to guess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.  If you’re off by more th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3, you’re then told the true value, or at least 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3-approximation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3"/>
          <p:cNvSpPr/>
          <p:nvPr/>
        </p:nvSpPr>
        <p:spPr>
          <a:xfrm>
            <a:off x="293760" y="5160960"/>
            <a:ext cx="8591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Give a learning strategy that upper bounds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number of times your guess will ever be more th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f from the truth  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  <a:ea typeface="Calibri"/>
              </a:rPr>
              <a:t>(can’t know in advance which times those will be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9-01-15T16:58:25Z</dcterms:modified>
  <cp:revision>454</cp:revision>
  <dc:subject/>
  <dc:title>BQP and the Polynomial Hierarchy</dc:title>
</cp:coreProperties>
</file>