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wmf" ContentType="image/x-wmf"/>
  <Override PartName="/ppt/media/image22.wmf" ContentType="image/x-wmf"/>
  <Override PartName="/ppt/media/image21.wmf" ContentType="image/x-wmf"/>
  <Override PartName="/ppt/media/image5.png" ContentType="image/png"/>
  <Override PartName="/ppt/media/image6.jpeg" ContentType="image/jpeg"/>
  <Override PartName="/ppt/media/image10.png" ContentType="image/png"/>
  <Override PartName="/ppt/media/image19.png" ContentType="image/png"/>
  <Override PartName="/ppt/media/image18.wmf" ContentType="image/x-wmf"/>
  <Override PartName="/ppt/media/image20.wmf" ContentType="image/x-wmf"/>
  <Override PartName="/ppt/media/image4.png" ContentType="image/png"/>
  <Override PartName="/ppt/media/image17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  <p:sldId id="273" r:id="rId45"/>
    <p:sldId id="274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slide" Target="slides/slide18.xml"/><Relationship Id="rId46" Type="http://schemas.openxmlformats.org/officeDocument/2006/relationships/slide" Target="slides/slide19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dt" idx="7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 type="ftr" idx="7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6"/>
          <p:cNvSpPr>
            <a:spLocks noGrp="1"/>
          </p:cNvSpPr>
          <p:nvPr>
            <p:ph type="sldNum" idx="7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0165-59C7-4CCE-9697-ABCA5B65F2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9015-3F02-4FCC-80BA-CAEE632ABA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77B6-5129-4D96-B25B-E36741A9C9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2094-2A2A-46BF-9A5E-213FECA363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FF0B-476E-47CD-9D3F-0B5C33E3A3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0A28-6932-4D17-9A49-5E1FDD6AE8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B411-F546-4A1F-8127-79FEB24855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0C3F-ED92-4D8C-A1DF-031455D229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848C-6A9D-4DBF-9979-31A9291C5C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B7E1-7598-4851-ABB5-3A3D6A59DBF3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92E5-4874-48F9-B662-77F4730AFB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A646-E383-4E9B-8765-E3E90B1F77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194A-3F5C-4C1D-9A6B-F35E8737EC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E280-F045-4D7E-BF8C-238F7BEA26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5DC0-BD70-43C7-BD40-D1007E0E3E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F21B-2F14-4834-A168-21C6199604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C611-F50A-434B-9E86-8D1DF8368E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BAB2-41E7-4F33-BADE-24EF060618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3C28-BA71-4747-9C9C-F538CCD48F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DB15-0267-48A5-8733-7F98C58B6D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DC6C-636B-4ACD-AD06-420FDCFDD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776A-43BF-432B-8D4D-A4D7B910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9891B-9433-4E48-ABE0-FE7D5943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48E97-4E25-4E80-842E-B9400E16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CCFFF6-01E3-4421-8502-B6709E35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579CB-F1A7-4584-BFCC-56EB6194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43DC7-FE57-42F7-80EA-D4412DE8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FF56C-E9FD-4CA5-A418-32FC7D6F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7E36B-625B-4B08-B96A-3002111F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64561-3D41-4B68-BB79-FAB5BE498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035DB-C0F6-4202-AC60-A906B6667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AA68AD-6919-46CB-B4C6-48603BC99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4BD7-8506-4DD7-AFC6-EE583E4E9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ED8274-D34C-4FD8-887E-F9441A3E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7EFB3F-5221-49D8-9F3E-DF81DA53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20C094-B3CC-4BBD-96B4-C978DFB3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24CBE-7471-4A94-9D73-58ACC084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E5598E-FF65-4F06-A8E2-E636062F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AA436-994B-4B68-B0B3-D389BCE1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24B32-0417-42EA-BF41-20505F18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3629C-CFDB-4E67-B99B-2595D6B9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B1652-CDF4-466D-A73C-A64EA268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01FF91-FB49-4E7A-8CB4-8600E4F38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0A09-3B2A-4892-981E-8F871DEFE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662E5-0292-4474-BA20-63FED7DAD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9F3D0-569B-4731-925E-40E25923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03701D-ECEF-430C-BA85-EE6713B0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259EB-1BD1-4D82-94AA-310FC94C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1B01E-A78A-4F53-B04D-AF32006D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D698A-81EB-4511-8C4C-5CC69349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9668E-BEE4-4A7F-B202-AC83779A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E026C-8925-47C3-9F8C-2495B820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13738-B4DD-44C2-9857-6C6F4FA0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24A44-79CD-4C33-B8DE-3E500688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4BB6-6F70-4F4F-BD56-16A45C15F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B882F-DD0D-447C-B0B8-8FBA8DBA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C8158-FCB9-4C36-9F13-D9FFC65AF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DDFD0-A16A-4696-8182-B334B022D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CABBA0-DE38-49CD-8801-F2576702C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70F384-690D-4A21-88CA-CC46F0C7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214639-E057-43E4-9627-B51F83FB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FD60B5-453C-4576-99E7-C9ABA00B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69C285-701C-4551-BBCC-F52DEE59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DCB08B-84F5-4E72-B5CC-5D14BF31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F26F82-BEE5-459E-8939-16D37F51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191B-2AC3-484B-9FC0-3ACBFC13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E6BBA-9C25-4321-A979-8CC183BB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3B7B52-CBAB-47A9-B343-CF934DFB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3744A2-D025-4EDC-9703-6FF719DC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F1B9AC-C282-4CAB-8C27-FDFC66670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D44931-6366-4980-B98F-01AB2D54B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A2FA76-B091-4CB5-9567-D0AA2F828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3FEE00-D96D-4158-AD72-6CE13439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C988A1-7D3F-4A30-A49B-ED788C76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98CBA4-3F1A-4D21-B915-5EC50C60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2AFA42-ED44-4C34-A936-05D8E8A2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C341-B4C8-401C-9D8A-5179B914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EFFADB-4676-4DCB-8389-59931AED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1541AF-200D-4DB8-8A29-D15DEC56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D45E8F-8D8D-4B1B-9E6E-BA78E3AB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8F2F4D-C96B-4A3F-BBBA-B757FA76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32AF27-5C8C-44CB-BC6F-4419E472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51D44E-3BFF-4211-81A1-11B48267A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994BFF-E567-45FC-9196-60486B542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546684-24DB-4A78-8D08-5C031D4B6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8ACC68-23AE-4E21-8897-1C93B955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DD58C5-879F-48BC-A871-F566E3CA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4F89-318C-4CD2-A769-C41633B1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F4E59B-6263-47B1-A22D-5842C750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768600-4FF4-4BC4-8EDC-D464BCB2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450925-8E22-41EE-BE48-3B0D95AD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A5540A-6FB1-4C04-BC39-32A96C69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7E6251-2EED-42F2-AE41-40B7EE13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888961-276D-493D-A0BB-8C11B0D2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D8BDE8-1DB7-4E3D-8A36-44EE54A4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E48D01-3DE0-46E3-A4B4-96FAE1891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A36B7C-0664-470D-A60F-7195A1226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6C0780-1CA5-4E85-A217-2EC24B83C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9415-58CC-4BD2-9676-C21A620E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3DEA9B-77A2-4376-8BD8-DEDE6BA9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95FF24-BA4D-43EE-ACD5-8BB80555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C7F889-8952-4131-915A-3733F2F5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A57AD8-8429-4701-B089-86544A8E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492040-F5F7-4CD0-9820-D685B832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BB522B-879A-4B78-9515-CF8A9963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D4EADE-9928-424A-B949-2C9AE4F7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917C45-3C60-4E28-972D-A69BCC79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044D66-D53B-4B95-A30B-C9D49D35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0E3BF3-FDEC-4C83-9E36-5212E80A9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A8EE-551D-43EB-8F1D-486241A6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31E786-4FDF-4220-B177-91AAF3DB9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FBBB7B-36E1-4D45-9479-6BD503042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70BFEC-AD44-4149-906C-39DB96EF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BA650D-1AA4-4ED0-804A-6046711B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F6E25F-62DE-462B-A9EC-A9B5224A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6366E7-59FF-494E-B0AB-879B6C30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88AE92-1B56-4114-B28A-76222D21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644448-658F-4507-BFEC-C5112A8D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2432AA-B22B-4D4F-BD56-168B90FE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958BBD-7CFA-4D1C-A174-86E2FDAE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3C7A-3580-4D24-8F40-EA63686D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99A755-4BDB-4455-9669-B3614230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56F242-6614-4979-BCD6-3DB9E64C1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FDF176-E00B-465B-A132-D8814E8D2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01190C-C90B-4303-8BE3-5E906EBA6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2BBB24-0F16-4053-BC97-106F1968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886968-3A7F-481B-9414-89D8FA86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1025BE-C3BF-4EC6-996B-1ED3AD6E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90A576-A9E4-4CF1-8EAB-1623245E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E4CB6D-B147-4133-B6B5-07494A96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03E954-BD05-4ADC-BE15-1F99D2D9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E19E-FC2D-4ADD-9AC4-A2E9E544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6970-37C3-45F1-AEDD-7F220600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BB3EA2-A13D-4453-8AA5-B9DBDA55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F96946-80BD-4133-958B-0053C6C0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14DFEA-0BF3-4EF4-B801-200E6F02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859838-E4C2-4B57-97F4-6A52824C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50EC82-BD11-4138-8459-40A4E7D23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4887CB-A661-465C-A17E-01CE97599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577CCC-DE66-4E72-9304-B9558FFD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3146B8-E1B0-4D12-A946-B94EE209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0166B9-28AC-43F5-A56B-477A5B67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F79F4E-5C94-4D1B-8B57-1CB788CF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1B15-9B0E-4E4E-885C-EDA0B993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14CE94-D304-4BDF-A1D6-CAA79665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50EA7A-7E0D-4904-AA51-650FE4DF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889C48-78A8-44E5-A9CD-AB034064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6DCA1D-B89C-4643-87B0-31D94C13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A98BD8-2DE7-4402-981F-F52460B3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72F333-E30C-4679-B562-20FB6CEA3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54C920-ABE8-4543-A308-57D655A9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5CB54A-5FC1-48DD-A275-BBEBE1456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595B80-43DA-4A23-9FC2-8CEE277D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2F3DEF-A22C-4596-8935-3B720895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0866-87ED-4EDF-90B4-D921E557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53C846-7D9E-4F1E-A839-71E04D5C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652B02-4573-4FF8-9A93-559CBF9C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CBA10D-7E7F-4095-9310-5019114A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D4962B-1097-4DEF-B63B-EC06F8FF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BBB488-90C8-4D4C-B384-751D6AC3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BDC8B6-9B6A-4A41-A5A8-BFC18863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7CE6BC-713F-4594-ABC5-01EA501A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4BD9BB-88A6-4DC4-9E0E-6B55F9AC0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D7AA9A-BF11-4F29-81B8-6ED868E77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656FC6-35E0-48BA-8587-646DCB479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83C0-0A88-4E4C-B408-3FFBC6760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F9D2FF-7B1F-41C0-9598-A7726CC9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5FE126-6B5A-4A87-A311-55C7AD6D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4242D7-2357-466A-AEF0-D8693873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DC805E-03C4-4E0F-BAFE-6B922C40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C56273-351C-47FD-AD9E-6DB67B8B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5E1B56-055C-41EC-B68F-BE376B01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3EF495-96BC-483B-A023-EE412F4F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8617EE-C8F8-49AA-9BCF-86542EBD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CD9222-70CE-4BAD-A15C-3BA88123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4F6A08-460B-4EF7-B239-EEB7BB7B6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681B-6181-4FBC-BCBF-C22A62AAE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C75BED-E0BF-4D9D-B61F-B25F2DF39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E007F8-0F36-4DA7-A423-A2635D84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953273-2053-4188-8E55-22432D12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CE096F-7051-4D62-A70B-BB4B0C20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C14D21-F46A-471C-9895-3D8A7893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43C3B5-D3AB-4F8A-B395-16FB73F9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2A8004-91EC-46B1-A87B-69D4CB09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52271A-E7E2-433A-8916-DDAA6A64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6FF752-ADAF-41BA-9C10-6CC1B470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F2B1E1-2494-4049-8D8A-6A0314F2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44051-9CD9-44F3-8BBB-7FADCF8A3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091A53-B2CE-4739-8F5B-D3DD3C3F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ADA07F-E5E3-4162-92DF-80E5C8B2E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6DFE26-CB90-4DED-8749-28CD50417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FE28F0-27DC-4C21-996D-0F5DFC7F8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B1784F-0005-4994-873D-8B898EE3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AF8397-1AB6-4180-B773-F0BBF37C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147573-55B2-43B5-B8F8-657B818A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510C73-BBD8-40E2-8168-1CA43AF6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966969-F669-47F1-BB2A-690CEF70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C26AE1-DBF5-4596-87BA-EC930EF3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DECFC-BCFB-4E76-B7C5-DBB7A5DB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91A46E-8B19-4AF7-B19A-232D75C4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3A84D8-3407-46F8-9DB0-D8370A15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987D84-121F-4736-B900-202DF760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F80B29-4656-4FF5-A232-BCAA8158A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854E38-E8EB-462E-8457-1652BD3D9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82ADA9-DD1B-4FF8-8C37-821FC4820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C18703-BDA0-4B03-9D2A-94A1A9C0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389936-ADC0-4EDC-A455-03B882B6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97AAE7-6AF7-4574-BD6D-EA763BE9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FC01BD-F8FA-4A50-A010-F419601A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52DC0-5DA4-498F-9202-6A85527D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530175-7FA0-4033-860A-2340CDDF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06586D-92AD-4652-98C9-0A1AA2A6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EB78AD-9F77-4259-941B-C5424608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B36D9F-8DAB-4D18-916F-2DC0457B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BC7385-9DD0-4CA7-822E-02C50FAA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2D0F33-3B30-4E17-A8F0-63B6080B4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F91F7B-0072-47C2-86B5-9D8DF4EF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6E2D61-7CC9-456B-8BA8-1C9388F4E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226C3B-0BA2-40F6-B198-073A5310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B5BFCB-5048-463C-BF3B-FD3B9968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E14A6-25E4-481E-9914-4D6C3421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1E1144-086D-4173-9B0D-730BF30A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E56136-CFEA-4C7C-B099-71A47BD0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E47DF5-2170-45FA-B655-B1E6A46D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9007A3-1693-4A34-B5AD-5B6640EE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731F02-28A0-43C8-83DC-7AAC0668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E1FC3E-49CD-4844-8540-8E6B0198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CCA5D0-86F1-446B-9E18-905E7537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A442DD-1275-40CD-8128-FC846612D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744457-96EF-464F-93A2-2C16AD3DE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5AFABB1-A89D-4F69-A487-0069E6084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AB93E-4386-474D-B6F2-2322F6F4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DDCEA5-B1D6-4458-B5BE-F687E6E6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159953-2AAD-4FEA-A9DE-BC0A8402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3673F70-CC58-496A-B7DF-7E5B1FB0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1A19DA-3B5F-4718-9477-2A08334C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A397A0-47BF-4684-801B-6BD6C679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817368-2F3D-4604-BEA5-E77AE064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AB98ADD-88B8-424C-AE96-2A56E026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D3C6748-570D-42D3-B9BF-581B0FBF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0331EC-6BD7-47E9-83B7-A5ADF068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1A27354-02AE-4FFE-AA25-6706024CF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78C4-7E77-433B-BC50-09EF76B2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382F6-B9F4-415E-9234-56EA130E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0607DD-E532-49DA-8765-9A92B4C6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DCE19-FDFD-47AB-B958-593AF69A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01C4D-760B-405A-B877-8BF62819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CFFBB-089F-4E8E-8717-1942680A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619FB-CB5A-4B4D-91EE-DBBE5497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DA2F4-04EE-450C-A47E-48B61999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16933-6687-4015-BE68-275ACAB3E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F22E8-2E09-4BF5-AB28-C5B224E22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377BF-7E49-4B70-85DD-75DB2E3D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8909C-8275-4F47-8A2F-40DED6BF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AF44-DF00-4E5A-9B76-B41412AE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6D6E0-A2D9-4DA4-8E9A-3C593458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5A28F-72EE-47F1-B640-7C166079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3C3CE-199C-4C6F-B001-C94B5239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1A2B9-5693-46D6-93B1-6819EE00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47BD7-E545-4C74-95DC-5C976F76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C842F-D1B4-471A-869C-CC01C534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CFD36-FD4F-4585-B08A-4A12FBB7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48C12-8D4A-4630-856A-759B1EA8C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FD15C-53FC-4E60-A3BA-FE29EC28A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67AF1-3653-4FA2-9145-1AFB77F7E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A047-399D-48A1-BEA1-D043B345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0D4D8-A763-47C0-8E2E-A516D6C9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C7CBE-CC00-42A4-96C9-929C1715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B79F4-32C9-47B5-8416-B460940C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B8928-1C87-4CE4-8133-53A204E9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243AA-F4BF-4D66-B87A-3DBA411F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9C42E-6F56-4ADB-9871-A9D3EC80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6EFAD-EF21-4834-936A-E34E0106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27268-FD0B-4F9C-9CCD-6823F0BC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B49F0-7DC8-4A82-B3AF-4BB01E7D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4B079-80D8-4524-B795-A903E79D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2DCF-025B-4711-AB51-2F895DD1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3DE62-8C0E-4C4B-B841-157010009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A7EC9-98ED-47F6-B0DF-7BEDBDEE1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59D97-7DF6-4EF8-9EA4-2C119049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9604A-CB57-48A8-83BD-8406C966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FAE07-B10B-4232-A3CC-6CC635D7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BE066-8447-4426-A976-FDCF35A3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70D31-54A1-4462-BEF7-2F663F37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37764-2158-4741-ABFF-B32CB588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848C5-0E0F-475A-BEC6-D1FEDCF3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7CC86-8EA1-48F2-A95D-C1DB5AFF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C614-E23B-4330-8DE5-3544EF05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C2FAB-7A81-47AB-BC39-770FCDAD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1D0D9-37AD-47D6-B963-B9DF325BA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53FAB-A969-4A2A-AE4D-A167027E3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67B02-369F-4F2B-8933-474BF5469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4EBC3-85C7-48DA-907E-C21999BF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A9E45-6FFA-45F8-B397-D2A9DE2D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A3807-91AE-447B-B39B-F5D87803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4010C-8FD2-4154-8993-0487932E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49287-848D-4A9E-A029-4B39D3F1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B0D5B-05B9-4788-8FF5-69C6174B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61EF-228A-4194-8A77-960B67D0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50DDF-D603-41A6-B1E4-A76D8416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0197D-76F4-4C4E-B570-11179729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09BFB-1580-49DD-B66C-D8E7B9A7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92655-456A-4164-805B-DEA7A95F1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FB905-72E3-451B-A7E0-A1B404888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97D6C-9D57-4156-81E9-1224ACAD2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4FEF7-C369-4BE0-B893-EFB6B9D3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B9B3E-BC43-4C5E-910D-8DCEC4C6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D7606-1E3B-4693-8AE1-C899CF72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3A713-DFD7-4950-97BA-8C8C76FF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2C40-0BF0-4A02-B696-2162F8A3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54623-02FB-4472-8D3D-9447C1BF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E4EC8-5DCB-4C4B-842B-BE92BFE6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47E75-2D4D-4514-88B3-C72268B4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1D727-722E-4854-B6A6-52C4D671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F07A2-5445-4163-8107-BBAEAD1A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58604-A12E-4AA4-A5D1-35F3C5A87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EA3E5-7305-4903-9D24-064F1AD70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C5A7E-FAB7-4F2F-956E-DFCB2D202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597D3-5A81-4E81-89BD-CC662AF1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8C170-DA35-4307-9EC8-2827EE14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AA2A-B828-4CBA-B574-15184D9EAC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6288-D1BE-4D1A-BC0A-45E4F335DE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3FD9-DB25-4185-8338-788B50AC9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E091-F4C2-4F3F-84C5-199E93144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8D37-57D2-4EC0-B55A-23EE9BD8F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B49F-B085-4615-9972-A7BC26C14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7698-2AA8-40D8-92EF-0298F614B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2A13-FAA0-4844-9615-64B5157A2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C108-29C5-4A43-A93E-A4D279D2B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2C52-6DCD-4558-AD49-B2375FBC3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6809-AA68-4096-9CDB-85CF8821D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E365-39FB-43F4-BBE1-9951A7172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30C8-AFD9-4C01-BF82-F58BD157D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303C-819B-45D4-8792-163982FE2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560E-03C6-4129-8796-B0D3A5393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DEEF-4FA0-4FA2-856F-D77410DDD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1DD3-7C1A-4D9D-9C27-5615A5A65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E33B-E4CE-4AFB-9E6E-9FB587B5E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6946-0B7B-403F-9096-3B562ACC3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7E19-9B54-4FC2-BBED-CAB142E5E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9347-0D75-41FE-8C4A-97EAF2BB9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FEAA-508E-4E4F-BE35-86C970A5E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A00E-6956-467E-A6DE-B896B510A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B864-BBBD-420A-A8B0-36B9CE590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A5C5-58CC-4C61-BEB8-93EF44398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317D-1BC9-40CC-A747-C1D0E363D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9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69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279360" y="44193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ott Aaronson (UT Aust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int work with Xinyi Chen, Elad Hazan, Satyen Kale, and Ashwin Nay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Xiv:1802.09025 / NeurIPS 20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TextBox 3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Online Learning of Quantum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4" name="Picture 6" descr="MCj02909010000[1]"/>
          <p:cNvPicPr/>
          <p:nvPr/>
        </p:nvPicPr>
        <p:blipFill>
          <a:blip r:embed="rId1"/>
          <a:stretch/>
        </p:blipFill>
        <p:spPr>
          <a:xfrm>
            <a:off x="3809880" y="1447920"/>
            <a:ext cx="2165400" cy="1226880"/>
          </a:xfrm>
          <a:prstGeom prst="rect">
            <a:avLst/>
          </a:prstGeom>
          <a:ln w="0">
            <a:noFill/>
          </a:ln>
        </p:spPr>
      </p:pic>
      <p:sp>
        <p:nvSpPr>
          <p:cNvPr id="1035" name="Rectangle 12"/>
          <p:cNvSpPr/>
          <p:nvPr/>
        </p:nvSpPr>
        <p:spPr>
          <a:xfrm>
            <a:off x="3505320" y="1219320"/>
            <a:ext cx="19810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Oval 19"/>
          <p:cNvSpPr/>
          <p:nvPr/>
        </p:nvSpPr>
        <p:spPr>
          <a:xfrm>
            <a:off x="3576600" y="609480"/>
            <a:ext cx="2209680" cy="2219400"/>
          </a:xfrm>
          <a:prstGeom prst="ellipse">
            <a:avLst/>
          </a:prstGeom>
          <a:solidFill>
            <a:srgbClr val="00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ight Triangle 12"/>
          <p:cNvSpPr/>
          <p:nvPr/>
        </p:nvSpPr>
        <p:spPr>
          <a:xfrm>
            <a:off x="457200" y="0"/>
            <a:ext cx="7543800" cy="5657760"/>
          </a:xfrm>
          <a:prstGeom prst="rtTriangle">
            <a:avLst/>
          </a:prstGeom>
          <a:solidFill>
            <a:srgbClr val="ff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Flowchart: Connector 11"/>
          <p:cNvSpPr/>
          <p:nvPr/>
        </p:nvSpPr>
        <p:spPr>
          <a:xfrm>
            <a:off x="6362640" y="380880"/>
            <a:ext cx="2514600" cy="281952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0" name="Picture 23" descr=""/>
          <p:cNvPicPr/>
          <p:nvPr/>
        </p:nvPicPr>
        <p:blipFill>
          <a:blip r:embed="rId1"/>
          <a:stretch/>
        </p:blipFill>
        <p:spPr>
          <a:xfrm>
            <a:off x="563400" y="976320"/>
            <a:ext cx="1204920" cy="160020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24" descr=""/>
          <p:cNvPicPr/>
          <p:nvPr/>
        </p:nvPicPr>
        <p:blipFill>
          <a:blip r:embed="rId2"/>
          <a:stretch/>
        </p:blipFill>
        <p:spPr>
          <a:xfrm>
            <a:off x="3962520" y="1065240"/>
            <a:ext cx="1438200" cy="132876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3" descr=""/>
          <p:cNvPicPr/>
          <p:nvPr/>
        </p:nvPicPr>
        <p:blipFill>
          <a:blip r:embed="rId3"/>
          <a:stretch/>
        </p:blipFill>
        <p:spPr>
          <a:xfrm>
            <a:off x="6705720" y="930240"/>
            <a:ext cx="1828800" cy="164628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2" descr="Image result for xinyi chen princeton"/>
          <p:cNvPicPr/>
          <p:nvPr/>
        </p:nvPicPr>
        <p:blipFill>
          <a:blip r:embed="rId4"/>
          <a:stretch/>
        </p:blipFill>
        <p:spPr>
          <a:xfrm>
            <a:off x="609480" y="4191120"/>
            <a:ext cx="1473480" cy="143964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Image result for satyen kale"/>
          <p:cNvPicPr/>
          <p:nvPr/>
        </p:nvPicPr>
        <p:blipFill>
          <a:blip r:embed="rId5"/>
          <a:stretch/>
        </p:blipFill>
        <p:spPr>
          <a:xfrm>
            <a:off x="3048120" y="4191120"/>
            <a:ext cx="1439640" cy="1439640"/>
          </a:xfrm>
          <a:prstGeom prst="rect">
            <a:avLst/>
          </a:prstGeom>
          <a:ln w="0">
            <a:noFill/>
          </a:ln>
        </p:spPr>
      </p:pic>
      <p:cxnSp>
        <p:nvCxnSpPr>
          <p:cNvPr id="1135" name="Straight Arrow Connector 2"/>
          <p:cNvCxnSpPr>
            <a:stCxn id="1130" idx="3"/>
            <a:endCxn id="1131" idx="1"/>
          </p:cNvCxnSpPr>
          <p:nvPr/>
        </p:nvCxnSpPr>
        <p:spPr>
          <a:xfrm flipV="1">
            <a:off x="1767960" y="1728360"/>
            <a:ext cx="2194920" cy="482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</p:cxnSp>
      <p:cxnSp>
        <p:nvCxnSpPr>
          <p:cNvPr id="1136" name="Straight Arrow Connector 13"/>
          <p:cNvCxnSpPr>
            <a:endCxn id="1132" idx="1"/>
          </p:cNvCxnSpPr>
          <p:nvPr/>
        </p:nvCxnSpPr>
        <p:spPr>
          <a:xfrm>
            <a:off x="5400360" y="1753920"/>
            <a:ext cx="13057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</p:cxnSp>
      <p:cxnSp>
        <p:nvCxnSpPr>
          <p:cNvPr id="1137" name="Straight Arrow Connector 15"/>
          <p:cNvCxnSpPr/>
          <p:nvPr/>
        </p:nvCxnSpPr>
        <p:spPr>
          <a:xfrm>
            <a:off x="1337760" y="2598480"/>
            <a:ext cx="1080" cy="15930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</p:cxnSp>
      <p:cxnSp>
        <p:nvCxnSpPr>
          <p:cNvPr id="1138" name="Straight Arrow Connector 17"/>
          <p:cNvCxnSpPr/>
          <p:nvPr/>
        </p:nvCxnSpPr>
        <p:spPr>
          <a:xfrm>
            <a:off x="1767960" y="2576160"/>
            <a:ext cx="1280520" cy="15930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</p:cxnSp>
      <p:sp>
        <p:nvSpPr>
          <p:cNvPr id="1139" name="TextBox 20"/>
          <p:cNvSpPr/>
          <p:nvPr/>
        </p:nvSpPr>
        <p:spPr>
          <a:xfrm>
            <a:off x="6629400" y="3200400"/>
            <a:ext cx="2133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equential fat-shattering dimen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Box 29"/>
          <p:cNvSpPr/>
          <p:nvPr/>
        </p:nvSpPr>
        <p:spPr>
          <a:xfrm>
            <a:off x="990720" y="5715000"/>
            <a:ext cx="4876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Online Convex Optimization / Matrix Multiplicative Weigh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30"/>
          <p:cNvSpPr/>
          <p:nvPr/>
        </p:nvSpPr>
        <p:spPr>
          <a:xfrm>
            <a:off x="2760840" y="2786040"/>
            <a:ext cx="360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ostselected lear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Text Box 2"/>
          <p:cNvSpPr/>
          <p:nvPr/>
        </p:nvSpPr>
        <p:spPr>
          <a:xfrm>
            <a:off x="343080" y="53352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orem 1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re’s an explicit strategy, for online learning of an n-qubit quantum state, that’s wrong by &gt;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t most O(n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times (and this is tigh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2"/>
          <p:cNvSpPr/>
          <p:nvPr/>
        </p:nvSpPr>
        <p:spPr>
          <a:xfrm>
            <a:off x="343080" y="251460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orem 2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ven if the data the adversary gives you isn’t consistent wit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n-qubit quantum state, there’s still an explicit strategy such that your total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gr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fter T iterations, is at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4" name="Object 1"/>
          <p:cNvGraphicFramePr/>
          <p:nvPr/>
        </p:nvGraphicFramePr>
        <p:xfrm>
          <a:off x="3657600" y="3900600"/>
          <a:ext cx="1577880" cy="86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3900600"/>
                    <a:ext cx="157788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6" name="Text Box 2"/>
          <p:cNvSpPr/>
          <p:nvPr/>
        </p:nvSpPr>
        <p:spPr>
          <a:xfrm>
            <a:off x="352440" y="4952880"/>
            <a:ext cx="845820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gret = (Your total error) – (Total error if you’d started with the best hypothesis state from the very begin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rror can be either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r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Box 4"/>
          <p:cNvSpPr/>
          <p:nvPr/>
        </p:nvSpPr>
        <p:spPr>
          <a:xfrm>
            <a:off x="6095880" y="3948120"/>
            <a:ext cx="2397240" cy="92628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ght for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possibly not for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8" name="Straight Arrow Connector 13"/>
          <p:cNvCxnSpPr/>
          <p:nvPr/>
        </p:nvCxnSpPr>
        <p:spPr>
          <a:xfrm flipH="1">
            <a:off x="5257440" y="4330440"/>
            <a:ext cx="83880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Text Box 2"/>
          <p:cNvSpPr/>
          <p:nvPr/>
        </p:nvSpPr>
        <p:spPr>
          <a:xfrm>
            <a:off x="228600" y="223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My Way: Postselected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 Box 700"/>
          <p:cNvSpPr/>
          <p:nvPr/>
        </p:nvSpPr>
        <p:spPr>
          <a:xfrm>
            <a:off x="228600" y="3200400"/>
            <a:ext cx="876312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n the beginning, the learner knows nothing abou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, so he guesses it’s th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maximally mixed stat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= I/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Each time the learner encounters a measurement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on which his current hypothesi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-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badly fails, he tries to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improv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—by letting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be the state obtained by starting from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-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, then performing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postselectin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on getting the right outc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mplification + Gentle Measurement Lemma are used to bound the damage caused by these measu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Cloud Callout 5"/>
          <p:cNvSpPr/>
          <p:nvPr/>
        </p:nvSpPr>
        <p:spPr>
          <a:xfrm>
            <a:off x="4402080" y="1143000"/>
            <a:ext cx="3429000" cy="1600200"/>
          </a:xfrm>
          <a:prstGeom prst="cloudCallout">
            <a:avLst>
              <a:gd name="adj1" fmla="val -74495"/>
              <a:gd name="adj2" fmla="val -251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2" name="Picture 6" descr=""/>
          <p:cNvPicPr/>
          <p:nvPr/>
        </p:nvPicPr>
        <p:blipFill>
          <a:blip r:embed="rId1"/>
          <a:stretch/>
        </p:blipFill>
        <p:spPr>
          <a:xfrm>
            <a:off x="1811160" y="1295280"/>
            <a:ext cx="1676520" cy="1654200"/>
          </a:xfrm>
          <a:prstGeom prst="rect">
            <a:avLst/>
          </a:prstGeom>
          <a:ln w="0">
            <a:noFill/>
          </a:ln>
        </p:spPr>
      </p:pic>
      <p:sp>
        <p:nvSpPr>
          <p:cNvPr id="1153" name="Rectangle 12"/>
          <p:cNvSpPr/>
          <p:nvPr/>
        </p:nvSpPr>
        <p:spPr>
          <a:xfrm>
            <a:off x="5011560" y="1066680"/>
            <a:ext cx="22100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  <a:ea typeface="Arial"/>
              </a:rPr>
              <a:t>I/2</a:t>
            </a:r>
            <a:r>
              <a:rPr b="0" lang="en-US" sz="10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ectangle 12"/>
          <p:cNvSpPr/>
          <p:nvPr/>
        </p:nvSpPr>
        <p:spPr>
          <a:xfrm>
            <a:off x="5126040" y="762120"/>
            <a:ext cx="19810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Rectangle 12"/>
          <p:cNvSpPr/>
          <p:nvPr/>
        </p:nvSpPr>
        <p:spPr>
          <a:xfrm>
            <a:off x="5146560" y="727200"/>
            <a:ext cx="19814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12"/>
          <p:cNvSpPr/>
          <p:nvPr/>
        </p:nvSpPr>
        <p:spPr>
          <a:xfrm>
            <a:off x="5146560" y="727200"/>
            <a:ext cx="19814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Text Box 700"/>
          <p:cNvSpPr/>
          <p:nvPr/>
        </p:nvSpPr>
        <p:spPr>
          <a:xfrm>
            <a:off x="152280" y="380880"/>
            <a:ext cx="883944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Le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= const for simplic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  <a:ea typeface="Arial"/>
              </a:rPr>
              <a:t>Crucial Clai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The iterative learning procedure must converge to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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log(n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, after at most T=O(n log(n)) serious mistak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  <a:ea typeface="Arial"/>
              </a:rPr>
              <a:t>Proof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Let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= Pr[first t postselections all succeed].  Th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8" name="Object 3"/>
              <p:cNvSpPr txBox="1"/>
              <p:nvPr/>
            </p:nvSpPr>
            <p:spPr>
              <a:xfrm>
                <a:off x="1066680" y="2651040"/>
                <a:ext cx="350532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≤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≤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cxnSp>
        <p:nvCxnSpPr>
          <p:cNvPr id="1159" name="Straight Arrow Connector 14"/>
          <p:cNvCxnSpPr/>
          <p:nvPr/>
        </p:nvCxnSpPr>
        <p:spPr>
          <a:xfrm flipH="1" flipV="1">
            <a:off x="2208960" y="3895200"/>
            <a:ext cx="229320" cy="4579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</p:cxnSp>
      <p:graphicFrame>
        <p:nvGraphicFramePr>
          <p:cNvPr id="1160" name="Object 3"/>
          <p:cNvGraphicFramePr/>
          <p:nvPr/>
        </p:nvGraphicFramePr>
        <p:xfrm>
          <a:off x="797040" y="4334040"/>
          <a:ext cx="6362640" cy="125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040" y="4334040"/>
                    <a:ext cx="6362640" cy="12506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cxnSp>
        <p:nvCxnSpPr>
          <p:cNvPr id="1162" name="Straight Arrow Connector 20"/>
          <p:cNvCxnSpPr/>
          <p:nvPr/>
        </p:nvCxnSpPr>
        <p:spPr>
          <a:xfrm flipH="1">
            <a:off x="4647600" y="3438000"/>
            <a:ext cx="6865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</p:cxnSp>
      <p:sp>
        <p:nvSpPr>
          <p:cNvPr id="1163" name="Text Box 700"/>
          <p:cNvSpPr/>
          <p:nvPr/>
        </p:nvSpPr>
        <p:spPr>
          <a:xfrm>
            <a:off x="5334120" y="2676600"/>
            <a:ext cx="3124080" cy="1391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f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wasn’t less than, say, (2/3)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-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, learning would’ve ended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24"/>
          <p:cNvSpPr/>
          <p:nvPr/>
        </p:nvSpPr>
        <p:spPr>
          <a:xfrm>
            <a:off x="1295280" y="6019920"/>
            <a:ext cx="7162920" cy="5814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olving, we find that t = O(n log(n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Text Box 2"/>
          <p:cNvSpPr/>
          <p:nvPr/>
        </p:nvSpPr>
        <p:spPr>
          <a:xfrm>
            <a:off x="228600" y="23328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Ashwin’s Way: Sequential Fat-Shattering Dime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2"/>
          <p:cNvSpPr/>
          <p:nvPr/>
        </p:nvSpPr>
        <p:spPr>
          <a:xfrm>
            <a:off x="263520" y="1828800"/>
            <a:ext cx="8458200" cy="28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New generalization of Ashwin’s random access codes lower bound from 1999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You can store at most m=O(n) bits x=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in an n-qubit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in such a way that any one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f your choice can later be read out w.h.p. by measuri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ven if the measurement basis is allowed to depend on 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-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 Box 2"/>
          <p:cNvSpPr/>
          <p:nvPr/>
        </p:nvSpPr>
        <p:spPr>
          <a:xfrm>
            <a:off x="307800" y="4724280"/>
            <a:ext cx="86076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mplies an O(n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upper bound for the “online / sequential” version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fat-shatter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mbined with a general result of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  <a:ea typeface="Arial"/>
              </a:rPr>
              <a:t>[Rakhlin et al. 2015]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utomatically implies online learning alg + regret b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Text Box 2"/>
          <p:cNvSpPr/>
          <p:nvPr/>
        </p:nvSpPr>
        <p:spPr>
          <a:xfrm>
            <a:off x="228600" y="23328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Elad, Xinyi, Satyen’s Way:</a:t>
            </a:r>
            <a:br>
              <a:rPr sz="4400"/>
            </a:b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nline Convex 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9" name="Picture 2" descr="C:\Users\Scott\AppData\Local\Microsoft\Windows\INetCache\IE\4W3MHCY4\Hammer[1].png"/>
          <p:cNvPicPr/>
          <p:nvPr/>
        </p:nvPicPr>
        <p:blipFill>
          <a:blip r:embed="rId1"/>
          <a:stretch/>
        </p:blipFill>
        <p:spPr>
          <a:xfrm>
            <a:off x="4876920" y="1554120"/>
            <a:ext cx="3863880" cy="3733920"/>
          </a:xfrm>
          <a:prstGeom prst="rect">
            <a:avLst/>
          </a:prstGeom>
          <a:ln w="0">
            <a:noFill/>
          </a:ln>
        </p:spPr>
      </p:pic>
      <p:sp>
        <p:nvSpPr>
          <p:cNvPr id="1170" name="Text Box 2"/>
          <p:cNvSpPr/>
          <p:nvPr/>
        </p:nvSpPr>
        <p:spPr>
          <a:xfrm>
            <a:off x="347760" y="1828800"/>
            <a:ext cx="4699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gularized Follow-the-Leader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  <a:ea typeface="Arial"/>
              </a:rPr>
              <a:t>[Hazan 201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radient descent using von Neumann entr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 Box 2"/>
          <p:cNvSpPr/>
          <p:nvPr/>
        </p:nvSpPr>
        <p:spPr>
          <a:xfrm>
            <a:off x="322200" y="4114800"/>
            <a:ext cx="469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atrix Multiplicative Weights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  <a:ea typeface="Arial"/>
              </a:rPr>
              <a:t>[Arora and Kale 201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 Box 2"/>
          <p:cNvSpPr/>
          <p:nvPr/>
        </p:nvSpPr>
        <p:spPr>
          <a:xfrm>
            <a:off x="343080" y="5257800"/>
            <a:ext cx="5600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echnical work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eneralize power tools that already existed for real matrices to complex Hermitian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ext Box 2"/>
          <p:cNvSpPr/>
          <p:nvPr/>
        </p:nvSpPr>
        <p:spPr>
          <a:xfrm>
            <a:off x="5943600" y="5303880"/>
            <a:ext cx="2895480" cy="13737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Yields optimal mistake bou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regret b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Text Box 2"/>
          <p:cNvSpPr/>
          <p:nvPr/>
        </p:nvSpPr>
        <p:spPr>
          <a:xfrm>
            <a:off x="304920" y="1522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Application: Shadow Tom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Text Box 2"/>
          <p:cNvSpPr/>
          <p:nvPr/>
        </p:nvSpPr>
        <p:spPr>
          <a:xfrm>
            <a:off x="357120" y="1011240"/>
            <a:ext cx="845820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 Task (A. 2016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L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be an unknown D-dimensional mixed state.  Let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be known 2-outcome POVMs.  Estimate Pr[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ccept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] to with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or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[M]—the “shadows” tha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asts on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—with high probability, by measuring as few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6" name="Object 1"/>
          <p:cNvGraphicFramePr/>
          <p:nvPr/>
        </p:nvGraphicFramePr>
        <p:xfrm>
          <a:off x="2743200" y="5572080"/>
          <a:ext cx="4842000" cy="12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5572080"/>
                    <a:ext cx="484200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8" name="Text Box 2"/>
          <p:cNvSpPr/>
          <p:nvPr/>
        </p:nvSpPr>
        <p:spPr>
          <a:xfrm>
            <a:off x="357120" y="3429000"/>
            <a:ext cx="8458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learly k=O(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copies suffice (do ordinary tomograph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learly k=O(M) suffice (apply each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separate cop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t what if we wanted to know, e.g., the behavior of an n-qubit state on all accept/reject circuits with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gates?  Could we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TextBox 3"/>
          <p:cNvSpPr/>
          <p:nvPr/>
        </p:nvSpPr>
        <p:spPr>
          <a:xfrm>
            <a:off x="3430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orem (A., STOC’2018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t’s possible to do Shadow Tomography using on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p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0" name="Object 1"/>
          <p:cNvGraphicFramePr/>
          <p:nvPr/>
        </p:nvGraphicFramePr>
        <p:xfrm>
          <a:off x="4114800" y="934920"/>
          <a:ext cx="3160800" cy="12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934920"/>
                    <a:ext cx="316080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2" name="TextBox 3"/>
          <p:cNvSpPr/>
          <p:nvPr/>
        </p:nvSpPr>
        <p:spPr>
          <a:xfrm>
            <a:off x="343080" y="2362320"/>
            <a:ext cx="8572320" cy="45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roof (in retrospect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Just combine two ingredien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“Quantum OR Bound”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  <a:ea typeface="Arial"/>
              </a:rPr>
              <a:t>[A. 2006, corrected by Harrow-Montanaro-Lin 2017]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to repeatedly search for a measurement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uch that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i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fa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rom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, without much damaging th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’s.  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s our current hypothesis stat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(initially,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= maximally mix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ur online learning theorem, to upper-bound the number of updates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until we converge on a hypothesis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.t.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for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[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Text Box 2"/>
          <p:cNvSpPr/>
          <p:nvPr/>
        </p:nvSpPr>
        <p:spPr>
          <a:xfrm>
            <a:off x="228600" y="233280"/>
            <a:ext cx="86868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New Shadow Tomography Protocol!</a:t>
            </a:r>
            <a:br>
              <a:rPr sz="2800"/>
            </a:br>
            <a:r>
              <a:rPr b="1" lang="en-US" sz="2800" spc="-1" strike="noStrike">
                <a:solidFill>
                  <a:srgbClr val="006600"/>
                </a:solidFill>
                <a:latin typeface="Calibri"/>
                <a:ea typeface="Arial"/>
              </a:rPr>
              <a:t>[A.-Rothblum 2019, coming any day to an arXiv near you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2"/>
          <p:cNvSpPr/>
          <p:nvPr/>
        </p:nvSpPr>
        <p:spPr>
          <a:xfrm>
            <a:off x="343080" y="16002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xploits a new connection that Guy and I discovered between gentle measurement of quantum states, an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differential privac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(an area of classical 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 Box 2"/>
          <p:cNvSpPr/>
          <p:nvPr/>
        </p:nvSpPr>
        <p:spPr>
          <a:xfrm>
            <a:off x="352440" y="32004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ased on the “Private Multiplicative Weights” algorithm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  <a:ea typeface="Arial"/>
              </a:rPr>
              <a:t>[Hardt-Rothblum 201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6" name="Object 1"/>
          <p:cNvGraphicFramePr/>
          <p:nvPr/>
        </p:nvGraphicFramePr>
        <p:xfrm>
          <a:off x="4572000" y="3857760"/>
          <a:ext cx="3327480" cy="127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857760"/>
                    <a:ext cx="3327480" cy="12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8" name="Text Box 2"/>
          <p:cNvSpPr/>
          <p:nvPr/>
        </p:nvSpPr>
        <p:spPr>
          <a:xfrm>
            <a:off x="352440" y="4495680"/>
            <a:ext cx="879156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ses this many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ile also being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onli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gentl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(properties we didn’t have bef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2"/>
          <p:cNvSpPr/>
          <p:nvPr/>
        </p:nvSpPr>
        <p:spPr>
          <a:xfrm>
            <a:off x="343080" y="5867280"/>
            <a:ext cx="863892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xplicitly uses online learning theorem as a key ingred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Text Box 2"/>
          <p:cNvSpPr/>
          <p:nvPr/>
        </p:nvSpPr>
        <p:spPr>
          <a:xfrm>
            <a:off x="228600" y="233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 Box 2"/>
          <p:cNvSpPr/>
          <p:nvPr/>
        </p:nvSpPr>
        <p:spPr>
          <a:xfrm>
            <a:off x="343080" y="1335240"/>
            <a:ext cx="8458200" cy="33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eneralize to k-outcome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ptimal regret for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at special cases of online learning of quantum states can be done with only poly(n) compu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at’s the true sample complexity of shadow tomograp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Text Box 3"/>
          <p:cNvSpPr/>
          <p:nvPr/>
        </p:nvSpPr>
        <p:spPr>
          <a:xfrm>
            <a:off x="1179360" y="392040"/>
            <a:ext cx="6993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n n-qubit pure state requires 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  <a:ea typeface="Arial"/>
              </a:rPr>
              <a:t>2</a:t>
            </a:r>
            <a:r>
              <a:rPr b="1" lang="en-US" sz="4000" spc="-1" strike="noStrike" baseline="30000">
                <a:solidFill>
                  <a:srgbClr val="008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omplex numbers to specify, even approximate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7" name="Object 2"/>
              <p:cNvSpPr txBox="1"/>
              <p:nvPr/>
            </p:nvSpPr>
            <p:spPr>
              <a:xfrm>
                <a:off x="2089080" y="1905120"/>
                <a:ext cx="5143680" cy="19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r>
                      <m:t xml:space="preserve">⟩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38" name="Text Box 3"/>
          <p:cNvSpPr/>
          <p:nvPr/>
        </p:nvSpPr>
        <p:spPr>
          <a:xfrm>
            <a:off x="304920" y="3962520"/>
            <a:ext cx="853416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Yet measuring yields at most n bits (Holevo’s Theor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o should we say that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omplex numbers are “really there” in a single copy of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—or “just in our heads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 probability distribution over n-bit strings also involves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real numbers.  But probabilities don’t interfe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9" name="Group 4"/>
          <p:cNvGrpSpPr/>
          <p:nvPr/>
        </p:nvGrpSpPr>
        <p:grpSpPr>
          <a:xfrm>
            <a:off x="8048160" y="547200"/>
            <a:ext cx="909720" cy="1142640"/>
            <a:chOff x="8048160" y="547200"/>
            <a:chExt cx="909720" cy="1142640"/>
          </a:xfrm>
        </p:grpSpPr>
        <p:sp>
          <p:nvSpPr>
            <p:cNvPr id="1040" name="Line 5"/>
            <p:cNvSpPr/>
            <p:nvPr/>
          </p:nvSpPr>
          <p:spPr>
            <a:xfrm flipH="1" flipV="1">
              <a:off x="8282880" y="572040"/>
              <a:ext cx="476640" cy="111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1" name="Picture 6" descr="MCED00214_0000[1]"/>
            <p:cNvPicPr/>
            <p:nvPr/>
          </p:nvPicPr>
          <p:blipFill>
            <a:blip r:embed="rId1"/>
            <a:stretch/>
          </p:blipFill>
          <p:spPr>
            <a:xfrm flipH="1">
              <a:off x="8048160" y="572400"/>
              <a:ext cx="909720" cy="90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2" name="AutoShape 7"/>
            <p:cNvSpPr/>
            <p:nvPr/>
          </p:nvSpPr>
          <p:spPr>
            <a:xfrm flipH="1" flipV="1" rot="16200000">
              <a:off x="8416080" y="1071360"/>
              <a:ext cx="15732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50" y="3068"/>
                    <a:pt x="17100" y="5080"/>
                    <a:pt x="17100" y="10800"/>
                  </a:cubicBezTo>
                  <a:cubicBezTo>
                    <a:pt x="17100" y="16520"/>
                    <a:pt x="19350" y="1853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3" name="Group 8"/>
            <p:cNvGrpSpPr/>
            <p:nvPr/>
          </p:nvGrpSpPr>
          <p:grpSpPr>
            <a:xfrm>
              <a:off x="8525880" y="826560"/>
              <a:ext cx="345240" cy="213480"/>
              <a:chOff x="8525880" y="826560"/>
              <a:chExt cx="345240" cy="213480"/>
            </a:xfrm>
          </p:grpSpPr>
          <p:sp>
            <p:nvSpPr>
              <p:cNvPr id="1044" name="Freeform 9"/>
              <p:cNvSpPr/>
              <p:nvPr/>
            </p:nvSpPr>
            <p:spPr>
              <a:xfrm flipH="1">
                <a:off x="8525520" y="826560"/>
                <a:ext cx="345240" cy="213480"/>
              </a:xfrm>
              <a:custGeom>
                <a:avLst/>
                <a:gdLst>
                  <a:gd name="textAreaLeft" fmla="*/ -360 w 345240"/>
                  <a:gd name="textAreaRight" fmla="*/ 345240 w 345240"/>
                  <a:gd name="textAreaTop" fmla="*/ 0 h 213480"/>
                  <a:gd name="textAreaBottom" fmla="*/ 213840 h 2134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10"/>
              <p:cNvSpPr/>
              <p:nvPr/>
            </p:nvSpPr>
            <p:spPr>
              <a:xfrm flipH="1">
                <a:off x="8552520" y="850320"/>
                <a:ext cx="292320" cy="166320"/>
              </a:xfrm>
              <a:custGeom>
                <a:avLst/>
                <a:gdLst>
                  <a:gd name="textAreaLeft" fmla="*/ 360 w 292320"/>
                  <a:gd name="textAreaRight" fmla="*/ 293040 w 292320"/>
                  <a:gd name="textAreaTop" fmla="*/ 0 h 166320"/>
                  <a:gd name="textAreaBottom" fmla="*/ 166320 h 16632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11"/>
              <p:cNvSpPr/>
              <p:nvPr/>
            </p:nvSpPr>
            <p:spPr>
              <a:xfrm flipH="1">
                <a:off x="8630640" y="863640"/>
                <a:ext cx="141120" cy="140760"/>
              </a:xfrm>
              <a:custGeom>
                <a:avLst/>
                <a:gdLst>
                  <a:gd name="textAreaLeft" fmla="*/ 360 w 141120"/>
                  <a:gd name="textAreaRight" fmla="*/ 141840 w 14112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12"/>
              <p:cNvSpPr/>
              <p:nvPr/>
            </p:nvSpPr>
            <p:spPr>
              <a:xfrm flipH="1">
                <a:off x="8667360" y="905040"/>
                <a:ext cx="23040" cy="23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Group 13"/>
            <p:cNvGrpSpPr/>
            <p:nvPr/>
          </p:nvGrpSpPr>
          <p:grpSpPr>
            <a:xfrm>
              <a:off x="8102520" y="826560"/>
              <a:ext cx="345240" cy="213480"/>
              <a:chOff x="8102520" y="826560"/>
              <a:chExt cx="345240" cy="213480"/>
            </a:xfrm>
          </p:grpSpPr>
          <p:sp>
            <p:nvSpPr>
              <p:cNvPr id="1049" name="Freeform 14"/>
              <p:cNvSpPr/>
              <p:nvPr/>
            </p:nvSpPr>
            <p:spPr>
              <a:xfrm flipH="1">
                <a:off x="8102160" y="826560"/>
                <a:ext cx="345240" cy="213480"/>
              </a:xfrm>
              <a:custGeom>
                <a:avLst/>
                <a:gdLst>
                  <a:gd name="textAreaLeft" fmla="*/ -360 w 345240"/>
                  <a:gd name="textAreaRight" fmla="*/ 345240 w 345240"/>
                  <a:gd name="textAreaTop" fmla="*/ 0 h 213480"/>
                  <a:gd name="textAreaBottom" fmla="*/ 213840 h 2134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15"/>
              <p:cNvSpPr/>
              <p:nvPr/>
            </p:nvSpPr>
            <p:spPr>
              <a:xfrm flipH="1">
                <a:off x="8129160" y="850320"/>
                <a:ext cx="292320" cy="166320"/>
              </a:xfrm>
              <a:custGeom>
                <a:avLst/>
                <a:gdLst>
                  <a:gd name="textAreaLeft" fmla="*/ 360 w 292320"/>
                  <a:gd name="textAreaRight" fmla="*/ 293040 w 292320"/>
                  <a:gd name="textAreaTop" fmla="*/ 0 h 166320"/>
                  <a:gd name="textAreaBottom" fmla="*/ 166320 h 16632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16"/>
              <p:cNvSpPr/>
              <p:nvPr/>
            </p:nvSpPr>
            <p:spPr>
              <a:xfrm flipH="1">
                <a:off x="8207280" y="863640"/>
                <a:ext cx="141120" cy="140760"/>
              </a:xfrm>
              <a:custGeom>
                <a:avLst/>
                <a:gdLst>
                  <a:gd name="textAreaLeft" fmla="*/ 360 w 141120"/>
                  <a:gd name="textAreaRight" fmla="*/ 141840 w 14112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17"/>
              <p:cNvSpPr/>
              <p:nvPr/>
            </p:nvSpPr>
            <p:spPr>
              <a:xfrm flipH="1">
                <a:off x="8244000" y="905040"/>
                <a:ext cx="23040" cy="23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3" name="Line 18"/>
            <p:cNvSpPr/>
            <p:nvPr/>
          </p:nvSpPr>
          <p:spPr>
            <a:xfrm flipH="1" flipV="1">
              <a:off x="8261640" y="547200"/>
              <a:ext cx="248760" cy="55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4" name="Group 19"/>
          <p:cNvGrpSpPr/>
          <p:nvPr/>
        </p:nvGrpSpPr>
        <p:grpSpPr>
          <a:xfrm>
            <a:off x="235080" y="579240"/>
            <a:ext cx="955440" cy="1218600"/>
            <a:chOff x="235080" y="579240"/>
            <a:chExt cx="955440" cy="1218600"/>
          </a:xfrm>
        </p:grpSpPr>
        <p:sp>
          <p:nvSpPr>
            <p:cNvPr id="1055" name="Line 20"/>
            <p:cNvSpPr/>
            <p:nvPr/>
          </p:nvSpPr>
          <p:spPr>
            <a:xfrm flipV="1">
              <a:off x="446400" y="605880"/>
              <a:ext cx="508320" cy="119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6" name="Picture 21" descr="MCDD01775_0000[1]"/>
            <p:cNvPicPr/>
            <p:nvPr/>
          </p:nvPicPr>
          <p:blipFill>
            <a:blip r:embed="rId2"/>
            <a:stretch/>
          </p:blipFill>
          <p:spPr>
            <a:xfrm>
              <a:off x="235080" y="606240"/>
              <a:ext cx="95544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7" name="AutoShape 22"/>
            <p:cNvSpPr/>
            <p:nvPr/>
          </p:nvSpPr>
          <p:spPr>
            <a:xfrm flipV="1" rot="5400000">
              <a:off x="621000" y="1145520"/>
              <a:ext cx="181080" cy="39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95" y="3084"/>
                    <a:pt x="17189" y="5080"/>
                    <a:pt x="17189" y="10800"/>
                  </a:cubicBezTo>
                  <a:cubicBezTo>
                    <a:pt x="17189" y="16520"/>
                    <a:pt x="19395" y="1851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8" name="Group 23"/>
            <p:cNvGrpSpPr/>
            <p:nvPr/>
          </p:nvGrpSpPr>
          <p:grpSpPr>
            <a:xfrm>
              <a:off x="313200" y="767520"/>
              <a:ext cx="399240" cy="310320"/>
              <a:chOff x="313200" y="767520"/>
              <a:chExt cx="399240" cy="310320"/>
            </a:xfrm>
          </p:grpSpPr>
          <p:sp>
            <p:nvSpPr>
              <p:cNvPr id="1059" name="Freeform 24"/>
              <p:cNvSpPr/>
              <p:nvPr/>
            </p:nvSpPr>
            <p:spPr>
              <a:xfrm>
                <a:off x="325800" y="852480"/>
                <a:ext cx="369360" cy="22536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25"/>
              <p:cNvSpPr/>
              <p:nvPr/>
            </p:nvSpPr>
            <p:spPr>
              <a:xfrm>
                <a:off x="353880" y="877320"/>
                <a:ext cx="313200" cy="176040"/>
              </a:xfrm>
              <a:custGeom>
                <a:avLst/>
                <a:gdLst>
                  <a:gd name="textAreaLeft" fmla="*/ 0 w 313200"/>
                  <a:gd name="textAreaRight" fmla="*/ 313200 w 31320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26"/>
              <p:cNvSpPr/>
              <p:nvPr/>
            </p:nvSpPr>
            <p:spPr>
              <a:xfrm>
                <a:off x="432360" y="891000"/>
                <a:ext cx="150840" cy="1490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27"/>
              <p:cNvSpPr/>
              <p:nvPr/>
            </p:nvSpPr>
            <p:spPr>
              <a:xfrm>
                <a:off x="519120" y="935640"/>
                <a:ext cx="24120" cy="248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28"/>
              <p:cNvSpPr/>
              <p:nvPr/>
            </p:nvSpPr>
            <p:spPr>
              <a:xfrm>
                <a:off x="313200" y="838080"/>
                <a:ext cx="52200" cy="5688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29"/>
              <p:cNvSpPr/>
              <p:nvPr/>
            </p:nvSpPr>
            <p:spPr>
              <a:xfrm>
                <a:off x="371880" y="800640"/>
                <a:ext cx="40320" cy="6228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30"/>
              <p:cNvSpPr/>
              <p:nvPr/>
            </p:nvSpPr>
            <p:spPr>
              <a:xfrm>
                <a:off x="436680" y="777240"/>
                <a:ext cx="25920" cy="63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31"/>
              <p:cNvSpPr/>
              <p:nvPr/>
            </p:nvSpPr>
            <p:spPr>
              <a:xfrm>
                <a:off x="659160" y="843480"/>
                <a:ext cx="53280" cy="5616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32"/>
              <p:cNvSpPr/>
              <p:nvPr/>
            </p:nvSpPr>
            <p:spPr>
              <a:xfrm>
                <a:off x="614160" y="803880"/>
                <a:ext cx="41400" cy="615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33"/>
              <p:cNvSpPr/>
              <p:nvPr/>
            </p:nvSpPr>
            <p:spPr>
              <a:xfrm>
                <a:off x="562320" y="779040"/>
                <a:ext cx="27720" cy="6408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34"/>
              <p:cNvSpPr/>
              <p:nvPr/>
            </p:nvSpPr>
            <p:spPr>
              <a:xfrm>
                <a:off x="499320" y="767520"/>
                <a:ext cx="22320" cy="644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0" name="Group 35"/>
            <p:cNvGrpSpPr/>
            <p:nvPr/>
          </p:nvGrpSpPr>
          <p:grpSpPr>
            <a:xfrm>
              <a:off x="764280" y="767520"/>
              <a:ext cx="399240" cy="310320"/>
              <a:chOff x="764280" y="767520"/>
              <a:chExt cx="399240" cy="310320"/>
            </a:xfrm>
          </p:grpSpPr>
          <p:sp>
            <p:nvSpPr>
              <p:cNvPr id="1071" name="Freeform 36"/>
              <p:cNvSpPr/>
              <p:nvPr/>
            </p:nvSpPr>
            <p:spPr>
              <a:xfrm>
                <a:off x="776880" y="852480"/>
                <a:ext cx="369360" cy="22536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37"/>
              <p:cNvSpPr/>
              <p:nvPr/>
            </p:nvSpPr>
            <p:spPr>
              <a:xfrm>
                <a:off x="804960" y="877320"/>
                <a:ext cx="313200" cy="176040"/>
              </a:xfrm>
              <a:custGeom>
                <a:avLst/>
                <a:gdLst>
                  <a:gd name="textAreaLeft" fmla="*/ 0 w 313200"/>
                  <a:gd name="textAreaRight" fmla="*/ 313200 w 31320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38"/>
              <p:cNvSpPr/>
              <p:nvPr/>
            </p:nvSpPr>
            <p:spPr>
              <a:xfrm>
                <a:off x="883440" y="891000"/>
                <a:ext cx="150840" cy="1490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39"/>
              <p:cNvSpPr/>
              <p:nvPr/>
            </p:nvSpPr>
            <p:spPr>
              <a:xfrm>
                <a:off x="970200" y="935640"/>
                <a:ext cx="24120" cy="248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40"/>
              <p:cNvSpPr/>
              <p:nvPr/>
            </p:nvSpPr>
            <p:spPr>
              <a:xfrm>
                <a:off x="764280" y="838080"/>
                <a:ext cx="52200" cy="5688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41"/>
              <p:cNvSpPr/>
              <p:nvPr/>
            </p:nvSpPr>
            <p:spPr>
              <a:xfrm>
                <a:off x="822960" y="800640"/>
                <a:ext cx="40320" cy="6228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42"/>
              <p:cNvSpPr/>
              <p:nvPr/>
            </p:nvSpPr>
            <p:spPr>
              <a:xfrm>
                <a:off x="887760" y="777240"/>
                <a:ext cx="25920" cy="63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43"/>
              <p:cNvSpPr/>
              <p:nvPr/>
            </p:nvSpPr>
            <p:spPr>
              <a:xfrm>
                <a:off x="1110240" y="843480"/>
                <a:ext cx="53280" cy="5616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44"/>
              <p:cNvSpPr/>
              <p:nvPr/>
            </p:nvSpPr>
            <p:spPr>
              <a:xfrm>
                <a:off x="1065240" y="803880"/>
                <a:ext cx="41400" cy="615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45"/>
              <p:cNvSpPr/>
              <p:nvPr/>
            </p:nvSpPr>
            <p:spPr>
              <a:xfrm>
                <a:off x="1013400" y="779040"/>
                <a:ext cx="27720" cy="6408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46"/>
              <p:cNvSpPr/>
              <p:nvPr/>
            </p:nvSpPr>
            <p:spPr>
              <a:xfrm>
                <a:off x="950400" y="767520"/>
                <a:ext cx="22320" cy="644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2" name="Line 47"/>
            <p:cNvSpPr/>
            <p:nvPr/>
          </p:nvSpPr>
          <p:spPr>
            <a:xfrm flipV="1">
              <a:off x="711720" y="579240"/>
              <a:ext cx="264960" cy="59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Text Box 2"/>
          <p:cNvSpPr/>
          <p:nvPr/>
        </p:nvSpPr>
        <p:spPr>
          <a:xfrm>
            <a:off x="609480" y="609480"/>
            <a:ext cx="47246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70c0"/>
                </a:solidFill>
                <a:latin typeface="Calibri"/>
                <a:ea typeface="Arial"/>
              </a:rPr>
              <a:t>Quantum State Tomograph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 Box 3"/>
          <p:cNvSpPr/>
          <p:nvPr/>
        </p:nvSpPr>
        <p:spPr>
          <a:xfrm>
            <a:off x="380880" y="2590920"/>
            <a:ext cx="838224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ask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Given lots of copies of an unknown D-dimensional quantum mixed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produce an approximate classical description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O’Donnell and Wright and Haah et al., STOC’2016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~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re necessary and sufficient for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xperimental Record (Song et al. 2017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10 qubits, millions of measurement settings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Keep in mind: D = 2</a:t>
            </a:r>
            <a:r>
              <a:rPr b="0" lang="en-US" sz="2800" spc="-1" strike="noStrike" baseline="30000">
                <a:solidFill>
                  <a:srgbClr val="008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5" name="Picture 161" descr=""/>
          <p:cNvPicPr/>
          <p:nvPr/>
        </p:nvPicPr>
        <p:blipFill>
          <a:blip r:embed="rId1"/>
          <a:stretch/>
        </p:blipFill>
        <p:spPr>
          <a:xfrm>
            <a:off x="5715000" y="304920"/>
            <a:ext cx="25146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Explosion 2 7"/>
          <p:cNvSpPr/>
          <p:nvPr/>
        </p:nvSpPr>
        <p:spPr>
          <a:xfrm rot="159600">
            <a:off x="6171840" y="3722760"/>
            <a:ext cx="2824200" cy="11509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Text Box 699"/>
          <p:cNvSpPr/>
          <p:nvPr/>
        </p:nvSpPr>
        <p:spPr>
          <a:xfrm>
            <a:off x="304920" y="1947960"/>
            <a:ext cx="8610480" cy="49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be an unknown D-dimensional st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ppose you just want to be able to estimate the acceptance probabilities of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mos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easurements E drawn from some probability distribu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n it suffices to do the following, for some m=O(log D)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hoose m measurements independently from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Go into your lab and estimate acceptance probabilities of all of them on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nd </a:t>
            </a:r>
            <a:r>
              <a:rPr b="1" lang="en-US" sz="2300" spc="-1" strike="noStrike">
                <a:solidFill>
                  <a:srgbClr val="ff0000"/>
                </a:solidFill>
                <a:latin typeface="Calibri"/>
              </a:rPr>
              <a:t>any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“hypothesis state”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approximately consistent with all measurement outcom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 Box 728"/>
          <p:cNvSpPr/>
          <p:nvPr/>
        </p:nvSpPr>
        <p:spPr>
          <a:xfrm>
            <a:off x="1523880" y="457200"/>
            <a:ext cx="60199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70c0"/>
                </a:solidFill>
                <a:latin typeface="Calibri"/>
                <a:ea typeface="Arial"/>
              </a:rPr>
              <a:t>Quantum Occam’s Razor Theorem (A. 2006)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9" name="Picture 729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1038240" cy="144792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730" descr="razor"/>
          <p:cNvPicPr/>
          <p:nvPr/>
        </p:nvPicPr>
        <p:blipFill>
          <a:blip r:embed="rId2"/>
          <a:srcRect l="0" t="0" r="20000" b="40500"/>
          <a:stretch/>
        </p:blipFill>
        <p:spPr>
          <a:xfrm>
            <a:off x="7680240" y="380880"/>
            <a:ext cx="1463760" cy="1344600"/>
          </a:xfrm>
          <a:prstGeom prst="rect">
            <a:avLst/>
          </a:prstGeom>
          <a:ln w="0">
            <a:noFill/>
          </a:ln>
        </p:spPr>
      </p:pic>
      <p:sp>
        <p:nvSpPr>
          <p:cNvPr id="1091" name="Text Box 12"/>
          <p:cNvSpPr/>
          <p:nvPr/>
        </p:nvSpPr>
        <p:spPr>
          <a:xfrm>
            <a:off x="1828800" y="2236680"/>
            <a:ext cx="5029200" cy="131292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Arial"/>
              </a:rPr>
              <a:t>“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Arial"/>
              </a:rPr>
              <a:t>Quantum states are PAC-learnabl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1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57" dur="1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8" dur="1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Text Box 2"/>
          <p:cNvSpPr/>
          <p:nvPr/>
        </p:nvSpPr>
        <p:spPr>
          <a:xfrm>
            <a:off x="347760" y="228600"/>
            <a:ext cx="8567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70c0"/>
                </a:solidFill>
                <a:latin typeface="Calibri"/>
                <a:ea typeface="Calibri"/>
              </a:rPr>
              <a:t>Can prove by combining two fact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3"/>
          <p:cNvSpPr/>
          <p:nvPr/>
        </p:nvSpPr>
        <p:spPr>
          <a:xfrm>
            <a:off x="325440" y="958680"/>
            <a:ext cx="849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1) The class of [0,1]-valued functions of the form f(E)=Tr(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, w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s a D-dimensional mixed state, has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-fat-shattering dimen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((log D)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3"/>
          <p:cNvSpPr/>
          <p:nvPr/>
        </p:nvSpPr>
        <p:spPr>
          <a:xfrm>
            <a:off x="393840" y="5384880"/>
            <a:ext cx="849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2)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class of [0,1]-valued functions is PAC-learnable using a number of samples linear in its fat-shattering dimension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  <a:ea typeface="Calibri"/>
              </a:rPr>
              <a:t>[Alon et al., Bartlett-Long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Picture 4" descr=""/>
          <p:cNvPicPr/>
          <p:nvPr/>
        </p:nvPicPr>
        <p:blipFill>
          <a:blip r:embed="rId1"/>
          <a:srcRect l="6000" t="0" r="29999" b="12000"/>
          <a:stretch/>
        </p:blipFill>
        <p:spPr>
          <a:xfrm>
            <a:off x="1604880" y="2532240"/>
            <a:ext cx="998640" cy="137160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20" descr=""/>
          <p:cNvPicPr/>
          <p:nvPr/>
        </p:nvPicPr>
        <p:blipFill>
          <a:blip r:embed="rId2"/>
          <a:srcRect l="26667" t="0" r="18667" b="20000"/>
          <a:stretch/>
        </p:blipFill>
        <p:spPr>
          <a:xfrm>
            <a:off x="309600" y="2532240"/>
            <a:ext cx="1295280" cy="1261800"/>
          </a:xfrm>
          <a:prstGeom prst="rect">
            <a:avLst/>
          </a:prstGeom>
          <a:ln w="0">
            <a:noFill/>
          </a:ln>
        </p:spPr>
      </p:pic>
      <p:grpSp>
        <p:nvGrpSpPr>
          <p:cNvPr id="1097" name="Group 19"/>
          <p:cNvGrpSpPr/>
          <p:nvPr/>
        </p:nvGrpSpPr>
        <p:grpSpPr>
          <a:xfrm>
            <a:off x="733320" y="3929040"/>
            <a:ext cx="7543440" cy="1523520"/>
            <a:chOff x="733320" y="3929040"/>
            <a:chExt cx="7543440" cy="1523520"/>
          </a:xfrm>
        </p:grpSpPr>
        <p:sp>
          <p:nvSpPr>
            <p:cNvPr id="1098" name="Line 10"/>
            <p:cNvSpPr/>
            <p:nvPr/>
          </p:nvSpPr>
          <p:spPr>
            <a:xfrm>
              <a:off x="1446840" y="4615560"/>
              <a:ext cx="0" cy="50976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headEnd len="lg" type="oval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Line 12"/>
            <p:cNvSpPr/>
            <p:nvPr/>
          </p:nvSpPr>
          <p:spPr>
            <a:xfrm flipV="1">
              <a:off x="2772360" y="4513320"/>
              <a:ext cx="0" cy="50976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headEnd len="lg" type="oval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Line 13"/>
            <p:cNvSpPr/>
            <p:nvPr/>
          </p:nvSpPr>
          <p:spPr>
            <a:xfrm flipV="1">
              <a:off x="4097160" y="4309560"/>
              <a:ext cx="0" cy="50976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headEnd len="lg" type="oval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Line 14"/>
            <p:cNvSpPr/>
            <p:nvPr/>
          </p:nvSpPr>
          <p:spPr>
            <a:xfrm>
              <a:off x="4810680" y="4207320"/>
              <a:ext cx="0" cy="50976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headEnd len="lg" type="oval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Line 15"/>
            <p:cNvSpPr/>
            <p:nvPr/>
          </p:nvSpPr>
          <p:spPr>
            <a:xfrm>
              <a:off x="6441840" y="4513320"/>
              <a:ext cx="0" cy="50976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headEnd len="lg" type="oval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Line 16"/>
            <p:cNvSpPr/>
            <p:nvPr/>
          </p:nvSpPr>
          <p:spPr>
            <a:xfrm flipV="1">
              <a:off x="7665120" y="4207320"/>
              <a:ext cx="0" cy="50976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headEnd len="lg" type="oval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18"/>
            <p:cNvSpPr/>
            <p:nvPr/>
          </p:nvSpPr>
          <p:spPr>
            <a:xfrm>
              <a:off x="733320" y="3929040"/>
              <a:ext cx="7543440" cy="1523520"/>
            </a:xfrm>
            <a:custGeom>
              <a:avLst/>
              <a:gdLst/>
              <a:ahLst/>
              <a:rect l="l" t="t" r="r" b="b"/>
              <a:pathLst>
                <a:path w="3552" h="717">
                  <a:moveTo>
                    <a:pt x="0" y="515"/>
                  </a:moveTo>
                  <a:cubicBezTo>
                    <a:pt x="68" y="538"/>
                    <a:pt x="272" y="717"/>
                    <a:pt x="406" y="656"/>
                  </a:cubicBezTo>
                  <a:cubicBezTo>
                    <a:pt x="540" y="595"/>
                    <a:pt x="597" y="239"/>
                    <a:pt x="803" y="150"/>
                  </a:cubicBezTo>
                  <a:cubicBezTo>
                    <a:pt x="1009" y="61"/>
                    <a:pt x="1451" y="45"/>
                    <a:pt x="1644" y="119"/>
                  </a:cubicBezTo>
                  <a:cubicBezTo>
                    <a:pt x="1837" y="193"/>
                    <a:pt x="1758" y="520"/>
                    <a:pt x="1963" y="594"/>
                  </a:cubicBezTo>
                  <a:cubicBezTo>
                    <a:pt x="2168" y="668"/>
                    <a:pt x="2666" y="649"/>
                    <a:pt x="2874" y="563"/>
                  </a:cubicBezTo>
                  <a:cubicBezTo>
                    <a:pt x="3082" y="477"/>
                    <a:pt x="3095" y="160"/>
                    <a:pt x="3208" y="80"/>
                  </a:cubicBezTo>
                  <a:cubicBezTo>
                    <a:pt x="3321" y="0"/>
                    <a:pt x="3480" y="83"/>
                    <a:pt x="3552" y="83"/>
                  </a:cubicBezTo>
                </a:path>
              </a:pathLst>
            </a:custGeom>
            <a:noFill/>
            <a:ln w="1908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5" name="Text Box 3"/>
          <p:cNvSpPr/>
          <p:nvPr/>
        </p:nvSpPr>
        <p:spPr>
          <a:xfrm>
            <a:off x="2666880" y="2343240"/>
            <a:ext cx="632484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  <a:ea typeface="Calibri"/>
              </a:rPr>
              <a:t>Largest k for which we can find inputs x</a:t>
            </a:r>
            <a:r>
              <a:rPr b="0" lang="en-US" sz="2400" spc="-1" strike="noStrike" baseline="-25000">
                <a:solidFill>
                  <a:srgbClr val="7f7f7f"/>
                </a:solidFill>
                <a:latin typeface="Calibri"/>
                <a:ea typeface="Calibri"/>
              </a:rPr>
              <a:t>1</a:t>
            </a:r>
            <a:r>
              <a:rPr b="0" lang="en-US" sz="2400" spc="-1" strike="noStrike">
                <a:solidFill>
                  <a:srgbClr val="7f7f7f"/>
                </a:solidFill>
                <a:latin typeface="Calibri"/>
                <a:ea typeface="Calibri"/>
              </a:rPr>
              <a:t>,…,x</a:t>
            </a:r>
            <a:r>
              <a:rPr b="0" lang="en-US" sz="2400" spc="-1" strike="noStrike" baseline="-25000">
                <a:solidFill>
                  <a:srgbClr val="7f7f7f"/>
                </a:solidFill>
                <a:latin typeface="Calibri"/>
                <a:ea typeface="Calibri"/>
              </a:rPr>
              <a:t>k</a:t>
            </a:r>
            <a:r>
              <a:rPr b="0" lang="en-US" sz="2400" spc="-1" strike="noStrike">
                <a:solidFill>
                  <a:srgbClr val="7f7f7f"/>
                </a:solidFill>
                <a:latin typeface="Calibri"/>
                <a:ea typeface="Calibri"/>
              </a:rPr>
              <a:t>, and values a</a:t>
            </a:r>
            <a:r>
              <a:rPr b="0" lang="en-US" sz="2400" spc="-1" strike="noStrike" baseline="-25000">
                <a:solidFill>
                  <a:srgbClr val="7f7f7f"/>
                </a:solidFill>
                <a:latin typeface="Calibri"/>
                <a:ea typeface="Calibri"/>
              </a:rPr>
              <a:t>1</a:t>
            </a:r>
            <a:r>
              <a:rPr b="0" lang="en-US" sz="2400" spc="-1" strike="noStrike">
                <a:solidFill>
                  <a:srgbClr val="7f7f7f"/>
                </a:solidFill>
                <a:latin typeface="Calibri"/>
                <a:ea typeface="Calibri"/>
              </a:rPr>
              <a:t>,…,a</a:t>
            </a:r>
            <a:r>
              <a:rPr b="0" lang="en-US" sz="2400" spc="-1" strike="noStrike" baseline="-25000">
                <a:solidFill>
                  <a:srgbClr val="7f7f7f"/>
                </a:solidFill>
                <a:latin typeface="Calibri"/>
                <a:ea typeface="Calibri"/>
              </a:rPr>
              <a:t>k</a:t>
            </a:r>
            <a:r>
              <a:rPr b="0" lang="en-US" sz="2400" spc="-1" strike="noStrike">
                <a:solidFill>
                  <a:srgbClr val="7f7f7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7f7f7f"/>
                </a:solidFill>
                <a:latin typeface="Calibri"/>
                <a:ea typeface="Calibri"/>
              </a:rPr>
              <a:t>[0,1], such that all 2</a:t>
            </a:r>
            <a:r>
              <a:rPr b="0" lang="en-US" sz="2400" spc="-1" strike="noStrike" baseline="30000">
                <a:solidFill>
                  <a:srgbClr val="7f7f7f"/>
                </a:solidFill>
                <a:latin typeface="Calibri"/>
                <a:ea typeface="Calibri"/>
              </a:rPr>
              <a:t>k</a:t>
            </a:r>
            <a:r>
              <a:rPr b="0" lang="en-US" sz="2400" spc="-1" strike="noStrike">
                <a:solidFill>
                  <a:srgbClr val="7f7f7f"/>
                </a:solidFill>
                <a:latin typeface="Calibri"/>
                <a:ea typeface="Calibri"/>
              </a:rPr>
              <a:t> possible behaviors involving f(x</a:t>
            </a:r>
            <a:r>
              <a:rPr b="0" lang="en-US" sz="2400" spc="-1" strike="noStrike" baseline="-25000">
                <a:solidFill>
                  <a:srgbClr val="7f7f7f"/>
                </a:solidFill>
                <a:latin typeface="Calibri"/>
                <a:ea typeface="Calibri"/>
              </a:rPr>
              <a:t>i</a:t>
            </a:r>
            <a:r>
              <a:rPr b="0" lang="en-US" sz="2400" spc="-1" strike="noStrike">
                <a:solidFill>
                  <a:srgbClr val="7f7f7f"/>
                </a:solidFill>
                <a:latin typeface="Calibri"/>
                <a:ea typeface="Calibri"/>
              </a:rPr>
              <a:t>) exceeding a</a:t>
            </a:r>
            <a:r>
              <a:rPr b="0" lang="en-US" sz="2400" spc="-1" strike="noStrike" baseline="-25000">
                <a:solidFill>
                  <a:srgbClr val="7f7f7f"/>
                </a:solidFill>
                <a:latin typeface="Calibri"/>
                <a:ea typeface="Calibri"/>
              </a:rPr>
              <a:t>i</a:t>
            </a:r>
            <a:r>
              <a:rPr b="0" lang="en-US" sz="2400" spc="-1" strike="noStrike">
                <a:solidFill>
                  <a:srgbClr val="7f7f7f"/>
                </a:solidFill>
                <a:latin typeface="Calibri"/>
                <a:ea typeface="Calibri"/>
              </a:rPr>
              <a:t> by </a:t>
            </a:r>
            <a:r>
              <a:rPr b="0" lang="en-US" sz="2400" spc="-1" strike="noStrike">
                <a:solidFill>
                  <a:srgbClr val="7f7f7f"/>
                </a:solidFill>
                <a:latin typeface="Symbol"/>
                <a:ea typeface="Symbol"/>
              </a:rPr>
              <a:t></a:t>
            </a:r>
            <a:r>
              <a:rPr b="0" lang="en-US" sz="2400" spc="-1" strike="noStrike">
                <a:solidFill>
                  <a:srgbClr val="7f7f7f"/>
                </a:solidFill>
                <a:latin typeface="Calibri"/>
                <a:ea typeface="Calibri"/>
              </a:rPr>
              <a:t> or vice versa are realized by some f in the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Text Box 2"/>
          <p:cNvSpPr/>
          <p:nvPr/>
        </p:nvSpPr>
        <p:spPr>
          <a:xfrm>
            <a:off x="347760" y="304920"/>
            <a:ext cx="85676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70c0"/>
                </a:solidFill>
                <a:latin typeface="Calibri"/>
                <a:ea typeface="Calibri"/>
              </a:rPr>
              <a:t>To upper-bound the fat-shattering dimension of quantum state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 Box 3"/>
          <p:cNvSpPr/>
          <p:nvPr/>
        </p:nvSpPr>
        <p:spPr>
          <a:xfrm>
            <a:off x="347760" y="1917720"/>
            <a:ext cx="704376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Use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low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ound for quantum random access codes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  <a:ea typeface="Calibri"/>
              </a:rPr>
              <a:t>[Nayak 1999]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  Name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You nee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n) qubits to encode n bits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nto a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so that any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f your choice can later be recovered w.h.p. by measuri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Picture 3" descr=""/>
          <p:cNvPicPr/>
          <p:nvPr/>
        </p:nvPicPr>
        <p:blipFill>
          <a:blip r:embed="rId1"/>
          <a:stretch/>
        </p:blipFill>
        <p:spPr>
          <a:xfrm>
            <a:off x="7315200" y="2041560"/>
            <a:ext cx="1828800" cy="164628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0" descr="C:\Users\Scott\AppData\Local\Microsoft\Windows\INetCache\IE\RHPK08JT\lemon-citrina[1].png"/>
          <p:cNvPicPr/>
          <p:nvPr/>
        </p:nvPicPr>
        <p:blipFill>
          <a:blip r:embed="rId2"/>
          <a:stretch/>
        </p:blipFill>
        <p:spPr>
          <a:xfrm>
            <a:off x="382680" y="4952880"/>
            <a:ext cx="1620720" cy="162108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1" descr="C:\Users\Scott\AppData\Local\Microsoft\Windows\INetCache\IE\IVR9QIKH\uXOpy[1].jpg"/>
          <p:cNvPicPr/>
          <p:nvPr/>
        </p:nvPicPr>
        <p:blipFill>
          <a:blip r:embed="rId3"/>
          <a:stretch/>
        </p:blipFill>
        <p:spPr>
          <a:xfrm>
            <a:off x="7683480" y="5052960"/>
            <a:ext cx="914400" cy="1424160"/>
          </a:xfrm>
          <a:prstGeom prst="rect">
            <a:avLst/>
          </a:prstGeom>
          <a:ln w="0">
            <a:noFill/>
          </a:ln>
        </p:spPr>
      </p:pic>
      <p:sp>
        <p:nvSpPr>
          <p:cNvPr id="1111" name="Text Box 3"/>
          <p:cNvSpPr/>
          <p:nvPr/>
        </p:nvSpPr>
        <p:spPr>
          <a:xfrm>
            <a:off x="2235240" y="4943520"/>
            <a:ext cx="479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Then turn this lemon into lemonad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 Box 2"/>
          <p:cNvSpPr/>
          <p:nvPr/>
        </p:nvSpPr>
        <p:spPr>
          <a:xfrm>
            <a:off x="347760" y="304920"/>
            <a:ext cx="8567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70c0"/>
                </a:solidFill>
                <a:latin typeface="Calibri"/>
                <a:ea typeface="Calibri"/>
              </a:rPr>
              <a:t>How do we find the hypothesis state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ext Box 3"/>
          <p:cNvSpPr/>
          <p:nvPr/>
        </p:nvSpPr>
        <p:spPr>
          <a:xfrm>
            <a:off x="347760" y="4243320"/>
            <a:ext cx="84913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is is a convex programming problem, which can be solved in time polynomial in D=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(good enough in practice for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15 or s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ptimized,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linear-ti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terative method for this problem: 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[Hazan 2008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4" name="Group 4"/>
          <p:cNvGrpSpPr/>
          <p:nvPr/>
        </p:nvGrpSpPr>
        <p:grpSpPr>
          <a:xfrm>
            <a:off x="347760" y="1189080"/>
            <a:ext cx="8305560" cy="2968560"/>
            <a:chOff x="347760" y="1189080"/>
            <a:chExt cx="8305560" cy="2968560"/>
          </a:xfrm>
        </p:grpSpPr>
        <p:sp>
          <p:nvSpPr>
            <p:cNvPr id="1115" name="Text Box 5"/>
            <p:cNvSpPr/>
            <p:nvPr/>
          </p:nvSpPr>
          <p:spPr>
            <a:xfrm>
              <a:off x="347760" y="1189080"/>
              <a:ext cx="8305560" cy="17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Here’s one way: let b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  <a:ea typeface="Calibri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,…,b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  <a:ea typeface="Calibri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be the outcomes of measurements 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  <a:ea typeface="Calibri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,…,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  <a:ea typeface="Calibri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hen choose a hypothesis state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to minimiz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6" name="Object 6"/>
                <p:cNvSpPr txBox="1"/>
                <p:nvPr/>
              </p:nvSpPr>
              <p:spPr>
                <a:xfrm>
                  <a:off x="2938320" y="2789280"/>
                  <a:ext cx="3499920" cy="13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r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σ</m:t>
                                      </m:r>
                                    </m:e>
                                  </m:d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7" name="Picture 23" descr=""/>
          <p:cNvPicPr/>
          <p:nvPr/>
        </p:nvPicPr>
        <p:blipFill>
          <a:blip r:embed="rId1"/>
          <a:stretch/>
        </p:blipFill>
        <p:spPr>
          <a:xfrm>
            <a:off x="457200" y="1238400"/>
            <a:ext cx="1203480" cy="1600200"/>
          </a:xfrm>
          <a:prstGeom prst="rect">
            <a:avLst/>
          </a:prstGeom>
          <a:ln w="0">
            <a:noFill/>
          </a:ln>
        </p:spPr>
      </p:pic>
      <p:sp>
        <p:nvSpPr>
          <p:cNvPr id="1118" name="Rounded Rectangular Callout 1"/>
          <p:cNvSpPr/>
          <p:nvPr/>
        </p:nvSpPr>
        <p:spPr>
          <a:xfrm>
            <a:off x="1905120" y="838080"/>
            <a:ext cx="6781680" cy="2438640"/>
          </a:xfrm>
          <a:prstGeom prst="wedgeRoundRectCallout">
            <a:avLst>
              <a:gd name="adj1" fmla="val -57041"/>
              <a:gd name="adj2" fmla="val 4467"/>
              <a:gd name="adj3" fmla="val 16667"/>
            </a:avLst>
          </a:prstGeom>
          <a:solidFill>
            <a:srgbClr val="ff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 Box 3"/>
          <p:cNvSpPr/>
          <p:nvPr/>
        </p:nvSpPr>
        <p:spPr>
          <a:xfrm>
            <a:off x="2362320" y="914400"/>
            <a:ext cx="6324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You know, PAC-learning is so 1990s.  Who wants to assume a fixed, unchanging distributi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ver the sample data?  These days all the cool kids prove theorems about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onli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lea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0" name="Picture 24" descr=""/>
          <p:cNvPicPr/>
          <p:nvPr/>
        </p:nvPicPr>
        <p:blipFill>
          <a:blip r:embed="rId2"/>
          <a:stretch/>
        </p:blipFill>
        <p:spPr>
          <a:xfrm>
            <a:off x="7248600" y="4068720"/>
            <a:ext cx="1438200" cy="1328760"/>
          </a:xfrm>
          <a:prstGeom prst="rect">
            <a:avLst/>
          </a:prstGeom>
          <a:ln w="0">
            <a:noFill/>
          </a:ln>
        </p:spPr>
      </p:pic>
      <p:sp>
        <p:nvSpPr>
          <p:cNvPr id="1121" name="Rounded Rectangular Callout 14"/>
          <p:cNvSpPr/>
          <p:nvPr/>
        </p:nvSpPr>
        <p:spPr>
          <a:xfrm>
            <a:off x="2819520" y="4114800"/>
            <a:ext cx="4114800" cy="698400"/>
          </a:xfrm>
          <a:prstGeom prst="wedgeRoundRectCallout">
            <a:avLst>
              <a:gd name="adj1" fmla="val 63324"/>
              <a:gd name="adj2" fmla="val 44518"/>
              <a:gd name="adj3" fmla="val 16667"/>
            </a:avLst>
          </a:prstGeom>
          <a:solidFill>
            <a:srgbClr val="ff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3"/>
          <p:cNvSpPr/>
          <p:nvPr/>
        </p:nvSpPr>
        <p:spPr>
          <a:xfrm>
            <a:off x="3048120" y="4202280"/>
            <a:ext cx="36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hat’s online lear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Text Box 2"/>
          <p:cNvSpPr/>
          <p:nvPr/>
        </p:nvSpPr>
        <p:spPr>
          <a:xfrm>
            <a:off x="347760" y="304920"/>
            <a:ext cx="8567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70c0"/>
                </a:solidFill>
                <a:latin typeface="Calibri"/>
                <a:ea typeface="Calibri"/>
              </a:rPr>
              <a:t>Online Learn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3"/>
          <p:cNvSpPr/>
          <p:nvPr/>
        </p:nvSpPr>
        <p:spPr>
          <a:xfrm>
            <a:off x="293760" y="1198440"/>
            <a:ext cx="8621640" cy="20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wo-outcome measurements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… on a D-dimensional state arrive one by one—chosen by an adaptive adver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No more fixed distribution over measurements, no 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independence, no nothin’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 Box 3"/>
          <p:cNvSpPr/>
          <p:nvPr/>
        </p:nvSpPr>
        <p:spPr>
          <a:xfrm>
            <a:off x="293760" y="3484440"/>
            <a:ext cx="856116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or each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you—the learner—are challenged to guess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.  If you’re off by more tha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/3, you’re then told the true value, or at least a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/3-approximation t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 Box 3"/>
          <p:cNvSpPr/>
          <p:nvPr/>
        </p:nvSpPr>
        <p:spPr>
          <a:xfrm>
            <a:off x="293760" y="5160960"/>
            <a:ext cx="8591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Give a learning strategy that upper bounds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number of times your guess will ever be more tha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ff from the truth  </a:t>
            </a:r>
            <a:r>
              <a:rPr b="0" lang="en-US" sz="2200" spc="-1" strike="noStrike">
                <a:solidFill>
                  <a:srgbClr val="006600"/>
                </a:solidFill>
                <a:latin typeface="Calibri"/>
                <a:ea typeface="Calibri"/>
              </a:rPr>
              <a:t>(can’t know in advance which times those will be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5:28:27Z</dcterms:created>
  <dc:creator>Scott Aaronson</dc:creator>
  <dc:description/>
  <dc:language>en-US</dc:language>
  <cp:lastModifiedBy>Scott</cp:lastModifiedBy>
  <dcterms:modified xsi:type="dcterms:W3CDTF">2019-01-15T16:58:25Z</dcterms:modified>
  <cp:revision>454</cp:revision>
  <dc:subject/>
  <dc:title>BQP and the Polynomial Hierarchy</dc:title>
</cp:coreProperties>
</file>