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EE603-68A6-4EC2-81C8-6A7AE79F07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F34D1-B9E3-43DF-8CDB-B1935C0836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836F1-C733-4742-BB18-0DDAAD819F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4D971-1088-4A80-A396-AC8A0C89B7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9DA73-3635-4127-A0E8-506F35DFD3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9F186-5785-4927-89B7-8035B3925B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8A634-9B16-4F75-834F-BC55F53EB0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80D63-05DC-4ED9-A4FC-50B6ADA9C0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19494-C2AB-48F2-9501-F0E7CF968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7C4FB-8AEC-4EB6-82B3-698166922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3C5D2-9C79-4097-9522-A113EFEB7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241FB-0273-483B-8217-DFAFCC2E9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C7BAC-BF30-4A44-B263-5B628DAF9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AA9C8-863A-4814-8970-A86BD5DAF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15065-7D05-4239-88A6-0A0CBEAEB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1E61C-FBFB-4036-85B8-77568FFEF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CBEA2-196C-4C6A-AA2B-86BDC9C05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0A590-B529-4BF8-9AC9-1C7A0E717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E4432-1075-46E2-91A2-C96FC3330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4DAF1-85F3-4415-9EC1-1EC932C89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20AD7-D2AC-4D67-8F57-7BC2F417D6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04920" y="1371600"/>
            <a:ext cx="3962160" cy="4114800"/>
          </a:xfrm>
          <a:prstGeom prst="rect">
            <a:avLst/>
          </a:prstGeom>
          <a:solidFill>
            <a:srgbClr val="ffff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3300"/>
                </a:solidFill>
                <a:latin typeface="Arial"/>
              </a:rPr>
              <a:t>Quantum Double Feature</a:t>
            </a: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594324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ott Aaronson (MI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143000" y="1752480"/>
            <a:ext cx="2241720" cy="3581280"/>
            <a:chOff x="1143000" y="1752480"/>
            <a:chExt cx="2241720" cy="3581280"/>
          </a:xfrm>
        </p:grpSpPr>
        <p:pic>
          <p:nvPicPr>
            <p:cNvPr id="52" name="" descr=""/>
            <p:cNvPicPr/>
            <p:nvPr/>
          </p:nvPicPr>
          <p:blipFill>
            <a:blip r:embed="rId1"/>
            <a:stretch/>
          </p:blipFill>
          <p:spPr>
            <a:xfrm>
              <a:off x="1219320" y="1752480"/>
              <a:ext cx="2165400" cy="122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1143000" y="1828440"/>
              <a:ext cx="1981440" cy="350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</a:t>
              </a:r>
              <a:endParaRPr b="0" lang="en-US" sz="15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4" name="" descr=""/>
          <p:cNvPicPr/>
          <p:nvPr/>
        </p:nvPicPr>
        <p:blipFill>
          <a:blip r:embed="rId2"/>
          <a:srcRect l="0" t="6223" r="0" b="0"/>
          <a:stretch/>
        </p:blipFill>
        <p:spPr>
          <a:xfrm>
            <a:off x="5181480" y="1905120"/>
            <a:ext cx="2743200" cy="21700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533520" y="4419720"/>
            <a:ext cx="3352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333399"/>
                </a:solidFill>
                <a:latin typeface="Arial"/>
              </a:rPr>
              <a:t>The Learnability of Quantum St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00600" y="4419720"/>
            <a:ext cx="3352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333399"/>
                </a:solidFill>
                <a:latin typeface="Arial"/>
              </a:rPr>
              <a:t>Quantum Software</a:t>
            </a:r>
            <a:br>
              <a:rPr sz="2800"/>
            </a:br>
            <a:r>
              <a:rPr b="1" lang="en-CA" sz="2800" spc="-1" strike="noStrike">
                <a:solidFill>
                  <a:srgbClr val="333399"/>
                </a:solidFill>
                <a:latin typeface="Arial"/>
              </a:rPr>
              <a:t>Copy-Prot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495680" y="1371600"/>
            <a:ext cx="0" cy="403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410080" y="2971800"/>
            <a:ext cx="990720" cy="100836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6000" spc="-1" strike="noStrike">
                <a:solidFill>
                  <a:srgbClr val="ffffff"/>
                </a:solidFill>
                <a:latin typeface="Symbol"/>
                <a:ea typeface="Symbol"/>
              </a:rPr>
              <a:t>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228600" y="304920"/>
            <a:ext cx="86868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3399"/>
                </a:solidFill>
                <a:latin typeface="Arial"/>
              </a:rPr>
              <a:t>Another cute applica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04920" y="1143000"/>
            <a:ext cx="8534160" cy="46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buy a state 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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t the quantum software st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vendor says, “just feed 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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your quantum computer as advice, and it’ll be deciding f in no time!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you don’t trust 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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work as exp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heorem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r any distribution D over inputs, there’s a small (poly-size) set of “test inputs”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…,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such that if you try 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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n the test inputs and it works, then whp it will also work on most inputs drawn from 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295280"/>
            <a:ext cx="3962160" cy="4114800"/>
          </a:xfrm>
          <a:prstGeom prst="rect">
            <a:avLst/>
          </a:prstGeom>
          <a:solidFill>
            <a:srgbClr val="ffff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3300"/>
                </a:solidFill>
                <a:latin typeface="Arial"/>
              </a:rPr>
              <a:t>Quantum Double Feature</a:t>
            </a: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371600" y="594324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ott Aaronson (MI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1143000" y="1752480"/>
            <a:ext cx="2241720" cy="3581280"/>
            <a:chOff x="1143000" y="1752480"/>
            <a:chExt cx="2241720" cy="3581280"/>
          </a:xfrm>
        </p:grpSpPr>
        <p:pic>
          <p:nvPicPr>
            <p:cNvPr id="172" name="" descr=""/>
            <p:cNvPicPr/>
            <p:nvPr/>
          </p:nvPicPr>
          <p:blipFill>
            <a:blip r:embed="rId1"/>
            <a:stretch/>
          </p:blipFill>
          <p:spPr>
            <a:xfrm>
              <a:off x="1219320" y="1752480"/>
              <a:ext cx="2165400" cy="122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" name=""/>
            <p:cNvSpPr/>
            <p:nvPr/>
          </p:nvSpPr>
          <p:spPr>
            <a:xfrm>
              <a:off x="1143000" y="1828440"/>
              <a:ext cx="1981440" cy="350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</a:t>
              </a:r>
              <a:endParaRPr b="0" lang="en-US" sz="15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4" name="" descr=""/>
          <p:cNvPicPr/>
          <p:nvPr/>
        </p:nvPicPr>
        <p:blipFill>
          <a:blip r:embed="rId2"/>
          <a:srcRect l="0" t="6223" r="0" b="0"/>
          <a:stretch/>
        </p:blipFill>
        <p:spPr>
          <a:xfrm>
            <a:off x="5181480" y="1905120"/>
            <a:ext cx="2743200" cy="217008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33520" y="4419720"/>
            <a:ext cx="3352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333399"/>
                </a:solidFill>
                <a:latin typeface="Arial"/>
              </a:rPr>
              <a:t>The Learnability of Quantum St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800600" y="4419720"/>
            <a:ext cx="3352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333399"/>
                </a:solidFill>
                <a:latin typeface="Arial"/>
              </a:rPr>
              <a:t>Quantum Software</a:t>
            </a:r>
            <a:br>
              <a:rPr sz="2800"/>
            </a:br>
            <a:r>
              <a:rPr b="1" lang="en-CA" sz="2800" spc="-1" strike="noStrike">
                <a:solidFill>
                  <a:srgbClr val="333399"/>
                </a:solidFill>
                <a:latin typeface="Arial"/>
              </a:rPr>
              <a:t>Copy-Prot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495680" y="1371600"/>
            <a:ext cx="0" cy="403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410080" y="2971800"/>
            <a:ext cx="990720" cy="100836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6000" spc="-1" strike="noStrike">
                <a:solidFill>
                  <a:srgbClr val="ffffff"/>
                </a:solidFill>
                <a:latin typeface="Symbol"/>
                <a:ea typeface="Symbol"/>
              </a:rPr>
              <a:t>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ext Box 3"/>
          <p:cNvSpPr/>
          <p:nvPr/>
        </p:nvSpPr>
        <p:spPr>
          <a:xfrm>
            <a:off x="304920" y="457200"/>
            <a:ext cx="8305560" cy="610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Classically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Giving someone a program that they can use but not copy is fundamentally impossibl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(tell that to Sony/BMG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Quantumly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Well, it’s called the “No-Cloning Theorem” for a reason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Question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Given a Boolean function f:{0,1}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{0,1}, can you give your customers a state |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that lets them evaluate f, but doesn’t let them prepare more states from which f can be evaluated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n they use the state more than once?”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Answer: Sure, without loss of gener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Note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We’re going to have to make computational assump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2"/>
          <p:cNvSpPr/>
          <p:nvPr/>
        </p:nvSpPr>
        <p:spPr>
          <a:xfrm>
            <a:off x="228600" y="228600"/>
            <a:ext cx="8686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Example where quantum copy-protection seems pos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304920" y="1371600"/>
            <a:ext cx="8381880" cy="240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the class of 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point functions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: f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(x)=1 if x=s, f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(x)=0 otherwis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Encode s by a permutation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such that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5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=e.  Choose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,…,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uniformly at random.  Then give your customers the following state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1701720" y="3581280"/>
                <a:ext cx="574200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ψ</m:t>
                    </m:r>
                    <m:r>
                      <m:t xml:space="preserve">⟩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|</m:t>
                        </m:r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⟩</m:t>
                        </m:r>
                        <m:r>
                          <m:t xml:space="preserve">+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τ</m:t>
                        </m:r>
                        <m:r>
                          <m:t xml:space="preserve">⟩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den>
                    </m:f>
                    <m:r>
                      <m:t xml:space="preserve">⊗</m:t>
                    </m:r>
                    <m:r>
                      <m:t xml:space="preserve">⋯</m:t>
                    </m:r>
                    <m:r>
                      <m:t xml:space="preserve">⊗</m:t>
                    </m:r>
                    <m:f>
                      <m:num>
                        <m:r>
                          <m:t xml:space="preserve">|</m:t>
                        </m:r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⟩</m:t>
                        </m:r>
                        <m:r>
                          <m:t xml:space="preserve">+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τ</m:t>
                        </m:r>
                        <m:r>
                          <m:t xml:space="preserve">⟩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3" name="Text Box 6"/>
          <p:cNvSpPr/>
          <p:nvPr/>
        </p:nvSpPr>
        <p:spPr>
          <a:xfrm>
            <a:off x="380880" y="4800600"/>
            <a:ext cx="8382240" cy="18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Given any permutation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’, I claim one can use |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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to test whether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’=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with error probability 2</a:t>
            </a:r>
            <a:r>
              <a:rPr b="0" lang="en-US" sz="2500" spc="-1" strike="noStrike" baseline="30000">
                <a:solidFill>
                  <a:srgbClr val="000000"/>
                </a:solidFill>
                <a:latin typeface="Arial"/>
              </a:rPr>
              <a:t>-k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n the other hand, |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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doesn’t seem useful for preparing 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additional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states with the same propert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6"/>
          <p:cNvSpPr/>
          <p:nvPr/>
        </p:nvSpPr>
        <p:spPr>
          <a:xfrm>
            <a:off x="914400" y="1828800"/>
            <a:ext cx="7315200" cy="947160"/>
          </a:xfrm>
          <a:prstGeom prst="rect">
            <a:avLst/>
          </a:prstGeom>
          <a:solidFill>
            <a:srgbClr val="ffffbb"/>
          </a:solidFill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heorem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is scheme is provably secure under the assumption that it can’t be brok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6"/>
          <p:cNvSpPr/>
          <p:nvPr/>
        </p:nvSpPr>
        <p:spPr>
          <a:xfrm>
            <a:off x="914400" y="2971800"/>
            <a:ext cx="7315200" cy="875880"/>
          </a:xfrm>
          <a:prstGeom prst="rect">
            <a:avLst/>
          </a:prstGeom>
          <a:solidFill>
            <a:srgbClr val="ffffbb"/>
          </a:solidFill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(Assumption is related to, but stronger than, the hardness of the Hidden Subgroup Problem over S</a:t>
            </a:r>
            <a:r>
              <a:rPr b="0" lang="en-US" sz="2400" spc="-1" strike="noStrike" baseline="-25000">
                <a:solidFill>
                  <a:srgbClr val="008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 Box 2"/>
          <p:cNvSpPr/>
          <p:nvPr/>
        </p:nvSpPr>
        <p:spPr>
          <a:xfrm>
            <a:off x="609480" y="15228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Example where quantum copy-protection is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not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 pos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6"/>
          <p:cNvSpPr/>
          <p:nvPr/>
        </p:nvSpPr>
        <p:spPr>
          <a:xfrm>
            <a:off x="304920" y="1219320"/>
            <a:ext cx="8381880" cy="543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 G be a finite group, for which we can efficiently prepare |G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(a uniform superposition over the elements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 H be a subgroup with |H|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|G|/polylog|G|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Given |H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, Watrous showed we can efficiently decide membership in H</a:t>
            </a: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heck whether |H</a:t>
            </a:r>
            <a:r>
              <a:rPr b="0" lang="en-US" sz="2400" spc="-1" strike="noStrike">
                <a:solidFill>
                  <a:srgbClr val="008000"/>
                </a:solidFill>
                <a:latin typeface="Symbol"/>
                <a:ea typeface="Symbol"/>
              </a:rPr>
              <a:t>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and |Hx</a:t>
            </a:r>
            <a:r>
              <a:rPr b="0" lang="en-US" sz="2400" spc="-1" strike="noStrike">
                <a:solidFill>
                  <a:srgbClr val="008000"/>
                </a:solidFill>
                <a:latin typeface="Symbol"/>
                <a:ea typeface="Symbol"/>
              </a:rPr>
              <a:t>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are equal or orthog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urthermore: given a program to decide membership in H, we can efficiently prepare |H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First prepare |G</a:t>
            </a:r>
            <a:r>
              <a:rPr b="0" lang="en-US" sz="2400" spc="-1" strike="noStrike">
                <a:solidFill>
                  <a:srgbClr val="008000"/>
                </a:solidFill>
                <a:latin typeface="Symbol"/>
                <a:ea typeface="Symbol"/>
              </a:rPr>
              <a:t>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, then postselect on membership in 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Conclusion: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Any program to decide membership in H can be pirated</a:t>
            </a: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But apparently, only by a “fully quantum pirat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 Box 3"/>
          <p:cNvSpPr/>
          <p:nvPr/>
        </p:nvSpPr>
        <p:spPr>
          <a:xfrm>
            <a:off x="228600" y="533520"/>
            <a:ext cx="8534520" cy="590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peculation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ver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lass of functions can be quantumly copy-protected, except the ones that can’t for trivial reasons</a:t>
            </a:r>
            <a:br>
              <a:rPr sz="2800"/>
            </a:br>
            <a:r>
              <a:rPr b="0" lang="en-US" sz="2100" spc="-1" strike="noStrike">
                <a:solidFill>
                  <a:srgbClr val="008000"/>
                </a:solidFill>
                <a:latin typeface="Arial"/>
              </a:rPr>
              <a:t>(i.e., the ones that are “quantumly learnable from inputs and outputs”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Main Result [A. 2034]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ere exists a “quantum oracle” relative to which this speculation is corr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us, even if it isn’t, we won’t be able to prove that by any “quantumly relativizing technique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econd application of my proof techniques [Mosca-Stebila]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rovably unforgeable quantum mon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(Provided there’s a quantum oracle at the cash regist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2"/>
          <p:cNvSpPr/>
          <p:nvPr/>
        </p:nvSpPr>
        <p:spPr>
          <a:xfrm>
            <a:off x="304920" y="1371600"/>
            <a:ext cx="8534160" cy="56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r each circuit C, choose a “meaningless quantum label” |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uniformly at rand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ur quantum oracle will map |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|x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|0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to |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|x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|C(x)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8000"/>
                </a:solidFill>
                <a:latin typeface="Arial"/>
              </a:rPr>
              <a:t>(and also |C</a:t>
            </a:r>
            <a:r>
              <a:rPr b="0" lang="en-US" sz="2600" spc="-1" strike="noStrike">
                <a:solidFill>
                  <a:srgbClr val="008000"/>
                </a:solidFill>
                <a:latin typeface="Symbol"/>
                <a:ea typeface="Symbol"/>
              </a:rPr>
              <a:t></a:t>
            </a:r>
            <a:r>
              <a:rPr b="0" lang="en-US" sz="2600" spc="-1" strike="noStrike">
                <a:solidFill>
                  <a:srgbClr val="008000"/>
                </a:solidFill>
                <a:latin typeface="Arial"/>
              </a:rPr>
              <a:t>|0</a:t>
            </a:r>
            <a:r>
              <a:rPr b="0" lang="en-US" sz="2600" spc="-1" strike="noStrike">
                <a:solidFill>
                  <a:srgbClr val="008000"/>
                </a:solidFill>
                <a:latin typeface="Symbol"/>
                <a:ea typeface="Symbol"/>
              </a:rPr>
              <a:t></a:t>
            </a:r>
            <a:r>
              <a:rPr b="0" lang="en-US" sz="2600" spc="-1" strike="noStrike">
                <a:solidFill>
                  <a:srgbClr val="008000"/>
                </a:solidFill>
                <a:latin typeface="Arial"/>
              </a:rPr>
              <a:t> to |C</a:t>
            </a:r>
            <a:r>
              <a:rPr b="0" lang="en-US" sz="2600" spc="-1" strike="noStrike">
                <a:solidFill>
                  <a:srgbClr val="008000"/>
                </a:solidFill>
                <a:latin typeface="Symbol"/>
                <a:ea typeface="Symbol"/>
              </a:rPr>
              <a:t></a:t>
            </a:r>
            <a:r>
              <a:rPr b="0" lang="en-US" sz="2600" spc="-1" strike="noStrike">
                <a:solidFill>
                  <a:srgbClr val="008000"/>
                </a:solidFill>
                <a:latin typeface="Arial"/>
              </a:rPr>
              <a:t>|</a:t>
            </a:r>
            <a:r>
              <a:rPr b="0" lang="en-US" sz="2600" spc="-1" strike="noStrike">
                <a:solidFill>
                  <a:srgbClr val="008000"/>
                </a:solidFill>
                <a:latin typeface="Symbol"/>
                <a:ea typeface="Symbol"/>
              </a:rPr>
              <a:t></a:t>
            </a:r>
            <a:r>
              <a:rPr b="0" lang="en-US" sz="2600" spc="-1" strike="noStrike" baseline="-25000">
                <a:solidFill>
                  <a:srgbClr val="008000"/>
                </a:solidFill>
                <a:latin typeface="Arial"/>
              </a:rPr>
              <a:t>C</a:t>
            </a:r>
            <a:r>
              <a:rPr b="0" lang="en-US" sz="2600" spc="-1" strike="noStrike">
                <a:solidFill>
                  <a:srgbClr val="008000"/>
                </a:solidFill>
                <a:latin typeface="Symbol"/>
                <a:ea typeface="Symbol"/>
              </a:rPr>
              <a:t></a:t>
            </a:r>
            <a:r>
              <a:rPr b="0" lang="en-US" sz="2600" spc="-1" strike="noStrike">
                <a:solidFill>
                  <a:srgbClr val="008000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uitively, then, having |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is “just the same as” having a black box for 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Goal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w that if C is not learnable, then |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can’t be pira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 prove this, we need to construct a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simulator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which takes any quantum algorithm that pirates |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and converts it into an algorithm that learns 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3"/>
          <p:cNvSpPr/>
          <p:nvPr/>
        </p:nvSpPr>
        <p:spPr>
          <a:xfrm>
            <a:off x="228600" y="304920"/>
            <a:ext cx="6019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Handwaving Proof Ide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6" descr=""/>
          <p:cNvPicPr/>
          <p:nvPr/>
        </p:nvPicPr>
        <p:blipFill>
          <a:blip r:embed="rId1"/>
          <a:srcRect l="0" t="0" r="0" b="36929"/>
          <a:stretch/>
        </p:blipFill>
        <p:spPr>
          <a:xfrm>
            <a:off x="6477120" y="0"/>
            <a:ext cx="2666880" cy="110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 Box 2"/>
          <p:cNvSpPr/>
          <p:nvPr/>
        </p:nvSpPr>
        <p:spPr>
          <a:xfrm>
            <a:off x="228600" y="228600"/>
            <a:ext cx="8686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Ingredient #1 in the simulator construction: a “Complexity-Theoretic No-Cloning Theorem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5"/>
          <p:cNvSpPr/>
          <p:nvPr/>
        </p:nvSpPr>
        <p:spPr>
          <a:xfrm>
            <a:off x="304920" y="2209680"/>
            <a:ext cx="8534160" cy="44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Theorem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uppose a quantum algorithm is given an n-qubit state |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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and can also access a quantum oracle U that “recognizes” |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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(i.e., maps |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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to -|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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and every |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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with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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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=0 to itself).  Then the algorithm still needs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2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n/2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queries to U to prepare the state |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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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or anything close to 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Note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Contains both the No-Cloning Theorem and the optimality of Grover search as special ca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Proof Idea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Generalization of Ambainis’s adversary metho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ext Box 2"/>
          <p:cNvSpPr/>
          <p:nvPr/>
        </p:nvSpPr>
        <p:spPr>
          <a:xfrm>
            <a:off x="228600" y="228600"/>
            <a:ext cx="86868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3399"/>
                </a:solidFill>
                <a:latin typeface="Arial"/>
              </a:rPr>
              <a:t>Ingredient #2: Pseudorandom State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5"/>
          <p:cNvSpPr/>
          <p:nvPr/>
        </p:nvSpPr>
        <p:spPr>
          <a:xfrm>
            <a:off x="228600" y="3581280"/>
            <a:ext cx="8534520" cy="307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early the |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’s can be prepared in polynomial ti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3300"/>
                </a:solidFill>
                <a:latin typeface="Arial"/>
              </a:rPr>
              <a:t>Lemma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If p is chosen uniformly at random, then |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“looks like” a completely random n-qubit state</a:t>
            </a:r>
            <a:br>
              <a:rPr sz="2600"/>
            </a:b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- Even if we get polynomially many copies of |</a:t>
            </a:r>
            <a:r>
              <a:rPr b="0" lang="en-US" sz="2400" spc="-1" strike="noStrike">
                <a:solidFill>
                  <a:srgbClr val="008000"/>
                </a:solidFill>
                <a:latin typeface="Symbol"/>
                <a:ea typeface="Symbol"/>
              </a:rPr>
              <a:t></a:t>
            </a:r>
            <a:r>
              <a:rPr b="0" lang="en-US" sz="2400" spc="-1" strike="noStrike" baseline="-25000">
                <a:solidFill>
                  <a:srgbClr val="008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8000"/>
                </a:solidFill>
                <a:latin typeface="Symbol"/>
                <a:ea typeface="Symbol"/>
              </a:rPr>
              <a:t></a:t>
            </a:r>
            <a:br>
              <a:rPr sz="2400"/>
            </a:b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- Even if we query the quantum oracle, which depends on |</a:t>
            </a:r>
            <a:r>
              <a:rPr b="0" lang="en-US" sz="2400" spc="-1" strike="noStrike">
                <a:solidFill>
                  <a:srgbClr val="008000"/>
                </a:solidFill>
                <a:latin typeface="Symbol"/>
                <a:ea typeface="Symbol"/>
              </a:rPr>
              <a:t></a:t>
            </a:r>
            <a:r>
              <a:rPr b="0" lang="en-US" sz="2400" spc="-1" strike="noStrike" baseline="-25000">
                <a:solidFill>
                  <a:srgbClr val="008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8000"/>
                </a:solidFill>
                <a:latin typeface="Symbol"/>
                <a:ea typeface="Symbol"/>
              </a:rPr>
              <a:t>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o the simulator can use |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’s in place of |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’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8"/>
          <p:cNvSpPr/>
          <p:nvPr/>
        </p:nvSpPr>
        <p:spPr>
          <a:xfrm>
            <a:off x="228600" y="2514600"/>
            <a:ext cx="861048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ere p is a degree-d univariate polynomial over GF(2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for some d=poly(n), and p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x) is the “leading bit” of p(x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7" name="Object 9"/>
              <p:cNvSpPr txBox="1"/>
              <p:nvPr/>
            </p:nvSpPr>
            <p:spPr>
              <a:xfrm>
                <a:off x="1676520" y="990720"/>
                <a:ext cx="5638680" cy="14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⟩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</m:e>
                        </m:rad>
                      </m:den>
                    </m:f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x</m:t>
                        </m:r>
                        <m:r>
                          <m:t xml:space="preserve">∈</m:t>
                        </m:r>
                        <m:r>
                          <m:rPr>
                            <m:lit/>
                            <m:nor/>
                          </m:rPr>
                          <m:t xml:space="preserve">G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</m:e>
                        </m:d>
                      </m:sub>
                      <m:sup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e>
                          <m:sup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</m:e>
                            </m:d>
                          </m:sup>
                        </m:sSup>
                        <m:r>
                          <m:t xml:space="preserve">|</m:t>
                        </m:r>
                        <m:r>
                          <m:t xml:space="preserve">x</m:t>
                        </m:r>
                        <m:r>
                          <m:t xml:space="preserve">⟩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28600" y="685800"/>
            <a:ext cx="868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Future Dire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57200" y="1981080"/>
            <a:ext cx="8305920" cy="449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3300"/>
                </a:solidFill>
                <a:latin typeface="Arial"/>
              </a:rPr>
              <a:t>Computationally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-efficient learning algorithm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Efficient algorithm to reconstruct an unknown “stabilizer state” after O(n) n-qubit measurements: [A., Gottesman], in pre-prepa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perimental implementation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Simulation of “pretty-good tomography” in MATLAB: [A., Dechter], in prog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Quantum copy-protection: get rid of the oracle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6992640" y="52920"/>
            <a:ext cx="1495440" cy="1623600"/>
            <a:chOff x="6992640" y="52920"/>
            <a:chExt cx="1495440" cy="1623600"/>
          </a:xfrm>
        </p:grpSpPr>
        <p:grpSp>
          <p:nvGrpSpPr>
            <p:cNvPr id="201" name=""/>
            <p:cNvGrpSpPr/>
            <p:nvPr/>
          </p:nvGrpSpPr>
          <p:grpSpPr>
            <a:xfrm>
              <a:off x="6992640" y="457200"/>
              <a:ext cx="558360" cy="1219320"/>
              <a:chOff x="6992640" y="457200"/>
              <a:chExt cx="558360" cy="1219320"/>
            </a:xfrm>
          </p:grpSpPr>
          <p:sp>
            <p:nvSpPr>
              <p:cNvPr id="202" name=""/>
              <p:cNvSpPr/>
              <p:nvPr/>
            </p:nvSpPr>
            <p:spPr>
              <a:xfrm>
                <a:off x="6992640" y="457200"/>
                <a:ext cx="558360" cy="1219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8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</a:t>
                </a:r>
                <a:endParaRPr b="0" lang="en-US" sz="8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3" name=""/>
            <p:cNvSpPr/>
            <p:nvPr/>
          </p:nvSpPr>
          <p:spPr>
            <a:xfrm rot="2698800">
              <a:off x="7432920" y="228600"/>
              <a:ext cx="866520" cy="892080"/>
            </a:xfrm>
            <a:prstGeom prst="triangle">
              <a:avLst>
                <a:gd name="adj" fmla="val 50000"/>
              </a:avLst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 rot="2698800">
              <a:off x="7121160" y="905040"/>
              <a:ext cx="824040" cy="144360"/>
            </a:xfrm>
            <a:prstGeom prst="ellipse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 rot="2698800">
              <a:off x="7251480" y="802800"/>
              <a:ext cx="7509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0066"/>
                  </a:solidFill>
                  <a:latin typeface="Arial Black"/>
                </a:rPr>
                <a:t>DUNC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1049040" y="52920"/>
            <a:ext cx="1495440" cy="1623600"/>
            <a:chOff x="1049040" y="52920"/>
            <a:chExt cx="1495440" cy="1623600"/>
          </a:xfrm>
        </p:grpSpPr>
        <p:grpSp>
          <p:nvGrpSpPr>
            <p:cNvPr id="207" name=""/>
            <p:cNvGrpSpPr/>
            <p:nvPr/>
          </p:nvGrpSpPr>
          <p:grpSpPr>
            <a:xfrm>
              <a:off x="1049040" y="457200"/>
              <a:ext cx="558360" cy="1219320"/>
              <a:chOff x="1049040" y="457200"/>
              <a:chExt cx="558360" cy="1219320"/>
            </a:xfrm>
          </p:grpSpPr>
          <p:sp>
            <p:nvSpPr>
              <p:cNvPr id="208" name=""/>
              <p:cNvSpPr/>
              <p:nvPr/>
            </p:nvSpPr>
            <p:spPr>
              <a:xfrm>
                <a:off x="1049040" y="457200"/>
                <a:ext cx="558360" cy="1219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8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</a:t>
                </a:r>
                <a:endParaRPr b="0" lang="en-US" sz="8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9" name=""/>
            <p:cNvSpPr/>
            <p:nvPr/>
          </p:nvSpPr>
          <p:spPr>
            <a:xfrm rot="2698800">
              <a:off x="1489320" y="228600"/>
              <a:ext cx="866520" cy="892080"/>
            </a:xfrm>
            <a:prstGeom prst="triangle">
              <a:avLst>
                <a:gd name="adj" fmla="val 50000"/>
              </a:avLst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 rot="2698800">
              <a:off x="1177560" y="905040"/>
              <a:ext cx="824040" cy="144360"/>
            </a:xfrm>
            <a:prstGeom prst="ellipse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 rot="2698800">
              <a:off x="1307880" y="802800"/>
              <a:ext cx="7509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0066"/>
                  </a:solidFill>
                  <a:latin typeface="Arial Black"/>
                </a:rPr>
                <a:t>DUNC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52280" y="304920"/>
            <a:ext cx="8839440" cy="11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3399"/>
                </a:solidFill>
                <a:latin typeface="Arial"/>
              </a:rPr>
              <a:t>Starting Point For This Work: A Practical Problem In Experimental Physics (!)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04920" y="1523880"/>
            <a:ext cx="85341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(well, actually the starting point was whether BQP/qpoly </a:t>
            </a: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QMA/poly … but let’s say it was experimental physics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2590920"/>
            <a:ext cx="8305920" cy="38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We have an unknown quantum state </a:t>
            </a:r>
            <a:r>
              <a:rPr b="0" lang="en-CA" sz="26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 (possibly involving many entangled partic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We can reliably produce as many copies of </a:t>
            </a:r>
            <a:r>
              <a:rPr b="0" lang="en-CA" sz="26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 as we want, and measure each copy in a different basi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Our goal is to learn an (approximate) classical description of </a:t>
            </a:r>
            <a:r>
              <a:rPr b="0" lang="en-CA" sz="26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The physicists call this </a:t>
            </a:r>
            <a:r>
              <a:rPr b="1" lang="en-CA" sz="2600" spc="-1" strike="noStrike">
                <a:solidFill>
                  <a:srgbClr val="ff0000"/>
                </a:solidFill>
                <a:latin typeface="Arial"/>
              </a:rPr>
              <a:t>quantum state tomography.</a:t>
            </a: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 There are whole books, conferences, etc. about 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8600" y="228600"/>
            <a:ext cx="868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But there’s a problem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1066680"/>
            <a:ext cx="8458200" cy="53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number of measurements needed grows exponentially with the number of particles</a:t>
            </a:r>
            <a:br>
              <a:rPr sz="2800"/>
            </a:b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(Indeed, even just writing down the state takes exponentially many bi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n the physicists know this is a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urrent record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mography of an 8-qubit state [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äffner et al.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, 200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d 656,000 measurements, each repeated 1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, can a generic state of 10,000 particles never be “learned” within the lifetime of the universe?</a:t>
            </a:r>
            <a:br>
              <a:rPr sz="2800"/>
            </a:b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(One can hear the QC skeptics crowing: “It’s just like how we said!”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380880"/>
            <a:ext cx="868680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3399"/>
                </a:solidFill>
                <a:latin typeface="Arial"/>
              </a:rPr>
              <a:t>A completely irrelevant detour into quantum coding lower bounds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1981080"/>
            <a:ext cx="8382240" cy="45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rkeley.  1999.  Ambainis, Nayak, Ta-Shma, and Vazirani want to encode a classical string x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…x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into a quantum state |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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with o(n) qubits, such that by measuring |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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in an appropriate basis, you can recover any bit x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of your cho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y prove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this is impossible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“quantum random access codes” do no better than classical cod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Upshot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An n-qubit state has ~2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egrees of freedom, but only ~n “independent and reliably-measurable” degrees of freed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8600" y="304920"/>
            <a:ext cx="868680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3399"/>
                </a:solidFill>
                <a:latin typeface="Arial"/>
              </a:rPr>
              <a:t>All I did: turned Ambainis et al.’s qulemon into qulemonade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2057400" y="1828800"/>
            <a:ext cx="5214960" cy="993240"/>
            <a:chOff x="2057400" y="1828800"/>
            <a:chExt cx="5214960" cy="993240"/>
          </a:xfrm>
        </p:grpSpPr>
        <p:grpSp>
          <p:nvGrpSpPr>
            <p:cNvPr id="68" name=""/>
            <p:cNvGrpSpPr/>
            <p:nvPr/>
          </p:nvGrpSpPr>
          <p:grpSpPr>
            <a:xfrm>
              <a:off x="2057400" y="1855440"/>
              <a:ext cx="1026720" cy="909000"/>
              <a:chOff x="2057400" y="1855440"/>
              <a:chExt cx="1026720" cy="909000"/>
            </a:xfrm>
          </p:grpSpPr>
          <p:sp>
            <p:nvSpPr>
              <p:cNvPr id="69" name=""/>
              <p:cNvSpPr/>
              <p:nvPr/>
            </p:nvSpPr>
            <p:spPr>
              <a:xfrm flipH="1">
                <a:off x="2231280" y="1868400"/>
                <a:ext cx="834120" cy="810000"/>
              </a:xfrm>
              <a:custGeom>
                <a:avLst/>
                <a:gdLst/>
                <a:ahLst/>
                <a:rect l="l" t="t" r="r" b="b"/>
                <a:pathLst>
                  <a:path w="1260" h="1226">
                    <a:moveTo>
                      <a:pt x="9" y="733"/>
                    </a:moveTo>
                    <a:lnTo>
                      <a:pt x="7" y="733"/>
                    </a:lnTo>
                    <a:lnTo>
                      <a:pt x="7" y="737"/>
                    </a:lnTo>
                    <a:lnTo>
                      <a:pt x="7" y="743"/>
                    </a:lnTo>
                    <a:lnTo>
                      <a:pt x="6" y="751"/>
                    </a:lnTo>
                    <a:lnTo>
                      <a:pt x="4" y="758"/>
                    </a:lnTo>
                    <a:lnTo>
                      <a:pt x="4" y="770"/>
                    </a:lnTo>
                    <a:lnTo>
                      <a:pt x="2" y="775"/>
                    </a:lnTo>
                    <a:lnTo>
                      <a:pt x="2" y="781"/>
                    </a:lnTo>
                    <a:lnTo>
                      <a:pt x="2" y="789"/>
                    </a:lnTo>
                    <a:lnTo>
                      <a:pt x="2" y="796"/>
                    </a:lnTo>
                    <a:lnTo>
                      <a:pt x="0" y="802"/>
                    </a:lnTo>
                    <a:lnTo>
                      <a:pt x="0" y="810"/>
                    </a:lnTo>
                    <a:lnTo>
                      <a:pt x="0" y="819"/>
                    </a:lnTo>
                    <a:lnTo>
                      <a:pt x="0" y="827"/>
                    </a:lnTo>
                    <a:lnTo>
                      <a:pt x="0" y="834"/>
                    </a:lnTo>
                    <a:lnTo>
                      <a:pt x="0" y="844"/>
                    </a:lnTo>
                    <a:lnTo>
                      <a:pt x="0" y="853"/>
                    </a:lnTo>
                    <a:lnTo>
                      <a:pt x="0" y="863"/>
                    </a:lnTo>
                    <a:lnTo>
                      <a:pt x="0" y="870"/>
                    </a:lnTo>
                    <a:lnTo>
                      <a:pt x="0" y="882"/>
                    </a:lnTo>
                    <a:lnTo>
                      <a:pt x="0" y="889"/>
                    </a:lnTo>
                    <a:lnTo>
                      <a:pt x="2" y="901"/>
                    </a:lnTo>
                    <a:lnTo>
                      <a:pt x="2" y="910"/>
                    </a:lnTo>
                    <a:lnTo>
                      <a:pt x="4" y="920"/>
                    </a:lnTo>
                    <a:lnTo>
                      <a:pt x="4" y="929"/>
                    </a:lnTo>
                    <a:lnTo>
                      <a:pt x="7" y="941"/>
                    </a:lnTo>
                    <a:lnTo>
                      <a:pt x="7" y="950"/>
                    </a:lnTo>
                    <a:lnTo>
                      <a:pt x="9" y="962"/>
                    </a:lnTo>
                    <a:lnTo>
                      <a:pt x="9" y="971"/>
                    </a:lnTo>
                    <a:lnTo>
                      <a:pt x="13" y="981"/>
                    </a:lnTo>
                    <a:lnTo>
                      <a:pt x="13" y="992"/>
                    </a:lnTo>
                    <a:lnTo>
                      <a:pt x="17" y="1001"/>
                    </a:lnTo>
                    <a:lnTo>
                      <a:pt x="21" y="1011"/>
                    </a:lnTo>
                    <a:lnTo>
                      <a:pt x="25" y="1022"/>
                    </a:lnTo>
                    <a:lnTo>
                      <a:pt x="26" y="1030"/>
                    </a:lnTo>
                    <a:lnTo>
                      <a:pt x="28" y="1041"/>
                    </a:lnTo>
                    <a:lnTo>
                      <a:pt x="32" y="1049"/>
                    </a:lnTo>
                    <a:lnTo>
                      <a:pt x="38" y="1060"/>
                    </a:lnTo>
                    <a:lnTo>
                      <a:pt x="40" y="1070"/>
                    </a:lnTo>
                    <a:lnTo>
                      <a:pt x="45" y="1079"/>
                    </a:lnTo>
                    <a:lnTo>
                      <a:pt x="51" y="1087"/>
                    </a:lnTo>
                    <a:lnTo>
                      <a:pt x="57" y="1098"/>
                    </a:lnTo>
                    <a:lnTo>
                      <a:pt x="61" y="1104"/>
                    </a:lnTo>
                    <a:lnTo>
                      <a:pt x="66" y="1114"/>
                    </a:lnTo>
                    <a:lnTo>
                      <a:pt x="72" y="1121"/>
                    </a:lnTo>
                    <a:lnTo>
                      <a:pt x="80" y="1131"/>
                    </a:lnTo>
                    <a:lnTo>
                      <a:pt x="85" y="1138"/>
                    </a:lnTo>
                    <a:lnTo>
                      <a:pt x="93" y="1146"/>
                    </a:lnTo>
                    <a:lnTo>
                      <a:pt x="101" y="1153"/>
                    </a:lnTo>
                    <a:lnTo>
                      <a:pt x="110" y="1159"/>
                    </a:lnTo>
                    <a:lnTo>
                      <a:pt x="116" y="1165"/>
                    </a:lnTo>
                    <a:lnTo>
                      <a:pt x="127" y="1171"/>
                    </a:lnTo>
                    <a:lnTo>
                      <a:pt x="135" y="1176"/>
                    </a:lnTo>
                    <a:lnTo>
                      <a:pt x="144" y="1184"/>
                    </a:lnTo>
                    <a:lnTo>
                      <a:pt x="154" y="1188"/>
                    </a:lnTo>
                    <a:lnTo>
                      <a:pt x="165" y="1191"/>
                    </a:lnTo>
                    <a:lnTo>
                      <a:pt x="177" y="1195"/>
                    </a:lnTo>
                    <a:lnTo>
                      <a:pt x="188" y="1201"/>
                    </a:lnTo>
                    <a:lnTo>
                      <a:pt x="199" y="1201"/>
                    </a:lnTo>
                    <a:lnTo>
                      <a:pt x="211" y="1205"/>
                    </a:lnTo>
                    <a:lnTo>
                      <a:pt x="222" y="1207"/>
                    </a:lnTo>
                    <a:lnTo>
                      <a:pt x="234" y="1211"/>
                    </a:lnTo>
                    <a:lnTo>
                      <a:pt x="245" y="1211"/>
                    </a:lnTo>
                    <a:lnTo>
                      <a:pt x="256" y="1214"/>
                    </a:lnTo>
                    <a:lnTo>
                      <a:pt x="266" y="1214"/>
                    </a:lnTo>
                    <a:lnTo>
                      <a:pt x="279" y="1218"/>
                    </a:lnTo>
                    <a:lnTo>
                      <a:pt x="291" y="1218"/>
                    </a:lnTo>
                    <a:lnTo>
                      <a:pt x="300" y="1218"/>
                    </a:lnTo>
                    <a:lnTo>
                      <a:pt x="312" y="1220"/>
                    </a:lnTo>
                    <a:lnTo>
                      <a:pt x="325" y="1222"/>
                    </a:lnTo>
                    <a:lnTo>
                      <a:pt x="334" y="1222"/>
                    </a:lnTo>
                    <a:lnTo>
                      <a:pt x="346" y="1222"/>
                    </a:lnTo>
                    <a:lnTo>
                      <a:pt x="357" y="1224"/>
                    </a:lnTo>
                    <a:lnTo>
                      <a:pt x="369" y="1226"/>
                    </a:lnTo>
                    <a:lnTo>
                      <a:pt x="380" y="1224"/>
                    </a:lnTo>
                    <a:lnTo>
                      <a:pt x="389" y="1224"/>
                    </a:lnTo>
                    <a:lnTo>
                      <a:pt x="401" y="1224"/>
                    </a:lnTo>
                    <a:lnTo>
                      <a:pt x="412" y="1224"/>
                    </a:lnTo>
                    <a:lnTo>
                      <a:pt x="422" y="1222"/>
                    </a:lnTo>
                    <a:lnTo>
                      <a:pt x="433" y="1222"/>
                    </a:lnTo>
                    <a:lnTo>
                      <a:pt x="445" y="1222"/>
                    </a:lnTo>
                    <a:lnTo>
                      <a:pt x="454" y="1222"/>
                    </a:lnTo>
                    <a:lnTo>
                      <a:pt x="466" y="1222"/>
                    </a:lnTo>
                    <a:lnTo>
                      <a:pt x="475" y="1220"/>
                    </a:lnTo>
                    <a:lnTo>
                      <a:pt x="485" y="1218"/>
                    </a:lnTo>
                    <a:lnTo>
                      <a:pt x="494" y="1218"/>
                    </a:lnTo>
                    <a:lnTo>
                      <a:pt x="504" y="1216"/>
                    </a:lnTo>
                    <a:lnTo>
                      <a:pt x="513" y="1214"/>
                    </a:lnTo>
                    <a:lnTo>
                      <a:pt x="523" y="1214"/>
                    </a:lnTo>
                    <a:lnTo>
                      <a:pt x="534" y="1214"/>
                    </a:lnTo>
                    <a:lnTo>
                      <a:pt x="540" y="1211"/>
                    </a:lnTo>
                    <a:lnTo>
                      <a:pt x="549" y="1211"/>
                    </a:lnTo>
                    <a:lnTo>
                      <a:pt x="557" y="1209"/>
                    </a:lnTo>
                    <a:lnTo>
                      <a:pt x="566" y="1209"/>
                    </a:lnTo>
                    <a:lnTo>
                      <a:pt x="574" y="1205"/>
                    </a:lnTo>
                    <a:lnTo>
                      <a:pt x="581" y="1205"/>
                    </a:lnTo>
                    <a:lnTo>
                      <a:pt x="589" y="1201"/>
                    </a:lnTo>
                    <a:lnTo>
                      <a:pt x="599" y="1201"/>
                    </a:lnTo>
                    <a:lnTo>
                      <a:pt x="604" y="1199"/>
                    </a:lnTo>
                    <a:lnTo>
                      <a:pt x="612" y="1197"/>
                    </a:lnTo>
                    <a:lnTo>
                      <a:pt x="619" y="1197"/>
                    </a:lnTo>
                    <a:lnTo>
                      <a:pt x="625" y="1195"/>
                    </a:lnTo>
                    <a:lnTo>
                      <a:pt x="638" y="1193"/>
                    </a:lnTo>
                    <a:lnTo>
                      <a:pt x="650" y="1191"/>
                    </a:lnTo>
                    <a:lnTo>
                      <a:pt x="659" y="1188"/>
                    </a:lnTo>
                    <a:lnTo>
                      <a:pt x="669" y="1184"/>
                    </a:lnTo>
                    <a:lnTo>
                      <a:pt x="676" y="1182"/>
                    </a:lnTo>
                    <a:lnTo>
                      <a:pt x="684" y="1180"/>
                    </a:lnTo>
                    <a:lnTo>
                      <a:pt x="692" y="1178"/>
                    </a:lnTo>
                    <a:lnTo>
                      <a:pt x="696" y="1178"/>
                    </a:lnTo>
                    <a:lnTo>
                      <a:pt x="696" y="1176"/>
                    </a:lnTo>
                    <a:lnTo>
                      <a:pt x="701" y="1174"/>
                    </a:lnTo>
                    <a:lnTo>
                      <a:pt x="707" y="1171"/>
                    </a:lnTo>
                    <a:lnTo>
                      <a:pt x="718" y="1167"/>
                    </a:lnTo>
                    <a:lnTo>
                      <a:pt x="722" y="1163"/>
                    </a:lnTo>
                    <a:lnTo>
                      <a:pt x="728" y="1159"/>
                    </a:lnTo>
                    <a:lnTo>
                      <a:pt x="735" y="1155"/>
                    </a:lnTo>
                    <a:lnTo>
                      <a:pt x="743" y="1152"/>
                    </a:lnTo>
                    <a:lnTo>
                      <a:pt x="749" y="1146"/>
                    </a:lnTo>
                    <a:lnTo>
                      <a:pt x="758" y="1142"/>
                    </a:lnTo>
                    <a:lnTo>
                      <a:pt x="766" y="1136"/>
                    </a:lnTo>
                    <a:lnTo>
                      <a:pt x="777" y="1133"/>
                    </a:lnTo>
                    <a:lnTo>
                      <a:pt x="785" y="1125"/>
                    </a:lnTo>
                    <a:lnTo>
                      <a:pt x="794" y="1119"/>
                    </a:lnTo>
                    <a:lnTo>
                      <a:pt x="804" y="1112"/>
                    </a:lnTo>
                    <a:lnTo>
                      <a:pt x="815" y="1106"/>
                    </a:lnTo>
                    <a:lnTo>
                      <a:pt x="825" y="1098"/>
                    </a:lnTo>
                    <a:lnTo>
                      <a:pt x="836" y="1091"/>
                    </a:lnTo>
                    <a:lnTo>
                      <a:pt x="848" y="1085"/>
                    </a:lnTo>
                    <a:lnTo>
                      <a:pt x="859" y="1077"/>
                    </a:lnTo>
                    <a:lnTo>
                      <a:pt x="870" y="1066"/>
                    </a:lnTo>
                    <a:lnTo>
                      <a:pt x="882" y="1058"/>
                    </a:lnTo>
                    <a:lnTo>
                      <a:pt x="893" y="1049"/>
                    </a:lnTo>
                    <a:lnTo>
                      <a:pt x="907" y="1041"/>
                    </a:lnTo>
                    <a:lnTo>
                      <a:pt x="918" y="1032"/>
                    </a:lnTo>
                    <a:lnTo>
                      <a:pt x="931" y="1022"/>
                    </a:lnTo>
                    <a:lnTo>
                      <a:pt x="945" y="1013"/>
                    </a:lnTo>
                    <a:lnTo>
                      <a:pt x="958" y="1003"/>
                    </a:lnTo>
                    <a:lnTo>
                      <a:pt x="969" y="992"/>
                    </a:lnTo>
                    <a:lnTo>
                      <a:pt x="983" y="981"/>
                    </a:lnTo>
                    <a:lnTo>
                      <a:pt x="992" y="969"/>
                    </a:lnTo>
                    <a:lnTo>
                      <a:pt x="1005" y="958"/>
                    </a:lnTo>
                    <a:lnTo>
                      <a:pt x="1019" y="946"/>
                    </a:lnTo>
                    <a:lnTo>
                      <a:pt x="1030" y="933"/>
                    </a:lnTo>
                    <a:lnTo>
                      <a:pt x="1043" y="922"/>
                    </a:lnTo>
                    <a:lnTo>
                      <a:pt x="1057" y="908"/>
                    </a:lnTo>
                    <a:lnTo>
                      <a:pt x="1068" y="895"/>
                    </a:lnTo>
                    <a:lnTo>
                      <a:pt x="1079" y="882"/>
                    </a:lnTo>
                    <a:lnTo>
                      <a:pt x="1091" y="868"/>
                    </a:lnTo>
                    <a:lnTo>
                      <a:pt x="1102" y="855"/>
                    </a:lnTo>
                    <a:lnTo>
                      <a:pt x="1114" y="840"/>
                    </a:lnTo>
                    <a:lnTo>
                      <a:pt x="1125" y="827"/>
                    </a:lnTo>
                    <a:lnTo>
                      <a:pt x="1137" y="813"/>
                    </a:lnTo>
                    <a:lnTo>
                      <a:pt x="1146" y="798"/>
                    </a:lnTo>
                    <a:lnTo>
                      <a:pt x="1156" y="783"/>
                    </a:lnTo>
                    <a:lnTo>
                      <a:pt x="1165" y="768"/>
                    </a:lnTo>
                    <a:lnTo>
                      <a:pt x="1175" y="752"/>
                    </a:lnTo>
                    <a:lnTo>
                      <a:pt x="1184" y="737"/>
                    </a:lnTo>
                    <a:lnTo>
                      <a:pt x="1192" y="720"/>
                    </a:lnTo>
                    <a:lnTo>
                      <a:pt x="1201" y="705"/>
                    </a:lnTo>
                    <a:lnTo>
                      <a:pt x="1209" y="690"/>
                    </a:lnTo>
                    <a:lnTo>
                      <a:pt x="1216" y="673"/>
                    </a:lnTo>
                    <a:lnTo>
                      <a:pt x="1222" y="656"/>
                    </a:lnTo>
                    <a:lnTo>
                      <a:pt x="1228" y="638"/>
                    </a:lnTo>
                    <a:lnTo>
                      <a:pt x="1233" y="621"/>
                    </a:lnTo>
                    <a:lnTo>
                      <a:pt x="1239" y="604"/>
                    </a:lnTo>
                    <a:lnTo>
                      <a:pt x="1243" y="585"/>
                    </a:lnTo>
                    <a:lnTo>
                      <a:pt x="1247" y="568"/>
                    </a:lnTo>
                    <a:lnTo>
                      <a:pt x="1251" y="551"/>
                    </a:lnTo>
                    <a:lnTo>
                      <a:pt x="1254" y="534"/>
                    </a:lnTo>
                    <a:lnTo>
                      <a:pt x="1256" y="515"/>
                    </a:lnTo>
                    <a:lnTo>
                      <a:pt x="1256" y="496"/>
                    </a:lnTo>
                    <a:lnTo>
                      <a:pt x="1258" y="479"/>
                    </a:lnTo>
                    <a:lnTo>
                      <a:pt x="1260" y="462"/>
                    </a:lnTo>
                    <a:lnTo>
                      <a:pt x="1260" y="443"/>
                    </a:lnTo>
                    <a:lnTo>
                      <a:pt x="1260" y="428"/>
                    </a:lnTo>
                    <a:lnTo>
                      <a:pt x="1260" y="410"/>
                    </a:lnTo>
                    <a:lnTo>
                      <a:pt x="1260" y="397"/>
                    </a:lnTo>
                    <a:lnTo>
                      <a:pt x="1260" y="380"/>
                    </a:lnTo>
                    <a:lnTo>
                      <a:pt x="1258" y="365"/>
                    </a:lnTo>
                    <a:lnTo>
                      <a:pt x="1256" y="350"/>
                    </a:lnTo>
                    <a:lnTo>
                      <a:pt x="1256" y="336"/>
                    </a:lnTo>
                    <a:lnTo>
                      <a:pt x="1254" y="321"/>
                    </a:lnTo>
                    <a:lnTo>
                      <a:pt x="1252" y="308"/>
                    </a:lnTo>
                    <a:lnTo>
                      <a:pt x="1251" y="294"/>
                    </a:lnTo>
                    <a:lnTo>
                      <a:pt x="1249" y="283"/>
                    </a:lnTo>
                    <a:lnTo>
                      <a:pt x="1245" y="270"/>
                    </a:lnTo>
                    <a:lnTo>
                      <a:pt x="1241" y="256"/>
                    </a:lnTo>
                    <a:lnTo>
                      <a:pt x="1239" y="245"/>
                    </a:lnTo>
                    <a:lnTo>
                      <a:pt x="1235" y="234"/>
                    </a:lnTo>
                    <a:lnTo>
                      <a:pt x="1232" y="222"/>
                    </a:lnTo>
                    <a:lnTo>
                      <a:pt x="1228" y="211"/>
                    </a:lnTo>
                    <a:lnTo>
                      <a:pt x="1224" y="201"/>
                    </a:lnTo>
                    <a:lnTo>
                      <a:pt x="1220" y="192"/>
                    </a:lnTo>
                    <a:lnTo>
                      <a:pt x="1214" y="180"/>
                    </a:lnTo>
                    <a:lnTo>
                      <a:pt x="1211" y="171"/>
                    </a:lnTo>
                    <a:lnTo>
                      <a:pt x="1205" y="160"/>
                    </a:lnTo>
                    <a:lnTo>
                      <a:pt x="1201" y="154"/>
                    </a:lnTo>
                    <a:lnTo>
                      <a:pt x="1194" y="142"/>
                    </a:lnTo>
                    <a:lnTo>
                      <a:pt x="1188" y="135"/>
                    </a:lnTo>
                    <a:lnTo>
                      <a:pt x="1182" y="127"/>
                    </a:lnTo>
                    <a:lnTo>
                      <a:pt x="1176" y="120"/>
                    </a:lnTo>
                    <a:lnTo>
                      <a:pt x="1171" y="112"/>
                    </a:lnTo>
                    <a:lnTo>
                      <a:pt x="1163" y="104"/>
                    </a:lnTo>
                    <a:lnTo>
                      <a:pt x="1156" y="97"/>
                    </a:lnTo>
                    <a:lnTo>
                      <a:pt x="1148" y="91"/>
                    </a:lnTo>
                    <a:lnTo>
                      <a:pt x="1138" y="84"/>
                    </a:lnTo>
                    <a:lnTo>
                      <a:pt x="1133" y="78"/>
                    </a:lnTo>
                    <a:lnTo>
                      <a:pt x="1125" y="70"/>
                    </a:lnTo>
                    <a:lnTo>
                      <a:pt x="1117" y="66"/>
                    </a:lnTo>
                    <a:lnTo>
                      <a:pt x="1108" y="61"/>
                    </a:lnTo>
                    <a:lnTo>
                      <a:pt x="1100" y="55"/>
                    </a:lnTo>
                    <a:lnTo>
                      <a:pt x="1091" y="49"/>
                    </a:lnTo>
                    <a:lnTo>
                      <a:pt x="1083" y="46"/>
                    </a:lnTo>
                    <a:lnTo>
                      <a:pt x="1074" y="40"/>
                    </a:lnTo>
                    <a:lnTo>
                      <a:pt x="1064" y="36"/>
                    </a:lnTo>
                    <a:lnTo>
                      <a:pt x="1055" y="34"/>
                    </a:lnTo>
                    <a:lnTo>
                      <a:pt x="1047" y="30"/>
                    </a:lnTo>
                    <a:lnTo>
                      <a:pt x="1036" y="27"/>
                    </a:lnTo>
                    <a:lnTo>
                      <a:pt x="1026" y="23"/>
                    </a:lnTo>
                    <a:lnTo>
                      <a:pt x="1017" y="19"/>
                    </a:lnTo>
                    <a:lnTo>
                      <a:pt x="1005" y="17"/>
                    </a:lnTo>
                    <a:lnTo>
                      <a:pt x="996" y="13"/>
                    </a:lnTo>
                    <a:lnTo>
                      <a:pt x="984" y="11"/>
                    </a:lnTo>
                    <a:lnTo>
                      <a:pt x="973" y="9"/>
                    </a:lnTo>
                    <a:lnTo>
                      <a:pt x="964" y="8"/>
                    </a:lnTo>
                    <a:lnTo>
                      <a:pt x="950" y="6"/>
                    </a:lnTo>
                    <a:lnTo>
                      <a:pt x="941" y="4"/>
                    </a:lnTo>
                    <a:lnTo>
                      <a:pt x="929" y="2"/>
                    </a:lnTo>
                    <a:lnTo>
                      <a:pt x="918" y="2"/>
                    </a:lnTo>
                    <a:lnTo>
                      <a:pt x="907" y="0"/>
                    </a:lnTo>
                    <a:lnTo>
                      <a:pt x="895" y="0"/>
                    </a:lnTo>
                    <a:lnTo>
                      <a:pt x="884" y="0"/>
                    </a:lnTo>
                    <a:lnTo>
                      <a:pt x="872" y="0"/>
                    </a:lnTo>
                    <a:lnTo>
                      <a:pt x="859" y="0"/>
                    </a:lnTo>
                    <a:lnTo>
                      <a:pt x="846" y="0"/>
                    </a:lnTo>
                    <a:lnTo>
                      <a:pt x="834" y="0"/>
                    </a:lnTo>
                    <a:lnTo>
                      <a:pt x="823" y="0"/>
                    </a:lnTo>
                    <a:lnTo>
                      <a:pt x="810" y="0"/>
                    </a:lnTo>
                    <a:lnTo>
                      <a:pt x="798" y="2"/>
                    </a:lnTo>
                    <a:lnTo>
                      <a:pt x="785" y="2"/>
                    </a:lnTo>
                    <a:lnTo>
                      <a:pt x="773" y="6"/>
                    </a:lnTo>
                    <a:lnTo>
                      <a:pt x="762" y="6"/>
                    </a:lnTo>
                    <a:lnTo>
                      <a:pt x="749" y="8"/>
                    </a:lnTo>
                    <a:lnTo>
                      <a:pt x="737" y="9"/>
                    </a:lnTo>
                    <a:lnTo>
                      <a:pt x="726" y="13"/>
                    </a:lnTo>
                    <a:lnTo>
                      <a:pt x="715" y="15"/>
                    </a:lnTo>
                    <a:lnTo>
                      <a:pt x="703" y="19"/>
                    </a:lnTo>
                    <a:lnTo>
                      <a:pt x="692" y="23"/>
                    </a:lnTo>
                    <a:lnTo>
                      <a:pt x="680" y="27"/>
                    </a:lnTo>
                    <a:lnTo>
                      <a:pt x="669" y="28"/>
                    </a:lnTo>
                    <a:lnTo>
                      <a:pt x="657" y="32"/>
                    </a:lnTo>
                    <a:lnTo>
                      <a:pt x="644" y="36"/>
                    </a:lnTo>
                    <a:lnTo>
                      <a:pt x="633" y="40"/>
                    </a:lnTo>
                    <a:lnTo>
                      <a:pt x="623" y="44"/>
                    </a:lnTo>
                    <a:lnTo>
                      <a:pt x="612" y="47"/>
                    </a:lnTo>
                    <a:lnTo>
                      <a:pt x="600" y="53"/>
                    </a:lnTo>
                    <a:lnTo>
                      <a:pt x="589" y="59"/>
                    </a:lnTo>
                    <a:lnTo>
                      <a:pt x="578" y="63"/>
                    </a:lnTo>
                    <a:lnTo>
                      <a:pt x="566" y="68"/>
                    </a:lnTo>
                    <a:lnTo>
                      <a:pt x="555" y="74"/>
                    </a:lnTo>
                    <a:lnTo>
                      <a:pt x="543" y="80"/>
                    </a:lnTo>
                    <a:lnTo>
                      <a:pt x="534" y="85"/>
                    </a:lnTo>
                    <a:lnTo>
                      <a:pt x="523" y="91"/>
                    </a:lnTo>
                    <a:lnTo>
                      <a:pt x="513" y="95"/>
                    </a:lnTo>
                    <a:lnTo>
                      <a:pt x="504" y="103"/>
                    </a:lnTo>
                    <a:lnTo>
                      <a:pt x="492" y="108"/>
                    </a:lnTo>
                    <a:lnTo>
                      <a:pt x="481" y="114"/>
                    </a:lnTo>
                    <a:lnTo>
                      <a:pt x="469" y="120"/>
                    </a:lnTo>
                    <a:lnTo>
                      <a:pt x="458" y="127"/>
                    </a:lnTo>
                    <a:lnTo>
                      <a:pt x="448" y="133"/>
                    </a:lnTo>
                    <a:lnTo>
                      <a:pt x="437" y="141"/>
                    </a:lnTo>
                    <a:lnTo>
                      <a:pt x="427" y="146"/>
                    </a:lnTo>
                    <a:lnTo>
                      <a:pt x="418" y="154"/>
                    </a:lnTo>
                    <a:lnTo>
                      <a:pt x="407" y="160"/>
                    </a:lnTo>
                    <a:lnTo>
                      <a:pt x="399" y="167"/>
                    </a:lnTo>
                    <a:lnTo>
                      <a:pt x="388" y="175"/>
                    </a:lnTo>
                    <a:lnTo>
                      <a:pt x="380" y="180"/>
                    </a:lnTo>
                    <a:lnTo>
                      <a:pt x="369" y="188"/>
                    </a:lnTo>
                    <a:lnTo>
                      <a:pt x="361" y="196"/>
                    </a:lnTo>
                    <a:lnTo>
                      <a:pt x="351" y="203"/>
                    </a:lnTo>
                    <a:lnTo>
                      <a:pt x="342" y="211"/>
                    </a:lnTo>
                    <a:lnTo>
                      <a:pt x="332" y="218"/>
                    </a:lnTo>
                    <a:lnTo>
                      <a:pt x="325" y="226"/>
                    </a:lnTo>
                    <a:lnTo>
                      <a:pt x="315" y="234"/>
                    </a:lnTo>
                    <a:lnTo>
                      <a:pt x="306" y="241"/>
                    </a:lnTo>
                    <a:lnTo>
                      <a:pt x="298" y="249"/>
                    </a:lnTo>
                    <a:lnTo>
                      <a:pt x="289" y="256"/>
                    </a:lnTo>
                    <a:lnTo>
                      <a:pt x="281" y="264"/>
                    </a:lnTo>
                    <a:lnTo>
                      <a:pt x="274" y="272"/>
                    </a:lnTo>
                    <a:lnTo>
                      <a:pt x="264" y="279"/>
                    </a:lnTo>
                    <a:lnTo>
                      <a:pt x="256" y="287"/>
                    </a:lnTo>
                    <a:lnTo>
                      <a:pt x="247" y="294"/>
                    </a:lnTo>
                    <a:lnTo>
                      <a:pt x="239" y="304"/>
                    </a:lnTo>
                    <a:lnTo>
                      <a:pt x="232" y="312"/>
                    </a:lnTo>
                    <a:lnTo>
                      <a:pt x="226" y="317"/>
                    </a:lnTo>
                    <a:lnTo>
                      <a:pt x="218" y="327"/>
                    </a:lnTo>
                    <a:lnTo>
                      <a:pt x="213" y="334"/>
                    </a:lnTo>
                    <a:lnTo>
                      <a:pt x="205" y="342"/>
                    </a:lnTo>
                    <a:lnTo>
                      <a:pt x="197" y="350"/>
                    </a:lnTo>
                    <a:lnTo>
                      <a:pt x="190" y="357"/>
                    </a:lnTo>
                    <a:lnTo>
                      <a:pt x="182" y="367"/>
                    </a:lnTo>
                    <a:lnTo>
                      <a:pt x="175" y="374"/>
                    </a:lnTo>
                    <a:lnTo>
                      <a:pt x="169" y="382"/>
                    </a:lnTo>
                    <a:lnTo>
                      <a:pt x="163" y="391"/>
                    </a:lnTo>
                    <a:lnTo>
                      <a:pt x="158" y="399"/>
                    </a:lnTo>
                    <a:lnTo>
                      <a:pt x="150" y="407"/>
                    </a:lnTo>
                    <a:lnTo>
                      <a:pt x="144" y="414"/>
                    </a:lnTo>
                    <a:lnTo>
                      <a:pt x="139" y="424"/>
                    </a:lnTo>
                    <a:lnTo>
                      <a:pt x="133" y="431"/>
                    </a:lnTo>
                    <a:lnTo>
                      <a:pt x="127" y="439"/>
                    </a:lnTo>
                    <a:lnTo>
                      <a:pt x="123" y="448"/>
                    </a:lnTo>
                    <a:lnTo>
                      <a:pt x="118" y="456"/>
                    </a:lnTo>
                    <a:lnTo>
                      <a:pt x="114" y="466"/>
                    </a:lnTo>
                    <a:lnTo>
                      <a:pt x="108" y="473"/>
                    </a:lnTo>
                    <a:lnTo>
                      <a:pt x="102" y="483"/>
                    </a:lnTo>
                    <a:lnTo>
                      <a:pt x="99" y="490"/>
                    </a:lnTo>
                    <a:lnTo>
                      <a:pt x="95" y="500"/>
                    </a:lnTo>
                    <a:lnTo>
                      <a:pt x="89" y="507"/>
                    </a:lnTo>
                    <a:lnTo>
                      <a:pt x="85" y="515"/>
                    </a:lnTo>
                    <a:lnTo>
                      <a:pt x="82" y="524"/>
                    </a:lnTo>
                    <a:lnTo>
                      <a:pt x="78" y="532"/>
                    </a:lnTo>
                    <a:lnTo>
                      <a:pt x="74" y="540"/>
                    </a:lnTo>
                    <a:lnTo>
                      <a:pt x="70" y="549"/>
                    </a:lnTo>
                    <a:lnTo>
                      <a:pt x="66" y="555"/>
                    </a:lnTo>
                    <a:lnTo>
                      <a:pt x="63" y="564"/>
                    </a:lnTo>
                    <a:lnTo>
                      <a:pt x="59" y="572"/>
                    </a:lnTo>
                    <a:lnTo>
                      <a:pt x="57" y="580"/>
                    </a:lnTo>
                    <a:lnTo>
                      <a:pt x="55" y="587"/>
                    </a:lnTo>
                    <a:lnTo>
                      <a:pt x="51" y="597"/>
                    </a:lnTo>
                    <a:lnTo>
                      <a:pt x="47" y="602"/>
                    </a:lnTo>
                    <a:lnTo>
                      <a:pt x="44" y="610"/>
                    </a:lnTo>
                    <a:lnTo>
                      <a:pt x="42" y="618"/>
                    </a:lnTo>
                    <a:lnTo>
                      <a:pt x="40" y="623"/>
                    </a:lnTo>
                    <a:lnTo>
                      <a:pt x="34" y="637"/>
                    </a:lnTo>
                    <a:lnTo>
                      <a:pt x="30" y="650"/>
                    </a:lnTo>
                    <a:lnTo>
                      <a:pt x="26" y="661"/>
                    </a:lnTo>
                    <a:lnTo>
                      <a:pt x="23" y="673"/>
                    </a:lnTo>
                    <a:lnTo>
                      <a:pt x="21" y="682"/>
                    </a:lnTo>
                    <a:lnTo>
                      <a:pt x="17" y="694"/>
                    </a:lnTo>
                    <a:lnTo>
                      <a:pt x="13" y="701"/>
                    </a:lnTo>
                    <a:lnTo>
                      <a:pt x="13" y="711"/>
                    </a:lnTo>
                    <a:lnTo>
                      <a:pt x="9" y="716"/>
                    </a:lnTo>
                    <a:lnTo>
                      <a:pt x="9" y="724"/>
                    </a:lnTo>
                    <a:lnTo>
                      <a:pt x="9" y="730"/>
                    </a:lnTo>
                    <a:lnTo>
                      <a:pt x="9" y="733"/>
                    </a:lnTo>
                    <a:lnTo>
                      <a:pt x="9" y="733"/>
                    </a:lnTo>
                    <a:close/>
                  </a:path>
                </a:pathLst>
              </a:custGeom>
              <a:solidFill>
                <a:srgbClr val="ffe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>
                <a:off x="2074680" y="2058840"/>
                <a:ext cx="825840" cy="685800"/>
              </a:xfrm>
              <a:custGeom>
                <a:avLst/>
                <a:gdLst/>
                <a:ahLst/>
                <a:rect l="l" t="t" r="r" b="b"/>
                <a:pathLst>
                  <a:path w="1251" h="1038">
                    <a:moveTo>
                      <a:pt x="0" y="941"/>
                    </a:moveTo>
                    <a:lnTo>
                      <a:pt x="2" y="941"/>
                    </a:lnTo>
                    <a:lnTo>
                      <a:pt x="11" y="941"/>
                    </a:lnTo>
                    <a:lnTo>
                      <a:pt x="15" y="941"/>
                    </a:lnTo>
                    <a:lnTo>
                      <a:pt x="25" y="943"/>
                    </a:lnTo>
                    <a:lnTo>
                      <a:pt x="32" y="943"/>
                    </a:lnTo>
                    <a:lnTo>
                      <a:pt x="42" y="944"/>
                    </a:lnTo>
                    <a:lnTo>
                      <a:pt x="51" y="944"/>
                    </a:lnTo>
                    <a:lnTo>
                      <a:pt x="63" y="944"/>
                    </a:lnTo>
                    <a:lnTo>
                      <a:pt x="76" y="944"/>
                    </a:lnTo>
                    <a:lnTo>
                      <a:pt x="89" y="944"/>
                    </a:lnTo>
                    <a:lnTo>
                      <a:pt x="95" y="944"/>
                    </a:lnTo>
                    <a:lnTo>
                      <a:pt x="102" y="944"/>
                    </a:lnTo>
                    <a:lnTo>
                      <a:pt x="110" y="944"/>
                    </a:lnTo>
                    <a:lnTo>
                      <a:pt x="118" y="946"/>
                    </a:lnTo>
                    <a:lnTo>
                      <a:pt x="123" y="946"/>
                    </a:lnTo>
                    <a:lnTo>
                      <a:pt x="131" y="946"/>
                    </a:lnTo>
                    <a:lnTo>
                      <a:pt x="140" y="946"/>
                    </a:lnTo>
                    <a:lnTo>
                      <a:pt x="148" y="948"/>
                    </a:lnTo>
                    <a:lnTo>
                      <a:pt x="156" y="946"/>
                    </a:lnTo>
                    <a:lnTo>
                      <a:pt x="163" y="946"/>
                    </a:lnTo>
                    <a:lnTo>
                      <a:pt x="171" y="946"/>
                    </a:lnTo>
                    <a:lnTo>
                      <a:pt x="180" y="946"/>
                    </a:lnTo>
                    <a:lnTo>
                      <a:pt x="188" y="944"/>
                    </a:lnTo>
                    <a:lnTo>
                      <a:pt x="196" y="944"/>
                    </a:lnTo>
                    <a:lnTo>
                      <a:pt x="205" y="944"/>
                    </a:lnTo>
                    <a:lnTo>
                      <a:pt x="213" y="944"/>
                    </a:lnTo>
                    <a:lnTo>
                      <a:pt x="220" y="944"/>
                    </a:lnTo>
                    <a:lnTo>
                      <a:pt x="230" y="943"/>
                    </a:lnTo>
                    <a:lnTo>
                      <a:pt x="237" y="941"/>
                    </a:lnTo>
                    <a:lnTo>
                      <a:pt x="247" y="941"/>
                    </a:lnTo>
                    <a:lnTo>
                      <a:pt x="255" y="941"/>
                    </a:lnTo>
                    <a:lnTo>
                      <a:pt x="264" y="941"/>
                    </a:lnTo>
                    <a:lnTo>
                      <a:pt x="272" y="939"/>
                    </a:lnTo>
                    <a:lnTo>
                      <a:pt x="281" y="939"/>
                    </a:lnTo>
                    <a:lnTo>
                      <a:pt x="289" y="937"/>
                    </a:lnTo>
                    <a:lnTo>
                      <a:pt x="298" y="935"/>
                    </a:lnTo>
                    <a:lnTo>
                      <a:pt x="306" y="935"/>
                    </a:lnTo>
                    <a:lnTo>
                      <a:pt x="315" y="933"/>
                    </a:lnTo>
                    <a:lnTo>
                      <a:pt x="323" y="931"/>
                    </a:lnTo>
                    <a:lnTo>
                      <a:pt x="331" y="929"/>
                    </a:lnTo>
                    <a:lnTo>
                      <a:pt x="340" y="927"/>
                    </a:lnTo>
                    <a:lnTo>
                      <a:pt x="348" y="927"/>
                    </a:lnTo>
                    <a:lnTo>
                      <a:pt x="355" y="924"/>
                    </a:lnTo>
                    <a:lnTo>
                      <a:pt x="363" y="922"/>
                    </a:lnTo>
                    <a:lnTo>
                      <a:pt x="370" y="920"/>
                    </a:lnTo>
                    <a:lnTo>
                      <a:pt x="378" y="918"/>
                    </a:lnTo>
                    <a:lnTo>
                      <a:pt x="386" y="916"/>
                    </a:lnTo>
                    <a:lnTo>
                      <a:pt x="393" y="914"/>
                    </a:lnTo>
                    <a:lnTo>
                      <a:pt x="401" y="910"/>
                    </a:lnTo>
                    <a:lnTo>
                      <a:pt x="408" y="910"/>
                    </a:lnTo>
                    <a:lnTo>
                      <a:pt x="420" y="904"/>
                    </a:lnTo>
                    <a:lnTo>
                      <a:pt x="433" y="897"/>
                    </a:lnTo>
                    <a:lnTo>
                      <a:pt x="439" y="893"/>
                    </a:lnTo>
                    <a:lnTo>
                      <a:pt x="447" y="891"/>
                    </a:lnTo>
                    <a:lnTo>
                      <a:pt x="454" y="887"/>
                    </a:lnTo>
                    <a:lnTo>
                      <a:pt x="462" y="885"/>
                    </a:lnTo>
                    <a:lnTo>
                      <a:pt x="473" y="878"/>
                    </a:lnTo>
                    <a:lnTo>
                      <a:pt x="486" y="870"/>
                    </a:lnTo>
                    <a:lnTo>
                      <a:pt x="494" y="866"/>
                    </a:lnTo>
                    <a:lnTo>
                      <a:pt x="500" y="863"/>
                    </a:lnTo>
                    <a:lnTo>
                      <a:pt x="507" y="859"/>
                    </a:lnTo>
                    <a:lnTo>
                      <a:pt x="515" y="857"/>
                    </a:lnTo>
                    <a:lnTo>
                      <a:pt x="528" y="849"/>
                    </a:lnTo>
                    <a:lnTo>
                      <a:pt x="542" y="840"/>
                    </a:lnTo>
                    <a:lnTo>
                      <a:pt x="547" y="834"/>
                    </a:lnTo>
                    <a:lnTo>
                      <a:pt x="555" y="832"/>
                    </a:lnTo>
                    <a:lnTo>
                      <a:pt x="561" y="828"/>
                    </a:lnTo>
                    <a:lnTo>
                      <a:pt x="568" y="825"/>
                    </a:lnTo>
                    <a:lnTo>
                      <a:pt x="580" y="815"/>
                    </a:lnTo>
                    <a:lnTo>
                      <a:pt x="593" y="808"/>
                    </a:lnTo>
                    <a:lnTo>
                      <a:pt x="606" y="798"/>
                    </a:lnTo>
                    <a:lnTo>
                      <a:pt x="619" y="790"/>
                    </a:lnTo>
                    <a:lnTo>
                      <a:pt x="631" y="781"/>
                    </a:lnTo>
                    <a:lnTo>
                      <a:pt x="640" y="773"/>
                    </a:lnTo>
                    <a:lnTo>
                      <a:pt x="652" y="762"/>
                    </a:lnTo>
                    <a:lnTo>
                      <a:pt x="665" y="754"/>
                    </a:lnTo>
                    <a:lnTo>
                      <a:pt x="675" y="745"/>
                    </a:lnTo>
                    <a:lnTo>
                      <a:pt x="686" y="735"/>
                    </a:lnTo>
                    <a:lnTo>
                      <a:pt x="696" y="728"/>
                    </a:lnTo>
                    <a:lnTo>
                      <a:pt x="707" y="718"/>
                    </a:lnTo>
                    <a:lnTo>
                      <a:pt x="716" y="709"/>
                    </a:lnTo>
                    <a:lnTo>
                      <a:pt x="726" y="701"/>
                    </a:lnTo>
                    <a:lnTo>
                      <a:pt x="734" y="692"/>
                    </a:lnTo>
                    <a:lnTo>
                      <a:pt x="743" y="682"/>
                    </a:lnTo>
                    <a:lnTo>
                      <a:pt x="751" y="673"/>
                    </a:lnTo>
                    <a:lnTo>
                      <a:pt x="758" y="665"/>
                    </a:lnTo>
                    <a:lnTo>
                      <a:pt x="766" y="656"/>
                    </a:lnTo>
                    <a:lnTo>
                      <a:pt x="773" y="648"/>
                    </a:lnTo>
                    <a:lnTo>
                      <a:pt x="777" y="637"/>
                    </a:lnTo>
                    <a:lnTo>
                      <a:pt x="785" y="627"/>
                    </a:lnTo>
                    <a:lnTo>
                      <a:pt x="794" y="616"/>
                    </a:lnTo>
                    <a:lnTo>
                      <a:pt x="802" y="606"/>
                    </a:lnTo>
                    <a:lnTo>
                      <a:pt x="811" y="593"/>
                    </a:lnTo>
                    <a:lnTo>
                      <a:pt x="823" y="581"/>
                    </a:lnTo>
                    <a:lnTo>
                      <a:pt x="827" y="574"/>
                    </a:lnTo>
                    <a:lnTo>
                      <a:pt x="832" y="568"/>
                    </a:lnTo>
                    <a:lnTo>
                      <a:pt x="838" y="561"/>
                    </a:lnTo>
                    <a:lnTo>
                      <a:pt x="844" y="553"/>
                    </a:lnTo>
                    <a:lnTo>
                      <a:pt x="849" y="545"/>
                    </a:lnTo>
                    <a:lnTo>
                      <a:pt x="855" y="538"/>
                    </a:lnTo>
                    <a:lnTo>
                      <a:pt x="859" y="528"/>
                    </a:lnTo>
                    <a:lnTo>
                      <a:pt x="867" y="523"/>
                    </a:lnTo>
                    <a:lnTo>
                      <a:pt x="870" y="513"/>
                    </a:lnTo>
                    <a:lnTo>
                      <a:pt x="876" y="505"/>
                    </a:lnTo>
                    <a:lnTo>
                      <a:pt x="882" y="498"/>
                    </a:lnTo>
                    <a:lnTo>
                      <a:pt x="889" y="490"/>
                    </a:lnTo>
                    <a:lnTo>
                      <a:pt x="893" y="481"/>
                    </a:lnTo>
                    <a:lnTo>
                      <a:pt x="901" y="471"/>
                    </a:lnTo>
                    <a:lnTo>
                      <a:pt x="905" y="462"/>
                    </a:lnTo>
                    <a:lnTo>
                      <a:pt x="910" y="454"/>
                    </a:lnTo>
                    <a:lnTo>
                      <a:pt x="916" y="443"/>
                    </a:lnTo>
                    <a:lnTo>
                      <a:pt x="922" y="433"/>
                    </a:lnTo>
                    <a:lnTo>
                      <a:pt x="927" y="424"/>
                    </a:lnTo>
                    <a:lnTo>
                      <a:pt x="935" y="416"/>
                    </a:lnTo>
                    <a:lnTo>
                      <a:pt x="939" y="405"/>
                    </a:lnTo>
                    <a:lnTo>
                      <a:pt x="945" y="393"/>
                    </a:lnTo>
                    <a:lnTo>
                      <a:pt x="948" y="382"/>
                    </a:lnTo>
                    <a:lnTo>
                      <a:pt x="954" y="370"/>
                    </a:lnTo>
                    <a:lnTo>
                      <a:pt x="958" y="359"/>
                    </a:lnTo>
                    <a:lnTo>
                      <a:pt x="964" y="348"/>
                    </a:lnTo>
                    <a:lnTo>
                      <a:pt x="967" y="336"/>
                    </a:lnTo>
                    <a:lnTo>
                      <a:pt x="973" y="327"/>
                    </a:lnTo>
                    <a:lnTo>
                      <a:pt x="977" y="313"/>
                    </a:lnTo>
                    <a:lnTo>
                      <a:pt x="981" y="302"/>
                    </a:lnTo>
                    <a:lnTo>
                      <a:pt x="984" y="289"/>
                    </a:lnTo>
                    <a:lnTo>
                      <a:pt x="990" y="279"/>
                    </a:lnTo>
                    <a:lnTo>
                      <a:pt x="992" y="264"/>
                    </a:lnTo>
                    <a:lnTo>
                      <a:pt x="996" y="253"/>
                    </a:lnTo>
                    <a:lnTo>
                      <a:pt x="1000" y="239"/>
                    </a:lnTo>
                    <a:lnTo>
                      <a:pt x="1003" y="228"/>
                    </a:lnTo>
                    <a:lnTo>
                      <a:pt x="1003" y="213"/>
                    </a:lnTo>
                    <a:lnTo>
                      <a:pt x="1007" y="199"/>
                    </a:lnTo>
                    <a:lnTo>
                      <a:pt x="1009" y="186"/>
                    </a:lnTo>
                    <a:lnTo>
                      <a:pt x="1011" y="173"/>
                    </a:lnTo>
                    <a:lnTo>
                      <a:pt x="1013" y="158"/>
                    </a:lnTo>
                    <a:lnTo>
                      <a:pt x="1015" y="144"/>
                    </a:lnTo>
                    <a:lnTo>
                      <a:pt x="1017" y="129"/>
                    </a:lnTo>
                    <a:lnTo>
                      <a:pt x="1017" y="116"/>
                    </a:lnTo>
                    <a:lnTo>
                      <a:pt x="1017" y="101"/>
                    </a:lnTo>
                    <a:lnTo>
                      <a:pt x="1017" y="85"/>
                    </a:lnTo>
                    <a:lnTo>
                      <a:pt x="1017" y="68"/>
                    </a:lnTo>
                    <a:lnTo>
                      <a:pt x="1017" y="55"/>
                    </a:lnTo>
                    <a:lnTo>
                      <a:pt x="1017" y="38"/>
                    </a:lnTo>
                    <a:lnTo>
                      <a:pt x="1019" y="0"/>
                    </a:lnTo>
                    <a:lnTo>
                      <a:pt x="1021" y="4"/>
                    </a:lnTo>
                    <a:lnTo>
                      <a:pt x="1024" y="7"/>
                    </a:lnTo>
                    <a:lnTo>
                      <a:pt x="1030" y="13"/>
                    </a:lnTo>
                    <a:lnTo>
                      <a:pt x="1034" y="23"/>
                    </a:lnTo>
                    <a:lnTo>
                      <a:pt x="1038" y="30"/>
                    </a:lnTo>
                    <a:lnTo>
                      <a:pt x="1045" y="40"/>
                    </a:lnTo>
                    <a:lnTo>
                      <a:pt x="1049" y="49"/>
                    </a:lnTo>
                    <a:lnTo>
                      <a:pt x="1057" y="61"/>
                    </a:lnTo>
                    <a:lnTo>
                      <a:pt x="1062" y="72"/>
                    </a:lnTo>
                    <a:lnTo>
                      <a:pt x="1068" y="85"/>
                    </a:lnTo>
                    <a:lnTo>
                      <a:pt x="1072" y="91"/>
                    </a:lnTo>
                    <a:lnTo>
                      <a:pt x="1076" y="99"/>
                    </a:lnTo>
                    <a:lnTo>
                      <a:pt x="1079" y="106"/>
                    </a:lnTo>
                    <a:lnTo>
                      <a:pt x="1083" y="114"/>
                    </a:lnTo>
                    <a:lnTo>
                      <a:pt x="1085" y="122"/>
                    </a:lnTo>
                    <a:lnTo>
                      <a:pt x="1089" y="129"/>
                    </a:lnTo>
                    <a:lnTo>
                      <a:pt x="1093" y="137"/>
                    </a:lnTo>
                    <a:lnTo>
                      <a:pt x="1097" y="144"/>
                    </a:lnTo>
                    <a:lnTo>
                      <a:pt x="1098" y="152"/>
                    </a:lnTo>
                    <a:lnTo>
                      <a:pt x="1102" y="161"/>
                    </a:lnTo>
                    <a:lnTo>
                      <a:pt x="1106" y="171"/>
                    </a:lnTo>
                    <a:lnTo>
                      <a:pt x="1110" y="180"/>
                    </a:lnTo>
                    <a:lnTo>
                      <a:pt x="1112" y="190"/>
                    </a:lnTo>
                    <a:lnTo>
                      <a:pt x="1116" y="199"/>
                    </a:lnTo>
                    <a:lnTo>
                      <a:pt x="1118" y="207"/>
                    </a:lnTo>
                    <a:lnTo>
                      <a:pt x="1121" y="218"/>
                    </a:lnTo>
                    <a:lnTo>
                      <a:pt x="1123" y="228"/>
                    </a:lnTo>
                    <a:lnTo>
                      <a:pt x="1127" y="239"/>
                    </a:lnTo>
                    <a:lnTo>
                      <a:pt x="1131" y="251"/>
                    </a:lnTo>
                    <a:lnTo>
                      <a:pt x="1133" y="262"/>
                    </a:lnTo>
                    <a:lnTo>
                      <a:pt x="1135" y="272"/>
                    </a:lnTo>
                    <a:lnTo>
                      <a:pt x="1138" y="281"/>
                    </a:lnTo>
                    <a:lnTo>
                      <a:pt x="1140" y="293"/>
                    </a:lnTo>
                    <a:lnTo>
                      <a:pt x="1144" y="306"/>
                    </a:lnTo>
                    <a:lnTo>
                      <a:pt x="1144" y="317"/>
                    </a:lnTo>
                    <a:lnTo>
                      <a:pt x="1148" y="327"/>
                    </a:lnTo>
                    <a:lnTo>
                      <a:pt x="1150" y="340"/>
                    </a:lnTo>
                    <a:lnTo>
                      <a:pt x="1152" y="353"/>
                    </a:lnTo>
                    <a:lnTo>
                      <a:pt x="1154" y="365"/>
                    </a:lnTo>
                    <a:lnTo>
                      <a:pt x="1156" y="376"/>
                    </a:lnTo>
                    <a:lnTo>
                      <a:pt x="1157" y="388"/>
                    </a:lnTo>
                    <a:lnTo>
                      <a:pt x="1159" y="403"/>
                    </a:lnTo>
                    <a:lnTo>
                      <a:pt x="1159" y="416"/>
                    </a:lnTo>
                    <a:lnTo>
                      <a:pt x="1161" y="429"/>
                    </a:lnTo>
                    <a:lnTo>
                      <a:pt x="1161" y="443"/>
                    </a:lnTo>
                    <a:lnTo>
                      <a:pt x="1165" y="458"/>
                    </a:lnTo>
                    <a:lnTo>
                      <a:pt x="1175" y="616"/>
                    </a:lnTo>
                    <a:lnTo>
                      <a:pt x="1176" y="619"/>
                    </a:lnTo>
                    <a:lnTo>
                      <a:pt x="1180" y="623"/>
                    </a:lnTo>
                    <a:lnTo>
                      <a:pt x="1188" y="631"/>
                    </a:lnTo>
                    <a:lnTo>
                      <a:pt x="1192" y="638"/>
                    </a:lnTo>
                    <a:lnTo>
                      <a:pt x="1199" y="648"/>
                    </a:lnTo>
                    <a:lnTo>
                      <a:pt x="1207" y="657"/>
                    </a:lnTo>
                    <a:lnTo>
                      <a:pt x="1216" y="671"/>
                    </a:lnTo>
                    <a:lnTo>
                      <a:pt x="1218" y="676"/>
                    </a:lnTo>
                    <a:lnTo>
                      <a:pt x="1222" y="682"/>
                    </a:lnTo>
                    <a:lnTo>
                      <a:pt x="1226" y="690"/>
                    </a:lnTo>
                    <a:lnTo>
                      <a:pt x="1230" y="697"/>
                    </a:lnTo>
                    <a:lnTo>
                      <a:pt x="1232" y="705"/>
                    </a:lnTo>
                    <a:lnTo>
                      <a:pt x="1235" y="711"/>
                    </a:lnTo>
                    <a:lnTo>
                      <a:pt x="1239" y="718"/>
                    </a:lnTo>
                    <a:lnTo>
                      <a:pt x="1243" y="728"/>
                    </a:lnTo>
                    <a:lnTo>
                      <a:pt x="1243" y="735"/>
                    </a:lnTo>
                    <a:lnTo>
                      <a:pt x="1245" y="741"/>
                    </a:lnTo>
                    <a:lnTo>
                      <a:pt x="1247" y="751"/>
                    </a:lnTo>
                    <a:lnTo>
                      <a:pt x="1249" y="758"/>
                    </a:lnTo>
                    <a:lnTo>
                      <a:pt x="1249" y="766"/>
                    </a:lnTo>
                    <a:lnTo>
                      <a:pt x="1251" y="777"/>
                    </a:lnTo>
                    <a:lnTo>
                      <a:pt x="1251" y="783"/>
                    </a:lnTo>
                    <a:lnTo>
                      <a:pt x="1251" y="794"/>
                    </a:lnTo>
                    <a:lnTo>
                      <a:pt x="1247" y="800"/>
                    </a:lnTo>
                    <a:lnTo>
                      <a:pt x="1245" y="808"/>
                    </a:lnTo>
                    <a:lnTo>
                      <a:pt x="1243" y="815"/>
                    </a:lnTo>
                    <a:lnTo>
                      <a:pt x="1239" y="825"/>
                    </a:lnTo>
                    <a:lnTo>
                      <a:pt x="1235" y="830"/>
                    </a:lnTo>
                    <a:lnTo>
                      <a:pt x="1233" y="838"/>
                    </a:lnTo>
                    <a:lnTo>
                      <a:pt x="1228" y="846"/>
                    </a:lnTo>
                    <a:lnTo>
                      <a:pt x="1224" y="851"/>
                    </a:lnTo>
                    <a:lnTo>
                      <a:pt x="1218" y="857"/>
                    </a:lnTo>
                    <a:lnTo>
                      <a:pt x="1213" y="863"/>
                    </a:lnTo>
                    <a:lnTo>
                      <a:pt x="1205" y="868"/>
                    </a:lnTo>
                    <a:lnTo>
                      <a:pt x="1199" y="876"/>
                    </a:lnTo>
                    <a:lnTo>
                      <a:pt x="1190" y="880"/>
                    </a:lnTo>
                    <a:lnTo>
                      <a:pt x="1182" y="885"/>
                    </a:lnTo>
                    <a:lnTo>
                      <a:pt x="1175" y="889"/>
                    </a:lnTo>
                    <a:lnTo>
                      <a:pt x="1165" y="897"/>
                    </a:lnTo>
                    <a:lnTo>
                      <a:pt x="1154" y="901"/>
                    </a:lnTo>
                    <a:lnTo>
                      <a:pt x="1144" y="904"/>
                    </a:lnTo>
                    <a:lnTo>
                      <a:pt x="1133" y="906"/>
                    </a:lnTo>
                    <a:lnTo>
                      <a:pt x="1121" y="912"/>
                    </a:lnTo>
                    <a:lnTo>
                      <a:pt x="1108" y="914"/>
                    </a:lnTo>
                    <a:lnTo>
                      <a:pt x="1097" y="918"/>
                    </a:lnTo>
                    <a:lnTo>
                      <a:pt x="1089" y="920"/>
                    </a:lnTo>
                    <a:lnTo>
                      <a:pt x="1081" y="922"/>
                    </a:lnTo>
                    <a:lnTo>
                      <a:pt x="1076" y="924"/>
                    </a:lnTo>
                    <a:lnTo>
                      <a:pt x="1068" y="925"/>
                    </a:lnTo>
                    <a:lnTo>
                      <a:pt x="1060" y="925"/>
                    </a:lnTo>
                    <a:lnTo>
                      <a:pt x="1053" y="927"/>
                    </a:lnTo>
                    <a:lnTo>
                      <a:pt x="1045" y="927"/>
                    </a:lnTo>
                    <a:lnTo>
                      <a:pt x="1038" y="929"/>
                    </a:lnTo>
                    <a:lnTo>
                      <a:pt x="1030" y="931"/>
                    </a:lnTo>
                    <a:lnTo>
                      <a:pt x="1022" y="931"/>
                    </a:lnTo>
                    <a:lnTo>
                      <a:pt x="1013" y="933"/>
                    </a:lnTo>
                    <a:lnTo>
                      <a:pt x="1007" y="935"/>
                    </a:lnTo>
                    <a:lnTo>
                      <a:pt x="996" y="935"/>
                    </a:lnTo>
                    <a:lnTo>
                      <a:pt x="988" y="935"/>
                    </a:lnTo>
                    <a:lnTo>
                      <a:pt x="979" y="937"/>
                    </a:lnTo>
                    <a:lnTo>
                      <a:pt x="971" y="939"/>
                    </a:lnTo>
                    <a:lnTo>
                      <a:pt x="962" y="939"/>
                    </a:lnTo>
                    <a:lnTo>
                      <a:pt x="952" y="939"/>
                    </a:lnTo>
                    <a:lnTo>
                      <a:pt x="943" y="941"/>
                    </a:lnTo>
                    <a:lnTo>
                      <a:pt x="935" y="941"/>
                    </a:lnTo>
                    <a:lnTo>
                      <a:pt x="931" y="941"/>
                    </a:lnTo>
                    <a:lnTo>
                      <a:pt x="927" y="944"/>
                    </a:lnTo>
                    <a:lnTo>
                      <a:pt x="920" y="948"/>
                    </a:lnTo>
                    <a:lnTo>
                      <a:pt x="910" y="954"/>
                    </a:lnTo>
                    <a:lnTo>
                      <a:pt x="905" y="956"/>
                    </a:lnTo>
                    <a:lnTo>
                      <a:pt x="897" y="960"/>
                    </a:lnTo>
                    <a:lnTo>
                      <a:pt x="889" y="963"/>
                    </a:lnTo>
                    <a:lnTo>
                      <a:pt x="882" y="967"/>
                    </a:lnTo>
                    <a:lnTo>
                      <a:pt x="872" y="971"/>
                    </a:lnTo>
                    <a:lnTo>
                      <a:pt x="863" y="975"/>
                    </a:lnTo>
                    <a:lnTo>
                      <a:pt x="853" y="981"/>
                    </a:lnTo>
                    <a:lnTo>
                      <a:pt x="842" y="986"/>
                    </a:lnTo>
                    <a:lnTo>
                      <a:pt x="829" y="990"/>
                    </a:lnTo>
                    <a:lnTo>
                      <a:pt x="817" y="992"/>
                    </a:lnTo>
                    <a:lnTo>
                      <a:pt x="804" y="996"/>
                    </a:lnTo>
                    <a:lnTo>
                      <a:pt x="791" y="1001"/>
                    </a:lnTo>
                    <a:lnTo>
                      <a:pt x="785" y="1003"/>
                    </a:lnTo>
                    <a:lnTo>
                      <a:pt x="777" y="1005"/>
                    </a:lnTo>
                    <a:lnTo>
                      <a:pt x="770" y="1007"/>
                    </a:lnTo>
                    <a:lnTo>
                      <a:pt x="762" y="1009"/>
                    </a:lnTo>
                    <a:lnTo>
                      <a:pt x="754" y="1009"/>
                    </a:lnTo>
                    <a:lnTo>
                      <a:pt x="747" y="1013"/>
                    </a:lnTo>
                    <a:lnTo>
                      <a:pt x="737" y="1015"/>
                    </a:lnTo>
                    <a:lnTo>
                      <a:pt x="730" y="1017"/>
                    </a:lnTo>
                    <a:lnTo>
                      <a:pt x="720" y="1017"/>
                    </a:lnTo>
                    <a:lnTo>
                      <a:pt x="713" y="1020"/>
                    </a:lnTo>
                    <a:lnTo>
                      <a:pt x="703" y="1020"/>
                    </a:lnTo>
                    <a:lnTo>
                      <a:pt x="696" y="1022"/>
                    </a:lnTo>
                    <a:lnTo>
                      <a:pt x="684" y="1024"/>
                    </a:lnTo>
                    <a:lnTo>
                      <a:pt x="677" y="1024"/>
                    </a:lnTo>
                    <a:lnTo>
                      <a:pt x="667" y="1026"/>
                    </a:lnTo>
                    <a:lnTo>
                      <a:pt x="658" y="1028"/>
                    </a:lnTo>
                    <a:lnTo>
                      <a:pt x="648" y="1028"/>
                    </a:lnTo>
                    <a:lnTo>
                      <a:pt x="637" y="1030"/>
                    </a:lnTo>
                    <a:lnTo>
                      <a:pt x="627" y="1030"/>
                    </a:lnTo>
                    <a:lnTo>
                      <a:pt x="618" y="1032"/>
                    </a:lnTo>
                    <a:lnTo>
                      <a:pt x="606" y="1032"/>
                    </a:lnTo>
                    <a:lnTo>
                      <a:pt x="597" y="1034"/>
                    </a:lnTo>
                    <a:lnTo>
                      <a:pt x="585" y="1034"/>
                    </a:lnTo>
                    <a:lnTo>
                      <a:pt x="576" y="1036"/>
                    </a:lnTo>
                    <a:lnTo>
                      <a:pt x="562" y="1036"/>
                    </a:lnTo>
                    <a:lnTo>
                      <a:pt x="551" y="1036"/>
                    </a:lnTo>
                    <a:lnTo>
                      <a:pt x="542" y="1036"/>
                    </a:lnTo>
                    <a:lnTo>
                      <a:pt x="530" y="1036"/>
                    </a:lnTo>
                    <a:lnTo>
                      <a:pt x="519" y="1036"/>
                    </a:lnTo>
                    <a:lnTo>
                      <a:pt x="507" y="1036"/>
                    </a:lnTo>
                    <a:lnTo>
                      <a:pt x="496" y="1036"/>
                    </a:lnTo>
                    <a:lnTo>
                      <a:pt x="486" y="1038"/>
                    </a:lnTo>
                    <a:lnTo>
                      <a:pt x="477" y="1036"/>
                    </a:lnTo>
                    <a:lnTo>
                      <a:pt x="466" y="1036"/>
                    </a:lnTo>
                    <a:lnTo>
                      <a:pt x="454" y="1036"/>
                    </a:lnTo>
                    <a:lnTo>
                      <a:pt x="445" y="1036"/>
                    </a:lnTo>
                    <a:lnTo>
                      <a:pt x="433" y="1034"/>
                    </a:lnTo>
                    <a:lnTo>
                      <a:pt x="424" y="1034"/>
                    </a:lnTo>
                    <a:lnTo>
                      <a:pt x="414" y="1034"/>
                    </a:lnTo>
                    <a:lnTo>
                      <a:pt x="405" y="1034"/>
                    </a:lnTo>
                    <a:lnTo>
                      <a:pt x="393" y="1034"/>
                    </a:lnTo>
                    <a:lnTo>
                      <a:pt x="384" y="1032"/>
                    </a:lnTo>
                    <a:lnTo>
                      <a:pt x="374" y="1032"/>
                    </a:lnTo>
                    <a:lnTo>
                      <a:pt x="365" y="1032"/>
                    </a:lnTo>
                    <a:lnTo>
                      <a:pt x="355" y="1030"/>
                    </a:lnTo>
                    <a:lnTo>
                      <a:pt x="346" y="1030"/>
                    </a:lnTo>
                    <a:lnTo>
                      <a:pt x="336" y="1030"/>
                    </a:lnTo>
                    <a:lnTo>
                      <a:pt x="329" y="1030"/>
                    </a:lnTo>
                    <a:lnTo>
                      <a:pt x="319" y="1028"/>
                    </a:lnTo>
                    <a:lnTo>
                      <a:pt x="310" y="1028"/>
                    </a:lnTo>
                    <a:lnTo>
                      <a:pt x="302" y="1028"/>
                    </a:lnTo>
                    <a:lnTo>
                      <a:pt x="294" y="1028"/>
                    </a:lnTo>
                    <a:lnTo>
                      <a:pt x="285" y="1026"/>
                    </a:lnTo>
                    <a:lnTo>
                      <a:pt x="277" y="1024"/>
                    </a:lnTo>
                    <a:lnTo>
                      <a:pt x="272" y="1024"/>
                    </a:lnTo>
                    <a:lnTo>
                      <a:pt x="264" y="1024"/>
                    </a:lnTo>
                    <a:lnTo>
                      <a:pt x="255" y="1024"/>
                    </a:lnTo>
                    <a:lnTo>
                      <a:pt x="247" y="1022"/>
                    </a:lnTo>
                    <a:lnTo>
                      <a:pt x="241" y="1020"/>
                    </a:lnTo>
                    <a:lnTo>
                      <a:pt x="234" y="1020"/>
                    </a:lnTo>
                    <a:lnTo>
                      <a:pt x="226" y="1020"/>
                    </a:lnTo>
                    <a:lnTo>
                      <a:pt x="220" y="1019"/>
                    </a:lnTo>
                    <a:lnTo>
                      <a:pt x="213" y="1017"/>
                    </a:lnTo>
                    <a:lnTo>
                      <a:pt x="209" y="1017"/>
                    </a:lnTo>
                    <a:lnTo>
                      <a:pt x="196" y="1015"/>
                    </a:lnTo>
                    <a:lnTo>
                      <a:pt x="186" y="1015"/>
                    </a:lnTo>
                    <a:lnTo>
                      <a:pt x="175" y="1013"/>
                    </a:lnTo>
                    <a:lnTo>
                      <a:pt x="167" y="1013"/>
                    </a:lnTo>
                    <a:lnTo>
                      <a:pt x="158" y="1009"/>
                    </a:lnTo>
                    <a:lnTo>
                      <a:pt x="152" y="1009"/>
                    </a:lnTo>
                    <a:lnTo>
                      <a:pt x="144" y="1007"/>
                    </a:lnTo>
                    <a:lnTo>
                      <a:pt x="140" y="1007"/>
                    </a:lnTo>
                    <a:lnTo>
                      <a:pt x="135" y="1007"/>
                    </a:lnTo>
                    <a:lnTo>
                      <a:pt x="133" y="1007"/>
                    </a:lnTo>
                    <a:lnTo>
                      <a:pt x="0" y="941"/>
                    </a:lnTo>
                    <a:lnTo>
                      <a:pt x="0" y="941"/>
                    </a:lnTo>
                    <a:close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>
                <a:off x="2201400" y="2600640"/>
                <a:ext cx="779760" cy="163800"/>
              </a:xfrm>
              <a:custGeom>
                <a:avLst/>
                <a:gdLst/>
                <a:ahLst/>
                <a:rect l="l" t="t" r="r" b="b"/>
                <a:pathLst>
                  <a:path w="1181" h="247">
                    <a:moveTo>
                      <a:pt x="0" y="103"/>
                    </a:moveTo>
                    <a:lnTo>
                      <a:pt x="2" y="103"/>
                    </a:lnTo>
                    <a:lnTo>
                      <a:pt x="8" y="106"/>
                    </a:lnTo>
                    <a:lnTo>
                      <a:pt x="12" y="110"/>
                    </a:lnTo>
                    <a:lnTo>
                      <a:pt x="17" y="114"/>
                    </a:lnTo>
                    <a:lnTo>
                      <a:pt x="23" y="118"/>
                    </a:lnTo>
                    <a:lnTo>
                      <a:pt x="32" y="123"/>
                    </a:lnTo>
                    <a:lnTo>
                      <a:pt x="40" y="127"/>
                    </a:lnTo>
                    <a:lnTo>
                      <a:pt x="51" y="133"/>
                    </a:lnTo>
                    <a:lnTo>
                      <a:pt x="61" y="137"/>
                    </a:lnTo>
                    <a:lnTo>
                      <a:pt x="74" y="144"/>
                    </a:lnTo>
                    <a:lnTo>
                      <a:pt x="80" y="146"/>
                    </a:lnTo>
                    <a:lnTo>
                      <a:pt x="86" y="150"/>
                    </a:lnTo>
                    <a:lnTo>
                      <a:pt x="93" y="152"/>
                    </a:lnTo>
                    <a:lnTo>
                      <a:pt x="101" y="156"/>
                    </a:lnTo>
                    <a:lnTo>
                      <a:pt x="109" y="158"/>
                    </a:lnTo>
                    <a:lnTo>
                      <a:pt x="116" y="161"/>
                    </a:lnTo>
                    <a:lnTo>
                      <a:pt x="124" y="165"/>
                    </a:lnTo>
                    <a:lnTo>
                      <a:pt x="133" y="169"/>
                    </a:lnTo>
                    <a:lnTo>
                      <a:pt x="141" y="171"/>
                    </a:lnTo>
                    <a:lnTo>
                      <a:pt x="150" y="175"/>
                    </a:lnTo>
                    <a:lnTo>
                      <a:pt x="158" y="179"/>
                    </a:lnTo>
                    <a:lnTo>
                      <a:pt x="169" y="182"/>
                    </a:lnTo>
                    <a:lnTo>
                      <a:pt x="177" y="184"/>
                    </a:lnTo>
                    <a:lnTo>
                      <a:pt x="188" y="188"/>
                    </a:lnTo>
                    <a:lnTo>
                      <a:pt x="198" y="192"/>
                    </a:lnTo>
                    <a:lnTo>
                      <a:pt x="209" y="196"/>
                    </a:lnTo>
                    <a:lnTo>
                      <a:pt x="219" y="198"/>
                    </a:lnTo>
                    <a:lnTo>
                      <a:pt x="230" y="201"/>
                    </a:lnTo>
                    <a:lnTo>
                      <a:pt x="242" y="203"/>
                    </a:lnTo>
                    <a:lnTo>
                      <a:pt x="253" y="207"/>
                    </a:lnTo>
                    <a:lnTo>
                      <a:pt x="264" y="209"/>
                    </a:lnTo>
                    <a:lnTo>
                      <a:pt x="278" y="213"/>
                    </a:lnTo>
                    <a:lnTo>
                      <a:pt x="291" y="217"/>
                    </a:lnTo>
                    <a:lnTo>
                      <a:pt x="304" y="220"/>
                    </a:lnTo>
                    <a:lnTo>
                      <a:pt x="318" y="220"/>
                    </a:lnTo>
                    <a:lnTo>
                      <a:pt x="331" y="224"/>
                    </a:lnTo>
                    <a:lnTo>
                      <a:pt x="344" y="226"/>
                    </a:lnTo>
                    <a:lnTo>
                      <a:pt x="359" y="228"/>
                    </a:lnTo>
                    <a:lnTo>
                      <a:pt x="373" y="230"/>
                    </a:lnTo>
                    <a:lnTo>
                      <a:pt x="386" y="232"/>
                    </a:lnTo>
                    <a:lnTo>
                      <a:pt x="403" y="234"/>
                    </a:lnTo>
                    <a:lnTo>
                      <a:pt x="418" y="237"/>
                    </a:lnTo>
                    <a:lnTo>
                      <a:pt x="434" y="237"/>
                    </a:lnTo>
                    <a:lnTo>
                      <a:pt x="449" y="239"/>
                    </a:lnTo>
                    <a:lnTo>
                      <a:pt x="466" y="241"/>
                    </a:lnTo>
                    <a:lnTo>
                      <a:pt x="483" y="243"/>
                    </a:lnTo>
                    <a:lnTo>
                      <a:pt x="498" y="243"/>
                    </a:lnTo>
                    <a:lnTo>
                      <a:pt x="515" y="245"/>
                    </a:lnTo>
                    <a:lnTo>
                      <a:pt x="534" y="245"/>
                    </a:lnTo>
                    <a:lnTo>
                      <a:pt x="553" y="247"/>
                    </a:lnTo>
                    <a:lnTo>
                      <a:pt x="570" y="247"/>
                    </a:lnTo>
                    <a:lnTo>
                      <a:pt x="588" y="247"/>
                    </a:lnTo>
                    <a:lnTo>
                      <a:pt x="605" y="247"/>
                    </a:lnTo>
                    <a:lnTo>
                      <a:pt x="624" y="247"/>
                    </a:lnTo>
                    <a:lnTo>
                      <a:pt x="639" y="247"/>
                    </a:lnTo>
                    <a:lnTo>
                      <a:pt x="656" y="247"/>
                    </a:lnTo>
                    <a:lnTo>
                      <a:pt x="673" y="247"/>
                    </a:lnTo>
                    <a:lnTo>
                      <a:pt x="690" y="247"/>
                    </a:lnTo>
                    <a:lnTo>
                      <a:pt x="703" y="243"/>
                    </a:lnTo>
                    <a:lnTo>
                      <a:pt x="721" y="243"/>
                    </a:lnTo>
                    <a:lnTo>
                      <a:pt x="736" y="241"/>
                    </a:lnTo>
                    <a:lnTo>
                      <a:pt x="749" y="241"/>
                    </a:lnTo>
                    <a:lnTo>
                      <a:pt x="762" y="239"/>
                    </a:lnTo>
                    <a:lnTo>
                      <a:pt x="778" y="237"/>
                    </a:lnTo>
                    <a:lnTo>
                      <a:pt x="791" y="237"/>
                    </a:lnTo>
                    <a:lnTo>
                      <a:pt x="806" y="236"/>
                    </a:lnTo>
                    <a:lnTo>
                      <a:pt x="818" y="234"/>
                    </a:lnTo>
                    <a:lnTo>
                      <a:pt x="831" y="230"/>
                    </a:lnTo>
                    <a:lnTo>
                      <a:pt x="842" y="228"/>
                    </a:lnTo>
                    <a:lnTo>
                      <a:pt x="856" y="226"/>
                    </a:lnTo>
                    <a:lnTo>
                      <a:pt x="867" y="224"/>
                    </a:lnTo>
                    <a:lnTo>
                      <a:pt x="878" y="220"/>
                    </a:lnTo>
                    <a:lnTo>
                      <a:pt x="890" y="218"/>
                    </a:lnTo>
                    <a:lnTo>
                      <a:pt x="903" y="217"/>
                    </a:lnTo>
                    <a:lnTo>
                      <a:pt x="913" y="213"/>
                    </a:lnTo>
                    <a:lnTo>
                      <a:pt x="924" y="209"/>
                    </a:lnTo>
                    <a:lnTo>
                      <a:pt x="933" y="207"/>
                    </a:lnTo>
                    <a:lnTo>
                      <a:pt x="945" y="203"/>
                    </a:lnTo>
                    <a:lnTo>
                      <a:pt x="954" y="199"/>
                    </a:lnTo>
                    <a:lnTo>
                      <a:pt x="964" y="196"/>
                    </a:lnTo>
                    <a:lnTo>
                      <a:pt x="973" y="192"/>
                    </a:lnTo>
                    <a:lnTo>
                      <a:pt x="983" y="190"/>
                    </a:lnTo>
                    <a:lnTo>
                      <a:pt x="990" y="186"/>
                    </a:lnTo>
                    <a:lnTo>
                      <a:pt x="998" y="182"/>
                    </a:lnTo>
                    <a:lnTo>
                      <a:pt x="1008" y="177"/>
                    </a:lnTo>
                    <a:lnTo>
                      <a:pt x="1015" y="173"/>
                    </a:lnTo>
                    <a:lnTo>
                      <a:pt x="1023" y="169"/>
                    </a:lnTo>
                    <a:lnTo>
                      <a:pt x="1032" y="165"/>
                    </a:lnTo>
                    <a:lnTo>
                      <a:pt x="1040" y="160"/>
                    </a:lnTo>
                    <a:lnTo>
                      <a:pt x="1048" y="156"/>
                    </a:lnTo>
                    <a:lnTo>
                      <a:pt x="1053" y="150"/>
                    </a:lnTo>
                    <a:lnTo>
                      <a:pt x="1061" y="146"/>
                    </a:lnTo>
                    <a:lnTo>
                      <a:pt x="1068" y="141"/>
                    </a:lnTo>
                    <a:lnTo>
                      <a:pt x="1076" y="137"/>
                    </a:lnTo>
                    <a:lnTo>
                      <a:pt x="1087" y="127"/>
                    </a:lnTo>
                    <a:lnTo>
                      <a:pt x="1101" y="118"/>
                    </a:lnTo>
                    <a:lnTo>
                      <a:pt x="1112" y="106"/>
                    </a:lnTo>
                    <a:lnTo>
                      <a:pt x="1124" y="95"/>
                    </a:lnTo>
                    <a:lnTo>
                      <a:pt x="1133" y="83"/>
                    </a:lnTo>
                    <a:lnTo>
                      <a:pt x="1144" y="74"/>
                    </a:lnTo>
                    <a:lnTo>
                      <a:pt x="1152" y="63"/>
                    </a:lnTo>
                    <a:lnTo>
                      <a:pt x="1163" y="51"/>
                    </a:lnTo>
                    <a:lnTo>
                      <a:pt x="1171" y="38"/>
                    </a:lnTo>
                    <a:lnTo>
                      <a:pt x="1181" y="28"/>
                    </a:lnTo>
                    <a:lnTo>
                      <a:pt x="1139" y="0"/>
                    </a:lnTo>
                    <a:lnTo>
                      <a:pt x="1137" y="0"/>
                    </a:lnTo>
                    <a:lnTo>
                      <a:pt x="1135" y="6"/>
                    </a:lnTo>
                    <a:lnTo>
                      <a:pt x="1129" y="11"/>
                    </a:lnTo>
                    <a:lnTo>
                      <a:pt x="1125" y="21"/>
                    </a:lnTo>
                    <a:lnTo>
                      <a:pt x="1116" y="28"/>
                    </a:lnTo>
                    <a:lnTo>
                      <a:pt x="1105" y="42"/>
                    </a:lnTo>
                    <a:lnTo>
                      <a:pt x="1099" y="45"/>
                    </a:lnTo>
                    <a:lnTo>
                      <a:pt x="1093" y="51"/>
                    </a:lnTo>
                    <a:lnTo>
                      <a:pt x="1086" y="59"/>
                    </a:lnTo>
                    <a:lnTo>
                      <a:pt x="1080" y="66"/>
                    </a:lnTo>
                    <a:lnTo>
                      <a:pt x="1070" y="72"/>
                    </a:lnTo>
                    <a:lnTo>
                      <a:pt x="1061" y="80"/>
                    </a:lnTo>
                    <a:lnTo>
                      <a:pt x="1051" y="85"/>
                    </a:lnTo>
                    <a:lnTo>
                      <a:pt x="1042" y="93"/>
                    </a:lnTo>
                    <a:lnTo>
                      <a:pt x="1030" y="101"/>
                    </a:lnTo>
                    <a:lnTo>
                      <a:pt x="1019" y="106"/>
                    </a:lnTo>
                    <a:lnTo>
                      <a:pt x="1006" y="114"/>
                    </a:lnTo>
                    <a:lnTo>
                      <a:pt x="992" y="122"/>
                    </a:lnTo>
                    <a:lnTo>
                      <a:pt x="985" y="123"/>
                    </a:lnTo>
                    <a:lnTo>
                      <a:pt x="979" y="127"/>
                    </a:lnTo>
                    <a:lnTo>
                      <a:pt x="971" y="131"/>
                    </a:lnTo>
                    <a:lnTo>
                      <a:pt x="964" y="135"/>
                    </a:lnTo>
                    <a:lnTo>
                      <a:pt x="954" y="137"/>
                    </a:lnTo>
                    <a:lnTo>
                      <a:pt x="947" y="141"/>
                    </a:lnTo>
                    <a:lnTo>
                      <a:pt x="937" y="142"/>
                    </a:lnTo>
                    <a:lnTo>
                      <a:pt x="930" y="146"/>
                    </a:lnTo>
                    <a:lnTo>
                      <a:pt x="920" y="148"/>
                    </a:lnTo>
                    <a:lnTo>
                      <a:pt x="913" y="152"/>
                    </a:lnTo>
                    <a:lnTo>
                      <a:pt x="903" y="154"/>
                    </a:lnTo>
                    <a:lnTo>
                      <a:pt x="895" y="158"/>
                    </a:lnTo>
                    <a:lnTo>
                      <a:pt x="884" y="160"/>
                    </a:lnTo>
                    <a:lnTo>
                      <a:pt x="876" y="161"/>
                    </a:lnTo>
                    <a:lnTo>
                      <a:pt x="865" y="165"/>
                    </a:lnTo>
                    <a:lnTo>
                      <a:pt x="856" y="169"/>
                    </a:lnTo>
                    <a:lnTo>
                      <a:pt x="842" y="169"/>
                    </a:lnTo>
                    <a:lnTo>
                      <a:pt x="827" y="171"/>
                    </a:lnTo>
                    <a:lnTo>
                      <a:pt x="814" y="173"/>
                    </a:lnTo>
                    <a:lnTo>
                      <a:pt x="800" y="175"/>
                    </a:lnTo>
                    <a:lnTo>
                      <a:pt x="785" y="177"/>
                    </a:lnTo>
                    <a:lnTo>
                      <a:pt x="772" y="179"/>
                    </a:lnTo>
                    <a:lnTo>
                      <a:pt x="759" y="180"/>
                    </a:lnTo>
                    <a:lnTo>
                      <a:pt x="745" y="182"/>
                    </a:lnTo>
                    <a:lnTo>
                      <a:pt x="730" y="182"/>
                    </a:lnTo>
                    <a:lnTo>
                      <a:pt x="717" y="184"/>
                    </a:lnTo>
                    <a:lnTo>
                      <a:pt x="703" y="186"/>
                    </a:lnTo>
                    <a:lnTo>
                      <a:pt x="690" y="186"/>
                    </a:lnTo>
                    <a:lnTo>
                      <a:pt x="675" y="186"/>
                    </a:lnTo>
                    <a:lnTo>
                      <a:pt x="662" y="188"/>
                    </a:lnTo>
                    <a:lnTo>
                      <a:pt x="648" y="188"/>
                    </a:lnTo>
                    <a:lnTo>
                      <a:pt x="635" y="190"/>
                    </a:lnTo>
                    <a:lnTo>
                      <a:pt x="620" y="188"/>
                    </a:lnTo>
                    <a:lnTo>
                      <a:pt x="605" y="188"/>
                    </a:lnTo>
                    <a:lnTo>
                      <a:pt x="591" y="188"/>
                    </a:lnTo>
                    <a:lnTo>
                      <a:pt x="578" y="188"/>
                    </a:lnTo>
                    <a:lnTo>
                      <a:pt x="565" y="188"/>
                    </a:lnTo>
                    <a:lnTo>
                      <a:pt x="551" y="188"/>
                    </a:lnTo>
                    <a:lnTo>
                      <a:pt x="536" y="188"/>
                    </a:lnTo>
                    <a:lnTo>
                      <a:pt x="523" y="188"/>
                    </a:lnTo>
                    <a:lnTo>
                      <a:pt x="510" y="186"/>
                    </a:lnTo>
                    <a:lnTo>
                      <a:pt x="496" y="186"/>
                    </a:lnTo>
                    <a:lnTo>
                      <a:pt x="481" y="182"/>
                    </a:lnTo>
                    <a:lnTo>
                      <a:pt x="468" y="182"/>
                    </a:lnTo>
                    <a:lnTo>
                      <a:pt x="454" y="180"/>
                    </a:lnTo>
                    <a:lnTo>
                      <a:pt x="443" y="180"/>
                    </a:lnTo>
                    <a:lnTo>
                      <a:pt x="430" y="179"/>
                    </a:lnTo>
                    <a:lnTo>
                      <a:pt x="416" y="179"/>
                    </a:lnTo>
                    <a:lnTo>
                      <a:pt x="403" y="175"/>
                    </a:lnTo>
                    <a:lnTo>
                      <a:pt x="390" y="173"/>
                    </a:lnTo>
                    <a:lnTo>
                      <a:pt x="377" y="171"/>
                    </a:lnTo>
                    <a:lnTo>
                      <a:pt x="365" y="169"/>
                    </a:lnTo>
                    <a:lnTo>
                      <a:pt x="352" y="167"/>
                    </a:lnTo>
                    <a:lnTo>
                      <a:pt x="340" y="165"/>
                    </a:lnTo>
                    <a:lnTo>
                      <a:pt x="327" y="161"/>
                    </a:lnTo>
                    <a:lnTo>
                      <a:pt x="316" y="161"/>
                    </a:lnTo>
                    <a:lnTo>
                      <a:pt x="304" y="158"/>
                    </a:lnTo>
                    <a:lnTo>
                      <a:pt x="291" y="154"/>
                    </a:lnTo>
                    <a:lnTo>
                      <a:pt x="280" y="152"/>
                    </a:lnTo>
                    <a:lnTo>
                      <a:pt x="270" y="150"/>
                    </a:lnTo>
                    <a:lnTo>
                      <a:pt x="259" y="146"/>
                    </a:lnTo>
                    <a:lnTo>
                      <a:pt x="247" y="144"/>
                    </a:lnTo>
                    <a:lnTo>
                      <a:pt x="236" y="141"/>
                    </a:lnTo>
                    <a:lnTo>
                      <a:pt x="226" y="139"/>
                    </a:lnTo>
                    <a:lnTo>
                      <a:pt x="215" y="135"/>
                    </a:lnTo>
                    <a:lnTo>
                      <a:pt x="205" y="131"/>
                    </a:lnTo>
                    <a:lnTo>
                      <a:pt x="194" y="127"/>
                    </a:lnTo>
                    <a:lnTo>
                      <a:pt x="185" y="123"/>
                    </a:lnTo>
                    <a:lnTo>
                      <a:pt x="173" y="120"/>
                    </a:lnTo>
                    <a:lnTo>
                      <a:pt x="166" y="118"/>
                    </a:lnTo>
                    <a:lnTo>
                      <a:pt x="156" y="114"/>
                    </a:lnTo>
                    <a:lnTo>
                      <a:pt x="148" y="110"/>
                    </a:lnTo>
                    <a:lnTo>
                      <a:pt x="139" y="106"/>
                    </a:lnTo>
                    <a:lnTo>
                      <a:pt x="129" y="103"/>
                    </a:lnTo>
                    <a:lnTo>
                      <a:pt x="122" y="101"/>
                    </a:lnTo>
                    <a:lnTo>
                      <a:pt x="116" y="97"/>
                    </a:lnTo>
                    <a:lnTo>
                      <a:pt x="107" y="93"/>
                    </a:lnTo>
                    <a:lnTo>
                      <a:pt x="99" y="89"/>
                    </a:lnTo>
                    <a:lnTo>
                      <a:pt x="91" y="85"/>
                    </a:lnTo>
                    <a:lnTo>
                      <a:pt x="86" y="82"/>
                    </a:lnTo>
                    <a:lnTo>
                      <a:pt x="0" y="103"/>
                    </a:lnTo>
                    <a:lnTo>
                      <a:pt x="0" y="10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>
                <a:off x="2106000" y="1978200"/>
                <a:ext cx="137520" cy="567000"/>
              </a:xfrm>
              <a:custGeom>
                <a:avLst/>
                <a:gdLst/>
                <a:ahLst/>
                <a:rect l="l" t="t" r="r" b="b"/>
                <a:pathLst>
                  <a:path w="207" h="857">
                    <a:moveTo>
                      <a:pt x="0" y="0"/>
                    </a:moveTo>
                    <a:lnTo>
                      <a:pt x="0" y="2"/>
                    </a:lnTo>
                    <a:lnTo>
                      <a:pt x="4" y="6"/>
                    </a:lnTo>
                    <a:lnTo>
                      <a:pt x="9" y="15"/>
                    </a:lnTo>
                    <a:lnTo>
                      <a:pt x="17" y="27"/>
                    </a:lnTo>
                    <a:lnTo>
                      <a:pt x="19" y="33"/>
                    </a:lnTo>
                    <a:lnTo>
                      <a:pt x="23" y="40"/>
                    </a:lnTo>
                    <a:lnTo>
                      <a:pt x="28" y="50"/>
                    </a:lnTo>
                    <a:lnTo>
                      <a:pt x="34" y="59"/>
                    </a:lnTo>
                    <a:lnTo>
                      <a:pt x="38" y="69"/>
                    </a:lnTo>
                    <a:lnTo>
                      <a:pt x="44" y="80"/>
                    </a:lnTo>
                    <a:lnTo>
                      <a:pt x="51" y="91"/>
                    </a:lnTo>
                    <a:lnTo>
                      <a:pt x="57" y="103"/>
                    </a:lnTo>
                    <a:lnTo>
                      <a:pt x="63" y="114"/>
                    </a:lnTo>
                    <a:lnTo>
                      <a:pt x="68" y="128"/>
                    </a:lnTo>
                    <a:lnTo>
                      <a:pt x="70" y="133"/>
                    </a:lnTo>
                    <a:lnTo>
                      <a:pt x="74" y="139"/>
                    </a:lnTo>
                    <a:lnTo>
                      <a:pt x="78" y="147"/>
                    </a:lnTo>
                    <a:lnTo>
                      <a:pt x="82" y="154"/>
                    </a:lnTo>
                    <a:lnTo>
                      <a:pt x="84" y="162"/>
                    </a:lnTo>
                    <a:lnTo>
                      <a:pt x="87" y="169"/>
                    </a:lnTo>
                    <a:lnTo>
                      <a:pt x="91" y="177"/>
                    </a:lnTo>
                    <a:lnTo>
                      <a:pt x="95" y="185"/>
                    </a:lnTo>
                    <a:lnTo>
                      <a:pt x="99" y="190"/>
                    </a:lnTo>
                    <a:lnTo>
                      <a:pt x="103" y="198"/>
                    </a:lnTo>
                    <a:lnTo>
                      <a:pt x="106" y="207"/>
                    </a:lnTo>
                    <a:lnTo>
                      <a:pt x="110" y="215"/>
                    </a:lnTo>
                    <a:lnTo>
                      <a:pt x="112" y="223"/>
                    </a:lnTo>
                    <a:lnTo>
                      <a:pt x="116" y="230"/>
                    </a:lnTo>
                    <a:lnTo>
                      <a:pt x="120" y="240"/>
                    </a:lnTo>
                    <a:lnTo>
                      <a:pt x="124" y="247"/>
                    </a:lnTo>
                    <a:lnTo>
                      <a:pt x="125" y="257"/>
                    </a:lnTo>
                    <a:lnTo>
                      <a:pt x="129" y="264"/>
                    </a:lnTo>
                    <a:lnTo>
                      <a:pt x="133" y="274"/>
                    </a:lnTo>
                    <a:lnTo>
                      <a:pt x="137" y="283"/>
                    </a:lnTo>
                    <a:lnTo>
                      <a:pt x="139" y="291"/>
                    </a:lnTo>
                    <a:lnTo>
                      <a:pt x="143" y="301"/>
                    </a:lnTo>
                    <a:lnTo>
                      <a:pt x="146" y="308"/>
                    </a:lnTo>
                    <a:lnTo>
                      <a:pt x="150" y="318"/>
                    </a:lnTo>
                    <a:lnTo>
                      <a:pt x="152" y="327"/>
                    </a:lnTo>
                    <a:lnTo>
                      <a:pt x="156" y="337"/>
                    </a:lnTo>
                    <a:lnTo>
                      <a:pt x="160" y="346"/>
                    </a:lnTo>
                    <a:lnTo>
                      <a:pt x="163" y="356"/>
                    </a:lnTo>
                    <a:lnTo>
                      <a:pt x="163" y="363"/>
                    </a:lnTo>
                    <a:lnTo>
                      <a:pt x="167" y="369"/>
                    </a:lnTo>
                    <a:lnTo>
                      <a:pt x="167" y="377"/>
                    </a:lnTo>
                    <a:lnTo>
                      <a:pt x="171" y="384"/>
                    </a:lnTo>
                    <a:lnTo>
                      <a:pt x="171" y="392"/>
                    </a:lnTo>
                    <a:lnTo>
                      <a:pt x="173" y="399"/>
                    </a:lnTo>
                    <a:lnTo>
                      <a:pt x="175" y="407"/>
                    </a:lnTo>
                    <a:lnTo>
                      <a:pt x="177" y="415"/>
                    </a:lnTo>
                    <a:lnTo>
                      <a:pt x="179" y="422"/>
                    </a:lnTo>
                    <a:lnTo>
                      <a:pt x="181" y="430"/>
                    </a:lnTo>
                    <a:lnTo>
                      <a:pt x="182" y="437"/>
                    </a:lnTo>
                    <a:lnTo>
                      <a:pt x="184" y="445"/>
                    </a:lnTo>
                    <a:lnTo>
                      <a:pt x="186" y="453"/>
                    </a:lnTo>
                    <a:lnTo>
                      <a:pt x="188" y="462"/>
                    </a:lnTo>
                    <a:lnTo>
                      <a:pt x="190" y="470"/>
                    </a:lnTo>
                    <a:lnTo>
                      <a:pt x="192" y="479"/>
                    </a:lnTo>
                    <a:lnTo>
                      <a:pt x="192" y="487"/>
                    </a:lnTo>
                    <a:lnTo>
                      <a:pt x="194" y="492"/>
                    </a:lnTo>
                    <a:lnTo>
                      <a:pt x="194" y="500"/>
                    </a:lnTo>
                    <a:lnTo>
                      <a:pt x="196" y="510"/>
                    </a:lnTo>
                    <a:lnTo>
                      <a:pt x="198" y="517"/>
                    </a:lnTo>
                    <a:lnTo>
                      <a:pt x="198" y="525"/>
                    </a:lnTo>
                    <a:lnTo>
                      <a:pt x="200" y="534"/>
                    </a:lnTo>
                    <a:lnTo>
                      <a:pt x="201" y="542"/>
                    </a:lnTo>
                    <a:lnTo>
                      <a:pt x="201" y="549"/>
                    </a:lnTo>
                    <a:lnTo>
                      <a:pt x="201" y="559"/>
                    </a:lnTo>
                    <a:lnTo>
                      <a:pt x="201" y="567"/>
                    </a:lnTo>
                    <a:lnTo>
                      <a:pt x="203" y="576"/>
                    </a:lnTo>
                    <a:lnTo>
                      <a:pt x="203" y="582"/>
                    </a:lnTo>
                    <a:lnTo>
                      <a:pt x="205" y="591"/>
                    </a:lnTo>
                    <a:lnTo>
                      <a:pt x="205" y="599"/>
                    </a:lnTo>
                    <a:lnTo>
                      <a:pt x="207" y="608"/>
                    </a:lnTo>
                    <a:lnTo>
                      <a:pt x="205" y="616"/>
                    </a:lnTo>
                    <a:lnTo>
                      <a:pt x="205" y="624"/>
                    </a:lnTo>
                    <a:lnTo>
                      <a:pt x="205" y="631"/>
                    </a:lnTo>
                    <a:lnTo>
                      <a:pt x="205" y="641"/>
                    </a:lnTo>
                    <a:lnTo>
                      <a:pt x="205" y="648"/>
                    </a:lnTo>
                    <a:lnTo>
                      <a:pt x="205" y="654"/>
                    </a:lnTo>
                    <a:lnTo>
                      <a:pt x="205" y="664"/>
                    </a:lnTo>
                    <a:lnTo>
                      <a:pt x="205" y="671"/>
                    </a:lnTo>
                    <a:lnTo>
                      <a:pt x="205" y="679"/>
                    </a:lnTo>
                    <a:lnTo>
                      <a:pt x="205" y="688"/>
                    </a:lnTo>
                    <a:lnTo>
                      <a:pt x="203" y="696"/>
                    </a:lnTo>
                    <a:lnTo>
                      <a:pt x="203" y="703"/>
                    </a:lnTo>
                    <a:lnTo>
                      <a:pt x="201" y="711"/>
                    </a:lnTo>
                    <a:lnTo>
                      <a:pt x="201" y="721"/>
                    </a:lnTo>
                    <a:lnTo>
                      <a:pt x="201" y="728"/>
                    </a:lnTo>
                    <a:lnTo>
                      <a:pt x="201" y="738"/>
                    </a:lnTo>
                    <a:lnTo>
                      <a:pt x="198" y="743"/>
                    </a:lnTo>
                    <a:lnTo>
                      <a:pt x="198" y="751"/>
                    </a:lnTo>
                    <a:lnTo>
                      <a:pt x="196" y="759"/>
                    </a:lnTo>
                    <a:lnTo>
                      <a:pt x="196" y="768"/>
                    </a:lnTo>
                    <a:lnTo>
                      <a:pt x="194" y="776"/>
                    </a:lnTo>
                    <a:lnTo>
                      <a:pt x="192" y="781"/>
                    </a:lnTo>
                    <a:lnTo>
                      <a:pt x="190" y="789"/>
                    </a:lnTo>
                    <a:lnTo>
                      <a:pt x="190" y="798"/>
                    </a:lnTo>
                    <a:lnTo>
                      <a:pt x="186" y="806"/>
                    </a:lnTo>
                    <a:lnTo>
                      <a:pt x="184" y="814"/>
                    </a:lnTo>
                    <a:lnTo>
                      <a:pt x="182" y="819"/>
                    </a:lnTo>
                    <a:lnTo>
                      <a:pt x="181" y="827"/>
                    </a:lnTo>
                    <a:lnTo>
                      <a:pt x="177" y="835"/>
                    </a:lnTo>
                    <a:lnTo>
                      <a:pt x="177" y="842"/>
                    </a:lnTo>
                    <a:lnTo>
                      <a:pt x="173" y="850"/>
                    </a:lnTo>
                    <a:lnTo>
                      <a:pt x="171" y="857"/>
                    </a:lnTo>
                    <a:lnTo>
                      <a:pt x="122" y="831"/>
                    </a:lnTo>
                    <a:lnTo>
                      <a:pt x="122" y="829"/>
                    </a:lnTo>
                    <a:lnTo>
                      <a:pt x="124" y="823"/>
                    </a:lnTo>
                    <a:lnTo>
                      <a:pt x="125" y="814"/>
                    </a:lnTo>
                    <a:lnTo>
                      <a:pt x="131" y="802"/>
                    </a:lnTo>
                    <a:lnTo>
                      <a:pt x="133" y="797"/>
                    </a:lnTo>
                    <a:lnTo>
                      <a:pt x="135" y="789"/>
                    </a:lnTo>
                    <a:lnTo>
                      <a:pt x="137" y="778"/>
                    </a:lnTo>
                    <a:lnTo>
                      <a:pt x="139" y="770"/>
                    </a:lnTo>
                    <a:lnTo>
                      <a:pt x="141" y="759"/>
                    </a:lnTo>
                    <a:lnTo>
                      <a:pt x="143" y="747"/>
                    </a:lnTo>
                    <a:lnTo>
                      <a:pt x="146" y="738"/>
                    </a:lnTo>
                    <a:lnTo>
                      <a:pt x="150" y="726"/>
                    </a:lnTo>
                    <a:lnTo>
                      <a:pt x="150" y="719"/>
                    </a:lnTo>
                    <a:lnTo>
                      <a:pt x="150" y="713"/>
                    </a:lnTo>
                    <a:lnTo>
                      <a:pt x="150" y="705"/>
                    </a:lnTo>
                    <a:lnTo>
                      <a:pt x="152" y="700"/>
                    </a:lnTo>
                    <a:lnTo>
                      <a:pt x="152" y="692"/>
                    </a:lnTo>
                    <a:lnTo>
                      <a:pt x="154" y="684"/>
                    </a:lnTo>
                    <a:lnTo>
                      <a:pt x="154" y="677"/>
                    </a:lnTo>
                    <a:lnTo>
                      <a:pt x="154" y="671"/>
                    </a:lnTo>
                    <a:lnTo>
                      <a:pt x="154" y="662"/>
                    </a:lnTo>
                    <a:lnTo>
                      <a:pt x="154" y="654"/>
                    </a:lnTo>
                    <a:lnTo>
                      <a:pt x="154" y="646"/>
                    </a:lnTo>
                    <a:lnTo>
                      <a:pt x="154" y="639"/>
                    </a:lnTo>
                    <a:lnTo>
                      <a:pt x="154" y="631"/>
                    </a:lnTo>
                    <a:lnTo>
                      <a:pt x="154" y="622"/>
                    </a:lnTo>
                    <a:lnTo>
                      <a:pt x="154" y="614"/>
                    </a:lnTo>
                    <a:lnTo>
                      <a:pt x="156" y="606"/>
                    </a:lnTo>
                    <a:lnTo>
                      <a:pt x="154" y="597"/>
                    </a:lnTo>
                    <a:lnTo>
                      <a:pt x="154" y="587"/>
                    </a:lnTo>
                    <a:lnTo>
                      <a:pt x="154" y="578"/>
                    </a:lnTo>
                    <a:lnTo>
                      <a:pt x="154" y="568"/>
                    </a:lnTo>
                    <a:lnTo>
                      <a:pt x="152" y="559"/>
                    </a:lnTo>
                    <a:lnTo>
                      <a:pt x="150" y="551"/>
                    </a:lnTo>
                    <a:lnTo>
                      <a:pt x="150" y="542"/>
                    </a:lnTo>
                    <a:lnTo>
                      <a:pt x="150" y="532"/>
                    </a:lnTo>
                    <a:lnTo>
                      <a:pt x="146" y="521"/>
                    </a:lnTo>
                    <a:lnTo>
                      <a:pt x="146" y="511"/>
                    </a:lnTo>
                    <a:lnTo>
                      <a:pt x="143" y="502"/>
                    </a:lnTo>
                    <a:lnTo>
                      <a:pt x="143" y="492"/>
                    </a:lnTo>
                    <a:lnTo>
                      <a:pt x="139" y="481"/>
                    </a:lnTo>
                    <a:lnTo>
                      <a:pt x="139" y="472"/>
                    </a:lnTo>
                    <a:lnTo>
                      <a:pt x="137" y="462"/>
                    </a:lnTo>
                    <a:lnTo>
                      <a:pt x="135" y="453"/>
                    </a:lnTo>
                    <a:lnTo>
                      <a:pt x="131" y="439"/>
                    </a:lnTo>
                    <a:lnTo>
                      <a:pt x="127" y="428"/>
                    </a:lnTo>
                    <a:lnTo>
                      <a:pt x="124" y="416"/>
                    </a:lnTo>
                    <a:lnTo>
                      <a:pt x="122" y="407"/>
                    </a:lnTo>
                    <a:lnTo>
                      <a:pt x="118" y="396"/>
                    </a:lnTo>
                    <a:lnTo>
                      <a:pt x="116" y="384"/>
                    </a:lnTo>
                    <a:lnTo>
                      <a:pt x="112" y="375"/>
                    </a:lnTo>
                    <a:lnTo>
                      <a:pt x="110" y="367"/>
                    </a:lnTo>
                    <a:lnTo>
                      <a:pt x="106" y="356"/>
                    </a:lnTo>
                    <a:lnTo>
                      <a:pt x="103" y="346"/>
                    </a:lnTo>
                    <a:lnTo>
                      <a:pt x="99" y="335"/>
                    </a:lnTo>
                    <a:lnTo>
                      <a:pt x="97" y="329"/>
                    </a:lnTo>
                    <a:lnTo>
                      <a:pt x="93" y="318"/>
                    </a:lnTo>
                    <a:lnTo>
                      <a:pt x="91" y="310"/>
                    </a:lnTo>
                    <a:lnTo>
                      <a:pt x="87" y="302"/>
                    </a:lnTo>
                    <a:lnTo>
                      <a:pt x="85" y="295"/>
                    </a:lnTo>
                    <a:lnTo>
                      <a:pt x="82" y="287"/>
                    </a:lnTo>
                    <a:lnTo>
                      <a:pt x="78" y="280"/>
                    </a:lnTo>
                    <a:lnTo>
                      <a:pt x="76" y="272"/>
                    </a:lnTo>
                    <a:lnTo>
                      <a:pt x="74" y="264"/>
                    </a:lnTo>
                    <a:lnTo>
                      <a:pt x="68" y="251"/>
                    </a:lnTo>
                    <a:lnTo>
                      <a:pt x="63" y="240"/>
                    </a:lnTo>
                    <a:lnTo>
                      <a:pt x="57" y="226"/>
                    </a:lnTo>
                    <a:lnTo>
                      <a:pt x="51" y="215"/>
                    </a:lnTo>
                    <a:lnTo>
                      <a:pt x="47" y="206"/>
                    </a:lnTo>
                    <a:lnTo>
                      <a:pt x="44" y="198"/>
                    </a:lnTo>
                    <a:lnTo>
                      <a:pt x="36" y="188"/>
                    </a:lnTo>
                    <a:lnTo>
                      <a:pt x="32" y="179"/>
                    </a:lnTo>
                    <a:lnTo>
                      <a:pt x="28" y="171"/>
                    </a:lnTo>
                    <a:lnTo>
                      <a:pt x="25" y="166"/>
                    </a:lnTo>
                    <a:lnTo>
                      <a:pt x="17" y="152"/>
                    </a:lnTo>
                    <a:lnTo>
                      <a:pt x="11" y="147"/>
                    </a:lnTo>
                    <a:lnTo>
                      <a:pt x="6" y="137"/>
                    </a:lnTo>
                    <a:lnTo>
                      <a:pt x="2" y="133"/>
                    </a:lnTo>
                    <a:lnTo>
                      <a:pt x="0" y="13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>
                <a:off x="2057040" y="2435400"/>
                <a:ext cx="266760" cy="266760"/>
              </a:xfrm>
              <a:custGeom>
                <a:avLst/>
                <a:gdLst/>
                <a:ahLst/>
                <a:rect l="l" t="t" r="r" b="b"/>
                <a:pathLst>
                  <a:path w="403" h="405">
                    <a:moveTo>
                      <a:pt x="293" y="86"/>
                    </a:moveTo>
                    <a:lnTo>
                      <a:pt x="295" y="87"/>
                    </a:lnTo>
                    <a:lnTo>
                      <a:pt x="304" y="97"/>
                    </a:lnTo>
                    <a:lnTo>
                      <a:pt x="308" y="101"/>
                    </a:lnTo>
                    <a:lnTo>
                      <a:pt x="316" y="110"/>
                    </a:lnTo>
                    <a:lnTo>
                      <a:pt x="323" y="118"/>
                    </a:lnTo>
                    <a:lnTo>
                      <a:pt x="329" y="127"/>
                    </a:lnTo>
                    <a:lnTo>
                      <a:pt x="337" y="139"/>
                    </a:lnTo>
                    <a:lnTo>
                      <a:pt x="342" y="148"/>
                    </a:lnTo>
                    <a:lnTo>
                      <a:pt x="346" y="160"/>
                    </a:lnTo>
                    <a:lnTo>
                      <a:pt x="352" y="173"/>
                    </a:lnTo>
                    <a:lnTo>
                      <a:pt x="354" y="186"/>
                    </a:lnTo>
                    <a:lnTo>
                      <a:pt x="354" y="200"/>
                    </a:lnTo>
                    <a:lnTo>
                      <a:pt x="354" y="205"/>
                    </a:lnTo>
                    <a:lnTo>
                      <a:pt x="354" y="211"/>
                    </a:lnTo>
                    <a:lnTo>
                      <a:pt x="352" y="219"/>
                    </a:lnTo>
                    <a:lnTo>
                      <a:pt x="352" y="226"/>
                    </a:lnTo>
                    <a:lnTo>
                      <a:pt x="346" y="238"/>
                    </a:lnTo>
                    <a:lnTo>
                      <a:pt x="341" y="249"/>
                    </a:lnTo>
                    <a:lnTo>
                      <a:pt x="333" y="260"/>
                    </a:lnTo>
                    <a:lnTo>
                      <a:pt x="327" y="272"/>
                    </a:lnTo>
                    <a:lnTo>
                      <a:pt x="318" y="281"/>
                    </a:lnTo>
                    <a:lnTo>
                      <a:pt x="308" y="293"/>
                    </a:lnTo>
                    <a:lnTo>
                      <a:pt x="303" y="296"/>
                    </a:lnTo>
                    <a:lnTo>
                      <a:pt x="295" y="300"/>
                    </a:lnTo>
                    <a:lnTo>
                      <a:pt x="289" y="306"/>
                    </a:lnTo>
                    <a:lnTo>
                      <a:pt x="282" y="310"/>
                    </a:lnTo>
                    <a:lnTo>
                      <a:pt x="274" y="314"/>
                    </a:lnTo>
                    <a:lnTo>
                      <a:pt x="266" y="315"/>
                    </a:lnTo>
                    <a:lnTo>
                      <a:pt x="257" y="319"/>
                    </a:lnTo>
                    <a:lnTo>
                      <a:pt x="247" y="323"/>
                    </a:lnTo>
                    <a:lnTo>
                      <a:pt x="238" y="327"/>
                    </a:lnTo>
                    <a:lnTo>
                      <a:pt x="228" y="331"/>
                    </a:lnTo>
                    <a:lnTo>
                      <a:pt x="217" y="333"/>
                    </a:lnTo>
                    <a:lnTo>
                      <a:pt x="206" y="336"/>
                    </a:lnTo>
                    <a:lnTo>
                      <a:pt x="192" y="336"/>
                    </a:lnTo>
                    <a:lnTo>
                      <a:pt x="181" y="340"/>
                    </a:lnTo>
                    <a:lnTo>
                      <a:pt x="168" y="340"/>
                    </a:lnTo>
                    <a:lnTo>
                      <a:pt x="156" y="344"/>
                    </a:lnTo>
                    <a:lnTo>
                      <a:pt x="149" y="344"/>
                    </a:lnTo>
                    <a:lnTo>
                      <a:pt x="141" y="344"/>
                    </a:lnTo>
                    <a:lnTo>
                      <a:pt x="133" y="346"/>
                    </a:lnTo>
                    <a:lnTo>
                      <a:pt x="126" y="348"/>
                    </a:lnTo>
                    <a:lnTo>
                      <a:pt x="118" y="348"/>
                    </a:lnTo>
                    <a:lnTo>
                      <a:pt x="111" y="348"/>
                    </a:lnTo>
                    <a:lnTo>
                      <a:pt x="101" y="350"/>
                    </a:lnTo>
                    <a:lnTo>
                      <a:pt x="93" y="352"/>
                    </a:lnTo>
                    <a:lnTo>
                      <a:pt x="0" y="405"/>
                    </a:lnTo>
                    <a:lnTo>
                      <a:pt x="0" y="405"/>
                    </a:lnTo>
                    <a:lnTo>
                      <a:pt x="8" y="405"/>
                    </a:lnTo>
                    <a:lnTo>
                      <a:pt x="12" y="405"/>
                    </a:lnTo>
                    <a:lnTo>
                      <a:pt x="16" y="405"/>
                    </a:lnTo>
                    <a:lnTo>
                      <a:pt x="21" y="405"/>
                    </a:lnTo>
                    <a:lnTo>
                      <a:pt x="29" y="405"/>
                    </a:lnTo>
                    <a:lnTo>
                      <a:pt x="36" y="405"/>
                    </a:lnTo>
                    <a:lnTo>
                      <a:pt x="42" y="405"/>
                    </a:lnTo>
                    <a:lnTo>
                      <a:pt x="52" y="405"/>
                    </a:lnTo>
                    <a:lnTo>
                      <a:pt x="61" y="405"/>
                    </a:lnTo>
                    <a:lnTo>
                      <a:pt x="71" y="405"/>
                    </a:lnTo>
                    <a:lnTo>
                      <a:pt x="80" y="405"/>
                    </a:lnTo>
                    <a:lnTo>
                      <a:pt x="92" y="405"/>
                    </a:lnTo>
                    <a:lnTo>
                      <a:pt x="103" y="405"/>
                    </a:lnTo>
                    <a:lnTo>
                      <a:pt x="114" y="403"/>
                    </a:lnTo>
                    <a:lnTo>
                      <a:pt x="126" y="403"/>
                    </a:lnTo>
                    <a:lnTo>
                      <a:pt x="137" y="399"/>
                    </a:lnTo>
                    <a:lnTo>
                      <a:pt x="149" y="399"/>
                    </a:lnTo>
                    <a:lnTo>
                      <a:pt x="160" y="397"/>
                    </a:lnTo>
                    <a:lnTo>
                      <a:pt x="173" y="395"/>
                    </a:lnTo>
                    <a:lnTo>
                      <a:pt x="185" y="393"/>
                    </a:lnTo>
                    <a:lnTo>
                      <a:pt x="198" y="392"/>
                    </a:lnTo>
                    <a:lnTo>
                      <a:pt x="209" y="388"/>
                    </a:lnTo>
                    <a:lnTo>
                      <a:pt x="223" y="386"/>
                    </a:lnTo>
                    <a:lnTo>
                      <a:pt x="234" y="382"/>
                    </a:lnTo>
                    <a:lnTo>
                      <a:pt x="247" y="380"/>
                    </a:lnTo>
                    <a:lnTo>
                      <a:pt x="259" y="374"/>
                    </a:lnTo>
                    <a:lnTo>
                      <a:pt x="270" y="371"/>
                    </a:lnTo>
                    <a:lnTo>
                      <a:pt x="282" y="369"/>
                    </a:lnTo>
                    <a:lnTo>
                      <a:pt x="293" y="365"/>
                    </a:lnTo>
                    <a:lnTo>
                      <a:pt x="303" y="357"/>
                    </a:lnTo>
                    <a:lnTo>
                      <a:pt x="312" y="354"/>
                    </a:lnTo>
                    <a:lnTo>
                      <a:pt x="320" y="348"/>
                    </a:lnTo>
                    <a:lnTo>
                      <a:pt x="329" y="342"/>
                    </a:lnTo>
                    <a:lnTo>
                      <a:pt x="337" y="334"/>
                    </a:lnTo>
                    <a:lnTo>
                      <a:pt x="344" y="331"/>
                    </a:lnTo>
                    <a:lnTo>
                      <a:pt x="350" y="323"/>
                    </a:lnTo>
                    <a:lnTo>
                      <a:pt x="358" y="317"/>
                    </a:lnTo>
                    <a:lnTo>
                      <a:pt x="367" y="304"/>
                    </a:lnTo>
                    <a:lnTo>
                      <a:pt x="379" y="293"/>
                    </a:lnTo>
                    <a:lnTo>
                      <a:pt x="384" y="279"/>
                    </a:lnTo>
                    <a:lnTo>
                      <a:pt x="392" y="266"/>
                    </a:lnTo>
                    <a:lnTo>
                      <a:pt x="394" y="258"/>
                    </a:lnTo>
                    <a:lnTo>
                      <a:pt x="396" y="251"/>
                    </a:lnTo>
                    <a:lnTo>
                      <a:pt x="398" y="245"/>
                    </a:lnTo>
                    <a:lnTo>
                      <a:pt x="399" y="238"/>
                    </a:lnTo>
                    <a:lnTo>
                      <a:pt x="401" y="224"/>
                    </a:lnTo>
                    <a:lnTo>
                      <a:pt x="403" y="213"/>
                    </a:lnTo>
                    <a:lnTo>
                      <a:pt x="403" y="200"/>
                    </a:lnTo>
                    <a:lnTo>
                      <a:pt x="403" y="188"/>
                    </a:lnTo>
                    <a:lnTo>
                      <a:pt x="401" y="177"/>
                    </a:lnTo>
                    <a:lnTo>
                      <a:pt x="401" y="167"/>
                    </a:lnTo>
                    <a:lnTo>
                      <a:pt x="398" y="160"/>
                    </a:lnTo>
                    <a:lnTo>
                      <a:pt x="396" y="152"/>
                    </a:lnTo>
                    <a:lnTo>
                      <a:pt x="392" y="144"/>
                    </a:lnTo>
                    <a:lnTo>
                      <a:pt x="390" y="139"/>
                    </a:lnTo>
                    <a:lnTo>
                      <a:pt x="386" y="131"/>
                    </a:lnTo>
                    <a:lnTo>
                      <a:pt x="382" y="124"/>
                    </a:lnTo>
                    <a:lnTo>
                      <a:pt x="379" y="116"/>
                    </a:lnTo>
                    <a:lnTo>
                      <a:pt x="377" y="108"/>
                    </a:lnTo>
                    <a:lnTo>
                      <a:pt x="371" y="101"/>
                    </a:lnTo>
                    <a:lnTo>
                      <a:pt x="367" y="93"/>
                    </a:lnTo>
                    <a:lnTo>
                      <a:pt x="361" y="86"/>
                    </a:lnTo>
                    <a:lnTo>
                      <a:pt x="358" y="80"/>
                    </a:lnTo>
                    <a:lnTo>
                      <a:pt x="350" y="65"/>
                    </a:lnTo>
                    <a:lnTo>
                      <a:pt x="341" y="55"/>
                    </a:lnTo>
                    <a:lnTo>
                      <a:pt x="329" y="42"/>
                    </a:lnTo>
                    <a:lnTo>
                      <a:pt x="322" y="30"/>
                    </a:lnTo>
                    <a:lnTo>
                      <a:pt x="312" y="21"/>
                    </a:lnTo>
                    <a:lnTo>
                      <a:pt x="306" y="13"/>
                    </a:lnTo>
                    <a:lnTo>
                      <a:pt x="299" y="8"/>
                    </a:lnTo>
                    <a:lnTo>
                      <a:pt x="295" y="4"/>
                    </a:lnTo>
                    <a:lnTo>
                      <a:pt x="293" y="0"/>
                    </a:lnTo>
                    <a:lnTo>
                      <a:pt x="293" y="86"/>
                    </a:lnTo>
                    <a:lnTo>
                      <a:pt x="293" y="8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>
                <a:off x="2262600" y="1902960"/>
                <a:ext cx="766080" cy="746640"/>
              </a:xfrm>
              <a:custGeom>
                <a:avLst/>
                <a:gdLst/>
                <a:ahLst/>
                <a:rect l="l" t="t" r="r" b="b"/>
                <a:pathLst>
                  <a:path w="1159" h="1129">
                    <a:moveTo>
                      <a:pt x="821" y="0"/>
                    </a:moveTo>
                    <a:lnTo>
                      <a:pt x="812" y="0"/>
                    </a:lnTo>
                    <a:lnTo>
                      <a:pt x="800" y="0"/>
                    </a:lnTo>
                    <a:lnTo>
                      <a:pt x="793" y="0"/>
                    </a:lnTo>
                    <a:lnTo>
                      <a:pt x="787" y="0"/>
                    </a:lnTo>
                    <a:lnTo>
                      <a:pt x="779" y="0"/>
                    </a:lnTo>
                    <a:lnTo>
                      <a:pt x="774" y="2"/>
                    </a:lnTo>
                    <a:lnTo>
                      <a:pt x="762" y="2"/>
                    </a:lnTo>
                    <a:lnTo>
                      <a:pt x="755" y="2"/>
                    </a:lnTo>
                    <a:lnTo>
                      <a:pt x="745" y="2"/>
                    </a:lnTo>
                    <a:lnTo>
                      <a:pt x="737" y="6"/>
                    </a:lnTo>
                    <a:lnTo>
                      <a:pt x="726" y="6"/>
                    </a:lnTo>
                    <a:lnTo>
                      <a:pt x="715" y="10"/>
                    </a:lnTo>
                    <a:lnTo>
                      <a:pt x="705" y="12"/>
                    </a:lnTo>
                    <a:lnTo>
                      <a:pt x="694" y="15"/>
                    </a:lnTo>
                    <a:lnTo>
                      <a:pt x="682" y="17"/>
                    </a:lnTo>
                    <a:lnTo>
                      <a:pt x="671" y="19"/>
                    </a:lnTo>
                    <a:lnTo>
                      <a:pt x="656" y="23"/>
                    </a:lnTo>
                    <a:lnTo>
                      <a:pt x="644" y="27"/>
                    </a:lnTo>
                    <a:lnTo>
                      <a:pt x="637" y="27"/>
                    </a:lnTo>
                    <a:lnTo>
                      <a:pt x="629" y="31"/>
                    </a:lnTo>
                    <a:lnTo>
                      <a:pt x="623" y="33"/>
                    </a:lnTo>
                    <a:lnTo>
                      <a:pt x="616" y="34"/>
                    </a:lnTo>
                    <a:lnTo>
                      <a:pt x="608" y="36"/>
                    </a:lnTo>
                    <a:lnTo>
                      <a:pt x="602" y="40"/>
                    </a:lnTo>
                    <a:lnTo>
                      <a:pt x="595" y="42"/>
                    </a:lnTo>
                    <a:lnTo>
                      <a:pt x="587" y="46"/>
                    </a:lnTo>
                    <a:lnTo>
                      <a:pt x="580" y="48"/>
                    </a:lnTo>
                    <a:lnTo>
                      <a:pt x="572" y="52"/>
                    </a:lnTo>
                    <a:lnTo>
                      <a:pt x="564" y="53"/>
                    </a:lnTo>
                    <a:lnTo>
                      <a:pt x="557" y="57"/>
                    </a:lnTo>
                    <a:lnTo>
                      <a:pt x="549" y="61"/>
                    </a:lnTo>
                    <a:lnTo>
                      <a:pt x="542" y="65"/>
                    </a:lnTo>
                    <a:lnTo>
                      <a:pt x="534" y="69"/>
                    </a:lnTo>
                    <a:lnTo>
                      <a:pt x="526" y="72"/>
                    </a:lnTo>
                    <a:lnTo>
                      <a:pt x="517" y="74"/>
                    </a:lnTo>
                    <a:lnTo>
                      <a:pt x="509" y="78"/>
                    </a:lnTo>
                    <a:lnTo>
                      <a:pt x="500" y="82"/>
                    </a:lnTo>
                    <a:lnTo>
                      <a:pt x="492" y="86"/>
                    </a:lnTo>
                    <a:lnTo>
                      <a:pt x="485" y="90"/>
                    </a:lnTo>
                    <a:lnTo>
                      <a:pt x="477" y="95"/>
                    </a:lnTo>
                    <a:lnTo>
                      <a:pt x="468" y="99"/>
                    </a:lnTo>
                    <a:lnTo>
                      <a:pt x="462" y="107"/>
                    </a:lnTo>
                    <a:lnTo>
                      <a:pt x="450" y="109"/>
                    </a:lnTo>
                    <a:lnTo>
                      <a:pt x="443" y="114"/>
                    </a:lnTo>
                    <a:lnTo>
                      <a:pt x="435" y="120"/>
                    </a:lnTo>
                    <a:lnTo>
                      <a:pt x="426" y="124"/>
                    </a:lnTo>
                    <a:lnTo>
                      <a:pt x="416" y="129"/>
                    </a:lnTo>
                    <a:lnTo>
                      <a:pt x="409" y="135"/>
                    </a:lnTo>
                    <a:lnTo>
                      <a:pt x="399" y="141"/>
                    </a:lnTo>
                    <a:lnTo>
                      <a:pt x="391" y="147"/>
                    </a:lnTo>
                    <a:lnTo>
                      <a:pt x="382" y="150"/>
                    </a:lnTo>
                    <a:lnTo>
                      <a:pt x="372" y="158"/>
                    </a:lnTo>
                    <a:lnTo>
                      <a:pt x="365" y="162"/>
                    </a:lnTo>
                    <a:lnTo>
                      <a:pt x="357" y="167"/>
                    </a:lnTo>
                    <a:lnTo>
                      <a:pt x="348" y="175"/>
                    </a:lnTo>
                    <a:lnTo>
                      <a:pt x="340" y="181"/>
                    </a:lnTo>
                    <a:lnTo>
                      <a:pt x="333" y="186"/>
                    </a:lnTo>
                    <a:lnTo>
                      <a:pt x="325" y="194"/>
                    </a:lnTo>
                    <a:lnTo>
                      <a:pt x="315" y="200"/>
                    </a:lnTo>
                    <a:lnTo>
                      <a:pt x="308" y="205"/>
                    </a:lnTo>
                    <a:lnTo>
                      <a:pt x="298" y="213"/>
                    </a:lnTo>
                    <a:lnTo>
                      <a:pt x="291" y="219"/>
                    </a:lnTo>
                    <a:lnTo>
                      <a:pt x="283" y="226"/>
                    </a:lnTo>
                    <a:lnTo>
                      <a:pt x="274" y="234"/>
                    </a:lnTo>
                    <a:lnTo>
                      <a:pt x="266" y="242"/>
                    </a:lnTo>
                    <a:lnTo>
                      <a:pt x="260" y="249"/>
                    </a:lnTo>
                    <a:lnTo>
                      <a:pt x="251" y="257"/>
                    </a:lnTo>
                    <a:lnTo>
                      <a:pt x="243" y="264"/>
                    </a:lnTo>
                    <a:lnTo>
                      <a:pt x="236" y="270"/>
                    </a:lnTo>
                    <a:lnTo>
                      <a:pt x="228" y="280"/>
                    </a:lnTo>
                    <a:lnTo>
                      <a:pt x="220" y="287"/>
                    </a:lnTo>
                    <a:lnTo>
                      <a:pt x="213" y="295"/>
                    </a:lnTo>
                    <a:lnTo>
                      <a:pt x="205" y="304"/>
                    </a:lnTo>
                    <a:lnTo>
                      <a:pt x="200" y="314"/>
                    </a:lnTo>
                    <a:lnTo>
                      <a:pt x="192" y="321"/>
                    </a:lnTo>
                    <a:lnTo>
                      <a:pt x="184" y="329"/>
                    </a:lnTo>
                    <a:lnTo>
                      <a:pt x="177" y="339"/>
                    </a:lnTo>
                    <a:lnTo>
                      <a:pt x="171" y="348"/>
                    </a:lnTo>
                    <a:lnTo>
                      <a:pt x="163" y="358"/>
                    </a:lnTo>
                    <a:lnTo>
                      <a:pt x="156" y="367"/>
                    </a:lnTo>
                    <a:lnTo>
                      <a:pt x="150" y="375"/>
                    </a:lnTo>
                    <a:lnTo>
                      <a:pt x="142" y="386"/>
                    </a:lnTo>
                    <a:lnTo>
                      <a:pt x="137" y="394"/>
                    </a:lnTo>
                    <a:lnTo>
                      <a:pt x="129" y="405"/>
                    </a:lnTo>
                    <a:lnTo>
                      <a:pt x="123" y="415"/>
                    </a:lnTo>
                    <a:lnTo>
                      <a:pt x="118" y="426"/>
                    </a:lnTo>
                    <a:lnTo>
                      <a:pt x="110" y="435"/>
                    </a:lnTo>
                    <a:lnTo>
                      <a:pt x="104" y="447"/>
                    </a:lnTo>
                    <a:lnTo>
                      <a:pt x="99" y="456"/>
                    </a:lnTo>
                    <a:lnTo>
                      <a:pt x="95" y="468"/>
                    </a:lnTo>
                    <a:lnTo>
                      <a:pt x="87" y="477"/>
                    </a:lnTo>
                    <a:lnTo>
                      <a:pt x="82" y="489"/>
                    </a:lnTo>
                    <a:lnTo>
                      <a:pt x="76" y="500"/>
                    </a:lnTo>
                    <a:lnTo>
                      <a:pt x="72" y="511"/>
                    </a:lnTo>
                    <a:lnTo>
                      <a:pt x="66" y="523"/>
                    </a:lnTo>
                    <a:lnTo>
                      <a:pt x="61" y="534"/>
                    </a:lnTo>
                    <a:lnTo>
                      <a:pt x="57" y="546"/>
                    </a:lnTo>
                    <a:lnTo>
                      <a:pt x="53" y="559"/>
                    </a:lnTo>
                    <a:lnTo>
                      <a:pt x="47" y="570"/>
                    </a:lnTo>
                    <a:lnTo>
                      <a:pt x="44" y="584"/>
                    </a:lnTo>
                    <a:lnTo>
                      <a:pt x="40" y="595"/>
                    </a:lnTo>
                    <a:lnTo>
                      <a:pt x="36" y="608"/>
                    </a:lnTo>
                    <a:lnTo>
                      <a:pt x="32" y="622"/>
                    </a:lnTo>
                    <a:lnTo>
                      <a:pt x="28" y="635"/>
                    </a:lnTo>
                    <a:lnTo>
                      <a:pt x="25" y="648"/>
                    </a:lnTo>
                    <a:lnTo>
                      <a:pt x="23" y="662"/>
                    </a:lnTo>
                    <a:lnTo>
                      <a:pt x="19" y="675"/>
                    </a:lnTo>
                    <a:lnTo>
                      <a:pt x="15" y="688"/>
                    </a:lnTo>
                    <a:lnTo>
                      <a:pt x="11" y="700"/>
                    </a:lnTo>
                    <a:lnTo>
                      <a:pt x="9" y="713"/>
                    </a:lnTo>
                    <a:lnTo>
                      <a:pt x="6" y="724"/>
                    </a:lnTo>
                    <a:lnTo>
                      <a:pt x="6" y="738"/>
                    </a:lnTo>
                    <a:lnTo>
                      <a:pt x="2" y="749"/>
                    </a:lnTo>
                    <a:lnTo>
                      <a:pt x="2" y="762"/>
                    </a:lnTo>
                    <a:lnTo>
                      <a:pt x="0" y="774"/>
                    </a:lnTo>
                    <a:lnTo>
                      <a:pt x="0" y="785"/>
                    </a:lnTo>
                    <a:lnTo>
                      <a:pt x="0" y="797"/>
                    </a:lnTo>
                    <a:lnTo>
                      <a:pt x="0" y="808"/>
                    </a:lnTo>
                    <a:lnTo>
                      <a:pt x="0" y="817"/>
                    </a:lnTo>
                    <a:lnTo>
                      <a:pt x="0" y="829"/>
                    </a:lnTo>
                    <a:lnTo>
                      <a:pt x="0" y="840"/>
                    </a:lnTo>
                    <a:lnTo>
                      <a:pt x="2" y="852"/>
                    </a:lnTo>
                    <a:lnTo>
                      <a:pt x="2" y="859"/>
                    </a:lnTo>
                    <a:lnTo>
                      <a:pt x="2" y="871"/>
                    </a:lnTo>
                    <a:lnTo>
                      <a:pt x="2" y="878"/>
                    </a:lnTo>
                    <a:lnTo>
                      <a:pt x="6" y="890"/>
                    </a:lnTo>
                    <a:lnTo>
                      <a:pt x="6" y="899"/>
                    </a:lnTo>
                    <a:lnTo>
                      <a:pt x="9" y="907"/>
                    </a:lnTo>
                    <a:lnTo>
                      <a:pt x="9" y="916"/>
                    </a:lnTo>
                    <a:lnTo>
                      <a:pt x="13" y="926"/>
                    </a:lnTo>
                    <a:lnTo>
                      <a:pt x="15" y="933"/>
                    </a:lnTo>
                    <a:lnTo>
                      <a:pt x="17" y="941"/>
                    </a:lnTo>
                    <a:lnTo>
                      <a:pt x="19" y="950"/>
                    </a:lnTo>
                    <a:lnTo>
                      <a:pt x="23" y="958"/>
                    </a:lnTo>
                    <a:lnTo>
                      <a:pt x="27" y="966"/>
                    </a:lnTo>
                    <a:lnTo>
                      <a:pt x="30" y="973"/>
                    </a:lnTo>
                    <a:lnTo>
                      <a:pt x="34" y="981"/>
                    </a:lnTo>
                    <a:lnTo>
                      <a:pt x="38" y="988"/>
                    </a:lnTo>
                    <a:lnTo>
                      <a:pt x="44" y="1002"/>
                    </a:lnTo>
                    <a:lnTo>
                      <a:pt x="51" y="1015"/>
                    </a:lnTo>
                    <a:lnTo>
                      <a:pt x="59" y="1026"/>
                    </a:lnTo>
                    <a:lnTo>
                      <a:pt x="68" y="1038"/>
                    </a:lnTo>
                    <a:lnTo>
                      <a:pt x="74" y="1047"/>
                    </a:lnTo>
                    <a:lnTo>
                      <a:pt x="84" y="1057"/>
                    </a:lnTo>
                    <a:lnTo>
                      <a:pt x="91" y="1066"/>
                    </a:lnTo>
                    <a:lnTo>
                      <a:pt x="103" y="1076"/>
                    </a:lnTo>
                    <a:lnTo>
                      <a:pt x="110" y="1082"/>
                    </a:lnTo>
                    <a:lnTo>
                      <a:pt x="120" y="1089"/>
                    </a:lnTo>
                    <a:lnTo>
                      <a:pt x="127" y="1095"/>
                    </a:lnTo>
                    <a:lnTo>
                      <a:pt x="137" y="1101"/>
                    </a:lnTo>
                    <a:lnTo>
                      <a:pt x="146" y="1104"/>
                    </a:lnTo>
                    <a:lnTo>
                      <a:pt x="154" y="1108"/>
                    </a:lnTo>
                    <a:lnTo>
                      <a:pt x="163" y="1110"/>
                    </a:lnTo>
                    <a:lnTo>
                      <a:pt x="171" y="1114"/>
                    </a:lnTo>
                    <a:lnTo>
                      <a:pt x="179" y="1114"/>
                    </a:lnTo>
                    <a:lnTo>
                      <a:pt x="188" y="1116"/>
                    </a:lnTo>
                    <a:lnTo>
                      <a:pt x="196" y="1118"/>
                    </a:lnTo>
                    <a:lnTo>
                      <a:pt x="207" y="1120"/>
                    </a:lnTo>
                    <a:lnTo>
                      <a:pt x="219" y="1121"/>
                    </a:lnTo>
                    <a:lnTo>
                      <a:pt x="230" y="1123"/>
                    </a:lnTo>
                    <a:lnTo>
                      <a:pt x="236" y="1123"/>
                    </a:lnTo>
                    <a:lnTo>
                      <a:pt x="243" y="1125"/>
                    </a:lnTo>
                    <a:lnTo>
                      <a:pt x="249" y="1125"/>
                    </a:lnTo>
                    <a:lnTo>
                      <a:pt x="257" y="1127"/>
                    </a:lnTo>
                    <a:lnTo>
                      <a:pt x="262" y="1127"/>
                    </a:lnTo>
                    <a:lnTo>
                      <a:pt x="270" y="1127"/>
                    </a:lnTo>
                    <a:lnTo>
                      <a:pt x="277" y="1127"/>
                    </a:lnTo>
                    <a:lnTo>
                      <a:pt x="285" y="1127"/>
                    </a:lnTo>
                    <a:lnTo>
                      <a:pt x="293" y="1127"/>
                    </a:lnTo>
                    <a:lnTo>
                      <a:pt x="300" y="1127"/>
                    </a:lnTo>
                    <a:lnTo>
                      <a:pt x="310" y="1127"/>
                    </a:lnTo>
                    <a:lnTo>
                      <a:pt x="317" y="1129"/>
                    </a:lnTo>
                    <a:lnTo>
                      <a:pt x="325" y="1127"/>
                    </a:lnTo>
                    <a:lnTo>
                      <a:pt x="334" y="1127"/>
                    </a:lnTo>
                    <a:lnTo>
                      <a:pt x="342" y="1127"/>
                    </a:lnTo>
                    <a:lnTo>
                      <a:pt x="352" y="1127"/>
                    </a:lnTo>
                    <a:lnTo>
                      <a:pt x="361" y="1125"/>
                    </a:lnTo>
                    <a:lnTo>
                      <a:pt x="371" y="1125"/>
                    </a:lnTo>
                    <a:lnTo>
                      <a:pt x="380" y="1125"/>
                    </a:lnTo>
                    <a:lnTo>
                      <a:pt x="390" y="1125"/>
                    </a:lnTo>
                    <a:lnTo>
                      <a:pt x="399" y="1123"/>
                    </a:lnTo>
                    <a:lnTo>
                      <a:pt x="409" y="1121"/>
                    </a:lnTo>
                    <a:lnTo>
                      <a:pt x="416" y="1121"/>
                    </a:lnTo>
                    <a:lnTo>
                      <a:pt x="428" y="1120"/>
                    </a:lnTo>
                    <a:lnTo>
                      <a:pt x="437" y="1118"/>
                    </a:lnTo>
                    <a:lnTo>
                      <a:pt x="449" y="1116"/>
                    </a:lnTo>
                    <a:lnTo>
                      <a:pt x="458" y="1112"/>
                    </a:lnTo>
                    <a:lnTo>
                      <a:pt x="469" y="1112"/>
                    </a:lnTo>
                    <a:lnTo>
                      <a:pt x="479" y="1108"/>
                    </a:lnTo>
                    <a:lnTo>
                      <a:pt x="490" y="1104"/>
                    </a:lnTo>
                    <a:lnTo>
                      <a:pt x="502" y="1102"/>
                    </a:lnTo>
                    <a:lnTo>
                      <a:pt x="513" y="1101"/>
                    </a:lnTo>
                    <a:lnTo>
                      <a:pt x="523" y="1097"/>
                    </a:lnTo>
                    <a:lnTo>
                      <a:pt x="534" y="1093"/>
                    </a:lnTo>
                    <a:lnTo>
                      <a:pt x="545" y="1089"/>
                    </a:lnTo>
                    <a:lnTo>
                      <a:pt x="557" y="1087"/>
                    </a:lnTo>
                    <a:lnTo>
                      <a:pt x="568" y="1082"/>
                    </a:lnTo>
                    <a:lnTo>
                      <a:pt x="580" y="1078"/>
                    </a:lnTo>
                    <a:lnTo>
                      <a:pt x="591" y="1072"/>
                    </a:lnTo>
                    <a:lnTo>
                      <a:pt x="604" y="1068"/>
                    </a:lnTo>
                    <a:lnTo>
                      <a:pt x="616" y="1061"/>
                    </a:lnTo>
                    <a:lnTo>
                      <a:pt x="627" y="1057"/>
                    </a:lnTo>
                    <a:lnTo>
                      <a:pt x="641" y="1051"/>
                    </a:lnTo>
                    <a:lnTo>
                      <a:pt x="654" y="1045"/>
                    </a:lnTo>
                    <a:lnTo>
                      <a:pt x="663" y="1038"/>
                    </a:lnTo>
                    <a:lnTo>
                      <a:pt x="677" y="1032"/>
                    </a:lnTo>
                    <a:lnTo>
                      <a:pt x="690" y="1025"/>
                    </a:lnTo>
                    <a:lnTo>
                      <a:pt x="703" y="1019"/>
                    </a:lnTo>
                    <a:lnTo>
                      <a:pt x="715" y="1009"/>
                    </a:lnTo>
                    <a:lnTo>
                      <a:pt x="728" y="1002"/>
                    </a:lnTo>
                    <a:lnTo>
                      <a:pt x="741" y="994"/>
                    </a:lnTo>
                    <a:lnTo>
                      <a:pt x="756" y="987"/>
                    </a:lnTo>
                    <a:lnTo>
                      <a:pt x="768" y="977"/>
                    </a:lnTo>
                    <a:lnTo>
                      <a:pt x="779" y="968"/>
                    </a:lnTo>
                    <a:lnTo>
                      <a:pt x="793" y="960"/>
                    </a:lnTo>
                    <a:lnTo>
                      <a:pt x="804" y="950"/>
                    </a:lnTo>
                    <a:lnTo>
                      <a:pt x="815" y="941"/>
                    </a:lnTo>
                    <a:lnTo>
                      <a:pt x="829" y="933"/>
                    </a:lnTo>
                    <a:lnTo>
                      <a:pt x="838" y="924"/>
                    </a:lnTo>
                    <a:lnTo>
                      <a:pt x="852" y="916"/>
                    </a:lnTo>
                    <a:lnTo>
                      <a:pt x="861" y="907"/>
                    </a:lnTo>
                    <a:lnTo>
                      <a:pt x="872" y="897"/>
                    </a:lnTo>
                    <a:lnTo>
                      <a:pt x="882" y="890"/>
                    </a:lnTo>
                    <a:lnTo>
                      <a:pt x="893" y="880"/>
                    </a:lnTo>
                    <a:lnTo>
                      <a:pt x="903" y="871"/>
                    </a:lnTo>
                    <a:lnTo>
                      <a:pt x="912" y="863"/>
                    </a:lnTo>
                    <a:lnTo>
                      <a:pt x="922" y="854"/>
                    </a:lnTo>
                    <a:lnTo>
                      <a:pt x="931" y="846"/>
                    </a:lnTo>
                    <a:lnTo>
                      <a:pt x="939" y="836"/>
                    </a:lnTo>
                    <a:lnTo>
                      <a:pt x="948" y="827"/>
                    </a:lnTo>
                    <a:lnTo>
                      <a:pt x="956" y="817"/>
                    </a:lnTo>
                    <a:lnTo>
                      <a:pt x="964" y="810"/>
                    </a:lnTo>
                    <a:lnTo>
                      <a:pt x="971" y="800"/>
                    </a:lnTo>
                    <a:lnTo>
                      <a:pt x="981" y="791"/>
                    </a:lnTo>
                    <a:lnTo>
                      <a:pt x="988" y="783"/>
                    </a:lnTo>
                    <a:lnTo>
                      <a:pt x="996" y="774"/>
                    </a:lnTo>
                    <a:lnTo>
                      <a:pt x="1002" y="764"/>
                    </a:lnTo>
                    <a:lnTo>
                      <a:pt x="1009" y="755"/>
                    </a:lnTo>
                    <a:lnTo>
                      <a:pt x="1017" y="745"/>
                    </a:lnTo>
                    <a:lnTo>
                      <a:pt x="1023" y="738"/>
                    </a:lnTo>
                    <a:lnTo>
                      <a:pt x="1030" y="728"/>
                    </a:lnTo>
                    <a:lnTo>
                      <a:pt x="1036" y="720"/>
                    </a:lnTo>
                    <a:lnTo>
                      <a:pt x="1042" y="711"/>
                    </a:lnTo>
                    <a:lnTo>
                      <a:pt x="1049" y="703"/>
                    </a:lnTo>
                    <a:lnTo>
                      <a:pt x="1053" y="694"/>
                    </a:lnTo>
                    <a:lnTo>
                      <a:pt x="1059" y="684"/>
                    </a:lnTo>
                    <a:lnTo>
                      <a:pt x="1064" y="675"/>
                    </a:lnTo>
                    <a:lnTo>
                      <a:pt x="1070" y="665"/>
                    </a:lnTo>
                    <a:lnTo>
                      <a:pt x="1074" y="656"/>
                    </a:lnTo>
                    <a:lnTo>
                      <a:pt x="1080" y="648"/>
                    </a:lnTo>
                    <a:lnTo>
                      <a:pt x="1083" y="639"/>
                    </a:lnTo>
                    <a:lnTo>
                      <a:pt x="1089" y="629"/>
                    </a:lnTo>
                    <a:lnTo>
                      <a:pt x="1093" y="620"/>
                    </a:lnTo>
                    <a:lnTo>
                      <a:pt x="1097" y="610"/>
                    </a:lnTo>
                    <a:lnTo>
                      <a:pt x="1101" y="601"/>
                    </a:lnTo>
                    <a:lnTo>
                      <a:pt x="1104" y="593"/>
                    </a:lnTo>
                    <a:lnTo>
                      <a:pt x="1108" y="584"/>
                    </a:lnTo>
                    <a:lnTo>
                      <a:pt x="1112" y="574"/>
                    </a:lnTo>
                    <a:lnTo>
                      <a:pt x="1116" y="565"/>
                    </a:lnTo>
                    <a:lnTo>
                      <a:pt x="1120" y="557"/>
                    </a:lnTo>
                    <a:lnTo>
                      <a:pt x="1121" y="548"/>
                    </a:lnTo>
                    <a:lnTo>
                      <a:pt x="1125" y="538"/>
                    </a:lnTo>
                    <a:lnTo>
                      <a:pt x="1127" y="529"/>
                    </a:lnTo>
                    <a:lnTo>
                      <a:pt x="1131" y="521"/>
                    </a:lnTo>
                    <a:lnTo>
                      <a:pt x="1133" y="511"/>
                    </a:lnTo>
                    <a:lnTo>
                      <a:pt x="1137" y="502"/>
                    </a:lnTo>
                    <a:lnTo>
                      <a:pt x="1139" y="492"/>
                    </a:lnTo>
                    <a:lnTo>
                      <a:pt x="1142" y="483"/>
                    </a:lnTo>
                    <a:lnTo>
                      <a:pt x="1142" y="473"/>
                    </a:lnTo>
                    <a:lnTo>
                      <a:pt x="1146" y="466"/>
                    </a:lnTo>
                    <a:lnTo>
                      <a:pt x="1146" y="456"/>
                    </a:lnTo>
                    <a:lnTo>
                      <a:pt x="1150" y="447"/>
                    </a:lnTo>
                    <a:lnTo>
                      <a:pt x="1150" y="437"/>
                    </a:lnTo>
                    <a:lnTo>
                      <a:pt x="1154" y="430"/>
                    </a:lnTo>
                    <a:lnTo>
                      <a:pt x="1154" y="418"/>
                    </a:lnTo>
                    <a:lnTo>
                      <a:pt x="1156" y="411"/>
                    </a:lnTo>
                    <a:lnTo>
                      <a:pt x="1156" y="401"/>
                    </a:lnTo>
                    <a:lnTo>
                      <a:pt x="1158" y="394"/>
                    </a:lnTo>
                    <a:lnTo>
                      <a:pt x="1158" y="384"/>
                    </a:lnTo>
                    <a:lnTo>
                      <a:pt x="1159" y="375"/>
                    </a:lnTo>
                    <a:lnTo>
                      <a:pt x="1159" y="367"/>
                    </a:lnTo>
                    <a:lnTo>
                      <a:pt x="1159" y="358"/>
                    </a:lnTo>
                    <a:lnTo>
                      <a:pt x="1159" y="350"/>
                    </a:lnTo>
                    <a:lnTo>
                      <a:pt x="1159" y="342"/>
                    </a:lnTo>
                    <a:lnTo>
                      <a:pt x="1159" y="333"/>
                    </a:lnTo>
                    <a:lnTo>
                      <a:pt x="1159" y="325"/>
                    </a:lnTo>
                    <a:lnTo>
                      <a:pt x="1159" y="318"/>
                    </a:lnTo>
                    <a:lnTo>
                      <a:pt x="1159" y="310"/>
                    </a:lnTo>
                    <a:lnTo>
                      <a:pt x="1158" y="302"/>
                    </a:lnTo>
                    <a:lnTo>
                      <a:pt x="1158" y="295"/>
                    </a:lnTo>
                    <a:lnTo>
                      <a:pt x="1156" y="287"/>
                    </a:lnTo>
                    <a:lnTo>
                      <a:pt x="1156" y="281"/>
                    </a:lnTo>
                    <a:lnTo>
                      <a:pt x="1154" y="274"/>
                    </a:lnTo>
                    <a:lnTo>
                      <a:pt x="1154" y="266"/>
                    </a:lnTo>
                    <a:lnTo>
                      <a:pt x="1152" y="261"/>
                    </a:lnTo>
                    <a:lnTo>
                      <a:pt x="1150" y="253"/>
                    </a:lnTo>
                    <a:lnTo>
                      <a:pt x="1146" y="240"/>
                    </a:lnTo>
                    <a:lnTo>
                      <a:pt x="1144" y="230"/>
                    </a:lnTo>
                    <a:lnTo>
                      <a:pt x="1139" y="217"/>
                    </a:lnTo>
                    <a:lnTo>
                      <a:pt x="1137" y="205"/>
                    </a:lnTo>
                    <a:lnTo>
                      <a:pt x="1133" y="196"/>
                    </a:lnTo>
                    <a:lnTo>
                      <a:pt x="1129" y="185"/>
                    </a:lnTo>
                    <a:lnTo>
                      <a:pt x="1121" y="175"/>
                    </a:lnTo>
                    <a:lnTo>
                      <a:pt x="1118" y="164"/>
                    </a:lnTo>
                    <a:lnTo>
                      <a:pt x="1112" y="154"/>
                    </a:lnTo>
                    <a:lnTo>
                      <a:pt x="1106" y="147"/>
                    </a:lnTo>
                    <a:lnTo>
                      <a:pt x="1101" y="137"/>
                    </a:lnTo>
                    <a:lnTo>
                      <a:pt x="1095" y="129"/>
                    </a:lnTo>
                    <a:lnTo>
                      <a:pt x="1089" y="122"/>
                    </a:lnTo>
                    <a:lnTo>
                      <a:pt x="1083" y="114"/>
                    </a:lnTo>
                    <a:lnTo>
                      <a:pt x="1078" y="107"/>
                    </a:lnTo>
                    <a:lnTo>
                      <a:pt x="1072" y="99"/>
                    </a:lnTo>
                    <a:lnTo>
                      <a:pt x="1066" y="93"/>
                    </a:lnTo>
                    <a:lnTo>
                      <a:pt x="1061" y="90"/>
                    </a:lnTo>
                    <a:lnTo>
                      <a:pt x="1051" y="78"/>
                    </a:lnTo>
                    <a:lnTo>
                      <a:pt x="1042" y="71"/>
                    </a:lnTo>
                    <a:lnTo>
                      <a:pt x="1030" y="61"/>
                    </a:lnTo>
                    <a:lnTo>
                      <a:pt x="1019" y="53"/>
                    </a:lnTo>
                    <a:lnTo>
                      <a:pt x="1007" y="46"/>
                    </a:lnTo>
                    <a:lnTo>
                      <a:pt x="996" y="38"/>
                    </a:lnTo>
                    <a:lnTo>
                      <a:pt x="988" y="34"/>
                    </a:lnTo>
                    <a:lnTo>
                      <a:pt x="983" y="31"/>
                    </a:lnTo>
                    <a:lnTo>
                      <a:pt x="975" y="29"/>
                    </a:lnTo>
                    <a:lnTo>
                      <a:pt x="969" y="27"/>
                    </a:lnTo>
                    <a:lnTo>
                      <a:pt x="962" y="23"/>
                    </a:lnTo>
                    <a:lnTo>
                      <a:pt x="954" y="19"/>
                    </a:lnTo>
                    <a:lnTo>
                      <a:pt x="948" y="17"/>
                    </a:lnTo>
                    <a:lnTo>
                      <a:pt x="941" y="17"/>
                    </a:lnTo>
                    <a:lnTo>
                      <a:pt x="933" y="14"/>
                    </a:lnTo>
                    <a:lnTo>
                      <a:pt x="926" y="12"/>
                    </a:lnTo>
                    <a:lnTo>
                      <a:pt x="918" y="10"/>
                    </a:lnTo>
                    <a:lnTo>
                      <a:pt x="910" y="8"/>
                    </a:lnTo>
                    <a:lnTo>
                      <a:pt x="903" y="6"/>
                    </a:lnTo>
                    <a:lnTo>
                      <a:pt x="895" y="6"/>
                    </a:lnTo>
                    <a:lnTo>
                      <a:pt x="888" y="2"/>
                    </a:lnTo>
                    <a:lnTo>
                      <a:pt x="880" y="2"/>
                    </a:lnTo>
                    <a:lnTo>
                      <a:pt x="872" y="2"/>
                    </a:lnTo>
                    <a:lnTo>
                      <a:pt x="865" y="0"/>
                    </a:lnTo>
                    <a:lnTo>
                      <a:pt x="857" y="0"/>
                    </a:lnTo>
                    <a:lnTo>
                      <a:pt x="850" y="0"/>
                    </a:lnTo>
                    <a:lnTo>
                      <a:pt x="842" y="0"/>
                    </a:lnTo>
                    <a:lnTo>
                      <a:pt x="834" y="0"/>
                    </a:lnTo>
                    <a:lnTo>
                      <a:pt x="829" y="0"/>
                    </a:lnTo>
                    <a:lnTo>
                      <a:pt x="821" y="0"/>
                    </a:lnTo>
                    <a:lnTo>
                      <a:pt x="821" y="0"/>
                    </a:lnTo>
                    <a:close/>
                  </a:path>
                </a:pathLst>
              </a:custGeom>
              <a:solidFill>
                <a:srgbClr val="ffff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>
                <a:off x="2206440" y="1855440"/>
                <a:ext cx="877320" cy="849600"/>
              </a:xfrm>
              <a:custGeom>
                <a:avLst/>
                <a:gdLst/>
                <a:ahLst/>
                <a:rect l="l" t="t" r="r" b="b"/>
                <a:pathLst>
                  <a:path w="1329" h="1287">
                    <a:moveTo>
                      <a:pt x="534" y="163"/>
                    </a:moveTo>
                    <a:lnTo>
                      <a:pt x="534" y="162"/>
                    </a:lnTo>
                    <a:lnTo>
                      <a:pt x="544" y="158"/>
                    </a:lnTo>
                    <a:lnTo>
                      <a:pt x="548" y="154"/>
                    </a:lnTo>
                    <a:lnTo>
                      <a:pt x="555" y="150"/>
                    </a:lnTo>
                    <a:lnTo>
                      <a:pt x="563" y="146"/>
                    </a:lnTo>
                    <a:lnTo>
                      <a:pt x="572" y="143"/>
                    </a:lnTo>
                    <a:lnTo>
                      <a:pt x="582" y="137"/>
                    </a:lnTo>
                    <a:lnTo>
                      <a:pt x="593" y="131"/>
                    </a:lnTo>
                    <a:lnTo>
                      <a:pt x="603" y="125"/>
                    </a:lnTo>
                    <a:lnTo>
                      <a:pt x="618" y="122"/>
                    </a:lnTo>
                    <a:lnTo>
                      <a:pt x="624" y="118"/>
                    </a:lnTo>
                    <a:lnTo>
                      <a:pt x="631" y="116"/>
                    </a:lnTo>
                    <a:lnTo>
                      <a:pt x="637" y="112"/>
                    </a:lnTo>
                    <a:lnTo>
                      <a:pt x="645" y="110"/>
                    </a:lnTo>
                    <a:lnTo>
                      <a:pt x="652" y="106"/>
                    </a:lnTo>
                    <a:lnTo>
                      <a:pt x="660" y="105"/>
                    </a:lnTo>
                    <a:lnTo>
                      <a:pt x="669" y="103"/>
                    </a:lnTo>
                    <a:lnTo>
                      <a:pt x="677" y="99"/>
                    </a:lnTo>
                    <a:lnTo>
                      <a:pt x="685" y="95"/>
                    </a:lnTo>
                    <a:lnTo>
                      <a:pt x="692" y="93"/>
                    </a:lnTo>
                    <a:lnTo>
                      <a:pt x="700" y="91"/>
                    </a:lnTo>
                    <a:lnTo>
                      <a:pt x="709" y="89"/>
                    </a:lnTo>
                    <a:lnTo>
                      <a:pt x="717" y="86"/>
                    </a:lnTo>
                    <a:lnTo>
                      <a:pt x="726" y="82"/>
                    </a:lnTo>
                    <a:lnTo>
                      <a:pt x="736" y="80"/>
                    </a:lnTo>
                    <a:lnTo>
                      <a:pt x="745" y="78"/>
                    </a:lnTo>
                    <a:lnTo>
                      <a:pt x="753" y="74"/>
                    </a:lnTo>
                    <a:lnTo>
                      <a:pt x="763" y="72"/>
                    </a:lnTo>
                    <a:lnTo>
                      <a:pt x="772" y="70"/>
                    </a:lnTo>
                    <a:lnTo>
                      <a:pt x="782" y="68"/>
                    </a:lnTo>
                    <a:lnTo>
                      <a:pt x="791" y="67"/>
                    </a:lnTo>
                    <a:lnTo>
                      <a:pt x="801" y="65"/>
                    </a:lnTo>
                    <a:lnTo>
                      <a:pt x="810" y="63"/>
                    </a:lnTo>
                    <a:lnTo>
                      <a:pt x="821" y="63"/>
                    </a:lnTo>
                    <a:lnTo>
                      <a:pt x="829" y="61"/>
                    </a:lnTo>
                    <a:lnTo>
                      <a:pt x="840" y="59"/>
                    </a:lnTo>
                    <a:lnTo>
                      <a:pt x="850" y="57"/>
                    </a:lnTo>
                    <a:lnTo>
                      <a:pt x="859" y="57"/>
                    </a:lnTo>
                    <a:lnTo>
                      <a:pt x="871" y="55"/>
                    </a:lnTo>
                    <a:lnTo>
                      <a:pt x="880" y="55"/>
                    </a:lnTo>
                    <a:lnTo>
                      <a:pt x="892" y="55"/>
                    </a:lnTo>
                    <a:lnTo>
                      <a:pt x="901" y="55"/>
                    </a:lnTo>
                    <a:lnTo>
                      <a:pt x="913" y="55"/>
                    </a:lnTo>
                    <a:lnTo>
                      <a:pt x="922" y="55"/>
                    </a:lnTo>
                    <a:lnTo>
                      <a:pt x="932" y="55"/>
                    </a:lnTo>
                    <a:lnTo>
                      <a:pt x="943" y="55"/>
                    </a:lnTo>
                    <a:lnTo>
                      <a:pt x="953" y="55"/>
                    </a:lnTo>
                    <a:lnTo>
                      <a:pt x="962" y="57"/>
                    </a:lnTo>
                    <a:lnTo>
                      <a:pt x="974" y="57"/>
                    </a:lnTo>
                    <a:lnTo>
                      <a:pt x="985" y="61"/>
                    </a:lnTo>
                    <a:lnTo>
                      <a:pt x="994" y="61"/>
                    </a:lnTo>
                    <a:lnTo>
                      <a:pt x="1004" y="63"/>
                    </a:lnTo>
                    <a:lnTo>
                      <a:pt x="1013" y="65"/>
                    </a:lnTo>
                    <a:lnTo>
                      <a:pt x="1023" y="68"/>
                    </a:lnTo>
                    <a:lnTo>
                      <a:pt x="1032" y="68"/>
                    </a:lnTo>
                    <a:lnTo>
                      <a:pt x="1042" y="72"/>
                    </a:lnTo>
                    <a:lnTo>
                      <a:pt x="1050" y="74"/>
                    </a:lnTo>
                    <a:lnTo>
                      <a:pt x="1059" y="78"/>
                    </a:lnTo>
                    <a:lnTo>
                      <a:pt x="1067" y="82"/>
                    </a:lnTo>
                    <a:lnTo>
                      <a:pt x="1076" y="84"/>
                    </a:lnTo>
                    <a:lnTo>
                      <a:pt x="1084" y="87"/>
                    </a:lnTo>
                    <a:lnTo>
                      <a:pt x="1093" y="91"/>
                    </a:lnTo>
                    <a:lnTo>
                      <a:pt x="1101" y="95"/>
                    </a:lnTo>
                    <a:lnTo>
                      <a:pt x="1108" y="99"/>
                    </a:lnTo>
                    <a:lnTo>
                      <a:pt x="1116" y="103"/>
                    </a:lnTo>
                    <a:lnTo>
                      <a:pt x="1124" y="108"/>
                    </a:lnTo>
                    <a:lnTo>
                      <a:pt x="1131" y="112"/>
                    </a:lnTo>
                    <a:lnTo>
                      <a:pt x="1137" y="116"/>
                    </a:lnTo>
                    <a:lnTo>
                      <a:pt x="1145" y="122"/>
                    </a:lnTo>
                    <a:lnTo>
                      <a:pt x="1150" y="125"/>
                    </a:lnTo>
                    <a:lnTo>
                      <a:pt x="1164" y="137"/>
                    </a:lnTo>
                    <a:lnTo>
                      <a:pt x="1177" y="148"/>
                    </a:lnTo>
                    <a:lnTo>
                      <a:pt x="1188" y="160"/>
                    </a:lnTo>
                    <a:lnTo>
                      <a:pt x="1200" y="173"/>
                    </a:lnTo>
                    <a:lnTo>
                      <a:pt x="1204" y="179"/>
                    </a:lnTo>
                    <a:lnTo>
                      <a:pt x="1209" y="186"/>
                    </a:lnTo>
                    <a:lnTo>
                      <a:pt x="1213" y="194"/>
                    </a:lnTo>
                    <a:lnTo>
                      <a:pt x="1221" y="201"/>
                    </a:lnTo>
                    <a:lnTo>
                      <a:pt x="1223" y="207"/>
                    </a:lnTo>
                    <a:lnTo>
                      <a:pt x="1226" y="215"/>
                    </a:lnTo>
                    <a:lnTo>
                      <a:pt x="1230" y="222"/>
                    </a:lnTo>
                    <a:lnTo>
                      <a:pt x="1234" y="230"/>
                    </a:lnTo>
                    <a:lnTo>
                      <a:pt x="1238" y="236"/>
                    </a:lnTo>
                    <a:lnTo>
                      <a:pt x="1242" y="245"/>
                    </a:lnTo>
                    <a:lnTo>
                      <a:pt x="1245" y="253"/>
                    </a:lnTo>
                    <a:lnTo>
                      <a:pt x="1249" y="262"/>
                    </a:lnTo>
                    <a:lnTo>
                      <a:pt x="1251" y="270"/>
                    </a:lnTo>
                    <a:lnTo>
                      <a:pt x="1253" y="277"/>
                    </a:lnTo>
                    <a:lnTo>
                      <a:pt x="1255" y="287"/>
                    </a:lnTo>
                    <a:lnTo>
                      <a:pt x="1259" y="295"/>
                    </a:lnTo>
                    <a:lnTo>
                      <a:pt x="1261" y="304"/>
                    </a:lnTo>
                    <a:lnTo>
                      <a:pt x="1262" y="314"/>
                    </a:lnTo>
                    <a:lnTo>
                      <a:pt x="1264" y="321"/>
                    </a:lnTo>
                    <a:lnTo>
                      <a:pt x="1268" y="333"/>
                    </a:lnTo>
                    <a:lnTo>
                      <a:pt x="1268" y="342"/>
                    </a:lnTo>
                    <a:lnTo>
                      <a:pt x="1268" y="352"/>
                    </a:lnTo>
                    <a:lnTo>
                      <a:pt x="1270" y="359"/>
                    </a:lnTo>
                    <a:lnTo>
                      <a:pt x="1270" y="371"/>
                    </a:lnTo>
                    <a:lnTo>
                      <a:pt x="1270" y="380"/>
                    </a:lnTo>
                    <a:lnTo>
                      <a:pt x="1272" y="392"/>
                    </a:lnTo>
                    <a:lnTo>
                      <a:pt x="1272" y="401"/>
                    </a:lnTo>
                    <a:lnTo>
                      <a:pt x="1274" y="412"/>
                    </a:lnTo>
                    <a:lnTo>
                      <a:pt x="1274" y="422"/>
                    </a:lnTo>
                    <a:lnTo>
                      <a:pt x="1274" y="433"/>
                    </a:lnTo>
                    <a:lnTo>
                      <a:pt x="1274" y="445"/>
                    </a:lnTo>
                    <a:lnTo>
                      <a:pt x="1274" y="456"/>
                    </a:lnTo>
                    <a:lnTo>
                      <a:pt x="1272" y="466"/>
                    </a:lnTo>
                    <a:lnTo>
                      <a:pt x="1270" y="477"/>
                    </a:lnTo>
                    <a:lnTo>
                      <a:pt x="1270" y="488"/>
                    </a:lnTo>
                    <a:lnTo>
                      <a:pt x="1270" y="502"/>
                    </a:lnTo>
                    <a:lnTo>
                      <a:pt x="1268" y="507"/>
                    </a:lnTo>
                    <a:lnTo>
                      <a:pt x="1266" y="517"/>
                    </a:lnTo>
                    <a:lnTo>
                      <a:pt x="1264" y="525"/>
                    </a:lnTo>
                    <a:lnTo>
                      <a:pt x="1262" y="534"/>
                    </a:lnTo>
                    <a:lnTo>
                      <a:pt x="1261" y="542"/>
                    </a:lnTo>
                    <a:lnTo>
                      <a:pt x="1257" y="553"/>
                    </a:lnTo>
                    <a:lnTo>
                      <a:pt x="1255" y="561"/>
                    </a:lnTo>
                    <a:lnTo>
                      <a:pt x="1253" y="572"/>
                    </a:lnTo>
                    <a:lnTo>
                      <a:pt x="1249" y="580"/>
                    </a:lnTo>
                    <a:lnTo>
                      <a:pt x="1245" y="589"/>
                    </a:lnTo>
                    <a:lnTo>
                      <a:pt x="1242" y="599"/>
                    </a:lnTo>
                    <a:lnTo>
                      <a:pt x="1240" y="610"/>
                    </a:lnTo>
                    <a:lnTo>
                      <a:pt x="1234" y="620"/>
                    </a:lnTo>
                    <a:lnTo>
                      <a:pt x="1230" y="629"/>
                    </a:lnTo>
                    <a:lnTo>
                      <a:pt x="1226" y="639"/>
                    </a:lnTo>
                    <a:lnTo>
                      <a:pt x="1223" y="650"/>
                    </a:lnTo>
                    <a:lnTo>
                      <a:pt x="1217" y="659"/>
                    </a:lnTo>
                    <a:lnTo>
                      <a:pt x="1213" y="669"/>
                    </a:lnTo>
                    <a:lnTo>
                      <a:pt x="1207" y="678"/>
                    </a:lnTo>
                    <a:lnTo>
                      <a:pt x="1204" y="690"/>
                    </a:lnTo>
                    <a:lnTo>
                      <a:pt x="1196" y="699"/>
                    </a:lnTo>
                    <a:lnTo>
                      <a:pt x="1190" y="711"/>
                    </a:lnTo>
                    <a:lnTo>
                      <a:pt x="1185" y="722"/>
                    </a:lnTo>
                    <a:lnTo>
                      <a:pt x="1179" y="734"/>
                    </a:lnTo>
                    <a:lnTo>
                      <a:pt x="1171" y="743"/>
                    </a:lnTo>
                    <a:lnTo>
                      <a:pt x="1166" y="754"/>
                    </a:lnTo>
                    <a:lnTo>
                      <a:pt x="1160" y="766"/>
                    </a:lnTo>
                    <a:lnTo>
                      <a:pt x="1154" y="775"/>
                    </a:lnTo>
                    <a:lnTo>
                      <a:pt x="1146" y="787"/>
                    </a:lnTo>
                    <a:lnTo>
                      <a:pt x="1139" y="798"/>
                    </a:lnTo>
                    <a:lnTo>
                      <a:pt x="1131" y="810"/>
                    </a:lnTo>
                    <a:lnTo>
                      <a:pt x="1126" y="819"/>
                    </a:lnTo>
                    <a:lnTo>
                      <a:pt x="1118" y="831"/>
                    </a:lnTo>
                    <a:lnTo>
                      <a:pt x="1108" y="840"/>
                    </a:lnTo>
                    <a:lnTo>
                      <a:pt x="1101" y="851"/>
                    </a:lnTo>
                    <a:lnTo>
                      <a:pt x="1093" y="861"/>
                    </a:lnTo>
                    <a:lnTo>
                      <a:pt x="1084" y="872"/>
                    </a:lnTo>
                    <a:lnTo>
                      <a:pt x="1074" y="882"/>
                    </a:lnTo>
                    <a:lnTo>
                      <a:pt x="1065" y="893"/>
                    </a:lnTo>
                    <a:lnTo>
                      <a:pt x="1057" y="905"/>
                    </a:lnTo>
                    <a:lnTo>
                      <a:pt x="1048" y="914"/>
                    </a:lnTo>
                    <a:lnTo>
                      <a:pt x="1038" y="924"/>
                    </a:lnTo>
                    <a:lnTo>
                      <a:pt x="1029" y="933"/>
                    </a:lnTo>
                    <a:lnTo>
                      <a:pt x="1019" y="945"/>
                    </a:lnTo>
                    <a:lnTo>
                      <a:pt x="1008" y="954"/>
                    </a:lnTo>
                    <a:lnTo>
                      <a:pt x="998" y="964"/>
                    </a:lnTo>
                    <a:lnTo>
                      <a:pt x="989" y="975"/>
                    </a:lnTo>
                    <a:lnTo>
                      <a:pt x="979" y="984"/>
                    </a:lnTo>
                    <a:lnTo>
                      <a:pt x="968" y="994"/>
                    </a:lnTo>
                    <a:lnTo>
                      <a:pt x="956" y="1003"/>
                    </a:lnTo>
                    <a:lnTo>
                      <a:pt x="945" y="1013"/>
                    </a:lnTo>
                    <a:lnTo>
                      <a:pt x="936" y="1022"/>
                    </a:lnTo>
                    <a:lnTo>
                      <a:pt x="924" y="1030"/>
                    </a:lnTo>
                    <a:lnTo>
                      <a:pt x="913" y="1040"/>
                    </a:lnTo>
                    <a:lnTo>
                      <a:pt x="901" y="1049"/>
                    </a:lnTo>
                    <a:lnTo>
                      <a:pt x="892" y="1059"/>
                    </a:lnTo>
                    <a:lnTo>
                      <a:pt x="878" y="1066"/>
                    </a:lnTo>
                    <a:lnTo>
                      <a:pt x="867" y="1074"/>
                    </a:lnTo>
                    <a:lnTo>
                      <a:pt x="854" y="1083"/>
                    </a:lnTo>
                    <a:lnTo>
                      <a:pt x="842" y="1091"/>
                    </a:lnTo>
                    <a:lnTo>
                      <a:pt x="829" y="1098"/>
                    </a:lnTo>
                    <a:lnTo>
                      <a:pt x="820" y="1106"/>
                    </a:lnTo>
                    <a:lnTo>
                      <a:pt x="806" y="1114"/>
                    </a:lnTo>
                    <a:lnTo>
                      <a:pt x="795" y="1123"/>
                    </a:lnTo>
                    <a:lnTo>
                      <a:pt x="782" y="1129"/>
                    </a:lnTo>
                    <a:lnTo>
                      <a:pt x="768" y="1135"/>
                    </a:lnTo>
                    <a:lnTo>
                      <a:pt x="755" y="1140"/>
                    </a:lnTo>
                    <a:lnTo>
                      <a:pt x="742" y="1148"/>
                    </a:lnTo>
                    <a:lnTo>
                      <a:pt x="728" y="1154"/>
                    </a:lnTo>
                    <a:lnTo>
                      <a:pt x="717" y="1159"/>
                    </a:lnTo>
                    <a:lnTo>
                      <a:pt x="704" y="1165"/>
                    </a:lnTo>
                    <a:lnTo>
                      <a:pt x="690" y="1171"/>
                    </a:lnTo>
                    <a:lnTo>
                      <a:pt x="677" y="1174"/>
                    </a:lnTo>
                    <a:lnTo>
                      <a:pt x="666" y="1180"/>
                    </a:lnTo>
                    <a:lnTo>
                      <a:pt x="652" y="1184"/>
                    </a:lnTo>
                    <a:lnTo>
                      <a:pt x="639" y="1190"/>
                    </a:lnTo>
                    <a:lnTo>
                      <a:pt x="626" y="1193"/>
                    </a:lnTo>
                    <a:lnTo>
                      <a:pt x="614" y="1197"/>
                    </a:lnTo>
                    <a:lnTo>
                      <a:pt x="601" y="1201"/>
                    </a:lnTo>
                    <a:lnTo>
                      <a:pt x="590" y="1205"/>
                    </a:lnTo>
                    <a:lnTo>
                      <a:pt x="576" y="1209"/>
                    </a:lnTo>
                    <a:lnTo>
                      <a:pt x="565" y="1211"/>
                    </a:lnTo>
                    <a:lnTo>
                      <a:pt x="552" y="1212"/>
                    </a:lnTo>
                    <a:lnTo>
                      <a:pt x="538" y="1216"/>
                    </a:lnTo>
                    <a:lnTo>
                      <a:pt x="527" y="1218"/>
                    </a:lnTo>
                    <a:lnTo>
                      <a:pt x="515" y="1220"/>
                    </a:lnTo>
                    <a:lnTo>
                      <a:pt x="502" y="1222"/>
                    </a:lnTo>
                    <a:lnTo>
                      <a:pt x="491" y="1226"/>
                    </a:lnTo>
                    <a:lnTo>
                      <a:pt x="479" y="1226"/>
                    </a:lnTo>
                    <a:lnTo>
                      <a:pt x="468" y="1228"/>
                    </a:lnTo>
                    <a:lnTo>
                      <a:pt x="456" y="1230"/>
                    </a:lnTo>
                    <a:lnTo>
                      <a:pt x="445" y="1230"/>
                    </a:lnTo>
                    <a:lnTo>
                      <a:pt x="434" y="1230"/>
                    </a:lnTo>
                    <a:lnTo>
                      <a:pt x="422" y="1232"/>
                    </a:lnTo>
                    <a:lnTo>
                      <a:pt x="413" y="1232"/>
                    </a:lnTo>
                    <a:lnTo>
                      <a:pt x="401" y="1232"/>
                    </a:lnTo>
                    <a:lnTo>
                      <a:pt x="388" y="1232"/>
                    </a:lnTo>
                    <a:lnTo>
                      <a:pt x="377" y="1232"/>
                    </a:lnTo>
                    <a:lnTo>
                      <a:pt x="367" y="1230"/>
                    </a:lnTo>
                    <a:lnTo>
                      <a:pt x="356" y="1230"/>
                    </a:lnTo>
                    <a:lnTo>
                      <a:pt x="344" y="1230"/>
                    </a:lnTo>
                    <a:lnTo>
                      <a:pt x="335" y="1228"/>
                    </a:lnTo>
                    <a:lnTo>
                      <a:pt x="325" y="1226"/>
                    </a:lnTo>
                    <a:lnTo>
                      <a:pt x="316" y="1226"/>
                    </a:lnTo>
                    <a:lnTo>
                      <a:pt x="304" y="1222"/>
                    </a:lnTo>
                    <a:lnTo>
                      <a:pt x="295" y="1222"/>
                    </a:lnTo>
                    <a:lnTo>
                      <a:pt x="285" y="1218"/>
                    </a:lnTo>
                    <a:lnTo>
                      <a:pt x="276" y="1218"/>
                    </a:lnTo>
                    <a:lnTo>
                      <a:pt x="266" y="1214"/>
                    </a:lnTo>
                    <a:lnTo>
                      <a:pt x="259" y="1212"/>
                    </a:lnTo>
                    <a:lnTo>
                      <a:pt x="247" y="1209"/>
                    </a:lnTo>
                    <a:lnTo>
                      <a:pt x="242" y="1207"/>
                    </a:lnTo>
                    <a:lnTo>
                      <a:pt x="230" y="1203"/>
                    </a:lnTo>
                    <a:lnTo>
                      <a:pt x="223" y="1199"/>
                    </a:lnTo>
                    <a:lnTo>
                      <a:pt x="215" y="1195"/>
                    </a:lnTo>
                    <a:lnTo>
                      <a:pt x="207" y="1192"/>
                    </a:lnTo>
                    <a:lnTo>
                      <a:pt x="200" y="1188"/>
                    </a:lnTo>
                    <a:lnTo>
                      <a:pt x="192" y="1184"/>
                    </a:lnTo>
                    <a:lnTo>
                      <a:pt x="185" y="1178"/>
                    </a:lnTo>
                    <a:lnTo>
                      <a:pt x="179" y="1174"/>
                    </a:lnTo>
                    <a:lnTo>
                      <a:pt x="171" y="1169"/>
                    </a:lnTo>
                    <a:lnTo>
                      <a:pt x="164" y="1165"/>
                    </a:lnTo>
                    <a:lnTo>
                      <a:pt x="158" y="1159"/>
                    </a:lnTo>
                    <a:lnTo>
                      <a:pt x="152" y="1155"/>
                    </a:lnTo>
                    <a:lnTo>
                      <a:pt x="141" y="1144"/>
                    </a:lnTo>
                    <a:lnTo>
                      <a:pt x="131" y="1133"/>
                    </a:lnTo>
                    <a:lnTo>
                      <a:pt x="126" y="1125"/>
                    </a:lnTo>
                    <a:lnTo>
                      <a:pt x="122" y="1117"/>
                    </a:lnTo>
                    <a:lnTo>
                      <a:pt x="114" y="1110"/>
                    </a:lnTo>
                    <a:lnTo>
                      <a:pt x="111" y="1102"/>
                    </a:lnTo>
                    <a:lnTo>
                      <a:pt x="105" y="1095"/>
                    </a:lnTo>
                    <a:lnTo>
                      <a:pt x="101" y="1085"/>
                    </a:lnTo>
                    <a:lnTo>
                      <a:pt x="97" y="1078"/>
                    </a:lnTo>
                    <a:lnTo>
                      <a:pt x="93" y="1068"/>
                    </a:lnTo>
                    <a:lnTo>
                      <a:pt x="90" y="1059"/>
                    </a:lnTo>
                    <a:lnTo>
                      <a:pt x="86" y="1049"/>
                    </a:lnTo>
                    <a:lnTo>
                      <a:pt x="82" y="1040"/>
                    </a:lnTo>
                    <a:lnTo>
                      <a:pt x="80" y="1030"/>
                    </a:lnTo>
                    <a:lnTo>
                      <a:pt x="76" y="1019"/>
                    </a:lnTo>
                    <a:lnTo>
                      <a:pt x="73" y="1009"/>
                    </a:lnTo>
                    <a:lnTo>
                      <a:pt x="71" y="1000"/>
                    </a:lnTo>
                    <a:lnTo>
                      <a:pt x="69" y="990"/>
                    </a:lnTo>
                    <a:lnTo>
                      <a:pt x="67" y="979"/>
                    </a:lnTo>
                    <a:lnTo>
                      <a:pt x="65" y="967"/>
                    </a:lnTo>
                    <a:lnTo>
                      <a:pt x="63" y="956"/>
                    </a:lnTo>
                    <a:lnTo>
                      <a:pt x="63" y="945"/>
                    </a:lnTo>
                    <a:lnTo>
                      <a:pt x="61" y="933"/>
                    </a:lnTo>
                    <a:lnTo>
                      <a:pt x="59" y="922"/>
                    </a:lnTo>
                    <a:lnTo>
                      <a:pt x="59" y="908"/>
                    </a:lnTo>
                    <a:lnTo>
                      <a:pt x="59" y="899"/>
                    </a:lnTo>
                    <a:lnTo>
                      <a:pt x="59" y="886"/>
                    </a:lnTo>
                    <a:lnTo>
                      <a:pt x="59" y="872"/>
                    </a:lnTo>
                    <a:lnTo>
                      <a:pt x="59" y="861"/>
                    </a:lnTo>
                    <a:lnTo>
                      <a:pt x="61" y="848"/>
                    </a:lnTo>
                    <a:lnTo>
                      <a:pt x="61" y="834"/>
                    </a:lnTo>
                    <a:lnTo>
                      <a:pt x="63" y="823"/>
                    </a:lnTo>
                    <a:lnTo>
                      <a:pt x="65" y="810"/>
                    </a:lnTo>
                    <a:lnTo>
                      <a:pt x="67" y="798"/>
                    </a:lnTo>
                    <a:lnTo>
                      <a:pt x="69" y="783"/>
                    </a:lnTo>
                    <a:lnTo>
                      <a:pt x="71" y="772"/>
                    </a:lnTo>
                    <a:lnTo>
                      <a:pt x="73" y="756"/>
                    </a:lnTo>
                    <a:lnTo>
                      <a:pt x="76" y="745"/>
                    </a:lnTo>
                    <a:lnTo>
                      <a:pt x="78" y="730"/>
                    </a:lnTo>
                    <a:lnTo>
                      <a:pt x="82" y="716"/>
                    </a:lnTo>
                    <a:lnTo>
                      <a:pt x="86" y="703"/>
                    </a:lnTo>
                    <a:lnTo>
                      <a:pt x="90" y="690"/>
                    </a:lnTo>
                    <a:lnTo>
                      <a:pt x="93" y="677"/>
                    </a:lnTo>
                    <a:lnTo>
                      <a:pt x="97" y="661"/>
                    </a:lnTo>
                    <a:lnTo>
                      <a:pt x="101" y="648"/>
                    </a:lnTo>
                    <a:lnTo>
                      <a:pt x="107" y="635"/>
                    </a:lnTo>
                    <a:lnTo>
                      <a:pt x="111" y="621"/>
                    </a:lnTo>
                    <a:lnTo>
                      <a:pt x="118" y="608"/>
                    </a:lnTo>
                    <a:lnTo>
                      <a:pt x="124" y="595"/>
                    </a:lnTo>
                    <a:lnTo>
                      <a:pt x="131" y="582"/>
                    </a:lnTo>
                    <a:lnTo>
                      <a:pt x="137" y="566"/>
                    </a:lnTo>
                    <a:lnTo>
                      <a:pt x="143" y="553"/>
                    </a:lnTo>
                    <a:lnTo>
                      <a:pt x="150" y="540"/>
                    </a:lnTo>
                    <a:lnTo>
                      <a:pt x="158" y="526"/>
                    </a:lnTo>
                    <a:lnTo>
                      <a:pt x="166" y="513"/>
                    </a:lnTo>
                    <a:lnTo>
                      <a:pt x="171" y="500"/>
                    </a:lnTo>
                    <a:lnTo>
                      <a:pt x="181" y="487"/>
                    </a:lnTo>
                    <a:lnTo>
                      <a:pt x="190" y="473"/>
                    </a:lnTo>
                    <a:lnTo>
                      <a:pt x="200" y="460"/>
                    </a:lnTo>
                    <a:lnTo>
                      <a:pt x="209" y="447"/>
                    </a:lnTo>
                    <a:lnTo>
                      <a:pt x="217" y="431"/>
                    </a:lnTo>
                    <a:lnTo>
                      <a:pt x="228" y="420"/>
                    </a:lnTo>
                    <a:lnTo>
                      <a:pt x="238" y="407"/>
                    </a:lnTo>
                    <a:lnTo>
                      <a:pt x="249" y="395"/>
                    </a:lnTo>
                    <a:lnTo>
                      <a:pt x="261" y="380"/>
                    </a:lnTo>
                    <a:lnTo>
                      <a:pt x="272" y="371"/>
                    </a:lnTo>
                    <a:lnTo>
                      <a:pt x="226" y="336"/>
                    </a:lnTo>
                    <a:lnTo>
                      <a:pt x="225" y="336"/>
                    </a:lnTo>
                    <a:lnTo>
                      <a:pt x="223" y="338"/>
                    </a:lnTo>
                    <a:lnTo>
                      <a:pt x="217" y="342"/>
                    </a:lnTo>
                    <a:lnTo>
                      <a:pt x="211" y="352"/>
                    </a:lnTo>
                    <a:lnTo>
                      <a:pt x="204" y="359"/>
                    </a:lnTo>
                    <a:lnTo>
                      <a:pt x="192" y="371"/>
                    </a:lnTo>
                    <a:lnTo>
                      <a:pt x="187" y="376"/>
                    </a:lnTo>
                    <a:lnTo>
                      <a:pt x="183" y="384"/>
                    </a:lnTo>
                    <a:lnTo>
                      <a:pt x="177" y="392"/>
                    </a:lnTo>
                    <a:lnTo>
                      <a:pt x="171" y="401"/>
                    </a:lnTo>
                    <a:lnTo>
                      <a:pt x="166" y="409"/>
                    </a:lnTo>
                    <a:lnTo>
                      <a:pt x="158" y="416"/>
                    </a:lnTo>
                    <a:lnTo>
                      <a:pt x="152" y="426"/>
                    </a:lnTo>
                    <a:lnTo>
                      <a:pt x="147" y="435"/>
                    </a:lnTo>
                    <a:lnTo>
                      <a:pt x="139" y="443"/>
                    </a:lnTo>
                    <a:lnTo>
                      <a:pt x="133" y="454"/>
                    </a:lnTo>
                    <a:lnTo>
                      <a:pt x="126" y="466"/>
                    </a:lnTo>
                    <a:lnTo>
                      <a:pt x="120" y="477"/>
                    </a:lnTo>
                    <a:lnTo>
                      <a:pt x="112" y="487"/>
                    </a:lnTo>
                    <a:lnTo>
                      <a:pt x="107" y="498"/>
                    </a:lnTo>
                    <a:lnTo>
                      <a:pt x="99" y="511"/>
                    </a:lnTo>
                    <a:lnTo>
                      <a:pt x="93" y="525"/>
                    </a:lnTo>
                    <a:lnTo>
                      <a:pt x="86" y="536"/>
                    </a:lnTo>
                    <a:lnTo>
                      <a:pt x="80" y="549"/>
                    </a:lnTo>
                    <a:lnTo>
                      <a:pt x="76" y="557"/>
                    </a:lnTo>
                    <a:lnTo>
                      <a:pt x="73" y="564"/>
                    </a:lnTo>
                    <a:lnTo>
                      <a:pt x="71" y="572"/>
                    </a:lnTo>
                    <a:lnTo>
                      <a:pt x="69" y="580"/>
                    </a:lnTo>
                    <a:lnTo>
                      <a:pt x="65" y="587"/>
                    </a:lnTo>
                    <a:lnTo>
                      <a:pt x="61" y="593"/>
                    </a:lnTo>
                    <a:lnTo>
                      <a:pt x="57" y="602"/>
                    </a:lnTo>
                    <a:lnTo>
                      <a:pt x="54" y="610"/>
                    </a:lnTo>
                    <a:lnTo>
                      <a:pt x="50" y="618"/>
                    </a:lnTo>
                    <a:lnTo>
                      <a:pt x="48" y="627"/>
                    </a:lnTo>
                    <a:lnTo>
                      <a:pt x="46" y="635"/>
                    </a:lnTo>
                    <a:lnTo>
                      <a:pt x="42" y="644"/>
                    </a:lnTo>
                    <a:lnTo>
                      <a:pt x="38" y="652"/>
                    </a:lnTo>
                    <a:lnTo>
                      <a:pt x="36" y="661"/>
                    </a:lnTo>
                    <a:lnTo>
                      <a:pt x="33" y="671"/>
                    </a:lnTo>
                    <a:lnTo>
                      <a:pt x="31" y="680"/>
                    </a:lnTo>
                    <a:lnTo>
                      <a:pt x="29" y="690"/>
                    </a:lnTo>
                    <a:lnTo>
                      <a:pt x="25" y="699"/>
                    </a:lnTo>
                    <a:lnTo>
                      <a:pt x="23" y="707"/>
                    </a:lnTo>
                    <a:lnTo>
                      <a:pt x="21" y="718"/>
                    </a:lnTo>
                    <a:lnTo>
                      <a:pt x="19" y="728"/>
                    </a:lnTo>
                    <a:lnTo>
                      <a:pt x="17" y="737"/>
                    </a:lnTo>
                    <a:lnTo>
                      <a:pt x="15" y="745"/>
                    </a:lnTo>
                    <a:lnTo>
                      <a:pt x="14" y="754"/>
                    </a:lnTo>
                    <a:lnTo>
                      <a:pt x="12" y="766"/>
                    </a:lnTo>
                    <a:lnTo>
                      <a:pt x="10" y="775"/>
                    </a:lnTo>
                    <a:lnTo>
                      <a:pt x="8" y="785"/>
                    </a:lnTo>
                    <a:lnTo>
                      <a:pt x="8" y="796"/>
                    </a:lnTo>
                    <a:lnTo>
                      <a:pt x="4" y="806"/>
                    </a:lnTo>
                    <a:lnTo>
                      <a:pt x="4" y="815"/>
                    </a:lnTo>
                    <a:lnTo>
                      <a:pt x="2" y="825"/>
                    </a:lnTo>
                    <a:lnTo>
                      <a:pt x="2" y="836"/>
                    </a:lnTo>
                    <a:lnTo>
                      <a:pt x="2" y="846"/>
                    </a:lnTo>
                    <a:lnTo>
                      <a:pt x="2" y="855"/>
                    </a:lnTo>
                    <a:lnTo>
                      <a:pt x="2" y="867"/>
                    </a:lnTo>
                    <a:lnTo>
                      <a:pt x="2" y="878"/>
                    </a:lnTo>
                    <a:lnTo>
                      <a:pt x="0" y="889"/>
                    </a:lnTo>
                    <a:lnTo>
                      <a:pt x="0" y="901"/>
                    </a:lnTo>
                    <a:lnTo>
                      <a:pt x="0" y="912"/>
                    </a:lnTo>
                    <a:lnTo>
                      <a:pt x="2" y="924"/>
                    </a:lnTo>
                    <a:lnTo>
                      <a:pt x="2" y="935"/>
                    </a:lnTo>
                    <a:lnTo>
                      <a:pt x="2" y="946"/>
                    </a:lnTo>
                    <a:lnTo>
                      <a:pt x="4" y="958"/>
                    </a:lnTo>
                    <a:lnTo>
                      <a:pt x="6" y="967"/>
                    </a:lnTo>
                    <a:lnTo>
                      <a:pt x="6" y="979"/>
                    </a:lnTo>
                    <a:lnTo>
                      <a:pt x="8" y="988"/>
                    </a:lnTo>
                    <a:lnTo>
                      <a:pt x="10" y="1000"/>
                    </a:lnTo>
                    <a:lnTo>
                      <a:pt x="12" y="1011"/>
                    </a:lnTo>
                    <a:lnTo>
                      <a:pt x="14" y="1021"/>
                    </a:lnTo>
                    <a:lnTo>
                      <a:pt x="15" y="1032"/>
                    </a:lnTo>
                    <a:lnTo>
                      <a:pt x="19" y="1041"/>
                    </a:lnTo>
                    <a:lnTo>
                      <a:pt x="23" y="1053"/>
                    </a:lnTo>
                    <a:lnTo>
                      <a:pt x="25" y="1060"/>
                    </a:lnTo>
                    <a:lnTo>
                      <a:pt x="29" y="1070"/>
                    </a:lnTo>
                    <a:lnTo>
                      <a:pt x="33" y="1079"/>
                    </a:lnTo>
                    <a:lnTo>
                      <a:pt x="36" y="1089"/>
                    </a:lnTo>
                    <a:lnTo>
                      <a:pt x="40" y="1098"/>
                    </a:lnTo>
                    <a:lnTo>
                      <a:pt x="44" y="1108"/>
                    </a:lnTo>
                    <a:lnTo>
                      <a:pt x="50" y="1116"/>
                    </a:lnTo>
                    <a:lnTo>
                      <a:pt x="54" y="1125"/>
                    </a:lnTo>
                    <a:lnTo>
                      <a:pt x="57" y="1133"/>
                    </a:lnTo>
                    <a:lnTo>
                      <a:pt x="63" y="1142"/>
                    </a:lnTo>
                    <a:lnTo>
                      <a:pt x="69" y="1150"/>
                    </a:lnTo>
                    <a:lnTo>
                      <a:pt x="76" y="1159"/>
                    </a:lnTo>
                    <a:lnTo>
                      <a:pt x="80" y="1167"/>
                    </a:lnTo>
                    <a:lnTo>
                      <a:pt x="88" y="1174"/>
                    </a:lnTo>
                    <a:lnTo>
                      <a:pt x="95" y="1180"/>
                    </a:lnTo>
                    <a:lnTo>
                      <a:pt x="103" y="1190"/>
                    </a:lnTo>
                    <a:lnTo>
                      <a:pt x="109" y="1195"/>
                    </a:lnTo>
                    <a:lnTo>
                      <a:pt x="116" y="1201"/>
                    </a:lnTo>
                    <a:lnTo>
                      <a:pt x="124" y="1209"/>
                    </a:lnTo>
                    <a:lnTo>
                      <a:pt x="131" y="1214"/>
                    </a:lnTo>
                    <a:lnTo>
                      <a:pt x="139" y="1220"/>
                    </a:lnTo>
                    <a:lnTo>
                      <a:pt x="149" y="1226"/>
                    </a:lnTo>
                    <a:lnTo>
                      <a:pt x="156" y="1232"/>
                    </a:lnTo>
                    <a:lnTo>
                      <a:pt x="166" y="1237"/>
                    </a:lnTo>
                    <a:lnTo>
                      <a:pt x="175" y="1241"/>
                    </a:lnTo>
                    <a:lnTo>
                      <a:pt x="185" y="1247"/>
                    </a:lnTo>
                    <a:lnTo>
                      <a:pt x="194" y="1251"/>
                    </a:lnTo>
                    <a:lnTo>
                      <a:pt x="206" y="1256"/>
                    </a:lnTo>
                    <a:lnTo>
                      <a:pt x="215" y="1260"/>
                    </a:lnTo>
                    <a:lnTo>
                      <a:pt x="226" y="1264"/>
                    </a:lnTo>
                    <a:lnTo>
                      <a:pt x="238" y="1266"/>
                    </a:lnTo>
                    <a:lnTo>
                      <a:pt x="251" y="1271"/>
                    </a:lnTo>
                    <a:lnTo>
                      <a:pt x="261" y="1273"/>
                    </a:lnTo>
                    <a:lnTo>
                      <a:pt x="274" y="1277"/>
                    </a:lnTo>
                    <a:lnTo>
                      <a:pt x="285" y="1279"/>
                    </a:lnTo>
                    <a:lnTo>
                      <a:pt x="299" y="1281"/>
                    </a:lnTo>
                    <a:lnTo>
                      <a:pt x="312" y="1283"/>
                    </a:lnTo>
                    <a:lnTo>
                      <a:pt x="325" y="1283"/>
                    </a:lnTo>
                    <a:lnTo>
                      <a:pt x="341" y="1285"/>
                    </a:lnTo>
                    <a:lnTo>
                      <a:pt x="354" y="1287"/>
                    </a:lnTo>
                    <a:lnTo>
                      <a:pt x="369" y="1287"/>
                    </a:lnTo>
                    <a:lnTo>
                      <a:pt x="384" y="1287"/>
                    </a:lnTo>
                    <a:lnTo>
                      <a:pt x="398" y="1287"/>
                    </a:lnTo>
                    <a:lnTo>
                      <a:pt x="417" y="1287"/>
                    </a:lnTo>
                    <a:lnTo>
                      <a:pt x="432" y="1287"/>
                    </a:lnTo>
                    <a:lnTo>
                      <a:pt x="449" y="1287"/>
                    </a:lnTo>
                    <a:lnTo>
                      <a:pt x="466" y="1285"/>
                    </a:lnTo>
                    <a:lnTo>
                      <a:pt x="483" y="1285"/>
                    </a:lnTo>
                    <a:lnTo>
                      <a:pt x="500" y="1283"/>
                    </a:lnTo>
                    <a:lnTo>
                      <a:pt x="515" y="1281"/>
                    </a:lnTo>
                    <a:lnTo>
                      <a:pt x="533" y="1277"/>
                    </a:lnTo>
                    <a:lnTo>
                      <a:pt x="550" y="1275"/>
                    </a:lnTo>
                    <a:lnTo>
                      <a:pt x="565" y="1271"/>
                    </a:lnTo>
                    <a:lnTo>
                      <a:pt x="582" y="1268"/>
                    </a:lnTo>
                    <a:lnTo>
                      <a:pt x="597" y="1264"/>
                    </a:lnTo>
                    <a:lnTo>
                      <a:pt x="614" y="1260"/>
                    </a:lnTo>
                    <a:lnTo>
                      <a:pt x="629" y="1256"/>
                    </a:lnTo>
                    <a:lnTo>
                      <a:pt x="645" y="1251"/>
                    </a:lnTo>
                    <a:lnTo>
                      <a:pt x="660" y="1247"/>
                    </a:lnTo>
                    <a:lnTo>
                      <a:pt x="675" y="1241"/>
                    </a:lnTo>
                    <a:lnTo>
                      <a:pt x="690" y="1235"/>
                    </a:lnTo>
                    <a:lnTo>
                      <a:pt x="707" y="1230"/>
                    </a:lnTo>
                    <a:lnTo>
                      <a:pt x="723" y="1222"/>
                    </a:lnTo>
                    <a:lnTo>
                      <a:pt x="738" y="1218"/>
                    </a:lnTo>
                    <a:lnTo>
                      <a:pt x="753" y="1211"/>
                    </a:lnTo>
                    <a:lnTo>
                      <a:pt x="768" y="1203"/>
                    </a:lnTo>
                    <a:lnTo>
                      <a:pt x="782" y="1195"/>
                    </a:lnTo>
                    <a:lnTo>
                      <a:pt x="797" y="1188"/>
                    </a:lnTo>
                    <a:lnTo>
                      <a:pt x="810" y="1180"/>
                    </a:lnTo>
                    <a:lnTo>
                      <a:pt x="825" y="1173"/>
                    </a:lnTo>
                    <a:lnTo>
                      <a:pt x="840" y="1163"/>
                    </a:lnTo>
                    <a:lnTo>
                      <a:pt x="854" y="1157"/>
                    </a:lnTo>
                    <a:lnTo>
                      <a:pt x="867" y="1146"/>
                    </a:lnTo>
                    <a:lnTo>
                      <a:pt x="880" y="1138"/>
                    </a:lnTo>
                    <a:lnTo>
                      <a:pt x="896" y="1129"/>
                    </a:lnTo>
                    <a:lnTo>
                      <a:pt x="909" y="1119"/>
                    </a:lnTo>
                    <a:lnTo>
                      <a:pt x="922" y="1110"/>
                    </a:lnTo>
                    <a:lnTo>
                      <a:pt x="936" y="1100"/>
                    </a:lnTo>
                    <a:lnTo>
                      <a:pt x="949" y="1091"/>
                    </a:lnTo>
                    <a:lnTo>
                      <a:pt x="962" y="1081"/>
                    </a:lnTo>
                    <a:lnTo>
                      <a:pt x="974" y="1070"/>
                    </a:lnTo>
                    <a:lnTo>
                      <a:pt x="985" y="1060"/>
                    </a:lnTo>
                    <a:lnTo>
                      <a:pt x="998" y="1049"/>
                    </a:lnTo>
                    <a:lnTo>
                      <a:pt x="1010" y="1038"/>
                    </a:lnTo>
                    <a:lnTo>
                      <a:pt x="1021" y="1026"/>
                    </a:lnTo>
                    <a:lnTo>
                      <a:pt x="1032" y="1015"/>
                    </a:lnTo>
                    <a:lnTo>
                      <a:pt x="1046" y="1003"/>
                    </a:lnTo>
                    <a:lnTo>
                      <a:pt x="1057" y="992"/>
                    </a:lnTo>
                    <a:lnTo>
                      <a:pt x="1069" y="981"/>
                    </a:lnTo>
                    <a:lnTo>
                      <a:pt x="1080" y="967"/>
                    </a:lnTo>
                    <a:lnTo>
                      <a:pt x="1089" y="956"/>
                    </a:lnTo>
                    <a:lnTo>
                      <a:pt x="1101" y="945"/>
                    </a:lnTo>
                    <a:lnTo>
                      <a:pt x="1110" y="933"/>
                    </a:lnTo>
                    <a:lnTo>
                      <a:pt x="1120" y="920"/>
                    </a:lnTo>
                    <a:lnTo>
                      <a:pt x="1131" y="908"/>
                    </a:lnTo>
                    <a:lnTo>
                      <a:pt x="1141" y="897"/>
                    </a:lnTo>
                    <a:lnTo>
                      <a:pt x="1150" y="884"/>
                    </a:lnTo>
                    <a:lnTo>
                      <a:pt x="1160" y="870"/>
                    </a:lnTo>
                    <a:lnTo>
                      <a:pt x="1167" y="857"/>
                    </a:lnTo>
                    <a:lnTo>
                      <a:pt x="1179" y="844"/>
                    </a:lnTo>
                    <a:lnTo>
                      <a:pt x="1186" y="831"/>
                    </a:lnTo>
                    <a:lnTo>
                      <a:pt x="1196" y="819"/>
                    </a:lnTo>
                    <a:lnTo>
                      <a:pt x="1204" y="806"/>
                    </a:lnTo>
                    <a:lnTo>
                      <a:pt x="1213" y="792"/>
                    </a:lnTo>
                    <a:lnTo>
                      <a:pt x="1221" y="779"/>
                    </a:lnTo>
                    <a:lnTo>
                      <a:pt x="1226" y="766"/>
                    </a:lnTo>
                    <a:lnTo>
                      <a:pt x="1234" y="753"/>
                    </a:lnTo>
                    <a:lnTo>
                      <a:pt x="1243" y="741"/>
                    </a:lnTo>
                    <a:lnTo>
                      <a:pt x="1249" y="728"/>
                    </a:lnTo>
                    <a:lnTo>
                      <a:pt x="1257" y="713"/>
                    </a:lnTo>
                    <a:lnTo>
                      <a:pt x="1262" y="699"/>
                    </a:lnTo>
                    <a:lnTo>
                      <a:pt x="1270" y="688"/>
                    </a:lnTo>
                    <a:lnTo>
                      <a:pt x="1272" y="680"/>
                    </a:lnTo>
                    <a:lnTo>
                      <a:pt x="1274" y="675"/>
                    </a:lnTo>
                    <a:lnTo>
                      <a:pt x="1278" y="667"/>
                    </a:lnTo>
                    <a:lnTo>
                      <a:pt x="1280" y="661"/>
                    </a:lnTo>
                    <a:lnTo>
                      <a:pt x="1281" y="654"/>
                    </a:lnTo>
                    <a:lnTo>
                      <a:pt x="1285" y="646"/>
                    </a:lnTo>
                    <a:lnTo>
                      <a:pt x="1287" y="639"/>
                    </a:lnTo>
                    <a:lnTo>
                      <a:pt x="1291" y="631"/>
                    </a:lnTo>
                    <a:lnTo>
                      <a:pt x="1291" y="623"/>
                    </a:lnTo>
                    <a:lnTo>
                      <a:pt x="1295" y="614"/>
                    </a:lnTo>
                    <a:lnTo>
                      <a:pt x="1297" y="606"/>
                    </a:lnTo>
                    <a:lnTo>
                      <a:pt x="1300" y="599"/>
                    </a:lnTo>
                    <a:lnTo>
                      <a:pt x="1302" y="589"/>
                    </a:lnTo>
                    <a:lnTo>
                      <a:pt x="1306" y="582"/>
                    </a:lnTo>
                    <a:lnTo>
                      <a:pt x="1306" y="572"/>
                    </a:lnTo>
                    <a:lnTo>
                      <a:pt x="1310" y="566"/>
                    </a:lnTo>
                    <a:lnTo>
                      <a:pt x="1312" y="555"/>
                    </a:lnTo>
                    <a:lnTo>
                      <a:pt x="1312" y="547"/>
                    </a:lnTo>
                    <a:lnTo>
                      <a:pt x="1314" y="538"/>
                    </a:lnTo>
                    <a:lnTo>
                      <a:pt x="1316" y="528"/>
                    </a:lnTo>
                    <a:lnTo>
                      <a:pt x="1318" y="519"/>
                    </a:lnTo>
                    <a:lnTo>
                      <a:pt x="1319" y="509"/>
                    </a:lnTo>
                    <a:lnTo>
                      <a:pt x="1319" y="500"/>
                    </a:lnTo>
                    <a:lnTo>
                      <a:pt x="1323" y="490"/>
                    </a:lnTo>
                    <a:lnTo>
                      <a:pt x="1323" y="481"/>
                    </a:lnTo>
                    <a:lnTo>
                      <a:pt x="1323" y="471"/>
                    </a:lnTo>
                    <a:lnTo>
                      <a:pt x="1325" y="460"/>
                    </a:lnTo>
                    <a:lnTo>
                      <a:pt x="1325" y="452"/>
                    </a:lnTo>
                    <a:lnTo>
                      <a:pt x="1325" y="441"/>
                    </a:lnTo>
                    <a:lnTo>
                      <a:pt x="1327" y="431"/>
                    </a:lnTo>
                    <a:lnTo>
                      <a:pt x="1327" y="422"/>
                    </a:lnTo>
                    <a:lnTo>
                      <a:pt x="1329" y="412"/>
                    </a:lnTo>
                    <a:lnTo>
                      <a:pt x="1327" y="401"/>
                    </a:lnTo>
                    <a:lnTo>
                      <a:pt x="1327" y="392"/>
                    </a:lnTo>
                    <a:lnTo>
                      <a:pt x="1325" y="380"/>
                    </a:lnTo>
                    <a:lnTo>
                      <a:pt x="1325" y="371"/>
                    </a:lnTo>
                    <a:lnTo>
                      <a:pt x="1325" y="359"/>
                    </a:lnTo>
                    <a:lnTo>
                      <a:pt x="1323" y="350"/>
                    </a:lnTo>
                    <a:lnTo>
                      <a:pt x="1323" y="340"/>
                    </a:lnTo>
                    <a:lnTo>
                      <a:pt x="1323" y="331"/>
                    </a:lnTo>
                    <a:lnTo>
                      <a:pt x="1319" y="319"/>
                    </a:lnTo>
                    <a:lnTo>
                      <a:pt x="1318" y="310"/>
                    </a:lnTo>
                    <a:lnTo>
                      <a:pt x="1316" y="300"/>
                    </a:lnTo>
                    <a:lnTo>
                      <a:pt x="1314" y="291"/>
                    </a:lnTo>
                    <a:lnTo>
                      <a:pt x="1310" y="279"/>
                    </a:lnTo>
                    <a:lnTo>
                      <a:pt x="1308" y="270"/>
                    </a:lnTo>
                    <a:lnTo>
                      <a:pt x="1304" y="260"/>
                    </a:lnTo>
                    <a:lnTo>
                      <a:pt x="1302" y="251"/>
                    </a:lnTo>
                    <a:lnTo>
                      <a:pt x="1297" y="239"/>
                    </a:lnTo>
                    <a:lnTo>
                      <a:pt x="1293" y="230"/>
                    </a:lnTo>
                    <a:lnTo>
                      <a:pt x="1289" y="220"/>
                    </a:lnTo>
                    <a:lnTo>
                      <a:pt x="1285" y="211"/>
                    </a:lnTo>
                    <a:lnTo>
                      <a:pt x="1280" y="201"/>
                    </a:lnTo>
                    <a:lnTo>
                      <a:pt x="1274" y="192"/>
                    </a:lnTo>
                    <a:lnTo>
                      <a:pt x="1270" y="182"/>
                    </a:lnTo>
                    <a:lnTo>
                      <a:pt x="1264" y="175"/>
                    </a:lnTo>
                    <a:lnTo>
                      <a:pt x="1259" y="165"/>
                    </a:lnTo>
                    <a:lnTo>
                      <a:pt x="1253" y="158"/>
                    </a:lnTo>
                    <a:lnTo>
                      <a:pt x="1245" y="146"/>
                    </a:lnTo>
                    <a:lnTo>
                      <a:pt x="1240" y="139"/>
                    </a:lnTo>
                    <a:lnTo>
                      <a:pt x="1232" y="129"/>
                    </a:lnTo>
                    <a:lnTo>
                      <a:pt x="1224" y="122"/>
                    </a:lnTo>
                    <a:lnTo>
                      <a:pt x="1217" y="114"/>
                    </a:lnTo>
                    <a:lnTo>
                      <a:pt x="1209" y="106"/>
                    </a:lnTo>
                    <a:lnTo>
                      <a:pt x="1200" y="99"/>
                    </a:lnTo>
                    <a:lnTo>
                      <a:pt x="1192" y="89"/>
                    </a:lnTo>
                    <a:lnTo>
                      <a:pt x="1183" y="82"/>
                    </a:lnTo>
                    <a:lnTo>
                      <a:pt x="1173" y="76"/>
                    </a:lnTo>
                    <a:lnTo>
                      <a:pt x="1164" y="68"/>
                    </a:lnTo>
                    <a:lnTo>
                      <a:pt x="1154" y="63"/>
                    </a:lnTo>
                    <a:lnTo>
                      <a:pt x="1145" y="57"/>
                    </a:lnTo>
                    <a:lnTo>
                      <a:pt x="1135" y="51"/>
                    </a:lnTo>
                    <a:lnTo>
                      <a:pt x="1124" y="46"/>
                    </a:lnTo>
                    <a:lnTo>
                      <a:pt x="1114" y="40"/>
                    </a:lnTo>
                    <a:lnTo>
                      <a:pt x="1105" y="36"/>
                    </a:lnTo>
                    <a:lnTo>
                      <a:pt x="1095" y="32"/>
                    </a:lnTo>
                    <a:lnTo>
                      <a:pt x="1084" y="27"/>
                    </a:lnTo>
                    <a:lnTo>
                      <a:pt x="1072" y="23"/>
                    </a:lnTo>
                    <a:lnTo>
                      <a:pt x="1063" y="21"/>
                    </a:lnTo>
                    <a:lnTo>
                      <a:pt x="1051" y="17"/>
                    </a:lnTo>
                    <a:lnTo>
                      <a:pt x="1040" y="13"/>
                    </a:lnTo>
                    <a:lnTo>
                      <a:pt x="1029" y="10"/>
                    </a:lnTo>
                    <a:lnTo>
                      <a:pt x="1017" y="8"/>
                    </a:lnTo>
                    <a:lnTo>
                      <a:pt x="1008" y="6"/>
                    </a:lnTo>
                    <a:lnTo>
                      <a:pt x="994" y="4"/>
                    </a:lnTo>
                    <a:lnTo>
                      <a:pt x="983" y="2"/>
                    </a:lnTo>
                    <a:lnTo>
                      <a:pt x="972" y="2"/>
                    </a:lnTo>
                    <a:lnTo>
                      <a:pt x="960" y="2"/>
                    </a:lnTo>
                    <a:lnTo>
                      <a:pt x="949" y="0"/>
                    </a:lnTo>
                    <a:lnTo>
                      <a:pt x="936" y="0"/>
                    </a:lnTo>
                    <a:lnTo>
                      <a:pt x="924" y="0"/>
                    </a:lnTo>
                    <a:lnTo>
                      <a:pt x="913" y="0"/>
                    </a:lnTo>
                    <a:lnTo>
                      <a:pt x="901" y="0"/>
                    </a:lnTo>
                    <a:lnTo>
                      <a:pt x="890" y="0"/>
                    </a:lnTo>
                    <a:lnTo>
                      <a:pt x="877" y="2"/>
                    </a:lnTo>
                    <a:lnTo>
                      <a:pt x="867" y="2"/>
                    </a:lnTo>
                    <a:lnTo>
                      <a:pt x="854" y="2"/>
                    </a:lnTo>
                    <a:lnTo>
                      <a:pt x="842" y="2"/>
                    </a:lnTo>
                    <a:lnTo>
                      <a:pt x="829" y="4"/>
                    </a:lnTo>
                    <a:lnTo>
                      <a:pt x="818" y="6"/>
                    </a:lnTo>
                    <a:lnTo>
                      <a:pt x="806" y="8"/>
                    </a:lnTo>
                    <a:lnTo>
                      <a:pt x="793" y="10"/>
                    </a:lnTo>
                    <a:lnTo>
                      <a:pt x="782" y="11"/>
                    </a:lnTo>
                    <a:lnTo>
                      <a:pt x="770" y="15"/>
                    </a:lnTo>
                    <a:lnTo>
                      <a:pt x="757" y="17"/>
                    </a:lnTo>
                    <a:lnTo>
                      <a:pt x="745" y="19"/>
                    </a:lnTo>
                    <a:lnTo>
                      <a:pt x="734" y="21"/>
                    </a:lnTo>
                    <a:lnTo>
                      <a:pt x="725" y="25"/>
                    </a:lnTo>
                    <a:lnTo>
                      <a:pt x="711" y="29"/>
                    </a:lnTo>
                    <a:lnTo>
                      <a:pt x="700" y="32"/>
                    </a:lnTo>
                    <a:lnTo>
                      <a:pt x="688" y="36"/>
                    </a:lnTo>
                    <a:lnTo>
                      <a:pt x="679" y="40"/>
                    </a:lnTo>
                    <a:lnTo>
                      <a:pt x="666" y="44"/>
                    </a:lnTo>
                    <a:lnTo>
                      <a:pt x="654" y="48"/>
                    </a:lnTo>
                    <a:lnTo>
                      <a:pt x="645" y="51"/>
                    </a:lnTo>
                    <a:lnTo>
                      <a:pt x="633" y="55"/>
                    </a:lnTo>
                    <a:lnTo>
                      <a:pt x="622" y="57"/>
                    </a:lnTo>
                    <a:lnTo>
                      <a:pt x="610" y="63"/>
                    </a:lnTo>
                    <a:lnTo>
                      <a:pt x="601" y="68"/>
                    </a:lnTo>
                    <a:lnTo>
                      <a:pt x="590" y="72"/>
                    </a:lnTo>
                    <a:lnTo>
                      <a:pt x="580" y="76"/>
                    </a:lnTo>
                    <a:lnTo>
                      <a:pt x="569" y="82"/>
                    </a:lnTo>
                    <a:lnTo>
                      <a:pt x="559" y="86"/>
                    </a:lnTo>
                    <a:lnTo>
                      <a:pt x="550" y="91"/>
                    </a:lnTo>
                    <a:lnTo>
                      <a:pt x="538" y="97"/>
                    </a:lnTo>
                    <a:lnTo>
                      <a:pt x="531" y="103"/>
                    </a:lnTo>
                    <a:lnTo>
                      <a:pt x="521" y="108"/>
                    </a:lnTo>
                    <a:lnTo>
                      <a:pt x="514" y="114"/>
                    </a:lnTo>
                    <a:lnTo>
                      <a:pt x="534" y="163"/>
                    </a:lnTo>
                    <a:lnTo>
                      <a:pt x="534" y="16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>
                <a:off x="2634840" y="1884240"/>
                <a:ext cx="379440" cy="307800"/>
              </a:xfrm>
              <a:custGeom>
                <a:avLst/>
                <a:gdLst/>
                <a:ahLst/>
                <a:rect l="l" t="t" r="r" b="b"/>
                <a:pathLst>
                  <a:path w="574" h="465">
                    <a:moveTo>
                      <a:pt x="545" y="66"/>
                    </a:moveTo>
                    <a:lnTo>
                      <a:pt x="541" y="66"/>
                    </a:lnTo>
                    <a:lnTo>
                      <a:pt x="534" y="68"/>
                    </a:lnTo>
                    <a:lnTo>
                      <a:pt x="528" y="70"/>
                    </a:lnTo>
                    <a:lnTo>
                      <a:pt x="522" y="72"/>
                    </a:lnTo>
                    <a:lnTo>
                      <a:pt x="515" y="76"/>
                    </a:lnTo>
                    <a:lnTo>
                      <a:pt x="507" y="80"/>
                    </a:lnTo>
                    <a:lnTo>
                      <a:pt x="498" y="83"/>
                    </a:lnTo>
                    <a:lnTo>
                      <a:pt x="488" y="87"/>
                    </a:lnTo>
                    <a:lnTo>
                      <a:pt x="475" y="93"/>
                    </a:lnTo>
                    <a:lnTo>
                      <a:pt x="465" y="99"/>
                    </a:lnTo>
                    <a:lnTo>
                      <a:pt x="452" y="104"/>
                    </a:lnTo>
                    <a:lnTo>
                      <a:pt x="439" y="112"/>
                    </a:lnTo>
                    <a:lnTo>
                      <a:pt x="431" y="116"/>
                    </a:lnTo>
                    <a:lnTo>
                      <a:pt x="426" y="119"/>
                    </a:lnTo>
                    <a:lnTo>
                      <a:pt x="418" y="123"/>
                    </a:lnTo>
                    <a:lnTo>
                      <a:pt x="412" y="129"/>
                    </a:lnTo>
                    <a:lnTo>
                      <a:pt x="403" y="133"/>
                    </a:lnTo>
                    <a:lnTo>
                      <a:pt x="393" y="138"/>
                    </a:lnTo>
                    <a:lnTo>
                      <a:pt x="384" y="144"/>
                    </a:lnTo>
                    <a:lnTo>
                      <a:pt x="372" y="152"/>
                    </a:lnTo>
                    <a:lnTo>
                      <a:pt x="363" y="156"/>
                    </a:lnTo>
                    <a:lnTo>
                      <a:pt x="353" y="163"/>
                    </a:lnTo>
                    <a:lnTo>
                      <a:pt x="342" y="171"/>
                    </a:lnTo>
                    <a:lnTo>
                      <a:pt x="332" y="178"/>
                    </a:lnTo>
                    <a:lnTo>
                      <a:pt x="321" y="184"/>
                    </a:lnTo>
                    <a:lnTo>
                      <a:pt x="310" y="192"/>
                    </a:lnTo>
                    <a:lnTo>
                      <a:pt x="298" y="199"/>
                    </a:lnTo>
                    <a:lnTo>
                      <a:pt x="289" y="207"/>
                    </a:lnTo>
                    <a:lnTo>
                      <a:pt x="277" y="214"/>
                    </a:lnTo>
                    <a:lnTo>
                      <a:pt x="268" y="224"/>
                    </a:lnTo>
                    <a:lnTo>
                      <a:pt x="258" y="233"/>
                    </a:lnTo>
                    <a:lnTo>
                      <a:pt x="251" y="243"/>
                    </a:lnTo>
                    <a:lnTo>
                      <a:pt x="243" y="247"/>
                    </a:lnTo>
                    <a:lnTo>
                      <a:pt x="235" y="254"/>
                    </a:lnTo>
                    <a:lnTo>
                      <a:pt x="230" y="258"/>
                    </a:lnTo>
                    <a:lnTo>
                      <a:pt x="222" y="264"/>
                    </a:lnTo>
                    <a:lnTo>
                      <a:pt x="209" y="277"/>
                    </a:lnTo>
                    <a:lnTo>
                      <a:pt x="199" y="289"/>
                    </a:lnTo>
                    <a:lnTo>
                      <a:pt x="186" y="300"/>
                    </a:lnTo>
                    <a:lnTo>
                      <a:pt x="175" y="313"/>
                    </a:lnTo>
                    <a:lnTo>
                      <a:pt x="167" y="319"/>
                    </a:lnTo>
                    <a:lnTo>
                      <a:pt x="161" y="327"/>
                    </a:lnTo>
                    <a:lnTo>
                      <a:pt x="156" y="332"/>
                    </a:lnTo>
                    <a:lnTo>
                      <a:pt x="152" y="340"/>
                    </a:lnTo>
                    <a:lnTo>
                      <a:pt x="144" y="348"/>
                    </a:lnTo>
                    <a:lnTo>
                      <a:pt x="138" y="353"/>
                    </a:lnTo>
                    <a:lnTo>
                      <a:pt x="133" y="361"/>
                    </a:lnTo>
                    <a:lnTo>
                      <a:pt x="127" y="368"/>
                    </a:lnTo>
                    <a:lnTo>
                      <a:pt x="121" y="374"/>
                    </a:lnTo>
                    <a:lnTo>
                      <a:pt x="118" y="382"/>
                    </a:lnTo>
                    <a:lnTo>
                      <a:pt x="110" y="389"/>
                    </a:lnTo>
                    <a:lnTo>
                      <a:pt x="106" y="397"/>
                    </a:lnTo>
                    <a:lnTo>
                      <a:pt x="100" y="405"/>
                    </a:lnTo>
                    <a:lnTo>
                      <a:pt x="95" y="412"/>
                    </a:lnTo>
                    <a:lnTo>
                      <a:pt x="89" y="420"/>
                    </a:lnTo>
                    <a:lnTo>
                      <a:pt x="83" y="429"/>
                    </a:lnTo>
                    <a:lnTo>
                      <a:pt x="78" y="437"/>
                    </a:lnTo>
                    <a:lnTo>
                      <a:pt x="72" y="446"/>
                    </a:lnTo>
                    <a:lnTo>
                      <a:pt x="66" y="456"/>
                    </a:lnTo>
                    <a:lnTo>
                      <a:pt x="62" y="465"/>
                    </a:lnTo>
                    <a:lnTo>
                      <a:pt x="0" y="458"/>
                    </a:lnTo>
                    <a:lnTo>
                      <a:pt x="2" y="450"/>
                    </a:lnTo>
                    <a:lnTo>
                      <a:pt x="7" y="441"/>
                    </a:lnTo>
                    <a:lnTo>
                      <a:pt x="9" y="435"/>
                    </a:lnTo>
                    <a:lnTo>
                      <a:pt x="13" y="429"/>
                    </a:lnTo>
                    <a:lnTo>
                      <a:pt x="17" y="422"/>
                    </a:lnTo>
                    <a:lnTo>
                      <a:pt x="21" y="416"/>
                    </a:lnTo>
                    <a:lnTo>
                      <a:pt x="24" y="408"/>
                    </a:lnTo>
                    <a:lnTo>
                      <a:pt x="30" y="401"/>
                    </a:lnTo>
                    <a:lnTo>
                      <a:pt x="34" y="391"/>
                    </a:lnTo>
                    <a:lnTo>
                      <a:pt x="42" y="384"/>
                    </a:lnTo>
                    <a:lnTo>
                      <a:pt x="49" y="374"/>
                    </a:lnTo>
                    <a:lnTo>
                      <a:pt x="55" y="365"/>
                    </a:lnTo>
                    <a:lnTo>
                      <a:pt x="62" y="353"/>
                    </a:lnTo>
                    <a:lnTo>
                      <a:pt x="72" y="344"/>
                    </a:lnTo>
                    <a:lnTo>
                      <a:pt x="80" y="332"/>
                    </a:lnTo>
                    <a:lnTo>
                      <a:pt x="89" y="321"/>
                    </a:lnTo>
                    <a:lnTo>
                      <a:pt x="99" y="309"/>
                    </a:lnTo>
                    <a:lnTo>
                      <a:pt x="110" y="298"/>
                    </a:lnTo>
                    <a:lnTo>
                      <a:pt x="119" y="285"/>
                    </a:lnTo>
                    <a:lnTo>
                      <a:pt x="131" y="275"/>
                    </a:lnTo>
                    <a:lnTo>
                      <a:pt x="144" y="260"/>
                    </a:lnTo>
                    <a:lnTo>
                      <a:pt x="158" y="251"/>
                    </a:lnTo>
                    <a:lnTo>
                      <a:pt x="169" y="237"/>
                    </a:lnTo>
                    <a:lnTo>
                      <a:pt x="182" y="224"/>
                    </a:lnTo>
                    <a:lnTo>
                      <a:pt x="190" y="216"/>
                    </a:lnTo>
                    <a:lnTo>
                      <a:pt x="197" y="211"/>
                    </a:lnTo>
                    <a:lnTo>
                      <a:pt x="205" y="205"/>
                    </a:lnTo>
                    <a:lnTo>
                      <a:pt x="213" y="199"/>
                    </a:lnTo>
                    <a:lnTo>
                      <a:pt x="220" y="192"/>
                    </a:lnTo>
                    <a:lnTo>
                      <a:pt x="226" y="186"/>
                    </a:lnTo>
                    <a:lnTo>
                      <a:pt x="235" y="178"/>
                    </a:lnTo>
                    <a:lnTo>
                      <a:pt x="243" y="173"/>
                    </a:lnTo>
                    <a:lnTo>
                      <a:pt x="251" y="165"/>
                    </a:lnTo>
                    <a:lnTo>
                      <a:pt x="260" y="159"/>
                    </a:lnTo>
                    <a:lnTo>
                      <a:pt x="270" y="154"/>
                    </a:lnTo>
                    <a:lnTo>
                      <a:pt x="279" y="148"/>
                    </a:lnTo>
                    <a:lnTo>
                      <a:pt x="287" y="140"/>
                    </a:lnTo>
                    <a:lnTo>
                      <a:pt x="294" y="135"/>
                    </a:lnTo>
                    <a:lnTo>
                      <a:pt x="304" y="127"/>
                    </a:lnTo>
                    <a:lnTo>
                      <a:pt x="313" y="121"/>
                    </a:lnTo>
                    <a:lnTo>
                      <a:pt x="323" y="116"/>
                    </a:lnTo>
                    <a:lnTo>
                      <a:pt x="332" y="110"/>
                    </a:lnTo>
                    <a:lnTo>
                      <a:pt x="340" y="104"/>
                    </a:lnTo>
                    <a:lnTo>
                      <a:pt x="349" y="100"/>
                    </a:lnTo>
                    <a:lnTo>
                      <a:pt x="359" y="93"/>
                    </a:lnTo>
                    <a:lnTo>
                      <a:pt x="368" y="89"/>
                    </a:lnTo>
                    <a:lnTo>
                      <a:pt x="378" y="81"/>
                    </a:lnTo>
                    <a:lnTo>
                      <a:pt x="388" y="78"/>
                    </a:lnTo>
                    <a:lnTo>
                      <a:pt x="397" y="72"/>
                    </a:lnTo>
                    <a:lnTo>
                      <a:pt x="408" y="68"/>
                    </a:lnTo>
                    <a:lnTo>
                      <a:pt x="416" y="62"/>
                    </a:lnTo>
                    <a:lnTo>
                      <a:pt x="427" y="59"/>
                    </a:lnTo>
                    <a:lnTo>
                      <a:pt x="435" y="53"/>
                    </a:lnTo>
                    <a:lnTo>
                      <a:pt x="445" y="47"/>
                    </a:lnTo>
                    <a:lnTo>
                      <a:pt x="456" y="43"/>
                    </a:lnTo>
                    <a:lnTo>
                      <a:pt x="465" y="40"/>
                    </a:lnTo>
                    <a:lnTo>
                      <a:pt x="473" y="34"/>
                    </a:lnTo>
                    <a:lnTo>
                      <a:pt x="483" y="30"/>
                    </a:lnTo>
                    <a:lnTo>
                      <a:pt x="494" y="28"/>
                    </a:lnTo>
                    <a:lnTo>
                      <a:pt x="503" y="24"/>
                    </a:lnTo>
                    <a:lnTo>
                      <a:pt x="511" y="21"/>
                    </a:lnTo>
                    <a:lnTo>
                      <a:pt x="521" y="17"/>
                    </a:lnTo>
                    <a:lnTo>
                      <a:pt x="528" y="13"/>
                    </a:lnTo>
                    <a:lnTo>
                      <a:pt x="538" y="9"/>
                    </a:lnTo>
                    <a:lnTo>
                      <a:pt x="547" y="5"/>
                    </a:lnTo>
                    <a:lnTo>
                      <a:pt x="555" y="4"/>
                    </a:lnTo>
                    <a:lnTo>
                      <a:pt x="564" y="0"/>
                    </a:lnTo>
                    <a:lnTo>
                      <a:pt x="574" y="0"/>
                    </a:lnTo>
                    <a:lnTo>
                      <a:pt x="545" y="66"/>
                    </a:lnTo>
                    <a:lnTo>
                      <a:pt x="545" y="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>
                <a:off x="2398320" y="1950480"/>
                <a:ext cx="285120" cy="286200"/>
              </a:xfrm>
              <a:custGeom>
                <a:avLst/>
                <a:gdLst/>
                <a:ahLst/>
                <a:rect l="l" t="t" r="r" b="b"/>
                <a:pathLst>
                  <a:path w="431" h="434">
                    <a:moveTo>
                      <a:pt x="22" y="434"/>
                    </a:moveTo>
                    <a:lnTo>
                      <a:pt x="30" y="432"/>
                    </a:lnTo>
                    <a:lnTo>
                      <a:pt x="41" y="428"/>
                    </a:lnTo>
                    <a:lnTo>
                      <a:pt x="45" y="422"/>
                    </a:lnTo>
                    <a:lnTo>
                      <a:pt x="53" y="419"/>
                    </a:lnTo>
                    <a:lnTo>
                      <a:pt x="60" y="413"/>
                    </a:lnTo>
                    <a:lnTo>
                      <a:pt x="70" y="407"/>
                    </a:lnTo>
                    <a:lnTo>
                      <a:pt x="79" y="398"/>
                    </a:lnTo>
                    <a:lnTo>
                      <a:pt x="91" y="388"/>
                    </a:lnTo>
                    <a:lnTo>
                      <a:pt x="97" y="382"/>
                    </a:lnTo>
                    <a:lnTo>
                      <a:pt x="102" y="377"/>
                    </a:lnTo>
                    <a:lnTo>
                      <a:pt x="110" y="371"/>
                    </a:lnTo>
                    <a:lnTo>
                      <a:pt x="118" y="365"/>
                    </a:lnTo>
                    <a:lnTo>
                      <a:pt x="125" y="358"/>
                    </a:lnTo>
                    <a:lnTo>
                      <a:pt x="133" y="350"/>
                    </a:lnTo>
                    <a:lnTo>
                      <a:pt x="140" y="343"/>
                    </a:lnTo>
                    <a:lnTo>
                      <a:pt x="150" y="337"/>
                    </a:lnTo>
                    <a:lnTo>
                      <a:pt x="157" y="325"/>
                    </a:lnTo>
                    <a:lnTo>
                      <a:pt x="167" y="318"/>
                    </a:lnTo>
                    <a:lnTo>
                      <a:pt x="178" y="308"/>
                    </a:lnTo>
                    <a:lnTo>
                      <a:pt x="190" y="301"/>
                    </a:lnTo>
                    <a:lnTo>
                      <a:pt x="199" y="289"/>
                    </a:lnTo>
                    <a:lnTo>
                      <a:pt x="211" y="280"/>
                    </a:lnTo>
                    <a:lnTo>
                      <a:pt x="222" y="268"/>
                    </a:lnTo>
                    <a:lnTo>
                      <a:pt x="233" y="259"/>
                    </a:lnTo>
                    <a:lnTo>
                      <a:pt x="243" y="248"/>
                    </a:lnTo>
                    <a:lnTo>
                      <a:pt x="252" y="238"/>
                    </a:lnTo>
                    <a:lnTo>
                      <a:pt x="264" y="228"/>
                    </a:lnTo>
                    <a:lnTo>
                      <a:pt x="275" y="219"/>
                    </a:lnTo>
                    <a:lnTo>
                      <a:pt x="285" y="209"/>
                    </a:lnTo>
                    <a:lnTo>
                      <a:pt x="294" y="198"/>
                    </a:lnTo>
                    <a:lnTo>
                      <a:pt x="306" y="189"/>
                    </a:lnTo>
                    <a:lnTo>
                      <a:pt x="315" y="181"/>
                    </a:lnTo>
                    <a:lnTo>
                      <a:pt x="325" y="171"/>
                    </a:lnTo>
                    <a:lnTo>
                      <a:pt x="334" y="162"/>
                    </a:lnTo>
                    <a:lnTo>
                      <a:pt x="344" y="152"/>
                    </a:lnTo>
                    <a:lnTo>
                      <a:pt x="353" y="145"/>
                    </a:lnTo>
                    <a:lnTo>
                      <a:pt x="361" y="135"/>
                    </a:lnTo>
                    <a:lnTo>
                      <a:pt x="370" y="128"/>
                    </a:lnTo>
                    <a:lnTo>
                      <a:pt x="376" y="118"/>
                    </a:lnTo>
                    <a:lnTo>
                      <a:pt x="386" y="111"/>
                    </a:lnTo>
                    <a:lnTo>
                      <a:pt x="391" y="103"/>
                    </a:lnTo>
                    <a:lnTo>
                      <a:pt x="397" y="95"/>
                    </a:lnTo>
                    <a:lnTo>
                      <a:pt x="405" y="88"/>
                    </a:lnTo>
                    <a:lnTo>
                      <a:pt x="410" y="82"/>
                    </a:lnTo>
                    <a:lnTo>
                      <a:pt x="414" y="75"/>
                    </a:lnTo>
                    <a:lnTo>
                      <a:pt x="418" y="69"/>
                    </a:lnTo>
                    <a:lnTo>
                      <a:pt x="422" y="61"/>
                    </a:lnTo>
                    <a:lnTo>
                      <a:pt x="425" y="57"/>
                    </a:lnTo>
                    <a:lnTo>
                      <a:pt x="427" y="48"/>
                    </a:lnTo>
                    <a:lnTo>
                      <a:pt x="431" y="40"/>
                    </a:lnTo>
                    <a:lnTo>
                      <a:pt x="427" y="31"/>
                    </a:lnTo>
                    <a:lnTo>
                      <a:pt x="425" y="25"/>
                    </a:lnTo>
                    <a:lnTo>
                      <a:pt x="422" y="18"/>
                    </a:lnTo>
                    <a:lnTo>
                      <a:pt x="414" y="14"/>
                    </a:lnTo>
                    <a:lnTo>
                      <a:pt x="406" y="10"/>
                    </a:lnTo>
                    <a:lnTo>
                      <a:pt x="397" y="6"/>
                    </a:lnTo>
                    <a:lnTo>
                      <a:pt x="387" y="2"/>
                    </a:lnTo>
                    <a:lnTo>
                      <a:pt x="376" y="2"/>
                    </a:lnTo>
                    <a:lnTo>
                      <a:pt x="368" y="2"/>
                    </a:lnTo>
                    <a:lnTo>
                      <a:pt x="361" y="0"/>
                    </a:lnTo>
                    <a:lnTo>
                      <a:pt x="353" y="0"/>
                    </a:lnTo>
                    <a:lnTo>
                      <a:pt x="346" y="0"/>
                    </a:lnTo>
                    <a:lnTo>
                      <a:pt x="338" y="0"/>
                    </a:lnTo>
                    <a:lnTo>
                      <a:pt x="329" y="0"/>
                    </a:lnTo>
                    <a:lnTo>
                      <a:pt x="321" y="0"/>
                    </a:lnTo>
                    <a:lnTo>
                      <a:pt x="311" y="0"/>
                    </a:lnTo>
                    <a:lnTo>
                      <a:pt x="302" y="0"/>
                    </a:lnTo>
                    <a:lnTo>
                      <a:pt x="292" y="0"/>
                    </a:lnTo>
                    <a:lnTo>
                      <a:pt x="283" y="2"/>
                    </a:lnTo>
                    <a:lnTo>
                      <a:pt x="273" y="2"/>
                    </a:lnTo>
                    <a:lnTo>
                      <a:pt x="262" y="2"/>
                    </a:lnTo>
                    <a:lnTo>
                      <a:pt x="251" y="4"/>
                    </a:lnTo>
                    <a:lnTo>
                      <a:pt x="239" y="6"/>
                    </a:lnTo>
                    <a:lnTo>
                      <a:pt x="230" y="8"/>
                    </a:lnTo>
                    <a:lnTo>
                      <a:pt x="224" y="8"/>
                    </a:lnTo>
                    <a:lnTo>
                      <a:pt x="218" y="8"/>
                    </a:lnTo>
                    <a:lnTo>
                      <a:pt x="211" y="10"/>
                    </a:lnTo>
                    <a:lnTo>
                      <a:pt x="205" y="10"/>
                    </a:lnTo>
                    <a:lnTo>
                      <a:pt x="195" y="10"/>
                    </a:lnTo>
                    <a:lnTo>
                      <a:pt x="188" y="12"/>
                    </a:lnTo>
                    <a:lnTo>
                      <a:pt x="182" y="14"/>
                    </a:lnTo>
                    <a:lnTo>
                      <a:pt x="175" y="16"/>
                    </a:lnTo>
                    <a:lnTo>
                      <a:pt x="165" y="16"/>
                    </a:lnTo>
                    <a:lnTo>
                      <a:pt x="157" y="18"/>
                    </a:lnTo>
                    <a:lnTo>
                      <a:pt x="148" y="19"/>
                    </a:lnTo>
                    <a:lnTo>
                      <a:pt x="140" y="21"/>
                    </a:lnTo>
                    <a:lnTo>
                      <a:pt x="133" y="23"/>
                    </a:lnTo>
                    <a:lnTo>
                      <a:pt x="123" y="27"/>
                    </a:lnTo>
                    <a:lnTo>
                      <a:pt x="116" y="27"/>
                    </a:lnTo>
                    <a:lnTo>
                      <a:pt x="108" y="31"/>
                    </a:lnTo>
                    <a:lnTo>
                      <a:pt x="100" y="33"/>
                    </a:lnTo>
                    <a:lnTo>
                      <a:pt x="91" y="35"/>
                    </a:lnTo>
                    <a:lnTo>
                      <a:pt x="83" y="37"/>
                    </a:lnTo>
                    <a:lnTo>
                      <a:pt x="76" y="40"/>
                    </a:lnTo>
                    <a:lnTo>
                      <a:pt x="68" y="42"/>
                    </a:lnTo>
                    <a:lnTo>
                      <a:pt x="60" y="44"/>
                    </a:lnTo>
                    <a:lnTo>
                      <a:pt x="55" y="48"/>
                    </a:lnTo>
                    <a:lnTo>
                      <a:pt x="47" y="52"/>
                    </a:lnTo>
                    <a:lnTo>
                      <a:pt x="36" y="56"/>
                    </a:lnTo>
                    <a:lnTo>
                      <a:pt x="28" y="63"/>
                    </a:lnTo>
                    <a:lnTo>
                      <a:pt x="21" y="69"/>
                    </a:lnTo>
                    <a:lnTo>
                      <a:pt x="19" y="75"/>
                    </a:lnTo>
                    <a:lnTo>
                      <a:pt x="17" y="78"/>
                    </a:lnTo>
                    <a:lnTo>
                      <a:pt x="15" y="82"/>
                    </a:lnTo>
                    <a:lnTo>
                      <a:pt x="15" y="88"/>
                    </a:lnTo>
                    <a:lnTo>
                      <a:pt x="15" y="95"/>
                    </a:lnTo>
                    <a:lnTo>
                      <a:pt x="13" y="103"/>
                    </a:lnTo>
                    <a:lnTo>
                      <a:pt x="11" y="111"/>
                    </a:lnTo>
                    <a:lnTo>
                      <a:pt x="11" y="120"/>
                    </a:lnTo>
                    <a:lnTo>
                      <a:pt x="11" y="132"/>
                    </a:lnTo>
                    <a:lnTo>
                      <a:pt x="9" y="141"/>
                    </a:lnTo>
                    <a:lnTo>
                      <a:pt x="7" y="152"/>
                    </a:lnTo>
                    <a:lnTo>
                      <a:pt x="7" y="164"/>
                    </a:lnTo>
                    <a:lnTo>
                      <a:pt x="7" y="177"/>
                    </a:lnTo>
                    <a:lnTo>
                      <a:pt x="5" y="190"/>
                    </a:lnTo>
                    <a:lnTo>
                      <a:pt x="5" y="204"/>
                    </a:lnTo>
                    <a:lnTo>
                      <a:pt x="5" y="209"/>
                    </a:lnTo>
                    <a:lnTo>
                      <a:pt x="5" y="215"/>
                    </a:lnTo>
                    <a:lnTo>
                      <a:pt x="5" y="223"/>
                    </a:lnTo>
                    <a:lnTo>
                      <a:pt x="5" y="230"/>
                    </a:lnTo>
                    <a:lnTo>
                      <a:pt x="3" y="244"/>
                    </a:lnTo>
                    <a:lnTo>
                      <a:pt x="3" y="255"/>
                    </a:lnTo>
                    <a:lnTo>
                      <a:pt x="3" y="268"/>
                    </a:lnTo>
                    <a:lnTo>
                      <a:pt x="3" y="282"/>
                    </a:lnTo>
                    <a:lnTo>
                      <a:pt x="2" y="293"/>
                    </a:lnTo>
                    <a:lnTo>
                      <a:pt x="2" y="305"/>
                    </a:lnTo>
                    <a:lnTo>
                      <a:pt x="2" y="316"/>
                    </a:lnTo>
                    <a:lnTo>
                      <a:pt x="2" y="327"/>
                    </a:lnTo>
                    <a:lnTo>
                      <a:pt x="0" y="337"/>
                    </a:lnTo>
                    <a:lnTo>
                      <a:pt x="0" y="346"/>
                    </a:lnTo>
                    <a:lnTo>
                      <a:pt x="0" y="354"/>
                    </a:lnTo>
                    <a:lnTo>
                      <a:pt x="0" y="363"/>
                    </a:lnTo>
                    <a:lnTo>
                      <a:pt x="0" y="369"/>
                    </a:lnTo>
                    <a:lnTo>
                      <a:pt x="0" y="377"/>
                    </a:lnTo>
                    <a:lnTo>
                      <a:pt x="0" y="381"/>
                    </a:lnTo>
                    <a:lnTo>
                      <a:pt x="0" y="384"/>
                    </a:lnTo>
                    <a:lnTo>
                      <a:pt x="0" y="394"/>
                    </a:lnTo>
                    <a:lnTo>
                      <a:pt x="0" y="405"/>
                    </a:lnTo>
                    <a:lnTo>
                      <a:pt x="0" y="411"/>
                    </a:lnTo>
                    <a:lnTo>
                      <a:pt x="3" y="420"/>
                    </a:lnTo>
                    <a:lnTo>
                      <a:pt x="5" y="426"/>
                    </a:lnTo>
                    <a:lnTo>
                      <a:pt x="11" y="430"/>
                    </a:lnTo>
                    <a:lnTo>
                      <a:pt x="15" y="432"/>
                    </a:lnTo>
                    <a:lnTo>
                      <a:pt x="22" y="434"/>
                    </a:lnTo>
                    <a:lnTo>
                      <a:pt x="22" y="4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2437560" y="1979640"/>
                <a:ext cx="219240" cy="216360"/>
              </a:xfrm>
              <a:custGeom>
                <a:avLst/>
                <a:gdLst/>
                <a:ahLst/>
                <a:rect l="l" t="t" r="r" b="b"/>
                <a:pathLst>
                  <a:path w="330" h="329">
                    <a:moveTo>
                      <a:pt x="19" y="59"/>
                    </a:moveTo>
                    <a:lnTo>
                      <a:pt x="17" y="63"/>
                    </a:lnTo>
                    <a:lnTo>
                      <a:pt x="15" y="74"/>
                    </a:lnTo>
                    <a:lnTo>
                      <a:pt x="15" y="80"/>
                    </a:lnTo>
                    <a:lnTo>
                      <a:pt x="15" y="88"/>
                    </a:lnTo>
                    <a:lnTo>
                      <a:pt x="13" y="95"/>
                    </a:lnTo>
                    <a:lnTo>
                      <a:pt x="13" y="105"/>
                    </a:lnTo>
                    <a:lnTo>
                      <a:pt x="11" y="114"/>
                    </a:lnTo>
                    <a:lnTo>
                      <a:pt x="11" y="124"/>
                    </a:lnTo>
                    <a:lnTo>
                      <a:pt x="11" y="133"/>
                    </a:lnTo>
                    <a:lnTo>
                      <a:pt x="11" y="145"/>
                    </a:lnTo>
                    <a:lnTo>
                      <a:pt x="9" y="156"/>
                    </a:lnTo>
                    <a:lnTo>
                      <a:pt x="7" y="167"/>
                    </a:lnTo>
                    <a:lnTo>
                      <a:pt x="7" y="181"/>
                    </a:lnTo>
                    <a:lnTo>
                      <a:pt x="7" y="192"/>
                    </a:lnTo>
                    <a:lnTo>
                      <a:pt x="7" y="204"/>
                    </a:lnTo>
                    <a:lnTo>
                      <a:pt x="5" y="217"/>
                    </a:lnTo>
                    <a:lnTo>
                      <a:pt x="5" y="226"/>
                    </a:lnTo>
                    <a:lnTo>
                      <a:pt x="5" y="240"/>
                    </a:lnTo>
                    <a:lnTo>
                      <a:pt x="3" y="249"/>
                    </a:lnTo>
                    <a:lnTo>
                      <a:pt x="1" y="261"/>
                    </a:lnTo>
                    <a:lnTo>
                      <a:pt x="1" y="270"/>
                    </a:lnTo>
                    <a:lnTo>
                      <a:pt x="1" y="281"/>
                    </a:lnTo>
                    <a:lnTo>
                      <a:pt x="1" y="289"/>
                    </a:lnTo>
                    <a:lnTo>
                      <a:pt x="0" y="297"/>
                    </a:lnTo>
                    <a:lnTo>
                      <a:pt x="0" y="304"/>
                    </a:lnTo>
                    <a:lnTo>
                      <a:pt x="0" y="312"/>
                    </a:lnTo>
                    <a:lnTo>
                      <a:pt x="0" y="321"/>
                    </a:lnTo>
                    <a:lnTo>
                      <a:pt x="0" y="327"/>
                    </a:lnTo>
                    <a:lnTo>
                      <a:pt x="1" y="329"/>
                    </a:lnTo>
                    <a:lnTo>
                      <a:pt x="9" y="323"/>
                    </a:lnTo>
                    <a:lnTo>
                      <a:pt x="15" y="319"/>
                    </a:lnTo>
                    <a:lnTo>
                      <a:pt x="22" y="314"/>
                    </a:lnTo>
                    <a:lnTo>
                      <a:pt x="28" y="306"/>
                    </a:lnTo>
                    <a:lnTo>
                      <a:pt x="39" y="299"/>
                    </a:lnTo>
                    <a:lnTo>
                      <a:pt x="47" y="289"/>
                    </a:lnTo>
                    <a:lnTo>
                      <a:pt x="60" y="278"/>
                    </a:lnTo>
                    <a:lnTo>
                      <a:pt x="70" y="266"/>
                    </a:lnTo>
                    <a:lnTo>
                      <a:pt x="83" y="255"/>
                    </a:lnTo>
                    <a:lnTo>
                      <a:pt x="91" y="247"/>
                    </a:lnTo>
                    <a:lnTo>
                      <a:pt x="97" y="242"/>
                    </a:lnTo>
                    <a:lnTo>
                      <a:pt x="104" y="236"/>
                    </a:lnTo>
                    <a:lnTo>
                      <a:pt x="112" y="230"/>
                    </a:lnTo>
                    <a:lnTo>
                      <a:pt x="119" y="223"/>
                    </a:lnTo>
                    <a:lnTo>
                      <a:pt x="127" y="215"/>
                    </a:lnTo>
                    <a:lnTo>
                      <a:pt x="135" y="207"/>
                    </a:lnTo>
                    <a:lnTo>
                      <a:pt x="144" y="202"/>
                    </a:lnTo>
                    <a:lnTo>
                      <a:pt x="152" y="192"/>
                    </a:lnTo>
                    <a:lnTo>
                      <a:pt x="159" y="184"/>
                    </a:lnTo>
                    <a:lnTo>
                      <a:pt x="169" y="175"/>
                    </a:lnTo>
                    <a:lnTo>
                      <a:pt x="176" y="167"/>
                    </a:lnTo>
                    <a:lnTo>
                      <a:pt x="184" y="160"/>
                    </a:lnTo>
                    <a:lnTo>
                      <a:pt x="193" y="152"/>
                    </a:lnTo>
                    <a:lnTo>
                      <a:pt x="201" y="145"/>
                    </a:lnTo>
                    <a:lnTo>
                      <a:pt x="211" y="137"/>
                    </a:lnTo>
                    <a:lnTo>
                      <a:pt x="218" y="127"/>
                    </a:lnTo>
                    <a:lnTo>
                      <a:pt x="228" y="120"/>
                    </a:lnTo>
                    <a:lnTo>
                      <a:pt x="235" y="112"/>
                    </a:lnTo>
                    <a:lnTo>
                      <a:pt x="245" y="105"/>
                    </a:lnTo>
                    <a:lnTo>
                      <a:pt x="250" y="97"/>
                    </a:lnTo>
                    <a:lnTo>
                      <a:pt x="260" y="89"/>
                    </a:lnTo>
                    <a:lnTo>
                      <a:pt x="268" y="82"/>
                    </a:lnTo>
                    <a:lnTo>
                      <a:pt x="275" y="76"/>
                    </a:lnTo>
                    <a:lnTo>
                      <a:pt x="283" y="69"/>
                    </a:lnTo>
                    <a:lnTo>
                      <a:pt x="289" y="61"/>
                    </a:lnTo>
                    <a:lnTo>
                      <a:pt x="294" y="53"/>
                    </a:lnTo>
                    <a:lnTo>
                      <a:pt x="300" y="48"/>
                    </a:lnTo>
                    <a:lnTo>
                      <a:pt x="309" y="36"/>
                    </a:lnTo>
                    <a:lnTo>
                      <a:pt x="319" y="27"/>
                    </a:lnTo>
                    <a:lnTo>
                      <a:pt x="327" y="17"/>
                    </a:lnTo>
                    <a:lnTo>
                      <a:pt x="330" y="12"/>
                    </a:lnTo>
                    <a:lnTo>
                      <a:pt x="330" y="8"/>
                    </a:lnTo>
                    <a:lnTo>
                      <a:pt x="330" y="6"/>
                    </a:lnTo>
                    <a:lnTo>
                      <a:pt x="325" y="4"/>
                    </a:lnTo>
                    <a:lnTo>
                      <a:pt x="319" y="2"/>
                    </a:lnTo>
                    <a:lnTo>
                      <a:pt x="311" y="0"/>
                    </a:lnTo>
                    <a:lnTo>
                      <a:pt x="306" y="0"/>
                    </a:lnTo>
                    <a:lnTo>
                      <a:pt x="296" y="0"/>
                    </a:lnTo>
                    <a:lnTo>
                      <a:pt x="287" y="0"/>
                    </a:lnTo>
                    <a:lnTo>
                      <a:pt x="277" y="0"/>
                    </a:lnTo>
                    <a:lnTo>
                      <a:pt x="268" y="0"/>
                    </a:lnTo>
                    <a:lnTo>
                      <a:pt x="256" y="0"/>
                    </a:lnTo>
                    <a:lnTo>
                      <a:pt x="245" y="0"/>
                    </a:lnTo>
                    <a:lnTo>
                      <a:pt x="233" y="2"/>
                    </a:lnTo>
                    <a:lnTo>
                      <a:pt x="222" y="4"/>
                    </a:lnTo>
                    <a:lnTo>
                      <a:pt x="214" y="4"/>
                    </a:lnTo>
                    <a:lnTo>
                      <a:pt x="209" y="4"/>
                    </a:lnTo>
                    <a:lnTo>
                      <a:pt x="201" y="6"/>
                    </a:lnTo>
                    <a:lnTo>
                      <a:pt x="195" y="8"/>
                    </a:lnTo>
                    <a:lnTo>
                      <a:pt x="188" y="8"/>
                    </a:lnTo>
                    <a:lnTo>
                      <a:pt x="182" y="10"/>
                    </a:lnTo>
                    <a:lnTo>
                      <a:pt x="174" y="10"/>
                    </a:lnTo>
                    <a:lnTo>
                      <a:pt x="169" y="13"/>
                    </a:lnTo>
                    <a:lnTo>
                      <a:pt x="155" y="13"/>
                    </a:lnTo>
                    <a:lnTo>
                      <a:pt x="144" y="15"/>
                    </a:lnTo>
                    <a:lnTo>
                      <a:pt x="135" y="17"/>
                    </a:lnTo>
                    <a:lnTo>
                      <a:pt x="127" y="19"/>
                    </a:lnTo>
                    <a:lnTo>
                      <a:pt x="117" y="21"/>
                    </a:lnTo>
                    <a:lnTo>
                      <a:pt x="108" y="23"/>
                    </a:lnTo>
                    <a:lnTo>
                      <a:pt x="100" y="25"/>
                    </a:lnTo>
                    <a:lnTo>
                      <a:pt x="93" y="27"/>
                    </a:lnTo>
                    <a:lnTo>
                      <a:pt x="87" y="27"/>
                    </a:lnTo>
                    <a:lnTo>
                      <a:pt x="79" y="29"/>
                    </a:lnTo>
                    <a:lnTo>
                      <a:pt x="74" y="31"/>
                    </a:lnTo>
                    <a:lnTo>
                      <a:pt x="66" y="32"/>
                    </a:lnTo>
                    <a:lnTo>
                      <a:pt x="57" y="36"/>
                    </a:lnTo>
                    <a:lnTo>
                      <a:pt x="49" y="40"/>
                    </a:lnTo>
                    <a:lnTo>
                      <a:pt x="39" y="42"/>
                    </a:lnTo>
                    <a:lnTo>
                      <a:pt x="34" y="44"/>
                    </a:lnTo>
                    <a:lnTo>
                      <a:pt x="28" y="46"/>
                    </a:lnTo>
                    <a:lnTo>
                      <a:pt x="24" y="50"/>
                    </a:lnTo>
                    <a:lnTo>
                      <a:pt x="19" y="55"/>
                    </a:lnTo>
                    <a:lnTo>
                      <a:pt x="19" y="59"/>
                    </a:lnTo>
                    <a:lnTo>
                      <a:pt x="19" y="59"/>
                    </a:lnTo>
                    <a:close/>
                  </a:path>
                </a:pathLst>
              </a:custGeom>
              <a:solidFill>
                <a:srgbClr val="ffff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2305440" y="2020320"/>
                <a:ext cx="331560" cy="270720"/>
              </a:xfrm>
              <a:custGeom>
                <a:avLst/>
                <a:gdLst/>
                <a:ahLst/>
                <a:rect l="l" t="t" r="r" b="b"/>
                <a:pathLst>
                  <a:path w="504" h="408">
                    <a:moveTo>
                      <a:pt x="2" y="338"/>
                    </a:moveTo>
                    <a:lnTo>
                      <a:pt x="0" y="334"/>
                    </a:lnTo>
                    <a:lnTo>
                      <a:pt x="2" y="329"/>
                    </a:lnTo>
                    <a:lnTo>
                      <a:pt x="6" y="321"/>
                    </a:lnTo>
                    <a:lnTo>
                      <a:pt x="11" y="315"/>
                    </a:lnTo>
                    <a:lnTo>
                      <a:pt x="17" y="304"/>
                    </a:lnTo>
                    <a:lnTo>
                      <a:pt x="27" y="296"/>
                    </a:lnTo>
                    <a:lnTo>
                      <a:pt x="36" y="287"/>
                    </a:lnTo>
                    <a:lnTo>
                      <a:pt x="50" y="277"/>
                    </a:lnTo>
                    <a:lnTo>
                      <a:pt x="53" y="270"/>
                    </a:lnTo>
                    <a:lnTo>
                      <a:pt x="59" y="264"/>
                    </a:lnTo>
                    <a:lnTo>
                      <a:pt x="65" y="258"/>
                    </a:lnTo>
                    <a:lnTo>
                      <a:pt x="72" y="253"/>
                    </a:lnTo>
                    <a:lnTo>
                      <a:pt x="80" y="247"/>
                    </a:lnTo>
                    <a:lnTo>
                      <a:pt x="86" y="239"/>
                    </a:lnTo>
                    <a:lnTo>
                      <a:pt x="93" y="234"/>
                    </a:lnTo>
                    <a:lnTo>
                      <a:pt x="103" y="228"/>
                    </a:lnTo>
                    <a:lnTo>
                      <a:pt x="110" y="220"/>
                    </a:lnTo>
                    <a:lnTo>
                      <a:pt x="116" y="215"/>
                    </a:lnTo>
                    <a:lnTo>
                      <a:pt x="126" y="209"/>
                    </a:lnTo>
                    <a:lnTo>
                      <a:pt x="135" y="201"/>
                    </a:lnTo>
                    <a:lnTo>
                      <a:pt x="141" y="196"/>
                    </a:lnTo>
                    <a:lnTo>
                      <a:pt x="150" y="188"/>
                    </a:lnTo>
                    <a:lnTo>
                      <a:pt x="158" y="182"/>
                    </a:lnTo>
                    <a:lnTo>
                      <a:pt x="167" y="177"/>
                    </a:lnTo>
                    <a:lnTo>
                      <a:pt x="175" y="169"/>
                    </a:lnTo>
                    <a:lnTo>
                      <a:pt x="184" y="161"/>
                    </a:lnTo>
                    <a:lnTo>
                      <a:pt x="192" y="154"/>
                    </a:lnTo>
                    <a:lnTo>
                      <a:pt x="202" y="148"/>
                    </a:lnTo>
                    <a:lnTo>
                      <a:pt x="209" y="141"/>
                    </a:lnTo>
                    <a:lnTo>
                      <a:pt x="219" y="135"/>
                    </a:lnTo>
                    <a:lnTo>
                      <a:pt x="226" y="129"/>
                    </a:lnTo>
                    <a:lnTo>
                      <a:pt x="238" y="123"/>
                    </a:lnTo>
                    <a:lnTo>
                      <a:pt x="243" y="116"/>
                    </a:lnTo>
                    <a:lnTo>
                      <a:pt x="253" y="108"/>
                    </a:lnTo>
                    <a:lnTo>
                      <a:pt x="261" y="102"/>
                    </a:lnTo>
                    <a:lnTo>
                      <a:pt x="268" y="97"/>
                    </a:lnTo>
                    <a:lnTo>
                      <a:pt x="276" y="91"/>
                    </a:lnTo>
                    <a:lnTo>
                      <a:pt x="285" y="85"/>
                    </a:lnTo>
                    <a:lnTo>
                      <a:pt x="293" y="80"/>
                    </a:lnTo>
                    <a:lnTo>
                      <a:pt x="302" y="76"/>
                    </a:lnTo>
                    <a:lnTo>
                      <a:pt x="308" y="70"/>
                    </a:lnTo>
                    <a:lnTo>
                      <a:pt x="316" y="64"/>
                    </a:lnTo>
                    <a:lnTo>
                      <a:pt x="323" y="59"/>
                    </a:lnTo>
                    <a:lnTo>
                      <a:pt x="329" y="55"/>
                    </a:lnTo>
                    <a:lnTo>
                      <a:pt x="342" y="45"/>
                    </a:lnTo>
                    <a:lnTo>
                      <a:pt x="354" y="38"/>
                    </a:lnTo>
                    <a:lnTo>
                      <a:pt x="363" y="30"/>
                    </a:lnTo>
                    <a:lnTo>
                      <a:pt x="375" y="25"/>
                    </a:lnTo>
                    <a:lnTo>
                      <a:pt x="382" y="21"/>
                    </a:lnTo>
                    <a:lnTo>
                      <a:pt x="390" y="17"/>
                    </a:lnTo>
                    <a:lnTo>
                      <a:pt x="399" y="9"/>
                    </a:lnTo>
                    <a:lnTo>
                      <a:pt x="409" y="6"/>
                    </a:lnTo>
                    <a:lnTo>
                      <a:pt x="418" y="2"/>
                    </a:lnTo>
                    <a:lnTo>
                      <a:pt x="430" y="2"/>
                    </a:lnTo>
                    <a:lnTo>
                      <a:pt x="439" y="0"/>
                    </a:lnTo>
                    <a:lnTo>
                      <a:pt x="447" y="0"/>
                    </a:lnTo>
                    <a:lnTo>
                      <a:pt x="456" y="2"/>
                    </a:lnTo>
                    <a:lnTo>
                      <a:pt x="464" y="7"/>
                    </a:lnTo>
                    <a:lnTo>
                      <a:pt x="470" y="11"/>
                    </a:lnTo>
                    <a:lnTo>
                      <a:pt x="477" y="21"/>
                    </a:lnTo>
                    <a:lnTo>
                      <a:pt x="483" y="28"/>
                    </a:lnTo>
                    <a:lnTo>
                      <a:pt x="491" y="40"/>
                    </a:lnTo>
                    <a:lnTo>
                      <a:pt x="491" y="45"/>
                    </a:lnTo>
                    <a:lnTo>
                      <a:pt x="492" y="53"/>
                    </a:lnTo>
                    <a:lnTo>
                      <a:pt x="494" y="61"/>
                    </a:lnTo>
                    <a:lnTo>
                      <a:pt x="496" y="68"/>
                    </a:lnTo>
                    <a:lnTo>
                      <a:pt x="498" y="76"/>
                    </a:lnTo>
                    <a:lnTo>
                      <a:pt x="500" y="85"/>
                    </a:lnTo>
                    <a:lnTo>
                      <a:pt x="500" y="95"/>
                    </a:lnTo>
                    <a:lnTo>
                      <a:pt x="504" y="106"/>
                    </a:lnTo>
                    <a:lnTo>
                      <a:pt x="504" y="116"/>
                    </a:lnTo>
                    <a:lnTo>
                      <a:pt x="504" y="127"/>
                    </a:lnTo>
                    <a:lnTo>
                      <a:pt x="504" y="139"/>
                    </a:lnTo>
                    <a:lnTo>
                      <a:pt x="504" y="150"/>
                    </a:lnTo>
                    <a:lnTo>
                      <a:pt x="504" y="160"/>
                    </a:lnTo>
                    <a:lnTo>
                      <a:pt x="504" y="169"/>
                    </a:lnTo>
                    <a:lnTo>
                      <a:pt x="504" y="179"/>
                    </a:lnTo>
                    <a:lnTo>
                      <a:pt x="504" y="188"/>
                    </a:lnTo>
                    <a:lnTo>
                      <a:pt x="504" y="198"/>
                    </a:lnTo>
                    <a:lnTo>
                      <a:pt x="502" y="205"/>
                    </a:lnTo>
                    <a:lnTo>
                      <a:pt x="500" y="215"/>
                    </a:lnTo>
                    <a:lnTo>
                      <a:pt x="500" y="222"/>
                    </a:lnTo>
                    <a:lnTo>
                      <a:pt x="500" y="230"/>
                    </a:lnTo>
                    <a:lnTo>
                      <a:pt x="500" y="239"/>
                    </a:lnTo>
                    <a:lnTo>
                      <a:pt x="498" y="247"/>
                    </a:lnTo>
                    <a:lnTo>
                      <a:pt x="498" y="255"/>
                    </a:lnTo>
                    <a:lnTo>
                      <a:pt x="496" y="260"/>
                    </a:lnTo>
                    <a:lnTo>
                      <a:pt x="494" y="268"/>
                    </a:lnTo>
                    <a:lnTo>
                      <a:pt x="492" y="274"/>
                    </a:lnTo>
                    <a:lnTo>
                      <a:pt x="492" y="281"/>
                    </a:lnTo>
                    <a:lnTo>
                      <a:pt x="491" y="294"/>
                    </a:lnTo>
                    <a:lnTo>
                      <a:pt x="487" y="306"/>
                    </a:lnTo>
                    <a:lnTo>
                      <a:pt x="483" y="315"/>
                    </a:lnTo>
                    <a:lnTo>
                      <a:pt x="479" y="327"/>
                    </a:lnTo>
                    <a:lnTo>
                      <a:pt x="475" y="336"/>
                    </a:lnTo>
                    <a:lnTo>
                      <a:pt x="473" y="346"/>
                    </a:lnTo>
                    <a:lnTo>
                      <a:pt x="468" y="351"/>
                    </a:lnTo>
                    <a:lnTo>
                      <a:pt x="464" y="359"/>
                    </a:lnTo>
                    <a:lnTo>
                      <a:pt x="460" y="365"/>
                    </a:lnTo>
                    <a:lnTo>
                      <a:pt x="456" y="370"/>
                    </a:lnTo>
                    <a:lnTo>
                      <a:pt x="447" y="382"/>
                    </a:lnTo>
                    <a:lnTo>
                      <a:pt x="439" y="391"/>
                    </a:lnTo>
                    <a:lnTo>
                      <a:pt x="432" y="395"/>
                    </a:lnTo>
                    <a:lnTo>
                      <a:pt x="426" y="401"/>
                    </a:lnTo>
                    <a:lnTo>
                      <a:pt x="418" y="403"/>
                    </a:lnTo>
                    <a:lnTo>
                      <a:pt x="414" y="407"/>
                    </a:lnTo>
                    <a:lnTo>
                      <a:pt x="409" y="407"/>
                    </a:lnTo>
                    <a:lnTo>
                      <a:pt x="401" y="407"/>
                    </a:lnTo>
                    <a:lnTo>
                      <a:pt x="394" y="407"/>
                    </a:lnTo>
                    <a:lnTo>
                      <a:pt x="386" y="408"/>
                    </a:lnTo>
                    <a:lnTo>
                      <a:pt x="376" y="407"/>
                    </a:lnTo>
                    <a:lnTo>
                      <a:pt x="367" y="407"/>
                    </a:lnTo>
                    <a:lnTo>
                      <a:pt x="354" y="407"/>
                    </a:lnTo>
                    <a:lnTo>
                      <a:pt x="342" y="407"/>
                    </a:lnTo>
                    <a:lnTo>
                      <a:pt x="333" y="405"/>
                    </a:lnTo>
                    <a:lnTo>
                      <a:pt x="325" y="405"/>
                    </a:lnTo>
                    <a:lnTo>
                      <a:pt x="319" y="403"/>
                    </a:lnTo>
                    <a:lnTo>
                      <a:pt x="312" y="403"/>
                    </a:lnTo>
                    <a:lnTo>
                      <a:pt x="302" y="401"/>
                    </a:lnTo>
                    <a:lnTo>
                      <a:pt x="295" y="401"/>
                    </a:lnTo>
                    <a:lnTo>
                      <a:pt x="285" y="401"/>
                    </a:lnTo>
                    <a:lnTo>
                      <a:pt x="278" y="401"/>
                    </a:lnTo>
                    <a:lnTo>
                      <a:pt x="268" y="397"/>
                    </a:lnTo>
                    <a:lnTo>
                      <a:pt x="257" y="397"/>
                    </a:lnTo>
                    <a:lnTo>
                      <a:pt x="247" y="395"/>
                    </a:lnTo>
                    <a:lnTo>
                      <a:pt x="238" y="395"/>
                    </a:lnTo>
                    <a:lnTo>
                      <a:pt x="224" y="393"/>
                    </a:lnTo>
                    <a:lnTo>
                      <a:pt x="213" y="391"/>
                    </a:lnTo>
                    <a:lnTo>
                      <a:pt x="202" y="391"/>
                    </a:lnTo>
                    <a:lnTo>
                      <a:pt x="188" y="391"/>
                    </a:lnTo>
                    <a:lnTo>
                      <a:pt x="175" y="388"/>
                    </a:lnTo>
                    <a:lnTo>
                      <a:pt x="164" y="388"/>
                    </a:lnTo>
                    <a:lnTo>
                      <a:pt x="152" y="384"/>
                    </a:lnTo>
                    <a:lnTo>
                      <a:pt x="141" y="384"/>
                    </a:lnTo>
                    <a:lnTo>
                      <a:pt x="131" y="382"/>
                    </a:lnTo>
                    <a:lnTo>
                      <a:pt x="120" y="380"/>
                    </a:lnTo>
                    <a:lnTo>
                      <a:pt x="110" y="380"/>
                    </a:lnTo>
                    <a:lnTo>
                      <a:pt x="103" y="380"/>
                    </a:lnTo>
                    <a:lnTo>
                      <a:pt x="93" y="378"/>
                    </a:lnTo>
                    <a:lnTo>
                      <a:pt x="86" y="376"/>
                    </a:lnTo>
                    <a:lnTo>
                      <a:pt x="78" y="376"/>
                    </a:lnTo>
                    <a:lnTo>
                      <a:pt x="70" y="374"/>
                    </a:lnTo>
                    <a:lnTo>
                      <a:pt x="57" y="372"/>
                    </a:lnTo>
                    <a:lnTo>
                      <a:pt x="48" y="370"/>
                    </a:lnTo>
                    <a:lnTo>
                      <a:pt x="36" y="367"/>
                    </a:lnTo>
                    <a:lnTo>
                      <a:pt x="29" y="365"/>
                    </a:lnTo>
                    <a:lnTo>
                      <a:pt x="19" y="361"/>
                    </a:lnTo>
                    <a:lnTo>
                      <a:pt x="13" y="359"/>
                    </a:lnTo>
                    <a:lnTo>
                      <a:pt x="6" y="350"/>
                    </a:lnTo>
                    <a:lnTo>
                      <a:pt x="2" y="338"/>
                    </a:lnTo>
                    <a:lnTo>
                      <a:pt x="2" y="3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>
                <a:off x="2336400" y="2058840"/>
                <a:ext cx="253440" cy="196920"/>
              </a:xfrm>
              <a:custGeom>
                <a:avLst/>
                <a:gdLst/>
                <a:ahLst/>
                <a:rect l="l" t="t" r="r" b="b"/>
                <a:pathLst>
                  <a:path w="384" h="298">
                    <a:moveTo>
                      <a:pt x="8" y="274"/>
                    </a:moveTo>
                    <a:lnTo>
                      <a:pt x="12" y="274"/>
                    </a:lnTo>
                    <a:lnTo>
                      <a:pt x="19" y="274"/>
                    </a:lnTo>
                    <a:lnTo>
                      <a:pt x="27" y="274"/>
                    </a:lnTo>
                    <a:lnTo>
                      <a:pt x="38" y="275"/>
                    </a:lnTo>
                    <a:lnTo>
                      <a:pt x="48" y="275"/>
                    </a:lnTo>
                    <a:lnTo>
                      <a:pt x="59" y="279"/>
                    </a:lnTo>
                    <a:lnTo>
                      <a:pt x="65" y="279"/>
                    </a:lnTo>
                    <a:lnTo>
                      <a:pt x="73" y="279"/>
                    </a:lnTo>
                    <a:lnTo>
                      <a:pt x="80" y="281"/>
                    </a:lnTo>
                    <a:lnTo>
                      <a:pt x="88" y="281"/>
                    </a:lnTo>
                    <a:lnTo>
                      <a:pt x="93" y="281"/>
                    </a:lnTo>
                    <a:lnTo>
                      <a:pt x="101" y="281"/>
                    </a:lnTo>
                    <a:lnTo>
                      <a:pt x="109" y="283"/>
                    </a:lnTo>
                    <a:lnTo>
                      <a:pt x="116" y="285"/>
                    </a:lnTo>
                    <a:lnTo>
                      <a:pt x="124" y="285"/>
                    </a:lnTo>
                    <a:lnTo>
                      <a:pt x="133" y="285"/>
                    </a:lnTo>
                    <a:lnTo>
                      <a:pt x="141" y="287"/>
                    </a:lnTo>
                    <a:lnTo>
                      <a:pt x="150" y="289"/>
                    </a:lnTo>
                    <a:lnTo>
                      <a:pt x="158" y="289"/>
                    </a:lnTo>
                    <a:lnTo>
                      <a:pt x="168" y="289"/>
                    </a:lnTo>
                    <a:lnTo>
                      <a:pt x="175" y="289"/>
                    </a:lnTo>
                    <a:lnTo>
                      <a:pt x="185" y="291"/>
                    </a:lnTo>
                    <a:lnTo>
                      <a:pt x="194" y="291"/>
                    </a:lnTo>
                    <a:lnTo>
                      <a:pt x="204" y="293"/>
                    </a:lnTo>
                    <a:lnTo>
                      <a:pt x="213" y="293"/>
                    </a:lnTo>
                    <a:lnTo>
                      <a:pt x="223" y="294"/>
                    </a:lnTo>
                    <a:lnTo>
                      <a:pt x="232" y="294"/>
                    </a:lnTo>
                    <a:lnTo>
                      <a:pt x="242" y="294"/>
                    </a:lnTo>
                    <a:lnTo>
                      <a:pt x="251" y="294"/>
                    </a:lnTo>
                    <a:lnTo>
                      <a:pt x="261" y="296"/>
                    </a:lnTo>
                    <a:lnTo>
                      <a:pt x="270" y="296"/>
                    </a:lnTo>
                    <a:lnTo>
                      <a:pt x="278" y="296"/>
                    </a:lnTo>
                    <a:lnTo>
                      <a:pt x="285" y="296"/>
                    </a:lnTo>
                    <a:lnTo>
                      <a:pt x="295" y="298"/>
                    </a:lnTo>
                    <a:lnTo>
                      <a:pt x="306" y="296"/>
                    </a:lnTo>
                    <a:lnTo>
                      <a:pt x="318" y="296"/>
                    </a:lnTo>
                    <a:lnTo>
                      <a:pt x="325" y="296"/>
                    </a:lnTo>
                    <a:lnTo>
                      <a:pt x="333" y="294"/>
                    </a:lnTo>
                    <a:lnTo>
                      <a:pt x="339" y="287"/>
                    </a:lnTo>
                    <a:lnTo>
                      <a:pt x="344" y="281"/>
                    </a:lnTo>
                    <a:lnTo>
                      <a:pt x="350" y="272"/>
                    </a:lnTo>
                    <a:lnTo>
                      <a:pt x="354" y="264"/>
                    </a:lnTo>
                    <a:lnTo>
                      <a:pt x="358" y="255"/>
                    </a:lnTo>
                    <a:lnTo>
                      <a:pt x="361" y="247"/>
                    </a:lnTo>
                    <a:lnTo>
                      <a:pt x="365" y="237"/>
                    </a:lnTo>
                    <a:lnTo>
                      <a:pt x="369" y="228"/>
                    </a:lnTo>
                    <a:lnTo>
                      <a:pt x="371" y="217"/>
                    </a:lnTo>
                    <a:lnTo>
                      <a:pt x="373" y="207"/>
                    </a:lnTo>
                    <a:lnTo>
                      <a:pt x="373" y="196"/>
                    </a:lnTo>
                    <a:lnTo>
                      <a:pt x="377" y="186"/>
                    </a:lnTo>
                    <a:lnTo>
                      <a:pt x="377" y="175"/>
                    </a:lnTo>
                    <a:lnTo>
                      <a:pt x="379" y="165"/>
                    </a:lnTo>
                    <a:lnTo>
                      <a:pt x="380" y="156"/>
                    </a:lnTo>
                    <a:lnTo>
                      <a:pt x="382" y="148"/>
                    </a:lnTo>
                    <a:lnTo>
                      <a:pt x="382" y="137"/>
                    </a:lnTo>
                    <a:lnTo>
                      <a:pt x="384" y="125"/>
                    </a:lnTo>
                    <a:lnTo>
                      <a:pt x="384" y="114"/>
                    </a:lnTo>
                    <a:lnTo>
                      <a:pt x="384" y="104"/>
                    </a:lnTo>
                    <a:lnTo>
                      <a:pt x="384" y="91"/>
                    </a:lnTo>
                    <a:lnTo>
                      <a:pt x="384" y="80"/>
                    </a:lnTo>
                    <a:lnTo>
                      <a:pt x="384" y="68"/>
                    </a:lnTo>
                    <a:lnTo>
                      <a:pt x="384" y="57"/>
                    </a:lnTo>
                    <a:lnTo>
                      <a:pt x="382" y="45"/>
                    </a:lnTo>
                    <a:lnTo>
                      <a:pt x="380" y="36"/>
                    </a:lnTo>
                    <a:lnTo>
                      <a:pt x="379" y="26"/>
                    </a:lnTo>
                    <a:lnTo>
                      <a:pt x="377" y="19"/>
                    </a:lnTo>
                    <a:lnTo>
                      <a:pt x="373" y="11"/>
                    </a:lnTo>
                    <a:lnTo>
                      <a:pt x="371" y="7"/>
                    </a:lnTo>
                    <a:lnTo>
                      <a:pt x="365" y="4"/>
                    </a:lnTo>
                    <a:lnTo>
                      <a:pt x="360" y="2"/>
                    </a:lnTo>
                    <a:lnTo>
                      <a:pt x="356" y="0"/>
                    </a:lnTo>
                    <a:lnTo>
                      <a:pt x="350" y="2"/>
                    </a:lnTo>
                    <a:lnTo>
                      <a:pt x="344" y="4"/>
                    </a:lnTo>
                    <a:lnTo>
                      <a:pt x="339" y="7"/>
                    </a:lnTo>
                    <a:lnTo>
                      <a:pt x="329" y="11"/>
                    </a:lnTo>
                    <a:lnTo>
                      <a:pt x="322" y="15"/>
                    </a:lnTo>
                    <a:lnTo>
                      <a:pt x="312" y="21"/>
                    </a:lnTo>
                    <a:lnTo>
                      <a:pt x="304" y="28"/>
                    </a:lnTo>
                    <a:lnTo>
                      <a:pt x="293" y="34"/>
                    </a:lnTo>
                    <a:lnTo>
                      <a:pt x="282" y="42"/>
                    </a:lnTo>
                    <a:lnTo>
                      <a:pt x="270" y="47"/>
                    </a:lnTo>
                    <a:lnTo>
                      <a:pt x="259" y="57"/>
                    </a:lnTo>
                    <a:lnTo>
                      <a:pt x="247" y="64"/>
                    </a:lnTo>
                    <a:lnTo>
                      <a:pt x="234" y="74"/>
                    </a:lnTo>
                    <a:lnTo>
                      <a:pt x="223" y="84"/>
                    </a:lnTo>
                    <a:lnTo>
                      <a:pt x="211" y="93"/>
                    </a:lnTo>
                    <a:lnTo>
                      <a:pt x="198" y="101"/>
                    </a:lnTo>
                    <a:lnTo>
                      <a:pt x="185" y="110"/>
                    </a:lnTo>
                    <a:lnTo>
                      <a:pt x="173" y="118"/>
                    </a:lnTo>
                    <a:lnTo>
                      <a:pt x="162" y="127"/>
                    </a:lnTo>
                    <a:lnTo>
                      <a:pt x="150" y="137"/>
                    </a:lnTo>
                    <a:lnTo>
                      <a:pt x="139" y="144"/>
                    </a:lnTo>
                    <a:lnTo>
                      <a:pt x="128" y="152"/>
                    </a:lnTo>
                    <a:lnTo>
                      <a:pt x="120" y="161"/>
                    </a:lnTo>
                    <a:lnTo>
                      <a:pt x="109" y="167"/>
                    </a:lnTo>
                    <a:lnTo>
                      <a:pt x="101" y="175"/>
                    </a:lnTo>
                    <a:lnTo>
                      <a:pt x="93" y="180"/>
                    </a:lnTo>
                    <a:lnTo>
                      <a:pt x="86" y="186"/>
                    </a:lnTo>
                    <a:lnTo>
                      <a:pt x="76" y="196"/>
                    </a:lnTo>
                    <a:lnTo>
                      <a:pt x="69" y="201"/>
                    </a:lnTo>
                    <a:lnTo>
                      <a:pt x="63" y="203"/>
                    </a:lnTo>
                    <a:lnTo>
                      <a:pt x="59" y="207"/>
                    </a:lnTo>
                    <a:lnTo>
                      <a:pt x="52" y="213"/>
                    </a:lnTo>
                    <a:lnTo>
                      <a:pt x="44" y="218"/>
                    </a:lnTo>
                    <a:lnTo>
                      <a:pt x="38" y="224"/>
                    </a:lnTo>
                    <a:lnTo>
                      <a:pt x="31" y="230"/>
                    </a:lnTo>
                    <a:lnTo>
                      <a:pt x="25" y="236"/>
                    </a:lnTo>
                    <a:lnTo>
                      <a:pt x="17" y="241"/>
                    </a:lnTo>
                    <a:lnTo>
                      <a:pt x="8" y="251"/>
                    </a:lnTo>
                    <a:lnTo>
                      <a:pt x="0" y="262"/>
                    </a:lnTo>
                    <a:lnTo>
                      <a:pt x="0" y="268"/>
                    </a:lnTo>
                    <a:lnTo>
                      <a:pt x="8" y="274"/>
                    </a:lnTo>
                    <a:lnTo>
                      <a:pt x="8" y="274"/>
                    </a:lnTo>
                    <a:close/>
                  </a:path>
                </a:pathLst>
              </a:custGeom>
              <a:solidFill>
                <a:srgbClr val="ffff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>
                <a:off x="2373120" y="2275560"/>
                <a:ext cx="295920" cy="265680"/>
              </a:xfrm>
              <a:custGeom>
                <a:avLst/>
                <a:gdLst/>
                <a:ahLst/>
                <a:rect l="l" t="t" r="r" b="b"/>
                <a:pathLst>
                  <a:path w="448" h="401">
                    <a:moveTo>
                      <a:pt x="19" y="2"/>
                    </a:moveTo>
                    <a:lnTo>
                      <a:pt x="26" y="0"/>
                    </a:lnTo>
                    <a:lnTo>
                      <a:pt x="38" y="0"/>
                    </a:lnTo>
                    <a:lnTo>
                      <a:pt x="47" y="0"/>
                    </a:lnTo>
                    <a:lnTo>
                      <a:pt x="60" y="2"/>
                    </a:lnTo>
                    <a:lnTo>
                      <a:pt x="72" y="2"/>
                    </a:lnTo>
                    <a:lnTo>
                      <a:pt x="85" y="2"/>
                    </a:lnTo>
                    <a:lnTo>
                      <a:pt x="93" y="2"/>
                    </a:lnTo>
                    <a:lnTo>
                      <a:pt x="100" y="3"/>
                    </a:lnTo>
                    <a:lnTo>
                      <a:pt x="108" y="5"/>
                    </a:lnTo>
                    <a:lnTo>
                      <a:pt x="116" y="5"/>
                    </a:lnTo>
                    <a:lnTo>
                      <a:pt x="121" y="5"/>
                    </a:lnTo>
                    <a:lnTo>
                      <a:pt x="129" y="7"/>
                    </a:lnTo>
                    <a:lnTo>
                      <a:pt x="136" y="7"/>
                    </a:lnTo>
                    <a:lnTo>
                      <a:pt x="144" y="9"/>
                    </a:lnTo>
                    <a:lnTo>
                      <a:pt x="150" y="9"/>
                    </a:lnTo>
                    <a:lnTo>
                      <a:pt x="157" y="11"/>
                    </a:lnTo>
                    <a:lnTo>
                      <a:pt x="165" y="11"/>
                    </a:lnTo>
                    <a:lnTo>
                      <a:pt x="173" y="13"/>
                    </a:lnTo>
                    <a:lnTo>
                      <a:pt x="178" y="13"/>
                    </a:lnTo>
                    <a:lnTo>
                      <a:pt x="186" y="15"/>
                    </a:lnTo>
                    <a:lnTo>
                      <a:pt x="193" y="15"/>
                    </a:lnTo>
                    <a:lnTo>
                      <a:pt x="201" y="19"/>
                    </a:lnTo>
                    <a:lnTo>
                      <a:pt x="209" y="19"/>
                    </a:lnTo>
                    <a:lnTo>
                      <a:pt x="214" y="19"/>
                    </a:lnTo>
                    <a:lnTo>
                      <a:pt x="222" y="21"/>
                    </a:lnTo>
                    <a:lnTo>
                      <a:pt x="230" y="22"/>
                    </a:lnTo>
                    <a:lnTo>
                      <a:pt x="235" y="22"/>
                    </a:lnTo>
                    <a:lnTo>
                      <a:pt x="243" y="24"/>
                    </a:lnTo>
                    <a:lnTo>
                      <a:pt x="250" y="24"/>
                    </a:lnTo>
                    <a:lnTo>
                      <a:pt x="258" y="26"/>
                    </a:lnTo>
                    <a:lnTo>
                      <a:pt x="266" y="28"/>
                    </a:lnTo>
                    <a:lnTo>
                      <a:pt x="275" y="30"/>
                    </a:lnTo>
                    <a:lnTo>
                      <a:pt x="285" y="32"/>
                    </a:lnTo>
                    <a:lnTo>
                      <a:pt x="294" y="34"/>
                    </a:lnTo>
                    <a:lnTo>
                      <a:pt x="302" y="34"/>
                    </a:lnTo>
                    <a:lnTo>
                      <a:pt x="311" y="36"/>
                    </a:lnTo>
                    <a:lnTo>
                      <a:pt x="321" y="38"/>
                    </a:lnTo>
                    <a:lnTo>
                      <a:pt x="330" y="40"/>
                    </a:lnTo>
                    <a:lnTo>
                      <a:pt x="338" y="41"/>
                    </a:lnTo>
                    <a:lnTo>
                      <a:pt x="349" y="43"/>
                    </a:lnTo>
                    <a:lnTo>
                      <a:pt x="359" y="45"/>
                    </a:lnTo>
                    <a:lnTo>
                      <a:pt x="368" y="49"/>
                    </a:lnTo>
                    <a:lnTo>
                      <a:pt x="376" y="49"/>
                    </a:lnTo>
                    <a:lnTo>
                      <a:pt x="384" y="53"/>
                    </a:lnTo>
                    <a:lnTo>
                      <a:pt x="391" y="53"/>
                    </a:lnTo>
                    <a:lnTo>
                      <a:pt x="401" y="57"/>
                    </a:lnTo>
                    <a:lnTo>
                      <a:pt x="406" y="59"/>
                    </a:lnTo>
                    <a:lnTo>
                      <a:pt x="414" y="60"/>
                    </a:lnTo>
                    <a:lnTo>
                      <a:pt x="420" y="62"/>
                    </a:lnTo>
                    <a:lnTo>
                      <a:pt x="427" y="66"/>
                    </a:lnTo>
                    <a:lnTo>
                      <a:pt x="435" y="74"/>
                    </a:lnTo>
                    <a:lnTo>
                      <a:pt x="442" y="79"/>
                    </a:lnTo>
                    <a:lnTo>
                      <a:pt x="448" y="87"/>
                    </a:lnTo>
                    <a:lnTo>
                      <a:pt x="448" y="95"/>
                    </a:lnTo>
                    <a:lnTo>
                      <a:pt x="444" y="104"/>
                    </a:lnTo>
                    <a:lnTo>
                      <a:pt x="441" y="116"/>
                    </a:lnTo>
                    <a:lnTo>
                      <a:pt x="435" y="129"/>
                    </a:lnTo>
                    <a:lnTo>
                      <a:pt x="427" y="142"/>
                    </a:lnTo>
                    <a:lnTo>
                      <a:pt x="420" y="154"/>
                    </a:lnTo>
                    <a:lnTo>
                      <a:pt x="412" y="167"/>
                    </a:lnTo>
                    <a:lnTo>
                      <a:pt x="406" y="173"/>
                    </a:lnTo>
                    <a:lnTo>
                      <a:pt x="403" y="180"/>
                    </a:lnTo>
                    <a:lnTo>
                      <a:pt x="397" y="186"/>
                    </a:lnTo>
                    <a:lnTo>
                      <a:pt x="393" y="194"/>
                    </a:lnTo>
                    <a:lnTo>
                      <a:pt x="384" y="207"/>
                    </a:lnTo>
                    <a:lnTo>
                      <a:pt x="372" y="220"/>
                    </a:lnTo>
                    <a:lnTo>
                      <a:pt x="366" y="226"/>
                    </a:lnTo>
                    <a:lnTo>
                      <a:pt x="359" y="233"/>
                    </a:lnTo>
                    <a:lnTo>
                      <a:pt x="353" y="239"/>
                    </a:lnTo>
                    <a:lnTo>
                      <a:pt x="349" y="247"/>
                    </a:lnTo>
                    <a:lnTo>
                      <a:pt x="334" y="258"/>
                    </a:lnTo>
                    <a:lnTo>
                      <a:pt x="323" y="271"/>
                    </a:lnTo>
                    <a:lnTo>
                      <a:pt x="311" y="283"/>
                    </a:lnTo>
                    <a:lnTo>
                      <a:pt x="298" y="296"/>
                    </a:lnTo>
                    <a:lnTo>
                      <a:pt x="290" y="302"/>
                    </a:lnTo>
                    <a:lnTo>
                      <a:pt x="285" y="306"/>
                    </a:lnTo>
                    <a:lnTo>
                      <a:pt x="277" y="311"/>
                    </a:lnTo>
                    <a:lnTo>
                      <a:pt x="269" y="317"/>
                    </a:lnTo>
                    <a:lnTo>
                      <a:pt x="256" y="327"/>
                    </a:lnTo>
                    <a:lnTo>
                      <a:pt x="245" y="338"/>
                    </a:lnTo>
                    <a:lnTo>
                      <a:pt x="231" y="347"/>
                    </a:lnTo>
                    <a:lnTo>
                      <a:pt x="218" y="357"/>
                    </a:lnTo>
                    <a:lnTo>
                      <a:pt x="209" y="365"/>
                    </a:lnTo>
                    <a:lnTo>
                      <a:pt x="197" y="374"/>
                    </a:lnTo>
                    <a:lnTo>
                      <a:pt x="184" y="380"/>
                    </a:lnTo>
                    <a:lnTo>
                      <a:pt x="174" y="385"/>
                    </a:lnTo>
                    <a:lnTo>
                      <a:pt x="163" y="389"/>
                    </a:lnTo>
                    <a:lnTo>
                      <a:pt x="157" y="395"/>
                    </a:lnTo>
                    <a:lnTo>
                      <a:pt x="148" y="397"/>
                    </a:lnTo>
                    <a:lnTo>
                      <a:pt x="142" y="399"/>
                    </a:lnTo>
                    <a:lnTo>
                      <a:pt x="135" y="399"/>
                    </a:lnTo>
                    <a:lnTo>
                      <a:pt x="131" y="401"/>
                    </a:lnTo>
                    <a:lnTo>
                      <a:pt x="121" y="397"/>
                    </a:lnTo>
                    <a:lnTo>
                      <a:pt x="112" y="385"/>
                    </a:lnTo>
                    <a:lnTo>
                      <a:pt x="108" y="380"/>
                    </a:lnTo>
                    <a:lnTo>
                      <a:pt x="104" y="372"/>
                    </a:lnTo>
                    <a:lnTo>
                      <a:pt x="98" y="363"/>
                    </a:lnTo>
                    <a:lnTo>
                      <a:pt x="97" y="355"/>
                    </a:lnTo>
                    <a:lnTo>
                      <a:pt x="91" y="344"/>
                    </a:lnTo>
                    <a:lnTo>
                      <a:pt x="85" y="332"/>
                    </a:lnTo>
                    <a:lnTo>
                      <a:pt x="81" y="321"/>
                    </a:lnTo>
                    <a:lnTo>
                      <a:pt x="77" y="309"/>
                    </a:lnTo>
                    <a:lnTo>
                      <a:pt x="74" y="302"/>
                    </a:lnTo>
                    <a:lnTo>
                      <a:pt x="72" y="296"/>
                    </a:lnTo>
                    <a:lnTo>
                      <a:pt x="68" y="289"/>
                    </a:lnTo>
                    <a:lnTo>
                      <a:pt x="68" y="283"/>
                    </a:lnTo>
                    <a:lnTo>
                      <a:pt x="64" y="270"/>
                    </a:lnTo>
                    <a:lnTo>
                      <a:pt x="60" y="256"/>
                    </a:lnTo>
                    <a:lnTo>
                      <a:pt x="57" y="249"/>
                    </a:lnTo>
                    <a:lnTo>
                      <a:pt x="55" y="241"/>
                    </a:lnTo>
                    <a:lnTo>
                      <a:pt x="51" y="233"/>
                    </a:lnTo>
                    <a:lnTo>
                      <a:pt x="51" y="226"/>
                    </a:lnTo>
                    <a:lnTo>
                      <a:pt x="47" y="218"/>
                    </a:lnTo>
                    <a:lnTo>
                      <a:pt x="45" y="211"/>
                    </a:lnTo>
                    <a:lnTo>
                      <a:pt x="43" y="203"/>
                    </a:lnTo>
                    <a:lnTo>
                      <a:pt x="41" y="195"/>
                    </a:lnTo>
                    <a:lnTo>
                      <a:pt x="38" y="188"/>
                    </a:lnTo>
                    <a:lnTo>
                      <a:pt x="38" y="180"/>
                    </a:lnTo>
                    <a:lnTo>
                      <a:pt x="34" y="173"/>
                    </a:lnTo>
                    <a:lnTo>
                      <a:pt x="32" y="165"/>
                    </a:lnTo>
                    <a:lnTo>
                      <a:pt x="30" y="159"/>
                    </a:lnTo>
                    <a:lnTo>
                      <a:pt x="28" y="152"/>
                    </a:lnTo>
                    <a:lnTo>
                      <a:pt x="26" y="146"/>
                    </a:lnTo>
                    <a:lnTo>
                      <a:pt x="24" y="138"/>
                    </a:lnTo>
                    <a:lnTo>
                      <a:pt x="22" y="131"/>
                    </a:lnTo>
                    <a:lnTo>
                      <a:pt x="20" y="125"/>
                    </a:lnTo>
                    <a:lnTo>
                      <a:pt x="19" y="117"/>
                    </a:lnTo>
                    <a:lnTo>
                      <a:pt x="17" y="112"/>
                    </a:lnTo>
                    <a:lnTo>
                      <a:pt x="13" y="97"/>
                    </a:lnTo>
                    <a:lnTo>
                      <a:pt x="11" y="87"/>
                    </a:lnTo>
                    <a:lnTo>
                      <a:pt x="7" y="74"/>
                    </a:lnTo>
                    <a:lnTo>
                      <a:pt x="7" y="62"/>
                    </a:lnTo>
                    <a:lnTo>
                      <a:pt x="3" y="53"/>
                    </a:lnTo>
                    <a:lnTo>
                      <a:pt x="3" y="43"/>
                    </a:lnTo>
                    <a:lnTo>
                      <a:pt x="1" y="36"/>
                    </a:lnTo>
                    <a:lnTo>
                      <a:pt x="0" y="30"/>
                    </a:lnTo>
                    <a:lnTo>
                      <a:pt x="0" y="24"/>
                    </a:lnTo>
                    <a:lnTo>
                      <a:pt x="0" y="21"/>
                    </a:lnTo>
                    <a:lnTo>
                      <a:pt x="0" y="11"/>
                    </a:lnTo>
                    <a:lnTo>
                      <a:pt x="1" y="7"/>
                    </a:lnTo>
                    <a:lnTo>
                      <a:pt x="3" y="3"/>
                    </a:lnTo>
                    <a:lnTo>
                      <a:pt x="7" y="2"/>
                    </a:lnTo>
                    <a:lnTo>
                      <a:pt x="11" y="2"/>
                    </a:lnTo>
                    <a:lnTo>
                      <a:pt x="19" y="2"/>
                    </a:lnTo>
                    <a:lnTo>
                      <a:pt x="19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2416680" y="2306160"/>
                <a:ext cx="219240" cy="190080"/>
              </a:xfrm>
              <a:custGeom>
                <a:avLst/>
                <a:gdLst/>
                <a:ahLst/>
                <a:rect l="l" t="t" r="r" b="b"/>
                <a:pathLst>
                  <a:path w="331" h="287">
                    <a:moveTo>
                      <a:pt x="2" y="2"/>
                    </a:moveTo>
                    <a:lnTo>
                      <a:pt x="0" y="4"/>
                    </a:lnTo>
                    <a:lnTo>
                      <a:pt x="0" y="8"/>
                    </a:lnTo>
                    <a:lnTo>
                      <a:pt x="0" y="14"/>
                    </a:lnTo>
                    <a:lnTo>
                      <a:pt x="0" y="21"/>
                    </a:lnTo>
                    <a:lnTo>
                      <a:pt x="2" y="29"/>
                    </a:lnTo>
                    <a:lnTo>
                      <a:pt x="4" y="38"/>
                    </a:lnTo>
                    <a:lnTo>
                      <a:pt x="7" y="50"/>
                    </a:lnTo>
                    <a:lnTo>
                      <a:pt x="11" y="61"/>
                    </a:lnTo>
                    <a:lnTo>
                      <a:pt x="15" y="72"/>
                    </a:lnTo>
                    <a:lnTo>
                      <a:pt x="19" y="86"/>
                    </a:lnTo>
                    <a:lnTo>
                      <a:pt x="21" y="93"/>
                    </a:lnTo>
                    <a:lnTo>
                      <a:pt x="25" y="101"/>
                    </a:lnTo>
                    <a:lnTo>
                      <a:pt x="25" y="107"/>
                    </a:lnTo>
                    <a:lnTo>
                      <a:pt x="28" y="114"/>
                    </a:lnTo>
                    <a:lnTo>
                      <a:pt x="30" y="122"/>
                    </a:lnTo>
                    <a:lnTo>
                      <a:pt x="34" y="130"/>
                    </a:lnTo>
                    <a:lnTo>
                      <a:pt x="36" y="137"/>
                    </a:lnTo>
                    <a:lnTo>
                      <a:pt x="40" y="145"/>
                    </a:lnTo>
                    <a:lnTo>
                      <a:pt x="42" y="152"/>
                    </a:lnTo>
                    <a:lnTo>
                      <a:pt x="46" y="160"/>
                    </a:lnTo>
                    <a:lnTo>
                      <a:pt x="47" y="168"/>
                    </a:lnTo>
                    <a:lnTo>
                      <a:pt x="51" y="175"/>
                    </a:lnTo>
                    <a:lnTo>
                      <a:pt x="51" y="185"/>
                    </a:lnTo>
                    <a:lnTo>
                      <a:pt x="55" y="194"/>
                    </a:lnTo>
                    <a:lnTo>
                      <a:pt x="57" y="200"/>
                    </a:lnTo>
                    <a:lnTo>
                      <a:pt x="61" y="209"/>
                    </a:lnTo>
                    <a:lnTo>
                      <a:pt x="63" y="215"/>
                    </a:lnTo>
                    <a:lnTo>
                      <a:pt x="65" y="223"/>
                    </a:lnTo>
                    <a:lnTo>
                      <a:pt x="68" y="230"/>
                    </a:lnTo>
                    <a:lnTo>
                      <a:pt x="72" y="238"/>
                    </a:lnTo>
                    <a:lnTo>
                      <a:pt x="76" y="247"/>
                    </a:lnTo>
                    <a:lnTo>
                      <a:pt x="82" y="261"/>
                    </a:lnTo>
                    <a:lnTo>
                      <a:pt x="89" y="272"/>
                    </a:lnTo>
                    <a:lnTo>
                      <a:pt x="97" y="285"/>
                    </a:lnTo>
                    <a:lnTo>
                      <a:pt x="99" y="285"/>
                    </a:lnTo>
                    <a:lnTo>
                      <a:pt x="103" y="287"/>
                    </a:lnTo>
                    <a:lnTo>
                      <a:pt x="108" y="285"/>
                    </a:lnTo>
                    <a:lnTo>
                      <a:pt x="116" y="283"/>
                    </a:lnTo>
                    <a:lnTo>
                      <a:pt x="123" y="280"/>
                    </a:lnTo>
                    <a:lnTo>
                      <a:pt x="131" y="274"/>
                    </a:lnTo>
                    <a:lnTo>
                      <a:pt x="141" y="268"/>
                    </a:lnTo>
                    <a:lnTo>
                      <a:pt x="150" y="261"/>
                    </a:lnTo>
                    <a:lnTo>
                      <a:pt x="161" y="253"/>
                    </a:lnTo>
                    <a:lnTo>
                      <a:pt x="171" y="244"/>
                    </a:lnTo>
                    <a:lnTo>
                      <a:pt x="184" y="234"/>
                    </a:lnTo>
                    <a:lnTo>
                      <a:pt x="196" y="225"/>
                    </a:lnTo>
                    <a:lnTo>
                      <a:pt x="207" y="213"/>
                    </a:lnTo>
                    <a:lnTo>
                      <a:pt x="220" y="204"/>
                    </a:lnTo>
                    <a:lnTo>
                      <a:pt x="232" y="192"/>
                    </a:lnTo>
                    <a:lnTo>
                      <a:pt x="245" y="183"/>
                    </a:lnTo>
                    <a:lnTo>
                      <a:pt x="253" y="173"/>
                    </a:lnTo>
                    <a:lnTo>
                      <a:pt x="262" y="162"/>
                    </a:lnTo>
                    <a:lnTo>
                      <a:pt x="270" y="152"/>
                    </a:lnTo>
                    <a:lnTo>
                      <a:pt x="277" y="145"/>
                    </a:lnTo>
                    <a:lnTo>
                      <a:pt x="283" y="135"/>
                    </a:lnTo>
                    <a:lnTo>
                      <a:pt x="291" y="128"/>
                    </a:lnTo>
                    <a:lnTo>
                      <a:pt x="298" y="118"/>
                    </a:lnTo>
                    <a:lnTo>
                      <a:pt x="304" y="110"/>
                    </a:lnTo>
                    <a:lnTo>
                      <a:pt x="308" y="103"/>
                    </a:lnTo>
                    <a:lnTo>
                      <a:pt x="314" y="95"/>
                    </a:lnTo>
                    <a:lnTo>
                      <a:pt x="317" y="88"/>
                    </a:lnTo>
                    <a:lnTo>
                      <a:pt x="321" y="84"/>
                    </a:lnTo>
                    <a:lnTo>
                      <a:pt x="327" y="72"/>
                    </a:lnTo>
                    <a:lnTo>
                      <a:pt x="331" y="67"/>
                    </a:lnTo>
                    <a:lnTo>
                      <a:pt x="329" y="59"/>
                    </a:lnTo>
                    <a:lnTo>
                      <a:pt x="319" y="55"/>
                    </a:lnTo>
                    <a:lnTo>
                      <a:pt x="312" y="52"/>
                    </a:lnTo>
                    <a:lnTo>
                      <a:pt x="304" y="50"/>
                    </a:lnTo>
                    <a:lnTo>
                      <a:pt x="295" y="46"/>
                    </a:lnTo>
                    <a:lnTo>
                      <a:pt x="285" y="46"/>
                    </a:lnTo>
                    <a:lnTo>
                      <a:pt x="274" y="42"/>
                    </a:lnTo>
                    <a:lnTo>
                      <a:pt x="262" y="40"/>
                    </a:lnTo>
                    <a:lnTo>
                      <a:pt x="251" y="38"/>
                    </a:lnTo>
                    <a:lnTo>
                      <a:pt x="239" y="36"/>
                    </a:lnTo>
                    <a:lnTo>
                      <a:pt x="228" y="34"/>
                    </a:lnTo>
                    <a:lnTo>
                      <a:pt x="217" y="33"/>
                    </a:lnTo>
                    <a:lnTo>
                      <a:pt x="205" y="31"/>
                    </a:lnTo>
                    <a:lnTo>
                      <a:pt x="198" y="31"/>
                    </a:lnTo>
                    <a:lnTo>
                      <a:pt x="192" y="29"/>
                    </a:lnTo>
                    <a:lnTo>
                      <a:pt x="184" y="29"/>
                    </a:lnTo>
                    <a:lnTo>
                      <a:pt x="179" y="25"/>
                    </a:lnTo>
                    <a:lnTo>
                      <a:pt x="173" y="25"/>
                    </a:lnTo>
                    <a:lnTo>
                      <a:pt x="165" y="23"/>
                    </a:lnTo>
                    <a:lnTo>
                      <a:pt x="158" y="21"/>
                    </a:lnTo>
                    <a:lnTo>
                      <a:pt x="150" y="21"/>
                    </a:lnTo>
                    <a:lnTo>
                      <a:pt x="144" y="19"/>
                    </a:lnTo>
                    <a:lnTo>
                      <a:pt x="137" y="17"/>
                    </a:lnTo>
                    <a:lnTo>
                      <a:pt x="129" y="15"/>
                    </a:lnTo>
                    <a:lnTo>
                      <a:pt x="120" y="14"/>
                    </a:lnTo>
                    <a:lnTo>
                      <a:pt x="112" y="14"/>
                    </a:lnTo>
                    <a:lnTo>
                      <a:pt x="104" y="12"/>
                    </a:lnTo>
                    <a:lnTo>
                      <a:pt x="97" y="12"/>
                    </a:lnTo>
                    <a:lnTo>
                      <a:pt x="89" y="10"/>
                    </a:lnTo>
                    <a:lnTo>
                      <a:pt x="82" y="10"/>
                    </a:lnTo>
                    <a:lnTo>
                      <a:pt x="74" y="8"/>
                    </a:lnTo>
                    <a:lnTo>
                      <a:pt x="66" y="6"/>
                    </a:lnTo>
                    <a:lnTo>
                      <a:pt x="59" y="4"/>
                    </a:lnTo>
                    <a:lnTo>
                      <a:pt x="51" y="4"/>
                    </a:lnTo>
                    <a:lnTo>
                      <a:pt x="38" y="0"/>
                    </a:lnTo>
                    <a:lnTo>
                      <a:pt x="28" y="0"/>
                    </a:lnTo>
                    <a:lnTo>
                      <a:pt x="17" y="0"/>
                    </a:lnTo>
                    <a:lnTo>
                      <a:pt x="9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ffff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>
                <a:off x="2621160" y="2288520"/>
                <a:ext cx="293400" cy="310680"/>
              </a:xfrm>
              <a:custGeom>
                <a:avLst/>
                <a:gdLst/>
                <a:ahLst/>
                <a:rect l="l" t="t" r="r" b="b"/>
                <a:pathLst>
                  <a:path w="445" h="469">
                    <a:moveTo>
                      <a:pt x="363" y="24"/>
                    </a:moveTo>
                    <a:lnTo>
                      <a:pt x="363" y="26"/>
                    </a:lnTo>
                    <a:lnTo>
                      <a:pt x="363" y="30"/>
                    </a:lnTo>
                    <a:lnTo>
                      <a:pt x="365" y="38"/>
                    </a:lnTo>
                    <a:lnTo>
                      <a:pt x="367" y="45"/>
                    </a:lnTo>
                    <a:lnTo>
                      <a:pt x="369" y="55"/>
                    </a:lnTo>
                    <a:lnTo>
                      <a:pt x="373" y="64"/>
                    </a:lnTo>
                    <a:lnTo>
                      <a:pt x="376" y="76"/>
                    </a:lnTo>
                    <a:lnTo>
                      <a:pt x="380" y="89"/>
                    </a:lnTo>
                    <a:lnTo>
                      <a:pt x="380" y="95"/>
                    </a:lnTo>
                    <a:lnTo>
                      <a:pt x="382" y="100"/>
                    </a:lnTo>
                    <a:lnTo>
                      <a:pt x="382" y="108"/>
                    </a:lnTo>
                    <a:lnTo>
                      <a:pt x="386" y="116"/>
                    </a:lnTo>
                    <a:lnTo>
                      <a:pt x="386" y="123"/>
                    </a:lnTo>
                    <a:lnTo>
                      <a:pt x="390" y="129"/>
                    </a:lnTo>
                    <a:lnTo>
                      <a:pt x="390" y="136"/>
                    </a:lnTo>
                    <a:lnTo>
                      <a:pt x="393" y="144"/>
                    </a:lnTo>
                    <a:lnTo>
                      <a:pt x="393" y="152"/>
                    </a:lnTo>
                    <a:lnTo>
                      <a:pt x="397" y="159"/>
                    </a:lnTo>
                    <a:lnTo>
                      <a:pt x="397" y="167"/>
                    </a:lnTo>
                    <a:lnTo>
                      <a:pt x="401" y="176"/>
                    </a:lnTo>
                    <a:lnTo>
                      <a:pt x="403" y="184"/>
                    </a:lnTo>
                    <a:lnTo>
                      <a:pt x="405" y="192"/>
                    </a:lnTo>
                    <a:lnTo>
                      <a:pt x="407" y="201"/>
                    </a:lnTo>
                    <a:lnTo>
                      <a:pt x="411" y="209"/>
                    </a:lnTo>
                    <a:lnTo>
                      <a:pt x="411" y="216"/>
                    </a:lnTo>
                    <a:lnTo>
                      <a:pt x="412" y="224"/>
                    </a:lnTo>
                    <a:lnTo>
                      <a:pt x="414" y="232"/>
                    </a:lnTo>
                    <a:lnTo>
                      <a:pt x="416" y="239"/>
                    </a:lnTo>
                    <a:lnTo>
                      <a:pt x="416" y="247"/>
                    </a:lnTo>
                    <a:lnTo>
                      <a:pt x="420" y="256"/>
                    </a:lnTo>
                    <a:lnTo>
                      <a:pt x="420" y="264"/>
                    </a:lnTo>
                    <a:lnTo>
                      <a:pt x="424" y="271"/>
                    </a:lnTo>
                    <a:lnTo>
                      <a:pt x="424" y="279"/>
                    </a:lnTo>
                    <a:lnTo>
                      <a:pt x="426" y="287"/>
                    </a:lnTo>
                    <a:lnTo>
                      <a:pt x="428" y="294"/>
                    </a:lnTo>
                    <a:lnTo>
                      <a:pt x="430" y="302"/>
                    </a:lnTo>
                    <a:lnTo>
                      <a:pt x="431" y="308"/>
                    </a:lnTo>
                    <a:lnTo>
                      <a:pt x="431" y="315"/>
                    </a:lnTo>
                    <a:lnTo>
                      <a:pt x="433" y="323"/>
                    </a:lnTo>
                    <a:lnTo>
                      <a:pt x="435" y="328"/>
                    </a:lnTo>
                    <a:lnTo>
                      <a:pt x="437" y="342"/>
                    </a:lnTo>
                    <a:lnTo>
                      <a:pt x="439" y="353"/>
                    </a:lnTo>
                    <a:lnTo>
                      <a:pt x="441" y="363"/>
                    </a:lnTo>
                    <a:lnTo>
                      <a:pt x="443" y="374"/>
                    </a:lnTo>
                    <a:lnTo>
                      <a:pt x="443" y="382"/>
                    </a:lnTo>
                    <a:lnTo>
                      <a:pt x="445" y="391"/>
                    </a:lnTo>
                    <a:lnTo>
                      <a:pt x="445" y="397"/>
                    </a:lnTo>
                    <a:lnTo>
                      <a:pt x="445" y="401"/>
                    </a:lnTo>
                    <a:lnTo>
                      <a:pt x="441" y="408"/>
                    </a:lnTo>
                    <a:lnTo>
                      <a:pt x="433" y="414"/>
                    </a:lnTo>
                    <a:lnTo>
                      <a:pt x="428" y="420"/>
                    </a:lnTo>
                    <a:lnTo>
                      <a:pt x="416" y="425"/>
                    </a:lnTo>
                    <a:lnTo>
                      <a:pt x="411" y="429"/>
                    </a:lnTo>
                    <a:lnTo>
                      <a:pt x="405" y="431"/>
                    </a:lnTo>
                    <a:lnTo>
                      <a:pt x="397" y="433"/>
                    </a:lnTo>
                    <a:lnTo>
                      <a:pt x="392" y="437"/>
                    </a:lnTo>
                    <a:lnTo>
                      <a:pt x="382" y="439"/>
                    </a:lnTo>
                    <a:lnTo>
                      <a:pt x="376" y="442"/>
                    </a:lnTo>
                    <a:lnTo>
                      <a:pt x="369" y="442"/>
                    </a:lnTo>
                    <a:lnTo>
                      <a:pt x="361" y="446"/>
                    </a:lnTo>
                    <a:lnTo>
                      <a:pt x="352" y="448"/>
                    </a:lnTo>
                    <a:lnTo>
                      <a:pt x="342" y="450"/>
                    </a:lnTo>
                    <a:lnTo>
                      <a:pt x="335" y="452"/>
                    </a:lnTo>
                    <a:lnTo>
                      <a:pt x="325" y="454"/>
                    </a:lnTo>
                    <a:lnTo>
                      <a:pt x="316" y="456"/>
                    </a:lnTo>
                    <a:lnTo>
                      <a:pt x="308" y="458"/>
                    </a:lnTo>
                    <a:lnTo>
                      <a:pt x="297" y="460"/>
                    </a:lnTo>
                    <a:lnTo>
                      <a:pt x="289" y="461"/>
                    </a:lnTo>
                    <a:lnTo>
                      <a:pt x="279" y="461"/>
                    </a:lnTo>
                    <a:lnTo>
                      <a:pt x="270" y="463"/>
                    </a:lnTo>
                    <a:lnTo>
                      <a:pt x="260" y="463"/>
                    </a:lnTo>
                    <a:lnTo>
                      <a:pt x="251" y="467"/>
                    </a:lnTo>
                    <a:lnTo>
                      <a:pt x="241" y="467"/>
                    </a:lnTo>
                    <a:lnTo>
                      <a:pt x="232" y="467"/>
                    </a:lnTo>
                    <a:lnTo>
                      <a:pt x="222" y="469"/>
                    </a:lnTo>
                    <a:lnTo>
                      <a:pt x="215" y="469"/>
                    </a:lnTo>
                    <a:lnTo>
                      <a:pt x="205" y="469"/>
                    </a:lnTo>
                    <a:lnTo>
                      <a:pt x="198" y="469"/>
                    </a:lnTo>
                    <a:lnTo>
                      <a:pt x="188" y="469"/>
                    </a:lnTo>
                    <a:lnTo>
                      <a:pt x="179" y="469"/>
                    </a:lnTo>
                    <a:lnTo>
                      <a:pt x="169" y="469"/>
                    </a:lnTo>
                    <a:lnTo>
                      <a:pt x="162" y="469"/>
                    </a:lnTo>
                    <a:lnTo>
                      <a:pt x="150" y="469"/>
                    </a:lnTo>
                    <a:lnTo>
                      <a:pt x="143" y="469"/>
                    </a:lnTo>
                    <a:lnTo>
                      <a:pt x="133" y="469"/>
                    </a:lnTo>
                    <a:lnTo>
                      <a:pt x="125" y="467"/>
                    </a:lnTo>
                    <a:lnTo>
                      <a:pt x="116" y="467"/>
                    </a:lnTo>
                    <a:lnTo>
                      <a:pt x="108" y="467"/>
                    </a:lnTo>
                    <a:lnTo>
                      <a:pt x="101" y="465"/>
                    </a:lnTo>
                    <a:lnTo>
                      <a:pt x="93" y="463"/>
                    </a:lnTo>
                    <a:lnTo>
                      <a:pt x="86" y="463"/>
                    </a:lnTo>
                    <a:lnTo>
                      <a:pt x="78" y="463"/>
                    </a:lnTo>
                    <a:lnTo>
                      <a:pt x="72" y="460"/>
                    </a:lnTo>
                    <a:lnTo>
                      <a:pt x="65" y="460"/>
                    </a:lnTo>
                    <a:lnTo>
                      <a:pt x="57" y="456"/>
                    </a:lnTo>
                    <a:lnTo>
                      <a:pt x="51" y="456"/>
                    </a:lnTo>
                    <a:lnTo>
                      <a:pt x="38" y="452"/>
                    </a:lnTo>
                    <a:lnTo>
                      <a:pt x="29" y="448"/>
                    </a:lnTo>
                    <a:lnTo>
                      <a:pt x="19" y="442"/>
                    </a:lnTo>
                    <a:lnTo>
                      <a:pt x="11" y="439"/>
                    </a:lnTo>
                    <a:lnTo>
                      <a:pt x="6" y="433"/>
                    </a:lnTo>
                    <a:lnTo>
                      <a:pt x="4" y="429"/>
                    </a:lnTo>
                    <a:lnTo>
                      <a:pt x="0" y="422"/>
                    </a:lnTo>
                    <a:lnTo>
                      <a:pt x="0" y="414"/>
                    </a:lnTo>
                    <a:lnTo>
                      <a:pt x="4" y="403"/>
                    </a:lnTo>
                    <a:lnTo>
                      <a:pt x="10" y="393"/>
                    </a:lnTo>
                    <a:lnTo>
                      <a:pt x="11" y="385"/>
                    </a:lnTo>
                    <a:lnTo>
                      <a:pt x="15" y="380"/>
                    </a:lnTo>
                    <a:lnTo>
                      <a:pt x="19" y="372"/>
                    </a:lnTo>
                    <a:lnTo>
                      <a:pt x="25" y="366"/>
                    </a:lnTo>
                    <a:lnTo>
                      <a:pt x="29" y="357"/>
                    </a:lnTo>
                    <a:lnTo>
                      <a:pt x="34" y="349"/>
                    </a:lnTo>
                    <a:lnTo>
                      <a:pt x="40" y="344"/>
                    </a:lnTo>
                    <a:lnTo>
                      <a:pt x="48" y="336"/>
                    </a:lnTo>
                    <a:lnTo>
                      <a:pt x="53" y="327"/>
                    </a:lnTo>
                    <a:lnTo>
                      <a:pt x="59" y="317"/>
                    </a:lnTo>
                    <a:lnTo>
                      <a:pt x="65" y="308"/>
                    </a:lnTo>
                    <a:lnTo>
                      <a:pt x="72" y="300"/>
                    </a:lnTo>
                    <a:lnTo>
                      <a:pt x="80" y="290"/>
                    </a:lnTo>
                    <a:lnTo>
                      <a:pt x="87" y="281"/>
                    </a:lnTo>
                    <a:lnTo>
                      <a:pt x="95" y="273"/>
                    </a:lnTo>
                    <a:lnTo>
                      <a:pt x="103" y="264"/>
                    </a:lnTo>
                    <a:lnTo>
                      <a:pt x="108" y="254"/>
                    </a:lnTo>
                    <a:lnTo>
                      <a:pt x="116" y="247"/>
                    </a:lnTo>
                    <a:lnTo>
                      <a:pt x="122" y="235"/>
                    </a:lnTo>
                    <a:lnTo>
                      <a:pt x="129" y="230"/>
                    </a:lnTo>
                    <a:lnTo>
                      <a:pt x="137" y="220"/>
                    </a:lnTo>
                    <a:lnTo>
                      <a:pt x="144" y="211"/>
                    </a:lnTo>
                    <a:lnTo>
                      <a:pt x="152" y="201"/>
                    </a:lnTo>
                    <a:lnTo>
                      <a:pt x="160" y="195"/>
                    </a:lnTo>
                    <a:lnTo>
                      <a:pt x="165" y="184"/>
                    </a:lnTo>
                    <a:lnTo>
                      <a:pt x="171" y="176"/>
                    </a:lnTo>
                    <a:lnTo>
                      <a:pt x="177" y="167"/>
                    </a:lnTo>
                    <a:lnTo>
                      <a:pt x="184" y="159"/>
                    </a:lnTo>
                    <a:lnTo>
                      <a:pt x="192" y="150"/>
                    </a:lnTo>
                    <a:lnTo>
                      <a:pt x="198" y="142"/>
                    </a:lnTo>
                    <a:lnTo>
                      <a:pt x="203" y="133"/>
                    </a:lnTo>
                    <a:lnTo>
                      <a:pt x="211" y="127"/>
                    </a:lnTo>
                    <a:lnTo>
                      <a:pt x="217" y="117"/>
                    </a:lnTo>
                    <a:lnTo>
                      <a:pt x="222" y="110"/>
                    </a:lnTo>
                    <a:lnTo>
                      <a:pt x="228" y="100"/>
                    </a:lnTo>
                    <a:lnTo>
                      <a:pt x="236" y="93"/>
                    </a:lnTo>
                    <a:lnTo>
                      <a:pt x="241" y="85"/>
                    </a:lnTo>
                    <a:lnTo>
                      <a:pt x="247" y="78"/>
                    </a:lnTo>
                    <a:lnTo>
                      <a:pt x="253" y="72"/>
                    </a:lnTo>
                    <a:lnTo>
                      <a:pt x="260" y="64"/>
                    </a:lnTo>
                    <a:lnTo>
                      <a:pt x="264" y="57"/>
                    </a:lnTo>
                    <a:lnTo>
                      <a:pt x="270" y="51"/>
                    </a:lnTo>
                    <a:lnTo>
                      <a:pt x="274" y="43"/>
                    </a:lnTo>
                    <a:lnTo>
                      <a:pt x="279" y="40"/>
                    </a:lnTo>
                    <a:lnTo>
                      <a:pt x="287" y="28"/>
                    </a:lnTo>
                    <a:lnTo>
                      <a:pt x="297" y="21"/>
                    </a:lnTo>
                    <a:lnTo>
                      <a:pt x="304" y="11"/>
                    </a:lnTo>
                    <a:lnTo>
                      <a:pt x="312" y="5"/>
                    </a:lnTo>
                    <a:lnTo>
                      <a:pt x="316" y="3"/>
                    </a:lnTo>
                    <a:lnTo>
                      <a:pt x="321" y="2"/>
                    </a:lnTo>
                    <a:lnTo>
                      <a:pt x="333" y="0"/>
                    </a:lnTo>
                    <a:lnTo>
                      <a:pt x="346" y="3"/>
                    </a:lnTo>
                    <a:lnTo>
                      <a:pt x="350" y="5"/>
                    </a:lnTo>
                    <a:lnTo>
                      <a:pt x="355" y="11"/>
                    </a:lnTo>
                    <a:lnTo>
                      <a:pt x="359" y="17"/>
                    </a:lnTo>
                    <a:lnTo>
                      <a:pt x="363" y="24"/>
                    </a:lnTo>
                    <a:lnTo>
                      <a:pt x="363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>
                <a:off x="2657160" y="2324520"/>
                <a:ext cx="209880" cy="241560"/>
              </a:xfrm>
              <a:custGeom>
                <a:avLst/>
                <a:gdLst/>
                <a:ahLst/>
                <a:rect l="l" t="t" r="r" b="b"/>
                <a:pathLst>
                  <a:path w="320" h="365">
                    <a:moveTo>
                      <a:pt x="255" y="0"/>
                    </a:moveTo>
                    <a:lnTo>
                      <a:pt x="249" y="2"/>
                    </a:lnTo>
                    <a:lnTo>
                      <a:pt x="240" y="13"/>
                    </a:lnTo>
                    <a:lnTo>
                      <a:pt x="232" y="19"/>
                    </a:lnTo>
                    <a:lnTo>
                      <a:pt x="226" y="26"/>
                    </a:lnTo>
                    <a:lnTo>
                      <a:pt x="219" y="38"/>
                    </a:lnTo>
                    <a:lnTo>
                      <a:pt x="211" y="49"/>
                    </a:lnTo>
                    <a:lnTo>
                      <a:pt x="206" y="55"/>
                    </a:lnTo>
                    <a:lnTo>
                      <a:pt x="202" y="61"/>
                    </a:lnTo>
                    <a:lnTo>
                      <a:pt x="194" y="66"/>
                    </a:lnTo>
                    <a:lnTo>
                      <a:pt x="192" y="74"/>
                    </a:lnTo>
                    <a:lnTo>
                      <a:pt x="185" y="80"/>
                    </a:lnTo>
                    <a:lnTo>
                      <a:pt x="181" y="87"/>
                    </a:lnTo>
                    <a:lnTo>
                      <a:pt x="175" y="95"/>
                    </a:lnTo>
                    <a:lnTo>
                      <a:pt x="171" y="102"/>
                    </a:lnTo>
                    <a:lnTo>
                      <a:pt x="164" y="108"/>
                    </a:lnTo>
                    <a:lnTo>
                      <a:pt x="158" y="116"/>
                    </a:lnTo>
                    <a:lnTo>
                      <a:pt x="152" y="123"/>
                    </a:lnTo>
                    <a:lnTo>
                      <a:pt x="147" y="131"/>
                    </a:lnTo>
                    <a:lnTo>
                      <a:pt x="141" y="139"/>
                    </a:lnTo>
                    <a:lnTo>
                      <a:pt x="137" y="146"/>
                    </a:lnTo>
                    <a:lnTo>
                      <a:pt x="129" y="156"/>
                    </a:lnTo>
                    <a:lnTo>
                      <a:pt x="126" y="165"/>
                    </a:lnTo>
                    <a:lnTo>
                      <a:pt x="118" y="171"/>
                    </a:lnTo>
                    <a:lnTo>
                      <a:pt x="112" y="178"/>
                    </a:lnTo>
                    <a:lnTo>
                      <a:pt x="107" y="186"/>
                    </a:lnTo>
                    <a:lnTo>
                      <a:pt x="103" y="196"/>
                    </a:lnTo>
                    <a:lnTo>
                      <a:pt x="95" y="201"/>
                    </a:lnTo>
                    <a:lnTo>
                      <a:pt x="91" y="209"/>
                    </a:lnTo>
                    <a:lnTo>
                      <a:pt x="86" y="216"/>
                    </a:lnTo>
                    <a:lnTo>
                      <a:pt x="80" y="226"/>
                    </a:lnTo>
                    <a:lnTo>
                      <a:pt x="74" y="232"/>
                    </a:lnTo>
                    <a:lnTo>
                      <a:pt x="69" y="239"/>
                    </a:lnTo>
                    <a:lnTo>
                      <a:pt x="63" y="247"/>
                    </a:lnTo>
                    <a:lnTo>
                      <a:pt x="57" y="253"/>
                    </a:lnTo>
                    <a:lnTo>
                      <a:pt x="53" y="260"/>
                    </a:lnTo>
                    <a:lnTo>
                      <a:pt x="48" y="268"/>
                    </a:lnTo>
                    <a:lnTo>
                      <a:pt x="44" y="273"/>
                    </a:lnTo>
                    <a:lnTo>
                      <a:pt x="40" y="281"/>
                    </a:lnTo>
                    <a:lnTo>
                      <a:pt x="31" y="291"/>
                    </a:lnTo>
                    <a:lnTo>
                      <a:pt x="23" y="302"/>
                    </a:lnTo>
                    <a:lnTo>
                      <a:pt x="15" y="311"/>
                    </a:lnTo>
                    <a:lnTo>
                      <a:pt x="10" y="321"/>
                    </a:lnTo>
                    <a:lnTo>
                      <a:pt x="6" y="327"/>
                    </a:lnTo>
                    <a:lnTo>
                      <a:pt x="2" y="332"/>
                    </a:lnTo>
                    <a:lnTo>
                      <a:pt x="0" y="336"/>
                    </a:lnTo>
                    <a:lnTo>
                      <a:pt x="0" y="340"/>
                    </a:lnTo>
                    <a:lnTo>
                      <a:pt x="0" y="346"/>
                    </a:lnTo>
                    <a:lnTo>
                      <a:pt x="6" y="351"/>
                    </a:lnTo>
                    <a:lnTo>
                      <a:pt x="12" y="353"/>
                    </a:lnTo>
                    <a:lnTo>
                      <a:pt x="19" y="355"/>
                    </a:lnTo>
                    <a:lnTo>
                      <a:pt x="27" y="355"/>
                    </a:lnTo>
                    <a:lnTo>
                      <a:pt x="36" y="359"/>
                    </a:lnTo>
                    <a:lnTo>
                      <a:pt x="46" y="359"/>
                    </a:lnTo>
                    <a:lnTo>
                      <a:pt x="57" y="361"/>
                    </a:lnTo>
                    <a:lnTo>
                      <a:pt x="69" y="363"/>
                    </a:lnTo>
                    <a:lnTo>
                      <a:pt x="82" y="363"/>
                    </a:lnTo>
                    <a:lnTo>
                      <a:pt x="91" y="363"/>
                    </a:lnTo>
                    <a:lnTo>
                      <a:pt x="105" y="363"/>
                    </a:lnTo>
                    <a:lnTo>
                      <a:pt x="112" y="363"/>
                    </a:lnTo>
                    <a:lnTo>
                      <a:pt x="120" y="363"/>
                    </a:lnTo>
                    <a:lnTo>
                      <a:pt x="126" y="363"/>
                    </a:lnTo>
                    <a:lnTo>
                      <a:pt x="133" y="365"/>
                    </a:lnTo>
                    <a:lnTo>
                      <a:pt x="143" y="363"/>
                    </a:lnTo>
                    <a:lnTo>
                      <a:pt x="156" y="363"/>
                    </a:lnTo>
                    <a:lnTo>
                      <a:pt x="164" y="363"/>
                    </a:lnTo>
                    <a:lnTo>
                      <a:pt x="171" y="363"/>
                    </a:lnTo>
                    <a:lnTo>
                      <a:pt x="177" y="361"/>
                    </a:lnTo>
                    <a:lnTo>
                      <a:pt x="185" y="361"/>
                    </a:lnTo>
                    <a:lnTo>
                      <a:pt x="192" y="359"/>
                    </a:lnTo>
                    <a:lnTo>
                      <a:pt x="198" y="359"/>
                    </a:lnTo>
                    <a:lnTo>
                      <a:pt x="206" y="357"/>
                    </a:lnTo>
                    <a:lnTo>
                      <a:pt x="211" y="357"/>
                    </a:lnTo>
                    <a:lnTo>
                      <a:pt x="219" y="355"/>
                    </a:lnTo>
                    <a:lnTo>
                      <a:pt x="225" y="355"/>
                    </a:lnTo>
                    <a:lnTo>
                      <a:pt x="232" y="353"/>
                    </a:lnTo>
                    <a:lnTo>
                      <a:pt x="240" y="353"/>
                    </a:lnTo>
                    <a:lnTo>
                      <a:pt x="251" y="349"/>
                    </a:lnTo>
                    <a:lnTo>
                      <a:pt x="263" y="348"/>
                    </a:lnTo>
                    <a:lnTo>
                      <a:pt x="274" y="346"/>
                    </a:lnTo>
                    <a:lnTo>
                      <a:pt x="283" y="342"/>
                    </a:lnTo>
                    <a:lnTo>
                      <a:pt x="293" y="340"/>
                    </a:lnTo>
                    <a:lnTo>
                      <a:pt x="301" y="338"/>
                    </a:lnTo>
                    <a:lnTo>
                      <a:pt x="308" y="336"/>
                    </a:lnTo>
                    <a:lnTo>
                      <a:pt x="314" y="332"/>
                    </a:lnTo>
                    <a:lnTo>
                      <a:pt x="318" y="327"/>
                    </a:lnTo>
                    <a:lnTo>
                      <a:pt x="320" y="317"/>
                    </a:lnTo>
                    <a:lnTo>
                      <a:pt x="318" y="308"/>
                    </a:lnTo>
                    <a:lnTo>
                      <a:pt x="318" y="302"/>
                    </a:lnTo>
                    <a:lnTo>
                      <a:pt x="318" y="291"/>
                    </a:lnTo>
                    <a:lnTo>
                      <a:pt x="316" y="283"/>
                    </a:lnTo>
                    <a:lnTo>
                      <a:pt x="314" y="272"/>
                    </a:lnTo>
                    <a:lnTo>
                      <a:pt x="310" y="260"/>
                    </a:lnTo>
                    <a:lnTo>
                      <a:pt x="310" y="253"/>
                    </a:lnTo>
                    <a:lnTo>
                      <a:pt x="308" y="247"/>
                    </a:lnTo>
                    <a:lnTo>
                      <a:pt x="308" y="239"/>
                    </a:lnTo>
                    <a:lnTo>
                      <a:pt x="308" y="232"/>
                    </a:lnTo>
                    <a:lnTo>
                      <a:pt x="304" y="226"/>
                    </a:lnTo>
                    <a:lnTo>
                      <a:pt x="304" y="218"/>
                    </a:lnTo>
                    <a:lnTo>
                      <a:pt x="301" y="211"/>
                    </a:lnTo>
                    <a:lnTo>
                      <a:pt x="301" y="203"/>
                    </a:lnTo>
                    <a:lnTo>
                      <a:pt x="299" y="196"/>
                    </a:lnTo>
                    <a:lnTo>
                      <a:pt x="297" y="186"/>
                    </a:lnTo>
                    <a:lnTo>
                      <a:pt x="295" y="178"/>
                    </a:lnTo>
                    <a:lnTo>
                      <a:pt x="295" y="171"/>
                    </a:lnTo>
                    <a:lnTo>
                      <a:pt x="293" y="161"/>
                    </a:lnTo>
                    <a:lnTo>
                      <a:pt x="291" y="152"/>
                    </a:lnTo>
                    <a:lnTo>
                      <a:pt x="289" y="142"/>
                    </a:lnTo>
                    <a:lnTo>
                      <a:pt x="287" y="135"/>
                    </a:lnTo>
                    <a:lnTo>
                      <a:pt x="285" y="125"/>
                    </a:lnTo>
                    <a:lnTo>
                      <a:pt x="283" y="118"/>
                    </a:lnTo>
                    <a:lnTo>
                      <a:pt x="282" y="110"/>
                    </a:lnTo>
                    <a:lnTo>
                      <a:pt x="280" y="102"/>
                    </a:lnTo>
                    <a:lnTo>
                      <a:pt x="278" y="95"/>
                    </a:lnTo>
                    <a:lnTo>
                      <a:pt x="276" y="87"/>
                    </a:lnTo>
                    <a:lnTo>
                      <a:pt x="276" y="80"/>
                    </a:lnTo>
                    <a:lnTo>
                      <a:pt x="274" y="74"/>
                    </a:lnTo>
                    <a:lnTo>
                      <a:pt x="272" y="66"/>
                    </a:lnTo>
                    <a:lnTo>
                      <a:pt x="272" y="61"/>
                    </a:lnTo>
                    <a:lnTo>
                      <a:pt x="270" y="55"/>
                    </a:lnTo>
                    <a:lnTo>
                      <a:pt x="270" y="49"/>
                    </a:lnTo>
                    <a:lnTo>
                      <a:pt x="266" y="38"/>
                    </a:lnTo>
                    <a:lnTo>
                      <a:pt x="263" y="26"/>
                    </a:lnTo>
                    <a:lnTo>
                      <a:pt x="261" y="17"/>
                    </a:lnTo>
                    <a:lnTo>
                      <a:pt x="259" y="11"/>
                    </a:lnTo>
                    <a:lnTo>
                      <a:pt x="255" y="2"/>
                    </a:lnTo>
                    <a:lnTo>
                      <a:pt x="255" y="0"/>
                    </a:lnTo>
                    <a:lnTo>
                      <a:pt x="255" y="0"/>
                    </a:lnTo>
                    <a:close/>
                  </a:path>
                </a:pathLst>
              </a:custGeom>
              <a:solidFill>
                <a:srgbClr val="ffff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>
                <a:off x="2723400" y="2261160"/>
                <a:ext cx="253440" cy="269280"/>
              </a:xfrm>
              <a:custGeom>
                <a:avLst/>
                <a:gdLst/>
                <a:ahLst/>
                <a:rect l="l" t="t" r="r" b="b"/>
                <a:pathLst>
                  <a:path w="384" h="408">
                    <a:moveTo>
                      <a:pt x="367" y="7"/>
                    </a:moveTo>
                    <a:lnTo>
                      <a:pt x="376" y="13"/>
                    </a:lnTo>
                    <a:lnTo>
                      <a:pt x="384" y="23"/>
                    </a:lnTo>
                    <a:lnTo>
                      <a:pt x="384" y="28"/>
                    </a:lnTo>
                    <a:lnTo>
                      <a:pt x="384" y="36"/>
                    </a:lnTo>
                    <a:lnTo>
                      <a:pt x="382" y="44"/>
                    </a:lnTo>
                    <a:lnTo>
                      <a:pt x="378" y="51"/>
                    </a:lnTo>
                    <a:lnTo>
                      <a:pt x="372" y="57"/>
                    </a:lnTo>
                    <a:lnTo>
                      <a:pt x="363" y="68"/>
                    </a:lnTo>
                    <a:lnTo>
                      <a:pt x="357" y="74"/>
                    </a:lnTo>
                    <a:lnTo>
                      <a:pt x="350" y="82"/>
                    </a:lnTo>
                    <a:lnTo>
                      <a:pt x="342" y="93"/>
                    </a:lnTo>
                    <a:lnTo>
                      <a:pt x="334" y="102"/>
                    </a:lnTo>
                    <a:lnTo>
                      <a:pt x="329" y="108"/>
                    </a:lnTo>
                    <a:lnTo>
                      <a:pt x="323" y="114"/>
                    </a:lnTo>
                    <a:lnTo>
                      <a:pt x="317" y="120"/>
                    </a:lnTo>
                    <a:lnTo>
                      <a:pt x="312" y="127"/>
                    </a:lnTo>
                    <a:lnTo>
                      <a:pt x="304" y="135"/>
                    </a:lnTo>
                    <a:lnTo>
                      <a:pt x="298" y="140"/>
                    </a:lnTo>
                    <a:lnTo>
                      <a:pt x="293" y="148"/>
                    </a:lnTo>
                    <a:lnTo>
                      <a:pt x="287" y="158"/>
                    </a:lnTo>
                    <a:lnTo>
                      <a:pt x="279" y="165"/>
                    </a:lnTo>
                    <a:lnTo>
                      <a:pt x="272" y="173"/>
                    </a:lnTo>
                    <a:lnTo>
                      <a:pt x="264" y="182"/>
                    </a:lnTo>
                    <a:lnTo>
                      <a:pt x="256" y="192"/>
                    </a:lnTo>
                    <a:lnTo>
                      <a:pt x="249" y="199"/>
                    </a:lnTo>
                    <a:lnTo>
                      <a:pt x="239" y="209"/>
                    </a:lnTo>
                    <a:lnTo>
                      <a:pt x="232" y="220"/>
                    </a:lnTo>
                    <a:lnTo>
                      <a:pt x="224" y="232"/>
                    </a:lnTo>
                    <a:lnTo>
                      <a:pt x="215" y="241"/>
                    </a:lnTo>
                    <a:lnTo>
                      <a:pt x="205" y="249"/>
                    </a:lnTo>
                    <a:lnTo>
                      <a:pt x="199" y="258"/>
                    </a:lnTo>
                    <a:lnTo>
                      <a:pt x="192" y="268"/>
                    </a:lnTo>
                    <a:lnTo>
                      <a:pt x="182" y="275"/>
                    </a:lnTo>
                    <a:lnTo>
                      <a:pt x="175" y="283"/>
                    </a:lnTo>
                    <a:lnTo>
                      <a:pt x="169" y="291"/>
                    </a:lnTo>
                    <a:lnTo>
                      <a:pt x="163" y="298"/>
                    </a:lnTo>
                    <a:lnTo>
                      <a:pt x="156" y="306"/>
                    </a:lnTo>
                    <a:lnTo>
                      <a:pt x="150" y="312"/>
                    </a:lnTo>
                    <a:lnTo>
                      <a:pt x="144" y="319"/>
                    </a:lnTo>
                    <a:lnTo>
                      <a:pt x="139" y="325"/>
                    </a:lnTo>
                    <a:lnTo>
                      <a:pt x="127" y="336"/>
                    </a:lnTo>
                    <a:lnTo>
                      <a:pt x="120" y="348"/>
                    </a:lnTo>
                    <a:lnTo>
                      <a:pt x="110" y="357"/>
                    </a:lnTo>
                    <a:lnTo>
                      <a:pt x="101" y="365"/>
                    </a:lnTo>
                    <a:lnTo>
                      <a:pt x="93" y="372"/>
                    </a:lnTo>
                    <a:lnTo>
                      <a:pt x="87" y="380"/>
                    </a:lnTo>
                    <a:lnTo>
                      <a:pt x="76" y="391"/>
                    </a:lnTo>
                    <a:lnTo>
                      <a:pt x="68" y="399"/>
                    </a:lnTo>
                    <a:lnTo>
                      <a:pt x="59" y="403"/>
                    </a:lnTo>
                    <a:lnTo>
                      <a:pt x="55" y="407"/>
                    </a:lnTo>
                    <a:lnTo>
                      <a:pt x="51" y="408"/>
                    </a:lnTo>
                    <a:lnTo>
                      <a:pt x="47" y="408"/>
                    </a:lnTo>
                    <a:lnTo>
                      <a:pt x="42" y="408"/>
                    </a:lnTo>
                    <a:lnTo>
                      <a:pt x="38" y="408"/>
                    </a:lnTo>
                    <a:lnTo>
                      <a:pt x="32" y="408"/>
                    </a:lnTo>
                    <a:lnTo>
                      <a:pt x="28" y="405"/>
                    </a:lnTo>
                    <a:lnTo>
                      <a:pt x="25" y="399"/>
                    </a:lnTo>
                    <a:lnTo>
                      <a:pt x="21" y="393"/>
                    </a:lnTo>
                    <a:lnTo>
                      <a:pt x="17" y="386"/>
                    </a:lnTo>
                    <a:lnTo>
                      <a:pt x="13" y="374"/>
                    </a:lnTo>
                    <a:lnTo>
                      <a:pt x="11" y="363"/>
                    </a:lnTo>
                    <a:lnTo>
                      <a:pt x="9" y="351"/>
                    </a:lnTo>
                    <a:lnTo>
                      <a:pt x="7" y="344"/>
                    </a:lnTo>
                    <a:lnTo>
                      <a:pt x="6" y="336"/>
                    </a:lnTo>
                    <a:lnTo>
                      <a:pt x="4" y="329"/>
                    </a:lnTo>
                    <a:lnTo>
                      <a:pt x="4" y="323"/>
                    </a:lnTo>
                    <a:lnTo>
                      <a:pt x="4" y="313"/>
                    </a:lnTo>
                    <a:lnTo>
                      <a:pt x="2" y="306"/>
                    </a:lnTo>
                    <a:lnTo>
                      <a:pt x="2" y="298"/>
                    </a:lnTo>
                    <a:lnTo>
                      <a:pt x="2" y="291"/>
                    </a:lnTo>
                    <a:lnTo>
                      <a:pt x="0" y="281"/>
                    </a:lnTo>
                    <a:lnTo>
                      <a:pt x="0" y="274"/>
                    </a:lnTo>
                    <a:lnTo>
                      <a:pt x="0" y="264"/>
                    </a:lnTo>
                    <a:lnTo>
                      <a:pt x="0" y="256"/>
                    </a:lnTo>
                    <a:lnTo>
                      <a:pt x="0" y="247"/>
                    </a:lnTo>
                    <a:lnTo>
                      <a:pt x="0" y="239"/>
                    </a:lnTo>
                    <a:lnTo>
                      <a:pt x="0" y="230"/>
                    </a:lnTo>
                    <a:lnTo>
                      <a:pt x="2" y="222"/>
                    </a:lnTo>
                    <a:lnTo>
                      <a:pt x="2" y="215"/>
                    </a:lnTo>
                    <a:lnTo>
                      <a:pt x="2" y="207"/>
                    </a:lnTo>
                    <a:lnTo>
                      <a:pt x="2" y="201"/>
                    </a:lnTo>
                    <a:lnTo>
                      <a:pt x="2" y="196"/>
                    </a:lnTo>
                    <a:lnTo>
                      <a:pt x="4" y="182"/>
                    </a:lnTo>
                    <a:lnTo>
                      <a:pt x="6" y="169"/>
                    </a:lnTo>
                    <a:lnTo>
                      <a:pt x="6" y="158"/>
                    </a:lnTo>
                    <a:lnTo>
                      <a:pt x="7" y="144"/>
                    </a:lnTo>
                    <a:lnTo>
                      <a:pt x="9" y="135"/>
                    </a:lnTo>
                    <a:lnTo>
                      <a:pt x="13" y="123"/>
                    </a:lnTo>
                    <a:lnTo>
                      <a:pt x="13" y="110"/>
                    </a:lnTo>
                    <a:lnTo>
                      <a:pt x="17" y="99"/>
                    </a:lnTo>
                    <a:lnTo>
                      <a:pt x="21" y="89"/>
                    </a:lnTo>
                    <a:lnTo>
                      <a:pt x="25" y="80"/>
                    </a:lnTo>
                    <a:lnTo>
                      <a:pt x="26" y="68"/>
                    </a:lnTo>
                    <a:lnTo>
                      <a:pt x="30" y="61"/>
                    </a:lnTo>
                    <a:lnTo>
                      <a:pt x="34" y="51"/>
                    </a:lnTo>
                    <a:lnTo>
                      <a:pt x="40" y="44"/>
                    </a:lnTo>
                    <a:lnTo>
                      <a:pt x="42" y="38"/>
                    </a:lnTo>
                    <a:lnTo>
                      <a:pt x="45" y="34"/>
                    </a:lnTo>
                    <a:lnTo>
                      <a:pt x="51" y="30"/>
                    </a:lnTo>
                    <a:lnTo>
                      <a:pt x="59" y="26"/>
                    </a:lnTo>
                    <a:lnTo>
                      <a:pt x="66" y="23"/>
                    </a:lnTo>
                    <a:lnTo>
                      <a:pt x="76" y="19"/>
                    </a:lnTo>
                    <a:lnTo>
                      <a:pt x="85" y="17"/>
                    </a:lnTo>
                    <a:lnTo>
                      <a:pt x="99" y="15"/>
                    </a:lnTo>
                    <a:lnTo>
                      <a:pt x="110" y="11"/>
                    </a:lnTo>
                    <a:lnTo>
                      <a:pt x="122" y="11"/>
                    </a:lnTo>
                    <a:lnTo>
                      <a:pt x="127" y="9"/>
                    </a:lnTo>
                    <a:lnTo>
                      <a:pt x="133" y="7"/>
                    </a:lnTo>
                    <a:lnTo>
                      <a:pt x="141" y="7"/>
                    </a:lnTo>
                    <a:lnTo>
                      <a:pt x="148" y="7"/>
                    </a:lnTo>
                    <a:lnTo>
                      <a:pt x="156" y="7"/>
                    </a:lnTo>
                    <a:lnTo>
                      <a:pt x="163" y="6"/>
                    </a:lnTo>
                    <a:lnTo>
                      <a:pt x="171" y="4"/>
                    </a:lnTo>
                    <a:lnTo>
                      <a:pt x="179" y="4"/>
                    </a:lnTo>
                    <a:lnTo>
                      <a:pt x="184" y="4"/>
                    </a:lnTo>
                    <a:lnTo>
                      <a:pt x="192" y="4"/>
                    </a:lnTo>
                    <a:lnTo>
                      <a:pt x="199" y="4"/>
                    </a:lnTo>
                    <a:lnTo>
                      <a:pt x="207" y="4"/>
                    </a:lnTo>
                    <a:lnTo>
                      <a:pt x="213" y="4"/>
                    </a:lnTo>
                    <a:lnTo>
                      <a:pt x="220" y="4"/>
                    </a:lnTo>
                    <a:lnTo>
                      <a:pt x="226" y="2"/>
                    </a:lnTo>
                    <a:lnTo>
                      <a:pt x="234" y="2"/>
                    </a:lnTo>
                    <a:lnTo>
                      <a:pt x="239" y="0"/>
                    </a:lnTo>
                    <a:lnTo>
                      <a:pt x="247" y="0"/>
                    </a:lnTo>
                    <a:lnTo>
                      <a:pt x="255" y="0"/>
                    </a:lnTo>
                    <a:lnTo>
                      <a:pt x="262" y="0"/>
                    </a:lnTo>
                    <a:lnTo>
                      <a:pt x="274" y="0"/>
                    </a:lnTo>
                    <a:lnTo>
                      <a:pt x="287" y="0"/>
                    </a:lnTo>
                    <a:lnTo>
                      <a:pt x="300" y="0"/>
                    </a:lnTo>
                    <a:lnTo>
                      <a:pt x="312" y="2"/>
                    </a:lnTo>
                    <a:lnTo>
                      <a:pt x="321" y="2"/>
                    </a:lnTo>
                    <a:lnTo>
                      <a:pt x="333" y="2"/>
                    </a:lnTo>
                    <a:lnTo>
                      <a:pt x="340" y="2"/>
                    </a:lnTo>
                    <a:lnTo>
                      <a:pt x="350" y="4"/>
                    </a:lnTo>
                    <a:lnTo>
                      <a:pt x="359" y="4"/>
                    </a:lnTo>
                    <a:lnTo>
                      <a:pt x="367" y="7"/>
                    </a:lnTo>
                    <a:lnTo>
                      <a:pt x="36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>
                <a:off x="2764080" y="2288520"/>
                <a:ext cx="181080" cy="198360"/>
              </a:xfrm>
              <a:custGeom>
                <a:avLst/>
                <a:gdLst/>
                <a:ahLst/>
                <a:rect l="l" t="t" r="r" b="b"/>
                <a:pathLst>
                  <a:path w="274" h="300">
                    <a:moveTo>
                      <a:pt x="274" y="3"/>
                    </a:moveTo>
                    <a:lnTo>
                      <a:pt x="268" y="2"/>
                    </a:lnTo>
                    <a:lnTo>
                      <a:pt x="261" y="0"/>
                    </a:lnTo>
                    <a:lnTo>
                      <a:pt x="253" y="0"/>
                    </a:lnTo>
                    <a:lnTo>
                      <a:pt x="246" y="0"/>
                    </a:lnTo>
                    <a:lnTo>
                      <a:pt x="238" y="0"/>
                    </a:lnTo>
                    <a:lnTo>
                      <a:pt x="230" y="0"/>
                    </a:lnTo>
                    <a:lnTo>
                      <a:pt x="221" y="0"/>
                    </a:lnTo>
                    <a:lnTo>
                      <a:pt x="211" y="0"/>
                    </a:lnTo>
                    <a:lnTo>
                      <a:pt x="202" y="0"/>
                    </a:lnTo>
                    <a:lnTo>
                      <a:pt x="192" y="2"/>
                    </a:lnTo>
                    <a:lnTo>
                      <a:pt x="181" y="2"/>
                    </a:lnTo>
                    <a:lnTo>
                      <a:pt x="171" y="3"/>
                    </a:lnTo>
                    <a:lnTo>
                      <a:pt x="160" y="3"/>
                    </a:lnTo>
                    <a:lnTo>
                      <a:pt x="151" y="5"/>
                    </a:lnTo>
                    <a:lnTo>
                      <a:pt x="139" y="5"/>
                    </a:lnTo>
                    <a:lnTo>
                      <a:pt x="128" y="7"/>
                    </a:lnTo>
                    <a:lnTo>
                      <a:pt x="118" y="9"/>
                    </a:lnTo>
                    <a:lnTo>
                      <a:pt x="107" y="9"/>
                    </a:lnTo>
                    <a:lnTo>
                      <a:pt x="95" y="11"/>
                    </a:lnTo>
                    <a:lnTo>
                      <a:pt x="86" y="13"/>
                    </a:lnTo>
                    <a:lnTo>
                      <a:pt x="76" y="13"/>
                    </a:lnTo>
                    <a:lnTo>
                      <a:pt x="69" y="17"/>
                    </a:lnTo>
                    <a:lnTo>
                      <a:pt x="59" y="17"/>
                    </a:lnTo>
                    <a:lnTo>
                      <a:pt x="52" y="21"/>
                    </a:lnTo>
                    <a:lnTo>
                      <a:pt x="46" y="21"/>
                    </a:lnTo>
                    <a:lnTo>
                      <a:pt x="42" y="22"/>
                    </a:lnTo>
                    <a:lnTo>
                      <a:pt x="33" y="26"/>
                    </a:lnTo>
                    <a:lnTo>
                      <a:pt x="29" y="32"/>
                    </a:lnTo>
                    <a:lnTo>
                      <a:pt x="25" y="40"/>
                    </a:lnTo>
                    <a:lnTo>
                      <a:pt x="21" y="47"/>
                    </a:lnTo>
                    <a:lnTo>
                      <a:pt x="17" y="55"/>
                    </a:lnTo>
                    <a:lnTo>
                      <a:pt x="17" y="64"/>
                    </a:lnTo>
                    <a:lnTo>
                      <a:pt x="14" y="76"/>
                    </a:lnTo>
                    <a:lnTo>
                      <a:pt x="12" y="85"/>
                    </a:lnTo>
                    <a:lnTo>
                      <a:pt x="10" y="95"/>
                    </a:lnTo>
                    <a:lnTo>
                      <a:pt x="8" y="106"/>
                    </a:lnTo>
                    <a:lnTo>
                      <a:pt x="6" y="117"/>
                    </a:lnTo>
                    <a:lnTo>
                      <a:pt x="4" y="129"/>
                    </a:lnTo>
                    <a:lnTo>
                      <a:pt x="4" y="140"/>
                    </a:lnTo>
                    <a:lnTo>
                      <a:pt x="4" y="150"/>
                    </a:lnTo>
                    <a:lnTo>
                      <a:pt x="2" y="161"/>
                    </a:lnTo>
                    <a:lnTo>
                      <a:pt x="2" y="173"/>
                    </a:lnTo>
                    <a:lnTo>
                      <a:pt x="2" y="184"/>
                    </a:lnTo>
                    <a:lnTo>
                      <a:pt x="2" y="195"/>
                    </a:lnTo>
                    <a:lnTo>
                      <a:pt x="0" y="205"/>
                    </a:lnTo>
                    <a:lnTo>
                      <a:pt x="0" y="216"/>
                    </a:lnTo>
                    <a:lnTo>
                      <a:pt x="0" y="226"/>
                    </a:lnTo>
                    <a:lnTo>
                      <a:pt x="0" y="235"/>
                    </a:lnTo>
                    <a:lnTo>
                      <a:pt x="0" y="243"/>
                    </a:lnTo>
                    <a:lnTo>
                      <a:pt x="0" y="252"/>
                    </a:lnTo>
                    <a:lnTo>
                      <a:pt x="0" y="260"/>
                    </a:lnTo>
                    <a:lnTo>
                      <a:pt x="2" y="268"/>
                    </a:lnTo>
                    <a:lnTo>
                      <a:pt x="2" y="273"/>
                    </a:lnTo>
                    <a:lnTo>
                      <a:pt x="2" y="281"/>
                    </a:lnTo>
                    <a:lnTo>
                      <a:pt x="4" y="285"/>
                    </a:lnTo>
                    <a:lnTo>
                      <a:pt x="4" y="290"/>
                    </a:lnTo>
                    <a:lnTo>
                      <a:pt x="6" y="298"/>
                    </a:lnTo>
                    <a:lnTo>
                      <a:pt x="8" y="300"/>
                    </a:lnTo>
                    <a:lnTo>
                      <a:pt x="12" y="296"/>
                    </a:lnTo>
                    <a:lnTo>
                      <a:pt x="23" y="287"/>
                    </a:lnTo>
                    <a:lnTo>
                      <a:pt x="29" y="279"/>
                    </a:lnTo>
                    <a:lnTo>
                      <a:pt x="36" y="273"/>
                    </a:lnTo>
                    <a:lnTo>
                      <a:pt x="44" y="264"/>
                    </a:lnTo>
                    <a:lnTo>
                      <a:pt x="54" y="256"/>
                    </a:lnTo>
                    <a:lnTo>
                      <a:pt x="63" y="245"/>
                    </a:lnTo>
                    <a:lnTo>
                      <a:pt x="73" y="233"/>
                    </a:lnTo>
                    <a:lnTo>
                      <a:pt x="82" y="222"/>
                    </a:lnTo>
                    <a:lnTo>
                      <a:pt x="94" y="211"/>
                    </a:lnTo>
                    <a:lnTo>
                      <a:pt x="105" y="197"/>
                    </a:lnTo>
                    <a:lnTo>
                      <a:pt x="118" y="184"/>
                    </a:lnTo>
                    <a:lnTo>
                      <a:pt x="130" y="171"/>
                    </a:lnTo>
                    <a:lnTo>
                      <a:pt x="141" y="159"/>
                    </a:lnTo>
                    <a:lnTo>
                      <a:pt x="149" y="150"/>
                    </a:lnTo>
                    <a:lnTo>
                      <a:pt x="154" y="142"/>
                    </a:lnTo>
                    <a:lnTo>
                      <a:pt x="160" y="135"/>
                    </a:lnTo>
                    <a:lnTo>
                      <a:pt x="168" y="127"/>
                    </a:lnTo>
                    <a:lnTo>
                      <a:pt x="173" y="119"/>
                    </a:lnTo>
                    <a:lnTo>
                      <a:pt x="179" y="112"/>
                    </a:lnTo>
                    <a:lnTo>
                      <a:pt x="187" y="106"/>
                    </a:lnTo>
                    <a:lnTo>
                      <a:pt x="192" y="98"/>
                    </a:lnTo>
                    <a:lnTo>
                      <a:pt x="198" y="93"/>
                    </a:lnTo>
                    <a:lnTo>
                      <a:pt x="204" y="85"/>
                    </a:lnTo>
                    <a:lnTo>
                      <a:pt x="209" y="78"/>
                    </a:lnTo>
                    <a:lnTo>
                      <a:pt x="217" y="72"/>
                    </a:lnTo>
                    <a:lnTo>
                      <a:pt x="227" y="60"/>
                    </a:lnTo>
                    <a:lnTo>
                      <a:pt x="238" y="51"/>
                    </a:lnTo>
                    <a:lnTo>
                      <a:pt x="244" y="40"/>
                    </a:lnTo>
                    <a:lnTo>
                      <a:pt x="253" y="30"/>
                    </a:lnTo>
                    <a:lnTo>
                      <a:pt x="259" y="22"/>
                    </a:lnTo>
                    <a:lnTo>
                      <a:pt x="266" y="17"/>
                    </a:lnTo>
                    <a:lnTo>
                      <a:pt x="272" y="5"/>
                    </a:lnTo>
                    <a:lnTo>
                      <a:pt x="274" y="3"/>
                    </a:lnTo>
                    <a:lnTo>
                      <a:pt x="274" y="3"/>
                    </a:lnTo>
                    <a:close/>
                  </a:path>
                </a:pathLst>
              </a:custGeom>
              <a:solidFill>
                <a:srgbClr val="ffff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H="1">
                <a:off x="2694600" y="2019240"/>
                <a:ext cx="229680" cy="231120"/>
              </a:xfrm>
              <a:custGeom>
                <a:avLst/>
                <a:gdLst/>
                <a:ahLst/>
                <a:rect l="l" t="t" r="r" b="b"/>
                <a:pathLst>
                  <a:path w="348" h="350">
                    <a:moveTo>
                      <a:pt x="13" y="348"/>
                    </a:moveTo>
                    <a:lnTo>
                      <a:pt x="19" y="348"/>
                    </a:lnTo>
                    <a:lnTo>
                      <a:pt x="30" y="348"/>
                    </a:lnTo>
                    <a:lnTo>
                      <a:pt x="36" y="348"/>
                    </a:lnTo>
                    <a:lnTo>
                      <a:pt x="43" y="348"/>
                    </a:lnTo>
                    <a:lnTo>
                      <a:pt x="53" y="348"/>
                    </a:lnTo>
                    <a:lnTo>
                      <a:pt x="61" y="350"/>
                    </a:lnTo>
                    <a:lnTo>
                      <a:pt x="68" y="348"/>
                    </a:lnTo>
                    <a:lnTo>
                      <a:pt x="78" y="348"/>
                    </a:lnTo>
                    <a:lnTo>
                      <a:pt x="87" y="348"/>
                    </a:lnTo>
                    <a:lnTo>
                      <a:pt x="99" y="348"/>
                    </a:lnTo>
                    <a:lnTo>
                      <a:pt x="110" y="348"/>
                    </a:lnTo>
                    <a:lnTo>
                      <a:pt x="121" y="348"/>
                    </a:lnTo>
                    <a:lnTo>
                      <a:pt x="133" y="348"/>
                    </a:lnTo>
                    <a:lnTo>
                      <a:pt x="144" y="348"/>
                    </a:lnTo>
                    <a:lnTo>
                      <a:pt x="150" y="348"/>
                    </a:lnTo>
                    <a:lnTo>
                      <a:pt x="157" y="348"/>
                    </a:lnTo>
                    <a:lnTo>
                      <a:pt x="163" y="348"/>
                    </a:lnTo>
                    <a:lnTo>
                      <a:pt x="171" y="348"/>
                    </a:lnTo>
                    <a:lnTo>
                      <a:pt x="176" y="348"/>
                    </a:lnTo>
                    <a:lnTo>
                      <a:pt x="184" y="348"/>
                    </a:lnTo>
                    <a:lnTo>
                      <a:pt x="192" y="348"/>
                    </a:lnTo>
                    <a:lnTo>
                      <a:pt x="199" y="348"/>
                    </a:lnTo>
                    <a:lnTo>
                      <a:pt x="211" y="348"/>
                    </a:lnTo>
                    <a:lnTo>
                      <a:pt x="224" y="348"/>
                    </a:lnTo>
                    <a:lnTo>
                      <a:pt x="235" y="348"/>
                    </a:lnTo>
                    <a:lnTo>
                      <a:pt x="249" y="348"/>
                    </a:lnTo>
                    <a:lnTo>
                      <a:pt x="258" y="348"/>
                    </a:lnTo>
                    <a:lnTo>
                      <a:pt x="268" y="348"/>
                    </a:lnTo>
                    <a:lnTo>
                      <a:pt x="277" y="348"/>
                    </a:lnTo>
                    <a:lnTo>
                      <a:pt x="285" y="348"/>
                    </a:lnTo>
                    <a:lnTo>
                      <a:pt x="291" y="348"/>
                    </a:lnTo>
                    <a:lnTo>
                      <a:pt x="298" y="348"/>
                    </a:lnTo>
                    <a:lnTo>
                      <a:pt x="304" y="348"/>
                    </a:lnTo>
                    <a:lnTo>
                      <a:pt x="308" y="348"/>
                    </a:lnTo>
                    <a:lnTo>
                      <a:pt x="317" y="344"/>
                    </a:lnTo>
                    <a:lnTo>
                      <a:pt x="325" y="342"/>
                    </a:lnTo>
                    <a:lnTo>
                      <a:pt x="330" y="338"/>
                    </a:lnTo>
                    <a:lnTo>
                      <a:pt x="338" y="331"/>
                    </a:lnTo>
                    <a:lnTo>
                      <a:pt x="338" y="323"/>
                    </a:lnTo>
                    <a:lnTo>
                      <a:pt x="340" y="319"/>
                    </a:lnTo>
                    <a:lnTo>
                      <a:pt x="340" y="312"/>
                    </a:lnTo>
                    <a:lnTo>
                      <a:pt x="344" y="306"/>
                    </a:lnTo>
                    <a:lnTo>
                      <a:pt x="344" y="296"/>
                    </a:lnTo>
                    <a:lnTo>
                      <a:pt x="346" y="287"/>
                    </a:lnTo>
                    <a:lnTo>
                      <a:pt x="346" y="276"/>
                    </a:lnTo>
                    <a:lnTo>
                      <a:pt x="348" y="266"/>
                    </a:lnTo>
                    <a:lnTo>
                      <a:pt x="346" y="258"/>
                    </a:lnTo>
                    <a:lnTo>
                      <a:pt x="346" y="253"/>
                    </a:lnTo>
                    <a:lnTo>
                      <a:pt x="346" y="245"/>
                    </a:lnTo>
                    <a:lnTo>
                      <a:pt x="346" y="238"/>
                    </a:lnTo>
                    <a:lnTo>
                      <a:pt x="346" y="228"/>
                    </a:lnTo>
                    <a:lnTo>
                      <a:pt x="346" y="219"/>
                    </a:lnTo>
                    <a:lnTo>
                      <a:pt x="346" y="209"/>
                    </a:lnTo>
                    <a:lnTo>
                      <a:pt x="346" y="200"/>
                    </a:lnTo>
                    <a:lnTo>
                      <a:pt x="344" y="190"/>
                    </a:lnTo>
                    <a:lnTo>
                      <a:pt x="344" y="181"/>
                    </a:lnTo>
                    <a:lnTo>
                      <a:pt x="344" y="169"/>
                    </a:lnTo>
                    <a:lnTo>
                      <a:pt x="344" y="160"/>
                    </a:lnTo>
                    <a:lnTo>
                      <a:pt x="342" y="148"/>
                    </a:lnTo>
                    <a:lnTo>
                      <a:pt x="342" y="137"/>
                    </a:lnTo>
                    <a:lnTo>
                      <a:pt x="342" y="127"/>
                    </a:lnTo>
                    <a:lnTo>
                      <a:pt x="342" y="118"/>
                    </a:lnTo>
                    <a:lnTo>
                      <a:pt x="340" y="106"/>
                    </a:lnTo>
                    <a:lnTo>
                      <a:pt x="340" y="95"/>
                    </a:lnTo>
                    <a:lnTo>
                      <a:pt x="338" y="85"/>
                    </a:lnTo>
                    <a:lnTo>
                      <a:pt x="338" y="76"/>
                    </a:lnTo>
                    <a:lnTo>
                      <a:pt x="338" y="66"/>
                    </a:lnTo>
                    <a:lnTo>
                      <a:pt x="338" y="59"/>
                    </a:lnTo>
                    <a:lnTo>
                      <a:pt x="336" y="49"/>
                    </a:lnTo>
                    <a:lnTo>
                      <a:pt x="336" y="42"/>
                    </a:lnTo>
                    <a:lnTo>
                      <a:pt x="334" y="36"/>
                    </a:lnTo>
                    <a:lnTo>
                      <a:pt x="334" y="28"/>
                    </a:lnTo>
                    <a:lnTo>
                      <a:pt x="330" y="23"/>
                    </a:lnTo>
                    <a:lnTo>
                      <a:pt x="330" y="19"/>
                    </a:lnTo>
                    <a:lnTo>
                      <a:pt x="329" y="9"/>
                    </a:lnTo>
                    <a:lnTo>
                      <a:pt x="327" y="6"/>
                    </a:lnTo>
                    <a:lnTo>
                      <a:pt x="321" y="2"/>
                    </a:lnTo>
                    <a:lnTo>
                      <a:pt x="317" y="2"/>
                    </a:lnTo>
                    <a:lnTo>
                      <a:pt x="311" y="0"/>
                    </a:lnTo>
                    <a:lnTo>
                      <a:pt x="306" y="2"/>
                    </a:lnTo>
                    <a:lnTo>
                      <a:pt x="296" y="2"/>
                    </a:lnTo>
                    <a:lnTo>
                      <a:pt x="291" y="6"/>
                    </a:lnTo>
                    <a:lnTo>
                      <a:pt x="279" y="9"/>
                    </a:lnTo>
                    <a:lnTo>
                      <a:pt x="272" y="17"/>
                    </a:lnTo>
                    <a:lnTo>
                      <a:pt x="258" y="23"/>
                    </a:lnTo>
                    <a:lnTo>
                      <a:pt x="247" y="30"/>
                    </a:lnTo>
                    <a:lnTo>
                      <a:pt x="239" y="34"/>
                    </a:lnTo>
                    <a:lnTo>
                      <a:pt x="233" y="40"/>
                    </a:lnTo>
                    <a:lnTo>
                      <a:pt x="226" y="44"/>
                    </a:lnTo>
                    <a:lnTo>
                      <a:pt x="220" y="49"/>
                    </a:lnTo>
                    <a:lnTo>
                      <a:pt x="211" y="55"/>
                    </a:lnTo>
                    <a:lnTo>
                      <a:pt x="205" y="61"/>
                    </a:lnTo>
                    <a:lnTo>
                      <a:pt x="195" y="66"/>
                    </a:lnTo>
                    <a:lnTo>
                      <a:pt x="188" y="74"/>
                    </a:lnTo>
                    <a:lnTo>
                      <a:pt x="180" y="80"/>
                    </a:lnTo>
                    <a:lnTo>
                      <a:pt x="171" y="87"/>
                    </a:lnTo>
                    <a:lnTo>
                      <a:pt x="163" y="97"/>
                    </a:lnTo>
                    <a:lnTo>
                      <a:pt x="156" y="104"/>
                    </a:lnTo>
                    <a:lnTo>
                      <a:pt x="146" y="112"/>
                    </a:lnTo>
                    <a:lnTo>
                      <a:pt x="137" y="120"/>
                    </a:lnTo>
                    <a:lnTo>
                      <a:pt x="127" y="127"/>
                    </a:lnTo>
                    <a:lnTo>
                      <a:pt x="119" y="139"/>
                    </a:lnTo>
                    <a:lnTo>
                      <a:pt x="110" y="146"/>
                    </a:lnTo>
                    <a:lnTo>
                      <a:pt x="102" y="156"/>
                    </a:lnTo>
                    <a:lnTo>
                      <a:pt x="93" y="165"/>
                    </a:lnTo>
                    <a:lnTo>
                      <a:pt x="85" y="177"/>
                    </a:lnTo>
                    <a:lnTo>
                      <a:pt x="78" y="186"/>
                    </a:lnTo>
                    <a:lnTo>
                      <a:pt x="68" y="196"/>
                    </a:lnTo>
                    <a:lnTo>
                      <a:pt x="61" y="205"/>
                    </a:lnTo>
                    <a:lnTo>
                      <a:pt x="55" y="215"/>
                    </a:lnTo>
                    <a:lnTo>
                      <a:pt x="47" y="224"/>
                    </a:lnTo>
                    <a:lnTo>
                      <a:pt x="42" y="234"/>
                    </a:lnTo>
                    <a:lnTo>
                      <a:pt x="36" y="245"/>
                    </a:lnTo>
                    <a:lnTo>
                      <a:pt x="30" y="255"/>
                    </a:lnTo>
                    <a:lnTo>
                      <a:pt x="24" y="264"/>
                    </a:lnTo>
                    <a:lnTo>
                      <a:pt x="19" y="272"/>
                    </a:lnTo>
                    <a:lnTo>
                      <a:pt x="15" y="281"/>
                    </a:lnTo>
                    <a:lnTo>
                      <a:pt x="11" y="289"/>
                    </a:lnTo>
                    <a:lnTo>
                      <a:pt x="7" y="296"/>
                    </a:lnTo>
                    <a:lnTo>
                      <a:pt x="3" y="304"/>
                    </a:lnTo>
                    <a:lnTo>
                      <a:pt x="2" y="310"/>
                    </a:lnTo>
                    <a:lnTo>
                      <a:pt x="2" y="317"/>
                    </a:lnTo>
                    <a:lnTo>
                      <a:pt x="0" y="329"/>
                    </a:lnTo>
                    <a:lnTo>
                      <a:pt x="0" y="338"/>
                    </a:lnTo>
                    <a:lnTo>
                      <a:pt x="3" y="344"/>
                    </a:lnTo>
                    <a:lnTo>
                      <a:pt x="13" y="348"/>
                    </a:lnTo>
                    <a:lnTo>
                      <a:pt x="13" y="34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H="1">
                <a:off x="2721600" y="2057760"/>
                <a:ext cx="163800" cy="163800"/>
              </a:xfrm>
              <a:custGeom>
                <a:avLst/>
                <a:gdLst/>
                <a:ahLst/>
                <a:rect l="l" t="t" r="r" b="b"/>
                <a:pathLst>
                  <a:path w="247" h="249">
                    <a:moveTo>
                      <a:pt x="2" y="247"/>
                    </a:moveTo>
                    <a:lnTo>
                      <a:pt x="2" y="247"/>
                    </a:lnTo>
                    <a:lnTo>
                      <a:pt x="5" y="247"/>
                    </a:lnTo>
                    <a:lnTo>
                      <a:pt x="11" y="247"/>
                    </a:lnTo>
                    <a:lnTo>
                      <a:pt x="19" y="249"/>
                    </a:lnTo>
                    <a:lnTo>
                      <a:pt x="26" y="249"/>
                    </a:lnTo>
                    <a:lnTo>
                      <a:pt x="36" y="249"/>
                    </a:lnTo>
                    <a:lnTo>
                      <a:pt x="45" y="249"/>
                    </a:lnTo>
                    <a:lnTo>
                      <a:pt x="57" y="249"/>
                    </a:lnTo>
                    <a:lnTo>
                      <a:pt x="62" y="247"/>
                    </a:lnTo>
                    <a:lnTo>
                      <a:pt x="68" y="247"/>
                    </a:lnTo>
                    <a:lnTo>
                      <a:pt x="76" y="247"/>
                    </a:lnTo>
                    <a:lnTo>
                      <a:pt x="83" y="247"/>
                    </a:lnTo>
                    <a:lnTo>
                      <a:pt x="89" y="247"/>
                    </a:lnTo>
                    <a:lnTo>
                      <a:pt x="97" y="247"/>
                    </a:lnTo>
                    <a:lnTo>
                      <a:pt x="104" y="247"/>
                    </a:lnTo>
                    <a:lnTo>
                      <a:pt x="114" y="247"/>
                    </a:lnTo>
                    <a:lnTo>
                      <a:pt x="121" y="247"/>
                    </a:lnTo>
                    <a:lnTo>
                      <a:pt x="129" y="247"/>
                    </a:lnTo>
                    <a:lnTo>
                      <a:pt x="138" y="247"/>
                    </a:lnTo>
                    <a:lnTo>
                      <a:pt x="148" y="247"/>
                    </a:lnTo>
                    <a:lnTo>
                      <a:pt x="155" y="247"/>
                    </a:lnTo>
                    <a:lnTo>
                      <a:pt x="165" y="247"/>
                    </a:lnTo>
                    <a:lnTo>
                      <a:pt x="176" y="247"/>
                    </a:lnTo>
                    <a:lnTo>
                      <a:pt x="186" y="247"/>
                    </a:lnTo>
                    <a:lnTo>
                      <a:pt x="197" y="247"/>
                    </a:lnTo>
                    <a:lnTo>
                      <a:pt x="207" y="247"/>
                    </a:lnTo>
                    <a:lnTo>
                      <a:pt x="214" y="245"/>
                    </a:lnTo>
                    <a:lnTo>
                      <a:pt x="222" y="245"/>
                    </a:lnTo>
                    <a:lnTo>
                      <a:pt x="232" y="243"/>
                    </a:lnTo>
                    <a:lnTo>
                      <a:pt x="239" y="239"/>
                    </a:lnTo>
                    <a:lnTo>
                      <a:pt x="241" y="234"/>
                    </a:lnTo>
                    <a:lnTo>
                      <a:pt x="245" y="226"/>
                    </a:lnTo>
                    <a:lnTo>
                      <a:pt x="245" y="220"/>
                    </a:lnTo>
                    <a:lnTo>
                      <a:pt x="245" y="215"/>
                    </a:lnTo>
                    <a:lnTo>
                      <a:pt x="245" y="209"/>
                    </a:lnTo>
                    <a:lnTo>
                      <a:pt x="247" y="203"/>
                    </a:lnTo>
                    <a:lnTo>
                      <a:pt x="247" y="194"/>
                    </a:lnTo>
                    <a:lnTo>
                      <a:pt x="247" y="182"/>
                    </a:lnTo>
                    <a:lnTo>
                      <a:pt x="245" y="175"/>
                    </a:lnTo>
                    <a:lnTo>
                      <a:pt x="245" y="167"/>
                    </a:lnTo>
                    <a:lnTo>
                      <a:pt x="245" y="160"/>
                    </a:lnTo>
                    <a:lnTo>
                      <a:pt x="245" y="154"/>
                    </a:lnTo>
                    <a:lnTo>
                      <a:pt x="245" y="144"/>
                    </a:lnTo>
                    <a:lnTo>
                      <a:pt x="245" y="137"/>
                    </a:lnTo>
                    <a:lnTo>
                      <a:pt x="243" y="127"/>
                    </a:lnTo>
                    <a:lnTo>
                      <a:pt x="243" y="120"/>
                    </a:lnTo>
                    <a:lnTo>
                      <a:pt x="243" y="110"/>
                    </a:lnTo>
                    <a:lnTo>
                      <a:pt x="243" y="103"/>
                    </a:lnTo>
                    <a:lnTo>
                      <a:pt x="243" y="93"/>
                    </a:lnTo>
                    <a:lnTo>
                      <a:pt x="243" y="86"/>
                    </a:lnTo>
                    <a:lnTo>
                      <a:pt x="241" y="76"/>
                    </a:lnTo>
                    <a:lnTo>
                      <a:pt x="241" y="68"/>
                    </a:lnTo>
                    <a:lnTo>
                      <a:pt x="241" y="61"/>
                    </a:lnTo>
                    <a:lnTo>
                      <a:pt x="241" y="53"/>
                    </a:lnTo>
                    <a:lnTo>
                      <a:pt x="239" y="40"/>
                    </a:lnTo>
                    <a:lnTo>
                      <a:pt x="239" y="28"/>
                    </a:lnTo>
                    <a:lnTo>
                      <a:pt x="237" y="17"/>
                    </a:lnTo>
                    <a:lnTo>
                      <a:pt x="237" y="9"/>
                    </a:lnTo>
                    <a:lnTo>
                      <a:pt x="235" y="4"/>
                    </a:lnTo>
                    <a:lnTo>
                      <a:pt x="235" y="2"/>
                    </a:lnTo>
                    <a:lnTo>
                      <a:pt x="230" y="0"/>
                    </a:lnTo>
                    <a:lnTo>
                      <a:pt x="222" y="4"/>
                    </a:lnTo>
                    <a:lnTo>
                      <a:pt x="211" y="9"/>
                    </a:lnTo>
                    <a:lnTo>
                      <a:pt x="199" y="17"/>
                    </a:lnTo>
                    <a:lnTo>
                      <a:pt x="186" y="27"/>
                    </a:lnTo>
                    <a:lnTo>
                      <a:pt x="176" y="36"/>
                    </a:lnTo>
                    <a:lnTo>
                      <a:pt x="163" y="46"/>
                    </a:lnTo>
                    <a:lnTo>
                      <a:pt x="155" y="53"/>
                    </a:lnTo>
                    <a:lnTo>
                      <a:pt x="146" y="59"/>
                    </a:lnTo>
                    <a:lnTo>
                      <a:pt x="136" y="68"/>
                    </a:lnTo>
                    <a:lnTo>
                      <a:pt x="129" y="72"/>
                    </a:lnTo>
                    <a:lnTo>
                      <a:pt x="121" y="80"/>
                    </a:lnTo>
                    <a:lnTo>
                      <a:pt x="116" y="87"/>
                    </a:lnTo>
                    <a:lnTo>
                      <a:pt x="108" y="95"/>
                    </a:lnTo>
                    <a:lnTo>
                      <a:pt x="97" y="103"/>
                    </a:lnTo>
                    <a:lnTo>
                      <a:pt x="91" y="112"/>
                    </a:lnTo>
                    <a:lnTo>
                      <a:pt x="79" y="120"/>
                    </a:lnTo>
                    <a:lnTo>
                      <a:pt x="74" y="131"/>
                    </a:lnTo>
                    <a:lnTo>
                      <a:pt x="64" y="141"/>
                    </a:lnTo>
                    <a:lnTo>
                      <a:pt x="57" y="152"/>
                    </a:lnTo>
                    <a:lnTo>
                      <a:pt x="49" y="163"/>
                    </a:lnTo>
                    <a:lnTo>
                      <a:pt x="41" y="177"/>
                    </a:lnTo>
                    <a:lnTo>
                      <a:pt x="30" y="188"/>
                    </a:lnTo>
                    <a:lnTo>
                      <a:pt x="22" y="201"/>
                    </a:lnTo>
                    <a:lnTo>
                      <a:pt x="13" y="213"/>
                    </a:lnTo>
                    <a:lnTo>
                      <a:pt x="9" y="224"/>
                    </a:lnTo>
                    <a:lnTo>
                      <a:pt x="3" y="232"/>
                    </a:lnTo>
                    <a:lnTo>
                      <a:pt x="2" y="239"/>
                    </a:lnTo>
                    <a:lnTo>
                      <a:pt x="0" y="243"/>
                    </a:lnTo>
                    <a:lnTo>
                      <a:pt x="2" y="247"/>
                    </a:lnTo>
                    <a:lnTo>
                      <a:pt x="2" y="247"/>
                    </a:lnTo>
                    <a:close/>
                  </a:path>
                </a:pathLst>
              </a:custGeom>
              <a:solidFill>
                <a:srgbClr val="ffff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H="1">
                <a:off x="2827800" y="2189880"/>
                <a:ext cx="50040" cy="24840"/>
              </a:xfrm>
              <a:custGeom>
                <a:avLst/>
                <a:gdLst/>
                <a:ahLst/>
                <a:rect l="l" t="t" r="r" b="b"/>
                <a:pathLst>
                  <a:path w="76" h="38">
                    <a:moveTo>
                      <a:pt x="0" y="38"/>
                    </a:moveTo>
                    <a:lnTo>
                      <a:pt x="63" y="38"/>
                    </a:lnTo>
                    <a:lnTo>
                      <a:pt x="76" y="9"/>
                    </a:lnTo>
                    <a:lnTo>
                      <a:pt x="25" y="0"/>
                    </a:lnTo>
                    <a:lnTo>
                      <a:pt x="0" y="38"/>
                    </a:lnTo>
                    <a:lnTo>
                      <a:pt x="0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H="1">
                <a:off x="2808360" y="2151360"/>
                <a:ext cx="44640" cy="32760"/>
              </a:xfrm>
              <a:custGeom>
                <a:avLst/>
                <a:gdLst/>
                <a:ahLst/>
                <a:rect l="l" t="t" r="r" b="b"/>
                <a:pathLst>
                  <a:path w="68" h="49">
                    <a:moveTo>
                      <a:pt x="0" y="34"/>
                    </a:moveTo>
                    <a:lnTo>
                      <a:pt x="48" y="49"/>
                    </a:lnTo>
                    <a:lnTo>
                      <a:pt x="68" y="24"/>
                    </a:lnTo>
                    <a:lnTo>
                      <a:pt x="25" y="0"/>
                    </a:lnTo>
                    <a:lnTo>
                      <a:pt x="0" y="34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H="1">
                <a:off x="2785320" y="2122200"/>
                <a:ext cx="42120" cy="35640"/>
              </a:xfrm>
              <a:custGeom>
                <a:avLst/>
                <a:gdLst/>
                <a:ahLst/>
                <a:rect l="l" t="t" r="r" b="b"/>
                <a:pathLst>
                  <a:path w="65" h="53">
                    <a:moveTo>
                      <a:pt x="0" y="28"/>
                    </a:moveTo>
                    <a:lnTo>
                      <a:pt x="42" y="53"/>
                    </a:lnTo>
                    <a:lnTo>
                      <a:pt x="65" y="30"/>
                    </a:lnTo>
                    <a:lnTo>
                      <a:pt x="30" y="0"/>
                    </a:lnTo>
                    <a:lnTo>
                      <a:pt x="0" y="28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>
                <a:off x="2760120" y="2094480"/>
                <a:ext cx="37080" cy="38160"/>
              </a:xfrm>
              <a:custGeom>
                <a:avLst/>
                <a:gdLst/>
                <a:ahLst/>
                <a:rect l="l" t="t" r="r" b="b"/>
                <a:pathLst>
                  <a:path w="57" h="57">
                    <a:moveTo>
                      <a:pt x="0" y="25"/>
                    </a:moveTo>
                    <a:lnTo>
                      <a:pt x="32" y="57"/>
                    </a:lnTo>
                    <a:lnTo>
                      <a:pt x="57" y="38"/>
                    </a:lnTo>
                    <a:lnTo>
                      <a:pt x="32" y="0"/>
                    </a:lnTo>
                    <a:lnTo>
                      <a:pt x="0" y="25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>
                <a:off x="2885040" y="2302200"/>
                <a:ext cx="44640" cy="33840"/>
              </a:xfrm>
              <a:custGeom>
                <a:avLst/>
                <a:gdLst/>
                <a:ahLst/>
                <a:rect l="l" t="t" r="r" b="b"/>
                <a:pathLst>
                  <a:path w="69" h="51">
                    <a:moveTo>
                      <a:pt x="10" y="13"/>
                    </a:moveTo>
                    <a:lnTo>
                      <a:pt x="69" y="0"/>
                    </a:lnTo>
                    <a:lnTo>
                      <a:pt x="61" y="34"/>
                    </a:lnTo>
                    <a:lnTo>
                      <a:pt x="0" y="51"/>
                    </a:lnTo>
                    <a:lnTo>
                      <a:pt x="10" y="13"/>
                    </a:lnTo>
                    <a:lnTo>
                      <a:pt x="1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flipH="1">
                <a:off x="2891520" y="2338920"/>
                <a:ext cx="43200" cy="35640"/>
              </a:xfrm>
              <a:custGeom>
                <a:avLst/>
                <a:gdLst/>
                <a:ahLst/>
                <a:rect l="l" t="t" r="r" b="b"/>
                <a:pathLst>
                  <a:path w="65" h="55">
                    <a:moveTo>
                      <a:pt x="65" y="0"/>
                    </a:moveTo>
                    <a:lnTo>
                      <a:pt x="8" y="17"/>
                    </a:lnTo>
                    <a:lnTo>
                      <a:pt x="0" y="55"/>
                    </a:lnTo>
                    <a:lnTo>
                      <a:pt x="58" y="34"/>
                    </a:lnTo>
                    <a:lnTo>
                      <a:pt x="65" y="0"/>
                    </a:lnTo>
                    <a:lnTo>
                      <a:pt x="6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flipH="1">
                <a:off x="2896560" y="2376000"/>
                <a:ext cx="41040" cy="44640"/>
              </a:xfrm>
              <a:custGeom>
                <a:avLst/>
                <a:gdLst/>
                <a:ahLst/>
                <a:rect l="l" t="t" r="r" b="b"/>
                <a:pathLst>
                  <a:path w="61" h="66">
                    <a:moveTo>
                      <a:pt x="61" y="0"/>
                    </a:moveTo>
                    <a:lnTo>
                      <a:pt x="2" y="23"/>
                    </a:lnTo>
                    <a:lnTo>
                      <a:pt x="0" y="66"/>
                    </a:lnTo>
                    <a:lnTo>
                      <a:pt x="57" y="40"/>
                    </a:lnTo>
                    <a:lnTo>
                      <a:pt x="61" y="0"/>
                    </a:lnTo>
                    <a:lnTo>
                      <a:pt x="6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flipH="1">
                <a:off x="2899440" y="2419560"/>
                <a:ext cx="38160" cy="56880"/>
              </a:xfrm>
              <a:custGeom>
                <a:avLst/>
                <a:gdLst/>
                <a:ahLst/>
                <a:rect l="l" t="t" r="r" b="b"/>
                <a:pathLst>
                  <a:path w="57" h="88">
                    <a:moveTo>
                      <a:pt x="57" y="0"/>
                    </a:moveTo>
                    <a:lnTo>
                      <a:pt x="0" y="33"/>
                    </a:lnTo>
                    <a:lnTo>
                      <a:pt x="2" y="88"/>
                    </a:lnTo>
                    <a:lnTo>
                      <a:pt x="57" y="25"/>
                    </a:lnTo>
                    <a:lnTo>
                      <a:pt x="57" y="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2612160" y="2008800"/>
                <a:ext cx="26640" cy="40680"/>
              </a:xfrm>
              <a:custGeom>
                <a:avLst/>
                <a:gdLst/>
                <a:ahLst/>
                <a:rect l="l" t="t" r="r" b="b"/>
                <a:pathLst>
                  <a:path w="40" h="63">
                    <a:moveTo>
                      <a:pt x="2" y="15"/>
                    </a:moveTo>
                    <a:lnTo>
                      <a:pt x="0" y="63"/>
                    </a:lnTo>
                    <a:lnTo>
                      <a:pt x="34" y="51"/>
                    </a:lnTo>
                    <a:lnTo>
                      <a:pt x="40" y="0"/>
                    </a:lnTo>
                    <a:lnTo>
                      <a:pt x="2" y="15"/>
                    </a:lnTo>
                    <a:lnTo>
                      <a:pt x="2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flipH="1">
                <a:off x="2576520" y="1999440"/>
                <a:ext cx="27720" cy="40680"/>
              </a:xfrm>
              <a:custGeom>
                <a:avLst/>
                <a:gdLst/>
                <a:ahLst/>
                <a:rect l="l" t="t" r="r" b="b"/>
                <a:pathLst>
                  <a:path w="42" h="60">
                    <a:moveTo>
                      <a:pt x="8" y="7"/>
                    </a:moveTo>
                    <a:lnTo>
                      <a:pt x="0" y="60"/>
                    </a:lnTo>
                    <a:lnTo>
                      <a:pt x="37" y="51"/>
                    </a:lnTo>
                    <a:lnTo>
                      <a:pt x="42" y="0"/>
                    </a:lnTo>
                    <a:lnTo>
                      <a:pt x="8" y="7"/>
                    </a:lnTo>
                    <a:lnTo>
                      <a:pt x="8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flipH="1">
                <a:off x="2536920" y="1994040"/>
                <a:ext cx="27720" cy="37080"/>
              </a:xfrm>
              <a:custGeom>
                <a:avLst/>
                <a:gdLst/>
                <a:ahLst/>
                <a:rect l="l" t="t" r="r" b="b"/>
                <a:pathLst>
                  <a:path w="42" h="57">
                    <a:moveTo>
                      <a:pt x="6" y="6"/>
                    </a:moveTo>
                    <a:lnTo>
                      <a:pt x="0" y="57"/>
                    </a:lnTo>
                    <a:lnTo>
                      <a:pt x="35" y="51"/>
                    </a:lnTo>
                    <a:lnTo>
                      <a:pt x="42" y="0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flipH="1">
                <a:off x="2447280" y="1986120"/>
                <a:ext cx="46080" cy="35640"/>
              </a:xfrm>
              <a:custGeom>
                <a:avLst/>
                <a:gdLst/>
                <a:ahLst/>
                <a:rect l="l" t="t" r="r" b="b"/>
                <a:pathLst>
                  <a:path w="70" h="55">
                    <a:moveTo>
                      <a:pt x="22" y="0"/>
                    </a:moveTo>
                    <a:lnTo>
                      <a:pt x="0" y="55"/>
                    </a:lnTo>
                    <a:lnTo>
                      <a:pt x="28" y="55"/>
                    </a:lnTo>
                    <a:lnTo>
                      <a:pt x="70" y="3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2732760" y="2068200"/>
                <a:ext cx="30240" cy="44640"/>
              </a:xfrm>
              <a:custGeom>
                <a:avLst/>
                <a:gdLst/>
                <a:ahLst/>
                <a:rect l="l" t="t" r="r" b="b"/>
                <a:pathLst>
                  <a:path w="46" h="69">
                    <a:moveTo>
                      <a:pt x="0" y="29"/>
                    </a:moveTo>
                    <a:lnTo>
                      <a:pt x="19" y="69"/>
                    </a:lnTo>
                    <a:lnTo>
                      <a:pt x="46" y="53"/>
                    </a:lnTo>
                    <a:lnTo>
                      <a:pt x="38" y="0"/>
                    </a:lnTo>
                    <a:lnTo>
                      <a:pt x="0" y="29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flipH="1">
                <a:off x="2496240" y="1988640"/>
                <a:ext cx="33120" cy="37080"/>
              </a:xfrm>
              <a:custGeom>
                <a:avLst/>
                <a:gdLst/>
                <a:ahLst/>
                <a:rect l="l" t="t" r="r" b="b"/>
                <a:pathLst>
                  <a:path w="50" h="57">
                    <a:moveTo>
                      <a:pt x="10" y="4"/>
                    </a:moveTo>
                    <a:lnTo>
                      <a:pt x="0" y="57"/>
                    </a:lnTo>
                    <a:lnTo>
                      <a:pt x="35" y="54"/>
                    </a:lnTo>
                    <a:lnTo>
                      <a:pt x="50" y="0"/>
                    </a:lnTo>
                    <a:lnTo>
                      <a:pt x="10" y="4"/>
                    </a:lnTo>
                    <a:lnTo>
                      <a:pt x="1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flipH="1">
                <a:off x="2542320" y="2669400"/>
                <a:ext cx="135720" cy="47520"/>
              </a:xfrm>
              <a:custGeom>
                <a:avLst/>
                <a:gdLst/>
                <a:ahLst/>
                <a:rect l="l" t="t" r="r" b="b"/>
                <a:pathLst>
                  <a:path w="206" h="72">
                    <a:moveTo>
                      <a:pt x="0" y="66"/>
                    </a:moveTo>
                    <a:lnTo>
                      <a:pt x="2" y="64"/>
                    </a:lnTo>
                    <a:lnTo>
                      <a:pt x="12" y="62"/>
                    </a:lnTo>
                    <a:lnTo>
                      <a:pt x="17" y="58"/>
                    </a:lnTo>
                    <a:lnTo>
                      <a:pt x="27" y="55"/>
                    </a:lnTo>
                    <a:lnTo>
                      <a:pt x="34" y="51"/>
                    </a:lnTo>
                    <a:lnTo>
                      <a:pt x="46" y="49"/>
                    </a:lnTo>
                    <a:lnTo>
                      <a:pt x="55" y="43"/>
                    </a:lnTo>
                    <a:lnTo>
                      <a:pt x="67" y="38"/>
                    </a:lnTo>
                    <a:lnTo>
                      <a:pt x="78" y="32"/>
                    </a:lnTo>
                    <a:lnTo>
                      <a:pt x="90" y="28"/>
                    </a:lnTo>
                    <a:lnTo>
                      <a:pt x="101" y="20"/>
                    </a:lnTo>
                    <a:lnTo>
                      <a:pt x="112" y="15"/>
                    </a:lnTo>
                    <a:lnTo>
                      <a:pt x="126" y="7"/>
                    </a:lnTo>
                    <a:lnTo>
                      <a:pt x="137" y="0"/>
                    </a:lnTo>
                    <a:lnTo>
                      <a:pt x="206" y="7"/>
                    </a:lnTo>
                    <a:lnTo>
                      <a:pt x="202" y="7"/>
                    </a:lnTo>
                    <a:lnTo>
                      <a:pt x="198" y="15"/>
                    </a:lnTo>
                    <a:lnTo>
                      <a:pt x="188" y="22"/>
                    </a:lnTo>
                    <a:lnTo>
                      <a:pt x="177" y="34"/>
                    </a:lnTo>
                    <a:lnTo>
                      <a:pt x="171" y="38"/>
                    </a:lnTo>
                    <a:lnTo>
                      <a:pt x="164" y="43"/>
                    </a:lnTo>
                    <a:lnTo>
                      <a:pt x="154" y="49"/>
                    </a:lnTo>
                    <a:lnTo>
                      <a:pt x="147" y="55"/>
                    </a:lnTo>
                    <a:lnTo>
                      <a:pt x="137" y="58"/>
                    </a:lnTo>
                    <a:lnTo>
                      <a:pt x="130" y="64"/>
                    </a:lnTo>
                    <a:lnTo>
                      <a:pt x="120" y="68"/>
                    </a:lnTo>
                    <a:lnTo>
                      <a:pt x="111" y="72"/>
                    </a:lnTo>
                    <a:lnTo>
                      <a:pt x="0" y="66"/>
                    </a:lnTo>
                    <a:lnTo>
                      <a:pt x="0" y="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>
                <a:off x="2242440" y="2591280"/>
                <a:ext cx="78840" cy="80280"/>
              </a:xfrm>
              <a:custGeom>
                <a:avLst/>
                <a:gdLst/>
                <a:ahLst/>
                <a:rect l="l" t="t" r="r" b="b"/>
                <a:pathLst>
                  <a:path w="120" h="121">
                    <a:moveTo>
                      <a:pt x="25" y="60"/>
                    </a:moveTo>
                    <a:lnTo>
                      <a:pt x="23" y="60"/>
                    </a:lnTo>
                    <a:lnTo>
                      <a:pt x="21" y="66"/>
                    </a:lnTo>
                    <a:lnTo>
                      <a:pt x="19" y="72"/>
                    </a:lnTo>
                    <a:lnTo>
                      <a:pt x="17" y="81"/>
                    </a:lnTo>
                    <a:lnTo>
                      <a:pt x="13" y="91"/>
                    </a:lnTo>
                    <a:lnTo>
                      <a:pt x="12" y="100"/>
                    </a:lnTo>
                    <a:lnTo>
                      <a:pt x="4" y="112"/>
                    </a:lnTo>
                    <a:lnTo>
                      <a:pt x="0" y="121"/>
                    </a:lnTo>
                    <a:lnTo>
                      <a:pt x="4" y="118"/>
                    </a:lnTo>
                    <a:lnTo>
                      <a:pt x="12" y="114"/>
                    </a:lnTo>
                    <a:lnTo>
                      <a:pt x="17" y="108"/>
                    </a:lnTo>
                    <a:lnTo>
                      <a:pt x="27" y="104"/>
                    </a:lnTo>
                    <a:lnTo>
                      <a:pt x="34" y="98"/>
                    </a:lnTo>
                    <a:lnTo>
                      <a:pt x="42" y="95"/>
                    </a:lnTo>
                    <a:lnTo>
                      <a:pt x="51" y="87"/>
                    </a:lnTo>
                    <a:lnTo>
                      <a:pt x="61" y="81"/>
                    </a:lnTo>
                    <a:lnTo>
                      <a:pt x="69" y="74"/>
                    </a:lnTo>
                    <a:lnTo>
                      <a:pt x="76" y="66"/>
                    </a:lnTo>
                    <a:lnTo>
                      <a:pt x="86" y="57"/>
                    </a:lnTo>
                    <a:lnTo>
                      <a:pt x="93" y="47"/>
                    </a:lnTo>
                    <a:lnTo>
                      <a:pt x="99" y="36"/>
                    </a:lnTo>
                    <a:lnTo>
                      <a:pt x="107" y="26"/>
                    </a:lnTo>
                    <a:lnTo>
                      <a:pt x="114" y="11"/>
                    </a:lnTo>
                    <a:lnTo>
                      <a:pt x="120" y="0"/>
                    </a:lnTo>
                    <a:lnTo>
                      <a:pt x="114" y="3"/>
                    </a:lnTo>
                    <a:lnTo>
                      <a:pt x="107" y="9"/>
                    </a:lnTo>
                    <a:lnTo>
                      <a:pt x="99" y="13"/>
                    </a:lnTo>
                    <a:lnTo>
                      <a:pt x="93" y="19"/>
                    </a:lnTo>
                    <a:lnTo>
                      <a:pt x="86" y="22"/>
                    </a:lnTo>
                    <a:lnTo>
                      <a:pt x="76" y="28"/>
                    </a:lnTo>
                    <a:lnTo>
                      <a:pt x="69" y="32"/>
                    </a:lnTo>
                    <a:lnTo>
                      <a:pt x="63" y="40"/>
                    </a:lnTo>
                    <a:lnTo>
                      <a:pt x="53" y="43"/>
                    </a:lnTo>
                    <a:lnTo>
                      <a:pt x="46" y="45"/>
                    </a:lnTo>
                    <a:lnTo>
                      <a:pt x="38" y="49"/>
                    </a:lnTo>
                    <a:lnTo>
                      <a:pt x="34" y="53"/>
                    </a:lnTo>
                    <a:lnTo>
                      <a:pt x="27" y="59"/>
                    </a:lnTo>
                    <a:lnTo>
                      <a:pt x="25" y="60"/>
                    </a:lnTo>
                    <a:lnTo>
                      <a:pt x="25" y="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flipH="1">
                <a:off x="2465640" y="2673720"/>
                <a:ext cx="99000" cy="44640"/>
              </a:xfrm>
              <a:custGeom>
                <a:avLst/>
                <a:gdLst/>
                <a:ahLst/>
                <a:rect l="l" t="t" r="r" b="b"/>
                <a:pathLst>
                  <a:path w="151" h="69">
                    <a:moveTo>
                      <a:pt x="0" y="69"/>
                    </a:moveTo>
                    <a:lnTo>
                      <a:pt x="0" y="67"/>
                    </a:lnTo>
                    <a:lnTo>
                      <a:pt x="4" y="65"/>
                    </a:lnTo>
                    <a:lnTo>
                      <a:pt x="10" y="61"/>
                    </a:lnTo>
                    <a:lnTo>
                      <a:pt x="21" y="55"/>
                    </a:lnTo>
                    <a:lnTo>
                      <a:pt x="25" y="50"/>
                    </a:lnTo>
                    <a:lnTo>
                      <a:pt x="31" y="46"/>
                    </a:lnTo>
                    <a:lnTo>
                      <a:pt x="38" y="40"/>
                    </a:lnTo>
                    <a:lnTo>
                      <a:pt x="46" y="34"/>
                    </a:lnTo>
                    <a:lnTo>
                      <a:pt x="54" y="27"/>
                    </a:lnTo>
                    <a:lnTo>
                      <a:pt x="61" y="19"/>
                    </a:lnTo>
                    <a:lnTo>
                      <a:pt x="69" y="10"/>
                    </a:lnTo>
                    <a:lnTo>
                      <a:pt x="78" y="2"/>
                    </a:lnTo>
                    <a:lnTo>
                      <a:pt x="151" y="0"/>
                    </a:lnTo>
                    <a:lnTo>
                      <a:pt x="147" y="2"/>
                    </a:lnTo>
                    <a:lnTo>
                      <a:pt x="145" y="8"/>
                    </a:lnTo>
                    <a:lnTo>
                      <a:pt x="139" y="15"/>
                    </a:lnTo>
                    <a:lnTo>
                      <a:pt x="133" y="27"/>
                    </a:lnTo>
                    <a:lnTo>
                      <a:pt x="124" y="36"/>
                    </a:lnTo>
                    <a:lnTo>
                      <a:pt x="112" y="48"/>
                    </a:lnTo>
                    <a:lnTo>
                      <a:pt x="107" y="53"/>
                    </a:lnTo>
                    <a:lnTo>
                      <a:pt x="99" y="57"/>
                    </a:lnTo>
                    <a:lnTo>
                      <a:pt x="92" y="63"/>
                    </a:lnTo>
                    <a:lnTo>
                      <a:pt x="86" y="69"/>
                    </a:lnTo>
                    <a:lnTo>
                      <a:pt x="0" y="69"/>
                    </a:lnTo>
                    <a:lnTo>
                      <a:pt x="0" y="6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flipH="1">
                <a:off x="2397240" y="2661480"/>
                <a:ext cx="76320" cy="51480"/>
              </a:xfrm>
              <a:custGeom>
                <a:avLst/>
                <a:gdLst/>
                <a:ahLst/>
                <a:rect l="l" t="t" r="r" b="b"/>
                <a:pathLst>
                  <a:path w="116" h="78">
                    <a:moveTo>
                      <a:pt x="0" y="78"/>
                    </a:moveTo>
                    <a:lnTo>
                      <a:pt x="0" y="76"/>
                    </a:lnTo>
                    <a:lnTo>
                      <a:pt x="6" y="74"/>
                    </a:lnTo>
                    <a:lnTo>
                      <a:pt x="10" y="67"/>
                    </a:lnTo>
                    <a:lnTo>
                      <a:pt x="19" y="61"/>
                    </a:lnTo>
                    <a:lnTo>
                      <a:pt x="25" y="50"/>
                    </a:lnTo>
                    <a:lnTo>
                      <a:pt x="36" y="40"/>
                    </a:lnTo>
                    <a:lnTo>
                      <a:pt x="38" y="32"/>
                    </a:lnTo>
                    <a:lnTo>
                      <a:pt x="44" y="27"/>
                    </a:lnTo>
                    <a:lnTo>
                      <a:pt x="50" y="19"/>
                    </a:lnTo>
                    <a:lnTo>
                      <a:pt x="53" y="12"/>
                    </a:lnTo>
                    <a:lnTo>
                      <a:pt x="116" y="0"/>
                    </a:lnTo>
                    <a:lnTo>
                      <a:pt x="114" y="2"/>
                    </a:lnTo>
                    <a:lnTo>
                      <a:pt x="112" y="6"/>
                    </a:lnTo>
                    <a:lnTo>
                      <a:pt x="108" y="12"/>
                    </a:lnTo>
                    <a:lnTo>
                      <a:pt x="107" y="23"/>
                    </a:lnTo>
                    <a:lnTo>
                      <a:pt x="101" y="32"/>
                    </a:lnTo>
                    <a:lnTo>
                      <a:pt x="93" y="44"/>
                    </a:lnTo>
                    <a:lnTo>
                      <a:pt x="86" y="53"/>
                    </a:lnTo>
                    <a:lnTo>
                      <a:pt x="76" y="65"/>
                    </a:lnTo>
                    <a:lnTo>
                      <a:pt x="0" y="78"/>
                    </a:lnTo>
                    <a:lnTo>
                      <a:pt x="0" y="7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flipH="1">
                <a:off x="2331000" y="2643120"/>
                <a:ext cx="63360" cy="56880"/>
              </a:xfrm>
              <a:custGeom>
                <a:avLst/>
                <a:gdLst/>
                <a:ahLst/>
                <a:rect l="l" t="t" r="r" b="b"/>
                <a:pathLst>
                  <a:path w="97" h="85">
                    <a:moveTo>
                      <a:pt x="0" y="85"/>
                    </a:moveTo>
                    <a:lnTo>
                      <a:pt x="0" y="81"/>
                    </a:lnTo>
                    <a:lnTo>
                      <a:pt x="2" y="79"/>
                    </a:lnTo>
                    <a:lnTo>
                      <a:pt x="6" y="74"/>
                    </a:lnTo>
                    <a:lnTo>
                      <a:pt x="11" y="68"/>
                    </a:lnTo>
                    <a:lnTo>
                      <a:pt x="19" y="57"/>
                    </a:lnTo>
                    <a:lnTo>
                      <a:pt x="25" y="47"/>
                    </a:lnTo>
                    <a:lnTo>
                      <a:pt x="28" y="40"/>
                    </a:lnTo>
                    <a:lnTo>
                      <a:pt x="32" y="34"/>
                    </a:lnTo>
                    <a:lnTo>
                      <a:pt x="36" y="26"/>
                    </a:lnTo>
                    <a:lnTo>
                      <a:pt x="40" y="19"/>
                    </a:lnTo>
                    <a:lnTo>
                      <a:pt x="97" y="0"/>
                    </a:lnTo>
                    <a:lnTo>
                      <a:pt x="95" y="1"/>
                    </a:lnTo>
                    <a:lnTo>
                      <a:pt x="93" y="5"/>
                    </a:lnTo>
                    <a:lnTo>
                      <a:pt x="91" y="13"/>
                    </a:lnTo>
                    <a:lnTo>
                      <a:pt x="89" y="24"/>
                    </a:lnTo>
                    <a:lnTo>
                      <a:pt x="83" y="34"/>
                    </a:lnTo>
                    <a:lnTo>
                      <a:pt x="80" y="43"/>
                    </a:lnTo>
                    <a:lnTo>
                      <a:pt x="74" y="53"/>
                    </a:lnTo>
                    <a:lnTo>
                      <a:pt x="66" y="60"/>
                    </a:lnTo>
                    <a:lnTo>
                      <a:pt x="0" y="85"/>
                    </a:lnTo>
                    <a:lnTo>
                      <a:pt x="0" y="8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>
                <a:off x="2117880" y="2612880"/>
                <a:ext cx="99000" cy="42120"/>
              </a:xfrm>
              <a:custGeom>
                <a:avLst/>
                <a:gdLst/>
                <a:ahLst/>
                <a:rect l="l" t="t" r="r" b="b"/>
                <a:pathLst>
                  <a:path w="150" h="65">
                    <a:moveTo>
                      <a:pt x="0" y="65"/>
                    </a:moveTo>
                    <a:lnTo>
                      <a:pt x="0" y="63"/>
                    </a:lnTo>
                    <a:lnTo>
                      <a:pt x="4" y="59"/>
                    </a:lnTo>
                    <a:lnTo>
                      <a:pt x="9" y="53"/>
                    </a:lnTo>
                    <a:lnTo>
                      <a:pt x="17" y="47"/>
                    </a:lnTo>
                    <a:lnTo>
                      <a:pt x="23" y="38"/>
                    </a:lnTo>
                    <a:lnTo>
                      <a:pt x="30" y="30"/>
                    </a:lnTo>
                    <a:lnTo>
                      <a:pt x="38" y="21"/>
                    </a:lnTo>
                    <a:lnTo>
                      <a:pt x="45" y="11"/>
                    </a:lnTo>
                    <a:lnTo>
                      <a:pt x="53" y="9"/>
                    </a:lnTo>
                    <a:lnTo>
                      <a:pt x="61" y="9"/>
                    </a:lnTo>
                    <a:lnTo>
                      <a:pt x="68" y="9"/>
                    </a:lnTo>
                    <a:lnTo>
                      <a:pt x="76" y="9"/>
                    </a:lnTo>
                    <a:lnTo>
                      <a:pt x="82" y="8"/>
                    </a:lnTo>
                    <a:lnTo>
                      <a:pt x="89" y="8"/>
                    </a:lnTo>
                    <a:lnTo>
                      <a:pt x="97" y="8"/>
                    </a:lnTo>
                    <a:lnTo>
                      <a:pt x="104" y="8"/>
                    </a:lnTo>
                    <a:lnTo>
                      <a:pt x="110" y="6"/>
                    </a:lnTo>
                    <a:lnTo>
                      <a:pt x="118" y="4"/>
                    </a:lnTo>
                    <a:lnTo>
                      <a:pt x="123" y="4"/>
                    </a:lnTo>
                    <a:lnTo>
                      <a:pt x="131" y="4"/>
                    </a:lnTo>
                    <a:lnTo>
                      <a:pt x="141" y="0"/>
                    </a:lnTo>
                    <a:lnTo>
                      <a:pt x="150" y="0"/>
                    </a:lnTo>
                    <a:lnTo>
                      <a:pt x="146" y="2"/>
                    </a:lnTo>
                    <a:lnTo>
                      <a:pt x="144" y="8"/>
                    </a:lnTo>
                    <a:lnTo>
                      <a:pt x="139" y="11"/>
                    </a:lnTo>
                    <a:lnTo>
                      <a:pt x="133" y="17"/>
                    </a:lnTo>
                    <a:lnTo>
                      <a:pt x="123" y="23"/>
                    </a:lnTo>
                    <a:lnTo>
                      <a:pt x="116" y="30"/>
                    </a:lnTo>
                    <a:lnTo>
                      <a:pt x="110" y="32"/>
                    </a:lnTo>
                    <a:lnTo>
                      <a:pt x="104" y="36"/>
                    </a:lnTo>
                    <a:lnTo>
                      <a:pt x="99" y="38"/>
                    </a:lnTo>
                    <a:lnTo>
                      <a:pt x="93" y="42"/>
                    </a:lnTo>
                    <a:lnTo>
                      <a:pt x="84" y="44"/>
                    </a:lnTo>
                    <a:lnTo>
                      <a:pt x="76" y="46"/>
                    </a:lnTo>
                    <a:lnTo>
                      <a:pt x="68" y="47"/>
                    </a:lnTo>
                    <a:lnTo>
                      <a:pt x="63" y="51"/>
                    </a:lnTo>
                    <a:lnTo>
                      <a:pt x="53" y="51"/>
                    </a:lnTo>
                    <a:lnTo>
                      <a:pt x="45" y="55"/>
                    </a:lnTo>
                    <a:lnTo>
                      <a:pt x="38" y="55"/>
                    </a:lnTo>
                    <a:lnTo>
                      <a:pt x="32" y="59"/>
                    </a:lnTo>
                    <a:lnTo>
                      <a:pt x="25" y="59"/>
                    </a:lnTo>
                    <a:lnTo>
                      <a:pt x="19" y="59"/>
                    </a:lnTo>
                    <a:lnTo>
                      <a:pt x="13" y="61"/>
                    </a:lnTo>
                    <a:lnTo>
                      <a:pt x="9" y="63"/>
                    </a:lnTo>
                    <a:lnTo>
                      <a:pt x="2" y="63"/>
                    </a:lnTo>
                    <a:lnTo>
                      <a:pt x="0" y="65"/>
                    </a:lnTo>
                    <a:lnTo>
                      <a:pt x="0" y="6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6396120" y="1828800"/>
              <a:ext cx="876240" cy="993240"/>
              <a:chOff x="6396120" y="1828800"/>
              <a:chExt cx="876240" cy="993240"/>
            </a:xfrm>
          </p:grpSpPr>
          <p:sp>
            <p:nvSpPr>
              <p:cNvPr id="110" name=""/>
              <p:cNvSpPr/>
              <p:nvPr/>
            </p:nvSpPr>
            <p:spPr>
              <a:xfrm flipH="1">
                <a:off x="6414120" y="1975680"/>
                <a:ext cx="324360" cy="596520"/>
              </a:xfrm>
              <a:custGeom>
                <a:avLst/>
                <a:gdLst/>
                <a:ahLst/>
                <a:rect l="l" t="t" r="r" b="b"/>
                <a:pathLst>
                  <a:path w="1131" h="2080">
                    <a:moveTo>
                      <a:pt x="50" y="644"/>
                    </a:moveTo>
                    <a:lnTo>
                      <a:pt x="50" y="633"/>
                    </a:lnTo>
                    <a:lnTo>
                      <a:pt x="50" y="619"/>
                    </a:lnTo>
                    <a:lnTo>
                      <a:pt x="50" y="612"/>
                    </a:lnTo>
                    <a:lnTo>
                      <a:pt x="54" y="604"/>
                    </a:lnTo>
                    <a:lnTo>
                      <a:pt x="54" y="597"/>
                    </a:lnTo>
                    <a:lnTo>
                      <a:pt x="59" y="589"/>
                    </a:lnTo>
                    <a:lnTo>
                      <a:pt x="59" y="579"/>
                    </a:lnTo>
                    <a:lnTo>
                      <a:pt x="63" y="572"/>
                    </a:lnTo>
                    <a:lnTo>
                      <a:pt x="67" y="562"/>
                    </a:lnTo>
                    <a:lnTo>
                      <a:pt x="71" y="555"/>
                    </a:lnTo>
                    <a:lnTo>
                      <a:pt x="74" y="545"/>
                    </a:lnTo>
                    <a:lnTo>
                      <a:pt x="78" y="536"/>
                    </a:lnTo>
                    <a:lnTo>
                      <a:pt x="84" y="526"/>
                    </a:lnTo>
                    <a:lnTo>
                      <a:pt x="90" y="517"/>
                    </a:lnTo>
                    <a:lnTo>
                      <a:pt x="93" y="505"/>
                    </a:lnTo>
                    <a:lnTo>
                      <a:pt x="99" y="494"/>
                    </a:lnTo>
                    <a:lnTo>
                      <a:pt x="105" y="482"/>
                    </a:lnTo>
                    <a:lnTo>
                      <a:pt x="112" y="473"/>
                    </a:lnTo>
                    <a:lnTo>
                      <a:pt x="118" y="462"/>
                    </a:lnTo>
                    <a:lnTo>
                      <a:pt x="124" y="452"/>
                    </a:lnTo>
                    <a:lnTo>
                      <a:pt x="133" y="441"/>
                    </a:lnTo>
                    <a:lnTo>
                      <a:pt x="141" y="431"/>
                    </a:lnTo>
                    <a:lnTo>
                      <a:pt x="147" y="418"/>
                    </a:lnTo>
                    <a:lnTo>
                      <a:pt x="154" y="406"/>
                    </a:lnTo>
                    <a:lnTo>
                      <a:pt x="164" y="395"/>
                    </a:lnTo>
                    <a:lnTo>
                      <a:pt x="171" y="385"/>
                    </a:lnTo>
                    <a:lnTo>
                      <a:pt x="181" y="374"/>
                    </a:lnTo>
                    <a:lnTo>
                      <a:pt x="190" y="363"/>
                    </a:lnTo>
                    <a:lnTo>
                      <a:pt x="200" y="351"/>
                    </a:lnTo>
                    <a:lnTo>
                      <a:pt x="211" y="342"/>
                    </a:lnTo>
                    <a:lnTo>
                      <a:pt x="221" y="328"/>
                    </a:lnTo>
                    <a:lnTo>
                      <a:pt x="230" y="319"/>
                    </a:lnTo>
                    <a:lnTo>
                      <a:pt x="240" y="308"/>
                    </a:lnTo>
                    <a:lnTo>
                      <a:pt x="251" y="298"/>
                    </a:lnTo>
                    <a:lnTo>
                      <a:pt x="263" y="285"/>
                    </a:lnTo>
                    <a:lnTo>
                      <a:pt x="274" y="277"/>
                    </a:lnTo>
                    <a:lnTo>
                      <a:pt x="285" y="266"/>
                    </a:lnTo>
                    <a:lnTo>
                      <a:pt x="299" y="258"/>
                    </a:lnTo>
                    <a:lnTo>
                      <a:pt x="310" y="247"/>
                    </a:lnTo>
                    <a:lnTo>
                      <a:pt x="322" y="237"/>
                    </a:lnTo>
                    <a:lnTo>
                      <a:pt x="333" y="230"/>
                    </a:lnTo>
                    <a:lnTo>
                      <a:pt x="346" y="222"/>
                    </a:lnTo>
                    <a:lnTo>
                      <a:pt x="360" y="212"/>
                    </a:lnTo>
                    <a:lnTo>
                      <a:pt x="373" y="205"/>
                    </a:lnTo>
                    <a:lnTo>
                      <a:pt x="386" y="197"/>
                    </a:lnTo>
                    <a:lnTo>
                      <a:pt x="401" y="192"/>
                    </a:lnTo>
                    <a:lnTo>
                      <a:pt x="415" y="184"/>
                    </a:lnTo>
                    <a:lnTo>
                      <a:pt x="430" y="176"/>
                    </a:lnTo>
                    <a:lnTo>
                      <a:pt x="443" y="171"/>
                    </a:lnTo>
                    <a:lnTo>
                      <a:pt x="458" y="167"/>
                    </a:lnTo>
                    <a:lnTo>
                      <a:pt x="474" y="161"/>
                    </a:lnTo>
                    <a:lnTo>
                      <a:pt x="489" y="155"/>
                    </a:lnTo>
                    <a:lnTo>
                      <a:pt x="504" y="152"/>
                    </a:lnTo>
                    <a:lnTo>
                      <a:pt x="521" y="150"/>
                    </a:lnTo>
                    <a:lnTo>
                      <a:pt x="536" y="144"/>
                    </a:lnTo>
                    <a:lnTo>
                      <a:pt x="552" y="144"/>
                    </a:lnTo>
                    <a:lnTo>
                      <a:pt x="569" y="140"/>
                    </a:lnTo>
                    <a:lnTo>
                      <a:pt x="586" y="140"/>
                    </a:lnTo>
                    <a:lnTo>
                      <a:pt x="601" y="140"/>
                    </a:lnTo>
                    <a:lnTo>
                      <a:pt x="620" y="140"/>
                    </a:lnTo>
                    <a:lnTo>
                      <a:pt x="637" y="140"/>
                    </a:lnTo>
                    <a:lnTo>
                      <a:pt x="656" y="144"/>
                    </a:lnTo>
                    <a:lnTo>
                      <a:pt x="671" y="144"/>
                    </a:lnTo>
                    <a:lnTo>
                      <a:pt x="688" y="146"/>
                    </a:lnTo>
                    <a:lnTo>
                      <a:pt x="704" y="148"/>
                    </a:lnTo>
                    <a:lnTo>
                      <a:pt x="719" y="152"/>
                    </a:lnTo>
                    <a:lnTo>
                      <a:pt x="732" y="154"/>
                    </a:lnTo>
                    <a:lnTo>
                      <a:pt x="747" y="157"/>
                    </a:lnTo>
                    <a:lnTo>
                      <a:pt x="761" y="161"/>
                    </a:lnTo>
                    <a:lnTo>
                      <a:pt x="776" y="165"/>
                    </a:lnTo>
                    <a:lnTo>
                      <a:pt x="787" y="169"/>
                    </a:lnTo>
                    <a:lnTo>
                      <a:pt x="799" y="173"/>
                    </a:lnTo>
                    <a:lnTo>
                      <a:pt x="810" y="176"/>
                    </a:lnTo>
                    <a:lnTo>
                      <a:pt x="822" y="184"/>
                    </a:lnTo>
                    <a:lnTo>
                      <a:pt x="831" y="188"/>
                    </a:lnTo>
                    <a:lnTo>
                      <a:pt x="841" y="193"/>
                    </a:lnTo>
                    <a:lnTo>
                      <a:pt x="850" y="199"/>
                    </a:lnTo>
                    <a:lnTo>
                      <a:pt x="860" y="207"/>
                    </a:lnTo>
                    <a:lnTo>
                      <a:pt x="867" y="211"/>
                    </a:lnTo>
                    <a:lnTo>
                      <a:pt x="875" y="218"/>
                    </a:lnTo>
                    <a:lnTo>
                      <a:pt x="880" y="224"/>
                    </a:lnTo>
                    <a:lnTo>
                      <a:pt x="888" y="233"/>
                    </a:lnTo>
                    <a:lnTo>
                      <a:pt x="894" y="239"/>
                    </a:lnTo>
                    <a:lnTo>
                      <a:pt x="901" y="247"/>
                    </a:lnTo>
                    <a:lnTo>
                      <a:pt x="907" y="254"/>
                    </a:lnTo>
                    <a:lnTo>
                      <a:pt x="911" y="264"/>
                    </a:lnTo>
                    <a:lnTo>
                      <a:pt x="915" y="271"/>
                    </a:lnTo>
                    <a:lnTo>
                      <a:pt x="919" y="279"/>
                    </a:lnTo>
                    <a:lnTo>
                      <a:pt x="924" y="287"/>
                    </a:lnTo>
                    <a:lnTo>
                      <a:pt x="928" y="294"/>
                    </a:lnTo>
                    <a:lnTo>
                      <a:pt x="930" y="304"/>
                    </a:lnTo>
                    <a:lnTo>
                      <a:pt x="934" y="311"/>
                    </a:lnTo>
                    <a:lnTo>
                      <a:pt x="938" y="321"/>
                    </a:lnTo>
                    <a:lnTo>
                      <a:pt x="939" y="332"/>
                    </a:lnTo>
                    <a:lnTo>
                      <a:pt x="941" y="340"/>
                    </a:lnTo>
                    <a:lnTo>
                      <a:pt x="941" y="349"/>
                    </a:lnTo>
                    <a:lnTo>
                      <a:pt x="941" y="359"/>
                    </a:lnTo>
                    <a:lnTo>
                      <a:pt x="943" y="368"/>
                    </a:lnTo>
                    <a:lnTo>
                      <a:pt x="943" y="378"/>
                    </a:lnTo>
                    <a:lnTo>
                      <a:pt x="943" y="389"/>
                    </a:lnTo>
                    <a:lnTo>
                      <a:pt x="943" y="399"/>
                    </a:lnTo>
                    <a:lnTo>
                      <a:pt x="945" y="408"/>
                    </a:lnTo>
                    <a:lnTo>
                      <a:pt x="943" y="418"/>
                    </a:lnTo>
                    <a:lnTo>
                      <a:pt x="941" y="429"/>
                    </a:lnTo>
                    <a:lnTo>
                      <a:pt x="941" y="439"/>
                    </a:lnTo>
                    <a:lnTo>
                      <a:pt x="941" y="448"/>
                    </a:lnTo>
                    <a:lnTo>
                      <a:pt x="939" y="458"/>
                    </a:lnTo>
                    <a:lnTo>
                      <a:pt x="938" y="469"/>
                    </a:lnTo>
                    <a:lnTo>
                      <a:pt x="938" y="479"/>
                    </a:lnTo>
                    <a:lnTo>
                      <a:pt x="936" y="492"/>
                    </a:lnTo>
                    <a:lnTo>
                      <a:pt x="932" y="501"/>
                    </a:lnTo>
                    <a:lnTo>
                      <a:pt x="930" y="511"/>
                    </a:lnTo>
                    <a:lnTo>
                      <a:pt x="928" y="522"/>
                    </a:lnTo>
                    <a:lnTo>
                      <a:pt x="924" y="532"/>
                    </a:lnTo>
                    <a:lnTo>
                      <a:pt x="922" y="541"/>
                    </a:lnTo>
                    <a:lnTo>
                      <a:pt x="919" y="553"/>
                    </a:lnTo>
                    <a:lnTo>
                      <a:pt x="917" y="562"/>
                    </a:lnTo>
                    <a:lnTo>
                      <a:pt x="915" y="576"/>
                    </a:lnTo>
                    <a:lnTo>
                      <a:pt x="911" y="583"/>
                    </a:lnTo>
                    <a:lnTo>
                      <a:pt x="907" y="597"/>
                    </a:lnTo>
                    <a:lnTo>
                      <a:pt x="903" y="606"/>
                    </a:lnTo>
                    <a:lnTo>
                      <a:pt x="901" y="617"/>
                    </a:lnTo>
                    <a:lnTo>
                      <a:pt x="898" y="627"/>
                    </a:lnTo>
                    <a:lnTo>
                      <a:pt x="894" y="638"/>
                    </a:lnTo>
                    <a:lnTo>
                      <a:pt x="892" y="648"/>
                    </a:lnTo>
                    <a:lnTo>
                      <a:pt x="888" y="659"/>
                    </a:lnTo>
                    <a:lnTo>
                      <a:pt x="392" y="1277"/>
                    </a:lnTo>
                    <a:lnTo>
                      <a:pt x="396" y="1285"/>
                    </a:lnTo>
                    <a:lnTo>
                      <a:pt x="401" y="1296"/>
                    </a:lnTo>
                    <a:lnTo>
                      <a:pt x="407" y="1308"/>
                    </a:lnTo>
                    <a:lnTo>
                      <a:pt x="413" y="1323"/>
                    </a:lnTo>
                    <a:lnTo>
                      <a:pt x="413" y="1329"/>
                    </a:lnTo>
                    <a:lnTo>
                      <a:pt x="417" y="1336"/>
                    </a:lnTo>
                    <a:lnTo>
                      <a:pt x="419" y="1344"/>
                    </a:lnTo>
                    <a:lnTo>
                      <a:pt x="422" y="1351"/>
                    </a:lnTo>
                    <a:lnTo>
                      <a:pt x="426" y="1359"/>
                    </a:lnTo>
                    <a:lnTo>
                      <a:pt x="428" y="1367"/>
                    </a:lnTo>
                    <a:lnTo>
                      <a:pt x="430" y="1376"/>
                    </a:lnTo>
                    <a:lnTo>
                      <a:pt x="434" y="1386"/>
                    </a:lnTo>
                    <a:lnTo>
                      <a:pt x="436" y="1393"/>
                    </a:lnTo>
                    <a:lnTo>
                      <a:pt x="438" y="1401"/>
                    </a:lnTo>
                    <a:lnTo>
                      <a:pt x="441" y="1410"/>
                    </a:lnTo>
                    <a:lnTo>
                      <a:pt x="445" y="1420"/>
                    </a:lnTo>
                    <a:lnTo>
                      <a:pt x="447" y="1429"/>
                    </a:lnTo>
                    <a:lnTo>
                      <a:pt x="449" y="1439"/>
                    </a:lnTo>
                    <a:lnTo>
                      <a:pt x="451" y="1448"/>
                    </a:lnTo>
                    <a:lnTo>
                      <a:pt x="457" y="1460"/>
                    </a:lnTo>
                    <a:lnTo>
                      <a:pt x="457" y="1467"/>
                    </a:lnTo>
                    <a:lnTo>
                      <a:pt x="460" y="1477"/>
                    </a:lnTo>
                    <a:lnTo>
                      <a:pt x="462" y="1486"/>
                    </a:lnTo>
                    <a:lnTo>
                      <a:pt x="464" y="1498"/>
                    </a:lnTo>
                    <a:lnTo>
                      <a:pt x="466" y="1507"/>
                    </a:lnTo>
                    <a:lnTo>
                      <a:pt x="470" y="1517"/>
                    </a:lnTo>
                    <a:lnTo>
                      <a:pt x="472" y="1526"/>
                    </a:lnTo>
                    <a:lnTo>
                      <a:pt x="476" y="1538"/>
                    </a:lnTo>
                    <a:lnTo>
                      <a:pt x="477" y="1545"/>
                    </a:lnTo>
                    <a:lnTo>
                      <a:pt x="479" y="1555"/>
                    </a:lnTo>
                    <a:lnTo>
                      <a:pt x="481" y="1564"/>
                    </a:lnTo>
                    <a:lnTo>
                      <a:pt x="483" y="1574"/>
                    </a:lnTo>
                    <a:lnTo>
                      <a:pt x="485" y="1581"/>
                    </a:lnTo>
                    <a:lnTo>
                      <a:pt x="487" y="1591"/>
                    </a:lnTo>
                    <a:lnTo>
                      <a:pt x="489" y="1600"/>
                    </a:lnTo>
                    <a:lnTo>
                      <a:pt x="491" y="1608"/>
                    </a:lnTo>
                    <a:lnTo>
                      <a:pt x="491" y="1618"/>
                    </a:lnTo>
                    <a:lnTo>
                      <a:pt x="495" y="1625"/>
                    </a:lnTo>
                    <a:lnTo>
                      <a:pt x="496" y="1633"/>
                    </a:lnTo>
                    <a:lnTo>
                      <a:pt x="498" y="1640"/>
                    </a:lnTo>
                    <a:lnTo>
                      <a:pt x="498" y="1648"/>
                    </a:lnTo>
                    <a:lnTo>
                      <a:pt x="500" y="1656"/>
                    </a:lnTo>
                    <a:lnTo>
                      <a:pt x="502" y="1661"/>
                    </a:lnTo>
                    <a:lnTo>
                      <a:pt x="504" y="1671"/>
                    </a:lnTo>
                    <a:lnTo>
                      <a:pt x="506" y="1680"/>
                    </a:lnTo>
                    <a:lnTo>
                      <a:pt x="508" y="1692"/>
                    </a:lnTo>
                    <a:lnTo>
                      <a:pt x="510" y="1703"/>
                    </a:lnTo>
                    <a:lnTo>
                      <a:pt x="514" y="1713"/>
                    </a:lnTo>
                    <a:lnTo>
                      <a:pt x="515" y="1722"/>
                    </a:lnTo>
                    <a:lnTo>
                      <a:pt x="517" y="1728"/>
                    </a:lnTo>
                    <a:lnTo>
                      <a:pt x="517" y="2080"/>
                    </a:lnTo>
                    <a:lnTo>
                      <a:pt x="692" y="2017"/>
                    </a:lnTo>
                    <a:lnTo>
                      <a:pt x="692" y="2013"/>
                    </a:lnTo>
                    <a:lnTo>
                      <a:pt x="692" y="2004"/>
                    </a:lnTo>
                    <a:lnTo>
                      <a:pt x="692" y="1996"/>
                    </a:lnTo>
                    <a:lnTo>
                      <a:pt x="692" y="1990"/>
                    </a:lnTo>
                    <a:lnTo>
                      <a:pt x="692" y="1981"/>
                    </a:lnTo>
                    <a:lnTo>
                      <a:pt x="692" y="1973"/>
                    </a:lnTo>
                    <a:lnTo>
                      <a:pt x="692" y="1960"/>
                    </a:lnTo>
                    <a:lnTo>
                      <a:pt x="692" y="1948"/>
                    </a:lnTo>
                    <a:lnTo>
                      <a:pt x="690" y="1933"/>
                    </a:lnTo>
                    <a:lnTo>
                      <a:pt x="690" y="1920"/>
                    </a:lnTo>
                    <a:lnTo>
                      <a:pt x="688" y="1912"/>
                    </a:lnTo>
                    <a:lnTo>
                      <a:pt x="688" y="1905"/>
                    </a:lnTo>
                    <a:lnTo>
                      <a:pt x="687" y="1897"/>
                    </a:lnTo>
                    <a:lnTo>
                      <a:pt x="687" y="1889"/>
                    </a:lnTo>
                    <a:lnTo>
                      <a:pt x="685" y="1880"/>
                    </a:lnTo>
                    <a:lnTo>
                      <a:pt x="683" y="1872"/>
                    </a:lnTo>
                    <a:lnTo>
                      <a:pt x="683" y="1863"/>
                    </a:lnTo>
                    <a:lnTo>
                      <a:pt x="683" y="1855"/>
                    </a:lnTo>
                    <a:lnTo>
                      <a:pt x="679" y="1844"/>
                    </a:lnTo>
                    <a:lnTo>
                      <a:pt x="679" y="1834"/>
                    </a:lnTo>
                    <a:lnTo>
                      <a:pt x="675" y="1823"/>
                    </a:lnTo>
                    <a:lnTo>
                      <a:pt x="675" y="1815"/>
                    </a:lnTo>
                    <a:lnTo>
                      <a:pt x="671" y="1802"/>
                    </a:lnTo>
                    <a:lnTo>
                      <a:pt x="669" y="1793"/>
                    </a:lnTo>
                    <a:lnTo>
                      <a:pt x="666" y="1781"/>
                    </a:lnTo>
                    <a:lnTo>
                      <a:pt x="666" y="1772"/>
                    </a:lnTo>
                    <a:lnTo>
                      <a:pt x="662" y="1760"/>
                    </a:lnTo>
                    <a:lnTo>
                      <a:pt x="658" y="1749"/>
                    </a:lnTo>
                    <a:lnTo>
                      <a:pt x="656" y="1737"/>
                    </a:lnTo>
                    <a:lnTo>
                      <a:pt x="652" y="1728"/>
                    </a:lnTo>
                    <a:lnTo>
                      <a:pt x="649" y="1715"/>
                    </a:lnTo>
                    <a:lnTo>
                      <a:pt x="647" y="1703"/>
                    </a:lnTo>
                    <a:lnTo>
                      <a:pt x="643" y="1692"/>
                    </a:lnTo>
                    <a:lnTo>
                      <a:pt x="639" y="1680"/>
                    </a:lnTo>
                    <a:lnTo>
                      <a:pt x="635" y="1667"/>
                    </a:lnTo>
                    <a:lnTo>
                      <a:pt x="631" y="1656"/>
                    </a:lnTo>
                    <a:lnTo>
                      <a:pt x="626" y="1642"/>
                    </a:lnTo>
                    <a:lnTo>
                      <a:pt x="622" y="1631"/>
                    </a:lnTo>
                    <a:lnTo>
                      <a:pt x="616" y="1618"/>
                    </a:lnTo>
                    <a:lnTo>
                      <a:pt x="611" y="1604"/>
                    </a:lnTo>
                    <a:lnTo>
                      <a:pt x="605" y="1591"/>
                    </a:lnTo>
                    <a:lnTo>
                      <a:pt x="601" y="1580"/>
                    </a:lnTo>
                    <a:lnTo>
                      <a:pt x="593" y="1564"/>
                    </a:lnTo>
                    <a:lnTo>
                      <a:pt x="588" y="1553"/>
                    </a:lnTo>
                    <a:lnTo>
                      <a:pt x="580" y="1538"/>
                    </a:lnTo>
                    <a:lnTo>
                      <a:pt x="574" y="1526"/>
                    </a:lnTo>
                    <a:lnTo>
                      <a:pt x="567" y="1511"/>
                    </a:lnTo>
                    <a:lnTo>
                      <a:pt x="561" y="1500"/>
                    </a:lnTo>
                    <a:lnTo>
                      <a:pt x="552" y="1486"/>
                    </a:lnTo>
                    <a:lnTo>
                      <a:pt x="546" y="1473"/>
                    </a:lnTo>
                    <a:lnTo>
                      <a:pt x="538" y="1460"/>
                    </a:lnTo>
                    <a:lnTo>
                      <a:pt x="533" y="1445"/>
                    </a:lnTo>
                    <a:lnTo>
                      <a:pt x="527" y="1429"/>
                    </a:lnTo>
                    <a:lnTo>
                      <a:pt x="525" y="1416"/>
                    </a:lnTo>
                    <a:lnTo>
                      <a:pt x="521" y="1401"/>
                    </a:lnTo>
                    <a:lnTo>
                      <a:pt x="523" y="1386"/>
                    </a:lnTo>
                    <a:lnTo>
                      <a:pt x="525" y="1370"/>
                    </a:lnTo>
                    <a:lnTo>
                      <a:pt x="529" y="1357"/>
                    </a:lnTo>
                    <a:lnTo>
                      <a:pt x="531" y="1340"/>
                    </a:lnTo>
                    <a:lnTo>
                      <a:pt x="536" y="1325"/>
                    </a:lnTo>
                    <a:lnTo>
                      <a:pt x="542" y="1310"/>
                    </a:lnTo>
                    <a:lnTo>
                      <a:pt x="550" y="1292"/>
                    </a:lnTo>
                    <a:lnTo>
                      <a:pt x="557" y="1277"/>
                    </a:lnTo>
                    <a:lnTo>
                      <a:pt x="565" y="1260"/>
                    </a:lnTo>
                    <a:lnTo>
                      <a:pt x="574" y="1245"/>
                    </a:lnTo>
                    <a:lnTo>
                      <a:pt x="588" y="1230"/>
                    </a:lnTo>
                    <a:lnTo>
                      <a:pt x="597" y="1213"/>
                    </a:lnTo>
                    <a:lnTo>
                      <a:pt x="609" y="1195"/>
                    </a:lnTo>
                    <a:lnTo>
                      <a:pt x="622" y="1178"/>
                    </a:lnTo>
                    <a:lnTo>
                      <a:pt x="635" y="1161"/>
                    </a:lnTo>
                    <a:lnTo>
                      <a:pt x="649" y="1142"/>
                    </a:lnTo>
                    <a:lnTo>
                      <a:pt x="664" y="1127"/>
                    </a:lnTo>
                    <a:lnTo>
                      <a:pt x="679" y="1108"/>
                    </a:lnTo>
                    <a:lnTo>
                      <a:pt x="696" y="1093"/>
                    </a:lnTo>
                    <a:lnTo>
                      <a:pt x="711" y="1074"/>
                    </a:lnTo>
                    <a:lnTo>
                      <a:pt x="727" y="1057"/>
                    </a:lnTo>
                    <a:lnTo>
                      <a:pt x="744" y="1038"/>
                    </a:lnTo>
                    <a:lnTo>
                      <a:pt x="761" y="1021"/>
                    </a:lnTo>
                    <a:lnTo>
                      <a:pt x="778" y="1002"/>
                    </a:lnTo>
                    <a:lnTo>
                      <a:pt x="795" y="984"/>
                    </a:lnTo>
                    <a:lnTo>
                      <a:pt x="812" y="965"/>
                    </a:lnTo>
                    <a:lnTo>
                      <a:pt x="831" y="948"/>
                    </a:lnTo>
                    <a:lnTo>
                      <a:pt x="846" y="927"/>
                    </a:lnTo>
                    <a:lnTo>
                      <a:pt x="863" y="910"/>
                    </a:lnTo>
                    <a:lnTo>
                      <a:pt x="880" y="889"/>
                    </a:lnTo>
                    <a:lnTo>
                      <a:pt x="898" y="870"/>
                    </a:lnTo>
                    <a:lnTo>
                      <a:pt x="915" y="851"/>
                    </a:lnTo>
                    <a:lnTo>
                      <a:pt x="930" y="832"/>
                    </a:lnTo>
                    <a:lnTo>
                      <a:pt x="945" y="813"/>
                    </a:lnTo>
                    <a:lnTo>
                      <a:pt x="962" y="794"/>
                    </a:lnTo>
                    <a:lnTo>
                      <a:pt x="977" y="775"/>
                    </a:lnTo>
                    <a:lnTo>
                      <a:pt x="995" y="756"/>
                    </a:lnTo>
                    <a:lnTo>
                      <a:pt x="1006" y="735"/>
                    </a:lnTo>
                    <a:lnTo>
                      <a:pt x="1021" y="716"/>
                    </a:lnTo>
                    <a:lnTo>
                      <a:pt x="1034" y="695"/>
                    </a:lnTo>
                    <a:lnTo>
                      <a:pt x="1048" y="676"/>
                    </a:lnTo>
                    <a:lnTo>
                      <a:pt x="1059" y="655"/>
                    </a:lnTo>
                    <a:lnTo>
                      <a:pt x="1072" y="636"/>
                    </a:lnTo>
                    <a:lnTo>
                      <a:pt x="1080" y="616"/>
                    </a:lnTo>
                    <a:lnTo>
                      <a:pt x="1091" y="597"/>
                    </a:lnTo>
                    <a:lnTo>
                      <a:pt x="1099" y="576"/>
                    </a:lnTo>
                    <a:lnTo>
                      <a:pt x="1107" y="557"/>
                    </a:lnTo>
                    <a:lnTo>
                      <a:pt x="1112" y="536"/>
                    </a:lnTo>
                    <a:lnTo>
                      <a:pt x="1120" y="515"/>
                    </a:lnTo>
                    <a:lnTo>
                      <a:pt x="1124" y="496"/>
                    </a:lnTo>
                    <a:lnTo>
                      <a:pt x="1130" y="475"/>
                    </a:lnTo>
                    <a:lnTo>
                      <a:pt x="1130" y="454"/>
                    </a:lnTo>
                    <a:lnTo>
                      <a:pt x="1131" y="433"/>
                    </a:lnTo>
                    <a:lnTo>
                      <a:pt x="1131" y="412"/>
                    </a:lnTo>
                    <a:lnTo>
                      <a:pt x="1131" y="393"/>
                    </a:lnTo>
                    <a:lnTo>
                      <a:pt x="1128" y="372"/>
                    </a:lnTo>
                    <a:lnTo>
                      <a:pt x="1124" y="351"/>
                    </a:lnTo>
                    <a:lnTo>
                      <a:pt x="1118" y="330"/>
                    </a:lnTo>
                    <a:lnTo>
                      <a:pt x="1112" y="311"/>
                    </a:lnTo>
                    <a:lnTo>
                      <a:pt x="1103" y="289"/>
                    </a:lnTo>
                    <a:lnTo>
                      <a:pt x="1093" y="269"/>
                    </a:lnTo>
                    <a:lnTo>
                      <a:pt x="1082" y="250"/>
                    </a:lnTo>
                    <a:lnTo>
                      <a:pt x="1072" y="233"/>
                    </a:lnTo>
                    <a:lnTo>
                      <a:pt x="1063" y="214"/>
                    </a:lnTo>
                    <a:lnTo>
                      <a:pt x="1052" y="199"/>
                    </a:lnTo>
                    <a:lnTo>
                      <a:pt x="1042" y="184"/>
                    </a:lnTo>
                    <a:lnTo>
                      <a:pt x="1031" y="171"/>
                    </a:lnTo>
                    <a:lnTo>
                      <a:pt x="1017" y="155"/>
                    </a:lnTo>
                    <a:lnTo>
                      <a:pt x="1006" y="142"/>
                    </a:lnTo>
                    <a:lnTo>
                      <a:pt x="993" y="131"/>
                    </a:lnTo>
                    <a:lnTo>
                      <a:pt x="981" y="117"/>
                    </a:lnTo>
                    <a:lnTo>
                      <a:pt x="968" y="106"/>
                    </a:lnTo>
                    <a:lnTo>
                      <a:pt x="955" y="96"/>
                    </a:lnTo>
                    <a:lnTo>
                      <a:pt x="941" y="87"/>
                    </a:lnTo>
                    <a:lnTo>
                      <a:pt x="928" y="79"/>
                    </a:lnTo>
                    <a:lnTo>
                      <a:pt x="913" y="70"/>
                    </a:lnTo>
                    <a:lnTo>
                      <a:pt x="898" y="62"/>
                    </a:lnTo>
                    <a:lnTo>
                      <a:pt x="884" y="55"/>
                    </a:lnTo>
                    <a:lnTo>
                      <a:pt x="869" y="47"/>
                    </a:lnTo>
                    <a:lnTo>
                      <a:pt x="854" y="41"/>
                    </a:lnTo>
                    <a:lnTo>
                      <a:pt x="841" y="36"/>
                    </a:lnTo>
                    <a:lnTo>
                      <a:pt x="825" y="30"/>
                    </a:lnTo>
                    <a:lnTo>
                      <a:pt x="810" y="26"/>
                    </a:lnTo>
                    <a:lnTo>
                      <a:pt x="795" y="22"/>
                    </a:lnTo>
                    <a:lnTo>
                      <a:pt x="780" y="17"/>
                    </a:lnTo>
                    <a:lnTo>
                      <a:pt x="766" y="15"/>
                    </a:lnTo>
                    <a:lnTo>
                      <a:pt x="753" y="13"/>
                    </a:lnTo>
                    <a:lnTo>
                      <a:pt x="736" y="9"/>
                    </a:lnTo>
                    <a:lnTo>
                      <a:pt x="723" y="7"/>
                    </a:lnTo>
                    <a:lnTo>
                      <a:pt x="707" y="5"/>
                    </a:lnTo>
                    <a:lnTo>
                      <a:pt x="694" y="5"/>
                    </a:lnTo>
                    <a:lnTo>
                      <a:pt x="679" y="3"/>
                    </a:lnTo>
                    <a:lnTo>
                      <a:pt x="666" y="1"/>
                    </a:lnTo>
                    <a:lnTo>
                      <a:pt x="650" y="1"/>
                    </a:lnTo>
                    <a:lnTo>
                      <a:pt x="637" y="1"/>
                    </a:lnTo>
                    <a:lnTo>
                      <a:pt x="622" y="0"/>
                    </a:lnTo>
                    <a:lnTo>
                      <a:pt x="609" y="0"/>
                    </a:lnTo>
                    <a:lnTo>
                      <a:pt x="595" y="1"/>
                    </a:lnTo>
                    <a:lnTo>
                      <a:pt x="584" y="3"/>
                    </a:lnTo>
                    <a:lnTo>
                      <a:pt x="571" y="3"/>
                    </a:lnTo>
                    <a:lnTo>
                      <a:pt x="557" y="3"/>
                    </a:lnTo>
                    <a:lnTo>
                      <a:pt x="546" y="3"/>
                    </a:lnTo>
                    <a:lnTo>
                      <a:pt x="534" y="5"/>
                    </a:lnTo>
                    <a:lnTo>
                      <a:pt x="523" y="7"/>
                    </a:lnTo>
                    <a:lnTo>
                      <a:pt x="514" y="9"/>
                    </a:lnTo>
                    <a:lnTo>
                      <a:pt x="502" y="11"/>
                    </a:lnTo>
                    <a:lnTo>
                      <a:pt x="495" y="13"/>
                    </a:lnTo>
                    <a:lnTo>
                      <a:pt x="483" y="13"/>
                    </a:lnTo>
                    <a:lnTo>
                      <a:pt x="474" y="17"/>
                    </a:lnTo>
                    <a:lnTo>
                      <a:pt x="466" y="17"/>
                    </a:lnTo>
                    <a:lnTo>
                      <a:pt x="458" y="20"/>
                    </a:lnTo>
                    <a:lnTo>
                      <a:pt x="451" y="20"/>
                    </a:lnTo>
                    <a:lnTo>
                      <a:pt x="443" y="22"/>
                    </a:lnTo>
                    <a:lnTo>
                      <a:pt x="436" y="24"/>
                    </a:lnTo>
                    <a:lnTo>
                      <a:pt x="432" y="26"/>
                    </a:lnTo>
                    <a:lnTo>
                      <a:pt x="420" y="28"/>
                    </a:lnTo>
                    <a:lnTo>
                      <a:pt x="415" y="30"/>
                    </a:lnTo>
                    <a:lnTo>
                      <a:pt x="409" y="32"/>
                    </a:lnTo>
                    <a:lnTo>
                      <a:pt x="409" y="34"/>
                    </a:lnTo>
                    <a:lnTo>
                      <a:pt x="0" y="404"/>
                    </a:lnTo>
                    <a:lnTo>
                      <a:pt x="50" y="644"/>
                    </a:lnTo>
                    <a:lnTo>
                      <a:pt x="50" y="644"/>
                    </a:lnTo>
                    <a:close/>
                  </a:path>
                </a:pathLst>
              </a:custGeom>
              <a:solidFill>
                <a:srgbClr val="b5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6611040" y="2214360"/>
                <a:ext cx="627120" cy="570960"/>
              </a:xfrm>
              <a:custGeom>
                <a:avLst/>
                <a:gdLst/>
                <a:ahLst/>
                <a:rect l="l" t="t" r="r" b="b"/>
                <a:pathLst>
                  <a:path w="2184" h="1989">
                    <a:moveTo>
                      <a:pt x="384" y="297"/>
                    </a:moveTo>
                    <a:lnTo>
                      <a:pt x="382" y="297"/>
                    </a:lnTo>
                    <a:lnTo>
                      <a:pt x="380" y="301"/>
                    </a:lnTo>
                    <a:lnTo>
                      <a:pt x="376" y="305"/>
                    </a:lnTo>
                    <a:lnTo>
                      <a:pt x="372" y="310"/>
                    </a:lnTo>
                    <a:lnTo>
                      <a:pt x="367" y="318"/>
                    </a:lnTo>
                    <a:lnTo>
                      <a:pt x="361" y="327"/>
                    </a:lnTo>
                    <a:lnTo>
                      <a:pt x="357" y="331"/>
                    </a:lnTo>
                    <a:lnTo>
                      <a:pt x="353" y="337"/>
                    </a:lnTo>
                    <a:lnTo>
                      <a:pt x="350" y="343"/>
                    </a:lnTo>
                    <a:lnTo>
                      <a:pt x="346" y="350"/>
                    </a:lnTo>
                    <a:lnTo>
                      <a:pt x="340" y="356"/>
                    </a:lnTo>
                    <a:lnTo>
                      <a:pt x="336" y="363"/>
                    </a:lnTo>
                    <a:lnTo>
                      <a:pt x="331" y="369"/>
                    </a:lnTo>
                    <a:lnTo>
                      <a:pt x="327" y="377"/>
                    </a:lnTo>
                    <a:lnTo>
                      <a:pt x="321" y="384"/>
                    </a:lnTo>
                    <a:lnTo>
                      <a:pt x="315" y="392"/>
                    </a:lnTo>
                    <a:lnTo>
                      <a:pt x="310" y="402"/>
                    </a:lnTo>
                    <a:lnTo>
                      <a:pt x="306" y="411"/>
                    </a:lnTo>
                    <a:lnTo>
                      <a:pt x="300" y="419"/>
                    </a:lnTo>
                    <a:lnTo>
                      <a:pt x="294" y="426"/>
                    </a:lnTo>
                    <a:lnTo>
                      <a:pt x="287" y="436"/>
                    </a:lnTo>
                    <a:lnTo>
                      <a:pt x="283" y="447"/>
                    </a:lnTo>
                    <a:lnTo>
                      <a:pt x="275" y="455"/>
                    </a:lnTo>
                    <a:lnTo>
                      <a:pt x="270" y="466"/>
                    </a:lnTo>
                    <a:lnTo>
                      <a:pt x="264" y="476"/>
                    </a:lnTo>
                    <a:lnTo>
                      <a:pt x="258" y="487"/>
                    </a:lnTo>
                    <a:lnTo>
                      <a:pt x="251" y="497"/>
                    </a:lnTo>
                    <a:lnTo>
                      <a:pt x="245" y="508"/>
                    </a:lnTo>
                    <a:lnTo>
                      <a:pt x="237" y="517"/>
                    </a:lnTo>
                    <a:lnTo>
                      <a:pt x="232" y="529"/>
                    </a:lnTo>
                    <a:lnTo>
                      <a:pt x="224" y="538"/>
                    </a:lnTo>
                    <a:lnTo>
                      <a:pt x="218" y="550"/>
                    </a:lnTo>
                    <a:lnTo>
                      <a:pt x="211" y="561"/>
                    </a:lnTo>
                    <a:lnTo>
                      <a:pt x="205" y="575"/>
                    </a:lnTo>
                    <a:lnTo>
                      <a:pt x="196" y="584"/>
                    </a:lnTo>
                    <a:lnTo>
                      <a:pt x="190" y="595"/>
                    </a:lnTo>
                    <a:lnTo>
                      <a:pt x="182" y="609"/>
                    </a:lnTo>
                    <a:lnTo>
                      <a:pt x="178" y="620"/>
                    </a:lnTo>
                    <a:lnTo>
                      <a:pt x="171" y="632"/>
                    </a:lnTo>
                    <a:lnTo>
                      <a:pt x="163" y="645"/>
                    </a:lnTo>
                    <a:lnTo>
                      <a:pt x="156" y="656"/>
                    </a:lnTo>
                    <a:lnTo>
                      <a:pt x="152" y="668"/>
                    </a:lnTo>
                    <a:lnTo>
                      <a:pt x="144" y="679"/>
                    </a:lnTo>
                    <a:lnTo>
                      <a:pt x="137" y="692"/>
                    </a:lnTo>
                    <a:lnTo>
                      <a:pt x="131" y="704"/>
                    </a:lnTo>
                    <a:lnTo>
                      <a:pt x="123" y="715"/>
                    </a:lnTo>
                    <a:lnTo>
                      <a:pt x="118" y="729"/>
                    </a:lnTo>
                    <a:lnTo>
                      <a:pt x="112" y="740"/>
                    </a:lnTo>
                    <a:lnTo>
                      <a:pt x="104" y="751"/>
                    </a:lnTo>
                    <a:lnTo>
                      <a:pt x="101" y="763"/>
                    </a:lnTo>
                    <a:lnTo>
                      <a:pt x="93" y="774"/>
                    </a:lnTo>
                    <a:lnTo>
                      <a:pt x="87" y="786"/>
                    </a:lnTo>
                    <a:lnTo>
                      <a:pt x="82" y="799"/>
                    </a:lnTo>
                    <a:lnTo>
                      <a:pt x="76" y="810"/>
                    </a:lnTo>
                    <a:lnTo>
                      <a:pt x="70" y="820"/>
                    </a:lnTo>
                    <a:lnTo>
                      <a:pt x="64" y="833"/>
                    </a:lnTo>
                    <a:lnTo>
                      <a:pt x="61" y="845"/>
                    </a:lnTo>
                    <a:lnTo>
                      <a:pt x="57" y="856"/>
                    </a:lnTo>
                    <a:lnTo>
                      <a:pt x="51" y="867"/>
                    </a:lnTo>
                    <a:lnTo>
                      <a:pt x="47" y="877"/>
                    </a:lnTo>
                    <a:lnTo>
                      <a:pt x="43" y="890"/>
                    </a:lnTo>
                    <a:lnTo>
                      <a:pt x="40" y="902"/>
                    </a:lnTo>
                    <a:lnTo>
                      <a:pt x="34" y="913"/>
                    </a:lnTo>
                    <a:lnTo>
                      <a:pt x="30" y="926"/>
                    </a:lnTo>
                    <a:lnTo>
                      <a:pt x="26" y="938"/>
                    </a:lnTo>
                    <a:lnTo>
                      <a:pt x="24" y="951"/>
                    </a:lnTo>
                    <a:lnTo>
                      <a:pt x="21" y="962"/>
                    </a:lnTo>
                    <a:lnTo>
                      <a:pt x="17" y="974"/>
                    </a:lnTo>
                    <a:lnTo>
                      <a:pt x="13" y="987"/>
                    </a:lnTo>
                    <a:lnTo>
                      <a:pt x="13" y="1000"/>
                    </a:lnTo>
                    <a:lnTo>
                      <a:pt x="9" y="1014"/>
                    </a:lnTo>
                    <a:lnTo>
                      <a:pt x="7" y="1029"/>
                    </a:lnTo>
                    <a:lnTo>
                      <a:pt x="5" y="1042"/>
                    </a:lnTo>
                    <a:lnTo>
                      <a:pt x="5" y="1057"/>
                    </a:lnTo>
                    <a:lnTo>
                      <a:pt x="4" y="1071"/>
                    </a:lnTo>
                    <a:lnTo>
                      <a:pt x="2" y="1084"/>
                    </a:lnTo>
                    <a:lnTo>
                      <a:pt x="2" y="1097"/>
                    </a:lnTo>
                    <a:lnTo>
                      <a:pt x="2" y="1113"/>
                    </a:lnTo>
                    <a:lnTo>
                      <a:pt x="0" y="1126"/>
                    </a:lnTo>
                    <a:lnTo>
                      <a:pt x="0" y="1141"/>
                    </a:lnTo>
                    <a:lnTo>
                      <a:pt x="0" y="1154"/>
                    </a:lnTo>
                    <a:lnTo>
                      <a:pt x="2" y="1172"/>
                    </a:lnTo>
                    <a:lnTo>
                      <a:pt x="2" y="1185"/>
                    </a:lnTo>
                    <a:lnTo>
                      <a:pt x="4" y="1200"/>
                    </a:lnTo>
                    <a:lnTo>
                      <a:pt x="4" y="1215"/>
                    </a:lnTo>
                    <a:lnTo>
                      <a:pt x="5" y="1231"/>
                    </a:lnTo>
                    <a:lnTo>
                      <a:pt x="7" y="1246"/>
                    </a:lnTo>
                    <a:lnTo>
                      <a:pt x="9" y="1261"/>
                    </a:lnTo>
                    <a:lnTo>
                      <a:pt x="11" y="1274"/>
                    </a:lnTo>
                    <a:lnTo>
                      <a:pt x="15" y="1291"/>
                    </a:lnTo>
                    <a:lnTo>
                      <a:pt x="17" y="1305"/>
                    </a:lnTo>
                    <a:lnTo>
                      <a:pt x="19" y="1320"/>
                    </a:lnTo>
                    <a:lnTo>
                      <a:pt x="21" y="1335"/>
                    </a:lnTo>
                    <a:lnTo>
                      <a:pt x="26" y="1350"/>
                    </a:lnTo>
                    <a:lnTo>
                      <a:pt x="28" y="1366"/>
                    </a:lnTo>
                    <a:lnTo>
                      <a:pt x="32" y="1379"/>
                    </a:lnTo>
                    <a:lnTo>
                      <a:pt x="36" y="1394"/>
                    </a:lnTo>
                    <a:lnTo>
                      <a:pt x="42" y="1409"/>
                    </a:lnTo>
                    <a:lnTo>
                      <a:pt x="45" y="1424"/>
                    </a:lnTo>
                    <a:lnTo>
                      <a:pt x="49" y="1440"/>
                    </a:lnTo>
                    <a:lnTo>
                      <a:pt x="55" y="1453"/>
                    </a:lnTo>
                    <a:lnTo>
                      <a:pt x="61" y="1468"/>
                    </a:lnTo>
                    <a:lnTo>
                      <a:pt x="64" y="1483"/>
                    </a:lnTo>
                    <a:lnTo>
                      <a:pt x="70" y="1497"/>
                    </a:lnTo>
                    <a:lnTo>
                      <a:pt x="76" y="1512"/>
                    </a:lnTo>
                    <a:lnTo>
                      <a:pt x="83" y="1529"/>
                    </a:lnTo>
                    <a:lnTo>
                      <a:pt x="89" y="1540"/>
                    </a:lnTo>
                    <a:lnTo>
                      <a:pt x="95" y="1556"/>
                    </a:lnTo>
                    <a:lnTo>
                      <a:pt x="102" y="1571"/>
                    </a:lnTo>
                    <a:lnTo>
                      <a:pt x="110" y="1586"/>
                    </a:lnTo>
                    <a:lnTo>
                      <a:pt x="118" y="1599"/>
                    </a:lnTo>
                    <a:lnTo>
                      <a:pt x="125" y="1613"/>
                    </a:lnTo>
                    <a:lnTo>
                      <a:pt x="133" y="1626"/>
                    </a:lnTo>
                    <a:lnTo>
                      <a:pt x="140" y="1641"/>
                    </a:lnTo>
                    <a:lnTo>
                      <a:pt x="148" y="1653"/>
                    </a:lnTo>
                    <a:lnTo>
                      <a:pt x="156" y="1668"/>
                    </a:lnTo>
                    <a:lnTo>
                      <a:pt x="165" y="1679"/>
                    </a:lnTo>
                    <a:lnTo>
                      <a:pt x="175" y="1694"/>
                    </a:lnTo>
                    <a:lnTo>
                      <a:pt x="182" y="1706"/>
                    </a:lnTo>
                    <a:lnTo>
                      <a:pt x="194" y="1719"/>
                    </a:lnTo>
                    <a:lnTo>
                      <a:pt x="203" y="1732"/>
                    </a:lnTo>
                    <a:lnTo>
                      <a:pt x="215" y="1746"/>
                    </a:lnTo>
                    <a:lnTo>
                      <a:pt x="224" y="1757"/>
                    </a:lnTo>
                    <a:lnTo>
                      <a:pt x="235" y="1769"/>
                    </a:lnTo>
                    <a:lnTo>
                      <a:pt x="247" y="1778"/>
                    </a:lnTo>
                    <a:lnTo>
                      <a:pt x="260" y="1790"/>
                    </a:lnTo>
                    <a:lnTo>
                      <a:pt x="272" y="1799"/>
                    </a:lnTo>
                    <a:lnTo>
                      <a:pt x="287" y="1810"/>
                    </a:lnTo>
                    <a:lnTo>
                      <a:pt x="300" y="1820"/>
                    </a:lnTo>
                    <a:lnTo>
                      <a:pt x="315" y="1831"/>
                    </a:lnTo>
                    <a:lnTo>
                      <a:pt x="331" y="1839"/>
                    </a:lnTo>
                    <a:lnTo>
                      <a:pt x="346" y="1847"/>
                    </a:lnTo>
                    <a:lnTo>
                      <a:pt x="363" y="1854"/>
                    </a:lnTo>
                    <a:lnTo>
                      <a:pt x="380" y="1864"/>
                    </a:lnTo>
                    <a:lnTo>
                      <a:pt x="397" y="1871"/>
                    </a:lnTo>
                    <a:lnTo>
                      <a:pt x="414" y="1879"/>
                    </a:lnTo>
                    <a:lnTo>
                      <a:pt x="431" y="1886"/>
                    </a:lnTo>
                    <a:lnTo>
                      <a:pt x="452" y="1894"/>
                    </a:lnTo>
                    <a:lnTo>
                      <a:pt x="469" y="1900"/>
                    </a:lnTo>
                    <a:lnTo>
                      <a:pt x="488" y="1906"/>
                    </a:lnTo>
                    <a:lnTo>
                      <a:pt x="507" y="1911"/>
                    </a:lnTo>
                    <a:lnTo>
                      <a:pt x="526" y="1917"/>
                    </a:lnTo>
                    <a:lnTo>
                      <a:pt x="545" y="1921"/>
                    </a:lnTo>
                    <a:lnTo>
                      <a:pt x="566" y="1926"/>
                    </a:lnTo>
                    <a:lnTo>
                      <a:pt x="585" y="1932"/>
                    </a:lnTo>
                    <a:lnTo>
                      <a:pt x="606" y="1938"/>
                    </a:lnTo>
                    <a:lnTo>
                      <a:pt x="625" y="1942"/>
                    </a:lnTo>
                    <a:lnTo>
                      <a:pt x="646" y="1945"/>
                    </a:lnTo>
                    <a:lnTo>
                      <a:pt x="665" y="1949"/>
                    </a:lnTo>
                    <a:lnTo>
                      <a:pt x="686" y="1953"/>
                    </a:lnTo>
                    <a:lnTo>
                      <a:pt x="705" y="1955"/>
                    </a:lnTo>
                    <a:lnTo>
                      <a:pt x="724" y="1959"/>
                    </a:lnTo>
                    <a:lnTo>
                      <a:pt x="745" y="1963"/>
                    </a:lnTo>
                    <a:lnTo>
                      <a:pt x="766" y="1966"/>
                    </a:lnTo>
                    <a:lnTo>
                      <a:pt x="785" y="1968"/>
                    </a:lnTo>
                    <a:lnTo>
                      <a:pt x="804" y="1970"/>
                    </a:lnTo>
                    <a:lnTo>
                      <a:pt x="821" y="1972"/>
                    </a:lnTo>
                    <a:lnTo>
                      <a:pt x="842" y="1974"/>
                    </a:lnTo>
                    <a:lnTo>
                      <a:pt x="859" y="1976"/>
                    </a:lnTo>
                    <a:lnTo>
                      <a:pt x="878" y="1976"/>
                    </a:lnTo>
                    <a:lnTo>
                      <a:pt x="895" y="1978"/>
                    </a:lnTo>
                    <a:lnTo>
                      <a:pt x="912" y="1982"/>
                    </a:lnTo>
                    <a:lnTo>
                      <a:pt x="929" y="1982"/>
                    </a:lnTo>
                    <a:lnTo>
                      <a:pt x="946" y="1982"/>
                    </a:lnTo>
                    <a:lnTo>
                      <a:pt x="962" y="1982"/>
                    </a:lnTo>
                    <a:lnTo>
                      <a:pt x="979" y="1983"/>
                    </a:lnTo>
                    <a:lnTo>
                      <a:pt x="994" y="1983"/>
                    </a:lnTo>
                    <a:lnTo>
                      <a:pt x="1009" y="1985"/>
                    </a:lnTo>
                    <a:lnTo>
                      <a:pt x="1023" y="1985"/>
                    </a:lnTo>
                    <a:lnTo>
                      <a:pt x="1038" y="1987"/>
                    </a:lnTo>
                    <a:lnTo>
                      <a:pt x="1049" y="1987"/>
                    </a:lnTo>
                    <a:lnTo>
                      <a:pt x="1061" y="1987"/>
                    </a:lnTo>
                    <a:lnTo>
                      <a:pt x="1074" y="1987"/>
                    </a:lnTo>
                    <a:lnTo>
                      <a:pt x="1085" y="1987"/>
                    </a:lnTo>
                    <a:lnTo>
                      <a:pt x="1095" y="1987"/>
                    </a:lnTo>
                    <a:lnTo>
                      <a:pt x="1104" y="1987"/>
                    </a:lnTo>
                    <a:lnTo>
                      <a:pt x="1114" y="1987"/>
                    </a:lnTo>
                    <a:lnTo>
                      <a:pt x="1123" y="1989"/>
                    </a:lnTo>
                    <a:lnTo>
                      <a:pt x="1129" y="1989"/>
                    </a:lnTo>
                    <a:lnTo>
                      <a:pt x="1135" y="1989"/>
                    </a:lnTo>
                    <a:lnTo>
                      <a:pt x="1140" y="1989"/>
                    </a:lnTo>
                    <a:lnTo>
                      <a:pt x="1146" y="1989"/>
                    </a:lnTo>
                    <a:lnTo>
                      <a:pt x="1154" y="1989"/>
                    </a:lnTo>
                    <a:lnTo>
                      <a:pt x="1156" y="1989"/>
                    </a:lnTo>
                    <a:lnTo>
                      <a:pt x="1798" y="1972"/>
                    </a:lnTo>
                    <a:lnTo>
                      <a:pt x="1798" y="1970"/>
                    </a:lnTo>
                    <a:lnTo>
                      <a:pt x="1802" y="1964"/>
                    </a:lnTo>
                    <a:lnTo>
                      <a:pt x="1808" y="1957"/>
                    </a:lnTo>
                    <a:lnTo>
                      <a:pt x="1817" y="1945"/>
                    </a:lnTo>
                    <a:lnTo>
                      <a:pt x="1821" y="1938"/>
                    </a:lnTo>
                    <a:lnTo>
                      <a:pt x="1827" y="1930"/>
                    </a:lnTo>
                    <a:lnTo>
                      <a:pt x="1830" y="1923"/>
                    </a:lnTo>
                    <a:lnTo>
                      <a:pt x="1838" y="1915"/>
                    </a:lnTo>
                    <a:lnTo>
                      <a:pt x="1844" y="1904"/>
                    </a:lnTo>
                    <a:lnTo>
                      <a:pt x="1851" y="1892"/>
                    </a:lnTo>
                    <a:lnTo>
                      <a:pt x="1859" y="1883"/>
                    </a:lnTo>
                    <a:lnTo>
                      <a:pt x="1867" y="1871"/>
                    </a:lnTo>
                    <a:lnTo>
                      <a:pt x="1874" y="1858"/>
                    </a:lnTo>
                    <a:lnTo>
                      <a:pt x="1884" y="1845"/>
                    </a:lnTo>
                    <a:lnTo>
                      <a:pt x="1891" y="1831"/>
                    </a:lnTo>
                    <a:lnTo>
                      <a:pt x="1901" y="1818"/>
                    </a:lnTo>
                    <a:lnTo>
                      <a:pt x="1908" y="1803"/>
                    </a:lnTo>
                    <a:lnTo>
                      <a:pt x="1918" y="1788"/>
                    </a:lnTo>
                    <a:lnTo>
                      <a:pt x="1927" y="1772"/>
                    </a:lnTo>
                    <a:lnTo>
                      <a:pt x="1937" y="1757"/>
                    </a:lnTo>
                    <a:lnTo>
                      <a:pt x="1945" y="1740"/>
                    </a:lnTo>
                    <a:lnTo>
                      <a:pt x="1956" y="1723"/>
                    </a:lnTo>
                    <a:lnTo>
                      <a:pt x="1965" y="1704"/>
                    </a:lnTo>
                    <a:lnTo>
                      <a:pt x="1975" y="1687"/>
                    </a:lnTo>
                    <a:lnTo>
                      <a:pt x="1984" y="1670"/>
                    </a:lnTo>
                    <a:lnTo>
                      <a:pt x="1996" y="1651"/>
                    </a:lnTo>
                    <a:lnTo>
                      <a:pt x="2005" y="1630"/>
                    </a:lnTo>
                    <a:lnTo>
                      <a:pt x="2017" y="1611"/>
                    </a:lnTo>
                    <a:lnTo>
                      <a:pt x="2024" y="1590"/>
                    </a:lnTo>
                    <a:lnTo>
                      <a:pt x="2036" y="1571"/>
                    </a:lnTo>
                    <a:lnTo>
                      <a:pt x="2043" y="1550"/>
                    </a:lnTo>
                    <a:lnTo>
                      <a:pt x="2053" y="1529"/>
                    </a:lnTo>
                    <a:lnTo>
                      <a:pt x="2062" y="1506"/>
                    </a:lnTo>
                    <a:lnTo>
                      <a:pt x="2072" y="1485"/>
                    </a:lnTo>
                    <a:lnTo>
                      <a:pt x="2079" y="1462"/>
                    </a:lnTo>
                    <a:lnTo>
                      <a:pt x="2091" y="1442"/>
                    </a:lnTo>
                    <a:lnTo>
                      <a:pt x="2099" y="1419"/>
                    </a:lnTo>
                    <a:lnTo>
                      <a:pt x="2106" y="1396"/>
                    </a:lnTo>
                    <a:lnTo>
                      <a:pt x="2114" y="1375"/>
                    </a:lnTo>
                    <a:lnTo>
                      <a:pt x="2123" y="1352"/>
                    </a:lnTo>
                    <a:lnTo>
                      <a:pt x="2129" y="1327"/>
                    </a:lnTo>
                    <a:lnTo>
                      <a:pt x="2137" y="1305"/>
                    </a:lnTo>
                    <a:lnTo>
                      <a:pt x="2144" y="1282"/>
                    </a:lnTo>
                    <a:lnTo>
                      <a:pt x="2150" y="1259"/>
                    </a:lnTo>
                    <a:lnTo>
                      <a:pt x="2156" y="1234"/>
                    </a:lnTo>
                    <a:lnTo>
                      <a:pt x="2161" y="1211"/>
                    </a:lnTo>
                    <a:lnTo>
                      <a:pt x="2165" y="1187"/>
                    </a:lnTo>
                    <a:lnTo>
                      <a:pt x="2171" y="1164"/>
                    </a:lnTo>
                    <a:lnTo>
                      <a:pt x="2173" y="1139"/>
                    </a:lnTo>
                    <a:lnTo>
                      <a:pt x="2176" y="1115"/>
                    </a:lnTo>
                    <a:lnTo>
                      <a:pt x="2180" y="1092"/>
                    </a:lnTo>
                    <a:lnTo>
                      <a:pt x="2182" y="1067"/>
                    </a:lnTo>
                    <a:lnTo>
                      <a:pt x="2182" y="1044"/>
                    </a:lnTo>
                    <a:lnTo>
                      <a:pt x="2184" y="1019"/>
                    </a:lnTo>
                    <a:lnTo>
                      <a:pt x="2184" y="997"/>
                    </a:lnTo>
                    <a:lnTo>
                      <a:pt x="2184" y="972"/>
                    </a:lnTo>
                    <a:lnTo>
                      <a:pt x="2182" y="947"/>
                    </a:lnTo>
                    <a:lnTo>
                      <a:pt x="2180" y="924"/>
                    </a:lnTo>
                    <a:lnTo>
                      <a:pt x="2178" y="900"/>
                    </a:lnTo>
                    <a:lnTo>
                      <a:pt x="2176" y="877"/>
                    </a:lnTo>
                    <a:lnTo>
                      <a:pt x="2171" y="854"/>
                    </a:lnTo>
                    <a:lnTo>
                      <a:pt x="2167" y="829"/>
                    </a:lnTo>
                    <a:lnTo>
                      <a:pt x="2163" y="806"/>
                    </a:lnTo>
                    <a:lnTo>
                      <a:pt x="2159" y="786"/>
                    </a:lnTo>
                    <a:lnTo>
                      <a:pt x="2156" y="761"/>
                    </a:lnTo>
                    <a:lnTo>
                      <a:pt x="2152" y="740"/>
                    </a:lnTo>
                    <a:lnTo>
                      <a:pt x="2148" y="717"/>
                    </a:lnTo>
                    <a:lnTo>
                      <a:pt x="2144" y="696"/>
                    </a:lnTo>
                    <a:lnTo>
                      <a:pt x="2138" y="673"/>
                    </a:lnTo>
                    <a:lnTo>
                      <a:pt x="2133" y="652"/>
                    </a:lnTo>
                    <a:lnTo>
                      <a:pt x="2127" y="632"/>
                    </a:lnTo>
                    <a:lnTo>
                      <a:pt x="2123" y="611"/>
                    </a:lnTo>
                    <a:lnTo>
                      <a:pt x="2116" y="590"/>
                    </a:lnTo>
                    <a:lnTo>
                      <a:pt x="2110" y="569"/>
                    </a:lnTo>
                    <a:lnTo>
                      <a:pt x="2106" y="550"/>
                    </a:lnTo>
                    <a:lnTo>
                      <a:pt x="2100" y="531"/>
                    </a:lnTo>
                    <a:lnTo>
                      <a:pt x="2093" y="512"/>
                    </a:lnTo>
                    <a:lnTo>
                      <a:pt x="2085" y="491"/>
                    </a:lnTo>
                    <a:lnTo>
                      <a:pt x="2078" y="474"/>
                    </a:lnTo>
                    <a:lnTo>
                      <a:pt x="2070" y="455"/>
                    </a:lnTo>
                    <a:lnTo>
                      <a:pt x="2062" y="436"/>
                    </a:lnTo>
                    <a:lnTo>
                      <a:pt x="2053" y="419"/>
                    </a:lnTo>
                    <a:lnTo>
                      <a:pt x="2043" y="402"/>
                    </a:lnTo>
                    <a:lnTo>
                      <a:pt x="2036" y="384"/>
                    </a:lnTo>
                    <a:lnTo>
                      <a:pt x="2026" y="367"/>
                    </a:lnTo>
                    <a:lnTo>
                      <a:pt x="2015" y="350"/>
                    </a:lnTo>
                    <a:lnTo>
                      <a:pt x="2005" y="335"/>
                    </a:lnTo>
                    <a:lnTo>
                      <a:pt x="1996" y="320"/>
                    </a:lnTo>
                    <a:lnTo>
                      <a:pt x="1983" y="303"/>
                    </a:lnTo>
                    <a:lnTo>
                      <a:pt x="1969" y="289"/>
                    </a:lnTo>
                    <a:lnTo>
                      <a:pt x="1958" y="274"/>
                    </a:lnTo>
                    <a:lnTo>
                      <a:pt x="1946" y="261"/>
                    </a:lnTo>
                    <a:lnTo>
                      <a:pt x="1931" y="244"/>
                    </a:lnTo>
                    <a:lnTo>
                      <a:pt x="1918" y="232"/>
                    </a:lnTo>
                    <a:lnTo>
                      <a:pt x="1901" y="217"/>
                    </a:lnTo>
                    <a:lnTo>
                      <a:pt x="1886" y="206"/>
                    </a:lnTo>
                    <a:lnTo>
                      <a:pt x="1868" y="192"/>
                    </a:lnTo>
                    <a:lnTo>
                      <a:pt x="1851" y="179"/>
                    </a:lnTo>
                    <a:lnTo>
                      <a:pt x="1834" y="166"/>
                    </a:lnTo>
                    <a:lnTo>
                      <a:pt x="1817" y="156"/>
                    </a:lnTo>
                    <a:lnTo>
                      <a:pt x="1796" y="143"/>
                    </a:lnTo>
                    <a:lnTo>
                      <a:pt x="1777" y="132"/>
                    </a:lnTo>
                    <a:lnTo>
                      <a:pt x="1756" y="122"/>
                    </a:lnTo>
                    <a:lnTo>
                      <a:pt x="1735" y="112"/>
                    </a:lnTo>
                    <a:lnTo>
                      <a:pt x="1713" y="103"/>
                    </a:lnTo>
                    <a:lnTo>
                      <a:pt x="1692" y="93"/>
                    </a:lnTo>
                    <a:lnTo>
                      <a:pt x="1667" y="86"/>
                    </a:lnTo>
                    <a:lnTo>
                      <a:pt x="1642" y="78"/>
                    </a:lnTo>
                    <a:lnTo>
                      <a:pt x="1616" y="69"/>
                    </a:lnTo>
                    <a:lnTo>
                      <a:pt x="1591" y="59"/>
                    </a:lnTo>
                    <a:lnTo>
                      <a:pt x="1564" y="54"/>
                    </a:lnTo>
                    <a:lnTo>
                      <a:pt x="1536" y="48"/>
                    </a:lnTo>
                    <a:lnTo>
                      <a:pt x="1507" y="40"/>
                    </a:lnTo>
                    <a:lnTo>
                      <a:pt x="1477" y="35"/>
                    </a:lnTo>
                    <a:lnTo>
                      <a:pt x="1446" y="29"/>
                    </a:lnTo>
                    <a:lnTo>
                      <a:pt x="1416" y="25"/>
                    </a:lnTo>
                    <a:lnTo>
                      <a:pt x="1380" y="21"/>
                    </a:lnTo>
                    <a:lnTo>
                      <a:pt x="1348" y="16"/>
                    </a:lnTo>
                    <a:lnTo>
                      <a:pt x="1311" y="12"/>
                    </a:lnTo>
                    <a:lnTo>
                      <a:pt x="1277" y="10"/>
                    </a:lnTo>
                    <a:lnTo>
                      <a:pt x="1241" y="6"/>
                    </a:lnTo>
                    <a:lnTo>
                      <a:pt x="1203" y="4"/>
                    </a:lnTo>
                    <a:lnTo>
                      <a:pt x="1163" y="2"/>
                    </a:lnTo>
                    <a:lnTo>
                      <a:pt x="1125" y="2"/>
                    </a:lnTo>
                    <a:lnTo>
                      <a:pt x="1083" y="2"/>
                    </a:lnTo>
                    <a:lnTo>
                      <a:pt x="1045" y="0"/>
                    </a:lnTo>
                    <a:lnTo>
                      <a:pt x="1007" y="0"/>
                    </a:lnTo>
                    <a:lnTo>
                      <a:pt x="973" y="2"/>
                    </a:lnTo>
                    <a:lnTo>
                      <a:pt x="937" y="2"/>
                    </a:lnTo>
                    <a:lnTo>
                      <a:pt x="905" y="2"/>
                    </a:lnTo>
                    <a:lnTo>
                      <a:pt x="872" y="4"/>
                    </a:lnTo>
                    <a:lnTo>
                      <a:pt x="844" y="8"/>
                    </a:lnTo>
                    <a:lnTo>
                      <a:pt x="812" y="10"/>
                    </a:lnTo>
                    <a:lnTo>
                      <a:pt x="785" y="12"/>
                    </a:lnTo>
                    <a:lnTo>
                      <a:pt x="756" y="16"/>
                    </a:lnTo>
                    <a:lnTo>
                      <a:pt x="734" y="21"/>
                    </a:lnTo>
                    <a:lnTo>
                      <a:pt x="707" y="25"/>
                    </a:lnTo>
                    <a:lnTo>
                      <a:pt x="686" y="29"/>
                    </a:lnTo>
                    <a:lnTo>
                      <a:pt x="661" y="33"/>
                    </a:lnTo>
                    <a:lnTo>
                      <a:pt x="642" y="38"/>
                    </a:lnTo>
                    <a:lnTo>
                      <a:pt x="620" y="42"/>
                    </a:lnTo>
                    <a:lnTo>
                      <a:pt x="602" y="48"/>
                    </a:lnTo>
                    <a:lnTo>
                      <a:pt x="581" y="54"/>
                    </a:lnTo>
                    <a:lnTo>
                      <a:pt x="566" y="59"/>
                    </a:lnTo>
                    <a:lnTo>
                      <a:pt x="549" y="65"/>
                    </a:lnTo>
                    <a:lnTo>
                      <a:pt x="534" y="73"/>
                    </a:lnTo>
                    <a:lnTo>
                      <a:pt x="519" y="78"/>
                    </a:lnTo>
                    <a:lnTo>
                      <a:pt x="507" y="86"/>
                    </a:lnTo>
                    <a:lnTo>
                      <a:pt x="494" y="92"/>
                    </a:lnTo>
                    <a:lnTo>
                      <a:pt x="483" y="99"/>
                    </a:lnTo>
                    <a:lnTo>
                      <a:pt x="471" y="105"/>
                    </a:lnTo>
                    <a:lnTo>
                      <a:pt x="462" y="112"/>
                    </a:lnTo>
                    <a:lnTo>
                      <a:pt x="450" y="120"/>
                    </a:lnTo>
                    <a:lnTo>
                      <a:pt x="443" y="126"/>
                    </a:lnTo>
                    <a:lnTo>
                      <a:pt x="435" y="135"/>
                    </a:lnTo>
                    <a:lnTo>
                      <a:pt x="427" y="143"/>
                    </a:lnTo>
                    <a:lnTo>
                      <a:pt x="420" y="149"/>
                    </a:lnTo>
                    <a:lnTo>
                      <a:pt x="414" y="156"/>
                    </a:lnTo>
                    <a:lnTo>
                      <a:pt x="407" y="162"/>
                    </a:lnTo>
                    <a:lnTo>
                      <a:pt x="403" y="170"/>
                    </a:lnTo>
                    <a:lnTo>
                      <a:pt x="397" y="175"/>
                    </a:lnTo>
                    <a:lnTo>
                      <a:pt x="393" y="183"/>
                    </a:lnTo>
                    <a:lnTo>
                      <a:pt x="391" y="189"/>
                    </a:lnTo>
                    <a:lnTo>
                      <a:pt x="388" y="196"/>
                    </a:lnTo>
                    <a:lnTo>
                      <a:pt x="382" y="209"/>
                    </a:lnTo>
                    <a:lnTo>
                      <a:pt x="380" y="223"/>
                    </a:lnTo>
                    <a:lnTo>
                      <a:pt x="376" y="236"/>
                    </a:lnTo>
                    <a:lnTo>
                      <a:pt x="376" y="247"/>
                    </a:lnTo>
                    <a:lnTo>
                      <a:pt x="376" y="257"/>
                    </a:lnTo>
                    <a:lnTo>
                      <a:pt x="376" y="267"/>
                    </a:lnTo>
                    <a:lnTo>
                      <a:pt x="376" y="276"/>
                    </a:lnTo>
                    <a:lnTo>
                      <a:pt x="380" y="284"/>
                    </a:lnTo>
                    <a:lnTo>
                      <a:pt x="380" y="293"/>
                    </a:lnTo>
                    <a:lnTo>
                      <a:pt x="384" y="297"/>
                    </a:lnTo>
                    <a:lnTo>
                      <a:pt x="384" y="297"/>
                    </a:lnTo>
                    <a:close/>
                  </a:path>
                </a:pathLst>
              </a:custGeom>
              <a:solidFill>
                <a:srgbClr val="fff7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H="1">
                <a:off x="7002360" y="2333520"/>
                <a:ext cx="173880" cy="403200"/>
              </a:xfrm>
              <a:custGeom>
                <a:avLst/>
                <a:gdLst/>
                <a:ahLst/>
                <a:rect l="l" t="t" r="r" b="b"/>
                <a:pathLst>
                  <a:path w="604" h="1405">
                    <a:moveTo>
                      <a:pt x="465" y="68"/>
                    </a:moveTo>
                    <a:lnTo>
                      <a:pt x="463" y="70"/>
                    </a:lnTo>
                    <a:lnTo>
                      <a:pt x="462" y="78"/>
                    </a:lnTo>
                    <a:lnTo>
                      <a:pt x="458" y="81"/>
                    </a:lnTo>
                    <a:lnTo>
                      <a:pt x="456" y="91"/>
                    </a:lnTo>
                    <a:lnTo>
                      <a:pt x="454" y="99"/>
                    </a:lnTo>
                    <a:lnTo>
                      <a:pt x="450" y="110"/>
                    </a:lnTo>
                    <a:lnTo>
                      <a:pt x="446" y="121"/>
                    </a:lnTo>
                    <a:lnTo>
                      <a:pt x="443" y="135"/>
                    </a:lnTo>
                    <a:lnTo>
                      <a:pt x="441" y="140"/>
                    </a:lnTo>
                    <a:lnTo>
                      <a:pt x="439" y="146"/>
                    </a:lnTo>
                    <a:lnTo>
                      <a:pt x="435" y="154"/>
                    </a:lnTo>
                    <a:lnTo>
                      <a:pt x="435" y="161"/>
                    </a:lnTo>
                    <a:lnTo>
                      <a:pt x="431" y="169"/>
                    </a:lnTo>
                    <a:lnTo>
                      <a:pt x="429" y="177"/>
                    </a:lnTo>
                    <a:lnTo>
                      <a:pt x="427" y="184"/>
                    </a:lnTo>
                    <a:lnTo>
                      <a:pt x="425" y="194"/>
                    </a:lnTo>
                    <a:lnTo>
                      <a:pt x="422" y="201"/>
                    </a:lnTo>
                    <a:lnTo>
                      <a:pt x="420" y="211"/>
                    </a:lnTo>
                    <a:lnTo>
                      <a:pt x="418" y="218"/>
                    </a:lnTo>
                    <a:lnTo>
                      <a:pt x="416" y="230"/>
                    </a:lnTo>
                    <a:lnTo>
                      <a:pt x="412" y="237"/>
                    </a:lnTo>
                    <a:lnTo>
                      <a:pt x="410" y="247"/>
                    </a:lnTo>
                    <a:lnTo>
                      <a:pt x="406" y="256"/>
                    </a:lnTo>
                    <a:lnTo>
                      <a:pt x="405" y="268"/>
                    </a:lnTo>
                    <a:lnTo>
                      <a:pt x="403" y="277"/>
                    </a:lnTo>
                    <a:lnTo>
                      <a:pt x="401" y="289"/>
                    </a:lnTo>
                    <a:lnTo>
                      <a:pt x="397" y="298"/>
                    </a:lnTo>
                    <a:lnTo>
                      <a:pt x="397" y="312"/>
                    </a:lnTo>
                    <a:lnTo>
                      <a:pt x="391" y="321"/>
                    </a:lnTo>
                    <a:lnTo>
                      <a:pt x="391" y="332"/>
                    </a:lnTo>
                    <a:lnTo>
                      <a:pt x="387" y="342"/>
                    </a:lnTo>
                    <a:lnTo>
                      <a:pt x="387" y="355"/>
                    </a:lnTo>
                    <a:lnTo>
                      <a:pt x="384" y="367"/>
                    </a:lnTo>
                    <a:lnTo>
                      <a:pt x="384" y="378"/>
                    </a:lnTo>
                    <a:lnTo>
                      <a:pt x="380" y="389"/>
                    </a:lnTo>
                    <a:lnTo>
                      <a:pt x="378" y="403"/>
                    </a:lnTo>
                    <a:lnTo>
                      <a:pt x="374" y="416"/>
                    </a:lnTo>
                    <a:lnTo>
                      <a:pt x="374" y="428"/>
                    </a:lnTo>
                    <a:lnTo>
                      <a:pt x="370" y="439"/>
                    </a:lnTo>
                    <a:lnTo>
                      <a:pt x="370" y="452"/>
                    </a:lnTo>
                    <a:lnTo>
                      <a:pt x="366" y="466"/>
                    </a:lnTo>
                    <a:lnTo>
                      <a:pt x="366" y="479"/>
                    </a:lnTo>
                    <a:lnTo>
                      <a:pt x="363" y="492"/>
                    </a:lnTo>
                    <a:lnTo>
                      <a:pt x="363" y="504"/>
                    </a:lnTo>
                    <a:lnTo>
                      <a:pt x="361" y="517"/>
                    </a:lnTo>
                    <a:lnTo>
                      <a:pt x="359" y="530"/>
                    </a:lnTo>
                    <a:lnTo>
                      <a:pt x="357" y="544"/>
                    </a:lnTo>
                    <a:lnTo>
                      <a:pt x="357" y="557"/>
                    </a:lnTo>
                    <a:lnTo>
                      <a:pt x="357" y="570"/>
                    </a:lnTo>
                    <a:lnTo>
                      <a:pt x="355" y="585"/>
                    </a:lnTo>
                    <a:lnTo>
                      <a:pt x="355" y="599"/>
                    </a:lnTo>
                    <a:lnTo>
                      <a:pt x="355" y="614"/>
                    </a:lnTo>
                    <a:lnTo>
                      <a:pt x="353" y="625"/>
                    </a:lnTo>
                    <a:lnTo>
                      <a:pt x="353" y="640"/>
                    </a:lnTo>
                    <a:lnTo>
                      <a:pt x="353" y="654"/>
                    </a:lnTo>
                    <a:lnTo>
                      <a:pt x="353" y="667"/>
                    </a:lnTo>
                    <a:lnTo>
                      <a:pt x="353" y="680"/>
                    </a:lnTo>
                    <a:lnTo>
                      <a:pt x="357" y="696"/>
                    </a:lnTo>
                    <a:lnTo>
                      <a:pt x="357" y="709"/>
                    </a:lnTo>
                    <a:lnTo>
                      <a:pt x="361" y="724"/>
                    </a:lnTo>
                    <a:lnTo>
                      <a:pt x="361" y="737"/>
                    </a:lnTo>
                    <a:lnTo>
                      <a:pt x="365" y="753"/>
                    </a:lnTo>
                    <a:lnTo>
                      <a:pt x="366" y="766"/>
                    </a:lnTo>
                    <a:lnTo>
                      <a:pt x="370" y="781"/>
                    </a:lnTo>
                    <a:lnTo>
                      <a:pt x="374" y="794"/>
                    </a:lnTo>
                    <a:lnTo>
                      <a:pt x="378" y="808"/>
                    </a:lnTo>
                    <a:lnTo>
                      <a:pt x="382" y="823"/>
                    </a:lnTo>
                    <a:lnTo>
                      <a:pt x="387" y="838"/>
                    </a:lnTo>
                    <a:lnTo>
                      <a:pt x="391" y="852"/>
                    </a:lnTo>
                    <a:lnTo>
                      <a:pt x="395" y="865"/>
                    </a:lnTo>
                    <a:lnTo>
                      <a:pt x="399" y="878"/>
                    </a:lnTo>
                    <a:lnTo>
                      <a:pt x="405" y="891"/>
                    </a:lnTo>
                    <a:lnTo>
                      <a:pt x="408" y="905"/>
                    </a:lnTo>
                    <a:lnTo>
                      <a:pt x="414" y="918"/>
                    </a:lnTo>
                    <a:lnTo>
                      <a:pt x="418" y="931"/>
                    </a:lnTo>
                    <a:lnTo>
                      <a:pt x="425" y="947"/>
                    </a:lnTo>
                    <a:lnTo>
                      <a:pt x="431" y="958"/>
                    </a:lnTo>
                    <a:lnTo>
                      <a:pt x="437" y="971"/>
                    </a:lnTo>
                    <a:lnTo>
                      <a:pt x="443" y="985"/>
                    </a:lnTo>
                    <a:lnTo>
                      <a:pt x="448" y="998"/>
                    </a:lnTo>
                    <a:lnTo>
                      <a:pt x="454" y="1009"/>
                    </a:lnTo>
                    <a:lnTo>
                      <a:pt x="462" y="1023"/>
                    </a:lnTo>
                    <a:lnTo>
                      <a:pt x="465" y="1034"/>
                    </a:lnTo>
                    <a:lnTo>
                      <a:pt x="473" y="1047"/>
                    </a:lnTo>
                    <a:lnTo>
                      <a:pt x="479" y="1059"/>
                    </a:lnTo>
                    <a:lnTo>
                      <a:pt x="484" y="1068"/>
                    </a:lnTo>
                    <a:lnTo>
                      <a:pt x="488" y="1080"/>
                    </a:lnTo>
                    <a:lnTo>
                      <a:pt x="496" y="1091"/>
                    </a:lnTo>
                    <a:lnTo>
                      <a:pt x="501" y="1103"/>
                    </a:lnTo>
                    <a:lnTo>
                      <a:pt x="507" y="1112"/>
                    </a:lnTo>
                    <a:lnTo>
                      <a:pt x="513" y="1123"/>
                    </a:lnTo>
                    <a:lnTo>
                      <a:pt x="519" y="1133"/>
                    </a:lnTo>
                    <a:lnTo>
                      <a:pt x="524" y="1142"/>
                    </a:lnTo>
                    <a:lnTo>
                      <a:pt x="530" y="1150"/>
                    </a:lnTo>
                    <a:lnTo>
                      <a:pt x="536" y="1160"/>
                    </a:lnTo>
                    <a:lnTo>
                      <a:pt x="541" y="1169"/>
                    </a:lnTo>
                    <a:lnTo>
                      <a:pt x="545" y="1177"/>
                    </a:lnTo>
                    <a:lnTo>
                      <a:pt x="551" y="1186"/>
                    </a:lnTo>
                    <a:lnTo>
                      <a:pt x="557" y="1194"/>
                    </a:lnTo>
                    <a:lnTo>
                      <a:pt x="562" y="1201"/>
                    </a:lnTo>
                    <a:lnTo>
                      <a:pt x="566" y="1207"/>
                    </a:lnTo>
                    <a:lnTo>
                      <a:pt x="570" y="1213"/>
                    </a:lnTo>
                    <a:lnTo>
                      <a:pt x="574" y="1220"/>
                    </a:lnTo>
                    <a:lnTo>
                      <a:pt x="577" y="1226"/>
                    </a:lnTo>
                    <a:lnTo>
                      <a:pt x="583" y="1236"/>
                    </a:lnTo>
                    <a:lnTo>
                      <a:pt x="593" y="1245"/>
                    </a:lnTo>
                    <a:lnTo>
                      <a:pt x="597" y="1253"/>
                    </a:lnTo>
                    <a:lnTo>
                      <a:pt x="600" y="1257"/>
                    </a:lnTo>
                    <a:lnTo>
                      <a:pt x="602" y="1260"/>
                    </a:lnTo>
                    <a:lnTo>
                      <a:pt x="604" y="1262"/>
                    </a:lnTo>
                    <a:lnTo>
                      <a:pt x="406" y="1329"/>
                    </a:lnTo>
                    <a:lnTo>
                      <a:pt x="309" y="1405"/>
                    </a:lnTo>
                    <a:lnTo>
                      <a:pt x="308" y="1403"/>
                    </a:lnTo>
                    <a:lnTo>
                      <a:pt x="304" y="1401"/>
                    </a:lnTo>
                    <a:lnTo>
                      <a:pt x="296" y="1395"/>
                    </a:lnTo>
                    <a:lnTo>
                      <a:pt x="290" y="1388"/>
                    </a:lnTo>
                    <a:lnTo>
                      <a:pt x="285" y="1384"/>
                    </a:lnTo>
                    <a:lnTo>
                      <a:pt x="279" y="1380"/>
                    </a:lnTo>
                    <a:lnTo>
                      <a:pt x="273" y="1374"/>
                    </a:lnTo>
                    <a:lnTo>
                      <a:pt x="268" y="1369"/>
                    </a:lnTo>
                    <a:lnTo>
                      <a:pt x="260" y="1361"/>
                    </a:lnTo>
                    <a:lnTo>
                      <a:pt x="254" y="1355"/>
                    </a:lnTo>
                    <a:lnTo>
                      <a:pt x="247" y="1348"/>
                    </a:lnTo>
                    <a:lnTo>
                      <a:pt x="241" y="1342"/>
                    </a:lnTo>
                    <a:lnTo>
                      <a:pt x="233" y="1333"/>
                    </a:lnTo>
                    <a:lnTo>
                      <a:pt x="226" y="1325"/>
                    </a:lnTo>
                    <a:lnTo>
                      <a:pt x="216" y="1315"/>
                    </a:lnTo>
                    <a:lnTo>
                      <a:pt x="209" y="1308"/>
                    </a:lnTo>
                    <a:lnTo>
                      <a:pt x="199" y="1296"/>
                    </a:lnTo>
                    <a:lnTo>
                      <a:pt x="192" y="1287"/>
                    </a:lnTo>
                    <a:lnTo>
                      <a:pt x="182" y="1277"/>
                    </a:lnTo>
                    <a:lnTo>
                      <a:pt x="174" y="1268"/>
                    </a:lnTo>
                    <a:lnTo>
                      <a:pt x="165" y="1257"/>
                    </a:lnTo>
                    <a:lnTo>
                      <a:pt x="155" y="1243"/>
                    </a:lnTo>
                    <a:lnTo>
                      <a:pt x="148" y="1232"/>
                    </a:lnTo>
                    <a:lnTo>
                      <a:pt x="140" y="1220"/>
                    </a:lnTo>
                    <a:lnTo>
                      <a:pt x="131" y="1207"/>
                    </a:lnTo>
                    <a:lnTo>
                      <a:pt x="121" y="1194"/>
                    </a:lnTo>
                    <a:lnTo>
                      <a:pt x="114" y="1180"/>
                    </a:lnTo>
                    <a:lnTo>
                      <a:pt x="106" y="1167"/>
                    </a:lnTo>
                    <a:lnTo>
                      <a:pt x="97" y="1150"/>
                    </a:lnTo>
                    <a:lnTo>
                      <a:pt x="89" y="1137"/>
                    </a:lnTo>
                    <a:lnTo>
                      <a:pt x="81" y="1120"/>
                    </a:lnTo>
                    <a:lnTo>
                      <a:pt x="72" y="1106"/>
                    </a:lnTo>
                    <a:lnTo>
                      <a:pt x="64" y="1089"/>
                    </a:lnTo>
                    <a:lnTo>
                      <a:pt x="57" y="1072"/>
                    </a:lnTo>
                    <a:lnTo>
                      <a:pt x="51" y="1055"/>
                    </a:lnTo>
                    <a:lnTo>
                      <a:pt x="45" y="1040"/>
                    </a:lnTo>
                    <a:lnTo>
                      <a:pt x="38" y="1021"/>
                    </a:lnTo>
                    <a:lnTo>
                      <a:pt x="32" y="1002"/>
                    </a:lnTo>
                    <a:lnTo>
                      <a:pt x="26" y="983"/>
                    </a:lnTo>
                    <a:lnTo>
                      <a:pt x="22" y="966"/>
                    </a:lnTo>
                    <a:lnTo>
                      <a:pt x="17" y="947"/>
                    </a:lnTo>
                    <a:lnTo>
                      <a:pt x="13" y="928"/>
                    </a:lnTo>
                    <a:lnTo>
                      <a:pt x="9" y="909"/>
                    </a:lnTo>
                    <a:lnTo>
                      <a:pt x="7" y="890"/>
                    </a:lnTo>
                    <a:lnTo>
                      <a:pt x="3" y="869"/>
                    </a:lnTo>
                    <a:lnTo>
                      <a:pt x="3" y="848"/>
                    </a:lnTo>
                    <a:lnTo>
                      <a:pt x="0" y="825"/>
                    </a:lnTo>
                    <a:lnTo>
                      <a:pt x="0" y="806"/>
                    </a:lnTo>
                    <a:lnTo>
                      <a:pt x="0" y="783"/>
                    </a:lnTo>
                    <a:lnTo>
                      <a:pt x="0" y="762"/>
                    </a:lnTo>
                    <a:lnTo>
                      <a:pt x="1" y="739"/>
                    </a:lnTo>
                    <a:lnTo>
                      <a:pt x="5" y="718"/>
                    </a:lnTo>
                    <a:lnTo>
                      <a:pt x="7" y="694"/>
                    </a:lnTo>
                    <a:lnTo>
                      <a:pt x="11" y="671"/>
                    </a:lnTo>
                    <a:lnTo>
                      <a:pt x="15" y="646"/>
                    </a:lnTo>
                    <a:lnTo>
                      <a:pt x="20" y="623"/>
                    </a:lnTo>
                    <a:lnTo>
                      <a:pt x="26" y="599"/>
                    </a:lnTo>
                    <a:lnTo>
                      <a:pt x="34" y="574"/>
                    </a:lnTo>
                    <a:lnTo>
                      <a:pt x="41" y="551"/>
                    </a:lnTo>
                    <a:lnTo>
                      <a:pt x="51" y="526"/>
                    </a:lnTo>
                    <a:lnTo>
                      <a:pt x="249" y="0"/>
                    </a:lnTo>
                    <a:lnTo>
                      <a:pt x="376" y="51"/>
                    </a:lnTo>
                    <a:lnTo>
                      <a:pt x="465" y="68"/>
                    </a:lnTo>
                    <a:lnTo>
                      <a:pt x="465" y="68"/>
                    </a:lnTo>
                    <a:close/>
                  </a:path>
                </a:pathLst>
              </a:custGeom>
              <a:solidFill>
                <a:srgbClr val="ffff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>
                <a:off x="6450840" y="2003040"/>
                <a:ext cx="296640" cy="390240"/>
              </a:xfrm>
              <a:custGeom>
                <a:avLst/>
                <a:gdLst/>
                <a:ahLst/>
                <a:rect l="l" t="t" r="r" b="b"/>
                <a:pathLst>
                  <a:path w="1034" h="1360">
                    <a:moveTo>
                      <a:pt x="0" y="432"/>
                    </a:moveTo>
                    <a:lnTo>
                      <a:pt x="0" y="430"/>
                    </a:lnTo>
                    <a:lnTo>
                      <a:pt x="4" y="426"/>
                    </a:lnTo>
                    <a:lnTo>
                      <a:pt x="5" y="419"/>
                    </a:lnTo>
                    <a:lnTo>
                      <a:pt x="13" y="413"/>
                    </a:lnTo>
                    <a:lnTo>
                      <a:pt x="15" y="407"/>
                    </a:lnTo>
                    <a:lnTo>
                      <a:pt x="17" y="402"/>
                    </a:lnTo>
                    <a:lnTo>
                      <a:pt x="21" y="396"/>
                    </a:lnTo>
                    <a:lnTo>
                      <a:pt x="26" y="390"/>
                    </a:lnTo>
                    <a:lnTo>
                      <a:pt x="30" y="383"/>
                    </a:lnTo>
                    <a:lnTo>
                      <a:pt x="36" y="377"/>
                    </a:lnTo>
                    <a:lnTo>
                      <a:pt x="42" y="369"/>
                    </a:lnTo>
                    <a:lnTo>
                      <a:pt x="47" y="364"/>
                    </a:lnTo>
                    <a:lnTo>
                      <a:pt x="53" y="354"/>
                    </a:lnTo>
                    <a:lnTo>
                      <a:pt x="61" y="347"/>
                    </a:lnTo>
                    <a:lnTo>
                      <a:pt x="64" y="339"/>
                    </a:lnTo>
                    <a:lnTo>
                      <a:pt x="74" y="329"/>
                    </a:lnTo>
                    <a:lnTo>
                      <a:pt x="80" y="322"/>
                    </a:lnTo>
                    <a:lnTo>
                      <a:pt x="87" y="312"/>
                    </a:lnTo>
                    <a:lnTo>
                      <a:pt x="95" y="303"/>
                    </a:lnTo>
                    <a:lnTo>
                      <a:pt x="104" y="295"/>
                    </a:lnTo>
                    <a:lnTo>
                      <a:pt x="112" y="284"/>
                    </a:lnTo>
                    <a:lnTo>
                      <a:pt x="121" y="274"/>
                    </a:lnTo>
                    <a:lnTo>
                      <a:pt x="129" y="263"/>
                    </a:lnTo>
                    <a:lnTo>
                      <a:pt x="140" y="255"/>
                    </a:lnTo>
                    <a:lnTo>
                      <a:pt x="150" y="244"/>
                    </a:lnTo>
                    <a:lnTo>
                      <a:pt x="161" y="234"/>
                    </a:lnTo>
                    <a:lnTo>
                      <a:pt x="171" y="225"/>
                    </a:lnTo>
                    <a:lnTo>
                      <a:pt x="182" y="215"/>
                    </a:lnTo>
                    <a:lnTo>
                      <a:pt x="192" y="204"/>
                    </a:lnTo>
                    <a:lnTo>
                      <a:pt x="203" y="194"/>
                    </a:lnTo>
                    <a:lnTo>
                      <a:pt x="215" y="185"/>
                    </a:lnTo>
                    <a:lnTo>
                      <a:pt x="226" y="175"/>
                    </a:lnTo>
                    <a:lnTo>
                      <a:pt x="239" y="164"/>
                    </a:lnTo>
                    <a:lnTo>
                      <a:pt x="251" y="154"/>
                    </a:lnTo>
                    <a:lnTo>
                      <a:pt x="264" y="145"/>
                    </a:lnTo>
                    <a:lnTo>
                      <a:pt x="277" y="137"/>
                    </a:lnTo>
                    <a:lnTo>
                      <a:pt x="289" y="126"/>
                    </a:lnTo>
                    <a:lnTo>
                      <a:pt x="302" y="116"/>
                    </a:lnTo>
                    <a:lnTo>
                      <a:pt x="315" y="107"/>
                    </a:lnTo>
                    <a:lnTo>
                      <a:pt x="331" y="99"/>
                    </a:lnTo>
                    <a:lnTo>
                      <a:pt x="344" y="90"/>
                    </a:lnTo>
                    <a:lnTo>
                      <a:pt x="357" y="82"/>
                    </a:lnTo>
                    <a:lnTo>
                      <a:pt x="372" y="75"/>
                    </a:lnTo>
                    <a:lnTo>
                      <a:pt x="388" y="67"/>
                    </a:lnTo>
                    <a:lnTo>
                      <a:pt x="401" y="59"/>
                    </a:lnTo>
                    <a:lnTo>
                      <a:pt x="416" y="52"/>
                    </a:lnTo>
                    <a:lnTo>
                      <a:pt x="431" y="44"/>
                    </a:lnTo>
                    <a:lnTo>
                      <a:pt x="448" y="40"/>
                    </a:lnTo>
                    <a:lnTo>
                      <a:pt x="462" y="33"/>
                    </a:lnTo>
                    <a:lnTo>
                      <a:pt x="479" y="27"/>
                    </a:lnTo>
                    <a:lnTo>
                      <a:pt x="494" y="21"/>
                    </a:lnTo>
                    <a:lnTo>
                      <a:pt x="511" y="18"/>
                    </a:lnTo>
                    <a:lnTo>
                      <a:pt x="528" y="14"/>
                    </a:lnTo>
                    <a:lnTo>
                      <a:pt x="543" y="10"/>
                    </a:lnTo>
                    <a:lnTo>
                      <a:pt x="561" y="6"/>
                    </a:lnTo>
                    <a:lnTo>
                      <a:pt x="578" y="4"/>
                    </a:lnTo>
                    <a:lnTo>
                      <a:pt x="593" y="2"/>
                    </a:lnTo>
                    <a:lnTo>
                      <a:pt x="612" y="0"/>
                    </a:lnTo>
                    <a:lnTo>
                      <a:pt x="629" y="0"/>
                    </a:lnTo>
                    <a:lnTo>
                      <a:pt x="648" y="0"/>
                    </a:lnTo>
                    <a:lnTo>
                      <a:pt x="663" y="0"/>
                    </a:lnTo>
                    <a:lnTo>
                      <a:pt x="680" y="0"/>
                    </a:lnTo>
                    <a:lnTo>
                      <a:pt x="697" y="0"/>
                    </a:lnTo>
                    <a:lnTo>
                      <a:pt x="713" y="4"/>
                    </a:lnTo>
                    <a:lnTo>
                      <a:pt x="728" y="4"/>
                    </a:lnTo>
                    <a:lnTo>
                      <a:pt x="741" y="6"/>
                    </a:lnTo>
                    <a:lnTo>
                      <a:pt x="756" y="8"/>
                    </a:lnTo>
                    <a:lnTo>
                      <a:pt x="772" y="14"/>
                    </a:lnTo>
                    <a:lnTo>
                      <a:pt x="785" y="16"/>
                    </a:lnTo>
                    <a:lnTo>
                      <a:pt x="798" y="18"/>
                    </a:lnTo>
                    <a:lnTo>
                      <a:pt x="810" y="21"/>
                    </a:lnTo>
                    <a:lnTo>
                      <a:pt x="823" y="27"/>
                    </a:lnTo>
                    <a:lnTo>
                      <a:pt x="834" y="31"/>
                    </a:lnTo>
                    <a:lnTo>
                      <a:pt x="846" y="35"/>
                    </a:lnTo>
                    <a:lnTo>
                      <a:pt x="855" y="40"/>
                    </a:lnTo>
                    <a:lnTo>
                      <a:pt x="869" y="46"/>
                    </a:lnTo>
                    <a:lnTo>
                      <a:pt x="876" y="50"/>
                    </a:lnTo>
                    <a:lnTo>
                      <a:pt x="886" y="56"/>
                    </a:lnTo>
                    <a:lnTo>
                      <a:pt x="895" y="61"/>
                    </a:lnTo>
                    <a:lnTo>
                      <a:pt x="905" y="69"/>
                    </a:lnTo>
                    <a:lnTo>
                      <a:pt x="912" y="75"/>
                    </a:lnTo>
                    <a:lnTo>
                      <a:pt x="922" y="80"/>
                    </a:lnTo>
                    <a:lnTo>
                      <a:pt x="929" y="88"/>
                    </a:lnTo>
                    <a:lnTo>
                      <a:pt x="939" y="96"/>
                    </a:lnTo>
                    <a:lnTo>
                      <a:pt x="945" y="101"/>
                    </a:lnTo>
                    <a:lnTo>
                      <a:pt x="952" y="111"/>
                    </a:lnTo>
                    <a:lnTo>
                      <a:pt x="958" y="118"/>
                    </a:lnTo>
                    <a:lnTo>
                      <a:pt x="966" y="126"/>
                    </a:lnTo>
                    <a:lnTo>
                      <a:pt x="969" y="134"/>
                    </a:lnTo>
                    <a:lnTo>
                      <a:pt x="975" y="141"/>
                    </a:lnTo>
                    <a:lnTo>
                      <a:pt x="981" y="149"/>
                    </a:lnTo>
                    <a:lnTo>
                      <a:pt x="986" y="158"/>
                    </a:lnTo>
                    <a:lnTo>
                      <a:pt x="990" y="168"/>
                    </a:lnTo>
                    <a:lnTo>
                      <a:pt x="996" y="175"/>
                    </a:lnTo>
                    <a:lnTo>
                      <a:pt x="1000" y="183"/>
                    </a:lnTo>
                    <a:lnTo>
                      <a:pt x="1004" y="193"/>
                    </a:lnTo>
                    <a:lnTo>
                      <a:pt x="1005" y="200"/>
                    </a:lnTo>
                    <a:lnTo>
                      <a:pt x="1009" y="208"/>
                    </a:lnTo>
                    <a:lnTo>
                      <a:pt x="1013" y="217"/>
                    </a:lnTo>
                    <a:lnTo>
                      <a:pt x="1017" y="227"/>
                    </a:lnTo>
                    <a:lnTo>
                      <a:pt x="1017" y="234"/>
                    </a:lnTo>
                    <a:lnTo>
                      <a:pt x="1021" y="244"/>
                    </a:lnTo>
                    <a:lnTo>
                      <a:pt x="1023" y="253"/>
                    </a:lnTo>
                    <a:lnTo>
                      <a:pt x="1024" y="263"/>
                    </a:lnTo>
                    <a:lnTo>
                      <a:pt x="1026" y="270"/>
                    </a:lnTo>
                    <a:lnTo>
                      <a:pt x="1026" y="282"/>
                    </a:lnTo>
                    <a:lnTo>
                      <a:pt x="1028" y="289"/>
                    </a:lnTo>
                    <a:lnTo>
                      <a:pt x="1030" y="299"/>
                    </a:lnTo>
                    <a:lnTo>
                      <a:pt x="1030" y="308"/>
                    </a:lnTo>
                    <a:lnTo>
                      <a:pt x="1030" y="316"/>
                    </a:lnTo>
                    <a:lnTo>
                      <a:pt x="1030" y="326"/>
                    </a:lnTo>
                    <a:lnTo>
                      <a:pt x="1032" y="335"/>
                    </a:lnTo>
                    <a:lnTo>
                      <a:pt x="1032" y="343"/>
                    </a:lnTo>
                    <a:lnTo>
                      <a:pt x="1032" y="352"/>
                    </a:lnTo>
                    <a:lnTo>
                      <a:pt x="1032" y="360"/>
                    </a:lnTo>
                    <a:lnTo>
                      <a:pt x="1034" y="369"/>
                    </a:lnTo>
                    <a:lnTo>
                      <a:pt x="1032" y="377"/>
                    </a:lnTo>
                    <a:lnTo>
                      <a:pt x="1032" y="385"/>
                    </a:lnTo>
                    <a:lnTo>
                      <a:pt x="1030" y="392"/>
                    </a:lnTo>
                    <a:lnTo>
                      <a:pt x="1030" y="400"/>
                    </a:lnTo>
                    <a:lnTo>
                      <a:pt x="1030" y="409"/>
                    </a:lnTo>
                    <a:lnTo>
                      <a:pt x="1030" y="417"/>
                    </a:lnTo>
                    <a:lnTo>
                      <a:pt x="1028" y="424"/>
                    </a:lnTo>
                    <a:lnTo>
                      <a:pt x="1028" y="432"/>
                    </a:lnTo>
                    <a:lnTo>
                      <a:pt x="1026" y="440"/>
                    </a:lnTo>
                    <a:lnTo>
                      <a:pt x="1023" y="445"/>
                    </a:lnTo>
                    <a:lnTo>
                      <a:pt x="1021" y="453"/>
                    </a:lnTo>
                    <a:lnTo>
                      <a:pt x="1019" y="463"/>
                    </a:lnTo>
                    <a:lnTo>
                      <a:pt x="1015" y="470"/>
                    </a:lnTo>
                    <a:lnTo>
                      <a:pt x="1011" y="478"/>
                    </a:lnTo>
                    <a:lnTo>
                      <a:pt x="1007" y="487"/>
                    </a:lnTo>
                    <a:lnTo>
                      <a:pt x="1004" y="497"/>
                    </a:lnTo>
                    <a:lnTo>
                      <a:pt x="1000" y="504"/>
                    </a:lnTo>
                    <a:lnTo>
                      <a:pt x="996" y="512"/>
                    </a:lnTo>
                    <a:lnTo>
                      <a:pt x="990" y="521"/>
                    </a:lnTo>
                    <a:lnTo>
                      <a:pt x="985" y="533"/>
                    </a:lnTo>
                    <a:lnTo>
                      <a:pt x="977" y="540"/>
                    </a:lnTo>
                    <a:lnTo>
                      <a:pt x="973" y="552"/>
                    </a:lnTo>
                    <a:lnTo>
                      <a:pt x="967" y="561"/>
                    </a:lnTo>
                    <a:lnTo>
                      <a:pt x="962" y="573"/>
                    </a:lnTo>
                    <a:lnTo>
                      <a:pt x="954" y="580"/>
                    </a:lnTo>
                    <a:lnTo>
                      <a:pt x="947" y="592"/>
                    </a:lnTo>
                    <a:lnTo>
                      <a:pt x="939" y="601"/>
                    </a:lnTo>
                    <a:lnTo>
                      <a:pt x="933" y="611"/>
                    </a:lnTo>
                    <a:lnTo>
                      <a:pt x="926" y="622"/>
                    </a:lnTo>
                    <a:lnTo>
                      <a:pt x="916" y="634"/>
                    </a:lnTo>
                    <a:lnTo>
                      <a:pt x="908" y="643"/>
                    </a:lnTo>
                    <a:lnTo>
                      <a:pt x="903" y="655"/>
                    </a:lnTo>
                    <a:lnTo>
                      <a:pt x="893" y="664"/>
                    </a:lnTo>
                    <a:lnTo>
                      <a:pt x="886" y="675"/>
                    </a:lnTo>
                    <a:lnTo>
                      <a:pt x="876" y="687"/>
                    </a:lnTo>
                    <a:lnTo>
                      <a:pt x="869" y="698"/>
                    </a:lnTo>
                    <a:lnTo>
                      <a:pt x="861" y="708"/>
                    </a:lnTo>
                    <a:lnTo>
                      <a:pt x="851" y="721"/>
                    </a:lnTo>
                    <a:lnTo>
                      <a:pt x="844" y="731"/>
                    </a:lnTo>
                    <a:lnTo>
                      <a:pt x="836" y="744"/>
                    </a:lnTo>
                    <a:lnTo>
                      <a:pt x="827" y="752"/>
                    </a:lnTo>
                    <a:lnTo>
                      <a:pt x="817" y="765"/>
                    </a:lnTo>
                    <a:lnTo>
                      <a:pt x="808" y="774"/>
                    </a:lnTo>
                    <a:lnTo>
                      <a:pt x="800" y="786"/>
                    </a:lnTo>
                    <a:lnTo>
                      <a:pt x="791" y="795"/>
                    </a:lnTo>
                    <a:lnTo>
                      <a:pt x="781" y="807"/>
                    </a:lnTo>
                    <a:lnTo>
                      <a:pt x="774" y="818"/>
                    </a:lnTo>
                    <a:lnTo>
                      <a:pt x="766" y="829"/>
                    </a:lnTo>
                    <a:lnTo>
                      <a:pt x="756" y="839"/>
                    </a:lnTo>
                    <a:lnTo>
                      <a:pt x="747" y="848"/>
                    </a:lnTo>
                    <a:lnTo>
                      <a:pt x="737" y="860"/>
                    </a:lnTo>
                    <a:lnTo>
                      <a:pt x="730" y="871"/>
                    </a:lnTo>
                    <a:lnTo>
                      <a:pt x="722" y="879"/>
                    </a:lnTo>
                    <a:lnTo>
                      <a:pt x="715" y="890"/>
                    </a:lnTo>
                    <a:lnTo>
                      <a:pt x="707" y="902"/>
                    </a:lnTo>
                    <a:lnTo>
                      <a:pt x="699" y="911"/>
                    </a:lnTo>
                    <a:lnTo>
                      <a:pt x="692" y="919"/>
                    </a:lnTo>
                    <a:lnTo>
                      <a:pt x="684" y="930"/>
                    </a:lnTo>
                    <a:lnTo>
                      <a:pt x="677" y="938"/>
                    </a:lnTo>
                    <a:lnTo>
                      <a:pt x="669" y="949"/>
                    </a:lnTo>
                    <a:lnTo>
                      <a:pt x="661" y="957"/>
                    </a:lnTo>
                    <a:lnTo>
                      <a:pt x="656" y="966"/>
                    </a:lnTo>
                    <a:lnTo>
                      <a:pt x="648" y="976"/>
                    </a:lnTo>
                    <a:lnTo>
                      <a:pt x="642" y="985"/>
                    </a:lnTo>
                    <a:lnTo>
                      <a:pt x="635" y="993"/>
                    </a:lnTo>
                    <a:lnTo>
                      <a:pt x="629" y="1001"/>
                    </a:lnTo>
                    <a:lnTo>
                      <a:pt x="623" y="1008"/>
                    </a:lnTo>
                    <a:lnTo>
                      <a:pt x="620" y="1016"/>
                    </a:lnTo>
                    <a:lnTo>
                      <a:pt x="614" y="1023"/>
                    </a:lnTo>
                    <a:lnTo>
                      <a:pt x="610" y="1031"/>
                    </a:lnTo>
                    <a:lnTo>
                      <a:pt x="606" y="1039"/>
                    </a:lnTo>
                    <a:lnTo>
                      <a:pt x="602" y="1046"/>
                    </a:lnTo>
                    <a:lnTo>
                      <a:pt x="599" y="1052"/>
                    </a:lnTo>
                    <a:lnTo>
                      <a:pt x="595" y="1060"/>
                    </a:lnTo>
                    <a:lnTo>
                      <a:pt x="591" y="1065"/>
                    </a:lnTo>
                    <a:lnTo>
                      <a:pt x="587" y="1073"/>
                    </a:lnTo>
                    <a:lnTo>
                      <a:pt x="583" y="1079"/>
                    </a:lnTo>
                    <a:lnTo>
                      <a:pt x="580" y="1086"/>
                    </a:lnTo>
                    <a:lnTo>
                      <a:pt x="576" y="1092"/>
                    </a:lnTo>
                    <a:lnTo>
                      <a:pt x="574" y="1099"/>
                    </a:lnTo>
                    <a:lnTo>
                      <a:pt x="566" y="1113"/>
                    </a:lnTo>
                    <a:lnTo>
                      <a:pt x="562" y="1126"/>
                    </a:lnTo>
                    <a:lnTo>
                      <a:pt x="559" y="1139"/>
                    </a:lnTo>
                    <a:lnTo>
                      <a:pt x="555" y="1155"/>
                    </a:lnTo>
                    <a:lnTo>
                      <a:pt x="549" y="1166"/>
                    </a:lnTo>
                    <a:lnTo>
                      <a:pt x="545" y="1179"/>
                    </a:lnTo>
                    <a:lnTo>
                      <a:pt x="542" y="1193"/>
                    </a:lnTo>
                    <a:lnTo>
                      <a:pt x="536" y="1206"/>
                    </a:lnTo>
                    <a:lnTo>
                      <a:pt x="532" y="1217"/>
                    </a:lnTo>
                    <a:lnTo>
                      <a:pt x="530" y="1231"/>
                    </a:lnTo>
                    <a:lnTo>
                      <a:pt x="528" y="1242"/>
                    </a:lnTo>
                    <a:lnTo>
                      <a:pt x="526" y="1255"/>
                    </a:lnTo>
                    <a:lnTo>
                      <a:pt x="523" y="1267"/>
                    </a:lnTo>
                    <a:lnTo>
                      <a:pt x="521" y="1276"/>
                    </a:lnTo>
                    <a:lnTo>
                      <a:pt x="519" y="1286"/>
                    </a:lnTo>
                    <a:lnTo>
                      <a:pt x="519" y="1297"/>
                    </a:lnTo>
                    <a:lnTo>
                      <a:pt x="515" y="1305"/>
                    </a:lnTo>
                    <a:lnTo>
                      <a:pt x="515" y="1314"/>
                    </a:lnTo>
                    <a:lnTo>
                      <a:pt x="515" y="1322"/>
                    </a:lnTo>
                    <a:lnTo>
                      <a:pt x="515" y="1330"/>
                    </a:lnTo>
                    <a:lnTo>
                      <a:pt x="511" y="1341"/>
                    </a:lnTo>
                    <a:lnTo>
                      <a:pt x="511" y="1350"/>
                    </a:lnTo>
                    <a:lnTo>
                      <a:pt x="511" y="1358"/>
                    </a:lnTo>
                    <a:lnTo>
                      <a:pt x="511" y="1360"/>
                    </a:lnTo>
                    <a:lnTo>
                      <a:pt x="397" y="1084"/>
                    </a:lnTo>
                    <a:lnTo>
                      <a:pt x="397" y="1082"/>
                    </a:lnTo>
                    <a:lnTo>
                      <a:pt x="403" y="1079"/>
                    </a:lnTo>
                    <a:lnTo>
                      <a:pt x="410" y="1073"/>
                    </a:lnTo>
                    <a:lnTo>
                      <a:pt x="420" y="1065"/>
                    </a:lnTo>
                    <a:lnTo>
                      <a:pt x="424" y="1060"/>
                    </a:lnTo>
                    <a:lnTo>
                      <a:pt x="431" y="1056"/>
                    </a:lnTo>
                    <a:lnTo>
                      <a:pt x="439" y="1050"/>
                    </a:lnTo>
                    <a:lnTo>
                      <a:pt x="447" y="1044"/>
                    </a:lnTo>
                    <a:lnTo>
                      <a:pt x="454" y="1039"/>
                    </a:lnTo>
                    <a:lnTo>
                      <a:pt x="462" y="1031"/>
                    </a:lnTo>
                    <a:lnTo>
                      <a:pt x="471" y="1025"/>
                    </a:lnTo>
                    <a:lnTo>
                      <a:pt x="483" y="1018"/>
                    </a:lnTo>
                    <a:lnTo>
                      <a:pt x="490" y="1008"/>
                    </a:lnTo>
                    <a:lnTo>
                      <a:pt x="502" y="1001"/>
                    </a:lnTo>
                    <a:lnTo>
                      <a:pt x="511" y="991"/>
                    </a:lnTo>
                    <a:lnTo>
                      <a:pt x="524" y="982"/>
                    </a:lnTo>
                    <a:lnTo>
                      <a:pt x="534" y="972"/>
                    </a:lnTo>
                    <a:lnTo>
                      <a:pt x="545" y="963"/>
                    </a:lnTo>
                    <a:lnTo>
                      <a:pt x="559" y="953"/>
                    </a:lnTo>
                    <a:lnTo>
                      <a:pt x="570" y="944"/>
                    </a:lnTo>
                    <a:lnTo>
                      <a:pt x="582" y="932"/>
                    </a:lnTo>
                    <a:lnTo>
                      <a:pt x="593" y="921"/>
                    </a:lnTo>
                    <a:lnTo>
                      <a:pt x="606" y="909"/>
                    </a:lnTo>
                    <a:lnTo>
                      <a:pt x="620" y="900"/>
                    </a:lnTo>
                    <a:lnTo>
                      <a:pt x="633" y="888"/>
                    </a:lnTo>
                    <a:lnTo>
                      <a:pt x="646" y="875"/>
                    </a:lnTo>
                    <a:lnTo>
                      <a:pt x="659" y="864"/>
                    </a:lnTo>
                    <a:lnTo>
                      <a:pt x="673" y="854"/>
                    </a:lnTo>
                    <a:lnTo>
                      <a:pt x="686" y="839"/>
                    </a:lnTo>
                    <a:lnTo>
                      <a:pt x="697" y="828"/>
                    </a:lnTo>
                    <a:lnTo>
                      <a:pt x="711" y="814"/>
                    </a:lnTo>
                    <a:lnTo>
                      <a:pt x="724" y="801"/>
                    </a:lnTo>
                    <a:lnTo>
                      <a:pt x="735" y="788"/>
                    </a:lnTo>
                    <a:lnTo>
                      <a:pt x="749" y="774"/>
                    </a:lnTo>
                    <a:lnTo>
                      <a:pt x="762" y="761"/>
                    </a:lnTo>
                    <a:lnTo>
                      <a:pt x="775" y="748"/>
                    </a:lnTo>
                    <a:lnTo>
                      <a:pt x="785" y="734"/>
                    </a:lnTo>
                    <a:lnTo>
                      <a:pt x="798" y="721"/>
                    </a:lnTo>
                    <a:lnTo>
                      <a:pt x="810" y="708"/>
                    </a:lnTo>
                    <a:lnTo>
                      <a:pt x="821" y="694"/>
                    </a:lnTo>
                    <a:lnTo>
                      <a:pt x="832" y="679"/>
                    </a:lnTo>
                    <a:lnTo>
                      <a:pt x="844" y="668"/>
                    </a:lnTo>
                    <a:lnTo>
                      <a:pt x="855" y="653"/>
                    </a:lnTo>
                    <a:lnTo>
                      <a:pt x="865" y="641"/>
                    </a:lnTo>
                    <a:lnTo>
                      <a:pt x="874" y="626"/>
                    </a:lnTo>
                    <a:lnTo>
                      <a:pt x="884" y="613"/>
                    </a:lnTo>
                    <a:lnTo>
                      <a:pt x="891" y="598"/>
                    </a:lnTo>
                    <a:lnTo>
                      <a:pt x="901" y="584"/>
                    </a:lnTo>
                    <a:lnTo>
                      <a:pt x="908" y="571"/>
                    </a:lnTo>
                    <a:lnTo>
                      <a:pt x="916" y="558"/>
                    </a:lnTo>
                    <a:lnTo>
                      <a:pt x="922" y="544"/>
                    </a:lnTo>
                    <a:lnTo>
                      <a:pt x="929" y="533"/>
                    </a:lnTo>
                    <a:lnTo>
                      <a:pt x="935" y="520"/>
                    </a:lnTo>
                    <a:lnTo>
                      <a:pt x="941" y="506"/>
                    </a:lnTo>
                    <a:lnTo>
                      <a:pt x="945" y="493"/>
                    </a:lnTo>
                    <a:lnTo>
                      <a:pt x="948" y="480"/>
                    </a:lnTo>
                    <a:lnTo>
                      <a:pt x="952" y="466"/>
                    </a:lnTo>
                    <a:lnTo>
                      <a:pt x="954" y="455"/>
                    </a:lnTo>
                    <a:lnTo>
                      <a:pt x="956" y="443"/>
                    </a:lnTo>
                    <a:lnTo>
                      <a:pt x="958" y="432"/>
                    </a:lnTo>
                    <a:lnTo>
                      <a:pt x="956" y="421"/>
                    </a:lnTo>
                    <a:lnTo>
                      <a:pt x="956" y="409"/>
                    </a:lnTo>
                    <a:lnTo>
                      <a:pt x="956" y="396"/>
                    </a:lnTo>
                    <a:lnTo>
                      <a:pt x="956" y="385"/>
                    </a:lnTo>
                    <a:lnTo>
                      <a:pt x="954" y="373"/>
                    </a:lnTo>
                    <a:lnTo>
                      <a:pt x="952" y="362"/>
                    </a:lnTo>
                    <a:lnTo>
                      <a:pt x="952" y="352"/>
                    </a:lnTo>
                    <a:lnTo>
                      <a:pt x="950" y="343"/>
                    </a:lnTo>
                    <a:lnTo>
                      <a:pt x="947" y="329"/>
                    </a:lnTo>
                    <a:lnTo>
                      <a:pt x="945" y="322"/>
                    </a:lnTo>
                    <a:lnTo>
                      <a:pt x="943" y="310"/>
                    </a:lnTo>
                    <a:lnTo>
                      <a:pt x="941" y="303"/>
                    </a:lnTo>
                    <a:lnTo>
                      <a:pt x="937" y="291"/>
                    </a:lnTo>
                    <a:lnTo>
                      <a:pt x="935" y="282"/>
                    </a:lnTo>
                    <a:lnTo>
                      <a:pt x="929" y="274"/>
                    </a:lnTo>
                    <a:lnTo>
                      <a:pt x="927" y="267"/>
                    </a:lnTo>
                    <a:lnTo>
                      <a:pt x="922" y="257"/>
                    </a:lnTo>
                    <a:lnTo>
                      <a:pt x="918" y="248"/>
                    </a:lnTo>
                    <a:lnTo>
                      <a:pt x="912" y="240"/>
                    </a:lnTo>
                    <a:lnTo>
                      <a:pt x="908" y="232"/>
                    </a:lnTo>
                    <a:lnTo>
                      <a:pt x="903" y="225"/>
                    </a:lnTo>
                    <a:lnTo>
                      <a:pt x="899" y="215"/>
                    </a:lnTo>
                    <a:lnTo>
                      <a:pt x="893" y="208"/>
                    </a:lnTo>
                    <a:lnTo>
                      <a:pt x="889" y="202"/>
                    </a:lnTo>
                    <a:lnTo>
                      <a:pt x="882" y="193"/>
                    </a:lnTo>
                    <a:lnTo>
                      <a:pt x="876" y="187"/>
                    </a:lnTo>
                    <a:lnTo>
                      <a:pt x="869" y="181"/>
                    </a:lnTo>
                    <a:lnTo>
                      <a:pt x="865" y="175"/>
                    </a:lnTo>
                    <a:lnTo>
                      <a:pt x="855" y="168"/>
                    </a:lnTo>
                    <a:lnTo>
                      <a:pt x="851" y="162"/>
                    </a:lnTo>
                    <a:lnTo>
                      <a:pt x="842" y="156"/>
                    </a:lnTo>
                    <a:lnTo>
                      <a:pt x="838" y="153"/>
                    </a:lnTo>
                    <a:lnTo>
                      <a:pt x="829" y="145"/>
                    </a:lnTo>
                    <a:lnTo>
                      <a:pt x="821" y="141"/>
                    </a:lnTo>
                    <a:lnTo>
                      <a:pt x="813" y="135"/>
                    </a:lnTo>
                    <a:lnTo>
                      <a:pt x="806" y="132"/>
                    </a:lnTo>
                    <a:lnTo>
                      <a:pt x="798" y="126"/>
                    </a:lnTo>
                    <a:lnTo>
                      <a:pt x="791" y="122"/>
                    </a:lnTo>
                    <a:lnTo>
                      <a:pt x="781" y="118"/>
                    </a:lnTo>
                    <a:lnTo>
                      <a:pt x="774" y="115"/>
                    </a:lnTo>
                    <a:lnTo>
                      <a:pt x="764" y="111"/>
                    </a:lnTo>
                    <a:lnTo>
                      <a:pt x="755" y="105"/>
                    </a:lnTo>
                    <a:lnTo>
                      <a:pt x="747" y="103"/>
                    </a:lnTo>
                    <a:lnTo>
                      <a:pt x="737" y="101"/>
                    </a:lnTo>
                    <a:lnTo>
                      <a:pt x="728" y="97"/>
                    </a:lnTo>
                    <a:lnTo>
                      <a:pt x="720" y="96"/>
                    </a:lnTo>
                    <a:lnTo>
                      <a:pt x="709" y="92"/>
                    </a:lnTo>
                    <a:lnTo>
                      <a:pt x="701" y="92"/>
                    </a:lnTo>
                    <a:lnTo>
                      <a:pt x="690" y="88"/>
                    </a:lnTo>
                    <a:lnTo>
                      <a:pt x="680" y="88"/>
                    </a:lnTo>
                    <a:lnTo>
                      <a:pt x="671" y="84"/>
                    </a:lnTo>
                    <a:lnTo>
                      <a:pt x="661" y="84"/>
                    </a:lnTo>
                    <a:lnTo>
                      <a:pt x="650" y="82"/>
                    </a:lnTo>
                    <a:lnTo>
                      <a:pt x="640" y="82"/>
                    </a:lnTo>
                    <a:lnTo>
                      <a:pt x="631" y="82"/>
                    </a:lnTo>
                    <a:lnTo>
                      <a:pt x="621" y="82"/>
                    </a:lnTo>
                    <a:lnTo>
                      <a:pt x="610" y="80"/>
                    </a:lnTo>
                    <a:lnTo>
                      <a:pt x="601" y="80"/>
                    </a:lnTo>
                    <a:lnTo>
                      <a:pt x="589" y="80"/>
                    </a:lnTo>
                    <a:lnTo>
                      <a:pt x="580" y="82"/>
                    </a:lnTo>
                    <a:lnTo>
                      <a:pt x="566" y="82"/>
                    </a:lnTo>
                    <a:lnTo>
                      <a:pt x="559" y="84"/>
                    </a:lnTo>
                    <a:lnTo>
                      <a:pt x="545" y="84"/>
                    </a:lnTo>
                    <a:lnTo>
                      <a:pt x="536" y="88"/>
                    </a:lnTo>
                    <a:lnTo>
                      <a:pt x="524" y="88"/>
                    </a:lnTo>
                    <a:lnTo>
                      <a:pt x="515" y="90"/>
                    </a:lnTo>
                    <a:lnTo>
                      <a:pt x="502" y="92"/>
                    </a:lnTo>
                    <a:lnTo>
                      <a:pt x="492" y="97"/>
                    </a:lnTo>
                    <a:lnTo>
                      <a:pt x="479" y="99"/>
                    </a:lnTo>
                    <a:lnTo>
                      <a:pt x="469" y="103"/>
                    </a:lnTo>
                    <a:lnTo>
                      <a:pt x="458" y="109"/>
                    </a:lnTo>
                    <a:lnTo>
                      <a:pt x="447" y="115"/>
                    </a:lnTo>
                    <a:lnTo>
                      <a:pt x="435" y="118"/>
                    </a:lnTo>
                    <a:lnTo>
                      <a:pt x="424" y="126"/>
                    </a:lnTo>
                    <a:lnTo>
                      <a:pt x="412" y="132"/>
                    </a:lnTo>
                    <a:lnTo>
                      <a:pt x="401" y="141"/>
                    </a:lnTo>
                    <a:lnTo>
                      <a:pt x="390" y="147"/>
                    </a:lnTo>
                    <a:lnTo>
                      <a:pt x="380" y="154"/>
                    </a:lnTo>
                    <a:lnTo>
                      <a:pt x="369" y="164"/>
                    </a:lnTo>
                    <a:lnTo>
                      <a:pt x="357" y="173"/>
                    </a:lnTo>
                    <a:lnTo>
                      <a:pt x="346" y="181"/>
                    </a:lnTo>
                    <a:lnTo>
                      <a:pt x="334" y="189"/>
                    </a:lnTo>
                    <a:lnTo>
                      <a:pt x="325" y="198"/>
                    </a:lnTo>
                    <a:lnTo>
                      <a:pt x="313" y="210"/>
                    </a:lnTo>
                    <a:lnTo>
                      <a:pt x="302" y="219"/>
                    </a:lnTo>
                    <a:lnTo>
                      <a:pt x="293" y="229"/>
                    </a:lnTo>
                    <a:lnTo>
                      <a:pt x="281" y="238"/>
                    </a:lnTo>
                    <a:lnTo>
                      <a:pt x="272" y="251"/>
                    </a:lnTo>
                    <a:lnTo>
                      <a:pt x="260" y="259"/>
                    </a:lnTo>
                    <a:lnTo>
                      <a:pt x="251" y="270"/>
                    </a:lnTo>
                    <a:lnTo>
                      <a:pt x="239" y="282"/>
                    </a:lnTo>
                    <a:lnTo>
                      <a:pt x="230" y="293"/>
                    </a:lnTo>
                    <a:lnTo>
                      <a:pt x="220" y="303"/>
                    </a:lnTo>
                    <a:lnTo>
                      <a:pt x="211" y="314"/>
                    </a:lnTo>
                    <a:lnTo>
                      <a:pt x="201" y="326"/>
                    </a:lnTo>
                    <a:lnTo>
                      <a:pt x="194" y="337"/>
                    </a:lnTo>
                    <a:lnTo>
                      <a:pt x="182" y="347"/>
                    </a:lnTo>
                    <a:lnTo>
                      <a:pt x="175" y="356"/>
                    </a:lnTo>
                    <a:lnTo>
                      <a:pt x="165" y="367"/>
                    </a:lnTo>
                    <a:lnTo>
                      <a:pt x="156" y="379"/>
                    </a:lnTo>
                    <a:lnTo>
                      <a:pt x="148" y="388"/>
                    </a:lnTo>
                    <a:lnTo>
                      <a:pt x="139" y="400"/>
                    </a:lnTo>
                    <a:lnTo>
                      <a:pt x="131" y="409"/>
                    </a:lnTo>
                    <a:lnTo>
                      <a:pt x="125" y="421"/>
                    </a:lnTo>
                    <a:lnTo>
                      <a:pt x="118" y="430"/>
                    </a:lnTo>
                    <a:lnTo>
                      <a:pt x="108" y="440"/>
                    </a:lnTo>
                    <a:lnTo>
                      <a:pt x="101" y="449"/>
                    </a:lnTo>
                    <a:lnTo>
                      <a:pt x="95" y="459"/>
                    </a:lnTo>
                    <a:lnTo>
                      <a:pt x="87" y="466"/>
                    </a:lnTo>
                    <a:lnTo>
                      <a:pt x="82" y="476"/>
                    </a:lnTo>
                    <a:lnTo>
                      <a:pt x="76" y="483"/>
                    </a:lnTo>
                    <a:lnTo>
                      <a:pt x="72" y="493"/>
                    </a:lnTo>
                    <a:lnTo>
                      <a:pt x="64" y="501"/>
                    </a:lnTo>
                    <a:lnTo>
                      <a:pt x="61" y="508"/>
                    </a:lnTo>
                    <a:lnTo>
                      <a:pt x="55" y="514"/>
                    </a:lnTo>
                    <a:lnTo>
                      <a:pt x="51" y="521"/>
                    </a:lnTo>
                    <a:lnTo>
                      <a:pt x="47" y="527"/>
                    </a:lnTo>
                    <a:lnTo>
                      <a:pt x="44" y="533"/>
                    </a:lnTo>
                    <a:lnTo>
                      <a:pt x="40" y="539"/>
                    </a:lnTo>
                    <a:lnTo>
                      <a:pt x="38" y="544"/>
                    </a:lnTo>
                    <a:lnTo>
                      <a:pt x="30" y="550"/>
                    </a:lnTo>
                    <a:lnTo>
                      <a:pt x="28" y="558"/>
                    </a:lnTo>
                    <a:lnTo>
                      <a:pt x="25" y="561"/>
                    </a:lnTo>
                    <a:lnTo>
                      <a:pt x="25" y="563"/>
                    </a:lnTo>
                    <a:lnTo>
                      <a:pt x="0" y="432"/>
                    </a:lnTo>
                    <a:lnTo>
                      <a:pt x="0" y="432"/>
                    </a:lnTo>
                    <a:close/>
                  </a:path>
                </a:pathLst>
              </a:custGeom>
              <a:solidFill>
                <a:srgbClr val="8ac7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584760" y="2319840"/>
                <a:ext cx="68760" cy="259200"/>
              </a:xfrm>
              <a:custGeom>
                <a:avLst/>
                <a:gdLst/>
                <a:ahLst/>
                <a:rect l="l" t="t" r="r" b="b"/>
                <a:pathLst>
                  <a:path w="239" h="905">
                    <a:moveTo>
                      <a:pt x="80" y="0"/>
                    </a:moveTo>
                    <a:lnTo>
                      <a:pt x="80" y="0"/>
                    </a:lnTo>
                    <a:lnTo>
                      <a:pt x="78" y="6"/>
                    </a:lnTo>
                    <a:lnTo>
                      <a:pt x="76" y="10"/>
                    </a:lnTo>
                    <a:lnTo>
                      <a:pt x="76" y="17"/>
                    </a:lnTo>
                    <a:lnTo>
                      <a:pt x="72" y="27"/>
                    </a:lnTo>
                    <a:lnTo>
                      <a:pt x="68" y="40"/>
                    </a:lnTo>
                    <a:lnTo>
                      <a:pt x="66" y="44"/>
                    </a:lnTo>
                    <a:lnTo>
                      <a:pt x="65" y="54"/>
                    </a:lnTo>
                    <a:lnTo>
                      <a:pt x="63" y="61"/>
                    </a:lnTo>
                    <a:lnTo>
                      <a:pt x="63" y="69"/>
                    </a:lnTo>
                    <a:lnTo>
                      <a:pt x="59" y="76"/>
                    </a:lnTo>
                    <a:lnTo>
                      <a:pt x="57" y="84"/>
                    </a:lnTo>
                    <a:lnTo>
                      <a:pt x="55" y="93"/>
                    </a:lnTo>
                    <a:lnTo>
                      <a:pt x="53" y="103"/>
                    </a:lnTo>
                    <a:lnTo>
                      <a:pt x="49" y="111"/>
                    </a:lnTo>
                    <a:lnTo>
                      <a:pt x="49" y="122"/>
                    </a:lnTo>
                    <a:lnTo>
                      <a:pt x="45" y="131"/>
                    </a:lnTo>
                    <a:lnTo>
                      <a:pt x="45" y="143"/>
                    </a:lnTo>
                    <a:lnTo>
                      <a:pt x="42" y="154"/>
                    </a:lnTo>
                    <a:lnTo>
                      <a:pt x="42" y="164"/>
                    </a:lnTo>
                    <a:lnTo>
                      <a:pt x="38" y="177"/>
                    </a:lnTo>
                    <a:lnTo>
                      <a:pt x="36" y="189"/>
                    </a:lnTo>
                    <a:lnTo>
                      <a:pt x="34" y="200"/>
                    </a:lnTo>
                    <a:lnTo>
                      <a:pt x="32" y="211"/>
                    </a:lnTo>
                    <a:lnTo>
                      <a:pt x="30" y="225"/>
                    </a:lnTo>
                    <a:lnTo>
                      <a:pt x="28" y="238"/>
                    </a:lnTo>
                    <a:lnTo>
                      <a:pt x="25" y="249"/>
                    </a:lnTo>
                    <a:lnTo>
                      <a:pt x="25" y="261"/>
                    </a:lnTo>
                    <a:lnTo>
                      <a:pt x="21" y="274"/>
                    </a:lnTo>
                    <a:lnTo>
                      <a:pt x="19" y="287"/>
                    </a:lnTo>
                    <a:lnTo>
                      <a:pt x="17" y="299"/>
                    </a:lnTo>
                    <a:lnTo>
                      <a:pt x="15" y="312"/>
                    </a:lnTo>
                    <a:lnTo>
                      <a:pt x="13" y="325"/>
                    </a:lnTo>
                    <a:lnTo>
                      <a:pt x="13" y="341"/>
                    </a:lnTo>
                    <a:lnTo>
                      <a:pt x="9" y="352"/>
                    </a:lnTo>
                    <a:lnTo>
                      <a:pt x="9" y="367"/>
                    </a:lnTo>
                    <a:lnTo>
                      <a:pt x="6" y="381"/>
                    </a:lnTo>
                    <a:lnTo>
                      <a:pt x="6" y="396"/>
                    </a:lnTo>
                    <a:lnTo>
                      <a:pt x="6" y="409"/>
                    </a:lnTo>
                    <a:lnTo>
                      <a:pt x="4" y="422"/>
                    </a:lnTo>
                    <a:lnTo>
                      <a:pt x="2" y="436"/>
                    </a:lnTo>
                    <a:lnTo>
                      <a:pt x="2" y="451"/>
                    </a:lnTo>
                    <a:lnTo>
                      <a:pt x="2" y="464"/>
                    </a:lnTo>
                    <a:lnTo>
                      <a:pt x="0" y="478"/>
                    </a:lnTo>
                    <a:lnTo>
                      <a:pt x="0" y="491"/>
                    </a:lnTo>
                    <a:lnTo>
                      <a:pt x="0" y="506"/>
                    </a:lnTo>
                    <a:lnTo>
                      <a:pt x="0" y="517"/>
                    </a:lnTo>
                    <a:lnTo>
                      <a:pt x="0" y="533"/>
                    </a:lnTo>
                    <a:lnTo>
                      <a:pt x="0" y="544"/>
                    </a:lnTo>
                    <a:lnTo>
                      <a:pt x="2" y="559"/>
                    </a:lnTo>
                    <a:lnTo>
                      <a:pt x="2" y="571"/>
                    </a:lnTo>
                    <a:lnTo>
                      <a:pt x="2" y="584"/>
                    </a:lnTo>
                    <a:lnTo>
                      <a:pt x="2" y="597"/>
                    </a:lnTo>
                    <a:lnTo>
                      <a:pt x="4" y="611"/>
                    </a:lnTo>
                    <a:lnTo>
                      <a:pt x="4" y="622"/>
                    </a:lnTo>
                    <a:lnTo>
                      <a:pt x="6" y="633"/>
                    </a:lnTo>
                    <a:lnTo>
                      <a:pt x="7" y="647"/>
                    </a:lnTo>
                    <a:lnTo>
                      <a:pt x="11" y="658"/>
                    </a:lnTo>
                    <a:lnTo>
                      <a:pt x="13" y="668"/>
                    </a:lnTo>
                    <a:lnTo>
                      <a:pt x="15" y="679"/>
                    </a:lnTo>
                    <a:lnTo>
                      <a:pt x="17" y="690"/>
                    </a:lnTo>
                    <a:lnTo>
                      <a:pt x="19" y="700"/>
                    </a:lnTo>
                    <a:lnTo>
                      <a:pt x="23" y="709"/>
                    </a:lnTo>
                    <a:lnTo>
                      <a:pt x="25" y="719"/>
                    </a:lnTo>
                    <a:lnTo>
                      <a:pt x="28" y="729"/>
                    </a:lnTo>
                    <a:lnTo>
                      <a:pt x="32" y="738"/>
                    </a:lnTo>
                    <a:lnTo>
                      <a:pt x="36" y="746"/>
                    </a:lnTo>
                    <a:lnTo>
                      <a:pt x="40" y="753"/>
                    </a:lnTo>
                    <a:lnTo>
                      <a:pt x="44" y="761"/>
                    </a:lnTo>
                    <a:lnTo>
                      <a:pt x="47" y="770"/>
                    </a:lnTo>
                    <a:lnTo>
                      <a:pt x="51" y="776"/>
                    </a:lnTo>
                    <a:lnTo>
                      <a:pt x="57" y="784"/>
                    </a:lnTo>
                    <a:lnTo>
                      <a:pt x="61" y="791"/>
                    </a:lnTo>
                    <a:lnTo>
                      <a:pt x="66" y="799"/>
                    </a:lnTo>
                    <a:lnTo>
                      <a:pt x="74" y="810"/>
                    </a:lnTo>
                    <a:lnTo>
                      <a:pt x="84" y="824"/>
                    </a:lnTo>
                    <a:lnTo>
                      <a:pt x="93" y="831"/>
                    </a:lnTo>
                    <a:lnTo>
                      <a:pt x="103" y="843"/>
                    </a:lnTo>
                    <a:lnTo>
                      <a:pt x="112" y="850"/>
                    </a:lnTo>
                    <a:lnTo>
                      <a:pt x="123" y="858"/>
                    </a:lnTo>
                    <a:lnTo>
                      <a:pt x="133" y="865"/>
                    </a:lnTo>
                    <a:lnTo>
                      <a:pt x="142" y="873"/>
                    </a:lnTo>
                    <a:lnTo>
                      <a:pt x="150" y="877"/>
                    </a:lnTo>
                    <a:lnTo>
                      <a:pt x="160" y="881"/>
                    </a:lnTo>
                    <a:lnTo>
                      <a:pt x="169" y="884"/>
                    </a:lnTo>
                    <a:lnTo>
                      <a:pt x="179" y="890"/>
                    </a:lnTo>
                    <a:lnTo>
                      <a:pt x="184" y="892"/>
                    </a:lnTo>
                    <a:lnTo>
                      <a:pt x="194" y="894"/>
                    </a:lnTo>
                    <a:lnTo>
                      <a:pt x="201" y="898"/>
                    </a:lnTo>
                    <a:lnTo>
                      <a:pt x="209" y="900"/>
                    </a:lnTo>
                    <a:lnTo>
                      <a:pt x="220" y="902"/>
                    </a:lnTo>
                    <a:lnTo>
                      <a:pt x="230" y="903"/>
                    </a:lnTo>
                    <a:lnTo>
                      <a:pt x="237" y="903"/>
                    </a:lnTo>
                    <a:lnTo>
                      <a:pt x="239" y="905"/>
                    </a:lnTo>
                    <a:lnTo>
                      <a:pt x="236" y="436"/>
                    </a:lnTo>
                    <a:lnTo>
                      <a:pt x="80" y="0"/>
                    </a:lnTo>
                    <a:lnTo>
                      <a:pt x="80" y="0"/>
                    </a:lnTo>
                    <a:close/>
                  </a:path>
                </a:pathLst>
              </a:custGeom>
              <a:solidFill>
                <a:srgbClr val="8a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>
                <a:off x="6640200" y="1860120"/>
                <a:ext cx="559080" cy="496800"/>
              </a:xfrm>
              <a:custGeom>
                <a:avLst/>
                <a:gdLst/>
                <a:ahLst/>
                <a:rect l="l" t="t" r="r" b="b"/>
                <a:pathLst>
                  <a:path w="1946" h="1732">
                    <a:moveTo>
                      <a:pt x="0" y="278"/>
                    </a:moveTo>
                    <a:lnTo>
                      <a:pt x="2" y="278"/>
                    </a:lnTo>
                    <a:lnTo>
                      <a:pt x="11" y="274"/>
                    </a:lnTo>
                    <a:lnTo>
                      <a:pt x="15" y="272"/>
                    </a:lnTo>
                    <a:lnTo>
                      <a:pt x="23" y="270"/>
                    </a:lnTo>
                    <a:lnTo>
                      <a:pt x="30" y="267"/>
                    </a:lnTo>
                    <a:lnTo>
                      <a:pt x="42" y="265"/>
                    </a:lnTo>
                    <a:lnTo>
                      <a:pt x="51" y="261"/>
                    </a:lnTo>
                    <a:lnTo>
                      <a:pt x="64" y="257"/>
                    </a:lnTo>
                    <a:lnTo>
                      <a:pt x="76" y="251"/>
                    </a:lnTo>
                    <a:lnTo>
                      <a:pt x="91" y="247"/>
                    </a:lnTo>
                    <a:lnTo>
                      <a:pt x="106" y="244"/>
                    </a:lnTo>
                    <a:lnTo>
                      <a:pt x="123" y="238"/>
                    </a:lnTo>
                    <a:lnTo>
                      <a:pt x="140" y="232"/>
                    </a:lnTo>
                    <a:lnTo>
                      <a:pt x="159" y="228"/>
                    </a:lnTo>
                    <a:lnTo>
                      <a:pt x="177" y="221"/>
                    </a:lnTo>
                    <a:lnTo>
                      <a:pt x="197" y="215"/>
                    </a:lnTo>
                    <a:lnTo>
                      <a:pt x="218" y="208"/>
                    </a:lnTo>
                    <a:lnTo>
                      <a:pt x="241" y="204"/>
                    </a:lnTo>
                    <a:lnTo>
                      <a:pt x="262" y="194"/>
                    </a:lnTo>
                    <a:lnTo>
                      <a:pt x="285" y="190"/>
                    </a:lnTo>
                    <a:lnTo>
                      <a:pt x="310" y="181"/>
                    </a:lnTo>
                    <a:lnTo>
                      <a:pt x="334" y="177"/>
                    </a:lnTo>
                    <a:lnTo>
                      <a:pt x="357" y="170"/>
                    </a:lnTo>
                    <a:lnTo>
                      <a:pt x="384" y="162"/>
                    </a:lnTo>
                    <a:lnTo>
                      <a:pt x="410" y="154"/>
                    </a:lnTo>
                    <a:lnTo>
                      <a:pt x="437" y="149"/>
                    </a:lnTo>
                    <a:lnTo>
                      <a:pt x="465" y="143"/>
                    </a:lnTo>
                    <a:lnTo>
                      <a:pt x="494" y="135"/>
                    </a:lnTo>
                    <a:lnTo>
                      <a:pt x="521" y="130"/>
                    </a:lnTo>
                    <a:lnTo>
                      <a:pt x="551" y="122"/>
                    </a:lnTo>
                    <a:lnTo>
                      <a:pt x="580" y="114"/>
                    </a:lnTo>
                    <a:lnTo>
                      <a:pt x="608" y="107"/>
                    </a:lnTo>
                    <a:lnTo>
                      <a:pt x="638" y="101"/>
                    </a:lnTo>
                    <a:lnTo>
                      <a:pt x="669" y="93"/>
                    </a:lnTo>
                    <a:lnTo>
                      <a:pt x="699" y="86"/>
                    </a:lnTo>
                    <a:lnTo>
                      <a:pt x="730" y="80"/>
                    </a:lnTo>
                    <a:lnTo>
                      <a:pt x="760" y="73"/>
                    </a:lnTo>
                    <a:lnTo>
                      <a:pt x="791" y="67"/>
                    </a:lnTo>
                    <a:lnTo>
                      <a:pt x="821" y="61"/>
                    </a:lnTo>
                    <a:lnTo>
                      <a:pt x="853" y="55"/>
                    </a:lnTo>
                    <a:lnTo>
                      <a:pt x="884" y="50"/>
                    </a:lnTo>
                    <a:lnTo>
                      <a:pt x="916" y="46"/>
                    </a:lnTo>
                    <a:lnTo>
                      <a:pt x="946" y="38"/>
                    </a:lnTo>
                    <a:lnTo>
                      <a:pt x="979" y="35"/>
                    </a:lnTo>
                    <a:lnTo>
                      <a:pt x="1009" y="31"/>
                    </a:lnTo>
                    <a:lnTo>
                      <a:pt x="1042" y="27"/>
                    </a:lnTo>
                    <a:lnTo>
                      <a:pt x="1070" y="21"/>
                    </a:lnTo>
                    <a:lnTo>
                      <a:pt x="1102" y="17"/>
                    </a:lnTo>
                    <a:lnTo>
                      <a:pt x="1131" y="14"/>
                    </a:lnTo>
                    <a:lnTo>
                      <a:pt x="1163" y="10"/>
                    </a:lnTo>
                    <a:lnTo>
                      <a:pt x="1194" y="6"/>
                    </a:lnTo>
                    <a:lnTo>
                      <a:pt x="1222" y="6"/>
                    </a:lnTo>
                    <a:lnTo>
                      <a:pt x="1251" y="2"/>
                    </a:lnTo>
                    <a:lnTo>
                      <a:pt x="1281" y="2"/>
                    </a:lnTo>
                    <a:lnTo>
                      <a:pt x="1310" y="0"/>
                    </a:lnTo>
                    <a:lnTo>
                      <a:pt x="1338" y="0"/>
                    </a:lnTo>
                    <a:lnTo>
                      <a:pt x="1367" y="0"/>
                    </a:lnTo>
                    <a:lnTo>
                      <a:pt x="1393" y="0"/>
                    </a:lnTo>
                    <a:lnTo>
                      <a:pt x="1420" y="0"/>
                    </a:lnTo>
                    <a:lnTo>
                      <a:pt x="1446" y="2"/>
                    </a:lnTo>
                    <a:lnTo>
                      <a:pt x="1473" y="4"/>
                    </a:lnTo>
                    <a:lnTo>
                      <a:pt x="1498" y="8"/>
                    </a:lnTo>
                    <a:lnTo>
                      <a:pt x="1521" y="10"/>
                    </a:lnTo>
                    <a:lnTo>
                      <a:pt x="1543" y="14"/>
                    </a:lnTo>
                    <a:lnTo>
                      <a:pt x="1564" y="17"/>
                    </a:lnTo>
                    <a:lnTo>
                      <a:pt x="1587" y="21"/>
                    </a:lnTo>
                    <a:lnTo>
                      <a:pt x="1604" y="25"/>
                    </a:lnTo>
                    <a:lnTo>
                      <a:pt x="1621" y="33"/>
                    </a:lnTo>
                    <a:lnTo>
                      <a:pt x="1638" y="36"/>
                    </a:lnTo>
                    <a:lnTo>
                      <a:pt x="1656" y="46"/>
                    </a:lnTo>
                    <a:lnTo>
                      <a:pt x="1669" y="50"/>
                    </a:lnTo>
                    <a:lnTo>
                      <a:pt x="1682" y="59"/>
                    </a:lnTo>
                    <a:lnTo>
                      <a:pt x="1694" y="67"/>
                    </a:lnTo>
                    <a:lnTo>
                      <a:pt x="1705" y="74"/>
                    </a:lnTo>
                    <a:lnTo>
                      <a:pt x="1714" y="82"/>
                    </a:lnTo>
                    <a:lnTo>
                      <a:pt x="1726" y="90"/>
                    </a:lnTo>
                    <a:lnTo>
                      <a:pt x="1733" y="99"/>
                    </a:lnTo>
                    <a:lnTo>
                      <a:pt x="1741" y="111"/>
                    </a:lnTo>
                    <a:lnTo>
                      <a:pt x="1747" y="118"/>
                    </a:lnTo>
                    <a:lnTo>
                      <a:pt x="1752" y="128"/>
                    </a:lnTo>
                    <a:lnTo>
                      <a:pt x="1756" y="137"/>
                    </a:lnTo>
                    <a:lnTo>
                      <a:pt x="1762" y="149"/>
                    </a:lnTo>
                    <a:lnTo>
                      <a:pt x="1764" y="158"/>
                    </a:lnTo>
                    <a:lnTo>
                      <a:pt x="1766" y="170"/>
                    </a:lnTo>
                    <a:lnTo>
                      <a:pt x="1768" y="179"/>
                    </a:lnTo>
                    <a:lnTo>
                      <a:pt x="1770" y="190"/>
                    </a:lnTo>
                    <a:lnTo>
                      <a:pt x="1770" y="202"/>
                    </a:lnTo>
                    <a:lnTo>
                      <a:pt x="1770" y="213"/>
                    </a:lnTo>
                    <a:lnTo>
                      <a:pt x="1770" y="223"/>
                    </a:lnTo>
                    <a:lnTo>
                      <a:pt x="1770" y="234"/>
                    </a:lnTo>
                    <a:lnTo>
                      <a:pt x="1766" y="246"/>
                    </a:lnTo>
                    <a:lnTo>
                      <a:pt x="1766" y="257"/>
                    </a:lnTo>
                    <a:lnTo>
                      <a:pt x="1762" y="270"/>
                    </a:lnTo>
                    <a:lnTo>
                      <a:pt x="1762" y="282"/>
                    </a:lnTo>
                    <a:lnTo>
                      <a:pt x="1756" y="291"/>
                    </a:lnTo>
                    <a:lnTo>
                      <a:pt x="1752" y="303"/>
                    </a:lnTo>
                    <a:lnTo>
                      <a:pt x="1749" y="314"/>
                    </a:lnTo>
                    <a:lnTo>
                      <a:pt x="1745" y="324"/>
                    </a:lnTo>
                    <a:lnTo>
                      <a:pt x="1739" y="335"/>
                    </a:lnTo>
                    <a:lnTo>
                      <a:pt x="1735" y="344"/>
                    </a:lnTo>
                    <a:lnTo>
                      <a:pt x="1730" y="356"/>
                    </a:lnTo>
                    <a:lnTo>
                      <a:pt x="1726" y="367"/>
                    </a:lnTo>
                    <a:lnTo>
                      <a:pt x="1718" y="377"/>
                    </a:lnTo>
                    <a:lnTo>
                      <a:pt x="1713" y="386"/>
                    </a:lnTo>
                    <a:lnTo>
                      <a:pt x="1709" y="396"/>
                    </a:lnTo>
                    <a:lnTo>
                      <a:pt x="1703" y="405"/>
                    </a:lnTo>
                    <a:lnTo>
                      <a:pt x="1695" y="415"/>
                    </a:lnTo>
                    <a:lnTo>
                      <a:pt x="1692" y="424"/>
                    </a:lnTo>
                    <a:lnTo>
                      <a:pt x="1686" y="432"/>
                    </a:lnTo>
                    <a:lnTo>
                      <a:pt x="1682" y="441"/>
                    </a:lnTo>
                    <a:lnTo>
                      <a:pt x="1675" y="449"/>
                    </a:lnTo>
                    <a:lnTo>
                      <a:pt x="1669" y="457"/>
                    </a:lnTo>
                    <a:lnTo>
                      <a:pt x="1665" y="462"/>
                    </a:lnTo>
                    <a:lnTo>
                      <a:pt x="1661" y="470"/>
                    </a:lnTo>
                    <a:lnTo>
                      <a:pt x="1656" y="476"/>
                    </a:lnTo>
                    <a:lnTo>
                      <a:pt x="1652" y="481"/>
                    </a:lnTo>
                    <a:lnTo>
                      <a:pt x="1648" y="487"/>
                    </a:lnTo>
                    <a:lnTo>
                      <a:pt x="1642" y="495"/>
                    </a:lnTo>
                    <a:lnTo>
                      <a:pt x="1635" y="500"/>
                    </a:lnTo>
                    <a:lnTo>
                      <a:pt x="1631" y="506"/>
                    </a:lnTo>
                    <a:lnTo>
                      <a:pt x="1629" y="512"/>
                    </a:lnTo>
                    <a:lnTo>
                      <a:pt x="1629" y="514"/>
                    </a:lnTo>
                    <a:lnTo>
                      <a:pt x="1627" y="516"/>
                    </a:lnTo>
                    <a:lnTo>
                      <a:pt x="1627" y="529"/>
                    </a:lnTo>
                    <a:lnTo>
                      <a:pt x="1627" y="535"/>
                    </a:lnTo>
                    <a:lnTo>
                      <a:pt x="1627" y="546"/>
                    </a:lnTo>
                    <a:lnTo>
                      <a:pt x="1627" y="556"/>
                    </a:lnTo>
                    <a:lnTo>
                      <a:pt x="1627" y="569"/>
                    </a:lnTo>
                    <a:lnTo>
                      <a:pt x="1625" y="575"/>
                    </a:lnTo>
                    <a:lnTo>
                      <a:pt x="1625" y="582"/>
                    </a:lnTo>
                    <a:lnTo>
                      <a:pt x="1625" y="590"/>
                    </a:lnTo>
                    <a:lnTo>
                      <a:pt x="1625" y="597"/>
                    </a:lnTo>
                    <a:lnTo>
                      <a:pt x="1625" y="605"/>
                    </a:lnTo>
                    <a:lnTo>
                      <a:pt x="1625" y="613"/>
                    </a:lnTo>
                    <a:lnTo>
                      <a:pt x="1625" y="620"/>
                    </a:lnTo>
                    <a:lnTo>
                      <a:pt x="1625" y="630"/>
                    </a:lnTo>
                    <a:lnTo>
                      <a:pt x="1625" y="639"/>
                    </a:lnTo>
                    <a:lnTo>
                      <a:pt x="1625" y="647"/>
                    </a:lnTo>
                    <a:lnTo>
                      <a:pt x="1625" y="656"/>
                    </a:lnTo>
                    <a:lnTo>
                      <a:pt x="1625" y="666"/>
                    </a:lnTo>
                    <a:lnTo>
                      <a:pt x="1625" y="675"/>
                    </a:lnTo>
                    <a:lnTo>
                      <a:pt x="1625" y="687"/>
                    </a:lnTo>
                    <a:lnTo>
                      <a:pt x="1625" y="696"/>
                    </a:lnTo>
                    <a:lnTo>
                      <a:pt x="1625" y="706"/>
                    </a:lnTo>
                    <a:lnTo>
                      <a:pt x="1616" y="713"/>
                    </a:lnTo>
                    <a:lnTo>
                      <a:pt x="1606" y="719"/>
                    </a:lnTo>
                    <a:lnTo>
                      <a:pt x="1595" y="727"/>
                    </a:lnTo>
                    <a:lnTo>
                      <a:pt x="1587" y="734"/>
                    </a:lnTo>
                    <a:lnTo>
                      <a:pt x="1576" y="740"/>
                    </a:lnTo>
                    <a:lnTo>
                      <a:pt x="1566" y="748"/>
                    </a:lnTo>
                    <a:lnTo>
                      <a:pt x="1557" y="755"/>
                    </a:lnTo>
                    <a:lnTo>
                      <a:pt x="1547" y="763"/>
                    </a:lnTo>
                    <a:lnTo>
                      <a:pt x="1536" y="770"/>
                    </a:lnTo>
                    <a:lnTo>
                      <a:pt x="1526" y="776"/>
                    </a:lnTo>
                    <a:lnTo>
                      <a:pt x="1517" y="784"/>
                    </a:lnTo>
                    <a:lnTo>
                      <a:pt x="1507" y="789"/>
                    </a:lnTo>
                    <a:lnTo>
                      <a:pt x="1498" y="797"/>
                    </a:lnTo>
                    <a:lnTo>
                      <a:pt x="1490" y="803"/>
                    </a:lnTo>
                    <a:lnTo>
                      <a:pt x="1481" y="810"/>
                    </a:lnTo>
                    <a:lnTo>
                      <a:pt x="1473" y="818"/>
                    </a:lnTo>
                    <a:lnTo>
                      <a:pt x="1464" y="824"/>
                    </a:lnTo>
                    <a:lnTo>
                      <a:pt x="1456" y="827"/>
                    </a:lnTo>
                    <a:lnTo>
                      <a:pt x="1448" y="833"/>
                    </a:lnTo>
                    <a:lnTo>
                      <a:pt x="1443" y="839"/>
                    </a:lnTo>
                    <a:lnTo>
                      <a:pt x="1433" y="843"/>
                    </a:lnTo>
                    <a:lnTo>
                      <a:pt x="1429" y="848"/>
                    </a:lnTo>
                    <a:lnTo>
                      <a:pt x="1422" y="852"/>
                    </a:lnTo>
                    <a:lnTo>
                      <a:pt x="1418" y="858"/>
                    </a:lnTo>
                    <a:lnTo>
                      <a:pt x="1408" y="864"/>
                    </a:lnTo>
                    <a:lnTo>
                      <a:pt x="1403" y="869"/>
                    </a:lnTo>
                    <a:lnTo>
                      <a:pt x="1397" y="871"/>
                    </a:lnTo>
                    <a:lnTo>
                      <a:pt x="1397" y="875"/>
                    </a:lnTo>
                    <a:lnTo>
                      <a:pt x="1395" y="877"/>
                    </a:lnTo>
                    <a:lnTo>
                      <a:pt x="1393" y="886"/>
                    </a:lnTo>
                    <a:lnTo>
                      <a:pt x="1393" y="892"/>
                    </a:lnTo>
                    <a:lnTo>
                      <a:pt x="1391" y="902"/>
                    </a:lnTo>
                    <a:lnTo>
                      <a:pt x="1389" y="909"/>
                    </a:lnTo>
                    <a:lnTo>
                      <a:pt x="1389" y="921"/>
                    </a:lnTo>
                    <a:lnTo>
                      <a:pt x="1389" y="930"/>
                    </a:lnTo>
                    <a:lnTo>
                      <a:pt x="1387" y="941"/>
                    </a:lnTo>
                    <a:lnTo>
                      <a:pt x="1387" y="955"/>
                    </a:lnTo>
                    <a:lnTo>
                      <a:pt x="1387" y="968"/>
                    </a:lnTo>
                    <a:lnTo>
                      <a:pt x="1386" y="981"/>
                    </a:lnTo>
                    <a:lnTo>
                      <a:pt x="1386" y="997"/>
                    </a:lnTo>
                    <a:lnTo>
                      <a:pt x="1386" y="1004"/>
                    </a:lnTo>
                    <a:lnTo>
                      <a:pt x="1387" y="1012"/>
                    </a:lnTo>
                    <a:lnTo>
                      <a:pt x="1387" y="1021"/>
                    </a:lnTo>
                    <a:lnTo>
                      <a:pt x="1389" y="1029"/>
                    </a:lnTo>
                    <a:lnTo>
                      <a:pt x="1389" y="1035"/>
                    </a:lnTo>
                    <a:lnTo>
                      <a:pt x="1389" y="1044"/>
                    </a:lnTo>
                    <a:lnTo>
                      <a:pt x="1389" y="1052"/>
                    </a:lnTo>
                    <a:lnTo>
                      <a:pt x="1391" y="1059"/>
                    </a:lnTo>
                    <a:lnTo>
                      <a:pt x="1391" y="1065"/>
                    </a:lnTo>
                    <a:lnTo>
                      <a:pt x="1393" y="1075"/>
                    </a:lnTo>
                    <a:lnTo>
                      <a:pt x="1393" y="1082"/>
                    </a:lnTo>
                    <a:lnTo>
                      <a:pt x="1397" y="1090"/>
                    </a:lnTo>
                    <a:lnTo>
                      <a:pt x="1397" y="1096"/>
                    </a:lnTo>
                    <a:lnTo>
                      <a:pt x="1399" y="1105"/>
                    </a:lnTo>
                    <a:lnTo>
                      <a:pt x="1401" y="1111"/>
                    </a:lnTo>
                    <a:lnTo>
                      <a:pt x="1403" y="1118"/>
                    </a:lnTo>
                    <a:lnTo>
                      <a:pt x="1407" y="1126"/>
                    </a:lnTo>
                    <a:lnTo>
                      <a:pt x="1408" y="1134"/>
                    </a:lnTo>
                    <a:lnTo>
                      <a:pt x="1412" y="1141"/>
                    </a:lnTo>
                    <a:lnTo>
                      <a:pt x="1416" y="1149"/>
                    </a:lnTo>
                    <a:lnTo>
                      <a:pt x="1420" y="1160"/>
                    </a:lnTo>
                    <a:lnTo>
                      <a:pt x="1429" y="1173"/>
                    </a:lnTo>
                    <a:lnTo>
                      <a:pt x="1435" y="1185"/>
                    </a:lnTo>
                    <a:lnTo>
                      <a:pt x="1446" y="1196"/>
                    </a:lnTo>
                    <a:lnTo>
                      <a:pt x="1456" y="1206"/>
                    </a:lnTo>
                    <a:lnTo>
                      <a:pt x="1467" y="1215"/>
                    </a:lnTo>
                    <a:lnTo>
                      <a:pt x="1473" y="1219"/>
                    </a:lnTo>
                    <a:lnTo>
                      <a:pt x="1479" y="1223"/>
                    </a:lnTo>
                    <a:lnTo>
                      <a:pt x="1486" y="1227"/>
                    </a:lnTo>
                    <a:lnTo>
                      <a:pt x="1494" y="1231"/>
                    </a:lnTo>
                    <a:lnTo>
                      <a:pt x="1500" y="1232"/>
                    </a:lnTo>
                    <a:lnTo>
                      <a:pt x="1507" y="1234"/>
                    </a:lnTo>
                    <a:lnTo>
                      <a:pt x="1517" y="1236"/>
                    </a:lnTo>
                    <a:lnTo>
                      <a:pt x="1524" y="1236"/>
                    </a:lnTo>
                    <a:lnTo>
                      <a:pt x="1530" y="1236"/>
                    </a:lnTo>
                    <a:lnTo>
                      <a:pt x="1538" y="1234"/>
                    </a:lnTo>
                    <a:lnTo>
                      <a:pt x="1545" y="1232"/>
                    </a:lnTo>
                    <a:lnTo>
                      <a:pt x="1551" y="1232"/>
                    </a:lnTo>
                    <a:lnTo>
                      <a:pt x="1562" y="1223"/>
                    </a:lnTo>
                    <a:lnTo>
                      <a:pt x="1574" y="1215"/>
                    </a:lnTo>
                    <a:lnTo>
                      <a:pt x="1583" y="1204"/>
                    </a:lnTo>
                    <a:lnTo>
                      <a:pt x="1595" y="1192"/>
                    </a:lnTo>
                    <a:lnTo>
                      <a:pt x="1597" y="1185"/>
                    </a:lnTo>
                    <a:lnTo>
                      <a:pt x="1600" y="1177"/>
                    </a:lnTo>
                    <a:lnTo>
                      <a:pt x="1604" y="1170"/>
                    </a:lnTo>
                    <a:lnTo>
                      <a:pt x="1608" y="1162"/>
                    </a:lnTo>
                    <a:lnTo>
                      <a:pt x="1612" y="1153"/>
                    </a:lnTo>
                    <a:lnTo>
                      <a:pt x="1614" y="1145"/>
                    </a:lnTo>
                    <a:lnTo>
                      <a:pt x="1618" y="1137"/>
                    </a:lnTo>
                    <a:lnTo>
                      <a:pt x="1621" y="1130"/>
                    </a:lnTo>
                    <a:lnTo>
                      <a:pt x="1621" y="1120"/>
                    </a:lnTo>
                    <a:lnTo>
                      <a:pt x="1625" y="1111"/>
                    </a:lnTo>
                    <a:lnTo>
                      <a:pt x="1625" y="1101"/>
                    </a:lnTo>
                    <a:lnTo>
                      <a:pt x="1629" y="1094"/>
                    </a:lnTo>
                    <a:lnTo>
                      <a:pt x="1629" y="1084"/>
                    </a:lnTo>
                    <a:lnTo>
                      <a:pt x="1633" y="1075"/>
                    </a:lnTo>
                    <a:lnTo>
                      <a:pt x="1635" y="1067"/>
                    </a:lnTo>
                    <a:lnTo>
                      <a:pt x="1637" y="1059"/>
                    </a:lnTo>
                    <a:lnTo>
                      <a:pt x="1640" y="1067"/>
                    </a:lnTo>
                    <a:lnTo>
                      <a:pt x="1648" y="1078"/>
                    </a:lnTo>
                    <a:lnTo>
                      <a:pt x="1652" y="1082"/>
                    </a:lnTo>
                    <a:lnTo>
                      <a:pt x="1656" y="1088"/>
                    </a:lnTo>
                    <a:lnTo>
                      <a:pt x="1661" y="1096"/>
                    </a:lnTo>
                    <a:lnTo>
                      <a:pt x="1665" y="1103"/>
                    </a:lnTo>
                    <a:lnTo>
                      <a:pt x="1669" y="1109"/>
                    </a:lnTo>
                    <a:lnTo>
                      <a:pt x="1673" y="1116"/>
                    </a:lnTo>
                    <a:lnTo>
                      <a:pt x="1678" y="1124"/>
                    </a:lnTo>
                    <a:lnTo>
                      <a:pt x="1682" y="1132"/>
                    </a:lnTo>
                    <a:lnTo>
                      <a:pt x="1688" y="1141"/>
                    </a:lnTo>
                    <a:lnTo>
                      <a:pt x="1694" y="1149"/>
                    </a:lnTo>
                    <a:lnTo>
                      <a:pt x="1699" y="1158"/>
                    </a:lnTo>
                    <a:lnTo>
                      <a:pt x="1705" y="1166"/>
                    </a:lnTo>
                    <a:lnTo>
                      <a:pt x="1709" y="1175"/>
                    </a:lnTo>
                    <a:lnTo>
                      <a:pt x="1716" y="1185"/>
                    </a:lnTo>
                    <a:lnTo>
                      <a:pt x="1722" y="1192"/>
                    </a:lnTo>
                    <a:lnTo>
                      <a:pt x="1728" y="1204"/>
                    </a:lnTo>
                    <a:lnTo>
                      <a:pt x="1733" y="1213"/>
                    </a:lnTo>
                    <a:lnTo>
                      <a:pt x="1739" y="1223"/>
                    </a:lnTo>
                    <a:lnTo>
                      <a:pt x="1745" y="1232"/>
                    </a:lnTo>
                    <a:lnTo>
                      <a:pt x="1752" y="1246"/>
                    </a:lnTo>
                    <a:lnTo>
                      <a:pt x="1756" y="1255"/>
                    </a:lnTo>
                    <a:lnTo>
                      <a:pt x="1764" y="1265"/>
                    </a:lnTo>
                    <a:lnTo>
                      <a:pt x="1770" y="1276"/>
                    </a:lnTo>
                    <a:lnTo>
                      <a:pt x="1775" y="1288"/>
                    </a:lnTo>
                    <a:lnTo>
                      <a:pt x="1781" y="1299"/>
                    </a:lnTo>
                    <a:lnTo>
                      <a:pt x="1789" y="1312"/>
                    </a:lnTo>
                    <a:lnTo>
                      <a:pt x="1794" y="1324"/>
                    </a:lnTo>
                    <a:lnTo>
                      <a:pt x="1802" y="1335"/>
                    </a:lnTo>
                    <a:lnTo>
                      <a:pt x="1808" y="1346"/>
                    </a:lnTo>
                    <a:lnTo>
                      <a:pt x="1813" y="1358"/>
                    </a:lnTo>
                    <a:lnTo>
                      <a:pt x="1819" y="1369"/>
                    </a:lnTo>
                    <a:lnTo>
                      <a:pt x="1827" y="1383"/>
                    </a:lnTo>
                    <a:lnTo>
                      <a:pt x="1830" y="1394"/>
                    </a:lnTo>
                    <a:lnTo>
                      <a:pt x="1838" y="1405"/>
                    </a:lnTo>
                    <a:lnTo>
                      <a:pt x="1844" y="1417"/>
                    </a:lnTo>
                    <a:lnTo>
                      <a:pt x="1849" y="1430"/>
                    </a:lnTo>
                    <a:lnTo>
                      <a:pt x="1853" y="1443"/>
                    </a:lnTo>
                    <a:lnTo>
                      <a:pt x="1861" y="1455"/>
                    </a:lnTo>
                    <a:lnTo>
                      <a:pt x="1865" y="1466"/>
                    </a:lnTo>
                    <a:lnTo>
                      <a:pt x="1870" y="1480"/>
                    </a:lnTo>
                    <a:lnTo>
                      <a:pt x="1874" y="1491"/>
                    </a:lnTo>
                    <a:lnTo>
                      <a:pt x="1882" y="1504"/>
                    </a:lnTo>
                    <a:lnTo>
                      <a:pt x="1886" y="1518"/>
                    </a:lnTo>
                    <a:lnTo>
                      <a:pt x="1893" y="1531"/>
                    </a:lnTo>
                    <a:lnTo>
                      <a:pt x="1897" y="1544"/>
                    </a:lnTo>
                    <a:lnTo>
                      <a:pt x="1901" y="1556"/>
                    </a:lnTo>
                    <a:lnTo>
                      <a:pt x="1905" y="1567"/>
                    </a:lnTo>
                    <a:lnTo>
                      <a:pt x="1908" y="1580"/>
                    </a:lnTo>
                    <a:lnTo>
                      <a:pt x="1914" y="1592"/>
                    </a:lnTo>
                    <a:lnTo>
                      <a:pt x="1918" y="1607"/>
                    </a:lnTo>
                    <a:lnTo>
                      <a:pt x="1922" y="1618"/>
                    </a:lnTo>
                    <a:lnTo>
                      <a:pt x="1925" y="1632"/>
                    </a:lnTo>
                    <a:lnTo>
                      <a:pt x="1927" y="1643"/>
                    </a:lnTo>
                    <a:lnTo>
                      <a:pt x="1931" y="1655"/>
                    </a:lnTo>
                    <a:lnTo>
                      <a:pt x="1933" y="1668"/>
                    </a:lnTo>
                    <a:lnTo>
                      <a:pt x="1937" y="1679"/>
                    </a:lnTo>
                    <a:lnTo>
                      <a:pt x="1939" y="1691"/>
                    </a:lnTo>
                    <a:lnTo>
                      <a:pt x="1941" y="1702"/>
                    </a:lnTo>
                    <a:lnTo>
                      <a:pt x="1944" y="1715"/>
                    </a:lnTo>
                    <a:lnTo>
                      <a:pt x="1946" y="1727"/>
                    </a:lnTo>
                    <a:lnTo>
                      <a:pt x="1944" y="1732"/>
                    </a:lnTo>
                    <a:lnTo>
                      <a:pt x="1939" y="1729"/>
                    </a:lnTo>
                    <a:lnTo>
                      <a:pt x="1933" y="1721"/>
                    </a:lnTo>
                    <a:lnTo>
                      <a:pt x="1927" y="1712"/>
                    </a:lnTo>
                    <a:lnTo>
                      <a:pt x="1922" y="1704"/>
                    </a:lnTo>
                    <a:lnTo>
                      <a:pt x="1918" y="1698"/>
                    </a:lnTo>
                    <a:lnTo>
                      <a:pt x="1912" y="1693"/>
                    </a:lnTo>
                    <a:lnTo>
                      <a:pt x="1908" y="1685"/>
                    </a:lnTo>
                    <a:lnTo>
                      <a:pt x="1901" y="1677"/>
                    </a:lnTo>
                    <a:lnTo>
                      <a:pt x="1895" y="1668"/>
                    </a:lnTo>
                    <a:lnTo>
                      <a:pt x="1887" y="1658"/>
                    </a:lnTo>
                    <a:lnTo>
                      <a:pt x="1882" y="1651"/>
                    </a:lnTo>
                    <a:lnTo>
                      <a:pt x="1874" y="1641"/>
                    </a:lnTo>
                    <a:lnTo>
                      <a:pt x="1867" y="1632"/>
                    </a:lnTo>
                    <a:lnTo>
                      <a:pt x="1857" y="1620"/>
                    </a:lnTo>
                    <a:lnTo>
                      <a:pt x="1848" y="1611"/>
                    </a:lnTo>
                    <a:lnTo>
                      <a:pt x="1838" y="1599"/>
                    </a:lnTo>
                    <a:lnTo>
                      <a:pt x="1827" y="1588"/>
                    </a:lnTo>
                    <a:lnTo>
                      <a:pt x="1817" y="1575"/>
                    </a:lnTo>
                    <a:lnTo>
                      <a:pt x="1806" y="1565"/>
                    </a:lnTo>
                    <a:lnTo>
                      <a:pt x="1792" y="1554"/>
                    </a:lnTo>
                    <a:lnTo>
                      <a:pt x="1781" y="1540"/>
                    </a:lnTo>
                    <a:lnTo>
                      <a:pt x="1768" y="1529"/>
                    </a:lnTo>
                    <a:lnTo>
                      <a:pt x="1756" y="1518"/>
                    </a:lnTo>
                    <a:lnTo>
                      <a:pt x="1739" y="1504"/>
                    </a:lnTo>
                    <a:lnTo>
                      <a:pt x="1726" y="1493"/>
                    </a:lnTo>
                    <a:lnTo>
                      <a:pt x="1709" y="1480"/>
                    </a:lnTo>
                    <a:lnTo>
                      <a:pt x="1694" y="1468"/>
                    </a:lnTo>
                    <a:lnTo>
                      <a:pt x="1675" y="1457"/>
                    </a:lnTo>
                    <a:lnTo>
                      <a:pt x="1657" y="1443"/>
                    </a:lnTo>
                    <a:lnTo>
                      <a:pt x="1638" y="1432"/>
                    </a:lnTo>
                    <a:lnTo>
                      <a:pt x="1621" y="1421"/>
                    </a:lnTo>
                    <a:lnTo>
                      <a:pt x="1600" y="1407"/>
                    </a:lnTo>
                    <a:lnTo>
                      <a:pt x="1581" y="1396"/>
                    </a:lnTo>
                    <a:lnTo>
                      <a:pt x="1560" y="1386"/>
                    </a:lnTo>
                    <a:lnTo>
                      <a:pt x="1538" y="1375"/>
                    </a:lnTo>
                    <a:lnTo>
                      <a:pt x="1517" y="1364"/>
                    </a:lnTo>
                    <a:lnTo>
                      <a:pt x="1494" y="1352"/>
                    </a:lnTo>
                    <a:lnTo>
                      <a:pt x="1469" y="1343"/>
                    </a:lnTo>
                    <a:lnTo>
                      <a:pt x="1446" y="1333"/>
                    </a:lnTo>
                    <a:lnTo>
                      <a:pt x="1420" y="1324"/>
                    </a:lnTo>
                    <a:lnTo>
                      <a:pt x="1393" y="1314"/>
                    </a:lnTo>
                    <a:lnTo>
                      <a:pt x="1365" y="1307"/>
                    </a:lnTo>
                    <a:lnTo>
                      <a:pt x="1338" y="1299"/>
                    </a:lnTo>
                    <a:lnTo>
                      <a:pt x="1310" y="1289"/>
                    </a:lnTo>
                    <a:lnTo>
                      <a:pt x="1281" y="1282"/>
                    </a:lnTo>
                    <a:lnTo>
                      <a:pt x="1251" y="1276"/>
                    </a:lnTo>
                    <a:lnTo>
                      <a:pt x="1220" y="1270"/>
                    </a:lnTo>
                    <a:lnTo>
                      <a:pt x="1186" y="1263"/>
                    </a:lnTo>
                    <a:lnTo>
                      <a:pt x="1154" y="1259"/>
                    </a:lnTo>
                    <a:lnTo>
                      <a:pt x="1119" y="1255"/>
                    </a:lnTo>
                    <a:lnTo>
                      <a:pt x="1087" y="1253"/>
                    </a:lnTo>
                    <a:lnTo>
                      <a:pt x="1051" y="1250"/>
                    </a:lnTo>
                    <a:lnTo>
                      <a:pt x="1017" y="1248"/>
                    </a:lnTo>
                    <a:lnTo>
                      <a:pt x="979" y="1248"/>
                    </a:lnTo>
                    <a:lnTo>
                      <a:pt x="943" y="1248"/>
                    </a:lnTo>
                    <a:lnTo>
                      <a:pt x="939" y="1246"/>
                    </a:lnTo>
                    <a:lnTo>
                      <a:pt x="937" y="1246"/>
                    </a:lnTo>
                    <a:lnTo>
                      <a:pt x="931" y="1246"/>
                    </a:lnTo>
                    <a:lnTo>
                      <a:pt x="924" y="1246"/>
                    </a:lnTo>
                    <a:lnTo>
                      <a:pt x="914" y="1246"/>
                    </a:lnTo>
                    <a:lnTo>
                      <a:pt x="903" y="1246"/>
                    </a:lnTo>
                    <a:lnTo>
                      <a:pt x="895" y="1246"/>
                    </a:lnTo>
                    <a:lnTo>
                      <a:pt x="889" y="1248"/>
                    </a:lnTo>
                    <a:lnTo>
                      <a:pt x="882" y="1248"/>
                    </a:lnTo>
                    <a:lnTo>
                      <a:pt x="874" y="1250"/>
                    </a:lnTo>
                    <a:lnTo>
                      <a:pt x="865" y="1250"/>
                    </a:lnTo>
                    <a:lnTo>
                      <a:pt x="857" y="1250"/>
                    </a:lnTo>
                    <a:lnTo>
                      <a:pt x="848" y="1250"/>
                    </a:lnTo>
                    <a:lnTo>
                      <a:pt x="838" y="1251"/>
                    </a:lnTo>
                    <a:lnTo>
                      <a:pt x="829" y="1251"/>
                    </a:lnTo>
                    <a:lnTo>
                      <a:pt x="819" y="1253"/>
                    </a:lnTo>
                    <a:lnTo>
                      <a:pt x="808" y="1255"/>
                    </a:lnTo>
                    <a:lnTo>
                      <a:pt x="800" y="1255"/>
                    </a:lnTo>
                    <a:lnTo>
                      <a:pt x="787" y="1255"/>
                    </a:lnTo>
                    <a:lnTo>
                      <a:pt x="775" y="1259"/>
                    </a:lnTo>
                    <a:lnTo>
                      <a:pt x="764" y="1259"/>
                    </a:lnTo>
                    <a:lnTo>
                      <a:pt x="753" y="1263"/>
                    </a:lnTo>
                    <a:lnTo>
                      <a:pt x="741" y="1263"/>
                    </a:lnTo>
                    <a:lnTo>
                      <a:pt x="730" y="1267"/>
                    </a:lnTo>
                    <a:lnTo>
                      <a:pt x="716" y="1267"/>
                    </a:lnTo>
                    <a:lnTo>
                      <a:pt x="705" y="1272"/>
                    </a:lnTo>
                    <a:lnTo>
                      <a:pt x="690" y="1272"/>
                    </a:lnTo>
                    <a:lnTo>
                      <a:pt x="678" y="1276"/>
                    </a:lnTo>
                    <a:lnTo>
                      <a:pt x="663" y="1278"/>
                    </a:lnTo>
                    <a:lnTo>
                      <a:pt x="652" y="1282"/>
                    </a:lnTo>
                    <a:lnTo>
                      <a:pt x="638" y="1286"/>
                    </a:lnTo>
                    <a:lnTo>
                      <a:pt x="625" y="1289"/>
                    </a:lnTo>
                    <a:lnTo>
                      <a:pt x="612" y="1293"/>
                    </a:lnTo>
                    <a:lnTo>
                      <a:pt x="599" y="1297"/>
                    </a:lnTo>
                    <a:lnTo>
                      <a:pt x="581" y="1301"/>
                    </a:lnTo>
                    <a:lnTo>
                      <a:pt x="568" y="1305"/>
                    </a:lnTo>
                    <a:lnTo>
                      <a:pt x="553" y="1308"/>
                    </a:lnTo>
                    <a:lnTo>
                      <a:pt x="540" y="1314"/>
                    </a:lnTo>
                    <a:lnTo>
                      <a:pt x="524" y="1318"/>
                    </a:lnTo>
                    <a:lnTo>
                      <a:pt x="511" y="1324"/>
                    </a:lnTo>
                    <a:lnTo>
                      <a:pt x="496" y="1329"/>
                    </a:lnTo>
                    <a:lnTo>
                      <a:pt x="483" y="1335"/>
                    </a:lnTo>
                    <a:lnTo>
                      <a:pt x="467" y="1339"/>
                    </a:lnTo>
                    <a:lnTo>
                      <a:pt x="452" y="1346"/>
                    </a:lnTo>
                    <a:lnTo>
                      <a:pt x="437" y="1352"/>
                    </a:lnTo>
                    <a:lnTo>
                      <a:pt x="424" y="1360"/>
                    </a:lnTo>
                    <a:lnTo>
                      <a:pt x="407" y="1366"/>
                    </a:lnTo>
                    <a:lnTo>
                      <a:pt x="393" y="1373"/>
                    </a:lnTo>
                    <a:lnTo>
                      <a:pt x="378" y="1383"/>
                    </a:lnTo>
                    <a:lnTo>
                      <a:pt x="365" y="1390"/>
                    </a:lnTo>
                    <a:lnTo>
                      <a:pt x="350" y="1398"/>
                    </a:lnTo>
                    <a:lnTo>
                      <a:pt x="336" y="1405"/>
                    </a:lnTo>
                    <a:lnTo>
                      <a:pt x="321" y="1413"/>
                    </a:lnTo>
                    <a:lnTo>
                      <a:pt x="308" y="1424"/>
                    </a:lnTo>
                    <a:lnTo>
                      <a:pt x="292" y="1432"/>
                    </a:lnTo>
                    <a:lnTo>
                      <a:pt x="279" y="1443"/>
                    </a:lnTo>
                    <a:lnTo>
                      <a:pt x="266" y="1453"/>
                    </a:lnTo>
                    <a:lnTo>
                      <a:pt x="253" y="1464"/>
                    </a:lnTo>
                    <a:lnTo>
                      <a:pt x="253" y="1459"/>
                    </a:lnTo>
                    <a:lnTo>
                      <a:pt x="258" y="1447"/>
                    </a:lnTo>
                    <a:lnTo>
                      <a:pt x="258" y="1440"/>
                    </a:lnTo>
                    <a:lnTo>
                      <a:pt x="262" y="1428"/>
                    </a:lnTo>
                    <a:lnTo>
                      <a:pt x="266" y="1417"/>
                    </a:lnTo>
                    <a:lnTo>
                      <a:pt x="272" y="1405"/>
                    </a:lnTo>
                    <a:lnTo>
                      <a:pt x="272" y="1398"/>
                    </a:lnTo>
                    <a:lnTo>
                      <a:pt x="273" y="1390"/>
                    </a:lnTo>
                    <a:lnTo>
                      <a:pt x="275" y="1383"/>
                    </a:lnTo>
                    <a:lnTo>
                      <a:pt x="277" y="1375"/>
                    </a:lnTo>
                    <a:lnTo>
                      <a:pt x="279" y="1366"/>
                    </a:lnTo>
                    <a:lnTo>
                      <a:pt x="281" y="1358"/>
                    </a:lnTo>
                    <a:lnTo>
                      <a:pt x="283" y="1348"/>
                    </a:lnTo>
                    <a:lnTo>
                      <a:pt x="287" y="1341"/>
                    </a:lnTo>
                    <a:lnTo>
                      <a:pt x="289" y="1329"/>
                    </a:lnTo>
                    <a:lnTo>
                      <a:pt x="291" y="1322"/>
                    </a:lnTo>
                    <a:lnTo>
                      <a:pt x="292" y="1312"/>
                    </a:lnTo>
                    <a:lnTo>
                      <a:pt x="296" y="1303"/>
                    </a:lnTo>
                    <a:lnTo>
                      <a:pt x="298" y="1293"/>
                    </a:lnTo>
                    <a:lnTo>
                      <a:pt x="302" y="1284"/>
                    </a:lnTo>
                    <a:lnTo>
                      <a:pt x="304" y="1272"/>
                    </a:lnTo>
                    <a:lnTo>
                      <a:pt x="308" y="1263"/>
                    </a:lnTo>
                    <a:lnTo>
                      <a:pt x="310" y="1251"/>
                    </a:lnTo>
                    <a:lnTo>
                      <a:pt x="312" y="1242"/>
                    </a:lnTo>
                    <a:lnTo>
                      <a:pt x="313" y="1229"/>
                    </a:lnTo>
                    <a:lnTo>
                      <a:pt x="317" y="1219"/>
                    </a:lnTo>
                    <a:lnTo>
                      <a:pt x="319" y="1206"/>
                    </a:lnTo>
                    <a:lnTo>
                      <a:pt x="321" y="1196"/>
                    </a:lnTo>
                    <a:lnTo>
                      <a:pt x="323" y="1185"/>
                    </a:lnTo>
                    <a:lnTo>
                      <a:pt x="327" y="1175"/>
                    </a:lnTo>
                    <a:lnTo>
                      <a:pt x="327" y="1162"/>
                    </a:lnTo>
                    <a:lnTo>
                      <a:pt x="329" y="1151"/>
                    </a:lnTo>
                    <a:lnTo>
                      <a:pt x="331" y="1139"/>
                    </a:lnTo>
                    <a:lnTo>
                      <a:pt x="332" y="1128"/>
                    </a:lnTo>
                    <a:lnTo>
                      <a:pt x="334" y="1116"/>
                    </a:lnTo>
                    <a:lnTo>
                      <a:pt x="336" y="1105"/>
                    </a:lnTo>
                    <a:lnTo>
                      <a:pt x="338" y="1096"/>
                    </a:lnTo>
                    <a:lnTo>
                      <a:pt x="340" y="1084"/>
                    </a:lnTo>
                    <a:lnTo>
                      <a:pt x="340" y="1073"/>
                    </a:lnTo>
                    <a:lnTo>
                      <a:pt x="342" y="1061"/>
                    </a:lnTo>
                    <a:lnTo>
                      <a:pt x="344" y="1050"/>
                    </a:lnTo>
                    <a:lnTo>
                      <a:pt x="346" y="1038"/>
                    </a:lnTo>
                    <a:lnTo>
                      <a:pt x="346" y="1027"/>
                    </a:lnTo>
                    <a:lnTo>
                      <a:pt x="346" y="1018"/>
                    </a:lnTo>
                    <a:lnTo>
                      <a:pt x="348" y="1006"/>
                    </a:lnTo>
                    <a:lnTo>
                      <a:pt x="350" y="997"/>
                    </a:lnTo>
                    <a:lnTo>
                      <a:pt x="350" y="985"/>
                    </a:lnTo>
                    <a:lnTo>
                      <a:pt x="350" y="978"/>
                    </a:lnTo>
                    <a:lnTo>
                      <a:pt x="350" y="966"/>
                    </a:lnTo>
                    <a:lnTo>
                      <a:pt x="350" y="957"/>
                    </a:lnTo>
                    <a:lnTo>
                      <a:pt x="348" y="947"/>
                    </a:lnTo>
                    <a:lnTo>
                      <a:pt x="348" y="938"/>
                    </a:lnTo>
                    <a:lnTo>
                      <a:pt x="348" y="930"/>
                    </a:lnTo>
                    <a:lnTo>
                      <a:pt x="348" y="921"/>
                    </a:lnTo>
                    <a:lnTo>
                      <a:pt x="346" y="911"/>
                    </a:lnTo>
                    <a:lnTo>
                      <a:pt x="344" y="902"/>
                    </a:lnTo>
                    <a:lnTo>
                      <a:pt x="340" y="890"/>
                    </a:lnTo>
                    <a:lnTo>
                      <a:pt x="340" y="881"/>
                    </a:lnTo>
                    <a:lnTo>
                      <a:pt x="336" y="869"/>
                    </a:lnTo>
                    <a:lnTo>
                      <a:pt x="332" y="860"/>
                    </a:lnTo>
                    <a:lnTo>
                      <a:pt x="327" y="848"/>
                    </a:lnTo>
                    <a:lnTo>
                      <a:pt x="325" y="837"/>
                    </a:lnTo>
                    <a:lnTo>
                      <a:pt x="319" y="826"/>
                    </a:lnTo>
                    <a:lnTo>
                      <a:pt x="315" y="814"/>
                    </a:lnTo>
                    <a:lnTo>
                      <a:pt x="310" y="801"/>
                    </a:lnTo>
                    <a:lnTo>
                      <a:pt x="306" y="789"/>
                    </a:lnTo>
                    <a:lnTo>
                      <a:pt x="300" y="776"/>
                    </a:lnTo>
                    <a:lnTo>
                      <a:pt x="294" y="765"/>
                    </a:lnTo>
                    <a:lnTo>
                      <a:pt x="289" y="751"/>
                    </a:lnTo>
                    <a:lnTo>
                      <a:pt x="283" y="740"/>
                    </a:lnTo>
                    <a:lnTo>
                      <a:pt x="275" y="725"/>
                    </a:lnTo>
                    <a:lnTo>
                      <a:pt x="270" y="713"/>
                    </a:lnTo>
                    <a:lnTo>
                      <a:pt x="262" y="698"/>
                    </a:lnTo>
                    <a:lnTo>
                      <a:pt x="256" y="687"/>
                    </a:lnTo>
                    <a:lnTo>
                      <a:pt x="249" y="671"/>
                    </a:lnTo>
                    <a:lnTo>
                      <a:pt x="241" y="660"/>
                    </a:lnTo>
                    <a:lnTo>
                      <a:pt x="234" y="645"/>
                    </a:lnTo>
                    <a:lnTo>
                      <a:pt x="228" y="633"/>
                    </a:lnTo>
                    <a:lnTo>
                      <a:pt x="218" y="618"/>
                    </a:lnTo>
                    <a:lnTo>
                      <a:pt x="211" y="605"/>
                    </a:lnTo>
                    <a:lnTo>
                      <a:pt x="203" y="592"/>
                    </a:lnTo>
                    <a:lnTo>
                      <a:pt x="197" y="578"/>
                    </a:lnTo>
                    <a:lnTo>
                      <a:pt x="188" y="565"/>
                    </a:lnTo>
                    <a:lnTo>
                      <a:pt x="180" y="552"/>
                    </a:lnTo>
                    <a:lnTo>
                      <a:pt x="173" y="540"/>
                    </a:lnTo>
                    <a:lnTo>
                      <a:pt x="167" y="529"/>
                    </a:lnTo>
                    <a:lnTo>
                      <a:pt x="158" y="516"/>
                    </a:lnTo>
                    <a:lnTo>
                      <a:pt x="150" y="502"/>
                    </a:lnTo>
                    <a:lnTo>
                      <a:pt x="142" y="489"/>
                    </a:lnTo>
                    <a:lnTo>
                      <a:pt x="135" y="476"/>
                    </a:lnTo>
                    <a:lnTo>
                      <a:pt x="127" y="464"/>
                    </a:lnTo>
                    <a:lnTo>
                      <a:pt x="118" y="453"/>
                    </a:lnTo>
                    <a:lnTo>
                      <a:pt x="110" y="441"/>
                    </a:lnTo>
                    <a:lnTo>
                      <a:pt x="104" y="430"/>
                    </a:lnTo>
                    <a:lnTo>
                      <a:pt x="97" y="419"/>
                    </a:lnTo>
                    <a:lnTo>
                      <a:pt x="87" y="407"/>
                    </a:lnTo>
                    <a:lnTo>
                      <a:pt x="81" y="398"/>
                    </a:lnTo>
                    <a:lnTo>
                      <a:pt x="74" y="388"/>
                    </a:lnTo>
                    <a:lnTo>
                      <a:pt x="66" y="377"/>
                    </a:lnTo>
                    <a:lnTo>
                      <a:pt x="61" y="367"/>
                    </a:lnTo>
                    <a:lnTo>
                      <a:pt x="55" y="360"/>
                    </a:lnTo>
                    <a:lnTo>
                      <a:pt x="51" y="352"/>
                    </a:lnTo>
                    <a:lnTo>
                      <a:pt x="43" y="343"/>
                    </a:lnTo>
                    <a:lnTo>
                      <a:pt x="40" y="335"/>
                    </a:lnTo>
                    <a:lnTo>
                      <a:pt x="34" y="327"/>
                    </a:lnTo>
                    <a:lnTo>
                      <a:pt x="30" y="320"/>
                    </a:lnTo>
                    <a:lnTo>
                      <a:pt x="21" y="308"/>
                    </a:lnTo>
                    <a:lnTo>
                      <a:pt x="13" y="297"/>
                    </a:lnTo>
                    <a:lnTo>
                      <a:pt x="7" y="287"/>
                    </a:lnTo>
                    <a:lnTo>
                      <a:pt x="4" y="284"/>
                    </a:lnTo>
                    <a:lnTo>
                      <a:pt x="0" y="278"/>
                    </a:lnTo>
                    <a:lnTo>
                      <a:pt x="0" y="278"/>
                    </a:lnTo>
                    <a:close/>
                  </a:path>
                </a:pathLst>
              </a:custGeom>
              <a:solidFill>
                <a:srgbClr val="c7e3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661800" y="2212560"/>
                <a:ext cx="182520" cy="552240"/>
              </a:xfrm>
              <a:custGeom>
                <a:avLst/>
                <a:gdLst/>
                <a:ahLst/>
                <a:rect l="l" t="t" r="r" b="b"/>
                <a:pathLst>
                  <a:path w="635" h="1926">
                    <a:moveTo>
                      <a:pt x="177" y="34"/>
                    </a:moveTo>
                    <a:lnTo>
                      <a:pt x="181" y="38"/>
                    </a:lnTo>
                    <a:lnTo>
                      <a:pt x="189" y="43"/>
                    </a:lnTo>
                    <a:lnTo>
                      <a:pt x="198" y="53"/>
                    </a:lnTo>
                    <a:lnTo>
                      <a:pt x="202" y="57"/>
                    </a:lnTo>
                    <a:lnTo>
                      <a:pt x="208" y="62"/>
                    </a:lnTo>
                    <a:lnTo>
                      <a:pt x="213" y="68"/>
                    </a:lnTo>
                    <a:lnTo>
                      <a:pt x="221" y="76"/>
                    </a:lnTo>
                    <a:lnTo>
                      <a:pt x="229" y="83"/>
                    </a:lnTo>
                    <a:lnTo>
                      <a:pt x="236" y="91"/>
                    </a:lnTo>
                    <a:lnTo>
                      <a:pt x="244" y="98"/>
                    </a:lnTo>
                    <a:lnTo>
                      <a:pt x="253" y="108"/>
                    </a:lnTo>
                    <a:lnTo>
                      <a:pt x="261" y="117"/>
                    </a:lnTo>
                    <a:lnTo>
                      <a:pt x="268" y="127"/>
                    </a:lnTo>
                    <a:lnTo>
                      <a:pt x="278" y="138"/>
                    </a:lnTo>
                    <a:lnTo>
                      <a:pt x="289" y="150"/>
                    </a:lnTo>
                    <a:lnTo>
                      <a:pt x="297" y="161"/>
                    </a:lnTo>
                    <a:lnTo>
                      <a:pt x="306" y="175"/>
                    </a:lnTo>
                    <a:lnTo>
                      <a:pt x="316" y="186"/>
                    </a:lnTo>
                    <a:lnTo>
                      <a:pt x="329" y="201"/>
                    </a:lnTo>
                    <a:lnTo>
                      <a:pt x="339" y="213"/>
                    </a:lnTo>
                    <a:lnTo>
                      <a:pt x="350" y="228"/>
                    </a:lnTo>
                    <a:lnTo>
                      <a:pt x="360" y="241"/>
                    </a:lnTo>
                    <a:lnTo>
                      <a:pt x="373" y="258"/>
                    </a:lnTo>
                    <a:lnTo>
                      <a:pt x="383" y="273"/>
                    </a:lnTo>
                    <a:lnTo>
                      <a:pt x="394" y="289"/>
                    </a:lnTo>
                    <a:lnTo>
                      <a:pt x="405" y="306"/>
                    </a:lnTo>
                    <a:lnTo>
                      <a:pt x="417" y="325"/>
                    </a:lnTo>
                    <a:lnTo>
                      <a:pt x="428" y="340"/>
                    </a:lnTo>
                    <a:lnTo>
                      <a:pt x="438" y="359"/>
                    </a:lnTo>
                    <a:lnTo>
                      <a:pt x="449" y="376"/>
                    </a:lnTo>
                    <a:lnTo>
                      <a:pt x="460" y="395"/>
                    </a:lnTo>
                    <a:lnTo>
                      <a:pt x="470" y="414"/>
                    </a:lnTo>
                    <a:lnTo>
                      <a:pt x="481" y="433"/>
                    </a:lnTo>
                    <a:lnTo>
                      <a:pt x="491" y="454"/>
                    </a:lnTo>
                    <a:lnTo>
                      <a:pt x="504" y="475"/>
                    </a:lnTo>
                    <a:lnTo>
                      <a:pt x="514" y="496"/>
                    </a:lnTo>
                    <a:lnTo>
                      <a:pt x="521" y="517"/>
                    </a:lnTo>
                    <a:lnTo>
                      <a:pt x="531" y="538"/>
                    </a:lnTo>
                    <a:lnTo>
                      <a:pt x="542" y="561"/>
                    </a:lnTo>
                    <a:lnTo>
                      <a:pt x="550" y="581"/>
                    </a:lnTo>
                    <a:lnTo>
                      <a:pt x="559" y="606"/>
                    </a:lnTo>
                    <a:lnTo>
                      <a:pt x="567" y="629"/>
                    </a:lnTo>
                    <a:lnTo>
                      <a:pt x="576" y="654"/>
                    </a:lnTo>
                    <a:lnTo>
                      <a:pt x="582" y="677"/>
                    </a:lnTo>
                    <a:lnTo>
                      <a:pt x="590" y="699"/>
                    </a:lnTo>
                    <a:lnTo>
                      <a:pt x="595" y="724"/>
                    </a:lnTo>
                    <a:lnTo>
                      <a:pt x="603" y="751"/>
                    </a:lnTo>
                    <a:lnTo>
                      <a:pt x="609" y="773"/>
                    </a:lnTo>
                    <a:lnTo>
                      <a:pt x="613" y="800"/>
                    </a:lnTo>
                    <a:lnTo>
                      <a:pt x="618" y="825"/>
                    </a:lnTo>
                    <a:lnTo>
                      <a:pt x="624" y="853"/>
                    </a:lnTo>
                    <a:lnTo>
                      <a:pt x="626" y="878"/>
                    </a:lnTo>
                    <a:lnTo>
                      <a:pt x="630" y="905"/>
                    </a:lnTo>
                    <a:lnTo>
                      <a:pt x="632" y="933"/>
                    </a:lnTo>
                    <a:lnTo>
                      <a:pt x="635" y="962"/>
                    </a:lnTo>
                    <a:lnTo>
                      <a:pt x="635" y="988"/>
                    </a:lnTo>
                    <a:lnTo>
                      <a:pt x="635" y="1015"/>
                    </a:lnTo>
                    <a:lnTo>
                      <a:pt x="635" y="1045"/>
                    </a:lnTo>
                    <a:lnTo>
                      <a:pt x="635" y="1074"/>
                    </a:lnTo>
                    <a:lnTo>
                      <a:pt x="633" y="1101"/>
                    </a:lnTo>
                    <a:lnTo>
                      <a:pt x="632" y="1129"/>
                    </a:lnTo>
                    <a:lnTo>
                      <a:pt x="628" y="1156"/>
                    </a:lnTo>
                    <a:lnTo>
                      <a:pt x="626" y="1182"/>
                    </a:lnTo>
                    <a:lnTo>
                      <a:pt x="620" y="1207"/>
                    </a:lnTo>
                    <a:lnTo>
                      <a:pt x="616" y="1234"/>
                    </a:lnTo>
                    <a:lnTo>
                      <a:pt x="611" y="1258"/>
                    </a:lnTo>
                    <a:lnTo>
                      <a:pt x="607" y="1283"/>
                    </a:lnTo>
                    <a:lnTo>
                      <a:pt x="599" y="1306"/>
                    </a:lnTo>
                    <a:lnTo>
                      <a:pt x="594" y="1331"/>
                    </a:lnTo>
                    <a:lnTo>
                      <a:pt x="588" y="1353"/>
                    </a:lnTo>
                    <a:lnTo>
                      <a:pt x="582" y="1376"/>
                    </a:lnTo>
                    <a:lnTo>
                      <a:pt x="575" y="1397"/>
                    </a:lnTo>
                    <a:lnTo>
                      <a:pt x="567" y="1420"/>
                    </a:lnTo>
                    <a:lnTo>
                      <a:pt x="559" y="1441"/>
                    </a:lnTo>
                    <a:lnTo>
                      <a:pt x="552" y="1462"/>
                    </a:lnTo>
                    <a:lnTo>
                      <a:pt x="544" y="1481"/>
                    </a:lnTo>
                    <a:lnTo>
                      <a:pt x="535" y="1502"/>
                    </a:lnTo>
                    <a:lnTo>
                      <a:pt x="525" y="1521"/>
                    </a:lnTo>
                    <a:lnTo>
                      <a:pt x="517" y="1538"/>
                    </a:lnTo>
                    <a:lnTo>
                      <a:pt x="508" y="1555"/>
                    </a:lnTo>
                    <a:lnTo>
                      <a:pt x="498" y="1574"/>
                    </a:lnTo>
                    <a:lnTo>
                      <a:pt x="489" y="1591"/>
                    </a:lnTo>
                    <a:lnTo>
                      <a:pt x="479" y="1608"/>
                    </a:lnTo>
                    <a:lnTo>
                      <a:pt x="468" y="1623"/>
                    </a:lnTo>
                    <a:lnTo>
                      <a:pt x="460" y="1639"/>
                    </a:lnTo>
                    <a:lnTo>
                      <a:pt x="449" y="1656"/>
                    </a:lnTo>
                    <a:lnTo>
                      <a:pt x="440" y="1671"/>
                    </a:lnTo>
                    <a:lnTo>
                      <a:pt x="430" y="1684"/>
                    </a:lnTo>
                    <a:lnTo>
                      <a:pt x="421" y="1699"/>
                    </a:lnTo>
                    <a:lnTo>
                      <a:pt x="411" y="1713"/>
                    </a:lnTo>
                    <a:lnTo>
                      <a:pt x="402" y="1726"/>
                    </a:lnTo>
                    <a:lnTo>
                      <a:pt x="390" y="1739"/>
                    </a:lnTo>
                    <a:lnTo>
                      <a:pt x="383" y="1751"/>
                    </a:lnTo>
                    <a:lnTo>
                      <a:pt x="371" y="1762"/>
                    </a:lnTo>
                    <a:lnTo>
                      <a:pt x="362" y="1776"/>
                    </a:lnTo>
                    <a:lnTo>
                      <a:pt x="352" y="1783"/>
                    </a:lnTo>
                    <a:lnTo>
                      <a:pt x="343" y="1795"/>
                    </a:lnTo>
                    <a:lnTo>
                      <a:pt x="331" y="1806"/>
                    </a:lnTo>
                    <a:lnTo>
                      <a:pt x="324" y="1815"/>
                    </a:lnTo>
                    <a:lnTo>
                      <a:pt x="312" y="1823"/>
                    </a:lnTo>
                    <a:lnTo>
                      <a:pt x="303" y="1833"/>
                    </a:lnTo>
                    <a:lnTo>
                      <a:pt x="295" y="1840"/>
                    </a:lnTo>
                    <a:lnTo>
                      <a:pt x="287" y="1850"/>
                    </a:lnTo>
                    <a:lnTo>
                      <a:pt x="278" y="1855"/>
                    </a:lnTo>
                    <a:lnTo>
                      <a:pt x="270" y="1863"/>
                    </a:lnTo>
                    <a:lnTo>
                      <a:pt x="263" y="1871"/>
                    </a:lnTo>
                    <a:lnTo>
                      <a:pt x="257" y="1878"/>
                    </a:lnTo>
                    <a:lnTo>
                      <a:pt x="249" y="1884"/>
                    </a:lnTo>
                    <a:lnTo>
                      <a:pt x="242" y="1890"/>
                    </a:lnTo>
                    <a:lnTo>
                      <a:pt x="234" y="1893"/>
                    </a:lnTo>
                    <a:lnTo>
                      <a:pt x="229" y="1897"/>
                    </a:lnTo>
                    <a:lnTo>
                      <a:pt x="217" y="1907"/>
                    </a:lnTo>
                    <a:lnTo>
                      <a:pt x="210" y="1914"/>
                    </a:lnTo>
                    <a:lnTo>
                      <a:pt x="200" y="1918"/>
                    </a:lnTo>
                    <a:lnTo>
                      <a:pt x="196" y="1922"/>
                    </a:lnTo>
                    <a:lnTo>
                      <a:pt x="192" y="1924"/>
                    </a:lnTo>
                    <a:lnTo>
                      <a:pt x="192" y="1926"/>
                    </a:lnTo>
                    <a:lnTo>
                      <a:pt x="0" y="1905"/>
                    </a:lnTo>
                    <a:lnTo>
                      <a:pt x="251" y="1120"/>
                    </a:lnTo>
                    <a:lnTo>
                      <a:pt x="263" y="1085"/>
                    </a:lnTo>
                    <a:lnTo>
                      <a:pt x="274" y="1051"/>
                    </a:lnTo>
                    <a:lnTo>
                      <a:pt x="286" y="1019"/>
                    </a:lnTo>
                    <a:lnTo>
                      <a:pt x="295" y="986"/>
                    </a:lnTo>
                    <a:lnTo>
                      <a:pt x="303" y="954"/>
                    </a:lnTo>
                    <a:lnTo>
                      <a:pt x="312" y="922"/>
                    </a:lnTo>
                    <a:lnTo>
                      <a:pt x="318" y="891"/>
                    </a:lnTo>
                    <a:lnTo>
                      <a:pt x="325" y="863"/>
                    </a:lnTo>
                    <a:lnTo>
                      <a:pt x="329" y="832"/>
                    </a:lnTo>
                    <a:lnTo>
                      <a:pt x="333" y="804"/>
                    </a:lnTo>
                    <a:lnTo>
                      <a:pt x="335" y="775"/>
                    </a:lnTo>
                    <a:lnTo>
                      <a:pt x="337" y="747"/>
                    </a:lnTo>
                    <a:lnTo>
                      <a:pt x="339" y="720"/>
                    </a:lnTo>
                    <a:lnTo>
                      <a:pt x="341" y="692"/>
                    </a:lnTo>
                    <a:lnTo>
                      <a:pt x="341" y="665"/>
                    </a:lnTo>
                    <a:lnTo>
                      <a:pt x="341" y="640"/>
                    </a:lnTo>
                    <a:lnTo>
                      <a:pt x="337" y="612"/>
                    </a:lnTo>
                    <a:lnTo>
                      <a:pt x="337" y="587"/>
                    </a:lnTo>
                    <a:lnTo>
                      <a:pt x="333" y="562"/>
                    </a:lnTo>
                    <a:lnTo>
                      <a:pt x="329" y="540"/>
                    </a:lnTo>
                    <a:lnTo>
                      <a:pt x="325" y="515"/>
                    </a:lnTo>
                    <a:lnTo>
                      <a:pt x="322" y="492"/>
                    </a:lnTo>
                    <a:lnTo>
                      <a:pt x="316" y="469"/>
                    </a:lnTo>
                    <a:lnTo>
                      <a:pt x="312" y="448"/>
                    </a:lnTo>
                    <a:lnTo>
                      <a:pt x="305" y="426"/>
                    </a:lnTo>
                    <a:lnTo>
                      <a:pt x="299" y="403"/>
                    </a:lnTo>
                    <a:lnTo>
                      <a:pt x="291" y="384"/>
                    </a:lnTo>
                    <a:lnTo>
                      <a:pt x="286" y="363"/>
                    </a:lnTo>
                    <a:lnTo>
                      <a:pt x="276" y="344"/>
                    </a:lnTo>
                    <a:lnTo>
                      <a:pt x="270" y="325"/>
                    </a:lnTo>
                    <a:lnTo>
                      <a:pt x="263" y="306"/>
                    </a:lnTo>
                    <a:lnTo>
                      <a:pt x="255" y="289"/>
                    </a:lnTo>
                    <a:lnTo>
                      <a:pt x="246" y="270"/>
                    </a:lnTo>
                    <a:lnTo>
                      <a:pt x="238" y="252"/>
                    </a:lnTo>
                    <a:lnTo>
                      <a:pt x="229" y="237"/>
                    </a:lnTo>
                    <a:lnTo>
                      <a:pt x="221" y="220"/>
                    </a:lnTo>
                    <a:lnTo>
                      <a:pt x="211" y="205"/>
                    </a:lnTo>
                    <a:lnTo>
                      <a:pt x="202" y="188"/>
                    </a:lnTo>
                    <a:lnTo>
                      <a:pt x="192" y="175"/>
                    </a:lnTo>
                    <a:lnTo>
                      <a:pt x="185" y="161"/>
                    </a:lnTo>
                    <a:lnTo>
                      <a:pt x="173" y="148"/>
                    </a:lnTo>
                    <a:lnTo>
                      <a:pt x="164" y="135"/>
                    </a:lnTo>
                    <a:lnTo>
                      <a:pt x="154" y="123"/>
                    </a:lnTo>
                    <a:lnTo>
                      <a:pt x="147" y="112"/>
                    </a:lnTo>
                    <a:lnTo>
                      <a:pt x="137" y="100"/>
                    </a:lnTo>
                    <a:lnTo>
                      <a:pt x="130" y="91"/>
                    </a:lnTo>
                    <a:lnTo>
                      <a:pt x="122" y="79"/>
                    </a:lnTo>
                    <a:lnTo>
                      <a:pt x="114" y="72"/>
                    </a:lnTo>
                    <a:lnTo>
                      <a:pt x="107" y="60"/>
                    </a:lnTo>
                    <a:lnTo>
                      <a:pt x="97" y="53"/>
                    </a:lnTo>
                    <a:lnTo>
                      <a:pt x="90" y="45"/>
                    </a:lnTo>
                    <a:lnTo>
                      <a:pt x="84" y="38"/>
                    </a:lnTo>
                    <a:lnTo>
                      <a:pt x="76" y="30"/>
                    </a:lnTo>
                    <a:lnTo>
                      <a:pt x="71" y="26"/>
                    </a:lnTo>
                    <a:lnTo>
                      <a:pt x="65" y="21"/>
                    </a:lnTo>
                    <a:lnTo>
                      <a:pt x="61" y="17"/>
                    </a:lnTo>
                    <a:lnTo>
                      <a:pt x="52" y="7"/>
                    </a:lnTo>
                    <a:lnTo>
                      <a:pt x="46" y="3"/>
                    </a:lnTo>
                    <a:lnTo>
                      <a:pt x="40" y="0"/>
                    </a:lnTo>
                    <a:lnTo>
                      <a:pt x="40" y="0"/>
                    </a:lnTo>
                    <a:lnTo>
                      <a:pt x="177" y="34"/>
                    </a:lnTo>
                    <a:lnTo>
                      <a:pt x="177" y="34"/>
                    </a:lnTo>
                    <a:close/>
                  </a:path>
                </a:pathLst>
              </a:custGeom>
              <a:solidFill>
                <a:srgbClr val="edeb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715440" y="1862280"/>
                <a:ext cx="169920" cy="357840"/>
              </a:xfrm>
              <a:custGeom>
                <a:avLst/>
                <a:gdLst/>
                <a:ahLst/>
                <a:rect l="l" t="t" r="r" b="b"/>
                <a:pathLst>
                  <a:path w="593" h="1247">
                    <a:moveTo>
                      <a:pt x="66" y="6"/>
                    </a:moveTo>
                    <a:lnTo>
                      <a:pt x="0" y="1019"/>
                    </a:lnTo>
                    <a:lnTo>
                      <a:pt x="108" y="1207"/>
                    </a:lnTo>
                    <a:lnTo>
                      <a:pt x="329" y="1247"/>
                    </a:lnTo>
                    <a:lnTo>
                      <a:pt x="325" y="1245"/>
                    </a:lnTo>
                    <a:lnTo>
                      <a:pt x="319" y="1242"/>
                    </a:lnTo>
                    <a:lnTo>
                      <a:pt x="312" y="1238"/>
                    </a:lnTo>
                    <a:lnTo>
                      <a:pt x="306" y="1234"/>
                    </a:lnTo>
                    <a:lnTo>
                      <a:pt x="300" y="1228"/>
                    </a:lnTo>
                    <a:lnTo>
                      <a:pt x="293" y="1224"/>
                    </a:lnTo>
                    <a:lnTo>
                      <a:pt x="283" y="1215"/>
                    </a:lnTo>
                    <a:lnTo>
                      <a:pt x="275" y="1209"/>
                    </a:lnTo>
                    <a:lnTo>
                      <a:pt x="266" y="1200"/>
                    </a:lnTo>
                    <a:lnTo>
                      <a:pt x="256" y="1190"/>
                    </a:lnTo>
                    <a:lnTo>
                      <a:pt x="247" y="1179"/>
                    </a:lnTo>
                    <a:lnTo>
                      <a:pt x="237" y="1167"/>
                    </a:lnTo>
                    <a:lnTo>
                      <a:pt x="232" y="1162"/>
                    </a:lnTo>
                    <a:lnTo>
                      <a:pt x="228" y="1154"/>
                    </a:lnTo>
                    <a:lnTo>
                      <a:pt x="222" y="1148"/>
                    </a:lnTo>
                    <a:lnTo>
                      <a:pt x="218" y="1143"/>
                    </a:lnTo>
                    <a:lnTo>
                      <a:pt x="213" y="1133"/>
                    </a:lnTo>
                    <a:lnTo>
                      <a:pt x="209" y="1126"/>
                    </a:lnTo>
                    <a:lnTo>
                      <a:pt x="203" y="1118"/>
                    </a:lnTo>
                    <a:lnTo>
                      <a:pt x="199" y="1110"/>
                    </a:lnTo>
                    <a:lnTo>
                      <a:pt x="194" y="1101"/>
                    </a:lnTo>
                    <a:lnTo>
                      <a:pt x="188" y="1091"/>
                    </a:lnTo>
                    <a:lnTo>
                      <a:pt x="184" y="1082"/>
                    </a:lnTo>
                    <a:lnTo>
                      <a:pt x="180" y="1072"/>
                    </a:lnTo>
                    <a:lnTo>
                      <a:pt x="175" y="1063"/>
                    </a:lnTo>
                    <a:lnTo>
                      <a:pt x="171" y="1051"/>
                    </a:lnTo>
                    <a:lnTo>
                      <a:pt x="167" y="1040"/>
                    </a:lnTo>
                    <a:lnTo>
                      <a:pt x="163" y="1030"/>
                    </a:lnTo>
                    <a:lnTo>
                      <a:pt x="160" y="1017"/>
                    </a:lnTo>
                    <a:lnTo>
                      <a:pt x="158" y="1006"/>
                    </a:lnTo>
                    <a:lnTo>
                      <a:pt x="154" y="994"/>
                    </a:lnTo>
                    <a:lnTo>
                      <a:pt x="152" y="983"/>
                    </a:lnTo>
                    <a:lnTo>
                      <a:pt x="148" y="968"/>
                    </a:lnTo>
                    <a:lnTo>
                      <a:pt x="144" y="954"/>
                    </a:lnTo>
                    <a:lnTo>
                      <a:pt x="142" y="941"/>
                    </a:lnTo>
                    <a:lnTo>
                      <a:pt x="141" y="928"/>
                    </a:lnTo>
                    <a:lnTo>
                      <a:pt x="137" y="913"/>
                    </a:lnTo>
                    <a:lnTo>
                      <a:pt x="135" y="899"/>
                    </a:lnTo>
                    <a:lnTo>
                      <a:pt x="135" y="882"/>
                    </a:lnTo>
                    <a:lnTo>
                      <a:pt x="135" y="869"/>
                    </a:lnTo>
                    <a:lnTo>
                      <a:pt x="133" y="852"/>
                    </a:lnTo>
                    <a:lnTo>
                      <a:pt x="131" y="835"/>
                    </a:lnTo>
                    <a:lnTo>
                      <a:pt x="131" y="818"/>
                    </a:lnTo>
                    <a:lnTo>
                      <a:pt x="131" y="800"/>
                    </a:lnTo>
                    <a:lnTo>
                      <a:pt x="131" y="781"/>
                    </a:lnTo>
                    <a:lnTo>
                      <a:pt x="133" y="764"/>
                    </a:lnTo>
                    <a:lnTo>
                      <a:pt x="135" y="745"/>
                    </a:lnTo>
                    <a:lnTo>
                      <a:pt x="137" y="728"/>
                    </a:lnTo>
                    <a:lnTo>
                      <a:pt x="137" y="707"/>
                    </a:lnTo>
                    <a:lnTo>
                      <a:pt x="139" y="688"/>
                    </a:lnTo>
                    <a:lnTo>
                      <a:pt x="142" y="667"/>
                    </a:lnTo>
                    <a:lnTo>
                      <a:pt x="146" y="650"/>
                    </a:lnTo>
                    <a:lnTo>
                      <a:pt x="150" y="631"/>
                    </a:lnTo>
                    <a:lnTo>
                      <a:pt x="154" y="612"/>
                    </a:lnTo>
                    <a:lnTo>
                      <a:pt x="158" y="595"/>
                    </a:lnTo>
                    <a:lnTo>
                      <a:pt x="165" y="578"/>
                    </a:lnTo>
                    <a:lnTo>
                      <a:pt x="169" y="559"/>
                    </a:lnTo>
                    <a:lnTo>
                      <a:pt x="177" y="542"/>
                    </a:lnTo>
                    <a:lnTo>
                      <a:pt x="182" y="525"/>
                    </a:lnTo>
                    <a:lnTo>
                      <a:pt x="190" y="509"/>
                    </a:lnTo>
                    <a:lnTo>
                      <a:pt x="196" y="492"/>
                    </a:lnTo>
                    <a:lnTo>
                      <a:pt x="205" y="477"/>
                    </a:lnTo>
                    <a:lnTo>
                      <a:pt x="213" y="460"/>
                    </a:lnTo>
                    <a:lnTo>
                      <a:pt x="222" y="447"/>
                    </a:lnTo>
                    <a:lnTo>
                      <a:pt x="230" y="430"/>
                    </a:lnTo>
                    <a:lnTo>
                      <a:pt x="237" y="414"/>
                    </a:lnTo>
                    <a:lnTo>
                      <a:pt x="247" y="399"/>
                    </a:lnTo>
                    <a:lnTo>
                      <a:pt x="256" y="386"/>
                    </a:lnTo>
                    <a:lnTo>
                      <a:pt x="266" y="371"/>
                    </a:lnTo>
                    <a:lnTo>
                      <a:pt x="275" y="357"/>
                    </a:lnTo>
                    <a:lnTo>
                      <a:pt x="285" y="342"/>
                    </a:lnTo>
                    <a:lnTo>
                      <a:pt x="296" y="331"/>
                    </a:lnTo>
                    <a:lnTo>
                      <a:pt x="306" y="317"/>
                    </a:lnTo>
                    <a:lnTo>
                      <a:pt x="315" y="304"/>
                    </a:lnTo>
                    <a:lnTo>
                      <a:pt x="325" y="293"/>
                    </a:lnTo>
                    <a:lnTo>
                      <a:pt x="336" y="279"/>
                    </a:lnTo>
                    <a:lnTo>
                      <a:pt x="344" y="268"/>
                    </a:lnTo>
                    <a:lnTo>
                      <a:pt x="357" y="257"/>
                    </a:lnTo>
                    <a:lnTo>
                      <a:pt x="367" y="245"/>
                    </a:lnTo>
                    <a:lnTo>
                      <a:pt x="378" y="236"/>
                    </a:lnTo>
                    <a:lnTo>
                      <a:pt x="388" y="224"/>
                    </a:lnTo>
                    <a:lnTo>
                      <a:pt x="397" y="213"/>
                    </a:lnTo>
                    <a:lnTo>
                      <a:pt x="405" y="203"/>
                    </a:lnTo>
                    <a:lnTo>
                      <a:pt x="416" y="194"/>
                    </a:lnTo>
                    <a:lnTo>
                      <a:pt x="426" y="184"/>
                    </a:lnTo>
                    <a:lnTo>
                      <a:pt x="437" y="175"/>
                    </a:lnTo>
                    <a:lnTo>
                      <a:pt x="445" y="167"/>
                    </a:lnTo>
                    <a:lnTo>
                      <a:pt x="456" y="160"/>
                    </a:lnTo>
                    <a:lnTo>
                      <a:pt x="464" y="150"/>
                    </a:lnTo>
                    <a:lnTo>
                      <a:pt x="473" y="143"/>
                    </a:lnTo>
                    <a:lnTo>
                      <a:pt x="483" y="135"/>
                    </a:lnTo>
                    <a:lnTo>
                      <a:pt x="492" y="127"/>
                    </a:lnTo>
                    <a:lnTo>
                      <a:pt x="500" y="120"/>
                    </a:lnTo>
                    <a:lnTo>
                      <a:pt x="507" y="114"/>
                    </a:lnTo>
                    <a:lnTo>
                      <a:pt x="515" y="108"/>
                    </a:lnTo>
                    <a:lnTo>
                      <a:pt x="525" y="103"/>
                    </a:lnTo>
                    <a:lnTo>
                      <a:pt x="532" y="97"/>
                    </a:lnTo>
                    <a:lnTo>
                      <a:pt x="538" y="91"/>
                    </a:lnTo>
                    <a:lnTo>
                      <a:pt x="545" y="85"/>
                    </a:lnTo>
                    <a:lnTo>
                      <a:pt x="551" y="82"/>
                    </a:lnTo>
                    <a:lnTo>
                      <a:pt x="557" y="78"/>
                    </a:lnTo>
                    <a:lnTo>
                      <a:pt x="563" y="74"/>
                    </a:lnTo>
                    <a:lnTo>
                      <a:pt x="568" y="72"/>
                    </a:lnTo>
                    <a:lnTo>
                      <a:pt x="574" y="68"/>
                    </a:lnTo>
                    <a:lnTo>
                      <a:pt x="580" y="65"/>
                    </a:lnTo>
                    <a:lnTo>
                      <a:pt x="587" y="59"/>
                    </a:lnTo>
                    <a:lnTo>
                      <a:pt x="589" y="59"/>
                    </a:lnTo>
                    <a:lnTo>
                      <a:pt x="593" y="59"/>
                    </a:lnTo>
                    <a:lnTo>
                      <a:pt x="589" y="57"/>
                    </a:lnTo>
                    <a:lnTo>
                      <a:pt x="587" y="55"/>
                    </a:lnTo>
                    <a:lnTo>
                      <a:pt x="582" y="51"/>
                    </a:lnTo>
                    <a:lnTo>
                      <a:pt x="576" y="49"/>
                    </a:lnTo>
                    <a:lnTo>
                      <a:pt x="566" y="46"/>
                    </a:lnTo>
                    <a:lnTo>
                      <a:pt x="555" y="42"/>
                    </a:lnTo>
                    <a:lnTo>
                      <a:pt x="544" y="36"/>
                    </a:lnTo>
                    <a:lnTo>
                      <a:pt x="532" y="32"/>
                    </a:lnTo>
                    <a:lnTo>
                      <a:pt x="525" y="28"/>
                    </a:lnTo>
                    <a:lnTo>
                      <a:pt x="515" y="25"/>
                    </a:lnTo>
                    <a:lnTo>
                      <a:pt x="507" y="23"/>
                    </a:lnTo>
                    <a:lnTo>
                      <a:pt x="502" y="21"/>
                    </a:lnTo>
                    <a:lnTo>
                      <a:pt x="492" y="17"/>
                    </a:lnTo>
                    <a:lnTo>
                      <a:pt x="485" y="15"/>
                    </a:lnTo>
                    <a:lnTo>
                      <a:pt x="475" y="13"/>
                    </a:lnTo>
                    <a:lnTo>
                      <a:pt x="467" y="11"/>
                    </a:lnTo>
                    <a:lnTo>
                      <a:pt x="456" y="9"/>
                    </a:lnTo>
                    <a:lnTo>
                      <a:pt x="447" y="8"/>
                    </a:lnTo>
                    <a:lnTo>
                      <a:pt x="437" y="6"/>
                    </a:lnTo>
                    <a:lnTo>
                      <a:pt x="428" y="6"/>
                    </a:lnTo>
                    <a:lnTo>
                      <a:pt x="418" y="2"/>
                    </a:lnTo>
                    <a:lnTo>
                      <a:pt x="409" y="2"/>
                    </a:lnTo>
                    <a:lnTo>
                      <a:pt x="397" y="2"/>
                    </a:lnTo>
                    <a:lnTo>
                      <a:pt x="388" y="2"/>
                    </a:lnTo>
                    <a:lnTo>
                      <a:pt x="376" y="2"/>
                    </a:lnTo>
                    <a:lnTo>
                      <a:pt x="365" y="2"/>
                    </a:lnTo>
                    <a:lnTo>
                      <a:pt x="353" y="0"/>
                    </a:lnTo>
                    <a:lnTo>
                      <a:pt x="340" y="0"/>
                    </a:lnTo>
                    <a:lnTo>
                      <a:pt x="327" y="0"/>
                    </a:lnTo>
                    <a:lnTo>
                      <a:pt x="314" y="0"/>
                    </a:lnTo>
                    <a:lnTo>
                      <a:pt x="300" y="0"/>
                    </a:lnTo>
                    <a:lnTo>
                      <a:pt x="289" y="0"/>
                    </a:lnTo>
                    <a:lnTo>
                      <a:pt x="274" y="0"/>
                    </a:lnTo>
                    <a:lnTo>
                      <a:pt x="262" y="0"/>
                    </a:lnTo>
                    <a:lnTo>
                      <a:pt x="249" y="0"/>
                    </a:lnTo>
                    <a:lnTo>
                      <a:pt x="236" y="0"/>
                    </a:lnTo>
                    <a:lnTo>
                      <a:pt x="222" y="0"/>
                    </a:lnTo>
                    <a:lnTo>
                      <a:pt x="209" y="0"/>
                    </a:lnTo>
                    <a:lnTo>
                      <a:pt x="196" y="0"/>
                    </a:lnTo>
                    <a:lnTo>
                      <a:pt x="184" y="2"/>
                    </a:lnTo>
                    <a:lnTo>
                      <a:pt x="171" y="2"/>
                    </a:lnTo>
                    <a:lnTo>
                      <a:pt x="160" y="2"/>
                    </a:lnTo>
                    <a:lnTo>
                      <a:pt x="148" y="2"/>
                    </a:lnTo>
                    <a:lnTo>
                      <a:pt x="137" y="2"/>
                    </a:lnTo>
                    <a:lnTo>
                      <a:pt x="125" y="2"/>
                    </a:lnTo>
                    <a:lnTo>
                      <a:pt x="116" y="2"/>
                    </a:lnTo>
                    <a:lnTo>
                      <a:pt x="108" y="2"/>
                    </a:lnTo>
                    <a:lnTo>
                      <a:pt x="101" y="2"/>
                    </a:lnTo>
                    <a:lnTo>
                      <a:pt x="91" y="2"/>
                    </a:lnTo>
                    <a:lnTo>
                      <a:pt x="85" y="2"/>
                    </a:lnTo>
                    <a:lnTo>
                      <a:pt x="78" y="2"/>
                    </a:lnTo>
                    <a:lnTo>
                      <a:pt x="74" y="4"/>
                    </a:lnTo>
                    <a:lnTo>
                      <a:pt x="68" y="4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solidFill>
                <a:srgbClr val="d6f0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732360" y="2076480"/>
                <a:ext cx="62280" cy="123840"/>
              </a:xfrm>
              <a:custGeom>
                <a:avLst/>
                <a:gdLst/>
                <a:ahLst/>
                <a:rect l="l" t="t" r="r" b="b"/>
                <a:pathLst>
                  <a:path w="218" h="434">
                    <a:moveTo>
                      <a:pt x="218" y="0"/>
                    </a:moveTo>
                    <a:lnTo>
                      <a:pt x="214" y="0"/>
                    </a:lnTo>
                    <a:lnTo>
                      <a:pt x="209" y="4"/>
                    </a:lnTo>
                    <a:lnTo>
                      <a:pt x="203" y="6"/>
                    </a:lnTo>
                    <a:lnTo>
                      <a:pt x="199" y="10"/>
                    </a:lnTo>
                    <a:lnTo>
                      <a:pt x="192" y="14"/>
                    </a:lnTo>
                    <a:lnTo>
                      <a:pt x="188" y="17"/>
                    </a:lnTo>
                    <a:lnTo>
                      <a:pt x="180" y="23"/>
                    </a:lnTo>
                    <a:lnTo>
                      <a:pt x="171" y="27"/>
                    </a:lnTo>
                    <a:lnTo>
                      <a:pt x="163" y="33"/>
                    </a:lnTo>
                    <a:lnTo>
                      <a:pt x="155" y="40"/>
                    </a:lnTo>
                    <a:lnTo>
                      <a:pt x="146" y="44"/>
                    </a:lnTo>
                    <a:lnTo>
                      <a:pt x="138" y="53"/>
                    </a:lnTo>
                    <a:lnTo>
                      <a:pt x="129" y="61"/>
                    </a:lnTo>
                    <a:lnTo>
                      <a:pt x="121" y="69"/>
                    </a:lnTo>
                    <a:lnTo>
                      <a:pt x="110" y="74"/>
                    </a:lnTo>
                    <a:lnTo>
                      <a:pt x="100" y="84"/>
                    </a:lnTo>
                    <a:lnTo>
                      <a:pt x="91" y="92"/>
                    </a:lnTo>
                    <a:lnTo>
                      <a:pt x="83" y="101"/>
                    </a:lnTo>
                    <a:lnTo>
                      <a:pt x="74" y="109"/>
                    </a:lnTo>
                    <a:lnTo>
                      <a:pt x="64" y="118"/>
                    </a:lnTo>
                    <a:lnTo>
                      <a:pt x="57" y="128"/>
                    </a:lnTo>
                    <a:lnTo>
                      <a:pt x="49" y="139"/>
                    </a:lnTo>
                    <a:lnTo>
                      <a:pt x="39" y="149"/>
                    </a:lnTo>
                    <a:lnTo>
                      <a:pt x="32" y="158"/>
                    </a:lnTo>
                    <a:lnTo>
                      <a:pt x="26" y="168"/>
                    </a:lnTo>
                    <a:lnTo>
                      <a:pt x="20" y="181"/>
                    </a:lnTo>
                    <a:lnTo>
                      <a:pt x="15" y="190"/>
                    </a:lnTo>
                    <a:lnTo>
                      <a:pt x="11" y="202"/>
                    </a:lnTo>
                    <a:lnTo>
                      <a:pt x="7" y="211"/>
                    </a:lnTo>
                    <a:lnTo>
                      <a:pt x="5" y="225"/>
                    </a:lnTo>
                    <a:lnTo>
                      <a:pt x="1" y="232"/>
                    </a:lnTo>
                    <a:lnTo>
                      <a:pt x="0" y="244"/>
                    </a:lnTo>
                    <a:lnTo>
                      <a:pt x="0" y="255"/>
                    </a:lnTo>
                    <a:lnTo>
                      <a:pt x="0" y="266"/>
                    </a:lnTo>
                    <a:lnTo>
                      <a:pt x="0" y="278"/>
                    </a:lnTo>
                    <a:lnTo>
                      <a:pt x="3" y="289"/>
                    </a:lnTo>
                    <a:lnTo>
                      <a:pt x="5" y="299"/>
                    </a:lnTo>
                    <a:lnTo>
                      <a:pt x="9" y="312"/>
                    </a:lnTo>
                    <a:lnTo>
                      <a:pt x="11" y="322"/>
                    </a:lnTo>
                    <a:lnTo>
                      <a:pt x="15" y="331"/>
                    </a:lnTo>
                    <a:lnTo>
                      <a:pt x="19" y="343"/>
                    </a:lnTo>
                    <a:lnTo>
                      <a:pt x="24" y="352"/>
                    </a:lnTo>
                    <a:lnTo>
                      <a:pt x="28" y="362"/>
                    </a:lnTo>
                    <a:lnTo>
                      <a:pt x="36" y="371"/>
                    </a:lnTo>
                    <a:lnTo>
                      <a:pt x="39" y="381"/>
                    </a:lnTo>
                    <a:lnTo>
                      <a:pt x="49" y="390"/>
                    </a:lnTo>
                    <a:lnTo>
                      <a:pt x="53" y="396"/>
                    </a:lnTo>
                    <a:lnTo>
                      <a:pt x="60" y="403"/>
                    </a:lnTo>
                    <a:lnTo>
                      <a:pt x="66" y="409"/>
                    </a:lnTo>
                    <a:lnTo>
                      <a:pt x="74" y="417"/>
                    </a:lnTo>
                    <a:lnTo>
                      <a:pt x="79" y="420"/>
                    </a:lnTo>
                    <a:lnTo>
                      <a:pt x="87" y="424"/>
                    </a:lnTo>
                    <a:lnTo>
                      <a:pt x="96" y="426"/>
                    </a:lnTo>
                    <a:lnTo>
                      <a:pt x="104" y="432"/>
                    </a:lnTo>
                    <a:lnTo>
                      <a:pt x="110" y="432"/>
                    </a:lnTo>
                    <a:lnTo>
                      <a:pt x="117" y="434"/>
                    </a:lnTo>
                    <a:lnTo>
                      <a:pt x="125" y="432"/>
                    </a:lnTo>
                    <a:lnTo>
                      <a:pt x="133" y="432"/>
                    </a:lnTo>
                    <a:lnTo>
                      <a:pt x="140" y="428"/>
                    </a:lnTo>
                    <a:lnTo>
                      <a:pt x="148" y="426"/>
                    </a:lnTo>
                    <a:lnTo>
                      <a:pt x="153" y="420"/>
                    </a:lnTo>
                    <a:lnTo>
                      <a:pt x="161" y="417"/>
                    </a:lnTo>
                    <a:lnTo>
                      <a:pt x="167" y="409"/>
                    </a:lnTo>
                    <a:lnTo>
                      <a:pt x="172" y="400"/>
                    </a:lnTo>
                    <a:lnTo>
                      <a:pt x="178" y="392"/>
                    </a:lnTo>
                    <a:lnTo>
                      <a:pt x="184" y="382"/>
                    </a:lnTo>
                    <a:lnTo>
                      <a:pt x="186" y="373"/>
                    </a:lnTo>
                    <a:lnTo>
                      <a:pt x="190" y="365"/>
                    </a:lnTo>
                    <a:lnTo>
                      <a:pt x="192" y="356"/>
                    </a:lnTo>
                    <a:lnTo>
                      <a:pt x="197" y="346"/>
                    </a:lnTo>
                    <a:lnTo>
                      <a:pt x="197" y="335"/>
                    </a:lnTo>
                    <a:lnTo>
                      <a:pt x="199" y="323"/>
                    </a:lnTo>
                    <a:lnTo>
                      <a:pt x="201" y="312"/>
                    </a:lnTo>
                    <a:lnTo>
                      <a:pt x="203" y="303"/>
                    </a:lnTo>
                    <a:lnTo>
                      <a:pt x="203" y="291"/>
                    </a:lnTo>
                    <a:lnTo>
                      <a:pt x="205" y="282"/>
                    </a:lnTo>
                    <a:lnTo>
                      <a:pt x="205" y="272"/>
                    </a:lnTo>
                    <a:lnTo>
                      <a:pt x="205" y="263"/>
                    </a:lnTo>
                    <a:lnTo>
                      <a:pt x="205" y="251"/>
                    </a:lnTo>
                    <a:lnTo>
                      <a:pt x="205" y="242"/>
                    </a:lnTo>
                    <a:lnTo>
                      <a:pt x="203" y="230"/>
                    </a:lnTo>
                    <a:lnTo>
                      <a:pt x="203" y="223"/>
                    </a:lnTo>
                    <a:lnTo>
                      <a:pt x="201" y="213"/>
                    </a:lnTo>
                    <a:lnTo>
                      <a:pt x="201" y="206"/>
                    </a:lnTo>
                    <a:lnTo>
                      <a:pt x="201" y="198"/>
                    </a:lnTo>
                    <a:lnTo>
                      <a:pt x="201" y="192"/>
                    </a:lnTo>
                    <a:lnTo>
                      <a:pt x="199" y="179"/>
                    </a:lnTo>
                    <a:lnTo>
                      <a:pt x="197" y="169"/>
                    </a:lnTo>
                    <a:lnTo>
                      <a:pt x="197" y="164"/>
                    </a:lnTo>
                    <a:lnTo>
                      <a:pt x="197" y="164"/>
                    </a:lnTo>
                    <a:lnTo>
                      <a:pt x="218" y="0"/>
                    </a:lnTo>
                    <a:lnTo>
                      <a:pt x="218" y="0"/>
                    </a:lnTo>
                    <a:close/>
                  </a:path>
                </a:pathLst>
              </a:custGeom>
              <a:solidFill>
                <a:srgbClr val="8a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6396120" y="1954440"/>
                <a:ext cx="362880" cy="630360"/>
              </a:xfrm>
              <a:custGeom>
                <a:avLst/>
                <a:gdLst/>
                <a:ahLst/>
                <a:rect l="l" t="t" r="r" b="b"/>
                <a:pathLst>
                  <a:path w="1262" h="2198">
                    <a:moveTo>
                      <a:pt x="979" y="1040"/>
                    </a:moveTo>
                    <a:lnTo>
                      <a:pt x="985" y="1031"/>
                    </a:lnTo>
                    <a:lnTo>
                      <a:pt x="992" y="1021"/>
                    </a:lnTo>
                    <a:lnTo>
                      <a:pt x="998" y="1014"/>
                    </a:lnTo>
                    <a:lnTo>
                      <a:pt x="1006" y="1006"/>
                    </a:lnTo>
                    <a:lnTo>
                      <a:pt x="1013" y="997"/>
                    </a:lnTo>
                    <a:lnTo>
                      <a:pt x="1021" y="987"/>
                    </a:lnTo>
                    <a:lnTo>
                      <a:pt x="1026" y="980"/>
                    </a:lnTo>
                    <a:lnTo>
                      <a:pt x="1036" y="972"/>
                    </a:lnTo>
                    <a:lnTo>
                      <a:pt x="1042" y="962"/>
                    </a:lnTo>
                    <a:lnTo>
                      <a:pt x="1049" y="953"/>
                    </a:lnTo>
                    <a:lnTo>
                      <a:pt x="1055" y="945"/>
                    </a:lnTo>
                    <a:lnTo>
                      <a:pt x="1063" y="936"/>
                    </a:lnTo>
                    <a:lnTo>
                      <a:pt x="1070" y="928"/>
                    </a:lnTo>
                    <a:lnTo>
                      <a:pt x="1078" y="919"/>
                    </a:lnTo>
                    <a:lnTo>
                      <a:pt x="1083" y="909"/>
                    </a:lnTo>
                    <a:lnTo>
                      <a:pt x="1093" y="902"/>
                    </a:lnTo>
                    <a:lnTo>
                      <a:pt x="1097" y="892"/>
                    </a:lnTo>
                    <a:lnTo>
                      <a:pt x="1104" y="884"/>
                    </a:lnTo>
                    <a:lnTo>
                      <a:pt x="1110" y="875"/>
                    </a:lnTo>
                    <a:lnTo>
                      <a:pt x="1118" y="865"/>
                    </a:lnTo>
                    <a:lnTo>
                      <a:pt x="1123" y="858"/>
                    </a:lnTo>
                    <a:lnTo>
                      <a:pt x="1131" y="848"/>
                    </a:lnTo>
                    <a:lnTo>
                      <a:pt x="1137" y="839"/>
                    </a:lnTo>
                    <a:lnTo>
                      <a:pt x="1144" y="831"/>
                    </a:lnTo>
                    <a:lnTo>
                      <a:pt x="1148" y="822"/>
                    </a:lnTo>
                    <a:lnTo>
                      <a:pt x="1154" y="814"/>
                    </a:lnTo>
                    <a:lnTo>
                      <a:pt x="1159" y="805"/>
                    </a:lnTo>
                    <a:lnTo>
                      <a:pt x="1167" y="795"/>
                    </a:lnTo>
                    <a:lnTo>
                      <a:pt x="1171" y="788"/>
                    </a:lnTo>
                    <a:lnTo>
                      <a:pt x="1179" y="778"/>
                    </a:lnTo>
                    <a:lnTo>
                      <a:pt x="1184" y="769"/>
                    </a:lnTo>
                    <a:lnTo>
                      <a:pt x="1190" y="761"/>
                    </a:lnTo>
                    <a:lnTo>
                      <a:pt x="1194" y="751"/>
                    </a:lnTo>
                    <a:lnTo>
                      <a:pt x="1199" y="742"/>
                    </a:lnTo>
                    <a:lnTo>
                      <a:pt x="1203" y="732"/>
                    </a:lnTo>
                    <a:lnTo>
                      <a:pt x="1209" y="725"/>
                    </a:lnTo>
                    <a:lnTo>
                      <a:pt x="1213" y="713"/>
                    </a:lnTo>
                    <a:lnTo>
                      <a:pt x="1217" y="704"/>
                    </a:lnTo>
                    <a:lnTo>
                      <a:pt x="1220" y="694"/>
                    </a:lnTo>
                    <a:lnTo>
                      <a:pt x="1226" y="687"/>
                    </a:lnTo>
                    <a:lnTo>
                      <a:pt x="1228" y="677"/>
                    </a:lnTo>
                    <a:lnTo>
                      <a:pt x="1232" y="668"/>
                    </a:lnTo>
                    <a:lnTo>
                      <a:pt x="1237" y="658"/>
                    </a:lnTo>
                    <a:lnTo>
                      <a:pt x="1241" y="649"/>
                    </a:lnTo>
                    <a:lnTo>
                      <a:pt x="1243" y="637"/>
                    </a:lnTo>
                    <a:lnTo>
                      <a:pt x="1245" y="630"/>
                    </a:lnTo>
                    <a:lnTo>
                      <a:pt x="1249" y="620"/>
                    </a:lnTo>
                    <a:lnTo>
                      <a:pt x="1253" y="611"/>
                    </a:lnTo>
                    <a:lnTo>
                      <a:pt x="1255" y="601"/>
                    </a:lnTo>
                    <a:lnTo>
                      <a:pt x="1255" y="592"/>
                    </a:lnTo>
                    <a:lnTo>
                      <a:pt x="1256" y="580"/>
                    </a:lnTo>
                    <a:lnTo>
                      <a:pt x="1258" y="571"/>
                    </a:lnTo>
                    <a:lnTo>
                      <a:pt x="1258" y="561"/>
                    </a:lnTo>
                    <a:lnTo>
                      <a:pt x="1260" y="552"/>
                    </a:lnTo>
                    <a:lnTo>
                      <a:pt x="1262" y="540"/>
                    </a:lnTo>
                    <a:lnTo>
                      <a:pt x="1262" y="533"/>
                    </a:lnTo>
                    <a:lnTo>
                      <a:pt x="1262" y="521"/>
                    </a:lnTo>
                    <a:lnTo>
                      <a:pt x="1262" y="510"/>
                    </a:lnTo>
                    <a:lnTo>
                      <a:pt x="1262" y="500"/>
                    </a:lnTo>
                    <a:lnTo>
                      <a:pt x="1262" y="491"/>
                    </a:lnTo>
                    <a:lnTo>
                      <a:pt x="1262" y="479"/>
                    </a:lnTo>
                    <a:lnTo>
                      <a:pt x="1262" y="470"/>
                    </a:lnTo>
                    <a:lnTo>
                      <a:pt x="1260" y="460"/>
                    </a:lnTo>
                    <a:lnTo>
                      <a:pt x="1260" y="451"/>
                    </a:lnTo>
                    <a:lnTo>
                      <a:pt x="1255" y="426"/>
                    </a:lnTo>
                    <a:lnTo>
                      <a:pt x="1251" y="405"/>
                    </a:lnTo>
                    <a:lnTo>
                      <a:pt x="1245" y="386"/>
                    </a:lnTo>
                    <a:lnTo>
                      <a:pt x="1239" y="365"/>
                    </a:lnTo>
                    <a:lnTo>
                      <a:pt x="1232" y="346"/>
                    </a:lnTo>
                    <a:lnTo>
                      <a:pt x="1224" y="329"/>
                    </a:lnTo>
                    <a:lnTo>
                      <a:pt x="1217" y="310"/>
                    </a:lnTo>
                    <a:lnTo>
                      <a:pt x="1209" y="293"/>
                    </a:lnTo>
                    <a:lnTo>
                      <a:pt x="1198" y="276"/>
                    </a:lnTo>
                    <a:lnTo>
                      <a:pt x="1188" y="261"/>
                    </a:lnTo>
                    <a:lnTo>
                      <a:pt x="1179" y="246"/>
                    </a:lnTo>
                    <a:lnTo>
                      <a:pt x="1169" y="232"/>
                    </a:lnTo>
                    <a:lnTo>
                      <a:pt x="1158" y="217"/>
                    </a:lnTo>
                    <a:lnTo>
                      <a:pt x="1144" y="204"/>
                    </a:lnTo>
                    <a:lnTo>
                      <a:pt x="1133" y="192"/>
                    </a:lnTo>
                    <a:lnTo>
                      <a:pt x="1121" y="179"/>
                    </a:lnTo>
                    <a:lnTo>
                      <a:pt x="1106" y="168"/>
                    </a:lnTo>
                    <a:lnTo>
                      <a:pt x="1093" y="156"/>
                    </a:lnTo>
                    <a:lnTo>
                      <a:pt x="1080" y="145"/>
                    </a:lnTo>
                    <a:lnTo>
                      <a:pt x="1066" y="135"/>
                    </a:lnTo>
                    <a:lnTo>
                      <a:pt x="1053" y="126"/>
                    </a:lnTo>
                    <a:lnTo>
                      <a:pt x="1038" y="116"/>
                    </a:lnTo>
                    <a:lnTo>
                      <a:pt x="1023" y="109"/>
                    </a:lnTo>
                    <a:lnTo>
                      <a:pt x="1009" y="101"/>
                    </a:lnTo>
                    <a:lnTo>
                      <a:pt x="994" y="92"/>
                    </a:lnTo>
                    <a:lnTo>
                      <a:pt x="979" y="84"/>
                    </a:lnTo>
                    <a:lnTo>
                      <a:pt x="964" y="76"/>
                    </a:lnTo>
                    <a:lnTo>
                      <a:pt x="948" y="71"/>
                    </a:lnTo>
                    <a:lnTo>
                      <a:pt x="933" y="63"/>
                    </a:lnTo>
                    <a:lnTo>
                      <a:pt x="918" y="57"/>
                    </a:lnTo>
                    <a:lnTo>
                      <a:pt x="903" y="54"/>
                    </a:lnTo>
                    <a:lnTo>
                      <a:pt x="888" y="48"/>
                    </a:lnTo>
                    <a:lnTo>
                      <a:pt x="872" y="44"/>
                    </a:lnTo>
                    <a:lnTo>
                      <a:pt x="855" y="38"/>
                    </a:lnTo>
                    <a:lnTo>
                      <a:pt x="840" y="35"/>
                    </a:lnTo>
                    <a:lnTo>
                      <a:pt x="825" y="31"/>
                    </a:lnTo>
                    <a:lnTo>
                      <a:pt x="810" y="27"/>
                    </a:lnTo>
                    <a:lnTo>
                      <a:pt x="795" y="21"/>
                    </a:lnTo>
                    <a:lnTo>
                      <a:pt x="781" y="19"/>
                    </a:lnTo>
                    <a:lnTo>
                      <a:pt x="768" y="17"/>
                    </a:lnTo>
                    <a:lnTo>
                      <a:pt x="753" y="14"/>
                    </a:lnTo>
                    <a:lnTo>
                      <a:pt x="739" y="14"/>
                    </a:lnTo>
                    <a:lnTo>
                      <a:pt x="726" y="10"/>
                    </a:lnTo>
                    <a:lnTo>
                      <a:pt x="713" y="8"/>
                    </a:lnTo>
                    <a:lnTo>
                      <a:pt x="699" y="8"/>
                    </a:lnTo>
                    <a:lnTo>
                      <a:pt x="688" y="6"/>
                    </a:lnTo>
                    <a:lnTo>
                      <a:pt x="677" y="4"/>
                    </a:lnTo>
                    <a:lnTo>
                      <a:pt x="665" y="4"/>
                    </a:lnTo>
                    <a:lnTo>
                      <a:pt x="654" y="4"/>
                    </a:lnTo>
                    <a:lnTo>
                      <a:pt x="642" y="2"/>
                    </a:lnTo>
                    <a:lnTo>
                      <a:pt x="633" y="0"/>
                    </a:lnTo>
                    <a:lnTo>
                      <a:pt x="623" y="0"/>
                    </a:lnTo>
                    <a:lnTo>
                      <a:pt x="614" y="0"/>
                    </a:lnTo>
                    <a:lnTo>
                      <a:pt x="606" y="0"/>
                    </a:lnTo>
                    <a:lnTo>
                      <a:pt x="599" y="0"/>
                    </a:lnTo>
                    <a:lnTo>
                      <a:pt x="593" y="0"/>
                    </a:lnTo>
                    <a:lnTo>
                      <a:pt x="580" y="0"/>
                    </a:lnTo>
                    <a:lnTo>
                      <a:pt x="572" y="0"/>
                    </a:lnTo>
                    <a:lnTo>
                      <a:pt x="566" y="0"/>
                    </a:lnTo>
                    <a:lnTo>
                      <a:pt x="564" y="2"/>
                    </a:lnTo>
                    <a:lnTo>
                      <a:pt x="551" y="4"/>
                    </a:lnTo>
                    <a:lnTo>
                      <a:pt x="542" y="12"/>
                    </a:lnTo>
                    <a:lnTo>
                      <a:pt x="0" y="447"/>
                    </a:lnTo>
                    <a:lnTo>
                      <a:pt x="51" y="512"/>
                    </a:lnTo>
                    <a:lnTo>
                      <a:pt x="582" y="86"/>
                    </a:lnTo>
                    <a:lnTo>
                      <a:pt x="589" y="84"/>
                    </a:lnTo>
                    <a:lnTo>
                      <a:pt x="601" y="84"/>
                    </a:lnTo>
                    <a:lnTo>
                      <a:pt x="606" y="84"/>
                    </a:lnTo>
                    <a:lnTo>
                      <a:pt x="612" y="84"/>
                    </a:lnTo>
                    <a:lnTo>
                      <a:pt x="620" y="84"/>
                    </a:lnTo>
                    <a:lnTo>
                      <a:pt x="629" y="84"/>
                    </a:lnTo>
                    <a:lnTo>
                      <a:pt x="637" y="84"/>
                    </a:lnTo>
                    <a:lnTo>
                      <a:pt x="644" y="84"/>
                    </a:lnTo>
                    <a:lnTo>
                      <a:pt x="652" y="84"/>
                    </a:lnTo>
                    <a:lnTo>
                      <a:pt x="661" y="86"/>
                    </a:lnTo>
                    <a:lnTo>
                      <a:pt x="669" y="86"/>
                    </a:lnTo>
                    <a:lnTo>
                      <a:pt x="680" y="88"/>
                    </a:lnTo>
                    <a:lnTo>
                      <a:pt x="690" y="88"/>
                    </a:lnTo>
                    <a:lnTo>
                      <a:pt x="701" y="92"/>
                    </a:lnTo>
                    <a:lnTo>
                      <a:pt x="711" y="92"/>
                    </a:lnTo>
                    <a:lnTo>
                      <a:pt x="720" y="92"/>
                    </a:lnTo>
                    <a:lnTo>
                      <a:pt x="732" y="94"/>
                    </a:lnTo>
                    <a:lnTo>
                      <a:pt x="743" y="97"/>
                    </a:lnTo>
                    <a:lnTo>
                      <a:pt x="756" y="97"/>
                    </a:lnTo>
                    <a:lnTo>
                      <a:pt x="768" y="101"/>
                    </a:lnTo>
                    <a:lnTo>
                      <a:pt x="779" y="101"/>
                    </a:lnTo>
                    <a:lnTo>
                      <a:pt x="791" y="105"/>
                    </a:lnTo>
                    <a:lnTo>
                      <a:pt x="804" y="109"/>
                    </a:lnTo>
                    <a:lnTo>
                      <a:pt x="815" y="111"/>
                    </a:lnTo>
                    <a:lnTo>
                      <a:pt x="827" y="114"/>
                    </a:lnTo>
                    <a:lnTo>
                      <a:pt x="838" y="118"/>
                    </a:lnTo>
                    <a:lnTo>
                      <a:pt x="852" y="122"/>
                    </a:lnTo>
                    <a:lnTo>
                      <a:pt x="865" y="126"/>
                    </a:lnTo>
                    <a:lnTo>
                      <a:pt x="876" y="130"/>
                    </a:lnTo>
                    <a:lnTo>
                      <a:pt x="890" y="135"/>
                    </a:lnTo>
                    <a:lnTo>
                      <a:pt x="901" y="139"/>
                    </a:lnTo>
                    <a:lnTo>
                      <a:pt x="912" y="143"/>
                    </a:lnTo>
                    <a:lnTo>
                      <a:pt x="926" y="149"/>
                    </a:lnTo>
                    <a:lnTo>
                      <a:pt x="937" y="154"/>
                    </a:lnTo>
                    <a:lnTo>
                      <a:pt x="948" y="158"/>
                    </a:lnTo>
                    <a:lnTo>
                      <a:pt x="962" y="166"/>
                    </a:lnTo>
                    <a:lnTo>
                      <a:pt x="973" y="171"/>
                    </a:lnTo>
                    <a:lnTo>
                      <a:pt x="985" y="179"/>
                    </a:lnTo>
                    <a:lnTo>
                      <a:pt x="996" y="187"/>
                    </a:lnTo>
                    <a:lnTo>
                      <a:pt x="1006" y="192"/>
                    </a:lnTo>
                    <a:lnTo>
                      <a:pt x="1017" y="202"/>
                    </a:lnTo>
                    <a:lnTo>
                      <a:pt x="1028" y="211"/>
                    </a:lnTo>
                    <a:lnTo>
                      <a:pt x="1040" y="219"/>
                    </a:lnTo>
                    <a:lnTo>
                      <a:pt x="1049" y="229"/>
                    </a:lnTo>
                    <a:lnTo>
                      <a:pt x="1061" y="238"/>
                    </a:lnTo>
                    <a:lnTo>
                      <a:pt x="1070" y="248"/>
                    </a:lnTo>
                    <a:lnTo>
                      <a:pt x="1080" y="257"/>
                    </a:lnTo>
                    <a:lnTo>
                      <a:pt x="1089" y="268"/>
                    </a:lnTo>
                    <a:lnTo>
                      <a:pt x="1097" y="278"/>
                    </a:lnTo>
                    <a:lnTo>
                      <a:pt x="1106" y="289"/>
                    </a:lnTo>
                    <a:lnTo>
                      <a:pt x="1114" y="301"/>
                    </a:lnTo>
                    <a:lnTo>
                      <a:pt x="1123" y="312"/>
                    </a:lnTo>
                    <a:lnTo>
                      <a:pt x="1129" y="325"/>
                    </a:lnTo>
                    <a:lnTo>
                      <a:pt x="1137" y="339"/>
                    </a:lnTo>
                    <a:lnTo>
                      <a:pt x="1142" y="352"/>
                    </a:lnTo>
                    <a:lnTo>
                      <a:pt x="1148" y="365"/>
                    </a:lnTo>
                    <a:lnTo>
                      <a:pt x="1154" y="381"/>
                    </a:lnTo>
                    <a:lnTo>
                      <a:pt x="1161" y="396"/>
                    </a:lnTo>
                    <a:lnTo>
                      <a:pt x="1165" y="413"/>
                    </a:lnTo>
                    <a:lnTo>
                      <a:pt x="1169" y="428"/>
                    </a:lnTo>
                    <a:lnTo>
                      <a:pt x="1173" y="443"/>
                    </a:lnTo>
                    <a:lnTo>
                      <a:pt x="1177" y="462"/>
                    </a:lnTo>
                    <a:lnTo>
                      <a:pt x="1177" y="470"/>
                    </a:lnTo>
                    <a:lnTo>
                      <a:pt x="1179" y="479"/>
                    </a:lnTo>
                    <a:lnTo>
                      <a:pt x="1179" y="487"/>
                    </a:lnTo>
                    <a:lnTo>
                      <a:pt x="1180" y="497"/>
                    </a:lnTo>
                    <a:lnTo>
                      <a:pt x="1179" y="504"/>
                    </a:lnTo>
                    <a:lnTo>
                      <a:pt x="1179" y="514"/>
                    </a:lnTo>
                    <a:lnTo>
                      <a:pt x="1179" y="521"/>
                    </a:lnTo>
                    <a:lnTo>
                      <a:pt x="1179" y="531"/>
                    </a:lnTo>
                    <a:lnTo>
                      <a:pt x="1177" y="538"/>
                    </a:lnTo>
                    <a:lnTo>
                      <a:pt x="1175" y="546"/>
                    </a:lnTo>
                    <a:lnTo>
                      <a:pt x="1175" y="554"/>
                    </a:lnTo>
                    <a:lnTo>
                      <a:pt x="1175" y="563"/>
                    </a:lnTo>
                    <a:lnTo>
                      <a:pt x="1171" y="571"/>
                    </a:lnTo>
                    <a:lnTo>
                      <a:pt x="1171" y="580"/>
                    </a:lnTo>
                    <a:lnTo>
                      <a:pt x="1169" y="588"/>
                    </a:lnTo>
                    <a:lnTo>
                      <a:pt x="1167" y="597"/>
                    </a:lnTo>
                    <a:lnTo>
                      <a:pt x="1163" y="605"/>
                    </a:lnTo>
                    <a:lnTo>
                      <a:pt x="1161" y="613"/>
                    </a:lnTo>
                    <a:lnTo>
                      <a:pt x="1158" y="620"/>
                    </a:lnTo>
                    <a:lnTo>
                      <a:pt x="1156" y="628"/>
                    </a:lnTo>
                    <a:lnTo>
                      <a:pt x="1152" y="637"/>
                    </a:lnTo>
                    <a:lnTo>
                      <a:pt x="1148" y="645"/>
                    </a:lnTo>
                    <a:lnTo>
                      <a:pt x="1146" y="653"/>
                    </a:lnTo>
                    <a:lnTo>
                      <a:pt x="1144" y="662"/>
                    </a:lnTo>
                    <a:lnTo>
                      <a:pt x="1140" y="670"/>
                    </a:lnTo>
                    <a:lnTo>
                      <a:pt x="1137" y="677"/>
                    </a:lnTo>
                    <a:lnTo>
                      <a:pt x="1131" y="685"/>
                    </a:lnTo>
                    <a:lnTo>
                      <a:pt x="1127" y="694"/>
                    </a:lnTo>
                    <a:lnTo>
                      <a:pt x="1123" y="704"/>
                    </a:lnTo>
                    <a:lnTo>
                      <a:pt x="1120" y="711"/>
                    </a:lnTo>
                    <a:lnTo>
                      <a:pt x="1116" y="719"/>
                    </a:lnTo>
                    <a:lnTo>
                      <a:pt x="1112" y="729"/>
                    </a:lnTo>
                    <a:lnTo>
                      <a:pt x="1106" y="736"/>
                    </a:lnTo>
                    <a:lnTo>
                      <a:pt x="1101" y="744"/>
                    </a:lnTo>
                    <a:lnTo>
                      <a:pt x="1095" y="751"/>
                    </a:lnTo>
                    <a:lnTo>
                      <a:pt x="1091" y="761"/>
                    </a:lnTo>
                    <a:lnTo>
                      <a:pt x="1083" y="769"/>
                    </a:lnTo>
                    <a:lnTo>
                      <a:pt x="1080" y="776"/>
                    </a:lnTo>
                    <a:lnTo>
                      <a:pt x="1074" y="784"/>
                    </a:lnTo>
                    <a:lnTo>
                      <a:pt x="1070" y="791"/>
                    </a:lnTo>
                    <a:lnTo>
                      <a:pt x="1063" y="799"/>
                    </a:lnTo>
                    <a:lnTo>
                      <a:pt x="1057" y="808"/>
                    </a:lnTo>
                    <a:lnTo>
                      <a:pt x="1051" y="816"/>
                    </a:lnTo>
                    <a:lnTo>
                      <a:pt x="1045" y="824"/>
                    </a:lnTo>
                    <a:lnTo>
                      <a:pt x="1040" y="831"/>
                    </a:lnTo>
                    <a:lnTo>
                      <a:pt x="1034" y="839"/>
                    </a:lnTo>
                    <a:lnTo>
                      <a:pt x="1026" y="848"/>
                    </a:lnTo>
                    <a:lnTo>
                      <a:pt x="1023" y="856"/>
                    </a:lnTo>
                    <a:lnTo>
                      <a:pt x="1013" y="864"/>
                    </a:lnTo>
                    <a:lnTo>
                      <a:pt x="1007" y="871"/>
                    </a:lnTo>
                    <a:lnTo>
                      <a:pt x="1000" y="879"/>
                    </a:lnTo>
                    <a:lnTo>
                      <a:pt x="996" y="888"/>
                    </a:lnTo>
                    <a:lnTo>
                      <a:pt x="987" y="896"/>
                    </a:lnTo>
                    <a:lnTo>
                      <a:pt x="981" y="904"/>
                    </a:lnTo>
                    <a:lnTo>
                      <a:pt x="975" y="911"/>
                    </a:lnTo>
                    <a:lnTo>
                      <a:pt x="969" y="919"/>
                    </a:lnTo>
                    <a:lnTo>
                      <a:pt x="962" y="928"/>
                    </a:lnTo>
                    <a:lnTo>
                      <a:pt x="954" y="936"/>
                    </a:lnTo>
                    <a:lnTo>
                      <a:pt x="948" y="943"/>
                    </a:lnTo>
                    <a:lnTo>
                      <a:pt x="941" y="951"/>
                    </a:lnTo>
                    <a:lnTo>
                      <a:pt x="933" y="959"/>
                    </a:lnTo>
                    <a:lnTo>
                      <a:pt x="928" y="966"/>
                    </a:lnTo>
                    <a:lnTo>
                      <a:pt x="920" y="976"/>
                    </a:lnTo>
                    <a:lnTo>
                      <a:pt x="914" y="985"/>
                    </a:lnTo>
                    <a:lnTo>
                      <a:pt x="905" y="993"/>
                    </a:lnTo>
                    <a:lnTo>
                      <a:pt x="895" y="1002"/>
                    </a:lnTo>
                    <a:lnTo>
                      <a:pt x="888" y="1012"/>
                    </a:lnTo>
                    <a:lnTo>
                      <a:pt x="880" y="1023"/>
                    </a:lnTo>
                    <a:lnTo>
                      <a:pt x="871" y="1033"/>
                    </a:lnTo>
                    <a:lnTo>
                      <a:pt x="861" y="1042"/>
                    </a:lnTo>
                    <a:lnTo>
                      <a:pt x="853" y="1052"/>
                    </a:lnTo>
                    <a:lnTo>
                      <a:pt x="846" y="1063"/>
                    </a:lnTo>
                    <a:lnTo>
                      <a:pt x="836" y="1073"/>
                    </a:lnTo>
                    <a:lnTo>
                      <a:pt x="829" y="1082"/>
                    </a:lnTo>
                    <a:lnTo>
                      <a:pt x="821" y="1092"/>
                    </a:lnTo>
                    <a:lnTo>
                      <a:pt x="812" y="1103"/>
                    </a:lnTo>
                    <a:lnTo>
                      <a:pt x="804" y="1113"/>
                    </a:lnTo>
                    <a:lnTo>
                      <a:pt x="796" y="1124"/>
                    </a:lnTo>
                    <a:lnTo>
                      <a:pt x="789" y="1134"/>
                    </a:lnTo>
                    <a:lnTo>
                      <a:pt x="781" y="1145"/>
                    </a:lnTo>
                    <a:lnTo>
                      <a:pt x="774" y="1154"/>
                    </a:lnTo>
                    <a:lnTo>
                      <a:pt x="764" y="1164"/>
                    </a:lnTo>
                    <a:lnTo>
                      <a:pt x="756" y="1175"/>
                    </a:lnTo>
                    <a:lnTo>
                      <a:pt x="749" y="1187"/>
                    </a:lnTo>
                    <a:lnTo>
                      <a:pt x="741" y="1196"/>
                    </a:lnTo>
                    <a:lnTo>
                      <a:pt x="734" y="1208"/>
                    </a:lnTo>
                    <a:lnTo>
                      <a:pt x="726" y="1217"/>
                    </a:lnTo>
                    <a:lnTo>
                      <a:pt x="720" y="1231"/>
                    </a:lnTo>
                    <a:lnTo>
                      <a:pt x="711" y="1240"/>
                    </a:lnTo>
                    <a:lnTo>
                      <a:pt x="703" y="1251"/>
                    </a:lnTo>
                    <a:lnTo>
                      <a:pt x="698" y="1261"/>
                    </a:lnTo>
                    <a:lnTo>
                      <a:pt x="692" y="1274"/>
                    </a:lnTo>
                    <a:lnTo>
                      <a:pt x="684" y="1284"/>
                    </a:lnTo>
                    <a:lnTo>
                      <a:pt x="679" y="1297"/>
                    </a:lnTo>
                    <a:lnTo>
                      <a:pt x="673" y="1309"/>
                    </a:lnTo>
                    <a:lnTo>
                      <a:pt x="669" y="1320"/>
                    </a:lnTo>
                    <a:lnTo>
                      <a:pt x="661" y="1331"/>
                    </a:lnTo>
                    <a:lnTo>
                      <a:pt x="656" y="1343"/>
                    </a:lnTo>
                    <a:lnTo>
                      <a:pt x="650" y="1354"/>
                    </a:lnTo>
                    <a:lnTo>
                      <a:pt x="646" y="1366"/>
                    </a:lnTo>
                    <a:lnTo>
                      <a:pt x="639" y="1377"/>
                    </a:lnTo>
                    <a:lnTo>
                      <a:pt x="635" y="1388"/>
                    </a:lnTo>
                    <a:lnTo>
                      <a:pt x="631" y="1402"/>
                    </a:lnTo>
                    <a:lnTo>
                      <a:pt x="627" y="1415"/>
                    </a:lnTo>
                    <a:lnTo>
                      <a:pt x="622" y="1426"/>
                    </a:lnTo>
                    <a:lnTo>
                      <a:pt x="618" y="1438"/>
                    </a:lnTo>
                    <a:lnTo>
                      <a:pt x="614" y="1451"/>
                    </a:lnTo>
                    <a:lnTo>
                      <a:pt x="612" y="1464"/>
                    </a:lnTo>
                    <a:lnTo>
                      <a:pt x="606" y="1476"/>
                    </a:lnTo>
                    <a:lnTo>
                      <a:pt x="606" y="1489"/>
                    </a:lnTo>
                    <a:lnTo>
                      <a:pt x="602" y="1502"/>
                    </a:lnTo>
                    <a:lnTo>
                      <a:pt x="602" y="1516"/>
                    </a:lnTo>
                    <a:lnTo>
                      <a:pt x="599" y="1527"/>
                    </a:lnTo>
                    <a:lnTo>
                      <a:pt x="599" y="1539"/>
                    </a:lnTo>
                    <a:lnTo>
                      <a:pt x="595" y="1552"/>
                    </a:lnTo>
                    <a:lnTo>
                      <a:pt x="595" y="1565"/>
                    </a:lnTo>
                    <a:lnTo>
                      <a:pt x="595" y="1579"/>
                    </a:lnTo>
                    <a:lnTo>
                      <a:pt x="595" y="1592"/>
                    </a:lnTo>
                    <a:lnTo>
                      <a:pt x="595" y="1605"/>
                    </a:lnTo>
                    <a:lnTo>
                      <a:pt x="595" y="1620"/>
                    </a:lnTo>
                    <a:lnTo>
                      <a:pt x="595" y="1634"/>
                    </a:lnTo>
                    <a:lnTo>
                      <a:pt x="595" y="1649"/>
                    </a:lnTo>
                    <a:lnTo>
                      <a:pt x="597" y="1662"/>
                    </a:lnTo>
                    <a:lnTo>
                      <a:pt x="599" y="1675"/>
                    </a:lnTo>
                    <a:lnTo>
                      <a:pt x="602" y="1689"/>
                    </a:lnTo>
                    <a:lnTo>
                      <a:pt x="604" y="1704"/>
                    </a:lnTo>
                    <a:lnTo>
                      <a:pt x="608" y="1719"/>
                    </a:lnTo>
                    <a:lnTo>
                      <a:pt x="612" y="1734"/>
                    </a:lnTo>
                    <a:lnTo>
                      <a:pt x="614" y="1740"/>
                    </a:lnTo>
                    <a:lnTo>
                      <a:pt x="618" y="1746"/>
                    </a:lnTo>
                    <a:lnTo>
                      <a:pt x="747" y="1959"/>
                    </a:lnTo>
                    <a:lnTo>
                      <a:pt x="751" y="1970"/>
                    </a:lnTo>
                    <a:lnTo>
                      <a:pt x="751" y="1982"/>
                    </a:lnTo>
                    <a:lnTo>
                      <a:pt x="751" y="1995"/>
                    </a:lnTo>
                    <a:lnTo>
                      <a:pt x="751" y="2008"/>
                    </a:lnTo>
                    <a:lnTo>
                      <a:pt x="747" y="2022"/>
                    </a:lnTo>
                    <a:lnTo>
                      <a:pt x="743" y="2035"/>
                    </a:lnTo>
                    <a:lnTo>
                      <a:pt x="737" y="2046"/>
                    </a:lnTo>
                    <a:lnTo>
                      <a:pt x="730" y="2058"/>
                    </a:lnTo>
                    <a:lnTo>
                      <a:pt x="722" y="2065"/>
                    </a:lnTo>
                    <a:lnTo>
                      <a:pt x="715" y="2073"/>
                    </a:lnTo>
                    <a:lnTo>
                      <a:pt x="705" y="2079"/>
                    </a:lnTo>
                    <a:lnTo>
                      <a:pt x="698" y="2084"/>
                    </a:lnTo>
                    <a:lnTo>
                      <a:pt x="686" y="2090"/>
                    </a:lnTo>
                    <a:lnTo>
                      <a:pt x="677" y="2096"/>
                    </a:lnTo>
                    <a:lnTo>
                      <a:pt x="667" y="2099"/>
                    </a:lnTo>
                    <a:lnTo>
                      <a:pt x="656" y="2105"/>
                    </a:lnTo>
                    <a:lnTo>
                      <a:pt x="642" y="2105"/>
                    </a:lnTo>
                    <a:lnTo>
                      <a:pt x="631" y="2109"/>
                    </a:lnTo>
                    <a:lnTo>
                      <a:pt x="618" y="2109"/>
                    </a:lnTo>
                    <a:lnTo>
                      <a:pt x="606" y="2113"/>
                    </a:lnTo>
                    <a:lnTo>
                      <a:pt x="599" y="2113"/>
                    </a:lnTo>
                    <a:lnTo>
                      <a:pt x="591" y="2113"/>
                    </a:lnTo>
                    <a:lnTo>
                      <a:pt x="583" y="2113"/>
                    </a:lnTo>
                    <a:lnTo>
                      <a:pt x="576" y="2113"/>
                    </a:lnTo>
                    <a:lnTo>
                      <a:pt x="563" y="2113"/>
                    </a:lnTo>
                    <a:lnTo>
                      <a:pt x="549" y="2113"/>
                    </a:lnTo>
                    <a:lnTo>
                      <a:pt x="540" y="2196"/>
                    </a:lnTo>
                    <a:lnTo>
                      <a:pt x="549" y="2196"/>
                    </a:lnTo>
                    <a:lnTo>
                      <a:pt x="559" y="2196"/>
                    </a:lnTo>
                    <a:lnTo>
                      <a:pt x="568" y="2196"/>
                    </a:lnTo>
                    <a:lnTo>
                      <a:pt x="578" y="2198"/>
                    </a:lnTo>
                    <a:lnTo>
                      <a:pt x="587" y="2198"/>
                    </a:lnTo>
                    <a:lnTo>
                      <a:pt x="599" y="2198"/>
                    </a:lnTo>
                    <a:lnTo>
                      <a:pt x="606" y="2198"/>
                    </a:lnTo>
                    <a:lnTo>
                      <a:pt x="618" y="2198"/>
                    </a:lnTo>
                    <a:lnTo>
                      <a:pt x="625" y="2195"/>
                    </a:lnTo>
                    <a:lnTo>
                      <a:pt x="635" y="2193"/>
                    </a:lnTo>
                    <a:lnTo>
                      <a:pt x="642" y="2193"/>
                    </a:lnTo>
                    <a:lnTo>
                      <a:pt x="652" y="2191"/>
                    </a:lnTo>
                    <a:lnTo>
                      <a:pt x="660" y="2189"/>
                    </a:lnTo>
                    <a:lnTo>
                      <a:pt x="669" y="2187"/>
                    </a:lnTo>
                    <a:lnTo>
                      <a:pt x="679" y="2185"/>
                    </a:lnTo>
                    <a:lnTo>
                      <a:pt x="688" y="2183"/>
                    </a:lnTo>
                    <a:lnTo>
                      <a:pt x="696" y="2179"/>
                    </a:lnTo>
                    <a:lnTo>
                      <a:pt x="703" y="2176"/>
                    </a:lnTo>
                    <a:lnTo>
                      <a:pt x="711" y="2172"/>
                    </a:lnTo>
                    <a:lnTo>
                      <a:pt x="718" y="2170"/>
                    </a:lnTo>
                    <a:lnTo>
                      <a:pt x="726" y="2164"/>
                    </a:lnTo>
                    <a:lnTo>
                      <a:pt x="734" y="2160"/>
                    </a:lnTo>
                    <a:lnTo>
                      <a:pt x="739" y="2157"/>
                    </a:lnTo>
                    <a:lnTo>
                      <a:pt x="747" y="2153"/>
                    </a:lnTo>
                    <a:lnTo>
                      <a:pt x="753" y="2147"/>
                    </a:lnTo>
                    <a:lnTo>
                      <a:pt x="760" y="2141"/>
                    </a:lnTo>
                    <a:lnTo>
                      <a:pt x="766" y="2136"/>
                    </a:lnTo>
                    <a:lnTo>
                      <a:pt x="774" y="2132"/>
                    </a:lnTo>
                    <a:lnTo>
                      <a:pt x="777" y="2126"/>
                    </a:lnTo>
                    <a:lnTo>
                      <a:pt x="785" y="2120"/>
                    </a:lnTo>
                    <a:lnTo>
                      <a:pt x="791" y="2115"/>
                    </a:lnTo>
                    <a:lnTo>
                      <a:pt x="796" y="2109"/>
                    </a:lnTo>
                    <a:lnTo>
                      <a:pt x="802" y="2099"/>
                    </a:lnTo>
                    <a:lnTo>
                      <a:pt x="808" y="2088"/>
                    </a:lnTo>
                    <a:lnTo>
                      <a:pt x="814" y="2079"/>
                    </a:lnTo>
                    <a:lnTo>
                      <a:pt x="821" y="2067"/>
                    </a:lnTo>
                    <a:lnTo>
                      <a:pt x="825" y="2056"/>
                    </a:lnTo>
                    <a:lnTo>
                      <a:pt x="829" y="2044"/>
                    </a:lnTo>
                    <a:lnTo>
                      <a:pt x="831" y="2031"/>
                    </a:lnTo>
                    <a:lnTo>
                      <a:pt x="834" y="2022"/>
                    </a:lnTo>
                    <a:lnTo>
                      <a:pt x="834" y="2008"/>
                    </a:lnTo>
                    <a:lnTo>
                      <a:pt x="836" y="1997"/>
                    </a:lnTo>
                    <a:lnTo>
                      <a:pt x="836" y="1985"/>
                    </a:lnTo>
                    <a:lnTo>
                      <a:pt x="836" y="1974"/>
                    </a:lnTo>
                    <a:lnTo>
                      <a:pt x="834" y="1961"/>
                    </a:lnTo>
                    <a:lnTo>
                      <a:pt x="833" y="1949"/>
                    </a:lnTo>
                    <a:lnTo>
                      <a:pt x="831" y="1938"/>
                    </a:lnTo>
                    <a:lnTo>
                      <a:pt x="827" y="1926"/>
                    </a:lnTo>
                    <a:lnTo>
                      <a:pt x="825" y="1923"/>
                    </a:lnTo>
                    <a:lnTo>
                      <a:pt x="823" y="1919"/>
                    </a:lnTo>
                    <a:lnTo>
                      <a:pt x="694" y="1708"/>
                    </a:lnTo>
                    <a:lnTo>
                      <a:pt x="690" y="1694"/>
                    </a:lnTo>
                    <a:lnTo>
                      <a:pt x="686" y="1683"/>
                    </a:lnTo>
                    <a:lnTo>
                      <a:pt x="684" y="1670"/>
                    </a:lnTo>
                    <a:lnTo>
                      <a:pt x="682" y="1656"/>
                    </a:lnTo>
                    <a:lnTo>
                      <a:pt x="680" y="1645"/>
                    </a:lnTo>
                    <a:lnTo>
                      <a:pt x="680" y="1634"/>
                    </a:lnTo>
                    <a:lnTo>
                      <a:pt x="680" y="1622"/>
                    </a:lnTo>
                    <a:lnTo>
                      <a:pt x="680" y="1611"/>
                    </a:lnTo>
                    <a:lnTo>
                      <a:pt x="679" y="1599"/>
                    </a:lnTo>
                    <a:lnTo>
                      <a:pt x="679" y="1586"/>
                    </a:lnTo>
                    <a:lnTo>
                      <a:pt x="679" y="1575"/>
                    </a:lnTo>
                    <a:lnTo>
                      <a:pt x="680" y="1563"/>
                    </a:lnTo>
                    <a:lnTo>
                      <a:pt x="680" y="1552"/>
                    </a:lnTo>
                    <a:lnTo>
                      <a:pt x="682" y="1540"/>
                    </a:lnTo>
                    <a:lnTo>
                      <a:pt x="684" y="1529"/>
                    </a:lnTo>
                    <a:lnTo>
                      <a:pt x="686" y="1520"/>
                    </a:lnTo>
                    <a:lnTo>
                      <a:pt x="686" y="1508"/>
                    </a:lnTo>
                    <a:lnTo>
                      <a:pt x="690" y="1495"/>
                    </a:lnTo>
                    <a:lnTo>
                      <a:pt x="690" y="1485"/>
                    </a:lnTo>
                    <a:lnTo>
                      <a:pt x="696" y="1474"/>
                    </a:lnTo>
                    <a:lnTo>
                      <a:pt x="698" y="1463"/>
                    </a:lnTo>
                    <a:lnTo>
                      <a:pt x="701" y="1451"/>
                    </a:lnTo>
                    <a:lnTo>
                      <a:pt x="705" y="1442"/>
                    </a:lnTo>
                    <a:lnTo>
                      <a:pt x="709" y="1432"/>
                    </a:lnTo>
                    <a:lnTo>
                      <a:pt x="713" y="1421"/>
                    </a:lnTo>
                    <a:lnTo>
                      <a:pt x="717" y="1411"/>
                    </a:lnTo>
                    <a:lnTo>
                      <a:pt x="720" y="1398"/>
                    </a:lnTo>
                    <a:lnTo>
                      <a:pt x="726" y="1388"/>
                    </a:lnTo>
                    <a:lnTo>
                      <a:pt x="730" y="1379"/>
                    </a:lnTo>
                    <a:lnTo>
                      <a:pt x="736" y="1369"/>
                    </a:lnTo>
                    <a:lnTo>
                      <a:pt x="741" y="1358"/>
                    </a:lnTo>
                    <a:lnTo>
                      <a:pt x="747" y="1350"/>
                    </a:lnTo>
                    <a:lnTo>
                      <a:pt x="751" y="1337"/>
                    </a:lnTo>
                    <a:lnTo>
                      <a:pt x="756" y="1328"/>
                    </a:lnTo>
                    <a:lnTo>
                      <a:pt x="762" y="1318"/>
                    </a:lnTo>
                    <a:lnTo>
                      <a:pt x="770" y="1309"/>
                    </a:lnTo>
                    <a:lnTo>
                      <a:pt x="774" y="1297"/>
                    </a:lnTo>
                    <a:lnTo>
                      <a:pt x="781" y="1288"/>
                    </a:lnTo>
                    <a:lnTo>
                      <a:pt x="787" y="1278"/>
                    </a:lnTo>
                    <a:lnTo>
                      <a:pt x="795" y="1269"/>
                    </a:lnTo>
                    <a:lnTo>
                      <a:pt x="800" y="1257"/>
                    </a:lnTo>
                    <a:lnTo>
                      <a:pt x="806" y="1248"/>
                    </a:lnTo>
                    <a:lnTo>
                      <a:pt x="812" y="1238"/>
                    </a:lnTo>
                    <a:lnTo>
                      <a:pt x="821" y="1229"/>
                    </a:lnTo>
                    <a:lnTo>
                      <a:pt x="827" y="1217"/>
                    </a:lnTo>
                    <a:lnTo>
                      <a:pt x="834" y="1210"/>
                    </a:lnTo>
                    <a:lnTo>
                      <a:pt x="844" y="1198"/>
                    </a:lnTo>
                    <a:lnTo>
                      <a:pt x="852" y="1191"/>
                    </a:lnTo>
                    <a:lnTo>
                      <a:pt x="857" y="1179"/>
                    </a:lnTo>
                    <a:lnTo>
                      <a:pt x="865" y="1170"/>
                    </a:lnTo>
                    <a:lnTo>
                      <a:pt x="872" y="1160"/>
                    </a:lnTo>
                    <a:lnTo>
                      <a:pt x="880" y="1151"/>
                    </a:lnTo>
                    <a:lnTo>
                      <a:pt x="888" y="1141"/>
                    </a:lnTo>
                    <a:lnTo>
                      <a:pt x="895" y="1134"/>
                    </a:lnTo>
                    <a:lnTo>
                      <a:pt x="905" y="1122"/>
                    </a:lnTo>
                    <a:lnTo>
                      <a:pt x="912" y="1115"/>
                    </a:lnTo>
                    <a:lnTo>
                      <a:pt x="920" y="1103"/>
                    </a:lnTo>
                    <a:lnTo>
                      <a:pt x="928" y="1094"/>
                    </a:lnTo>
                    <a:lnTo>
                      <a:pt x="935" y="1086"/>
                    </a:lnTo>
                    <a:lnTo>
                      <a:pt x="945" y="1077"/>
                    </a:lnTo>
                    <a:lnTo>
                      <a:pt x="952" y="1067"/>
                    </a:lnTo>
                    <a:lnTo>
                      <a:pt x="962" y="1058"/>
                    </a:lnTo>
                    <a:lnTo>
                      <a:pt x="969" y="1048"/>
                    </a:lnTo>
                    <a:lnTo>
                      <a:pt x="979" y="1040"/>
                    </a:lnTo>
                    <a:lnTo>
                      <a:pt x="979" y="10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flipH="1">
                <a:off x="6580080" y="1970280"/>
                <a:ext cx="165600" cy="851760"/>
              </a:xfrm>
              <a:custGeom>
                <a:avLst/>
                <a:gdLst/>
                <a:ahLst/>
                <a:rect l="l" t="t" r="r" b="b"/>
                <a:pathLst>
                  <a:path w="578" h="2970">
                    <a:moveTo>
                      <a:pt x="116" y="0"/>
                    </a:moveTo>
                    <a:lnTo>
                      <a:pt x="0" y="573"/>
                    </a:lnTo>
                    <a:lnTo>
                      <a:pt x="0" y="575"/>
                    </a:lnTo>
                    <a:lnTo>
                      <a:pt x="6" y="580"/>
                    </a:lnTo>
                    <a:lnTo>
                      <a:pt x="10" y="584"/>
                    </a:lnTo>
                    <a:lnTo>
                      <a:pt x="14" y="590"/>
                    </a:lnTo>
                    <a:lnTo>
                      <a:pt x="18" y="597"/>
                    </a:lnTo>
                    <a:lnTo>
                      <a:pt x="25" y="605"/>
                    </a:lnTo>
                    <a:lnTo>
                      <a:pt x="29" y="611"/>
                    </a:lnTo>
                    <a:lnTo>
                      <a:pt x="37" y="620"/>
                    </a:lnTo>
                    <a:lnTo>
                      <a:pt x="44" y="628"/>
                    </a:lnTo>
                    <a:lnTo>
                      <a:pt x="52" y="641"/>
                    </a:lnTo>
                    <a:lnTo>
                      <a:pt x="59" y="651"/>
                    </a:lnTo>
                    <a:lnTo>
                      <a:pt x="69" y="664"/>
                    </a:lnTo>
                    <a:lnTo>
                      <a:pt x="78" y="677"/>
                    </a:lnTo>
                    <a:lnTo>
                      <a:pt x="90" y="692"/>
                    </a:lnTo>
                    <a:lnTo>
                      <a:pt x="97" y="706"/>
                    </a:lnTo>
                    <a:lnTo>
                      <a:pt x="107" y="721"/>
                    </a:lnTo>
                    <a:lnTo>
                      <a:pt x="118" y="736"/>
                    </a:lnTo>
                    <a:lnTo>
                      <a:pt x="130" y="753"/>
                    </a:lnTo>
                    <a:lnTo>
                      <a:pt x="141" y="769"/>
                    </a:lnTo>
                    <a:lnTo>
                      <a:pt x="153" y="788"/>
                    </a:lnTo>
                    <a:lnTo>
                      <a:pt x="164" y="807"/>
                    </a:lnTo>
                    <a:lnTo>
                      <a:pt x="177" y="827"/>
                    </a:lnTo>
                    <a:lnTo>
                      <a:pt x="189" y="847"/>
                    </a:lnTo>
                    <a:lnTo>
                      <a:pt x="200" y="866"/>
                    </a:lnTo>
                    <a:lnTo>
                      <a:pt x="213" y="888"/>
                    </a:lnTo>
                    <a:lnTo>
                      <a:pt x="227" y="909"/>
                    </a:lnTo>
                    <a:lnTo>
                      <a:pt x="238" y="932"/>
                    </a:lnTo>
                    <a:lnTo>
                      <a:pt x="251" y="955"/>
                    </a:lnTo>
                    <a:lnTo>
                      <a:pt x="265" y="980"/>
                    </a:lnTo>
                    <a:lnTo>
                      <a:pt x="278" y="1004"/>
                    </a:lnTo>
                    <a:lnTo>
                      <a:pt x="291" y="1029"/>
                    </a:lnTo>
                    <a:lnTo>
                      <a:pt x="303" y="1052"/>
                    </a:lnTo>
                    <a:lnTo>
                      <a:pt x="314" y="1077"/>
                    </a:lnTo>
                    <a:lnTo>
                      <a:pt x="327" y="1103"/>
                    </a:lnTo>
                    <a:lnTo>
                      <a:pt x="339" y="1130"/>
                    </a:lnTo>
                    <a:lnTo>
                      <a:pt x="352" y="1156"/>
                    </a:lnTo>
                    <a:lnTo>
                      <a:pt x="364" y="1183"/>
                    </a:lnTo>
                    <a:lnTo>
                      <a:pt x="377" y="1212"/>
                    </a:lnTo>
                    <a:lnTo>
                      <a:pt x="388" y="1240"/>
                    </a:lnTo>
                    <a:lnTo>
                      <a:pt x="400" y="1267"/>
                    </a:lnTo>
                    <a:lnTo>
                      <a:pt x="409" y="1295"/>
                    </a:lnTo>
                    <a:lnTo>
                      <a:pt x="423" y="1326"/>
                    </a:lnTo>
                    <a:lnTo>
                      <a:pt x="430" y="1354"/>
                    </a:lnTo>
                    <a:lnTo>
                      <a:pt x="442" y="1385"/>
                    </a:lnTo>
                    <a:lnTo>
                      <a:pt x="453" y="1415"/>
                    </a:lnTo>
                    <a:lnTo>
                      <a:pt x="462" y="1445"/>
                    </a:lnTo>
                    <a:lnTo>
                      <a:pt x="470" y="1476"/>
                    </a:lnTo>
                    <a:lnTo>
                      <a:pt x="480" y="1506"/>
                    </a:lnTo>
                    <a:lnTo>
                      <a:pt x="487" y="1539"/>
                    </a:lnTo>
                    <a:lnTo>
                      <a:pt x="495" y="1569"/>
                    </a:lnTo>
                    <a:lnTo>
                      <a:pt x="500" y="1599"/>
                    </a:lnTo>
                    <a:lnTo>
                      <a:pt x="506" y="1632"/>
                    </a:lnTo>
                    <a:lnTo>
                      <a:pt x="512" y="1664"/>
                    </a:lnTo>
                    <a:lnTo>
                      <a:pt x="519" y="1696"/>
                    </a:lnTo>
                    <a:lnTo>
                      <a:pt x="523" y="1729"/>
                    </a:lnTo>
                    <a:lnTo>
                      <a:pt x="527" y="1761"/>
                    </a:lnTo>
                    <a:lnTo>
                      <a:pt x="529" y="1793"/>
                    </a:lnTo>
                    <a:lnTo>
                      <a:pt x="533" y="1828"/>
                    </a:lnTo>
                    <a:lnTo>
                      <a:pt x="535" y="1860"/>
                    </a:lnTo>
                    <a:lnTo>
                      <a:pt x="537" y="1894"/>
                    </a:lnTo>
                    <a:lnTo>
                      <a:pt x="537" y="1926"/>
                    </a:lnTo>
                    <a:lnTo>
                      <a:pt x="537" y="1961"/>
                    </a:lnTo>
                    <a:lnTo>
                      <a:pt x="533" y="1993"/>
                    </a:lnTo>
                    <a:lnTo>
                      <a:pt x="531" y="2025"/>
                    </a:lnTo>
                    <a:lnTo>
                      <a:pt x="527" y="2056"/>
                    </a:lnTo>
                    <a:lnTo>
                      <a:pt x="525" y="2088"/>
                    </a:lnTo>
                    <a:lnTo>
                      <a:pt x="519" y="2117"/>
                    </a:lnTo>
                    <a:lnTo>
                      <a:pt x="516" y="2145"/>
                    </a:lnTo>
                    <a:lnTo>
                      <a:pt x="510" y="2176"/>
                    </a:lnTo>
                    <a:lnTo>
                      <a:pt x="506" y="2204"/>
                    </a:lnTo>
                    <a:lnTo>
                      <a:pt x="500" y="2231"/>
                    </a:lnTo>
                    <a:lnTo>
                      <a:pt x="493" y="2259"/>
                    </a:lnTo>
                    <a:lnTo>
                      <a:pt x="487" y="2286"/>
                    </a:lnTo>
                    <a:lnTo>
                      <a:pt x="480" y="2312"/>
                    </a:lnTo>
                    <a:lnTo>
                      <a:pt x="472" y="2337"/>
                    </a:lnTo>
                    <a:lnTo>
                      <a:pt x="464" y="2362"/>
                    </a:lnTo>
                    <a:lnTo>
                      <a:pt x="457" y="2387"/>
                    </a:lnTo>
                    <a:lnTo>
                      <a:pt x="449" y="2411"/>
                    </a:lnTo>
                    <a:lnTo>
                      <a:pt x="440" y="2432"/>
                    </a:lnTo>
                    <a:lnTo>
                      <a:pt x="430" y="2455"/>
                    </a:lnTo>
                    <a:lnTo>
                      <a:pt x="421" y="2476"/>
                    </a:lnTo>
                    <a:lnTo>
                      <a:pt x="411" y="2499"/>
                    </a:lnTo>
                    <a:lnTo>
                      <a:pt x="400" y="2520"/>
                    </a:lnTo>
                    <a:lnTo>
                      <a:pt x="392" y="2541"/>
                    </a:lnTo>
                    <a:lnTo>
                      <a:pt x="381" y="2560"/>
                    </a:lnTo>
                    <a:lnTo>
                      <a:pt x="371" y="2581"/>
                    </a:lnTo>
                    <a:lnTo>
                      <a:pt x="360" y="2598"/>
                    </a:lnTo>
                    <a:lnTo>
                      <a:pt x="348" y="2615"/>
                    </a:lnTo>
                    <a:lnTo>
                      <a:pt x="339" y="2634"/>
                    </a:lnTo>
                    <a:lnTo>
                      <a:pt x="327" y="2651"/>
                    </a:lnTo>
                    <a:lnTo>
                      <a:pt x="318" y="2668"/>
                    </a:lnTo>
                    <a:lnTo>
                      <a:pt x="307" y="2685"/>
                    </a:lnTo>
                    <a:lnTo>
                      <a:pt x="295" y="2700"/>
                    </a:lnTo>
                    <a:lnTo>
                      <a:pt x="286" y="2717"/>
                    </a:lnTo>
                    <a:lnTo>
                      <a:pt x="274" y="2731"/>
                    </a:lnTo>
                    <a:lnTo>
                      <a:pt x="261" y="2744"/>
                    </a:lnTo>
                    <a:lnTo>
                      <a:pt x="251" y="2757"/>
                    </a:lnTo>
                    <a:lnTo>
                      <a:pt x="240" y="2771"/>
                    </a:lnTo>
                    <a:lnTo>
                      <a:pt x="229" y="2782"/>
                    </a:lnTo>
                    <a:lnTo>
                      <a:pt x="217" y="2795"/>
                    </a:lnTo>
                    <a:lnTo>
                      <a:pt x="208" y="2807"/>
                    </a:lnTo>
                    <a:lnTo>
                      <a:pt x="198" y="2818"/>
                    </a:lnTo>
                    <a:lnTo>
                      <a:pt x="187" y="2828"/>
                    </a:lnTo>
                    <a:lnTo>
                      <a:pt x="177" y="2839"/>
                    </a:lnTo>
                    <a:lnTo>
                      <a:pt x="166" y="2849"/>
                    </a:lnTo>
                    <a:lnTo>
                      <a:pt x="158" y="2858"/>
                    </a:lnTo>
                    <a:lnTo>
                      <a:pt x="147" y="2866"/>
                    </a:lnTo>
                    <a:lnTo>
                      <a:pt x="139" y="2875"/>
                    </a:lnTo>
                    <a:lnTo>
                      <a:pt x="132" y="2883"/>
                    </a:lnTo>
                    <a:lnTo>
                      <a:pt x="124" y="2891"/>
                    </a:lnTo>
                    <a:lnTo>
                      <a:pt x="115" y="2896"/>
                    </a:lnTo>
                    <a:lnTo>
                      <a:pt x="107" y="2902"/>
                    </a:lnTo>
                    <a:lnTo>
                      <a:pt x="99" y="2908"/>
                    </a:lnTo>
                    <a:lnTo>
                      <a:pt x="94" y="2915"/>
                    </a:lnTo>
                    <a:lnTo>
                      <a:pt x="86" y="2919"/>
                    </a:lnTo>
                    <a:lnTo>
                      <a:pt x="80" y="2923"/>
                    </a:lnTo>
                    <a:lnTo>
                      <a:pt x="75" y="2927"/>
                    </a:lnTo>
                    <a:lnTo>
                      <a:pt x="71" y="2932"/>
                    </a:lnTo>
                    <a:lnTo>
                      <a:pt x="61" y="2938"/>
                    </a:lnTo>
                    <a:lnTo>
                      <a:pt x="56" y="2942"/>
                    </a:lnTo>
                    <a:lnTo>
                      <a:pt x="50" y="2946"/>
                    </a:lnTo>
                    <a:lnTo>
                      <a:pt x="50" y="2948"/>
                    </a:lnTo>
                    <a:lnTo>
                      <a:pt x="48" y="2949"/>
                    </a:lnTo>
                    <a:lnTo>
                      <a:pt x="48" y="2949"/>
                    </a:lnTo>
                    <a:lnTo>
                      <a:pt x="48" y="2949"/>
                    </a:lnTo>
                    <a:lnTo>
                      <a:pt x="113" y="2970"/>
                    </a:lnTo>
                    <a:lnTo>
                      <a:pt x="113" y="2968"/>
                    </a:lnTo>
                    <a:lnTo>
                      <a:pt x="118" y="2967"/>
                    </a:lnTo>
                    <a:lnTo>
                      <a:pt x="124" y="2961"/>
                    </a:lnTo>
                    <a:lnTo>
                      <a:pt x="134" y="2957"/>
                    </a:lnTo>
                    <a:lnTo>
                      <a:pt x="143" y="2948"/>
                    </a:lnTo>
                    <a:lnTo>
                      <a:pt x="154" y="2940"/>
                    </a:lnTo>
                    <a:lnTo>
                      <a:pt x="160" y="2932"/>
                    </a:lnTo>
                    <a:lnTo>
                      <a:pt x="168" y="2927"/>
                    </a:lnTo>
                    <a:lnTo>
                      <a:pt x="175" y="2921"/>
                    </a:lnTo>
                    <a:lnTo>
                      <a:pt x="183" y="2915"/>
                    </a:lnTo>
                    <a:lnTo>
                      <a:pt x="191" y="2908"/>
                    </a:lnTo>
                    <a:lnTo>
                      <a:pt x="200" y="2900"/>
                    </a:lnTo>
                    <a:lnTo>
                      <a:pt x="208" y="2892"/>
                    </a:lnTo>
                    <a:lnTo>
                      <a:pt x="217" y="2883"/>
                    </a:lnTo>
                    <a:lnTo>
                      <a:pt x="225" y="2873"/>
                    </a:lnTo>
                    <a:lnTo>
                      <a:pt x="234" y="2864"/>
                    </a:lnTo>
                    <a:lnTo>
                      <a:pt x="244" y="2852"/>
                    </a:lnTo>
                    <a:lnTo>
                      <a:pt x="255" y="2845"/>
                    </a:lnTo>
                    <a:lnTo>
                      <a:pt x="265" y="2832"/>
                    </a:lnTo>
                    <a:lnTo>
                      <a:pt x="274" y="2820"/>
                    </a:lnTo>
                    <a:lnTo>
                      <a:pt x="284" y="2809"/>
                    </a:lnTo>
                    <a:lnTo>
                      <a:pt x="295" y="2797"/>
                    </a:lnTo>
                    <a:lnTo>
                      <a:pt x="305" y="2782"/>
                    </a:lnTo>
                    <a:lnTo>
                      <a:pt x="316" y="2769"/>
                    </a:lnTo>
                    <a:lnTo>
                      <a:pt x="326" y="2756"/>
                    </a:lnTo>
                    <a:lnTo>
                      <a:pt x="337" y="2742"/>
                    </a:lnTo>
                    <a:lnTo>
                      <a:pt x="346" y="2727"/>
                    </a:lnTo>
                    <a:lnTo>
                      <a:pt x="356" y="2712"/>
                    </a:lnTo>
                    <a:lnTo>
                      <a:pt x="367" y="2695"/>
                    </a:lnTo>
                    <a:lnTo>
                      <a:pt x="379" y="2678"/>
                    </a:lnTo>
                    <a:lnTo>
                      <a:pt x="388" y="2660"/>
                    </a:lnTo>
                    <a:lnTo>
                      <a:pt x="398" y="2641"/>
                    </a:lnTo>
                    <a:lnTo>
                      <a:pt x="409" y="2624"/>
                    </a:lnTo>
                    <a:lnTo>
                      <a:pt x="419" y="2607"/>
                    </a:lnTo>
                    <a:lnTo>
                      <a:pt x="428" y="2586"/>
                    </a:lnTo>
                    <a:lnTo>
                      <a:pt x="438" y="2567"/>
                    </a:lnTo>
                    <a:lnTo>
                      <a:pt x="447" y="2546"/>
                    </a:lnTo>
                    <a:lnTo>
                      <a:pt x="457" y="2525"/>
                    </a:lnTo>
                    <a:lnTo>
                      <a:pt x="466" y="2503"/>
                    </a:lnTo>
                    <a:lnTo>
                      <a:pt x="476" y="2480"/>
                    </a:lnTo>
                    <a:lnTo>
                      <a:pt x="485" y="2457"/>
                    </a:lnTo>
                    <a:lnTo>
                      <a:pt x="495" y="2436"/>
                    </a:lnTo>
                    <a:lnTo>
                      <a:pt x="500" y="2409"/>
                    </a:lnTo>
                    <a:lnTo>
                      <a:pt x="510" y="2387"/>
                    </a:lnTo>
                    <a:lnTo>
                      <a:pt x="516" y="2360"/>
                    </a:lnTo>
                    <a:lnTo>
                      <a:pt x="523" y="2335"/>
                    </a:lnTo>
                    <a:lnTo>
                      <a:pt x="531" y="2307"/>
                    </a:lnTo>
                    <a:lnTo>
                      <a:pt x="537" y="2282"/>
                    </a:lnTo>
                    <a:lnTo>
                      <a:pt x="544" y="2254"/>
                    </a:lnTo>
                    <a:lnTo>
                      <a:pt x="550" y="2225"/>
                    </a:lnTo>
                    <a:lnTo>
                      <a:pt x="554" y="2195"/>
                    </a:lnTo>
                    <a:lnTo>
                      <a:pt x="559" y="2166"/>
                    </a:lnTo>
                    <a:lnTo>
                      <a:pt x="563" y="2136"/>
                    </a:lnTo>
                    <a:lnTo>
                      <a:pt x="567" y="2105"/>
                    </a:lnTo>
                    <a:lnTo>
                      <a:pt x="571" y="2075"/>
                    </a:lnTo>
                    <a:lnTo>
                      <a:pt x="573" y="2042"/>
                    </a:lnTo>
                    <a:lnTo>
                      <a:pt x="575" y="2008"/>
                    </a:lnTo>
                    <a:lnTo>
                      <a:pt x="578" y="1978"/>
                    </a:lnTo>
                    <a:lnTo>
                      <a:pt x="578" y="1944"/>
                    </a:lnTo>
                    <a:lnTo>
                      <a:pt x="578" y="1909"/>
                    </a:lnTo>
                    <a:lnTo>
                      <a:pt x="577" y="1875"/>
                    </a:lnTo>
                    <a:lnTo>
                      <a:pt x="575" y="1841"/>
                    </a:lnTo>
                    <a:lnTo>
                      <a:pt x="571" y="1807"/>
                    </a:lnTo>
                    <a:lnTo>
                      <a:pt x="569" y="1774"/>
                    </a:lnTo>
                    <a:lnTo>
                      <a:pt x="565" y="1740"/>
                    </a:lnTo>
                    <a:lnTo>
                      <a:pt x="561" y="1710"/>
                    </a:lnTo>
                    <a:lnTo>
                      <a:pt x="554" y="1676"/>
                    </a:lnTo>
                    <a:lnTo>
                      <a:pt x="550" y="1643"/>
                    </a:lnTo>
                    <a:lnTo>
                      <a:pt x="542" y="1611"/>
                    </a:lnTo>
                    <a:lnTo>
                      <a:pt x="537" y="1579"/>
                    </a:lnTo>
                    <a:lnTo>
                      <a:pt x="527" y="1546"/>
                    </a:lnTo>
                    <a:lnTo>
                      <a:pt x="519" y="1514"/>
                    </a:lnTo>
                    <a:lnTo>
                      <a:pt x="510" y="1483"/>
                    </a:lnTo>
                    <a:lnTo>
                      <a:pt x="502" y="1453"/>
                    </a:lnTo>
                    <a:lnTo>
                      <a:pt x="493" y="1421"/>
                    </a:lnTo>
                    <a:lnTo>
                      <a:pt x="481" y="1388"/>
                    </a:lnTo>
                    <a:lnTo>
                      <a:pt x="470" y="1358"/>
                    </a:lnTo>
                    <a:lnTo>
                      <a:pt x="461" y="1329"/>
                    </a:lnTo>
                    <a:lnTo>
                      <a:pt x="449" y="1299"/>
                    </a:lnTo>
                    <a:lnTo>
                      <a:pt x="440" y="1271"/>
                    </a:lnTo>
                    <a:lnTo>
                      <a:pt x="426" y="1242"/>
                    </a:lnTo>
                    <a:lnTo>
                      <a:pt x="417" y="1213"/>
                    </a:lnTo>
                    <a:lnTo>
                      <a:pt x="404" y="1187"/>
                    </a:lnTo>
                    <a:lnTo>
                      <a:pt x="392" y="1158"/>
                    </a:lnTo>
                    <a:lnTo>
                      <a:pt x="379" y="1130"/>
                    </a:lnTo>
                    <a:lnTo>
                      <a:pt x="367" y="1103"/>
                    </a:lnTo>
                    <a:lnTo>
                      <a:pt x="354" y="1077"/>
                    </a:lnTo>
                    <a:lnTo>
                      <a:pt x="343" y="1052"/>
                    </a:lnTo>
                    <a:lnTo>
                      <a:pt x="329" y="1027"/>
                    </a:lnTo>
                    <a:lnTo>
                      <a:pt x="318" y="1002"/>
                    </a:lnTo>
                    <a:lnTo>
                      <a:pt x="303" y="978"/>
                    </a:lnTo>
                    <a:lnTo>
                      <a:pt x="291" y="953"/>
                    </a:lnTo>
                    <a:lnTo>
                      <a:pt x="276" y="930"/>
                    </a:lnTo>
                    <a:lnTo>
                      <a:pt x="265" y="907"/>
                    </a:lnTo>
                    <a:lnTo>
                      <a:pt x="251" y="885"/>
                    </a:lnTo>
                    <a:lnTo>
                      <a:pt x="238" y="864"/>
                    </a:lnTo>
                    <a:lnTo>
                      <a:pt x="227" y="843"/>
                    </a:lnTo>
                    <a:lnTo>
                      <a:pt x="215" y="822"/>
                    </a:lnTo>
                    <a:lnTo>
                      <a:pt x="202" y="803"/>
                    </a:lnTo>
                    <a:lnTo>
                      <a:pt x="191" y="782"/>
                    </a:lnTo>
                    <a:lnTo>
                      <a:pt x="177" y="765"/>
                    </a:lnTo>
                    <a:lnTo>
                      <a:pt x="168" y="748"/>
                    </a:lnTo>
                    <a:lnTo>
                      <a:pt x="156" y="731"/>
                    </a:lnTo>
                    <a:lnTo>
                      <a:pt x="145" y="715"/>
                    </a:lnTo>
                    <a:lnTo>
                      <a:pt x="134" y="698"/>
                    </a:lnTo>
                    <a:lnTo>
                      <a:pt x="124" y="687"/>
                    </a:lnTo>
                    <a:lnTo>
                      <a:pt x="115" y="670"/>
                    </a:lnTo>
                    <a:lnTo>
                      <a:pt x="105" y="658"/>
                    </a:lnTo>
                    <a:lnTo>
                      <a:pt x="96" y="645"/>
                    </a:lnTo>
                    <a:lnTo>
                      <a:pt x="88" y="634"/>
                    </a:lnTo>
                    <a:lnTo>
                      <a:pt x="80" y="622"/>
                    </a:lnTo>
                    <a:lnTo>
                      <a:pt x="73" y="613"/>
                    </a:lnTo>
                    <a:lnTo>
                      <a:pt x="65" y="603"/>
                    </a:lnTo>
                    <a:lnTo>
                      <a:pt x="59" y="596"/>
                    </a:lnTo>
                    <a:lnTo>
                      <a:pt x="54" y="588"/>
                    </a:lnTo>
                    <a:lnTo>
                      <a:pt x="48" y="580"/>
                    </a:lnTo>
                    <a:lnTo>
                      <a:pt x="44" y="577"/>
                    </a:lnTo>
                    <a:lnTo>
                      <a:pt x="42" y="571"/>
                    </a:lnTo>
                    <a:lnTo>
                      <a:pt x="37" y="565"/>
                    </a:lnTo>
                    <a:lnTo>
                      <a:pt x="35" y="563"/>
                    </a:lnTo>
                    <a:lnTo>
                      <a:pt x="170" y="14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flipH="1">
                <a:off x="6735240" y="2099520"/>
                <a:ext cx="64080" cy="113040"/>
              </a:xfrm>
              <a:custGeom>
                <a:avLst/>
                <a:gdLst/>
                <a:ahLst/>
                <a:rect l="l" t="t" r="r" b="b"/>
                <a:pathLst>
                  <a:path w="225" h="396">
                    <a:moveTo>
                      <a:pt x="93" y="0"/>
                    </a:moveTo>
                    <a:lnTo>
                      <a:pt x="82" y="4"/>
                    </a:lnTo>
                    <a:lnTo>
                      <a:pt x="72" y="13"/>
                    </a:lnTo>
                    <a:lnTo>
                      <a:pt x="63" y="21"/>
                    </a:lnTo>
                    <a:lnTo>
                      <a:pt x="53" y="32"/>
                    </a:lnTo>
                    <a:lnTo>
                      <a:pt x="50" y="36"/>
                    </a:lnTo>
                    <a:lnTo>
                      <a:pt x="44" y="42"/>
                    </a:lnTo>
                    <a:lnTo>
                      <a:pt x="40" y="48"/>
                    </a:lnTo>
                    <a:lnTo>
                      <a:pt x="36" y="55"/>
                    </a:lnTo>
                    <a:lnTo>
                      <a:pt x="33" y="61"/>
                    </a:lnTo>
                    <a:lnTo>
                      <a:pt x="27" y="69"/>
                    </a:lnTo>
                    <a:lnTo>
                      <a:pt x="25" y="76"/>
                    </a:lnTo>
                    <a:lnTo>
                      <a:pt x="23" y="84"/>
                    </a:lnTo>
                    <a:lnTo>
                      <a:pt x="19" y="91"/>
                    </a:lnTo>
                    <a:lnTo>
                      <a:pt x="14" y="99"/>
                    </a:lnTo>
                    <a:lnTo>
                      <a:pt x="12" y="107"/>
                    </a:lnTo>
                    <a:lnTo>
                      <a:pt x="10" y="116"/>
                    </a:lnTo>
                    <a:lnTo>
                      <a:pt x="6" y="124"/>
                    </a:lnTo>
                    <a:lnTo>
                      <a:pt x="6" y="133"/>
                    </a:lnTo>
                    <a:lnTo>
                      <a:pt x="4" y="143"/>
                    </a:lnTo>
                    <a:lnTo>
                      <a:pt x="4" y="152"/>
                    </a:lnTo>
                    <a:lnTo>
                      <a:pt x="2" y="162"/>
                    </a:lnTo>
                    <a:lnTo>
                      <a:pt x="0" y="173"/>
                    </a:lnTo>
                    <a:lnTo>
                      <a:pt x="0" y="183"/>
                    </a:lnTo>
                    <a:lnTo>
                      <a:pt x="0" y="194"/>
                    </a:lnTo>
                    <a:lnTo>
                      <a:pt x="0" y="205"/>
                    </a:lnTo>
                    <a:lnTo>
                      <a:pt x="0" y="217"/>
                    </a:lnTo>
                    <a:lnTo>
                      <a:pt x="2" y="228"/>
                    </a:lnTo>
                    <a:lnTo>
                      <a:pt x="6" y="242"/>
                    </a:lnTo>
                    <a:lnTo>
                      <a:pt x="6" y="253"/>
                    </a:lnTo>
                    <a:lnTo>
                      <a:pt x="8" y="266"/>
                    </a:lnTo>
                    <a:lnTo>
                      <a:pt x="10" y="278"/>
                    </a:lnTo>
                    <a:lnTo>
                      <a:pt x="14" y="289"/>
                    </a:lnTo>
                    <a:lnTo>
                      <a:pt x="17" y="301"/>
                    </a:lnTo>
                    <a:lnTo>
                      <a:pt x="21" y="312"/>
                    </a:lnTo>
                    <a:lnTo>
                      <a:pt x="27" y="321"/>
                    </a:lnTo>
                    <a:lnTo>
                      <a:pt x="33" y="333"/>
                    </a:lnTo>
                    <a:lnTo>
                      <a:pt x="36" y="340"/>
                    </a:lnTo>
                    <a:lnTo>
                      <a:pt x="40" y="348"/>
                    </a:lnTo>
                    <a:lnTo>
                      <a:pt x="46" y="356"/>
                    </a:lnTo>
                    <a:lnTo>
                      <a:pt x="53" y="363"/>
                    </a:lnTo>
                    <a:lnTo>
                      <a:pt x="59" y="369"/>
                    </a:lnTo>
                    <a:lnTo>
                      <a:pt x="67" y="377"/>
                    </a:lnTo>
                    <a:lnTo>
                      <a:pt x="74" y="382"/>
                    </a:lnTo>
                    <a:lnTo>
                      <a:pt x="84" y="386"/>
                    </a:lnTo>
                    <a:lnTo>
                      <a:pt x="91" y="390"/>
                    </a:lnTo>
                    <a:lnTo>
                      <a:pt x="101" y="392"/>
                    </a:lnTo>
                    <a:lnTo>
                      <a:pt x="110" y="394"/>
                    </a:lnTo>
                    <a:lnTo>
                      <a:pt x="120" y="396"/>
                    </a:lnTo>
                    <a:lnTo>
                      <a:pt x="128" y="394"/>
                    </a:lnTo>
                    <a:lnTo>
                      <a:pt x="139" y="392"/>
                    </a:lnTo>
                    <a:lnTo>
                      <a:pt x="147" y="390"/>
                    </a:lnTo>
                    <a:lnTo>
                      <a:pt x="158" y="386"/>
                    </a:lnTo>
                    <a:lnTo>
                      <a:pt x="164" y="380"/>
                    </a:lnTo>
                    <a:lnTo>
                      <a:pt x="171" y="375"/>
                    </a:lnTo>
                    <a:lnTo>
                      <a:pt x="179" y="367"/>
                    </a:lnTo>
                    <a:lnTo>
                      <a:pt x="188" y="359"/>
                    </a:lnTo>
                    <a:lnTo>
                      <a:pt x="194" y="348"/>
                    </a:lnTo>
                    <a:lnTo>
                      <a:pt x="200" y="339"/>
                    </a:lnTo>
                    <a:lnTo>
                      <a:pt x="206" y="325"/>
                    </a:lnTo>
                    <a:lnTo>
                      <a:pt x="211" y="316"/>
                    </a:lnTo>
                    <a:lnTo>
                      <a:pt x="215" y="302"/>
                    </a:lnTo>
                    <a:lnTo>
                      <a:pt x="219" y="289"/>
                    </a:lnTo>
                    <a:lnTo>
                      <a:pt x="221" y="276"/>
                    </a:lnTo>
                    <a:lnTo>
                      <a:pt x="225" y="263"/>
                    </a:lnTo>
                    <a:lnTo>
                      <a:pt x="225" y="255"/>
                    </a:lnTo>
                    <a:lnTo>
                      <a:pt x="225" y="247"/>
                    </a:lnTo>
                    <a:lnTo>
                      <a:pt x="225" y="240"/>
                    </a:lnTo>
                    <a:lnTo>
                      <a:pt x="225" y="232"/>
                    </a:lnTo>
                    <a:lnTo>
                      <a:pt x="225" y="219"/>
                    </a:lnTo>
                    <a:lnTo>
                      <a:pt x="225" y="205"/>
                    </a:lnTo>
                    <a:lnTo>
                      <a:pt x="198" y="209"/>
                    </a:lnTo>
                    <a:lnTo>
                      <a:pt x="198" y="221"/>
                    </a:lnTo>
                    <a:lnTo>
                      <a:pt x="198" y="232"/>
                    </a:lnTo>
                    <a:lnTo>
                      <a:pt x="196" y="245"/>
                    </a:lnTo>
                    <a:lnTo>
                      <a:pt x="196" y="257"/>
                    </a:lnTo>
                    <a:lnTo>
                      <a:pt x="194" y="268"/>
                    </a:lnTo>
                    <a:lnTo>
                      <a:pt x="192" y="280"/>
                    </a:lnTo>
                    <a:lnTo>
                      <a:pt x="188" y="289"/>
                    </a:lnTo>
                    <a:lnTo>
                      <a:pt x="186" y="302"/>
                    </a:lnTo>
                    <a:lnTo>
                      <a:pt x="181" y="312"/>
                    </a:lnTo>
                    <a:lnTo>
                      <a:pt x="177" y="320"/>
                    </a:lnTo>
                    <a:lnTo>
                      <a:pt x="171" y="329"/>
                    </a:lnTo>
                    <a:lnTo>
                      <a:pt x="167" y="339"/>
                    </a:lnTo>
                    <a:lnTo>
                      <a:pt x="160" y="344"/>
                    </a:lnTo>
                    <a:lnTo>
                      <a:pt x="154" y="352"/>
                    </a:lnTo>
                    <a:lnTo>
                      <a:pt x="148" y="358"/>
                    </a:lnTo>
                    <a:lnTo>
                      <a:pt x="145" y="363"/>
                    </a:lnTo>
                    <a:lnTo>
                      <a:pt x="131" y="367"/>
                    </a:lnTo>
                    <a:lnTo>
                      <a:pt x="120" y="369"/>
                    </a:lnTo>
                    <a:lnTo>
                      <a:pt x="109" y="365"/>
                    </a:lnTo>
                    <a:lnTo>
                      <a:pt x="97" y="361"/>
                    </a:lnTo>
                    <a:lnTo>
                      <a:pt x="88" y="356"/>
                    </a:lnTo>
                    <a:lnTo>
                      <a:pt x="84" y="352"/>
                    </a:lnTo>
                    <a:lnTo>
                      <a:pt x="76" y="346"/>
                    </a:lnTo>
                    <a:lnTo>
                      <a:pt x="72" y="342"/>
                    </a:lnTo>
                    <a:lnTo>
                      <a:pt x="67" y="335"/>
                    </a:lnTo>
                    <a:lnTo>
                      <a:pt x="63" y="329"/>
                    </a:lnTo>
                    <a:lnTo>
                      <a:pt x="57" y="321"/>
                    </a:lnTo>
                    <a:lnTo>
                      <a:pt x="53" y="316"/>
                    </a:lnTo>
                    <a:lnTo>
                      <a:pt x="50" y="306"/>
                    </a:lnTo>
                    <a:lnTo>
                      <a:pt x="46" y="299"/>
                    </a:lnTo>
                    <a:lnTo>
                      <a:pt x="42" y="289"/>
                    </a:lnTo>
                    <a:lnTo>
                      <a:pt x="40" y="280"/>
                    </a:lnTo>
                    <a:lnTo>
                      <a:pt x="36" y="268"/>
                    </a:lnTo>
                    <a:lnTo>
                      <a:pt x="36" y="259"/>
                    </a:lnTo>
                    <a:lnTo>
                      <a:pt x="33" y="247"/>
                    </a:lnTo>
                    <a:lnTo>
                      <a:pt x="33" y="238"/>
                    </a:lnTo>
                    <a:lnTo>
                      <a:pt x="31" y="224"/>
                    </a:lnTo>
                    <a:lnTo>
                      <a:pt x="29" y="215"/>
                    </a:lnTo>
                    <a:lnTo>
                      <a:pt x="29" y="205"/>
                    </a:lnTo>
                    <a:lnTo>
                      <a:pt x="29" y="196"/>
                    </a:lnTo>
                    <a:lnTo>
                      <a:pt x="27" y="185"/>
                    </a:lnTo>
                    <a:lnTo>
                      <a:pt x="27" y="175"/>
                    </a:lnTo>
                    <a:lnTo>
                      <a:pt x="29" y="167"/>
                    </a:lnTo>
                    <a:lnTo>
                      <a:pt x="31" y="158"/>
                    </a:lnTo>
                    <a:lnTo>
                      <a:pt x="31" y="148"/>
                    </a:lnTo>
                    <a:lnTo>
                      <a:pt x="33" y="141"/>
                    </a:lnTo>
                    <a:lnTo>
                      <a:pt x="33" y="133"/>
                    </a:lnTo>
                    <a:lnTo>
                      <a:pt x="36" y="126"/>
                    </a:lnTo>
                    <a:lnTo>
                      <a:pt x="36" y="118"/>
                    </a:lnTo>
                    <a:lnTo>
                      <a:pt x="40" y="108"/>
                    </a:lnTo>
                    <a:lnTo>
                      <a:pt x="42" y="103"/>
                    </a:lnTo>
                    <a:lnTo>
                      <a:pt x="46" y="97"/>
                    </a:lnTo>
                    <a:lnTo>
                      <a:pt x="50" y="84"/>
                    </a:lnTo>
                    <a:lnTo>
                      <a:pt x="57" y="72"/>
                    </a:lnTo>
                    <a:lnTo>
                      <a:pt x="65" y="61"/>
                    </a:lnTo>
                    <a:lnTo>
                      <a:pt x="72" y="51"/>
                    </a:lnTo>
                    <a:lnTo>
                      <a:pt x="80" y="42"/>
                    </a:lnTo>
                    <a:lnTo>
                      <a:pt x="88" y="34"/>
                    </a:lnTo>
                    <a:lnTo>
                      <a:pt x="97" y="29"/>
                    </a:lnTo>
                    <a:lnTo>
                      <a:pt x="107" y="25"/>
                    </a:lnTo>
                    <a:lnTo>
                      <a:pt x="93" y="0"/>
                    </a:lnTo>
                    <a:lnTo>
                      <a:pt x="9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flipH="1">
                <a:off x="6969600" y="1965240"/>
                <a:ext cx="174240" cy="791280"/>
              </a:xfrm>
              <a:custGeom>
                <a:avLst/>
                <a:gdLst/>
                <a:ahLst/>
                <a:rect l="l" t="t" r="r" b="b"/>
                <a:pathLst>
                  <a:path w="606" h="2759">
                    <a:moveTo>
                      <a:pt x="89" y="0"/>
                    </a:moveTo>
                    <a:lnTo>
                      <a:pt x="321" y="1132"/>
                    </a:lnTo>
                    <a:lnTo>
                      <a:pt x="319" y="1132"/>
                    </a:lnTo>
                    <a:lnTo>
                      <a:pt x="317" y="1136"/>
                    </a:lnTo>
                    <a:lnTo>
                      <a:pt x="311" y="1139"/>
                    </a:lnTo>
                    <a:lnTo>
                      <a:pt x="304" y="1149"/>
                    </a:lnTo>
                    <a:lnTo>
                      <a:pt x="300" y="1153"/>
                    </a:lnTo>
                    <a:lnTo>
                      <a:pt x="294" y="1160"/>
                    </a:lnTo>
                    <a:lnTo>
                      <a:pt x="291" y="1166"/>
                    </a:lnTo>
                    <a:lnTo>
                      <a:pt x="285" y="1174"/>
                    </a:lnTo>
                    <a:lnTo>
                      <a:pt x="277" y="1179"/>
                    </a:lnTo>
                    <a:lnTo>
                      <a:pt x="273" y="1189"/>
                    </a:lnTo>
                    <a:lnTo>
                      <a:pt x="266" y="1196"/>
                    </a:lnTo>
                    <a:lnTo>
                      <a:pt x="260" y="1206"/>
                    </a:lnTo>
                    <a:lnTo>
                      <a:pt x="252" y="1215"/>
                    </a:lnTo>
                    <a:lnTo>
                      <a:pt x="247" y="1225"/>
                    </a:lnTo>
                    <a:lnTo>
                      <a:pt x="239" y="1234"/>
                    </a:lnTo>
                    <a:lnTo>
                      <a:pt x="232" y="1246"/>
                    </a:lnTo>
                    <a:lnTo>
                      <a:pt x="224" y="1257"/>
                    </a:lnTo>
                    <a:lnTo>
                      <a:pt x="216" y="1269"/>
                    </a:lnTo>
                    <a:lnTo>
                      <a:pt x="209" y="1280"/>
                    </a:lnTo>
                    <a:lnTo>
                      <a:pt x="201" y="1293"/>
                    </a:lnTo>
                    <a:lnTo>
                      <a:pt x="192" y="1307"/>
                    </a:lnTo>
                    <a:lnTo>
                      <a:pt x="184" y="1320"/>
                    </a:lnTo>
                    <a:lnTo>
                      <a:pt x="176" y="1333"/>
                    </a:lnTo>
                    <a:lnTo>
                      <a:pt x="169" y="1348"/>
                    </a:lnTo>
                    <a:lnTo>
                      <a:pt x="159" y="1364"/>
                    </a:lnTo>
                    <a:lnTo>
                      <a:pt x="152" y="1377"/>
                    </a:lnTo>
                    <a:lnTo>
                      <a:pt x="144" y="1394"/>
                    </a:lnTo>
                    <a:lnTo>
                      <a:pt x="137" y="1411"/>
                    </a:lnTo>
                    <a:lnTo>
                      <a:pt x="127" y="1426"/>
                    </a:lnTo>
                    <a:lnTo>
                      <a:pt x="119" y="1444"/>
                    </a:lnTo>
                    <a:lnTo>
                      <a:pt x="112" y="1459"/>
                    </a:lnTo>
                    <a:lnTo>
                      <a:pt x="102" y="1478"/>
                    </a:lnTo>
                    <a:lnTo>
                      <a:pt x="95" y="1493"/>
                    </a:lnTo>
                    <a:lnTo>
                      <a:pt x="87" y="1512"/>
                    </a:lnTo>
                    <a:lnTo>
                      <a:pt x="81" y="1531"/>
                    </a:lnTo>
                    <a:lnTo>
                      <a:pt x="74" y="1550"/>
                    </a:lnTo>
                    <a:lnTo>
                      <a:pt x="66" y="1569"/>
                    </a:lnTo>
                    <a:lnTo>
                      <a:pt x="59" y="1588"/>
                    </a:lnTo>
                    <a:lnTo>
                      <a:pt x="53" y="1607"/>
                    </a:lnTo>
                    <a:lnTo>
                      <a:pt x="47" y="1628"/>
                    </a:lnTo>
                    <a:lnTo>
                      <a:pt x="41" y="1647"/>
                    </a:lnTo>
                    <a:lnTo>
                      <a:pt x="36" y="1668"/>
                    </a:lnTo>
                    <a:lnTo>
                      <a:pt x="30" y="1689"/>
                    </a:lnTo>
                    <a:lnTo>
                      <a:pt x="26" y="1710"/>
                    </a:lnTo>
                    <a:lnTo>
                      <a:pt x="21" y="1729"/>
                    </a:lnTo>
                    <a:lnTo>
                      <a:pt x="17" y="1752"/>
                    </a:lnTo>
                    <a:lnTo>
                      <a:pt x="13" y="1772"/>
                    </a:lnTo>
                    <a:lnTo>
                      <a:pt x="9" y="1795"/>
                    </a:lnTo>
                    <a:lnTo>
                      <a:pt x="5" y="1816"/>
                    </a:lnTo>
                    <a:lnTo>
                      <a:pt x="3" y="1839"/>
                    </a:lnTo>
                    <a:lnTo>
                      <a:pt x="2" y="1860"/>
                    </a:lnTo>
                    <a:lnTo>
                      <a:pt x="2" y="1883"/>
                    </a:lnTo>
                    <a:lnTo>
                      <a:pt x="0" y="1906"/>
                    </a:lnTo>
                    <a:lnTo>
                      <a:pt x="0" y="1928"/>
                    </a:lnTo>
                    <a:lnTo>
                      <a:pt x="0" y="1951"/>
                    </a:lnTo>
                    <a:lnTo>
                      <a:pt x="2" y="1974"/>
                    </a:lnTo>
                    <a:lnTo>
                      <a:pt x="3" y="1997"/>
                    </a:lnTo>
                    <a:lnTo>
                      <a:pt x="5" y="2022"/>
                    </a:lnTo>
                    <a:lnTo>
                      <a:pt x="9" y="2044"/>
                    </a:lnTo>
                    <a:lnTo>
                      <a:pt x="13" y="2069"/>
                    </a:lnTo>
                    <a:lnTo>
                      <a:pt x="15" y="2092"/>
                    </a:lnTo>
                    <a:lnTo>
                      <a:pt x="21" y="2115"/>
                    </a:lnTo>
                    <a:lnTo>
                      <a:pt x="24" y="2136"/>
                    </a:lnTo>
                    <a:lnTo>
                      <a:pt x="30" y="2158"/>
                    </a:lnTo>
                    <a:lnTo>
                      <a:pt x="36" y="2179"/>
                    </a:lnTo>
                    <a:lnTo>
                      <a:pt x="41" y="2200"/>
                    </a:lnTo>
                    <a:lnTo>
                      <a:pt x="49" y="2221"/>
                    </a:lnTo>
                    <a:lnTo>
                      <a:pt x="57" y="2242"/>
                    </a:lnTo>
                    <a:lnTo>
                      <a:pt x="64" y="2261"/>
                    </a:lnTo>
                    <a:lnTo>
                      <a:pt x="72" y="2280"/>
                    </a:lnTo>
                    <a:lnTo>
                      <a:pt x="79" y="2299"/>
                    </a:lnTo>
                    <a:lnTo>
                      <a:pt x="89" y="2318"/>
                    </a:lnTo>
                    <a:lnTo>
                      <a:pt x="97" y="2335"/>
                    </a:lnTo>
                    <a:lnTo>
                      <a:pt x="106" y="2354"/>
                    </a:lnTo>
                    <a:lnTo>
                      <a:pt x="116" y="2371"/>
                    </a:lnTo>
                    <a:lnTo>
                      <a:pt x="125" y="2389"/>
                    </a:lnTo>
                    <a:lnTo>
                      <a:pt x="133" y="2402"/>
                    </a:lnTo>
                    <a:lnTo>
                      <a:pt x="144" y="2419"/>
                    </a:lnTo>
                    <a:lnTo>
                      <a:pt x="154" y="2434"/>
                    </a:lnTo>
                    <a:lnTo>
                      <a:pt x="165" y="2449"/>
                    </a:lnTo>
                    <a:lnTo>
                      <a:pt x="176" y="2463"/>
                    </a:lnTo>
                    <a:lnTo>
                      <a:pt x="186" y="2478"/>
                    </a:lnTo>
                    <a:lnTo>
                      <a:pt x="197" y="2493"/>
                    </a:lnTo>
                    <a:lnTo>
                      <a:pt x="209" y="2506"/>
                    </a:lnTo>
                    <a:lnTo>
                      <a:pt x="220" y="2520"/>
                    </a:lnTo>
                    <a:lnTo>
                      <a:pt x="230" y="2533"/>
                    </a:lnTo>
                    <a:lnTo>
                      <a:pt x="241" y="2544"/>
                    </a:lnTo>
                    <a:lnTo>
                      <a:pt x="252" y="2556"/>
                    </a:lnTo>
                    <a:lnTo>
                      <a:pt x="264" y="2567"/>
                    </a:lnTo>
                    <a:lnTo>
                      <a:pt x="275" y="2579"/>
                    </a:lnTo>
                    <a:lnTo>
                      <a:pt x="287" y="2590"/>
                    </a:lnTo>
                    <a:lnTo>
                      <a:pt x="298" y="2601"/>
                    </a:lnTo>
                    <a:lnTo>
                      <a:pt x="308" y="2611"/>
                    </a:lnTo>
                    <a:lnTo>
                      <a:pt x="319" y="2620"/>
                    </a:lnTo>
                    <a:lnTo>
                      <a:pt x="329" y="2630"/>
                    </a:lnTo>
                    <a:lnTo>
                      <a:pt x="340" y="2640"/>
                    </a:lnTo>
                    <a:lnTo>
                      <a:pt x="349" y="2647"/>
                    </a:lnTo>
                    <a:lnTo>
                      <a:pt x="361" y="2655"/>
                    </a:lnTo>
                    <a:lnTo>
                      <a:pt x="370" y="2662"/>
                    </a:lnTo>
                    <a:lnTo>
                      <a:pt x="382" y="2672"/>
                    </a:lnTo>
                    <a:lnTo>
                      <a:pt x="391" y="2679"/>
                    </a:lnTo>
                    <a:lnTo>
                      <a:pt x="401" y="2685"/>
                    </a:lnTo>
                    <a:lnTo>
                      <a:pt x="408" y="2691"/>
                    </a:lnTo>
                    <a:lnTo>
                      <a:pt x="420" y="2698"/>
                    </a:lnTo>
                    <a:lnTo>
                      <a:pt x="427" y="2704"/>
                    </a:lnTo>
                    <a:lnTo>
                      <a:pt x="437" y="2710"/>
                    </a:lnTo>
                    <a:lnTo>
                      <a:pt x="444" y="2714"/>
                    </a:lnTo>
                    <a:lnTo>
                      <a:pt x="454" y="2721"/>
                    </a:lnTo>
                    <a:lnTo>
                      <a:pt x="462" y="2725"/>
                    </a:lnTo>
                    <a:lnTo>
                      <a:pt x="469" y="2729"/>
                    </a:lnTo>
                    <a:lnTo>
                      <a:pt x="475" y="2733"/>
                    </a:lnTo>
                    <a:lnTo>
                      <a:pt x="483" y="2736"/>
                    </a:lnTo>
                    <a:lnTo>
                      <a:pt x="488" y="2740"/>
                    </a:lnTo>
                    <a:lnTo>
                      <a:pt x="494" y="2744"/>
                    </a:lnTo>
                    <a:lnTo>
                      <a:pt x="500" y="2746"/>
                    </a:lnTo>
                    <a:lnTo>
                      <a:pt x="505" y="2750"/>
                    </a:lnTo>
                    <a:lnTo>
                      <a:pt x="511" y="2754"/>
                    </a:lnTo>
                    <a:lnTo>
                      <a:pt x="519" y="2757"/>
                    </a:lnTo>
                    <a:lnTo>
                      <a:pt x="522" y="2757"/>
                    </a:lnTo>
                    <a:lnTo>
                      <a:pt x="524" y="2759"/>
                    </a:lnTo>
                    <a:lnTo>
                      <a:pt x="606" y="2759"/>
                    </a:lnTo>
                    <a:lnTo>
                      <a:pt x="604" y="2757"/>
                    </a:lnTo>
                    <a:lnTo>
                      <a:pt x="600" y="2755"/>
                    </a:lnTo>
                    <a:lnTo>
                      <a:pt x="593" y="2752"/>
                    </a:lnTo>
                    <a:lnTo>
                      <a:pt x="583" y="2748"/>
                    </a:lnTo>
                    <a:lnTo>
                      <a:pt x="576" y="2744"/>
                    </a:lnTo>
                    <a:lnTo>
                      <a:pt x="570" y="2740"/>
                    </a:lnTo>
                    <a:lnTo>
                      <a:pt x="564" y="2736"/>
                    </a:lnTo>
                    <a:lnTo>
                      <a:pt x="557" y="2735"/>
                    </a:lnTo>
                    <a:lnTo>
                      <a:pt x="549" y="2729"/>
                    </a:lnTo>
                    <a:lnTo>
                      <a:pt x="540" y="2725"/>
                    </a:lnTo>
                    <a:lnTo>
                      <a:pt x="532" y="2719"/>
                    </a:lnTo>
                    <a:lnTo>
                      <a:pt x="524" y="2716"/>
                    </a:lnTo>
                    <a:lnTo>
                      <a:pt x="515" y="2710"/>
                    </a:lnTo>
                    <a:lnTo>
                      <a:pt x="503" y="2702"/>
                    </a:lnTo>
                    <a:lnTo>
                      <a:pt x="492" y="2697"/>
                    </a:lnTo>
                    <a:lnTo>
                      <a:pt x="483" y="2691"/>
                    </a:lnTo>
                    <a:lnTo>
                      <a:pt x="473" y="2683"/>
                    </a:lnTo>
                    <a:lnTo>
                      <a:pt x="462" y="2674"/>
                    </a:lnTo>
                    <a:lnTo>
                      <a:pt x="450" y="2666"/>
                    </a:lnTo>
                    <a:lnTo>
                      <a:pt x="439" y="2660"/>
                    </a:lnTo>
                    <a:lnTo>
                      <a:pt x="427" y="2651"/>
                    </a:lnTo>
                    <a:lnTo>
                      <a:pt x="416" y="2643"/>
                    </a:lnTo>
                    <a:lnTo>
                      <a:pt x="405" y="2634"/>
                    </a:lnTo>
                    <a:lnTo>
                      <a:pt x="391" y="2624"/>
                    </a:lnTo>
                    <a:lnTo>
                      <a:pt x="380" y="2613"/>
                    </a:lnTo>
                    <a:lnTo>
                      <a:pt x="368" y="2603"/>
                    </a:lnTo>
                    <a:lnTo>
                      <a:pt x="357" y="2592"/>
                    </a:lnTo>
                    <a:lnTo>
                      <a:pt x="344" y="2582"/>
                    </a:lnTo>
                    <a:lnTo>
                      <a:pt x="330" y="2569"/>
                    </a:lnTo>
                    <a:lnTo>
                      <a:pt x="317" y="2558"/>
                    </a:lnTo>
                    <a:lnTo>
                      <a:pt x="304" y="2546"/>
                    </a:lnTo>
                    <a:lnTo>
                      <a:pt x="292" y="2533"/>
                    </a:lnTo>
                    <a:lnTo>
                      <a:pt x="279" y="2520"/>
                    </a:lnTo>
                    <a:lnTo>
                      <a:pt x="268" y="2506"/>
                    </a:lnTo>
                    <a:lnTo>
                      <a:pt x="256" y="2495"/>
                    </a:lnTo>
                    <a:lnTo>
                      <a:pt x="243" y="2480"/>
                    </a:lnTo>
                    <a:lnTo>
                      <a:pt x="232" y="2466"/>
                    </a:lnTo>
                    <a:lnTo>
                      <a:pt x="220" y="2451"/>
                    </a:lnTo>
                    <a:lnTo>
                      <a:pt x="209" y="2436"/>
                    </a:lnTo>
                    <a:lnTo>
                      <a:pt x="197" y="2421"/>
                    </a:lnTo>
                    <a:lnTo>
                      <a:pt x="186" y="2404"/>
                    </a:lnTo>
                    <a:lnTo>
                      <a:pt x="176" y="2389"/>
                    </a:lnTo>
                    <a:lnTo>
                      <a:pt x="165" y="2371"/>
                    </a:lnTo>
                    <a:lnTo>
                      <a:pt x="156" y="2356"/>
                    </a:lnTo>
                    <a:lnTo>
                      <a:pt x="146" y="2337"/>
                    </a:lnTo>
                    <a:lnTo>
                      <a:pt x="137" y="2318"/>
                    </a:lnTo>
                    <a:lnTo>
                      <a:pt x="127" y="2301"/>
                    </a:lnTo>
                    <a:lnTo>
                      <a:pt x="119" y="2284"/>
                    </a:lnTo>
                    <a:lnTo>
                      <a:pt x="112" y="2263"/>
                    </a:lnTo>
                    <a:lnTo>
                      <a:pt x="102" y="2244"/>
                    </a:lnTo>
                    <a:lnTo>
                      <a:pt x="95" y="2225"/>
                    </a:lnTo>
                    <a:lnTo>
                      <a:pt x="89" y="2206"/>
                    </a:lnTo>
                    <a:lnTo>
                      <a:pt x="83" y="2185"/>
                    </a:lnTo>
                    <a:lnTo>
                      <a:pt x="78" y="2164"/>
                    </a:lnTo>
                    <a:lnTo>
                      <a:pt x="72" y="2143"/>
                    </a:lnTo>
                    <a:lnTo>
                      <a:pt x="68" y="2122"/>
                    </a:lnTo>
                    <a:lnTo>
                      <a:pt x="64" y="2100"/>
                    </a:lnTo>
                    <a:lnTo>
                      <a:pt x="62" y="2077"/>
                    </a:lnTo>
                    <a:lnTo>
                      <a:pt x="59" y="2054"/>
                    </a:lnTo>
                    <a:lnTo>
                      <a:pt x="59" y="2033"/>
                    </a:lnTo>
                    <a:lnTo>
                      <a:pt x="57" y="2010"/>
                    </a:lnTo>
                    <a:lnTo>
                      <a:pt x="55" y="1987"/>
                    </a:lnTo>
                    <a:lnTo>
                      <a:pt x="55" y="1965"/>
                    </a:lnTo>
                    <a:lnTo>
                      <a:pt x="55" y="1944"/>
                    </a:lnTo>
                    <a:lnTo>
                      <a:pt x="55" y="1923"/>
                    </a:lnTo>
                    <a:lnTo>
                      <a:pt x="55" y="1902"/>
                    </a:lnTo>
                    <a:lnTo>
                      <a:pt x="55" y="1883"/>
                    </a:lnTo>
                    <a:lnTo>
                      <a:pt x="55" y="1864"/>
                    </a:lnTo>
                    <a:lnTo>
                      <a:pt x="55" y="1843"/>
                    </a:lnTo>
                    <a:lnTo>
                      <a:pt x="57" y="1826"/>
                    </a:lnTo>
                    <a:lnTo>
                      <a:pt x="59" y="1807"/>
                    </a:lnTo>
                    <a:lnTo>
                      <a:pt x="60" y="1790"/>
                    </a:lnTo>
                    <a:lnTo>
                      <a:pt x="60" y="1772"/>
                    </a:lnTo>
                    <a:lnTo>
                      <a:pt x="64" y="1755"/>
                    </a:lnTo>
                    <a:lnTo>
                      <a:pt x="66" y="1740"/>
                    </a:lnTo>
                    <a:lnTo>
                      <a:pt x="70" y="1725"/>
                    </a:lnTo>
                    <a:lnTo>
                      <a:pt x="72" y="1708"/>
                    </a:lnTo>
                    <a:lnTo>
                      <a:pt x="74" y="1693"/>
                    </a:lnTo>
                    <a:lnTo>
                      <a:pt x="78" y="1675"/>
                    </a:lnTo>
                    <a:lnTo>
                      <a:pt x="81" y="1662"/>
                    </a:lnTo>
                    <a:lnTo>
                      <a:pt x="85" y="1645"/>
                    </a:lnTo>
                    <a:lnTo>
                      <a:pt x="89" y="1632"/>
                    </a:lnTo>
                    <a:lnTo>
                      <a:pt x="93" y="1618"/>
                    </a:lnTo>
                    <a:lnTo>
                      <a:pt x="97" y="1605"/>
                    </a:lnTo>
                    <a:lnTo>
                      <a:pt x="100" y="1592"/>
                    </a:lnTo>
                    <a:lnTo>
                      <a:pt x="104" y="1579"/>
                    </a:lnTo>
                    <a:lnTo>
                      <a:pt x="110" y="1567"/>
                    </a:lnTo>
                    <a:lnTo>
                      <a:pt x="116" y="1554"/>
                    </a:lnTo>
                    <a:lnTo>
                      <a:pt x="119" y="1541"/>
                    </a:lnTo>
                    <a:lnTo>
                      <a:pt x="125" y="1529"/>
                    </a:lnTo>
                    <a:lnTo>
                      <a:pt x="129" y="1518"/>
                    </a:lnTo>
                    <a:lnTo>
                      <a:pt x="137" y="1506"/>
                    </a:lnTo>
                    <a:lnTo>
                      <a:pt x="140" y="1495"/>
                    </a:lnTo>
                    <a:lnTo>
                      <a:pt x="146" y="1483"/>
                    </a:lnTo>
                    <a:lnTo>
                      <a:pt x="152" y="1470"/>
                    </a:lnTo>
                    <a:lnTo>
                      <a:pt x="159" y="1459"/>
                    </a:lnTo>
                    <a:lnTo>
                      <a:pt x="163" y="1447"/>
                    </a:lnTo>
                    <a:lnTo>
                      <a:pt x="171" y="1436"/>
                    </a:lnTo>
                    <a:lnTo>
                      <a:pt x="176" y="1425"/>
                    </a:lnTo>
                    <a:lnTo>
                      <a:pt x="184" y="1413"/>
                    </a:lnTo>
                    <a:lnTo>
                      <a:pt x="190" y="1402"/>
                    </a:lnTo>
                    <a:lnTo>
                      <a:pt x="195" y="1390"/>
                    </a:lnTo>
                    <a:lnTo>
                      <a:pt x="203" y="1381"/>
                    </a:lnTo>
                    <a:lnTo>
                      <a:pt x="211" y="1369"/>
                    </a:lnTo>
                    <a:lnTo>
                      <a:pt x="216" y="1358"/>
                    </a:lnTo>
                    <a:lnTo>
                      <a:pt x="224" y="1347"/>
                    </a:lnTo>
                    <a:lnTo>
                      <a:pt x="232" y="1337"/>
                    </a:lnTo>
                    <a:lnTo>
                      <a:pt x="239" y="1326"/>
                    </a:lnTo>
                    <a:lnTo>
                      <a:pt x="247" y="1314"/>
                    </a:lnTo>
                    <a:lnTo>
                      <a:pt x="254" y="1303"/>
                    </a:lnTo>
                    <a:lnTo>
                      <a:pt x="260" y="1290"/>
                    </a:lnTo>
                    <a:lnTo>
                      <a:pt x="270" y="1280"/>
                    </a:lnTo>
                    <a:lnTo>
                      <a:pt x="275" y="1267"/>
                    </a:lnTo>
                    <a:lnTo>
                      <a:pt x="283" y="1255"/>
                    </a:lnTo>
                    <a:lnTo>
                      <a:pt x="291" y="1244"/>
                    </a:lnTo>
                    <a:lnTo>
                      <a:pt x="300" y="1232"/>
                    </a:lnTo>
                    <a:lnTo>
                      <a:pt x="308" y="1219"/>
                    </a:lnTo>
                    <a:lnTo>
                      <a:pt x="315" y="1208"/>
                    </a:lnTo>
                    <a:lnTo>
                      <a:pt x="323" y="1194"/>
                    </a:lnTo>
                    <a:lnTo>
                      <a:pt x="330" y="1183"/>
                    </a:lnTo>
                    <a:lnTo>
                      <a:pt x="340" y="1170"/>
                    </a:lnTo>
                    <a:lnTo>
                      <a:pt x="348" y="1156"/>
                    </a:lnTo>
                    <a:lnTo>
                      <a:pt x="355" y="1143"/>
                    </a:lnTo>
                    <a:lnTo>
                      <a:pt x="363" y="1132"/>
                    </a:lnTo>
                    <a:lnTo>
                      <a:pt x="207" y="10"/>
                    </a:lnTo>
                    <a:lnTo>
                      <a:pt x="89" y="0"/>
                    </a:lnTo>
                    <a:lnTo>
                      <a:pt x="89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6735600" y="2694600"/>
                <a:ext cx="353880" cy="101520"/>
              </a:xfrm>
              <a:custGeom>
                <a:avLst/>
                <a:gdLst/>
                <a:ahLst/>
                <a:rect l="l" t="t" r="r" b="b"/>
                <a:pathLst>
                  <a:path w="1232" h="353">
                    <a:moveTo>
                      <a:pt x="1196" y="353"/>
                    </a:moveTo>
                    <a:lnTo>
                      <a:pt x="1196" y="349"/>
                    </a:lnTo>
                    <a:lnTo>
                      <a:pt x="1199" y="342"/>
                    </a:lnTo>
                    <a:lnTo>
                      <a:pt x="1203" y="336"/>
                    </a:lnTo>
                    <a:lnTo>
                      <a:pt x="1207" y="330"/>
                    </a:lnTo>
                    <a:lnTo>
                      <a:pt x="1211" y="325"/>
                    </a:lnTo>
                    <a:lnTo>
                      <a:pt x="1215" y="317"/>
                    </a:lnTo>
                    <a:lnTo>
                      <a:pt x="1217" y="308"/>
                    </a:lnTo>
                    <a:lnTo>
                      <a:pt x="1222" y="298"/>
                    </a:lnTo>
                    <a:lnTo>
                      <a:pt x="1224" y="289"/>
                    </a:lnTo>
                    <a:lnTo>
                      <a:pt x="1228" y="279"/>
                    </a:lnTo>
                    <a:lnTo>
                      <a:pt x="1230" y="268"/>
                    </a:lnTo>
                    <a:lnTo>
                      <a:pt x="1230" y="254"/>
                    </a:lnTo>
                    <a:lnTo>
                      <a:pt x="1230" y="243"/>
                    </a:lnTo>
                    <a:lnTo>
                      <a:pt x="1232" y="232"/>
                    </a:lnTo>
                    <a:lnTo>
                      <a:pt x="1228" y="218"/>
                    </a:lnTo>
                    <a:lnTo>
                      <a:pt x="1226" y="207"/>
                    </a:lnTo>
                    <a:lnTo>
                      <a:pt x="1220" y="193"/>
                    </a:lnTo>
                    <a:lnTo>
                      <a:pt x="1215" y="180"/>
                    </a:lnTo>
                    <a:lnTo>
                      <a:pt x="1209" y="173"/>
                    </a:lnTo>
                    <a:lnTo>
                      <a:pt x="1205" y="167"/>
                    </a:lnTo>
                    <a:lnTo>
                      <a:pt x="1201" y="159"/>
                    </a:lnTo>
                    <a:lnTo>
                      <a:pt x="1197" y="154"/>
                    </a:lnTo>
                    <a:lnTo>
                      <a:pt x="1190" y="148"/>
                    </a:lnTo>
                    <a:lnTo>
                      <a:pt x="1184" y="142"/>
                    </a:lnTo>
                    <a:lnTo>
                      <a:pt x="1178" y="136"/>
                    </a:lnTo>
                    <a:lnTo>
                      <a:pt x="1173" y="131"/>
                    </a:lnTo>
                    <a:lnTo>
                      <a:pt x="1163" y="123"/>
                    </a:lnTo>
                    <a:lnTo>
                      <a:pt x="1156" y="117"/>
                    </a:lnTo>
                    <a:lnTo>
                      <a:pt x="1146" y="110"/>
                    </a:lnTo>
                    <a:lnTo>
                      <a:pt x="1137" y="104"/>
                    </a:lnTo>
                    <a:lnTo>
                      <a:pt x="1125" y="98"/>
                    </a:lnTo>
                    <a:lnTo>
                      <a:pt x="1116" y="93"/>
                    </a:lnTo>
                    <a:lnTo>
                      <a:pt x="1104" y="87"/>
                    </a:lnTo>
                    <a:lnTo>
                      <a:pt x="1093" y="83"/>
                    </a:lnTo>
                    <a:lnTo>
                      <a:pt x="1078" y="76"/>
                    </a:lnTo>
                    <a:lnTo>
                      <a:pt x="1064" y="70"/>
                    </a:lnTo>
                    <a:lnTo>
                      <a:pt x="1051" y="66"/>
                    </a:lnTo>
                    <a:lnTo>
                      <a:pt x="1038" y="60"/>
                    </a:lnTo>
                    <a:lnTo>
                      <a:pt x="1021" y="57"/>
                    </a:lnTo>
                    <a:lnTo>
                      <a:pt x="1004" y="53"/>
                    </a:lnTo>
                    <a:lnTo>
                      <a:pt x="986" y="47"/>
                    </a:lnTo>
                    <a:lnTo>
                      <a:pt x="969" y="43"/>
                    </a:lnTo>
                    <a:lnTo>
                      <a:pt x="950" y="39"/>
                    </a:lnTo>
                    <a:lnTo>
                      <a:pt x="931" y="34"/>
                    </a:lnTo>
                    <a:lnTo>
                      <a:pt x="910" y="30"/>
                    </a:lnTo>
                    <a:lnTo>
                      <a:pt x="893" y="26"/>
                    </a:lnTo>
                    <a:lnTo>
                      <a:pt x="872" y="22"/>
                    </a:lnTo>
                    <a:lnTo>
                      <a:pt x="853" y="19"/>
                    </a:lnTo>
                    <a:lnTo>
                      <a:pt x="832" y="17"/>
                    </a:lnTo>
                    <a:lnTo>
                      <a:pt x="815" y="15"/>
                    </a:lnTo>
                    <a:lnTo>
                      <a:pt x="794" y="11"/>
                    </a:lnTo>
                    <a:lnTo>
                      <a:pt x="775" y="9"/>
                    </a:lnTo>
                    <a:lnTo>
                      <a:pt x="755" y="7"/>
                    </a:lnTo>
                    <a:lnTo>
                      <a:pt x="737" y="5"/>
                    </a:lnTo>
                    <a:lnTo>
                      <a:pt x="717" y="3"/>
                    </a:lnTo>
                    <a:lnTo>
                      <a:pt x="698" y="1"/>
                    </a:lnTo>
                    <a:lnTo>
                      <a:pt x="677" y="1"/>
                    </a:lnTo>
                    <a:lnTo>
                      <a:pt x="658" y="1"/>
                    </a:lnTo>
                    <a:lnTo>
                      <a:pt x="639" y="0"/>
                    </a:lnTo>
                    <a:lnTo>
                      <a:pt x="618" y="0"/>
                    </a:lnTo>
                    <a:lnTo>
                      <a:pt x="599" y="0"/>
                    </a:lnTo>
                    <a:lnTo>
                      <a:pt x="580" y="0"/>
                    </a:lnTo>
                    <a:lnTo>
                      <a:pt x="561" y="0"/>
                    </a:lnTo>
                    <a:lnTo>
                      <a:pt x="542" y="0"/>
                    </a:lnTo>
                    <a:lnTo>
                      <a:pt x="523" y="1"/>
                    </a:lnTo>
                    <a:lnTo>
                      <a:pt x="506" y="3"/>
                    </a:lnTo>
                    <a:lnTo>
                      <a:pt x="485" y="3"/>
                    </a:lnTo>
                    <a:lnTo>
                      <a:pt x="467" y="5"/>
                    </a:lnTo>
                    <a:lnTo>
                      <a:pt x="448" y="7"/>
                    </a:lnTo>
                    <a:lnTo>
                      <a:pt x="431" y="9"/>
                    </a:lnTo>
                    <a:lnTo>
                      <a:pt x="412" y="11"/>
                    </a:lnTo>
                    <a:lnTo>
                      <a:pt x="395" y="13"/>
                    </a:lnTo>
                    <a:lnTo>
                      <a:pt x="378" y="17"/>
                    </a:lnTo>
                    <a:lnTo>
                      <a:pt x="361" y="22"/>
                    </a:lnTo>
                    <a:lnTo>
                      <a:pt x="344" y="24"/>
                    </a:lnTo>
                    <a:lnTo>
                      <a:pt x="327" y="26"/>
                    </a:lnTo>
                    <a:lnTo>
                      <a:pt x="310" y="30"/>
                    </a:lnTo>
                    <a:lnTo>
                      <a:pt x="295" y="36"/>
                    </a:lnTo>
                    <a:lnTo>
                      <a:pt x="277" y="39"/>
                    </a:lnTo>
                    <a:lnTo>
                      <a:pt x="260" y="43"/>
                    </a:lnTo>
                    <a:lnTo>
                      <a:pt x="247" y="49"/>
                    </a:lnTo>
                    <a:lnTo>
                      <a:pt x="232" y="57"/>
                    </a:lnTo>
                    <a:lnTo>
                      <a:pt x="217" y="60"/>
                    </a:lnTo>
                    <a:lnTo>
                      <a:pt x="201" y="66"/>
                    </a:lnTo>
                    <a:lnTo>
                      <a:pt x="186" y="72"/>
                    </a:lnTo>
                    <a:lnTo>
                      <a:pt x="175" y="79"/>
                    </a:lnTo>
                    <a:lnTo>
                      <a:pt x="160" y="85"/>
                    </a:lnTo>
                    <a:lnTo>
                      <a:pt x="148" y="93"/>
                    </a:lnTo>
                    <a:lnTo>
                      <a:pt x="137" y="100"/>
                    </a:lnTo>
                    <a:lnTo>
                      <a:pt x="125" y="110"/>
                    </a:lnTo>
                    <a:lnTo>
                      <a:pt x="112" y="117"/>
                    </a:lnTo>
                    <a:lnTo>
                      <a:pt x="101" y="125"/>
                    </a:lnTo>
                    <a:lnTo>
                      <a:pt x="89" y="133"/>
                    </a:lnTo>
                    <a:lnTo>
                      <a:pt x="82" y="142"/>
                    </a:lnTo>
                    <a:lnTo>
                      <a:pt x="70" y="150"/>
                    </a:lnTo>
                    <a:lnTo>
                      <a:pt x="61" y="161"/>
                    </a:lnTo>
                    <a:lnTo>
                      <a:pt x="53" y="171"/>
                    </a:lnTo>
                    <a:lnTo>
                      <a:pt x="45" y="182"/>
                    </a:lnTo>
                    <a:lnTo>
                      <a:pt x="38" y="192"/>
                    </a:lnTo>
                    <a:lnTo>
                      <a:pt x="28" y="201"/>
                    </a:lnTo>
                    <a:lnTo>
                      <a:pt x="23" y="214"/>
                    </a:lnTo>
                    <a:lnTo>
                      <a:pt x="17" y="226"/>
                    </a:lnTo>
                    <a:lnTo>
                      <a:pt x="11" y="237"/>
                    </a:lnTo>
                    <a:lnTo>
                      <a:pt x="7" y="251"/>
                    </a:lnTo>
                    <a:lnTo>
                      <a:pt x="2" y="264"/>
                    </a:lnTo>
                    <a:lnTo>
                      <a:pt x="0" y="277"/>
                    </a:lnTo>
                    <a:lnTo>
                      <a:pt x="173" y="332"/>
                    </a:lnTo>
                    <a:lnTo>
                      <a:pt x="1196" y="353"/>
                    </a:lnTo>
                    <a:lnTo>
                      <a:pt x="1196" y="353"/>
                    </a:lnTo>
                    <a:close/>
                  </a:path>
                </a:pathLst>
              </a:custGeom>
              <a:solidFill>
                <a:srgbClr val="eddb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664320" y="1940400"/>
                <a:ext cx="604080" cy="871560"/>
              </a:xfrm>
              <a:custGeom>
                <a:avLst/>
                <a:gdLst/>
                <a:ahLst/>
                <a:rect l="l" t="t" r="r" b="b"/>
                <a:pathLst>
                  <a:path w="2105" h="3038">
                    <a:moveTo>
                      <a:pt x="698" y="2955"/>
                    </a:moveTo>
                    <a:lnTo>
                      <a:pt x="683" y="2949"/>
                    </a:lnTo>
                    <a:lnTo>
                      <a:pt x="666" y="2943"/>
                    </a:lnTo>
                    <a:lnTo>
                      <a:pt x="650" y="2936"/>
                    </a:lnTo>
                    <a:lnTo>
                      <a:pt x="635" y="2930"/>
                    </a:lnTo>
                    <a:lnTo>
                      <a:pt x="620" y="2922"/>
                    </a:lnTo>
                    <a:lnTo>
                      <a:pt x="605" y="2915"/>
                    </a:lnTo>
                    <a:lnTo>
                      <a:pt x="590" y="2907"/>
                    </a:lnTo>
                    <a:lnTo>
                      <a:pt x="574" y="2899"/>
                    </a:lnTo>
                    <a:lnTo>
                      <a:pt x="559" y="2890"/>
                    </a:lnTo>
                    <a:lnTo>
                      <a:pt x="544" y="2880"/>
                    </a:lnTo>
                    <a:lnTo>
                      <a:pt x="531" y="2871"/>
                    </a:lnTo>
                    <a:lnTo>
                      <a:pt x="515" y="2861"/>
                    </a:lnTo>
                    <a:lnTo>
                      <a:pt x="500" y="2852"/>
                    </a:lnTo>
                    <a:lnTo>
                      <a:pt x="487" y="2840"/>
                    </a:lnTo>
                    <a:lnTo>
                      <a:pt x="472" y="2829"/>
                    </a:lnTo>
                    <a:lnTo>
                      <a:pt x="458" y="2820"/>
                    </a:lnTo>
                    <a:lnTo>
                      <a:pt x="443" y="2806"/>
                    </a:lnTo>
                    <a:lnTo>
                      <a:pt x="430" y="2795"/>
                    </a:lnTo>
                    <a:lnTo>
                      <a:pt x="417" y="2782"/>
                    </a:lnTo>
                    <a:lnTo>
                      <a:pt x="403" y="2770"/>
                    </a:lnTo>
                    <a:lnTo>
                      <a:pt x="388" y="2757"/>
                    </a:lnTo>
                    <a:lnTo>
                      <a:pt x="375" y="2745"/>
                    </a:lnTo>
                    <a:lnTo>
                      <a:pt x="363" y="2732"/>
                    </a:lnTo>
                    <a:lnTo>
                      <a:pt x="352" y="2719"/>
                    </a:lnTo>
                    <a:lnTo>
                      <a:pt x="339" y="2705"/>
                    </a:lnTo>
                    <a:lnTo>
                      <a:pt x="325" y="2692"/>
                    </a:lnTo>
                    <a:lnTo>
                      <a:pt x="312" y="2677"/>
                    </a:lnTo>
                    <a:lnTo>
                      <a:pt x="301" y="2664"/>
                    </a:lnTo>
                    <a:lnTo>
                      <a:pt x="289" y="2650"/>
                    </a:lnTo>
                    <a:lnTo>
                      <a:pt x="278" y="2635"/>
                    </a:lnTo>
                    <a:lnTo>
                      <a:pt x="266" y="2622"/>
                    </a:lnTo>
                    <a:lnTo>
                      <a:pt x="255" y="2609"/>
                    </a:lnTo>
                    <a:lnTo>
                      <a:pt x="244" y="2591"/>
                    </a:lnTo>
                    <a:lnTo>
                      <a:pt x="232" y="2578"/>
                    </a:lnTo>
                    <a:lnTo>
                      <a:pt x="221" y="2563"/>
                    </a:lnTo>
                    <a:lnTo>
                      <a:pt x="211" y="2550"/>
                    </a:lnTo>
                    <a:lnTo>
                      <a:pt x="202" y="2534"/>
                    </a:lnTo>
                    <a:lnTo>
                      <a:pt x="192" y="2519"/>
                    </a:lnTo>
                    <a:lnTo>
                      <a:pt x="183" y="2504"/>
                    </a:lnTo>
                    <a:lnTo>
                      <a:pt x="175" y="2491"/>
                    </a:lnTo>
                    <a:lnTo>
                      <a:pt x="166" y="2475"/>
                    </a:lnTo>
                    <a:lnTo>
                      <a:pt x="156" y="2462"/>
                    </a:lnTo>
                    <a:lnTo>
                      <a:pt x="149" y="2447"/>
                    </a:lnTo>
                    <a:lnTo>
                      <a:pt x="141" y="2434"/>
                    </a:lnTo>
                    <a:lnTo>
                      <a:pt x="133" y="2418"/>
                    </a:lnTo>
                    <a:lnTo>
                      <a:pt x="128" y="2405"/>
                    </a:lnTo>
                    <a:lnTo>
                      <a:pt x="120" y="2390"/>
                    </a:lnTo>
                    <a:lnTo>
                      <a:pt x="114" y="2377"/>
                    </a:lnTo>
                    <a:lnTo>
                      <a:pt x="109" y="2363"/>
                    </a:lnTo>
                    <a:lnTo>
                      <a:pt x="103" y="2350"/>
                    </a:lnTo>
                    <a:lnTo>
                      <a:pt x="97" y="2335"/>
                    </a:lnTo>
                    <a:lnTo>
                      <a:pt x="93" y="2323"/>
                    </a:lnTo>
                    <a:lnTo>
                      <a:pt x="88" y="2310"/>
                    </a:lnTo>
                    <a:lnTo>
                      <a:pt x="84" y="2297"/>
                    </a:lnTo>
                    <a:lnTo>
                      <a:pt x="80" y="2285"/>
                    </a:lnTo>
                    <a:lnTo>
                      <a:pt x="78" y="2274"/>
                    </a:lnTo>
                    <a:lnTo>
                      <a:pt x="74" y="2262"/>
                    </a:lnTo>
                    <a:lnTo>
                      <a:pt x="73" y="2249"/>
                    </a:lnTo>
                    <a:lnTo>
                      <a:pt x="71" y="2238"/>
                    </a:lnTo>
                    <a:lnTo>
                      <a:pt x="69" y="2226"/>
                    </a:lnTo>
                    <a:lnTo>
                      <a:pt x="67" y="2215"/>
                    </a:lnTo>
                    <a:lnTo>
                      <a:pt x="67" y="2205"/>
                    </a:lnTo>
                    <a:lnTo>
                      <a:pt x="67" y="2196"/>
                    </a:lnTo>
                    <a:lnTo>
                      <a:pt x="69" y="2188"/>
                    </a:lnTo>
                    <a:lnTo>
                      <a:pt x="69" y="2171"/>
                    </a:lnTo>
                    <a:lnTo>
                      <a:pt x="69" y="2158"/>
                    </a:lnTo>
                    <a:lnTo>
                      <a:pt x="71" y="2143"/>
                    </a:lnTo>
                    <a:lnTo>
                      <a:pt x="73" y="2129"/>
                    </a:lnTo>
                    <a:lnTo>
                      <a:pt x="73" y="2114"/>
                    </a:lnTo>
                    <a:lnTo>
                      <a:pt x="74" y="2101"/>
                    </a:lnTo>
                    <a:lnTo>
                      <a:pt x="76" y="2086"/>
                    </a:lnTo>
                    <a:lnTo>
                      <a:pt x="78" y="2074"/>
                    </a:lnTo>
                    <a:lnTo>
                      <a:pt x="80" y="2059"/>
                    </a:lnTo>
                    <a:lnTo>
                      <a:pt x="82" y="2048"/>
                    </a:lnTo>
                    <a:lnTo>
                      <a:pt x="84" y="2034"/>
                    </a:lnTo>
                    <a:lnTo>
                      <a:pt x="86" y="2021"/>
                    </a:lnTo>
                    <a:lnTo>
                      <a:pt x="88" y="2008"/>
                    </a:lnTo>
                    <a:lnTo>
                      <a:pt x="90" y="1994"/>
                    </a:lnTo>
                    <a:lnTo>
                      <a:pt x="93" y="1981"/>
                    </a:lnTo>
                    <a:lnTo>
                      <a:pt x="97" y="1970"/>
                    </a:lnTo>
                    <a:lnTo>
                      <a:pt x="99" y="1956"/>
                    </a:lnTo>
                    <a:lnTo>
                      <a:pt x="103" y="1943"/>
                    </a:lnTo>
                    <a:lnTo>
                      <a:pt x="105" y="1930"/>
                    </a:lnTo>
                    <a:lnTo>
                      <a:pt x="109" y="1918"/>
                    </a:lnTo>
                    <a:lnTo>
                      <a:pt x="111" y="1907"/>
                    </a:lnTo>
                    <a:lnTo>
                      <a:pt x="114" y="1894"/>
                    </a:lnTo>
                    <a:lnTo>
                      <a:pt x="118" y="1882"/>
                    </a:lnTo>
                    <a:lnTo>
                      <a:pt x="122" y="1871"/>
                    </a:lnTo>
                    <a:lnTo>
                      <a:pt x="124" y="1857"/>
                    </a:lnTo>
                    <a:lnTo>
                      <a:pt x="128" y="1844"/>
                    </a:lnTo>
                    <a:lnTo>
                      <a:pt x="133" y="1833"/>
                    </a:lnTo>
                    <a:lnTo>
                      <a:pt x="137" y="1821"/>
                    </a:lnTo>
                    <a:lnTo>
                      <a:pt x="141" y="1810"/>
                    </a:lnTo>
                    <a:lnTo>
                      <a:pt x="145" y="1799"/>
                    </a:lnTo>
                    <a:lnTo>
                      <a:pt x="149" y="1787"/>
                    </a:lnTo>
                    <a:lnTo>
                      <a:pt x="154" y="1776"/>
                    </a:lnTo>
                    <a:lnTo>
                      <a:pt x="158" y="1764"/>
                    </a:lnTo>
                    <a:lnTo>
                      <a:pt x="162" y="1753"/>
                    </a:lnTo>
                    <a:lnTo>
                      <a:pt x="166" y="1740"/>
                    </a:lnTo>
                    <a:lnTo>
                      <a:pt x="169" y="1730"/>
                    </a:lnTo>
                    <a:lnTo>
                      <a:pt x="173" y="1717"/>
                    </a:lnTo>
                    <a:lnTo>
                      <a:pt x="179" y="1707"/>
                    </a:lnTo>
                    <a:lnTo>
                      <a:pt x="183" y="1696"/>
                    </a:lnTo>
                    <a:lnTo>
                      <a:pt x="189" y="1684"/>
                    </a:lnTo>
                    <a:lnTo>
                      <a:pt x="192" y="1673"/>
                    </a:lnTo>
                    <a:lnTo>
                      <a:pt x="198" y="1662"/>
                    </a:lnTo>
                    <a:lnTo>
                      <a:pt x="202" y="1652"/>
                    </a:lnTo>
                    <a:lnTo>
                      <a:pt x="208" y="1641"/>
                    </a:lnTo>
                    <a:lnTo>
                      <a:pt x="211" y="1629"/>
                    </a:lnTo>
                    <a:lnTo>
                      <a:pt x="217" y="1618"/>
                    </a:lnTo>
                    <a:lnTo>
                      <a:pt x="223" y="1608"/>
                    </a:lnTo>
                    <a:lnTo>
                      <a:pt x="228" y="1599"/>
                    </a:lnTo>
                    <a:lnTo>
                      <a:pt x="232" y="1586"/>
                    </a:lnTo>
                    <a:lnTo>
                      <a:pt x="238" y="1576"/>
                    </a:lnTo>
                    <a:lnTo>
                      <a:pt x="242" y="1565"/>
                    </a:lnTo>
                    <a:lnTo>
                      <a:pt x="247" y="1555"/>
                    </a:lnTo>
                    <a:lnTo>
                      <a:pt x="251" y="1544"/>
                    </a:lnTo>
                    <a:lnTo>
                      <a:pt x="257" y="1532"/>
                    </a:lnTo>
                    <a:lnTo>
                      <a:pt x="263" y="1523"/>
                    </a:lnTo>
                    <a:lnTo>
                      <a:pt x="268" y="1513"/>
                    </a:lnTo>
                    <a:lnTo>
                      <a:pt x="272" y="1502"/>
                    </a:lnTo>
                    <a:lnTo>
                      <a:pt x="278" y="1492"/>
                    </a:lnTo>
                    <a:lnTo>
                      <a:pt x="282" y="1479"/>
                    </a:lnTo>
                    <a:lnTo>
                      <a:pt x="289" y="1471"/>
                    </a:lnTo>
                    <a:lnTo>
                      <a:pt x="293" y="1460"/>
                    </a:lnTo>
                    <a:lnTo>
                      <a:pt x="299" y="1451"/>
                    </a:lnTo>
                    <a:lnTo>
                      <a:pt x="303" y="1441"/>
                    </a:lnTo>
                    <a:lnTo>
                      <a:pt x="310" y="1432"/>
                    </a:lnTo>
                    <a:lnTo>
                      <a:pt x="316" y="1416"/>
                    </a:lnTo>
                    <a:lnTo>
                      <a:pt x="322" y="1403"/>
                    </a:lnTo>
                    <a:lnTo>
                      <a:pt x="329" y="1390"/>
                    </a:lnTo>
                    <a:lnTo>
                      <a:pt x="335" y="1378"/>
                    </a:lnTo>
                    <a:lnTo>
                      <a:pt x="341" y="1363"/>
                    </a:lnTo>
                    <a:lnTo>
                      <a:pt x="348" y="1350"/>
                    </a:lnTo>
                    <a:lnTo>
                      <a:pt x="354" y="1336"/>
                    </a:lnTo>
                    <a:lnTo>
                      <a:pt x="362" y="1325"/>
                    </a:lnTo>
                    <a:lnTo>
                      <a:pt x="367" y="1312"/>
                    </a:lnTo>
                    <a:lnTo>
                      <a:pt x="373" y="1298"/>
                    </a:lnTo>
                    <a:lnTo>
                      <a:pt x="381" y="1285"/>
                    </a:lnTo>
                    <a:lnTo>
                      <a:pt x="386" y="1272"/>
                    </a:lnTo>
                    <a:lnTo>
                      <a:pt x="392" y="1259"/>
                    </a:lnTo>
                    <a:lnTo>
                      <a:pt x="400" y="1245"/>
                    </a:lnTo>
                    <a:lnTo>
                      <a:pt x="405" y="1232"/>
                    </a:lnTo>
                    <a:lnTo>
                      <a:pt x="413" y="1221"/>
                    </a:lnTo>
                    <a:lnTo>
                      <a:pt x="417" y="1205"/>
                    </a:lnTo>
                    <a:lnTo>
                      <a:pt x="422" y="1192"/>
                    </a:lnTo>
                    <a:lnTo>
                      <a:pt x="428" y="1179"/>
                    </a:lnTo>
                    <a:lnTo>
                      <a:pt x="434" y="1165"/>
                    </a:lnTo>
                    <a:lnTo>
                      <a:pt x="439" y="1150"/>
                    </a:lnTo>
                    <a:lnTo>
                      <a:pt x="445" y="1139"/>
                    </a:lnTo>
                    <a:lnTo>
                      <a:pt x="451" y="1124"/>
                    </a:lnTo>
                    <a:lnTo>
                      <a:pt x="457" y="1112"/>
                    </a:lnTo>
                    <a:lnTo>
                      <a:pt x="460" y="1097"/>
                    </a:lnTo>
                    <a:lnTo>
                      <a:pt x="466" y="1084"/>
                    </a:lnTo>
                    <a:lnTo>
                      <a:pt x="470" y="1070"/>
                    </a:lnTo>
                    <a:lnTo>
                      <a:pt x="476" y="1057"/>
                    </a:lnTo>
                    <a:lnTo>
                      <a:pt x="479" y="1042"/>
                    </a:lnTo>
                    <a:lnTo>
                      <a:pt x="485" y="1028"/>
                    </a:lnTo>
                    <a:lnTo>
                      <a:pt x="491" y="1015"/>
                    </a:lnTo>
                    <a:lnTo>
                      <a:pt x="495" y="1002"/>
                    </a:lnTo>
                    <a:lnTo>
                      <a:pt x="498" y="987"/>
                    </a:lnTo>
                    <a:lnTo>
                      <a:pt x="502" y="973"/>
                    </a:lnTo>
                    <a:lnTo>
                      <a:pt x="506" y="956"/>
                    </a:lnTo>
                    <a:lnTo>
                      <a:pt x="510" y="943"/>
                    </a:lnTo>
                    <a:lnTo>
                      <a:pt x="514" y="928"/>
                    </a:lnTo>
                    <a:lnTo>
                      <a:pt x="517" y="914"/>
                    </a:lnTo>
                    <a:lnTo>
                      <a:pt x="519" y="899"/>
                    </a:lnTo>
                    <a:lnTo>
                      <a:pt x="523" y="886"/>
                    </a:lnTo>
                    <a:lnTo>
                      <a:pt x="525" y="869"/>
                    </a:lnTo>
                    <a:lnTo>
                      <a:pt x="527" y="855"/>
                    </a:lnTo>
                    <a:lnTo>
                      <a:pt x="531" y="838"/>
                    </a:lnTo>
                    <a:lnTo>
                      <a:pt x="533" y="825"/>
                    </a:lnTo>
                    <a:lnTo>
                      <a:pt x="534" y="808"/>
                    </a:lnTo>
                    <a:lnTo>
                      <a:pt x="536" y="795"/>
                    </a:lnTo>
                    <a:lnTo>
                      <a:pt x="538" y="777"/>
                    </a:lnTo>
                    <a:lnTo>
                      <a:pt x="540" y="764"/>
                    </a:lnTo>
                    <a:lnTo>
                      <a:pt x="540" y="745"/>
                    </a:lnTo>
                    <a:lnTo>
                      <a:pt x="542" y="730"/>
                    </a:lnTo>
                    <a:lnTo>
                      <a:pt x="542" y="715"/>
                    </a:lnTo>
                    <a:lnTo>
                      <a:pt x="544" y="698"/>
                    </a:lnTo>
                    <a:lnTo>
                      <a:pt x="544" y="681"/>
                    </a:lnTo>
                    <a:lnTo>
                      <a:pt x="544" y="665"/>
                    </a:lnTo>
                    <a:lnTo>
                      <a:pt x="544" y="648"/>
                    </a:lnTo>
                    <a:lnTo>
                      <a:pt x="544" y="631"/>
                    </a:lnTo>
                    <a:lnTo>
                      <a:pt x="542" y="614"/>
                    </a:lnTo>
                    <a:lnTo>
                      <a:pt x="540" y="597"/>
                    </a:lnTo>
                    <a:lnTo>
                      <a:pt x="538" y="580"/>
                    </a:lnTo>
                    <a:lnTo>
                      <a:pt x="538" y="563"/>
                    </a:lnTo>
                    <a:lnTo>
                      <a:pt x="536" y="544"/>
                    </a:lnTo>
                    <a:lnTo>
                      <a:pt x="534" y="526"/>
                    </a:lnTo>
                    <a:lnTo>
                      <a:pt x="533" y="509"/>
                    </a:lnTo>
                    <a:lnTo>
                      <a:pt x="531" y="492"/>
                    </a:lnTo>
                    <a:lnTo>
                      <a:pt x="527" y="477"/>
                    </a:lnTo>
                    <a:lnTo>
                      <a:pt x="525" y="462"/>
                    </a:lnTo>
                    <a:lnTo>
                      <a:pt x="521" y="447"/>
                    </a:lnTo>
                    <a:lnTo>
                      <a:pt x="517" y="433"/>
                    </a:lnTo>
                    <a:lnTo>
                      <a:pt x="512" y="420"/>
                    </a:lnTo>
                    <a:lnTo>
                      <a:pt x="508" y="407"/>
                    </a:lnTo>
                    <a:lnTo>
                      <a:pt x="502" y="393"/>
                    </a:lnTo>
                    <a:lnTo>
                      <a:pt x="498" y="380"/>
                    </a:lnTo>
                    <a:lnTo>
                      <a:pt x="491" y="367"/>
                    </a:lnTo>
                    <a:lnTo>
                      <a:pt x="487" y="355"/>
                    </a:lnTo>
                    <a:lnTo>
                      <a:pt x="479" y="342"/>
                    </a:lnTo>
                    <a:lnTo>
                      <a:pt x="474" y="331"/>
                    </a:lnTo>
                    <a:lnTo>
                      <a:pt x="466" y="319"/>
                    </a:lnTo>
                    <a:lnTo>
                      <a:pt x="460" y="306"/>
                    </a:lnTo>
                    <a:lnTo>
                      <a:pt x="453" y="296"/>
                    </a:lnTo>
                    <a:lnTo>
                      <a:pt x="447" y="285"/>
                    </a:lnTo>
                    <a:lnTo>
                      <a:pt x="438" y="274"/>
                    </a:lnTo>
                    <a:lnTo>
                      <a:pt x="430" y="262"/>
                    </a:lnTo>
                    <a:lnTo>
                      <a:pt x="420" y="251"/>
                    </a:lnTo>
                    <a:lnTo>
                      <a:pt x="413" y="241"/>
                    </a:lnTo>
                    <a:lnTo>
                      <a:pt x="403" y="230"/>
                    </a:lnTo>
                    <a:lnTo>
                      <a:pt x="396" y="220"/>
                    </a:lnTo>
                    <a:lnTo>
                      <a:pt x="386" y="209"/>
                    </a:lnTo>
                    <a:lnTo>
                      <a:pt x="379" y="201"/>
                    </a:lnTo>
                    <a:lnTo>
                      <a:pt x="369" y="192"/>
                    </a:lnTo>
                    <a:lnTo>
                      <a:pt x="360" y="182"/>
                    </a:lnTo>
                    <a:lnTo>
                      <a:pt x="352" y="173"/>
                    </a:lnTo>
                    <a:lnTo>
                      <a:pt x="342" y="165"/>
                    </a:lnTo>
                    <a:lnTo>
                      <a:pt x="333" y="156"/>
                    </a:lnTo>
                    <a:lnTo>
                      <a:pt x="325" y="148"/>
                    </a:lnTo>
                    <a:lnTo>
                      <a:pt x="316" y="139"/>
                    </a:lnTo>
                    <a:lnTo>
                      <a:pt x="308" y="133"/>
                    </a:lnTo>
                    <a:lnTo>
                      <a:pt x="299" y="125"/>
                    </a:lnTo>
                    <a:lnTo>
                      <a:pt x="289" y="118"/>
                    </a:lnTo>
                    <a:lnTo>
                      <a:pt x="280" y="108"/>
                    </a:lnTo>
                    <a:lnTo>
                      <a:pt x="272" y="102"/>
                    </a:lnTo>
                    <a:lnTo>
                      <a:pt x="263" y="95"/>
                    </a:lnTo>
                    <a:lnTo>
                      <a:pt x="253" y="89"/>
                    </a:lnTo>
                    <a:lnTo>
                      <a:pt x="246" y="82"/>
                    </a:lnTo>
                    <a:lnTo>
                      <a:pt x="238" y="78"/>
                    </a:lnTo>
                    <a:lnTo>
                      <a:pt x="228" y="70"/>
                    </a:lnTo>
                    <a:lnTo>
                      <a:pt x="221" y="64"/>
                    </a:lnTo>
                    <a:lnTo>
                      <a:pt x="211" y="59"/>
                    </a:lnTo>
                    <a:lnTo>
                      <a:pt x="204" y="55"/>
                    </a:lnTo>
                    <a:lnTo>
                      <a:pt x="196" y="49"/>
                    </a:lnTo>
                    <a:lnTo>
                      <a:pt x="189" y="45"/>
                    </a:lnTo>
                    <a:lnTo>
                      <a:pt x="181" y="42"/>
                    </a:lnTo>
                    <a:lnTo>
                      <a:pt x="177" y="38"/>
                    </a:lnTo>
                    <a:lnTo>
                      <a:pt x="168" y="32"/>
                    </a:lnTo>
                    <a:lnTo>
                      <a:pt x="162" y="28"/>
                    </a:lnTo>
                    <a:lnTo>
                      <a:pt x="154" y="25"/>
                    </a:lnTo>
                    <a:lnTo>
                      <a:pt x="150" y="21"/>
                    </a:lnTo>
                    <a:lnTo>
                      <a:pt x="139" y="15"/>
                    </a:lnTo>
                    <a:lnTo>
                      <a:pt x="131" y="11"/>
                    </a:lnTo>
                    <a:lnTo>
                      <a:pt x="124" y="6"/>
                    </a:lnTo>
                    <a:lnTo>
                      <a:pt x="116" y="4"/>
                    </a:lnTo>
                    <a:lnTo>
                      <a:pt x="112" y="0"/>
                    </a:lnTo>
                    <a:lnTo>
                      <a:pt x="111" y="0"/>
                    </a:lnTo>
                    <a:lnTo>
                      <a:pt x="57" y="38"/>
                    </a:lnTo>
                    <a:lnTo>
                      <a:pt x="57" y="38"/>
                    </a:lnTo>
                    <a:lnTo>
                      <a:pt x="63" y="38"/>
                    </a:lnTo>
                    <a:lnTo>
                      <a:pt x="67" y="42"/>
                    </a:lnTo>
                    <a:lnTo>
                      <a:pt x="74" y="47"/>
                    </a:lnTo>
                    <a:lnTo>
                      <a:pt x="82" y="51"/>
                    </a:lnTo>
                    <a:lnTo>
                      <a:pt x="93" y="57"/>
                    </a:lnTo>
                    <a:lnTo>
                      <a:pt x="97" y="61"/>
                    </a:lnTo>
                    <a:lnTo>
                      <a:pt x="103" y="64"/>
                    </a:lnTo>
                    <a:lnTo>
                      <a:pt x="109" y="68"/>
                    </a:lnTo>
                    <a:lnTo>
                      <a:pt x="116" y="74"/>
                    </a:lnTo>
                    <a:lnTo>
                      <a:pt x="122" y="78"/>
                    </a:lnTo>
                    <a:lnTo>
                      <a:pt x="128" y="82"/>
                    </a:lnTo>
                    <a:lnTo>
                      <a:pt x="137" y="85"/>
                    </a:lnTo>
                    <a:lnTo>
                      <a:pt x="145" y="91"/>
                    </a:lnTo>
                    <a:lnTo>
                      <a:pt x="152" y="97"/>
                    </a:lnTo>
                    <a:lnTo>
                      <a:pt x="160" y="104"/>
                    </a:lnTo>
                    <a:lnTo>
                      <a:pt x="168" y="108"/>
                    </a:lnTo>
                    <a:lnTo>
                      <a:pt x="177" y="116"/>
                    </a:lnTo>
                    <a:lnTo>
                      <a:pt x="185" y="122"/>
                    </a:lnTo>
                    <a:lnTo>
                      <a:pt x="194" y="127"/>
                    </a:lnTo>
                    <a:lnTo>
                      <a:pt x="202" y="135"/>
                    </a:lnTo>
                    <a:lnTo>
                      <a:pt x="211" y="142"/>
                    </a:lnTo>
                    <a:lnTo>
                      <a:pt x="221" y="150"/>
                    </a:lnTo>
                    <a:lnTo>
                      <a:pt x="228" y="158"/>
                    </a:lnTo>
                    <a:lnTo>
                      <a:pt x="238" y="165"/>
                    </a:lnTo>
                    <a:lnTo>
                      <a:pt x="249" y="175"/>
                    </a:lnTo>
                    <a:lnTo>
                      <a:pt x="257" y="180"/>
                    </a:lnTo>
                    <a:lnTo>
                      <a:pt x="266" y="188"/>
                    </a:lnTo>
                    <a:lnTo>
                      <a:pt x="276" y="196"/>
                    </a:lnTo>
                    <a:lnTo>
                      <a:pt x="285" y="205"/>
                    </a:lnTo>
                    <a:lnTo>
                      <a:pt x="293" y="215"/>
                    </a:lnTo>
                    <a:lnTo>
                      <a:pt x="303" y="222"/>
                    </a:lnTo>
                    <a:lnTo>
                      <a:pt x="312" y="232"/>
                    </a:lnTo>
                    <a:lnTo>
                      <a:pt x="320" y="241"/>
                    </a:lnTo>
                    <a:lnTo>
                      <a:pt x="329" y="249"/>
                    </a:lnTo>
                    <a:lnTo>
                      <a:pt x="339" y="260"/>
                    </a:lnTo>
                    <a:lnTo>
                      <a:pt x="346" y="270"/>
                    </a:lnTo>
                    <a:lnTo>
                      <a:pt x="356" y="279"/>
                    </a:lnTo>
                    <a:lnTo>
                      <a:pt x="363" y="291"/>
                    </a:lnTo>
                    <a:lnTo>
                      <a:pt x="371" y="302"/>
                    </a:lnTo>
                    <a:lnTo>
                      <a:pt x="379" y="312"/>
                    </a:lnTo>
                    <a:lnTo>
                      <a:pt x="388" y="323"/>
                    </a:lnTo>
                    <a:lnTo>
                      <a:pt x="394" y="333"/>
                    </a:lnTo>
                    <a:lnTo>
                      <a:pt x="401" y="344"/>
                    </a:lnTo>
                    <a:lnTo>
                      <a:pt x="409" y="355"/>
                    </a:lnTo>
                    <a:lnTo>
                      <a:pt x="417" y="367"/>
                    </a:lnTo>
                    <a:lnTo>
                      <a:pt x="420" y="378"/>
                    </a:lnTo>
                    <a:lnTo>
                      <a:pt x="428" y="390"/>
                    </a:lnTo>
                    <a:lnTo>
                      <a:pt x="434" y="403"/>
                    </a:lnTo>
                    <a:lnTo>
                      <a:pt x="439" y="414"/>
                    </a:lnTo>
                    <a:lnTo>
                      <a:pt x="443" y="426"/>
                    </a:lnTo>
                    <a:lnTo>
                      <a:pt x="449" y="437"/>
                    </a:lnTo>
                    <a:lnTo>
                      <a:pt x="453" y="450"/>
                    </a:lnTo>
                    <a:lnTo>
                      <a:pt x="458" y="464"/>
                    </a:lnTo>
                    <a:lnTo>
                      <a:pt x="460" y="475"/>
                    </a:lnTo>
                    <a:lnTo>
                      <a:pt x="464" y="488"/>
                    </a:lnTo>
                    <a:lnTo>
                      <a:pt x="468" y="502"/>
                    </a:lnTo>
                    <a:lnTo>
                      <a:pt x="472" y="515"/>
                    </a:lnTo>
                    <a:lnTo>
                      <a:pt x="474" y="530"/>
                    </a:lnTo>
                    <a:lnTo>
                      <a:pt x="474" y="547"/>
                    </a:lnTo>
                    <a:lnTo>
                      <a:pt x="476" y="563"/>
                    </a:lnTo>
                    <a:lnTo>
                      <a:pt x="477" y="580"/>
                    </a:lnTo>
                    <a:lnTo>
                      <a:pt x="477" y="597"/>
                    </a:lnTo>
                    <a:lnTo>
                      <a:pt x="479" y="612"/>
                    </a:lnTo>
                    <a:lnTo>
                      <a:pt x="481" y="627"/>
                    </a:lnTo>
                    <a:lnTo>
                      <a:pt x="483" y="644"/>
                    </a:lnTo>
                    <a:lnTo>
                      <a:pt x="481" y="660"/>
                    </a:lnTo>
                    <a:lnTo>
                      <a:pt x="481" y="675"/>
                    </a:lnTo>
                    <a:lnTo>
                      <a:pt x="481" y="690"/>
                    </a:lnTo>
                    <a:lnTo>
                      <a:pt x="481" y="705"/>
                    </a:lnTo>
                    <a:lnTo>
                      <a:pt x="479" y="720"/>
                    </a:lnTo>
                    <a:lnTo>
                      <a:pt x="477" y="738"/>
                    </a:lnTo>
                    <a:lnTo>
                      <a:pt x="477" y="751"/>
                    </a:lnTo>
                    <a:lnTo>
                      <a:pt x="477" y="768"/>
                    </a:lnTo>
                    <a:lnTo>
                      <a:pt x="474" y="781"/>
                    </a:lnTo>
                    <a:lnTo>
                      <a:pt x="472" y="795"/>
                    </a:lnTo>
                    <a:lnTo>
                      <a:pt x="470" y="810"/>
                    </a:lnTo>
                    <a:lnTo>
                      <a:pt x="468" y="825"/>
                    </a:lnTo>
                    <a:lnTo>
                      <a:pt x="464" y="838"/>
                    </a:lnTo>
                    <a:lnTo>
                      <a:pt x="460" y="852"/>
                    </a:lnTo>
                    <a:lnTo>
                      <a:pt x="458" y="867"/>
                    </a:lnTo>
                    <a:lnTo>
                      <a:pt x="457" y="882"/>
                    </a:lnTo>
                    <a:lnTo>
                      <a:pt x="451" y="895"/>
                    </a:lnTo>
                    <a:lnTo>
                      <a:pt x="447" y="909"/>
                    </a:lnTo>
                    <a:lnTo>
                      <a:pt x="443" y="922"/>
                    </a:lnTo>
                    <a:lnTo>
                      <a:pt x="439" y="935"/>
                    </a:lnTo>
                    <a:lnTo>
                      <a:pt x="436" y="949"/>
                    </a:lnTo>
                    <a:lnTo>
                      <a:pt x="432" y="962"/>
                    </a:lnTo>
                    <a:lnTo>
                      <a:pt x="428" y="975"/>
                    </a:lnTo>
                    <a:lnTo>
                      <a:pt x="424" y="990"/>
                    </a:lnTo>
                    <a:lnTo>
                      <a:pt x="419" y="1002"/>
                    </a:lnTo>
                    <a:lnTo>
                      <a:pt x="413" y="1015"/>
                    </a:lnTo>
                    <a:lnTo>
                      <a:pt x="409" y="1027"/>
                    </a:lnTo>
                    <a:lnTo>
                      <a:pt x="403" y="1040"/>
                    </a:lnTo>
                    <a:lnTo>
                      <a:pt x="398" y="1053"/>
                    </a:lnTo>
                    <a:lnTo>
                      <a:pt x="392" y="1066"/>
                    </a:lnTo>
                    <a:lnTo>
                      <a:pt x="386" y="1080"/>
                    </a:lnTo>
                    <a:lnTo>
                      <a:pt x="382" y="1093"/>
                    </a:lnTo>
                    <a:lnTo>
                      <a:pt x="375" y="1105"/>
                    </a:lnTo>
                    <a:lnTo>
                      <a:pt x="369" y="1118"/>
                    </a:lnTo>
                    <a:lnTo>
                      <a:pt x="363" y="1129"/>
                    </a:lnTo>
                    <a:lnTo>
                      <a:pt x="358" y="1143"/>
                    </a:lnTo>
                    <a:lnTo>
                      <a:pt x="352" y="1154"/>
                    </a:lnTo>
                    <a:lnTo>
                      <a:pt x="346" y="1167"/>
                    </a:lnTo>
                    <a:lnTo>
                      <a:pt x="341" y="1181"/>
                    </a:lnTo>
                    <a:lnTo>
                      <a:pt x="335" y="1194"/>
                    </a:lnTo>
                    <a:lnTo>
                      <a:pt x="329" y="1205"/>
                    </a:lnTo>
                    <a:lnTo>
                      <a:pt x="322" y="1217"/>
                    </a:lnTo>
                    <a:lnTo>
                      <a:pt x="316" y="1230"/>
                    </a:lnTo>
                    <a:lnTo>
                      <a:pt x="310" y="1243"/>
                    </a:lnTo>
                    <a:lnTo>
                      <a:pt x="303" y="1255"/>
                    </a:lnTo>
                    <a:lnTo>
                      <a:pt x="297" y="1268"/>
                    </a:lnTo>
                    <a:lnTo>
                      <a:pt x="289" y="1279"/>
                    </a:lnTo>
                    <a:lnTo>
                      <a:pt x="285" y="1293"/>
                    </a:lnTo>
                    <a:lnTo>
                      <a:pt x="278" y="1304"/>
                    </a:lnTo>
                    <a:lnTo>
                      <a:pt x="272" y="1317"/>
                    </a:lnTo>
                    <a:lnTo>
                      <a:pt x="265" y="1329"/>
                    </a:lnTo>
                    <a:lnTo>
                      <a:pt x="259" y="1342"/>
                    </a:lnTo>
                    <a:lnTo>
                      <a:pt x="253" y="1354"/>
                    </a:lnTo>
                    <a:lnTo>
                      <a:pt x="247" y="1367"/>
                    </a:lnTo>
                    <a:lnTo>
                      <a:pt x="242" y="1380"/>
                    </a:lnTo>
                    <a:lnTo>
                      <a:pt x="236" y="1394"/>
                    </a:lnTo>
                    <a:lnTo>
                      <a:pt x="228" y="1403"/>
                    </a:lnTo>
                    <a:lnTo>
                      <a:pt x="225" y="1414"/>
                    </a:lnTo>
                    <a:lnTo>
                      <a:pt x="219" y="1424"/>
                    </a:lnTo>
                    <a:lnTo>
                      <a:pt x="213" y="1435"/>
                    </a:lnTo>
                    <a:lnTo>
                      <a:pt x="208" y="1445"/>
                    </a:lnTo>
                    <a:lnTo>
                      <a:pt x="202" y="1456"/>
                    </a:lnTo>
                    <a:lnTo>
                      <a:pt x="196" y="1468"/>
                    </a:lnTo>
                    <a:lnTo>
                      <a:pt x="192" y="1479"/>
                    </a:lnTo>
                    <a:lnTo>
                      <a:pt x="185" y="1489"/>
                    </a:lnTo>
                    <a:lnTo>
                      <a:pt x="181" y="1498"/>
                    </a:lnTo>
                    <a:lnTo>
                      <a:pt x="175" y="1510"/>
                    </a:lnTo>
                    <a:lnTo>
                      <a:pt x="171" y="1519"/>
                    </a:lnTo>
                    <a:lnTo>
                      <a:pt x="166" y="1530"/>
                    </a:lnTo>
                    <a:lnTo>
                      <a:pt x="160" y="1542"/>
                    </a:lnTo>
                    <a:lnTo>
                      <a:pt x="156" y="1551"/>
                    </a:lnTo>
                    <a:lnTo>
                      <a:pt x="152" y="1563"/>
                    </a:lnTo>
                    <a:lnTo>
                      <a:pt x="147" y="1574"/>
                    </a:lnTo>
                    <a:lnTo>
                      <a:pt x="141" y="1586"/>
                    </a:lnTo>
                    <a:lnTo>
                      <a:pt x="137" y="1595"/>
                    </a:lnTo>
                    <a:lnTo>
                      <a:pt x="133" y="1608"/>
                    </a:lnTo>
                    <a:lnTo>
                      <a:pt x="128" y="1618"/>
                    </a:lnTo>
                    <a:lnTo>
                      <a:pt x="122" y="1629"/>
                    </a:lnTo>
                    <a:lnTo>
                      <a:pt x="118" y="1639"/>
                    </a:lnTo>
                    <a:lnTo>
                      <a:pt x="114" y="1652"/>
                    </a:lnTo>
                    <a:lnTo>
                      <a:pt x="109" y="1662"/>
                    </a:lnTo>
                    <a:lnTo>
                      <a:pt x="105" y="1673"/>
                    </a:lnTo>
                    <a:lnTo>
                      <a:pt x="101" y="1683"/>
                    </a:lnTo>
                    <a:lnTo>
                      <a:pt x="97" y="1696"/>
                    </a:lnTo>
                    <a:lnTo>
                      <a:pt x="93" y="1707"/>
                    </a:lnTo>
                    <a:lnTo>
                      <a:pt x="88" y="1719"/>
                    </a:lnTo>
                    <a:lnTo>
                      <a:pt x="84" y="1730"/>
                    </a:lnTo>
                    <a:lnTo>
                      <a:pt x="80" y="1743"/>
                    </a:lnTo>
                    <a:lnTo>
                      <a:pt x="76" y="1753"/>
                    </a:lnTo>
                    <a:lnTo>
                      <a:pt x="73" y="1766"/>
                    </a:lnTo>
                    <a:lnTo>
                      <a:pt x="69" y="1776"/>
                    </a:lnTo>
                    <a:lnTo>
                      <a:pt x="65" y="1787"/>
                    </a:lnTo>
                    <a:lnTo>
                      <a:pt x="61" y="1800"/>
                    </a:lnTo>
                    <a:lnTo>
                      <a:pt x="57" y="1812"/>
                    </a:lnTo>
                    <a:lnTo>
                      <a:pt x="54" y="1823"/>
                    </a:lnTo>
                    <a:lnTo>
                      <a:pt x="52" y="1837"/>
                    </a:lnTo>
                    <a:lnTo>
                      <a:pt x="48" y="1850"/>
                    </a:lnTo>
                    <a:lnTo>
                      <a:pt x="44" y="1861"/>
                    </a:lnTo>
                    <a:lnTo>
                      <a:pt x="40" y="1873"/>
                    </a:lnTo>
                    <a:lnTo>
                      <a:pt x="38" y="1886"/>
                    </a:lnTo>
                    <a:lnTo>
                      <a:pt x="35" y="1897"/>
                    </a:lnTo>
                    <a:lnTo>
                      <a:pt x="33" y="1911"/>
                    </a:lnTo>
                    <a:lnTo>
                      <a:pt x="29" y="1924"/>
                    </a:lnTo>
                    <a:lnTo>
                      <a:pt x="27" y="1939"/>
                    </a:lnTo>
                    <a:lnTo>
                      <a:pt x="23" y="1951"/>
                    </a:lnTo>
                    <a:lnTo>
                      <a:pt x="23" y="1964"/>
                    </a:lnTo>
                    <a:lnTo>
                      <a:pt x="19" y="1977"/>
                    </a:lnTo>
                    <a:lnTo>
                      <a:pt x="17" y="1991"/>
                    </a:lnTo>
                    <a:lnTo>
                      <a:pt x="16" y="2004"/>
                    </a:lnTo>
                    <a:lnTo>
                      <a:pt x="14" y="2019"/>
                    </a:lnTo>
                    <a:lnTo>
                      <a:pt x="10" y="2032"/>
                    </a:lnTo>
                    <a:lnTo>
                      <a:pt x="10" y="2048"/>
                    </a:lnTo>
                    <a:lnTo>
                      <a:pt x="8" y="2059"/>
                    </a:lnTo>
                    <a:lnTo>
                      <a:pt x="6" y="2074"/>
                    </a:lnTo>
                    <a:lnTo>
                      <a:pt x="6" y="2089"/>
                    </a:lnTo>
                    <a:lnTo>
                      <a:pt x="4" y="2105"/>
                    </a:lnTo>
                    <a:lnTo>
                      <a:pt x="2" y="2118"/>
                    </a:lnTo>
                    <a:lnTo>
                      <a:pt x="2" y="2133"/>
                    </a:lnTo>
                    <a:lnTo>
                      <a:pt x="2" y="2148"/>
                    </a:lnTo>
                    <a:lnTo>
                      <a:pt x="2" y="2165"/>
                    </a:lnTo>
                    <a:lnTo>
                      <a:pt x="0" y="2175"/>
                    </a:lnTo>
                    <a:lnTo>
                      <a:pt x="0" y="2188"/>
                    </a:lnTo>
                    <a:lnTo>
                      <a:pt x="0" y="2200"/>
                    </a:lnTo>
                    <a:lnTo>
                      <a:pt x="2" y="2211"/>
                    </a:lnTo>
                    <a:lnTo>
                      <a:pt x="2" y="2223"/>
                    </a:lnTo>
                    <a:lnTo>
                      <a:pt x="4" y="2238"/>
                    </a:lnTo>
                    <a:lnTo>
                      <a:pt x="6" y="2251"/>
                    </a:lnTo>
                    <a:lnTo>
                      <a:pt x="10" y="2266"/>
                    </a:lnTo>
                    <a:lnTo>
                      <a:pt x="14" y="2280"/>
                    </a:lnTo>
                    <a:lnTo>
                      <a:pt x="16" y="2293"/>
                    </a:lnTo>
                    <a:lnTo>
                      <a:pt x="19" y="2308"/>
                    </a:lnTo>
                    <a:lnTo>
                      <a:pt x="25" y="2323"/>
                    </a:lnTo>
                    <a:lnTo>
                      <a:pt x="29" y="2339"/>
                    </a:lnTo>
                    <a:lnTo>
                      <a:pt x="35" y="2354"/>
                    </a:lnTo>
                    <a:lnTo>
                      <a:pt x="40" y="2371"/>
                    </a:lnTo>
                    <a:lnTo>
                      <a:pt x="48" y="2386"/>
                    </a:lnTo>
                    <a:lnTo>
                      <a:pt x="54" y="2401"/>
                    </a:lnTo>
                    <a:lnTo>
                      <a:pt x="59" y="2416"/>
                    </a:lnTo>
                    <a:lnTo>
                      <a:pt x="67" y="2434"/>
                    </a:lnTo>
                    <a:lnTo>
                      <a:pt x="76" y="2449"/>
                    </a:lnTo>
                    <a:lnTo>
                      <a:pt x="84" y="2464"/>
                    </a:lnTo>
                    <a:lnTo>
                      <a:pt x="92" y="2483"/>
                    </a:lnTo>
                    <a:lnTo>
                      <a:pt x="99" y="2498"/>
                    </a:lnTo>
                    <a:lnTo>
                      <a:pt x="111" y="2515"/>
                    </a:lnTo>
                    <a:lnTo>
                      <a:pt x="118" y="2531"/>
                    </a:lnTo>
                    <a:lnTo>
                      <a:pt x="128" y="2548"/>
                    </a:lnTo>
                    <a:lnTo>
                      <a:pt x="137" y="2565"/>
                    </a:lnTo>
                    <a:lnTo>
                      <a:pt x="149" y="2582"/>
                    </a:lnTo>
                    <a:lnTo>
                      <a:pt x="158" y="2597"/>
                    </a:lnTo>
                    <a:lnTo>
                      <a:pt x="169" y="2614"/>
                    </a:lnTo>
                    <a:lnTo>
                      <a:pt x="181" y="2631"/>
                    </a:lnTo>
                    <a:lnTo>
                      <a:pt x="194" y="2650"/>
                    </a:lnTo>
                    <a:lnTo>
                      <a:pt x="204" y="2664"/>
                    </a:lnTo>
                    <a:lnTo>
                      <a:pt x="215" y="2681"/>
                    </a:lnTo>
                    <a:lnTo>
                      <a:pt x="228" y="2696"/>
                    </a:lnTo>
                    <a:lnTo>
                      <a:pt x="242" y="2711"/>
                    </a:lnTo>
                    <a:lnTo>
                      <a:pt x="253" y="2726"/>
                    </a:lnTo>
                    <a:lnTo>
                      <a:pt x="266" y="2742"/>
                    </a:lnTo>
                    <a:lnTo>
                      <a:pt x="280" y="2759"/>
                    </a:lnTo>
                    <a:lnTo>
                      <a:pt x="295" y="2774"/>
                    </a:lnTo>
                    <a:lnTo>
                      <a:pt x="308" y="2789"/>
                    </a:lnTo>
                    <a:lnTo>
                      <a:pt x="322" y="2802"/>
                    </a:lnTo>
                    <a:lnTo>
                      <a:pt x="335" y="2818"/>
                    </a:lnTo>
                    <a:lnTo>
                      <a:pt x="352" y="2833"/>
                    </a:lnTo>
                    <a:lnTo>
                      <a:pt x="365" y="2846"/>
                    </a:lnTo>
                    <a:lnTo>
                      <a:pt x="381" y="2860"/>
                    </a:lnTo>
                    <a:lnTo>
                      <a:pt x="396" y="2873"/>
                    </a:lnTo>
                    <a:lnTo>
                      <a:pt x="413" y="2886"/>
                    </a:lnTo>
                    <a:lnTo>
                      <a:pt x="426" y="2899"/>
                    </a:lnTo>
                    <a:lnTo>
                      <a:pt x="443" y="2911"/>
                    </a:lnTo>
                    <a:lnTo>
                      <a:pt x="458" y="2922"/>
                    </a:lnTo>
                    <a:lnTo>
                      <a:pt x="474" y="2936"/>
                    </a:lnTo>
                    <a:lnTo>
                      <a:pt x="491" y="2945"/>
                    </a:lnTo>
                    <a:lnTo>
                      <a:pt x="506" y="2956"/>
                    </a:lnTo>
                    <a:lnTo>
                      <a:pt x="523" y="2966"/>
                    </a:lnTo>
                    <a:lnTo>
                      <a:pt x="540" y="2977"/>
                    </a:lnTo>
                    <a:lnTo>
                      <a:pt x="557" y="2985"/>
                    </a:lnTo>
                    <a:lnTo>
                      <a:pt x="574" y="2995"/>
                    </a:lnTo>
                    <a:lnTo>
                      <a:pt x="592" y="3002"/>
                    </a:lnTo>
                    <a:lnTo>
                      <a:pt x="609" y="3012"/>
                    </a:lnTo>
                    <a:lnTo>
                      <a:pt x="626" y="3019"/>
                    </a:lnTo>
                    <a:lnTo>
                      <a:pt x="645" y="3025"/>
                    </a:lnTo>
                    <a:lnTo>
                      <a:pt x="662" y="3031"/>
                    </a:lnTo>
                    <a:lnTo>
                      <a:pt x="679" y="3038"/>
                    </a:lnTo>
                    <a:lnTo>
                      <a:pt x="2105" y="3036"/>
                    </a:lnTo>
                    <a:lnTo>
                      <a:pt x="2090" y="2960"/>
                    </a:lnTo>
                    <a:lnTo>
                      <a:pt x="698" y="2955"/>
                    </a:lnTo>
                    <a:lnTo>
                      <a:pt x="698" y="29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651000" y="1828800"/>
                <a:ext cx="621360" cy="212760"/>
              </a:xfrm>
              <a:custGeom>
                <a:avLst/>
                <a:gdLst/>
                <a:ahLst/>
                <a:rect l="l" t="t" r="r" b="b"/>
                <a:pathLst>
                  <a:path w="2163" h="742">
                    <a:moveTo>
                      <a:pt x="2101" y="143"/>
                    </a:moveTo>
                    <a:lnTo>
                      <a:pt x="2087" y="129"/>
                    </a:lnTo>
                    <a:lnTo>
                      <a:pt x="2076" y="116"/>
                    </a:lnTo>
                    <a:lnTo>
                      <a:pt x="2063" y="107"/>
                    </a:lnTo>
                    <a:lnTo>
                      <a:pt x="2049" y="97"/>
                    </a:lnTo>
                    <a:lnTo>
                      <a:pt x="2034" y="86"/>
                    </a:lnTo>
                    <a:lnTo>
                      <a:pt x="2017" y="78"/>
                    </a:lnTo>
                    <a:lnTo>
                      <a:pt x="2002" y="70"/>
                    </a:lnTo>
                    <a:lnTo>
                      <a:pt x="1985" y="63"/>
                    </a:lnTo>
                    <a:lnTo>
                      <a:pt x="1968" y="55"/>
                    </a:lnTo>
                    <a:lnTo>
                      <a:pt x="1950" y="48"/>
                    </a:lnTo>
                    <a:lnTo>
                      <a:pt x="1930" y="42"/>
                    </a:lnTo>
                    <a:lnTo>
                      <a:pt x="1911" y="36"/>
                    </a:lnTo>
                    <a:lnTo>
                      <a:pt x="1892" y="30"/>
                    </a:lnTo>
                    <a:lnTo>
                      <a:pt x="1873" y="25"/>
                    </a:lnTo>
                    <a:lnTo>
                      <a:pt x="1850" y="21"/>
                    </a:lnTo>
                    <a:lnTo>
                      <a:pt x="1829" y="19"/>
                    </a:lnTo>
                    <a:lnTo>
                      <a:pt x="1806" y="15"/>
                    </a:lnTo>
                    <a:lnTo>
                      <a:pt x="1785" y="10"/>
                    </a:lnTo>
                    <a:lnTo>
                      <a:pt x="1760" y="8"/>
                    </a:lnTo>
                    <a:lnTo>
                      <a:pt x="1738" y="6"/>
                    </a:lnTo>
                    <a:lnTo>
                      <a:pt x="1713" y="2"/>
                    </a:lnTo>
                    <a:lnTo>
                      <a:pt x="1688" y="2"/>
                    </a:lnTo>
                    <a:lnTo>
                      <a:pt x="1663" y="2"/>
                    </a:lnTo>
                    <a:lnTo>
                      <a:pt x="1641" y="2"/>
                    </a:lnTo>
                    <a:lnTo>
                      <a:pt x="1614" y="0"/>
                    </a:lnTo>
                    <a:lnTo>
                      <a:pt x="1587" y="0"/>
                    </a:lnTo>
                    <a:lnTo>
                      <a:pt x="1563" y="0"/>
                    </a:lnTo>
                    <a:lnTo>
                      <a:pt x="1538" y="2"/>
                    </a:lnTo>
                    <a:lnTo>
                      <a:pt x="1509" y="2"/>
                    </a:lnTo>
                    <a:lnTo>
                      <a:pt x="1485" y="4"/>
                    </a:lnTo>
                    <a:lnTo>
                      <a:pt x="1456" y="6"/>
                    </a:lnTo>
                    <a:lnTo>
                      <a:pt x="1431" y="8"/>
                    </a:lnTo>
                    <a:lnTo>
                      <a:pt x="1405" y="10"/>
                    </a:lnTo>
                    <a:lnTo>
                      <a:pt x="1378" y="11"/>
                    </a:lnTo>
                    <a:lnTo>
                      <a:pt x="1350" y="13"/>
                    </a:lnTo>
                    <a:lnTo>
                      <a:pt x="1323" y="17"/>
                    </a:lnTo>
                    <a:lnTo>
                      <a:pt x="1295" y="19"/>
                    </a:lnTo>
                    <a:lnTo>
                      <a:pt x="1270" y="23"/>
                    </a:lnTo>
                    <a:lnTo>
                      <a:pt x="1241" y="29"/>
                    </a:lnTo>
                    <a:lnTo>
                      <a:pt x="1215" y="32"/>
                    </a:lnTo>
                    <a:lnTo>
                      <a:pt x="1186" y="36"/>
                    </a:lnTo>
                    <a:lnTo>
                      <a:pt x="1160" y="40"/>
                    </a:lnTo>
                    <a:lnTo>
                      <a:pt x="1133" y="44"/>
                    </a:lnTo>
                    <a:lnTo>
                      <a:pt x="1106" y="48"/>
                    </a:lnTo>
                    <a:lnTo>
                      <a:pt x="1080" y="51"/>
                    </a:lnTo>
                    <a:lnTo>
                      <a:pt x="1055" y="57"/>
                    </a:lnTo>
                    <a:lnTo>
                      <a:pt x="1028" y="63"/>
                    </a:lnTo>
                    <a:lnTo>
                      <a:pt x="1002" y="68"/>
                    </a:lnTo>
                    <a:lnTo>
                      <a:pt x="975" y="72"/>
                    </a:lnTo>
                    <a:lnTo>
                      <a:pt x="951" y="80"/>
                    </a:lnTo>
                    <a:lnTo>
                      <a:pt x="926" y="84"/>
                    </a:lnTo>
                    <a:lnTo>
                      <a:pt x="901" y="89"/>
                    </a:lnTo>
                    <a:lnTo>
                      <a:pt x="876" y="95"/>
                    </a:lnTo>
                    <a:lnTo>
                      <a:pt x="854" y="103"/>
                    </a:lnTo>
                    <a:lnTo>
                      <a:pt x="831" y="107"/>
                    </a:lnTo>
                    <a:lnTo>
                      <a:pt x="808" y="114"/>
                    </a:lnTo>
                    <a:lnTo>
                      <a:pt x="783" y="120"/>
                    </a:lnTo>
                    <a:lnTo>
                      <a:pt x="762" y="126"/>
                    </a:lnTo>
                    <a:lnTo>
                      <a:pt x="740" y="131"/>
                    </a:lnTo>
                    <a:lnTo>
                      <a:pt x="719" y="139"/>
                    </a:lnTo>
                    <a:lnTo>
                      <a:pt x="698" y="145"/>
                    </a:lnTo>
                    <a:lnTo>
                      <a:pt x="679" y="150"/>
                    </a:lnTo>
                    <a:lnTo>
                      <a:pt x="658" y="156"/>
                    </a:lnTo>
                    <a:lnTo>
                      <a:pt x="641" y="164"/>
                    </a:lnTo>
                    <a:lnTo>
                      <a:pt x="616" y="171"/>
                    </a:lnTo>
                    <a:lnTo>
                      <a:pt x="591" y="179"/>
                    </a:lnTo>
                    <a:lnTo>
                      <a:pt x="568" y="186"/>
                    </a:lnTo>
                    <a:lnTo>
                      <a:pt x="546" y="194"/>
                    </a:lnTo>
                    <a:lnTo>
                      <a:pt x="523" y="202"/>
                    </a:lnTo>
                    <a:lnTo>
                      <a:pt x="502" y="209"/>
                    </a:lnTo>
                    <a:lnTo>
                      <a:pt x="483" y="217"/>
                    </a:lnTo>
                    <a:lnTo>
                      <a:pt x="462" y="224"/>
                    </a:lnTo>
                    <a:lnTo>
                      <a:pt x="443" y="230"/>
                    </a:lnTo>
                    <a:lnTo>
                      <a:pt x="422" y="238"/>
                    </a:lnTo>
                    <a:lnTo>
                      <a:pt x="403" y="243"/>
                    </a:lnTo>
                    <a:lnTo>
                      <a:pt x="386" y="251"/>
                    </a:lnTo>
                    <a:lnTo>
                      <a:pt x="369" y="257"/>
                    </a:lnTo>
                    <a:lnTo>
                      <a:pt x="352" y="262"/>
                    </a:lnTo>
                    <a:lnTo>
                      <a:pt x="335" y="270"/>
                    </a:lnTo>
                    <a:lnTo>
                      <a:pt x="319" y="276"/>
                    </a:lnTo>
                    <a:lnTo>
                      <a:pt x="302" y="281"/>
                    </a:lnTo>
                    <a:lnTo>
                      <a:pt x="287" y="287"/>
                    </a:lnTo>
                    <a:lnTo>
                      <a:pt x="272" y="291"/>
                    </a:lnTo>
                    <a:lnTo>
                      <a:pt x="259" y="299"/>
                    </a:lnTo>
                    <a:lnTo>
                      <a:pt x="243" y="302"/>
                    </a:lnTo>
                    <a:lnTo>
                      <a:pt x="230" y="310"/>
                    </a:lnTo>
                    <a:lnTo>
                      <a:pt x="219" y="314"/>
                    </a:lnTo>
                    <a:lnTo>
                      <a:pt x="207" y="319"/>
                    </a:lnTo>
                    <a:lnTo>
                      <a:pt x="194" y="323"/>
                    </a:lnTo>
                    <a:lnTo>
                      <a:pt x="182" y="329"/>
                    </a:lnTo>
                    <a:lnTo>
                      <a:pt x="171" y="333"/>
                    </a:lnTo>
                    <a:lnTo>
                      <a:pt x="162" y="338"/>
                    </a:lnTo>
                    <a:lnTo>
                      <a:pt x="150" y="342"/>
                    </a:lnTo>
                    <a:lnTo>
                      <a:pt x="141" y="348"/>
                    </a:lnTo>
                    <a:lnTo>
                      <a:pt x="131" y="352"/>
                    </a:lnTo>
                    <a:lnTo>
                      <a:pt x="124" y="357"/>
                    </a:lnTo>
                    <a:lnTo>
                      <a:pt x="112" y="359"/>
                    </a:lnTo>
                    <a:lnTo>
                      <a:pt x="105" y="363"/>
                    </a:lnTo>
                    <a:lnTo>
                      <a:pt x="97" y="367"/>
                    </a:lnTo>
                    <a:lnTo>
                      <a:pt x="89" y="371"/>
                    </a:lnTo>
                    <a:lnTo>
                      <a:pt x="80" y="375"/>
                    </a:lnTo>
                    <a:lnTo>
                      <a:pt x="72" y="378"/>
                    </a:lnTo>
                    <a:lnTo>
                      <a:pt x="67" y="380"/>
                    </a:lnTo>
                    <a:lnTo>
                      <a:pt x="61" y="384"/>
                    </a:lnTo>
                    <a:lnTo>
                      <a:pt x="49" y="390"/>
                    </a:lnTo>
                    <a:lnTo>
                      <a:pt x="38" y="397"/>
                    </a:lnTo>
                    <a:lnTo>
                      <a:pt x="29" y="401"/>
                    </a:lnTo>
                    <a:lnTo>
                      <a:pt x="23" y="407"/>
                    </a:lnTo>
                    <a:lnTo>
                      <a:pt x="15" y="411"/>
                    </a:lnTo>
                    <a:lnTo>
                      <a:pt x="8" y="415"/>
                    </a:lnTo>
                    <a:lnTo>
                      <a:pt x="2" y="418"/>
                    </a:lnTo>
                    <a:lnTo>
                      <a:pt x="0" y="422"/>
                    </a:lnTo>
                    <a:lnTo>
                      <a:pt x="0" y="426"/>
                    </a:lnTo>
                    <a:lnTo>
                      <a:pt x="0" y="430"/>
                    </a:lnTo>
                    <a:lnTo>
                      <a:pt x="53" y="489"/>
                    </a:lnTo>
                    <a:lnTo>
                      <a:pt x="53" y="485"/>
                    </a:lnTo>
                    <a:lnTo>
                      <a:pt x="57" y="481"/>
                    </a:lnTo>
                    <a:lnTo>
                      <a:pt x="59" y="477"/>
                    </a:lnTo>
                    <a:lnTo>
                      <a:pt x="63" y="475"/>
                    </a:lnTo>
                    <a:lnTo>
                      <a:pt x="67" y="472"/>
                    </a:lnTo>
                    <a:lnTo>
                      <a:pt x="76" y="468"/>
                    </a:lnTo>
                    <a:lnTo>
                      <a:pt x="82" y="464"/>
                    </a:lnTo>
                    <a:lnTo>
                      <a:pt x="89" y="458"/>
                    </a:lnTo>
                    <a:lnTo>
                      <a:pt x="99" y="451"/>
                    </a:lnTo>
                    <a:lnTo>
                      <a:pt x="110" y="445"/>
                    </a:lnTo>
                    <a:lnTo>
                      <a:pt x="116" y="441"/>
                    </a:lnTo>
                    <a:lnTo>
                      <a:pt x="122" y="437"/>
                    </a:lnTo>
                    <a:lnTo>
                      <a:pt x="127" y="434"/>
                    </a:lnTo>
                    <a:lnTo>
                      <a:pt x="135" y="432"/>
                    </a:lnTo>
                    <a:lnTo>
                      <a:pt x="141" y="428"/>
                    </a:lnTo>
                    <a:lnTo>
                      <a:pt x="150" y="424"/>
                    </a:lnTo>
                    <a:lnTo>
                      <a:pt x="158" y="420"/>
                    </a:lnTo>
                    <a:lnTo>
                      <a:pt x="167" y="416"/>
                    </a:lnTo>
                    <a:lnTo>
                      <a:pt x="175" y="411"/>
                    </a:lnTo>
                    <a:lnTo>
                      <a:pt x="182" y="407"/>
                    </a:lnTo>
                    <a:lnTo>
                      <a:pt x="192" y="401"/>
                    </a:lnTo>
                    <a:lnTo>
                      <a:pt x="202" y="397"/>
                    </a:lnTo>
                    <a:lnTo>
                      <a:pt x="211" y="394"/>
                    </a:lnTo>
                    <a:lnTo>
                      <a:pt x="221" y="388"/>
                    </a:lnTo>
                    <a:lnTo>
                      <a:pt x="234" y="382"/>
                    </a:lnTo>
                    <a:lnTo>
                      <a:pt x="245" y="378"/>
                    </a:lnTo>
                    <a:lnTo>
                      <a:pt x="255" y="371"/>
                    </a:lnTo>
                    <a:lnTo>
                      <a:pt x="268" y="367"/>
                    </a:lnTo>
                    <a:lnTo>
                      <a:pt x="279" y="361"/>
                    </a:lnTo>
                    <a:lnTo>
                      <a:pt x="295" y="357"/>
                    </a:lnTo>
                    <a:lnTo>
                      <a:pt x="306" y="350"/>
                    </a:lnTo>
                    <a:lnTo>
                      <a:pt x="321" y="344"/>
                    </a:lnTo>
                    <a:lnTo>
                      <a:pt x="335" y="340"/>
                    </a:lnTo>
                    <a:lnTo>
                      <a:pt x="352" y="335"/>
                    </a:lnTo>
                    <a:lnTo>
                      <a:pt x="365" y="327"/>
                    </a:lnTo>
                    <a:lnTo>
                      <a:pt x="382" y="321"/>
                    </a:lnTo>
                    <a:lnTo>
                      <a:pt x="397" y="314"/>
                    </a:lnTo>
                    <a:lnTo>
                      <a:pt x="414" y="310"/>
                    </a:lnTo>
                    <a:lnTo>
                      <a:pt x="430" y="300"/>
                    </a:lnTo>
                    <a:lnTo>
                      <a:pt x="449" y="297"/>
                    </a:lnTo>
                    <a:lnTo>
                      <a:pt x="468" y="287"/>
                    </a:lnTo>
                    <a:lnTo>
                      <a:pt x="487" y="283"/>
                    </a:lnTo>
                    <a:lnTo>
                      <a:pt x="506" y="274"/>
                    </a:lnTo>
                    <a:lnTo>
                      <a:pt x="527" y="268"/>
                    </a:lnTo>
                    <a:lnTo>
                      <a:pt x="546" y="261"/>
                    </a:lnTo>
                    <a:lnTo>
                      <a:pt x="567" y="253"/>
                    </a:lnTo>
                    <a:lnTo>
                      <a:pt x="587" y="245"/>
                    </a:lnTo>
                    <a:lnTo>
                      <a:pt x="610" y="240"/>
                    </a:lnTo>
                    <a:lnTo>
                      <a:pt x="635" y="232"/>
                    </a:lnTo>
                    <a:lnTo>
                      <a:pt x="658" y="226"/>
                    </a:lnTo>
                    <a:lnTo>
                      <a:pt x="679" y="217"/>
                    </a:lnTo>
                    <a:lnTo>
                      <a:pt x="701" y="211"/>
                    </a:lnTo>
                    <a:lnTo>
                      <a:pt x="722" y="203"/>
                    </a:lnTo>
                    <a:lnTo>
                      <a:pt x="743" y="198"/>
                    </a:lnTo>
                    <a:lnTo>
                      <a:pt x="766" y="190"/>
                    </a:lnTo>
                    <a:lnTo>
                      <a:pt x="791" y="186"/>
                    </a:lnTo>
                    <a:lnTo>
                      <a:pt x="814" y="179"/>
                    </a:lnTo>
                    <a:lnTo>
                      <a:pt x="838" y="173"/>
                    </a:lnTo>
                    <a:lnTo>
                      <a:pt x="863" y="167"/>
                    </a:lnTo>
                    <a:lnTo>
                      <a:pt x="886" y="162"/>
                    </a:lnTo>
                    <a:lnTo>
                      <a:pt x="911" y="156"/>
                    </a:lnTo>
                    <a:lnTo>
                      <a:pt x="937" y="150"/>
                    </a:lnTo>
                    <a:lnTo>
                      <a:pt x="960" y="145"/>
                    </a:lnTo>
                    <a:lnTo>
                      <a:pt x="987" y="139"/>
                    </a:lnTo>
                    <a:lnTo>
                      <a:pt x="1011" y="135"/>
                    </a:lnTo>
                    <a:lnTo>
                      <a:pt x="1038" y="131"/>
                    </a:lnTo>
                    <a:lnTo>
                      <a:pt x="1063" y="126"/>
                    </a:lnTo>
                    <a:lnTo>
                      <a:pt x="1089" y="120"/>
                    </a:lnTo>
                    <a:lnTo>
                      <a:pt x="1114" y="116"/>
                    </a:lnTo>
                    <a:lnTo>
                      <a:pt x="1141" y="112"/>
                    </a:lnTo>
                    <a:lnTo>
                      <a:pt x="1165" y="108"/>
                    </a:lnTo>
                    <a:lnTo>
                      <a:pt x="1192" y="105"/>
                    </a:lnTo>
                    <a:lnTo>
                      <a:pt x="1219" y="101"/>
                    </a:lnTo>
                    <a:lnTo>
                      <a:pt x="1245" y="99"/>
                    </a:lnTo>
                    <a:lnTo>
                      <a:pt x="1270" y="93"/>
                    </a:lnTo>
                    <a:lnTo>
                      <a:pt x="1295" y="91"/>
                    </a:lnTo>
                    <a:lnTo>
                      <a:pt x="1321" y="89"/>
                    </a:lnTo>
                    <a:lnTo>
                      <a:pt x="1348" y="87"/>
                    </a:lnTo>
                    <a:lnTo>
                      <a:pt x="1373" y="84"/>
                    </a:lnTo>
                    <a:lnTo>
                      <a:pt x="1397" y="82"/>
                    </a:lnTo>
                    <a:lnTo>
                      <a:pt x="1422" y="80"/>
                    </a:lnTo>
                    <a:lnTo>
                      <a:pt x="1449" y="80"/>
                    </a:lnTo>
                    <a:lnTo>
                      <a:pt x="1473" y="78"/>
                    </a:lnTo>
                    <a:lnTo>
                      <a:pt x="1496" y="76"/>
                    </a:lnTo>
                    <a:lnTo>
                      <a:pt x="1521" y="76"/>
                    </a:lnTo>
                    <a:lnTo>
                      <a:pt x="1546" y="76"/>
                    </a:lnTo>
                    <a:lnTo>
                      <a:pt x="1568" y="76"/>
                    </a:lnTo>
                    <a:lnTo>
                      <a:pt x="1591" y="76"/>
                    </a:lnTo>
                    <a:lnTo>
                      <a:pt x="1616" y="76"/>
                    </a:lnTo>
                    <a:lnTo>
                      <a:pt x="1641" y="78"/>
                    </a:lnTo>
                    <a:lnTo>
                      <a:pt x="1662" y="78"/>
                    </a:lnTo>
                    <a:lnTo>
                      <a:pt x="1684" y="80"/>
                    </a:lnTo>
                    <a:lnTo>
                      <a:pt x="1705" y="80"/>
                    </a:lnTo>
                    <a:lnTo>
                      <a:pt x="1728" y="86"/>
                    </a:lnTo>
                    <a:lnTo>
                      <a:pt x="1747" y="86"/>
                    </a:lnTo>
                    <a:lnTo>
                      <a:pt x="1768" y="89"/>
                    </a:lnTo>
                    <a:lnTo>
                      <a:pt x="1789" y="93"/>
                    </a:lnTo>
                    <a:lnTo>
                      <a:pt x="1810" y="97"/>
                    </a:lnTo>
                    <a:lnTo>
                      <a:pt x="1827" y="99"/>
                    </a:lnTo>
                    <a:lnTo>
                      <a:pt x="1846" y="103"/>
                    </a:lnTo>
                    <a:lnTo>
                      <a:pt x="1863" y="107"/>
                    </a:lnTo>
                    <a:lnTo>
                      <a:pt x="1880" y="112"/>
                    </a:lnTo>
                    <a:lnTo>
                      <a:pt x="1897" y="116"/>
                    </a:lnTo>
                    <a:lnTo>
                      <a:pt x="1912" y="122"/>
                    </a:lnTo>
                    <a:lnTo>
                      <a:pt x="1928" y="127"/>
                    </a:lnTo>
                    <a:lnTo>
                      <a:pt x="1945" y="135"/>
                    </a:lnTo>
                    <a:lnTo>
                      <a:pt x="1958" y="141"/>
                    </a:lnTo>
                    <a:lnTo>
                      <a:pt x="1971" y="146"/>
                    </a:lnTo>
                    <a:lnTo>
                      <a:pt x="1983" y="156"/>
                    </a:lnTo>
                    <a:lnTo>
                      <a:pt x="1996" y="164"/>
                    </a:lnTo>
                    <a:lnTo>
                      <a:pt x="2007" y="171"/>
                    </a:lnTo>
                    <a:lnTo>
                      <a:pt x="2019" y="179"/>
                    </a:lnTo>
                    <a:lnTo>
                      <a:pt x="2028" y="188"/>
                    </a:lnTo>
                    <a:lnTo>
                      <a:pt x="2038" y="200"/>
                    </a:lnTo>
                    <a:lnTo>
                      <a:pt x="2042" y="203"/>
                    </a:lnTo>
                    <a:lnTo>
                      <a:pt x="2047" y="211"/>
                    </a:lnTo>
                    <a:lnTo>
                      <a:pt x="2051" y="217"/>
                    </a:lnTo>
                    <a:lnTo>
                      <a:pt x="2057" y="224"/>
                    </a:lnTo>
                    <a:lnTo>
                      <a:pt x="2059" y="230"/>
                    </a:lnTo>
                    <a:lnTo>
                      <a:pt x="2065" y="238"/>
                    </a:lnTo>
                    <a:lnTo>
                      <a:pt x="2066" y="243"/>
                    </a:lnTo>
                    <a:lnTo>
                      <a:pt x="2070" y="253"/>
                    </a:lnTo>
                    <a:lnTo>
                      <a:pt x="2072" y="259"/>
                    </a:lnTo>
                    <a:lnTo>
                      <a:pt x="2072" y="266"/>
                    </a:lnTo>
                    <a:lnTo>
                      <a:pt x="2074" y="274"/>
                    </a:lnTo>
                    <a:lnTo>
                      <a:pt x="2078" y="281"/>
                    </a:lnTo>
                    <a:lnTo>
                      <a:pt x="2078" y="289"/>
                    </a:lnTo>
                    <a:lnTo>
                      <a:pt x="2080" y="297"/>
                    </a:lnTo>
                    <a:lnTo>
                      <a:pt x="2080" y="304"/>
                    </a:lnTo>
                    <a:lnTo>
                      <a:pt x="2082" y="314"/>
                    </a:lnTo>
                    <a:lnTo>
                      <a:pt x="2080" y="319"/>
                    </a:lnTo>
                    <a:lnTo>
                      <a:pt x="2080" y="327"/>
                    </a:lnTo>
                    <a:lnTo>
                      <a:pt x="2078" y="335"/>
                    </a:lnTo>
                    <a:lnTo>
                      <a:pt x="2078" y="344"/>
                    </a:lnTo>
                    <a:lnTo>
                      <a:pt x="2074" y="352"/>
                    </a:lnTo>
                    <a:lnTo>
                      <a:pt x="2072" y="359"/>
                    </a:lnTo>
                    <a:lnTo>
                      <a:pt x="2072" y="367"/>
                    </a:lnTo>
                    <a:lnTo>
                      <a:pt x="2070" y="375"/>
                    </a:lnTo>
                    <a:lnTo>
                      <a:pt x="2068" y="382"/>
                    </a:lnTo>
                    <a:lnTo>
                      <a:pt x="2065" y="390"/>
                    </a:lnTo>
                    <a:lnTo>
                      <a:pt x="2063" y="397"/>
                    </a:lnTo>
                    <a:lnTo>
                      <a:pt x="2059" y="405"/>
                    </a:lnTo>
                    <a:lnTo>
                      <a:pt x="2055" y="415"/>
                    </a:lnTo>
                    <a:lnTo>
                      <a:pt x="2051" y="422"/>
                    </a:lnTo>
                    <a:lnTo>
                      <a:pt x="2047" y="430"/>
                    </a:lnTo>
                    <a:lnTo>
                      <a:pt x="2046" y="437"/>
                    </a:lnTo>
                    <a:lnTo>
                      <a:pt x="2040" y="445"/>
                    </a:lnTo>
                    <a:lnTo>
                      <a:pt x="2034" y="451"/>
                    </a:lnTo>
                    <a:lnTo>
                      <a:pt x="2028" y="458"/>
                    </a:lnTo>
                    <a:lnTo>
                      <a:pt x="2025" y="466"/>
                    </a:lnTo>
                    <a:lnTo>
                      <a:pt x="2021" y="472"/>
                    </a:lnTo>
                    <a:lnTo>
                      <a:pt x="2015" y="481"/>
                    </a:lnTo>
                    <a:lnTo>
                      <a:pt x="2009" y="487"/>
                    </a:lnTo>
                    <a:lnTo>
                      <a:pt x="2004" y="494"/>
                    </a:lnTo>
                    <a:lnTo>
                      <a:pt x="1998" y="502"/>
                    </a:lnTo>
                    <a:lnTo>
                      <a:pt x="1992" y="508"/>
                    </a:lnTo>
                    <a:lnTo>
                      <a:pt x="1985" y="515"/>
                    </a:lnTo>
                    <a:lnTo>
                      <a:pt x="1981" y="521"/>
                    </a:lnTo>
                    <a:lnTo>
                      <a:pt x="1973" y="529"/>
                    </a:lnTo>
                    <a:lnTo>
                      <a:pt x="1968" y="534"/>
                    </a:lnTo>
                    <a:lnTo>
                      <a:pt x="1960" y="542"/>
                    </a:lnTo>
                    <a:lnTo>
                      <a:pt x="1954" y="548"/>
                    </a:lnTo>
                    <a:lnTo>
                      <a:pt x="1947" y="553"/>
                    </a:lnTo>
                    <a:lnTo>
                      <a:pt x="1941" y="559"/>
                    </a:lnTo>
                    <a:lnTo>
                      <a:pt x="1933" y="565"/>
                    </a:lnTo>
                    <a:lnTo>
                      <a:pt x="1926" y="570"/>
                    </a:lnTo>
                    <a:lnTo>
                      <a:pt x="1918" y="574"/>
                    </a:lnTo>
                    <a:lnTo>
                      <a:pt x="1911" y="580"/>
                    </a:lnTo>
                    <a:lnTo>
                      <a:pt x="1905" y="586"/>
                    </a:lnTo>
                    <a:lnTo>
                      <a:pt x="1897" y="591"/>
                    </a:lnTo>
                    <a:lnTo>
                      <a:pt x="1890" y="595"/>
                    </a:lnTo>
                    <a:lnTo>
                      <a:pt x="1884" y="599"/>
                    </a:lnTo>
                    <a:lnTo>
                      <a:pt x="1876" y="603"/>
                    </a:lnTo>
                    <a:lnTo>
                      <a:pt x="1869" y="608"/>
                    </a:lnTo>
                    <a:lnTo>
                      <a:pt x="1861" y="610"/>
                    </a:lnTo>
                    <a:lnTo>
                      <a:pt x="1854" y="614"/>
                    </a:lnTo>
                    <a:lnTo>
                      <a:pt x="1848" y="618"/>
                    </a:lnTo>
                    <a:lnTo>
                      <a:pt x="1842" y="622"/>
                    </a:lnTo>
                    <a:lnTo>
                      <a:pt x="1821" y="627"/>
                    </a:lnTo>
                    <a:lnTo>
                      <a:pt x="1802" y="635"/>
                    </a:lnTo>
                    <a:lnTo>
                      <a:pt x="1783" y="639"/>
                    </a:lnTo>
                    <a:lnTo>
                      <a:pt x="1762" y="643"/>
                    </a:lnTo>
                    <a:lnTo>
                      <a:pt x="1741" y="648"/>
                    </a:lnTo>
                    <a:lnTo>
                      <a:pt x="1722" y="652"/>
                    </a:lnTo>
                    <a:lnTo>
                      <a:pt x="1701" y="654"/>
                    </a:lnTo>
                    <a:lnTo>
                      <a:pt x="1681" y="656"/>
                    </a:lnTo>
                    <a:lnTo>
                      <a:pt x="1658" y="658"/>
                    </a:lnTo>
                    <a:lnTo>
                      <a:pt x="1637" y="660"/>
                    </a:lnTo>
                    <a:lnTo>
                      <a:pt x="1614" y="662"/>
                    </a:lnTo>
                    <a:lnTo>
                      <a:pt x="1591" y="662"/>
                    </a:lnTo>
                    <a:lnTo>
                      <a:pt x="1568" y="662"/>
                    </a:lnTo>
                    <a:lnTo>
                      <a:pt x="1547" y="662"/>
                    </a:lnTo>
                    <a:lnTo>
                      <a:pt x="1523" y="660"/>
                    </a:lnTo>
                    <a:lnTo>
                      <a:pt x="1502" y="660"/>
                    </a:lnTo>
                    <a:lnTo>
                      <a:pt x="1479" y="656"/>
                    </a:lnTo>
                    <a:lnTo>
                      <a:pt x="1456" y="654"/>
                    </a:lnTo>
                    <a:lnTo>
                      <a:pt x="1431" y="652"/>
                    </a:lnTo>
                    <a:lnTo>
                      <a:pt x="1409" y="648"/>
                    </a:lnTo>
                    <a:lnTo>
                      <a:pt x="1386" y="645"/>
                    </a:lnTo>
                    <a:lnTo>
                      <a:pt x="1363" y="641"/>
                    </a:lnTo>
                    <a:lnTo>
                      <a:pt x="1338" y="637"/>
                    </a:lnTo>
                    <a:lnTo>
                      <a:pt x="1317" y="635"/>
                    </a:lnTo>
                    <a:lnTo>
                      <a:pt x="1293" y="629"/>
                    </a:lnTo>
                    <a:lnTo>
                      <a:pt x="1270" y="626"/>
                    </a:lnTo>
                    <a:lnTo>
                      <a:pt x="1247" y="620"/>
                    </a:lnTo>
                    <a:lnTo>
                      <a:pt x="1224" y="616"/>
                    </a:lnTo>
                    <a:lnTo>
                      <a:pt x="1203" y="608"/>
                    </a:lnTo>
                    <a:lnTo>
                      <a:pt x="1181" y="605"/>
                    </a:lnTo>
                    <a:lnTo>
                      <a:pt x="1160" y="599"/>
                    </a:lnTo>
                    <a:lnTo>
                      <a:pt x="1139" y="595"/>
                    </a:lnTo>
                    <a:lnTo>
                      <a:pt x="1116" y="588"/>
                    </a:lnTo>
                    <a:lnTo>
                      <a:pt x="1095" y="582"/>
                    </a:lnTo>
                    <a:lnTo>
                      <a:pt x="1076" y="574"/>
                    </a:lnTo>
                    <a:lnTo>
                      <a:pt x="1055" y="569"/>
                    </a:lnTo>
                    <a:lnTo>
                      <a:pt x="1036" y="563"/>
                    </a:lnTo>
                    <a:lnTo>
                      <a:pt x="1015" y="555"/>
                    </a:lnTo>
                    <a:lnTo>
                      <a:pt x="996" y="550"/>
                    </a:lnTo>
                    <a:lnTo>
                      <a:pt x="979" y="544"/>
                    </a:lnTo>
                    <a:lnTo>
                      <a:pt x="958" y="538"/>
                    </a:lnTo>
                    <a:lnTo>
                      <a:pt x="941" y="532"/>
                    </a:lnTo>
                    <a:lnTo>
                      <a:pt x="924" y="525"/>
                    </a:lnTo>
                    <a:lnTo>
                      <a:pt x="909" y="521"/>
                    </a:lnTo>
                    <a:lnTo>
                      <a:pt x="893" y="513"/>
                    </a:lnTo>
                    <a:lnTo>
                      <a:pt x="876" y="508"/>
                    </a:lnTo>
                    <a:lnTo>
                      <a:pt x="863" y="502"/>
                    </a:lnTo>
                    <a:lnTo>
                      <a:pt x="850" y="498"/>
                    </a:lnTo>
                    <a:lnTo>
                      <a:pt x="835" y="492"/>
                    </a:lnTo>
                    <a:lnTo>
                      <a:pt x="821" y="487"/>
                    </a:lnTo>
                    <a:lnTo>
                      <a:pt x="810" y="483"/>
                    </a:lnTo>
                    <a:lnTo>
                      <a:pt x="798" y="479"/>
                    </a:lnTo>
                    <a:lnTo>
                      <a:pt x="787" y="473"/>
                    </a:lnTo>
                    <a:lnTo>
                      <a:pt x="778" y="470"/>
                    </a:lnTo>
                    <a:lnTo>
                      <a:pt x="768" y="466"/>
                    </a:lnTo>
                    <a:lnTo>
                      <a:pt x="760" y="464"/>
                    </a:lnTo>
                    <a:lnTo>
                      <a:pt x="753" y="458"/>
                    </a:lnTo>
                    <a:lnTo>
                      <a:pt x="745" y="456"/>
                    </a:lnTo>
                    <a:lnTo>
                      <a:pt x="740" y="454"/>
                    </a:lnTo>
                    <a:lnTo>
                      <a:pt x="736" y="453"/>
                    </a:lnTo>
                    <a:lnTo>
                      <a:pt x="730" y="451"/>
                    </a:lnTo>
                    <a:lnTo>
                      <a:pt x="728" y="451"/>
                    </a:lnTo>
                    <a:lnTo>
                      <a:pt x="154" y="475"/>
                    </a:lnTo>
                    <a:lnTo>
                      <a:pt x="163" y="531"/>
                    </a:lnTo>
                    <a:lnTo>
                      <a:pt x="701" y="531"/>
                    </a:lnTo>
                    <a:lnTo>
                      <a:pt x="709" y="534"/>
                    </a:lnTo>
                    <a:lnTo>
                      <a:pt x="722" y="538"/>
                    </a:lnTo>
                    <a:lnTo>
                      <a:pt x="730" y="542"/>
                    </a:lnTo>
                    <a:lnTo>
                      <a:pt x="738" y="546"/>
                    </a:lnTo>
                    <a:lnTo>
                      <a:pt x="747" y="550"/>
                    </a:lnTo>
                    <a:lnTo>
                      <a:pt x="757" y="555"/>
                    </a:lnTo>
                    <a:lnTo>
                      <a:pt x="766" y="559"/>
                    </a:lnTo>
                    <a:lnTo>
                      <a:pt x="778" y="563"/>
                    </a:lnTo>
                    <a:lnTo>
                      <a:pt x="789" y="567"/>
                    </a:lnTo>
                    <a:lnTo>
                      <a:pt x="802" y="572"/>
                    </a:lnTo>
                    <a:lnTo>
                      <a:pt x="814" y="576"/>
                    </a:lnTo>
                    <a:lnTo>
                      <a:pt x="829" y="582"/>
                    </a:lnTo>
                    <a:lnTo>
                      <a:pt x="844" y="588"/>
                    </a:lnTo>
                    <a:lnTo>
                      <a:pt x="859" y="595"/>
                    </a:lnTo>
                    <a:lnTo>
                      <a:pt x="874" y="599"/>
                    </a:lnTo>
                    <a:lnTo>
                      <a:pt x="890" y="605"/>
                    </a:lnTo>
                    <a:lnTo>
                      <a:pt x="907" y="610"/>
                    </a:lnTo>
                    <a:lnTo>
                      <a:pt x="924" y="616"/>
                    </a:lnTo>
                    <a:lnTo>
                      <a:pt x="939" y="622"/>
                    </a:lnTo>
                    <a:lnTo>
                      <a:pt x="958" y="627"/>
                    </a:lnTo>
                    <a:lnTo>
                      <a:pt x="975" y="633"/>
                    </a:lnTo>
                    <a:lnTo>
                      <a:pt x="994" y="639"/>
                    </a:lnTo>
                    <a:lnTo>
                      <a:pt x="1013" y="645"/>
                    </a:lnTo>
                    <a:lnTo>
                      <a:pt x="1032" y="650"/>
                    </a:lnTo>
                    <a:lnTo>
                      <a:pt x="1051" y="656"/>
                    </a:lnTo>
                    <a:lnTo>
                      <a:pt x="1072" y="662"/>
                    </a:lnTo>
                    <a:lnTo>
                      <a:pt x="1093" y="667"/>
                    </a:lnTo>
                    <a:lnTo>
                      <a:pt x="1112" y="675"/>
                    </a:lnTo>
                    <a:lnTo>
                      <a:pt x="1133" y="679"/>
                    </a:lnTo>
                    <a:lnTo>
                      <a:pt x="1156" y="686"/>
                    </a:lnTo>
                    <a:lnTo>
                      <a:pt x="1177" y="690"/>
                    </a:lnTo>
                    <a:lnTo>
                      <a:pt x="1200" y="696"/>
                    </a:lnTo>
                    <a:lnTo>
                      <a:pt x="1220" y="700"/>
                    </a:lnTo>
                    <a:lnTo>
                      <a:pt x="1243" y="705"/>
                    </a:lnTo>
                    <a:lnTo>
                      <a:pt x="1264" y="709"/>
                    </a:lnTo>
                    <a:lnTo>
                      <a:pt x="1287" y="713"/>
                    </a:lnTo>
                    <a:lnTo>
                      <a:pt x="1308" y="717"/>
                    </a:lnTo>
                    <a:lnTo>
                      <a:pt x="1333" y="723"/>
                    </a:lnTo>
                    <a:lnTo>
                      <a:pt x="1355" y="724"/>
                    </a:lnTo>
                    <a:lnTo>
                      <a:pt x="1378" y="726"/>
                    </a:lnTo>
                    <a:lnTo>
                      <a:pt x="1399" y="730"/>
                    </a:lnTo>
                    <a:lnTo>
                      <a:pt x="1424" y="734"/>
                    </a:lnTo>
                    <a:lnTo>
                      <a:pt x="1447" y="736"/>
                    </a:lnTo>
                    <a:lnTo>
                      <a:pt x="1469" y="738"/>
                    </a:lnTo>
                    <a:lnTo>
                      <a:pt x="1494" y="740"/>
                    </a:lnTo>
                    <a:lnTo>
                      <a:pt x="1517" y="742"/>
                    </a:lnTo>
                    <a:lnTo>
                      <a:pt x="1540" y="742"/>
                    </a:lnTo>
                    <a:lnTo>
                      <a:pt x="1563" y="742"/>
                    </a:lnTo>
                    <a:lnTo>
                      <a:pt x="1585" y="742"/>
                    </a:lnTo>
                    <a:lnTo>
                      <a:pt x="1610" y="742"/>
                    </a:lnTo>
                    <a:lnTo>
                      <a:pt x="1631" y="740"/>
                    </a:lnTo>
                    <a:lnTo>
                      <a:pt x="1654" y="738"/>
                    </a:lnTo>
                    <a:lnTo>
                      <a:pt x="1677" y="736"/>
                    </a:lnTo>
                    <a:lnTo>
                      <a:pt x="1701" y="736"/>
                    </a:lnTo>
                    <a:lnTo>
                      <a:pt x="1722" y="730"/>
                    </a:lnTo>
                    <a:lnTo>
                      <a:pt x="1745" y="726"/>
                    </a:lnTo>
                    <a:lnTo>
                      <a:pt x="1766" y="723"/>
                    </a:lnTo>
                    <a:lnTo>
                      <a:pt x="1789" y="719"/>
                    </a:lnTo>
                    <a:lnTo>
                      <a:pt x="1810" y="713"/>
                    </a:lnTo>
                    <a:lnTo>
                      <a:pt x="1831" y="707"/>
                    </a:lnTo>
                    <a:lnTo>
                      <a:pt x="1852" y="700"/>
                    </a:lnTo>
                    <a:lnTo>
                      <a:pt x="1874" y="696"/>
                    </a:lnTo>
                    <a:lnTo>
                      <a:pt x="1882" y="690"/>
                    </a:lnTo>
                    <a:lnTo>
                      <a:pt x="1893" y="686"/>
                    </a:lnTo>
                    <a:lnTo>
                      <a:pt x="1901" y="681"/>
                    </a:lnTo>
                    <a:lnTo>
                      <a:pt x="1911" y="677"/>
                    </a:lnTo>
                    <a:lnTo>
                      <a:pt x="1920" y="671"/>
                    </a:lnTo>
                    <a:lnTo>
                      <a:pt x="1930" y="666"/>
                    </a:lnTo>
                    <a:lnTo>
                      <a:pt x="1939" y="662"/>
                    </a:lnTo>
                    <a:lnTo>
                      <a:pt x="1950" y="656"/>
                    </a:lnTo>
                    <a:lnTo>
                      <a:pt x="1958" y="648"/>
                    </a:lnTo>
                    <a:lnTo>
                      <a:pt x="1968" y="643"/>
                    </a:lnTo>
                    <a:lnTo>
                      <a:pt x="1975" y="635"/>
                    </a:lnTo>
                    <a:lnTo>
                      <a:pt x="1985" y="629"/>
                    </a:lnTo>
                    <a:lnTo>
                      <a:pt x="1992" y="622"/>
                    </a:lnTo>
                    <a:lnTo>
                      <a:pt x="2002" y="614"/>
                    </a:lnTo>
                    <a:lnTo>
                      <a:pt x="2011" y="608"/>
                    </a:lnTo>
                    <a:lnTo>
                      <a:pt x="2021" y="601"/>
                    </a:lnTo>
                    <a:lnTo>
                      <a:pt x="2026" y="591"/>
                    </a:lnTo>
                    <a:lnTo>
                      <a:pt x="2034" y="584"/>
                    </a:lnTo>
                    <a:lnTo>
                      <a:pt x="2042" y="576"/>
                    </a:lnTo>
                    <a:lnTo>
                      <a:pt x="2051" y="569"/>
                    </a:lnTo>
                    <a:lnTo>
                      <a:pt x="2057" y="559"/>
                    </a:lnTo>
                    <a:lnTo>
                      <a:pt x="2065" y="551"/>
                    </a:lnTo>
                    <a:lnTo>
                      <a:pt x="2072" y="542"/>
                    </a:lnTo>
                    <a:lnTo>
                      <a:pt x="2080" y="534"/>
                    </a:lnTo>
                    <a:lnTo>
                      <a:pt x="2085" y="523"/>
                    </a:lnTo>
                    <a:lnTo>
                      <a:pt x="2091" y="515"/>
                    </a:lnTo>
                    <a:lnTo>
                      <a:pt x="2097" y="504"/>
                    </a:lnTo>
                    <a:lnTo>
                      <a:pt x="2103" y="496"/>
                    </a:lnTo>
                    <a:lnTo>
                      <a:pt x="2108" y="485"/>
                    </a:lnTo>
                    <a:lnTo>
                      <a:pt x="2114" y="475"/>
                    </a:lnTo>
                    <a:lnTo>
                      <a:pt x="2120" y="468"/>
                    </a:lnTo>
                    <a:lnTo>
                      <a:pt x="2125" y="458"/>
                    </a:lnTo>
                    <a:lnTo>
                      <a:pt x="2129" y="447"/>
                    </a:lnTo>
                    <a:lnTo>
                      <a:pt x="2133" y="437"/>
                    </a:lnTo>
                    <a:lnTo>
                      <a:pt x="2139" y="426"/>
                    </a:lnTo>
                    <a:lnTo>
                      <a:pt x="2142" y="416"/>
                    </a:lnTo>
                    <a:lnTo>
                      <a:pt x="2144" y="405"/>
                    </a:lnTo>
                    <a:lnTo>
                      <a:pt x="2148" y="396"/>
                    </a:lnTo>
                    <a:lnTo>
                      <a:pt x="2152" y="384"/>
                    </a:lnTo>
                    <a:lnTo>
                      <a:pt x="2154" y="375"/>
                    </a:lnTo>
                    <a:lnTo>
                      <a:pt x="2156" y="363"/>
                    </a:lnTo>
                    <a:lnTo>
                      <a:pt x="2156" y="354"/>
                    </a:lnTo>
                    <a:lnTo>
                      <a:pt x="2158" y="342"/>
                    </a:lnTo>
                    <a:lnTo>
                      <a:pt x="2160" y="333"/>
                    </a:lnTo>
                    <a:lnTo>
                      <a:pt x="2160" y="323"/>
                    </a:lnTo>
                    <a:lnTo>
                      <a:pt x="2161" y="314"/>
                    </a:lnTo>
                    <a:lnTo>
                      <a:pt x="2161" y="302"/>
                    </a:lnTo>
                    <a:lnTo>
                      <a:pt x="2163" y="293"/>
                    </a:lnTo>
                    <a:lnTo>
                      <a:pt x="2161" y="281"/>
                    </a:lnTo>
                    <a:lnTo>
                      <a:pt x="2160" y="272"/>
                    </a:lnTo>
                    <a:lnTo>
                      <a:pt x="2158" y="261"/>
                    </a:lnTo>
                    <a:lnTo>
                      <a:pt x="2156" y="253"/>
                    </a:lnTo>
                    <a:lnTo>
                      <a:pt x="2154" y="242"/>
                    </a:lnTo>
                    <a:lnTo>
                      <a:pt x="2152" y="232"/>
                    </a:lnTo>
                    <a:lnTo>
                      <a:pt x="2148" y="221"/>
                    </a:lnTo>
                    <a:lnTo>
                      <a:pt x="2146" y="213"/>
                    </a:lnTo>
                    <a:lnTo>
                      <a:pt x="2141" y="203"/>
                    </a:lnTo>
                    <a:lnTo>
                      <a:pt x="2137" y="194"/>
                    </a:lnTo>
                    <a:lnTo>
                      <a:pt x="2131" y="184"/>
                    </a:lnTo>
                    <a:lnTo>
                      <a:pt x="2125" y="177"/>
                    </a:lnTo>
                    <a:lnTo>
                      <a:pt x="2120" y="167"/>
                    </a:lnTo>
                    <a:lnTo>
                      <a:pt x="2114" y="158"/>
                    </a:lnTo>
                    <a:lnTo>
                      <a:pt x="2108" y="150"/>
                    </a:lnTo>
                    <a:lnTo>
                      <a:pt x="2101" y="143"/>
                    </a:lnTo>
                    <a:lnTo>
                      <a:pt x="2101" y="1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>
                <a:off x="6683760" y="2212560"/>
                <a:ext cx="449280" cy="158040"/>
              </a:xfrm>
              <a:custGeom>
                <a:avLst/>
                <a:gdLst/>
                <a:ahLst/>
                <a:rect l="l" t="t" r="r" b="b"/>
                <a:pathLst>
                  <a:path w="1564" h="551">
                    <a:moveTo>
                      <a:pt x="783" y="551"/>
                    </a:moveTo>
                    <a:lnTo>
                      <a:pt x="802" y="549"/>
                    </a:lnTo>
                    <a:lnTo>
                      <a:pt x="821" y="549"/>
                    </a:lnTo>
                    <a:lnTo>
                      <a:pt x="842" y="549"/>
                    </a:lnTo>
                    <a:lnTo>
                      <a:pt x="861" y="549"/>
                    </a:lnTo>
                    <a:lnTo>
                      <a:pt x="880" y="547"/>
                    </a:lnTo>
                    <a:lnTo>
                      <a:pt x="899" y="545"/>
                    </a:lnTo>
                    <a:lnTo>
                      <a:pt x="920" y="543"/>
                    </a:lnTo>
                    <a:lnTo>
                      <a:pt x="939" y="543"/>
                    </a:lnTo>
                    <a:lnTo>
                      <a:pt x="958" y="542"/>
                    </a:lnTo>
                    <a:lnTo>
                      <a:pt x="977" y="540"/>
                    </a:lnTo>
                    <a:lnTo>
                      <a:pt x="996" y="540"/>
                    </a:lnTo>
                    <a:lnTo>
                      <a:pt x="1015" y="538"/>
                    </a:lnTo>
                    <a:lnTo>
                      <a:pt x="1032" y="536"/>
                    </a:lnTo>
                    <a:lnTo>
                      <a:pt x="1051" y="534"/>
                    </a:lnTo>
                    <a:lnTo>
                      <a:pt x="1068" y="530"/>
                    </a:lnTo>
                    <a:lnTo>
                      <a:pt x="1087" y="530"/>
                    </a:lnTo>
                    <a:lnTo>
                      <a:pt x="1102" y="526"/>
                    </a:lnTo>
                    <a:lnTo>
                      <a:pt x="1119" y="522"/>
                    </a:lnTo>
                    <a:lnTo>
                      <a:pt x="1136" y="519"/>
                    </a:lnTo>
                    <a:lnTo>
                      <a:pt x="1154" y="517"/>
                    </a:lnTo>
                    <a:lnTo>
                      <a:pt x="1171" y="513"/>
                    </a:lnTo>
                    <a:lnTo>
                      <a:pt x="1186" y="509"/>
                    </a:lnTo>
                    <a:lnTo>
                      <a:pt x="1201" y="507"/>
                    </a:lnTo>
                    <a:lnTo>
                      <a:pt x="1218" y="503"/>
                    </a:lnTo>
                    <a:lnTo>
                      <a:pt x="1233" y="500"/>
                    </a:lnTo>
                    <a:lnTo>
                      <a:pt x="1249" y="496"/>
                    </a:lnTo>
                    <a:lnTo>
                      <a:pt x="1262" y="492"/>
                    </a:lnTo>
                    <a:lnTo>
                      <a:pt x="1279" y="488"/>
                    </a:lnTo>
                    <a:lnTo>
                      <a:pt x="1292" y="484"/>
                    </a:lnTo>
                    <a:lnTo>
                      <a:pt x="1306" y="481"/>
                    </a:lnTo>
                    <a:lnTo>
                      <a:pt x="1321" y="477"/>
                    </a:lnTo>
                    <a:lnTo>
                      <a:pt x="1336" y="473"/>
                    </a:lnTo>
                    <a:lnTo>
                      <a:pt x="1347" y="467"/>
                    </a:lnTo>
                    <a:lnTo>
                      <a:pt x="1359" y="462"/>
                    </a:lnTo>
                    <a:lnTo>
                      <a:pt x="1372" y="456"/>
                    </a:lnTo>
                    <a:lnTo>
                      <a:pt x="1386" y="452"/>
                    </a:lnTo>
                    <a:lnTo>
                      <a:pt x="1395" y="448"/>
                    </a:lnTo>
                    <a:lnTo>
                      <a:pt x="1406" y="443"/>
                    </a:lnTo>
                    <a:lnTo>
                      <a:pt x="1418" y="437"/>
                    </a:lnTo>
                    <a:lnTo>
                      <a:pt x="1429" y="433"/>
                    </a:lnTo>
                    <a:lnTo>
                      <a:pt x="1439" y="426"/>
                    </a:lnTo>
                    <a:lnTo>
                      <a:pt x="1448" y="422"/>
                    </a:lnTo>
                    <a:lnTo>
                      <a:pt x="1458" y="416"/>
                    </a:lnTo>
                    <a:lnTo>
                      <a:pt x="1467" y="410"/>
                    </a:lnTo>
                    <a:lnTo>
                      <a:pt x="1477" y="403"/>
                    </a:lnTo>
                    <a:lnTo>
                      <a:pt x="1484" y="399"/>
                    </a:lnTo>
                    <a:lnTo>
                      <a:pt x="1494" y="393"/>
                    </a:lnTo>
                    <a:lnTo>
                      <a:pt x="1503" y="389"/>
                    </a:lnTo>
                    <a:lnTo>
                      <a:pt x="1509" y="382"/>
                    </a:lnTo>
                    <a:lnTo>
                      <a:pt x="1517" y="376"/>
                    </a:lnTo>
                    <a:lnTo>
                      <a:pt x="1520" y="368"/>
                    </a:lnTo>
                    <a:lnTo>
                      <a:pt x="1528" y="363"/>
                    </a:lnTo>
                    <a:lnTo>
                      <a:pt x="1534" y="357"/>
                    </a:lnTo>
                    <a:lnTo>
                      <a:pt x="1538" y="351"/>
                    </a:lnTo>
                    <a:lnTo>
                      <a:pt x="1541" y="344"/>
                    </a:lnTo>
                    <a:lnTo>
                      <a:pt x="1547" y="338"/>
                    </a:lnTo>
                    <a:lnTo>
                      <a:pt x="1551" y="330"/>
                    </a:lnTo>
                    <a:lnTo>
                      <a:pt x="1555" y="325"/>
                    </a:lnTo>
                    <a:lnTo>
                      <a:pt x="1557" y="317"/>
                    </a:lnTo>
                    <a:lnTo>
                      <a:pt x="1560" y="311"/>
                    </a:lnTo>
                    <a:lnTo>
                      <a:pt x="1562" y="298"/>
                    </a:lnTo>
                    <a:lnTo>
                      <a:pt x="1564" y="287"/>
                    </a:lnTo>
                    <a:lnTo>
                      <a:pt x="1562" y="272"/>
                    </a:lnTo>
                    <a:lnTo>
                      <a:pt x="1559" y="258"/>
                    </a:lnTo>
                    <a:lnTo>
                      <a:pt x="1555" y="251"/>
                    </a:lnTo>
                    <a:lnTo>
                      <a:pt x="1551" y="245"/>
                    </a:lnTo>
                    <a:lnTo>
                      <a:pt x="1547" y="237"/>
                    </a:lnTo>
                    <a:lnTo>
                      <a:pt x="1543" y="232"/>
                    </a:lnTo>
                    <a:lnTo>
                      <a:pt x="1538" y="224"/>
                    </a:lnTo>
                    <a:lnTo>
                      <a:pt x="1532" y="218"/>
                    </a:lnTo>
                    <a:lnTo>
                      <a:pt x="1524" y="211"/>
                    </a:lnTo>
                    <a:lnTo>
                      <a:pt x="1519" y="205"/>
                    </a:lnTo>
                    <a:lnTo>
                      <a:pt x="1511" y="197"/>
                    </a:lnTo>
                    <a:lnTo>
                      <a:pt x="1503" y="192"/>
                    </a:lnTo>
                    <a:lnTo>
                      <a:pt x="1494" y="184"/>
                    </a:lnTo>
                    <a:lnTo>
                      <a:pt x="1486" y="178"/>
                    </a:lnTo>
                    <a:lnTo>
                      <a:pt x="1477" y="171"/>
                    </a:lnTo>
                    <a:lnTo>
                      <a:pt x="1465" y="167"/>
                    </a:lnTo>
                    <a:lnTo>
                      <a:pt x="1454" y="159"/>
                    </a:lnTo>
                    <a:lnTo>
                      <a:pt x="1444" y="154"/>
                    </a:lnTo>
                    <a:lnTo>
                      <a:pt x="1433" y="148"/>
                    </a:lnTo>
                    <a:lnTo>
                      <a:pt x="1420" y="142"/>
                    </a:lnTo>
                    <a:lnTo>
                      <a:pt x="1408" y="135"/>
                    </a:lnTo>
                    <a:lnTo>
                      <a:pt x="1397" y="131"/>
                    </a:lnTo>
                    <a:lnTo>
                      <a:pt x="1382" y="123"/>
                    </a:lnTo>
                    <a:lnTo>
                      <a:pt x="1368" y="117"/>
                    </a:lnTo>
                    <a:lnTo>
                      <a:pt x="1355" y="114"/>
                    </a:lnTo>
                    <a:lnTo>
                      <a:pt x="1340" y="108"/>
                    </a:lnTo>
                    <a:lnTo>
                      <a:pt x="1327" y="102"/>
                    </a:lnTo>
                    <a:lnTo>
                      <a:pt x="1311" y="97"/>
                    </a:lnTo>
                    <a:lnTo>
                      <a:pt x="1298" y="91"/>
                    </a:lnTo>
                    <a:lnTo>
                      <a:pt x="1283" y="87"/>
                    </a:lnTo>
                    <a:lnTo>
                      <a:pt x="1266" y="83"/>
                    </a:lnTo>
                    <a:lnTo>
                      <a:pt x="1249" y="78"/>
                    </a:lnTo>
                    <a:lnTo>
                      <a:pt x="1232" y="72"/>
                    </a:lnTo>
                    <a:lnTo>
                      <a:pt x="1216" y="68"/>
                    </a:lnTo>
                    <a:lnTo>
                      <a:pt x="1199" y="62"/>
                    </a:lnTo>
                    <a:lnTo>
                      <a:pt x="1182" y="59"/>
                    </a:lnTo>
                    <a:lnTo>
                      <a:pt x="1165" y="55"/>
                    </a:lnTo>
                    <a:lnTo>
                      <a:pt x="1148" y="51"/>
                    </a:lnTo>
                    <a:lnTo>
                      <a:pt x="1129" y="47"/>
                    </a:lnTo>
                    <a:lnTo>
                      <a:pt x="1110" y="43"/>
                    </a:lnTo>
                    <a:lnTo>
                      <a:pt x="1093" y="38"/>
                    </a:lnTo>
                    <a:lnTo>
                      <a:pt x="1074" y="34"/>
                    </a:lnTo>
                    <a:lnTo>
                      <a:pt x="1053" y="30"/>
                    </a:lnTo>
                    <a:lnTo>
                      <a:pt x="1036" y="28"/>
                    </a:lnTo>
                    <a:lnTo>
                      <a:pt x="1017" y="26"/>
                    </a:lnTo>
                    <a:lnTo>
                      <a:pt x="998" y="22"/>
                    </a:lnTo>
                    <a:lnTo>
                      <a:pt x="979" y="19"/>
                    </a:lnTo>
                    <a:lnTo>
                      <a:pt x="958" y="17"/>
                    </a:lnTo>
                    <a:lnTo>
                      <a:pt x="939" y="13"/>
                    </a:lnTo>
                    <a:lnTo>
                      <a:pt x="918" y="11"/>
                    </a:lnTo>
                    <a:lnTo>
                      <a:pt x="899" y="7"/>
                    </a:lnTo>
                    <a:lnTo>
                      <a:pt x="878" y="7"/>
                    </a:lnTo>
                    <a:lnTo>
                      <a:pt x="859" y="3"/>
                    </a:lnTo>
                    <a:lnTo>
                      <a:pt x="840" y="3"/>
                    </a:lnTo>
                    <a:lnTo>
                      <a:pt x="819" y="2"/>
                    </a:lnTo>
                    <a:lnTo>
                      <a:pt x="798" y="0"/>
                    </a:lnTo>
                    <a:lnTo>
                      <a:pt x="777" y="0"/>
                    </a:lnTo>
                    <a:lnTo>
                      <a:pt x="758" y="0"/>
                    </a:lnTo>
                    <a:lnTo>
                      <a:pt x="737" y="0"/>
                    </a:lnTo>
                    <a:lnTo>
                      <a:pt x="718" y="0"/>
                    </a:lnTo>
                    <a:lnTo>
                      <a:pt x="699" y="0"/>
                    </a:lnTo>
                    <a:lnTo>
                      <a:pt x="678" y="0"/>
                    </a:lnTo>
                    <a:lnTo>
                      <a:pt x="657" y="0"/>
                    </a:lnTo>
                    <a:lnTo>
                      <a:pt x="637" y="0"/>
                    </a:lnTo>
                    <a:lnTo>
                      <a:pt x="617" y="0"/>
                    </a:lnTo>
                    <a:lnTo>
                      <a:pt x="598" y="0"/>
                    </a:lnTo>
                    <a:lnTo>
                      <a:pt x="579" y="0"/>
                    </a:lnTo>
                    <a:lnTo>
                      <a:pt x="559" y="0"/>
                    </a:lnTo>
                    <a:lnTo>
                      <a:pt x="541" y="2"/>
                    </a:lnTo>
                    <a:lnTo>
                      <a:pt x="524" y="3"/>
                    </a:lnTo>
                    <a:lnTo>
                      <a:pt x="505" y="3"/>
                    </a:lnTo>
                    <a:lnTo>
                      <a:pt x="488" y="7"/>
                    </a:lnTo>
                    <a:lnTo>
                      <a:pt x="469" y="7"/>
                    </a:lnTo>
                    <a:lnTo>
                      <a:pt x="454" y="11"/>
                    </a:lnTo>
                    <a:lnTo>
                      <a:pt x="437" y="13"/>
                    </a:lnTo>
                    <a:lnTo>
                      <a:pt x="420" y="17"/>
                    </a:lnTo>
                    <a:lnTo>
                      <a:pt x="405" y="19"/>
                    </a:lnTo>
                    <a:lnTo>
                      <a:pt x="389" y="22"/>
                    </a:lnTo>
                    <a:lnTo>
                      <a:pt x="374" y="26"/>
                    </a:lnTo>
                    <a:lnTo>
                      <a:pt x="357" y="28"/>
                    </a:lnTo>
                    <a:lnTo>
                      <a:pt x="342" y="30"/>
                    </a:lnTo>
                    <a:lnTo>
                      <a:pt x="329" y="34"/>
                    </a:lnTo>
                    <a:lnTo>
                      <a:pt x="313" y="38"/>
                    </a:lnTo>
                    <a:lnTo>
                      <a:pt x="300" y="43"/>
                    </a:lnTo>
                    <a:lnTo>
                      <a:pt x="285" y="47"/>
                    </a:lnTo>
                    <a:lnTo>
                      <a:pt x="273" y="51"/>
                    </a:lnTo>
                    <a:lnTo>
                      <a:pt x="258" y="55"/>
                    </a:lnTo>
                    <a:lnTo>
                      <a:pt x="245" y="59"/>
                    </a:lnTo>
                    <a:lnTo>
                      <a:pt x="233" y="62"/>
                    </a:lnTo>
                    <a:lnTo>
                      <a:pt x="222" y="68"/>
                    </a:lnTo>
                    <a:lnTo>
                      <a:pt x="209" y="72"/>
                    </a:lnTo>
                    <a:lnTo>
                      <a:pt x="197" y="78"/>
                    </a:lnTo>
                    <a:lnTo>
                      <a:pt x="188" y="83"/>
                    </a:lnTo>
                    <a:lnTo>
                      <a:pt x="178" y="87"/>
                    </a:lnTo>
                    <a:lnTo>
                      <a:pt x="165" y="91"/>
                    </a:lnTo>
                    <a:lnTo>
                      <a:pt x="156" y="97"/>
                    </a:lnTo>
                    <a:lnTo>
                      <a:pt x="144" y="102"/>
                    </a:lnTo>
                    <a:lnTo>
                      <a:pt x="135" y="108"/>
                    </a:lnTo>
                    <a:lnTo>
                      <a:pt x="125" y="114"/>
                    </a:lnTo>
                    <a:lnTo>
                      <a:pt x="116" y="117"/>
                    </a:lnTo>
                    <a:lnTo>
                      <a:pt x="108" y="123"/>
                    </a:lnTo>
                    <a:lnTo>
                      <a:pt x="100" y="131"/>
                    </a:lnTo>
                    <a:lnTo>
                      <a:pt x="91" y="135"/>
                    </a:lnTo>
                    <a:lnTo>
                      <a:pt x="83" y="142"/>
                    </a:lnTo>
                    <a:lnTo>
                      <a:pt x="76" y="148"/>
                    </a:lnTo>
                    <a:lnTo>
                      <a:pt x="70" y="154"/>
                    </a:lnTo>
                    <a:lnTo>
                      <a:pt x="60" y="159"/>
                    </a:lnTo>
                    <a:lnTo>
                      <a:pt x="57" y="167"/>
                    </a:lnTo>
                    <a:lnTo>
                      <a:pt x="49" y="171"/>
                    </a:lnTo>
                    <a:lnTo>
                      <a:pt x="45" y="178"/>
                    </a:lnTo>
                    <a:lnTo>
                      <a:pt x="40" y="184"/>
                    </a:lnTo>
                    <a:lnTo>
                      <a:pt x="34" y="192"/>
                    </a:lnTo>
                    <a:lnTo>
                      <a:pt x="28" y="197"/>
                    </a:lnTo>
                    <a:lnTo>
                      <a:pt x="24" y="205"/>
                    </a:lnTo>
                    <a:lnTo>
                      <a:pt x="21" y="211"/>
                    </a:lnTo>
                    <a:lnTo>
                      <a:pt x="17" y="218"/>
                    </a:lnTo>
                    <a:lnTo>
                      <a:pt x="13" y="224"/>
                    </a:lnTo>
                    <a:lnTo>
                      <a:pt x="11" y="232"/>
                    </a:lnTo>
                    <a:lnTo>
                      <a:pt x="5" y="245"/>
                    </a:lnTo>
                    <a:lnTo>
                      <a:pt x="2" y="258"/>
                    </a:lnTo>
                    <a:lnTo>
                      <a:pt x="0" y="272"/>
                    </a:lnTo>
                    <a:lnTo>
                      <a:pt x="0" y="287"/>
                    </a:lnTo>
                    <a:lnTo>
                      <a:pt x="0" y="298"/>
                    </a:lnTo>
                    <a:lnTo>
                      <a:pt x="3" y="311"/>
                    </a:lnTo>
                    <a:lnTo>
                      <a:pt x="3" y="317"/>
                    </a:lnTo>
                    <a:lnTo>
                      <a:pt x="7" y="325"/>
                    </a:lnTo>
                    <a:lnTo>
                      <a:pt x="11" y="330"/>
                    </a:lnTo>
                    <a:lnTo>
                      <a:pt x="15" y="338"/>
                    </a:lnTo>
                    <a:lnTo>
                      <a:pt x="19" y="344"/>
                    </a:lnTo>
                    <a:lnTo>
                      <a:pt x="22" y="351"/>
                    </a:lnTo>
                    <a:lnTo>
                      <a:pt x="28" y="357"/>
                    </a:lnTo>
                    <a:lnTo>
                      <a:pt x="34" y="363"/>
                    </a:lnTo>
                    <a:lnTo>
                      <a:pt x="40" y="368"/>
                    </a:lnTo>
                    <a:lnTo>
                      <a:pt x="45" y="376"/>
                    </a:lnTo>
                    <a:lnTo>
                      <a:pt x="53" y="382"/>
                    </a:lnTo>
                    <a:lnTo>
                      <a:pt x="60" y="389"/>
                    </a:lnTo>
                    <a:lnTo>
                      <a:pt x="68" y="393"/>
                    </a:lnTo>
                    <a:lnTo>
                      <a:pt x="76" y="399"/>
                    </a:lnTo>
                    <a:lnTo>
                      <a:pt x="83" y="403"/>
                    </a:lnTo>
                    <a:lnTo>
                      <a:pt x="93" y="410"/>
                    </a:lnTo>
                    <a:lnTo>
                      <a:pt x="100" y="416"/>
                    </a:lnTo>
                    <a:lnTo>
                      <a:pt x="112" y="422"/>
                    </a:lnTo>
                    <a:lnTo>
                      <a:pt x="121" y="426"/>
                    </a:lnTo>
                    <a:lnTo>
                      <a:pt x="133" y="433"/>
                    </a:lnTo>
                    <a:lnTo>
                      <a:pt x="142" y="437"/>
                    </a:lnTo>
                    <a:lnTo>
                      <a:pt x="154" y="443"/>
                    </a:lnTo>
                    <a:lnTo>
                      <a:pt x="165" y="448"/>
                    </a:lnTo>
                    <a:lnTo>
                      <a:pt x="178" y="452"/>
                    </a:lnTo>
                    <a:lnTo>
                      <a:pt x="190" y="456"/>
                    </a:lnTo>
                    <a:lnTo>
                      <a:pt x="201" y="462"/>
                    </a:lnTo>
                    <a:lnTo>
                      <a:pt x="214" y="467"/>
                    </a:lnTo>
                    <a:lnTo>
                      <a:pt x="230" y="473"/>
                    </a:lnTo>
                    <a:lnTo>
                      <a:pt x="241" y="477"/>
                    </a:lnTo>
                    <a:lnTo>
                      <a:pt x="254" y="481"/>
                    </a:lnTo>
                    <a:lnTo>
                      <a:pt x="268" y="484"/>
                    </a:lnTo>
                    <a:lnTo>
                      <a:pt x="283" y="488"/>
                    </a:lnTo>
                    <a:lnTo>
                      <a:pt x="296" y="492"/>
                    </a:lnTo>
                    <a:lnTo>
                      <a:pt x="313" y="496"/>
                    </a:lnTo>
                    <a:lnTo>
                      <a:pt x="329" y="500"/>
                    </a:lnTo>
                    <a:lnTo>
                      <a:pt x="346" y="503"/>
                    </a:lnTo>
                    <a:lnTo>
                      <a:pt x="359" y="507"/>
                    </a:lnTo>
                    <a:lnTo>
                      <a:pt x="376" y="509"/>
                    </a:lnTo>
                    <a:lnTo>
                      <a:pt x="391" y="513"/>
                    </a:lnTo>
                    <a:lnTo>
                      <a:pt x="408" y="517"/>
                    </a:lnTo>
                    <a:lnTo>
                      <a:pt x="424" y="519"/>
                    </a:lnTo>
                    <a:lnTo>
                      <a:pt x="443" y="522"/>
                    </a:lnTo>
                    <a:lnTo>
                      <a:pt x="460" y="526"/>
                    </a:lnTo>
                    <a:lnTo>
                      <a:pt x="479" y="530"/>
                    </a:lnTo>
                    <a:lnTo>
                      <a:pt x="494" y="530"/>
                    </a:lnTo>
                    <a:lnTo>
                      <a:pt x="513" y="534"/>
                    </a:lnTo>
                    <a:lnTo>
                      <a:pt x="530" y="536"/>
                    </a:lnTo>
                    <a:lnTo>
                      <a:pt x="549" y="538"/>
                    </a:lnTo>
                    <a:lnTo>
                      <a:pt x="568" y="540"/>
                    </a:lnTo>
                    <a:lnTo>
                      <a:pt x="585" y="540"/>
                    </a:lnTo>
                    <a:lnTo>
                      <a:pt x="604" y="542"/>
                    </a:lnTo>
                    <a:lnTo>
                      <a:pt x="625" y="543"/>
                    </a:lnTo>
                    <a:lnTo>
                      <a:pt x="642" y="543"/>
                    </a:lnTo>
                    <a:lnTo>
                      <a:pt x="663" y="545"/>
                    </a:lnTo>
                    <a:lnTo>
                      <a:pt x="682" y="547"/>
                    </a:lnTo>
                    <a:lnTo>
                      <a:pt x="703" y="549"/>
                    </a:lnTo>
                    <a:lnTo>
                      <a:pt x="722" y="549"/>
                    </a:lnTo>
                    <a:lnTo>
                      <a:pt x="743" y="549"/>
                    </a:lnTo>
                    <a:lnTo>
                      <a:pt x="762" y="549"/>
                    </a:lnTo>
                    <a:lnTo>
                      <a:pt x="783" y="551"/>
                    </a:lnTo>
                    <a:lnTo>
                      <a:pt x="783" y="551"/>
                    </a:lnTo>
                    <a:close/>
                  </a:path>
                </a:pathLst>
              </a:custGeom>
              <a:solidFill>
                <a:srgbClr val="ffff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707520" y="2683080"/>
                <a:ext cx="390240" cy="115200"/>
              </a:xfrm>
              <a:custGeom>
                <a:avLst/>
                <a:gdLst/>
                <a:ahLst/>
                <a:rect l="l" t="t" r="r" b="b"/>
                <a:pathLst>
                  <a:path w="1360" h="403">
                    <a:moveTo>
                      <a:pt x="1360" y="249"/>
                    </a:moveTo>
                    <a:lnTo>
                      <a:pt x="1356" y="239"/>
                    </a:lnTo>
                    <a:lnTo>
                      <a:pt x="1350" y="230"/>
                    </a:lnTo>
                    <a:lnTo>
                      <a:pt x="1346" y="220"/>
                    </a:lnTo>
                    <a:lnTo>
                      <a:pt x="1342" y="213"/>
                    </a:lnTo>
                    <a:lnTo>
                      <a:pt x="1337" y="203"/>
                    </a:lnTo>
                    <a:lnTo>
                      <a:pt x="1331" y="195"/>
                    </a:lnTo>
                    <a:lnTo>
                      <a:pt x="1325" y="188"/>
                    </a:lnTo>
                    <a:lnTo>
                      <a:pt x="1320" y="180"/>
                    </a:lnTo>
                    <a:lnTo>
                      <a:pt x="1310" y="171"/>
                    </a:lnTo>
                    <a:lnTo>
                      <a:pt x="1303" y="163"/>
                    </a:lnTo>
                    <a:lnTo>
                      <a:pt x="1293" y="154"/>
                    </a:lnTo>
                    <a:lnTo>
                      <a:pt x="1285" y="146"/>
                    </a:lnTo>
                    <a:lnTo>
                      <a:pt x="1274" y="138"/>
                    </a:lnTo>
                    <a:lnTo>
                      <a:pt x="1265" y="131"/>
                    </a:lnTo>
                    <a:lnTo>
                      <a:pt x="1253" y="125"/>
                    </a:lnTo>
                    <a:lnTo>
                      <a:pt x="1242" y="117"/>
                    </a:lnTo>
                    <a:lnTo>
                      <a:pt x="1234" y="114"/>
                    </a:lnTo>
                    <a:lnTo>
                      <a:pt x="1228" y="110"/>
                    </a:lnTo>
                    <a:lnTo>
                      <a:pt x="1221" y="106"/>
                    </a:lnTo>
                    <a:lnTo>
                      <a:pt x="1215" y="102"/>
                    </a:lnTo>
                    <a:lnTo>
                      <a:pt x="1202" y="97"/>
                    </a:lnTo>
                    <a:lnTo>
                      <a:pt x="1188" y="91"/>
                    </a:lnTo>
                    <a:lnTo>
                      <a:pt x="1181" y="87"/>
                    </a:lnTo>
                    <a:lnTo>
                      <a:pt x="1173" y="83"/>
                    </a:lnTo>
                    <a:lnTo>
                      <a:pt x="1166" y="79"/>
                    </a:lnTo>
                    <a:lnTo>
                      <a:pt x="1158" y="78"/>
                    </a:lnTo>
                    <a:lnTo>
                      <a:pt x="1150" y="74"/>
                    </a:lnTo>
                    <a:lnTo>
                      <a:pt x="1143" y="70"/>
                    </a:lnTo>
                    <a:lnTo>
                      <a:pt x="1135" y="68"/>
                    </a:lnTo>
                    <a:lnTo>
                      <a:pt x="1128" y="66"/>
                    </a:lnTo>
                    <a:lnTo>
                      <a:pt x="1120" y="62"/>
                    </a:lnTo>
                    <a:lnTo>
                      <a:pt x="1111" y="60"/>
                    </a:lnTo>
                    <a:lnTo>
                      <a:pt x="1103" y="57"/>
                    </a:lnTo>
                    <a:lnTo>
                      <a:pt x="1093" y="55"/>
                    </a:lnTo>
                    <a:lnTo>
                      <a:pt x="1084" y="53"/>
                    </a:lnTo>
                    <a:lnTo>
                      <a:pt x="1076" y="49"/>
                    </a:lnTo>
                    <a:lnTo>
                      <a:pt x="1067" y="47"/>
                    </a:lnTo>
                    <a:lnTo>
                      <a:pt x="1059" y="45"/>
                    </a:lnTo>
                    <a:lnTo>
                      <a:pt x="1050" y="41"/>
                    </a:lnTo>
                    <a:lnTo>
                      <a:pt x="1040" y="40"/>
                    </a:lnTo>
                    <a:lnTo>
                      <a:pt x="1031" y="38"/>
                    </a:lnTo>
                    <a:lnTo>
                      <a:pt x="1023" y="36"/>
                    </a:lnTo>
                    <a:lnTo>
                      <a:pt x="1012" y="34"/>
                    </a:lnTo>
                    <a:lnTo>
                      <a:pt x="1004" y="32"/>
                    </a:lnTo>
                    <a:lnTo>
                      <a:pt x="993" y="30"/>
                    </a:lnTo>
                    <a:lnTo>
                      <a:pt x="985" y="30"/>
                    </a:lnTo>
                    <a:lnTo>
                      <a:pt x="968" y="26"/>
                    </a:lnTo>
                    <a:lnTo>
                      <a:pt x="953" y="22"/>
                    </a:lnTo>
                    <a:lnTo>
                      <a:pt x="936" y="19"/>
                    </a:lnTo>
                    <a:lnTo>
                      <a:pt x="920" y="17"/>
                    </a:lnTo>
                    <a:lnTo>
                      <a:pt x="905" y="13"/>
                    </a:lnTo>
                    <a:lnTo>
                      <a:pt x="888" y="13"/>
                    </a:lnTo>
                    <a:lnTo>
                      <a:pt x="873" y="9"/>
                    </a:lnTo>
                    <a:lnTo>
                      <a:pt x="858" y="9"/>
                    </a:lnTo>
                    <a:lnTo>
                      <a:pt x="841" y="7"/>
                    </a:lnTo>
                    <a:lnTo>
                      <a:pt x="823" y="5"/>
                    </a:lnTo>
                    <a:lnTo>
                      <a:pt x="806" y="3"/>
                    </a:lnTo>
                    <a:lnTo>
                      <a:pt x="791" y="3"/>
                    </a:lnTo>
                    <a:lnTo>
                      <a:pt x="774" y="2"/>
                    </a:lnTo>
                    <a:lnTo>
                      <a:pt x="757" y="2"/>
                    </a:lnTo>
                    <a:lnTo>
                      <a:pt x="742" y="2"/>
                    </a:lnTo>
                    <a:lnTo>
                      <a:pt x="727" y="2"/>
                    </a:lnTo>
                    <a:lnTo>
                      <a:pt x="709" y="0"/>
                    </a:lnTo>
                    <a:lnTo>
                      <a:pt x="692" y="0"/>
                    </a:lnTo>
                    <a:lnTo>
                      <a:pt x="675" y="0"/>
                    </a:lnTo>
                    <a:lnTo>
                      <a:pt x="660" y="0"/>
                    </a:lnTo>
                    <a:lnTo>
                      <a:pt x="643" y="0"/>
                    </a:lnTo>
                    <a:lnTo>
                      <a:pt x="628" y="0"/>
                    </a:lnTo>
                    <a:lnTo>
                      <a:pt x="612" y="2"/>
                    </a:lnTo>
                    <a:lnTo>
                      <a:pt x="595" y="3"/>
                    </a:lnTo>
                    <a:lnTo>
                      <a:pt x="578" y="3"/>
                    </a:lnTo>
                    <a:lnTo>
                      <a:pt x="563" y="3"/>
                    </a:lnTo>
                    <a:lnTo>
                      <a:pt x="548" y="5"/>
                    </a:lnTo>
                    <a:lnTo>
                      <a:pt x="531" y="7"/>
                    </a:lnTo>
                    <a:lnTo>
                      <a:pt x="516" y="9"/>
                    </a:lnTo>
                    <a:lnTo>
                      <a:pt x="500" y="11"/>
                    </a:lnTo>
                    <a:lnTo>
                      <a:pt x="485" y="13"/>
                    </a:lnTo>
                    <a:lnTo>
                      <a:pt x="470" y="15"/>
                    </a:lnTo>
                    <a:lnTo>
                      <a:pt x="455" y="17"/>
                    </a:lnTo>
                    <a:lnTo>
                      <a:pt x="438" y="19"/>
                    </a:lnTo>
                    <a:lnTo>
                      <a:pt x="424" y="21"/>
                    </a:lnTo>
                    <a:lnTo>
                      <a:pt x="409" y="22"/>
                    </a:lnTo>
                    <a:lnTo>
                      <a:pt x="394" y="26"/>
                    </a:lnTo>
                    <a:lnTo>
                      <a:pt x="379" y="28"/>
                    </a:lnTo>
                    <a:lnTo>
                      <a:pt x="363" y="30"/>
                    </a:lnTo>
                    <a:lnTo>
                      <a:pt x="350" y="36"/>
                    </a:lnTo>
                    <a:lnTo>
                      <a:pt x="335" y="38"/>
                    </a:lnTo>
                    <a:lnTo>
                      <a:pt x="322" y="40"/>
                    </a:lnTo>
                    <a:lnTo>
                      <a:pt x="306" y="43"/>
                    </a:lnTo>
                    <a:lnTo>
                      <a:pt x="295" y="47"/>
                    </a:lnTo>
                    <a:lnTo>
                      <a:pt x="280" y="51"/>
                    </a:lnTo>
                    <a:lnTo>
                      <a:pt x="266" y="55"/>
                    </a:lnTo>
                    <a:lnTo>
                      <a:pt x="255" y="59"/>
                    </a:lnTo>
                    <a:lnTo>
                      <a:pt x="244" y="64"/>
                    </a:lnTo>
                    <a:lnTo>
                      <a:pt x="230" y="68"/>
                    </a:lnTo>
                    <a:lnTo>
                      <a:pt x="219" y="72"/>
                    </a:lnTo>
                    <a:lnTo>
                      <a:pt x="206" y="76"/>
                    </a:lnTo>
                    <a:lnTo>
                      <a:pt x="194" y="79"/>
                    </a:lnTo>
                    <a:lnTo>
                      <a:pt x="183" y="83"/>
                    </a:lnTo>
                    <a:lnTo>
                      <a:pt x="171" y="89"/>
                    </a:lnTo>
                    <a:lnTo>
                      <a:pt x="160" y="95"/>
                    </a:lnTo>
                    <a:lnTo>
                      <a:pt x="151" y="100"/>
                    </a:lnTo>
                    <a:lnTo>
                      <a:pt x="141" y="104"/>
                    </a:lnTo>
                    <a:lnTo>
                      <a:pt x="132" y="110"/>
                    </a:lnTo>
                    <a:lnTo>
                      <a:pt x="120" y="114"/>
                    </a:lnTo>
                    <a:lnTo>
                      <a:pt x="112" y="121"/>
                    </a:lnTo>
                    <a:lnTo>
                      <a:pt x="103" y="127"/>
                    </a:lnTo>
                    <a:lnTo>
                      <a:pt x="93" y="133"/>
                    </a:lnTo>
                    <a:lnTo>
                      <a:pt x="86" y="138"/>
                    </a:lnTo>
                    <a:lnTo>
                      <a:pt x="80" y="146"/>
                    </a:lnTo>
                    <a:lnTo>
                      <a:pt x="69" y="154"/>
                    </a:lnTo>
                    <a:lnTo>
                      <a:pt x="61" y="161"/>
                    </a:lnTo>
                    <a:lnTo>
                      <a:pt x="54" y="169"/>
                    </a:lnTo>
                    <a:lnTo>
                      <a:pt x="44" y="178"/>
                    </a:lnTo>
                    <a:lnTo>
                      <a:pt x="36" y="186"/>
                    </a:lnTo>
                    <a:lnTo>
                      <a:pt x="31" y="197"/>
                    </a:lnTo>
                    <a:lnTo>
                      <a:pt x="23" y="207"/>
                    </a:lnTo>
                    <a:lnTo>
                      <a:pt x="19" y="216"/>
                    </a:lnTo>
                    <a:lnTo>
                      <a:pt x="14" y="226"/>
                    </a:lnTo>
                    <a:lnTo>
                      <a:pt x="10" y="235"/>
                    </a:lnTo>
                    <a:lnTo>
                      <a:pt x="6" y="245"/>
                    </a:lnTo>
                    <a:lnTo>
                      <a:pt x="4" y="254"/>
                    </a:lnTo>
                    <a:lnTo>
                      <a:pt x="0" y="264"/>
                    </a:lnTo>
                    <a:lnTo>
                      <a:pt x="0" y="273"/>
                    </a:lnTo>
                    <a:lnTo>
                      <a:pt x="0" y="283"/>
                    </a:lnTo>
                    <a:lnTo>
                      <a:pt x="2" y="292"/>
                    </a:lnTo>
                    <a:lnTo>
                      <a:pt x="31" y="287"/>
                    </a:lnTo>
                    <a:lnTo>
                      <a:pt x="29" y="279"/>
                    </a:lnTo>
                    <a:lnTo>
                      <a:pt x="29" y="272"/>
                    </a:lnTo>
                    <a:lnTo>
                      <a:pt x="29" y="264"/>
                    </a:lnTo>
                    <a:lnTo>
                      <a:pt x="31" y="258"/>
                    </a:lnTo>
                    <a:lnTo>
                      <a:pt x="35" y="251"/>
                    </a:lnTo>
                    <a:lnTo>
                      <a:pt x="36" y="241"/>
                    </a:lnTo>
                    <a:lnTo>
                      <a:pt x="40" y="233"/>
                    </a:lnTo>
                    <a:lnTo>
                      <a:pt x="46" y="226"/>
                    </a:lnTo>
                    <a:lnTo>
                      <a:pt x="50" y="218"/>
                    </a:lnTo>
                    <a:lnTo>
                      <a:pt x="55" y="211"/>
                    </a:lnTo>
                    <a:lnTo>
                      <a:pt x="61" y="201"/>
                    </a:lnTo>
                    <a:lnTo>
                      <a:pt x="67" y="194"/>
                    </a:lnTo>
                    <a:lnTo>
                      <a:pt x="73" y="186"/>
                    </a:lnTo>
                    <a:lnTo>
                      <a:pt x="80" y="180"/>
                    </a:lnTo>
                    <a:lnTo>
                      <a:pt x="88" y="173"/>
                    </a:lnTo>
                    <a:lnTo>
                      <a:pt x="97" y="169"/>
                    </a:lnTo>
                    <a:lnTo>
                      <a:pt x="103" y="163"/>
                    </a:lnTo>
                    <a:lnTo>
                      <a:pt x="111" y="157"/>
                    </a:lnTo>
                    <a:lnTo>
                      <a:pt x="118" y="150"/>
                    </a:lnTo>
                    <a:lnTo>
                      <a:pt x="128" y="144"/>
                    </a:lnTo>
                    <a:lnTo>
                      <a:pt x="135" y="140"/>
                    </a:lnTo>
                    <a:lnTo>
                      <a:pt x="147" y="135"/>
                    </a:lnTo>
                    <a:lnTo>
                      <a:pt x="156" y="129"/>
                    </a:lnTo>
                    <a:lnTo>
                      <a:pt x="168" y="125"/>
                    </a:lnTo>
                    <a:lnTo>
                      <a:pt x="175" y="119"/>
                    </a:lnTo>
                    <a:lnTo>
                      <a:pt x="187" y="114"/>
                    </a:lnTo>
                    <a:lnTo>
                      <a:pt x="198" y="110"/>
                    </a:lnTo>
                    <a:lnTo>
                      <a:pt x="209" y="106"/>
                    </a:lnTo>
                    <a:lnTo>
                      <a:pt x="219" y="100"/>
                    </a:lnTo>
                    <a:lnTo>
                      <a:pt x="232" y="97"/>
                    </a:lnTo>
                    <a:lnTo>
                      <a:pt x="244" y="93"/>
                    </a:lnTo>
                    <a:lnTo>
                      <a:pt x="257" y="89"/>
                    </a:lnTo>
                    <a:lnTo>
                      <a:pt x="268" y="85"/>
                    </a:lnTo>
                    <a:lnTo>
                      <a:pt x="280" y="81"/>
                    </a:lnTo>
                    <a:lnTo>
                      <a:pt x="293" y="78"/>
                    </a:lnTo>
                    <a:lnTo>
                      <a:pt x="306" y="74"/>
                    </a:lnTo>
                    <a:lnTo>
                      <a:pt x="318" y="70"/>
                    </a:lnTo>
                    <a:lnTo>
                      <a:pt x="333" y="66"/>
                    </a:lnTo>
                    <a:lnTo>
                      <a:pt x="346" y="64"/>
                    </a:lnTo>
                    <a:lnTo>
                      <a:pt x="360" y="62"/>
                    </a:lnTo>
                    <a:lnTo>
                      <a:pt x="373" y="57"/>
                    </a:lnTo>
                    <a:lnTo>
                      <a:pt x="388" y="55"/>
                    </a:lnTo>
                    <a:lnTo>
                      <a:pt x="401" y="53"/>
                    </a:lnTo>
                    <a:lnTo>
                      <a:pt x="417" y="49"/>
                    </a:lnTo>
                    <a:lnTo>
                      <a:pt x="430" y="47"/>
                    </a:lnTo>
                    <a:lnTo>
                      <a:pt x="445" y="45"/>
                    </a:lnTo>
                    <a:lnTo>
                      <a:pt x="460" y="43"/>
                    </a:lnTo>
                    <a:lnTo>
                      <a:pt x="477" y="41"/>
                    </a:lnTo>
                    <a:lnTo>
                      <a:pt x="491" y="40"/>
                    </a:lnTo>
                    <a:lnTo>
                      <a:pt x="506" y="38"/>
                    </a:lnTo>
                    <a:lnTo>
                      <a:pt x="521" y="36"/>
                    </a:lnTo>
                    <a:lnTo>
                      <a:pt x="536" y="34"/>
                    </a:lnTo>
                    <a:lnTo>
                      <a:pt x="552" y="32"/>
                    </a:lnTo>
                    <a:lnTo>
                      <a:pt x="567" y="30"/>
                    </a:lnTo>
                    <a:lnTo>
                      <a:pt x="582" y="30"/>
                    </a:lnTo>
                    <a:lnTo>
                      <a:pt x="599" y="30"/>
                    </a:lnTo>
                    <a:lnTo>
                      <a:pt x="614" y="28"/>
                    </a:lnTo>
                    <a:lnTo>
                      <a:pt x="630" y="28"/>
                    </a:lnTo>
                    <a:lnTo>
                      <a:pt x="647" y="28"/>
                    </a:lnTo>
                    <a:lnTo>
                      <a:pt x="662" y="28"/>
                    </a:lnTo>
                    <a:lnTo>
                      <a:pt x="677" y="28"/>
                    </a:lnTo>
                    <a:lnTo>
                      <a:pt x="694" y="28"/>
                    </a:lnTo>
                    <a:lnTo>
                      <a:pt x="709" y="28"/>
                    </a:lnTo>
                    <a:lnTo>
                      <a:pt x="727" y="30"/>
                    </a:lnTo>
                    <a:lnTo>
                      <a:pt x="742" y="30"/>
                    </a:lnTo>
                    <a:lnTo>
                      <a:pt x="757" y="30"/>
                    </a:lnTo>
                    <a:lnTo>
                      <a:pt x="774" y="30"/>
                    </a:lnTo>
                    <a:lnTo>
                      <a:pt x="789" y="32"/>
                    </a:lnTo>
                    <a:lnTo>
                      <a:pt x="804" y="32"/>
                    </a:lnTo>
                    <a:lnTo>
                      <a:pt x="822" y="34"/>
                    </a:lnTo>
                    <a:lnTo>
                      <a:pt x="837" y="36"/>
                    </a:lnTo>
                    <a:lnTo>
                      <a:pt x="852" y="38"/>
                    </a:lnTo>
                    <a:lnTo>
                      <a:pt x="867" y="40"/>
                    </a:lnTo>
                    <a:lnTo>
                      <a:pt x="882" y="41"/>
                    </a:lnTo>
                    <a:lnTo>
                      <a:pt x="900" y="43"/>
                    </a:lnTo>
                    <a:lnTo>
                      <a:pt x="915" y="45"/>
                    </a:lnTo>
                    <a:lnTo>
                      <a:pt x="932" y="47"/>
                    </a:lnTo>
                    <a:lnTo>
                      <a:pt x="947" y="51"/>
                    </a:lnTo>
                    <a:lnTo>
                      <a:pt x="962" y="53"/>
                    </a:lnTo>
                    <a:lnTo>
                      <a:pt x="979" y="57"/>
                    </a:lnTo>
                    <a:lnTo>
                      <a:pt x="987" y="57"/>
                    </a:lnTo>
                    <a:lnTo>
                      <a:pt x="996" y="60"/>
                    </a:lnTo>
                    <a:lnTo>
                      <a:pt x="1004" y="62"/>
                    </a:lnTo>
                    <a:lnTo>
                      <a:pt x="1014" y="64"/>
                    </a:lnTo>
                    <a:lnTo>
                      <a:pt x="1021" y="66"/>
                    </a:lnTo>
                    <a:lnTo>
                      <a:pt x="1031" y="68"/>
                    </a:lnTo>
                    <a:lnTo>
                      <a:pt x="1040" y="70"/>
                    </a:lnTo>
                    <a:lnTo>
                      <a:pt x="1050" y="72"/>
                    </a:lnTo>
                    <a:lnTo>
                      <a:pt x="1057" y="74"/>
                    </a:lnTo>
                    <a:lnTo>
                      <a:pt x="1065" y="76"/>
                    </a:lnTo>
                    <a:lnTo>
                      <a:pt x="1073" y="79"/>
                    </a:lnTo>
                    <a:lnTo>
                      <a:pt x="1082" y="81"/>
                    </a:lnTo>
                    <a:lnTo>
                      <a:pt x="1090" y="83"/>
                    </a:lnTo>
                    <a:lnTo>
                      <a:pt x="1097" y="87"/>
                    </a:lnTo>
                    <a:lnTo>
                      <a:pt x="1107" y="87"/>
                    </a:lnTo>
                    <a:lnTo>
                      <a:pt x="1114" y="93"/>
                    </a:lnTo>
                    <a:lnTo>
                      <a:pt x="1120" y="93"/>
                    </a:lnTo>
                    <a:lnTo>
                      <a:pt x="1128" y="97"/>
                    </a:lnTo>
                    <a:lnTo>
                      <a:pt x="1135" y="98"/>
                    </a:lnTo>
                    <a:lnTo>
                      <a:pt x="1143" y="100"/>
                    </a:lnTo>
                    <a:lnTo>
                      <a:pt x="1150" y="104"/>
                    </a:lnTo>
                    <a:lnTo>
                      <a:pt x="1158" y="106"/>
                    </a:lnTo>
                    <a:lnTo>
                      <a:pt x="1164" y="110"/>
                    </a:lnTo>
                    <a:lnTo>
                      <a:pt x="1171" y="114"/>
                    </a:lnTo>
                    <a:lnTo>
                      <a:pt x="1185" y="117"/>
                    </a:lnTo>
                    <a:lnTo>
                      <a:pt x="1198" y="125"/>
                    </a:lnTo>
                    <a:lnTo>
                      <a:pt x="1209" y="131"/>
                    </a:lnTo>
                    <a:lnTo>
                      <a:pt x="1223" y="138"/>
                    </a:lnTo>
                    <a:lnTo>
                      <a:pt x="1232" y="144"/>
                    </a:lnTo>
                    <a:lnTo>
                      <a:pt x="1242" y="150"/>
                    </a:lnTo>
                    <a:lnTo>
                      <a:pt x="1251" y="157"/>
                    </a:lnTo>
                    <a:lnTo>
                      <a:pt x="1263" y="165"/>
                    </a:lnTo>
                    <a:lnTo>
                      <a:pt x="1270" y="171"/>
                    </a:lnTo>
                    <a:lnTo>
                      <a:pt x="1280" y="178"/>
                    </a:lnTo>
                    <a:lnTo>
                      <a:pt x="1287" y="184"/>
                    </a:lnTo>
                    <a:lnTo>
                      <a:pt x="1295" y="194"/>
                    </a:lnTo>
                    <a:lnTo>
                      <a:pt x="1301" y="199"/>
                    </a:lnTo>
                    <a:lnTo>
                      <a:pt x="1308" y="207"/>
                    </a:lnTo>
                    <a:lnTo>
                      <a:pt x="1312" y="214"/>
                    </a:lnTo>
                    <a:lnTo>
                      <a:pt x="1318" y="224"/>
                    </a:lnTo>
                    <a:lnTo>
                      <a:pt x="1320" y="232"/>
                    </a:lnTo>
                    <a:lnTo>
                      <a:pt x="1325" y="239"/>
                    </a:lnTo>
                    <a:lnTo>
                      <a:pt x="1327" y="247"/>
                    </a:lnTo>
                    <a:lnTo>
                      <a:pt x="1331" y="254"/>
                    </a:lnTo>
                    <a:lnTo>
                      <a:pt x="1331" y="264"/>
                    </a:lnTo>
                    <a:lnTo>
                      <a:pt x="1333" y="273"/>
                    </a:lnTo>
                    <a:lnTo>
                      <a:pt x="1331" y="283"/>
                    </a:lnTo>
                    <a:lnTo>
                      <a:pt x="1331" y="292"/>
                    </a:lnTo>
                    <a:lnTo>
                      <a:pt x="1329" y="300"/>
                    </a:lnTo>
                    <a:lnTo>
                      <a:pt x="1325" y="310"/>
                    </a:lnTo>
                    <a:lnTo>
                      <a:pt x="1322" y="317"/>
                    </a:lnTo>
                    <a:lnTo>
                      <a:pt x="1318" y="327"/>
                    </a:lnTo>
                    <a:lnTo>
                      <a:pt x="1312" y="334"/>
                    </a:lnTo>
                    <a:lnTo>
                      <a:pt x="1306" y="342"/>
                    </a:lnTo>
                    <a:lnTo>
                      <a:pt x="1299" y="348"/>
                    </a:lnTo>
                    <a:lnTo>
                      <a:pt x="1295" y="355"/>
                    </a:lnTo>
                    <a:lnTo>
                      <a:pt x="1287" y="361"/>
                    </a:lnTo>
                    <a:lnTo>
                      <a:pt x="1282" y="368"/>
                    </a:lnTo>
                    <a:lnTo>
                      <a:pt x="1274" y="374"/>
                    </a:lnTo>
                    <a:lnTo>
                      <a:pt x="1268" y="382"/>
                    </a:lnTo>
                    <a:lnTo>
                      <a:pt x="1285" y="403"/>
                    </a:lnTo>
                    <a:lnTo>
                      <a:pt x="1289" y="395"/>
                    </a:lnTo>
                    <a:lnTo>
                      <a:pt x="1297" y="391"/>
                    </a:lnTo>
                    <a:lnTo>
                      <a:pt x="1303" y="386"/>
                    </a:lnTo>
                    <a:lnTo>
                      <a:pt x="1308" y="380"/>
                    </a:lnTo>
                    <a:lnTo>
                      <a:pt x="1320" y="368"/>
                    </a:lnTo>
                    <a:lnTo>
                      <a:pt x="1329" y="359"/>
                    </a:lnTo>
                    <a:lnTo>
                      <a:pt x="1335" y="348"/>
                    </a:lnTo>
                    <a:lnTo>
                      <a:pt x="1342" y="338"/>
                    </a:lnTo>
                    <a:lnTo>
                      <a:pt x="1348" y="327"/>
                    </a:lnTo>
                    <a:lnTo>
                      <a:pt x="1354" y="317"/>
                    </a:lnTo>
                    <a:lnTo>
                      <a:pt x="1356" y="308"/>
                    </a:lnTo>
                    <a:lnTo>
                      <a:pt x="1358" y="298"/>
                    </a:lnTo>
                    <a:lnTo>
                      <a:pt x="1360" y="287"/>
                    </a:lnTo>
                    <a:lnTo>
                      <a:pt x="1360" y="279"/>
                    </a:lnTo>
                    <a:lnTo>
                      <a:pt x="1360" y="272"/>
                    </a:lnTo>
                    <a:lnTo>
                      <a:pt x="1360" y="264"/>
                    </a:lnTo>
                    <a:lnTo>
                      <a:pt x="1360" y="254"/>
                    </a:lnTo>
                    <a:lnTo>
                      <a:pt x="1360" y="249"/>
                    </a:lnTo>
                    <a:lnTo>
                      <a:pt x="1360" y="24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710400" y="2212560"/>
                <a:ext cx="141120" cy="137520"/>
              </a:xfrm>
              <a:custGeom>
                <a:avLst/>
                <a:gdLst/>
                <a:ahLst/>
                <a:rect l="l" t="t" r="r" b="b"/>
                <a:pathLst>
                  <a:path w="492" h="479">
                    <a:moveTo>
                      <a:pt x="207" y="41"/>
                    </a:moveTo>
                    <a:lnTo>
                      <a:pt x="209" y="41"/>
                    </a:lnTo>
                    <a:lnTo>
                      <a:pt x="216" y="47"/>
                    </a:lnTo>
                    <a:lnTo>
                      <a:pt x="220" y="49"/>
                    </a:lnTo>
                    <a:lnTo>
                      <a:pt x="226" y="53"/>
                    </a:lnTo>
                    <a:lnTo>
                      <a:pt x="234" y="59"/>
                    </a:lnTo>
                    <a:lnTo>
                      <a:pt x="243" y="64"/>
                    </a:lnTo>
                    <a:lnTo>
                      <a:pt x="251" y="70"/>
                    </a:lnTo>
                    <a:lnTo>
                      <a:pt x="260" y="78"/>
                    </a:lnTo>
                    <a:lnTo>
                      <a:pt x="270" y="85"/>
                    </a:lnTo>
                    <a:lnTo>
                      <a:pt x="281" y="97"/>
                    </a:lnTo>
                    <a:lnTo>
                      <a:pt x="292" y="104"/>
                    </a:lnTo>
                    <a:lnTo>
                      <a:pt x="304" y="114"/>
                    </a:lnTo>
                    <a:lnTo>
                      <a:pt x="310" y="119"/>
                    </a:lnTo>
                    <a:lnTo>
                      <a:pt x="315" y="127"/>
                    </a:lnTo>
                    <a:lnTo>
                      <a:pt x="321" y="131"/>
                    </a:lnTo>
                    <a:lnTo>
                      <a:pt x="327" y="138"/>
                    </a:lnTo>
                    <a:lnTo>
                      <a:pt x="332" y="142"/>
                    </a:lnTo>
                    <a:lnTo>
                      <a:pt x="340" y="148"/>
                    </a:lnTo>
                    <a:lnTo>
                      <a:pt x="346" y="154"/>
                    </a:lnTo>
                    <a:lnTo>
                      <a:pt x="351" y="161"/>
                    </a:lnTo>
                    <a:lnTo>
                      <a:pt x="357" y="167"/>
                    </a:lnTo>
                    <a:lnTo>
                      <a:pt x="363" y="175"/>
                    </a:lnTo>
                    <a:lnTo>
                      <a:pt x="368" y="182"/>
                    </a:lnTo>
                    <a:lnTo>
                      <a:pt x="376" y="190"/>
                    </a:lnTo>
                    <a:lnTo>
                      <a:pt x="380" y="197"/>
                    </a:lnTo>
                    <a:lnTo>
                      <a:pt x="388" y="205"/>
                    </a:lnTo>
                    <a:lnTo>
                      <a:pt x="393" y="213"/>
                    </a:lnTo>
                    <a:lnTo>
                      <a:pt x="399" y="220"/>
                    </a:lnTo>
                    <a:lnTo>
                      <a:pt x="405" y="228"/>
                    </a:lnTo>
                    <a:lnTo>
                      <a:pt x="410" y="237"/>
                    </a:lnTo>
                    <a:lnTo>
                      <a:pt x="416" y="245"/>
                    </a:lnTo>
                    <a:lnTo>
                      <a:pt x="424" y="254"/>
                    </a:lnTo>
                    <a:lnTo>
                      <a:pt x="427" y="262"/>
                    </a:lnTo>
                    <a:lnTo>
                      <a:pt x="433" y="270"/>
                    </a:lnTo>
                    <a:lnTo>
                      <a:pt x="437" y="279"/>
                    </a:lnTo>
                    <a:lnTo>
                      <a:pt x="445" y="289"/>
                    </a:lnTo>
                    <a:lnTo>
                      <a:pt x="448" y="298"/>
                    </a:lnTo>
                    <a:lnTo>
                      <a:pt x="454" y="308"/>
                    </a:lnTo>
                    <a:lnTo>
                      <a:pt x="458" y="317"/>
                    </a:lnTo>
                    <a:lnTo>
                      <a:pt x="464" y="329"/>
                    </a:lnTo>
                    <a:lnTo>
                      <a:pt x="467" y="338"/>
                    </a:lnTo>
                    <a:lnTo>
                      <a:pt x="471" y="348"/>
                    </a:lnTo>
                    <a:lnTo>
                      <a:pt x="475" y="359"/>
                    </a:lnTo>
                    <a:lnTo>
                      <a:pt x="481" y="368"/>
                    </a:lnTo>
                    <a:lnTo>
                      <a:pt x="483" y="380"/>
                    </a:lnTo>
                    <a:lnTo>
                      <a:pt x="486" y="389"/>
                    </a:lnTo>
                    <a:lnTo>
                      <a:pt x="488" y="403"/>
                    </a:lnTo>
                    <a:lnTo>
                      <a:pt x="492" y="414"/>
                    </a:lnTo>
                    <a:lnTo>
                      <a:pt x="346" y="479"/>
                    </a:lnTo>
                    <a:lnTo>
                      <a:pt x="0" y="0"/>
                    </a:lnTo>
                    <a:lnTo>
                      <a:pt x="207" y="41"/>
                    </a:lnTo>
                    <a:lnTo>
                      <a:pt x="207" y="41"/>
                    </a:lnTo>
                    <a:close/>
                  </a:path>
                </a:pathLst>
              </a:custGeom>
              <a:solidFill>
                <a:srgbClr val="ffff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6788880" y="2223360"/>
                <a:ext cx="329040" cy="111600"/>
              </a:xfrm>
              <a:custGeom>
                <a:avLst/>
                <a:gdLst/>
                <a:ahLst/>
                <a:rect l="l" t="t" r="r" b="b"/>
                <a:pathLst>
                  <a:path w="1146" h="389">
                    <a:moveTo>
                      <a:pt x="844" y="9"/>
                    </a:moveTo>
                    <a:lnTo>
                      <a:pt x="835" y="7"/>
                    </a:lnTo>
                    <a:lnTo>
                      <a:pt x="825" y="5"/>
                    </a:lnTo>
                    <a:lnTo>
                      <a:pt x="814" y="5"/>
                    </a:lnTo>
                    <a:lnTo>
                      <a:pt x="800" y="5"/>
                    </a:lnTo>
                    <a:lnTo>
                      <a:pt x="793" y="3"/>
                    </a:lnTo>
                    <a:lnTo>
                      <a:pt x="787" y="3"/>
                    </a:lnTo>
                    <a:lnTo>
                      <a:pt x="779" y="2"/>
                    </a:lnTo>
                    <a:lnTo>
                      <a:pt x="772" y="2"/>
                    </a:lnTo>
                    <a:lnTo>
                      <a:pt x="762" y="2"/>
                    </a:lnTo>
                    <a:lnTo>
                      <a:pt x="755" y="2"/>
                    </a:lnTo>
                    <a:lnTo>
                      <a:pt x="747" y="2"/>
                    </a:lnTo>
                    <a:lnTo>
                      <a:pt x="739" y="2"/>
                    </a:lnTo>
                    <a:lnTo>
                      <a:pt x="728" y="0"/>
                    </a:lnTo>
                    <a:lnTo>
                      <a:pt x="719" y="0"/>
                    </a:lnTo>
                    <a:lnTo>
                      <a:pt x="709" y="0"/>
                    </a:lnTo>
                    <a:lnTo>
                      <a:pt x="700" y="0"/>
                    </a:lnTo>
                    <a:lnTo>
                      <a:pt x="688" y="0"/>
                    </a:lnTo>
                    <a:lnTo>
                      <a:pt x="679" y="0"/>
                    </a:lnTo>
                    <a:lnTo>
                      <a:pt x="667" y="0"/>
                    </a:lnTo>
                    <a:lnTo>
                      <a:pt x="656" y="0"/>
                    </a:lnTo>
                    <a:lnTo>
                      <a:pt x="644" y="0"/>
                    </a:lnTo>
                    <a:lnTo>
                      <a:pt x="633" y="0"/>
                    </a:lnTo>
                    <a:lnTo>
                      <a:pt x="622" y="0"/>
                    </a:lnTo>
                    <a:lnTo>
                      <a:pt x="610" y="0"/>
                    </a:lnTo>
                    <a:lnTo>
                      <a:pt x="599" y="0"/>
                    </a:lnTo>
                    <a:lnTo>
                      <a:pt x="586" y="0"/>
                    </a:lnTo>
                    <a:lnTo>
                      <a:pt x="574" y="2"/>
                    </a:lnTo>
                    <a:lnTo>
                      <a:pt x="563" y="3"/>
                    </a:lnTo>
                    <a:lnTo>
                      <a:pt x="547" y="3"/>
                    </a:lnTo>
                    <a:lnTo>
                      <a:pt x="536" y="3"/>
                    </a:lnTo>
                    <a:lnTo>
                      <a:pt x="521" y="5"/>
                    </a:lnTo>
                    <a:lnTo>
                      <a:pt x="509" y="5"/>
                    </a:lnTo>
                    <a:lnTo>
                      <a:pt x="494" y="5"/>
                    </a:lnTo>
                    <a:lnTo>
                      <a:pt x="481" y="9"/>
                    </a:lnTo>
                    <a:lnTo>
                      <a:pt x="468" y="9"/>
                    </a:lnTo>
                    <a:lnTo>
                      <a:pt x="456" y="13"/>
                    </a:lnTo>
                    <a:lnTo>
                      <a:pt x="441" y="13"/>
                    </a:lnTo>
                    <a:lnTo>
                      <a:pt x="426" y="15"/>
                    </a:lnTo>
                    <a:lnTo>
                      <a:pt x="411" y="17"/>
                    </a:lnTo>
                    <a:lnTo>
                      <a:pt x="399" y="21"/>
                    </a:lnTo>
                    <a:lnTo>
                      <a:pt x="384" y="22"/>
                    </a:lnTo>
                    <a:lnTo>
                      <a:pt x="371" y="24"/>
                    </a:lnTo>
                    <a:lnTo>
                      <a:pt x="355" y="28"/>
                    </a:lnTo>
                    <a:lnTo>
                      <a:pt x="342" y="32"/>
                    </a:lnTo>
                    <a:lnTo>
                      <a:pt x="327" y="36"/>
                    </a:lnTo>
                    <a:lnTo>
                      <a:pt x="312" y="38"/>
                    </a:lnTo>
                    <a:lnTo>
                      <a:pt x="298" y="41"/>
                    </a:lnTo>
                    <a:lnTo>
                      <a:pt x="285" y="45"/>
                    </a:lnTo>
                    <a:lnTo>
                      <a:pt x="268" y="49"/>
                    </a:lnTo>
                    <a:lnTo>
                      <a:pt x="255" y="53"/>
                    </a:lnTo>
                    <a:lnTo>
                      <a:pt x="240" y="59"/>
                    </a:lnTo>
                    <a:lnTo>
                      <a:pt x="226" y="62"/>
                    </a:lnTo>
                    <a:lnTo>
                      <a:pt x="211" y="66"/>
                    </a:lnTo>
                    <a:lnTo>
                      <a:pt x="196" y="72"/>
                    </a:lnTo>
                    <a:lnTo>
                      <a:pt x="181" y="78"/>
                    </a:lnTo>
                    <a:lnTo>
                      <a:pt x="167" y="85"/>
                    </a:lnTo>
                    <a:lnTo>
                      <a:pt x="152" y="89"/>
                    </a:lnTo>
                    <a:lnTo>
                      <a:pt x="137" y="97"/>
                    </a:lnTo>
                    <a:lnTo>
                      <a:pt x="124" y="102"/>
                    </a:lnTo>
                    <a:lnTo>
                      <a:pt x="110" y="110"/>
                    </a:lnTo>
                    <a:lnTo>
                      <a:pt x="93" y="116"/>
                    </a:lnTo>
                    <a:lnTo>
                      <a:pt x="82" y="123"/>
                    </a:lnTo>
                    <a:lnTo>
                      <a:pt x="68" y="129"/>
                    </a:lnTo>
                    <a:lnTo>
                      <a:pt x="57" y="137"/>
                    </a:lnTo>
                    <a:lnTo>
                      <a:pt x="48" y="140"/>
                    </a:lnTo>
                    <a:lnTo>
                      <a:pt x="40" y="150"/>
                    </a:lnTo>
                    <a:lnTo>
                      <a:pt x="30" y="154"/>
                    </a:lnTo>
                    <a:lnTo>
                      <a:pt x="25" y="163"/>
                    </a:lnTo>
                    <a:lnTo>
                      <a:pt x="17" y="167"/>
                    </a:lnTo>
                    <a:lnTo>
                      <a:pt x="13" y="175"/>
                    </a:lnTo>
                    <a:lnTo>
                      <a:pt x="8" y="180"/>
                    </a:lnTo>
                    <a:lnTo>
                      <a:pt x="6" y="188"/>
                    </a:lnTo>
                    <a:lnTo>
                      <a:pt x="0" y="201"/>
                    </a:lnTo>
                    <a:lnTo>
                      <a:pt x="0" y="214"/>
                    </a:lnTo>
                    <a:lnTo>
                      <a:pt x="0" y="224"/>
                    </a:lnTo>
                    <a:lnTo>
                      <a:pt x="6" y="237"/>
                    </a:lnTo>
                    <a:lnTo>
                      <a:pt x="11" y="247"/>
                    </a:lnTo>
                    <a:lnTo>
                      <a:pt x="21" y="260"/>
                    </a:lnTo>
                    <a:lnTo>
                      <a:pt x="25" y="264"/>
                    </a:lnTo>
                    <a:lnTo>
                      <a:pt x="32" y="270"/>
                    </a:lnTo>
                    <a:lnTo>
                      <a:pt x="40" y="275"/>
                    </a:lnTo>
                    <a:lnTo>
                      <a:pt x="48" y="281"/>
                    </a:lnTo>
                    <a:lnTo>
                      <a:pt x="53" y="287"/>
                    </a:lnTo>
                    <a:lnTo>
                      <a:pt x="63" y="291"/>
                    </a:lnTo>
                    <a:lnTo>
                      <a:pt x="70" y="296"/>
                    </a:lnTo>
                    <a:lnTo>
                      <a:pt x="82" y="302"/>
                    </a:lnTo>
                    <a:lnTo>
                      <a:pt x="89" y="306"/>
                    </a:lnTo>
                    <a:lnTo>
                      <a:pt x="101" y="310"/>
                    </a:lnTo>
                    <a:lnTo>
                      <a:pt x="110" y="313"/>
                    </a:lnTo>
                    <a:lnTo>
                      <a:pt x="122" y="319"/>
                    </a:lnTo>
                    <a:lnTo>
                      <a:pt x="131" y="323"/>
                    </a:lnTo>
                    <a:lnTo>
                      <a:pt x="144" y="327"/>
                    </a:lnTo>
                    <a:lnTo>
                      <a:pt x="156" y="330"/>
                    </a:lnTo>
                    <a:lnTo>
                      <a:pt x="169" y="336"/>
                    </a:lnTo>
                    <a:lnTo>
                      <a:pt x="181" y="340"/>
                    </a:lnTo>
                    <a:lnTo>
                      <a:pt x="194" y="344"/>
                    </a:lnTo>
                    <a:lnTo>
                      <a:pt x="205" y="348"/>
                    </a:lnTo>
                    <a:lnTo>
                      <a:pt x="221" y="351"/>
                    </a:lnTo>
                    <a:lnTo>
                      <a:pt x="232" y="353"/>
                    </a:lnTo>
                    <a:lnTo>
                      <a:pt x="247" y="357"/>
                    </a:lnTo>
                    <a:lnTo>
                      <a:pt x="260" y="361"/>
                    </a:lnTo>
                    <a:lnTo>
                      <a:pt x="276" y="365"/>
                    </a:lnTo>
                    <a:lnTo>
                      <a:pt x="289" y="365"/>
                    </a:lnTo>
                    <a:lnTo>
                      <a:pt x="304" y="369"/>
                    </a:lnTo>
                    <a:lnTo>
                      <a:pt x="317" y="370"/>
                    </a:lnTo>
                    <a:lnTo>
                      <a:pt x="333" y="374"/>
                    </a:lnTo>
                    <a:lnTo>
                      <a:pt x="346" y="374"/>
                    </a:lnTo>
                    <a:lnTo>
                      <a:pt x="361" y="378"/>
                    </a:lnTo>
                    <a:lnTo>
                      <a:pt x="376" y="378"/>
                    </a:lnTo>
                    <a:lnTo>
                      <a:pt x="392" y="382"/>
                    </a:lnTo>
                    <a:lnTo>
                      <a:pt x="405" y="382"/>
                    </a:lnTo>
                    <a:lnTo>
                      <a:pt x="420" y="384"/>
                    </a:lnTo>
                    <a:lnTo>
                      <a:pt x="433" y="384"/>
                    </a:lnTo>
                    <a:lnTo>
                      <a:pt x="449" y="386"/>
                    </a:lnTo>
                    <a:lnTo>
                      <a:pt x="464" y="386"/>
                    </a:lnTo>
                    <a:lnTo>
                      <a:pt x="477" y="388"/>
                    </a:lnTo>
                    <a:lnTo>
                      <a:pt x="492" y="388"/>
                    </a:lnTo>
                    <a:lnTo>
                      <a:pt x="508" y="389"/>
                    </a:lnTo>
                    <a:lnTo>
                      <a:pt x="521" y="374"/>
                    </a:lnTo>
                    <a:lnTo>
                      <a:pt x="519" y="372"/>
                    </a:lnTo>
                    <a:lnTo>
                      <a:pt x="517" y="372"/>
                    </a:lnTo>
                    <a:lnTo>
                      <a:pt x="509" y="370"/>
                    </a:lnTo>
                    <a:lnTo>
                      <a:pt x="504" y="370"/>
                    </a:lnTo>
                    <a:lnTo>
                      <a:pt x="494" y="367"/>
                    </a:lnTo>
                    <a:lnTo>
                      <a:pt x="483" y="365"/>
                    </a:lnTo>
                    <a:lnTo>
                      <a:pt x="470" y="365"/>
                    </a:lnTo>
                    <a:lnTo>
                      <a:pt x="458" y="363"/>
                    </a:lnTo>
                    <a:lnTo>
                      <a:pt x="451" y="361"/>
                    </a:lnTo>
                    <a:lnTo>
                      <a:pt x="443" y="359"/>
                    </a:lnTo>
                    <a:lnTo>
                      <a:pt x="433" y="357"/>
                    </a:lnTo>
                    <a:lnTo>
                      <a:pt x="426" y="357"/>
                    </a:lnTo>
                    <a:lnTo>
                      <a:pt x="416" y="353"/>
                    </a:lnTo>
                    <a:lnTo>
                      <a:pt x="409" y="351"/>
                    </a:lnTo>
                    <a:lnTo>
                      <a:pt x="399" y="351"/>
                    </a:lnTo>
                    <a:lnTo>
                      <a:pt x="392" y="349"/>
                    </a:lnTo>
                    <a:lnTo>
                      <a:pt x="380" y="348"/>
                    </a:lnTo>
                    <a:lnTo>
                      <a:pt x="373" y="344"/>
                    </a:lnTo>
                    <a:lnTo>
                      <a:pt x="363" y="342"/>
                    </a:lnTo>
                    <a:lnTo>
                      <a:pt x="355" y="340"/>
                    </a:lnTo>
                    <a:lnTo>
                      <a:pt x="344" y="338"/>
                    </a:lnTo>
                    <a:lnTo>
                      <a:pt x="336" y="334"/>
                    </a:lnTo>
                    <a:lnTo>
                      <a:pt x="325" y="332"/>
                    </a:lnTo>
                    <a:lnTo>
                      <a:pt x="317" y="330"/>
                    </a:lnTo>
                    <a:lnTo>
                      <a:pt x="306" y="327"/>
                    </a:lnTo>
                    <a:lnTo>
                      <a:pt x="298" y="325"/>
                    </a:lnTo>
                    <a:lnTo>
                      <a:pt x="287" y="321"/>
                    </a:lnTo>
                    <a:lnTo>
                      <a:pt x="278" y="317"/>
                    </a:lnTo>
                    <a:lnTo>
                      <a:pt x="268" y="313"/>
                    </a:lnTo>
                    <a:lnTo>
                      <a:pt x="259" y="311"/>
                    </a:lnTo>
                    <a:lnTo>
                      <a:pt x="249" y="308"/>
                    </a:lnTo>
                    <a:lnTo>
                      <a:pt x="241" y="306"/>
                    </a:lnTo>
                    <a:lnTo>
                      <a:pt x="230" y="302"/>
                    </a:lnTo>
                    <a:lnTo>
                      <a:pt x="221" y="300"/>
                    </a:lnTo>
                    <a:lnTo>
                      <a:pt x="211" y="294"/>
                    </a:lnTo>
                    <a:lnTo>
                      <a:pt x="203" y="292"/>
                    </a:lnTo>
                    <a:lnTo>
                      <a:pt x="194" y="289"/>
                    </a:lnTo>
                    <a:lnTo>
                      <a:pt x="186" y="285"/>
                    </a:lnTo>
                    <a:lnTo>
                      <a:pt x="179" y="281"/>
                    </a:lnTo>
                    <a:lnTo>
                      <a:pt x="171" y="277"/>
                    </a:lnTo>
                    <a:lnTo>
                      <a:pt x="163" y="273"/>
                    </a:lnTo>
                    <a:lnTo>
                      <a:pt x="156" y="270"/>
                    </a:lnTo>
                    <a:lnTo>
                      <a:pt x="148" y="264"/>
                    </a:lnTo>
                    <a:lnTo>
                      <a:pt x="141" y="260"/>
                    </a:lnTo>
                    <a:lnTo>
                      <a:pt x="129" y="251"/>
                    </a:lnTo>
                    <a:lnTo>
                      <a:pt x="120" y="241"/>
                    </a:lnTo>
                    <a:lnTo>
                      <a:pt x="108" y="230"/>
                    </a:lnTo>
                    <a:lnTo>
                      <a:pt x="101" y="220"/>
                    </a:lnTo>
                    <a:lnTo>
                      <a:pt x="97" y="211"/>
                    </a:lnTo>
                    <a:lnTo>
                      <a:pt x="93" y="201"/>
                    </a:lnTo>
                    <a:lnTo>
                      <a:pt x="91" y="190"/>
                    </a:lnTo>
                    <a:lnTo>
                      <a:pt x="93" y="176"/>
                    </a:lnTo>
                    <a:lnTo>
                      <a:pt x="97" y="165"/>
                    </a:lnTo>
                    <a:lnTo>
                      <a:pt x="106" y="154"/>
                    </a:lnTo>
                    <a:lnTo>
                      <a:pt x="110" y="148"/>
                    </a:lnTo>
                    <a:lnTo>
                      <a:pt x="116" y="142"/>
                    </a:lnTo>
                    <a:lnTo>
                      <a:pt x="124" y="137"/>
                    </a:lnTo>
                    <a:lnTo>
                      <a:pt x="131" y="133"/>
                    </a:lnTo>
                    <a:lnTo>
                      <a:pt x="139" y="127"/>
                    </a:lnTo>
                    <a:lnTo>
                      <a:pt x="146" y="121"/>
                    </a:lnTo>
                    <a:lnTo>
                      <a:pt x="156" y="116"/>
                    </a:lnTo>
                    <a:lnTo>
                      <a:pt x="167" y="112"/>
                    </a:lnTo>
                    <a:lnTo>
                      <a:pt x="175" y="106"/>
                    </a:lnTo>
                    <a:lnTo>
                      <a:pt x="186" y="100"/>
                    </a:lnTo>
                    <a:lnTo>
                      <a:pt x="198" y="95"/>
                    </a:lnTo>
                    <a:lnTo>
                      <a:pt x="211" y="91"/>
                    </a:lnTo>
                    <a:lnTo>
                      <a:pt x="222" y="85"/>
                    </a:lnTo>
                    <a:lnTo>
                      <a:pt x="238" y="81"/>
                    </a:lnTo>
                    <a:lnTo>
                      <a:pt x="251" y="78"/>
                    </a:lnTo>
                    <a:lnTo>
                      <a:pt x="266" y="74"/>
                    </a:lnTo>
                    <a:lnTo>
                      <a:pt x="279" y="68"/>
                    </a:lnTo>
                    <a:lnTo>
                      <a:pt x="295" y="64"/>
                    </a:lnTo>
                    <a:lnTo>
                      <a:pt x="312" y="60"/>
                    </a:lnTo>
                    <a:lnTo>
                      <a:pt x="329" y="57"/>
                    </a:lnTo>
                    <a:lnTo>
                      <a:pt x="344" y="53"/>
                    </a:lnTo>
                    <a:lnTo>
                      <a:pt x="361" y="49"/>
                    </a:lnTo>
                    <a:lnTo>
                      <a:pt x="378" y="47"/>
                    </a:lnTo>
                    <a:lnTo>
                      <a:pt x="399" y="45"/>
                    </a:lnTo>
                    <a:lnTo>
                      <a:pt x="416" y="40"/>
                    </a:lnTo>
                    <a:lnTo>
                      <a:pt x="433" y="38"/>
                    </a:lnTo>
                    <a:lnTo>
                      <a:pt x="452" y="36"/>
                    </a:lnTo>
                    <a:lnTo>
                      <a:pt x="473" y="32"/>
                    </a:lnTo>
                    <a:lnTo>
                      <a:pt x="492" y="30"/>
                    </a:lnTo>
                    <a:lnTo>
                      <a:pt x="511" y="28"/>
                    </a:lnTo>
                    <a:lnTo>
                      <a:pt x="534" y="26"/>
                    </a:lnTo>
                    <a:lnTo>
                      <a:pt x="555" y="26"/>
                    </a:lnTo>
                    <a:lnTo>
                      <a:pt x="576" y="22"/>
                    </a:lnTo>
                    <a:lnTo>
                      <a:pt x="599" y="22"/>
                    </a:lnTo>
                    <a:lnTo>
                      <a:pt x="620" y="22"/>
                    </a:lnTo>
                    <a:lnTo>
                      <a:pt x="643" y="22"/>
                    </a:lnTo>
                    <a:lnTo>
                      <a:pt x="665" y="21"/>
                    </a:lnTo>
                    <a:lnTo>
                      <a:pt x="686" y="21"/>
                    </a:lnTo>
                    <a:lnTo>
                      <a:pt x="711" y="22"/>
                    </a:lnTo>
                    <a:lnTo>
                      <a:pt x="736" y="22"/>
                    </a:lnTo>
                    <a:lnTo>
                      <a:pt x="757" y="22"/>
                    </a:lnTo>
                    <a:lnTo>
                      <a:pt x="779" y="22"/>
                    </a:lnTo>
                    <a:lnTo>
                      <a:pt x="804" y="24"/>
                    </a:lnTo>
                    <a:lnTo>
                      <a:pt x="827" y="26"/>
                    </a:lnTo>
                    <a:lnTo>
                      <a:pt x="852" y="28"/>
                    </a:lnTo>
                    <a:lnTo>
                      <a:pt x="876" y="32"/>
                    </a:lnTo>
                    <a:lnTo>
                      <a:pt x="901" y="34"/>
                    </a:lnTo>
                    <a:lnTo>
                      <a:pt x="926" y="38"/>
                    </a:lnTo>
                    <a:lnTo>
                      <a:pt x="949" y="40"/>
                    </a:lnTo>
                    <a:lnTo>
                      <a:pt x="975" y="45"/>
                    </a:lnTo>
                    <a:lnTo>
                      <a:pt x="1000" y="49"/>
                    </a:lnTo>
                    <a:lnTo>
                      <a:pt x="1025" y="53"/>
                    </a:lnTo>
                    <a:lnTo>
                      <a:pt x="1049" y="59"/>
                    </a:lnTo>
                    <a:lnTo>
                      <a:pt x="1076" y="62"/>
                    </a:lnTo>
                    <a:lnTo>
                      <a:pt x="1101" y="68"/>
                    </a:lnTo>
                    <a:lnTo>
                      <a:pt x="1127" y="76"/>
                    </a:lnTo>
                    <a:lnTo>
                      <a:pt x="1146" y="57"/>
                    </a:lnTo>
                    <a:lnTo>
                      <a:pt x="1144" y="55"/>
                    </a:lnTo>
                    <a:lnTo>
                      <a:pt x="1137" y="53"/>
                    </a:lnTo>
                    <a:lnTo>
                      <a:pt x="1127" y="51"/>
                    </a:lnTo>
                    <a:lnTo>
                      <a:pt x="1116" y="49"/>
                    </a:lnTo>
                    <a:lnTo>
                      <a:pt x="1106" y="45"/>
                    </a:lnTo>
                    <a:lnTo>
                      <a:pt x="1099" y="45"/>
                    </a:lnTo>
                    <a:lnTo>
                      <a:pt x="1089" y="41"/>
                    </a:lnTo>
                    <a:lnTo>
                      <a:pt x="1080" y="40"/>
                    </a:lnTo>
                    <a:lnTo>
                      <a:pt x="1070" y="38"/>
                    </a:lnTo>
                    <a:lnTo>
                      <a:pt x="1059" y="36"/>
                    </a:lnTo>
                    <a:lnTo>
                      <a:pt x="1049" y="36"/>
                    </a:lnTo>
                    <a:lnTo>
                      <a:pt x="1038" y="34"/>
                    </a:lnTo>
                    <a:lnTo>
                      <a:pt x="1025" y="32"/>
                    </a:lnTo>
                    <a:lnTo>
                      <a:pt x="1013" y="28"/>
                    </a:lnTo>
                    <a:lnTo>
                      <a:pt x="1002" y="26"/>
                    </a:lnTo>
                    <a:lnTo>
                      <a:pt x="989" y="24"/>
                    </a:lnTo>
                    <a:lnTo>
                      <a:pt x="975" y="22"/>
                    </a:lnTo>
                    <a:lnTo>
                      <a:pt x="964" y="21"/>
                    </a:lnTo>
                    <a:lnTo>
                      <a:pt x="951" y="19"/>
                    </a:lnTo>
                    <a:lnTo>
                      <a:pt x="939" y="19"/>
                    </a:lnTo>
                    <a:lnTo>
                      <a:pt x="926" y="15"/>
                    </a:lnTo>
                    <a:lnTo>
                      <a:pt x="914" y="15"/>
                    </a:lnTo>
                    <a:lnTo>
                      <a:pt x="901" y="11"/>
                    </a:lnTo>
                    <a:lnTo>
                      <a:pt x="888" y="11"/>
                    </a:lnTo>
                    <a:lnTo>
                      <a:pt x="876" y="9"/>
                    </a:lnTo>
                    <a:lnTo>
                      <a:pt x="865" y="9"/>
                    </a:lnTo>
                    <a:lnTo>
                      <a:pt x="854" y="9"/>
                    </a:lnTo>
                    <a:lnTo>
                      <a:pt x="844" y="9"/>
                    </a:lnTo>
                    <a:lnTo>
                      <a:pt x="844" y="9"/>
                    </a:lnTo>
                    <a:close/>
                  </a:path>
                </a:pathLst>
              </a:custGeom>
              <a:solidFill>
                <a:srgbClr val="edeb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>
                <a:off x="7045200" y="2221560"/>
                <a:ext cx="45000" cy="124920"/>
              </a:xfrm>
              <a:custGeom>
                <a:avLst/>
                <a:gdLst/>
                <a:ahLst/>
                <a:rect l="l" t="t" r="r" b="b"/>
                <a:pathLst>
                  <a:path w="158" h="437">
                    <a:moveTo>
                      <a:pt x="141" y="0"/>
                    </a:moveTo>
                    <a:lnTo>
                      <a:pt x="141" y="4"/>
                    </a:lnTo>
                    <a:lnTo>
                      <a:pt x="143" y="10"/>
                    </a:lnTo>
                    <a:lnTo>
                      <a:pt x="144" y="21"/>
                    </a:lnTo>
                    <a:lnTo>
                      <a:pt x="144" y="30"/>
                    </a:lnTo>
                    <a:lnTo>
                      <a:pt x="148" y="44"/>
                    </a:lnTo>
                    <a:lnTo>
                      <a:pt x="148" y="51"/>
                    </a:lnTo>
                    <a:lnTo>
                      <a:pt x="150" y="59"/>
                    </a:lnTo>
                    <a:lnTo>
                      <a:pt x="150" y="68"/>
                    </a:lnTo>
                    <a:lnTo>
                      <a:pt x="154" y="78"/>
                    </a:lnTo>
                    <a:lnTo>
                      <a:pt x="154" y="86"/>
                    </a:lnTo>
                    <a:lnTo>
                      <a:pt x="154" y="95"/>
                    </a:lnTo>
                    <a:lnTo>
                      <a:pt x="154" y="105"/>
                    </a:lnTo>
                    <a:lnTo>
                      <a:pt x="156" y="116"/>
                    </a:lnTo>
                    <a:lnTo>
                      <a:pt x="156" y="126"/>
                    </a:lnTo>
                    <a:lnTo>
                      <a:pt x="156" y="137"/>
                    </a:lnTo>
                    <a:lnTo>
                      <a:pt x="156" y="148"/>
                    </a:lnTo>
                    <a:lnTo>
                      <a:pt x="158" y="160"/>
                    </a:lnTo>
                    <a:lnTo>
                      <a:pt x="156" y="171"/>
                    </a:lnTo>
                    <a:lnTo>
                      <a:pt x="156" y="183"/>
                    </a:lnTo>
                    <a:lnTo>
                      <a:pt x="154" y="194"/>
                    </a:lnTo>
                    <a:lnTo>
                      <a:pt x="154" y="207"/>
                    </a:lnTo>
                    <a:lnTo>
                      <a:pt x="154" y="219"/>
                    </a:lnTo>
                    <a:lnTo>
                      <a:pt x="152" y="232"/>
                    </a:lnTo>
                    <a:lnTo>
                      <a:pt x="150" y="245"/>
                    </a:lnTo>
                    <a:lnTo>
                      <a:pt x="148" y="259"/>
                    </a:lnTo>
                    <a:lnTo>
                      <a:pt x="144" y="272"/>
                    </a:lnTo>
                    <a:lnTo>
                      <a:pt x="143" y="283"/>
                    </a:lnTo>
                    <a:lnTo>
                      <a:pt x="141" y="295"/>
                    </a:lnTo>
                    <a:lnTo>
                      <a:pt x="137" y="306"/>
                    </a:lnTo>
                    <a:lnTo>
                      <a:pt x="133" y="316"/>
                    </a:lnTo>
                    <a:lnTo>
                      <a:pt x="131" y="325"/>
                    </a:lnTo>
                    <a:lnTo>
                      <a:pt x="127" y="335"/>
                    </a:lnTo>
                    <a:lnTo>
                      <a:pt x="124" y="344"/>
                    </a:lnTo>
                    <a:lnTo>
                      <a:pt x="120" y="352"/>
                    </a:lnTo>
                    <a:lnTo>
                      <a:pt x="116" y="359"/>
                    </a:lnTo>
                    <a:lnTo>
                      <a:pt x="112" y="367"/>
                    </a:lnTo>
                    <a:lnTo>
                      <a:pt x="108" y="375"/>
                    </a:lnTo>
                    <a:lnTo>
                      <a:pt x="103" y="386"/>
                    </a:lnTo>
                    <a:lnTo>
                      <a:pt x="97" y="399"/>
                    </a:lnTo>
                    <a:lnTo>
                      <a:pt x="87" y="409"/>
                    </a:lnTo>
                    <a:lnTo>
                      <a:pt x="80" y="416"/>
                    </a:lnTo>
                    <a:lnTo>
                      <a:pt x="74" y="422"/>
                    </a:lnTo>
                    <a:lnTo>
                      <a:pt x="70" y="428"/>
                    </a:lnTo>
                    <a:lnTo>
                      <a:pt x="63" y="435"/>
                    </a:lnTo>
                    <a:lnTo>
                      <a:pt x="61" y="437"/>
                    </a:lnTo>
                    <a:lnTo>
                      <a:pt x="0" y="415"/>
                    </a:lnTo>
                    <a:lnTo>
                      <a:pt x="85" y="188"/>
                    </a:lnTo>
                    <a:lnTo>
                      <a:pt x="87" y="19"/>
                    </a:lnTo>
                    <a:lnTo>
                      <a:pt x="141" y="0"/>
                    </a:lnTo>
                    <a:lnTo>
                      <a:pt x="141" y="0"/>
                    </a:lnTo>
                    <a:close/>
                  </a:path>
                </a:pathLst>
              </a:custGeom>
              <a:solidFill>
                <a:srgbClr val="ffff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flipH="1">
                <a:off x="6694560" y="2201040"/>
                <a:ext cx="452520" cy="165240"/>
              </a:xfrm>
              <a:custGeom>
                <a:avLst/>
                <a:gdLst/>
                <a:ahLst/>
                <a:rect l="l" t="t" r="r" b="b"/>
                <a:pathLst>
                  <a:path w="1576" h="576">
                    <a:moveTo>
                      <a:pt x="689" y="2"/>
                    </a:moveTo>
                    <a:lnTo>
                      <a:pt x="671" y="2"/>
                    </a:lnTo>
                    <a:lnTo>
                      <a:pt x="658" y="2"/>
                    </a:lnTo>
                    <a:lnTo>
                      <a:pt x="645" y="2"/>
                    </a:lnTo>
                    <a:lnTo>
                      <a:pt x="631" y="3"/>
                    </a:lnTo>
                    <a:lnTo>
                      <a:pt x="616" y="3"/>
                    </a:lnTo>
                    <a:lnTo>
                      <a:pt x="603" y="3"/>
                    </a:lnTo>
                    <a:lnTo>
                      <a:pt x="590" y="5"/>
                    </a:lnTo>
                    <a:lnTo>
                      <a:pt x="576" y="7"/>
                    </a:lnTo>
                    <a:lnTo>
                      <a:pt x="563" y="7"/>
                    </a:lnTo>
                    <a:lnTo>
                      <a:pt x="550" y="9"/>
                    </a:lnTo>
                    <a:lnTo>
                      <a:pt x="536" y="9"/>
                    </a:lnTo>
                    <a:lnTo>
                      <a:pt x="523" y="13"/>
                    </a:lnTo>
                    <a:lnTo>
                      <a:pt x="510" y="13"/>
                    </a:lnTo>
                    <a:lnTo>
                      <a:pt x="497" y="17"/>
                    </a:lnTo>
                    <a:lnTo>
                      <a:pt x="483" y="17"/>
                    </a:lnTo>
                    <a:lnTo>
                      <a:pt x="472" y="22"/>
                    </a:lnTo>
                    <a:lnTo>
                      <a:pt x="458" y="22"/>
                    </a:lnTo>
                    <a:lnTo>
                      <a:pt x="445" y="26"/>
                    </a:lnTo>
                    <a:lnTo>
                      <a:pt x="434" y="26"/>
                    </a:lnTo>
                    <a:lnTo>
                      <a:pt x="422" y="30"/>
                    </a:lnTo>
                    <a:lnTo>
                      <a:pt x="409" y="30"/>
                    </a:lnTo>
                    <a:lnTo>
                      <a:pt x="398" y="34"/>
                    </a:lnTo>
                    <a:lnTo>
                      <a:pt x="386" y="36"/>
                    </a:lnTo>
                    <a:lnTo>
                      <a:pt x="375" y="40"/>
                    </a:lnTo>
                    <a:lnTo>
                      <a:pt x="362" y="43"/>
                    </a:lnTo>
                    <a:lnTo>
                      <a:pt x="350" y="45"/>
                    </a:lnTo>
                    <a:lnTo>
                      <a:pt x="341" y="47"/>
                    </a:lnTo>
                    <a:lnTo>
                      <a:pt x="329" y="53"/>
                    </a:lnTo>
                    <a:lnTo>
                      <a:pt x="318" y="55"/>
                    </a:lnTo>
                    <a:lnTo>
                      <a:pt x="306" y="59"/>
                    </a:lnTo>
                    <a:lnTo>
                      <a:pt x="297" y="62"/>
                    </a:lnTo>
                    <a:lnTo>
                      <a:pt x="287" y="66"/>
                    </a:lnTo>
                    <a:lnTo>
                      <a:pt x="274" y="70"/>
                    </a:lnTo>
                    <a:lnTo>
                      <a:pt x="266" y="74"/>
                    </a:lnTo>
                    <a:lnTo>
                      <a:pt x="255" y="76"/>
                    </a:lnTo>
                    <a:lnTo>
                      <a:pt x="246" y="80"/>
                    </a:lnTo>
                    <a:lnTo>
                      <a:pt x="234" y="83"/>
                    </a:lnTo>
                    <a:lnTo>
                      <a:pt x="227" y="87"/>
                    </a:lnTo>
                    <a:lnTo>
                      <a:pt x="215" y="93"/>
                    </a:lnTo>
                    <a:lnTo>
                      <a:pt x="208" y="97"/>
                    </a:lnTo>
                    <a:lnTo>
                      <a:pt x="196" y="100"/>
                    </a:lnTo>
                    <a:lnTo>
                      <a:pt x="187" y="104"/>
                    </a:lnTo>
                    <a:lnTo>
                      <a:pt x="179" y="108"/>
                    </a:lnTo>
                    <a:lnTo>
                      <a:pt x="171" y="112"/>
                    </a:lnTo>
                    <a:lnTo>
                      <a:pt x="162" y="116"/>
                    </a:lnTo>
                    <a:lnTo>
                      <a:pt x="154" y="121"/>
                    </a:lnTo>
                    <a:lnTo>
                      <a:pt x="147" y="127"/>
                    </a:lnTo>
                    <a:lnTo>
                      <a:pt x="139" y="131"/>
                    </a:lnTo>
                    <a:lnTo>
                      <a:pt x="132" y="137"/>
                    </a:lnTo>
                    <a:lnTo>
                      <a:pt x="124" y="140"/>
                    </a:lnTo>
                    <a:lnTo>
                      <a:pt x="116" y="144"/>
                    </a:lnTo>
                    <a:lnTo>
                      <a:pt x="109" y="150"/>
                    </a:lnTo>
                    <a:lnTo>
                      <a:pt x="101" y="154"/>
                    </a:lnTo>
                    <a:lnTo>
                      <a:pt x="95" y="159"/>
                    </a:lnTo>
                    <a:lnTo>
                      <a:pt x="90" y="165"/>
                    </a:lnTo>
                    <a:lnTo>
                      <a:pt x="84" y="171"/>
                    </a:lnTo>
                    <a:lnTo>
                      <a:pt x="73" y="180"/>
                    </a:lnTo>
                    <a:lnTo>
                      <a:pt x="61" y="192"/>
                    </a:lnTo>
                    <a:lnTo>
                      <a:pt x="52" y="203"/>
                    </a:lnTo>
                    <a:lnTo>
                      <a:pt x="44" y="215"/>
                    </a:lnTo>
                    <a:lnTo>
                      <a:pt x="38" y="222"/>
                    </a:lnTo>
                    <a:lnTo>
                      <a:pt x="33" y="228"/>
                    </a:lnTo>
                    <a:lnTo>
                      <a:pt x="29" y="235"/>
                    </a:lnTo>
                    <a:lnTo>
                      <a:pt x="25" y="243"/>
                    </a:lnTo>
                    <a:lnTo>
                      <a:pt x="19" y="251"/>
                    </a:lnTo>
                    <a:lnTo>
                      <a:pt x="16" y="258"/>
                    </a:lnTo>
                    <a:lnTo>
                      <a:pt x="12" y="268"/>
                    </a:lnTo>
                    <a:lnTo>
                      <a:pt x="10" y="275"/>
                    </a:lnTo>
                    <a:lnTo>
                      <a:pt x="6" y="281"/>
                    </a:lnTo>
                    <a:lnTo>
                      <a:pt x="4" y="289"/>
                    </a:lnTo>
                    <a:lnTo>
                      <a:pt x="2" y="296"/>
                    </a:lnTo>
                    <a:lnTo>
                      <a:pt x="2" y="304"/>
                    </a:lnTo>
                    <a:lnTo>
                      <a:pt x="0" y="312"/>
                    </a:lnTo>
                    <a:lnTo>
                      <a:pt x="0" y="319"/>
                    </a:lnTo>
                    <a:lnTo>
                      <a:pt x="2" y="327"/>
                    </a:lnTo>
                    <a:lnTo>
                      <a:pt x="4" y="334"/>
                    </a:lnTo>
                    <a:lnTo>
                      <a:pt x="8" y="348"/>
                    </a:lnTo>
                    <a:lnTo>
                      <a:pt x="14" y="361"/>
                    </a:lnTo>
                    <a:lnTo>
                      <a:pt x="17" y="367"/>
                    </a:lnTo>
                    <a:lnTo>
                      <a:pt x="21" y="374"/>
                    </a:lnTo>
                    <a:lnTo>
                      <a:pt x="27" y="380"/>
                    </a:lnTo>
                    <a:lnTo>
                      <a:pt x="33" y="388"/>
                    </a:lnTo>
                    <a:lnTo>
                      <a:pt x="36" y="393"/>
                    </a:lnTo>
                    <a:lnTo>
                      <a:pt x="42" y="399"/>
                    </a:lnTo>
                    <a:lnTo>
                      <a:pt x="50" y="405"/>
                    </a:lnTo>
                    <a:lnTo>
                      <a:pt x="57" y="412"/>
                    </a:lnTo>
                    <a:lnTo>
                      <a:pt x="65" y="418"/>
                    </a:lnTo>
                    <a:lnTo>
                      <a:pt x="73" y="424"/>
                    </a:lnTo>
                    <a:lnTo>
                      <a:pt x="80" y="429"/>
                    </a:lnTo>
                    <a:lnTo>
                      <a:pt x="90" y="437"/>
                    </a:lnTo>
                    <a:lnTo>
                      <a:pt x="97" y="443"/>
                    </a:lnTo>
                    <a:lnTo>
                      <a:pt x="107" y="448"/>
                    </a:lnTo>
                    <a:lnTo>
                      <a:pt x="116" y="452"/>
                    </a:lnTo>
                    <a:lnTo>
                      <a:pt x="126" y="460"/>
                    </a:lnTo>
                    <a:lnTo>
                      <a:pt x="135" y="464"/>
                    </a:lnTo>
                    <a:lnTo>
                      <a:pt x="147" y="469"/>
                    </a:lnTo>
                    <a:lnTo>
                      <a:pt x="158" y="473"/>
                    </a:lnTo>
                    <a:lnTo>
                      <a:pt x="170" y="481"/>
                    </a:lnTo>
                    <a:lnTo>
                      <a:pt x="181" y="485"/>
                    </a:lnTo>
                    <a:lnTo>
                      <a:pt x="192" y="490"/>
                    </a:lnTo>
                    <a:lnTo>
                      <a:pt x="204" y="494"/>
                    </a:lnTo>
                    <a:lnTo>
                      <a:pt x="217" y="500"/>
                    </a:lnTo>
                    <a:lnTo>
                      <a:pt x="230" y="504"/>
                    </a:lnTo>
                    <a:lnTo>
                      <a:pt x="244" y="507"/>
                    </a:lnTo>
                    <a:lnTo>
                      <a:pt x="257" y="511"/>
                    </a:lnTo>
                    <a:lnTo>
                      <a:pt x="272" y="517"/>
                    </a:lnTo>
                    <a:lnTo>
                      <a:pt x="285" y="519"/>
                    </a:lnTo>
                    <a:lnTo>
                      <a:pt x="301" y="523"/>
                    </a:lnTo>
                    <a:lnTo>
                      <a:pt x="314" y="526"/>
                    </a:lnTo>
                    <a:lnTo>
                      <a:pt x="329" y="532"/>
                    </a:lnTo>
                    <a:lnTo>
                      <a:pt x="344" y="534"/>
                    </a:lnTo>
                    <a:lnTo>
                      <a:pt x="360" y="536"/>
                    </a:lnTo>
                    <a:lnTo>
                      <a:pt x="375" y="540"/>
                    </a:lnTo>
                    <a:lnTo>
                      <a:pt x="392" y="543"/>
                    </a:lnTo>
                    <a:lnTo>
                      <a:pt x="409" y="543"/>
                    </a:lnTo>
                    <a:lnTo>
                      <a:pt x="424" y="549"/>
                    </a:lnTo>
                    <a:lnTo>
                      <a:pt x="439" y="549"/>
                    </a:lnTo>
                    <a:lnTo>
                      <a:pt x="458" y="553"/>
                    </a:lnTo>
                    <a:lnTo>
                      <a:pt x="476" y="555"/>
                    </a:lnTo>
                    <a:lnTo>
                      <a:pt x="493" y="559"/>
                    </a:lnTo>
                    <a:lnTo>
                      <a:pt x="510" y="561"/>
                    </a:lnTo>
                    <a:lnTo>
                      <a:pt x="529" y="562"/>
                    </a:lnTo>
                    <a:lnTo>
                      <a:pt x="546" y="564"/>
                    </a:lnTo>
                    <a:lnTo>
                      <a:pt x="565" y="566"/>
                    </a:lnTo>
                    <a:lnTo>
                      <a:pt x="582" y="566"/>
                    </a:lnTo>
                    <a:lnTo>
                      <a:pt x="603" y="568"/>
                    </a:lnTo>
                    <a:lnTo>
                      <a:pt x="620" y="570"/>
                    </a:lnTo>
                    <a:lnTo>
                      <a:pt x="639" y="570"/>
                    </a:lnTo>
                    <a:lnTo>
                      <a:pt x="658" y="572"/>
                    </a:lnTo>
                    <a:lnTo>
                      <a:pt x="679" y="574"/>
                    </a:lnTo>
                    <a:lnTo>
                      <a:pt x="698" y="574"/>
                    </a:lnTo>
                    <a:lnTo>
                      <a:pt x="719" y="574"/>
                    </a:lnTo>
                    <a:lnTo>
                      <a:pt x="738" y="574"/>
                    </a:lnTo>
                    <a:lnTo>
                      <a:pt x="759" y="576"/>
                    </a:lnTo>
                    <a:lnTo>
                      <a:pt x="778" y="576"/>
                    </a:lnTo>
                    <a:lnTo>
                      <a:pt x="799" y="576"/>
                    </a:lnTo>
                    <a:lnTo>
                      <a:pt x="820" y="576"/>
                    </a:lnTo>
                    <a:lnTo>
                      <a:pt x="841" y="576"/>
                    </a:lnTo>
                    <a:lnTo>
                      <a:pt x="846" y="574"/>
                    </a:lnTo>
                    <a:lnTo>
                      <a:pt x="854" y="574"/>
                    </a:lnTo>
                    <a:lnTo>
                      <a:pt x="862" y="572"/>
                    </a:lnTo>
                    <a:lnTo>
                      <a:pt x="869" y="572"/>
                    </a:lnTo>
                    <a:lnTo>
                      <a:pt x="877" y="570"/>
                    </a:lnTo>
                    <a:lnTo>
                      <a:pt x="886" y="570"/>
                    </a:lnTo>
                    <a:lnTo>
                      <a:pt x="896" y="570"/>
                    </a:lnTo>
                    <a:lnTo>
                      <a:pt x="903" y="570"/>
                    </a:lnTo>
                    <a:lnTo>
                      <a:pt x="913" y="568"/>
                    </a:lnTo>
                    <a:lnTo>
                      <a:pt x="920" y="566"/>
                    </a:lnTo>
                    <a:lnTo>
                      <a:pt x="930" y="566"/>
                    </a:lnTo>
                    <a:lnTo>
                      <a:pt x="939" y="566"/>
                    </a:lnTo>
                    <a:lnTo>
                      <a:pt x="949" y="564"/>
                    </a:lnTo>
                    <a:lnTo>
                      <a:pt x="960" y="564"/>
                    </a:lnTo>
                    <a:lnTo>
                      <a:pt x="970" y="562"/>
                    </a:lnTo>
                    <a:lnTo>
                      <a:pt x="979" y="562"/>
                    </a:lnTo>
                    <a:lnTo>
                      <a:pt x="987" y="561"/>
                    </a:lnTo>
                    <a:lnTo>
                      <a:pt x="998" y="561"/>
                    </a:lnTo>
                    <a:lnTo>
                      <a:pt x="1006" y="559"/>
                    </a:lnTo>
                    <a:lnTo>
                      <a:pt x="1017" y="559"/>
                    </a:lnTo>
                    <a:lnTo>
                      <a:pt x="1025" y="557"/>
                    </a:lnTo>
                    <a:lnTo>
                      <a:pt x="1034" y="555"/>
                    </a:lnTo>
                    <a:lnTo>
                      <a:pt x="1044" y="553"/>
                    </a:lnTo>
                    <a:lnTo>
                      <a:pt x="1055" y="553"/>
                    </a:lnTo>
                    <a:lnTo>
                      <a:pt x="1063" y="553"/>
                    </a:lnTo>
                    <a:lnTo>
                      <a:pt x="1073" y="551"/>
                    </a:lnTo>
                    <a:lnTo>
                      <a:pt x="1080" y="549"/>
                    </a:lnTo>
                    <a:lnTo>
                      <a:pt x="1090" y="549"/>
                    </a:lnTo>
                    <a:lnTo>
                      <a:pt x="1095" y="549"/>
                    </a:lnTo>
                    <a:lnTo>
                      <a:pt x="1105" y="547"/>
                    </a:lnTo>
                    <a:lnTo>
                      <a:pt x="1112" y="545"/>
                    </a:lnTo>
                    <a:lnTo>
                      <a:pt x="1120" y="545"/>
                    </a:lnTo>
                    <a:lnTo>
                      <a:pt x="1116" y="519"/>
                    </a:lnTo>
                    <a:lnTo>
                      <a:pt x="1109" y="519"/>
                    </a:lnTo>
                    <a:lnTo>
                      <a:pt x="1101" y="519"/>
                    </a:lnTo>
                    <a:lnTo>
                      <a:pt x="1092" y="521"/>
                    </a:lnTo>
                    <a:lnTo>
                      <a:pt x="1086" y="523"/>
                    </a:lnTo>
                    <a:lnTo>
                      <a:pt x="1076" y="523"/>
                    </a:lnTo>
                    <a:lnTo>
                      <a:pt x="1069" y="523"/>
                    </a:lnTo>
                    <a:lnTo>
                      <a:pt x="1061" y="524"/>
                    </a:lnTo>
                    <a:lnTo>
                      <a:pt x="1052" y="526"/>
                    </a:lnTo>
                    <a:lnTo>
                      <a:pt x="1042" y="526"/>
                    </a:lnTo>
                    <a:lnTo>
                      <a:pt x="1033" y="526"/>
                    </a:lnTo>
                    <a:lnTo>
                      <a:pt x="1023" y="528"/>
                    </a:lnTo>
                    <a:lnTo>
                      <a:pt x="1014" y="530"/>
                    </a:lnTo>
                    <a:lnTo>
                      <a:pt x="1004" y="530"/>
                    </a:lnTo>
                    <a:lnTo>
                      <a:pt x="995" y="532"/>
                    </a:lnTo>
                    <a:lnTo>
                      <a:pt x="985" y="532"/>
                    </a:lnTo>
                    <a:lnTo>
                      <a:pt x="977" y="536"/>
                    </a:lnTo>
                    <a:lnTo>
                      <a:pt x="966" y="536"/>
                    </a:lnTo>
                    <a:lnTo>
                      <a:pt x="957" y="536"/>
                    </a:lnTo>
                    <a:lnTo>
                      <a:pt x="947" y="538"/>
                    </a:lnTo>
                    <a:lnTo>
                      <a:pt x="938" y="540"/>
                    </a:lnTo>
                    <a:lnTo>
                      <a:pt x="928" y="540"/>
                    </a:lnTo>
                    <a:lnTo>
                      <a:pt x="919" y="540"/>
                    </a:lnTo>
                    <a:lnTo>
                      <a:pt x="909" y="542"/>
                    </a:lnTo>
                    <a:lnTo>
                      <a:pt x="901" y="543"/>
                    </a:lnTo>
                    <a:lnTo>
                      <a:pt x="892" y="543"/>
                    </a:lnTo>
                    <a:lnTo>
                      <a:pt x="882" y="543"/>
                    </a:lnTo>
                    <a:lnTo>
                      <a:pt x="875" y="543"/>
                    </a:lnTo>
                    <a:lnTo>
                      <a:pt x="867" y="543"/>
                    </a:lnTo>
                    <a:lnTo>
                      <a:pt x="860" y="543"/>
                    </a:lnTo>
                    <a:lnTo>
                      <a:pt x="850" y="545"/>
                    </a:lnTo>
                    <a:lnTo>
                      <a:pt x="844" y="545"/>
                    </a:lnTo>
                    <a:lnTo>
                      <a:pt x="839" y="547"/>
                    </a:lnTo>
                    <a:lnTo>
                      <a:pt x="820" y="547"/>
                    </a:lnTo>
                    <a:lnTo>
                      <a:pt x="799" y="547"/>
                    </a:lnTo>
                    <a:lnTo>
                      <a:pt x="780" y="547"/>
                    </a:lnTo>
                    <a:lnTo>
                      <a:pt x="761" y="547"/>
                    </a:lnTo>
                    <a:lnTo>
                      <a:pt x="742" y="545"/>
                    </a:lnTo>
                    <a:lnTo>
                      <a:pt x="723" y="545"/>
                    </a:lnTo>
                    <a:lnTo>
                      <a:pt x="704" y="545"/>
                    </a:lnTo>
                    <a:lnTo>
                      <a:pt x="687" y="545"/>
                    </a:lnTo>
                    <a:lnTo>
                      <a:pt x="668" y="543"/>
                    </a:lnTo>
                    <a:lnTo>
                      <a:pt x="650" y="543"/>
                    </a:lnTo>
                    <a:lnTo>
                      <a:pt x="631" y="542"/>
                    </a:lnTo>
                    <a:lnTo>
                      <a:pt x="614" y="542"/>
                    </a:lnTo>
                    <a:lnTo>
                      <a:pt x="595" y="540"/>
                    </a:lnTo>
                    <a:lnTo>
                      <a:pt x="578" y="540"/>
                    </a:lnTo>
                    <a:lnTo>
                      <a:pt x="561" y="536"/>
                    </a:lnTo>
                    <a:lnTo>
                      <a:pt x="546" y="536"/>
                    </a:lnTo>
                    <a:lnTo>
                      <a:pt x="529" y="534"/>
                    </a:lnTo>
                    <a:lnTo>
                      <a:pt x="510" y="532"/>
                    </a:lnTo>
                    <a:lnTo>
                      <a:pt x="493" y="528"/>
                    </a:lnTo>
                    <a:lnTo>
                      <a:pt x="477" y="526"/>
                    </a:lnTo>
                    <a:lnTo>
                      <a:pt x="462" y="524"/>
                    </a:lnTo>
                    <a:lnTo>
                      <a:pt x="445" y="523"/>
                    </a:lnTo>
                    <a:lnTo>
                      <a:pt x="430" y="519"/>
                    </a:lnTo>
                    <a:lnTo>
                      <a:pt x="415" y="519"/>
                    </a:lnTo>
                    <a:lnTo>
                      <a:pt x="400" y="513"/>
                    </a:lnTo>
                    <a:lnTo>
                      <a:pt x="384" y="511"/>
                    </a:lnTo>
                    <a:lnTo>
                      <a:pt x="369" y="509"/>
                    </a:lnTo>
                    <a:lnTo>
                      <a:pt x="356" y="505"/>
                    </a:lnTo>
                    <a:lnTo>
                      <a:pt x="341" y="502"/>
                    </a:lnTo>
                    <a:lnTo>
                      <a:pt x="327" y="500"/>
                    </a:lnTo>
                    <a:lnTo>
                      <a:pt x="312" y="496"/>
                    </a:lnTo>
                    <a:lnTo>
                      <a:pt x="301" y="492"/>
                    </a:lnTo>
                    <a:lnTo>
                      <a:pt x="285" y="488"/>
                    </a:lnTo>
                    <a:lnTo>
                      <a:pt x="272" y="483"/>
                    </a:lnTo>
                    <a:lnTo>
                      <a:pt x="261" y="479"/>
                    </a:lnTo>
                    <a:lnTo>
                      <a:pt x="247" y="475"/>
                    </a:lnTo>
                    <a:lnTo>
                      <a:pt x="234" y="469"/>
                    </a:lnTo>
                    <a:lnTo>
                      <a:pt x="223" y="466"/>
                    </a:lnTo>
                    <a:lnTo>
                      <a:pt x="211" y="462"/>
                    </a:lnTo>
                    <a:lnTo>
                      <a:pt x="200" y="458"/>
                    </a:lnTo>
                    <a:lnTo>
                      <a:pt x="189" y="452"/>
                    </a:lnTo>
                    <a:lnTo>
                      <a:pt x="177" y="448"/>
                    </a:lnTo>
                    <a:lnTo>
                      <a:pt x="168" y="443"/>
                    </a:lnTo>
                    <a:lnTo>
                      <a:pt x="158" y="439"/>
                    </a:lnTo>
                    <a:lnTo>
                      <a:pt x="149" y="433"/>
                    </a:lnTo>
                    <a:lnTo>
                      <a:pt x="139" y="429"/>
                    </a:lnTo>
                    <a:lnTo>
                      <a:pt x="132" y="424"/>
                    </a:lnTo>
                    <a:lnTo>
                      <a:pt x="124" y="420"/>
                    </a:lnTo>
                    <a:lnTo>
                      <a:pt x="114" y="412"/>
                    </a:lnTo>
                    <a:lnTo>
                      <a:pt x="107" y="408"/>
                    </a:lnTo>
                    <a:lnTo>
                      <a:pt x="99" y="403"/>
                    </a:lnTo>
                    <a:lnTo>
                      <a:pt x="92" y="399"/>
                    </a:lnTo>
                    <a:lnTo>
                      <a:pt x="86" y="391"/>
                    </a:lnTo>
                    <a:lnTo>
                      <a:pt x="80" y="386"/>
                    </a:lnTo>
                    <a:lnTo>
                      <a:pt x="73" y="382"/>
                    </a:lnTo>
                    <a:lnTo>
                      <a:pt x="69" y="376"/>
                    </a:lnTo>
                    <a:lnTo>
                      <a:pt x="59" y="365"/>
                    </a:lnTo>
                    <a:lnTo>
                      <a:pt x="52" y="351"/>
                    </a:lnTo>
                    <a:lnTo>
                      <a:pt x="46" y="340"/>
                    </a:lnTo>
                    <a:lnTo>
                      <a:pt x="42" y="329"/>
                    </a:lnTo>
                    <a:lnTo>
                      <a:pt x="38" y="315"/>
                    </a:lnTo>
                    <a:lnTo>
                      <a:pt x="38" y="304"/>
                    </a:lnTo>
                    <a:lnTo>
                      <a:pt x="38" y="292"/>
                    </a:lnTo>
                    <a:lnTo>
                      <a:pt x="42" y="281"/>
                    </a:lnTo>
                    <a:lnTo>
                      <a:pt x="46" y="268"/>
                    </a:lnTo>
                    <a:lnTo>
                      <a:pt x="52" y="256"/>
                    </a:lnTo>
                    <a:lnTo>
                      <a:pt x="57" y="245"/>
                    </a:lnTo>
                    <a:lnTo>
                      <a:pt x="67" y="232"/>
                    </a:lnTo>
                    <a:lnTo>
                      <a:pt x="73" y="224"/>
                    </a:lnTo>
                    <a:lnTo>
                      <a:pt x="82" y="215"/>
                    </a:lnTo>
                    <a:lnTo>
                      <a:pt x="90" y="205"/>
                    </a:lnTo>
                    <a:lnTo>
                      <a:pt x="99" y="197"/>
                    </a:lnTo>
                    <a:lnTo>
                      <a:pt x="111" y="188"/>
                    </a:lnTo>
                    <a:lnTo>
                      <a:pt x="122" y="178"/>
                    </a:lnTo>
                    <a:lnTo>
                      <a:pt x="128" y="175"/>
                    </a:lnTo>
                    <a:lnTo>
                      <a:pt x="135" y="171"/>
                    </a:lnTo>
                    <a:lnTo>
                      <a:pt x="143" y="167"/>
                    </a:lnTo>
                    <a:lnTo>
                      <a:pt x="151" y="163"/>
                    </a:lnTo>
                    <a:lnTo>
                      <a:pt x="156" y="157"/>
                    </a:lnTo>
                    <a:lnTo>
                      <a:pt x="164" y="154"/>
                    </a:lnTo>
                    <a:lnTo>
                      <a:pt x="171" y="150"/>
                    </a:lnTo>
                    <a:lnTo>
                      <a:pt x="179" y="146"/>
                    </a:lnTo>
                    <a:lnTo>
                      <a:pt x="187" y="142"/>
                    </a:lnTo>
                    <a:lnTo>
                      <a:pt x="194" y="138"/>
                    </a:lnTo>
                    <a:lnTo>
                      <a:pt x="204" y="135"/>
                    </a:lnTo>
                    <a:lnTo>
                      <a:pt x="213" y="131"/>
                    </a:lnTo>
                    <a:lnTo>
                      <a:pt x="221" y="127"/>
                    </a:lnTo>
                    <a:lnTo>
                      <a:pt x="228" y="123"/>
                    </a:lnTo>
                    <a:lnTo>
                      <a:pt x="238" y="118"/>
                    </a:lnTo>
                    <a:lnTo>
                      <a:pt x="247" y="114"/>
                    </a:lnTo>
                    <a:lnTo>
                      <a:pt x="257" y="110"/>
                    </a:lnTo>
                    <a:lnTo>
                      <a:pt x="268" y="108"/>
                    </a:lnTo>
                    <a:lnTo>
                      <a:pt x="278" y="104"/>
                    </a:lnTo>
                    <a:lnTo>
                      <a:pt x="289" y="102"/>
                    </a:lnTo>
                    <a:lnTo>
                      <a:pt x="299" y="99"/>
                    </a:lnTo>
                    <a:lnTo>
                      <a:pt x="308" y="95"/>
                    </a:lnTo>
                    <a:lnTo>
                      <a:pt x="318" y="91"/>
                    </a:lnTo>
                    <a:lnTo>
                      <a:pt x="331" y="87"/>
                    </a:lnTo>
                    <a:lnTo>
                      <a:pt x="341" y="83"/>
                    </a:lnTo>
                    <a:lnTo>
                      <a:pt x="354" y="81"/>
                    </a:lnTo>
                    <a:lnTo>
                      <a:pt x="365" y="78"/>
                    </a:lnTo>
                    <a:lnTo>
                      <a:pt x="377" y="78"/>
                    </a:lnTo>
                    <a:lnTo>
                      <a:pt x="388" y="74"/>
                    </a:lnTo>
                    <a:lnTo>
                      <a:pt x="401" y="70"/>
                    </a:lnTo>
                    <a:lnTo>
                      <a:pt x="413" y="68"/>
                    </a:lnTo>
                    <a:lnTo>
                      <a:pt x="424" y="66"/>
                    </a:lnTo>
                    <a:lnTo>
                      <a:pt x="436" y="62"/>
                    </a:lnTo>
                    <a:lnTo>
                      <a:pt x="449" y="61"/>
                    </a:lnTo>
                    <a:lnTo>
                      <a:pt x="462" y="59"/>
                    </a:lnTo>
                    <a:lnTo>
                      <a:pt x="476" y="57"/>
                    </a:lnTo>
                    <a:lnTo>
                      <a:pt x="489" y="53"/>
                    </a:lnTo>
                    <a:lnTo>
                      <a:pt x="502" y="53"/>
                    </a:lnTo>
                    <a:lnTo>
                      <a:pt x="514" y="49"/>
                    </a:lnTo>
                    <a:lnTo>
                      <a:pt x="529" y="47"/>
                    </a:lnTo>
                    <a:lnTo>
                      <a:pt x="542" y="45"/>
                    </a:lnTo>
                    <a:lnTo>
                      <a:pt x="557" y="45"/>
                    </a:lnTo>
                    <a:lnTo>
                      <a:pt x="571" y="43"/>
                    </a:lnTo>
                    <a:lnTo>
                      <a:pt x="586" y="43"/>
                    </a:lnTo>
                    <a:lnTo>
                      <a:pt x="601" y="40"/>
                    </a:lnTo>
                    <a:lnTo>
                      <a:pt x="614" y="40"/>
                    </a:lnTo>
                    <a:lnTo>
                      <a:pt x="630" y="38"/>
                    </a:lnTo>
                    <a:lnTo>
                      <a:pt x="645" y="38"/>
                    </a:lnTo>
                    <a:lnTo>
                      <a:pt x="660" y="36"/>
                    </a:lnTo>
                    <a:lnTo>
                      <a:pt x="677" y="36"/>
                    </a:lnTo>
                    <a:lnTo>
                      <a:pt x="692" y="36"/>
                    </a:lnTo>
                    <a:lnTo>
                      <a:pt x="708" y="36"/>
                    </a:lnTo>
                    <a:lnTo>
                      <a:pt x="727" y="34"/>
                    </a:lnTo>
                    <a:lnTo>
                      <a:pt x="746" y="34"/>
                    </a:lnTo>
                    <a:lnTo>
                      <a:pt x="765" y="34"/>
                    </a:lnTo>
                    <a:lnTo>
                      <a:pt x="782" y="34"/>
                    </a:lnTo>
                    <a:lnTo>
                      <a:pt x="801" y="34"/>
                    </a:lnTo>
                    <a:lnTo>
                      <a:pt x="820" y="34"/>
                    </a:lnTo>
                    <a:lnTo>
                      <a:pt x="839" y="34"/>
                    </a:lnTo>
                    <a:lnTo>
                      <a:pt x="858" y="36"/>
                    </a:lnTo>
                    <a:lnTo>
                      <a:pt x="875" y="36"/>
                    </a:lnTo>
                    <a:lnTo>
                      <a:pt x="896" y="38"/>
                    </a:lnTo>
                    <a:lnTo>
                      <a:pt x="913" y="40"/>
                    </a:lnTo>
                    <a:lnTo>
                      <a:pt x="932" y="40"/>
                    </a:lnTo>
                    <a:lnTo>
                      <a:pt x="949" y="42"/>
                    </a:lnTo>
                    <a:lnTo>
                      <a:pt x="968" y="43"/>
                    </a:lnTo>
                    <a:lnTo>
                      <a:pt x="987" y="45"/>
                    </a:lnTo>
                    <a:lnTo>
                      <a:pt x="1004" y="47"/>
                    </a:lnTo>
                    <a:lnTo>
                      <a:pt x="1021" y="49"/>
                    </a:lnTo>
                    <a:lnTo>
                      <a:pt x="1040" y="53"/>
                    </a:lnTo>
                    <a:lnTo>
                      <a:pt x="1055" y="53"/>
                    </a:lnTo>
                    <a:lnTo>
                      <a:pt x="1074" y="57"/>
                    </a:lnTo>
                    <a:lnTo>
                      <a:pt x="1090" y="59"/>
                    </a:lnTo>
                    <a:lnTo>
                      <a:pt x="1107" y="61"/>
                    </a:lnTo>
                    <a:lnTo>
                      <a:pt x="1124" y="64"/>
                    </a:lnTo>
                    <a:lnTo>
                      <a:pt x="1141" y="68"/>
                    </a:lnTo>
                    <a:lnTo>
                      <a:pt x="1156" y="70"/>
                    </a:lnTo>
                    <a:lnTo>
                      <a:pt x="1173" y="74"/>
                    </a:lnTo>
                    <a:lnTo>
                      <a:pt x="1188" y="78"/>
                    </a:lnTo>
                    <a:lnTo>
                      <a:pt x="1206" y="81"/>
                    </a:lnTo>
                    <a:lnTo>
                      <a:pt x="1221" y="85"/>
                    </a:lnTo>
                    <a:lnTo>
                      <a:pt x="1236" y="89"/>
                    </a:lnTo>
                    <a:lnTo>
                      <a:pt x="1251" y="93"/>
                    </a:lnTo>
                    <a:lnTo>
                      <a:pt x="1266" y="97"/>
                    </a:lnTo>
                    <a:lnTo>
                      <a:pt x="1280" y="100"/>
                    </a:lnTo>
                    <a:lnTo>
                      <a:pt x="1293" y="104"/>
                    </a:lnTo>
                    <a:lnTo>
                      <a:pt x="1306" y="110"/>
                    </a:lnTo>
                    <a:lnTo>
                      <a:pt x="1322" y="114"/>
                    </a:lnTo>
                    <a:lnTo>
                      <a:pt x="1335" y="118"/>
                    </a:lnTo>
                    <a:lnTo>
                      <a:pt x="1348" y="123"/>
                    </a:lnTo>
                    <a:lnTo>
                      <a:pt x="1360" y="127"/>
                    </a:lnTo>
                    <a:lnTo>
                      <a:pt x="1373" y="131"/>
                    </a:lnTo>
                    <a:lnTo>
                      <a:pt x="1384" y="137"/>
                    </a:lnTo>
                    <a:lnTo>
                      <a:pt x="1396" y="140"/>
                    </a:lnTo>
                    <a:lnTo>
                      <a:pt x="1407" y="146"/>
                    </a:lnTo>
                    <a:lnTo>
                      <a:pt x="1419" y="152"/>
                    </a:lnTo>
                    <a:lnTo>
                      <a:pt x="1428" y="157"/>
                    </a:lnTo>
                    <a:lnTo>
                      <a:pt x="1438" y="163"/>
                    </a:lnTo>
                    <a:lnTo>
                      <a:pt x="1449" y="167"/>
                    </a:lnTo>
                    <a:lnTo>
                      <a:pt x="1458" y="175"/>
                    </a:lnTo>
                    <a:lnTo>
                      <a:pt x="1468" y="178"/>
                    </a:lnTo>
                    <a:lnTo>
                      <a:pt x="1476" y="184"/>
                    </a:lnTo>
                    <a:lnTo>
                      <a:pt x="1483" y="188"/>
                    </a:lnTo>
                    <a:lnTo>
                      <a:pt x="1491" y="196"/>
                    </a:lnTo>
                    <a:lnTo>
                      <a:pt x="1498" y="201"/>
                    </a:lnTo>
                    <a:lnTo>
                      <a:pt x="1506" y="207"/>
                    </a:lnTo>
                    <a:lnTo>
                      <a:pt x="1512" y="213"/>
                    </a:lnTo>
                    <a:lnTo>
                      <a:pt x="1519" y="220"/>
                    </a:lnTo>
                    <a:lnTo>
                      <a:pt x="1529" y="232"/>
                    </a:lnTo>
                    <a:lnTo>
                      <a:pt x="1536" y="245"/>
                    </a:lnTo>
                    <a:lnTo>
                      <a:pt x="1540" y="251"/>
                    </a:lnTo>
                    <a:lnTo>
                      <a:pt x="1544" y="258"/>
                    </a:lnTo>
                    <a:lnTo>
                      <a:pt x="1546" y="264"/>
                    </a:lnTo>
                    <a:lnTo>
                      <a:pt x="1550" y="272"/>
                    </a:lnTo>
                    <a:lnTo>
                      <a:pt x="1576" y="264"/>
                    </a:lnTo>
                    <a:lnTo>
                      <a:pt x="1572" y="254"/>
                    </a:lnTo>
                    <a:lnTo>
                      <a:pt x="1569" y="247"/>
                    </a:lnTo>
                    <a:lnTo>
                      <a:pt x="1565" y="241"/>
                    </a:lnTo>
                    <a:lnTo>
                      <a:pt x="1563" y="234"/>
                    </a:lnTo>
                    <a:lnTo>
                      <a:pt x="1557" y="226"/>
                    </a:lnTo>
                    <a:lnTo>
                      <a:pt x="1553" y="218"/>
                    </a:lnTo>
                    <a:lnTo>
                      <a:pt x="1548" y="213"/>
                    </a:lnTo>
                    <a:lnTo>
                      <a:pt x="1542" y="207"/>
                    </a:lnTo>
                    <a:lnTo>
                      <a:pt x="1536" y="197"/>
                    </a:lnTo>
                    <a:lnTo>
                      <a:pt x="1529" y="192"/>
                    </a:lnTo>
                    <a:lnTo>
                      <a:pt x="1521" y="184"/>
                    </a:lnTo>
                    <a:lnTo>
                      <a:pt x="1515" y="178"/>
                    </a:lnTo>
                    <a:lnTo>
                      <a:pt x="1506" y="171"/>
                    </a:lnTo>
                    <a:lnTo>
                      <a:pt x="1498" y="167"/>
                    </a:lnTo>
                    <a:lnTo>
                      <a:pt x="1489" y="159"/>
                    </a:lnTo>
                    <a:lnTo>
                      <a:pt x="1481" y="154"/>
                    </a:lnTo>
                    <a:lnTo>
                      <a:pt x="1470" y="148"/>
                    </a:lnTo>
                    <a:lnTo>
                      <a:pt x="1458" y="142"/>
                    </a:lnTo>
                    <a:lnTo>
                      <a:pt x="1447" y="137"/>
                    </a:lnTo>
                    <a:lnTo>
                      <a:pt x="1438" y="131"/>
                    </a:lnTo>
                    <a:lnTo>
                      <a:pt x="1424" y="123"/>
                    </a:lnTo>
                    <a:lnTo>
                      <a:pt x="1413" y="118"/>
                    </a:lnTo>
                    <a:lnTo>
                      <a:pt x="1401" y="112"/>
                    </a:lnTo>
                    <a:lnTo>
                      <a:pt x="1390" y="108"/>
                    </a:lnTo>
                    <a:lnTo>
                      <a:pt x="1377" y="102"/>
                    </a:lnTo>
                    <a:lnTo>
                      <a:pt x="1361" y="97"/>
                    </a:lnTo>
                    <a:lnTo>
                      <a:pt x="1350" y="93"/>
                    </a:lnTo>
                    <a:lnTo>
                      <a:pt x="1337" y="87"/>
                    </a:lnTo>
                    <a:lnTo>
                      <a:pt x="1322" y="83"/>
                    </a:lnTo>
                    <a:lnTo>
                      <a:pt x="1306" y="78"/>
                    </a:lnTo>
                    <a:lnTo>
                      <a:pt x="1293" y="74"/>
                    </a:lnTo>
                    <a:lnTo>
                      <a:pt x="1280" y="70"/>
                    </a:lnTo>
                    <a:lnTo>
                      <a:pt x="1263" y="64"/>
                    </a:lnTo>
                    <a:lnTo>
                      <a:pt x="1246" y="61"/>
                    </a:lnTo>
                    <a:lnTo>
                      <a:pt x="1230" y="57"/>
                    </a:lnTo>
                    <a:lnTo>
                      <a:pt x="1213" y="53"/>
                    </a:lnTo>
                    <a:lnTo>
                      <a:pt x="1196" y="47"/>
                    </a:lnTo>
                    <a:lnTo>
                      <a:pt x="1179" y="43"/>
                    </a:lnTo>
                    <a:lnTo>
                      <a:pt x="1162" y="40"/>
                    </a:lnTo>
                    <a:lnTo>
                      <a:pt x="1147" y="38"/>
                    </a:lnTo>
                    <a:lnTo>
                      <a:pt x="1128" y="34"/>
                    </a:lnTo>
                    <a:lnTo>
                      <a:pt x="1111" y="30"/>
                    </a:lnTo>
                    <a:lnTo>
                      <a:pt x="1093" y="26"/>
                    </a:lnTo>
                    <a:lnTo>
                      <a:pt x="1076" y="24"/>
                    </a:lnTo>
                    <a:lnTo>
                      <a:pt x="1057" y="21"/>
                    </a:lnTo>
                    <a:lnTo>
                      <a:pt x="1040" y="19"/>
                    </a:lnTo>
                    <a:lnTo>
                      <a:pt x="1021" y="17"/>
                    </a:lnTo>
                    <a:lnTo>
                      <a:pt x="1004" y="15"/>
                    </a:lnTo>
                    <a:lnTo>
                      <a:pt x="983" y="11"/>
                    </a:lnTo>
                    <a:lnTo>
                      <a:pt x="964" y="9"/>
                    </a:lnTo>
                    <a:lnTo>
                      <a:pt x="943" y="7"/>
                    </a:lnTo>
                    <a:lnTo>
                      <a:pt x="926" y="5"/>
                    </a:lnTo>
                    <a:lnTo>
                      <a:pt x="905" y="3"/>
                    </a:lnTo>
                    <a:lnTo>
                      <a:pt x="886" y="3"/>
                    </a:lnTo>
                    <a:lnTo>
                      <a:pt x="865" y="2"/>
                    </a:lnTo>
                    <a:lnTo>
                      <a:pt x="846" y="2"/>
                    </a:lnTo>
                    <a:lnTo>
                      <a:pt x="827" y="0"/>
                    </a:lnTo>
                    <a:lnTo>
                      <a:pt x="808" y="0"/>
                    </a:lnTo>
                    <a:lnTo>
                      <a:pt x="787" y="0"/>
                    </a:lnTo>
                    <a:lnTo>
                      <a:pt x="768" y="0"/>
                    </a:lnTo>
                    <a:lnTo>
                      <a:pt x="747" y="0"/>
                    </a:lnTo>
                    <a:lnTo>
                      <a:pt x="728" y="0"/>
                    </a:lnTo>
                    <a:lnTo>
                      <a:pt x="708" y="0"/>
                    </a:lnTo>
                    <a:lnTo>
                      <a:pt x="689" y="2"/>
                    </a:lnTo>
                    <a:lnTo>
                      <a:pt x="689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flipH="1">
                <a:off x="6774840" y="1859040"/>
                <a:ext cx="81000" cy="140760"/>
              </a:xfrm>
              <a:custGeom>
                <a:avLst/>
                <a:gdLst/>
                <a:ahLst/>
                <a:rect l="l" t="t" r="r" b="b"/>
                <a:pathLst>
                  <a:path w="282" h="492">
                    <a:moveTo>
                      <a:pt x="111" y="5"/>
                    </a:moveTo>
                    <a:lnTo>
                      <a:pt x="0" y="492"/>
                    </a:lnTo>
                    <a:lnTo>
                      <a:pt x="282" y="0"/>
                    </a:lnTo>
                    <a:lnTo>
                      <a:pt x="212" y="0"/>
                    </a:lnTo>
                    <a:lnTo>
                      <a:pt x="111" y="5"/>
                    </a:lnTo>
                    <a:lnTo>
                      <a:pt x="111" y="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>
                <a:off x="6608160" y="2356920"/>
                <a:ext cx="47520" cy="210960"/>
              </a:xfrm>
              <a:custGeom>
                <a:avLst/>
                <a:gdLst/>
                <a:ahLst/>
                <a:rect l="l" t="t" r="r" b="b"/>
                <a:pathLst>
                  <a:path w="166" h="736">
                    <a:moveTo>
                      <a:pt x="160" y="375"/>
                    </a:moveTo>
                    <a:lnTo>
                      <a:pt x="160" y="385"/>
                    </a:lnTo>
                    <a:lnTo>
                      <a:pt x="162" y="396"/>
                    </a:lnTo>
                    <a:lnTo>
                      <a:pt x="164" y="405"/>
                    </a:lnTo>
                    <a:lnTo>
                      <a:pt x="166" y="419"/>
                    </a:lnTo>
                    <a:lnTo>
                      <a:pt x="166" y="428"/>
                    </a:lnTo>
                    <a:lnTo>
                      <a:pt x="166" y="440"/>
                    </a:lnTo>
                    <a:lnTo>
                      <a:pt x="166" y="451"/>
                    </a:lnTo>
                    <a:lnTo>
                      <a:pt x="166" y="463"/>
                    </a:lnTo>
                    <a:lnTo>
                      <a:pt x="164" y="474"/>
                    </a:lnTo>
                    <a:lnTo>
                      <a:pt x="164" y="485"/>
                    </a:lnTo>
                    <a:lnTo>
                      <a:pt x="162" y="497"/>
                    </a:lnTo>
                    <a:lnTo>
                      <a:pt x="162" y="508"/>
                    </a:lnTo>
                    <a:lnTo>
                      <a:pt x="160" y="520"/>
                    </a:lnTo>
                    <a:lnTo>
                      <a:pt x="160" y="531"/>
                    </a:lnTo>
                    <a:lnTo>
                      <a:pt x="158" y="542"/>
                    </a:lnTo>
                    <a:lnTo>
                      <a:pt x="158" y="556"/>
                    </a:lnTo>
                    <a:lnTo>
                      <a:pt x="156" y="565"/>
                    </a:lnTo>
                    <a:lnTo>
                      <a:pt x="152" y="577"/>
                    </a:lnTo>
                    <a:lnTo>
                      <a:pt x="150" y="588"/>
                    </a:lnTo>
                    <a:lnTo>
                      <a:pt x="148" y="599"/>
                    </a:lnTo>
                    <a:lnTo>
                      <a:pt x="147" y="611"/>
                    </a:lnTo>
                    <a:lnTo>
                      <a:pt x="145" y="622"/>
                    </a:lnTo>
                    <a:lnTo>
                      <a:pt x="143" y="634"/>
                    </a:lnTo>
                    <a:lnTo>
                      <a:pt x="141" y="647"/>
                    </a:lnTo>
                    <a:lnTo>
                      <a:pt x="139" y="656"/>
                    </a:lnTo>
                    <a:lnTo>
                      <a:pt x="135" y="670"/>
                    </a:lnTo>
                    <a:lnTo>
                      <a:pt x="133" y="679"/>
                    </a:lnTo>
                    <a:lnTo>
                      <a:pt x="131" y="693"/>
                    </a:lnTo>
                    <a:lnTo>
                      <a:pt x="129" y="702"/>
                    </a:lnTo>
                    <a:lnTo>
                      <a:pt x="128" y="713"/>
                    </a:lnTo>
                    <a:lnTo>
                      <a:pt x="126" y="725"/>
                    </a:lnTo>
                    <a:lnTo>
                      <a:pt x="124" y="736"/>
                    </a:lnTo>
                    <a:lnTo>
                      <a:pt x="114" y="729"/>
                    </a:lnTo>
                    <a:lnTo>
                      <a:pt x="105" y="721"/>
                    </a:lnTo>
                    <a:lnTo>
                      <a:pt x="95" y="713"/>
                    </a:lnTo>
                    <a:lnTo>
                      <a:pt x="88" y="704"/>
                    </a:lnTo>
                    <a:lnTo>
                      <a:pt x="80" y="694"/>
                    </a:lnTo>
                    <a:lnTo>
                      <a:pt x="72" y="685"/>
                    </a:lnTo>
                    <a:lnTo>
                      <a:pt x="65" y="674"/>
                    </a:lnTo>
                    <a:lnTo>
                      <a:pt x="57" y="662"/>
                    </a:lnTo>
                    <a:lnTo>
                      <a:pt x="53" y="656"/>
                    </a:lnTo>
                    <a:lnTo>
                      <a:pt x="50" y="649"/>
                    </a:lnTo>
                    <a:lnTo>
                      <a:pt x="46" y="643"/>
                    </a:lnTo>
                    <a:lnTo>
                      <a:pt x="42" y="636"/>
                    </a:lnTo>
                    <a:lnTo>
                      <a:pt x="38" y="628"/>
                    </a:lnTo>
                    <a:lnTo>
                      <a:pt x="34" y="622"/>
                    </a:lnTo>
                    <a:lnTo>
                      <a:pt x="32" y="613"/>
                    </a:lnTo>
                    <a:lnTo>
                      <a:pt x="31" y="607"/>
                    </a:lnTo>
                    <a:lnTo>
                      <a:pt x="25" y="598"/>
                    </a:lnTo>
                    <a:lnTo>
                      <a:pt x="23" y="590"/>
                    </a:lnTo>
                    <a:lnTo>
                      <a:pt x="21" y="580"/>
                    </a:lnTo>
                    <a:lnTo>
                      <a:pt x="17" y="573"/>
                    </a:lnTo>
                    <a:lnTo>
                      <a:pt x="15" y="563"/>
                    </a:lnTo>
                    <a:lnTo>
                      <a:pt x="13" y="554"/>
                    </a:lnTo>
                    <a:lnTo>
                      <a:pt x="12" y="544"/>
                    </a:lnTo>
                    <a:lnTo>
                      <a:pt x="12" y="535"/>
                    </a:lnTo>
                    <a:lnTo>
                      <a:pt x="8" y="527"/>
                    </a:lnTo>
                    <a:lnTo>
                      <a:pt x="8" y="520"/>
                    </a:lnTo>
                    <a:lnTo>
                      <a:pt x="6" y="512"/>
                    </a:lnTo>
                    <a:lnTo>
                      <a:pt x="4" y="502"/>
                    </a:lnTo>
                    <a:lnTo>
                      <a:pt x="4" y="495"/>
                    </a:lnTo>
                    <a:lnTo>
                      <a:pt x="2" y="487"/>
                    </a:lnTo>
                    <a:lnTo>
                      <a:pt x="2" y="480"/>
                    </a:lnTo>
                    <a:lnTo>
                      <a:pt x="2" y="472"/>
                    </a:lnTo>
                    <a:lnTo>
                      <a:pt x="0" y="463"/>
                    </a:lnTo>
                    <a:lnTo>
                      <a:pt x="0" y="455"/>
                    </a:lnTo>
                    <a:lnTo>
                      <a:pt x="0" y="445"/>
                    </a:lnTo>
                    <a:lnTo>
                      <a:pt x="0" y="436"/>
                    </a:lnTo>
                    <a:lnTo>
                      <a:pt x="0" y="428"/>
                    </a:lnTo>
                    <a:lnTo>
                      <a:pt x="0" y="419"/>
                    </a:lnTo>
                    <a:lnTo>
                      <a:pt x="0" y="411"/>
                    </a:lnTo>
                    <a:lnTo>
                      <a:pt x="0" y="404"/>
                    </a:lnTo>
                    <a:lnTo>
                      <a:pt x="0" y="394"/>
                    </a:lnTo>
                    <a:lnTo>
                      <a:pt x="0" y="385"/>
                    </a:lnTo>
                    <a:lnTo>
                      <a:pt x="0" y="375"/>
                    </a:lnTo>
                    <a:lnTo>
                      <a:pt x="0" y="367"/>
                    </a:lnTo>
                    <a:lnTo>
                      <a:pt x="0" y="358"/>
                    </a:lnTo>
                    <a:lnTo>
                      <a:pt x="0" y="348"/>
                    </a:lnTo>
                    <a:lnTo>
                      <a:pt x="0" y="341"/>
                    </a:lnTo>
                    <a:lnTo>
                      <a:pt x="0" y="331"/>
                    </a:lnTo>
                    <a:lnTo>
                      <a:pt x="0" y="322"/>
                    </a:lnTo>
                    <a:lnTo>
                      <a:pt x="0" y="314"/>
                    </a:lnTo>
                    <a:lnTo>
                      <a:pt x="2" y="305"/>
                    </a:lnTo>
                    <a:lnTo>
                      <a:pt x="4" y="295"/>
                    </a:lnTo>
                    <a:lnTo>
                      <a:pt x="4" y="288"/>
                    </a:lnTo>
                    <a:lnTo>
                      <a:pt x="4" y="278"/>
                    </a:lnTo>
                    <a:lnTo>
                      <a:pt x="6" y="269"/>
                    </a:lnTo>
                    <a:lnTo>
                      <a:pt x="8" y="261"/>
                    </a:lnTo>
                    <a:lnTo>
                      <a:pt x="8" y="250"/>
                    </a:lnTo>
                    <a:lnTo>
                      <a:pt x="8" y="240"/>
                    </a:lnTo>
                    <a:lnTo>
                      <a:pt x="10" y="231"/>
                    </a:lnTo>
                    <a:lnTo>
                      <a:pt x="12" y="223"/>
                    </a:lnTo>
                    <a:lnTo>
                      <a:pt x="12" y="213"/>
                    </a:lnTo>
                    <a:lnTo>
                      <a:pt x="12" y="204"/>
                    </a:lnTo>
                    <a:lnTo>
                      <a:pt x="13" y="194"/>
                    </a:lnTo>
                    <a:lnTo>
                      <a:pt x="15" y="187"/>
                    </a:lnTo>
                    <a:lnTo>
                      <a:pt x="15" y="177"/>
                    </a:lnTo>
                    <a:lnTo>
                      <a:pt x="17" y="168"/>
                    </a:lnTo>
                    <a:lnTo>
                      <a:pt x="17" y="160"/>
                    </a:lnTo>
                    <a:lnTo>
                      <a:pt x="21" y="151"/>
                    </a:lnTo>
                    <a:lnTo>
                      <a:pt x="21" y="143"/>
                    </a:lnTo>
                    <a:lnTo>
                      <a:pt x="23" y="135"/>
                    </a:lnTo>
                    <a:lnTo>
                      <a:pt x="25" y="128"/>
                    </a:lnTo>
                    <a:lnTo>
                      <a:pt x="27" y="120"/>
                    </a:lnTo>
                    <a:lnTo>
                      <a:pt x="27" y="111"/>
                    </a:lnTo>
                    <a:lnTo>
                      <a:pt x="29" y="103"/>
                    </a:lnTo>
                    <a:lnTo>
                      <a:pt x="31" y="94"/>
                    </a:lnTo>
                    <a:lnTo>
                      <a:pt x="31" y="86"/>
                    </a:lnTo>
                    <a:lnTo>
                      <a:pt x="32" y="78"/>
                    </a:lnTo>
                    <a:lnTo>
                      <a:pt x="34" y="71"/>
                    </a:lnTo>
                    <a:lnTo>
                      <a:pt x="34" y="63"/>
                    </a:lnTo>
                    <a:lnTo>
                      <a:pt x="38" y="56"/>
                    </a:lnTo>
                    <a:lnTo>
                      <a:pt x="38" y="48"/>
                    </a:lnTo>
                    <a:lnTo>
                      <a:pt x="40" y="40"/>
                    </a:lnTo>
                    <a:lnTo>
                      <a:pt x="42" y="33"/>
                    </a:lnTo>
                    <a:lnTo>
                      <a:pt x="44" y="27"/>
                    </a:lnTo>
                    <a:lnTo>
                      <a:pt x="48" y="12"/>
                    </a:lnTo>
                    <a:lnTo>
                      <a:pt x="51" y="0"/>
                    </a:lnTo>
                    <a:lnTo>
                      <a:pt x="53" y="10"/>
                    </a:lnTo>
                    <a:lnTo>
                      <a:pt x="57" y="19"/>
                    </a:lnTo>
                    <a:lnTo>
                      <a:pt x="61" y="31"/>
                    </a:lnTo>
                    <a:lnTo>
                      <a:pt x="65" y="42"/>
                    </a:lnTo>
                    <a:lnTo>
                      <a:pt x="69" y="54"/>
                    </a:lnTo>
                    <a:lnTo>
                      <a:pt x="74" y="63"/>
                    </a:lnTo>
                    <a:lnTo>
                      <a:pt x="78" y="75"/>
                    </a:lnTo>
                    <a:lnTo>
                      <a:pt x="82" y="86"/>
                    </a:lnTo>
                    <a:lnTo>
                      <a:pt x="86" y="97"/>
                    </a:lnTo>
                    <a:lnTo>
                      <a:pt x="90" y="107"/>
                    </a:lnTo>
                    <a:lnTo>
                      <a:pt x="93" y="118"/>
                    </a:lnTo>
                    <a:lnTo>
                      <a:pt x="97" y="130"/>
                    </a:lnTo>
                    <a:lnTo>
                      <a:pt x="101" y="141"/>
                    </a:lnTo>
                    <a:lnTo>
                      <a:pt x="105" y="153"/>
                    </a:lnTo>
                    <a:lnTo>
                      <a:pt x="109" y="164"/>
                    </a:lnTo>
                    <a:lnTo>
                      <a:pt x="112" y="177"/>
                    </a:lnTo>
                    <a:lnTo>
                      <a:pt x="116" y="187"/>
                    </a:lnTo>
                    <a:lnTo>
                      <a:pt x="118" y="200"/>
                    </a:lnTo>
                    <a:lnTo>
                      <a:pt x="122" y="212"/>
                    </a:lnTo>
                    <a:lnTo>
                      <a:pt x="126" y="223"/>
                    </a:lnTo>
                    <a:lnTo>
                      <a:pt x="128" y="234"/>
                    </a:lnTo>
                    <a:lnTo>
                      <a:pt x="131" y="248"/>
                    </a:lnTo>
                    <a:lnTo>
                      <a:pt x="135" y="259"/>
                    </a:lnTo>
                    <a:lnTo>
                      <a:pt x="139" y="272"/>
                    </a:lnTo>
                    <a:lnTo>
                      <a:pt x="141" y="284"/>
                    </a:lnTo>
                    <a:lnTo>
                      <a:pt x="143" y="295"/>
                    </a:lnTo>
                    <a:lnTo>
                      <a:pt x="147" y="308"/>
                    </a:lnTo>
                    <a:lnTo>
                      <a:pt x="150" y="322"/>
                    </a:lnTo>
                    <a:lnTo>
                      <a:pt x="152" y="335"/>
                    </a:lnTo>
                    <a:lnTo>
                      <a:pt x="156" y="348"/>
                    </a:lnTo>
                    <a:lnTo>
                      <a:pt x="156" y="362"/>
                    </a:lnTo>
                    <a:lnTo>
                      <a:pt x="160" y="375"/>
                    </a:lnTo>
                    <a:lnTo>
                      <a:pt x="160" y="375"/>
                    </a:lnTo>
                    <a:close/>
                  </a:path>
                </a:pathLst>
              </a:custGeom>
              <a:solidFill>
                <a:srgbClr val="dbe8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>
                <a:off x="6460200" y="2020320"/>
                <a:ext cx="278280" cy="532800"/>
              </a:xfrm>
              <a:custGeom>
                <a:avLst/>
                <a:gdLst/>
                <a:ahLst/>
                <a:rect l="l" t="t" r="r" b="b"/>
                <a:pathLst>
                  <a:path w="972" h="1858">
                    <a:moveTo>
                      <a:pt x="27" y="499"/>
                    </a:moveTo>
                    <a:lnTo>
                      <a:pt x="29" y="483"/>
                    </a:lnTo>
                    <a:lnTo>
                      <a:pt x="33" y="470"/>
                    </a:lnTo>
                    <a:lnTo>
                      <a:pt x="38" y="455"/>
                    </a:lnTo>
                    <a:lnTo>
                      <a:pt x="46" y="443"/>
                    </a:lnTo>
                    <a:lnTo>
                      <a:pt x="48" y="434"/>
                    </a:lnTo>
                    <a:lnTo>
                      <a:pt x="52" y="428"/>
                    </a:lnTo>
                    <a:lnTo>
                      <a:pt x="54" y="421"/>
                    </a:lnTo>
                    <a:lnTo>
                      <a:pt x="59" y="415"/>
                    </a:lnTo>
                    <a:lnTo>
                      <a:pt x="63" y="407"/>
                    </a:lnTo>
                    <a:lnTo>
                      <a:pt x="67" y="402"/>
                    </a:lnTo>
                    <a:lnTo>
                      <a:pt x="71" y="394"/>
                    </a:lnTo>
                    <a:lnTo>
                      <a:pt x="76" y="388"/>
                    </a:lnTo>
                    <a:lnTo>
                      <a:pt x="80" y="381"/>
                    </a:lnTo>
                    <a:lnTo>
                      <a:pt x="84" y="373"/>
                    </a:lnTo>
                    <a:lnTo>
                      <a:pt x="88" y="367"/>
                    </a:lnTo>
                    <a:lnTo>
                      <a:pt x="93" y="360"/>
                    </a:lnTo>
                    <a:lnTo>
                      <a:pt x="97" y="352"/>
                    </a:lnTo>
                    <a:lnTo>
                      <a:pt x="101" y="346"/>
                    </a:lnTo>
                    <a:lnTo>
                      <a:pt x="107" y="339"/>
                    </a:lnTo>
                    <a:lnTo>
                      <a:pt x="114" y="333"/>
                    </a:lnTo>
                    <a:lnTo>
                      <a:pt x="118" y="324"/>
                    </a:lnTo>
                    <a:lnTo>
                      <a:pt x="124" y="318"/>
                    </a:lnTo>
                    <a:lnTo>
                      <a:pt x="128" y="310"/>
                    </a:lnTo>
                    <a:lnTo>
                      <a:pt x="135" y="305"/>
                    </a:lnTo>
                    <a:lnTo>
                      <a:pt x="141" y="297"/>
                    </a:lnTo>
                    <a:lnTo>
                      <a:pt x="147" y="289"/>
                    </a:lnTo>
                    <a:lnTo>
                      <a:pt x="152" y="284"/>
                    </a:lnTo>
                    <a:lnTo>
                      <a:pt x="160" y="278"/>
                    </a:lnTo>
                    <a:lnTo>
                      <a:pt x="166" y="270"/>
                    </a:lnTo>
                    <a:lnTo>
                      <a:pt x="171" y="263"/>
                    </a:lnTo>
                    <a:lnTo>
                      <a:pt x="177" y="257"/>
                    </a:lnTo>
                    <a:lnTo>
                      <a:pt x="185" y="249"/>
                    </a:lnTo>
                    <a:lnTo>
                      <a:pt x="190" y="242"/>
                    </a:lnTo>
                    <a:lnTo>
                      <a:pt x="198" y="236"/>
                    </a:lnTo>
                    <a:lnTo>
                      <a:pt x="202" y="229"/>
                    </a:lnTo>
                    <a:lnTo>
                      <a:pt x="211" y="223"/>
                    </a:lnTo>
                    <a:lnTo>
                      <a:pt x="217" y="215"/>
                    </a:lnTo>
                    <a:lnTo>
                      <a:pt x="225" y="210"/>
                    </a:lnTo>
                    <a:lnTo>
                      <a:pt x="230" y="204"/>
                    </a:lnTo>
                    <a:lnTo>
                      <a:pt x="238" y="198"/>
                    </a:lnTo>
                    <a:lnTo>
                      <a:pt x="246" y="192"/>
                    </a:lnTo>
                    <a:lnTo>
                      <a:pt x="251" y="187"/>
                    </a:lnTo>
                    <a:lnTo>
                      <a:pt x="259" y="179"/>
                    </a:lnTo>
                    <a:lnTo>
                      <a:pt x="268" y="175"/>
                    </a:lnTo>
                    <a:lnTo>
                      <a:pt x="274" y="170"/>
                    </a:lnTo>
                    <a:lnTo>
                      <a:pt x="282" y="164"/>
                    </a:lnTo>
                    <a:lnTo>
                      <a:pt x="287" y="156"/>
                    </a:lnTo>
                    <a:lnTo>
                      <a:pt x="295" y="153"/>
                    </a:lnTo>
                    <a:lnTo>
                      <a:pt x="303" y="145"/>
                    </a:lnTo>
                    <a:lnTo>
                      <a:pt x="312" y="141"/>
                    </a:lnTo>
                    <a:lnTo>
                      <a:pt x="320" y="134"/>
                    </a:lnTo>
                    <a:lnTo>
                      <a:pt x="327" y="130"/>
                    </a:lnTo>
                    <a:lnTo>
                      <a:pt x="335" y="126"/>
                    </a:lnTo>
                    <a:lnTo>
                      <a:pt x="342" y="120"/>
                    </a:lnTo>
                    <a:lnTo>
                      <a:pt x="352" y="114"/>
                    </a:lnTo>
                    <a:lnTo>
                      <a:pt x="360" y="111"/>
                    </a:lnTo>
                    <a:lnTo>
                      <a:pt x="367" y="107"/>
                    </a:lnTo>
                    <a:lnTo>
                      <a:pt x="375" y="103"/>
                    </a:lnTo>
                    <a:lnTo>
                      <a:pt x="382" y="99"/>
                    </a:lnTo>
                    <a:lnTo>
                      <a:pt x="390" y="95"/>
                    </a:lnTo>
                    <a:lnTo>
                      <a:pt x="398" y="90"/>
                    </a:lnTo>
                    <a:lnTo>
                      <a:pt x="405" y="86"/>
                    </a:lnTo>
                    <a:lnTo>
                      <a:pt x="413" y="82"/>
                    </a:lnTo>
                    <a:lnTo>
                      <a:pt x="420" y="78"/>
                    </a:lnTo>
                    <a:lnTo>
                      <a:pt x="430" y="73"/>
                    </a:lnTo>
                    <a:lnTo>
                      <a:pt x="438" y="69"/>
                    </a:lnTo>
                    <a:lnTo>
                      <a:pt x="447" y="65"/>
                    </a:lnTo>
                    <a:lnTo>
                      <a:pt x="457" y="63"/>
                    </a:lnTo>
                    <a:lnTo>
                      <a:pt x="464" y="59"/>
                    </a:lnTo>
                    <a:lnTo>
                      <a:pt x="474" y="56"/>
                    </a:lnTo>
                    <a:lnTo>
                      <a:pt x="481" y="52"/>
                    </a:lnTo>
                    <a:lnTo>
                      <a:pt x="491" y="48"/>
                    </a:lnTo>
                    <a:lnTo>
                      <a:pt x="500" y="44"/>
                    </a:lnTo>
                    <a:lnTo>
                      <a:pt x="512" y="42"/>
                    </a:lnTo>
                    <a:lnTo>
                      <a:pt x="521" y="40"/>
                    </a:lnTo>
                    <a:lnTo>
                      <a:pt x="531" y="38"/>
                    </a:lnTo>
                    <a:lnTo>
                      <a:pt x="538" y="35"/>
                    </a:lnTo>
                    <a:lnTo>
                      <a:pt x="550" y="33"/>
                    </a:lnTo>
                    <a:lnTo>
                      <a:pt x="559" y="31"/>
                    </a:lnTo>
                    <a:lnTo>
                      <a:pt x="571" y="31"/>
                    </a:lnTo>
                    <a:lnTo>
                      <a:pt x="578" y="29"/>
                    </a:lnTo>
                    <a:lnTo>
                      <a:pt x="590" y="29"/>
                    </a:lnTo>
                    <a:lnTo>
                      <a:pt x="601" y="29"/>
                    </a:lnTo>
                    <a:lnTo>
                      <a:pt x="611" y="29"/>
                    </a:lnTo>
                    <a:lnTo>
                      <a:pt x="620" y="29"/>
                    </a:lnTo>
                    <a:lnTo>
                      <a:pt x="631" y="29"/>
                    </a:lnTo>
                    <a:lnTo>
                      <a:pt x="641" y="29"/>
                    </a:lnTo>
                    <a:lnTo>
                      <a:pt x="652" y="33"/>
                    </a:lnTo>
                    <a:lnTo>
                      <a:pt x="662" y="33"/>
                    </a:lnTo>
                    <a:lnTo>
                      <a:pt x="673" y="37"/>
                    </a:lnTo>
                    <a:lnTo>
                      <a:pt x="683" y="38"/>
                    </a:lnTo>
                    <a:lnTo>
                      <a:pt x="694" y="42"/>
                    </a:lnTo>
                    <a:lnTo>
                      <a:pt x="706" y="46"/>
                    </a:lnTo>
                    <a:lnTo>
                      <a:pt x="719" y="52"/>
                    </a:lnTo>
                    <a:lnTo>
                      <a:pt x="730" y="56"/>
                    </a:lnTo>
                    <a:lnTo>
                      <a:pt x="744" y="59"/>
                    </a:lnTo>
                    <a:lnTo>
                      <a:pt x="753" y="63"/>
                    </a:lnTo>
                    <a:lnTo>
                      <a:pt x="766" y="71"/>
                    </a:lnTo>
                    <a:lnTo>
                      <a:pt x="776" y="76"/>
                    </a:lnTo>
                    <a:lnTo>
                      <a:pt x="787" y="82"/>
                    </a:lnTo>
                    <a:lnTo>
                      <a:pt x="797" y="86"/>
                    </a:lnTo>
                    <a:lnTo>
                      <a:pt x="806" y="94"/>
                    </a:lnTo>
                    <a:lnTo>
                      <a:pt x="816" y="99"/>
                    </a:lnTo>
                    <a:lnTo>
                      <a:pt x="827" y="107"/>
                    </a:lnTo>
                    <a:lnTo>
                      <a:pt x="835" y="113"/>
                    </a:lnTo>
                    <a:lnTo>
                      <a:pt x="842" y="118"/>
                    </a:lnTo>
                    <a:lnTo>
                      <a:pt x="850" y="126"/>
                    </a:lnTo>
                    <a:lnTo>
                      <a:pt x="860" y="134"/>
                    </a:lnTo>
                    <a:lnTo>
                      <a:pt x="867" y="141"/>
                    </a:lnTo>
                    <a:lnTo>
                      <a:pt x="873" y="149"/>
                    </a:lnTo>
                    <a:lnTo>
                      <a:pt x="880" y="156"/>
                    </a:lnTo>
                    <a:lnTo>
                      <a:pt x="886" y="166"/>
                    </a:lnTo>
                    <a:lnTo>
                      <a:pt x="892" y="173"/>
                    </a:lnTo>
                    <a:lnTo>
                      <a:pt x="898" y="181"/>
                    </a:lnTo>
                    <a:lnTo>
                      <a:pt x="903" y="191"/>
                    </a:lnTo>
                    <a:lnTo>
                      <a:pt x="911" y="200"/>
                    </a:lnTo>
                    <a:lnTo>
                      <a:pt x="915" y="208"/>
                    </a:lnTo>
                    <a:lnTo>
                      <a:pt x="919" y="215"/>
                    </a:lnTo>
                    <a:lnTo>
                      <a:pt x="922" y="225"/>
                    </a:lnTo>
                    <a:lnTo>
                      <a:pt x="926" y="236"/>
                    </a:lnTo>
                    <a:lnTo>
                      <a:pt x="928" y="244"/>
                    </a:lnTo>
                    <a:lnTo>
                      <a:pt x="932" y="255"/>
                    </a:lnTo>
                    <a:lnTo>
                      <a:pt x="936" y="265"/>
                    </a:lnTo>
                    <a:lnTo>
                      <a:pt x="939" y="276"/>
                    </a:lnTo>
                    <a:lnTo>
                      <a:pt x="939" y="284"/>
                    </a:lnTo>
                    <a:lnTo>
                      <a:pt x="941" y="295"/>
                    </a:lnTo>
                    <a:lnTo>
                      <a:pt x="941" y="303"/>
                    </a:lnTo>
                    <a:lnTo>
                      <a:pt x="943" y="314"/>
                    </a:lnTo>
                    <a:lnTo>
                      <a:pt x="943" y="324"/>
                    </a:lnTo>
                    <a:lnTo>
                      <a:pt x="943" y="333"/>
                    </a:lnTo>
                    <a:lnTo>
                      <a:pt x="943" y="343"/>
                    </a:lnTo>
                    <a:lnTo>
                      <a:pt x="943" y="354"/>
                    </a:lnTo>
                    <a:lnTo>
                      <a:pt x="941" y="364"/>
                    </a:lnTo>
                    <a:lnTo>
                      <a:pt x="941" y="373"/>
                    </a:lnTo>
                    <a:lnTo>
                      <a:pt x="941" y="383"/>
                    </a:lnTo>
                    <a:lnTo>
                      <a:pt x="939" y="394"/>
                    </a:lnTo>
                    <a:lnTo>
                      <a:pt x="938" y="404"/>
                    </a:lnTo>
                    <a:lnTo>
                      <a:pt x="936" y="413"/>
                    </a:lnTo>
                    <a:lnTo>
                      <a:pt x="934" y="423"/>
                    </a:lnTo>
                    <a:lnTo>
                      <a:pt x="932" y="434"/>
                    </a:lnTo>
                    <a:lnTo>
                      <a:pt x="928" y="443"/>
                    </a:lnTo>
                    <a:lnTo>
                      <a:pt x="926" y="455"/>
                    </a:lnTo>
                    <a:lnTo>
                      <a:pt x="924" y="464"/>
                    </a:lnTo>
                    <a:lnTo>
                      <a:pt x="920" y="476"/>
                    </a:lnTo>
                    <a:lnTo>
                      <a:pt x="917" y="485"/>
                    </a:lnTo>
                    <a:lnTo>
                      <a:pt x="913" y="495"/>
                    </a:lnTo>
                    <a:lnTo>
                      <a:pt x="909" y="506"/>
                    </a:lnTo>
                    <a:lnTo>
                      <a:pt x="907" y="518"/>
                    </a:lnTo>
                    <a:lnTo>
                      <a:pt x="901" y="525"/>
                    </a:lnTo>
                    <a:lnTo>
                      <a:pt x="898" y="537"/>
                    </a:lnTo>
                    <a:lnTo>
                      <a:pt x="894" y="548"/>
                    </a:lnTo>
                    <a:lnTo>
                      <a:pt x="888" y="558"/>
                    </a:lnTo>
                    <a:lnTo>
                      <a:pt x="884" y="567"/>
                    </a:lnTo>
                    <a:lnTo>
                      <a:pt x="879" y="578"/>
                    </a:lnTo>
                    <a:lnTo>
                      <a:pt x="873" y="588"/>
                    </a:lnTo>
                    <a:lnTo>
                      <a:pt x="869" y="601"/>
                    </a:lnTo>
                    <a:lnTo>
                      <a:pt x="863" y="609"/>
                    </a:lnTo>
                    <a:lnTo>
                      <a:pt x="856" y="618"/>
                    </a:lnTo>
                    <a:lnTo>
                      <a:pt x="848" y="628"/>
                    </a:lnTo>
                    <a:lnTo>
                      <a:pt x="844" y="639"/>
                    </a:lnTo>
                    <a:lnTo>
                      <a:pt x="837" y="649"/>
                    </a:lnTo>
                    <a:lnTo>
                      <a:pt x="831" y="658"/>
                    </a:lnTo>
                    <a:lnTo>
                      <a:pt x="823" y="668"/>
                    </a:lnTo>
                    <a:lnTo>
                      <a:pt x="818" y="679"/>
                    </a:lnTo>
                    <a:lnTo>
                      <a:pt x="810" y="687"/>
                    </a:lnTo>
                    <a:lnTo>
                      <a:pt x="804" y="698"/>
                    </a:lnTo>
                    <a:lnTo>
                      <a:pt x="797" y="706"/>
                    </a:lnTo>
                    <a:lnTo>
                      <a:pt x="791" y="715"/>
                    </a:lnTo>
                    <a:lnTo>
                      <a:pt x="784" y="725"/>
                    </a:lnTo>
                    <a:lnTo>
                      <a:pt x="776" y="734"/>
                    </a:lnTo>
                    <a:lnTo>
                      <a:pt x="770" y="744"/>
                    </a:lnTo>
                    <a:lnTo>
                      <a:pt x="763" y="755"/>
                    </a:lnTo>
                    <a:lnTo>
                      <a:pt x="755" y="763"/>
                    </a:lnTo>
                    <a:lnTo>
                      <a:pt x="747" y="772"/>
                    </a:lnTo>
                    <a:lnTo>
                      <a:pt x="740" y="780"/>
                    </a:lnTo>
                    <a:lnTo>
                      <a:pt x="732" y="789"/>
                    </a:lnTo>
                    <a:lnTo>
                      <a:pt x="723" y="797"/>
                    </a:lnTo>
                    <a:lnTo>
                      <a:pt x="715" y="805"/>
                    </a:lnTo>
                    <a:lnTo>
                      <a:pt x="707" y="812"/>
                    </a:lnTo>
                    <a:lnTo>
                      <a:pt x="702" y="822"/>
                    </a:lnTo>
                    <a:lnTo>
                      <a:pt x="692" y="829"/>
                    </a:lnTo>
                    <a:lnTo>
                      <a:pt x="685" y="839"/>
                    </a:lnTo>
                    <a:lnTo>
                      <a:pt x="677" y="847"/>
                    </a:lnTo>
                    <a:lnTo>
                      <a:pt x="669" y="854"/>
                    </a:lnTo>
                    <a:lnTo>
                      <a:pt x="662" y="860"/>
                    </a:lnTo>
                    <a:lnTo>
                      <a:pt x="652" y="869"/>
                    </a:lnTo>
                    <a:lnTo>
                      <a:pt x="645" y="877"/>
                    </a:lnTo>
                    <a:lnTo>
                      <a:pt x="637" y="885"/>
                    </a:lnTo>
                    <a:lnTo>
                      <a:pt x="626" y="892"/>
                    </a:lnTo>
                    <a:lnTo>
                      <a:pt x="614" y="902"/>
                    </a:lnTo>
                    <a:lnTo>
                      <a:pt x="605" y="911"/>
                    </a:lnTo>
                    <a:lnTo>
                      <a:pt x="595" y="921"/>
                    </a:lnTo>
                    <a:lnTo>
                      <a:pt x="582" y="930"/>
                    </a:lnTo>
                    <a:lnTo>
                      <a:pt x="574" y="942"/>
                    </a:lnTo>
                    <a:lnTo>
                      <a:pt x="565" y="951"/>
                    </a:lnTo>
                    <a:lnTo>
                      <a:pt x="557" y="963"/>
                    </a:lnTo>
                    <a:lnTo>
                      <a:pt x="546" y="972"/>
                    </a:lnTo>
                    <a:lnTo>
                      <a:pt x="536" y="983"/>
                    </a:lnTo>
                    <a:lnTo>
                      <a:pt x="529" y="993"/>
                    </a:lnTo>
                    <a:lnTo>
                      <a:pt x="521" y="1004"/>
                    </a:lnTo>
                    <a:lnTo>
                      <a:pt x="514" y="1016"/>
                    </a:lnTo>
                    <a:lnTo>
                      <a:pt x="504" y="1027"/>
                    </a:lnTo>
                    <a:lnTo>
                      <a:pt x="496" y="1039"/>
                    </a:lnTo>
                    <a:lnTo>
                      <a:pt x="491" y="1050"/>
                    </a:lnTo>
                    <a:lnTo>
                      <a:pt x="481" y="1061"/>
                    </a:lnTo>
                    <a:lnTo>
                      <a:pt x="474" y="1073"/>
                    </a:lnTo>
                    <a:lnTo>
                      <a:pt x="466" y="1084"/>
                    </a:lnTo>
                    <a:lnTo>
                      <a:pt x="460" y="1096"/>
                    </a:lnTo>
                    <a:lnTo>
                      <a:pt x="451" y="1107"/>
                    </a:lnTo>
                    <a:lnTo>
                      <a:pt x="447" y="1120"/>
                    </a:lnTo>
                    <a:lnTo>
                      <a:pt x="439" y="1132"/>
                    </a:lnTo>
                    <a:lnTo>
                      <a:pt x="434" y="1143"/>
                    </a:lnTo>
                    <a:lnTo>
                      <a:pt x="426" y="1155"/>
                    </a:lnTo>
                    <a:lnTo>
                      <a:pt x="420" y="1168"/>
                    </a:lnTo>
                    <a:lnTo>
                      <a:pt x="415" y="1179"/>
                    </a:lnTo>
                    <a:lnTo>
                      <a:pt x="411" y="1191"/>
                    </a:lnTo>
                    <a:lnTo>
                      <a:pt x="403" y="1202"/>
                    </a:lnTo>
                    <a:lnTo>
                      <a:pt x="400" y="1215"/>
                    </a:lnTo>
                    <a:lnTo>
                      <a:pt x="396" y="1227"/>
                    </a:lnTo>
                    <a:lnTo>
                      <a:pt x="390" y="1240"/>
                    </a:lnTo>
                    <a:lnTo>
                      <a:pt x="386" y="1252"/>
                    </a:lnTo>
                    <a:lnTo>
                      <a:pt x="381" y="1265"/>
                    </a:lnTo>
                    <a:lnTo>
                      <a:pt x="375" y="1276"/>
                    </a:lnTo>
                    <a:lnTo>
                      <a:pt x="371" y="1288"/>
                    </a:lnTo>
                    <a:lnTo>
                      <a:pt x="367" y="1299"/>
                    </a:lnTo>
                    <a:lnTo>
                      <a:pt x="363" y="1312"/>
                    </a:lnTo>
                    <a:lnTo>
                      <a:pt x="360" y="1324"/>
                    </a:lnTo>
                    <a:lnTo>
                      <a:pt x="356" y="1335"/>
                    </a:lnTo>
                    <a:lnTo>
                      <a:pt x="352" y="1347"/>
                    </a:lnTo>
                    <a:lnTo>
                      <a:pt x="348" y="1358"/>
                    </a:lnTo>
                    <a:lnTo>
                      <a:pt x="346" y="1369"/>
                    </a:lnTo>
                    <a:lnTo>
                      <a:pt x="342" y="1383"/>
                    </a:lnTo>
                    <a:lnTo>
                      <a:pt x="339" y="1394"/>
                    </a:lnTo>
                    <a:lnTo>
                      <a:pt x="337" y="1406"/>
                    </a:lnTo>
                    <a:lnTo>
                      <a:pt x="333" y="1419"/>
                    </a:lnTo>
                    <a:lnTo>
                      <a:pt x="333" y="1430"/>
                    </a:lnTo>
                    <a:lnTo>
                      <a:pt x="329" y="1440"/>
                    </a:lnTo>
                    <a:lnTo>
                      <a:pt x="327" y="1453"/>
                    </a:lnTo>
                    <a:lnTo>
                      <a:pt x="325" y="1463"/>
                    </a:lnTo>
                    <a:lnTo>
                      <a:pt x="323" y="1476"/>
                    </a:lnTo>
                    <a:lnTo>
                      <a:pt x="322" y="1485"/>
                    </a:lnTo>
                    <a:lnTo>
                      <a:pt x="322" y="1497"/>
                    </a:lnTo>
                    <a:lnTo>
                      <a:pt x="318" y="1508"/>
                    </a:lnTo>
                    <a:lnTo>
                      <a:pt x="318" y="1520"/>
                    </a:lnTo>
                    <a:lnTo>
                      <a:pt x="316" y="1529"/>
                    </a:lnTo>
                    <a:lnTo>
                      <a:pt x="316" y="1541"/>
                    </a:lnTo>
                    <a:lnTo>
                      <a:pt x="314" y="1550"/>
                    </a:lnTo>
                    <a:lnTo>
                      <a:pt x="314" y="1563"/>
                    </a:lnTo>
                    <a:lnTo>
                      <a:pt x="312" y="1573"/>
                    </a:lnTo>
                    <a:lnTo>
                      <a:pt x="312" y="1582"/>
                    </a:lnTo>
                    <a:lnTo>
                      <a:pt x="312" y="1594"/>
                    </a:lnTo>
                    <a:lnTo>
                      <a:pt x="312" y="1603"/>
                    </a:lnTo>
                    <a:lnTo>
                      <a:pt x="312" y="1617"/>
                    </a:lnTo>
                    <a:lnTo>
                      <a:pt x="312" y="1630"/>
                    </a:lnTo>
                    <a:lnTo>
                      <a:pt x="312" y="1641"/>
                    </a:lnTo>
                    <a:lnTo>
                      <a:pt x="312" y="1657"/>
                    </a:lnTo>
                    <a:lnTo>
                      <a:pt x="312" y="1668"/>
                    </a:lnTo>
                    <a:lnTo>
                      <a:pt x="314" y="1679"/>
                    </a:lnTo>
                    <a:lnTo>
                      <a:pt x="316" y="1691"/>
                    </a:lnTo>
                    <a:lnTo>
                      <a:pt x="318" y="1704"/>
                    </a:lnTo>
                    <a:lnTo>
                      <a:pt x="318" y="1714"/>
                    </a:lnTo>
                    <a:lnTo>
                      <a:pt x="322" y="1725"/>
                    </a:lnTo>
                    <a:lnTo>
                      <a:pt x="322" y="1734"/>
                    </a:lnTo>
                    <a:lnTo>
                      <a:pt x="325" y="1746"/>
                    </a:lnTo>
                    <a:lnTo>
                      <a:pt x="325" y="1755"/>
                    </a:lnTo>
                    <a:lnTo>
                      <a:pt x="329" y="1765"/>
                    </a:lnTo>
                    <a:lnTo>
                      <a:pt x="331" y="1774"/>
                    </a:lnTo>
                    <a:lnTo>
                      <a:pt x="335" y="1784"/>
                    </a:lnTo>
                    <a:lnTo>
                      <a:pt x="337" y="1792"/>
                    </a:lnTo>
                    <a:lnTo>
                      <a:pt x="339" y="1799"/>
                    </a:lnTo>
                    <a:lnTo>
                      <a:pt x="342" y="1805"/>
                    </a:lnTo>
                    <a:lnTo>
                      <a:pt x="344" y="1814"/>
                    </a:lnTo>
                    <a:lnTo>
                      <a:pt x="348" y="1826"/>
                    </a:lnTo>
                    <a:lnTo>
                      <a:pt x="354" y="1837"/>
                    </a:lnTo>
                    <a:lnTo>
                      <a:pt x="356" y="1845"/>
                    </a:lnTo>
                    <a:lnTo>
                      <a:pt x="360" y="1852"/>
                    </a:lnTo>
                    <a:lnTo>
                      <a:pt x="362" y="1854"/>
                    </a:lnTo>
                    <a:lnTo>
                      <a:pt x="365" y="1858"/>
                    </a:lnTo>
                    <a:lnTo>
                      <a:pt x="388" y="1845"/>
                    </a:lnTo>
                    <a:lnTo>
                      <a:pt x="386" y="1843"/>
                    </a:lnTo>
                    <a:lnTo>
                      <a:pt x="386" y="1839"/>
                    </a:lnTo>
                    <a:lnTo>
                      <a:pt x="382" y="1831"/>
                    </a:lnTo>
                    <a:lnTo>
                      <a:pt x="379" y="1826"/>
                    </a:lnTo>
                    <a:lnTo>
                      <a:pt x="375" y="1814"/>
                    </a:lnTo>
                    <a:lnTo>
                      <a:pt x="371" y="1805"/>
                    </a:lnTo>
                    <a:lnTo>
                      <a:pt x="369" y="1797"/>
                    </a:lnTo>
                    <a:lnTo>
                      <a:pt x="365" y="1792"/>
                    </a:lnTo>
                    <a:lnTo>
                      <a:pt x="363" y="1782"/>
                    </a:lnTo>
                    <a:lnTo>
                      <a:pt x="362" y="1776"/>
                    </a:lnTo>
                    <a:lnTo>
                      <a:pt x="358" y="1767"/>
                    </a:lnTo>
                    <a:lnTo>
                      <a:pt x="356" y="1759"/>
                    </a:lnTo>
                    <a:lnTo>
                      <a:pt x="354" y="1750"/>
                    </a:lnTo>
                    <a:lnTo>
                      <a:pt x="352" y="1740"/>
                    </a:lnTo>
                    <a:lnTo>
                      <a:pt x="350" y="1731"/>
                    </a:lnTo>
                    <a:lnTo>
                      <a:pt x="348" y="1721"/>
                    </a:lnTo>
                    <a:lnTo>
                      <a:pt x="346" y="1710"/>
                    </a:lnTo>
                    <a:lnTo>
                      <a:pt x="344" y="1700"/>
                    </a:lnTo>
                    <a:lnTo>
                      <a:pt x="342" y="1689"/>
                    </a:lnTo>
                    <a:lnTo>
                      <a:pt x="341" y="1677"/>
                    </a:lnTo>
                    <a:lnTo>
                      <a:pt x="341" y="1664"/>
                    </a:lnTo>
                    <a:lnTo>
                      <a:pt x="341" y="1655"/>
                    </a:lnTo>
                    <a:lnTo>
                      <a:pt x="339" y="1641"/>
                    </a:lnTo>
                    <a:lnTo>
                      <a:pt x="339" y="1630"/>
                    </a:lnTo>
                    <a:lnTo>
                      <a:pt x="339" y="1617"/>
                    </a:lnTo>
                    <a:lnTo>
                      <a:pt x="341" y="1605"/>
                    </a:lnTo>
                    <a:lnTo>
                      <a:pt x="341" y="1594"/>
                    </a:lnTo>
                    <a:lnTo>
                      <a:pt x="341" y="1584"/>
                    </a:lnTo>
                    <a:lnTo>
                      <a:pt x="341" y="1573"/>
                    </a:lnTo>
                    <a:lnTo>
                      <a:pt x="342" y="1563"/>
                    </a:lnTo>
                    <a:lnTo>
                      <a:pt x="342" y="1554"/>
                    </a:lnTo>
                    <a:lnTo>
                      <a:pt x="342" y="1542"/>
                    </a:lnTo>
                    <a:lnTo>
                      <a:pt x="344" y="1533"/>
                    </a:lnTo>
                    <a:lnTo>
                      <a:pt x="346" y="1523"/>
                    </a:lnTo>
                    <a:lnTo>
                      <a:pt x="346" y="1510"/>
                    </a:lnTo>
                    <a:lnTo>
                      <a:pt x="348" y="1501"/>
                    </a:lnTo>
                    <a:lnTo>
                      <a:pt x="348" y="1489"/>
                    </a:lnTo>
                    <a:lnTo>
                      <a:pt x="352" y="1480"/>
                    </a:lnTo>
                    <a:lnTo>
                      <a:pt x="352" y="1468"/>
                    </a:lnTo>
                    <a:lnTo>
                      <a:pt x="356" y="1457"/>
                    </a:lnTo>
                    <a:lnTo>
                      <a:pt x="356" y="1447"/>
                    </a:lnTo>
                    <a:lnTo>
                      <a:pt x="360" y="1436"/>
                    </a:lnTo>
                    <a:lnTo>
                      <a:pt x="362" y="1425"/>
                    </a:lnTo>
                    <a:lnTo>
                      <a:pt x="365" y="1413"/>
                    </a:lnTo>
                    <a:lnTo>
                      <a:pt x="365" y="1402"/>
                    </a:lnTo>
                    <a:lnTo>
                      <a:pt x="369" y="1390"/>
                    </a:lnTo>
                    <a:lnTo>
                      <a:pt x="373" y="1379"/>
                    </a:lnTo>
                    <a:lnTo>
                      <a:pt x="375" y="1366"/>
                    </a:lnTo>
                    <a:lnTo>
                      <a:pt x="379" y="1354"/>
                    </a:lnTo>
                    <a:lnTo>
                      <a:pt x="382" y="1343"/>
                    </a:lnTo>
                    <a:lnTo>
                      <a:pt x="386" y="1331"/>
                    </a:lnTo>
                    <a:lnTo>
                      <a:pt x="390" y="1320"/>
                    </a:lnTo>
                    <a:lnTo>
                      <a:pt x="394" y="1309"/>
                    </a:lnTo>
                    <a:lnTo>
                      <a:pt x="398" y="1297"/>
                    </a:lnTo>
                    <a:lnTo>
                      <a:pt x="401" y="1286"/>
                    </a:lnTo>
                    <a:lnTo>
                      <a:pt x="405" y="1272"/>
                    </a:lnTo>
                    <a:lnTo>
                      <a:pt x="411" y="1261"/>
                    </a:lnTo>
                    <a:lnTo>
                      <a:pt x="417" y="1252"/>
                    </a:lnTo>
                    <a:lnTo>
                      <a:pt x="420" y="1238"/>
                    </a:lnTo>
                    <a:lnTo>
                      <a:pt x="424" y="1227"/>
                    </a:lnTo>
                    <a:lnTo>
                      <a:pt x="430" y="1215"/>
                    </a:lnTo>
                    <a:lnTo>
                      <a:pt x="434" y="1202"/>
                    </a:lnTo>
                    <a:lnTo>
                      <a:pt x="439" y="1191"/>
                    </a:lnTo>
                    <a:lnTo>
                      <a:pt x="447" y="1179"/>
                    </a:lnTo>
                    <a:lnTo>
                      <a:pt x="451" y="1168"/>
                    </a:lnTo>
                    <a:lnTo>
                      <a:pt x="458" y="1156"/>
                    </a:lnTo>
                    <a:lnTo>
                      <a:pt x="464" y="1145"/>
                    </a:lnTo>
                    <a:lnTo>
                      <a:pt x="470" y="1132"/>
                    </a:lnTo>
                    <a:lnTo>
                      <a:pt x="476" y="1120"/>
                    </a:lnTo>
                    <a:lnTo>
                      <a:pt x="483" y="1111"/>
                    </a:lnTo>
                    <a:lnTo>
                      <a:pt x="491" y="1098"/>
                    </a:lnTo>
                    <a:lnTo>
                      <a:pt x="496" y="1088"/>
                    </a:lnTo>
                    <a:lnTo>
                      <a:pt x="504" y="1077"/>
                    </a:lnTo>
                    <a:lnTo>
                      <a:pt x="514" y="1067"/>
                    </a:lnTo>
                    <a:lnTo>
                      <a:pt x="519" y="1054"/>
                    </a:lnTo>
                    <a:lnTo>
                      <a:pt x="527" y="1044"/>
                    </a:lnTo>
                    <a:lnTo>
                      <a:pt x="534" y="1033"/>
                    </a:lnTo>
                    <a:lnTo>
                      <a:pt x="544" y="1023"/>
                    </a:lnTo>
                    <a:lnTo>
                      <a:pt x="552" y="1010"/>
                    </a:lnTo>
                    <a:lnTo>
                      <a:pt x="559" y="1001"/>
                    </a:lnTo>
                    <a:lnTo>
                      <a:pt x="569" y="991"/>
                    </a:lnTo>
                    <a:lnTo>
                      <a:pt x="578" y="982"/>
                    </a:lnTo>
                    <a:lnTo>
                      <a:pt x="586" y="970"/>
                    </a:lnTo>
                    <a:lnTo>
                      <a:pt x="595" y="961"/>
                    </a:lnTo>
                    <a:lnTo>
                      <a:pt x="605" y="951"/>
                    </a:lnTo>
                    <a:lnTo>
                      <a:pt x="614" y="942"/>
                    </a:lnTo>
                    <a:lnTo>
                      <a:pt x="624" y="932"/>
                    </a:lnTo>
                    <a:lnTo>
                      <a:pt x="635" y="923"/>
                    </a:lnTo>
                    <a:lnTo>
                      <a:pt x="643" y="913"/>
                    </a:lnTo>
                    <a:lnTo>
                      <a:pt x="656" y="905"/>
                    </a:lnTo>
                    <a:lnTo>
                      <a:pt x="664" y="898"/>
                    </a:lnTo>
                    <a:lnTo>
                      <a:pt x="671" y="890"/>
                    </a:lnTo>
                    <a:lnTo>
                      <a:pt x="679" y="883"/>
                    </a:lnTo>
                    <a:lnTo>
                      <a:pt x="688" y="873"/>
                    </a:lnTo>
                    <a:lnTo>
                      <a:pt x="696" y="866"/>
                    </a:lnTo>
                    <a:lnTo>
                      <a:pt x="706" y="858"/>
                    </a:lnTo>
                    <a:lnTo>
                      <a:pt x="713" y="850"/>
                    </a:lnTo>
                    <a:lnTo>
                      <a:pt x="723" y="843"/>
                    </a:lnTo>
                    <a:lnTo>
                      <a:pt x="730" y="833"/>
                    </a:lnTo>
                    <a:lnTo>
                      <a:pt x="738" y="824"/>
                    </a:lnTo>
                    <a:lnTo>
                      <a:pt x="746" y="814"/>
                    </a:lnTo>
                    <a:lnTo>
                      <a:pt x="753" y="807"/>
                    </a:lnTo>
                    <a:lnTo>
                      <a:pt x="763" y="797"/>
                    </a:lnTo>
                    <a:lnTo>
                      <a:pt x="770" y="788"/>
                    </a:lnTo>
                    <a:lnTo>
                      <a:pt x="778" y="778"/>
                    </a:lnTo>
                    <a:lnTo>
                      <a:pt x="785" y="770"/>
                    </a:lnTo>
                    <a:lnTo>
                      <a:pt x="793" y="759"/>
                    </a:lnTo>
                    <a:lnTo>
                      <a:pt x="801" y="750"/>
                    </a:lnTo>
                    <a:lnTo>
                      <a:pt x="806" y="740"/>
                    </a:lnTo>
                    <a:lnTo>
                      <a:pt x="814" y="731"/>
                    </a:lnTo>
                    <a:lnTo>
                      <a:pt x="822" y="719"/>
                    </a:lnTo>
                    <a:lnTo>
                      <a:pt x="829" y="710"/>
                    </a:lnTo>
                    <a:lnTo>
                      <a:pt x="837" y="702"/>
                    </a:lnTo>
                    <a:lnTo>
                      <a:pt x="844" y="693"/>
                    </a:lnTo>
                    <a:lnTo>
                      <a:pt x="848" y="679"/>
                    </a:lnTo>
                    <a:lnTo>
                      <a:pt x="856" y="672"/>
                    </a:lnTo>
                    <a:lnTo>
                      <a:pt x="863" y="660"/>
                    </a:lnTo>
                    <a:lnTo>
                      <a:pt x="869" y="651"/>
                    </a:lnTo>
                    <a:lnTo>
                      <a:pt x="875" y="639"/>
                    </a:lnTo>
                    <a:lnTo>
                      <a:pt x="880" y="630"/>
                    </a:lnTo>
                    <a:lnTo>
                      <a:pt x="888" y="618"/>
                    </a:lnTo>
                    <a:lnTo>
                      <a:pt x="894" y="609"/>
                    </a:lnTo>
                    <a:lnTo>
                      <a:pt x="898" y="597"/>
                    </a:lnTo>
                    <a:lnTo>
                      <a:pt x="903" y="588"/>
                    </a:lnTo>
                    <a:lnTo>
                      <a:pt x="909" y="577"/>
                    </a:lnTo>
                    <a:lnTo>
                      <a:pt x="915" y="565"/>
                    </a:lnTo>
                    <a:lnTo>
                      <a:pt x="919" y="554"/>
                    </a:lnTo>
                    <a:lnTo>
                      <a:pt x="924" y="544"/>
                    </a:lnTo>
                    <a:lnTo>
                      <a:pt x="928" y="533"/>
                    </a:lnTo>
                    <a:lnTo>
                      <a:pt x="932" y="523"/>
                    </a:lnTo>
                    <a:lnTo>
                      <a:pt x="938" y="512"/>
                    </a:lnTo>
                    <a:lnTo>
                      <a:pt x="941" y="500"/>
                    </a:lnTo>
                    <a:lnTo>
                      <a:pt x="945" y="491"/>
                    </a:lnTo>
                    <a:lnTo>
                      <a:pt x="949" y="480"/>
                    </a:lnTo>
                    <a:lnTo>
                      <a:pt x="951" y="468"/>
                    </a:lnTo>
                    <a:lnTo>
                      <a:pt x="955" y="457"/>
                    </a:lnTo>
                    <a:lnTo>
                      <a:pt x="957" y="447"/>
                    </a:lnTo>
                    <a:lnTo>
                      <a:pt x="960" y="438"/>
                    </a:lnTo>
                    <a:lnTo>
                      <a:pt x="962" y="424"/>
                    </a:lnTo>
                    <a:lnTo>
                      <a:pt x="964" y="415"/>
                    </a:lnTo>
                    <a:lnTo>
                      <a:pt x="966" y="404"/>
                    </a:lnTo>
                    <a:lnTo>
                      <a:pt x="968" y="394"/>
                    </a:lnTo>
                    <a:lnTo>
                      <a:pt x="968" y="383"/>
                    </a:lnTo>
                    <a:lnTo>
                      <a:pt x="970" y="373"/>
                    </a:lnTo>
                    <a:lnTo>
                      <a:pt x="972" y="362"/>
                    </a:lnTo>
                    <a:lnTo>
                      <a:pt x="972" y="352"/>
                    </a:lnTo>
                    <a:lnTo>
                      <a:pt x="972" y="341"/>
                    </a:lnTo>
                    <a:lnTo>
                      <a:pt x="972" y="331"/>
                    </a:lnTo>
                    <a:lnTo>
                      <a:pt x="972" y="320"/>
                    </a:lnTo>
                    <a:lnTo>
                      <a:pt x="972" y="310"/>
                    </a:lnTo>
                    <a:lnTo>
                      <a:pt x="970" y="301"/>
                    </a:lnTo>
                    <a:lnTo>
                      <a:pt x="970" y="291"/>
                    </a:lnTo>
                    <a:lnTo>
                      <a:pt x="968" y="280"/>
                    </a:lnTo>
                    <a:lnTo>
                      <a:pt x="968" y="270"/>
                    </a:lnTo>
                    <a:lnTo>
                      <a:pt x="962" y="259"/>
                    </a:lnTo>
                    <a:lnTo>
                      <a:pt x="960" y="248"/>
                    </a:lnTo>
                    <a:lnTo>
                      <a:pt x="957" y="236"/>
                    </a:lnTo>
                    <a:lnTo>
                      <a:pt x="955" y="227"/>
                    </a:lnTo>
                    <a:lnTo>
                      <a:pt x="949" y="213"/>
                    </a:lnTo>
                    <a:lnTo>
                      <a:pt x="945" y="204"/>
                    </a:lnTo>
                    <a:lnTo>
                      <a:pt x="939" y="194"/>
                    </a:lnTo>
                    <a:lnTo>
                      <a:pt x="936" y="187"/>
                    </a:lnTo>
                    <a:lnTo>
                      <a:pt x="928" y="175"/>
                    </a:lnTo>
                    <a:lnTo>
                      <a:pt x="922" y="166"/>
                    </a:lnTo>
                    <a:lnTo>
                      <a:pt x="915" y="156"/>
                    </a:lnTo>
                    <a:lnTo>
                      <a:pt x="911" y="149"/>
                    </a:lnTo>
                    <a:lnTo>
                      <a:pt x="901" y="139"/>
                    </a:lnTo>
                    <a:lnTo>
                      <a:pt x="896" y="132"/>
                    </a:lnTo>
                    <a:lnTo>
                      <a:pt x="888" y="124"/>
                    </a:lnTo>
                    <a:lnTo>
                      <a:pt x="880" y="116"/>
                    </a:lnTo>
                    <a:lnTo>
                      <a:pt x="871" y="109"/>
                    </a:lnTo>
                    <a:lnTo>
                      <a:pt x="863" y="99"/>
                    </a:lnTo>
                    <a:lnTo>
                      <a:pt x="854" y="92"/>
                    </a:lnTo>
                    <a:lnTo>
                      <a:pt x="844" y="86"/>
                    </a:lnTo>
                    <a:lnTo>
                      <a:pt x="833" y="78"/>
                    </a:lnTo>
                    <a:lnTo>
                      <a:pt x="823" y="71"/>
                    </a:lnTo>
                    <a:lnTo>
                      <a:pt x="814" y="63"/>
                    </a:lnTo>
                    <a:lnTo>
                      <a:pt x="803" y="59"/>
                    </a:lnTo>
                    <a:lnTo>
                      <a:pt x="791" y="52"/>
                    </a:lnTo>
                    <a:lnTo>
                      <a:pt x="780" y="46"/>
                    </a:lnTo>
                    <a:lnTo>
                      <a:pt x="766" y="38"/>
                    </a:lnTo>
                    <a:lnTo>
                      <a:pt x="755" y="35"/>
                    </a:lnTo>
                    <a:lnTo>
                      <a:pt x="742" y="29"/>
                    </a:lnTo>
                    <a:lnTo>
                      <a:pt x="730" y="25"/>
                    </a:lnTo>
                    <a:lnTo>
                      <a:pt x="717" y="19"/>
                    </a:lnTo>
                    <a:lnTo>
                      <a:pt x="704" y="16"/>
                    </a:lnTo>
                    <a:lnTo>
                      <a:pt x="692" y="12"/>
                    </a:lnTo>
                    <a:lnTo>
                      <a:pt x="685" y="10"/>
                    </a:lnTo>
                    <a:lnTo>
                      <a:pt x="675" y="8"/>
                    </a:lnTo>
                    <a:lnTo>
                      <a:pt x="666" y="8"/>
                    </a:lnTo>
                    <a:lnTo>
                      <a:pt x="656" y="4"/>
                    </a:lnTo>
                    <a:lnTo>
                      <a:pt x="647" y="2"/>
                    </a:lnTo>
                    <a:lnTo>
                      <a:pt x="637" y="2"/>
                    </a:lnTo>
                    <a:lnTo>
                      <a:pt x="628" y="2"/>
                    </a:lnTo>
                    <a:lnTo>
                      <a:pt x="618" y="0"/>
                    </a:lnTo>
                    <a:lnTo>
                      <a:pt x="609" y="0"/>
                    </a:lnTo>
                    <a:lnTo>
                      <a:pt x="597" y="0"/>
                    </a:lnTo>
                    <a:lnTo>
                      <a:pt x="588" y="2"/>
                    </a:lnTo>
                    <a:lnTo>
                      <a:pt x="578" y="2"/>
                    </a:lnTo>
                    <a:lnTo>
                      <a:pt x="569" y="2"/>
                    </a:lnTo>
                    <a:lnTo>
                      <a:pt x="559" y="4"/>
                    </a:lnTo>
                    <a:lnTo>
                      <a:pt x="550" y="8"/>
                    </a:lnTo>
                    <a:lnTo>
                      <a:pt x="538" y="8"/>
                    </a:lnTo>
                    <a:lnTo>
                      <a:pt x="527" y="10"/>
                    </a:lnTo>
                    <a:lnTo>
                      <a:pt x="517" y="12"/>
                    </a:lnTo>
                    <a:lnTo>
                      <a:pt x="508" y="16"/>
                    </a:lnTo>
                    <a:lnTo>
                      <a:pt x="496" y="18"/>
                    </a:lnTo>
                    <a:lnTo>
                      <a:pt x="485" y="19"/>
                    </a:lnTo>
                    <a:lnTo>
                      <a:pt x="474" y="25"/>
                    </a:lnTo>
                    <a:lnTo>
                      <a:pt x="464" y="29"/>
                    </a:lnTo>
                    <a:lnTo>
                      <a:pt x="453" y="33"/>
                    </a:lnTo>
                    <a:lnTo>
                      <a:pt x="443" y="37"/>
                    </a:lnTo>
                    <a:lnTo>
                      <a:pt x="432" y="40"/>
                    </a:lnTo>
                    <a:lnTo>
                      <a:pt x="420" y="46"/>
                    </a:lnTo>
                    <a:lnTo>
                      <a:pt x="409" y="50"/>
                    </a:lnTo>
                    <a:lnTo>
                      <a:pt x="400" y="56"/>
                    </a:lnTo>
                    <a:lnTo>
                      <a:pt x="388" y="61"/>
                    </a:lnTo>
                    <a:lnTo>
                      <a:pt x="377" y="69"/>
                    </a:lnTo>
                    <a:lnTo>
                      <a:pt x="369" y="73"/>
                    </a:lnTo>
                    <a:lnTo>
                      <a:pt x="360" y="78"/>
                    </a:lnTo>
                    <a:lnTo>
                      <a:pt x="352" y="82"/>
                    </a:lnTo>
                    <a:lnTo>
                      <a:pt x="344" y="86"/>
                    </a:lnTo>
                    <a:lnTo>
                      <a:pt x="335" y="90"/>
                    </a:lnTo>
                    <a:lnTo>
                      <a:pt x="327" y="95"/>
                    </a:lnTo>
                    <a:lnTo>
                      <a:pt x="320" y="101"/>
                    </a:lnTo>
                    <a:lnTo>
                      <a:pt x="312" y="107"/>
                    </a:lnTo>
                    <a:lnTo>
                      <a:pt x="303" y="111"/>
                    </a:lnTo>
                    <a:lnTo>
                      <a:pt x="295" y="118"/>
                    </a:lnTo>
                    <a:lnTo>
                      <a:pt x="287" y="122"/>
                    </a:lnTo>
                    <a:lnTo>
                      <a:pt x="280" y="130"/>
                    </a:lnTo>
                    <a:lnTo>
                      <a:pt x="272" y="134"/>
                    </a:lnTo>
                    <a:lnTo>
                      <a:pt x="265" y="141"/>
                    </a:lnTo>
                    <a:lnTo>
                      <a:pt x="255" y="147"/>
                    </a:lnTo>
                    <a:lnTo>
                      <a:pt x="249" y="153"/>
                    </a:lnTo>
                    <a:lnTo>
                      <a:pt x="242" y="158"/>
                    </a:lnTo>
                    <a:lnTo>
                      <a:pt x="232" y="166"/>
                    </a:lnTo>
                    <a:lnTo>
                      <a:pt x="225" y="170"/>
                    </a:lnTo>
                    <a:lnTo>
                      <a:pt x="219" y="177"/>
                    </a:lnTo>
                    <a:lnTo>
                      <a:pt x="211" y="183"/>
                    </a:lnTo>
                    <a:lnTo>
                      <a:pt x="204" y="191"/>
                    </a:lnTo>
                    <a:lnTo>
                      <a:pt x="198" y="196"/>
                    </a:lnTo>
                    <a:lnTo>
                      <a:pt x="190" y="204"/>
                    </a:lnTo>
                    <a:lnTo>
                      <a:pt x="183" y="210"/>
                    </a:lnTo>
                    <a:lnTo>
                      <a:pt x="177" y="217"/>
                    </a:lnTo>
                    <a:lnTo>
                      <a:pt x="169" y="223"/>
                    </a:lnTo>
                    <a:lnTo>
                      <a:pt x="164" y="232"/>
                    </a:lnTo>
                    <a:lnTo>
                      <a:pt x="154" y="238"/>
                    </a:lnTo>
                    <a:lnTo>
                      <a:pt x="150" y="244"/>
                    </a:lnTo>
                    <a:lnTo>
                      <a:pt x="143" y="251"/>
                    </a:lnTo>
                    <a:lnTo>
                      <a:pt x="137" y="259"/>
                    </a:lnTo>
                    <a:lnTo>
                      <a:pt x="130" y="267"/>
                    </a:lnTo>
                    <a:lnTo>
                      <a:pt x="124" y="272"/>
                    </a:lnTo>
                    <a:lnTo>
                      <a:pt x="118" y="280"/>
                    </a:lnTo>
                    <a:lnTo>
                      <a:pt x="112" y="288"/>
                    </a:lnTo>
                    <a:lnTo>
                      <a:pt x="107" y="293"/>
                    </a:lnTo>
                    <a:lnTo>
                      <a:pt x="101" y="301"/>
                    </a:lnTo>
                    <a:lnTo>
                      <a:pt x="93" y="308"/>
                    </a:lnTo>
                    <a:lnTo>
                      <a:pt x="90" y="316"/>
                    </a:lnTo>
                    <a:lnTo>
                      <a:pt x="84" y="324"/>
                    </a:lnTo>
                    <a:lnTo>
                      <a:pt x="78" y="329"/>
                    </a:lnTo>
                    <a:lnTo>
                      <a:pt x="73" y="337"/>
                    </a:lnTo>
                    <a:lnTo>
                      <a:pt x="69" y="345"/>
                    </a:lnTo>
                    <a:lnTo>
                      <a:pt x="63" y="350"/>
                    </a:lnTo>
                    <a:lnTo>
                      <a:pt x="59" y="360"/>
                    </a:lnTo>
                    <a:lnTo>
                      <a:pt x="54" y="367"/>
                    </a:lnTo>
                    <a:lnTo>
                      <a:pt x="50" y="375"/>
                    </a:lnTo>
                    <a:lnTo>
                      <a:pt x="46" y="381"/>
                    </a:lnTo>
                    <a:lnTo>
                      <a:pt x="40" y="388"/>
                    </a:lnTo>
                    <a:lnTo>
                      <a:pt x="36" y="396"/>
                    </a:lnTo>
                    <a:lnTo>
                      <a:pt x="33" y="404"/>
                    </a:lnTo>
                    <a:lnTo>
                      <a:pt x="29" y="411"/>
                    </a:lnTo>
                    <a:lnTo>
                      <a:pt x="25" y="417"/>
                    </a:lnTo>
                    <a:lnTo>
                      <a:pt x="21" y="424"/>
                    </a:lnTo>
                    <a:lnTo>
                      <a:pt x="19" y="434"/>
                    </a:lnTo>
                    <a:lnTo>
                      <a:pt x="12" y="447"/>
                    </a:lnTo>
                    <a:lnTo>
                      <a:pt x="6" y="461"/>
                    </a:lnTo>
                    <a:lnTo>
                      <a:pt x="4" y="468"/>
                    </a:lnTo>
                    <a:lnTo>
                      <a:pt x="2" y="476"/>
                    </a:lnTo>
                    <a:lnTo>
                      <a:pt x="0" y="481"/>
                    </a:lnTo>
                    <a:lnTo>
                      <a:pt x="0" y="491"/>
                    </a:lnTo>
                    <a:lnTo>
                      <a:pt x="27" y="499"/>
                    </a:lnTo>
                    <a:lnTo>
                      <a:pt x="27" y="4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5" name=""/>
            <p:cNvSpPr/>
            <p:nvPr/>
          </p:nvSpPr>
          <p:spPr>
            <a:xfrm>
              <a:off x="3189240" y="2315880"/>
              <a:ext cx="30783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"/>
          <p:cNvSpPr/>
          <p:nvPr/>
        </p:nvSpPr>
        <p:spPr>
          <a:xfrm>
            <a:off x="380880" y="3048120"/>
            <a:ext cx="8229600" cy="30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Suppose we have a probability distribution D over two-outcome measurements, and we only care about (approximately) predicting the outcomes of </a:t>
            </a:r>
            <a:r>
              <a:rPr b="1" lang="en-CA" sz="2600" spc="-1" strike="noStrike">
                <a:solidFill>
                  <a:srgbClr val="ff0000"/>
                </a:solidFill>
                <a:latin typeface="Arial"/>
              </a:rPr>
              <a:t>most</a:t>
            </a: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 measurements drawn from 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We can do that, with high probability, using a number of sample measurements from D that increases only </a:t>
            </a:r>
            <a:r>
              <a:rPr b="1" lang="en-CA" sz="2600" spc="-1" strike="noStrike">
                <a:solidFill>
                  <a:srgbClr val="ff0000"/>
                </a:solidFill>
                <a:latin typeface="Arial"/>
              </a:rPr>
              <a:t>linearly</a:t>
            </a: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 with the number of qubi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457200" y="1752480"/>
            <a:ext cx="8305920" cy="21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t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be an n-qubit mixed state.  Let D be a distribution over two-outcome measurements.  Suppose we draw m measurements E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…,E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independently from D, and then output a “hypothesis state”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uch that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|Tr(E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-Tr(E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|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≤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r all i.  Then provided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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/10 a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3520" y="4876920"/>
            <a:ext cx="7924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’ll hav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33520" y="6172200"/>
            <a:ext cx="792468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probability at least 1-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over E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…,E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143000" y="152280"/>
            <a:ext cx="678168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3399"/>
                </a:solidFill>
                <a:latin typeface="Arial"/>
              </a:rPr>
              <a:t>The Quantum Occam’s Razor Theorem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1676520" y="3809880"/>
                <a:ext cx="5708520" cy="121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r>
                      <m:t xml:space="preserve">Ω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γ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sSup>
                              <m:e>
                                <m:r>
                                  <m:t xml:space="preserve">ε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n</m:t>
                                </m:r>
                              </m:num>
                              <m:den>
                                <m:sSup>
                                  <m:e>
                                    <m:r>
                                      <m:t xml:space="preserve">γ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sSup>
                                  <m:e>
                                    <m:r>
                                      <m:t xml:space="preserve">ε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γε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δ</m:t>
                                </m:r>
                              </m:den>
                            </m:f>
                          </m:e>
                        </m:d>
                      </m:e>
                    </m:d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1752480" y="5410080"/>
                <a:ext cx="5639040" cy="77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Pr</m:t>
                        </m:r>
                      </m:e>
                      <m:lim>
                        <m:r>
                          <m:t xml:space="preserve">E</m:t>
                        </m:r>
                        <m:r>
                          <m:t xml:space="preserve">∈</m:t>
                        </m:r>
                        <m:r>
                          <m:t xml:space="preserve">D</m:t>
                        </m:r>
                      </m:lim>
                    </m:limLow>
                    <m:d>
                      <m:dPr>
                        <m:begChr m:val="["/>
                        <m:endChr m:val="]"/>
                      </m:dPr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r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Eσ</m:t>
                                </m:r>
                              </m:e>
                            </m:d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Tr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Eρ</m:t>
                                </m:r>
                              </m:e>
                            </m:d>
                          </m:e>
                        </m:d>
                        <m:r>
                          <m:t xml:space="preserve">≤</m:t>
                        </m:r>
                        <m:r>
                          <m:t xml:space="preserve">γ</m:t>
                        </m:r>
                      </m:e>
                    </m:d>
                    <m:r>
                      <m:t xml:space="preserve">≥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1038240" cy="144792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rcRect l="0" t="0" r="20000" b="40500"/>
          <a:stretch/>
        </p:blipFill>
        <p:spPr>
          <a:xfrm>
            <a:off x="7680240" y="152280"/>
            <a:ext cx="1463760" cy="134460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1371600" y="2362320"/>
            <a:ext cx="6172200" cy="1677960"/>
          </a:xfrm>
          <a:prstGeom prst="rect">
            <a:avLst/>
          </a:prstGeom>
          <a:solidFill>
            <a:srgbClr val="ffffbb"/>
          </a:solidFill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Result says nothing about the </a:t>
            </a:r>
            <a:r>
              <a:rPr b="1" lang="en-CA" sz="2600" spc="-1" strike="noStrike">
                <a:solidFill>
                  <a:srgbClr val="ff0000"/>
                </a:solidFill>
                <a:latin typeface="Arial"/>
              </a:rPr>
              <a:t>computational</a:t>
            </a: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 complexity of preparing a hypothesis state that agrees with measurement resul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447920" y="4419720"/>
            <a:ext cx="6172200" cy="1281960"/>
          </a:xfrm>
          <a:prstGeom prst="rect">
            <a:avLst/>
          </a:prstGeom>
          <a:solidFill>
            <a:srgbClr val="ffffbb"/>
          </a:solidFill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 can make the dependence and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more reasonable, at the cost of replacing n by n log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228600" y="304920"/>
            <a:ext cx="868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Proof Ide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" y="1371600"/>
            <a:ext cx="8229600" cy="37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nterpret Ambainis et al.’s result as proving an O(n) upper bound on the </a:t>
            </a:r>
            <a:r>
              <a:rPr b="1" lang="en-CA" sz="2800" spc="-1" strike="noStrike">
                <a:solidFill>
                  <a:srgbClr val="ff0000"/>
                </a:solidFill>
                <a:latin typeface="Arial"/>
              </a:rPr>
              <a:t>fat-shattering dimension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of n-qubit quantum states, considered as a concept cl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Use results from computational learning theory (e.g. [Bartlett-Long 95]), which say that every concept class has sample complexity linear in its fat-shatter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7391520" y="1752480"/>
            <a:ext cx="1218960" cy="55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(x,y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28600" y="380880"/>
            <a:ext cx="868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imple Application to Communication Complex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895480"/>
            <a:ext cx="8305920" cy="34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: Boolean function mapping Alice’s N-bit string x and Bob’s M-bit string y to a binary outpu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5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(f), R</a:t>
            </a:r>
            <a:r>
              <a:rPr b="0" lang="en-US" sz="25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(f), Q</a:t>
            </a:r>
            <a:r>
              <a:rPr b="0" lang="en-US" sz="25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(f): Deterministic, randomized, and quantum one-way communication complexities of f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ow much can quantum communication save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2004 I showed that for all f (partial or total),</a:t>
            </a: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f)=O(M Q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f)logQ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f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905120" y="2057400"/>
            <a:ext cx="3124080" cy="0"/>
          </a:xfrm>
          <a:prstGeom prst="line">
            <a:avLst/>
          </a:prstGeom>
          <a:ln w="2844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1295280"/>
            <a:ext cx="533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095880" y="14479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2057400"/>
            <a:ext cx="1828800" cy="0"/>
          </a:xfrm>
          <a:prstGeom prst="line">
            <a:avLst/>
          </a:prstGeom>
          <a:ln w="2844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4065840" y="5114160"/>
            <a:ext cx="4802400" cy="1410840"/>
            <a:chOff x="4065840" y="5114160"/>
            <a:chExt cx="4802400" cy="1410840"/>
          </a:xfrm>
        </p:grpSpPr>
        <p:sp>
          <p:nvSpPr>
            <p:cNvPr id="157" name=""/>
            <p:cNvSpPr/>
            <p:nvPr/>
          </p:nvSpPr>
          <p:spPr>
            <a:xfrm rot="21170400">
              <a:off x="4646520" y="5694120"/>
              <a:ext cx="691560" cy="692280"/>
            </a:xfrm>
            <a:prstGeom prst="noSmoking">
              <a:avLst>
                <a:gd name="adj" fmla="val 9453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rot="21170400">
              <a:off x="5249520" y="5334120"/>
              <a:ext cx="35812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0000"/>
                  </a:solidFill>
                  <a:latin typeface="Arial"/>
                </a:rPr>
                <a:t>GBUSTERS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 rot="21170400">
              <a:off x="4114800" y="5664240"/>
              <a:ext cx="6235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0000"/>
                  </a:solidFill>
                  <a:latin typeface="Arial"/>
                </a:rPr>
                <a:t>L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0" name="" descr=""/>
          <p:cNvPicPr/>
          <p:nvPr/>
        </p:nvPicPr>
        <p:blipFill>
          <a:blip r:embed="rId1"/>
          <a:srcRect l="24000" t="0" r="16000" b="0"/>
          <a:stretch/>
        </p:blipFill>
        <p:spPr>
          <a:xfrm>
            <a:off x="5029200" y="1295280"/>
            <a:ext cx="1054080" cy="131472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2057400" y="213372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95880" y="213372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838080" y="1371600"/>
            <a:ext cx="1076400" cy="12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228600" y="304920"/>
            <a:ext cx="86868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Theorem: R</a:t>
            </a:r>
            <a:r>
              <a:rPr b="1" lang="en-US" sz="4000" spc="-1" strike="noStrike" baseline="30000">
                <a:solidFill>
                  <a:srgbClr val="333399"/>
                </a:solidFill>
                <a:latin typeface="Arial"/>
              </a:rPr>
              <a:t>1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(f)=O(M Q</a:t>
            </a:r>
            <a:r>
              <a:rPr b="1" lang="en-US" sz="4000" spc="-1" strike="noStrike" baseline="30000">
                <a:solidFill>
                  <a:srgbClr val="333399"/>
                </a:solidFill>
                <a:latin typeface="Arial"/>
              </a:rPr>
              <a:t>1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(f)) </a:t>
            </a:r>
            <a:br>
              <a:rPr sz="3000"/>
            </a:b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or all f, partial or to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04920" y="1600200"/>
            <a:ext cx="8458200" cy="464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3300"/>
                </a:solidFill>
                <a:latin typeface="Arial"/>
              </a:rPr>
              <a:t>Proof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Fix Alice’s input x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y Yao’s minimax principle, Alice can consider a worst-case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stribution D over Bob’s input 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ice’s classical message will consist of y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…,y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rawn from D, together with f(x,y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,…,f(x,y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, where T=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Q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f)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ob searches for a quantum message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that yields the right answers on y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…,y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y the learning theorem, with high probability such a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yields the right answers on </a:t>
            </a:r>
            <a:r>
              <a:rPr b="1" lang="en-US" sz="2600" spc="-1" strike="noStrike">
                <a:solidFill>
                  <a:srgbClr val="cc3300"/>
                </a:solidFill>
                <a:latin typeface="Arial"/>
              </a:rPr>
              <a:t>mos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y drawn from 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9T20:46:23Z</dcterms:created>
  <dc:creator>Scott Aaronson</dc:creator>
  <dc:description/>
  <dc:language>en-US</dc:language>
  <cp:lastModifiedBy>Scott Aaronson</cp:lastModifiedBy>
  <dcterms:modified xsi:type="dcterms:W3CDTF">2007-12-08T04:47:58Z</dcterms:modified>
  <cp:revision>46</cp:revision>
  <dc:subject/>
  <dc:title>The Learnability of Quantum States</dc:title>
</cp:coreProperties>
</file>