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037-1F11-4B93-9A5C-C4C9C4E931A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8DFC-DDEC-4EC3-91D9-3BC167B2AC3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3A9A-9A35-45C6-9DA1-53A2A951049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2DE0-DD84-4463-A385-A7460DAA57D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DCD9-9806-4C3E-A62D-78CFE1670C1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C55E-5091-4421-81B2-B280FDBDC99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4B00-E5FA-4AFE-9A18-40D4FE5D0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8F3E-3F9C-4B46-8AF6-C087682D0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66C7-89A6-4369-B076-224DF28E4EE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277-95CD-422E-9536-DFD219D5FF9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182F-A3C7-4AAC-88A7-394ADC55762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2641-B5EB-460B-BAE8-A01267CAD5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5C8C-8C41-4495-8B9A-E58CEB8C640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2A48-48E9-41AE-8653-CA4AE6FD65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7CF-7F54-4179-BB58-478C05DF369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55CA-1FBE-418C-8A9B-210A95B87CD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D9D-71CA-4A8B-AC8A-8D9BDAC2AE4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48DC-85B1-4879-B0C7-90BD324CF5A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79CA-26B4-4FDB-BD81-A48D2A1ADA6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0B89-148C-4FEB-8AA0-36D91E6474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1460-843D-453B-8512-950DC06F69B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453E-07FB-4C5F-AB17-755E82A7131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483D-D479-42E6-8793-CA60170EF67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B436-3855-438F-A542-D06A7B6D2C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1556-DE4D-42FA-87F0-6F5C8BCC9CC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58E-17A9-4F32-A25C-AC48472C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EB4-404D-4FC0-951E-3139D7F8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F56-56D8-41FB-AA16-5983F06E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206-AAAE-4F33-959D-70931856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736-D75E-45CD-8C07-2F108AA4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EA8-F1EB-4F89-9943-108B9812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CF5-D16B-489D-B7ED-56AEC686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FEC-FD87-4FB5-8035-C1CB9C65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846-9A1A-4656-8A19-B634D0AB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6D9-A041-4523-AD3A-0B49258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05C-73B9-436D-87D3-461428F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108-B759-4F5F-8D53-7415C87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DB6D-61DD-447F-8B6F-ED71E6B00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8"/>
          <p:cNvGrpSpPr/>
          <p:nvPr/>
        </p:nvGrpSpPr>
        <p:grpSpPr>
          <a:xfrm>
            <a:off x="189000" y="1937880"/>
            <a:ext cx="3834720" cy="4553280"/>
            <a:chOff x="189000" y="1937880"/>
            <a:chExt cx="3834720" cy="4553280"/>
          </a:xfrm>
        </p:grpSpPr>
        <p:sp>
          <p:nvSpPr>
            <p:cNvPr id="50" name="Text Box 6"/>
            <p:cNvSpPr/>
            <p:nvPr/>
          </p:nvSpPr>
          <p:spPr>
            <a:xfrm rot="849600">
              <a:off x="252000" y="4265280"/>
              <a:ext cx="150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 rot="849600">
              <a:off x="1436400" y="2235240"/>
              <a:ext cx="25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SP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8"/>
            <p:cNvSpPr/>
            <p:nvPr/>
          </p:nvSpPr>
          <p:spPr>
            <a:xfrm rot="849600">
              <a:off x="2458800" y="482292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N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 rot="849600">
              <a:off x="1058400" y="5614560"/>
              <a:ext cx="150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 rot="849600">
              <a:off x="980640" y="3413160"/>
              <a:ext cx="28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ost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 flipH="1">
              <a:off x="2419200" y="2858400"/>
              <a:ext cx="168120" cy="6663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752560" y="4155120"/>
              <a:ext cx="357480" cy="7448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"/>
            <p:cNvSpPr/>
            <p:nvPr/>
          </p:nvSpPr>
          <p:spPr>
            <a:xfrm>
              <a:off x="1068480" y="4984920"/>
              <a:ext cx="460080" cy="7711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2144880" y="5451480"/>
              <a:ext cx="771120" cy="46008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H="1">
              <a:off x="1210320" y="3922200"/>
              <a:ext cx="617400" cy="4993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2280" y="283680"/>
            <a:ext cx="837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Limits on Efficient Computation in the Physical World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66880" y="5409720"/>
            <a:ext cx="4657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Alleged Ways to Solve 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-complete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533520" y="1981080"/>
            <a:ext cx="81532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Protein folding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an also get stuck at local optima (e.g., Mad Cow Dise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DNA computers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 proposal for massively parallel classical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The cognitive science approach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ink about it really h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y Personal Favorit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1371600"/>
            <a:ext cx="8077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ip two glass plates with pegs between them into soapy water; let the soap bubbles form a minimum “Steiner tree” connecting the pegs (thereby solving a known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complete probl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1"/>
          <a:srcRect l="0" t="5603" r="0" b="0"/>
          <a:stretch/>
        </p:blipFill>
        <p:spPr>
          <a:xfrm>
            <a:off x="3124080" y="3352680"/>
            <a:ext cx="2675160" cy="323712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14"/>
          <p:cNvGrpSpPr/>
          <p:nvPr/>
        </p:nvGrpSpPr>
        <p:grpSpPr>
          <a:xfrm>
            <a:off x="3048120" y="3505320"/>
            <a:ext cx="2487240" cy="3211200"/>
            <a:chOff x="3048120" y="3505320"/>
            <a:chExt cx="2487240" cy="3211200"/>
          </a:xfrm>
        </p:grpSpPr>
        <p:sp>
          <p:nvSpPr>
            <p:cNvPr id="234" name="Line 15"/>
            <p:cNvSpPr/>
            <p:nvPr/>
          </p:nvSpPr>
          <p:spPr>
            <a:xfrm flipV="1">
              <a:off x="3092400" y="6228720"/>
              <a:ext cx="1774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 flipH="1">
              <a:off x="5182200" y="5275440"/>
              <a:ext cx="304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 flipH="1" flipV="1">
              <a:off x="4856040" y="3561480"/>
              <a:ext cx="630720" cy="17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 flipH="1" flipV="1">
              <a:off x="3096000" y="5963400"/>
              <a:ext cx="180360" cy="2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9"/>
            <p:cNvSpPr/>
            <p:nvPr/>
          </p:nvSpPr>
          <p:spPr>
            <a:xfrm>
              <a:off x="5182560" y="5963400"/>
              <a:ext cx="2930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0"/>
            <p:cNvSpPr/>
            <p:nvPr/>
          </p:nvSpPr>
          <p:spPr>
            <a:xfrm flipV="1">
              <a:off x="3277080" y="5974560"/>
              <a:ext cx="191628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1"/>
            <p:cNvSpPr/>
            <p:nvPr/>
          </p:nvSpPr>
          <p:spPr>
            <a:xfrm flipV="1">
              <a:off x="4802040" y="3505320"/>
              <a:ext cx="11376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2"/>
            <p:cNvSpPr/>
            <p:nvPr/>
          </p:nvSpPr>
          <p:spPr>
            <a:xfrm flipV="1">
              <a:off x="5420160" y="522540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3"/>
            <p:cNvSpPr/>
            <p:nvPr/>
          </p:nvSpPr>
          <p:spPr>
            <a:xfrm flipV="1">
              <a:off x="3048120" y="660132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 flipV="1">
              <a:off x="3048120" y="591336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5"/>
            <p:cNvSpPr/>
            <p:nvPr/>
          </p:nvSpPr>
          <p:spPr>
            <a:xfrm flipV="1">
              <a:off x="5420160" y="6257880"/>
              <a:ext cx="115200" cy="113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7160" y="468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would the world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ctually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e like if we could solve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-complete problems efficiently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80880" y="4343400"/>
            <a:ext cx="6705720" cy="2226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actually were a machine with [running time] ~Kn (or even only with ~K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this would have consequences of the greatest magnitud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 to von Neumann,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7086600" y="4343400"/>
            <a:ext cx="1697040" cy="2286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1"/>
          <p:cNvSpPr/>
          <p:nvPr/>
        </p:nvSpPr>
        <p:spPr>
          <a:xfrm>
            <a:off x="380880" y="2057400"/>
            <a:ext cx="47246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Proof of Riemann hypothesis with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10,000,000 symb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733920" y="3048120"/>
            <a:ext cx="48765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hortest efficient description of stock marke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8"/>
          <p:cNvSpPr/>
          <p:nvPr/>
        </p:nvSpPr>
        <p:spPr>
          <a:xfrm>
            <a:off x="838080" y="3962520"/>
            <a:ext cx="8077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lies, but is stronger than, </a:t>
            </a:r>
            <a:r>
              <a:rPr b="1" lang="en-CA" sz="28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CA" sz="28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falsifiable as it 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istent with currently-known physical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Scientifically fruit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5720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right, what can we say about this assum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 flipH="1">
            <a:off x="2286000" y="51055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5"/>
          <p:cNvGrpSpPr/>
          <p:nvPr/>
        </p:nvGrpSpPr>
        <p:grpSpPr>
          <a:xfrm>
            <a:off x="304920" y="228600"/>
            <a:ext cx="8610480" cy="2895480"/>
            <a:chOff x="304920" y="228600"/>
            <a:chExt cx="8610480" cy="2895480"/>
          </a:xfrm>
        </p:grpSpPr>
        <p:sp>
          <p:nvSpPr>
            <p:cNvPr id="254" name="AutoShape 9"/>
            <p:cNvSpPr/>
            <p:nvPr/>
          </p:nvSpPr>
          <p:spPr>
            <a:xfrm>
              <a:off x="304920" y="228600"/>
              <a:ext cx="8610480" cy="2895480"/>
            </a:xfrm>
            <a:prstGeom prst="verticalScrol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990720"/>
              <a:ext cx="815328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800" spc="-1" strike="noStrike">
                  <a:solidFill>
                    <a:srgbClr val="333399"/>
                  </a:solidFill>
                  <a:latin typeface="Arial"/>
                </a:rPr>
                <a:t>The NP Hardness Assumption</a:t>
              </a:r>
              <a:br>
                <a:rPr sz="3800"/>
              </a:br>
              <a:r>
                <a:rPr b="0" lang="en-CA" sz="2900" spc="-1" strike="noStrike">
                  <a:solidFill>
                    <a:srgbClr val="000000"/>
                  </a:solidFill>
                  <a:latin typeface="Arial"/>
                </a:rPr>
                <a:t>There is no physical means to solve NP complete problems in polynomial time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0"/>
          <p:cNvSpPr/>
          <p:nvPr/>
        </p:nvSpPr>
        <p:spPr>
          <a:xfrm>
            <a:off x="2590920" y="4114800"/>
            <a:ext cx="4419360" cy="10076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Rest of talk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Try to give indications that it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. “Relativity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9" name="Picture 6" descr="earth"/>
          <p:cNvPicPr/>
          <p:nvPr/>
        </p:nvPicPr>
        <p:blipFill>
          <a:blip r:embed="rId1"/>
          <a:stretch/>
        </p:blipFill>
        <p:spPr>
          <a:xfrm>
            <a:off x="609480" y="350532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75"/>
          <p:cNvGrpSpPr/>
          <p:nvPr/>
        </p:nvGrpSpPr>
        <p:grpSpPr>
          <a:xfrm>
            <a:off x="762120" y="2895480"/>
            <a:ext cx="1980720" cy="1866600"/>
            <a:chOff x="762120" y="2895480"/>
            <a:chExt cx="1980720" cy="1866600"/>
          </a:xfrm>
        </p:grpSpPr>
        <p:sp>
          <p:nvSpPr>
            <p:cNvPr id="261" name="Freeform 10"/>
            <p:cNvSpPr/>
            <p:nvPr/>
          </p:nvSpPr>
          <p:spPr>
            <a:xfrm>
              <a:off x="1075320" y="2940120"/>
              <a:ext cx="1087560" cy="103320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"/>
            <p:cNvSpPr/>
            <p:nvPr/>
          </p:nvSpPr>
          <p:spPr>
            <a:xfrm>
              <a:off x="1208520" y="3083760"/>
              <a:ext cx="756360" cy="729000"/>
            </a:xfrm>
            <a:prstGeom prst="pie">
              <a:avLst/>
            </a:pr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2"/>
            <p:cNvSpPr/>
            <p:nvPr/>
          </p:nvSpPr>
          <p:spPr>
            <a:xfrm>
              <a:off x="1321560" y="4018320"/>
              <a:ext cx="668160" cy="12024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"/>
            <p:cNvSpPr/>
            <p:nvPr/>
          </p:nvSpPr>
          <p:spPr>
            <a:xfrm>
              <a:off x="1688400" y="3486240"/>
              <a:ext cx="171720" cy="218160"/>
            </a:xfrm>
            <a:prstGeom prst="pie">
              <a:avLst/>
            </a:pr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"/>
            <p:cNvSpPr/>
            <p:nvPr/>
          </p:nvSpPr>
          <p:spPr>
            <a:xfrm>
              <a:off x="2323440" y="4367160"/>
              <a:ext cx="406800" cy="27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5"/>
            <p:cNvSpPr/>
            <p:nvPr/>
          </p:nvSpPr>
          <p:spPr>
            <a:xfrm>
              <a:off x="2323440" y="4416840"/>
              <a:ext cx="415080" cy="24408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"/>
            <p:cNvSpPr/>
            <p:nvPr/>
          </p:nvSpPr>
          <p:spPr>
            <a:xfrm>
              <a:off x="2329560" y="4528800"/>
              <a:ext cx="395640" cy="1321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"/>
            <p:cNvSpPr/>
            <p:nvPr/>
          </p:nvSpPr>
          <p:spPr>
            <a:xfrm>
              <a:off x="2334240" y="4437000"/>
              <a:ext cx="975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2635920" y="4471200"/>
              <a:ext cx="106920" cy="18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"/>
            <p:cNvSpPr/>
            <p:nvPr/>
          </p:nvSpPr>
          <p:spPr>
            <a:xfrm>
              <a:off x="2308320" y="4365000"/>
              <a:ext cx="353520" cy="29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2553480" y="4500360"/>
              <a:ext cx="101520" cy="12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>
              <a:off x="2437920" y="4404960"/>
              <a:ext cx="15660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2389320" y="4387320"/>
              <a:ext cx="10368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2230560" y="4545360"/>
              <a:ext cx="48888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4"/>
            <p:cNvSpPr/>
            <p:nvPr/>
          </p:nvSpPr>
          <p:spPr>
            <a:xfrm>
              <a:off x="789840" y="4285800"/>
              <a:ext cx="1465200" cy="30276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5"/>
            <p:cNvSpPr/>
            <p:nvPr/>
          </p:nvSpPr>
          <p:spPr>
            <a:xfrm>
              <a:off x="1078920" y="4110120"/>
              <a:ext cx="1122840" cy="29592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6"/>
            <p:cNvSpPr/>
            <p:nvPr/>
          </p:nvSpPr>
          <p:spPr>
            <a:xfrm>
              <a:off x="1371240" y="3972240"/>
              <a:ext cx="610560" cy="1281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7"/>
            <p:cNvSpPr/>
            <p:nvPr/>
          </p:nvSpPr>
          <p:spPr>
            <a:xfrm>
              <a:off x="1853280" y="3124080"/>
              <a:ext cx="285120" cy="8726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8"/>
            <p:cNvSpPr/>
            <p:nvPr/>
          </p:nvSpPr>
          <p:spPr>
            <a:xfrm>
              <a:off x="1324080" y="3834000"/>
              <a:ext cx="544320" cy="860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9"/>
            <p:cNvSpPr/>
            <p:nvPr/>
          </p:nvSpPr>
          <p:spPr>
            <a:xfrm>
              <a:off x="1143720" y="3028680"/>
              <a:ext cx="840240" cy="7545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0"/>
            <p:cNvSpPr/>
            <p:nvPr/>
          </p:nvSpPr>
          <p:spPr>
            <a:xfrm>
              <a:off x="1795680" y="4159800"/>
              <a:ext cx="360360" cy="12600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1"/>
            <p:cNvSpPr/>
            <p:nvPr/>
          </p:nvSpPr>
          <p:spPr>
            <a:xfrm>
              <a:off x="1933560" y="4218480"/>
              <a:ext cx="175320" cy="7668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2"/>
            <p:cNvSpPr/>
            <p:nvPr/>
          </p:nvSpPr>
          <p:spPr>
            <a:xfrm>
              <a:off x="776160" y="4501800"/>
              <a:ext cx="1461240" cy="8928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3"/>
            <p:cNvSpPr/>
            <p:nvPr/>
          </p:nvSpPr>
          <p:spPr>
            <a:xfrm>
              <a:off x="1062360" y="4066560"/>
              <a:ext cx="11570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4"/>
            <p:cNvSpPr/>
            <p:nvPr/>
          </p:nvSpPr>
          <p:spPr>
            <a:xfrm>
              <a:off x="2158560" y="4077000"/>
              <a:ext cx="73080" cy="33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5"/>
            <p:cNvSpPr/>
            <p:nvPr/>
          </p:nvSpPr>
          <p:spPr>
            <a:xfrm>
              <a:off x="1786320" y="4169160"/>
              <a:ext cx="3276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6"/>
            <p:cNvSpPr/>
            <p:nvPr/>
          </p:nvSpPr>
          <p:spPr>
            <a:xfrm>
              <a:off x="1798920" y="4152600"/>
              <a:ext cx="36288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7"/>
            <p:cNvSpPr/>
            <p:nvPr/>
          </p:nvSpPr>
          <p:spPr>
            <a:xfrm>
              <a:off x="1925280" y="4215240"/>
              <a:ext cx="20484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8"/>
            <p:cNvSpPr/>
            <p:nvPr/>
          </p:nvSpPr>
          <p:spPr>
            <a:xfrm>
              <a:off x="990360" y="4249440"/>
              <a:ext cx="110664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>
              <a:off x="825480" y="4475880"/>
              <a:ext cx="100872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0"/>
            <p:cNvSpPr/>
            <p:nvPr/>
          </p:nvSpPr>
          <p:spPr>
            <a:xfrm>
              <a:off x="2127960" y="4312080"/>
              <a:ext cx="133200" cy="19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1"/>
            <p:cNvSpPr/>
            <p:nvPr/>
          </p:nvSpPr>
          <p:spPr>
            <a:xfrm>
              <a:off x="2189160" y="4520520"/>
              <a:ext cx="7776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2"/>
            <p:cNvSpPr/>
            <p:nvPr/>
          </p:nvSpPr>
          <p:spPr>
            <a:xfrm>
              <a:off x="799560" y="4547880"/>
              <a:ext cx="14140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3"/>
            <p:cNvSpPr/>
            <p:nvPr/>
          </p:nvSpPr>
          <p:spPr>
            <a:xfrm>
              <a:off x="1065960" y="4321440"/>
              <a:ext cx="75312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4"/>
            <p:cNvSpPr/>
            <p:nvPr/>
          </p:nvSpPr>
          <p:spPr>
            <a:xfrm>
              <a:off x="1028160" y="4389840"/>
              <a:ext cx="54792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5"/>
            <p:cNvSpPr/>
            <p:nvPr/>
          </p:nvSpPr>
          <p:spPr>
            <a:xfrm>
              <a:off x="1926360" y="4373280"/>
              <a:ext cx="164880" cy="3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6"/>
            <p:cNvSpPr/>
            <p:nvPr/>
          </p:nvSpPr>
          <p:spPr>
            <a:xfrm>
              <a:off x="1964160" y="4414320"/>
              <a:ext cx="16704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7"/>
            <p:cNvSpPr/>
            <p:nvPr/>
          </p:nvSpPr>
          <p:spPr>
            <a:xfrm>
              <a:off x="1977120" y="4460400"/>
              <a:ext cx="194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8"/>
            <p:cNvSpPr/>
            <p:nvPr/>
          </p:nvSpPr>
          <p:spPr>
            <a:xfrm>
              <a:off x="1038960" y="2895480"/>
              <a:ext cx="1028880" cy="27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9"/>
            <p:cNvSpPr/>
            <p:nvPr/>
          </p:nvSpPr>
          <p:spPr>
            <a:xfrm>
              <a:off x="2104200" y="2916360"/>
              <a:ext cx="105840" cy="15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0"/>
            <p:cNvSpPr/>
            <p:nvPr/>
          </p:nvSpPr>
          <p:spPr>
            <a:xfrm>
              <a:off x="2033640" y="3047400"/>
              <a:ext cx="1789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1"/>
            <p:cNvSpPr/>
            <p:nvPr/>
          </p:nvSpPr>
          <p:spPr>
            <a:xfrm>
              <a:off x="1986480" y="2976480"/>
              <a:ext cx="114120" cy="81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2"/>
            <p:cNvSpPr/>
            <p:nvPr/>
          </p:nvSpPr>
          <p:spPr>
            <a:xfrm>
              <a:off x="1037520" y="3187800"/>
              <a:ext cx="199080" cy="75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53"/>
            <p:cNvSpPr/>
            <p:nvPr/>
          </p:nvSpPr>
          <p:spPr>
            <a:xfrm>
              <a:off x="1255680" y="3949560"/>
              <a:ext cx="64836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54"/>
            <p:cNvSpPr/>
            <p:nvPr/>
          </p:nvSpPr>
          <p:spPr>
            <a:xfrm>
              <a:off x="1917000" y="3950640"/>
              <a:ext cx="12348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5"/>
            <p:cNvSpPr/>
            <p:nvPr/>
          </p:nvSpPr>
          <p:spPr>
            <a:xfrm>
              <a:off x="1321560" y="3958200"/>
              <a:ext cx="97560" cy="1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56"/>
            <p:cNvSpPr/>
            <p:nvPr/>
          </p:nvSpPr>
          <p:spPr>
            <a:xfrm>
              <a:off x="1265400" y="4077000"/>
              <a:ext cx="4680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57"/>
            <p:cNvSpPr/>
            <p:nvPr/>
          </p:nvSpPr>
          <p:spPr>
            <a:xfrm>
              <a:off x="1805040" y="3955680"/>
              <a:ext cx="143640" cy="8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58"/>
            <p:cNvSpPr/>
            <p:nvPr/>
          </p:nvSpPr>
          <p:spPr>
            <a:xfrm>
              <a:off x="1968840" y="4018320"/>
              <a:ext cx="223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59"/>
            <p:cNvSpPr/>
            <p:nvPr/>
          </p:nvSpPr>
          <p:spPr>
            <a:xfrm>
              <a:off x="1308960" y="3862440"/>
              <a:ext cx="3024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0"/>
            <p:cNvSpPr/>
            <p:nvPr/>
          </p:nvSpPr>
          <p:spPr>
            <a:xfrm>
              <a:off x="1311120" y="3823560"/>
              <a:ext cx="5727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1"/>
            <p:cNvSpPr/>
            <p:nvPr/>
          </p:nvSpPr>
          <p:spPr>
            <a:xfrm>
              <a:off x="1867320" y="3825720"/>
              <a:ext cx="2088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2"/>
            <p:cNvSpPr/>
            <p:nvPr/>
          </p:nvSpPr>
          <p:spPr>
            <a:xfrm>
              <a:off x="1749600" y="3854160"/>
              <a:ext cx="208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3"/>
            <p:cNvSpPr/>
            <p:nvPr/>
          </p:nvSpPr>
          <p:spPr>
            <a:xfrm>
              <a:off x="1642320" y="3853080"/>
              <a:ext cx="2592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4"/>
            <p:cNvSpPr/>
            <p:nvPr/>
          </p:nvSpPr>
          <p:spPr>
            <a:xfrm>
              <a:off x="1518480" y="3849480"/>
              <a:ext cx="244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5"/>
            <p:cNvSpPr/>
            <p:nvPr/>
          </p:nvSpPr>
          <p:spPr>
            <a:xfrm>
              <a:off x="1411200" y="3855240"/>
              <a:ext cx="2592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6"/>
            <p:cNvSpPr/>
            <p:nvPr/>
          </p:nvSpPr>
          <p:spPr>
            <a:xfrm>
              <a:off x="1724760" y="3083760"/>
              <a:ext cx="207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7"/>
            <p:cNvSpPr/>
            <p:nvPr/>
          </p:nvSpPr>
          <p:spPr>
            <a:xfrm>
              <a:off x="1153080" y="3342240"/>
              <a:ext cx="165960" cy="44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8"/>
            <p:cNvSpPr/>
            <p:nvPr/>
          </p:nvSpPr>
          <p:spPr>
            <a:xfrm>
              <a:off x="1315800" y="3727080"/>
              <a:ext cx="5882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9"/>
            <p:cNvSpPr/>
            <p:nvPr/>
          </p:nvSpPr>
          <p:spPr>
            <a:xfrm>
              <a:off x="1866240" y="3061800"/>
              <a:ext cx="122400" cy="69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0"/>
            <p:cNvSpPr/>
            <p:nvPr/>
          </p:nvSpPr>
          <p:spPr>
            <a:xfrm>
              <a:off x="762120" y="4488840"/>
              <a:ext cx="6120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1"/>
            <p:cNvSpPr/>
            <p:nvPr/>
          </p:nvSpPr>
          <p:spPr>
            <a:xfrm>
              <a:off x="1152000" y="3055680"/>
              <a:ext cx="804960" cy="21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72"/>
            <p:cNvSpPr/>
            <p:nvPr/>
          </p:nvSpPr>
          <p:spPr>
            <a:xfrm>
              <a:off x="1205280" y="3116880"/>
              <a:ext cx="32868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3"/>
            <p:cNvSpPr/>
            <p:nvPr/>
          </p:nvSpPr>
          <p:spPr>
            <a:xfrm>
              <a:off x="1054080" y="4140720"/>
              <a:ext cx="2916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AutoShape 76"/>
          <p:cNvSpPr/>
          <p:nvPr/>
        </p:nvSpPr>
        <p:spPr>
          <a:xfrm>
            <a:off x="2438280" y="3124080"/>
            <a:ext cx="703440" cy="7621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7"/>
          <p:cNvSpPr/>
          <p:nvPr/>
        </p:nvSpPr>
        <p:spPr>
          <a:xfrm>
            <a:off x="11430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6037E-006 C 0.00174 -0.06326 0.06129 -0.15666 0.1441 -0.18354 C 0.22691 -0.21043 0.41563 -0.20625 0.49671 -0.16106 C 0.57778 -0.11587 0.64462 0.0146 0.63056 0.0883 C 0.6165 0.162 0.4948 0.26258 0.41198 0.28065 C 0.32917 0.29873 0.20209 0.24427 0.13403 0.19676 C 0.06598 0.14925 -0.00815 0.06999 -4.72222E-006 -3.36037E-006 Z">
                                      <p:cBhvr>
                                        <p:cTn id="160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 Topological Quantum Field Theories (TQFT’s)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33240" y="2922480"/>
            <a:ext cx="787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reedman, Kitaev, Wang 200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ivalent to ordinary quantum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5760" y="380880"/>
            <a:ext cx="856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3. Nonlinear variants of the Schr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dinger Equation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276120" y="1728720"/>
            <a:ext cx="861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brams &amp; Lloyd 1998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quantum mechanics were nonlinear, one could exploit that to solve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-495360" y="6041880"/>
            <a:ext cx="4733280" cy="355320"/>
            <a:chOff x="-495360" y="6041880"/>
            <a:chExt cx="4733280" cy="355320"/>
          </a:xfrm>
        </p:grpSpPr>
        <p:sp>
          <p:nvSpPr>
            <p:cNvPr id="332" name="Line 7"/>
            <p:cNvSpPr/>
            <p:nvPr/>
          </p:nvSpPr>
          <p:spPr>
            <a:xfrm>
              <a:off x="1871280" y="616032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8"/>
            <p:cNvSpPr/>
            <p:nvPr/>
          </p:nvSpPr>
          <p:spPr>
            <a:xfrm>
              <a:off x="-495360" y="604188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-490320" y="5929920"/>
            <a:ext cx="4722480" cy="696240"/>
            <a:chOff x="-490320" y="5929920"/>
            <a:chExt cx="4722480" cy="696240"/>
          </a:xfrm>
        </p:grpSpPr>
        <p:sp>
          <p:nvSpPr>
            <p:cNvPr id="335" name="Line 10"/>
            <p:cNvSpPr/>
            <p:nvPr/>
          </p:nvSpPr>
          <p:spPr>
            <a:xfrm flipV="1">
              <a:off x="1876680" y="592992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1"/>
            <p:cNvSpPr/>
            <p:nvPr/>
          </p:nvSpPr>
          <p:spPr>
            <a:xfrm rot="21263400">
              <a:off x="-478440" y="615600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2"/>
          <p:cNvSpPr/>
          <p:nvPr/>
        </p:nvSpPr>
        <p:spPr>
          <a:xfrm>
            <a:off x="4224240" y="599112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4208400" y="5667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7"/>
          <p:cNvGrpSpPr/>
          <p:nvPr/>
        </p:nvGrpSpPr>
        <p:grpSpPr>
          <a:xfrm>
            <a:off x="1267200" y="1296360"/>
            <a:ext cx="6704640" cy="5738040"/>
            <a:chOff x="1267200" y="1296360"/>
            <a:chExt cx="6704640" cy="5738040"/>
          </a:xfrm>
        </p:grpSpPr>
        <p:sp>
          <p:nvSpPr>
            <p:cNvPr id="340" name="AutoShape 14"/>
            <p:cNvSpPr/>
            <p:nvPr/>
          </p:nvSpPr>
          <p:spPr>
            <a:xfrm rot="799800">
              <a:off x="1709640" y="1906200"/>
              <a:ext cx="5819760" cy="4518000"/>
            </a:xfrm>
            <a:prstGeom prst="irregularSeal2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2778120" y="3336840"/>
              <a:ext cx="3121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Can take as an additional argument for why QM is line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18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457200" y="3429000"/>
            <a:ext cx="8013240" cy="469800"/>
            <a:chOff x="457200" y="3429000"/>
            <a:chExt cx="8013240" cy="469800"/>
          </a:xfrm>
        </p:grpSpPr>
        <p:sp>
          <p:nvSpPr>
            <p:cNvPr id="343" name="AutoShape 9"/>
            <p:cNvSpPr/>
            <p:nvPr/>
          </p:nvSpPr>
          <p:spPr>
            <a:xfrm>
              <a:off x="45720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38"/>
            <p:cNvSpPr/>
            <p:nvPr/>
          </p:nvSpPr>
          <p:spPr>
            <a:xfrm>
              <a:off x="1142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39"/>
            <p:cNvSpPr/>
            <p:nvPr/>
          </p:nvSpPr>
          <p:spPr>
            <a:xfrm>
              <a:off x="18284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40"/>
            <p:cNvSpPr/>
            <p:nvPr/>
          </p:nvSpPr>
          <p:spPr>
            <a:xfrm>
              <a:off x="25142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42"/>
            <p:cNvSpPr/>
            <p:nvPr/>
          </p:nvSpPr>
          <p:spPr>
            <a:xfrm>
              <a:off x="38858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43"/>
            <p:cNvSpPr/>
            <p:nvPr/>
          </p:nvSpPr>
          <p:spPr>
            <a:xfrm>
              <a:off x="4571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44"/>
            <p:cNvSpPr/>
            <p:nvPr/>
          </p:nvSpPr>
          <p:spPr>
            <a:xfrm>
              <a:off x="52574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45"/>
            <p:cNvSpPr/>
            <p:nvPr/>
          </p:nvSpPr>
          <p:spPr>
            <a:xfrm>
              <a:off x="59432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6"/>
            <p:cNvSpPr/>
            <p:nvPr/>
          </p:nvSpPr>
          <p:spPr>
            <a:xfrm>
              <a:off x="66290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47"/>
            <p:cNvSpPr/>
            <p:nvPr/>
          </p:nvSpPr>
          <p:spPr>
            <a:xfrm>
              <a:off x="73148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48"/>
            <p:cNvSpPr/>
            <p:nvPr/>
          </p:nvSpPr>
          <p:spPr>
            <a:xfrm>
              <a:off x="8000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 Anthropic Principl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121932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lproof way to solv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 problems in polynomial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 least in the Many-Worlds Interpret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guess a random solution.  Then, if it’s wrong, kill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808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echnical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solutions, you’d seem to be out of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80880" y="53578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tiny probability don’t do anything.  Then, if you find yourself in a universe where you didn’t do anything, there probab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solutions, since otherwise you would’ve foun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41"/>
          <p:cNvSpPr/>
          <p:nvPr/>
        </p:nvSpPr>
        <p:spPr>
          <a:xfrm>
            <a:off x="3200400" y="3429000"/>
            <a:ext cx="469800" cy="469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2160" y="396360"/>
            <a:ext cx="815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f w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mbin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quantum computing with the Anthropic Principle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60948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.e. perform a polynomial-time quantum computation, but where we can measure a qubit and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ssu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outcome will be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s to a new complexity class:</a:t>
            </a:r>
            <a:br>
              <a:rPr sz="3000"/>
            </a:b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Postselected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3520" y="480060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 2005: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and this yields a 1-page proof of the Beigel-Reingold-Spielman theorem, that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closed under inter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344520" y="13302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veryone’s first idea for a time travel comput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an arbitrarily long computation, then send the answer back in time to before you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44520" y="293040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THIS DOES NOT WOR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44520" y="4149720"/>
            <a:ext cx="830592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nores the Grandfather Parad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n’t take into account the computation you’ll have to do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tting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5754600" y="3921120"/>
            <a:ext cx="1524240" cy="14860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4160" y="274320"/>
            <a:ext cx="853452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5. Time Trav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ings we never see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Picture 23" descr=""/>
          <p:cNvPicPr/>
          <p:nvPr/>
        </p:nvPicPr>
        <p:blipFill>
          <a:blip r:embed="rId1"/>
          <a:srcRect l="12600" t="26748" r="18900" b="17832"/>
          <a:stretch/>
        </p:blipFill>
        <p:spPr>
          <a:xfrm>
            <a:off x="271440" y="1563840"/>
            <a:ext cx="2611440" cy="1493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4"/>
          <p:cNvSpPr/>
          <p:nvPr/>
        </p:nvSpPr>
        <p:spPr>
          <a:xfrm>
            <a:off x="331920" y="3392640"/>
            <a:ext cx="24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arp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2"/>
          <a:stretch/>
        </p:blipFill>
        <p:spPr>
          <a:xfrm>
            <a:off x="3490920" y="1455840"/>
            <a:ext cx="1839960" cy="1839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7"/>
          <p:cNvSpPr/>
          <p:nvPr/>
        </p:nvSpPr>
        <p:spPr>
          <a:xfrm>
            <a:off x="2884320" y="3419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petuum 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2"/>
          <p:cNvGrpSpPr/>
          <p:nvPr/>
        </p:nvGrpSpPr>
        <p:grpSpPr>
          <a:xfrm>
            <a:off x="5983200" y="1211400"/>
            <a:ext cx="3000240" cy="2133000"/>
            <a:chOff x="5983200" y="1211400"/>
            <a:chExt cx="3000240" cy="2133000"/>
          </a:xfrm>
        </p:grpSpPr>
        <p:sp>
          <p:nvSpPr>
            <p:cNvPr id="68" name="Rectangle 31"/>
            <p:cNvSpPr/>
            <p:nvPr/>
          </p:nvSpPr>
          <p:spPr>
            <a:xfrm>
              <a:off x="6286320" y="1211400"/>
              <a:ext cx="2389320" cy="1738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28"/>
            <p:cNvSpPr/>
            <p:nvPr/>
          </p:nvSpPr>
          <p:spPr>
            <a:xfrm flipV="1">
              <a:off x="5983200" y="2960640"/>
              <a:ext cx="3000240" cy="3837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9"/>
            <p:cNvSpPr/>
            <p:nvPr/>
          </p:nvSpPr>
          <p:spPr>
            <a:xfrm>
              <a:off x="6411600" y="1325520"/>
              <a:ext cx="2160720" cy="1531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0"/>
            <p:cNvSpPr/>
            <p:nvPr/>
          </p:nvSpPr>
          <p:spPr>
            <a:xfrm>
              <a:off x="6446520" y="1371600"/>
              <a:ext cx="233208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cc"/>
                  </a:solidFill>
                  <a:latin typeface="Courier New"/>
                </a:rPr>
                <a:t>GOLDBACH CONJECTURE: 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cc"/>
                  </a:solidFill>
                  <a:latin typeface="Courier New"/>
                </a:rPr>
                <a:t>NEXT QU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33"/>
          <p:cNvSpPr/>
          <p:nvPr/>
        </p:nvSpPr>
        <p:spPr>
          <a:xfrm>
            <a:off x="5931000" y="3411360"/>
            <a:ext cx="30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r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146240" y="4208400"/>
            <a:ext cx="6973920" cy="9471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 does the absence of these devices have any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scientif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mpor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 rot="20769000">
            <a:off x="921240" y="3040560"/>
            <a:ext cx="1303200" cy="703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 rot="20769000">
            <a:off x="4296240" y="2975400"/>
            <a:ext cx="1303200" cy="703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7"/>
          <p:cNvSpPr/>
          <p:nvPr/>
        </p:nvSpPr>
        <p:spPr>
          <a:xfrm>
            <a:off x="380880" y="5334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Goal of talk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lain why the impossibilit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rcomputers is a great question for 21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-century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9" descr="C:\Users\od user\AppData\Local\Microsoft\Windows\Temporary Internet Files\Content.IE5\N7YD4WXK\MPj04388100000[1].jpg"/>
          <p:cNvPicPr/>
          <p:nvPr/>
        </p:nvPicPr>
        <p:blipFill>
          <a:blip r:embed="rId3"/>
          <a:stretch/>
        </p:blipFill>
        <p:spPr>
          <a:xfrm>
            <a:off x="6172200" y="1295280"/>
            <a:ext cx="2666880" cy="2005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7"/>
          <p:cNvSpPr/>
          <p:nvPr/>
        </p:nvSpPr>
        <p:spPr>
          <a:xfrm>
            <a:off x="5977080" y="342900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$3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utsch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80880" y="1371600"/>
            <a:ext cx="83822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losed timelike curve (CTC) is a computational resource that, given an efficiently computable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mmediately find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ixed poi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f—that is, an x such that f(x)=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ttedly, not every f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fixed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re’s alway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istrib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 such that f(D)=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62240" y="4572000"/>
            <a:ext cx="8346240" cy="1677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robabilistic Resolution of the Grandfather Paradox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You’re born with ½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’re born, you back and kill your grandfat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ence you’re born with ½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304920" y="1676520"/>
            <a:ext cx="853416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polynomial time, if for any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d by a poly-size circuit, we can immediately get an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=x for some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hat if we perform 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quantum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computation around a CT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80880" y="1676520"/>
            <a:ext cx="83822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quantum polynomial time, if for any superoperator E described by a quantum circuit, we can immediately get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E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80880" y="3581280"/>
            <a:ext cx="8382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304920" y="4648320"/>
            <a:ext cx="8534160" cy="1862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, Watrous 2008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closed timelike curves exist, then quantum computers are no more powerful than classica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523880" y="2286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7"/>
          <p:cNvSpPr/>
          <p:nvPr/>
        </p:nvSpPr>
        <p:spPr>
          <a:xfrm>
            <a:off x="2438280" y="876312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irst question: What is time in quantum gravity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304920" y="114300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 problems intractable in the physical universe?  I conjecture that they are, but fully understanding why will bring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Math and computer science (duh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stion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Quantum mechanic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s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Other physic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field theory, quantum gravity, closed timelike curv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iology, cognitive science, economic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838080" y="3048120"/>
            <a:ext cx="7620120" cy="1677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edic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“NP Hardness Assumption” will eventually be seen as analogous to Second Law of Thermodynamics or the impossibility of superluminal sign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6"/>
          <p:cNvSpPr/>
          <p:nvPr/>
        </p:nvSpPr>
        <p:spPr>
          <a:xfrm>
            <a:off x="1676520" y="5715000"/>
            <a:ext cx="6095880" cy="885960"/>
          </a:xfrm>
          <a:prstGeom prst="rect">
            <a:avLst/>
          </a:prstGeom>
          <a:solidFill>
            <a:srgbClr val="ffe6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Open Ques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is “polynomial time” in quantum grav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9"/>
          <p:cNvGrpSpPr/>
          <p:nvPr/>
        </p:nvGrpSpPr>
        <p:grpSpPr>
          <a:xfrm>
            <a:off x="0" y="0"/>
            <a:ext cx="9216720" cy="6171840"/>
            <a:chOff x="0" y="0"/>
            <a:chExt cx="9216720" cy="6171840"/>
          </a:xfrm>
        </p:grpSpPr>
        <p:pic>
          <p:nvPicPr>
            <p:cNvPr id="382" name="Picture 50" descr=""/>
            <p:cNvPicPr/>
            <p:nvPr/>
          </p:nvPicPr>
          <p:blipFill>
            <a:blip r:embed="rId1"/>
            <a:stretch/>
          </p:blipFill>
          <p:spPr>
            <a:xfrm>
              <a:off x="0" y="30600"/>
              <a:ext cx="4654440" cy="61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51" descr=""/>
            <p:cNvPicPr/>
            <p:nvPr/>
          </p:nvPicPr>
          <p:blipFill>
            <a:blip r:embed="rId2"/>
            <a:stretch/>
          </p:blipFill>
          <p:spPr>
            <a:xfrm>
              <a:off x="4562280" y="0"/>
              <a:ext cx="4654440" cy="617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Text Box 52"/>
          <p:cNvSpPr/>
          <p:nvPr/>
        </p:nvSpPr>
        <p:spPr>
          <a:xfrm>
            <a:off x="1600200" y="22860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0000"/>
                </a:solidFill>
                <a:latin typeface="Calibri"/>
              </a:rPr>
              <a:t>Scientific American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, March 2008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380880" y="5886360"/>
            <a:ext cx="8534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ww.scottaaronson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88800" y="1363680"/>
            <a:ext cx="8202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Given a graph, is it connect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icular graph is a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instance, n, is the number of bits needed to specif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lynomial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uses at most k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, for some constants k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lass of all problems that have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S Theory 10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: Nondeterministic Polynomial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25146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80880" y="1752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905120" y="5334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prime factor ending in 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hard: If you can solve it, you can solve everything in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complete: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hard and in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 flipH="1">
            <a:off x="2514240" y="44956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 flipH="1">
            <a:off x="2514240" y="327672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990720" y="434340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 flipV="1">
            <a:off x="2819520" y="56383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990720" y="43434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2819520" y="44956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990720" y="33526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743200" y="32767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259092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1066680" y="457200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2590920" y="57913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2362320" y="44197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4343400" y="434340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4495680" y="5410080"/>
            <a:ext cx="38124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838080" y="55627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364000" y="315108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Hamilton cycle (tour that visits each vertex exactly once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990360" y="3336480"/>
            <a:ext cx="3780000" cy="2691360"/>
            <a:chOff x="990360" y="3336480"/>
            <a:chExt cx="3780000" cy="2691360"/>
          </a:xfrm>
        </p:grpSpPr>
        <p:sp>
          <p:nvSpPr>
            <p:cNvPr id="106" name="Line 26"/>
            <p:cNvSpPr/>
            <p:nvPr/>
          </p:nvSpPr>
          <p:spPr>
            <a:xfrm flipH="1" flipV="1">
              <a:off x="990360" y="4336920"/>
              <a:ext cx="68040" cy="13939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V="1">
              <a:off x="1050840" y="4571640"/>
              <a:ext cx="1540080" cy="1157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8"/>
            <p:cNvSpPr/>
            <p:nvPr/>
          </p:nvSpPr>
          <p:spPr>
            <a:xfrm>
              <a:off x="2590920" y="4578480"/>
              <a:ext cx="2179440" cy="1044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9"/>
            <p:cNvSpPr/>
            <p:nvPr/>
          </p:nvSpPr>
          <p:spPr>
            <a:xfrm flipH="1">
              <a:off x="2803320" y="5632560"/>
              <a:ext cx="1958760" cy="3952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0"/>
            <p:cNvSpPr/>
            <p:nvPr/>
          </p:nvSpPr>
          <p:spPr>
            <a:xfrm flipV="1">
              <a:off x="2803680" y="4503600"/>
              <a:ext cx="1768320" cy="152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1"/>
            <p:cNvSpPr/>
            <p:nvPr/>
          </p:nvSpPr>
          <p:spPr>
            <a:xfrm flipH="1" flipV="1">
              <a:off x="2827440" y="3336480"/>
              <a:ext cx="1744560" cy="1174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2"/>
            <p:cNvSpPr/>
            <p:nvPr/>
          </p:nvSpPr>
          <p:spPr>
            <a:xfrm flipV="1">
              <a:off x="998640" y="3344760"/>
              <a:ext cx="1828800" cy="9986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5"/>
          <p:cNvSpPr/>
          <p:nvPr/>
        </p:nvSpPr>
        <p:spPr>
          <a:xfrm>
            <a:off x="2922480" y="1295280"/>
            <a:ext cx="3005280" cy="5181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3478320" y="5181480"/>
            <a:ext cx="196524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1446120" y="0"/>
            <a:ext cx="5867640" cy="2819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037040" y="5410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80844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351240" y="1295280"/>
            <a:ext cx="2209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cc"/>
                </a:solidFill>
                <a:latin typeface="Arial"/>
              </a:rPr>
              <a:t>NP-comple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12264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-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4"/>
          <p:cNvGrpSpPr/>
          <p:nvPr/>
        </p:nvGrpSpPr>
        <p:grpSpPr>
          <a:xfrm>
            <a:off x="168120" y="4573440"/>
            <a:ext cx="3811680" cy="1922760"/>
            <a:chOff x="168120" y="4573440"/>
            <a:chExt cx="3811680" cy="1922760"/>
          </a:xfrm>
        </p:grpSpPr>
        <p:sp>
          <p:nvSpPr>
            <p:cNvPr id="121" name="Line 12"/>
            <p:cNvSpPr/>
            <p:nvPr/>
          </p:nvSpPr>
          <p:spPr>
            <a:xfrm>
              <a:off x="2909880" y="5357880"/>
              <a:ext cx="10699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68120" y="4573440"/>
              <a:ext cx="2986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connectiv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mality tes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determina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ar programm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6022800" y="860040"/>
            <a:ext cx="3121200" cy="1874160"/>
            <a:chOff x="6022800" y="860040"/>
            <a:chExt cx="3121200" cy="1874160"/>
          </a:xfrm>
        </p:grpSpPr>
        <p:sp>
          <p:nvSpPr>
            <p:cNvPr id="124" name="Line 14"/>
            <p:cNvSpPr/>
            <p:nvPr/>
          </p:nvSpPr>
          <p:spPr>
            <a:xfrm flipH="1" flipV="1">
              <a:off x="6022800" y="860040"/>
              <a:ext cx="100512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6157800" y="154296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permane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ting proble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3"/>
          <p:cNvGrpSpPr/>
          <p:nvPr/>
        </p:nvGrpSpPr>
        <p:grpSpPr>
          <a:xfrm>
            <a:off x="179280" y="1260360"/>
            <a:ext cx="3592800" cy="2288520"/>
            <a:chOff x="179280" y="1260360"/>
            <a:chExt cx="3592800" cy="2288520"/>
          </a:xfrm>
        </p:grpSpPr>
        <p:sp>
          <p:nvSpPr>
            <p:cNvPr id="127" name="Line 16"/>
            <p:cNvSpPr/>
            <p:nvPr/>
          </p:nvSpPr>
          <p:spPr>
            <a:xfrm flipV="1">
              <a:off x="2459160" y="1827360"/>
              <a:ext cx="1312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79280" y="1260360"/>
              <a:ext cx="2870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milton cyc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iner tre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3-col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isfiabil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imum cliqu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1"/>
          <p:cNvGrpSpPr/>
          <p:nvPr/>
        </p:nvGrpSpPr>
        <p:grpSpPr>
          <a:xfrm>
            <a:off x="5209920" y="3227400"/>
            <a:ext cx="3934080" cy="1191240"/>
            <a:chOff x="5209920" y="3227400"/>
            <a:chExt cx="3934080" cy="1191240"/>
          </a:xfrm>
        </p:grpSpPr>
        <p:sp>
          <p:nvSpPr>
            <p:cNvPr id="130" name="Line 18"/>
            <p:cNvSpPr/>
            <p:nvPr/>
          </p:nvSpPr>
          <p:spPr>
            <a:xfrm flipH="1">
              <a:off x="5209920" y="3693960"/>
              <a:ext cx="96516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9"/>
            <p:cNvSpPr/>
            <p:nvPr/>
          </p:nvSpPr>
          <p:spPr>
            <a:xfrm>
              <a:off x="6157800" y="322740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isomorphis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3204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Does </a:t>
            </a:r>
            <a:r>
              <a:rPr b="1" lang="en-US" sz="90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9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1" lang="en-US" sz="9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79520" y="14176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(literally) $1,000,000 ques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39840" y="4253040"/>
            <a:ext cx="880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: What if 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and the algorithm takes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tep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65040" y="4884840"/>
            <a:ext cx="631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: Then we’d just change the question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52440" y="54072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: Why is it so hard to prove 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65040" y="6073920"/>
            <a:ext cx="862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: Because polynomial-time algorithms are so ri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0501" t="7296" r="26252" b="0"/>
          <a:stretch/>
        </p:blipFill>
        <p:spPr>
          <a:xfrm>
            <a:off x="2330280" y="2209680"/>
            <a:ext cx="195120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Oval 14"/>
          <p:cNvSpPr/>
          <p:nvPr/>
        </p:nvSpPr>
        <p:spPr>
          <a:xfrm>
            <a:off x="2514600" y="3200400"/>
            <a:ext cx="685800" cy="533520"/>
          </a:xfrm>
          <a:prstGeom prst="ellipse">
            <a:avLst/>
          </a:prstGeom>
          <a:solidFill>
            <a:srgbClr val="ffff00">
              <a:alpha val="26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4419720" y="3581280"/>
            <a:ext cx="761760" cy="381240"/>
          </a:xfrm>
          <a:prstGeom prst="ellipse">
            <a:avLst/>
          </a:prstGeom>
          <a:solidFill>
            <a:srgbClr val="ffff00">
              <a:alpha val="26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What about quantum computers?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04920" y="2133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hor 199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integer 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shor"/>
          <p:cNvPicPr/>
          <p:nvPr/>
        </p:nvPicPr>
        <p:blipFill>
          <a:blip r:embed="rId1"/>
          <a:srcRect l="0" t="0" r="0" b="15999"/>
          <a:stretch/>
        </p:blipFill>
        <p:spPr>
          <a:xfrm>
            <a:off x="7391520" y="1981080"/>
            <a:ext cx="715680" cy="901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304920" y="290844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actoring isn’t believed to b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question remain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n quantum computers solve </a:t>
            </a:r>
            <a:r>
              <a:rPr b="1" i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complete problems efficient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04920" y="42670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Quantum magic” won’t be en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8"/>
          <p:cNvGrpSpPr/>
          <p:nvPr/>
        </p:nvGrpSpPr>
        <p:grpSpPr>
          <a:xfrm>
            <a:off x="517680" y="4916520"/>
            <a:ext cx="8229600" cy="304920"/>
            <a:chOff x="517680" y="4916520"/>
            <a:chExt cx="8229600" cy="304920"/>
          </a:xfrm>
        </p:grpSpPr>
        <p:sp>
          <p:nvSpPr>
            <p:cNvPr id="148" name="Rectangle 11"/>
            <p:cNvSpPr/>
            <p:nvPr/>
          </p:nvSpPr>
          <p:spPr>
            <a:xfrm>
              <a:off x="5176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8222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11271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14320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17366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20415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23464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26510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29559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32608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3565440" y="4916520"/>
              <a:ext cx="304920" cy="3049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38703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>
              <a:off x="41752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44798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47847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50896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53942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56991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60040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0"/>
            <p:cNvSpPr/>
            <p:nvPr/>
          </p:nvSpPr>
          <p:spPr>
            <a:xfrm>
              <a:off x="63086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1"/>
            <p:cNvSpPr/>
            <p:nvPr/>
          </p:nvSpPr>
          <p:spPr>
            <a:xfrm>
              <a:off x="66135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69184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3"/>
            <p:cNvSpPr/>
            <p:nvPr/>
          </p:nvSpPr>
          <p:spPr>
            <a:xfrm>
              <a:off x="72230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4"/>
            <p:cNvSpPr/>
            <p:nvPr/>
          </p:nvSpPr>
          <p:spPr>
            <a:xfrm>
              <a:off x="75279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5"/>
            <p:cNvSpPr/>
            <p:nvPr/>
          </p:nvSpPr>
          <p:spPr>
            <a:xfrm>
              <a:off x="78328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6"/>
            <p:cNvSpPr/>
            <p:nvPr/>
          </p:nvSpPr>
          <p:spPr>
            <a:xfrm>
              <a:off x="81374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7"/>
            <p:cNvSpPr/>
            <p:nvPr/>
          </p:nvSpPr>
          <p:spPr>
            <a:xfrm>
              <a:off x="84423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9"/>
          <p:cNvSpPr/>
          <p:nvPr/>
        </p:nvSpPr>
        <p:spPr>
          <a:xfrm>
            <a:off x="304920" y="541008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throw away the problem structure, and just consider a “landscape” of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solutions, even a quantum computer need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eps to find a correct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2"/>
          <p:cNvGrpSpPr/>
          <p:nvPr/>
        </p:nvGrpSpPr>
        <p:grpSpPr>
          <a:xfrm>
            <a:off x="382680" y="151920"/>
            <a:ext cx="836640" cy="1067040"/>
            <a:chOff x="382680" y="151920"/>
            <a:chExt cx="836640" cy="1067040"/>
          </a:xfrm>
        </p:grpSpPr>
        <p:sp>
          <p:nvSpPr>
            <p:cNvPr id="177" name="Line 43"/>
            <p:cNvSpPr/>
            <p:nvPr/>
          </p:nvSpPr>
          <p:spPr>
            <a:xfrm flipV="1">
              <a:off x="567720" y="175680"/>
              <a:ext cx="444960" cy="10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44" descr="MCDD01775_0000[1]"/>
            <p:cNvPicPr/>
            <p:nvPr/>
          </p:nvPicPr>
          <p:blipFill>
            <a:blip r:embed="rId2"/>
            <a:stretch/>
          </p:blipFill>
          <p:spPr>
            <a:xfrm>
              <a:off x="382680" y="175680"/>
              <a:ext cx="836640" cy="8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AutoShape 45"/>
            <p:cNvSpPr/>
            <p:nvPr/>
          </p:nvSpPr>
          <p:spPr>
            <a:xfrm rot="16200000">
              <a:off x="677160" y="53028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6"/>
            <p:cNvGrpSpPr/>
            <p:nvPr/>
          </p:nvGrpSpPr>
          <p:grpSpPr>
            <a:xfrm>
              <a:off x="452160" y="338400"/>
              <a:ext cx="348840" cy="273960"/>
              <a:chOff x="452160" y="338400"/>
              <a:chExt cx="348840" cy="273960"/>
            </a:xfrm>
          </p:grpSpPr>
          <p:sp>
            <p:nvSpPr>
              <p:cNvPr id="181" name="Freeform 47"/>
              <p:cNvSpPr/>
              <p:nvPr/>
            </p:nvSpPr>
            <p:spPr>
              <a:xfrm>
                <a:off x="462960" y="413280"/>
                <a:ext cx="32292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8"/>
              <p:cNvSpPr/>
              <p:nvPr/>
            </p:nvSpPr>
            <p:spPr>
              <a:xfrm>
                <a:off x="487440" y="435600"/>
                <a:ext cx="273960" cy="155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9"/>
              <p:cNvSpPr/>
              <p:nvPr/>
            </p:nvSpPr>
            <p:spPr>
              <a:xfrm>
                <a:off x="556200" y="447120"/>
                <a:ext cx="131760" cy="13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0"/>
              <p:cNvSpPr/>
              <p:nvPr/>
            </p:nvSpPr>
            <p:spPr>
              <a:xfrm>
                <a:off x="632160" y="48672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1"/>
              <p:cNvSpPr/>
              <p:nvPr/>
            </p:nvSpPr>
            <p:spPr>
              <a:xfrm>
                <a:off x="452160" y="40068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2"/>
              <p:cNvSpPr/>
              <p:nvPr/>
            </p:nvSpPr>
            <p:spPr>
              <a:xfrm>
                <a:off x="503280" y="367560"/>
                <a:ext cx="3528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3"/>
              <p:cNvSpPr/>
              <p:nvPr/>
            </p:nvSpPr>
            <p:spPr>
              <a:xfrm>
                <a:off x="560160" y="34704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4"/>
              <p:cNvSpPr/>
              <p:nvPr/>
            </p:nvSpPr>
            <p:spPr>
              <a:xfrm>
                <a:off x="754560" y="40536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5"/>
              <p:cNvSpPr/>
              <p:nvPr/>
            </p:nvSpPr>
            <p:spPr>
              <a:xfrm>
                <a:off x="714960" y="3708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6"/>
              <p:cNvSpPr/>
              <p:nvPr/>
            </p:nvSpPr>
            <p:spPr>
              <a:xfrm>
                <a:off x="669960" y="34848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7"/>
              <p:cNvSpPr/>
              <p:nvPr/>
            </p:nvSpPr>
            <p:spPr>
              <a:xfrm>
                <a:off x="614880" y="338400"/>
                <a:ext cx="1944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8"/>
            <p:cNvGrpSpPr/>
            <p:nvPr/>
          </p:nvGrpSpPr>
          <p:grpSpPr>
            <a:xfrm>
              <a:off x="847080" y="338400"/>
              <a:ext cx="348840" cy="273960"/>
              <a:chOff x="847080" y="338400"/>
              <a:chExt cx="348840" cy="273960"/>
            </a:xfrm>
          </p:grpSpPr>
          <p:sp>
            <p:nvSpPr>
              <p:cNvPr id="193" name="Freeform 59"/>
              <p:cNvSpPr/>
              <p:nvPr/>
            </p:nvSpPr>
            <p:spPr>
              <a:xfrm>
                <a:off x="857880" y="413280"/>
                <a:ext cx="32292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0"/>
              <p:cNvSpPr/>
              <p:nvPr/>
            </p:nvSpPr>
            <p:spPr>
              <a:xfrm>
                <a:off x="882360" y="435600"/>
                <a:ext cx="273960" cy="155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1"/>
              <p:cNvSpPr/>
              <p:nvPr/>
            </p:nvSpPr>
            <p:spPr>
              <a:xfrm>
                <a:off x="951120" y="447120"/>
                <a:ext cx="131760" cy="13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2"/>
              <p:cNvSpPr/>
              <p:nvPr/>
            </p:nvSpPr>
            <p:spPr>
              <a:xfrm>
                <a:off x="1027080" y="48672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3"/>
              <p:cNvSpPr/>
              <p:nvPr/>
            </p:nvSpPr>
            <p:spPr>
              <a:xfrm>
                <a:off x="847080" y="40068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4"/>
              <p:cNvSpPr/>
              <p:nvPr/>
            </p:nvSpPr>
            <p:spPr>
              <a:xfrm>
                <a:off x="898200" y="367560"/>
                <a:ext cx="3528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5"/>
              <p:cNvSpPr/>
              <p:nvPr/>
            </p:nvSpPr>
            <p:spPr>
              <a:xfrm>
                <a:off x="955080" y="34704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6"/>
              <p:cNvSpPr/>
              <p:nvPr/>
            </p:nvSpPr>
            <p:spPr>
              <a:xfrm>
                <a:off x="1149480" y="40536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7"/>
              <p:cNvSpPr/>
              <p:nvPr/>
            </p:nvSpPr>
            <p:spPr>
              <a:xfrm>
                <a:off x="1109880" y="3708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8"/>
              <p:cNvSpPr/>
              <p:nvPr/>
            </p:nvSpPr>
            <p:spPr>
              <a:xfrm>
                <a:off x="1064880" y="34848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9"/>
              <p:cNvSpPr/>
              <p:nvPr/>
            </p:nvSpPr>
            <p:spPr>
              <a:xfrm>
                <a:off x="1009800" y="338400"/>
                <a:ext cx="1944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70"/>
            <p:cNvSpPr/>
            <p:nvPr/>
          </p:nvSpPr>
          <p:spPr>
            <a:xfrm flipV="1">
              <a:off x="799920" y="151920"/>
              <a:ext cx="23220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71"/>
          <p:cNvGrpSpPr/>
          <p:nvPr/>
        </p:nvGrpSpPr>
        <p:grpSpPr>
          <a:xfrm>
            <a:off x="7924680" y="151920"/>
            <a:ext cx="820800" cy="1067040"/>
            <a:chOff x="7924680" y="151920"/>
            <a:chExt cx="820800" cy="1067040"/>
          </a:xfrm>
        </p:grpSpPr>
        <p:sp>
          <p:nvSpPr>
            <p:cNvPr id="206" name="Line 72"/>
            <p:cNvSpPr/>
            <p:nvPr/>
          </p:nvSpPr>
          <p:spPr>
            <a:xfrm flipH="1" flipV="1">
              <a:off x="8136360" y="175680"/>
              <a:ext cx="430200" cy="10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73" descr="MCED00214_0000[1]"/>
            <p:cNvPicPr/>
            <p:nvPr/>
          </p:nvPicPr>
          <p:blipFill>
            <a:blip r:embed="rId3"/>
            <a:stretch/>
          </p:blipFill>
          <p:spPr>
            <a:xfrm flipH="1">
              <a:off x="7924680" y="175680"/>
              <a:ext cx="820800" cy="8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74"/>
            <p:cNvSpPr/>
            <p:nvPr/>
          </p:nvSpPr>
          <p:spPr>
            <a:xfrm flipH="1" rot="5400000">
              <a:off x="8208360" y="639720"/>
              <a:ext cx="24516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75"/>
            <p:cNvGrpSpPr/>
            <p:nvPr/>
          </p:nvGrpSpPr>
          <p:grpSpPr>
            <a:xfrm>
              <a:off x="8355960" y="412920"/>
              <a:ext cx="311400" cy="199080"/>
              <a:chOff x="8355960" y="412920"/>
              <a:chExt cx="311400" cy="199080"/>
            </a:xfrm>
          </p:grpSpPr>
          <p:sp>
            <p:nvSpPr>
              <p:cNvPr id="210" name="Freeform 76"/>
              <p:cNvSpPr/>
              <p:nvPr/>
            </p:nvSpPr>
            <p:spPr>
              <a:xfrm flipH="1">
                <a:off x="8355600" y="41292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7"/>
              <p:cNvSpPr/>
              <p:nvPr/>
            </p:nvSpPr>
            <p:spPr>
              <a:xfrm flipH="1">
                <a:off x="8379360" y="43524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8"/>
              <p:cNvSpPr/>
              <p:nvPr/>
            </p:nvSpPr>
            <p:spPr>
              <a:xfrm flipH="1">
                <a:off x="8450280" y="44748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9"/>
              <p:cNvSpPr/>
              <p:nvPr/>
            </p:nvSpPr>
            <p:spPr>
              <a:xfrm flipH="1">
                <a:off x="8483760" y="48600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80"/>
            <p:cNvGrpSpPr/>
            <p:nvPr/>
          </p:nvGrpSpPr>
          <p:grpSpPr>
            <a:xfrm>
              <a:off x="7974360" y="412920"/>
              <a:ext cx="311400" cy="199080"/>
              <a:chOff x="7974360" y="412920"/>
              <a:chExt cx="311400" cy="199080"/>
            </a:xfrm>
          </p:grpSpPr>
          <p:sp>
            <p:nvSpPr>
              <p:cNvPr id="215" name="Freeform 81"/>
              <p:cNvSpPr/>
              <p:nvPr/>
            </p:nvSpPr>
            <p:spPr>
              <a:xfrm flipH="1">
                <a:off x="7974000" y="41292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82"/>
              <p:cNvSpPr/>
              <p:nvPr/>
            </p:nvSpPr>
            <p:spPr>
              <a:xfrm flipH="1">
                <a:off x="7997760" y="43524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83"/>
              <p:cNvSpPr/>
              <p:nvPr/>
            </p:nvSpPr>
            <p:spPr>
              <a:xfrm flipH="1">
                <a:off x="8068680" y="44748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84"/>
              <p:cNvSpPr/>
              <p:nvPr/>
            </p:nvSpPr>
            <p:spPr>
              <a:xfrm flipH="1">
                <a:off x="8102160" y="48600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85"/>
            <p:cNvSpPr/>
            <p:nvPr/>
          </p:nvSpPr>
          <p:spPr>
            <a:xfrm flipH="1" flipV="1">
              <a:off x="8117640" y="151920"/>
              <a:ext cx="22428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86"/>
          <p:cNvSpPr/>
          <p:nvPr/>
        </p:nvSpPr>
        <p:spPr>
          <a:xfrm>
            <a:off x="304920" y="1447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ounded-Error Quantum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0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iabatic Algorithm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Farhi et al. 2000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225440" y="204480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33360" y="3193920"/>
            <a:ext cx="31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773760" y="211932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083200" y="3268800"/>
            <a:ext cx="37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state encodes solution to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>
            <a:off x="2239920" y="2135160"/>
            <a:ext cx="4572000" cy="890640"/>
          </a:xfrm>
          <a:prstGeom prst="pie">
            <a:avLst/>
          </a:pr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752480" y="51814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igenvalue gap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9-03-23T14:55:08Z</dcterms:modified>
  <cp:revision>107</cp:revision>
  <dc:subject/>
  <dc:title>Slide 1</dc:title>
</cp:coreProperties>
</file>